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8.wmf" ContentType="image/x-wmf"/>
  <Override PartName="/ppt/media/image11.png" ContentType="image/png"/>
  <Override PartName="/ppt/media/image7.jpeg" ContentType="image/jpeg"/>
  <Override PartName="/ppt/media/image17.wmf" ContentType="image/x-wmf"/>
  <Override PartName="/ppt/media/image16.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10.jpeg" ContentType="image/jpeg"/>
  <Override PartName="/ppt/media/image2.png" ContentType="image/png"/>
  <Override PartName="/ppt/media/image4.jpeg" ContentType="image/jpeg"/>
  <Override PartName="/ppt/media/image9.wmf" ContentType="image/x-wmf"/>
  <Override PartName="/ppt/media/image1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63ab"/>
                </a:solidFill>
                <a:latin typeface="Arial Black"/>
              </a:rPr>
              <a:t>Click to move the slide</a:t>
            </a:r>
            <a:endParaRPr b="1" lang="en-US" sz="3600" spc="-1" strike="noStrike">
              <a:solidFill>
                <a:srgbClr val="2163ab"/>
              </a:solidFill>
              <a:latin typeface="Arial Black"/>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424810-5C72-4CB1-874D-542E21DFC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181160" y="696960"/>
            <a:ext cx="4648320" cy="3486240"/>
          </a:xfrm>
          <a:prstGeom prst="rect">
            <a:avLst/>
          </a:prstGeom>
          <a:ln w="0">
            <a:noFill/>
          </a:ln>
        </p:spPr>
      </p:sp>
      <p:sp>
        <p:nvSpPr>
          <p:cNvPr id="21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here today to provide you details on one of DARPA’s most successful projects – DAML. This initiative is providing a kick-start to a concept called the Semantic Web that will have as revolutionary impact on military affairs as did the original World Wide Web.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81160" y="696960"/>
            <a:ext cx="4648320" cy="3486240"/>
          </a:xfrm>
          <a:prstGeom prst="rect">
            <a:avLst/>
          </a:prstGeom>
          <a:ln w="0">
            <a:noFill/>
          </a:ln>
        </p:spPr>
      </p:sp>
      <p:sp>
        <p:nvSpPr>
          <p:cNvPr id="21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the mid-90s there were many different languages used to describe applications. These were effectively consolidated through the Object Management Group consortium into a single language – the Universal Modeling Language. Likewise, there are many different languages that have been developed for knowledge representation. The DARPA Agent Markup Language (DAML) project is leveraging the experience from these languages to develop a single standard for knowledge representation on information on the We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81160" y="696960"/>
            <a:ext cx="4648320" cy="3486240"/>
          </a:xfrm>
          <a:prstGeom prst="rect">
            <a:avLst/>
          </a:prstGeom>
          <a:ln w="0">
            <a:noFill/>
          </a:ln>
        </p:spPr>
      </p:sp>
      <p:sp>
        <p:nvSpPr>
          <p:cNvPr id="21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key elements of the DAML program: the development of the DAML language itself, the creation of prototype tools to support both the developers and users, and the transition activit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81160" y="696960"/>
            <a:ext cx="4648320" cy="3486240"/>
          </a:xfrm>
          <a:prstGeom prst="rect">
            <a:avLst/>
          </a:prstGeom>
          <a:ln w="0">
            <a:noFill/>
          </a:ln>
        </p:spPr>
      </p:sp>
      <p:sp>
        <p:nvSpPr>
          <p:cNvPr id="21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objective of the DAML program is the development of a standard language for Web-based knowledge representation. We have established a process for DAML being accepted as an official, World-wide, language. That process starts with the funded DARPA DAML effort shown in blue. We are heavily leveraging the past DARPA investment in the artificial intelligence knowledge representation community in the specification of DAML. We are also using the wealth of investment, including DARPA’s, in the World Wide Web Consortium and the Web-based languages they have developed such as XML and the Resource Description Framework (RDF). Finally, we are also closely coordinating with initiatives to develop the Ontology Inference Layer language (OIL) in the European Union. The DARPA and EU efforts are consolidated through the establishment of the US/EU Joint Committee and have taken the best of DAML and OIL to create the DAML + OIL language version that has now been submitted to the W3C for eventual release as the WebOnt (Web Ontology) standard language. Our efforts in language development are not yet over. We are now adding additional extensions to the language, such as rul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81160" y="696960"/>
            <a:ext cx="4648320" cy="3486240"/>
          </a:xfrm>
          <a:prstGeom prst="rect">
            <a:avLst/>
          </a:prstGeom>
          <a:ln w="0">
            <a:noFill/>
          </a:ln>
        </p:spPr>
      </p:sp>
      <p:sp>
        <p:nvSpPr>
          <p:cNvPr id="21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stance of a general terrorist ontology. In this case the classes and properties have been resolved to specific instance data. A general ontology, such as the terrorist one, could be instantiated as many different specific instances to reflect different circumstances, events and times. The location information (city, country) is contained in other ontologies that are remotely loca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1160" y="696960"/>
            <a:ext cx="4648320" cy="3486240"/>
          </a:xfrm>
          <a:prstGeom prst="rect">
            <a:avLst/>
          </a:prstGeom>
          <a:ln w="0">
            <a:noFill/>
          </a:ln>
        </p:spPr>
      </p:sp>
      <p:sp>
        <p:nvSpPr>
          <p:cNvPr id="213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the actual DAML markup language code. The DAML markup shown is not intended as an eye test. However, note that DAML’s direct linage is HTML and XML and so it looks a lot like those languages in terms of the extensive use of brackets to identify the language tags. DAML provides a very rich set of language constructs that allow the representation of complex conce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81160" y="696960"/>
            <a:ext cx="4648320" cy="3486240"/>
          </a:xfrm>
          <a:prstGeom prst="rect">
            <a:avLst/>
          </a:prstGeom>
          <a:ln w="0">
            <a:noFill/>
          </a:ln>
        </p:spPr>
      </p:sp>
      <p:sp>
        <p:nvSpPr>
          <p:cNvPr id="21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property and relationships that can be expressed via DAML will allow agents to do inferencing on the marked up information. In the simple example above, the fact that dog is expressed as a subclass of animal allows the implications shown. DAML can express much more complex relationships than this example, leading to equally more complex inferencing capabilities. The next version of DAML will also include language extensions for rules that will significantly expand the level of infer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81160" y="696960"/>
            <a:ext cx="4648320" cy="3486240"/>
          </a:xfrm>
          <a:prstGeom prst="rect">
            <a:avLst/>
          </a:prstGeom>
          <a:ln w="0">
            <a:noFill/>
          </a:ln>
        </p:spPr>
      </p:sp>
      <p:sp>
        <p:nvSpPr>
          <p:cNvPr id="21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ructuring of the ontology of services is motivated by the need to provide three essential types of knowledge about a service, each characterized by the question it answers: </a:t>
            </a:r>
            <a:endParaRPr b="0" lang="en-US" sz="1200" spc="-1" strike="noStrike">
              <a:solidFill>
                <a:srgbClr val="000000"/>
              </a:solidFill>
              <a:latin typeface="Times New Roman"/>
            </a:endParaRPr>
          </a:p>
          <a:p>
            <a:pPr>
              <a:lnSpc>
                <a:spcPct val="10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What does the service require of the user(s), or other agents, and provide for them?</a:t>
            </a:r>
            <a:r>
              <a:rPr b="0" lang="en-US" sz="1200" spc="-1" strike="noStrike">
                <a:solidFill>
                  <a:srgbClr val="000000"/>
                </a:solidFill>
                <a:latin typeface="Times New Roman"/>
              </a:rPr>
              <a:t> The answer to this question is given in the ``profile''</a:t>
            </a:r>
            <a:r>
              <a:rPr b="0" lang="en-US" sz="1200" spc="-1" strike="noStrike" u="sng" baseline="30000">
                <a:solidFill>
                  <a:srgbClr val="ccccff"/>
                </a:solidFill>
                <a:uFillTx/>
                <a:latin typeface="Times New Roman"/>
                <a:hlinkClick r:id="rId1" action="ppaction://hlinksldjump"/>
              </a:rPr>
              <a:t>1</a:t>
            </a:r>
            <a:r>
              <a:rPr b="0" lang="en-US" sz="1200" spc="-1" strike="noStrike">
                <a:solidFill>
                  <a:srgbClr val="000000"/>
                </a:solidFill>
                <a:latin typeface="Times New Roman"/>
              </a:rPr>
              <a:t>. Thus, the class </a:t>
            </a:r>
            <a:r>
              <a:rPr b="0" i="1" lang="en-US" sz="1200" spc="-1" strike="noStrike">
                <a:solidFill>
                  <a:srgbClr val="000000"/>
                </a:solidFill>
                <a:latin typeface="Century Schoolbook"/>
              </a:rPr>
              <a:t>Service</a:t>
            </a:r>
            <a:r>
              <a:rPr b="0" lang="en-US" sz="1200" spc="-1" strike="noStrike">
                <a:solidFill>
                  <a:srgbClr val="000000"/>
                </a:solidFill>
                <a:latin typeface="Times New Roman"/>
              </a:rPr>
              <a:t> </a:t>
            </a:r>
            <a:r>
              <a:rPr b="0" i="1" lang="en-US" sz="1200" spc="-1" strike="noStrike">
                <a:solidFill>
                  <a:srgbClr val="000000"/>
                </a:solidFill>
                <a:latin typeface="Century Schoolbook"/>
              </a:rPr>
              <a:t>presents</a:t>
            </a:r>
            <a:r>
              <a:rPr b="0" lang="en-US" sz="1200" spc="-1" strike="noStrike">
                <a:solidFill>
                  <a:srgbClr val="000000"/>
                </a:solidFill>
                <a:latin typeface="Times New Roman"/>
              </a:rPr>
              <a:t> a </a:t>
            </a:r>
            <a:r>
              <a:rPr b="0" i="1" lang="en-US" sz="1200" spc="-1" strike="noStrike">
                <a:solidFill>
                  <a:srgbClr val="000000"/>
                </a:solidFill>
                <a:latin typeface="Century Schoolbook"/>
              </a:rPr>
              <a:t>ServiceProfi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How does it work?</a:t>
            </a:r>
            <a:r>
              <a:rPr b="0" lang="en-US" sz="1200" spc="-1" strike="noStrike">
                <a:solidFill>
                  <a:srgbClr val="000000"/>
                </a:solidFill>
                <a:latin typeface="Times New Roman"/>
              </a:rPr>
              <a:t> The answer to this question is given in the ``model''. Thus, the class </a:t>
            </a:r>
            <a:r>
              <a:rPr b="0" i="1" lang="en-US" sz="1200" spc="-1" strike="noStrike">
                <a:solidFill>
                  <a:srgbClr val="000000"/>
                </a:solidFill>
                <a:latin typeface="Century Schoolbook"/>
              </a:rPr>
              <a:t>Service</a:t>
            </a:r>
            <a:r>
              <a:rPr b="0" lang="en-US" sz="1200" spc="-1" strike="noStrike">
                <a:solidFill>
                  <a:srgbClr val="000000"/>
                </a:solidFill>
                <a:latin typeface="Times New Roman"/>
              </a:rPr>
              <a:t> is </a:t>
            </a:r>
            <a:r>
              <a:rPr b="0" i="1" lang="en-US" sz="1200" spc="-1" strike="noStrike">
                <a:solidFill>
                  <a:srgbClr val="000000"/>
                </a:solidFill>
                <a:latin typeface="Century Schoolbook"/>
              </a:rPr>
              <a:t>describedBy</a:t>
            </a:r>
            <a:r>
              <a:rPr b="0" lang="en-US" sz="1200" spc="-1" strike="noStrike">
                <a:solidFill>
                  <a:srgbClr val="000000"/>
                </a:solidFill>
                <a:latin typeface="Times New Roman"/>
              </a:rPr>
              <a:t> a </a:t>
            </a:r>
            <a:r>
              <a:rPr b="0" i="1" lang="en-US" sz="1200" spc="-1" strike="noStrike">
                <a:solidFill>
                  <a:srgbClr val="000000"/>
                </a:solidFill>
                <a:latin typeface="Century Schoolbook"/>
              </a:rPr>
              <a:t>Service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How is it used?</a:t>
            </a:r>
            <a:r>
              <a:rPr b="0" lang="en-US" sz="1200" spc="-1" strike="noStrike">
                <a:solidFill>
                  <a:srgbClr val="000000"/>
                </a:solidFill>
                <a:latin typeface="Times New Roman"/>
              </a:rPr>
              <a:t> The answer to this question is given in the ``grounding''. Thus, the class </a:t>
            </a:r>
            <a:r>
              <a:rPr b="0" i="1" lang="en-US" sz="1200" spc="-1" strike="noStrike">
                <a:solidFill>
                  <a:srgbClr val="000000"/>
                </a:solidFill>
                <a:latin typeface="Century Schoolbook"/>
              </a:rPr>
              <a:t>Service</a:t>
            </a:r>
            <a:r>
              <a:rPr b="0" lang="en-US" sz="1200" spc="-1" strike="noStrike">
                <a:solidFill>
                  <a:srgbClr val="000000"/>
                </a:solidFill>
                <a:latin typeface="Times New Roman"/>
              </a:rPr>
              <a:t> </a:t>
            </a:r>
            <a:r>
              <a:rPr b="0" i="1" lang="en-US" sz="1200" spc="-1" strike="noStrike">
                <a:solidFill>
                  <a:srgbClr val="000000"/>
                </a:solidFill>
                <a:latin typeface="Century Schoolbook"/>
              </a:rPr>
              <a:t>supports</a:t>
            </a:r>
            <a:r>
              <a:rPr b="0" lang="en-US" sz="1200" spc="-1" strike="noStrike">
                <a:solidFill>
                  <a:srgbClr val="000000"/>
                </a:solidFill>
                <a:latin typeface="Times New Roman"/>
              </a:rPr>
              <a:t> a </a:t>
            </a:r>
            <a:r>
              <a:rPr b="0" i="1" lang="en-US" sz="1200" spc="-1" strike="noStrike">
                <a:solidFill>
                  <a:srgbClr val="000000"/>
                </a:solidFill>
                <a:latin typeface="Century Schoolbook"/>
              </a:rPr>
              <a:t>ServiceGround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erties </a:t>
            </a:r>
            <a:r>
              <a:rPr b="0" i="1" lang="en-US" sz="1200" spc="-1" strike="noStrike">
                <a:solidFill>
                  <a:srgbClr val="000000"/>
                </a:solidFill>
                <a:latin typeface="Century Schoolbook"/>
              </a:rPr>
              <a:t>presents</a:t>
            </a:r>
            <a:r>
              <a:rPr b="0" lang="en-US" sz="1200" spc="-1" strike="noStrike">
                <a:solidFill>
                  <a:srgbClr val="000000"/>
                </a:solidFill>
                <a:latin typeface="Times New Roman"/>
              </a:rPr>
              <a:t>, </a:t>
            </a:r>
            <a:r>
              <a:rPr b="0" i="1" lang="en-US" sz="1200" spc="-1" strike="noStrike">
                <a:solidFill>
                  <a:srgbClr val="000000"/>
                </a:solidFill>
                <a:latin typeface="Century Schoolbook"/>
              </a:rPr>
              <a:t>describedBy</a:t>
            </a:r>
            <a:r>
              <a:rPr b="0" lang="en-US" sz="1200" spc="-1" strike="noStrike">
                <a:solidFill>
                  <a:srgbClr val="000000"/>
                </a:solidFill>
                <a:latin typeface="Times New Roman"/>
              </a:rPr>
              <a:t>, and </a:t>
            </a:r>
            <a:r>
              <a:rPr b="0" i="1" lang="en-US" sz="1200" spc="-1" strike="noStrike">
                <a:solidFill>
                  <a:srgbClr val="000000"/>
                </a:solidFill>
                <a:latin typeface="Century Schoolbook"/>
              </a:rPr>
              <a:t>supports</a:t>
            </a:r>
            <a:r>
              <a:rPr b="0" lang="en-US" sz="1200" spc="-1" strike="noStrike">
                <a:solidFill>
                  <a:srgbClr val="000000"/>
                </a:solidFill>
                <a:latin typeface="Times New Roman"/>
              </a:rPr>
              <a:t> are properties of </a:t>
            </a:r>
            <a:r>
              <a:rPr b="0" i="1" lang="en-US" sz="1200" spc="-1" strike="noStrike">
                <a:solidFill>
                  <a:srgbClr val="000000"/>
                </a:solidFill>
                <a:latin typeface="Century Schoolbook"/>
              </a:rPr>
              <a:t>Service</a:t>
            </a:r>
            <a:r>
              <a:rPr b="0" lang="en-US" sz="1200" spc="-1" strike="noStrike">
                <a:solidFill>
                  <a:srgbClr val="000000"/>
                </a:solidFill>
                <a:latin typeface="Times New Roman"/>
              </a:rPr>
              <a:t>. The classes </a:t>
            </a:r>
            <a:r>
              <a:rPr b="0" i="1" lang="en-US" sz="1200" spc="-1" strike="noStrike">
                <a:solidFill>
                  <a:srgbClr val="000000"/>
                </a:solidFill>
                <a:latin typeface="Century Schoolbook"/>
              </a:rPr>
              <a:t>ServiceProfile</a:t>
            </a:r>
            <a:r>
              <a:rPr b="0" lang="en-US" sz="1200" spc="-1" strike="noStrike">
                <a:solidFill>
                  <a:srgbClr val="000000"/>
                </a:solidFill>
                <a:latin typeface="Times New Roman"/>
              </a:rPr>
              <a:t>, </a:t>
            </a:r>
            <a:r>
              <a:rPr b="0" i="1" lang="en-US" sz="1200" spc="-1" strike="noStrike">
                <a:solidFill>
                  <a:srgbClr val="000000"/>
                </a:solidFill>
                <a:latin typeface="Century Schoolbook"/>
              </a:rPr>
              <a:t>ServiceModel</a:t>
            </a:r>
            <a:r>
              <a:rPr b="0" lang="en-US" sz="1200" spc="-1" strike="noStrike">
                <a:solidFill>
                  <a:srgbClr val="000000"/>
                </a:solidFill>
                <a:latin typeface="Times New Roman"/>
              </a:rPr>
              <a:t>, and </a:t>
            </a:r>
            <a:r>
              <a:rPr b="0" i="1" lang="en-US" sz="1200" spc="-1" strike="noStrike">
                <a:solidFill>
                  <a:srgbClr val="000000"/>
                </a:solidFill>
                <a:latin typeface="Century Schoolbook"/>
              </a:rPr>
              <a:t>ServiceGrounding</a:t>
            </a:r>
            <a:r>
              <a:rPr b="0" lang="en-US" sz="1200" spc="-1" strike="noStrike">
                <a:solidFill>
                  <a:srgbClr val="000000"/>
                </a:solidFill>
                <a:latin typeface="Times New Roman"/>
              </a:rPr>
              <a:t> are the respective ranges of those properties. We expect that each descendant class of </a:t>
            </a:r>
            <a:r>
              <a:rPr b="0" i="1" lang="en-US" sz="1200" spc="-1" strike="noStrike">
                <a:solidFill>
                  <a:srgbClr val="000000"/>
                </a:solidFill>
                <a:latin typeface="Century Schoolbook"/>
              </a:rPr>
              <a:t>Service</a:t>
            </a:r>
            <a:r>
              <a:rPr b="0" lang="en-US" sz="1200" spc="-1" strike="noStrike">
                <a:solidFill>
                  <a:srgbClr val="000000"/>
                </a:solidFill>
                <a:latin typeface="Times New Roman"/>
              </a:rPr>
              <a:t>, such as </a:t>
            </a:r>
            <a:r>
              <a:rPr b="0" i="1" lang="en-US" sz="1200" spc="-1" strike="noStrike">
                <a:solidFill>
                  <a:srgbClr val="000000"/>
                </a:solidFill>
                <a:latin typeface="Century Schoolbook"/>
              </a:rPr>
              <a:t>B2C-transaction</a:t>
            </a:r>
            <a:r>
              <a:rPr b="0" lang="en-US" sz="1200" spc="-1" strike="noStrike">
                <a:solidFill>
                  <a:srgbClr val="000000"/>
                </a:solidFill>
                <a:latin typeface="Times New Roman"/>
              </a:rPr>
              <a:t>, will </a:t>
            </a:r>
            <a:r>
              <a:rPr b="0" i="1" lang="en-US" sz="1200" spc="-1" strike="noStrike">
                <a:solidFill>
                  <a:srgbClr val="000000"/>
                </a:solidFill>
                <a:latin typeface="Century Schoolbook"/>
              </a:rPr>
              <a:t>present</a:t>
            </a:r>
            <a:r>
              <a:rPr b="0" lang="en-US" sz="1200" spc="-1" strike="noStrike">
                <a:solidFill>
                  <a:srgbClr val="000000"/>
                </a:solidFill>
                <a:latin typeface="Times New Roman"/>
              </a:rPr>
              <a:t> a descendant class of </a:t>
            </a:r>
            <a:r>
              <a:rPr b="0" i="1" lang="en-US" sz="1200" spc="-1" strike="noStrike">
                <a:solidFill>
                  <a:srgbClr val="000000"/>
                </a:solidFill>
                <a:latin typeface="Century Schoolbook"/>
              </a:rPr>
              <a:t>ServiceProfile</a:t>
            </a:r>
            <a:r>
              <a:rPr b="0" lang="en-US" sz="1200" spc="-1" strike="noStrike">
                <a:solidFill>
                  <a:srgbClr val="000000"/>
                </a:solidFill>
                <a:latin typeface="Times New Roman"/>
              </a:rPr>
              <a:t>, be </a:t>
            </a:r>
            <a:r>
              <a:rPr b="0" i="1" lang="en-US" sz="1200" spc="-1" strike="noStrike">
                <a:solidFill>
                  <a:srgbClr val="000000"/>
                </a:solidFill>
                <a:latin typeface="Century Schoolbook"/>
              </a:rPr>
              <a:t>describedBy</a:t>
            </a:r>
            <a:r>
              <a:rPr b="0" lang="en-US" sz="1200" spc="-1" strike="noStrike">
                <a:solidFill>
                  <a:srgbClr val="000000"/>
                </a:solidFill>
                <a:latin typeface="Times New Roman"/>
              </a:rPr>
              <a:t> a descendant class of </a:t>
            </a:r>
            <a:r>
              <a:rPr b="0" i="1" lang="en-US" sz="1200" spc="-1" strike="noStrike">
                <a:solidFill>
                  <a:srgbClr val="000000"/>
                </a:solidFill>
                <a:latin typeface="Century Schoolbook"/>
              </a:rPr>
              <a:t>ServiceModel</a:t>
            </a:r>
            <a:r>
              <a:rPr b="0" lang="en-US" sz="1200" spc="-1" strike="noStrike">
                <a:solidFill>
                  <a:srgbClr val="000000"/>
                </a:solidFill>
                <a:latin typeface="Times New Roman"/>
              </a:rPr>
              <a:t>, and </a:t>
            </a:r>
            <a:r>
              <a:rPr b="0" i="1" lang="en-US" sz="1200" spc="-1" strike="noStrike">
                <a:solidFill>
                  <a:srgbClr val="000000"/>
                </a:solidFill>
                <a:latin typeface="Century Schoolbook"/>
              </a:rPr>
              <a:t>support</a:t>
            </a:r>
            <a:r>
              <a:rPr b="0" lang="en-US" sz="1200" spc="-1" strike="noStrike">
                <a:solidFill>
                  <a:srgbClr val="000000"/>
                </a:solidFill>
                <a:latin typeface="Times New Roman"/>
              </a:rPr>
              <a:t> a descendant class of </a:t>
            </a:r>
            <a:r>
              <a:rPr b="0" i="1" lang="en-US" sz="1200" spc="-1" strike="noStrike">
                <a:solidFill>
                  <a:srgbClr val="000000"/>
                </a:solidFill>
                <a:latin typeface="Century Schoolbook"/>
              </a:rPr>
              <a:t>ServiceGrounding</a:t>
            </a:r>
            <a:r>
              <a:rPr b="0" lang="en-US" sz="1200" spc="-1" strike="noStrike">
                <a:solidFill>
                  <a:srgbClr val="000000"/>
                </a:solidFill>
                <a:latin typeface="Times New Roman"/>
              </a:rPr>
              <a:t>. The details of profiles, models, and groundings may vary widely from one type of service to another--that is, from one descendant class of </a:t>
            </a:r>
            <a:r>
              <a:rPr b="0" i="1" lang="en-US" sz="1200" spc="-1" strike="noStrike">
                <a:solidFill>
                  <a:srgbClr val="000000"/>
                </a:solidFill>
                <a:latin typeface="Century Schoolbook"/>
              </a:rPr>
              <a:t>Service</a:t>
            </a:r>
            <a:r>
              <a:rPr b="0" lang="en-US" sz="1200" spc="-1" strike="noStrike">
                <a:solidFill>
                  <a:srgbClr val="000000"/>
                </a:solidFill>
                <a:latin typeface="Times New Roman"/>
              </a:rPr>
              <a:t> to another. But each of these three classes provides an essential type of information about th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81160" y="696960"/>
            <a:ext cx="4648320" cy="3486240"/>
          </a:xfrm>
          <a:prstGeom prst="rect">
            <a:avLst/>
          </a:prstGeom>
          <a:ln w="0">
            <a:noFill/>
          </a:ln>
        </p:spPr>
      </p:sp>
      <p:sp>
        <p:nvSpPr>
          <p:cNvPr id="2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initial focus has been on developing the DAML language and using it to create a large set of ontologies with which to experiment. We are also making solid progress in developing the tools needed to support the new language. We plan a major focus on developing and hardening the DAML tools during 2002. However, our goal is to develop the tools only to the operational prototype level so that they can support the development of near-term military applications. Eventually, industry will build production tools based on the official W3C release of the language, which will probably happen toward the end of 2002. You can drill down a level by clicking on each tool area to see more specific detail. (You have to be in slide show mode for the hyperlinks to wor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81160" y="696960"/>
            <a:ext cx="4648320" cy="3486240"/>
          </a:xfrm>
          <a:prstGeom prst="rect">
            <a:avLst/>
          </a:prstGeom>
          <a:ln w="0">
            <a:noFill/>
          </a:ln>
        </p:spPr>
      </p:sp>
      <p:sp>
        <p:nvSpPr>
          <p:cNvPr id="21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further illustrates the DAML plan and process for DARPA to support the initial creation of the semantic markup language and tools necessary to develop near-term military applications. The goal is for DAML to emerge via the W3C as a the language standard for semantic web markup (it likely will change names from DAML to WebOnt). Eventually, the standard language and commercial tools will support both military and commercial applications development, much in the same way that commercial XML tools support the development of XML applications today. A very important element of this process is the feedback loop to the DAML tool and language developers that allows us to ensure military requirements influence the future commercial versions of the language and tool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81160" y="696960"/>
            <a:ext cx="4648320" cy="3486240"/>
          </a:xfrm>
          <a:prstGeom prst="rect">
            <a:avLst/>
          </a:prstGeom>
          <a:ln w="0">
            <a:noFill/>
          </a:ln>
        </p:spPr>
      </p:sp>
      <p:sp>
        <p:nvSpPr>
          <p:cNvPr id="21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further illustrates the DAML plan and process for DARPA to support the initial creation of the semantic markup language and tools necessary to develop near-term military applications. The goal is for DAML to emerge via the W3C as a the language standard for semantic web markup (it likely will change names from DAML to WebOnt). Eventually, the standard language and commercial tools will support both military and commercial applications development, much in the same way that commercial XML tools support the development of XML applications today. A very important element of this process is the feedback loop to the DAML tool and language developers that allows us to ensure military requirements influence the future commercial versions of the language and too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81160" y="696960"/>
            <a:ext cx="4648320" cy="3486240"/>
          </a:xfrm>
          <a:prstGeom prst="rect">
            <a:avLst/>
          </a:prstGeom>
          <a:ln w="0">
            <a:noFill/>
          </a:ln>
        </p:spPr>
      </p:sp>
      <p:sp>
        <p:nvSpPr>
          <p:cNvPr id="2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Dominance is a key concept in Joint Vision 2020. There are many initiatives underway to achieve Information Dominance. A significant trend is evident by the fact that almost all C2I systems are being developed, or modified, to operate on the Web.</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81160" y="696960"/>
            <a:ext cx="4648320" cy="3486240"/>
          </a:xfrm>
          <a:prstGeom prst="rect">
            <a:avLst/>
          </a:prstGeom>
          <a:ln w="0">
            <a:noFill/>
          </a:ln>
        </p:spPr>
      </p:sp>
      <p:sp>
        <p:nvSpPr>
          <p:cNvPr id="21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established a series of Semantic Web for Military Users (SWMU) conferences that act as a focal point for military early adapters and for identifying military requirements that can best be satisfied through the application of DAML technology. The first of these conferences was held at the DARPA TIC last June. The second conference was scheduled for 12 –13 September but was cancelled and rescheduled for 13 – 14 November at the Naval Research Laboratory in Washington, DC. Approximately 60 personnel attended the first conference and we expect around 100 to attend the second. Through the SWMU conferences and other initiatives we already have a large set of DoD projects that are using, or planning to use, DAML technology in the near-futu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81160" y="696960"/>
            <a:ext cx="4648320" cy="3486240"/>
          </a:xfrm>
          <a:prstGeom prst="rect">
            <a:avLst/>
          </a:prstGeom>
          <a:ln w="0">
            <a:noFill/>
          </a:ln>
        </p:spPr>
      </p:sp>
      <p:sp>
        <p:nvSpPr>
          <p:cNvPr id="21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us, named after the Egyptian Goddess of light and knowledge, is a joint DARPA and DIA application that provides the capability for intelligence analysts to use DAML to markup information residing on Intelink. It is operationally deployed at the Joint Analysis Center in Molesworth, UK and is being focused directly on the current counter terrorist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81160" y="696960"/>
            <a:ext cx="4648320" cy="3486240"/>
          </a:xfrm>
          <a:prstGeom prst="rect">
            <a:avLst/>
          </a:prstGeom>
          <a:ln w="0">
            <a:noFill/>
          </a:ln>
        </p:spPr>
      </p:sp>
      <p:sp>
        <p:nvSpPr>
          <p:cNvPr id="21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link provides an excellent environment for the transition of DARPA IT efforts. Our partnership with the DIA Intelink Management Office has been very cordial and productive. They are early technology adapters and that makes the whole process of technology transition much easi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81160" y="696960"/>
            <a:ext cx="4648320" cy="3486240"/>
          </a:xfrm>
          <a:prstGeom prst="rect">
            <a:avLst/>
          </a:prstGeom>
          <a:ln w="0">
            <a:noFill/>
          </a:ln>
        </p:spPr>
      </p:sp>
      <p:sp>
        <p:nvSpPr>
          <p:cNvPr id="21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the daml.org web portal is an important ingredient in getting the World to jump on the DAML bandwagon. The DAML web server is hosted in the DAML Lab at the DARPA TIC. The DAML language specification and all of the prototype tools are available for download from the DAML web server. This has resulted in numerous instances where researchers who are not funded under the DAML program are downloading, improving and resubmitting tools back to the project. We expect to see this phenomenon increase as the DAML language gets additional exposure as its vetted by the W3C this coming year. The DAML Lab also supports DAML and Horus integration and testing effort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81160" y="696960"/>
            <a:ext cx="4648320" cy="3486240"/>
          </a:xfrm>
          <a:prstGeom prst="rect">
            <a:avLst/>
          </a:prstGeom>
          <a:ln w="0">
            <a:noFill/>
          </a:ln>
        </p:spPr>
      </p:sp>
      <p:sp>
        <p:nvSpPr>
          <p:cNvPr id="21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oing some refocusing of the DAML program for 2002. We made amazing progress in 2001 and the DAML language and prototype tools are at a stage of maturity that we are now ready to bring the research efforts together via an integrated demonstration and experiment that will better support our transition efforts. This integrated experiment will also allow us to define key metrics and collect data for analysis and feedback to the research teams. Although the integrated demonstration will be an important step for transitioning DAML technology to a wide range of already interested military customers, we are particularly focusing the demonstration on requirements from the DIA  Horus and the Navy Expeditionary Sensor Grid programs. We are in the process of finalizing the specific domain for the integrated demonstration, but it is probably going to be related to the bio-threat. The integrated demonstration will be be developed using the DARPA Integrated Feasibility Demonstration (IFD) process and will result in software releases of the components for use by other programs at six-month interva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81160" y="696960"/>
            <a:ext cx="4648320" cy="3486240"/>
          </a:xfrm>
          <a:prstGeom prst="rect">
            <a:avLst/>
          </a:prstGeom>
          <a:ln w="0">
            <a:noFill/>
          </a:ln>
        </p:spPr>
      </p:sp>
      <p:sp>
        <p:nvSpPr>
          <p:cNvPr id="21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n the previous slide, we are ready in 2002 to develop an integrating demonstration and experiment, pulling all of the DAML research together. One of the key goals of the Experiment will be to establish metrics to allow us to gage our progress. The vision is to ultimately have millions of nodes, ontologies, data bases and agents active on the Semantic Web. This next year we will explore the research problems associated with accessing information across multiple nodes. We anticipate that the Semantic Web will scale much in the same fashion as the World Wide Web and do not believe that scalability itself is a proble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81160" y="696960"/>
            <a:ext cx="4648320" cy="3486240"/>
          </a:xfrm>
          <a:prstGeom prst="rect">
            <a:avLst/>
          </a:prstGeom>
          <a:ln w="0">
            <a:noFill/>
          </a:ln>
        </p:spPr>
      </p:sp>
      <p:sp>
        <p:nvSpPr>
          <p:cNvPr id="21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fundamental issues that impact how well the military can effectively use classified and unclassified versions of the Web today. We can only search a relatively small percentage of the information that is actually available. Even then, we get back, and have to sift through, a lot of junk that isn’t what we wanted. And, these problems are only going to get worse as the total amount of information on the Web continues to grow. DAML is directly addressing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81160" y="696960"/>
            <a:ext cx="4648320" cy="3486240"/>
          </a:xfrm>
          <a:prstGeom prst="rect">
            <a:avLst/>
          </a:prstGeom>
          <a:ln w="0">
            <a:noFill/>
          </a:ln>
        </p:spPr>
      </p:sp>
      <p:sp>
        <p:nvSpPr>
          <p:cNvPr id="21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per Text Markup Language (HTML) has taken us a long way along the path of developing the Web. It will be with us for a long time to come, but it was designed only for the purpose of presenting information for humans to read via a Web browser. XML is now maturing and it is estimated that 50% of all web markup will be XML by the end of 2003. But, XML is designed to represent data elements such as &lt;shoe&gt;, &lt;name&gt;, etc. DAML extends XML to provide capabilities to describe information on the Web in terms of classes, properties and relationships (ontologies) that will support powerful knowledge management applications and agent technologies. This new kind of Web with DAML markup is referred to as the Semantic Web. It is a bold new concept that has powerful implications for future military appl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81160" y="696960"/>
            <a:ext cx="4648320" cy="3486240"/>
          </a:xfrm>
          <a:prstGeom prst="rect">
            <a:avLst/>
          </a:prstGeom>
          <a:ln w="0">
            <a:noFill/>
          </a:ln>
        </p:spPr>
      </p:sp>
      <p:sp>
        <p:nvSpPr>
          <p:cNvPr id="21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beginning to see the migration of markup on the web to XML. The Gardner Group estimates that 50% of all information on the Web will be in XML by the end of 2003. Once DAML is released as an W3C standard, it will rapidly emerge as the markup of choice as today’s Web evolves to the Semantic Web. DARPA’s investment in DAML will significantly accelerate the realization of the Semantic Web for military u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81160" y="696960"/>
            <a:ext cx="4648320" cy="3486240"/>
          </a:xfrm>
          <a:prstGeom prst="rect">
            <a:avLst/>
          </a:prstGeom>
          <a:ln w="0">
            <a:noFill/>
          </a:ln>
        </p:spPr>
      </p:sp>
      <p:sp>
        <p:nvSpPr>
          <p:cNvPr id="212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ight have multiple agents running on the computer in my office while giving this presentation. These agents will be interacting with machine readable information and other agents across the Semantic Web and performing many tasks in parallel that I normally could only do sequentially. However, I am here away from my computer and its agents but I still want to interact with them, possibly to change guidance to some of the agents and to receive results back from them. A lightweight applications, such as a Knowledge Pad, could provide my mobile link into the Semantic Web. DAML and the Semantic Web are poised to create a revolutionary change in the way we interact with the Web of the future and the tetherless connection to that exciting world of agents and information is closer to reality than many might realiz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81160" y="696960"/>
            <a:ext cx="4648320" cy="3486240"/>
          </a:xfrm>
          <a:prstGeom prst="rect">
            <a:avLst/>
          </a:prstGeom>
          <a:ln w="0">
            <a:noFill/>
          </a:ln>
        </p:spPr>
      </p:sp>
      <p:sp>
        <p:nvSpPr>
          <p:cNvPr id="21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shows a screen capture from the Hot Bot Web search engine for the query, “What is Al Qaeda?” There were a lot of responses and somewhere in those responses you could probably figure out the answ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1181160" y="696960"/>
            <a:ext cx="4648320" cy="3486240"/>
          </a:xfrm>
          <a:prstGeom prst="rect">
            <a:avLst/>
          </a:prstGeom>
          <a:ln w="0">
            <a:noFill/>
          </a:ln>
        </p:spPr>
      </p:sp>
      <p:sp>
        <p:nvSpPr>
          <p:cNvPr id="21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vision of future queries using the Semantic Web. You should get the specific answer to your question along with links to relevant inform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29" name="PlaceHolder 2"/>
          <p:cNvSpPr>
            <a:spLocks noGrp="1"/>
          </p:cNvSpPr>
          <p:nvPr>
            <p:ph/>
          </p:nvPr>
        </p:nvSpPr>
        <p:spPr>
          <a:xfrm>
            <a:off x="299520" y="11764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299520" y="29746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32"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29952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55724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37" name="PlaceHolder 2"/>
          <p:cNvSpPr>
            <a:spLocks noGrp="1"/>
          </p:cNvSpPr>
          <p:nvPr>
            <p:ph/>
          </p:nvPr>
        </p:nvSpPr>
        <p:spPr>
          <a:xfrm>
            <a:off x="29952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10896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1804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29952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10896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1804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46" name="PlaceHolder 2"/>
          <p:cNvSpPr>
            <a:spLocks noGrp="1"/>
          </p:cNvSpPr>
          <p:nvPr>
            <p:ph type="subTitle"/>
          </p:nvPr>
        </p:nvSpPr>
        <p:spPr>
          <a:xfrm>
            <a:off x="299520" y="1176480"/>
            <a:ext cx="8309160" cy="3442680"/>
          </a:xfrm>
          <a:prstGeom prst="rect">
            <a:avLst/>
          </a:prstGeom>
          <a:noFill/>
          <a:ln w="0">
            <a:noFill/>
          </a:ln>
        </p:spPr>
        <p:txBody>
          <a:bodyPr lIns="0" rIns="0" tIns="0" bIns="0" anchor="ctr">
            <a:noAutofit/>
          </a:bodyPr>
          <a:p>
            <a:pPr indent="0" algn="ctr">
              <a:lnSpc>
                <a:spcPts val="2398"/>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48" name="PlaceHolder 2"/>
          <p:cNvSpPr>
            <a:spLocks noGrp="1"/>
          </p:cNvSpPr>
          <p:nvPr>
            <p:ph/>
          </p:nvPr>
        </p:nvSpPr>
        <p:spPr>
          <a:xfrm>
            <a:off x="299520" y="1176480"/>
            <a:ext cx="830916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50" name="PlaceHolder 2"/>
          <p:cNvSpPr>
            <a:spLocks noGrp="1"/>
          </p:cNvSpPr>
          <p:nvPr>
            <p:ph/>
          </p:nvPr>
        </p:nvSpPr>
        <p:spPr>
          <a:xfrm>
            <a:off x="29952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55724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2200" y="330120"/>
            <a:ext cx="8259840" cy="2077200"/>
          </a:xfrm>
          <a:prstGeom prst="rect">
            <a:avLst/>
          </a:prstGeom>
          <a:noFill/>
          <a:ln w="0">
            <a:noFill/>
          </a:ln>
        </p:spPr>
        <p:txBody>
          <a:bodyPr lIns="0" rIns="0" tIns="0" bIns="0" anchor="ctr">
            <a:noAutofit/>
          </a:bodyPr>
          <a:p>
            <a:pPr algn="ctr">
              <a:lnSpc>
                <a:spcPts val="2398"/>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55"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55724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9952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8" name="PlaceHolder 2"/>
          <p:cNvSpPr>
            <a:spLocks noGrp="1"/>
          </p:cNvSpPr>
          <p:nvPr>
            <p:ph type="subTitle"/>
          </p:nvPr>
        </p:nvSpPr>
        <p:spPr>
          <a:xfrm>
            <a:off x="299520" y="1176480"/>
            <a:ext cx="8309160" cy="3442680"/>
          </a:xfrm>
          <a:prstGeom prst="rect">
            <a:avLst/>
          </a:prstGeom>
          <a:noFill/>
          <a:ln w="0">
            <a:noFill/>
          </a:ln>
        </p:spPr>
        <p:txBody>
          <a:bodyPr lIns="0" rIns="0" tIns="0" bIns="0" anchor="ctr">
            <a:noAutofit/>
          </a:bodyPr>
          <a:p>
            <a:pPr indent="0" algn="ctr">
              <a:lnSpc>
                <a:spcPts val="2398"/>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59" name="PlaceHolder 2"/>
          <p:cNvSpPr>
            <a:spLocks noGrp="1"/>
          </p:cNvSpPr>
          <p:nvPr>
            <p:ph/>
          </p:nvPr>
        </p:nvSpPr>
        <p:spPr>
          <a:xfrm>
            <a:off x="29952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5724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63"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99520" y="29746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67" name="PlaceHolder 2"/>
          <p:cNvSpPr>
            <a:spLocks noGrp="1"/>
          </p:cNvSpPr>
          <p:nvPr>
            <p:ph/>
          </p:nvPr>
        </p:nvSpPr>
        <p:spPr>
          <a:xfrm>
            <a:off x="299520" y="11764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99520" y="29746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70"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9952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55724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75" name="PlaceHolder 2"/>
          <p:cNvSpPr>
            <a:spLocks noGrp="1"/>
          </p:cNvSpPr>
          <p:nvPr>
            <p:ph/>
          </p:nvPr>
        </p:nvSpPr>
        <p:spPr>
          <a:xfrm>
            <a:off x="29952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0896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5918040" y="11764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9952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0896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5918040" y="2974680"/>
            <a:ext cx="2675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10" name="PlaceHolder 2"/>
          <p:cNvSpPr>
            <a:spLocks noGrp="1"/>
          </p:cNvSpPr>
          <p:nvPr>
            <p:ph/>
          </p:nvPr>
        </p:nvSpPr>
        <p:spPr>
          <a:xfrm>
            <a:off x="299520" y="1176480"/>
            <a:ext cx="830916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12" name="PlaceHolder 2"/>
          <p:cNvSpPr>
            <a:spLocks noGrp="1"/>
          </p:cNvSpPr>
          <p:nvPr>
            <p:ph/>
          </p:nvPr>
        </p:nvSpPr>
        <p:spPr>
          <a:xfrm>
            <a:off x="29952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55724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2200" y="330120"/>
            <a:ext cx="8259840" cy="2077200"/>
          </a:xfrm>
          <a:prstGeom prst="rect">
            <a:avLst/>
          </a:prstGeom>
          <a:noFill/>
          <a:ln w="0">
            <a:noFill/>
          </a:ln>
        </p:spPr>
        <p:txBody>
          <a:bodyPr lIns="0" rIns="0" tIns="0" bIns="0" anchor="ctr">
            <a:noAutofit/>
          </a:bodyPr>
          <a:p>
            <a:pPr algn="ctr">
              <a:lnSpc>
                <a:spcPts val="2398"/>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17"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55724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29952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21" name="PlaceHolder 2"/>
          <p:cNvSpPr>
            <a:spLocks noGrp="1"/>
          </p:cNvSpPr>
          <p:nvPr>
            <p:ph/>
          </p:nvPr>
        </p:nvSpPr>
        <p:spPr>
          <a:xfrm>
            <a:off x="299520" y="1176480"/>
            <a:ext cx="4054680" cy="344268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57240" y="29746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163ab"/>
              </a:solidFill>
              <a:latin typeface="Arial Black"/>
            </a:endParaRPr>
          </a:p>
        </p:txBody>
      </p:sp>
      <p:sp>
        <p:nvSpPr>
          <p:cNvPr id="25" name="PlaceHolder 2"/>
          <p:cNvSpPr>
            <a:spLocks noGrp="1"/>
          </p:cNvSpPr>
          <p:nvPr>
            <p:ph/>
          </p:nvPr>
        </p:nvSpPr>
        <p:spPr>
          <a:xfrm>
            <a:off x="29952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557240" y="1176480"/>
            <a:ext cx="405468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299520" y="2974680"/>
            <a:ext cx="8309160" cy="1641960"/>
          </a:xfrm>
          <a:prstGeom prst="rect">
            <a:avLst/>
          </a:prstGeom>
          <a:noFill/>
          <a:ln w="0">
            <a:noFill/>
          </a:ln>
        </p:spPr>
        <p:txBody>
          <a:bodyPr lIns="46080" rIns="46080" tIns="46080" bIns="46080" anchor="t">
            <a:normAutofit/>
          </a:bodyPr>
          <a:p>
            <a:pPr indent="0">
              <a:lnSpc>
                <a:spcPts val="2398"/>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9520" y="1176480"/>
            <a:ext cx="8309160" cy="3442680"/>
          </a:xfrm>
          <a:prstGeom prst="rect">
            <a:avLst/>
          </a:prstGeom>
          <a:noFill/>
          <a:ln w="0">
            <a:noFill/>
          </a:ln>
        </p:spPr>
        <p:txBody>
          <a:bodyPr lIns="46080" rIns="46080" tIns="46080" bIns="46080" anchor="t">
            <a:normAutofit/>
          </a:bodyPr>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71680" indent="-2224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7920" indent="-22212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44520" indent="-222120">
              <a:lnSpc>
                <a:spcPts val="2398"/>
              </a:lnSpc>
              <a:spcBef>
                <a:spcPts val="799"/>
              </a:spcBef>
              <a:spcAft>
                <a:spcPts val="799"/>
              </a:spcAft>
              <a:buClr>
                <a:srgbClr val="2163a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28920" indent="-169920">
              <a:lnSpc>
                <a:spcPts val="2398"/>
              </a:lnSpc>
              <a:spcBef>
                <a:spcPts val="799"/>
              </a:spcBef>
              <a:spcAft>
                <a:spcPts val="799"/>
              </a:spcAft>
              <a:buClr>
                <a:srgbClr val="2163a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28920" indent="-169920">
              <a:lnSpc>
                <a:spcPts val="2398"/>
              </a:lnSpc>
              <a:spcBef>
                <a:spcPts val="799"/>
              </a:spcBef>
              <a:spcAft>
                <a:spcPts val="79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28920" indent="-169920">
              <a:lnSpc>
                <a:spcPts val="2398"/>
              </a:lnSpc>
              <a:spcBef>
                <a:spcPts val="799"/>
              </a:spcBef>
              <a:spcAft>
                <a:spcPts val="79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
          <p:cNvSpPr/>
          <p:nvPr/>
        </p:nvSpPr>
        <p:spPr>
          <a:xfrm>
            <a:off x="7518240" y="6659640"/>
            <a:ext cx="1716480" cy="199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L Review_Nov 2001   p </a:t>
            </a:r>
            <a:fld id="{55D3A338-96E5-4265-B4F2-35BC76745CAE}" type="slidenum">
              <a:rPr b="0" lang="en-US" sz="700" spc="-1" strike="noStrike">
                <a:solidFill>
                  <a:srgbClr val="000000"/>
                </a:solidFill>
                <a:latin typeface="Arial"/>
              </a:rPr>
              <a:t>&lt;number&gt;</a:t>
            </a:fld>
            <a:endParaRPr b="0" lang="en-US" sz="700" spc="-1" strike="noStrike">
              <a:solidFill>
                <a:srgbClr val="000000"/>
              </a:solidFill>
              <a:latin typeface="Times New Roman"/>
            </a:endParaRPr>
          </a:p>
        </p:txBody>
      </p:sp>
      <p:sp>
        <p:nvSpPr>
          <p:cNvPr id="2" name="PlaceHolder 2"/>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Click to edit the title text format</a:t>
            </a:r>
            <a:endParaRPr b="1" lang="en-US" sz="2800" spc="-1" strike="noStrike">
              <a:solidFill>
                <a:srgbClr val="2163ab"/>
              </a:solidFill>
              <a:latin typeface="Arial Black"/>
            </a:endParaRPr>
          </a:p>
        </p:txBody>
      </p:sp>
      <p:pic>
        <p:nvPicPr>
          <p:cNvPr id="3" name="daml_2_3d%20copy" descr=""/>
          <p:cNvPicPr/>
          <p:nvPr/>
        </p:nvPicPr>
        <p:blipFill>
          <a:blip r:embed="rId2"/>
          <a:stretch/>
        </p:blipFill>
        <p:spPr>
          <a:xfrm>
            <a:off x="152280" y="264960"/>
            <a:ext cx="1005120" cy="536760"/>
          </a:xfrm>
          <a:prstGeom prst="rect">
            <a:avLst/>
          </a:prstGeom>
          <a:ln w="0">
            <a:noFill/>
          </a:ln>
        </p:spPr>
      </p:pic>
      <p:sp>
        <p:nvSpPr>
          <p:cNvPr id="4" name=""/>
          <p:cNvSpPr/>
          <p:nvPr/>
        </p:nvSpPr>
        <p:spPr>
          <a:xfrm>
            <a:off x="7883640" y="395280"/>
            <a:ext cx="865080" cy="24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darpa" descr=""/>
          <p:cNvPicPr/>
          <p:nvPr/>
        </p:nvPicPr>
        <p:blipFill>
          <a:blip r:embed="rId3"/>
          <a:stretch/>
        </p:blipFill>
        <p:spPr>
          <a:xfrm>
            <a:off x="7750080" y="271440"/>
            <a:ext cx="1189080" cy="538200"/>
          </a:xfrm>
          <a:prstGeom prst="rect">
            <a:avLst/>
          </a:prstGeom>
          <a:ln w="0">
            <a:noFill/>
          </a:ln>
        </p:spPr>
      </p:pic>
      <p:sp>
        <p:nvSpPr>
          <p:cNvPr id="6" name=""/>
          <p:cNvSpPr/>
          <p:nvPr/>
        </p:nvSpPr>
        <p:spPr>
          <a:xfrm>
            <a:off x="1155600" y="819000"/>
            <a:ext cx="685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524160"/>
          </a:xfrm>
          <a:prstGeom prst="rect">
            <a:avLst/>
          </a:prstGeom>
          <a:noFill/>
          <a:ln w="0">
            <a:noFill/>
          </a:ln>
        </p:spPr>
        <p:txBody>
          <a:bodyPr lIns="46080" rIns="46080" tIns="46080" bIns="46080" anchor="t">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63ab"/>
                </a:solidFill>
                <a:latin typeface="Arial Black"/>
              </a:rPr>
              <a:t>Click to edit the title text format</a:t>
            </a:r>
            <a:endParaRPr b="1" lang="en-US" sz="3600" spc="-1" strike="noStrike">
              <a:solidFill>
                <a:srgbClr val="2163ab"/>
              </a:solidFill>
              <a:latin typeface="Arial Black"/>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398"/>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9200" indent="0" algn="ctr">
              <a:lnSpc>
                <a:spcPts val="1998"/>
              </a:lnSpc>
              <a:spcBef>
                <a:spcPts val="3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85800" algn="ctr">
              <a:lnSpc>
                <a:spcPts val="1800"/>
              </a:lnSpc>
              <a:spcBef>
                <a:spcPts val="300"/>
              </a:spcBef>
              <a:spcAft>
                <a:spcPts val="300"/>
              </a:spcAft>
              <a:buClr>
                <a:srgbClr val="2163ab"/>
              </a:buClr>
              <a:buSzPct val="8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022400" algn="ctr">
              <a:lnSpc>
                <a:spcPts val="1800"/>
              </a:lnSpc>
              <a:spcBef>
                <a:spcPts val="300"/>
              </a:spcBef>
              <a:spcAft>
                <a:spcPts val="300"/>
              </a:spcAft>
              <a:buClr>
                <a:srgbClr val="2163ab"/>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59000" algn="ctr">
              <a:lnSpc>
                <a:spcPts val="1800"/>
              </a:lnSpc>
              <a:spcBef>
                <a:spcPts val="300"/>
              </a:spcBef>
              <a:spcAft>
                <a:spcPts val="300"/>
              </a:spcAft>
              <a:buClr>
                <a:srgbClr val="2163ab"/>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5900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5900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26.xml"/><Relationship Id="rId6" Type="http://schemas.openxmlformats.org/officeDocument/2006/relationships/slide" Target="slide23.xml"/><Relationship Id="rId7" Type="http://schemas.openxmlformats.org/officeDocument/2006/relationships/slide" Target=""/><Relationship Id="rId8" Type="http://schemas.openxmlformats.org/officeDocument/2006/relationships/slide" Target="slide25.xml"/><Relationship Id="rId9" Type="http://schemas.openxmlformats.org/officeDocument/2006/relationships/slide" Target="slide26.xml"/><Relationship Id="rId10" Type="http://schemas.openxmlformats.org/officeDocument/2006/relationships/slide" Target=""/><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slide" Target="slide24.xml"/><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hyperlink" Target="http://www.daml.org/" TargetMode="External"/><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1373040"/>
            <a:ext cx="9144000" cy="1836720"/>
          </a:xfrm>
          <a:prstGeom prst="rect">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25120" y="4346640"/>
            <a:ext cx="3888720" cy="860040"/>
          </a:xfrm>
          <a:prstGeom prst="rect">
            <a:avLst/>
          </a:prstGeom>
          <a:noFill/>
          <a:ln w="0">
            <a:noFill/>
          </a:ln>
        </p:spPr>
        <p:style>
          <a:lnRef idx="0"/>
          <a:fillRef idx="0"/>
          <a:effectRef idx="0"/>
          <a:fontRef idx="minor"/>
        </p:style>
        <p:txBody>
          <a:bodyPr wrap="none" lIns="96840" rIns="96840" tIns="48240" bIns="48240" anchor="t">
            <a:spAutoFit/>
          </a:bodyPr>
          <a:p>
            <a:pPr algn="ctr">
              <a:lnSpc>
                <a:spcPct val="100000"/>
              </a:lnSpc>
              <a:spcBef>
                <a:spcPts val="3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000000"/>
                </a:solidFill>
                <a:latin typeface="Arial Black"/>
              </a:rPr>
              <a:t>Murray Burke</a:t>
            </a:r>
            <a:endParaRPr b="0" lang="en-US" sz="2800" spc="-1" strike="noStrike">
              <a:solidFill>
                <a:srgbClr val="000000"/>
              </a:solidFill>
              <a:latin typeface="Times New Roman"/>
            </a:endParaRPr>
          </a:p>
          <a:p>
            <a:pPr algn="ctr">
              <a:lnSpc>
                <a:spcPct val="100000"/>
              </a:lnSpc>
              <a:spcBef>
                <a:spcPts val="24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Black"/>
              </a:rPr>
              <a:t>Information Exploitation Office</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41360" y="1427040"/>
            <a:ext cx="8167680" cy="1387440"/>
          </a:xfrm>
          <a:prstGeom prst="rect">
            <a:avLst/>
          </a:prstGeom>
          <a:noFill/>
          <a:ln w="0">
            <a:noFill/>
          </a:ln>
        </p:spPr>
        <p:txBody>
          <a:bodyPr lIns="46080" rIns="46080" tIns="46080" bIns="46080" anchor="t">
            <a:noAutofit/>
          </a:bodyPr>
          <a:p>
            <a:pPr indent="0" algn="ctr">
              <a:lnSpc>
                <a:spcPts val="3399"/>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DARPA Agent Markup Language</a:t>
            </a:r>
            <a:br>
              <a:rPr sz="3600"/>
            </a:br>
            <a:br>
              <a:rPr sz="3600"/>
            </a:br>
            <a:r>
              <a:rPr b="1" lang="en-US" sz="3200" spc="-1" strike="noStrike">
                <a:solidFill>
                  <a:srgbClr val="ffffff"/>
                </a:solidFill>
                <a:latin typeface="Arial Black"/>
              </a:rPr>
              <a:t>November 2001</a:t>
            </a:r>
            <a:endParaRPr b="1" lang="en-US" sz="3200" spc="-1" strike="noStrike">
              <a:solidFill>
                <a:srgbClr val="2163ab"/>
              </a:solidFill>
              <a:latin typeface="Arial Black"/>
            </a:endParaRPr>
          </a:p>
        </p:txBody>
      </p:sp>
      <p:sp>
        <p:nvSpPr>
          <p:cNvPr id="91" name="PlaceHolder 2"/>
          <p:cNvSpPr>
            <a:spLocks noGrp="1"/>
          </p:cNvSpPr>
          <p:nvPr>
            <p:ph type="subTitle"/>
          </p:nvPr>
        </p:nvSpPr>
        <p:spPr>
          <a:xfrm>
            <a:off x="1474560" y="3460320"/>
            <a:ext cx="5978520" cy="701640"/>
          </a:xfrm>
          <a:prstGeom prst="rect">
            <a:avLst/>
          </a:prstGeom>
          <a:noFill/>
          <a:ln w="0">
            <a:noFill/>
          </a:ln>
        </p:spPr>
        <p:txBody>
          <a:bodyPr lIns="46080" rIns="46080" tIns="46080" bIns="46080" anchor="t">
            <a:noAutofit/>
          </a:bodyPr>
          <a:p>
            <a:pPr indent="0" algn="ctr">
              <a:lnSpc>
                <a:spcPts val="2398"/>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0f33"/>
                </a:solidFill>
                <a:latin typeface="Arial"/>
              </a:rPr>
              <a:t>Enabling “agent” communication at a Web-wide sca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251400" y="4857840"/>
            <a:ext cx="1016280" cy="769680"/>
          </a:xfrm>
          <a:custGeom>
            <a:avLst/>
            <a:gdLst>
              <a:gd name="textAreaLeft" fmla="*/ 223560 w 1016280"/>
              <a:gd name="textAreaRight" fmla="*/ 792720 w 1016280"/>
              <a:gd name="textAreaTop" fmla="*/ 169200 h 769680"/>
              <a:gd name="textAreaBottom" fmla="*/ 600480 h 769680"/>
            </a:gdLst>
            <a:ahLst/>
            <a:rect l="textAreaLeft" t="textAreaTop" r="textAreaRight" b="textAreaBottom"/>
            <a:pathLst>
              <a:path w="21600" h="21600">
                <a:moveTo>
                  <a:pt x="0" y="0"/>
                </a:moveTo>
                <a:lnTo>
                  <a:pt x="21600" y="0"/>
                </a:lnTo>
                <a:lnTo>
                  <a:pt x="16200" y="21600"/>
                </a:lnTo>
                <a:lnTo>
                  <a:pt x="5400" y="21600"/>
                </a:lnTo>
                <a:close/>
              </a:path>
            </a:pathLst>
          </a:custGeom>
          <a:solidFill>
            <a:srgbClr val="e8f1fa"/>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638680" y="3751200"/>
            <a:ext cx="2230560" cy="901800"/>
          </a:xfrm>
          <a:custGeom>
            <a:avLst/>
            <a:gdLst>
              <a:gd name="textAreaLeft" fmla="*/ 490320 w 2230560"/>
              <a:gd name="textAreaRight" fmla="*/ 1740240 w 2230560"/>
              <a:gd name="textAreaTop" fmla="*/ 198360 h 901800"/>
              <a:gd name="textAreaBottom" fmla="*/ 703440 h 901800"/>
            </a:gdLst>
            <a:ahLst/>
            <a:rect l="textAreaLeft" t="textAreaTop" r="textAreaRight" b="textAreaBottom"/>
            <a:pathLst>
              <a:path w="21600" h="21600">
                <a:moveTo>
                  <a:pt x="0" y="0"/>
                </a:moveTo>
                <a:lnTo>
                  <a:pt x="21600" y="0"/>
                </a:lnTo>
                <a:lnTo>
                  <a:pt x="16200" y="21600"/>
                </a:lnTo>
                <a:lnTo>
                  <a:pt x="5400" y="21600"/>
                </a:lnTo>
                <a:close/>
              </a:path>
            </a:pathLst>
          </a:custGeom>
          <a:solidFill>
            <a:srgbClr val="94bdeb"/>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321080" y="1471680"/>
            <a:ext cx="4807080" cy="2031840"/>
          </a:xfrm>
          <a:custGeom>
            <a:avLst/>
            <a:gdLst>
              <a:gd name="textAreaLeft" fmla="*/ 1056960 w 4807080"/>
              <a:gd name="textAreaRight" fmla="*/ 3750120 w 4807080"/>
              <a:gd name="textAreaTop" fmla="*/ 446760 h 2031840"/>
              <a:gd name="textAreaBottom" fmla="*/ 1585080 h 2031840"/>
            </a:gdLst>
            <a:ahLst/>
            <a:rect l="textAreaLeft" t="textAreaTop" r="textAreaRight" b="textAreaBottom"/>
            <a:pathLst>
              <a:path w="21600" h="21600">
                <a:moveTo>
                  <a:pt x="0" y="0"/>
                </a:moveTo>
                <a:lnTo>
                  <a:pt x="21600" y="0"/>
                </a:lnTo>
                <a:lnTo>
                  <a:pt x="16200" y="21600"/>
                </a:lnTo>
                <a:lnTo>
                  <a:pt x="5400" y="21600"/>
                </a:lnTo>
                <a:close/>
              </a:path>
            </a:pathLst>
          </a:custGeom>
          <a:solidFill>
            <a:srgbClr val="2163ab"/>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309680" y="3745080"/>
            <a:ext cx="2230560" cy="901440"/>
          </a:xfrm>
          <a:custGeom>
            <a:avLst/>
            <a:gdLst>
              <a:gd name="textAreaLeft" fmla="*/ 490320 w 2230560"/>
              <a:gd name="textAreaRight" fmla="*/ 1740240 w 2230560"/>
              <a:gd name="textAreaTop" fmla="*/ 198000 h 901440"/>
              <a:gd name="textAreaBottom" fmla="*/ 703440 h 901440"/>
            </a:gdLst>
            <a:ahLst/>
            <a:rect l="textAreaLeft" t="textAreaTop" r="textAreaRight" b="textAreaBottom"/>
            <a:pathLst>
              <a:path w="21600" h="21600">
                <a:moveTo>
                  <a:pt x="0" y="0"/>
                </a:moveTo>
                <a:lnTo>
                  <a:pt x="21600" y="0"/>
                </a:lnTo>
                <a:lnTo>
                  <a:pt x="16200" y="21600"/>
                </a:lnTo>
                <a:lnTo>
                  <a:pt x="5400" y="21600"/>
                </a:lnTo>
                <a:close/>
              </a:path>
            </a:pathLst>
          </a:custGeom>
          <a:solidFill>
            <a:srgbClr val="94bdeb"/>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1469880"/>
            <a:ext cx="4807080" cy="2032200"/>
          </a:xfrm>
          <a:custGeom>
            <a:avLst/>
            <a:gdLst>
              <a:gd name="textAreaLeft" fmla="*/ 1056960 w 4807080"/>
              <a:gd name="textAreaRight" fmla="*/ 3750120 w 4807080"/>
              <a:gd name="textAreaTop" fmla="*/ 446760 h 2032200"/>
              <a:gd name="textAreaBottom" fmla="*/ 1585440 h 2032200"/>
            </a:gdLst>
            <a:ahLst/>
            <a:rect l="textAreaLeft" t="textAreaTop" r="textAreaRight" b="textAreaBottom"/>
            <a:pathLst>
              <a:path w="21600" h="21600">
                <a:moveTo>
                  <a:pt x="0" y="0"/>
                </a:moveTo>
                <a:lnTo>
                  <a:pt x="21600" y="0"/>
                </a:lnTo>
                <a:lnTo>
                  <a:pt x="16200" y="21600"/>
                </a:lnTo>
                <a:lnTo>
                  <a:pt x="5400" y="21600"/>
                </a:lnTo>
                <a:close/>
              </a:path>
            </a:pathLst>
          </a:custGeom>
          <a:solidFill>
            <a:srgbClr val="2163ab"/>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37680" y="1104840"/>
            <a:ext cx="38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 . . . . . . . . . . . . . . . . . . . . .1998</a:t>
            </a:r>
            <a:endParaRPr b="0" lang="en-US" sz="1800" spc="-1" strike="noStrike">
              <a:solidFill>
                <a:srgbClr val="000000"/>
              </a:solidFill>
              <a:latin typeface="Times New Roman"/>
            </a:endParaRPr>
          </a:p>
        </p:txBody>
      </p:sp>
      <p:sp>
        <p:nvSpPr>
          <p:cNvPr id="766" name=""/>
          <p:cNvSpPr/>
          <p:nvPr/>
        </p:nvSpPr>
        <p:spPr>
          <a:xfrm>
            <a:off x="4862160" y="1119240"/>
            <a:ext cx="38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 . . . . . . . . . . . . . . . . . . . 2003</a:t>
            </a:r>
            <a:endParaRPr b="0" lang="en-US" sz="1800" spc="-1" strike="noStrike">
              <a:solidFill>
                <a:srgbClr val="000000"/>
              </a:solidFill>
              <a:latin typeface="Times New Roman"/>
            </a:endParaRPr>
          </a:p>
        </p:txBody>
      </p:sp>
      <p:sp>
        <p:nvSpPr>
          <p:cNvPr id="767" name=""/>
          <p:cNvSpPr/>
          <p:nvPr/>
        </p:nvSpPr>
        <p:spPr>
          <a:xfrm>
            <a:off x="1914480" y="1871640"/>
            <a:ext cx="1015920" cy="67788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och</a:t>
            </a:r>
            <a:endParaRPr b="0" lang="en-US" sz="1800" spc="-1" strike="noStrike">
              <a:solidFill>
                <a:srgbClr val="000000"/>
              </a:solidFill>
              <a:latin typeface="Times New Roman"/>
            </a:endParaRPr>
          </a:p>
        </p:txBody>
      </p:sp>
      <p:sp>
        <p:nvSpPr>
          <p:cNvPr id="768" name=""/>
          <p:cNvSpPr/>
          <p:nvPr/>
        </p:nvSpPr>
        <p:spPr>
          <a:xfrm>
            <a:off x="652320" y="1878120"/>
            <a:ext cx="1044720" cy="71424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umbaugh</a:t>
            </a:r>
            <a:endParaRPr b="0" lang="en-US" sz="1800" spc="-1" strike="noStrike">
              <a:solidFill>
                <a:srgbClr val="000000"/>
              </a:solidFill>
              <a:latin typeface="Times New Roman"/>
            </a:endParaRPr>
          </a:p>
        </p:txBody>
      </p:sp>
      <p:sp>
        <p:nvSpPr>
          <p:cNvPr id="769" name=""/>
          <p:cNvSpPr/>
          <p:nvPr/>
        </p:nvSpPr>
        <p:spPr>
          <a:xfrm>
            <a:off x="3141720" y="1844640"/>
            <a:ext cx="1025640" cy="73512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dell</a:t>
            </a:r>
            <a:endParaRPr b="0" lang="en-US" sz="1800" spc="-1" strike="noStrike">
              <a:solidFill>
                <a:srgbClr val="000000"/>
              </a:solidFill>
              <a:latin typeface="Times New Roman"/>
            </a:endParaRPr>
          </a:p>
        </p:txBody>
      </p:sp>
      <p:sp>
        <p:nvSpPr>
          <p:cNvPr id="770" name=""/>
          <p:cNvSpPr/>
          <p:nvPr/>
        </p:nvSpPr>
        <p:spPr>
          <a:xfrm>
            <a:off x="1273320" y="2549520"/>
            <a:ext cx="1073160" cy="74304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se</a:t>
            </a:r>
            <a:endParaRPr b="0" lang="en-US" sz="1800" spc="-1" strike="noStrike">
              <a:solidFill>
                <a:srgbClr val="000000"/>
              </a:solidFill>
              <a:latin typeface="Times New Roman"/>
            </a:endParaRPr>
          </a:p>
        </p:txBody>
      </p:sp>
      <p:sp>
        <p:nvSpPr>
          <p:cNvPr id="771" name=""/>
          <p:cNvSpPr/>
          <p:nvPr/>
        </p:nvSpPr>
        <p:spPr>
          <a:xfrm>
            <a:off x="2422440" y="2556000"/>
            <a:ext cx="1100160" cy="76032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digm</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us</a:t>
            </a:r>
            <a:endParaRPr b="0" lang="en-US" sz="1800" spc="-1" strike="noStrike">
              <a:solidFill>
                <a:srgbClr val="000000"/>
              </a:solidFill>
              <a:latin typeface="Times New Roman"/>
            </a:endParaRPr>
          </a:p>
        </p:txBody>
      </p:sp>
      <p:sp>
        <p:nvSpPr>
          <p:cNvPr id="772" name=""/>
          <p:cNvSpPr/>
          <p:nvPr/>
        </p:nvSpPr>
        <p:spPr>
          <a:xfrm>
            <a:off x="517680" y="1468440"/>
            <a:ext cx="382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zens of application design languages</a:t>
            </a:r>
            <a:endParaRPr b="0" lang="en-US" sz="1800" spc="-1" strike="noStrike">
              <a:solidFill>
                <a:srgbClr val="000000"/>
              </a:solidFill>
              <a:latin typeface="Times New Roman"/>
            </a:endParaRPr>
          </a:p>
        </p:txBody>
      </p:sp>
      <p:sp>
        <p:nvSpPr>
          <p:cNvPr id="773" name=""/>
          <p:cNvSpPr/>
          <p:nvPr/>
        </p:nvSpPr>
        <p:spPr>
          <a:xfrm>
            <a:off x="4550040" y="1459080"/>
            <a:ext cx="441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ozens of knowledge representation languages</a:t>
            </a:r>
            <a:endParaRPr b="0" lang="en-US" sz="1800" spc="-1" strike="noStrike">
              <a:solidFill>
                <a:srgbClr val="000000"/>
              </a:solidFill>
              <a:latin typeface="Times New Roman"/>
            </a:endParaRPr>
          </a:p>
        </p:txBody>
      </p:sp>
      <p:sp>
        <p:nvSpPr>
          <p:cNvPr id="774" name=""/>
          <p:cNvSpPr/>
          <p:nvPr/>
        </p:nvSpPr>
        <p:spPr>
          <a:xfrm>
            <a:off x="1338120" y="5794200"/>
            <a:ext cx="2144880" cy="5511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One modeling language</a:t>
            </a:r>
            <a:endParaRPr b="0" lang="en-US" sz="1800" spc="-1" strike="noStrike">
              <a:solidFill>
                <a:srgbClr val="000000"/>
              </a:solidFill>
              <a:latin typeface="Times New Roman"/>
            </a:endParaRPr>
          </a:p>
        </p:txBody>
      </p:sp>
      <p:sp>
        <p:nvSpPr>
          <p:cNvPr id="775" name=""/>
          <p:cNvSpPr/>
          <p:nvPr/>
        </p:nvSpPr>
        <p:spPr>
          <a:xfrm>
            <a:off x="5105520" y="2013120"/>
            <a:ext cx="1081080" cy="62064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om</a:t>
            </a:r>
            <a:endParaRPr b="0" lang="en-US" sz="1800" spc="-1" strike="noStrike">
              <a:solidFill>
                <a:srgbClr val="000000"/>
              </a:solidFill>
              <a:latin typeface="Times New Roman"/>
            </a:endParaRPr>
          </a:p>
        </p:txBody>
      </p:sp>
      <p:sp>
        <p:nvSpPr>
          <p:cNvPr id="776" name=""/>
          <p:cNvSpPr/>
          <p:nvPr/>
        </p:nvSpPr>
        <p:spPr>
          <a:xfrm>
            <a:off x="6891480" y="2728800"/>
            <a:ext cx="1091880" cy="63036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IF</a:t>
            </a:r>
            <a:endParaRPr b="0" lang="en-US" sz="1800" spc="-1" strike="noStrike">
              <a:solidFill>
                <a:srgbClr val="000000"/>
              </a:solidFill>
              <a:latin typeface="Times New Roman"/>
            </a:endParaRPr>
          </a:p>
        </p:txBody>
      </p:sp>
      <p:sp>
        <p:nvSpPr>
          <p:cNvPr id="777" name=""/>
          <p:cNvSpPr/>
          <p:nvPr/>
        </p:nvSpPr>
        <p:spPr>
          <a:xfrm>
            <a:off x="6230880" y="1917720"/>
            <a:ext cx="1128600" cy="66816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ME</a:t>
            </a:r>
            <a:endParaRPr b="0" lang="en-US" sz="1800" spc="-1" strike="noStrike">
              <a:solidFill>
                <a:srgbClr val="000000"/>
              </a:solidFill>
              <a:latin typeface="Times New Roman"/>
            </a:endParaRPr>
          </a:p>
        </p:txBody>
      </p:sp>
      <p:sp>
        <p:nvSpPr>
          <p:cNvPr id="778" name=""/>
          <p:cNvSpPr/>
          <p:nvPr/>
        </p:nvSpPr>
        <p:spPr>
          <a:xfrm>
            <a:off x="5584680" y="2684520"/>
            <a:ext cx="1157400" cy="58248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EE</a:t>
            </a:r>
            <a:endParaRPr b="0" lang="en-US" sz="1800" spc="-1" strike="noStrike">
              <a:solidFill>
                <a:srgbClr val="000000"/>
              </a:solidFill>
              <a:latin typeface="Times New Roman"/>
            </a:endParaRPr>
          </a:p>
        </p:txBody>
      </p:sp>
      <p:sp>
        <p:nvSpPr>
          <p:cNvPr id="779" name=""/>
          <p:cNvSpPr/>
          <p:nvPr/>
        </p:nvSpPr>
        <p:spPr>
          <a:xfrm>
            <a:off x="7375680" y="2038320"/>
            <a:ext cx="1081080" cy="657360"/>
          </a:xfrm>
          <a:prstGeom prst="ellipse">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DF</a:t>
            </a:r>
            <a:endParaRPr b="0" lang="en-US" sz="1800" spc="-1" strike="noStrike">
              <a:solidFill>
                <a:srgbClr val="000000"/>
              </a:solidFill>
              <a:latin typeface="Times New Roman"/>
            </a:endParaRPr>
          </a:p>
        </p:txBody>
      </p:sp>
      <p:sp>
        <p:nvSpPr>
          <p:cNvPr id="780" name="PlaceHolder 1"/>
          <p:cNvSpPr>
            <a:spLocks noGrp="1"/>
          </p:cNvSpPr>
          <p:nvPr>
            <p:ph type="title"/>
          </p:nvPr>
        </p:nvSpPr>
        <p:spPr>
          <a:xfrm>
            <a:off x="1638000" y="330120"/>
            <a:ext cx="587052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Precedents</a:t>
            </a:r>
            <a:endParaRPr b="1" lang="en-US" sz="2800" spc="-1" strike="noStrike">
              <a:solidFill>
                <a:srgbClr val="2163ab"/>
              </a:solidFill>
              <a:latin typeface="Arial Black"/>
            </a:endParaRPr>
          </a:p>
        </p:txBody>
      </p:sp>
      <p:sp>
        <p:nvSpPr>
          <p:cNvPr id="781" name=""/>
          <p:cNvSpPr/>
          <p:nvPr/>
        </p:nvSpPr>
        <p:spPr>
          <a:xfrm>
            <a:off x="1432080" y="3975120"/>
            <a:ext cx="1998360" cy="3225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MG</a:t>
            </a:r>
            <a:endParaRPr b="0" lang="en-US" sz="1800" spc="-1" strike="noStrike">
              <a:solidFill>
                <a:srgbClr val="000000"/>
              </a:solidFill>
              <a:latin typeface="Times New Roman"/>
            </a:endParaRPr>
          </a:p>
        </p:txBody>
      </p:sp>
      <p:sp>
        <p:nvSpPr>
          <p:cNvPr id="782" name=""/>
          <p:cNvSpPr/>
          <p:nvPr/>
        </p:nvSpPr>
        <p:spPr>
          <a:xfrm>
            <a:off x="1922400" y="4851360"/>
            <a:ext cx="1015920" cy="770040"/>
          </a:xfrm>
          <a:custGeom>
            <a:avLst/>
            <a:gdLst>
              <a:gd name="textAreaLeft" fmla="*/ 223200 w 1015920"/>
              <a:gd name="textAreaRight" fmla="*/ 792720 w 1015920"/>
              <a:gd name="textAreaTop" fmla="*/ 169200 h 770040"/>
              <a:gd name="textAreaBottom" fmla="*/ 600840 h 770040"/>
            </a:gdLst>
            <a:ahLst/>
            <a:rect l="textAreaLeft" t="textAreaTop" r="textAreaRight" b="textAreaBottom"/>
            <a:pathLst>
              <a:path w="21600" h="21600">
                <a:moveTo>
                  <a:pt x="0" y="0"/>
                </a:moveTo>
                <a:lnTo>
                  <a:pt x="21600" y="0"/>
                </a:lnTo>
                <a:lnTo>
                  <a:pt x="16200" y="21600"/>
                </a:lnTo>
                <a:lnTo>
                  <a:pt x="5400" y="21600"/>
                </a:lnTo>
                <a:close/>
              </a:path>
            </a:pathLst>
          </a:custGeom>
          <a:solidFill>
            <a:srgbClr val="e8f1fa"/>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09960" y="5106960"/>
            <a:ext cx="644400" cy="3225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ML</a:t>
            </a:r>
            <a:endParaRPr b="0" lang="en-US" sz="1800" spc="-1" strike="noStrike">
              <a:solidFill>
                <a:srgbClr val="000000"/>
              </a:solidFill>
              <a:latin typeface="Times New Roman"/>
            </a:endParaRPr>
          </a:p>
        </p:txBody>
      </p:sp>
      <p:sp>
        <p:nvSpPr>
          <p:cNvPr id="784" name=""/>
          <p:cNvSpPr/>
          <p:nvPr/>
        </p:nvSpPr>
        <p:spPr>
          <a:xfrm>
            <a:off x="5562720" y="5803920"/>
            <a:ext cx="2463840" cy="5511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One Web KR language</a:t>
            </a:r>
            <a:endParaRPr b="0" lang="en-US" sz="1800" spc="-1" strike="noStrike">
              <a:solidFill>
                <a:srgbClr val="000000"/>
              </a:solidFill>
              <a:latin typeface="Times New Roman"/>
            </a:endParaRPr>
          </a:p>
        </p:txBody>
      </p:sp>
      <p:sp>
        <p:nvSpPr>
          <p:cNvPr id="785" name=""/>
          <p:cNvSpPr/>
          <p:nvPr/>
        </p:nvSpPr>
        <p:spPr>
          <a:xfrm>
            <a:off x="5742000" y="3986280"/>
            <a:ext cx="1998720" cy="3225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RPA / W3C</a:t>
            </a:r>
            <a:endParaRPr b="0" lang="en-US" sz="1800" spc="-1" strike="noStrike">
              <a:solidFill>
                <a:srgbClr val="000000"/>
              </a:solidFill>
              <a:latin typeface="Times New Roman"/>
            </a:endParaRPr>
          </a:p>
        </p:txBody>
      </p:sp>
      <p:sp>
        <p:nvSpPr>
          <p:cNvPr id="786" name=""/>
          <p:cNvSpPr/>
          <p:nvPr/>
        </p:nvSpPr>
        <p:spPr>
          <a:xfrm>
            <a:off x="6361200" y="5097600"/>
            <a:ext cx="795240" cy="3225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ML</a:t>
            </a:r>
            <a:endParaRPr b="0" lang="en-US" sz="1800" spc="-1" strike="noStrike">
              <a:solidFill>
                <a:srgbClr val="000000"/>
              </a:solidFill>
              <a:latin typeface="Times New Roman"/>
            </a:endParaRPr>
          </a:p>
        </p:txBody>
      </p:sp>
      <p:sp>
        <p:nvSpPr>
          <p:cNvPr id="787" name=""/>
          <p:cNvSpPr/>
          <p:nvPr/>
        </p:nvSpPr>
        <p:spPr>
          <a:xfrm>
            <a:off x="2146320" y="3502080"/>
            <a:ext cx="573120" cy="225360"/>
          </a:xfrm>
          <a:prstGeom prst="downArrow">
            <a:avLst>
              <a:gd name="adj1" fmla="val 50000"/>
              <a:gd name="adj2" fmla="val 25000"/>
            </a:avLst>
          </a:prstGeom>
          <a:gradFill rotWithShape="0">
            <a:gsLst>
              <a:gs pos="0">
                <a:srgbClr val="2163ab"/>
              </a:gs>
              <a:gs pos="100000">
                <a:srgbClr val="94bdeb"/>
              </a:gs>
            </a:gsLst>
            <a:lin ang="54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233440" y="4651200"/>
            <a:ext cx="385920" cy="177840"/>
          </a:xfrm>
          <a:prstGeom prst="downArrow">
            <a:avLst>
              <a:gd name="adj1" fmla="val 50000"/>
              <a:gd name="adj2" fmla="val 25000"/>
            </a:avLst>
          </a:prstGeom>
          <a:gradFill rotWithShape="0">
            <a:gsLst>
              <a:gs pos="0">
                <a:srgbClr val="94bdeb"/>
              </a:gs>
              <a:gs pos="100000">
                <a:srgbClr val="e8f1fa"/>
              </a:gs>
            </a:gsLst>
            <a:lin ang="54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413000" y="5411880"/>
            <a:ext cx="2043000" cy="1073160"/>
          </a:xfrm>
          <a:prstGeom prst="can">
            <a:avLst>
              <a:gd name="adj" fmla="val 25000"/>
            </a:avLst>
          </a:prstGeom>
          <a:no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475320" y="3498840"/>
            <a:ext cx="573120" cy="225360"/>
          </a:xfrm>
          <a:prstGeom prst="downArrow">
            <a:avLst>
              <a:gd name="adj1" fmla="val 50000"/>
              <a:gd name="adj2" fmla="val 25000"/>
            </a:avLst>
          </a:prstGeom>
          <a:gradFill rotWithShape="0">
            <a:gsLst>
              <a:gs pos="0">
                <a:srgbClr val="2163ab"/>
              </a:gs>
              <a:gs pos="100000">
                <a:srgbClr val="94bdeb"/>
              </a:gs>
            </a:gsLst>
            <a:lin ang="54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562800" y="4657680"/>
            <a:ext cx="385560" cy="177840"/>
          </a:xfrm>
          <a:prstGeom prst="downArrow">
            <a:avLst>
              <a:gd name="adj1" fmla="val 50000"/>
              <a:gd name="adj2" fmla="val 25000"/>
            </a:avLst>
          </a:prstGeom>
          <a:gradFill rotWithShape="0">
            <a:gsLst>
              <a:gs pos="0">
                <a:srgbClr val="94bdeb"/>
              </a:gs>
              <a:gs pos="100000">
                <a:srgbClr val="e8f1fa"/>
              </a:gs>
            </a:gsLst>
            <a:lin ang="54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761080" y="5427720"/>
            <a:ext cx="2043000" cy="1073160"/>
          </a:xfrm>
          <a:prstGeom prst="can">
            <a:avLst>
              <a:gd name="adj" fmla="val 25000"/>
            </a:avLst>
          </a:prstGeom>
          <a:no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flipV="1">
            <a:off x="4333680" y="1467000"/>
            <a:ext cx="228600" cy="395280"/>
          </a:xfrm>
          <a:prstGeom prst="line">
            <a:avLst/>
          </a:prstGeom>
          <a:ln w="12600">
            <a:solidFill>
              <a:srgbClr val="0000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1447920" y="3932280"/>
            <a:ext cx="6273720" cy="2266920"/>
          </a:xfrm>
          <a:prstGeom prst="roundRect">
            <a:avLst>
              <a:gd name="adj" fmla="val 16667"/>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35600" y="1574640"/>
            <a:ext cx="893520" cy="1711440"/>
          </a:xfrm>
          <a:prstGeom prst="rect">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540160" y="2563920"/>
            <a:ext cx="3970080" cy="630000"/>
          </a:xfrm>
          <a:prstGeom prst="rect">
            <a:avLst/>
          </a:prstGeom>
          <a:solidFill>
            <a:srgbClr val="94bdeb"/>
          </a:solidFill>
          <a:ln w="12600">
            <a:solidFill>
              <a:srgbClr val="2163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541600" y="1898640"/>
            <a:ext cx="3970440" cy="630360"/>
          </a:xfrm>
          <a:prstGeom prst="rect">
            <a:avLst/>
          </a:prstGeom>
          <a:solidFill>
            <a:srgbClr val="c8ddf4"/>
          </a:solidFill>
          <a:ln w="12600">
            <a:solidFill>
              <a:srgbClr val="2163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50960" y="1241280"/>
            <a:ext cx="3970440" cy="630360"/>
          </a:xfrm>
          <a:prstGeom prst="rect">
            <a:avLst/>
          </a:prstGeom>
          <a:solidFill>
            <a:srgbClr val="e8f1fa"/>
          </a:solidFill>
          <a:ln w="12600">
            <a:solidFill>
              <a:srgbClr val="2163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2556000" y="3245760"/>
            <a:ext cx="3924000" cy="885960"/>
          </a:xfrm>
          <a:prstGeom prst="triangle">
            <a:avLst>
              <a:gd name="adj" fmla="val 49977"/>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1760400" y="4102200"/>
            <a:ext cx="2808360" cy="2011320"/>
            <a:chOff x="1760400" y="4102200"/>
            <a:chExt cx="2808360" cy="2011320"/>
          </a:xfrm>
        </p:grpSpPr>
        <p:sp>
          <p:nvSpPr>
            <p:cNvPr id="801" name=""/>
            <p:cNvSpPr/>
            <p:nvPr/>
          </p:nvSpPr>
          <p:spPr>
            <a:xfrm>
              <a:off x="2174760" y="4473720"/>
              <a:ext cx="2379600" cy="13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2581200" y="4269960"/>
              <a:ext cx="1755720" cy="12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1811160" y="4284720"/>
              <a:ext cx="1756080" cy="53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595240" y="4284720"/>
              <a:ext cx="9716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1797120" y="4269960"/>
              <a:ext cx="2525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1797120" y="4473720"/>
              <a:ext cx="3776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82720" y="4138560"/>
              <a:ext cx="609840" cy="19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3292560" y="5764320"/>
              <a:ext cx="126180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09640" y="5459400"/>
              <a:ext cx="1959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1898640" y="4152960"/>
              <a:ext cx="79848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1913040" y="5764320"/>
              <a:ext cx="25984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174760" y="447372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776240" y="475632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884240" y="586584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646360" y="410220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251240" y="424188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487680" y="426240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581200" y="544680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475160" y="5727600"/>
              <a:ext cx="8892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278160" y="6012000"/>
              <a:ext cx="8892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1811160" y="4284360"/>
              <a:ext cx="2482920" cy="95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760400" y="5205240"/>
              <a:ext cx="88920" cy="101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811160" y="5241960"/>
              <a:ext cx="1538280" cy="8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278240" y="4284720"/>
              <a:ext cx="262080" cy="14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4954680" y="4210200"/>
            <a:ext cx="2673720" cy="167940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mantic Web</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a:t>
            </a:r>
            <a:endParaRPr b="0" lang="en-US" sz="20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PRNET</a:t>
            </a:r>
            <a:endParaRPr b="0" lang="en-US" sz="20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INK-S</a:t>
            </a:r>
            <a:endParaRPr b="0" lang="en-US" sz="20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INK</a:t>
            </a:r>
            <a:endParaRPr b="0" lang="en-US" sz="2000" spc="-1" strike="noStrike">
              <a:solidFill>
                <a:srgbClr val="000000"/>
              </a:solidFill>
              <a:latin typeface="Times New Roman"/>
            </a:endParaRPr>
          </a:p>
        </p:txBody>
      </p:sp>
      <p:sp>
        <p:nvSpPr>
          <p:cNvPr id="826" name=""/>
          <p:cNvSpPr/>
          <p:nvPr/>
        </p:nvSpPr>
        <p:spPr>
          <a:xfrm>
            <a:off x="2568960" y="1343160"/>
            <a:ext cx="396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to describe information</a:t>
            </a:r>
            <a:endParaRPr b="0" lang="en-US" sz="2000" spc="-1" strike="noStrike">
              <a:solidFill>
                <a:srgbClr val="000000"/>
              </a:solidFill>
              <a:latin typeface="Times New Roman"/>
            </a:endParaRPr>
          </a:p>
        </p:txBody>
      </p:sp>
      <p:sp>
        <p:nvSpPr>
          <p:cNvPr id="827" name=""/>
          <p:cNvSpPr/>
          <p:nvPr/>
        </p:nvSpPr>
        <p:spPr>
          <a:xfrm>
            <a:off x="2687760" y="1976400"/>
            <a:ext cx="37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users and developers</a:t>
            </a:r>
            <a:endParaRPr b="0" lang="en-US" sz="2000" spc="-1" strike="noStrike">
              <a:solidFill>
                <a:srgbClr val="000000"/>
              </a:solidFill>
              <a:latin typeface="Times New Roman"/>
            </a:endParaRPr>
          </a:p>
        </p:txBody>
      </p:sp>
      <p:sp>
        <p:nvSpPr>
          <p:cNvPr id="828" name=""/>
          <p:cNvSpPr/>
          <p:nvPr/>
        </p:nvSpPr>
        <p:spPr>
          <a:xfrm>
            <a:off x="2743200" y="2676600"/>
            <a:ext cx="35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activities</a:t>
            </a:r>
            <a:endParaRPr b="0" lang="en-US" sz="2000" spc="-1" strike="noStrike">
              <a:solidFill>
                <a:srgbClr val="000000"/>
              </a:solidFill>
              <a:latin typeface="Times New Roman"/>
            </a:endParaRPr>
          </a:p>
        </p:txBody>
      </p:sp>
      <p:sp>
        <p:nvSpPr>
          <p:cNvPr id="829" name=""/>
          <p:cNvSpPr/>
          <p:nvPr/>
        </p:nvSpPr>
        <p:spPr>
          <a:xfrm>
            <a:off x="3965040" y="334152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ML</a:t>
            </a:r>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AML Foundation</a:t>
            </a:r>
            <a:endParaRPr b="1" lang="en-US" sz="2800" spc="-1" strike="noStrike">
              <a:solidFill>
                <a:srgbClr val="2163ab"/>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3435480" y="2125800"/>
            <a:ext cx="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197320" y="1957320"/>
            <a:ext cx="3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eveloping the Language</a:t>
            </a:r>
            <a:endParaRPr b="1" lang="en-US" sz="2800" spc="-1" strike="noStrike">
              <a:solidFill>
                <a:srgbClr val="2163ab"/>
              </a:solidFill>
              <a:latin typeface="Arial Black"/>
            </a:endParaRPr>
          </a:p>
        </p:txBody>
      </p:sp>
      <p:sp>
        <p:nvSpPr>
          <p:cNvPr id="834" name="Cloud"/>
          <p:cNvSpPr/>
          <p:nvPr/>
        </p:nvSpPr>
        <p:spPr>
          <a:xfrm rot="326400">
            <a:off x="632880" y="3625920"/>
            <a:ext cx="4832640" cy="2857320"/>
          </a:xfrm>
          <a:prstGeom prst="pie">
            <a:avLst/>
          </a:prstGeom>
          <a:gradFill rotWithShape="0">
            <a:gsLst>
              <a:gs pos="0">
                <a:srgbClr val="fefefe"/>
              </a:gs>
              <a:gs pos="100000">
                <a:srgbClr val="ddddd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2670120" y="1135080"/>
            <a:ext cx="2544840" cy="1206360"/>
          </a:xfrm>
          <a:prstGeom prst="rect">
            <a:avLst/>
          </a:prstGeom>
          <a:solidFill>
            <a:srgbClr val="ffff99"/>
          </a:soli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marL="169920" indent="-16992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rmal Logics</a:t>
            </a: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nowledge Representation</a:t>
            </a: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asoning</a:t>
            </a:r>
            <a:endParaRPr b="0" lang="en-US" sz="1800" spc="-1" strike="noStrike">
              <a:solidFill>
                <a:srgbClr val="000000"/>
              </a:solidFill>
              <a:latin typeface="Times New Roman"/>
            </a:endParaRPr>
          </a:p>
        </p:txBody>
      </p:sp>
      <p:sp>
        <p:nvSpPr>
          <p:cNvPr id="836" name=""/>
          <p:cNvSpPr/>
          <p:nvPr/>
        </p:nvSpPr>
        <p:spPr>
          <a:xfrm>
            <a:off x="4924440" y="3097080"/>
            <a:ext cx="1592280" cy="1040040"/>
          </a:xfrm>
          <a:prstGeom prst="rect">
            <a:avLst/>
          </a:prstGeom>
          <a:solidFill>
            <a:srgbClr val="ffba00"/>
          </a:soli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 – EU</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 Joint</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mmittee</a:t>
            </a:r>
            <a:endParaRPr b="0" lang="en-US" sz="1800" spc="-1" strike="noStrike">
              <a:solidFill>
                <a:srgbClr val="000000"/>
              </a:solidFill>
              <a:latin typeface="Times New Roman"/>
            </a:endParaRPr>
          </a:p>
        </p:txBody>
      </p:sp>
      <p:sp>
        <p:nvSpPr>
          <p:cNvPr id="837" name=""/>
          <p:cNvSpPr/>
          <p:nvPr/>
        </p:nvSpPr>
        <p:spPr>
          <a:xfrm>
            <a:off x="7140600" y="3027240"/>
            <a:ext cx="1454040" cy="1040040"/>
          </a:xfrm>
          <a:prstGeom prst="ellipse">
            <a:avLst/>
          </a:prstGeom>
          <a:solidFill>
            <a:srgbClr val="ff6600"/>
          </a:soli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 + OIL</a:t>
            </a:r>
            <a:endParaRPr b="0" lang="en-US" sz="1800" spc="-1" strike="noStrike">
              <a:solidFill>
                <a:srgbClr val="000000"/>
              </a:solidFill>
              <a:latin typeface="Times New Roman"/>
            </a:endParaRPr>
          </a:p>
        </p:txBody>
      </p:sp>
      <p:sp>
        <p:nvSpPr>
          <p:cNvPr id="838" name=""/>
          <p:cNvSpPr/>
          <p:nvPr/>
        </p:nvSpPr>
        <p:spPr>
          <a:xfrm flipV="1">
            <a:off x="1392120" y="1919160"/>
            <a:ext cx="0" cy="12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392120" y="1938240"/>
            <a:ext cx="121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92120" y="3997440"/>
            <a:ext cx="0" cy="83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392120" y="480996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376280" y="3583080"/>
            <a:ext cx="354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16720" y="3611520"/>
            <a:ext cx="6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5735520" y="4136760"/>
            <a:ext cx="0" cy="48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546880" y="1938240"/>
            <a:ext cx="0" cy="109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902720" y="4076640"/>
            <a:ext cx="0" cy="1933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4046040" y="6013440"/>
            <a:ext cx="387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405080" y="4241880"/>
            <a:ext cx="1323720" cy="5511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WW</a:t>
            </a:r>
            <a:br>
              <a:rPr sz="1800"/>
            </a:br>
            <a:r>
              <a:rPr b="1" lang="en-US" sz="1800" spc="-1" strike="noStrike">
                <a:solidFill>
                  <a:srgbClr val="000000"/>
                </a:solidFill>
                <a:latin typeface="Arial Narrow"/>
              </a:rPr>
              <a:t>Environment</a:t>
            </a:r>
            <a:endParaRPr b="0" lang="en-US" sz="1800" spc="-1" strike="noStrike">
              <a:solidFill>
                <a:srgbClr val="000000"/>
              </a:solidFill>
              <a:latin typeface="Times New Roman"/>
            </a:endParaRPr>
          </a:p>
        </p:txBody>
      </p:sp>
      <p:sp>
        <p:nvSpPr>
          <p:cNvPr id="849" name=""/>
          <p:cNvSpPr/>
          <p:nvPr/>
        </p:nvSpPr>
        <p:spPr>
          <a:xfrm>
            <a:off x="1929240" y="2089080"/>
            <a:ext cx="1427400" cy="5511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cal</a:t>
            </a: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vironments</a:t>
            </a:r>
            <a:endParaRPr b="0" lang="en-US" sz="1800" spc="-1" strike="noStrike">
              <a:solidFill>
                <a:srgbClr val="000000"/>
              </a:solidFill>
              <a:latin typeface="Times New Roman"/>
            </a:endParaRPr>
          </a:p>
        </p:txBody>
      </p:sp>
      <p:sp>
        <p:nvSpPr>
          <p:cNvPr id="850" name=""/>
          <p:cNvSpPr/>
          <p:nvPr/>
        </p:nvSpPr>
        <p:spPr>
          <a:xfrm>
            <a:off x="6516720" y="1434960"/>
            <a:ext cx="2008080" cy="900360"/>
          </a:xfrm>
          <a:prstGeom prst="rect">
            <a:avLst/>
          </a:prstGeom>
          <a:solidFill>
            <a:srgbClr val="ccff99"/>
          </a:soli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uropean</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IL Community</a:t>
            </a:r>
            <a:endParaRPr b="0" lang="en-US" sz="1800" spc="-1" strike="noStrike">
              <a:solidFill>
                <a:srgbClr val="000000"/>
              </a:solidFill>
              <a:latin typeface="Times New Roman"/>
            </a:endParaRPr>
          </a:p>
        </p:txBody>
      </p:sp>
      <p:sp>
        <p:nvSpPr>
          <p:cNvPr id="851" name=""/>
          <p:cNvSpPr/>
          <p:nvPr/>
        </p:nvSpPr>
        <p:spPr>
          <a:xfrm flipH="1">
            <a:off x="5893920" y="195732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894280" y="1938240"/>
            <a:ext cx="0" cy="108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114560" y="2913120"/>
            <a:ext cx="1295280" cy="1073160"/>
          </a:xfrm>
          <a:prstGeom prst="rect">
            <a:avLst/>
          </a:prstGeom>
          <a:gradFill rotWithShape="0">
            <a:gsLst>
              <a:gs pos="0">
                <a:srgbClr val="ccff99"/>
              </a:gs>
              <a:gs pos="100000">
                <a:srgbClr val="ffff99"/>
              </a:gs>
            </a:gsLst>
            <a:lin ang="108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DARPA</a:t>
            </a:r>
            <a:endParaRPr b="0" lang="en-US" sz="2000" spc="-1" strike="noStrike">
              <a:solidFill>
                <a:srgbClr val="000000"/>
              </a:solidFill>
              <a:latin typeface="Times New Roman"/>
            </a:endParaRPr>
          </a:p>
        </p:txBody>
      </p:sp>
      <p:sp>
        <p:nvSpPr>
          <p:cNvPr id="854" name=""/>
          <p:cNvSpPr/>
          <p:nvPr/>
        </p:nvSpPr>
        <p:spPr>
          <a:xfrm>
            <a:off x="2803680" y="2927520"/>
            <a:ext cx="1174680" cy="1174680"/>
          </a:xfrm>
          <a:prstGeom prst="ellipse">
            <a:avLst/>
          </a:prstGeom>
          <a:solidFill>
            <a:srgbClr val="2163ab"/>
          </a:solidFill>
          <a:ln w="1260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ML</a:t>
            </a:r>
            <a:endParaRPr b="0" lang="en-US" sz="2400" spc="-1" strike="noStrike">
              <a:solidFill>
                <a:srgbClr val="000000"/>
              </a:solidFill>
              <a:latin typeface="Times New Roman"/>
            </a:endParaRPr>
          </a:p>
        </p:txBody>
      </p:sp>
      <p:sp>
        <p:nvSpPr>
          <p:cNvPr id="855" name=""/>
          <p:cNvSpPr/>
          <p:nvPr/>
        </p:nvSpPr>
        <p:spPr>
          <a:xfrm>
            <a:off x="3177720" y="11365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I Community</a:t>
            </a:r>
            <a:endParaRPr b="0" lang="en-US" sz="1800" spc="-1" strike="noStrike">
              <a:solidFill>
                <a:srgbClr val="000000"/>
              </a:solidFill>
              <a:latin typeface="Times New Roman"/>
            </a:endParaRPr>
          </a:p>
        </p:txBody>
      </p:sp>
      <p:sp>
        <p:nvSpPr>
          <p:cNvPr id="856" name=""/>
          <p:cNvSpPr/>
          <p:nvPr/>
        </p:nvSpPr>
        <p:spPr>
          <a:xfrm flipV="1">
            <a:off x="3406680" y="4169880"/>
            <a:ext cx="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944800" y="5799240"/>
            <a:ext cx="1004760" cy="554040"/>
          </a:xfrm>
          <a:prstGeom prst="rect">
            <a:avLst/>
          </a:prstGeom>
          <a:gradFill rotWithShape="0">
            <a:gsLst>
              <a:gs pos="0">
                <a:srgbClr val="ff66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Ont</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G</a:t>
            </a:r>
            <a:endParaRPr b="0" lang="en-US" sz="1800" spc="-1" strike="noStrike">
              <a:solidFill>
                <a:srgbClr val="000000"/>
              </a:solidFill>
              <a:latin typeface="Times New Roman"/>
            </a:endParaRPr>
          </a:p>
        </p:txBody>
      </p:sp>
      <p:sp>
        <p:nvSpPr>
          <p:cNvPr id="858" name=""/>
          <p:cNvSpPr/>
          <p:nvPr/>
        </p:nvSpPr>
        <p:spPr>
          <a:xfrm>
            <a:off x="3919680" y="4621320"/>
            <a:ext cx="183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944800" y="4516560"/>
            <a:ext cx="1004760" cy="1282680"/>
          </a:xfrm>
          <a:prstGeom prst="rect">
            <a:avLst/>
          </a:prstGeom>
          <a:gradFill rotWithShape="0">
            <a:gsLst>
              <a:gs pos="0">
                <a:srgbClr val="ff6600"/>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marL="169920" indent="-16992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TML</a:t>
            </a: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a:t>
            </a:r>
            <a:endParaRPr b="0" lang="en-US" sz="1800" spc="-1" strike="noStrike">
              <a:solidFill>
                <a:srgbClr val="000000"/>
              </a:solidFill>
              <a:latin typeface="Times New Roman"/>
            </a:endParaRPr>
          </a:p>
          <a:p>
            <a:pPr marL="169920" indent="-169920">
              <a:lnSpc>
                <a:spcPts val="1800"/>
              </a:lnSpc>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DF</a:t>
            </a:r>
            <a:endParaRPr b="0" lang="en-US" sz="1800" spc="-1" strike="noStrike">
              <a:solidFill>
                <a:srgbClr val="000000"/>
              </a:solidFill>
              <a:latin typeface="Times New Roman"/>
            </a:endParaRPr>
          </a:p>
        </p:txBody>
      </p:sp>
      <p:sp>
        <p:nvSpPr>
          <p:cNvPr id="860" name=""/>
          <p:cNvSpPr/>
          <p:nvPr/>
        </p:nvSpPr>
        <p:spPr>
          <a:xfrm>
            <a:off x="3149280" y="453384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3C</a:t>
            </a:r>
            <a:endParaRPr b="0" lang="en-US" sz="1800" spc="-1" strike="noStrike">
              <a:solidFill>
                <a:srgbClr val="000000"/>
              </a:solidFill>
              <a:latin typeface="Times New Roman"/>
            </a:endParaRPr>
          </a:p>
        </p:txBody>
      </p:sp>
      <p:sp>
        <p:nvSpPr>
          <p:cNvPr id="861" name=""/>
          <p:cNvSpPr/>
          <p:nvPr/>
        </p:nvSpPr>
        <p:spPr>
          <a:xfrm>
            <a:off x="630360" y="5025960"/>
            <a:ext cx="1861920" cy="1166760"/>
          </a:xfrm>
          <a:prstGeom prst="ellipse">
            <a:avLst/>
          </a:prstGeom>
          <a:gradFill rotWithShape="0">
            <a:gsLst>
              <a:gs pos="0">
                <a:srgbClr val="2163ab"/>
              </a:gs>
              <a:gs pos="100000">
                <a:srgbClr val="ccff99"/>
              </a:gs>
            </a:gsLst>
            <a:lin ang="135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eb</a:t>
            </a:r>
            <a:endParaRPr b="0" lang="en-US" sz="20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ndards</a:t>
            </a:r>
            <a:endParaRPr b="0" lang="en-US" sz="2000" spc="-1" strike="noStrike">
              <a:solidFill>
                <a:srgbClr val="000000"/>
              </a:solidFill>
              <a:latin typeface="Times New Roman"/>
            </a:endParaRPr>
          </a:p>
        </p:txBody>
      </p:sp>
      <p:sp>
        <p:nvSpPr>
          <p:cNvPr id="862" name=""/>
          <p:cNvSpPr/>
          <p:nvPr/>
        </p:nvSpPr>
        <p:spPr>
          <a:xfrm flipH="1">
            <a:off x="2541600" y="5591160"/>
            <a:ext cx="39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binladen2" descr=""/>
          <p:cNvPicPr/>
          <p:nvPr/>
        </p:nvPicPr>
        <p:blipFill>
          <a:blip r:embed="rId1"/>
          <a:stretch/>
        </p:blipFill>
        <p:spPr>
          <a:xfrm>
            <a:off x="512640" y="1339920"/>
            <a:ext cx="8345520" cy="4762440"/>
          </a:xfrm>
          <a:prstGeom prst="rect">
            <a:avLst/>
          </a:prstGeom>
          <a:ln w="0">
            <a:noFill/>
          </a:ln>
        </p:spPr>
      </p:pic>
      <p:sp>
        <p:nvSpPr>
          <p:cNvPr id="864" name=""/>
          <p:cNvSpPr/>
          <p:nvPr/>
        </p:nvSpPr>
        <p:spPr>
          <a:xfrm flipH="1" flipV="1">
            <a:off x="1196640" y="4356000"/>
            <a:ext cx="646200" cy="137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V="1">
            <a:off x="1857240" y="4702320"/>
            <a:ext cx="290520" cy="103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3614760" y="5324400"/>
            <a:ext cx="3463920" cy="84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3629160" y="5985000"/>
            <a:ext cx="1868400" cy="19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Example Ontology</a:t>
            </a:r>
            <a:endParaRPr b="1" lang="en-US" sz="2800" spc="-1" strike="noStrike">
              <a:solidFill>
                <a:srgbClr val="2163ab"/>
              </a:solidFill>
              <a:latin typeface="Arial Black"/>
            </a:endParaRPr>
          </a:p>
        </p:txBody>
      </p:sp>
      <p:sp>
        <p:nvSpPr>
          <p:cNvPr id="869" name=""/>
          <p:cNvSpPr/>
          <p:nvPr/>
        </p:nvSpPr>
        <p:spPr>
          <a:xfrm>
            <a:off x="581040" y="5722920"/>
            <a:ext cx="3076560" cy="779400"/>
          </a:xfrm>
          <a:prstGeom prst="roundRect">
            <a:avLst>
              <a:gd name="adj" fmla="val 16667"/>
            </a:avLst>
          </a:prstGeom>
          <a:blipFill rotWithShape="0">
            <a:blip r:embed="rId2"/>
            <a:srcRect/>
            <a:stretch/>
          </a:blipFill>
          <a:ln w="9360">
            <a:solidFill>
              <a:srgbClr val="000000"/>
            </a:solidFill>
            <a:miter/>
          </a:ln>
          <a:effectLst>
            <a:outerShdw dist="17819" dir="2700000" blurRad="0" rotWithShape="0">
              <a:srgbClr val="00005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se ontologies accessed at remote lo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4606920" y="950760"/>
            <a:ext cx="4206960" cy="5653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272880" y="952560"/>
            <a:ext cx="4300560" cy="5653080"/>
          </a:xfrm>
          <a:prstGeom prst="rect">
            <a:avLst/>
          </a:prstGeom>
          <a:solidFill>
            <a:srgbClr val="ffffff"/>
          </a:solidFill>
          <a:ln w="12600">
            <a:solidFill>
              <a:srgbClr val="000000"/>
            </a:solidFill>
            <a:miter/>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76120" y="990720"/>
            <a:ext cx="4224600" cy="557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xml version='1.0' encoding='ISO-8859-1'?&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DOCTYPE rdf:RD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ENTITY rdf 'http://www.w3.org/1999/02/22-rdf-syntax-n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ENTITY countries-ont 'http://www.daml.org/2001/09/countries/iso-3166-o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 </a:t>
            </a:r>
            <a:r>
              <a:rPr b="0" lang="en-US" sz="1000" spc="-1" strike="noStrike">
                <a:solidFill>
                  <a:srgbClr val="000000"/>
                </a:solidFill>
                <a:latin typeface="Arial Unicode MS"/>
              </a:rPr>
              <a:t>&lt;!ENTITY cities-ont 'http://www.daml.ri.cmu.edu/ont/City.dam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rdf:R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xmlns:rdf ="&amp;rd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xmlns:rdfs="http://www.w3.org/2000/01/rdf-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xmlns:daml="http://www.daml.org/2001/03/daml+o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daml:Ontology rdf:abou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versionInfo&gt;$Id: map-ont.daml,v 1.2 2001/06/16 13:44:29 mdean Exp $&lt;/daml:versionInfo&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comment&gt;Map Overlay Ontology&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daml:Ontolog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rdfs:Class rdf:ID="TerroristEv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onProperty rdf:resource="#nam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toClass rdf:resource="http://www.w3.org/2000/10/XMLSchema#string"/&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maxCardinality&gt;1&lt;/daml:maxCardinalit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onProperty rdf:resource="#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toClass rdf:resource="#Loca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maxCardinality&gt;1&lt;/daml:maxCardinalit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endParaRPr b="0" lang="en-US" sz="1000" spc="-1" strike="noStrike">
              <a:solidFill>
                <a:srgbClr val="000000"/>
              </a:solidFill>
              <a:latin typeface="Times New Roman"/>
            </a:endParaRPr>
          </a:p>
        </p:txBody>
      </p:sp>
      <p:sp>
        <p:nvSpPr>
          <p:cNvPr id="873" name=""/>
          <p:cNvSpPr/>
          <p:nvPr/>
        </p:nvSpPr>
        <p:spPr>
          <a:xfrm>
            <a:off x="5048280" y="1028880"/>
            <a:ext cx="3809880" cy="558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onProperty rdf:resource="#dat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toClass rdf:resource="http://www.w3.org/2000/10/XMLSchema#dat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maxCardinality&gt;1&lt;/daml:maxCardinality&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daml:Restrictio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a:t>
            </a:r>
            <a:r>
              <a:rPr b="0" lang="en-US" sz="1000" spc="-1" strike="noStrike">
                <a:solidFill>
                  <a:srgbClr val="000000"/>
                </a:solidFill>
                <a:latin typeface="Arial Unicode MS"/>
              </a:rPr>
              <a:t>&lt;/rdfs:subClassOf&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lt;/rdfs:Class&g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rdfs:Class rdf:ID="Terrorist"&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 &lt;daml:Restriction&gt;</a:t>
            </a:r>
            <a:br>
              <a:rPr sz="1000"/>
            </a:br>
            <a:r>
              <a:rPr b="0" lang="en-US" sz="1000" spc="-1" strike="noStrike">
                <a:solidFill>
                  <a:srgbClr val="000000"/>
                </a:solidFill>
                <a:latin typeface="Arial Unicode MS"/>
              </a:rPr>
              <a:t>&lt;daml:onProperty rdf:resource="#name"/&gt;</a:t>
            </a:r>
            <a:br>
              <a:rPr sz="1000"/>
            </a:br>
            <a:r>
              <a:rPr b="0" lang="en-US" sz="1000" spc="-1" strike="noStrike">
                <a:solidFill>
                  <a:srgbClr val="000000"/>
                </a:solidFill>
                <a:latin typeface="Arial Unicode MS"/>
              </a:rPr>
              <a:t>&lt;daml:toClass rdf:resource="http://www.w3.org/2000/10/XMLSchema#string"/&gt;&lt;/daml:Restriction&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 &lt;daml:Restriction&gt;</a:t>
            </a:r>
            <a:br>
              <a:rPr sz="1000"/>
            </a:br>
            <a:r>
              <a:rPr b="0" lang="en-US" sz="1000" spc="-1" strike="noStrike">
                <a:solidFill>
                  <a:srgbClr val="000000"/>
                </a:solidFill>
                <a:latin typeface="Arial Unicode MS"/>
              </a:rPr>
              <a:t>&lt;daml:onProperty rdf:resource="#citizenOf"/&gt;</a:t>
            </a:r>
            <a:br>
              <a:rPr sz="1000"/>
            </a:br>
            <a:r>
              <a:rPr b="0" lang="en-US" sz="1000" spc="-1" strike="noStrike">
                <a:solidFill>
                  <a:srgbClr val="000000"/>
                </a:solidFill>
                <a:latin typeface="Arial Unicode MS"/>
              </a:rPr>
              <a:t> &lt;daml:toClass rdf:resource="&amp;countries-ont;Country"/&gt; &lt;/daml:Restriction&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lt;daml:Restriction&gt;</a:t>
            </a:r>
            <a:br>
              <a:rPr sz="1000"/>
            </a:br>
            <a:r>
              <a:rPr b="0" lang="en-US" sz="1000" spc="-1" strike="noStrike">
                <a:solidFill>
                  <a:srgbClr val="000000"/>
                </a:solidFill>
                <a:latin typeface="Arial Unicode MS"/>
              </a:rPr>
              <a:t>&lt;daml:onProperty rdf:resource="#residesIn"/&gt;</a:t>
            </a:r>
            <a:br>
              <a:rPr sz="1000"/>
            </a:br>
            <a:r>
              <a:rPr b="0" lang="en-US" sz="1000" spc="-1" strike="noStrike">
                <a:solidFill>
                  <a:srgbClr val="000000"/>
                </a:solidFill>
                <a:latin typeface="Arial Unicode MS"/>
              </a:rPr>
              <a:t>&lt;daml:toClass rdf:resource="&amp;countries-ont;Country"/&gt; &lt;/daml:Restriction&gt;</a:t>
            </a:r>
            <a:br>
              <a:rPr sz="1000"/>
            </a:br>
            <a:r>
              <a:rPr b="0" lang="en-US" sz="1000" spc="-1" strike="noStrike">
                <a:solidFill>
                  <a:srgbClr val="000000"/>
                </a:solidFill>
                <a:latin typeface="Arial Unicode MS"/>
              </a:rPr>
              <a:t>&lt;/rdfs:subClassOf&gt;</a:t>
            </a:r>
            <a:br>
              <a:rPr sz="1000"/>
            </a:br>
            <a:r>
              <a:rPr b="0" lang="en-US" sz="1000" spc="-1" strike="noStrike">
                <a:solidFill>
                  <a:srgbClr val="000000"/>
                </a:solidFill>
                <a:latin typeface="Arial Unicode MS"/>
              </a:rPr>
              <a:t>&lt;/rdfs:Class&g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AML Example (Markup)</a:t>
            </a:r>
            <a:endParaRPr b="1" lang="en-US" sz="2800" spc="-1" strike="noStrike">
              <a:solidFill>
                <a:srgbClr val="2163ab"/>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738360" y="1771560"/>
            <a:ext cx="7304040" cy="1326240"/>
          </a:xfrm>
          <a:prstGeom prst="rect">
            <a:avLst/>
          </a:prstGeom>
          <a:blipFill rotWithShape="0">
            <a:blip r:embed="rId1"/>
            <a:srcRect/>
            <a:stretch/>
          </a:blipFill>
          <a:ln w="12600">
            <a:solidFill>
              <a:srgbClr val="000000"/>
            </a:solidFill>
            <a:miter/>
          </a:ln>
          <a:effectLst>
            <a:outerShdw dist="17819" dir="2700000" blurRad="0" rotWithShape="0">
              <a:srgbClr val="00005e"/>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ml:Class rdf:ID=“Bin Laden"&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rdfs:subClassOf rdf:resource="#terrorist"/&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ml:Class&gt;</a:t>
            </a:r>
            <a:endParaRPr b="0" lang="en-US" sz="2000" spc="-1" strike="noStrike">
              <a:solidFill>
                <a:srgbClr val="000000"/>
              </a:solidFill>
              <a:latin typeface="Times New Roman"/>
            </a:endParaRPr>
          </a:p>
        </p:txBody>
      </p:sp>
      <p:sp>
        <p:nvSpPr>
          <p:cNvPr id="876" name=""/>
          <p:cNvSpPr/>
          <p:nvPr/>
        </p:nvSpPr>
        <p:spPr>
          <a:xfrm>
            <a:off x="559440" y="342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0f33"/>
                </a:solidFill>
                <a:latin typeface="Arial"/>
              </a:rPr>
              <a:t>Implies</a:t>
            </a:r>
            <a:endParaRPr b="0" lang="en-US" sz="2400" spc="-1" strike="noStrike">
              <a:solidFill>
                <a:srgbClr val="000000"/>
              </a:solidFill>
              <a:latin typeface="Times New Roman"/>
            </a:endParaRPr>
          </a:p>
        </p:txBody>
      </p:sp>
      <p:sp>
        <p:nvSpPr>
          <p:cNvPr id="877"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Agent-Based Inferencing</a:t>
            </a:r>
            <a:endParaRPr b="1" lang="en-US" sz="2800" spc="-1" strike="noStrike">
              <a:solidFill>
                <a:srgbClr val="2163ab"/>
              </a:solidFill>
              <a:latin typeface="Arial Black"/>
            </a:endParaRPr>
          </a:p>
        </p:txBody>
      </p:sp>
      <p:sp>
        <p:nvSpPr>
          <p:cNvPr id="878" name="PlaceHolder 2"/>
          <p:cNvSpPr>
            <a:spLocks noGrp="1"/>
          </p:cNvSpPr>
          <p:nvPr>
            <p:ph/>
          </p:nvPr>
        </p:nvSpPr>
        <p:spPr>
          <a:xfrm>
            <a:off x="580680" y="3951360"/>
            <a:ext cx="7302600" cy="2022480"/>
          </a:xfrm>
          <a:prstGeom prst="rect">
            <a:avLst/>
          </a:prstGeom>
          <a:noFill/>
          <a:ln w="0">
            <a:noFill/>
          </a:ln>
        </p:spPr>
        <p:txBody>
          <a:bodyPr lIns="46080" rIns="46080" tIns="46080" bIns="46080" anchor="t">
            <a:normAutofit/>
          </a:bodyPr>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x is Bin Laden, he must be a terrorist</a:t>
            </a:r>
            <a:endParaRPr b="1" lang="en-US" sz="20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x is a terrorist, then he may or may not be Bin Laden</a:t>
            </a:r>
            <a:endParaRPr b="1" lang="en-US" sz="20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x is not a terrorist, then he is not Bin Laden</a:t>
            </a:r>
            <a:endParaRPr b="1" lang="en-US" sz="20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x is not Bin Laden, he may or may not be a terroris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rot="8100000">
            <a:off x="3020760" y="3200400"/>
            <a:ext cx="1252440" cy="735120"/>
          </a:xfrm>
          <a:custGeom>
            <a:avLst/>
            <a:gdLst>
              <a:gd name="textAreaLeft" fmla="*/ 195480 w 1252440"/>
              <a:gd name="textAreaRight" fmla="*/ 1096200 w 1252440"/>
              <a:gd name="textAreaTop" fmla="*/ 183600 h 735120"/>
              <a:gd name="textAreaBottom" fmla="*/ 551520 h 735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163ab"/>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rot="5400000">
            <a:off x="4310640" y="4064760"/>
            <a:ext cx="1648080" cy="735120"/>
          </a:xfrm>
          <a:custGeom>
            <a:avLst/>
            <a:gdLst>
              <a:gd name="textAreaLeft" fmla="*/ 257400 w 1648080"/>
              <a:gd name="textAreaRight" fmla="*/ 1442160 w 1648080"/>
              <a:gd name="textAreaTop" fmla="*/ 183600 h 735120"/>
              <a:gd name="textAreaBottom" fmla="*/ 551520 h 735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163ab"/>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rot="2700000">
            <a:off x="5949720" y="3210840"/>
            <a:ext cx="1252440" cy="735120"/>
          </a:xfrm>
          <a:custGeom>
            <a:avLst/>
            <a:gdLst>
              <a:gd name="textAreaLeft" fmla="*/ 195480 w 1252440"/>
              <a:gd name="textAreaRight" fmla="*/ 1096200 w 1252440"/>
              <a:gd name="textAreaTop" fmla="*/ 183600 h 735120"/>
              <a:gd name="textAreaBottom" fmla="*/ 551520 h 735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163ab"/>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868120" y="232236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a:t>
            </a:r>
            <a:endParaRPr b="0" lang="en-US" sz="1600" spc="-1" strike="noStrike">
              <a:solidFill>
                <a:srgbClr val="000000"/>
              </a:solidFill>
              <a:latin typeface="Times New Roman"/>
            </a:endParaRPr>
          </a:p>
        </p:txBody>
      </p:sp>
      <p:sp>
        <p:nvSpPr>
          <p:cNvPr id="883" name=""/>
          <p:cNvSpPr/>
          <p:nvPr/>
        </p:nvSpPr>
        <p:spPr>
          <a:xfrm rot="18900000">
            <a:off x="3063600" y="343224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s</a:t>
            </a:r>
            <a:endParaRPr b="0" lang="en-US" sz="1600" spc="-1" strike="noStrike">
              <a:solidFill>
                <a:srgbClr val="000000"/>
              </a:solidFill>
              <a:latin typeface="Times New Roman"/>
            </a:endParaRPr>
          </a:p>
        </p:txBody>
      </p:sp>
      <p:sp>
        <p:nvSpPr>
          <p:cNvPr id="884" name=""/>
          <p:cNvSpPr/>
          <p:nvPr/>
        </p:nvSpPr>
        <p:spPr>
          <a:xfrm rot="2700000">
            <a:off x="6120000" y="34488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s</a:t>
            </a:r>
            <a:endParaRPr b="0" lang="en-US" sz="1600" spc="-1" strike="noStrike">
              <a:solidFill>
                <a:srgbClr val="000000"/>
              </a:solidFill>
              <a:latin typeface="Times New Roman"/>
            </a:endParaRPr>
          </a:p>
        </p:txBody>
      </p:sp>
      <p:sp>
        <p:nvSpPr>
          <p:cNvPr id="885" name=""/>
          <p:cNvSpPr/>
          <p:nvPr/>
        </p:nvSpPr>
        <p:spPr>
          <a:xfrm rot="5400000">
            <a:off x="4431600" y="438660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dBy</a:t>
            </a:r>
            <a:endParaRPr b="0" lang="en-US" sz="1600" spc="-1" strike="noStrike">
              <a:solidFill>
                <a:srgbClr val="000000"/>
              </a:solidFill>
              <a:latin typeface="Times New Roman"/>
            </a:endParaRPr>
          </a:p>
        </p:txBody>
      </p:sp>
      <p:sp>
        <p:nvSpPr>
          <p:cNvPr id="886" name=""/>
          <p:cNvSpPr/>
          <p:nvPr/>
        </p:nvSpPr>
        <p:spPr>
          <a:xfrm>
            <a:off x="1009800" y="4878360"/>
            <a:ext cx="268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service does</a:t>
            </a:r>
            <a:endParaRPr b="0" lang="en-US" sz="1800" spc="-1" strike="noStrike">
              <a:solidFill>
                <a:srgbClr val="000000"/>
              </a:solidFill>
              <a:latin typeface="Times New Roman"/>
            </a:endParaRPr>
          </a:p>
        </p:txBody>
      </p:sp>
      <p:sp>
        <p:nvSpPr>
          <p:cNvPr id="887" name=""/>
          <p:cNvSpPr/>
          <p:nvPr/>
        </p:nvSpPr>
        <p:spPr>
          <a:xfrm>
            <a:off x="4312440" y="6132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t works</a:t>
            </a:r>
            <a:endParaRPr b="0" lang="en-US" sz="1800" spc="-1" strike="noStrike">
              <a:solidFill>
                <a:srgbClr val="000000"/>
              </a:solidFill>
              <a:latin typeface="Times New Roman"/>
            </a:endParaRPr>
          </a:p>
        </p:txBody>
      </p:sp>
      <p:sp>
        <p:nvSpPr>
          <p:cNvPr id="888" name=""/>
          <p:cNvSpPr/>
          <p:nvPr/>
        </p:nvSpPr>
        <p:spPr>
          <a:xfrm>
            <a:off x="6681960" y="4865760"/>
            <a:ext cx="197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access it</a:t>
            </a:r>
            <a:endParaRPr b="0" lang="en-US" sz="1800" spc="-1" strike="noStrike">
              <a:solidFill>
                <a:srgbClr val="000000"/>
              </a:solidFill>
              <a:latin typeface="Times New Roman"/>
            </a:endParaRPr>
          </a:p>
        </p:txBody>
      </p:sp>
      <p:sp>
        <p:nvSpPr>
          <p:cNvPr id="889"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AML Services Ontology</a:t>
            </a:r>
            <a:endParaRPr b="1" lang="en-US" sz="2800" spc="-1" strike="noStrike">
              <a:solidFill>
                <a:srgbClr val="2163ab"/>
              </a:solidFill>
              <a:latin typeface="Arial Black"/>
            </a:endParaRPr>
          </a:p>
        </p:txBody>
      </p:sp>
      <p:sp>
        <p:nvSpPr>
          <p:cNvPr id="890" name=""/>
          <p:cNvSpPr/>
          <p:nvPr/>
        </p:nvSpPr>
        <p:spPr>
          <a:xfrm>
            <a:off x="3911760" y="1336680"/>
            <a:ext cx="2419200" cy="2276640"/>
          </a:xfrm>
          <a:prstGeom prst="octagon">
            <a:avLst>
              <a:gd name="adj" fmla="val 29287"/>
            </a:avLst>
          </a:prstGeom>
          <a:gradFill rotWithShape="0">
            <a:gsLst>
              <a:gs pos="0">
                <a:srgbClr val="fefefe"/>
              </a:gs>
              <a:gs pos="100000">
                <a:srgbClr val="2163a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rvice</a:t>
            </a:r>
            <a:endParaRPr b="0" lang="en-US" sz="2000" spc="-1" strike="noStrike">
              <a:solidFill>
                <a:srgbClr val="000000"/>
              </a:solidFill>
              <a:latin typeface="Times New Roman"/>
            </a:endParaRPr>
          </a:p>
        </p:txBody>
      </p:sp>
      <p:sp>
        <p:nvSpPr>
          <p:cNvPr id="891" name=""/>
          <p:cNvSpPr/>
          <p:nvPr/>
        </p:nvSpPr>
        <p:spPr>
          <a:xfrm>
            <a:off x="291960" y="2087640"/>
            <a:ext cx="2360880" cy="809640"/>
          </a:xfrm>
          <a:prstGeom prst="roundRect">
            <a:avLst>
              <a:gd name="adj" fmla="val 16667"/>
            </a:avLst>
          </a:prstGeom>
          <a:solidFill>
            <a:srgbClr val="ffb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sources</a:t>
            </a:r>
            <a:endParaRPr b="0" lang="en-US" sz="2000" spc="-1" strike="noStrike">
              <a:solidFill>
                <a:srgbClr val="000000"/>
              </a:solidFill>
              <a:latin typeface="Times New Roman"/>
            </a:endParaRPr>
          </a:p>
        </p:txBody>
      </p:sp>
      <p:sp>
        <p:nvSpPr>
          <p:cNvPr id="892" name=""/>
          <p:cNvSpPr/>
          <p:nvPr/>
        </p:nvSpPr>
        <p:spPr>
          <a:xfrm>
            <a:off x="1170000" y="4076640"/>
            <a:ext cx="2360520" cy="809640"/>
          </a:xfrm>
          <a:prstGeom prst="roundRect">
            <a:avLst>
              <a:gd name="adj" fmla="val 16667"/>
            </a:avLst>
          </a:prstGeom>
          <a:solidFill>
            <a:srgbClr val="99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rvice Profile</a:t>
            </a:r>
            <a:endParaRPr b="0" lang="en-US" sz="2000" spc="-1" strike="noStrike">
              <a:solidFill>
                <a:srgbClr val="000000"/>
              </a:solidFill>
              <a:latin typeface="Times New Roman"/>
            </a:endParaRPr>
          </a:p>
        </p:txBody>
      </p:sp>
      <p:sp>
        <p:nvSpPr>
          <p:cNvPr id="893" name=""/>
          <p:cNvSpPr/>
          <p:nvPr/>
        </p:nvSpPr>
        <p:spPr>
          <a:xfrm>
            <a:off x="3973680" y="5319720"/>
            <a:ext cx="2360520" cy="809640"/>
          </a:xfrm>
          <a:prstGeom prst="roundRect">
            <a:avLst>
              <a:gd name="adj" fmla="val 16667"/>
            </a:avLst>
          </a:prstGeom>
          <a:solidFill>
            <a:srgbClr val="99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rvice Model</a:t>
            </a:r>
            <a:endParaRPr b="0" lang="en-US" sz="2000" spc="-1" strike="noStrike">
              <a:solidFill>
                <a:srgbClr val="000000"/>
              </a:solidFill>
              <a:latin typeface="Times New Roman"/>
            </a:endParaRPr>
          </a:p>
        </p:txBody>
      </p:sp>
      <p:sp>
        <p:nvSpPr>
          <p:cNvPr id="894" name=""/>
          <p:cNvSpPr/>
          <p:nvPr/>
        </p:nvSpPr>
        <p:spPr>
          <a:xfrm>
            <a:off x="6492960" y="4086360"/>
            <a:ext cx="2360520" cy="809640"/>
          </a:xfrm>
          <a:prstGeom prst="roundRect">
            <a:avLst>
              <a:gd name="adj" fmla="val 16667"/>
            </a:avLst>
          </a:prstGeom>
          <a:solidFill>
            <a:srgbClr val="99ff99"/>
          </a:solidFill>
          <a:ln w="0">
            <a:noFill/>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rvice </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ounding</a:t>
            </a:r>
            <a:endParaRPr b="0" lang="en-US" sz="2000" spc="-1" strike="noStrike">
              <a:solidFill>
                <a:srgbClr val="000000"/>
              </a:solidFill>
              <a:latin typeface="Times New Roman"/>
            </a:endParaRPr>
          </a:p>
        </p:txBody>
      </p:sp>
      <p:sp>
        <p:nvSpPr>
          <p:cNvPr id="895" name=""/>
          <p:cNvSpPr/>
          <p:nvPr/>
        </p:nvSpPr>
        <p:spPr>
          <a:xfrm>
            <a:off x="2652840" y="2144880"/>
            <a:ext cx="1252440" cy="734760"/>
          </a:xfrm>
          <a:custGeom>
            <a:avLst/>
            <a:gdLst>
              <a:gd name="textAreaLeft" fmla="*/ 195480 w 1252440"/>
              <a:gd name="textAreaRight" fmla="*/ 1096200 w 1252440"/>
              <a:gd name="textAreaTop" fmla="*/ 183600 h 734760"/>
              <a:gd name="textAreaBottom" fmla="*/ 551160 h 734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163ab"/>
              </a:gs>
              <a:gs pos="100000">
                <a:srgbClr val="ffba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25360" y="1533600"/>
            <a:ext cx="4618080" cy="29066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eveloping the Tools</a:t>
            </a:r>
            <a:endParaRPr b="1" lang="en-US" sz="2800" spc="-1" strike="noStrike">
              <a:solidFill>
                <a:srgbClr val="2163ab"/>
              </a:solidFill>
              <a:latin typeface="Arial Black"/>
            </a:endParaRPr>
          </a:p>
        </p:txBody>
      </p:sp>
      <p:sp>
        <p:nvSpPr>
          <p:cNvPr id="898" name="computr1"/>
          <p:cNvSpPr/>
          <p:nvPr/>
        </p:nvSpPr>
        <p:spPr>
          <a:xfrm>
            <a:off x="2162160" y="5221440"/>
            <a:ext cx="914400" cy="91440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143760" y="61707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 Web</a:t>
            </a:r>
            <a:endParaRPr b="0" lang="en-US" sz="2000" spc="-1" strike="noStrike">
              <a:solidFill>
                <a:srgbClr val="000000"/>
              </a:solidFill>
              <a:latin typeface="Times New Roman"/>
            </a:endParaRPr>
          </a:p>
        </p:txBody>
      </p:sp>
      <p:sp>
        <p:nvSpPr>
          <p:cNvPr id="900" name=""/>
          <p:cNvSpPr/>
          <p:nvPr/>
        </p:nvSpPr>
        <p:spPr>
          <a:xfrm>
            <a:off x="1020600" y="6159600"/>
            <a:ext cx="2940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ba00"/>
                </a:solidFill>
                <a:latin typeface="Arial"/>
              </a:rPr>
              <a:t>Developer</a:t>
            </a:r>
            <a:r>
              <a:rPr b="1" lang="en-US" sz="2000" spc="-1" strike="noStrike">
                <a:solidFill>
                  <a:srgbClr val="000000"/>
                </a:solidFill>
                <a:latin typeface="Arial"/>
              </a:rPr>
              <a:t> and </a:t>
            </a:r>
            <a:r>
              <a:rPr b="1" lang="en-US" sz="2000" spc="-1" strike="noStrike">
                <a:solidFill>
                  <a:srgbClr val="99ff99"/>
                </a:solidFill>
                <a:latin typeface="Arial"/>
              </a:rPr>
              <a:t>User</a:t>
            </a:r>
            <a:r>
              <a:rPr b="1" lang="en-US" sz="2000" spc="-1" strike="noStrike">
                <a:solidFill>
                  <a:srgbClr val="000000"/>
                </a:solidFill>
                <a:latin typeface="Arial"/>
              </a:rPr>
              <a:t> Tools</a:t>
            </a:r>
            <a:endParaRPr b="0" lang="en-US" sz="2000" spc="-1" strike="noStrike">
              <a:solidFill>
                <a:srgbClr val="000000"/>
              </a:solidFill>
              <a:latin typeface="Times New Roman"/>
            </a:endParaRPr>
          </a:p>
        </p:txBody>
      </p:sp>
      <p:sp>
        <p:nvSpPr>
          <p:cNvPr id="901" name=""/>
          <p:cNvSpPr/>
          <p:nvPr/>
        </p:nvSpPr>
        <p:spPr>
          <a:xfrm>
            <a:off x="745200" y="1555920"/>
            <a:ext cx="36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l Prototype Tools</a:t>
            </a:r>
            <a:endParaRPr b="0" lang="en-US" sz="2000" spc="-1" strike="noStrike">
              <a:solidFill>
                <a:srgbClr val="000000"/>
              </a:solidFill>
              <a:latin typeface="Times New Roman"/>
            </a:endParaRPr>
          </a:p>
        </p:txBody>
      </p:sp>
      <p:sp>
        <p:nvSpPr>
          <p:cNvPr id="902" name="">
            <a:hlinkClick r:id="rId1" action="ppaction://hlinksldjump"/>
          </p:cNvPr>
          <p:cNvSpPr/>
          <p:nvPr/>
        </p:nvSpPr>
        <p:spPr>
          <a:xfrm>
            <a:off x="528480" y="3657600"/>
            <a:ext cx="1479600" cy="46980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a:t>
            </a:r>
            <a:endParaRPr b="0" lang="en-US" sz="1800" spc="-1" strike="noStrike">
              <a:solidFill>
                <a:srgbClr val="000000"/>
              </a:solidFill>
              <a:latin typeface="Times New Roman"/>
            </a:endParaRPr>
          </a:p>
        </p:txBody>
      </p:sp>
      <p:sp>
        <p:nvSpPr>
          <p:cNvPr id="903" name="">
            <a:hlinkClick r:id="rId2" action="ppaction://hlinksldjump"/>
          </p:cNvPr>
          <p:cNvSpPr/>
          <p:nvPr/>
        </p:nvSpPr>
        <p:spPr>
          <a:xfrm>
            <a:off x="2131920" y="3257640"/>
            <a:ext cx="1473120" cy="46044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ser</a:t>
            </a:r>
            <a:endParaRPr b="0" lang="en-US" sz="1800" spc="-1" strike="noStrike">
              <a:solidFill>
                <a:srgbClr val="000000"/>
              </a:solidFill>
              <a:latin typeface="Times New Roman"/>
            </a:endParaRPr>
          </a:p>
        </p:txBody>
      </p:sp>
      <p:sp>
        <p:nvSpPr>
          <p:cNvPr id="904" name="">
            <a:hlinkClick r:id="rId3" action="ppaction://hlinksldjump"/>
          </p:cNvPr>
          <p:cNvSpPr/>
          <p:nvPr/>
        </p:nvSpPr>
        <p:spPr>
          <a:xfrm>
            <a:off x="3162240" y="2976480"/>
            <a:ext cx="1414440" cy="486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ference</a:t>
            </a:r>
            <a:endParaRPr b="0" lang="en-US" sz="1800" spc="-1" strike="noStrike">
              <a:solidFill>
                <a:srgbClr val="000000"/>
              </a:solidFill>
              <a:latin typeface="Times New Roman"/>
            </a:endParaRPr>
          </a:p>
        </p:txBody>
      </p:sp>
      <p:sp>
        <p:nvSpPr>
          <p:cNvPr id="905" name="">
            <a:hlinkClick r:id="rId4" action="ppaction://hlinksldjump"/>
          </p:cNvPr>
          <p:cNvSpPr/>
          <p:nvPr/>
        </p:nvSpPr>
        <p:spPr>
          <a:xfrm>
            <a:off x="1701720" y="2654280"/>
            <a:ext cx="1476360" cy="55728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alidation/</a:t>
            </a:r>
            <a:br>
              <a:rPr sz="1800"/>
            </a:br>
            <a:r>
              <a:rPr b="0" lang="en-US" sz="1800" spc="-1" strike="noStrike">
                <a:solidFill>
                  <a:srgbClr val="000000"/>
                </a:solidFill>
                <a:latin typeface="Arial Narrow"/>
              </a:rPr>
              <a:t>Analysis</a:t>
            </a:r>
            <a:endParaRPr b="0" lang="en-US" sz="1800" spc="-1" strike="noStrike">
              <a:solidFill>
                <a:srgbClr val="000000"/>
              </a:solidFill>
              <a:latin typeface="Times New Roman"/>
            </a:endParaRPr>
          </a:p>
        </p:txBody>
      </p:sp>
      <p:sp>
        <p:nvSpPr>
          <p:cNvPr id="906" name="">
            <a:hlinkClick r:id="rId5" action="ppaction://hlinksldjump"/>
          </p:cNvPr>
          <p:cNvSpPr/>
          <p:nvPr/>
        </p:nvSpPr>
        <p:spPr>
          <a:xfrm>
            <a:off x="1746360" y="3639960"/>
            <a:ext cx="1476360" cy="540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arch/Query</a:t>
            </a:r>
            <a:endParaRPr b="0" lang="en-US" sz="1800" spc="-1" strike="noStrike">
              <a:solidFill>
                <a:srgbClr val="000000"/>
              </a:solidFill>
              <a:latin typeface="Times New Roman"/>
            </a:endParaRPr>
          </a:p>
        </p:txBody>
      </p:sp>
      <p:sp>
        <p:nvSpPr>
          <p:cNvPr id="907" name="">
            <a:hlinkClick r:id="rId6" action="ppaction://hlinksldjump"/>
          </p:cNvPr>
          <p:cNvSpPr/>
          <p:nvPr/>
        </p:nvSpPr>
        <p:spPr>
          <a:xfrm>
            <a:off x="357120" y="2570040"/>
            <a:ext cx="1501920" cy="51768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dit</a:t>
            </a:r>
            <a:endParaRPr b="0" lang="en-US" sz="1800" spc="-1" strike="noStrike">
              <a:solidFill>
                <a:srgbClr val="000000"/>
              </a:solidFill>
              <a:latin typeface="Times New Roman"/>
            </a:endParaRPr>
          </a:p>
        </p:txBody>
      </p:sp>
      <p:sp>
        <p:nvSpPr>
          <p:cNvPr id="908" name="">
            <a:hlinkClick r:id="rId7" action="ppaction://hlinksldjump"/>
          </p:cNvPr>
          <p:cNvSpPr/>
          <p:nvPr/>
        </p:nvSpPr>
        <p:spPr>
          <a:xfrm>
            <a:off x="3063960" y="3676680"/>
            <a:ext cx="1487520" cy="51732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ransform</a:t>
            </a:r>
            <a:endParaRPr b="0" lang="en-US" sz="1800" spc="-1" strike="noStrike">
              <a:solidFill>
                <a:srgbClr val="000000"/>
              </a:solidFill>
              <a:latin typeface="Times New Roman"/>
            </a:endParaRPr>
          </a:p>
        </p:txBody>
      </p:sp>
      <p:sp>
        <p:nvSpPr>
          <p:cNvPr id="909" name="">
            <a:hlinkClick r:id="rId8" action="ppaction://hlinksldjump"/>
          </p:cNvPr>
          <p:cNvSpPr/>
          <p:nvPr/>
        </p:nvSpPr>
        <p:spPr>
          <a:xfrm>
            <a:off x="3068640" y="2374920"/>
            <a:ext cx="1430280" cy="5508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owser</a:t>
            </a:r>
            <a:endParaRPr b="0" lang="en-US" sz="1800" spc="-1" strike="noStrike">
              <a:solidFill>
                <a:srgbClr val="000000"/>
              </a:solidFill>
              <a:latin typeface="Times New Roman"/>
            </a:endParaRPr>
          </a:p>
        </p:txBody>
      </p:sp>
      <p:sp>
        <p:nvSpPr>
          <p:cNvPr id="910" name="">
            <a:hlinkClick r:id="rId9" action="ppaction://hlinksldjump"/>
          </p:cNvPr>
          <p:cNvSpPr/>
          <p:nvPr/>
        </p:nvSpPr>
        <p:spPr>
          <a:xfrm>
            <a:off x="344520" y="2055960"/>
            <a:ext cx="1500120" cy="47124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Is</a:t>
            </a:r>
            <a:endParaRPr b="0" lang="en-US" sz="1800" spc="-1" strike="noStrike">
              <a:solidFill>
                <a:srgbClr val="000000"/>
              </a:solidFill>
              <a:latin typeface="Times New Roman"/>
            </a:endParaRPr>
          </a:p>
        </p:txBody>
      </p:sp>
      <p:sp>
        <p:nvSpPr>
          <p:cNvPr id="911" name="">
            <a:hlinkClick r:id="rId10" action="ppaction://hlinksldjump"/>
          </p:cNvPr>
          <p:cNvSpPr/>
          <p:nvPr/>
        </p:nvSpPr>
        <p:spPr>
          <a:xfrm>
            <a:off x="1940040" y="2097000"/>
            <a:ext cx="1463400" cy="527040"/>
          </a:xfrm>
          <a:prstGeom prst="roundRect">
            <a:avLst>
              <a:gd name="adj" fmla="val 16667"/>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port</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enerator</a:t>
            </a:r>
            <a:endParaRPr b="0" lang="en-US" sz="1800" spc="-1" strike="noStrike">
              <a:solidFill>
                <a:srgbClr val="000000"/>
              </a:solidFill>
              <a:latin typeface="Times New Roman"/>
            </a:endParaRPr>
          </a:p>
        </p:txBody>
      </p:sp>
      <p:grpSp>
        <p:nvGrpSpPr>
          <p:cNvPr id="912" name=""/>
          <p:cNvGrpSpPr/>
          <p:nvPr/>
        </p:nvGrpSpPr>
        <p:grpSpPr>
          <a:xfrm>
            <a:off x="4992840" y="1774800"/>
            <a:ext cx="4062240" cy="2346480"/>
            <a:chOff x="4992840" y="1774800"/>
            <a:chExt cx="4062240" cy="2346480"/>
          </a:xfrm>
        </p:grpSpPr>
        <p:grpSp>
          <p:nvGrpSpPr>
            <p:cNvPr id="913" name=""/>
            <p:cNvGrpSpPr/>
            <p:nvPr/>
          </p:nvGrpSpPr>
          <p:grpSpPr>
            <a:xfrm>
              <a:off x="4992840" y="1774800"/>
              <a:ext cx="4062240" cy="2346480"/>
              <a:chOff x="4992840" y="1774800"/>
              <a:chExt cx="4062240" cy="2346480"/>
            </a:xfrm>
          </p:grpSpPr>
          <p:grpSp>
            <p:nvGrpSpPr>
              <p:cNvPr id="914" name=""/>
              <p:cNvGrpSpPr/>
              <p:nvPr/>
            </p:nvGrpSpPr>
            <p:grpSpPr>
              <a:xfrm>
                <a:off x="4992840" y="1774800"/>
                <a:ext cx="4062240" cy="2338560"/>
                <a:chOff x="4992840" y="1774800"/>
                <a:chExt cx="4062240" cy="2338560"/>
              </a:xfrm>
            </p:grpSpPr>
            <p:sp>
              <p:nvSpPr>
                <p:cNvPr id="915" name=""/>
                <p:cNvSpPr/>
                <p:nvPr/>
              </p:nvSpPr>
              <p:spPr>
                <a:xfrm>
                  <a:off x="5000760" y="1774800"/>
                  <a:ext cx="4054320" cy="2338560"/>
                </a:xfrm>
                <a:custGeom>
                  <a:avLst/>
                  <a:gdLst/>
                  <a:ahLst/>
                  <a:rect l="l" t="t" r="r" b="b"/>
                  <a:pathLst>
                    <a:path w="7662" h="4417">
                      <a:moveTo>
                        <a:pt x="1787" y="4417"/>
                      </a:moveTo>
                      <a:lnTo>
                        <a:pt x="1759" y="4417"/>
                      </a:lnTo>
                      <a:lnTo>
                        <a:pt x="1732" y="4402"/>
                      </a:lnTo>
                      <a:lnTo>
                        <a:pt x="1704" y="4402"/>
                      </a:lnTo>
                      <a:lnTo>
                        <a:pt x="1676" y="4385"/>
                      </a:lnTo>
                      <a:lnTo>
                        <a:pt x="1635" y="4370"/>
                      </a:lnTo>
                      <a:lnTo>
                        <a:pt x="1607" y="4370"/>
                      </a:lnTo>
                      <a:lnTo>
                        <a:pt x="1580" y="4355"/>
                      </a:lnTo>
                      <a:lnTo>
                        <a:pt x="1552" y="4338"/>
                      </a:lnTo>
                      <a:lnTo>
                        <a:pt x="1524" y="4323"/>
                      </a:lnTo>
                      <a:lnTo>
                        <a:pt x="1497" y="4306"/>
                      </a:lnTo>
                      <a:lnTo>
                        <a:pt x="1469" y="4306"/>
                      </a:lnTo>
                      <a:lnTo>
                        <a:pt x="1441" y="4291"/>
                      </a:lnTo>
                      <a:lnTo>
                        <a:pt x="1414" y="4276"/>
                      </a:lnTo>
                      <a:lnTo>
                        <a:pt x="1386" y="4259"/>
                      </a:lnTo>
                      <a:lnTo>
                        <a:pt x="1358" y="4244"/>
                      </a:lnTo>
                      <a:lnTo>
                        <a:pt x="1331" y="4227"/>
                      </a:lnTo>
                      <a:lnTo>
                        <a:pt x="1289" y="4212"/>
                      </a:lnTo>
                      <a:lnTo>
                        <a:pt x="1261" y="4197"/>
                      </a:lnTo>
                      <a:lnTo>
                        <a:pt x="1234" y="4180"/>
                      </a:lnTo>
                      <a:lnTo>
                        <a:pt x="1206" y="4165"/>
                      </a:lnTo>
                      <a:lnTo>
                        <a:pt x="1178" y="4148"/>
                      </a:lnTo>
                      <a:lnTo>
                        <a:pt x="1151" y="4133"/>
                      </a:lnTo>
                      <a:lnTo>
                        <a:pt x="1137" y="4118"/>
                      </a:lnTo>
                      <a:lnTo>
                        <a:pt x="1109" y="4101"/>
                      </a:lnTo>
                      <a:lnTo>
                        <a:pt x="1082" y="4086"/>
                      </a:lnTo>
                      <a:lnTo>
                        <a:pt x="1054" y="4070"/>
                      </a:lnTo>
                      <a:lnTo>
                        <a:pt x="1025" y="4054"/>
                      </a:lnTo>
                      <a:lnTo>
                        <a:pt x="997" y="4039"/>
                      </a:lnTo>
                      <a:lnTo>
                        <a:pt x="970" y="4007"/>
                      </a:lnTo>
                      <a:lnTo>
                        <a:pt x="942" y="3991"/>
                      </a:lnTo>
                      <a:lnTo>
                        <a:pt x="928" y="3975"/>
                      </a:lnTo>
                      <a:lnTo>
                        <a:pt x="900" y="3960"/>
                      </a:lnTo>
                      <a:lnTo>
                        <a:pt x="873" y="3944"/>
                      </a:lnTo>
                      <a:lnTo>
                        <a:pt x="845" y="3912"/>
                      </a:lnTo>
                      <a:lnTo>
                        <a:pt x="817" y="3897"/>
                      </a:lnTo>
                      <a:lnTo>
                        <a:pt x="804" y="3881"/>
                      </a:lnTo>
                      <a:lnTo>
                        <a:pt x="776" y="3850"/>
                      </a:lnTo>
                      <a:lnTo>
                        <a:pt x="748" y="3833"/>
                      </a:lnTo>
                      <a:lnTo>
                        <a:pt x="721" y="3818"/>
                      </a:lnTo>
                      <a:lnTo>
                        <a:pt x="707" y="3786"/>
                      </a:lnTo>
                      <a:lnTo>
                        <a:pt x="679" y="3771"/>
                      </a:lnTo>
                      <a:lnTo>
                        <a:pt x="651" y="3739"/>
                      </a:lnTo>
                      <a:lnTo>
                        <a:pt x="624" y="3724"/>
                      </a:lnTo>
                      <a:lnTo>
                        <a:pt x="610" y="3707"/>
                      </a:lnTo>
                      <a:lnTo>
                        <a:pt x="582" y="3675"/>
                      </a:lnTo>
                      <a:lnTo>
                        <a:pt x="555" y="3660"/>
                      </a:lnTo>
                      <a:lnTo>
                        <a:pt x="541" y="3628"/>
                      </a:lnTo>
                      <a:lnTo>
                        <a:pt x="513" y="3613"/>
                      </a:lnTo>
                      <a:lnTo>
                        <a:pt x="499" y="3581"/>
                      </a:lnTo>
                      <a:lnTo>
                        <a:pt x="472" y="3566"/>
                      </a:lnTo>
                      <a:lnTo>
                        <a:pt x="444" y="3534"/>
                      </a:lnTo>
                      <a:lnTo>
                        <a:pt x="430" y="3502"/>
                      </a:lnTo>
                      <a:lnTo>
                        <a:pt x="402" y="3487"/>
                      </a:lnTo>
                      <a:lnTo>
                        <a:pt x="389" y="3455"/>
                      </a:lnTo>
                      <a:lnTo>
                        <a:pt x="361" y="3423"/>
                      </a:lnTo>
                      <a:lnTo>
                        <a:pt x="347" y="3408"/>
                      </a:lnTo>
                      <a:lnTo>
                        <a:pt x="333" y="3376"/>
                      </a:lnTo>
                      <a:lnTo>
                        <a:pt x="306" y="3345"/>
                      </a:lnTo>
                      <a:lnTo>
                        <a:pt x="292" y="3313"/>
                      </a:lnTo>
                      <a:lnTo>
                        <a:pt x="278" y="3297"/>
                      </a:lnTo>
                      <a:lnTo>
                        <a:pt x="250" y="3266"/>
                      </a:lnTo>
                      <a:lnTo>
                        <a:pt x="235" y="3234"/>
                      </a:lnTo>
                      <a:lnTo>
                        <a:pt x="221" y="3202"/>
                      </a:lnTo>
                      <a:lnTo>
                        <a:pt x="207" y="3172"/>
                      </a:lnTo>
                      <a:lnTo>
                        <a:pt x="194" y="3140"/>
                      </a:lnTo>
                      <a:lnTo>
                        <a:pt x="166" y="3108"/>
                      </a:lnTo>
                      <a:lnTo>
                        <a:pt x="152" y="3076"/>
                      </a:lnTo>
                      <a:lnTo>
                        <a:pt x="138" y="3044"/>
                      </a:lnTo>
                      <a:lnTo>
                        <a:pt x="124" y="3014"/>
                      </a:lnTo>
                      <a:lnTo>
                        <a:pt x="124" y="2982"/>
                      </a:lnTo>
                      <a:lnTo>
                        <a:pt x="111" y="2950"/>
                      </a:lnTo>
                      <a:lnTo>
                        <a:pt x="97" y="2918"/>
                      </a:lnTo>
                      <a:lnTo>
                        <a:pt x="83" y="2887"/>
                      </a:lnTo>
                      <a:lnTo>
                        <a:pt x="83" y="2856"/>
                      </a:lnTo>
                      <a:lnTo>
                        <a:pt x="69" y="2824"/>
                      </a:lnTo>
                      <a:lnTo>
                        <a:pt x="55" y="2777"/>
                      </a:lnTo>
                      <a:lnTo>
                        <a:pt x="55" y="2745"/>
                      </a:lnTo>
                      <a:lnTo>
                        <a:pt x="41" y="2714"/>
                      </a:lnTo>
                      <a:lnTo>
                        <a:pt x="28" y="2667"/>
                      </a:lnTo>
                      <a:lnTo>
                        <a:pt x="28" y="2635"/>
                      </a:lnTo>
                      <a:lnTo>
                        <a:pt x="14" y="2588"/>
                      </a:lnTo>
                      <a:lnTo>
                        <a:pt x="14" y="2556"/>
                      </a:lnTo>
                      <a:lnTo>
                        <a:pt x="0" y="2509"/>
                      </a:lnTo>
                      <a:lnTo>
                        <a:pt x="0" y="2477"/>
                      </a:lnTo>
                      <a:lnTo>
                        <a:pt x="0" y="2445"/>
                      </a:lnTo>
                      <a:lnTo>
                        <a:pt x="0" y="2398"/>
                      </a:lnTo>
                      <a:lnTo>
                        <a:pt x="0" y="2366"/>
                      </a:lnTo>
                      <a:lnTo>
                        <a:pt x="0" y="2334"/>
                      </a:lnTo>
                      <a:lnTo>
                        <a:pt x="0" y="2304"/>
                      </a:lnTo>
                      <a:lnTo>
                        <a:pt x="0" y="2256"/>
                      </a:lnTo>
                      <a:lnTo>
                        <a:pt x="0" y="2225"/>
                      </a:lnTo>
                      <a:lnTo>
                        <a:pt x="0" y="2193"/>
                      </a:lnTo>
                      <a:lnTo>
                        <a:pt x="0" y="2145"/>
                      </a:lnTo>
                      <a:lnTo>
                        <a:pt x="0" y="2114"/>
                      </a:lnTo>
                      <a:lnTo>
                        <a:pt x="0" y="2066"/>
                      </a:lnTo>
                      <a:lnTo>
                        <a:pt x="0" y="2036"/>
                      </a:lnTo>
                      <a:lnTo>
                        <a:pt x="0" y="1987"/>
                      </a:lnTo>
                      <a:lnTo>
                        <a:pt x="14" y="1940"/>
                      </a:lnTo>
                      <a:lnTo>
                        <a:pt x="14" y="1893"/>
                      </a:lnTo>
                      <a:lnTo>
                        <a:pt x="28" y="1846"/>
                      </a:lnTo>
                      <a:lnTo>
                        <a:pt x="28" y="1799"/>
                      </a:lnTo>
                      <a:lnTo>
                        <a:pt x="41" y="1767"/>
                      </a:lnTo>
                      <a:lnTo>
                        <a:pt x="41" y="1735"/>
                      </a:lnTo>
                      <a:lnTo>
                        <a:pt x="55" y="1703"/>
                      </a:lnTo>
                      <a:lnTo>
                        <a:pt x="55" y="1672"/>
                      </a:lnTo>
                      <a:lnTo>
                        <a:pt x="69" y="1641"/>
                      </a:lnTo>
                      <a:lnTo>
                        <a:pt x="69" y="1609"/>
                      </a:lnTo>
                      <a:lnTo>
                        <a:pt x="83" y="1578"/>
                      </a:lnTo>
                      <a:lnTo>
                        <a:pt x="97" y="1546"/>
                      </a:lnTo>
                      <a:lnTo>
                        <a:pt x="111" y="1514"/>
                      </a:lnTo>
                      <a:lnTo>
                        <a:pt x="111" y="1483"/>
                      </a:lnTo>
                      <a:lnTo>
                        <a:pt x="124" y="1452"/>
                      </a:lnTo>
                      <a:lnTo>
                        <a:pt x="138" y="1420"/>
                      </a:lnTo>
                      <a:lnTo>
                        <a:pt x="152" y="1388"/>
                      </a:lnTo>
                      <a:lnTo>
                        <a:pt x="166" y="1356"/>
                      </a:lnTo>
                      <a:lnTo>
                        <a:pt x="180" y="1326"/>
                      </a:lnTo>
                      <a:lnTo>
                        <a:pt x="194" y="1294"/>
                      </a:lnTo>
                      <a:lnTo>
                        <a:pt x="207" y="1262"/>
                      </a:lnTo>
                      <a:lnTo>
                        <a:pt x="221" y="1247"/>
                      </a:lnTo>
                      <a:lnTo>
                        <a:pt x="235" y="1198"/>
                      </a:lnTo>
                      <a:lnTo>
                        <a:pt x="264" y="1168"/>
                      </a:lnTo>
                      <a:lnTo>
                        <a:pt x="278" y="1136"/>
                      </a:lnTo>
                      <a:lnTo>
                        <a:pt x="292" y="1120"/>
                      </a:lnTo>
                      <a:lnTo>
                        <a:pt x="306" y="1089"/>
                      </a:lnTo>
                      <a:lnTo>
                        <a:pt x="333" y="1057"/>
                      </a:lnTo>
                      <a:lnTo>
                        <a:pt x="347" y="1041"/>
                      </a:lnTo>
                      <a:lnTo>
                        <a:pt x="361" y="1010"/>
                      </a:lnTo>
                      <a:lnTo>
                        <a:pt x="389" y="978"/>
                      </a:lnTo>
                      <a:lnTo>
                        <a:pt x="402" y="962"/>
                      </a:lnTo>
                      <a:lnTo>
                        <a:pt x="430" y="931"/>
                      </a:lnTo>
                      <a:lnTo>
                        <a:pt x="444" y="915"/>
                      </a:lnTo>
                      <a:lnTo>
                        <a:pt x="472" y="883"/>
                      </a:lnTo>
                      <a:lnTo>
                        <a:pt x="485" y="852"/>
                      </a:lnTo>
                      <a:lnTo>
                        <a:pt x="513" y="836"/>
                      </a:lnTo>
                      <a:lnTo>
                        <a:pt x="527" y="804"/>
                      </a:lnTo>
                      <a:lnTo>
                        <a:pt x="555" y="789"/>
                      </a:lnTo>
                      <a:lnTo>
                        <a:pt x="568" y="757"/>
                      </a:lnTo>
                      <a:lnTo>
                        <a:pt x="596" y="742"/>
                      </a:lnTo>
                      <a:lnTo>
                        <a:pt x="624" y="725"/>
                      </a:lnTo>
                      <a:lnTo>
                        <a:pt x="638" y="695"/>
                      </a:lnTo>
                      <a:lnTo>
                        <a:pt x="665" y="678"/>
                      </a:lnTo>
                      <a:lnTo>
                        <a:pt x="679" y="646"/>
                      </a:lnTo>
                      <a:lnTo>
                        <a:pt x="707" y="631"/>
                      </a:lnTo>
                      <a:lnTo>
                        <a:pt x="734" y="616"/>
                      </a:lnTo>
                      <a:lnTo>
                        <a:pt x="762" y="584"/>
                      </a:lnTo>
                      <a:lnTo>
                        <a:pt x="776" y="567"/>
                      </a:lnTo>
                      <a:lnTo>
                        <a:pt x="804" y="552"/>
                      </a:lnTo>
                      <a:lnTo>
                        <a:pt x="831" y="537"/>
                      </a:lnTo>
                      <a:lnTo>
                        <a:pt x="859" y="505"/>
                      </a:lnTo>
                      <a:lnTo>
                        <a:pt x="873" y="489"/>
                      </a:lnTo>
                      <a:lnTo>
                        <a:pt x="900" y="473"/>
                      </a:lnTo>
                      <a:lnTo>
                        <a:pt x="928" y="458"/>
                      </a:lnTo>
                      <a:lnTo>
                        <a:pt x="956" y="426"/>
                      </a:lnTo>
                      <a:lnTo>
                        <a:pt x="970" y="410"/>
                      </a:lnTo>
                      <a:lnTo>
                        <a:pt x="997" y="395"/>
                      </a:lnTo>
                      <a:lnTo>
                        <a:pt x="1025" y="379"/>
                      </a:lnTo>
                      <a:lnTo>
                        <a:pt x="1054" y="363"/>
                      </a:lnTo>
                      <a:lnTo>
                        <a:pt x="1082" y="347"/>
                      </a:lnTo>
                      <a:lnTo>
                        <a:pt x="1109" y="331"/>
                      </a:lnTo>
                      <a:lnTo>
                        <a:pt x="1137" y="300"/>
                      </a:lnTo>
                      <a:lnTo>
                        <a:pt x="1165" y="284"/>
                      </a:lnTo>
                      <a:lnTo>
                        <a:pt x="1192" y="269"/>
                      </a:lnTo>
                      <a:lnTo>
                        <a:pt x="1220" y="252"/>
                      </a:lnTo>
                      <a:lnTo>
                        <a:pt x="1248" y="237"/>
                      </a:lnTo>
                      <a:lnTo>
                        <a:pt x="1275" y="222"/>
                      </a:lnTo>
                      <a:lnTo>
                        <a:pt x="1303" y="205"/>
                      </a:lnTo>
                      <a:lnTo>
                        <a:pt x="1344" y="190"/>
                      </a:lnTo>
                      <a:lnTo>
                        <a:pt x="1372" y="173"/>
                      </a:lnTo>
                      <a:lnTo>
                        <a:pt x="1414" y="158"/>
                      </a:lnTo>
                      <a:lnTo>
                        <a:pt x="1441" y="143"/>
                      </a:lnTo>
                      <a:lnTo>
                        <a:pt x="1469" y="126"/>
                      </a:lnTo>
                      <a:lnTo>
                        <a:pt x="1497" y="126"/>
                      </a:lnTo>
                      <a:lnTo>
                        <a:pt x="1524" y="111"/>
                      </a:lnTo>
                      <a:lnTo>
                        <a:pt x="1566" y="94"/>
                      </a:lnTo>
                      <a:lnTo>
                        <a:pt x="1593" y="79"/>
                      </a:lnTo>
                      <a:lnTo>
                        <a:pt x="1635" y="64"/>
                      </a:lnTo>
                      <a:lnTo>
                        <a:pt x="1676" y="47"/>
                      </a:lnTo>
                      <a:lnTo>
                        <a:pt x="1704" y="32"/>
                      </a:lnTo>
                      <a:lnTo>
                        <a:pt x="1745" y="15"/>
                      </a:lnTo>
                      <a:lnTo>
                        <a:pt x="1773" y="15"/>
                      </a:lnTo>
                      <a:lnTo>
                        <a:pt x="1787" y="0"/>
                      </a:lnTo>
                      <a:lnTo>
                        <a:pt x="1815" y="0"/>
                      </a:lnTo>
                      <a:lnTo>
                        <a:pt x="1844" y="0"/>
                      </a:lnTo>
                      <a:lnTo>
                        <a:pt x="1885" y="0"/>
                      </a:lnTo>
                      <a:lnTo>
                        <a:pt x="1913" y="0"/>
                      </a:lnTo>
                      <a:lnTo>
                        <a:pt x="1940" y="0"/>
                      </a:lnTo>
                      <a:lnTo>
                        <a:pt x="1968" y="0"/>
                      </a:lnTo>
                      <a:lnTo>
                        <a:pt x="1996" y="0"/>
                      </a:lnTo>
                      <a:lnTo>
                        <a:pt x="2037" y="0"/>
                      </a:lnTo>
                      <a:lnTo>
                        <a:pt x="2065" y="0"/>
                      </a:lnTo>
                      <a:lnTo>
                        <a:pt x="2093" y="0"/>
                      </a:lnTo>
                      <a:lnTo>
                        <a:pt x="2120" y="0"/>
                      </a:lnTo>
                      <a:lnTo>
                        <a:pt x="2148" y="0"/>
                      </a:lnTo>
                      <a:lnTo>
                        <a:pt x="2176" y="0"/>
                      </a:lnTo>
                      <a:lnTo>
                        <a:pt x="2217" y="0"/>
                      </a:lnTo>
                      <a:lnTo>
                        <a:pt x="2245" y="0"/>
                      </a:lnTo>
                      <a:lnTo>
                        <a:pt x="2272" y="0"/>
                      </a:lnTo>
                      <a:lnTo>
                        <a:pt x="2300" y="0"/>
                      </a:lnTo>
                      <a:lnTo>
                        <a:pt x="2328" y="0"/>
                      </a:lnTo>
                      <a:lnTo>
                        <a:pt x="2355" y="0"/>
                      </a:lnTo>
                      <a:lnTo>
                        <a:pt x="2397" y="0"/>
                      </a:lnTo>
                      <a:lnTo>
                        <a:pt x="2425" y="0"/>
                      </a:lnTo>
                      <a:lnTo>
                        <a:pt x="2452" y="0"/>
                      </a:lnTo>
                      <a:lnTo>
                        <a:pt x="2480" y="0"/>
                      </a:lnTo>
                      <a:lnTo>
                        <a:pt x="2508" y="0"/>
                      </a:lnTo>
                      <a:lnTo>
                        <a:pt x="2535" y="0"/>
                      </a:lnTo>
                      <a:lnTo>
                        <a:pt x="2577" y="0"/>
                      </a:lnTo>
                      <a:lnTo>
                        <a:pt x="2604" y="0"/>
                      </a:lnTo>
                      <a:lnTo>
                        <a:pt x="2632" y="0"/>
                      </a:lnTo>
                      <a:lnTo>
                        <a:pt x="2661" y="0"/>
                      </a:lnTo>
                      <a:lnTo>
                        <a:pt x="2689" y="0"/>
                      </a:lnTo>
                      <a:lnTo>
                        <a:pt x="2716" y="0"/>
                      </a:lnTo>
                      <a:lnTo>
                        <a:pt x="2758" y="0"/>
                      </a:lnTo>
                      <a:lnTo>
                        <a:pt x="2786" y="0"/>
                      </a:lnTo>
                      <a:lnTo>
                        <a:pt x="2813" y="0"/>
                      </a:lnTo>
                      <a:lnTo>
                        <a:pt x="2841" y="0"/>
                      </a:lnTo>
                      <a:lnTo>
                        <a:pt x="2869" y="0"/>
                      </a:lnTo>
                      <a:lnTo>
                        <a:pt x="2896" y="0"/>
                      </a:lnTo>
                      <a:lnTo>
                        <a:pt x="2938" y="0"/>
                      </a:lnTo>
                      <a:lnTo>
                        <a:pt x="2965" y="0"/>
                      </a:lnTo>
                      <a:lnTo>
                        <a:pt x="2993" y="0"/>
                      </a:lnTo>
                      <a:lnTo>
                        <a:pt x="3021" y="0"/>
                      </a:lnTo>
                      <a:lnTo>
                        <a:pt x="3048" y="0"/>
                      </a:lnTo>
                      <a:lnTo>
                        <a:pt x="3090" y="0"/>
                      </a:lnTo>
                      <a:lnTo>
                        <a:pt x="3118" y="0"/>
                      </a:lnTo>
                      <a:lnTo>
                        <a:pt x="3145" y="0"/>
                      </a:lnTo>
                      <a:lnTo>
                        <a:pt x="3173" y="0"/>
                      </a:lnTo>
                      <a:lnTo>
                        <a:pt x="3201" y="0"/>
                      </a:lnTo>
                      <a:lnTo>
                        <a:pt x="3228" y="0"/>
                      </a:lnTo>
                      <a:lnTo>
                        <a:pt x="3270" y="0"/>
                      </a:lnTo>
                      <a:lnTo>
                        <a:pt x="3297" y="0"/>
                      </a:lnTo>
                      <a:lnTo>
                        <a:pt x="3325" y="0"/>
                      </a:lnTo>
                      <a:lnTo>
                        <a:pt x="3353" y="0"/>
                      </a:lnTo>
                      <a:lnTo>
                        <a:pt x="3380" y="0"/>
                      </a:lnTo>
                      <a:lnTo>
                        <a:pt x="3408" y="0"/>
                      </a:lnTo>
                      <a:lnTo>
                        <a:pt x="3451" y="0"/>
                      </a:lnTo>
                      <a:lnTo>
                        <a:pt x="3479" y="0"/>
                      </a:lnTo>
                      <a:lnTo>
                        <a:pt x="3506" y="0"/>
                      </a:lnTo>
                      <a:lnTo>
                        <a:pt x="3534" y="0"/>
                      </a:lnTo>
                      <a:lnTo>
                        <a:pt x="3562" y="0"/>
                      </a:lnTo>
                      <a:lnTo>
                        <a:pt x="3589" y="0"/>
                      </a:lnTo>
                      <a:lnTo>
                        <a:pt x="3631" y="0"/>
                      </a:lnTo>
                      <a:lnTo>
                        <a:pt x="3658" y="0"/>
                      </a:lnTo>
                      <a:lnTo>
                        <a:pt x="3686" y="0"/>
                      </a:lnTo>
                      <a:lnTo>
                        <a:pt x="3714" y="0"/>
                      </a:lnTo>
                      <a:lnTo>
                        <a:pt x="3741" y="0"/>
                      </a:lnTo>
                      <a:lnTo>
                        <a:pt x="3769" y="0"/>
                      </a:lnTo>
                      <a:lnTo>
                        <a:pt x="3810" y="0"/>
                      </a:lnTo>
                      <a:lnTo>
                        <a:pt x="3838" y="0"/>
                      </a:lnTo>
                      <a:lnTo>
                        <a:pt x="3866" y="0"/>
                      </a:lnTo>
                      <a:lnTo>
                        <a:pt x="3893" y="0"/>
                      </a:lnTo>
                      <a:lnTo>
                        <a:pt x="3921" y="0"/>
                      </a:lnTo>
                      <a:lnTo>
                        <a:pt x="3963" y="0"/>
                      </a:lnTo>
                      <a:lnTo>
                        <a:pt x="4004" y="0"/>
                      </a:lnTo>
                      <a:lnTo>
                        <a:pt x="4032" y="0"/>
                      </a:lnTo>
                      <a:lnTo>
                        <a:pt x="4059" y="0"/>
                      </a:lnTo>
                      <a:lnTo>
                        <a:pt x="4087" y="0"/>
                      </a:lnTo>
                      <a:lnTo>
                        <a:pt x="4115" y="0"/>
                      </a:lnTo>
                      <a:lnTo>
                        <a:pt x="4156" y="0"/>
                      </a:lnTo>
                      <a:lnTo>
                        <a:pt x="4184" y="0"/>
                      </a:lnTo>
                      <a:lnTo>
                        <a:pt x="4212" y="0"/>
                      </a:lnTo>
                      <a:lnTo>
                        <a:pt x="4241" y="0"/>
                      </a:lnTo>
                      <a:lnTo>
                        <a:pt x="4268" y="0"/>
                      </a:lnTo>
                      <a:lnTo>
                        <a:pt x="4296" y="0"/>
                      </a:lnTo>
                      <a:lnTo>
                        <a:pt x="4337" y="0"/>
                      </a:lnTo>
                      <a:lnTo>
                        <a:pt x="4365" y="0"/>
                      </a:lnTo>
                      <a:lnTo>
                        <a:pt x="4393" y="0"/>
                      </a:lnTo>
                      <a:lnTo>
                        <a:pt x="4420" y="0"/>
                      </a:lnTo>
                      <a:lnTo>
                        <a:pt x="4448" y="0"/>
                      </a:lnTo>
                      <a:lnTo>
                        <a:pt x="4476" y="0"/>
                      </a:lnTo>
                      <a:lnTo>
                        <a:pt x="4517" y="0"/>
                      </a:lnTo>
                      <a:lnTo>
                        <a:pt x="4545" y="0"/>
                      </a:lnTo>
                      <a:lnTo>
                        <a:pt x="4573" y="0"/>
                      </a:lnTo>
                      <a:lnTo>
                        <a:pt x="4600" y="0"/>
                      </a:lnTo>
                      <a:lnTo>
                        <a:pt x="4628" y="0"/>
                      </a:lnTo>
                      <a:lnTo>
                        <a:pt x="4656" y="0"/>
                      </a:lnTo>
                      <a:lnTo>
                        <a:pt x="4697" y="0"/>
                      </a:lnTo>
                      <a:lnTo>
                        <a:pt x="4725" y="0"/>
                      </a:lnTo>
                      <a:lnTo>
                        <a:pt x="4752" y="0"/>
                      </a:lnTo>
                      <a:lnTo>
                        <a:pt x="4780" y="0"/>
                      </a:lnTo>
                      <a:lnTo>
                        <a:pt x="4808" y="0"/>
                      </a:lnTo>
                      <a:lnTo>
                        <a:pt x="4849" y="0"/>
                      </a:lnTo>
                      <a:lnTo>
                        <a:pt x="4877" y="0"/>
                      </a:lnTo>
                      <a:lnTo>
                        <a:pt x="4905" y="0"/>
                      </a:lnTo>
                      <a:lnTo>
                        <a:pt x="4932" y="0"/>
                      </a:lnTo>
                      <a:lnTo>
                        <a:pt x="4960" y="0"/>
                      </a:lnTo>
                      <a:lnTo>
                        <a:pt x="4988" y="0"/>
                      </a:lnTo>
                      <a:lnTo>
                        <a:pt x="5030" y="0"/>
                      </a:lnTo>
                      <a:lnTo>
                        <a:pt x="5058" y="0"/>
                      </a:lnTo>
                      <a:lnTo>
                        <a:pt x="5086" y="0"/>
                      </a:lnTo>
                      <a:lnTo>
                        <a:pt x="5113" y="0"/>
                      </a:lnTo>
                      <a:lnTo>
                        <a:pt x="5141" y="0"/>
                      </a:lnTo>
                      <a:lnTo>
                        <a:pt x="5169" y="0"/>
                      </a:lnTo>
                      <a:lnTo>
                        <a:pt x="5210" y="0"/>
                      </a:lnTo>
                      <a:lnTo>
                        <a:pt x="5238" y="0"/>
                      </a:lnTo>
                      <a:lnTo>
                        <a:pt x="5266" y="0"/>
                      </a:lnTo>
                      <a:lnTo>
                        <a:pt x="5293" y="0"/>
                      </a:lnTo>
                      <a:lnTo>
                        <a:pt x="5321" y="0"/>
                      </a:lnTo>
                      <a:lnTo>
                        <a:pt x="5349" y="0"/>
                      </a:lnTo>
                      <a:lnTo>
                        <a:pt x="5390" y="0"/>
                      </a:lnTo>
                      <a:lnTo>
                        <a:pt x="5418" y="0"/>
                      </a:lnTo>
                      <a:lnTo>
                        <a:pt x="5445" y="0"/>
                      </a:lnTo>
                      <a:lnTo>
                        <a:pt x="5473" y="0"/>
                      </a:lnTo>
                      <a:lnTo>
                        <a:pt x="5501" y="0"/>
                      </a:lnTo>
                      <a:lnTo>
                        <a:pt x="5528" y="0"/>
                      </a:lnTo>
                      <a:lnTo>
                        <a:pt x="5570" y="0"/>
                      </a:lnTo>
                      <a:lnTo>
                        <a:pt x="5597" y="0"/>
                      </a:lnTo>
                      <a:lnTo>
                        <a:pt x="5625" y="0"/>
                      </a:lnTo>
                      <a:lnTo>
                        <a:pt x="5653" y="0"/>
                      </a:lnTo>
                      <a:lnTo>
                        <a:pt x="5680" y="0"/>
                      </a:lnTo>
                      <a:lnTo>
                        <a:pt x="5722" y="0"/>
                      </a:lnTo>
                      <a:lnTo>
                        <a:pt x="5750" y="0"/>
                      </a:lnTo>
                      <a:lnTo>
                        <a:pt x="5777" y="0"/>
                      </a:lnTo>
                      <a:lnTo>
                        <a:pt x="5805" y="0"/>
                      </a:lnTo>
                      <a:lnTo>
                        <a:pt x="5834" y="0"/>
                      </a:lnTo>
                      <a:lnTo>
                        <a:pt x="5862" y="0"/>
                      </a:lnTo>
                      <a:lnTo>
                        <a:pt x="5875" y="15"/>
                      </a:lnTo>
                      <a:lnTo>
                        <a:pt x="5917" y="15"/>
                      </a:lnTo>
                      <a:lnTo>
                        <a:pt x="5945" y="32"/>
                      </a:lnTo>
                      <a:lnTo>
                        <a:pt x="5986" y="47"/>
                      </a:lnTo>
                      <a:lnTo>
                        <a:pt x="6028" y="64"/>
                      </a:lnTo>
                      <a:lnTo>
                        <a:pt x="6055" y="79"/>
                      </a:lnTo>
                      <a:lnTo>
                        <a:pt x="6097" y="94"/>
                      </a:lnTo>
                      <a:lnTo>
                        <a:pt x="6124" y="111"/>
                      </a:lnTo>
                      <a:lnTo>
                        <a:pt x="6152" y="126"/>
                      </a:lnTo>
                      <a:lnTo>
                        <a:pt x="6180" y="126"/>
                      </a:lnTo>
                      <a:lnTo>
                        <a:pt x="6221" y="143"/>
                      </a:lnTo>
                      <a:lnTo>
                        <a:pt x="6249" y="158"/>
                      </a:lnTo>
                      <a:lnTo>
                        <a:pt x="6277" y="173"/>
                      </a:lnTo>
                      <a:lnTo>
                        <a:pt x="6304" y="190"/>
                      </a:lnTo>
                      <a:lnTo>
                        <a:pt x="6332" y="205"/>
                      </a:lnTo>
                      <a:lnTo>
                        <a:pt x="6360" y="222"/>
                      </a:lnTo>
                      <a:lnTo>
                        <a:pt x="6401" y="237"/>
                      </a:lnTo>
                      <a:lnTo>
                        <a:pt x="6429" y="252"/>
                      </a:lnTo>
                      <a:lnTo>
                        <a:pt x="6456" y="269"/>
                      </a:lnTo>
                      <a:lnTo>
                        <a:pt x="6484" y="284"/>
                      </a:lnTo>
                      <a:lnTo>
                        <a:pt x="6512" y="300"/>
                      </a:lnTo>
                      <a:lnTo>
                        <a:pt x="6539" y="331"/>
                      </a:lnTo>
                      <a:lnTo>
                        <a:pt x="6567" y="347"/>
                      </a:lnTo>
                      <a:lnTo>
                        <a:pt x="6595" y="363"/>
                      </a:lnTo>
                      <a:lnTo>
                        <a:pt x="6624" y="379"/>
                      </a:lnTo>
                      <a:lnTo>
                        <a:pt x="6651" y="395"/>
                      </a:lnTo>
                      <a:lnTo>
                        <a:pt x="6679" y="410"/>
                      </a:lnTo>
                      <a:lnTo>
                        <a:pt x="6707" y="426"/>
                      </a:lnTo>
                      <a:lnTo>
                        <a:pt x="6734" y="458"/>
                      </a:lnTo>
                      <a:lnTo>
                        <a:pt x="6748" y="473"/>
                      </a:lnTo>
                      <a:lnTo>
                        <a:pt x="6776" y="489"/>
                      </a:lnTo>
                      <a:lnTo>
                        <a:pt x="6804" y="505"/>
                      </a:lnTo>
                      <a:lnTo>
                        <a:pt x="6831" y="537"/>
                      </a:lnTo>
                      <a:lnTo>
                        <a:pt x="6845" y="552"/>
                      </a:lnTo>
                      <a:lnTo>
                        <a:pt x="6873" y="567"/>
                      </a:lnTo>
                      <a:lnTo>
                        <a:pt x="6900" y="584"/>
                      </a:lnTo>
                      <a:lnTo>
                        <a:pt x="6928" y="616"/>
                      </a:lnTo>
                      <a:lnTo>
                        <a:pt x="6942" y="631"/>
                      </a:lnTo>
                      <a:lnTo>
                        <a:pt x="6970" y="646"/>
                      </a:lnTo>
                      <a:lnTo>
                        <a:pt x="6997" y="678"/>
                      </a:lnTo>
                      <a:lnTo>
                        <a:pt x="7011" y="695"/>
                      </a:lnTo>
                      <a:lnTo>
                        <a:pt x="7039" y="725"/>
                      </a:lnTo>
                      <a:lnTo>
                        <a:pt x="7066" y="742"/>
                      </a:lnTo>
                      <a:lnTo>
                        <a:pt x="7080" y="757"/>
                      </a:lnTo>
                      <a:lnTo>
                        <a:pt x="7108" y="789"/>
                      </a:lnTo>
                      <a:lnTo>
                        <a:pt x="7122" y="804"/>
                      </a:lnTo>
                      <a:lnTo>
                        <a:pt x="7149" y="836"/>
                      </a:lnTo>
                      <a:lnTo>
                        <a:pt x="7163" y="852"/>
                      </a:lnTo>
                      <a:lnTo>
                        <a:pt x="7191" y="883"/>
                      </a:lnTo>
                      <a:lnTo>
                        <a:pt x="7205" y="915"/>
                      </a:lnTo>
                      <a:lnTo>
                        <a:pt x="7232" y="931"/>
                      </a:lnTo>
                      <a:lnTo>
                        <a:pt x="7246" y="962"/>
                      </a:lnTo>
                      <a:lnTo>
                        <a:pt x="7274" y="978"/>
                      </a:lnTo>
                      <a:lnTo>
                        <a:pt x="7288" y="1010"/>
                      </a:lnTo>
                      <a:lnTo>
                        <a:pt x="7315" y="1041"/>
                      </a:lnTo>
                      <a:lnTo>
                        <a:pt x="7329" y="1057"/>
                      </a:lnTo>
                      <a:lnTo>
                        <a:pt x="7343" y="1089"/>
                      </a:lnTo>
                      <a:lnTo>
                        <a:pt x="7357" y="1120"/>
                      </a:lnTo>
                      <a:lnTo>
                        <a:pt x="7384" y="1136"/>
                      </a:lnTo>
                      <a:lnTo>
                        <a:pt x="7398" y="1168"/>
                      </a:lnTo>
                      <a:lnTo>
                        <a:pt x="7412" y="1198"/>
                      </a:lnTo>
                      <a:lnTo>
                        <a:pt x="7427" y="1247"/>
                      </a:lnTo>
                      <a:lnTo>
                        <a:pt x="7441" y="1262"/>
                      </a:lnTo>
                      <a:lnTo>
                        <a:pt x="7455" y="1294"/>
                      </a:lnTo>
                      <a:lnTo>
                        <a:pt x="7483" y="1326"/>
                      </a:lnTo>
                      <a:lnTo>
                        <a:pt x="7496" y="1356"/>
                      </a:lnTo>
                      <a:lnTo>
                        <a:pt x="7496" y="1388"/>
                      </a:lnTo>
                      <a:lnTo>
                        <a:pt x="7510" y="1420"/>
                      </a:lnTo>
                      <a:lnTo>
                        <a:pt x="7524" y="1452"/>
                      </a:lnTo>
                      <a:lnTo>
                        <a:pt x="7538" y="1483"/>
                      </a:lnTo>
                      <a:lnTo>
                        <a:pt x="7552" y="1514"/>
                      </a:lnTo>
                      <a:lnTo>
                        <a:pt x="7566" y="1546"/>
                      </a:lnTo>
                      <a:lnTo>
                        <a:pt x="7566" y="1578"/>
                      </a:lnTo>
                      <a:lnTo>
                        <a:pt x="7579" y="1609"/>
                      </a:lnTo>
                      <a:lnTo>
                        <a:pt x="7593" y="1641"/>
                      </a:lnTo>
                      <a:lnTo>
                        <a:pt x="7593" y="1672"/>
                      </a:lnTo>
                      <a:lnTo>
                        <a:pt x="7607" y="1703"/>
                      </a:lnTo>
                      <a:lnTo>
                        <a:pt x="7607" y="1735"/>
                      </a:lnTo>
                      <a:lnTo>
                        <a:pt x="7621" y="1767"/>
                      </a:lnTo>
                      <a:lnTo>
                        <a:pt x="7621" y="1799"/>
                      </a:lnTo>
                      <a:lnTo>
                        <a:pt x="7635" y="1846"/>
                      </a:lnTo>
                      <a:lnTo>
                        <a:pt x="7635" y="1893"/>
                      </a:lnTo>
                      <a:lnTo>
                        <a:pt x="7649" y="1940"/>
                      </a:lnTo>
                      <a:lnTo>
                        <a:pt x="7649" y="1987"/>
                      </a:lnTo>
                      <a:lnTo>
                        <a:pt x="7662" y="2036"/>
                      </a:lnTo>
                      <a:lnTo>
                        <a:pt x="7662" y="2066"/>
                      </a:lnTo>
                      <a:lnTo>
                        <a:pt x="7662" y="2114"/>
                      </a:lnTo>
                      <a:lnTo>
                        <a:pt x="7662" y="2145"/>
                      </a:lnTo>
                      <a:lnTo>
                        <a:pt x="7662" y="2193"/>
                      </a:lnTo>
                      <a:lnTo>
                        <a:pt x="7662" y="2225"/>
                      </a:lnTo>
                      <a:lnTo>
                        <a:pt x="7662" y="2256"/>
                      </a:lnTo>
                      <a:lnTo>
                        <a:pt x="7662" y="2304"/>
                      </a:lnTo>
                      <a:lnTo>
                        <a:pt x="7662" y="2334"/>
                      </a:lnTo>
                      <a:lnTo>
                        <a:pt x="7662" y="2366"/>
                      </a:lnTo>
                      <a:lnTo>
                        <a:pt x="7662" y="2398"/>
                      </a:lnTo>
                      <a:lnTo>
                        <a:pt x="7662" y="2445"/>
                      </a:lnTo>
                      <a:lnTo>
                        <a:pt x="7649" y="2477"/>
                      </a:lnTo>
                      <a:lnTo>
                        <a:pt x="7649" y="2509"/>
                      </a:lnTo>
                      <a:lnTo>
                        <a:pt x="7649" y="2556"/>
                      </a:lnTo>
                      <a:lnTo>
                        <a:pt x="7635" y="2588"/>
                      </a:lnTo>
                      <a:lnTo>
                        <a:pt x="7635" y="2635"/>
                      </a:lnTo>
                      <a:lnTo>
                        <a:pt x="7621" y="2667"/>
                      </a:lnTo>
                      <a:lnTo>
                        <a:pt x="7621" y="2714"/>
                      </a:lnTo>
                      <a:lnTo>
                        <a:pt x="7607" y="2745"/>
                      </a:lnTo>
                      <a:lnTo>
                        <a:pt x="7593" y="2777"/>
                      </a:lnTo>
                      <a:lnTo>
                        <a:pt x="7593" y="2824"/>
                      </a:lnTo>
                      <a:lnTo>
                        <a:pt x="7579" y="2856"/>
                      </a:lnTo>
                      <a:lnTo>
                        <a:pt x="7566" y="2887"/>
                      </a:lnTo>
                      <a:lnTo>
                        <a:pt x="7552" y="2918"/>
                      </a:lnTo>
                      <a:lnTo>
                        <a:pt x="7552" y="2950"/>
                      </a:lnTo>
                      <a:lnTo>
                        <a:pt x="7538" y="2982"/>
                      </a:lnTo>
                      <a:lnTo>
                        <a:pt x="7524" y="3014"/>
                      </a:lnTo>
                      <a:lnTo>
                        <a:pt x="7510" y="3044"/>
                      </a:lnTo>
                      <a:lnTo>
                        <a:pt x="7496" y="3076"/>
                      </a:lnTo>
                      <a:lnTo>
                        <a:pt x="7483" y="3108"/>
                      </a:lnTo>
                      <a:lnTo>
                        <a:pt x="7469" y="3140"/>
                      </a:lnTo>
                      <a:lnTo>
                        <a:pt x="7455" y="3172"/>
                      </a:lnTo>
                      <a:lnTo>
                        <a:pt x="7441" y="3202"/>
                      </a:lnTo>
                      <a:lnTo>
                        <a:pt x="7412" y="3234"/>
                      </a:lnTo>
                      <a:lnTo>
                        <a:pt x="7398" y="3266"/>
                      </a:lnTo>
                      <a:lnTo>
                        <a:pt x="7384" y="3297"/>
                      </a:lnTo>
                      <a:lnTo>
                        <a:pt x="7371" y="3313"/>
                      </a:lnTo>
                      <a:lnTo>
                        <a:pt x="7343" y="3345"/>
                      </a:lnTo>
                      <a:lnTo>
                        <a:pt x="7329" y="3376"/>
                      </a:lnTo>
                      <a:lnTo>
                        <a:pt x="7315" y="3408"/>
                      </a:lnTo>
                      <a:lnTo>
                        <a:pt x="7288" y="3423"/>
                      </a:lnTo>
                      <a:lnTo>
                        <a:pt x="7274" y="3455"/>
                      </a:lnTo>
                      <a:lnTo>
                        <a:pt x="7246" y="3487"/>
                      </a:lnTo>
                      <a:lnTo>
                        <a:pt x="7232" y="3502"/>
                      </a:lnTo>
                      <a:lnTo>
                        <a:pt x="7205" y="3534"/>
                      </a:lnTo>
                      <a:lnTo>
                        <a:pt x="7177" y="3566"/>
                      </a:lnTo>
                      <a:lnTo>
                        <a:pt x="7163" y="3581"/>
                      </a:lnTo>
                      <a:lnTo>
                        <a:pt x="7135" y="3613"/>
                      </a:lnTo>
                      <a:lnTo>
                        <a:pt x="7122" y="3628"/>
                      </a:lnTo>
                      <a:lnTo>
                        <a:pt x="7094" y="3660"/>
                      </a:lnTo>
                      <a:lnTo>
                        <a:pt x="7066" y="3675"/>
                      </a:lnTo>
                      <a:lnTo>
                        <a:pt x="7053" y="3707"/>
                      </a:lnTo>
                      <a:lnTo>
                        <a:pt x="7025" y="3724"/>
                      </a:lnTo>
                      <a:lnTo>
                        <a:pt x="6997" y="3739"/>
                      </a:lnTo>
                      <a:lnTo>
                        <a:pt x="6983" y="3771"/>
                      </a:lnTo>
                      <a:lnTo>
                        <a:pt x="6956" y="3786"/>
                      </a:lnTo>
                      <a:lnTo>
                        <a:pt x="6928" y="3818"/>
                      </a:lnTo>
                      <a:lnTo>
                        <a:pt x="6900" y="3833"/>
                      </a:lnTo>
                      <a:lnTo>
                        <a:pt x="6887" y="3850"/>
                      </a:lnTo>
                      <a:lnTo>
                        <a:pt x="6859" y="3881"/>
                      </a:lnTo>
                      <a:lnTo>
                        <a:pt x="6831" y="3897"/>
                      </a:lnTo>
                      <a:lnTo>
                        <a:pt x="6804" y="3912"/>
                      </a:lnTo>
                      <a:lnTo>
                        <a:pt x="6776" y="3944"/>
                      </a:lnTo>
                      <a:lnTo>
                        <a:pt x="6762" y="3960"/>
                      </a:lnTo>
                      <a:lnTo>
                        <a:pt x="6734" y="3975"/>
                      </a:lnTo>
                      <a:lnTo>
                        <a:pt x="6707" y="3991"/>
                      </a:lnTo>
                      <a:lnTo>
                        <a:pt x="6679" y="4007"/>
                      </a:lnTo>
                      <a:lnTo>
                        <a:pt x="6651" y="4039"/>
                      </a:lnTo>
                      <a:lnTo>
                        <a:pt x="6609" y="4054"/>
                      </a:lnTo>
                      <a:lnTo>
                        <a:pt x="6595" y="4070"/>
                      </a:lnTo>
                      <a:lnTo>
                        <a:pt x="6567" y="4086"/>
                      </a:lnTo>
                      <a:lnTo>
                        <a:pt x="6539" y="4101"/>
                      </a:lnTo>
                      <a:lnTo>
                        <a:pt x="6512" y="4118"/>
                      </a:lnTo>
                      <a:lnTo>
                        <a:pt x="6484" y="4133"/>
                      </a:lnTo>
                      <a:lnTo>
                        <a:pt x="6456" y="4148"/>
                      </a:lnTo>
                      <a:lnTo>
                        <a:pt x="6429" y="4165"/>
                      </a:lnTo>
                      <a:lnTo>
                        <a:pt x="6401" y="4180"/>
                      </a:lnTo>
                      <a:lnTo>
                        <a:pt x="6373" y="4197"/>
                      </a:lnTo>
                      <a:lnTo>
                        <a:pt x="6346" y="4212"/>
                      </a:lnTo>
                      <a:lnTo>
                        <a:pt x="6318" y="4227"/>
                      </a:lnTo>
                      <a:lnTo>
                        <a:pt x="6290" y="4244"/>
                      </a:lnTo>
                      <a:lnTo>
                        <a:pt x="6263" y="4259"/>
                      </a:lnTo>
                      <a:lnTo>
                        <a:pt x="6235" y="4276"/>
                      </a:lnTo>
                      <a:lnTo>
                        <a:pt x="6207" y="4291"/>
                      </a:lnTo>
                      <a:lnTo>
                        <a:pt x="6180" y="4306"/>
                      </a:lnTo>
                      <a:lnTo>
                        <a:pt x="6152" y="4306"/>
                      </a:lnTo>
                      <a:lnTo>
                        <a:pt x="6124" y="4323"/>
                      </a:lnTo>
                      <a:lnTo>
                        <a:pt x="6097" y="4338"/>
                      </a:lnTo>
                      <a:lnTo>
                        <a:pt x="6069" y="4355"/>
                      </a:lnTo>
                      <a:lnTo>
                        <a:pt x="6041" y="4370"/>
                      </a:lnTo>
                      <a:lnTo>
                        <a:pt x="6014" y="4370"/>
                      </a:lnTo>
                      <a:lnTo>
                        <a:pt x="5986" y="4385"/>
                      </a:lnTo>
                      <a:lnTo>
                        <a:pt x="5958" y="4402"/>
                      </a:lnTo>
                      <a:lnTo>
                        <a:pt x="5931" y="4402"/>
                      </a:lnTo>
                      <a:lnTo>
                        <a:pt x="5903" y="4417"/>
                      </a:lnTo>
                      <a:lnTo>
                        <a:pt x="5862" y="4417"/>
                      </a:lnTo>
                      <a:lnTo>
                        <a:pt x="5834" y="4417"/>
                      </a:lnTo>
                      <a:lnTo>
                        <a:pt x="5805" y="4417"/>
                      </a:lnTo>
                      <a:lnTo>
                        <a:pt x="5777" y="4417"/>
                      </a:lnTo>
                      <a:lnTo>
                        <a:pt x="5750" y="4417"/>
                      </a:lnTo>
                      <a:lnTo>
                        <a:pt x="5722" y="4417"/>
                      </a:lnTo>
                      <a:lnTo>
                        <a:pt x="5680" y="4417"/>
                      </a:lnTo>
                      <a:lnTo>
                        <a:pt x="5653" y="4417"/>
                      </a:lnTo>
                      <a:lnTo>
                        <a:pt x="5625" y="4417"/>
                      </a:lnTo>
                      <a:lnTo>
                        <a:pt x="5597" y="4417"/>
                      </a:lnTo>
                      <a:lnTo>
                        <a:pt x="5570" y="4417"/>
                      </a:lnTo>
                      <a:lnTo>
                        <a:pt x="5528" y="4417"/>
                      </a:lnTo>
                      <a:lnTo>
                        <a:pt x="5501" y="4417"/>
                      </a:lnTo>
                      <a:lnTo>
                        <a:pt x="5473" y="4417"/>
                      </a:lnTo>
                      <a:lnTo>
                        <a:pt x="5445" y="4417"/>
                      </a:lnTo>
                      <a:lnTo>
                        <a:pt x="5418" y="4417"/>
                      </a:lnTo>
                      <a:lnTo>
                        <a:pt x="5390" y="4417"/>
                      </a:lnTo>
                      <a:lnTo>
                        <a:pt x="5349" y="4417"/>
                      </a:lnTo>
                      <a:lnTo>
                        <a:pt x="5321" y="4417"/>
                      </a:lnTo>
                      <a:lnTo>
                        <a:pt x="5293" y="4417"/>
                      </a:lnTo>
                      <a:lnTo>
                        <a:pt x="5266" y="4417"/>
                      </a:lnTo>
                      <a:lnTo>
                        <a:pt x="5238" y="4417"/>
                      </a:lnTo>
                      <a:lnTo>
                        <a:pt x="5210" y="4417"/>
                      </a:lnTo>
                      <a:lnTo>
                        <a:pt x="5169" y="4417"/>
                      </a:lnTo>
                      <a:lnTo>
                        <a:pt x="5141" y="4417"/>
                      </a:lnTo>
                      <a:lnTo>
                        <a:pt x="5113" y="4417"/>
                      </a:lnTo>
                      <a:lnTo>
                        <a:pt x="5086" y="4417"/>
                      </a:lnTo>
                      <a:lnTo>
                        <a:pt x="5058" y="4417"/>
                      </a:lnTo>
                      <a:lnTo>
                        <a:pt x="5030" y="4417"/>
                      </a:lnTo>
                      <a:lnTo>
                        <a:pt x="4988" y="4417"/>
                      </a:lnTo>
                      <a:lnTo>
                        <a:pt x="4960" y="4417"/>
                      </a:lnTo>
                      <a:lnTo>
                        <a:pt x="4932" y="4417"/>
                      </a:lnTo>
                      <a:lnTo>
                        <a:pt x="4905" y="4417"/>
                      </a:lnTo>
                      <a:lnTo>
                        <a:pt x="4877" y="4417"/>
                      </a:lnTo>
                      <a:lnTo>
                        <a:pt x="4849" y="4417"/>
                      </a:lnTo>
                      <a:lnTo>
                        <a:pt x="4808" y="4417"/>
                      </a:lnTo>
                      <a:lnTo>
                        <a:pt x="4780" y="4417"/>
                      </a:lnTo>
                      <a:lnTo>
                        <a:pt x="4752" y="4417"/>
                      </a:lnTo>
                      <a:lnTo>
                        <a:pt x="4725" y="4417"/>
                      </a:lnTo>
                      <a:lnTo>
                        <a:pt x="4697" y="4417"/>
                      </a:lnTo>
                      <a:lnTo>
                        <a:pt x="4656" y="4417"/>
                      </a:lnTo>
                      <a:lnTo>
                        <a:pt x="4628" y="4417"/>
                      </a:lnTo>
                      <a:lnTo>
                        <a:pt x="4600" y="4417"/>
                      </a:lnTo>
                      <a:lnTo>
                        <a:pt x="4573" y="4417"/>
                      </a:lnTo>
                      <a:lnTo>
                        <a:pt x="4545" y="4417"/>
                      </a:lnTo>
                      <a:lnTo>
                        <a:pt x="4517" y="4417"/>
                      </a:lnTo>
                      <a:lnTo>
                        <a:pt x="4476" y="4417"/>
                      </a:lnTo>
                      <a:lnTo>
                        <a:pt x="4448" y="4417"/>
                      </a:lnTo>
                      <a:lnTo>
                        <a:pt x="4420" y="4417"/>
                      </a:lnTo>
                      <a:lnTo>
                        <a:pt x="4393" y="4417"/>
                      </a:lnTo>
                      <a:lnTo>
                        <a:pt x="4365" y="4417"/>
                      </a:lnTo>
                      <a:lnTo>
                        <a:pt x="4337" y="4417"/>
                      </a:lnTo>
                      <a:lnTo>
                        <a:pt x="4296" y="4417"/>
                      </a:lnTo>
                      <a:lnTo>
                        <a:pt x="4268" y="4417"/>
                      </a:lnTo>
                      <a:lnTo>
                        <a:pt x="4241" y="4417"/>
                      </a:lnTo>
                      <a:lnTo>
                        <a:pt x="4212" y="4417"/>
                      </a:lnTo>
                      <a:lnTo>
                        <a:pt x="4184" y="4417"/>
                      </a:lnTo>
                      <a:lnTo>
                        <a:pt x="4156" y="4417"/>
                      </a:lnTo>
                      <a:lnTo>
                        <a:pt x="4115" y="4417"/>
                      </a:lnTo>
                      <a:lnTo>
                        <a:pt x="4087" y="4417"/>
                      </a:lnTo>
                      <a:lnTo>
                        <a:pt x="4059" y="4417"/>
                      </a:lnTo>
                      <a:lnTo>
                        <a:pt x="4032" y="4417"/>
                      </a:lnTo>
                      <a:lnTo>
                        <a:pt x="4004" y="4417"/>
                      </a:lnTo>
                      <a:lnTo>
                        <a:pt x="3963" y="4417"/>
                      </a:lnTo>
                      <a:lnTo>
                        <a:pt x="3921" y="4417"/>
                      </a:lnTo>
                      <a:lnTo>
                        <a:pt x="3893" y="4417"/>
                      </a:lnTo>
                      <a:lnTo>
                        <a:pt x="3866" y="4417"/>
                      </a:lnTo>
                      <a:lnTo>
                        <a:pt x="3838" y="4417"/>
                      </a:lnTo>
                      <a:lnTo>
                        <a:pt x="3810" y="4417"/>
                      </a:lnTo>
                      <a:lnTo>
                        <a:pt x="3769" y="4417"/>
                      </a:lnTo>
                      <a:lnTo>
                        <a:pt x="3741" y="4417"/>
                      </a:lnTo>
                      <a:lnTo>
                        <a:pt x="3714" y="4417"/>
                      </a:lnTo>
                      <a:lnTo>
                        <a:pt x="3686" y="4417"/>
                      </a:lnTo>
                      <a:lnTo>
                        <a:pt x="3658" y="4417"/>
                      </a:lnTo>
                      <a:lnTo>
                        <a:pt x="3631" y="4417"/>
                      </a:lnTo>
                      <a:lnTo>
                        <a:pt x="3589" y="4417"/>
                      </a:lnTo>
                      <a:lnTo>
                        <a:pt x="3562" y="4417"/>
                      </a:lnTo>
                      <a:lnTo>
                        <a:pt x="3534" y="4417"/>
                      </a:lnTo>
                      <a:lnTo>
                        <a:pt x="3506" y="4417"/>
                      </a:lnTo>
                      <a:lnTo>
                        <a:pt x="3479" y="4417"/>
                      </a:lnTo>
                      <a:lnTo>
                        <a:pt x="3451" y="4417"/>
                      </a:lnTo>
                      <a:lnTo>
                        <a:pt x="3408" y="4417"/>
                      </a:lnTo>
                      <a:lnTo>
                        <a:pt x="3380" y="4417"/>
                      </a:lnTo>
                      <a:lnTo>
                        <a:pt x="3353" y="4417"/>
                      </a:lnTo>
                      <a:lnTo>
                        <a:pt x="3325" y="4417"/>
                      </a:lnTo>
                      <a:lnTo>
                        <a:pt x="3297" y="4417"/>
                      </a:lnTo>
                      <a:lnTo>
                        <a:pt x="3270" y="4417"/>
                      </a:lnTo>
                      <a:lnTo>
                        <a:pt x="3228" y="4417"/>
                      </a:lnTo>
                      <a:lnTo>
                        <a:pt x="3201" y="4417"/>
                      </a:lnTo>
                      <a:lnTo>
                        <a:pt x="3173" y="4417"/>
                      </a:lnTo>
                      <a:lnTo>
                        <a:pt x="3145" y="4417"/>
                      </a:lnTo>
                      <a:lnTo>
                        <a:pt x="3118" y="4417"/>
                      </a:lnTo>
                      <a:lnTo>
                        <a:pt x="3090" y="4417"/>
                      </a:lnTo>
                      <a:lnTo>
                        <a:pt x="3048" y="4417"/>
                      </a:lnTo>
                      <a:lnTo>
                        <a:pt x="3021" y="4417"/>
                      </a:lnTo>
                      <a:lnTo>
                        <a:pt x="2993" y="4417"/>
                      </a:lnTo>
                      <a:lnTo>
                        <a:pt x="2965" y="4417"/>
                      </a:lnTo>
                      <a:lnTo>
                        <a:pt x="2938" y="4417"/>
                      </a:lnTo>
                      <a:lnTo>
                        <a:pt x="2896" y="4417"/>
                      </a:lnTo>
                      <a:lnTo>
                        <a:pt x="2869" y="4417"/>
                      </a:lnTo>
                      <a:lnTo>
                        <a:pt x="2841" y="4417"/>
                      </a:lnTo>
                      <a:lnTo>
                        <a:pt x="2813" y="4417"/>
                      </a:lnTo>
                      <a:lnTo>
                        <a:pt x="2786" y="4417"/>
                      </a:lnTo>
                      <a:lnTo>
                        <a:pt x="2758" y="4417"/>
                      </a:lnTo>
                      <a:lnTo>
                        <a:pt x="2716" y="4417"/>
                      </a:lnTo>
                      <a:lnTo>
                        <a:pt x="2689" y="4417"/>
                      </a:lnTo>
                      <a:lnTo>
                        <a:pt x="2661" y="4417"/>
                      </a:lnTo>
                      <a:lnTo>
                        <a:pt x="2632" y="4417"/>
                      </a:lnTo>
                      <a:lnTo>
                        <a:pt x="2604" y="4417"/>
                      </a:lnTo>
                      <a:lnTo>
                        <a:pt x="2577" y="4417"/>
                      </a:lnTo>
                      <a:lnTo>
                        <a:pt x="2535" y="4417"/>
                      </a:lnTo>
                      <a:lnTo>
                        <a:pt x="2508" y="4417"/>
                      </a:lnTo>
                      <a:lnTo>
                        <a:pt x="2480" y="4417"/>
                      </a:lnTo>
                      <a:lnTo>
                        <a:pt x="2452" y="4417"/>
                      </a:lnTo>
                      <a:lnTo>
                        <a:pt x="2425" y="4417"/>
                      </a:lnTo>
                      <a:lnTo>
                        <a:pt x="2397" y="4417"/>
                      </a:lnTo>
                      <a:lnTo>
                        <a:pt x="2355" y="4417"/>
                      </a:lnTo>
                      <a:lnTo>
                        <a:pt x="2328" y="4417"/>
                      </a:lnTo>
                      <a:lnTo>
                        <a:pt x="2300" y="4417"/>
                      </a:lnTo>
                      <a:lnTo>
                        <a:pt x="2272" y="4417"/>
                      </a:lnTo>
                      <a:lnTo>
                        <a:pt x="2245" y="4417"/>
                      </a:lnTo>
                      <a:lnTo>
                        <a:pt x="2217" y="4417"/>
                      </a:lnTo>
                      <a:lnTo>
                        <a:pt x="2176" y="4417"/>
                      </a:lnTo>
                      <a:lnTo>
                        <a:pt x="2148" y="4417"/>
                      </a:lnTo>
                      <a:lnTo>
                        <a:pt x="2120" y="4417"/>
                      </a:lnTo>
                      <a:lnTo>
                        <a:pt x="2093" y="4417"/>
                      </a:lnTo>
                      <a:lnTo>
                        <a:pt x="2065" y="4417"/>
                      </a:lnTo>
                      <a:lnTo>
                        <a:pt x="2037" y="4417"/>
                      </a:lnTo>
                      <a:lnTo>
                        <a:pt x="1996" y="4417"/>
                      </a:lnTo>
                      <a:lnTo>
                        <a:pt x="1968" y="4417"/>
                      </a:lnTo>
                      <a:lnTo>
                        <a:pt x="1940" y="4417"/>
                      </a:lnTo>
                      <a:lnTo>
                        <a:pt x="1913" y="4417"/>
                      </a:lnTo>
                      <a:lnTo>
                        <a:pt x="1885" y="4417"/>
                      </a:lnTo>
                      <a:lnTo>
                        <a:pt x="1844" y="4417"/>
                      </a:lnTo>
                      <a:lnTo>
                        <a:pt x="1815" y="4417"/>
                      </a:lnTo>
                      <a:lnTo>
                        <a:pt x="1787" y="441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5000760" y="1774800"/>
                  <a:ext cx="4054320" cy="2338560"/>
                  <a:chOff x="5000760" y="1774800"/>
                  <a:chExt cx="4054320" cy="2338560"/>
                </a:xfrm>
              </p:grpSpPr>
              <p:sp>
                <p:nvSpPr>
                  <p:cNvPr id="917" name=""/>
                  <p:cNvSpPr/>
                  <p:nvPr/>
                </p:nvSpPr>
                <p:spPr>
                  <a:xfrm>
                    <a:off x="5000760" y="1774800"/>
                    <a:ext cx="4054320" cy="2338560"/>
                  </a:xfrm>
                  <a:custGeom>
                    <a:avLst/>
                    <a:gdLst/>
                    <a:ahLst/>
                    <a:rect l="l" t="t" r="r" b="b"/>
                    <a:pathLst>
                      <a:path w="7662" h="4417">
                        <a:moveTo>
                          <a:pt x="1787" y="4417"/>
                        </a:moveTo>
                        <a:lnTo>
                          <a:pt x="1759" y="4417"/>
                        </a:lnTo>
                        <a:lnTo>
                          <a:pt x="1732" y="4402"/>
                        </a:lnTo>
                        <a:lnTo>
                          <a:pt x="1704" y="4402"/>
                        </a:lnTo>
                        <a:lnTo>
                          <a:pt x="1676" y="4385"/>
                        </a:lnTo>
                        <a:lnTo>
                          <a:pt x="1635" y="4370"/>
                        </a:lnTo>
                        <a:lnTo>
                          <a:pt x="1607" y="4370"/>
                        </a:lnTo>
                        <a:lnTo>
                          <a:pt x="1580" y="4355"/>
                        </a:lnTo>
                        <a:lnTo>
                          <a:pt x="1552" y="4338"/>
                        </a:lnTo>
                        <a:lnTo>
                          <a:pt x="1524" y="4323"/>
                        </a:lnTo>
                        <a:lnTo>
                          <a:pt x="1497" y="4306"/>
                        </a:lnTo>
                        <a:lnTo>
                          <a:pt x="1469" y="4306"/>
                        </a:lnTo>
                        <a:lnTo>
                          <a:pt x="1441" y="4291"/>
                        </a:lnTo>
                        <a:lnTo>
                          <a:pt x="1414" y="4276"/>
                        </a:lnTo>
                        <a:lnTo>
                          <a:pt x="1386" y="4259"/>
                        </a:lnTo>
                        <a:lnTo>
                          <a:pt x="1358" y="4244"/>
                        </a:lnTo>
                        <a:lnTo>
                          <a:pt x="1331" y="4227"/>
                        </a:lnTo>
                        <a:lnTo>
                          <a:pt x="1289" y="4212"/>
                        </a:lnTo>
                        <a:lnTo>
                          <a:pt x="1261" y="4197"/>
                        </a:lnTo>
                        <a:lnTo>
                          <a:pt x="1234" y="4180"/>
                        </a:lnTo>
                        <a:lnTo>
                          <a:pt x="1206" y="4165"/>
                        </a:lnTo>
                        <a:lnTo>
                          <a:pt x="1178" y="4148"/>
                        </a:lnTo>
                        <a:lnTo>
                          <a:pt x="1151" y="4133"/>
                        </a:lnTo>
                        <a:lnTo>
                          <a:pt x="1137" y="4118"/>
                        </a:lnTo>
                        <a:lnTo>
                          <a:pt x="1109" y="4101"/>
                        </a:lnTo>
                        <a:lnTo>
                          <a:pt x="1082" y="4086"/>
                        </a:lnTo>
                        <a:lnTo>
                          <a:pt x="1054" y="4070"/>
                        </a:lnTo>
                        <a:lnTo>
                          <a:pt x="1025" y="4054"/>
                        </a:lnTo>
                        <a:lnTo>
                          <a:pt x="997" y="4039"/>
                        </a:lnTo>
                        <a:lnTo>
                          <a:pt x="970" y="4007"/>
                        </a:lnTo>
                        <a:lnTo>
                          <a:pt x="942" y="3991"/>
                        </a:lnTo>
                        <a:lnTo>
                          <a:pt x="928" y="3975"/>
                        </a:lnTo>
                        <a:lnTo>
                          <a:pt x="900" y="3960"/>
                        </a:lnTo>
                        <a:lnTo>
                          <a:pt x="873" y="3944"/>
                        </a:lnTo>
                        <a:lnTo>
                          <a:pt x="845" y="3912"/>
                        </a:lnTo>
                        <a:lnTo>
                          <a:pt x="817" y="3897"/>
                        </a:lnTo>
                        <a:lnTo>
                          <a:pt x="804" y="3881"/>
                        </a:lnTo>
                        <a:lnTo>
                          <a:pt x="776" y="3850"/>
                        </a:lnTo>
                        <a:lnTo>
                          <a:pt x="748" y="3833"/>
                        </a:lnTo>
                        <a:lnTo>
                          <a:pt x="721" y="3818"/>
                        </a:lnTo>
                        <a:lnTo>
                          <a:pt x="707" y="3786"/>
                        </a:lnTo>
                        <a:lnTo>
                          <a:pt x="679" y="3771"/>
                        </a:lnTo>
                        <a:lnTo>
                          <a:pt x="651" y="3739"/>
                        </a:lnTo>
                        <a:lnTo>
                          <a:pt x="624" y="3724"/>
                        </a:lnTo>
                        <a:lnTo>
                          <a:pt x="610" y="3707"/>
                        </a:lnTo>
                        <a:lnTo>
                          <a:pt x="582" y="3675"/>
                        </a:lnTo>
                        <a:lnTo>
                          <a:pt x="555" y="3660"/>
                        </a:lnTo>
                        <a:lnTo>
                          <a:pt x="541" y="3628"/>
                        </a:lnTo>
                        <a:lnTo>
                          <a:pt x="513" y="3613"/>
                        </a:lnTo>
                        <a:lnTo>
                          <a:pt x="499" y="3581"/>
                        </a:lnTo>
                        <a:lnTo>
                          <a:pt x="472" y="3566"/>
                        </a:lnTo>
                        <a:lnTo>
                          <a:pt x="444" y="3534"/>
                        </a:lnTo>
                        <a:lnTo>
                          <a:pt x="430" y="3502"/>
                        </a:lnTo>
                        <a:lnTo>
                          <a:pt x="402" y="3487"/>
                        </a:lnTo>
                        <a:lnTo>
                          <a:pt x="389" y="3455"/>
                        </a:lnTo>
                        <a:lnTo>
                          <a:pt x="361" y="3423"/>
                        </a:lnTo>
                        <a:lnTo>
                          <a:pt x="347" y="3408"/>
                        </a:lnTo>
                        <a:lnTo>
                          <a:pt x="333" y="3376"/>
                        </a:lnTo>
                        <a:lnTo>
                          <a:pt x="306" y="3345"/>
                        </a:lnTo>
                        <a:lnTo>
                          <a:pt x="292" y="3313"/>
                        </a:lnTo>
                        <a:lnTo>
                          <a:pt x="278" y="3297"/>
                        </a:lnTo>
                        <a:lnTo>
                          <a:pt x="250" y="3266"/>
                        </a:lnTo>
                        <a:lnTo>
                          <a:pt x="235" y="3234"/>
                        </a:lnTo>
                        <a:lnTo>
                          <a:pt x="221" y="3202"/>
                        </a:lnTo>
                        <a:lnTo>
                          <a:pt x="207" y="3172"/>
                        </a:lnTo>
                        <a:lnTo>
                          <a:pt x="194" y="3140"/>
                        </a:lnTo>
                        <a:lnTo>
                          <a:pt x="166" y="3108"/>
                        </a:lnTo>
                        <a:lnTo>
                          <a:pt x="152" y="3076"/>
                        </a:lnTo>
                        <a:lnTo>
                          <a:pt x="138" y="3044"/>
                        </a:lnTo>
                        <a:lnTo>
                          <a:pt x="124" y="3014"/>
                        </a:lnTo>
                        <a:lnTo>
                          <a:pt x="124" y="2982"/>
                        </a:lnTo>
                        <a:lnTo>
                          <a:pt x="111" y="2950"/>
                        </a:lnTo>
                        <a:lnTo>
                          <a:pt x="97" y="2918"/>
                        </a:lnTo>
                        <a:lnTo>
                          <a:pt x="83" y="2887"/>
                        </a:lnTo>
                        <a:lnTo>
                          <a:pt x="83" y="2856"/>
                        </a:lnTo>
                        <a:lnTo>
                          <a:pt x="69" y="2824"/>
                        </a:lnTo>
                        <a:lnTo>
                          <a:pt x="55" y="2777"/>
                        </a:lnTo>
                        <a:lnTo>
                          <a:pt x="55" y="2745"/>
                        </a:lnTo>
                        <a:lnTo>
                          <a:pt x="41" y="2714"/>
                        </a:lnTo>
                        <a:lnTo>
                          <a:pt x="28" y="2667"/>
                        </a:lnTo>
                        <a:lnTo>
                          <a:pt x="28" y="2635"/>
                        </a:lnTo>
                        <a:lnTo>
                          <a:pt x="14" y="2588"/>
                        </a:lnTo>
                        <a:lnTo>
                          <a:pt x="14" y="2556"/>
                        </a:lnTo>
                        <a:lnTo>
                          <a:pt x="0" y="2509"/>
                        </a:lnTo>
                        <a:lnTo>
                          <a:pt x="0" y="2477"/>
                        </a:lnTo>
                        <a:lnTo>
                          <a:pt x="0" y="2445"/>
                        </a:lnTo>
                        <a:lnTo>
                          <a:pt x="0" y="2398"/>
                        </a:lnTo>
                        <a:lnTo>
                          <a:pt x="0" y="2366"/>
                        </a:lnTo>
                        <a:lnTo>
                          <a:pt x="0" y="2334"/>
                        </a:lnTo>
                        <a:lnTo>
                          <a:pt x="0" y="2304"/>
                        </a:lnTo>
                        <a:lnTo>
                          <a:pt x="0" y="2256"/>
                        </a:lnTo>
                        <a:lnTo>
                          <a:pt x="0" y="2225"/>
                        </a:lnTo>
                        <a:lnTo>
                          <a:pt x="0" y="2193"/>
                        </a:lnTo>
                        <a:lnTo>
                          <a:pt x="0" y="2145"/>
                        </a:lnTo>
                        <a:lnTo>
                          <a:pt x="0" y="2114"/>
                        </a:lnTo>
                        <a:lnTo>
                          <a:pt x="0" y="2066"/>
                        </a:lnTo>
                        <a:lnTo>
                          <a:pt x="0" y="2036"/>
                        </a:lnTo>
                        <a:lnTo>
                          <a:pt x="0" y="1987"/>
                        </a:lnTo>
                        <a:lnTo>
                          <a:pt x="14" y="1940"/>
                        </a:lnTo>
                        <a:lnTo>
                          <a:pt x="14" y="1893"/>
                        </a:lnTo>
                        <a:lnTo>
                          <a:pt x="28" y="1846"/>
                        </a:lnTo>
                        <a:lnTo>
                          <a:pt x="28" y="1799"/>
                        </a:lnTo>
                        <a:lnTo>
                          <a:pt x="41" y="1767"/>
                        </a:lnTo>
                        <a:lnTo>
                          <a:pt x="41" y="1735"/>
                        </a:lnTo>
                        <a:lnTo>
                          <a:pt x="55" y="1703"/>
                        </a:lnTo>
                        <a:lnTo>
                          <a:pt x="55" y="1672"/>
                        </a:lnTo>
                        <a:lnTo>
                          <a:pt x="69" y="1641"/>
                        </a:lnTo>
                        <a:lnTo>
                          <a:pt x="69" y="1609"/>
                        </a:lnTo>
                        <a:lnTo>
                          <a:pt x="83" y="1578"/>
                        </a:lnTo>
                        <a:lnTo>
                          <a:pt x="97" y="1546"/>
                        </a:lnTo>
                        <a:lnTo>
                          <a:pt x="111" y="1514"/>
                        </a:lnTo>
                        <a:lnTo>
                          <a:pt x="111" y="1483"/>
                        </a:lnTo>
                        <a:lnTo>
                          <a:pt x="124" y="1452"/>
                        </a:lnTo>
                        <a:lnTo>
                          <a:pt x="138" y="1420"/>
                        </a:lnTo>
                        <a:lnTo>
                          <a:pt x="152" y="1388"/>
                        </a:lnTo>
                        <a:lnTo>
                          <a:pt x="166" y="1356"/>
                        </a:lnTo>
                        <a:lnTo>
                          <a:pt x="180" y="1326"/>
                        </a:lnTo>
                        <a:lnTo>
                          <a:pt x="194" y="1294"/>
                        </a:lnTo>
                        <a:lnTo>
                          <a:pt x="207" y="1262"/>
                        </a:lnTo>
                        <a:lnTo>
                          <a:pt x="221" y="1247"/>
                        </a:lnTo>
                        <a:lnTo>
                          <a:pt x="235" y="1198"/>
                        </a:lnTo>
                        <a:lnTo>
                          <a:pt x="264" y="1168"/>
                        </a:lnTo>
                        <a:lnTo>
                          <a:pt x="278" y="1136"/>
                        </a:lnTo>
                        <a:lnTo>
                          <a:pt x="292" y="1120"/>
                        </a:lnTo>
                        <a:lnTo>
                          <a:pt x="306" y="1089"/>
                        </a:lnTo>
                        <a:lnTo>
                          <a:pt x="333" y="1057"/>
                        </a:lnTo>
                        <a:lnTo>
                          <a:pt x="347" y="1041"/>
                        </a:lnTo>
                        <a:lnTo>
                          <a:pt x="361" y="1010"/>
                        </a:lnTo>
                        <a:lnTo>
                          <a:pt x="389" y="978"/>
                        </a:lnTo>
                        <a:lnTo>
                          <a:pt x="402" y="962"/>
                        </a:lnTo>
                        <a:lnTo>
                          <a:pt x="430" y="931"/>
                        </a:lnTo>
                        <a:lnTo>
                          <a:pt x="444" y="915"/>
                        </a:lnTo>
                        <a:lnTo>
                          <a:pt x="472" y="883"/>
                        </a:lnTo>
                        <a:lnTo>
                          <a:pt x="485" y="852"/>
                        </a:lnTo>
                        <a:lnTo>
                          <a:pt x="513" y="836"/>
                        </a:lnTo>
                        <a:lnTo>
                          <a:pt x="527" y="804"/>
                        </a:lnTo>
                        <a:lnTo>
                          <a:pt x="555" y="789"/>
                        </a:lnTo>
                        <a:lnTo>
                          <a:pt x="568" y="757"/>
                        </a:lnTo>
                        <a:lnTo>
                          <a:pt x="596" y="742"/>
                        </a:lnTo>
                        <a:lnTo>
                          <a:pt x="624" y="725"/>
                        </a:lnTo>
                        <a:lnTo>
                          <a:pt x="638" y="695"/>
                        </a:lnTo>
                        <a:lnTo>
                          <a:pt x="665" y="678"/>
                        </a:lnTo>
                        <a:lnTo>
                          <a:pt x="679" y="646"/>
                        </a:lnTo>
                        <a:lnTo>
                          <a:pt x="707" y="631"/>
                        </a:lnTo>
                        <a:lnTo>
                          <a:pt x="734" y="616"/>
                        </a:lnTo>
                        <a:lnTo>
                          <a:pt x="762" y="584"/>
                        </a:lnTo>
                        <a:lnTo>
                          <a:pt x="776" y="567"/>
                        </a:lnTo>
                        <a:lnTo>
                          <a:pt x="804" y="552"/>
                        </a:lnTo>
                        <a:lnTo>
                          <a:pt x="831" y="537"/>
                        </a:lnTo>
                        <a:lnTo>
                          <a:pt x="859" y="505"/>
                        </a:lnTo>
                        <a:lnTo>
                          <a:pt x="873" y="489"/>
                        </a:lnTo>
                        <a:lnTo>
                          <a:pt x="900" y="473"/>
                        </a:lnTo>
                        <a:lnTo>
                          <a:pt x="928" y="458"/>
                        </a:lnTo>
                        <a:lnTo>
                          <a:pt x="956" y="426"/>
                        </a:lnTo>
                        <a:lnTo>
                          <a:pt x="970" y="410"/>
                        </a:lnTo>
                        <a:lnTo>
                          <a:pt x="997" y="395"/>
                        </a:lnTo>
                        <a:lnTo>
                          <a:pt x="1025" y="379"/>
                        </a:lnTo>
                        <a:lnTo>
                          <a:pt x="1054" y="363"/>
                        </a:lnTo>
                        <a:lnTo>
                          <a:pt x="1082" y="347"/>
                        </a:lnTo>
                        <a:lnTo>
                          <a:pt x="1109" y="331"/>
                        </a:lnTo>
                        <a:lnTo>
                          <a:pt x="1137" y="300"/>
                        </a:lnTo>
                        <a:lnTo>
                          <a:pt x="1165" y="284"/>
                        </a:lnTo>
                        <a:lnTo>
                          <a:pt x="1192" y="269"/>
                        </a:lnTo>
                        <a:lnTo>
                          <a:pt x="1220" y="252"/>
                        </a:lnTo>
                        <a:lnTo>
                          <a:pt x="1248" y="237"/>
                        </a:lnTo>
                        <a:lnTo>
                          <a:pt x="1275" y="222"/>
                        </a:lnTo>
                        <a:lnTo>
                          <a:pt x="1303" y="205"/>
                        </a:lnTo>
                        <a:lnTo>
                          <a:pt x="1344" y="190"/>
                        </a:lnTo>
                        <a:lnTo>
                          <a:pt x="1372" y="173"/>
                        </a:lnTo>
                        <a:lnTo>
                          <a:pt x="1414" y="158"/>
                        </a:lnTo>
                        <a:lnTo>
                          <a:pt x="1441" y="143"/>
                        </a:lnTo>
                        <a:lnTo>
                          <a:pt x="1469" y="126"/>
                        </a:lnTo>
                        <a:lnTo>
                          <a:pt x="1497" y="126"/>
                        </a:lnTo>
                        <a:lnTo>
                          <a:pt x="1524" y="111"/>
                        </a:lnTo>
                        <a:lnTo>
                          <a:pt x="1566" y="94"/>
                        </a:lnTo>
                        <a:lnTo>
                          <a:pt x="1593" y="79"/>
                        </a:lnTo>
                        <a:lnTo>
                          <a:pt x="1635" y="64"/>
                        </a:lnTo>
                        <a:lnTo>
                          <a:pt x="1676" y="47"/>
                        </a:lnTo>
                        <a:lnTo>
                          <a:pt x="1704" y="32"/>
                        </a:lnTo>
                        <a:lnTo>
                          <a:pt x="1745" y="15"/>
                        </a:lnTo>
                        <a:lnTo>
                          <a:pt x="1773" y="15"/>
                        </a:lnTo>
                        <a:lnTo>
                          <a:pt x="1787" y="0"/>
                        </a:lnTo>
                        <a:lnTo>
                          <a:pt x="1815" y="0"/>
                        </a:lnTo>
                        <a:lnTo>
                          <a:pt x="1844" y="0"/>
                        </a:lnTo>
                        <a:lnTo>
                          <a:pt x="1885" y="0"/>
                        </a:lnTo>
                        <a:lnTo>
                          <a:pt x="1913" y="0"/>
                        </a:lnTo>
                        <a:lnTo>
                          <a:pt x="1940" y="0"/>
                        </a:lnTo>
                        <a:lnTo>
                          <a:pt x="1968" y="0"/>
                        </a:lnTo>
                        <a:lnTo>
                          <a:pt x="1996" y="0"/>
                        </a:lnTo>
                        <a:lnTo>
                          <a:pt x="2037" y="0"/>
                        </a:lnTo>
                        <a:lnTo>
                          <a:pt x="2065" y="0"/>
                        </a:lnTo>
                        <a:lnTo>
                          <a:pt x="2093" y="0"/>
                        </a:lnTo>
                        <a:lnTo>
                          <a:pt x="2120" y="0"/>
                        </a:lnTo>
                        <a:lnTo>
                          <a:pt x="2148" y="0"/>
                        </a:lnTo>
                        <a:lnTo>
                          <a:pt x="2176" y="0"/>
                        </a:lnTo>
                        <a:lnTo>
                          <a:pt x="2217" y="0"/>
                        </a:lnTo>
                        <a:lnTo>
                          <a:pt x="2245" y="0"/>
                        </a:lnTo>
                        <a:lnTo>
                          <a:pt x="2272" y="0"/>
                        </a:lnTo>
                        <a:lnTo>
                          <a:pt x="2300" y="0"/>
                        </a:lnTo>
                        <a:lnTo>
                          <a:pt x="2328" y="0"/>
                        </a:lnTo>
                        <a:lnTo>
                          <a:pt x="2355" y="0"/>
                        </a:lnTo>
                        <a:lnTo>
                          <a:pt x="2397" y="0"/>
                        </a:lnTo>
                        <a:lnTo>
                          <a:pt x="2425" y="0"/>
                        </a:lnTo>
                        <a:lnTo>
                          <a:pt x="2452" y="0"/>
                        </a:lnTo>
                        <a:lnTo>
                          <a:pt x="2480" y="0"/>
                        </a:lnTo>
                        <a:lnTo>
                          <a:pt x="2508" y="0"/>
                        </a:lnTo>
                        <a:lnTo>
                          <a:pt x="2535" y="0"/>
                        </a:lnTo>
                        <a:lnTo>
                          <a:pt x="2577" y="0"/>
                        </a:lnTo>
                        <a:lnTo>
                          <a:pt x="2604" y="0"/>
                        </a:lnTo>
                        <a:lnTo>
                          <a:pt x="2632" y="0"/>
                        </a:lnTo>
                        <a:lnTo>
                          <a:pt x="2661" y="0"/>
                        </a:lnTo>
                        <a:lnTo>
                          <a:pt x="2689" y="0"/>
                        </a:lnTo>
                        <a:lnTo>
                          <a:pt x="2716" y="0"/>
                        </a:lnTo>
                        <a:lnTo>
                          <a:pt x="2758" y="0"/>
                        </a:lnTo>
                        <a:lnTo>
                          <a:pt x="2786" y="0"/>
                        </a:lnTo>
                        <a:lnTo>
                          <a:pt x="2813" y="0"/>
                        </a:lnTo>
                        <a:lnTo>
                          <a:pt x="2841" y="0"/>
                        </a:lnTo>
                        <a:lnTo>
                          <a:pt x="2869" y="0"/>
                        </a:lnTo>
                        <a:lnTo>
                          <a:pt x="2896" y="0"/>
                        </a:lnTo>
                        <a:lnTo>
                          <a:pt x="2938" y="0"/>
                        </a:lnTo>
                        <a:lnTo>
                          <a:pt x="2965" y="0"/>
                        </a:lnTo>
                        <a:lnTo>
                          <a:pt x="2993" y="0"/>
                        </a:lnTo>
                        <a:lnTo>
                          <a:pt x="3021" y="0"/>
                        </a:lnTo>
                        <a:lnTo>
                          <a:pt x="3048" y="0"/>
                        </a:lnTo>
                        <a:lnTo>
                          <a:pt x="3090" y="0"/>
                        </a:lnTo>
                        <a:lnTo>
                          <a:pt x="3118" y="0"/>
                        </a:lnTo>
                        <a:lnTo>
                          <a:pt x="3145" y="0"/>
                        </a:lnTo>
                        <a:lnTo>
                          <a:pt x="3173" y="0"/>
                        </a:lnTo>
                        <a:lnTo>
                          <a:pt x="3201" y="0"/>
                        </a:lnTo>
                        <a:lnTo>
                          <a:pt x="3228" y="0"/>
                        </a:lnTo>
                        <a:lnTo>
                          <a:pt x="3270" y="0"/>
                        </a:lnTo>
                        <a:lnTo>
                          <a:pt x="3297" y="0"/>
                        </a:lnTo>
                        <a:lnTo>
                          <a:pt x="3325" y="0"/>
                        </a:lnTo>
                        <a:lnTo>
                          <a:pt x="3353" y="0"/>
                        </a:lnTo>
                        <a:lnTo>
                          <a:pt x="3380" y="0"/>
                        </a:lnTo>
                        <a:lnTo>
                          <a:pt x="3408" y="0"/>
                        </a:lnTo>
                        <a:lnTo>
                          <a:pt x="3451" y="0"/>
                        </a:lnTo>
                        <a:lnTo>
                          <a:pt x="3479" y="0"/>
                        </a:lnTo>
                        <a:lnTo>
                          <a:pt x="3506" y="0"/>
                        </a:lnTo>
                        <a:lnTo>
                          <a:pt x="3534" y="0"/>
                        </a:lnTo>
                        <a:lnTo>
                          <a:pt x="3562" y="0"/>
                        </a:lnTo>
                        <a:lnTo>
                          <a:pt x="3589" y="0"/>
                        </a:lnTo>
                        <a:lnTo>
                          <a:pt x="3631" y="0"/>
                        </a:lnTo>
                        <a:lnTo>
                          <a:pt x="3658" y="0"/>
                        </a:lnTo>
                        <a:lnTo>
                          <a:pt x="3686" y="0"/>
                        </a:lnTo>
                        <a:lnTo>
                          <a:pt x="3714" y="0"/>
                        </a:lnTo>
                        <a:lnTo>
                          <a:pt x="3741" y="0"/>
                        </a:lnTo>
                        <a:lnTo>
                          <a:pt x="3769" y="0"/>
                        </a:lnTo>
                        <a:lnTo>
                          <a:pt x="3810" y="0"/>
                        </a:lnTo>
                        <a:lnTo>
                          <a:pt x="3838" y="0"/>
                        </a:lnTo>
                        <a:lnTo>
                          <a:pt x="3866" y="0"/>
                        </a:lnTo>
                        <a:lnTo>
                          <a:pt x="3893" y="0"/>
                        </a:lnTo>
                        <a:lnTo>
                          <a:pt x="3921" y="0"/>
                        </a:lnTo>
                        <a:lnTo>
                          <a:pt x="3963" y="0"/>
                        </a:lnTo>
                        <a:lnTo>
                          <a:pt x="4004" y="0"/>
                        </a:lnTo>
                        <a:lnTo>
                          <a:pt x="4032" y="0"/>
                        </a:lnTo>
                        <a:lnTo>
                          <a:pt x="4059" y="0"/>
                        </a:lnTo>
                        <a:lnTo>
                          <a:pt x="4087" y="0"/>
                        </a:lnTo>
                        <a:lnTo>
                          <a:pt x="4115" y="0"/>
                        </a:lnTo>
                        <a:lnTo>
                          <a:pt x="4156" y="0"/>
                        </a:lnTo>
                        <a:lnTo>
                          <a:pt x="4184" y="0"/>
                        </a:lnTo>
                        <a:lnTo>
                          <a:pt x="4212" y="0"/>
                        </a:lnTo>
                        <a:lnTo>
                          <a:pt x="4241" y="0"/>
                        </a:lnTo>
                        <a:lnTo>
                          <a:pt x="4268" y="0"/>
                        </a:lnTo>
                        <a:lnTo>
                          <a:pt x="4296" y="0"/>
                        </a:lnTo>
                        <a:lnTo>
                          <a:pt x="4337" y="0"/>
                        </a:lnTo>
                        <a:lnTo>
                          <a:pt x="4365" y="0"/>
                        </a:lnTo>
                        <a:lnTo>
                          <a:pt x="4393" y="0"/>
                        </a:lnTo>
                        <a:lnTo>
                          <a:pt x="4420" y="0"/>
                        </a:lnTo>
                        <a:lnTo>
                          <a:pt x="4448" y="0"/>
                        </a:lnTo>
                        <a:lnTo>
                          <a:pt x="4476" y="0"/>
                        </a:lnTo>
                        <a:lnTo>
                          <a:pt x="4517" y="0"/>
                        </a:lnTo>
                        <a:lnTo>
                          <a:pt x="4545" y="0"/>
                        </a:lnTo>
                        <a:lnTo>
                          <a:pt x="4573" y="0"/>
                        </a:lnTo>
                        <a:lnTo>
                          <a:pt x="4600" y="0"/>
                        </a:lnTo>
                        <a:lnTo>
                          <a:pt x="4628" y="0"/>
                        </a:lnTo>
                        <a:lnTo>
                          <a:pt x="4656" y="0"/>
                        </a:lnTo>
                        <a:lnTo>
                          <a:pt x="4697" y="0"/>
                        </a:lnTo>
                        <a:lnTo>
                          <a:pt x="4725" y="0"/>
                        </a:lnTo>
                        <a:lnTo>
                          <a:pt x="4752" y="0"/>
                        </a:lnTo>
                        <a:lnTo>
                          <a:pt x="4780" y="0"/>
                        </a:lnTo>
                        <a:lnTo>
                          <a:pt x="4808" y="0"/>
                        </a:lnTo>
                        <a:lnTo>
                          <a:pt x="4849" y="0"/>
                        </a:lnTo>
                        <a:lnTo>
                          <a:pt x="4877" y="0"/>
                        </a:lnTo>
                        <a:lnTo>
                          <a:pt x="4905" y="0"/>
                        </a:lnTo>
                        <a:lnTo>
                          <a:pt x="4932" y="0"/>
                        </a:lnTo>
                        <a:lnTo>
                          <a:pt x="4960" y="0"/>
                        </a:lnTo>
                        <a:lnTo>
                          <a:pt x="4988" y="0"/>
                        </a:lnTo>
                        <a:lnTo>
                          <a:pt x="5030" y="0"/>
                        </a:lnTo>
                        <a:lnTo>
                          <a:pt x="5058" y="0"/>
                        </a:lnTo>
                        <a:lnTo>
                          <a:pt x="5086" y="0"/>
                        </a:lnTo>
                        <a:lnTo>
                          <a:pt x="5113" y="0"/>
                        </a:lnTo>
                        <a:lnTo>
                          <a:pt x="5141" y="0"/>
                        </a:lnTo>
                        <a:lnTo>
                          <a:pt x="5169" y="0"/>
                        </a:lnTo>
                        <a:lnTo>
                          <a:pt x="5210" y="0"/>
                        </a:lnTo>
                        <a:lnTo>
                          <a:pt x="5238" y="0"/>
                        </a:lnTo>
                        <a:lnTo>
                          <a:pt x="5266" y="0"/>
                        </a:lnTo>
                        <a:lnTo>
                          <a:pt x="5293" y="0"/>
                        </a:lnTo>
                        <a:lnTo>
                          <a:pt x="5321" y="0"/>
                        </a:lnTo>
                        <a:lnTo>
                          <a:pt x="5349" y="0"/>
                        </a:lnTo>
                        <a:lnTo>
                          <a:pt x="5390" y="0"/>
                        </a:lnTo>
                        <a:lnTo>
                          <a:pt x="5418" y="0"/>
                        </a:lnTo>
                        <a:lnTo>
                          <a:pt x="5445" y="0"/>
                        </a:lnTo>
                        <a:lnTo>
                          <a:pt x="5473" y="0"/>
                        </a:lnTo>
                        <a:lnTo>
                          <a:pt x="5501" y="0"/>
                        </a:lnTo>
                        <a:lnTo>
                          <a:pt x="5528" y="0"/>
                        </a:lnTo>
                        <a:lnTo>
                          <a:pt x="5570" y="0"/>
                        </a:lnTo>
                        <a:lnTo>
                          <a:pt x="5597" y="0"/>
                        </a:lnTo>
                        <a:lnTo>
                          <a:pt x="5625" y="0"/>
                        </a:lnTo>
                        <a:lnTo>
                          <a:pt x="5653" y="0"/>
                        </a:lnTo>
                        <a:lnTo>
                          <a:pt x="5680" y="0"/>
                        </a:lnTo>
                        <a:lnTo>
                          <a:pt x="5722" y="0"/>
                        </a:lnTo>
                        <a:lnTo>
                          <a:pt x="5750" y="0"/>
                        </a:lnTo>
                        <a:lnTo>
                          <a:pt x="5777" y="0"/>
                        </a:lnTo>
                        <a:lnTo>
                          <a:pt x="5805" y="0"/>
                        </a:lnTo>
                        <a:lnTo>
                          <a:pt x="5834" y="0"/>
                        </a:lnTo>
                        <a:lnTo>
                          <a:pt x="5862" y="0"/>
                        </a:lnTo>
                        <a:lnTo>
                          <a:pt x="5875" y="15"/>
                        </a:lnTo>
                        <a:lnTo>
                          <a:pt x="5917" y="15"/>
                        </a:lnTo>
                        <a:lnTo>
                          <a:pt x="5945" y="32"/>
                        </a:lnTo>
                        <a:lnTo>
                          <a:pt x="5986" y="47"/>
                        </a:lnTo>
                        <a:lnTo>
                          <a:pt x="6028" y="64"/>
                        </a:lnTo>
                        <a:lnTo>
                          <a:pt x="6055" y="79"/>
                        </a:lnTo>
                        <a:lnTo>
                          <a:pt x="6097" y="94"/>
                        </a:lnTo>
                        <a:lnTo>
                          <a:pt x="6124" y="111"/>
                        </a:lnTo>
                        <a:lnTo>
                          <a:pt x="6152" y="126"/>
                        </a:lnTo>
                        <a:lnTo>
                          <a:pt x="6180" y="126"/>
                        </a:lnTo>
                        <a:lnTo>
                          <a:pt x="6221" y="143"/>
                        </a:lnTo>
                        <a:lnTo>
                          <a:pt x="6249" y="158"/>
                        </a:lnTo>
                        <a:lnTo>
                          <a:pt x="6277" y="173"/>
                        </a:lnTo>
                        <a:lnTo>
                          <a:pt x="6304" y="190"/>
                        </a:lnTo>
                        <a:lnTo>
                          <a:pt x="6332" y="205"/>
                        </a:lnTo>
                        <a:lnTo>
                          <a:pt x="6360" y="222"/>
                        </a:lnTo>
                        <a:lnTo>
                          <a:pt x="6401" y="237"/>
                        </a:lnTo>
                        <a:lnTo>
                          <a:pt x="6429" y="252"/>
                        </a:lnTo>
                        <a:lnTo>
                          <a:pt x="6456" y="269"/>
                        </a:lnTo>
                        <a:lnTo>
                          <a:pt x="6484" y="284"/>
                        </a:lnTo>
                        <a:lnTo>
                          <a:pt x="6512" y="300"/>
                        </a:lnTo>
                        <a:lnTo>
                          <a:pt x="6539" y="331"/>
                        </a:lnTo>
                        <a:lnTo>
                          <a:pt x="6567" y="347"/>
                        </a:lnTo>
                        <a:lnTo>
                          <a:pt x="6595" y="363"/>
                        </a:lnTo>
                        <a:lnTo>
                          <a:pt x="6624" y="379"/>
                        </a:lnTo>
                        <a:lnTo>
                          <a:pt x="6651" y="395"/>
                        </a:lnTo>
                        <a:lnTo>
                          <a:pt x="6679" y="410"/>
                        </a:lnTo>
                        <a:lnTo>
                          <a:pt x="6707" y="426"/>
                        </a:lnTo>
                        <a:lnTo>
                          <a:pt x="6734" y="458"/>
                        </a:lnTo>
                        <a:lnTo>
                          <a:pt x="6748" y="473"/>
                        </a:lnTo>
                        <a:lnTo>
                          <a:pt x="6776" y="489"/>
                        </a:lnTo>
                        <a:lnTo>
                          <a:pt x="6804" y="505"/>
                        </a:lnTo>
                        <a:lnTo>
                          <a:pt x="6831" y="537"/>
                        </a:lnTo>
                        <a:lnTo>
                          <a:pt x="6845" y="552"/>
                        </a:lnTo>
                        <a:lnTo>
                          <a:pt x="6873" y="567"/>
                        </a:lnTo>
                        <a:lnTo>
                          <a:pt x="6900" y="584"/>
                        </a:lnTo>
                        <a:lnTo>
                          <a:pt x="6928" y="616"/>
                        </a:lnTo>
                        <a:lnTo>
                          <a:pt x="6942" y="631"/>
                        </a:lnTo>
                        <a:lnTo>
                          <a:pt x="6970" y="646"/>
                        </a:lnTo>
                        <a:lnTo>
                          <a:pt x="6997" y="678"/>
                        </a:lnTo>
                        <a:lnTo>
                          <a:pt x="7011" y="695"/>
                        </a:lnTo>
                        <a:lnTo>
                          <a:pt x="7039" y="725"/>
                        </a:lnTo>
                        <a:lnTo>
                          <a:pt x="7066" y="742"/>
                        </a:lnTo>
                        <a:lnTo>
                          <a:pt x="7080" y="757"/>
                        </a:lnTo>
                        <a:lnTo>
                          <a:pt x="7108" y="789"/>
                        </a:lnTo>
                        <a:lnTo>
                          <a:pt x="7122" y="804"/>
                        </a:lnTo>
                        <a:lnTo>
                          <a:pt x="7149" y="836"/>
                        </a:lnTo>
                        <a:lnTo>
                          <a:pt x="7163" y="852"/>
                        </a:lnTo>
                        <a:lnTo>
                          <a:pt x="7191" y="883"/>
                        </a:lnTo>
                        <a:lnTo>
                          <a:pt x="7205" y="915"/>
                        </a:lnTo>
                        <a:lnTo>
                          <a:pt x="7232" y="931"/>
                        </a:lnTo>
                        <a:lnTo>
                          <a:pt x="7246" y="962"/>
                        </a:lnTo>
                        <a:lnTo>
                          <a:pt x="7274" y="978"/>
                        </a:lnTo>
                        <a:lnTo>
                          <a:pt x="7288" y="1010"/>
                        </a:lnTo>
                        <a:lnTo>
                          <a:pt x="7315" y="1041"/>
                        </a:lnTo>
                        <a:lnTo>
                          <a:pt x="7329" y="1057"/>
                        </a:lnTo>
                        <a:lnTo>
                          <a:pt x="7343" y="1089"/>
                        </a:lnTo>
                        <a:lnTo>
                          <a:pt x="7357" y="1120"/>
                        </a:lnTo>
                        <a:lnTo>
                          <a:pt x="7384" y="1136"/>
                        </a:lnTo>
                        <a:lnTo>
                          <a:pt x="7398" y="1168"/>
                        </a:lnTo>
                        <a:lnTo>
                          <a:pt x="7412" y="1198"/>
                        </a:lnTo>
                        <a:lnTo>
                          <a:pt x="7427" y="1247"/>
                        </a:lnTo>
                        <a:lnTo>
                          <a:pt x="7441" y="1262"/>
                        </a:lnTo>
                        <a:lnTo>
                          <a:pt x="7455" y="1294"/>
                        </a:lnTo>
                        <a:lnTo>
                          <a:pt x="7483" y="1326"/>
                        </a:lnTo>
                        <a:lnTo>
                          <a:pt x="7496" y="1356"/>
                        </a:lnTo>
                        <a:lnTo>
                          <a:pt x="7496" y="1388"/>
                        </a:lnTo>
                        <a:lnTo>
                          <a:pt x="7510" y="1420"/>
                        </a:lnTo>
                        <a:lnTo>
                          <a:pt x="7524" y="1452"/>
                        </a:lnTo>
                        <a:lnTo>
                          <a:pt x="7538" y="1483"/>
                        </a:lnTo>
                        <a:lnTo>
                          <a:pt x="7552" y="1514"/>
                        </a:lnTo>
                        <a:lnTo>
                          <a:pt x="7566" y="1546"/>
                        </a:lnTo>
                        <a:lnTo>
                          <a:pt x="7566" y="1578"/>
                        </a:lnTo>
                        <a:lnTo>
                          <a:pt x="7579" y="1609"/>
                        </a:lnTo>
                        <a:lnTo>
                          <a:pt x="7593" y="1641"/>
                        </a:lnTo>
                        <a:lnTo>
                          <a:pt x="7593" y="1672"/>
                        </a:lnTo>
                        <a:lnTo>
                          <a:pt x="7607" y="1703"/>
                        </a:lnTo>
                        <a:lnTo>
                          <a:pt x="7607" y="1735"/>
                        </a:lnTo>
                        <a:lnTo>
                          <a:pt x="7621" y="1767"/>
                        </a:lnTo>
                        <a:lnTo>
                          <a:pt x="7621" y="1799"/>
                        </a:lnTo>
                        <a:lnTo>
                          <a:pt x="7635" y="1846"/>
                        </a:lnTo>
                        <a:lnTo>
                          <a:pt x="7635" y="1893"/>
                        </a:lnTo>
                        <a:lnTo>
                          <a:pt x="7649" y="1940"/>
                        </a:lnTo>
                        <a:lnTo>
                          <a:pt x="7649" y="1987"/>
                        </a:lnTo>
                        <a:lnTo>
                          <a:pt x="7662" y="2036"/>
                        </a:lnTo>
                        <a:lnTo>
                          <a:pt x="7662" y="2066"/>
                        </a:lnTo>
                        <a:lnTo>
                          <a:pt x="7662" y="2114"/>
                        </a:lnTo>
                        <a:lnTo>
                          <a:pt x="7662" y="2145"/>
                        </a:lnTo>
                        <a:lnTo>
                          <a:pt x="7662" y="2193"/>
                        </a:lnTo>
                        <a:lnTo>
                          <a:pt x="7662" y="2225"/>
                        </a:lnTo>
                        <a:lnTo>
                          <a:pt x="7662" y="2256"/>
                        </a:lnTo>
                        <a:lnTo>
                          <a:pt x="7662" y="2304"/>
                        </a:lnTo>
                        <a:lnTo>
                          <a:pt x="7662" y="2334"/>
                        </a:lnTo>
                        <a:lnTo>
                          <a:pt x="7662" y="2366"/>
                        </a:lnTo>
                        <a:lnTo>
                          <a:pt x="7662" y="2398"/>
                        </a:lnTo>
                        <a:lnTo>
                          <a:pt x="7662" y="2445"/>
                        </a:lnTo>
                        <a:lnTo>
                          <a:pt x="7649" y="2477"/>
                        </a:lnTo>
                        <a:lnTo>
                          <a:pt x="7649" y="2509"/>
                        </a:lnTo>
                        <a:lnTo>
                          <a:pt x="7649" y="2556"/>
                        </a:lnTo>
                        <a:lnTo>
                          <a:pt x="7635" y="2588"/>
                        </a:lnTo>
                        <a:lnTo>
                          <a:pt x="7635" y="2635"/>
                        </a:lnTo>
                        <a:lnTo>
                          <a:pt x="7621" y="2667"/>
                        </a:lnTo>
                        <a:lnTo>
                          <a:pt x="7621" y="2714"/>
                        </a:lnTo>
                        <a:lnTo>
                          <a:pt x="7607" y="2745"/>
                        </a:lnTo>
                        <a:lnTo>
                          <a:pt x="7593" y="2777"/>
                        </a:lnTo>
                        <a:lnTo>
                          <a:pt x="7593" y="2824"/>
                        </a:lnTo>
                        <a:lnTo>
                          <a:pt x="7579" y="2856"/>
                        </a:lnTo>
                        <a:lnTo>
                          <a:pt x="7566" y="2887"/>
                        </a:lnTo>
                        <a:lnTo>
                          <a:pt x="7552" y="2918"/>
                        </a:lnTo>
                        <a:lnTo>
                          <a:pt x="7552" y="2950"/>
                        </a:lnTo>
                        <a:lnTo>
                          <a:pt x="7538" y="2982"/>
                        </a:lnTo>
                        <a:lnTo>
                          <a:pt x="7524" y="3014"/>
                        </a:lnTo>
                        <a:lnTo>
                          <a:pt x="7510" y="3044"/>
                        </a:lnTo>
                        <a:lnTo>
                          <a:pt x="7496" y="3076"/>
                        </a:lnTo>
                        <a:lnTo>
                          <a:pt x="7483" y="3108"/>
                        </a:lnTo>
                        <a:lnTo>
                          <a:pt x="7469" y="3140"/>
                        </a:lnTo>
                        <a:lnTo>
                          <a:pt x="7455" y="3172"/>
                        </a:lnTo>
                        <a:lnTo>
                          <a:pt x="7441" y="3202"/>
                        </a:lnTo>
                        <a:lnTo>
                          <a:pt x="7412" y="3234"/>
                        </a:lnTo>
                        <a:lnTo>
                          <a:pt x="7398" y="3266"/>
                        </a:lnTo>
                        <a:lnTo>
                          <a:pt x="7384" y="3297"/>
                        </a:lnTo>
                        <a:lnTo>
                          <a:pt x="7371" y="3313"/>
                        </a:lnTo>
                        <a:lnTo>
                          <a:pt x="7343" y="3345"/>
                        </a:lnTo>
                        <a:lnTo>
                          <a:pt x="7329" y="3376"/>
                        </a:lnTo>
                        <a:lnTo>
                          <a:pt x="7315" y="3408"/>
                        </a:lnTo>
                        <a:lnTo>
                          <a:pt x="7288" y="3423"/>
                        </a:lnTo>
                        <a:lnTo>
                          <a:pt x="7274" y="3455"/>
                        </a:lnTo>
                        <a:lnTo>
                          <a:pt x="7246" y="3487"/>
                        </a:lnTo>
                        <a:lnTo>
                          <a:pt x="7232" y="3502"/>
                        </a:lnTo>
                        <a:lnTo>
                          <a:pt x="7205" y="3534"/>
                        </a:lnTo>
                        <a:lnTo>
                          <a:pt x="7177" y="3566"/>
                        </a:lnTo>
                        <a:lnTo>
                          <a:pt x="7163" y="3581"/>
                        </a:lnTo>
                        <a:lnTo>
                          <a:pt x="7135" y="3613"/>
                        </a:lnTo>
                        <a:lnTo>
                          <a:pt x="7122" y="3628"/>
                        </a:lnTo>
                        <a:lnTo>
                          <a:pt x="7094" y="3660"/>
                        </a:lnTo>
                        <a:lnTo>
                          <a:pt x="7066" y="3675"/>
                        </a:lnTo>
                        <a:lnTo>
                          <a:pt x="7053" y="3707"/>
                        </a:lnTo>
                        <a:lnTo>
                          <a:pt x="7025" y="3724"/>
                        </a:lnTo>
                        <a:lnTo>
                          <a:pt x="6997" y="3739"/>
                        </a:lnTo>
                        <a:lnTo>
                          <a:pt x="6983" y="3771"/>
                        </a:lnTo>
                        <a:lnTo>
                          <a:pt x="6956" y="3786"/>
                        </a:lnTo>
                        <a:lnTo>
                          <a:pt x="6928" y="3818"/>
                        </a:lnTo>
                        <a:lnTo>
                          <a:pt x="6900" y="3833"/>
                        </a:lnTo>
                        <a:lnTo>
                          <a:pt x="6887" y="3850"/>
                        </a:lnTo>
                        <a:lnTo>
                          <a:pt x="6859" y="3881"/>
                        </a:lnTo>
                        <a:lnTo>
                          <a:pt x="6831" y="3897"/>
                        </a:lnTo>
                        <a:lnTo>
                          <a:pt x="6804" y="3912"/>
                        </a:lnTo>
                        <a:lnTo>
                          <a:pt x="6776" y="3944"/>
                        </a:lnTo>
                        <a:lnTo>
                          <a:pt x="6762" y="3960"/>
                        </a:lnTo>
                        <a:lnTo>
                          <a:pt x="6734" y="3975"/>
                        </a:lnTo>
                        <a:lnTo>
                          <a:pt x="6707" y="3991"/>
                        </a:lnTo>
                        <a:lnTo>
                          <a:pt x="6679" y="4007"/>
                        </a:lnTo>
                        <a:lnTo>
                          <a:pt x="6651" y="4039"/>
                        </a:lnTo>
                        <a:lnTo>
                          <a:pt x="6609" y="4054"/>
                        </a:lnTo>
                        <a:lnTo>
                          <a:pt x="6595" y="4070"/>
                        </a:lnTo>
                        <a:lnTo>
                          <a:pt x="6567" y="4086"/>
                        </a:lnTo>
                        <a:lnTo>
                          <a:pt x="6539" y="4101"/>
                        </a:lnTo>
                        <a:lnTo>
                          <a:pt x="6512" y="4118"/>
                        </a:lnTo>
                        <a:lnTo>
                          <a:pt x="6484" y="4133"/>
                        </a:lnTo>
                        <a:lnTo>
                          <a:pt x="6456" y="4148"/>
                        </a:lnTo>
                        <a:lnTo>
                          <a:pt x="6429" y="4165"/>
                        </a:lnTo>
                        <a:lnTo>
                          <a:pt x="6401" y="4180"/>
                        </a:lnTo>
                        <a:lnTo>
                          <a:pt x="6373" y="4197"/>
                        </a:lnTo>
                        <a:lnTo>
                          <a:pt x="6346" y="4212"/>
                        </a:lnTo>
                        <a:lnTo>
                          <a:pt x="6318" y="4227"/>
                        </a:lnTo>
                        <a:lnTo>
                          <a:pt x="6290" y="4244"/>
                        </a:lnTo>
                        <a:lnTo>
                          <a:pt x="6263" y="4259"/>
                        </a:lnTo>
                        <a:lnTo>
                          <a:pt x="6235" y="4276"/>
                        </a:lnTo>
                        <a:lnTo>
                          <a:pt x="6207" y="4291"/>
                        </a:lnTo>
                        <a:lnTo>
                          <a:pt x="6180" y="4306"/>
                        </a:lnTo>
                        <a:lnTo>
                          <a:pt x="6152" y="4306"/>
                        </a:lnTo>
                        <a:lnTo>
                          <a:pt x="6124" y="4323"/>
                        </a:lnTo>
                        <a:lnTo>
                          <a:pt x="6097" y="4338"/>
                        </a:lnTo>
                        <a:lnTo>
                          <a:pt x="6069" y="4355"/>
                        </a:lnTo>
                        <a:lnTo>
                          <a:pt x="6041" y="4370"/>
                        </a:lnTo>
                        <a:lnTo>
                          <a:pt x="6014" y="4370"/>
                        </a:lnTo>
                        <a:lnTo>
                          <a:pt x="5986" y="4385"/>
                        </a:lnTo>
                        <a:lnTo>
                          <a:pt x="5958" y="4402"/>
                        </a:lnTo>
                        <a:lnTo>
                          <a:pt x="5931" y="4402"/>
                        </a:lnTo>
                        <a:lnTo>
                          <a:pt x="5903" y="4417"/>
                        </a:lnTo>
                        <a:lnTo>
                          <a:pt x="5862" y="4417"/>
                        </a:lnTo>
                        <a:lnTo>
                          <a:pt x="5834" y="4417"/>
                        </a:lnTo>
                        <a:lnTo>
                          <a:pt x="5805" y="4417"/>
                        </a:lnTo>
                        <a:lnTo>
                          <a:pt x="5777" y="4417"/>
                        </a:lnTo>
                        <a:lnTo>
                          <a:pt x="5750" y="4417"/>
                        </a:lnTo>
                        <a:lnTo>
                          <a:pt x="5722" y="4417"/>
                        </a:lnTo>
                        <a:lnTo>
                          <a:pt x="5680" y="4417"/>
                        </a:lnTo>
                        <a:lnTo>
                          <a:pt x="5653" y="4417"/>
                        </a:lnTo>
                        <a:lnTo>
                          <a:pt x="5625" y="4417"/>
                        </a:lnTo>
                        <a:lnTo>
                          <a:pt x="5597" y="4417"/>
                        </a:lnTo>
                        <a:lnTo>
                          <a:pt x="5570" y="4417"/>
                        </a:lnTo>
                        <a:lnTo>
                          <a:pt x="5528" y="4417"/>
                        </a:lnTo>
                        <a:lnTo>
                          <a:pt x="5501" y="4417"/>
                        </a:lnTo>
                        <a:lnTo>
                          <a:pt x="5473" y="4417"/>
                        </a:lnTo>
                        <a:lnTo>
                          <a:pt x="5445" y="4417"/>
                        </a:lnTo>
                        <a:lnTo>
                          <a:pt x="5418" y="4417"/>
                        </a:lnTo>
                        <a:lnTo>
                          <a:pt x="5390" y="4417"/>
                        </a:lnTo>
                        <a:lnTo>
                          <a:pt x="5349" y="4417"/>
                        </a:lnTo>
                        <a:lnTo>
                          <a:pt x="5321" y="4417"/>
                        </a:lnTo>
                        <a:lnTo>
                          <a:pt x="5293" y="4417"/>
                        </a:lnTo>
                        <a:lnTo>
                          <a:pt x="5266" y="4417"/>
                        </a:lnTo>
                        <a:lnTo>
                          <a:pt x="5238" y="4417"/>
                        </a:lnTo>
                        <a:lnTo>
                          <a:pt x="5210" y="4417"/>
                        </a:lnTo>
                        <a:lnTo>
                          <a:pt x="5169" y="4417"/>
                        </a:lnTo>
                        <a:lnTo>
                          <a:pt x="5141" y="4417"/>
                        </a:lnTo>
                        <a:lnTo>
                          <a:pt x="5113" y="4417"/>
                        </a:lnTo>
                        <a:lnTo>
                          <a:pt x="5086" y="4417"/>
                        </a:lnTo>
                        <a:lnTo>
                          <a:pt x="5058" y="4417"/>
                        </a:lnTo>
                        <a:lnTo>
                          <a:pt x="5030" y="4417"/>
                        </a:lnTo>
                        <a:lnTo>
                          <a:pt x="4988" y="4417"/>
                        </a:lnTo>
                        <a:lnTo>
                          <a:pt x="4960" y="4417"/>
                        </a:lnTo>
                        <a:lnTo>
                          <a:pt x="4932" y="4417"/>
                        </a:lnTo>
                        <a:lnTo>
                          <a:pt x="4905" y="4417"/>
                        </a:lnTo>
                        <a:lnTo>
                          <a:pt x="4877" y="4417"/>
                        </a:lnTo>
                        <a:lnTo>
                          <a:pt x="4849" y="4417"/>
                        </a:lnTo>
                        <a:lnTo>
                          <a:pt x="4808" y="4417"/>
                        </a:lnTo>
                        <a:lnTo>
                          <a:pt x="4780" y="4417"/>
                        </a:lnTo>
                        <a:lnTo>
                          <a:pt x="4752" y="4417"/>
                        </a:lnTo>
                        <a:lnTo>
                          <a:pt x="4725" y="4417"/>
                        </a:lnTo>
                        <a:lnTo>
                          <a:pt x="4697" y="4417"/>
                        </a:lnTo>
                        <a:lnTo>
                          <a:pt x="4656" y="4417"/>
                        </a:lnTo>
                        <a:lnTo>
                          <a:pt x="4628" y="4417"/>
                        </a:lnTo>
                        <a:lnTo>
                          <a:pt x="4600" y="4417"/>
                        </a:lnTo>
                        <a:lnTo>
                          <a:pt x="4573" y="4417"/>
                        </a:lnTo>
                        <a:lnTo>
                          <a:pt x="4545" y="4417"/>
                        </a:lnTo>
                        <a:lnTo>
                          <a:pt x="4517" y="4417"/>
                        </a:lnTo>
                        <a:lnTo>
                          <a:pt x="4476" y="4417"/>
                        </a:lnTo>
                        <a:lnTo>
                          <a:pt x="4448" y="4417"/>
                        </a:lnTo>
                        <a:lnTo>
                          <a:pt x="4420" y="4417"/>
                        </a:lnTo>
                        <a:lnTo>
                          <a:pt x="4393" y="4417"/>
                        </a:lnTo>
                        <a:lnTo>
                          <a:pt x="4365" y="4417"/>
                        </a:lnTo>
                        <a:lnTo>
                          <a:pt x="4337" y="4417"/>
                        </a:lnTo>
                        <a:lnTo>
                          <a:pt x="4296" y="4417"/>
                        </a:lnTo>
                        <a:lnTo>
                          <a:pt x="4268" y="4417"/>
                        </a:lnTo>
                        <a:lnTo>
                          <a:pt x="4241" y="4417"/>
                        </a:lnTo>
                        <a:lnTo>
                          <a:pt x="4212" y="4417"/>
                        </a:lnTo>
                        <a:lnTo>
                          <a:pt x="4184" y="4417"/>
                        </a:lnTo>
                        <a:lnTo>
                          <a:pt x="4156" y="4417"/>
                        </a:lnTo>
                        <a:lnTo>
                          <a:pt x="4115" y="4417"/>
                        </a:lnTo>
                        <a:lnTo>
                          <a:pt x="4087" y="4417"/>
                        </a:lnTo>
                        <a:lnTo>
                          <a:pt x="4059" y="4417"/>
                        </a:lnTo>
                        <a:lnTo>
                          <a:pt x="4032" y="4417"/>
                        </a:lnTo>
                        <a:lnTo>
                          <a:pt x="4004" y="4417"/>
                        </a:lnTo>
                        <a:lnTo>
                          <a:pt x="3963" y="4417"/>
                        </a:lnTo>
                        <a:lnTo>
                          <a:pt x="3921" y="4417"/>
                        </a:lnTo>
                        <a:lnTo>
                          <a:pt x="3893" y="4417"/>
                        </a:lnTo>
                        <a:lnTo>
                          <a:pt x="3866" y="4417"/>
                        </a:lnTo>
                        <a:lnTo>
                          <a:pt x="3838" y="4417"/>
                        </a:lnTo>
                        <a:lnTo>
                          <a:pt x="3810" y="4417"/>
                        </a:lnTo>
                        <a:lnTo>
                          <a:pt x="3769" y="4417"/>
                        </a:lnTo>
                        <a:lnTo>
                          <a:pt x="3741" y="4417"/>
                        </a:lnTo>
                        <a:lnTo>
                          <a:pt x="3714" y="4417"/>
                        </a:lnTo>
                        <a:lnTo>
                          <a:pt x="3686" y="4417"/>
                        </a:lnTo>
                        <a:lnTo>
                          <a:pt x="3658" y="4417"/>
                        </a:lnTo>
                        <a:lnTo>
                          <a:pt x="3631" y="4417"/>
                        </a:lnTo>
                        <a:lnTo>
                          <a:pt x="3589" y="4417"/>
                        </a:lnTo>
                        <a:lnTo>
                          <a:pt x="3562" y="4417"/>
                        </a:lnTo>
                        <a:lnTo>
                          <a:pt x="3534" y="4417"/>
                        </a:lnTo>
                        <a:lnTo>
                          <a:pt x="3506" y="4417"/>
                        </a:lnTo>
                        <a:lnTo>
                          <a:pt x="3479" y="4417"/>
                        </a:lnTo>
                        <a:lnTo>
                          <a:pt x="3451" y="4417"/>
                        </a:lnTo>
                        <a:lnTo>
                          <a:pt x="3408" y="4417"/>
                        </a:lnTo>
                        <a:lnTo>
                          <a:pt x="3380" y="4417"/>
                        </a:lnTo>
                        <a:lnTo>
                          <a:pt x="3353" y="4417"/>
                        </a:lnTo>
                        <a:lnTo>
                          <a:pt x="3325" y="4417"/>
                        </a:lnTo>
                        <a:lnTo>
                          <a:pt x="3297" y="4417"/>
                        </a:lnTo>
                        <a:lnTo>
                          <a:pt x="3270" y="4417"/>
                        </a:lnTo>
                        <a:lnTo>
                          <a:pt x="3228" y="4417"/>
                        </a:lnTo>
                        <a:lnTo>
                          <a:pt x="3201" y="4417"/>
                        </a:lnTo>
                        <a:lnTo>
                          <a:pt x="3173" y="4417"/>
                        </a:lnTo>
                        <a:lnTo>
                          <a:pt x="3145" y="4417"/>
                        </a:lnTo>
                        <a:lnTo>
                          <a:pt x="3118" y="4417"/>
                        </a:lnTo>
                        <a:lnTo>
                          <a:pt x="3090" y="4417"/>
                        </a:lnTo>
                        <a:lnTo>
                          <a:pt x="3048" y="4417"/>
                        </a:lnTo>
                        <a:lnTo>
                          <a:pt x="3021" y="4417"/>
                        </a:lnTo>
                        <a:lnTo>
                          <a:pt x="2993" y="4417"/>
                        </a:lnTo>
                        <a:lnTo>
                          <a:pt x="2965" y="4417"/>
                        </a:lnTo>
                        <a:lnTo>
                          <a:pt x="2938" y="4417"/>
                        </a:lnTo>
                        <a:lnTo>
                          <a:pt x="2896" y="4417"/>
                        </a:lnTo>
                        <a:lnTo>
                          <a:pt x="2869" y="4417"/>
                        </a:lnTo>
                        <a:lnTo>
                          <a:pt x="2841" y="4417"/>
                        </a:lnTo>
                        <a:lnTo>
                          <a:pt x="2813" y="4417"/>
                        </a:lnTo>
                        <a:lnTo>
                          <a:pt x="2786" y="4417"/>
                        </a:lnTo>
                        <a:lnTo>
                          <a:pt x="2758" y="4417"/>
                        </a:lnTo>
                        <a:lnTo>
                          <a:pt x="2716" y="4417"/>
                        </a:lnTo>
                        <a:lnTo>
                          <a:pt x="2689" y="4417"/>
                        </a:lnTo>
                        <a:lnTo>
                          <a:pt x="2661" y="4417"/>
                        </a:lnTo>
                        <a:lnTo>
                          <a:pt x="2632" y="4417"/>
                        </a:lnTo>
                        <a:lnTo>
                          <a:pt x="2604" y="4417"/>
                        </a:lnTo>
                        <a:lnTo>
                          <a:pt x="2577" y="4417"/>
                        </a:lnTo>
                        <a:lnTo>
                          <a:pt x="2535" y="4417"/>
                        </a:lnTo>
                        <a:lnTo>
                          <a:pt x="2508" y="4417"/>
                        </a:lnTo>
                        <a:lnTo>
                          <a:pt x="2480" y="4417"/>
                        </a:lnTo>
                        <a:lnTo>
                          <a:pt x="2452" y="4417"/>
                        </a:lnTo>
                        <a:lnTo>
                          <a:pt x="2425" y="4417"/>
                        </a:lnTo>
                        <a:lnTo>
                          <a:pt x="2397" y="4417"/>
                        </a:lnTo>
                        <a:lnTo>
                          <a:pt x="2355" y="4417"/>
                        </a:lnTo>
                        <a:lnTo>
                          <a:pt x="2328" y="4417"/>
                        </a:lnTo>
                        <a:lnTo>
                          <a:pt x="2300" y="4417"/>
                        </a:lnTo>
                        <a:lnTo>
                          <a:pt x="2272" y="4417"/>
                        </a:lnTo>
                        <a:lnTo>
                          <a:pt x="2245" y="4417"/>
                        </a:lnTo>
                        <a:lnTo>
                          <a:pt x="2217" y="4417"/>
                        </a:lnTo>
                        <a:lnTo>
                          <a:pt x="2176" y="4417"/>
                        </a:lnTo>
                        <a:lnTo>
                          <a:pt x="2148" y="4417"/>
                        </a:lnTo>
                        <a:lnTo>
                          <a:pt x="2120" y="4417"/>
                        </a:lnTo>
                        <a:lnTo>
                          <a:pt x="2093" y="4417"/>
                        </a:lnTo>
                        <a:lnTo>
                          <a:pt x="2065" y="4417"/>
                        </a:lnTo>
                        <a:lnTo>
                          <a:pt x="2037" y="4417"/>
                        </a:lnTo>
                        <a:lnTo>
                          <a:pt x="1996" y="4417"/>
                        </a:lnTo>
                        <a:lnTo>
                          <a:pt x="1968" y="4417"/>
                        </a:lnTo>
                        <a:lnTo>
                          <a:pt x="1940" y="4417"/>
                        </a:lnTo>
                        <a:lnTo>
                          <a:pt x="1913" y="4417"/>
                        </a:lnTo>
                        <a:lnTo>
                          <a:pt x="1885" y="4417"/>
                        </a:lnTo>
                        <a:lnTo>
                          <a:pt x="1844" y="4417"/>
                        </a:lnTo>
                        <a:lnTo>
                          <a:pt x="1815" y="4417"/>
                        </a:lnTo>
                        <a:lnTo>
                          <a:pt x="1787" y="441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000760" y="1774800"/>
                    <a:ext cx="4054320" cy="2338560"/>
                  </a:xfrm>
                  <a:custGeom>
                    <a:avLst/>
                    <a:gdLst/>
                    <a:ahLst/>
                    <a:rect l="l" t="t" r="r" b="b"/>
                    <a:pathLst>
                      <a:path w="7662" h="4417">
                        <a:moveTo>
                          <a:pt x="1787" y="4417"/>
                        </a:moveTo>
                        <a:lnTo>
                          <a:pt x="1759" y="4417"/>
                        </a:lnTo>
                        <a:lnTo>
                          <a:pt x="1732" y="4402"/>
                        </a:lnTo>
                        <a:lnTo>
                          <a:pt x="1704" y="4402"/>
                        </a:lnTo>
                        <a:lnTo>
                          <a:pt x="1676" y="4385"/>
                        </a:lnTo>
                        <a:lnTo>
                          <a:pt x="1635" y="4370"/>
                        </a:lnTo>
                        <a:lnTo>
                          <a:pt x="1607" y="4370"/>
                        </a:lnTo>
                        <a:lnTo>
                          <a:pt x="1580" y="4355"/>
                        </a:lnTo>
                        <a:lnTo>
                          <a:pt x="1552" y="4338"/>
                        </a:lnTo>
                        <a:lnTo>
                          <a:pt x="1524" y="4323"/>
                        </a:lnTo>
                        <a:lnTo>
                          <a:pt x="1497" y="4306"/>
                        </a:lnTo>
                        <a:lnTo>
                          <a:pt x="1469" y="4306"/>
                        </a:lnTo>
                        <a:lnTo>
                          <a:pt x="1441" y="4291"/>
                        </a:lnTo>
                        <a:lnTo>
                          <a:pt x="1414" y="4276"/>
                        </a:lnTo>
                        <a:lnTo>
                          <a:pt x="1386" y="4259"/>
                        </a:lnTo>
                        <a:lnTo>
                          <a:pt x="1358" y="4244"/>
                        </a:lnTo>
                        <a:lnTo>
                          <a:pt x="1331" y="4227"/>
                        </a:lnTo>
                        <a:lnTo>
                          <a:pt x="1289" y="4212"/>
                        </a:lnTo>
                        <a:lnTo>
                          <a:pt x="1261" y="4197"/>
                        </a:lnTo>
                        <a:lnTo>
                          <a:pt x="1234" y="4180"/>
                        </a:lnTo>
                        <a:lnTo>
                          <a:pt x="1206" y="4165"/>
                        </a:lnTo>
                        <a:lnTo>
                          <a:pt x="1178" y="4148"/>
                        </a:lnTo>
                        <a:lnTo>
                          <a:pt x="1151" y="4133"/>
                        </a:lnTo>
                        <a:lnTo>
                          <a:pt x="1137" y="4118"/>
                        </a:lnTo>
                        <a:lnTo>
                          <a:pt x="1109" y="4101"/>
                        </a:lnTo>
                        <a:lnTo>
                          <a:pt x="1082" y="4086"/>
                        </a:lnTo>
                        <a:lnTo>
                          <a:pt x="1054" y="4070"/>
                        </a:lnTo>
                        <a:lnTo>
                          <a:pt x="1025" y="4054"/>
                        </a:lnTo>
                        <a:lnTo>
                          <a:pt x="997" y="4039"/>
                        </a:lnTo>
                        <a:lnTo>
                          <a:pt x="970" y="4007"/>
                        </a:lnTo>
                        <a:lnTo>
                          <a:pt x="942" y="3991"/>
                        </a:lnTo>
                        <a:lnTo>
                          <a:pt x="928" y="3975"/>
                        </a:lnTo>
                        <a:lnTo>
                          <a:pt x="900" y="3960"/>
                        </a:lnTo>
                        <a:lnTo>
                          <a:pt x="873" y="3944"/>
                        </a:lnTo>
                        <a:lnTo>
                          <a:pt x="845" y="3912"/>
                        </a:lnTo>
                        <a:lnTo>
                          <a:pt x="817" y="3897"/>
                        </a:lnTo>
                        <a:lnTo>
                          <a:pt x="804" y="3881"/>
                        </a:lnTo>
                        <a:lnTo>
                          <a:pt x="776" y="3850"/>
                        </a:lnTo>
                        <a:lnTo>
                          <a:pt x="748" y="3833"/>
                        </a:lnTo>
                        <a:lnTo>
                          <a:pt x="721" y="3818"/>
                        </a:lnTo>
                        <a:lnTo>
                          <a:pt x="707" y="3786"/>
                        </a:lnTo>
                        <a:lnTo>
                          <a:pt x="679" y="3771"/>
                        </a:lnTo>
                        <a:lnTo>
                          <a:pt x="651" y="3739"/>
                        </a:lnTo>
                        <a:lnTo>
                          <a:pt x="624" y="3724"/>
                        </a:lnTo>
                        <a:lnTo>
                          <a:pt x="610" y="3707"/>
                        </a:lnTo>
                        <a:lnTo>
                          <a:pt x="582" y="3675"/>
                        </a:lnTo>
                        <a:lnTo>
                          <a:pt x="555" y="3660"/>
                        </a:lnTo>
                        <a:lnTo>
                          <a:pt x="541" y="3628"/>
                        </a:lnTo>
                        <a:lnTo>
                          <a:pt x="513" y="3613"/>
                        </a:lnTo>
                        <a:lnTo>
                          <a:pt x="499" y="3581"/>
                        </a:lnTo>
                        <a:lnTo>
                          <a:pt x="472" y="3566"/>
                        </a:lnTo>
                        <a:lnTo>
                          <a:pt x="444" y="3534"/>
                        </a:lnTo>
                        <a:lnTo>
                          <a:pt x="430" y="3502"/>
                        </a:lnTo>
                        <a:lnTo>
                          <a:pt x="402" y="3487"/>
                        </a:lnTo>
                        <a:lnTo>
                          <a:pt x="389" y="3455"/>
                        </a:lnTo>
                        <a:lnTo>
                          <a:pt x="361" y="3423"/>
                        </a:lnTo>
                        <a:lnTo>
                          <a:pt x="347" y="3408"/>
                        </a:lnTo>
                        <a:lnTo>
                          <a:pt x="333" y="3376"/>
                        </a:lnTo>
                        <a:lnTo>
                          <a:pt x="306" y="3345"/>
                        </a:lnTo>
                        <a:lnTo>
                          <a:pt x="292" y="3313"/>
                        </a:lnTo>
                        <a:lnTo>
                          <a:pt x="278" y="3297"/>
                        </a:lnTo>
                        <a:lnTo>
                          <a:pt x="250" y="3266"/>
                        </a:lnTo>
                        <a:lnTo>
                          <a:pt x="235" y="3234"/>
                        </a:lnTo>
                        <a:lnTo>
                          <a:pt x="221" y="3202"/>
                        </a:lnTo>
                        <a:lnTo>
                          <a:pt x="207" y="3172"/>
                        </a:lnTo>
                        <a:lnTo>
                          <a:pt x="194" y="3140"/>
                        </a:lnTo>
                        <a:lnTo>
                          <a:pt x="166" y="3108"/>
                        </a:lnTo>
                        <a:lnTo>
                          <a:pt x="152" y="3076"/>
                        </a:lnTo>
                        <a:lnTo>
                          <a:pt x="138" y="3044"/>
                        </a:lnTo>
                        <a:lnTo>
                          <a:pt x="124" y="3014"/>
                        </a:lnTo>
                        <a:lnTo>
                          <a:pt x="124" y="2982"/>
                        </a:lnTo>
                        <a:lnTo>
                          <a:pt x="111" y="2950"/>
                        </a:lnTo>
                        <a:lnTo>
                          <a:pt x="97" y="2918"/>
                        </a:lnTo>
                        <a:lnTo>
                          <a:pt x="83" y="2887"/>
                        </a:lnTo>
                        <a:lnTo>
                          <a:pt x="83" y="2856"/>
                        </a:lnTo>
                        <a:lnTo>
                          <a:pt x="69" y="2824"/>
                        </a:lnTo>
                        <a:lnTo>
                          <a:pt x="55" y="2777"/>
                        </a:lnTo>
                        <a:lnTo>
                          <a:pt x="55" y="2745"/>
                        </a:lnTo>
                        <a:lnTo>
                          <a:pt x="41" y="2714"/>
                        </a:lnTo>
                        <a:lnTo>
                          <a:pt x="28" y="2667"/>
                        </a:lnTo>
                        <a:lnTo>
                          <a:pt x="28" y="2635"/>
                        </a:lnTo>
                        <a:lnTo>
                          <a:pt x="14" y="2588"/>
                        </a:lnTo>
                        <a:lnTo>
                          <a:pt x="14" y="2556"/>
                        </a:lnTo>
                        <a:lnTo>
                          <a:pt x="0" y="2509"/>
                        </a:lnTo>
                        <a:lnTo>
                          <a:pt x="0" y="2477"/>
                        </a:lnTo>
                        <a:lnTo>
                          <a:pt x="0" y="2445"/>
                        </a:lnTo>
                        <a:lnTo>
                          <a:pt x="0" y="2398"/>
                        </a:lnTo>
                        <a:lnTo>
                          <a:pt x="0" y="2366"/>
                        </a:lnTo>
                        <a:lnTo>
                          <a:pt x="0" y="2334"/>
                        </a:lnTo>
                        <a:lnTo>
                          <a:pt x="0" y="2304"/>
                        </a:lnTo>
                        <a:lnTo>
                          <a:pt x="0" y="2256"/>
                        </a:lnTo>
                        <a:lnTo>
                          <a:pt x="0" y="2225"/>
                        </a:lnTo>
                        <a:lnTo>
                          <a:pt x="0" y="2193"/>
                        </a:lnTo>
                        <a:lnTo>
                          <a:pt x="0" y="2145"/>
                        </a:lnTo>
                        <a:lnTo>
                          <a:pt x="0" y="2114"/>
                        </a:lnTo>
                        <a:lnTo>
                          <a:pt x="0" y="2066"/>
                        </a:lnTo>
                        <a:lnTo>
                          <a:pt x="0" y="2036"/>
                        </a:lnTo>
                        <a:lnTo>
                          <a:pt x="0" y="1987"/>
                        </a:lnTo>
                        <a:lnTo>
                          <a:pt x="14" y="1940"/>
                        </a:lnTo>
                        <a:lnTo>
                          <a:pt x="14" y="1893"/>
                        </a:lnTo>
                        <a:lnTo>
                          <a:pt x="28" y="1846"/>
                        </a:lnTo>
                        <a:lnTo>
                          <a:pt x="28" y="1799"/>
                        </a:lnTo>
                        <a:lnTo>
                          <a:pt x="41" y="1767"/>
                        </a:lnTo>
                        <a:lnTo>
                          <a:pt x="41" y="1735"/>
                        </a:lnTo>
                        <a:lnTo>
                          <a:pt x="55" y="1703"/>
                        </a:lnTo>
                        <a:lnTo>
                          <a:pt x="55" y="1672"/>
                        </a:lnTo>
                        <a:lnTo>
                          <a:pt x="69" y="1641"/>
                        </a:lnTo>
                        <a:lnTo>
                          <a:pt x="69" y="1609"/>
                        </a:lnTo>
                        <a:lnTo>
                          <a:pt x="83" y="1578"/>
                        </a:lnTo>
                        <a:lnTo>
                          <a:pt x="97" y="1546"/>
                        </a:lnTo>
                        <a:lnTo>
                          <a:pt x="111" y="1514"/>
                        </a:lnTo>
                        <a:lnTo>
                          <a:pt x="111" y="1483"/>
                        </a:lnTo>
                        <a:lnTo>
                          <a:pt x="124" y="1452"/>
                        </a:lnTo>
                        <a:lnTo>
                          <a:pt x="138" y="1420"/>
                        </a:lnTo>
                        <a:lnTo>
                          <a:pt x="152" y="1388"/>
                        </a:lnTo>
                        <a:lnTo>
                          <a:pt x="166" y="1356"/>
                        </a:lnTo>
                        <a:lnTo>
                          <a:pt x="180" y="1326"/>
                        </a:lnTo>
                        <a:lnTo>
                          <a:pt x="194" y="1294"/>
                        </a:lnTo>
                        <a:lnTo>
                          <a:pt x="207" y="1262"/>
                        </a:lnTo>
                        <a:lnTo>
                          <a:pt x="221" y="1247"/>
                        </a:lnTo>
                        <a:lnTo>
                          <a:pt x="235" y="1198"/>
                        </a:lnTo>
                        <a:lnTo>
                          <a:pt x="264" y="1168"/>
                        </a:lnTo>
                        <a:lnTo>
                          <a:pt x="278" y="1136"/>
                        </a:lnTo>
                        <a:lnTo>
                          <a:pt x="292" y="1120"/>
                        </a:lnTo>
                        <a:lnTo>
                          <a:pt x="306" y="1089"/>
                        </a:lnTo>
                        <a:lnTo>
                          <a:pt x="333" y="1057"/>
                        </a:lnTo>
                        <a:lnTo>
                          <a:pt x="347" y="1041"/>
                        </a:lnTo>
                        <a:lnTo>
                          <a:pt x="361" y="1010"/>
                        </a:lnTo>
                        <a:lnTo>
                          <a:pt x="389" y="978"/>
                        </a:lnTo>
                        <a:lnTo>
                          <a:pt x="402" y="962"/>
                        </a:lnTo>
                        <a:lnTo>
                          <a:pt x="430" y="931"/>
                        </a:lnTo>
                        <a:lnTo>
                          <a:pt x="444" y="915"/>
                        </a:lnTo>
                        <a:lnTo>
                          <a:pt x="472" y="883"/>
                        </a:lnTo>
                        <a:lnTo>
                          <a:pt x="485" y="852"/>
                        </a:lnTo>
                        <a:lnTo>
                          <a:pt x="513" y="836"/>
                        </a:lnTo>
                        <a:lnTo>
                          <a:pt x="527" y="804"/>
                        </a:lnTo>
                        <a:lnTo>
                          <a:pt x="555" y="789"/>
                        </a:lnTo>
                        <a:lnTo>
                          <a:pt x="568" y="757"/>
                        </a:lnTo>
                        <a:lnTo>
                          <a:pt x="596" y="742"/>
                        </a:lnTo>
                        <a:lnTo>
                          <a:pt x="624" y="725"/>
                        </a:lnTo>
                        <a:lnTo>
                          <a:pt x="638" y="695"/>
                        </a:lnTo>
                        <a:lnTo>
                          <a:pt x="665" y="678"/>
                        </a:lnTo>
                        <a:lnTo>
                          <a:pt x="679" y="646"/>
                        </a:lnTo>
                        <a:lnTo>
                          <a:pt x="707" y="631"/>
                        </a:lnTo>
                        <a:lnTo>
                          <a:pt x="734" y="616"/>
                        </a:lnTo>
                        <a:lnTo>
                          <a:pt x="762" y="584"/>
                        </a:lnTo>
                        <a:lnTo>
                          <a:pt x="776" y="567"/>
                        </a:lnTo>
                        <a:lnTo>
                          <a:pt x="804" y="552"/>
                        </a:lnTo>
                        <a:lnTo>
                          <a:pt x="831" y="537"/>
                        </a:lnTo>
                        <a:lnTo>
                          <a:pt x="859" y="505"/>
                        </a:lnTo>
                        <a:lnTo>
                          <a:pt x="873" y="489"/>
                        </a:lnTo>
                        <a:lnTo>
                          <a:pt x="900" y="473"/>
                        </a:lnTo>
                        <a:lnTo>
                          <a:pt x="928" y="458"/>
                        </a:lnTo>
                        <a:lnTo>
                          <a:pt x="956" y="426"/>
                        </a:lnTo>
                        <a:lnTo>
                          <a:pt x="970" y="410"/>
                        </a:lnTo>
                        <a:lnTo>
                          <a:pt x="997" y="395"/>
                        </a:lnTo>
                        <a:lnTo>
                          <a:pt x="1025" y="379"/>
                        </a:lnTo>
                        <a:lnTo>
                          <a:pt x="1054" y="363"/>
                        </a:lnTo>
                        <a:lnTo>
                          <a:pt x="1082" y="347"/>
                        </a:lnTo>
                        <a:lnTo>
                          <a:pt x="1109" y="331"/>
                        </a:lnTo>
                        <a:lnTo>
                          <a:pt x="1137" y="300"/>
                        </a:lnTo>
                        <a:lnTo>
                          <a:pt x="1165" y="284"/>
                        </a:lnTo>
                        <a:lnTo>
                          <a:pt x="1192" y="269"/>
                        </a:lnTo>
                        <a:lnTo>
                          <a:pt x="1220" y="252"/>
                        </a:lnTo>
                        <a:lnTo>
                          <a:pt x="1248" y="237"/>
                        </a:lnTo>
                        <a:lnTo>
                          <a:pt x="1275" y="222"/>
                        </a:lnTo>
                        <a:lnTo>
                          <a:pt x="1303" y="205"/>
                        </a:lnTo>
                        <a:lnTo>
                          <a:pt x="1344" y="190"/>
                        </a:lnTo>
                        <a:lnTo>
                          <a:pt x="1372" y="173"/>
                        </a:lnTo>
                        <a:lnTo>
                          <a:pt x="1414" y="158"/>
                        </a:lnTo>
                        <a:lnTo>
                          <a:pt x="1441" y="143"/>
                        </a:lnTo>
                        <a:lnTo>
                          <a:pt x="1469" y="126"/>
                        </a:lnTo>
                        <a:lnTo>
                          <a:pt x="1497" y="126"/>
                        </a:lnTo>
                        <a:lnTo>
                          <a:pt x="1524" y="111"/>
                        </a:lnTo>
                        <a:lnTo>
                          <a:pt x="1566" y="94"/>
                        </a:lnTo>
                        <a:lnTo>
                          <a:pt x="1593" y="79"/>
                        </a:lnTo>
                        <a:lnTo>
                          <a:pt x="1635" y="64"/>
                        </a:lnTo>
                        <a:lnTo>
                          <a:pt x="1676" y="47"/>
                        </a:lnTo>
                        <a:lnTo>
                          <a:pt x="1704" y="32"/>
                        </a:lnTo>
                        <a:lnTo>
                          <a:pt x="1745" y="15"/>
                        </a:lnTo>
                        <a:lnTo>
                          <a:pt x="1773" y="15"/>
                        </a:lnTo>
                        <a:lnTo>
                          <a:pt x="1787" y="0"/>
                        </a:lnTo>
                        <a:lnTo>
                          <a:pt x="1815" y="0"/>
                        </a:lnTo>
                        <a:lnTo>
                          <a:pt x="1844" y="0"/>
                        </a:lnTo>
                        <a:lnTo>
                          <a:pt x="1885" y="0"/>
                        </a:lnTo>
                        <a:lnTo>
                          <a:pt x="1913" y="0"/>
                        </a:lnTo>
                        <a:lnTo>
                          <a:pt x="1940" y="0"/>
                        </a:lnTo>
                        <a:lnTo>
                          <a:pt x="1968" y="0"/>
                        </a:lnTo>
                        <a:lnTo>
                          <a:pt x="1996" y="0"/>
                        </a:lnTo>
                        <a:lnTo>
                          <a:pt x="2037" y="0"/>
                        </a:lnTo>
                        <a:lnTo>
                          <a:pt x="2065" y="0"/>
                        </a:lnTo>
                        <a:lnTo>
                          <a:pt x="2093" y="0"/>
                        </a:lnTo>
                        <a:lnTo>
                          <a:pt x="2120" y="0"/>
                        </a:lnTo>
                        <a:lnTo>
                          <a:pt x="2148" y="0"/>
                        </a:lnTo>
                        <a:lnTo>
                          <a:pt x="2176" y="0"/>
                        </a:lnTo>
                        <a:lnTo>
                          <a:pt x="2217" y="0"/>
                        </a:lnTo>
                        <a:lnTo>
                          <a:pt x="2245" y="0"/>
                        </a:lnTo>
                        <a:lnTo>
                          <a:pt x="2272" y="0"/>
                        </a:lnTo>
                        <a:lnTo>
                          <a:pt x="2300" y="0"/>
                        </a:lnTo>
                        <a:lnTo>
                          <a:pt x="2328" y="0"/>
                        </a:lnTo>
                        <a:lnTo>
                          <a:pt x="2355" y="0"/>
                        </a:lnTo>
                        <a:lnTo>
                          <a:pt x="2397" y="0"/>
                        </a:lnTo>
                        <a:lnTo>
                          <a:pt x="2425" y="0"/>
                        </a:lnTo>
                        <a:lnTo>
                          <a:pt x="2452" y="0"/>
                        </a:lnTo>
                        <a:lnTo>
                          <a:pt x="2480" y="0"/>
                        </a:lnTo>
                        <a:lnTo>
                          <a:pt x="2508" y="0"/>
                        </a:lnTo>
                        <a:lnTo>
                          <a:pt x="2535" y="0"/>
                        </a:lnTo>
                        <a:lnTo>
                          <a:pt x="2577" y="0"/>
                        </a:lnTo>
                        <a:lnTo>
                          <a:pt x="2604" y="0"/>
                        </a:lnTo>
                        <a:lnTo>
                          <a:pt x="2632" y="0"/>
                        </a:lnTo>
                        <a:lnTo>
                          <a:pt x="2661" y="0"/>
                        </a:lnTo>
                        <a:lnTo>
                          <a:pt x="2689" y="0"/>
                        </a:lnTo>
                        <a:lnTo>
                          <a:pt x="2716" y="0"/>
                        </a:lnTo>
                        <a:lnTo>
                          <a:pt x="2758" y="0"/>
                        </a:lnTo>
                        <a:lnTo>
                          <a:pt x="2786" y="0"/>
                        </a:lnTo>
                        <a:lnTo>
                          <a:pt x="2813" y="0"/>
                        </a:lnTo>
                        <a:lnTo>
                          <a:pt x="2841" y="0"/>
                        </a:lnTo>
                        <a:lnTo>
                          <a:pt x="2869" y="0"/>
                        </a:lnTo>
                        <a:lnTo>
                          <a:pt x="2896" y="0"/>
                        </a:lnTo>
                        <a:lnTo>
                          <a:pt x="2938" y="0"/>
                        </a:lnTo>
                        <a:lnTo>
                          <a:pt x="2965" y="0"/>
                        </a:lnTo>
                        <a:lnTo>
                          <a:pt x="2993" y="0"/>
                        </a:lnTo>
                        <a:lnTo>
                          <a:pt x="3021" y="0"/>
                        </a:lnTo>
                        <a:lnTo>
                          <a:pt x="3048" y="0"/>
                        </a:lnTo>
                        <a:lnTo>
                          <a:pt x="3090" y="0"/>
                        </a:lnTo>
                        <a:lnTo>
                          <a:pt x="3118" y="0"/>
                        </a:lnTo>
                        <a:lnTo>
                          <a:pt x="3145" y="0"/>
                        </a:lnTo>
                        <a:lnTo>
                          <a:pt x="3173" y="0"/>
                        </a:lnTo>
                        <a:lnTo>
                          <a:pt x="3201" y="0"/>
                        </a:lnTo>
                        <a:lnTo>
                          <a:pt x="3228" y="0"/>
                        </a:lnTo>
                        <a:lnTo>
                          <a:pt x="3270" y="0"/>
                        </a:lnTo>
                        <a:lnTo>
                          <a:pt x="3297" y="0"/>
                        </a:lnTo>
                        <a:lnTo>
                          <a:pt x="3325" y="0"/>
                        </a:lnTo>
                        <a:lnTo>
                          <a:pt x="3353" y="0"/>
                        </a:lnTo>
                        <a:lnTo>
                          <a:pt x="3380" y="0"/>
                        </a:lnTo>
                        <a:lnTo>
                          <a:pt x="3408" y="0"/>
                        </a:lnTo>
                        <a:lnTo>
                          <a:pt x="3451" y="0"/>
                        </a:lnTo>
                        <a:lnTo>
                          <a:pt x="3479" y="0"/>
                        </a:lnTo>
                        <a:lnTo>
                          <a:pt x="3506" y="0"/>
                        </a:lnTo>
                        <a:lnTo>
                          <a:pt x="3534" y="0"/>
                        </a:lnTo>
                        <a:lnTo>
                          <a:pt x="3562" y="0"/>
                        </a:lnTo>
                        <a:lnTo>
                          <a:pt x="3589" y="0"/>
                        </a:lnTo>
                        <a:lnTo>
                          <a:pt x="3631" y="0"/>
                        </a:lnTo>
                        <a:lnTo>
                          <a:pt x="3658" y="0"/>
                        </a:lnTo>
                        <a:lnTo>
                          <a:pt x="3686" y="0"/>
                        </a:lnTo>
                        <a:lnTo>
                          <a:pt x="3714" y="0"/>
                        </a:lnTo>
                        <a:lnTo>
                          <a:pt x="3741" y="0"/>
                        </a:lnTo>
                        <a:lnTo>
                          <a:pt x="3769" y="0"/>
                        </a:lnTo>
                        <a:lnTo>
                          <a:pt x="3810" y="0"/>
                        </a:lnTo>
                        <a:lnTo>
                          <a:pt x="3838" y="0"/>
                        </a:lnTo>
                        <a:lnTo>
                          <a:pt x="3866" y="0"/>
                        </a:lnTo>
                        <a:lnTo>
                          <a:pt x="3893" y="0"/>
                        </a:lnTo>
                        <a:lnTo>
                          <a:pt x="3921" y="0"/>
                        </a:lnTo>
                        <a:lnTo>
                          <a:pt x="3963" y="0"/>
                        </a:lnTo>
                        <a:lnTo>
                          <a:pt x="4004" y="0"/>
                        </a:lnTo>
                        <a:lnTo>
                          <a:pt x="4032" y="0"/>
                        </a:lnTo>
                        <a:lnTo>
                          <a:pt x="4059" y="0"/>
                        </a:lnTo>
                        <a:lnTo>
                          <a:pt x="4087" y="0"/>
                        </a:lnTo>
                        <a:lnTo>
                          <a:pt x="4115" y="0"/>
                        </a:lnTo>
                        <a:lnTo>
                          <a:pt x="4156" y="0"/>
                        </a:lnTo>
                        <a:lnTo>
                          <a:pt x="4184" y="0"/>
                        </a:lnTo>
                        <a:lnTo>
                          <a:pt x="4212" y="0"/>
                        </a:lnTo>
                        <a:lnTo>
                          <a:pt x="4241" y="0"/>
                        </a:lnTo>
                        <a:lnTo>
                          <a:pt x="4268" y="0"/>
                        </a:lnTo>
                        <a:lnTo>
                          <a:pt x="4296" y="0"/>
                        </a:lnTo>
                        <a:lnTo>
                          <a:pt x="4337" y="0"/>
                        </a:lnTo>
                        <a:lnTo>
                          <a:pt x="4365" y="0"/>
                        </a:lnTo>
                        <a:lnTo>
                          <a:pt x="4393" y="0"/>
                        </a:lnTo>
                        <a:lnTo>
                          <a:pt x="4420" y="0"/>
                        </a:lnTo>
                        <a:lnTo>
                          <a:pt x="4448" y="0"/>
                        </a:lnTo>
                        <a:lnTo>
                          <a:pt x="4476" y="0"/>
                        </a:lnTo>
                        <a:lnTo>
                          <a:pt x="4517" y="0"/>
                        </a:lnTo>
                        <a:lnTo>
                          <a:pt x="4545" y="0"/>
                        </a:lnTo>
                        <a:lnTo>
                          <a:pt x="4573" y="0"/>
                        </a:lnTo>
                        <a:lnTo>
                          <a:pt x="4600" y="0"/>
                        </a:lnTo>
                        <a:lnTo>
                          <a:pt x="4628" y="0"/>
                        </a:lnTo>
                        <a:lnTo>
                          <a:pt x="4656" y="0"/>
                        </a:lnTo>
                        <a:lnTo>
                          <a:pt x="4697" y="0"/>
                        </a:lnTo>
                        <a:lnTo>
                          <a:pt x="4725" y="0"/>
                        </a:lnTo>
                        <a:lnTo>
                          <a:pt x="4752" y="0"/>
                        </a:lnTo>
                        <a:lnTo>
                          <a:pt x="4780" y="0"/>
                        </a:lnTo>
                        <a:lnTo>
                          <a:pt x="4808" y="0"/>
                        </a:lnTo>
                        <a:lnTo>
                          <a:pt x="4849" y="0"/>
                        </a:lnTo>
                        <a:lnTo>
                          <a:pt x="4877" y="0"/>
                        </a:lnTo>
                        <a:lnTo>
                          <a:pt x="4905" y="0"/>
                        </a:lnTo>
                        <a:lnTo>
                          <a:pt x="4932" y="0"/>
                        </a:lnTo>
                        <a:lnTo>
                          <a:pt x="4960" y="0"/>
                        </a:lnTo>
                        <a:lnTo>
                          <a:pt x="4988" y="0"/>
                        </a:lnTo>
                        <a:lnTo>
                          <a:pt x="5030" y="0"/>
                        </a:lnTo>
                        <a:lnTo>
                          <a:pt x="5058" y="0"/>
                        </a:lnTo>
                        <a:lnTo>
                          <a:pt x="5086" y="0"/>
                        </a:lnTo>
                        <a:lnTo>
                          <a:pt x="5113" y="0"/>
                        </a:lnTo>
                        <a:lnTo>
                          <a:pt x="5141" y="0"/>
                        </a:lnTo>
                        <a:lnTo>
                          <a:pt x="5169" y="0"/>
                        </a:lnTo>
                        <a:lnTo>
                          <a:pt x="5210" y="0"/>
                        </a:lnTo>
                        <a:lnTo>
                          <a:pt x="5238" y="0"/>
                        </a:lnTo>
                        <a:lnTo>
                          <a:pt x="5266" y="0"/>
                        </a:lnTo>
                        <a:lnTo>
                          <a:pt x="5293" y="0"/>
                        </a:lnTo>
                        <a:lnTo>
                          <a:pt x="5321" y="0"/>
                        </a:lnTo>
                        <a:lnTo>
                          <a:pt x="5349" y="0"/>
                        </a:lnTo>
                        <a:lnTo>
                          <a:pt x="5390" y="0"/>
                        </a:lnTo>
                        <a:lnTo>
                          <a:pt x="5418" y="0"/>
                        </a:lnTo>
                        <a:lnTo>
                          <a:pt x="5445" y="0"/>
                        </a:lnTo>
                        <a:lnTo>
                          <a:pt x="5473" y="0"/>
                        </a:lnTo>
                        <a:lnTo>
                          <a:pt x="5501" y="0"/>
                        </a:lnTo>
                        <a:lnTo>
                          <a:pt x="5528" y="0"/>
                        </a:lnTo>
                        <a:lnTo>
                          <a:pt x="5570" y="0"/>
                        </a:lnTo>
                        <a:lnTo>
                          <a:pt x="5597" y="0"/>
                        </a:lnTo>
                        <a:lnTo>
                          <a:pt x="5625" y="0"/>
                        </a:lnTo>
                        <a:lnTo>
                          <a:pt x="5653" y="0"/>
                        </a:lnTo>
                        <a:lnTo>
                          <a:pt x="5680" y="0"/>
                        </a:lnTo>
                        <a:lnTo>
                          <a:pt x="5722" y="0"/>
                        </a:lnTo>
                        <a:lnTo>
                          <a:pt x="5750" y="0"/>
                        </a:lnTo>
                        <a:lnTo>
                          <a:pt x="5777" y="0"/>
                        </a:lnTo>
                        <a:lnTo>
                          <a:pt x="5805" y="0"/>
                        </a:lnTo>
                        <a:lnTo>
                          <a:pt x="5834" y="0"/>
                        </a:lnTo>
                        <a:lnTo>
                          <a:pt x="5862" y="0"/>
                        </a:lnTo>
                        <a:lnTo>
                          <a:pt x="5875" y="15"/>
                        </a:lnTo>
                        <a:lnTo>
                          <a:pt x="5917" y="15"/>
                        </a:lnTo>
                        <a:lnTo>
                          <a:pt x="5945" y="32"/>
                        </a:lnTo>
                        <a:lnTo>
                          <a:pt x="5986" y="47"/>
                        </a:lnTo>
                        <a:lnTo>
                          <a:pt x="6028" y="64"/>
                        </a:lnTo>
                        <a:lnTo>
                          <a:pt x="6055" y="79"/>
                        </a:lnTo>
                        <a:lnTo>
                          <a:pt x="6097" y="94"/>
                        </a:lnTo>
                        <a:lnTo>
                          <a:pt x="6124" y="111"/>
                        </a:lnTo>
                        <a:lnTo>
                          <a:pt x="6152" y="126"/>
                        </a:lnTo>
                        <a:lnTo>
                          <a:pt x="6180" y="126"/>
                        </a:lnTo>
                        <a:lnTo>
                          <a:pt x="6221" y="143"/>
                        </a:lnTo>
                        <a:lnTo>
                          <a:pt x="6249" y="158"/>
                        </a:lnTo>
                        <a:lnTo>
                          <a:pt x="6277" y="173"/>
                        </a:lnTo>
                        <a:lnTo>
                          <a:pt x="6304" y="190"/>
                        </a:lnTo>
                        <a:lnTo>
                          <a:pt x="6332" y="205"/>
                        </a:lnTo>
                        <a:lnTo>
                          <a:pt x="6360" y="222"/>
                        </a:lnTo>
                        <a:lnTo>
                          <a:pt x="6401" y="237"/>
                        </a:lnTo>
                        <a:lnTo>
                          <a:pt x="6429" y="252"/>
                        </a:lnTo>
                        <a:lnTo>
                          <a:pt x="6456" y="269"/>
                        </a:lnTo>
                        <a:lnTo>
                          <a:pt x="6484" y="284"/>
                        </a:lnTo>
                        <a:lnTo>
                          <a:pt x="6512" y="300"/>
                        </a:lnTo>
                        <a:lnTo>
                          <a:pt x="6539" y="331"/>
                        </a:lnTo>
                        <a:lnTo>
                          <a:pt x="6567" y="347"/>
                        </a:lnTo>
                        <a:lnTo>
                          <a:pt x="6595" y="363"/>
                        </a:lnTo>
                        <a:lnTo>
                          <a:pt x="6624" y="379"/>
                        </a:lnTo>
                        <a:lnTo>
                          <a:pt x="6651" y="395"/>
                        </a:lnTo>
                        <a:lnTo>
                          <a:pt x="6679" y="410"/>
                        </a:lnTo>
                        <a:lnTo>
                          <a:pt x="6707" y="426"/>
                        </a:lnTo>
                        <a:lnTo>
                          <a:pt x="6734" y="458"/>
                        </a:lnTo>
                        <a:lnTo>
                          <a:pt x="6748" y="473"/>
                        </a:lnTo>
                        <a:lnTo>
                          <a:pt x="6776" y="489"/>
                        </a:lnTo>
                        <a:lnTo>
                          <a:pt x="6804" y="505"/>
                        </a:lnTo>
                        <a:lnTo>
                          <a:pt x="6831" y="537"/>
                        </a:lnTo>
                        <a:lnTo>
                          <a:pt x="6845" y="552"/>
                        </a:lnTo>
                        <a:lnTo>
                          <a:pt x="6873" y="567"/>
                        </a:lnTo>
                        <a:lnTo>
                          <a:pt x="6900" y="584"/>
                        </a:lnTo>
                        <a:lnTo>
                          <a:pt x="6928" y="616"/>
                        </a:lnTo>
                        <a:lnTo>
                          <a:pt x="6942" y="631"/>
                        </a:lnTo>
                        <a:lnTo>
                          <a:pt x="6970" y="646"/>
                        </a:lnTo>
                        <a:lnTo>
                          <a:pt x="6997" y="678"/>
                        </a:lnTo>
                        <a:lnTo>
                          <a:pt x="7011" y="695"/>
                        </a:lnTo>
                        <a:lnTo>
                          <a:pt x="7039" y="725"/>
                        </a:lnTo>
                        <a:lnTo>
                          <a:pt x="7066" y="742"/>
                        </a:lnTo>
                        <a:lnTo>
                          <a:pt x="7080" y="757"/>
                        </a:lnTo>
                        <a:lnTo>
                          <a:pt x="7108" y="789"/>
                        </a:lnTo>
                        <a:lnTo>
                          <a:pt x="7122" y="804"/>
                        </a:lnTo>
                        <a:lnTo>
                          <a:pt x="7149" y="836"/>
                        </a:lnTo>
                        <a:lnTo>
                          <a:pt x="7163" y="852"/>
                        </a:lnTo>
                        <a:lnTo>
                          <a:pt x="7191" y="883"/>
                        </a:lnTo>
                        <a:lnTo>
                          <a:pt x="7205" y="915"/>
                        </a:lnTo>
                        <a:lnTo>
                          <a:pt x="7232" y="931"/>
                        </a:lnTo>
                        <a:lnTo>
                          <a:pt x="7246" y="962"/>
                        </a:lnTo>
                        <a:lnTo>
                          <a:pt x="7274" y="978"/>
                        </a:lnTo>
                        <a:lnTo>
                          <a:pt x="7288" y="1010"/>
                        </a:lnTo>
                        <a:lnTo>
                          <a:pt x="7315" y="1041"/>
                        </a:lnTo>
                        <a:lnTo>
                          <a:pt x="7329" y="1057"/>
                        </a:lnTo>
                        <a:lnTo>
                          <a:pt x="7343" y="1089"/>
                        </a:lnTo>
                        <a:lnTo>
                          <a:pt x="7357" y="1120"/>
                        </a:lnTo>
                        <a:lnTo>
                          <a:pt x="7384" y="1136"/>
                        </a:lnTo>
                        <a:lnTo>
                          <a:pt x="7398" y="1168"/>
                        </a:lnTo>
                        <a:lnTo>
                          <a:pt x="7412" y="1198"/>
                        </a:lnTo>
                        <a:lnTo>
                          <a:pt x="7427" y="1247"/>
                        </a:lnTo>
                        <a:lnTo>
                          <a:pt x="7441" y="1262"/>
                        </a:lnTo>
                        <a:lnTo>
                          <a:pt x="7455" y="1294"/>
                        </a:lnTo>
                        <a:lnTo>
                          <a:pt x="7483" y="1326"/>
                        </a:lnTo>
                        <a:lnTo>
                          <a:pt x="7496" y="1356"/>
                        </a:lnTo>
                        <a:lnTo>
                          <a:pt x="7496" y="1388"/>
                        </a:lnTo>
                        <a:lnTo>
                          <a:pt x="7510" y="1420"/>
                        </a:lnTo>
                        <a:lnTo>
                          <a:pt x="7524" y="1452"/>
                        </a:lnTo>
                        <a:lnTo>
                          <a:pt x="7538" y="1483"/>
                        </a:lnTo>
                        <a:lnTo>
                          <a:pt x="7552" y="1514"/>
                        </a:lnTo>
                        <a:lnTo>
                          <a:pt x="7566" y="1546"/>
                        </a:lnTo>
                        <a:lnTo>
                          <a:pt x="7566" y="1578"/>
                        </a:lnTo>
                        <a:lnTo>
                          <a:pt x="7579" y="1609"/>
                        </a:lnTo>
                        <a:lnTo>
                          <a:pt x="7593" y="1641"/>
                        </a:lnTo>
                        <a:lnTo>
                          <a:pt x="7593" y="1672"/>
                        </a:lnTo>
                        <a:lnTo>
                          <a:pt x="7607" y="1703"/>
                        </a:lnTo>
                        <a:lnTo>
                          <a:pt x="7607" y="1735"/>
                        </a:lnTo>
                        <a:lnTo>
                          <a:pt x="7621" y="1767"/>
                        </a:lnTo>
                        <a:lnTo>
                          <a:pt x="7621" y="1799"/>
                        </a:lnTo>
                        <a:lnTo>
                          <a:pt x="7635" y="1846"/>
                        </a:lnTo>
                        <a:lnTo>
                          <a:pt x="7635" y="1893"/>
                        </a:lnTo>
                        <a:lnTo>
                          <a:pt x="7649" y="1940"/>
                        </a:lnTo>
                        <a:lnTo>
                          <a:pt x="7649" y="1987"/>
                        </a:lnTo>
                        <a:lnTo>
                          <a:pt x="7662" y="2036"/>
                        </a:lnTo>
                        <a:lnTo>
                          <a:pt x="7662" y="2066"/>
                        </a:lnTo>
                        <a:lnTo>
                          <a:pt x="7662" y="2114"/>
                        </a:lnTo>
                        <a:lnTo>
                          <a:pt x="7662" y="2145"/>
                        </a:lnTo>
                        <a:lnTo>
                          <a:pt x="7662" y="2193"/>
                        </a:lnTo>
                        <a:lnTo>
                          <a:pt x="7662" y="2225"/>
                        </a:lnTo>
                        <a:lnTo>
                          <a:pt x="7662" y="2256"/>
                        </a:lnTo>
                        <a:lnTo>
                          <a:pt x="7662" y="2304"/>
                        </a:lnTo>
                        <a:lnTo>
                          <a:pt x="7662" y="2334"/>
                        </a:lnTo>
                        <a:lnTo>
                          <a:pt x="7662" y="2366"/>
                        </a:lnTo>
                        <a:lnTo>
                          <a:pt x="7662" y="2398"/>
                        </a:lnTo>
                        <a:lnTo>
                          <a:pt x="7662" y="2445"/>
                        </a:lnTo>
                        <a:lnTo>
                          <a:pt x="7649" y="2477"/>
                        </a:lnTo>
                        <a:lnTo>
                          <a:pt x="7649" y="2509"/>
                        </a:lnTo>
                        <a:lnTo>
                          <a:pt x="7649" y="2556"/>
                        </a:lnTo>
                        <a:lnTo>
                          <a:pt x="7635" y="2588"/>
                        </a:lnTo>
                        <a:lnTo>
                          <a:pt x="7635" y="2635"/>
                        </a:lnTo>
                        <a:lnTo>
                          <a:pt x="7621" y="2667"/>
                        </a:lnTo>
                        <a:lnTo>
                          <a:pt x="7621" y="2714"/>
                        </a:lnTo>
                        <a:lnTo>
                          <a:pt x="7607" y="2745"/>
                        </a:lnTo>
                        <a:lnTo>
                          <a:pt x="7593" y="2777"/>
                        </a:lnTo>
                        <a:lnTo>
                          <a:pt x="7593" y="2824"/>
                        </a:lnTo>
                        <a:lnTo>
                          <a:pt x="7579" y="2856"/>
                        </a:lnTo>
                        <a:lnTo>
                          <a:pt x="7566" y="2887"/>
                        </a:lnTo>
                        <a:lnTo>
                          <a:pt x="7552" y="2918"/>
                        </a:lnTo>
                        <a:lnTo>
                          <a:pt x="7552" y="2950"/>
                        </a:lnTo>
                        <a:lnTo>
                          <a:pt x="7538" y="2982"/>
                        </a:lnTo>
                        <a:lnTo>
                          <a:pt x="7524" y="3014"/>
                        </a:lnTo>
                        <a:lnTo>
                          <a:pt x="7510" y="3044"/>
                        </a:lnTo>
                        <a:lnTo>
                          <a:pt x="7496" y="3076"/>
                        </a:lnTo>
                        <a:lnTo>
                          <a:pt x="7483" y="3108"/>
                        </a:lnTo>
                        <a:lnTo>
                          <a:pt x="7469" y="3140"/>
                        </a:lnTo>
                        <a:lnTo>
                          <a:pt x="7455" y="3172"/>
                        </a:lnTo>
                        <a:lnTo>
                          <a:pt x="7441" y="3202"/>
                        </a:lnTo>
                        <a:lnTo>
                          <a:pt x="7412" y="3234"/>
                        </a:lnTo>
                        <a:lnTo>
                          <a:pt x="7398" y="3266"/>
                        </a:lnTo>
                        <a:lnTo>
                          <a:pt x="7384" y="3297"/>
                        </a:lnTo>
                        <a:lnTo>
                          <a:pt x="7371" y="3313"/>
                        </a:lnTo>
                        <a:lnTo>
                          <a:pt x="7343" y="3345"/>
                        </a:lnTo>
                        <a:lnTo>
                          <a:pt x="7329" y="3376"/>
                        </a:lnTo>
                        <a:lnTo>
                          <a:pt x="7315" y="3408"/>
                        </a:lnTo>
                        <a:lnTo>
                          <a:pt x="7288" y="3423"/>
                        </a:lnTo>
                        <a:lnTo>
                          <a:pt x="7274" y="3455"/>
                        </a:lnTo>
                        <a:lnTo>
                          <a:pt x="7246" y="3487"/>
                        </a:lnTo>
                        <a:lnTo>
                          <a:pt x="7232" y="3502"/>
                        </a:lnTo>
                        <a:lnTo>
                          <a:pt x="7205" y="3534"/>
                        </a:lnTo>
                        <a:lnTo>
                          <a:pt x="7177" y="3566"/>
                        </a:lnTo>
                        <a:lnTo>
                          <a:pt x="7163" y="3581"/>
                        </a:lnTo>
                        <a:lnTo>
                          <a:pt x="7135" y="3613"/>
                        </a:lnTo>
                        <a:lnTo>
                          <a:pt x="7122" y="3628"/>
                        </a:lnTo>
                        <a:lnTo>
                          <a:pt x="7094" y="3660"/>
                        </a:lnTo>
                        <a:lnTo>
                          <a:pt x="7066" y="3675"/>
                        </a:lnTo>
                        <a:lnTo>
                          <a:pt x="7053" y="3707"/>
                        </a:lnTo>
                        <a:lnTo>
                          <a:pt x="7025" y="3724"/>
                        </a:lnTo>
                        <a:lnTo>
                          <a:pt x="6997" y="3739"/>
                        </a:lnTo>
                        <a:lnTo>
                          <a:pt x="6983" y="3771"/>
                        </a:lnTo>
                        <a:lnTo>
                          <a:pt x="6956" y="3786"/>
                        </a:lnTo>
                        <a:lnTo>
                          <a:pt x="6928" y="3818"/>
                        </a:lnTo>
                        <a:lnTo>
                          <a:pt x="6900" y="3833"/>
                        </a:lnTo>
                        <a:lnTo>
                          <a:pt x="6887" y="3850"/>
                        </a:lnTo>
                        <a:lnTo>
                          <a:pt x="6859" y="3881"/>
                        </a:lnTo>
                        <a:lnTo>
                          <a:pt x="6831" y="3897"/>
                        </a:lnTo>
                        <a:lnTo>
                          <a:pt x="6804" y="3912"/>
                        </a:lnTo>
                        <a:lnTo>
                          <a:pt x="6776" y="3944"/>
                        </a:lnTo>
                        <a:lnTo>
                          <a:pt x="6762" y="3960"/>
                        </a:lnTo>
                        <a:lnTo>
                          <a:pt x="6734" y="3975"/>
                        </a:lnTo>
                        <a:lnTo>
                          <a:pt x="6707" y="3991"/>
                        </a:lnTo>
                        <a:lnTo>
                          <a:pt x="6679" y="4007"/>
                        </a:lnTo>
                        <a:lnTo>
                          <a:pt x="6651" y="4039"/>
                        </a:lnTo>
                        <a:lnTo>
                          <a:pt x="6609" y="4054"/>
                        </a:lnTo>
                        <a:lnTo>
                          <a:pt x="6595" y="4070"/>
                        </a:lnTo>
                        <a:lnTo>
                          <a:pt x="6567" y="4086"/>
                        </a:lnTo>
                        <a:lnTo>
                          <a:pt x="6539" y="4101"/>
                        </a:lnTo>
                        <a:lnTo>
                          <a:pt x="6512" y="4118"/>
                        </a:lnTo>
                        <a:lnTo>
                          <a:pt x="6484" y="4133"/>
                        </a:lnTo>
                        <a:lnTo>
                          <a:pt x="6456" y="4148"/>
                        </a:lnTo>
                        <a:lnTo>
                          <a:pt x="6429" y="4165"/>
                        </a:lnTo>
                        <a:lnTo>
                          <a:pt x="6401" y="4180"/>
                        </a:lnTo>
                        <a:lnTo>
                          <a:pt x="6373" y="4197"/>
                        </a:lnTo>
                        <a:lnTo>
                          <a:pt x="6346" y="4212"/>
                        </a:lnTo>
                        <a:lnTo>
                          <a:pt x="6318" y="4227"/>
                        </a:lnTo>
                        <a:lnTo>
                          <a:pt x="6290" y="4244"/>
                        </a:lnTo>
                        <a:lnTo>
                          <a:pt x="6263" y="4259"/>
                        </a:lnTo>
                        <a:lnTo>
                          <a:pt x="6235" y="4276"/>
                        </a:lnTo>
                        <a:lnTo>
                          <a:pt x="6207" y="4291"/>
                        </a:lnTo>
                        <a:lnTo>
                          <a:pt x="6180" y="4306"/>
                        </a:lnTo>
                        <a:lnTo>
                          <a:pt x="6152" y="4306"/>
                        </a:lnTo>
                        <a:lnTo>
                          <a:pt x="6124" y="4323"/>
                        </a:lnTo>
                        <a:lnTo>
                          <a:pt x="6097" y="4338"/>
                        </a:lnTo>
                        <a:lnTo>
                          <a:pt x="6069" y="4355"/>
                        </a:lnTo>
                        <a:lnTo>
                          <a:pt x="6041" y="4370"/>
                        </a:lnTo>
                        <a:lnTo>
                          <a:pt x="6014" y="4370"/>
                        </a:lnTo>
                        <a:lnTo>
                          <a:pt x="5986" y="4385"/>
                        </a:lnTo>
                        <a:lnTo>
                          <a:pt x="5958" y="4402"/>
                        </a:lnTo>
                        <a:lnTo>
                          <a:pt x="5931" y="4402"/>
                        </a:lnTo>
                        <a:lnTo>
                          <a:pt x="5903" y="4417"/>
                        </a:lnTo>
                        <a:lnTo>
                          <a:pt x="5862" y="4417"/>
                        </a:lnTo>
                        <a:lnTo>
                          <a:pt x="5834" y="4417"/>
                        </a:lnTo>
                        <a:lnTo>
                          <a:pt x="5805" y="4417"/>
                        </a:lnTo>
                        <a:lnTo>
                          <a:pt x="5777" y="4417"/>
                        </a:lnTo>
                        <a:lnTo>
                          <a:pt x="5750" y="4417"/>
                        </a:lnTo>
                        <a:lnTo>
                          <a:pt x="5722" y="4417"/>
                        </a:lnTo>
                        <a:lnTo>
                          <a:pt x="5680" y="4417"/>
                        </a:lnTo>
                        <a:lnTo>
                          <a:pt x="5653" y="4417"/>
                        </a:lnTo>
                        <a:lnTo>
                          <a:pt x="5625" y="4417"/>
                        </a:lnTo>
                        <a:lnTo>
                          <a:pt x="5597" y="4417"/>
                        </a:lnTo>
                        <a:lnTo>
                          <a:pt x="5570" y="4417"/>
                        </a:lnTo>
                        <a:lnTo>
                          <a:pt x="5528" y="4417"/>
                        </a:lnTo>
                        <a:lnTo>
                          <a:pt x="5501" y="4417"/>
                        </a:lnTo>
                        <a:lnTo>
                          <a:pt x="5473" y="4417"/>
                        </a:lnTo>
                        <a:lnTo>
                          <a:pt x="5445" y="4417"/>
                        </a:lnTo>
                        <a:lnTo>
                          <a:pt x="5418" y="4417"/>
                        </a:lnTo>
                        <a:lnTo>
                          <a:pt x="5390" y="4417"/>
                        </a:lnTo>
                        <a:lnTo>
                          <a:pt x="5349" y="4417"/>
                        </a:lnTo>
                        <a:lnTo>
                          <a:pt x="5321" y="4417"/>
                        </a:lnTo>
                        <a:lnTo>
                          <a:pt x="5293" y="4417"/>
                        </a:lnTo>
                        <a:lnTo>
                          <a:pt x="5266" y="4417"/>
                        </a:lnTo>
                        <a:lnTo>
                          <a:pt x="5238" y="4417"/>
                        </a:lnTo>
                        <a:lnTo>
                          <a:pt x="5210" y="4417"/>
                        </a:lnTo>
                        <a:lnTo>
                          <a:pt x="5169" y="4417"/>
                        </a:lnTo>
                        <a:lnTo>
                          <a:pt x="5141" y="4417"/>
                        </a:lnTo>
                        <a:lnTo>
                          <a:pt x="5113" y="4417"/>
                        </a:lnTo>
                        <a:lnTo>
                          <a:pt x="5086" y="4417"/>
                        </a:lnTo>
                        <a:lnTo>
                          <a:pt x="5058" y="4417"/>
                        </a:lnTo>
                        <a:lnTo>
                          <a:pt x="5030" y="4417"/>
                        </a:lnTo>
                        <a:lnTo>
                          <a:pt x="4988" y="4417"/>
                        </a:lnTo>
                        <a:lnTo>
                          <a:pt x="4960" y="4417"/>
                        </a:lnTo>
                        <a:lnTo>
                          <a:pt x="4932" y="4417"/>
                        </a:lnTo>
                        <a:lnTo>
                          <a:pt x="4905" y="4417"/>
                        </a:lnTo>
                        <a:lnTo>
                          <a:pt x="4877" y="4417"/>
                        </a:lnTo>
                        <a:lnTo>
                          <a:pt x="4849" y="4417"/>
                        </a:lnTo>
                        <a:lnTo>
                          <a:pt x="4808" y="4417"/>
                        </a:lnTo>
                        <a:lnTo>
                          <a:pt x="4780" y="4417"/>
                        </a:lnTo>
                        <a:lnTo>
                          <a:pt x="4752" y="4417"/>
                        </a:lnTo>
                        <a:lnTo>
                          <a:pt x="4725" y="4417"/>
                        </a:lnTo>
                        <a:lnTo>
                          <a:pt x="4697" y="4417"/>
                        </a:lnTo>
                        <a:lnTo>
                          <a:pt x="4656" y="4417"/>
                        </a:lnTo>
                        <a:lnTo>
                          <a:pt x="4628" y="4417"/>
                        </a:lnTo>
                        <a:lnTo>
                          <a:pt x="4600" y="4417"/>
                        </a:lnTo>
                        <a:lnTo>
                          <a:pt x="4573" y="4417"/>
                        </a:lnTo>
                        <a:lnTo>
                          <a:pt x="4545" y="4417"/>
                        </a:lnTo>
                        <a:lnTo>
                          <a:pt x="4517" y="4417"/>
                        </a:lnTo>
                        <a:lnTo>
                          <a:pt x="4476" y="4417"/>
                        </a:lnTo>
                        <a:lnTo>
                          <a:pt x="4448" y="4417"/>
                        </a:lnTo>
                        <a:lnTo>
                          <a:pt x="4420" y="4417"/>
                        </a:lnTo>
                        <a:lnTo>
                          <a:pt x="4393" y="4417"/>
                        </a:lnTo>
                        <a:lnTo>
                          <a:pt x="4365" y="4417"/>
                        </a:lnTo>
                        <a:lnTo>
                          <a:pt x="4337" y="4417"/>
                        </a:lnTo>
                        <a:lnTo>
                          <a:pt x="4296" y="4417"/>
                        </a:lnTo>
                        <a:lnTo>
                          <a:pt x="4268" y="4417"/>
                        </a:lnTo>
                        <a:lnTo>
                          <a:pt x="4241" y="4417"/>
                        </a:lnTo>
                        <a:lnTo>
                          <a:pt x="4212" y="4417"/>
                        </a:lnTo>
                        <a:lnTo>
                          <a:pt x="4184" y="4417"/>
                        </a:lnTo>
                        <a:lnTo>
                          <a:pt x="4156" y="4417"/>
                        </a:lnTo>
                        <a:lnTo>
                          <a:pt x="4115" y="4417"/>
                        </a:lnTo>
                        <a:lnTo>
                          <a:pt x="4087" y="4417"/>
                        </a:lnTo>
                        <a:lnTo>
                          <a:pt x="4059" y="4417"/>
                        </a:lnTo>
                        <a:lnTo>
                          <a:pt x="4032" y="4417"/>
                        </a:lnTo>
                        <a:lnTo>
                          <a:pt x="4004" y="4417"/>
                        </a:lnTo>
                        <a:lnTo>
                          <a:pt x="3963" y="4417"/>
                        </a:lnTo>
                        <a:lnTo>
                          <a:pt x="3921" y="4417"/>
                        </a:lnTo>
                        <a:lnTo>
                          <a:pt x="3893" y="4417"/>
                        </a:lnTo>
                        <a:lnTo>
                          <a:pt x="3866" y="4417"/>
                        </a:lnTo>
                        <a:lnTo>
                          <a:pt x="3838" y="4417"/>
                        </a:lnTo>
                        <a:lnTo>
                          <a:pt x="3810" y="4417"/>
                        </a:lnTo>
                        <a:lnTo>
                          <a:pt x="3769" y="4417"/>
                        </a:lnTo>
                        <a:lnTo>
                          <a:pt x="3741" y="4417"/>
                        </a:lnTo>
                        <a:lnTo>
                          <a:pt x="3714" y="4417"/>
                        </a:lnTo>
                        <a:lnTo>
                          <a:pt x="3686" y="4417"/>
                        </a:lnTo>
                        <a:lnTo>
                          <a:pt x="3658" y="4417"/>
                        </a:lnTo>
                        <a:lnTo>
                          <a:pt x="3631" y="4417"/>
                        </a:lnTo>
                        <a:lnTo>
                          <a:pt x="3589" y="4417"/>
                        </a:lnTo>
                        <a:lnTo>
                          <a:pt x="3562" y="4417"/>
                        </a:lnTo>
                        <a:lnTo>
                          <a:pt x="3534" y="4417"/>
                        </a:lnTo>
                        <a:lnTo>
                          <a:pt x="3506" y="4417"/>
                        </a:lnTo>
                        <a:lnTo>
                          <a:pt x="3479" y="4417"/>
                        </a:lnTo>
                        <a:lnTo>
                          <a:pt x="3451" y="4417"/>
                        </a:lnTo>
                        <a:lnTo>
                          <a:pt x="3408" y="4417"/>
                        </a:lnTo>
                        <a:lnTo>
                          <a:pt x="3380" y="4417"/>
                        </a:lnTo>
                        <a:lnTo>
                          <a:pt x="3353" y="4417"/>
                        </a:lnTo>
                        <a:lnTo>
                          <a:pt x="3325" y="4417"/>
                        </a:lnTo>
                        <a:lnTo>
                          <a:pt x="3297" y="4417"/>
                        </a:lnTo>
                        <a:lnTo>
                          <a:pt x="3270" y="4417"/>
                        </a:lnTo>
                        <a:lnTo>
                          <a:pt x="3228" y="4417"/>
                        </a:lnTo>
                        <a:lnTo>
                          <a:pt x="3201" y="4417"/>
                        </a:lnTo>
                        <a:lnTo>
                          <a:pt x="3173" y="4417"/>
                        </a:lnTo>
                        <a:lnTo>
                          <a:pt x="3145" y="4417"/>
                        </a:lnTo>
                        <a:lnTo>
                          <a:pt x="3118" y="4417"/>
                        </a:lnTo>
                        <a:lnTo>
                          <a:pt x="3090" y="4417"/>
                        </a:lnTo>
                        <a:lnTo>
                          <a:pt x="3048" y="4417"/>
                        </a:lnTo>
                        <a:lnTo>
                          <a:pt x="3021" y="4417"/>
                        </a:lnTo>
                        <a:lnTo>
                          <a:pt x="2993" y="4417"/>
                        </a:lnTo>
                        <a:lnTo>
                          <a:pt x="2965" y="4417"/>
                        </a:lnTo>
                        <a:lnTo>
                          <a:pt x="2938" y="4417"/>
                        </a:lnTo>
                        <a:lnTo>
                          <a:pt x="2896" y="4417"/>
                        </a:lnTo>
                        <a:lnTo>
                          <a:pt x="2869" y="4417"/>
                        </a:lnTo>
                        <a:lnTo>
                          <a:pt x="2841" y="4417"/>
                        </a:lnTo>
                        <a:lnTo>
                          <a:pt x="2813" y="4417"/>
                        </a:lnTo>
                        <a:lnTo>
                          <a:pt x="2786" y="4417"/>
                        </a:lnTo>
                        <a:lnTo>
                          <a:pt x="2758" y="4417"/>
                        </a:lnTo>
                        <a:lnTo>
                          <a:pt x="2716" y="4417"/>
                        </a:lnTo>
                        <a:lnTo>
                          <a:pt x="2689" y="4417"/>
                        </a:lnTo>
                        <a:lnTo>
                          <a:pt x="2661" y="4417"/>
                        </a:lnTo>
                        <a:lnTo>
                          <a:pt x="2632" y="4417"/>
                        </a:lnTo>
                        <a:lnTo>
                          <a:pt x="2604" y="4417"/>
                        </a:lnTo>
                        <a:lnTo>
                          <a:pt x="2577" y="4417"/>
                        </a:lnTo>
                        <a:lnTo>
                          <a:pt x="2535" y="4417"/>
                        </a:lnTo>
                        <a:lnTo>
                          <a:pt x="2508" y="4417"/>
                        </a:lnTo>
                        <a:lnTo>
                          <a:pt x="2480" y="4417"/>
                        </a:lnTo>
                        <a:lnTo>
                          <a:pt x="2452" y="4417"/>
                        </a:lnTo>
                        <a:lnTo>
                          <a:pt x="2425" y="4417"/>
                        </a:lnTo>
                        <a:lnTo>
                          <a:pt x="2397" y="4417"/>
                        </a:lnTo>
                        <a:lnTo>
                          <a:pt x="2355" y="4417"/>
                        </a:lnTo>
                        <a:lnTo>
                          <a:pt x="2328" y="4417"/>
                        </a:lnTo>
                        <a:lnTo>
                          <a:pt x="2300" y="4417"/>
                        </a:lnTo>
                        <a:lnTo>
                          <a:pt x="2272" y="4417"/>
                        </a:lnTo>
                        <a:lnTo>
                          <a:pt x="2245" y="4417"/>
                        </a:lnTo>
                        <a:lnTo>
                          <a:pt x="2217" y="4417"/>
                        </a:lnTo>
                        <a:lnTo>
                          <a:pt x="2176" y="4417"/>
                        </a:lnTo>
                        <a:lnTo>
                          <a:pt x="2148" y="4417"/>
                        </a:lnTo>
                        <a:lnTo>
                          <a:pt x="2120" y="4417"/>
                        </a:lnTo>
                        <a:lnTo>
                          <a:pt x="2093" y="4417"/>
                        </a:lnTo>
                        <a:lnTo>
                          <a:pt x="2065" y="4417"/>
                        </a:lnTo>
                        <a:lnTo>
                          <a:pt x="2037" y="4417"/>
                        </a:lnTo>
                        <a:lnTo>
                          <a:pt x="1996" y="4417"/>
                        </a:lnTo>
                        <a:lnTo>
                          <a:pt x="1968" y="4417"/>
                        </a:lnTo>
                        <a:lnTo>
                          <a:pt x="1940" y="4417"/>
                        </a:lnTo>
                        <a:lnTo>
                          <a:pt x="1913" y="4417"/>
                        </a:lnTo>
                        <a:lnTo>
                          <a:pt x="1885" y="4417"/>
                        </a:lnTo>
                        <a:lnTo>
                          <a:pt x="1844" y="4417"/>
                        </a:lnTo>
                        <a:lnTo>
                          <a:pt x="1815" y="4417"/>
                        </a:lnTo>
                        <a:lnTo>
                          <a:pt x="1787" y="44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45280" y="3754440"/>
                  <a:ext cx="601560" cy="358920"/>
                  <a:chOff x="5345280" y="3754440"/>
                  <a:chExt cx="601560" cy="358920"/>
                </a:xfrm>
              </p:grpSpPr>
              <p:sp>
                <p:nvSpPr>
                  <p:cNvPr id="920" name=""/>
                  <p:cNvSpPr/>
                  <p:nvPr/>
                </p:nvSpPr>
                <p:spPr>
                  <a:xfrm>
                    <a:off x="5345280" y="3754440"/>
                    <a:ext cx="601560" cy="358920"/>
                  </a:xfrm>
                  <a:custGeom>
                    <a:avLst/>
                    <a:gdLst/>
                    <a:ahLst/>
                    <a:rect l="l" t="t" r="r" b="b"/>
                    <a:pathLst>
                      <a:path w="1136" h="678">
                        <a:moveTo>
                          <a:pt x="1136" y="678"/>
                        </a:moveTo>
                        <a:lnTo>
                          <a:pt x="1108" y="678"/>
                        </a:lnTo>
                        <a:lnTo>
                          <a:pt x="1081" y="663"/>
                        </a:lnTo>
                        <a:lnTo>
                          <a:pt x="1053" y="663"/>
                        </a:lnTo>
                        <a:lnTo>
                          <a:pt x="1025" y="646"/>
                        </a:lnTo>
                        <a:lnTo>
                          <a:pt x="984" y="631"/>
                        </a:lnTo>
                        <a:lnTo>
                          <a:pt x="956" y="631"/>
                        </a:lnTo>
                        <a:lnTo>
                          <a:pt x="929" y="616"/>
                        </a:lnTo>
                        <a:lnTo>
                          <a:pt x="901" y="599"/>
                        </a:lnTo>
                        <a:lnTo>
                          <a:pt x="873" y="584"/>
                        </a:lnTo>
                        <a:lnTo>
                          <a:pt x="846" y="567"/>
                        </a:lnTo>
                        <a:lnTo>
                          <a:pt x="818" y="567"/>
                        </a:lnTo>
                        <a:lnTo>
                          <a:pt x="790" y="552"/>
                        </a:lnTo>
                        <a:lnTo>
                          <a:pt x="763" y="537"/>
                        </a:lnTo>
                        <a:lnTo>
                          <a:pt x="735" y="520"/>
                        </a:lnTo>
                        <a:lnTo>
                          <a:pt x="707" y="505"/>
                        </a:lnTo>
                        <a:lnTo>
                          <a:pt x="680" y="488"/>
                        </a:lnTo>
                        <a:lnTo>
                          <a:pt x="638" y="473"/>
                        </a:lnTo>
                        <a:lnTo>
                          <a:pt x="610" y="458"/>
                        </a:lnTo>
                        <a:lnTo>
                          <a:pt x="583" y="441"/>
                        </a:lnTo>
                        <a:lnTo>
                          <a:pt x="555" y="426"/>
                        </a:lnTo>
                        <a:lnTo>
                          <a:pt x="527" y="409"/>
                        </a:lnTo>
                        <a:lnTo>
                          <a:pt x="500" y="394"/>
                        </a:lnTo>
                        <a:lnTo>
                          <a:pt x="486" y="379"/>
                        </a:lnTo>
                        <a:lnTo>
                          <a:pt x="458" y="362"/>
                        </a:lnTo>
                        <a:lnTo>
                          <a:pt x="431" y="347"/>
                        </a:lnTo>
                        <a:lnTo>
                          <a:pt x="403" y="331"/>
                        </a:lnTo>
                        <a:lnTo>
                          <a:pt x="374" y="315"/>
                        </a:lnTo>
                        <a:lnTo>
                          <a:pt x="346" y="300"/>
                        </a:lnTo>
                        <a:lnTo>
                          <a:pt x="319" y="268"/>
                        </a:lnTo>
                        <a:lnTo>
                          <a:pt x="291" y="252"/>
                        </a:lnTo>
                        <a:lnTo>
                          <a:pt x="277" y="236"/>
                        </a:lnTo>
                        <a:lnTo>
                          <a:pt x="249" y="221"/>
                        </a:lnTo>
                        <a:lnTo>
                          <a:pt x="222" y="205"/>
                        </a:lnTo>
                        <a:lnTo>
                          <a:pt x="194" y="173"/>
                        </a:lnTo>
                        <a:lnTo>
                          <a:pt x="166" y="158"/>
                        </a:lnTo>
                        <a:lnTo>
                          <a:pt x="153" y="142"/>
                        </a:lnTo>
                        <a:lnTo>
                          <a:pt x="125" y="111"/>
                        </a:lnTo>
                        <a:lnTo>
                          <a:pt x="97" y="94"/>
                        </a:lnTo>
                        <a:lnTo>
                          <a:pt x="70" y="79"/>
                        </a:lnTo>
                        <a:lnTo>
                          <a:pt x="56" y="47"/>
                        </a:lnTo>
                        <a:lnTo>
                          <a:pt x="28" y="32"/>
                        </a:lnTo>
                        <a:lnTo>
                          <a:pt x="0" y="0"/>
                        </a:lnTo>
                        <a:lnTo>
                          <a:pt x="1136" y="67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345280" y="3754440"/>
                    <a:ext cx="601560" cy="358920"/>
                  </a:xfrm>
                  <a:custGeom>
                    <a:avLst/>
                    <a:gdLst/>
                    <a:ahLst/>
                    <a:rect l="l" t="t" r="r" b="b"/>
                    <a:pathLst>
                      <a:path w="1136" h="678">
                        <a:moveTo>
                          <a:pt x="1136" y="678"/>
                        </a:moveTo>
                        <a:lnTo>
                          <a:pt x="1108" y="678"/>
                        </a:lnTo>
                        <a:lnTo>
                          <a:pt x="1081" y="663"/>
                        </a:lnTo>
                        <a:lnTo>
                          <a:pt x="1053" y="663"/>
                        </a:lnTo>
                        <a:lnTo>
                          <a:pt x="1025" y="646"/>
                        </a:lnTo>
                        <a:lnTo>
                          <a:pt x="984" y="631"/>
                        </a:lnTo>
                        <a:lnTo>
                          <a:pt x="956" y="631"/>
                        </a:lnTo>
                        <a:lnTo>
                          <a:pt x="929" y="616"/>
                        </a:lnTo>
                        <a:lnTo>
                          <a:pt x="901" y="599"/>
                        </a:lnTo>
                        <a:lnTo>
                          <a:pt x="873" y="584"/>
                        </a:lnTo>
                        <a:lnTo>
                          <a:pt x="846" y="567"/>
                        </a:lnTo>
                        <a:lnTo>
                          <a:pt x="818" y="567"/>
                        </a:lnTo>
                        <a:lnTo>
                          <a:pt x="790" y="552"/>
                        </a:lnTo>
                        <a:lnTo>
                          <a:pt x="763" y="537"/>
                        </a:lnTo>
                        <a:lnTo>
                          <a:pt x="735" y="520"/>
                        </a:lnTo>
                        <a:lnTo>
                          <a:pt x="707" y="505"/>
                        </a:lnTo>
                        <a:lnTo>
                          <a:pt x="680" y="488"/>
                        </a:lnTo>
                        <a:lnTo>
                          <a:pt x="638" y="473"/>
                        </a:lnTo>
                        <a:lnTo>
                          <a:pt x="610" y="458"/>
                        </a:lnTo>
                        <a:lnTo>
                          <a:pt x="583" y="441"/>
                        </a:lnTo>
                        <a:lnTo>
                          <a:pt x="555" y="426"/>
                        </a:lnTo>
                        <a:lnTo>
                          <a:pt x="527" y="409"/>
                        </a:lnTo>
                        <a:lnTo>
                          <a:pt x="500" y="394"/>
                        </a:lnTo>
                        <a:lnTo>
                          <a:pt x="486" y="379"/>
                        </a:lnTo>
                        <a:lnTo>
                          <a:pt x="458" y="362"/>
                        </a:lnTo>
                        <a:lnTo>
                          <a:pt x="431" y="347"/>
                        </a:lnTo>
                        <a:lnTo>
                          <a:pt x="403" y="331"/>
                        </a:lnTo>
                        <a:lnTo>
                          <a:pt x="374" y="315"/>
                        </a:lnTo>
                        <a:lnTo>
                          <a:pt x="346" y="300"/>
                        </a:lnTo>
                        <a:lnTo>
                          <a:pt x="319" y="268"/>
                        </a:lnTo>
                        <a:lnTo>
                          <a:pt x="291" y="252"/>
                        </a:lnTo>
                        <a:lnTo>
                          <a:pt x="277" y="236"/>
                        </a:lnTo>
                        <a:lnTo>
                          <a:pt x="249" y="221"/>
                        </a:lnTo>
                        <a:lnTo>
                          <a:pt x="222" y="205"/>
                        </a:lnTo>
                        <a:lnTo>
                          <a:pt x="194" y="173"/>
                        </a:lnTo>
                        <a:lnTo>
                          <a:pt x="166" y="158"/>
                        </a:lnTo>
                        <a:lnTo>
                          <a:pt x="153" y="142"/>
                        </a:lnTo>
                        <a:lnTo>
                          <a:pt x="125" y="111"/>
                        </a:lnTo>
                        <a:lnTo>
                          <a:pt x="97" y="94"/>
                        </a:lnTo>
                        <a:lnTo>
                          <a:pt x="70" y="79"/>
                        </a:lnTo>
                        <a:lnTo>
                          <a:pt x="56" y="47"/>
                        </a:lnTo>
                        <a:lnTo>
                          <a:pt x="28"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5059440" y="3336840"/>
                  <a:ext cx="285840" cy="417600"/>
                  <a:chOff x="5059440" y="3336840"/>
                  <a:chExt cx="285840" cy="417600"/>
                </a:xfrm>
              </p:grpSpPr>
              <p:sp>
                <p:nvSpPr>
                  <p:cNvPr id="923" name=""/>
                  <p:cNvSpPr/>
                  <p:nvPr/>
                </p:nvSpPr>
                <p:spPr>
                  <a:xfrm>
                    <a:off x="5059440" y="3336840"/>
                    <a:ext cx="285840" cy="417600"/>
                  </a:xfrm>
                  <a:custGeom>
                    <a:avLst/>
                    <a:gdLst/>
                    <a:ahLst/>
                    <a:rect l="l" t="t" r="r" b="b"/>
                    <a:pathLst>
                      <a:path w="540" h="789">
                        <a:moveTo>
                          <a:pt x="540" y="789"/>
                        </a:moveTo>
                        <a:lnTo>
                          <a:pt x="513" y="774"/>
                        </a:lnTo>
                        <a:lnTo>
                          <a:pt x="499" y="757"/>
                        </a:lnTo>
                        <a:lnTo>
                          <a:pt x="471" y="725"/>
                        </a:lnTo>
                        <a:lnTo>
                          <a:pt x="444" y="710"/>
                        </a:lnTo>
                        <a:lnTo>
                          <a:pt x="430" y="678"/>
                        </a:lnTo>
                        <a:lnTo>
                          <a:pt x="402" y="663"/>
                        </a:lnTo>
                        <a:lnTo>
                          <a:pt x="388" y="631"/>
                        </a:lnTo>
                        <a:lnTo>
                          <a:pt x="361" y="616"/>
                        </a:lnTo>
                        <a:lnTo>
                          <a:pt x="333" y="584"/>
                        </a:lnTo>
                        <a:lnTo>
                          <a:pt x="319" y="552"/>
                        </a:lnTo>
                        <a:lnTo>
                          <a:pt x="291" y="537"/>
                        </a:lnTo>
                        <a:lnTo>
                          <a:pt x="278" y="505"/>
                        </a:lnTo>
                        <a:lnTo>
                          <a:pt x="250" y="473"/>
                        </a:lnTo>
                        <a:lnTo>
                          <a:pt x="236" y="458"/>
                        </a:lnTo>
                        <a:lnTo>
                          <a:pt x="222" y="426"/>
                        </a:lnTo>
                        <a:lnTo>
                          <a:pt x="195" y="395"/>
                        </a:lnTo>
                        <a:lnTo>
                          <a:pt x="181" y="363"/>
                        </a:lnTo>
                        <a:lnTo>
                          <a:pt x="167" y="347"/>
                        </a:lnTo>
                        <a:lnTo>
                          <a:pt x="139" y="316"/>
                        </a:lnTo>
                        <a:lnTo>
                          <a:pt x="124" y="284"/>
                        </a:lnTo>
                        <a:lnTo>
                          <a:pt x="110" y="252"/>
                        </a:lnTo>
                        <a:lnTo>
                          <a:pt x="96" y="222"/>
                        </a:lnTo>
                        <a:lnTo>
                          <a:pt x="83" y="190"/>
                        </a:lnTo>
                        <a:lnTo>
                          <a:pt x="55" y="158"/>
                        </a:lnTo>
                        <a:lnTo>
                          <a:pt x="41" y="126"/>
                        </a:lnTo>
                        <a:lnTo>
                          <a:pt x="27" y="94"/>
                        </a:lnTo>
                        <a:lnTo>
                          <a:pt x="13" y="64"/>
                        </a:lnTo>
                        <a:lnTo>
                          <a:pt x="13" y="32"/>
                        </a:lnTo>
                        <a:lnTo>
                          <a:pt x="0" y="0"/>
                        </a:lnTo>
                        <a:lnTo>
                          <a:pt x="540" y="78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059440" y="3336840"/>
                    <a:ext cx="285840" cy="417600"/>
                  </a:xfrm>
                  <a:custGeom>
                    <a:avLst/>
                    <a:gdLst/>
                    <a:ahLst/>
                    <a:rect l="l" t="t" r="r" b="b"/>
                    <a:pathLst>
                      <a:path w="540" h="789">
                        <a:moveTo>
                          <a:pt x="540" y="789"/>
                        </a:moveTo>
                        <a:lnTo>
                          <a:pt x="513" y="774"/>
                        </a:lnTo>
                        <a:lnTo>
                          <a:pt x="499" y="757"/>
                        </a:lnTo>
                        <a:lnTo>
                          <a:pt x="471" y="725"/>
                        </a:lnTo>
                        <a:lnTo>
                          <a:pt x="444" y="710"/>
                        </a:lnTo>
                        <a:lnTo>
                          <a:pt x="430" y="678"/>
                        </a:lnTo>
                        <a:lnTo>
                          <a:pt x="402" y="663"/>
                        </a:lnTo>
                        <a:lnTo>
                          <a:pt x="388" y="631"/>
                        </a:lnTo>
                        <a:lnTo>
                          <a:pt x="361" y="616"/>
                        </a:lnTo>
                        <a:lnTo>
                          <a:pt x="333" y="584"/>
                        </a:lnTo>
                        <a:lnTo>
                          <a:pt x="319" y="552"/>
                        </a:lnTo>
                        <a:lnTo>
                          <a:pt x="291" y="537"/>
                        </a:lnTo>
                        <a:lnTo>
                          <a:pt x="278" y="505"/>
                        </a:lnTo>
                        <a:lnTo>
                          <a:pt x="250" y="473"/>
                        </a:lnTo>
                        <a:lnTo>
                          <a:pt x="236" y="458"/>
                        </a:lnTo>
                        <a:lnTo>
                          <a:pt x="222" y="426"/>
                        </a:lnTo>
                        <a:lnTo>
                          <a:pt x="195" y="395"/>
                        </a:lnTo>
                        <a:lnTo>
                          <a:pt x="181" y="363"/>
                        </a:lnTo>
                        <a:lnTo>
                          <a:pt x="167" y="347"/>
                        </a:lnTo>
                        <a:lnTo>
                          <a:pt x="139" y="316"/>
                        </a:lnTo>
                        <a:lnTo>
                          <a:pt x="124" y="284"/>
                        </a:lnTo>
                        <a:lnTo>
                          <a:pt x="110" y="252"/>
                        </a:lnTo>
                        <a:lnTo>
                          <a:pt x="96" y="222"/>
                        </a:lnTo>
                        <a:lnTo>
                          <a:pt x="83" y="190"/>
                        </a:lnTo>
                        <a:lnTo>
                          <a:pt x="55" y="158"/>
                        </a:lnTo>
                        <a:lnTo>
                          <a:pt x="41" y="126"/>
                        </a:lnTo>
                        <a:lnTo>
                          <a:pt x="27" y="94"/>
                        </a:lnTo>
                        <a:lnTo>
                          <a:pt x="13" y="64"/>
                        </a:lnTo>
                        <a:lnTo>
                          <a:pt x="13"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5000760" y="3009960"/>
                  <a:ext cx="58680" cy="326880"/>
                  <a:chOff x="5000760" y="3009960"/>
                  <a:chExt cx="58680" cy="326880"/>
                </a:xfrm>
              </p:grpSpPr>
              <p:sp>
                <p:nvSpPr>
                  <p:cNvPr id="926" name=""/>
                  <p:cNvSpPr/>
                  <p:nvPr/>
                </p:nvSpPr>
                <p:spPr>
                  <a:xfrm>
                    <a:off x="5000760" y="3009960"/>
                    <a:ext cx="58680" cy="326880"/>
                  </a:xfrm>
                  <a:custGeom>
                    <a:avLst/>
                    <a:gdLst/>
                    <a:ahLst/>
                    <a:rect l="l" t="t" r="r" b="b"/>
                    <a:pathLst>
                      <a:path w="111" h="616">
                        <a:moveTo>
                          <a:pt x="111" y="616"/>
                        </a:moveTo>
                        <a:lnTo>
                          <a:pt x="97" y="584"/>
                        </a:lnTo>
                        <a:lnTo>
                          <a:pt x="83" y="553"/>
                        </a:lnTo>
                        <a:lnTo>
                          <a:pt x="83" y="522"/>
                        </a:lnTo>
                        <a:lnTo>
                          <a:pt x="69" y="490"/>
                        </a:lnTo>
                        <a:lnTo>
                          <a:pt x="55" y="443"/>
                        </a:lnTo>
                        <a:lnTo>
                          <a:pt x="55" y="411"/>
                        </a:lnTo>
                        <a:lnTo>
                          <a:pt x="41" y="380"/>
                        </a:lnTo>
                        <a:lnTo>
                          <a:pt x="28" y="333"/>
                        </a:lnTo>
                        <a:lnTo>
                          <a:pt x="28" y="301"/>
                        </a:lnTo>
                        <a:lnTo>
                          <a:pt x="14" y="254"/>
                        </a:lnTo>
                        <a:lnTo>
                          <a:pt x="14" y="222"/>
                        </a:lnTo>
                        <a:lnTo>
                          <a:pt x="0" y="175"/>
                        </a:lnTo>
                        <a:lnTo>
                          <a:pt x="0" y="143"/>
                        </a:lnTo>
                        <a:lnTo>
                          <a:pt x="0" y="111"/>
                        </a:lnTo>
                        <a:lnTo>
                          <a:pt x="0" y="64"/>
                        </a:lnTo>
                        <a:lnTo>
                          <a:pt x="0" y="32"/>
                        </a:lnTo>
                        <a:lnTo>
                          <a:pt x="0" y="0"/>
                        </a:lnTo>
                        <a:lnTo>
                          <a:pt x="111" y="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000760" y="3009960"/>
                    <a:ext cx="58680" cy="326880"/>
                  </a:xfrm>
                  <a:custGeom>
                    <a:avLst/>
                    <a:gdLst/>
                    <a:ahLst/>
                    <a:rect l="l" t="t" r="r" b="b"/>
                    <a:pathLst>
                      <a:path w="111" h="616">
                        <a:moveTo>
                          <a:pt x="111" y="616"/>
                        </a:moveTo>
                        <a:lnTo>
                          <a:pt x="97" y="584"/>
                        </a:lnTo>
                        <a:lnTo>
                          <a:pt x="83" y="553"/>
                        </a:lnTo>
                        <a:lnTo>
                          <a:pt x="83" y="522"/>
                        </a:lnTo>
                        <a:lnTo>
                          <a:pt x="69" y="490"/>
                        </a:lnTo>
                        <a:lnTo>
                          <a:pt x="55" y="443"/>
                        </a:lnTo>
                        <a:lnTo>
                          <a:pt x="55" y="411"/>
                        </a:lnTo>
                        <a:lnTo>
                          <a:pt x="41" y="380"/>
                        </a:lnTo>
                        <a:lnTo>
                          <a:pt x="28" y="333"/>
                        </a:lnTo>
                        <a:lnTo>
                          <a:pt x="28" y="301"/>
                        </a:lnTo>
                        <a:lnTo>
                          <a:pt x="14" y="254"/>
                        </a:lnTo>
                        <a:lnTo>
                          <a:pt x="14" y="222"/>
                        </a:lnTo>
                        <a:lnTo>
                          <a:pt x="0" y="175"/>
                        </a:lnTo>
                        <a:lnTo>
                          <a:pt x="0" y="143"/>
                        </a:lnTo>
                        <a:lnTo>
                          <a:pt x="0" y="111"/>
                        </a:lnTo>
                        <a:lnTo>
                          <a:pt x="0" y="64"/>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00760" y="2852640"/>
                  <a:ext cx="1440" cy="157320"/>
                  <a:chOff x="5000760" y="2852640"/>
                  <a:chExt cx="1440" cy="157320"/>
                </a:xfrm>
              </p:grpSpPr>
              <p:sp>
                <p:nvSpPr>
                  <p:cNvPr id="929" name=""/>
                  <p:cNvSpPr/>
                  <p:nvPr/>
                </p:nvSpPr>
                <p:spPr>
                  <a:xfrm>
                    <a:off x="5000760" y="2852640"/>
                    <a:ext cx="1440" cy="157320"/>
                  </a:xfrm>
                  <a:custGeom>
                    <a:avLst/>
                    <a:gdLst/>
                    <a:ahLst/>
                    <a:rect l="l" t="t" r="r" b="b"/>
                    <a:pathLst>
                      <a:path w="0" h="298">
                        <a:moveTo>
                          <a:pt x="0" y="298"/>
                        </a:moveTo>
                        <a:lnTo>
                          <a:pt x="0" y="268"/>
                        </a:lnTo>
                        <a:lnTo>
                          <a:pt x="0" y="220"/>
                        </a:lnTo>
                        <a:lnTo>
                          <a:pt x="0" y="189"/>
                        </a:lnTo>
                        <a:lnTo>
                          <a:pt x="0" y="157"/>
                        </a:lnTo>
                        <a:lnTo>
                          <a:pt x="0" y="109"/>
                        </a:lnTo>
                        <a:lnTo>
                          <a:pt x="0" y="78"/>
                        </a:lnTo>
                        <a:lnTo>
                          <a:pt x="0" y="30"/>
                        </a:lnTo>
                        <a:lnTo>
                          <a:pt x="0" y="0"/>
                        </a:lnTo>
                        <a:lnTo>
                          <a:pt x="0" y="29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000760" y="2852640"/>
                    <a:ext cx="1440" cy="157320"/>
                  </a:xfrm>
                  <a:custGeom>
                    <a:avLst/>
                    <a:gdLst/>
                    <a:ahLst/>
                    <a:rect l="l" t="t" r="r" b="b"/>
                    <a:pathLst>
                      <a:path w="0" h="298">
                        <a:moveTo>
                          <a:pt x="0" y="298"/>
                        </a:moveTo>
                        <a:lnTo>
                          <a:pt x="0" y="268"/>
                        </a:lnTo>
                        <a:lnTo>
                          <a:pt x="0" y="220"/>
                        </a:lnTo>
                        <a:lnTo>
                          <a:pt x="0" y="189"/>
                        </a:lnTo>
                        <a:lnTo>
                          <a:pt x="0" y="157"/>
                        </a:lnTo>
                        <a:lnTo>
                          <a:pt x="0" y="109"/>
                        </a:lnTo>
                        <a:lnTo>
                          <a:pt x="0" y="78"/>
                        </a:lnTo>
                        <a:lnTo>
                          <a:pt x="0" y="3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5000760" y="2727360"/>
                  <a:ext cx="14040" cy="125280"/>
                  <a:chOff x="5000760" y="2727360"/>
                  <a:chExt cx="14040" cy="125280"/>
                </a:xfrm>
              </p:grpSpPr>
              <p:sp>
                <p:nvSpPr>
                  <p:cNvPr id="932" name=""/>
                  <p:cNvSpPr/>
                  <p:nvPr/>
                </p:nvSpPr>
                <p:spPr>
                  <a:xfrm>
                    <a:off x="5000760" y="2727360"/>
                    <a:ext cx="14040" cy="125280"/>
                  </a:xfrm>
                  <a:custGeom>
                    <a:avLst/>
                    <a:gdLst/>
                    <a:ahLst/>
                    <a:rect l="l" t="t" r="r" b="b"/>
                    <a:pathLst>
                      <a:path w="28" h="237">
                        <a:moveTo>
                          <a:pt x="0" y="237"/>
                        </a:moveTo>
                        <a:lnTo>
                          <a:pt x="0" y="188"/>
                        </a:lnTo>
                        <a:lnTo>
                          <a:pt x="14" y="141"/>
                        </a:lnTo>
                        <a:lnTo>
                          <a:pt x="14" y="94"/>
                        </a:lnTo>
                        <a:lnTo>
                          <a:pt x="28" y="47"/>
                        </a:lnTo>
                        <a:lnTo>
                          <a:pt x="28" y="0"/>
                        </a:lnTo>
                        <a:lnTo>
                          <a:pt x="0" y="2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000760" y="2727360"/>
                    <a:ext cx="14040" cy="125280"/>
                  </a:xfrm>
                  <a:custGeom>
                    <a:avLst/>
                    <a:gdLst/>
                    <a:ahLst/>
                    <a:rect l="l" t="t" r="r" b="b"/>
                    <a:pathLst>
                      <a:path w="28" h="237">
                        <a:moveTo>
                          <a:pt x="0" y="237"/>
                        </a:moveTo>
                        <a:lnTo>
                          <a:pt x="0" y="188"/>
                        </a:lnTo>
                        <a:lnTo>
                          <a:pt x="14" y="141"/>
                        </a:lnTo>
                        <a:lnTo>
                          <a:pt x="14" y="94"/>
                        </a:lnTo>
                        <a:lnTo>
                          <a:pt x="28" y="47"/>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5014800" y="1959120"/>
                  <a:ext cx="559080" cy="768240"/>
                  <a:chOff x="5014800" y="1959120"/>
                  <a:chExt cx="559080" cy="768240"/>
                </a:xfrm>
              </p:grpSpPr>
              <p:sp>
                <p:nvSpPr>
                  <p:cNvPr id="935" name=""/>
                  <p:cNvSpPr/>
                  <p:nvPr/>
                </p:nvSpPr>
                <p:spPr>
                  <a:xfrm>
                    <a:off x="5014800" y="1959120"/>
                    <a:ext cx="559080" cy="768240"/>
                  </a:xfrm>
                  <a:custGeom>
                    <a:avLst/>
                    <a:gdLst/>
                    <a:ahLst/>
                    <a:rect l="l" t="t" r="r" b="b"/>
                    <a:pathLst>
                      <a:path w="1054" h="1452">
                        <a:moveTo>
                          <a:pt x="0" y="1452"/>
                        </a:moveTo>
                        <a:lnTo>
                          <a:pt x="13" y="1420"/>
                        </a:lnTo>
                        <a:lnTo>
                          <a:pt x="13" y="1388"/>
                        </a:lnTo>
                        <a:lnTo>
                          <a:pt x="27" y="1356"/>
                        </a:lnTo>
                        <a:lnTo>
                          <a:pt x="27" y="1325"/>
                        </a:lnTo>
                        <a:lnTo>
                          <a:pt x="41" y="1294"/>
                        </a:lnTo>
                        <a:lnTo>
                          <a:pt x="41" y="1262"/>
                        </a:lnTo>
                        <a:lnTo>
                          <a:pt x="55" y="1231"/>
                        </a:lnTo>
                        <a:lnTo>
                          <a:pt x="69" y="1199"/>
                        </a:lnTo>
                        <a:lnTo>
                          <a:pt x="83" y="1167"/>
                        </a:lnTo>
                        <a:lnTo>
                          <a:pt x="83" y="1136"/>
                        </a:lnTo>
                        <a:lnTo>
                          <a:pt x="96" y="1105"/>
                        </a:lnTo>
                        <a:lnTo>
                          <a:pt x="110" y="1073"/>
                        </a:lnTo>
                        <a:lnTo>
                          <a:pt x="124" y="1041"/>
                        </a:lnTo>
                        <a:lnTo>
                          <a:pt x="138" y="1009"/>
                        </a:lnTo>
                        <a:lnTo>
                          <a:pt x="152" y="979"/>
                        </a:lnTo>
                        <a:lnTo>
                          <a:pt x="166" y="947"/>
                        </a:lnTo>
                        <a:lnTo>
                          <a:pt x="179" y="915"/>
                        </a:lnTo>
                        <a:lnTo>
                          <a:pt x="193" y="900"/>
                        </a:lnTo>
                        <a:lnTo>
                          <a:pt x="207" y="851"/>
                        </a:lnTo>
                        <a:lnTo>
                          <a:pt x="236" y="821"/>
                        </a:lnTo>
                        <a:lnTo>
                          <a:pt x="250" y="789"/>
                        </a:lnTo>
                        <a:lnTo>
                          <a:pt x="264" y="773"/>
                        </a:lnTo>
                        <a:lnTo>
                          <a:pt x="278" y="742"/>
                        </a:lnTo>
                        <a:lnTo>
                          <a:pt x="305" y="710"/>
                        </a:lnTo>
                        <a:lnTo>
                          <a:pt x="319" y="694"/>
                        </a:lnTo>
                        <a:lnTo>
                          <a:pt x="333" y="663"/>
                        </a:lnTo>
                        <a:lnTo>
                          <a:pt x="361" y="631"/>
                        </a:lnTo>
                        <a:lnTo>
                          <a:pt x="374" y="615"/>
                        </a:lnTo>
                        <a:lnTo>
                          <a:pt x="402" y="584"/>
                        </a:lnTo>
                        <a:lnTo>
                          <a:pt x="416" y="568"/>
                        </a:lnTo>
                        <a:lnTo>
                          <a:pt x="444" y="536"/>
                        </a:lnTo>
                        <a:lnTo>
                          <a:pt x="457" y="505"/>
                        </a:lnTo>
                        <a:lnTo>
                          <a:pt x="485" y="489"/>
                        </a:lnTo>
                        <a:lnTo>
                          <a:pt x="499" y="457"/>
                        </a:lnTo>
                        <a:lnTo>
                          <a:pt x="527" y="442"/>
                        </a:lnTo>
                        <a:lnTo>
                          <a:pt x="540" y="410"/>
                        </a:lnTo>
                        <a:lnTo>
                          <a:pt x="568" y="395"/>
                        </a:lnTo>
                        <a:lnTo>
                          <a:pt x="596" y="378"/>
                        </a:lnTo>
                        <a:lnTo>
                          <a:pt x="610" y="348"/>
                        </a:lnTo>
                        <a:lnTo>
                          <a:pt x="637" y="331"/>
                        </a:lnTo>
                        <a:lnTo>
                          <a:pt x="651" y="299"/>
                        </a:lnTo>
                        <a:lnTo>
                          <a:pt x="679" y="284"/>
                        </a:lnTo>
                        <a:lnTo>
                          <a:pt x="706" y="269"/>
                        </a:lnTo>
                        <a:lnTo>
                          <a:pt x="734" y="237"/>
                        </a:lnTo>
                        <a:lnTo>
                          <a:pt x="748" y="220"/>
                        </a:lnTo>
                        <a:lnTo>
                          <a:pt x="776" y="205"/>
                        </a:lnTo>
                        <a:lnTo>
                          <a:pt x="803" y="190"/>
                        </a:lnTo>
                        <a:lnTo>
                          <a:pt x="831" y="158"/>
                        </a:lnTo>
                        <a:lnTo>
                          <a:pt x="845" y="142"/>
                        </a:lnTo>
                        <a:lnTo>
                          <a:pt x="872" y="126"/>
                        </a:lnTo>
                        <a:lnTo>
                          <a:pt x="900" y="111"/>
                        </a:lnTo>
                        <a:lnTo>
                          <a:pt x="928" y="79"/>
                        </a:lnTo>
                        <a:lnTo>
                          <a:pt x="942" y="63"/>
                        </a:lnTo>
                        <a:lnTo>
                          <a:pt x="969" y="48"/>
                        </a:lnTo>
                        <a:lnTo>
                          <a:pt x="997" y="32"/>
                        </a:lnTo>
                        <a:lnTo>
                          <a:pt x="1026" y="16"/>
                        </a:lnTo>
                        <a:lnTo>
                          <a:pt x="1054" y="0"/>
                        </a:lnTo>
                        <a:lnTo>
                          <a:pt x="0" y="14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014800" y="1959120"/>
                    <a:ext cx="559080" cy="768240"/>
                  </a:xfrm>
                  <a:custGeom>
                    <a:avLst/>
                    <a:gdLst/>
                    <a:ahLst/>
                    <a:rect l="l" t="t" r="r" b="b"/>
                    <a:pathLst>
                      <a:path w="1054" h="1452">
                        <a:moveTo>
                          <a:pt x="0" y="1452"/>
                        </a:moveTo>
                        <a:lnTo>
                          <a:pt x="13" y="1420"/>
                        </a:lnTo>
                        <a:lnTo>
                          <a:pt x="13" y="1388"/>
                        </a:lnTo>
                        <a:lnTo>
                          <a:pt x="27" y="1356"/>
                        </a:lnTo>
                        <a:lnTo>
                          <a:pt x="27" y="1325"/>
                        </a:lnTo>
                        <a:lnTo>
                          <a:pt x="41" y="1294"/>
                        </a:lnTo>
                        <a:lnTo>
                          <a:pt x="41" y="1262"/>
                        </a:lnTo>
                        <a:lnTo>
                          <a:pt x="55" y="1231"/>
                        </a:lnTo>
                        <a:lnTo>
                          <a:pt x="69" y="1199"/>
                        </a:lnTo>
                        <a:lnTo>
                          <a:pt x="83" y="1167"/>
                        </a:lnTo>
                        <a:lnTo>
                          <a:pt x="83" y="1136"/>
                        </a:lnTo>
                        <a:lnTo>
                          <a:pt x="96" y="1105"/>
                        </a:lnTo>
                        <a:lnTo>
                          <a:pt x="110" y="1073"/>
                        </a:lnTo>
                        <a:lnTo>
                          <a:pt x="124" y="1041"/>
                        </a:lnTo>
                        <a:lnTo>
                          <a:pt x="138" y="1009"/>
                        </a:lnTo>
                        <a:lnTo>
                          <a:pt x="152" y="979"/>
                        </a:lnTo>
                        <a:lnTo>
                          <a:pt x="166" y="947"/>
                        </a:lnTo>
                        <a:lnTo>
                          <a:pt x="179" y="915"/>
                        </a:lnTo>
                        <a:lnTo>
                          <a:pt x="193" y="900"/>
                        </a:lnTo>
                        <a:lnTo>
                          <a:pt x="207" y="851"/>
                        </a:lnTo>
                        <a:lnTo>
                          <a:pt x="236" y="821"/>
                        </a:lnTo>
                        <a:lnTo>
                          <a:pt x="250" y="789"/>
                        </a:lnTo>
                        <a:lnTo>
                          <a:pt x="264" y="773"/>
                        </a:lnTo>
                        <a:lnTo>
                          <a:pt x="278" y="742"/>
                        </a:lnTo>
                        <a:lnTo>
                          <a:pt x="305" y="710"/>
                        </a:lnTo>
                        <a:lnTo>
                          <a:pt x="319" y="694"/>
                        </a:lnTo>
                        <a:lnTo>
                          <a:pt x="333" y="663"/>
                        </a:lnTo>
                        <a:lnTo>
                          <a:pt x="361" y="631"/>
                        </a:lnTo>
                        <a:lnTo>
                          <a:pt x="374" y="615"/>
                        </a:lnTo>
                        <a:lnTo>
                          <a:pt x="402" y="584"/>
                        </a:lnTo>
                        <a:lnTo>
                          <a:pt x="416" y="568"/>
                        </a:lnTo>
                        <a:lnTo>
                          <a:pt x="444" y="536"/>
                        </a:lnTo>
                        <a:lnTo>
                          <a:pt x="457" y="505"/>
                        </a:lnTo>
                        <a:lnTo>
                          <a:pt x="485" y="489"/>
                        </a:lnTo>
                        <a:lnTo>
                          <a:pt x="499" y="457"/>
                        </a:lnTo>
                        <a:lnTo>
                          <a:pt x="527" y="442"/>
                        </a:lnTo>
                        <a:lnTo>
                          <a:pt x="540" y="410"/>
                        </a:lnTo>
                        <a:lnTo>
                          <a:pt x="568" y="395"/>
                        </a:lnTo>
                        <a:lnTo>
                          <a:pt x="596" y="378"/>
                        </a:lnTo>
                        <a:lnTo>
                          <a:pt x="610" y="348"/>
                        </a:lnTo>
                        <a:lnTo>
                          <a:pt x="637" y="331"/>
                        </a:lnTo>
                        <a:lnTo>
                          <a:pt x="651" y="299"/>
                        </a:lnTo>
                        <a:lnTo>
                          <a:pt x="679" y="284"/>
                        </a:lnTo>
                        <a:lnTo>
                          <a:pt x="706" y="269"/>
                        </a:lnTo>
                        <a:lnTo>
                          <a:pt x="734" y="237"/>
                        </a:lnTo>
                        <a:lnTo>
                          <a:pt x="748" y="220"/>
                        </a:lnTo>
                        <a:lnTo>
                          <a:pt x="776" y="205"/>
                        </a:lnTo>
                        <a:lnTo>
                          <a:pt x="803" y="190"/>
                        </a:lnTo>
                        <a:lnTo>
                          <a:pt x="831" y="158"/>
                        </a:lnTo>
                        <a:lnTo>
                          <a:pt x="845" y="142"/>
                        </a:lnTo>
                        <a:lnTo>
                          <a:pt x="872" y="126"/>
                        </a:lnTo>
                        <a:lnTo>
                          <a:pt x="900" y="111"/>
                        </a:lnTo>
                        <a:lnTo>
                          <a:pt x="928" y="79"/>
                        </a:lnTo>
                        <a:lnTo>
                          <a:pt x="942" y="63"/>
                        </a:lnTo>
                        <a:lnTo>
                          <a:pt x="969" y="48"/>
                        </a:lnTo>
                        <a:lnTo>
                          <a:pt x="997" y="32"/>
                        </a:lnTo>
                        <a:lnTo>
                          <a:pt x="1026" y="16"/>
                        </a:lnTo>
                        <a:lnTo>
                          <a:pt x="10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573880" y="1825560"/>
                  <a:ext cx="255600" cy="133560"/>
                  <a:chOff x="5573880" y="1825560"/>
                  <a:chExt cx="255600" cy="133560"/>
                </a:xfrm>
              </p:grpSpPr>
              <p:sp>
                <p:nvSpPr>
                  <p:cNvPr id="938" name=""/>
                  <p:cNvSpPr/>
                  <p:nvPr/>
                </p:nvSpPr>
                <p:spPr>
                  <a:xfrm>
                    <a:off x="5573880" y="1825560"/>
                    <a:ext cx="255600" cy="133560"/>
                  </a:xfrm>
                  <a:custGeom>
                    <a:avLst/>
                    <a:gdLst/>
                    <a:ahLst/>
                    <a:rect l="l" t="t" r="r" b="b"/>
                    <a:pathLst>
                      <a:path w="484" h="253">
                        <a:moveTo>
                          <a:pt x="0" y="253"/>
                        </a:moveTo>
                        <a:lnTo>
                          <a:pt x="27" y="237"/>
                        </a:lnTo>
                        <a:lnTo>
                          <a:pt x="55" y="206"/>
                        </a:lnTo>
                        <a:lnTo>
                          <a:pt x="83" y="190"/>
                        </a:lnTo>
                        <a:lnTo>
                          <a:pt x="110" y="175"/>
                        </a:lnTo>
                        <a:lnTo>
                          <a:pt x="138" y="158"/>
                        </a:lnTo>
                        <a:lnTo>
                          <a:pt x="166" y="143"/>
                        </a:lnTo>
                        <a:lnTo>
                          <a:pt x="193" y="128"/>
                        </a:lnTo>
                        <a:lnTo>
                          <a:pt x="221" y="111"/>
                        </a:lnTo>
                        <a:lnTo>
                          <a:pt x="262" y="96"/>
                        </a:lnTo>
                        <a:lnTo>
                          <a:pt x="290" y="79"/>
                        </a:lnTo>
                        <a:lnTo>
                          <a:pt x="332" y="64"/>
                        </a:lnTo>
                        <a:lnTo>
                          <a:pt x="359" y="49"/>
                        </a:lnTo>
                        <a:lnTo>
                          <a:pt x="387" y="32"/>
                        </a:lnTo>
                        <a:lnTo>
                          <a:pt x="415" y="32"/>
                        </a:lnTo>
                        <a:lnTo>
                          <a:pt x="442" y="17"/>
                        </a:lnTo>
                        <a:lnTo>
                          <a:pt x="484"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573880" y="1825560"/>
                    <a:ext cx="255600" cy="133560"/>
                  </a:xfrm>
                  <a:custGeom>
                    <a:avLst/>
                    <a:gdLst/>
                    <a:ahLst/>
                    <a:rect l="l" t="t" r="r" b="b"/>
                    <a:pathLst>
                      <a:path w="484" h="253">
                        <a:moveTo>
                          <a:pt x="0" y="253"/>
                        </a:moveTo>
                        <a:lnTo>
                          <a:pt x="27" y="237"/>
                        </a:lnTo>
                        <a:lnTo>
                          <a:pt x="55" y="206"/>
                        </a:lnTo>
                        <a:lnTo>
                          <a:pt x="83" y="190"/>
                        </a:lnTo>
                        <a:lnTo>
                          <a:pt x="110" y="175"/>
                        </a:lnTo>
                        <a:lnTo>
                          <a:pt x="138" y="158"/>
                        </a:lnTo>
                        <a:lnTo>
                          <a:pt x="166" y="143"/>
                        </a:lnTo>
                        <a:lnTo>
                          <a:pt x="193" y="128"/>
                        </a:lnTo>
                        <a:lnTo>
                          <a:pt x="221" y="111"/>
                        </a:lnTo>
                        <a:lnTo>
                          <a:pt x="262" y="96"/>
                        </a:lnTo>
                        <a:lnTo>
                          <a:pt x="290" y="79"/>
                        </a:lnTo>
                        <a:lnTo>
                          <a:pt x="332" y="64"/>
                        </a:lnTo>
                        <a:lnTo>
                          <a:pt x="359" y="49"/>
                        </a:lnTo>
                        <a:lnTo>
                          <a:pt x="387" y="32"/>
                        </a:lnTo>
                        <a:lnTo>
                          <a:pt x="415" y="32"/>
                        </a:lnTo>
                        <a:lnTo>
                          <a:pt x="442" y="17"/>
                        </a:lnTo>
                        <a:lnTo>
                          <a:pt x="48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829480" y="1792440"/>
                  <a:ext cx="72720" cy="33120"/>
                  <a:chOff x="5829480" y="1792440"/>
                  <a:chExt cx="72720" cy="33120"/>
                </a:xfrm>
              </p:grpSpPr>
              <p:sp>
                <p:nvSpPr>
                  <p:cNvPr id="941" name=""/>
                  <p:cNvSpPr/>
                  <p:nvPr/>
                </p:nvSpPr>
                <p:spPr>
                  <a:xfrm>
                    <a:off x="5829480" y="1792440"/>
                    <a:ext cx="72720" cy="33120"/>
                  </a:xfrm>
                  <a:custGeom>
                    <a:avLst/>
                    <a:gdLst/>
                    <a:ahLst/>
                    <a:rect l="l" t="t" r="r" b="b"/>
                    <a:pathLst>
                      <a:path w="138" h="62">
                        <a:moveTo>
                          <a:pt x="0" y="62"/>
                        </a:moveTo>
                        <a:lnTo>
                          <a:pt x="27" y="47"/>
                        </a:lnTo>
                        <a:lnTo>
                          <a:pt x="69" y="32"/>
                        </a:lnTo>
                        <a:lnTo>
                          <a:pt x="110" y="15"/>
                        </a:lnTo>
                        <a:lnTo>
                          <a:pt x="138"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2" name=""/>
                  <p:cNvSpPr/>
                  <p:nvPr/>
                </p:nvSpPr>
                <p:spPr>
                  <a:xfrm>
                    <a:off x="5829480" y="1792440"/>
                    <a:ext cx="72720" cy="33120"/>
                  </a:xfrm>
                  <a:custGeom>
                    <a:avLst/>
                    <a:gdLst/>
                    <a:ahLst/>
                    <a:rect l="l" t="t" r="r" b="b"/>
                    <a:pathLst>
                      <a:path w="138" h="62">
                        <a:moveTo>
                          <a:pt x="0" y="62"/>
                        </a:moveTo>
                        <a:lnTo>
                          <a:pt x="27" y="47"/>
                        </a:lnTo>
                        <a:lnTo>
                          <a:pt x="69" y="32"/>
                        </a:lnTo>
                        <a:lnTo>
                          <a:pt x="110" y="15"/>
                        </a:lnTo>
                        <a:lnTo>
                          <a:pt x="138"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943" name=""/>
                <p:cNvGrpSpPr/>
                <p:nvPr/>
              </p:nvGrpSpPr>
              <p:grpSpPr>
                <a:xfrm>
                  <a:off x="5902200" y="1774800"/>
                  <a:ext cx="44640" cy="17640"/>
                  <a:chOff x="5902200" y="1774800"/>
                  <a:chExt cx="44640" cy="17640"/>
                </a:xfrm>
              </p:grpSpPr>
              <p:sp>
                <p:nvSpPr>
                  <p:cNvPr id="944" name=""/>
                  <p:cNvSpPr/>
                  <p:nvPr/>
                </p:nvSpPr>
                <p:spPr>
                  <a:xfrm>
                    <a:off x="5902200" y="1774800"/>
                    <a:ext cx="44640" cy="17640"/>
                  </a:xfrm>
                  <a:custGeom>
                    <a:avLst/>
                    <a:gdLst/>
                    <a:ahLst/>
                    <a:rect l="l" t="t" r="r" b="b"/>
                    <a:pathLst>
                      <a:path w="83" h="32">
                        <a:moveTo>
                          <a:pt x="0" y="32"/>
                        </a:moveTo>
                        <a:lnTo>
                          <a:pt x="41" y="15"/>
                        </a:lnTo>
                        <a:lnTo>
                          <a:pt x="69" y="15"/>
                        </a:lnTo>
                        <a:lnTo>
                          <a:pt x="83"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5" name=""/>
                  <p:cNvSpPr/>
                  <p:nvPr/>
                </p:nvSpPr>
                <p:spPr>
                  <a:xfrm>
                    <a:off x="5902200" y="1774800"/>
                    <a:ext cx="44640" cy="17640"/>
                  </a:xfrm>
                  <a:custGeom>
                    <a:avLst/>
                    <a:gdLst/>
                    <a:ahLst/>
                    <a:rect l="l" t="t" r="r" b="b"/>
                    <a:pathLst>
                      <a:path w="83" h="32">
                        <a:moveTo>
                          <a:pt x="0" y="32"/>
                        </a:moveTo>
                        <a:lnTo>
                          <a:pt x="41" y="15"/>
                        </a:lnTo>
                        <a:lnTo>
                          <a:pt x="69" y="15"/>
                        </a:lnTo>
                        <a:lnTo>
                          <a:pt x="83"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46" name=""/>
                <p:cNvGrpSpPr/>
                <p:nvPr/>
              </p:nvGrpSpPr>
              <p:grpSpPr>
                <a:xfrm>
                  <a:off x="5506920" y="3778200"/>
                  <a:ext cx="527040" cy="335160"/>
                  <a:chOff x="5506920" y="3778200"/>
                  <a:chExt cx="527040" cy="335160"/>
                </a:xfrm>
              </p:grpSpPr>
              <p:sp>
                <p:nvSpPr>
                  <p:cNvPr id="947" name=""/>
                  <p:cNvSpPr/>
                  <p:nvPr/>
                </p:nvSpPr>
                <p:spPr>
                  <a:xfrm>
                    <a:off x="5506920" y="3778200"/>
                    <a:ext cx="527040" cy="335160"/>
                  </a:xfrm>
                  <a:custGeom>
                    <a:avLst/>
                    <a:gdLst/>
                    <a:ahLst/>
                    <a:rect l="l" t="t" r="r" b="b"/>
                    <a:pathLst>
                      <a:path w="998" h="631">
                        <a:moveTo>
                          <a:pt x="998" y="631"/>
                        </a:moveTo>
                        <a:lnTo>
                          <a:pt x="971" y="631"/>
                        </a:lnTo>
                        <a:lnTo>
                          <a:pt x="943" y="616"/>
                        </a:lnTo>
                        <a:lnTo>
                          <a:pt x="915" y="599"/>
                        </a:lnTo>
                        <a:lnTo>
                          <a:pt x="888" y="599"/>
                        </a:lnTo>
                        <a:lnTo>
                          <a:pt x="859" y="584"/>
                        </a:lnTo>
                        <a:lnTo>
                          <a:pt x="817" y="569"/>
                        </a:lnTo>
                        <a:lnTo>
                          <a:pt x="789" y="552"/>
                        </a:lnTo>
                        <a:lnTo>
                          <a:pt x="762" y="537"/>
                        </a:lnTo>
                        <a:lnTo>
                          <a:pt x="734" y="537"/>
                        </a:lnTo>
                        <a:lnTo>
                          <a:pt x="706" y="520"/>
                        </a:lnTo>
                        <a:lnTo>
                          <a:pt x="679" y="505"/>
                        </a:lnTo>
                        <a:lnTo>
                          <a:pt x="651" y="490"/>
                        </a:lnTo>
                        <a:lnTo>
                          <a:pt x="624" y="473"/>
                        </a:lnTo>
                        <a:lnTo>
                          <a:pt x="596" y="458"/>
                        </a:lnTo>
                        <a:lnTo>
                          <a:pt x="568" y="441"/>
                        </a:lnTo>
                        <a:lnTo>
                          <a:pt x="541" y="426"/>
                        </a:lnTo>
                        <a:lnTo>
                          <a:pt x="513" y="411"/>
                        </a:lnTo>
                        <a:lnTo>
                          <a:pt x="485" y="394"/>
                        </a:lnTo>
                        <a:lnTo>
                          <a:pt x="458" y="362"/>
                        </a:lnTo>
                        <a:lnTo>
                          <a:pt x="430" y="347"/>
                        </a:lnTo>
                        <a:lnTo>
                          <a:pt x="416" y="332"/>
                        </a:lnTo>
                        <a:lnTo>
                          <a:pt x="388" y="315"/>
                        </a:lnTo>
                        <a:lnTo>
                          <a:pt x="347" y="300"/>
                        </a:lnTo>
                        <a:lnTo>
                          <a:pt x="319" y="284"/>
                        </a:lnTo>
                        <a:lnTo>
                          <a:pt x="292" y="253"/>
                        </a:lnTo>
                        <a:lnTo>
                          <a:pt x="264" y="237"/>
                        </a:lnTo>
                        <a:lnTo>
                          <a:pt x="236" y="221"/>
                        </a:lnTo>
                        <a:lnTo>
                          <a:pt x="222" y="189"/>
                        </a:lnTo>
                        <a:lnTo>
                          <a:pt x="195" y="174"/>
                        </a:lnTo>
                        <a:lnTo>
                          <a:pt x="167" y="158"/>
                        </a:lnTo>
                        <a:lnTo>
                          <a:pt x="139" y="126"/>
                        </a:lnTo>
                        <a:lnTo>
                          <a:pt x="112" y="111"/>
                        </a:lnTo>
                        <a:lnTo>
                          <a:pt x="98" y="95"/>
                        </a:lnTo>
                        <a:lnTo>
                          <a:pt x="69" y="64"/>
                        </a:lnTo>
                        <a:lnTo>
                          <a:pt x="41" y="47"/>
                        </a:lnTo>
                        <a:lnTo>
                          <a:pt x="14" y="17"/>
                        </a:lnTo>
                        <a:lnTo>
                          <a:pt x="0" y="0"/>
                        </a:lnTo>
                        <a:lnTo>
                          <a:pt x="998" y="6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506920" y="3778200"/>
                    <a:ext cx="527040" cy="335160"/>
                  </a:xfrm>
                  <a:custGeom>
                    <a:avLst/>
                    <a:gdLst/>
                    <a:ahLst/>
                    <a:rect l="l" t="t" r="r" b="b"/>
                    <a:pathLst>
                      <a:path w="998" h="631">
                        <a:moveTo>
                          <a:pt x="998" y="631"/>
                        </a:moveTo>
                        <a:lnTo>
                          <a:pt x="971" y="631"/>
                        </a:lnTo>
                        <a:lnTo>
                          <a:pt x="943" y="616"/>
                        </a:lnTo>
                        <a:lnTo>
                          <a:pt x="915" y="599"/>
                        </a:lnTo>
                        <a:lnTo>
                          <a:pt x="888" y="599"/>
                        </a:lnTo>
                        <a:lnTo>
                          <a:pt x="859" y="584"/>
                        </a:lnTo>
                        <a:lnTo>
                          <a:pt x="817" y="569"/>
                        </a:lnTo>
                        <a:lnTo>
                          <a:pt x="789" y="552"/>
                        </a:lnTo>
                        <a:lnTo>
                          <a:pt x="762" y="537"/>
                        </a:lnTo>
                        <a:lnTo>
                          <a:pt x="734" y="537"/>
                        </a:lnTo>
                        <a:lnTo>
                          <a:pt x="706" y="520"/>
                        </a:lnTo>
                        <a:lnTo>
                          <a:pt x="679" y="505"/>
                        </a:lnTo>
                        <a:lnTo>
                          <a:pt x="651" y="490"/>
                        </a:lnTo>
                        <a:lnTo>
                          <a:pt x="624" y="473"/>
                        </a:lnTo>
                        <a:lnTo>
                          <a:pt x="596" y="458"/>
                        </a:lnTo>
                        <a:lnTo>
                          <a:pt x="568" y="441"/>
                        </a:lnTo>
                        <a:lnTo>
                          <a:pt x="541" y="426"/>
                        </a:lnTo>
                        <a:lnTo>
                          <a:pt x="513" y="411"/>
                        </a:lnTo>
                        <a:lnTo>
                          <a:pt x="485" y="394"/>
                        </a:lnTo>
                        <a:lnTo>
                          <a:pt x="458" y="362"/>
                        </a:lnTo>
                        <a:lnTo>
                          <a:pt x="430" y="347"/>
                        </a:lnTo>
                        <a:lnTo>
                          <a:pt x="416" y="332"/>
                        </a:lnTo>
                        <a:lnTo>
                          <a:pt x="388" y="315"/>
                        </a:lnTo>
                        <a:lnTo>
                          <a:pt x="347" y="300"/>
                        </a:lnTo>
                        <a:lnTo>
                          <a:pt x="319" y="284"/>
                        </a:lnTo>
                        <a:lnTo>
                          <a:pt x="292" y="253"/>
                        </a:lnTo>
                        <a:lnTo>
                          <a:pt x="264" y="237"/>
                        </a:lnTo>
                        <a:lnTo>
                          <a:pt x="236" y="221"/>
                        </a:lnTo>
                        <a:lnTo>
                          <a:pt x="222" y="189"/>
                        </a:lnTo>
                        <a:lnTo>
                          <a:pt x="195" y="174"/>
                        </a:lnTo>
                        <a:lnTo>
                          <a:pt x="167" y="158"/>
                        </a:lnTo>
                        <a:lnTo>
                          <a:pt x="139" y="126"/>
                        </a:lnTo>
                        <a:lnTo>
                          <a:pt x="112" y="111"/>
                        </a:lnTo>
                        <a:lnTo>
                          <a:pt x="98" y="95"/>
                        </a:lnTo>
                        <a:lnTo>
                          <a:pt x="69" y="64"/>
                        </a:lnTo>
                        <a:lnTo>
                          <a:pt x="41" y="47"/>
                        </a:lnTo>
                        <a:lnTo>
                          <a:pt x="14"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5227560" y="3360600"/>
                  <a:ext cx="279360" cy="417600"/>
                  <a:chOff x="5227560" y="3360600"/>
                  <a:chExt cx="279360" cy="417600"/>
                </a:xfrm>
              </p:grpSpPr>
              <p:sp>
                <p:nvSpPr>
                  <p:cNvPr id="950" name=""/>
                  <p:cNvSpPr/>
                  <p:nvPr/>
                </p:nvSpPr>
                <p:spPr>
                  <a:xfrm>
                    <a:off x="5227560" y="3360600"/>
                    <a:ext cx="279360" cy="417600"/>
                  </a:xfrm>
                  <a:custGeom>
                    <a:avLst/>
                    <a:gdLst/>
                    <a:ahLst/>
                    <a:rect l="l" t="t" r="r" b="b"/>
                    <a:pathLst>
                      <a:path w="526" h="789">
                        <a:moveTo>
                          <a:pt x="526" y="789"/>
                        </a:moveTo>
                        <a:lnTo>
                          <a:pt x="498" y="757"/>
                        </a:lnTo>
                        <a:lnTo>
                          <a:pt x="470" y="742"/>
                        </a:lnTo>
                        <a:lnTo>
                          <a:pt x="457" y="710"/>
                        </a:lnTo>
                        <a:lnTo>
                          <a:pt x="429" y="695"/>
                        </a:lnTo>
                        <a:lnTo>
                          <a:pt x="401" y="663"/>
                        </a:lnTo>
                        <a:lnTo>
                          <a:pt x="387" y="631"/>
                        </a:lnTo>
                        <a:lnTo>
                          <a:pt x="360" y="616"/>
                        </a:lnTo>
                        <a:lnTo>
                          <a:pt x="346" y="584"/>
                        </a:lnTo>
                        <a:lnTo>
                          <a:pt x="318" y="569"/>
                        </a:lnTo>
                        <a:lnTo>
                          <a:pt x="304" y="537"/>
                        </a:lnTo>
                        <a:lnTo>
                          <a:pt x="277" y="505"/>
                        </a:lnTo>
                        <a:lnTo>
                          <a:pt x="263" y="473"/>
                        </a:lnTo>
                        <a:lnTo>
                          <a:pt x="235" y="458"/>
                        </a:lnTo>
                        <a:lnTo>
                          <a:pt x="221" y="426"/>
                        </a:lnTo>
                        <a:lnTo>
                          <a:pt x="194" y="395"/>
                        </a:lnTo>
                        <a:lnTo>
                          <a:pt x="180" y="363"/>
                        </a:lnTo>
                        <a:lnTo>
                          <a:pt x="166" y="332"/>
                        </a:lnTo>
                        <a:lnTo>
                          <a:pt x="152" y="316"/>
                        </a:lnTo>
                        <a:lnTo>
                          <a:pt x="125" y="284"/>
                        </a:lnTo>
                        <a:lnTo>
                          <a:pt x="111" y="253"/>
                        </a:lnTo>
                        <a:lnTo>
                          <a:pt x="97" y="222"/>
                        </a:lnTo>
                        <a:lnTo>
                          <a:pt x="83" y="190"/>
                        </a:lnTo>
                        <a:lnTo>
                          <a:pt x="69" y="158"/>
                        </a:lnTo>
                        <a:lnTo>
                          <a:pt x="55" y="126"/>
                        </a:lnTo>
                        <a:lnTo>
                          <a:pt x="42" y="96"/>
                        </a:lnTo>
                        <a:lnTo>
                          <a:pt x="28" y="64"/>
                        </a:lnTo>
                        <a:lnTo>
                          <a:pt x="14" y="32"/>
                        </a:lnTo>
                        <a:lnTo>
                          <a:pt x="0" y="0"/>
                        </a:lnTo>
                        <a:lnTo>
                          <a:pt x="526" y="78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227560" y="3360600"/>
                    <a:ext cx="279360" cy="417600"/>
                  </a:xfrm>
                  <a:custGeom>
                    <a:avLst/>
                    <a:gdLst/>
                    <a:ahLst/>
                    <a:rect l="l" t="t" r="r" b="b"/>
                    <a:pathLst>
                      <a:path w="526" h="789">
                        <a:moveTo>
                          <a:pt x="526" y="789"/>
                        </a:moveTo>
                        <a:lnTo>
                          <a:pt x="498" y="757"/>
                        </a:lnTo>
                        <a:lnTo>
                          <a:pt x="470" y="742"/>
                        </a:lnTo>
                        <a:lnTo>
                          <a:pt x="457" y="710"/>
                        </a:lnTo>
                        <a:lnTo>
                          <a:pt x="429" y="695"/>
                        </a:lnTo>
                        <a:lnTo>
                          <a:pt x="401" y="663"/>
                        </a:lnTo>
                        <a:lnTo>
                          <a:pt x="387" y="631"/>
                        </a:lnTo>
                        <a:lnTo>
                          <a:pt x="360" y="616"/>
                        </a:lnTo>
                        <a:lnTo>
                          <a:pt x="346" y="584"/>
                        </a:lnTo>
                        <a:lnTo>
                          <a:pt x="318" y="569"/>
                        </a:lnTo>
                        <a:lnTo>
                          <a:pt x="304" y="537"/>
                        </a:lnTo>
                        <a:lnTo>
                          <a:pt x="277" y="505"/>
                        </a:lnTo>
                        <a:lnTo>
                          <a:pt x="263" y="473"/>
                        </a:lnTo>
                        <a:lnTo>
                          <a:pt x="235" y="458"/>
                        </a:lnTo>
                        <a:lnTo>
                          <a:pt x="221" y="426"/>
                        </a:lnTo>
                        <a:lnTo>
                          <a:pt x="194" y="395"/>
                        </a:lnTo>
                        <a:lnTo>
                          <a:pt x="180" y="363"/>
                        </a:lnTo>
                        <a:lnTo>
                          <a:pt x="166" y="332"/>
                        </a:lnTo>
                        <a:lnTo>
                          <a:pt x="152" y="316"/>
                        </a:lnTo>
                        <a:lnTo>
                          <a:pt x="125" y="284"/>
                        </a:lnTo>
                        <a:lnTo>
                          <a:pt x="111" y="253"/>
                        </a:lnTo>
                        <a:lnTo>
                          <a:pt x="97" y="222"/>
                        </a:lnTo>
                        <a:lnTo>
                          <a:pt x="83" y="190"/>
                        </a:lnTo>
                        <a:lnTo>
                          <a:pt x="69" y="158"/>
                        </a:lnTo>
                        <a:lnTo>
                          <a:pt x="55" y="126"/>
                        </a:lnTo>
                        <a:lnTo>
                          <a:pt x="42" y="96"/>
                        </a:lnTo>
                        <a:lnTo>
                          <a:pt x="28"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5162400" y="2685960"/>
                  <a:ext cx="65160" cy="674640"/>
                  <a:chOff x="5162400" y="2685960"/>
                  <a:chExt cx="65160" cy="674640"/>
                </a:xfrm>
              </p:grpSpPr>
              <p:sp>
                <p:nvSpPr>
                  <p:cNvPr id="953" name=""/>
                  <p:cNvSpPr/>
                  <p:nvPr/>
                </p:nvSpPr>
                <p:spPr>
                  <a:xfrm>
                    <a:off x="5162400" y="2685960"/>
                    <a:ext cx="65160" cy="674640"/>
                  </a:xfrm>
                  <a:custGeom>
                    <a:avLst/>
                    <a:gdLst/>
                    <a:ahLst/>
                    <a:rect l="l" t="t" r="r" b="b"/>
                    <a:pathLst>
                      <a:path w="124" h="1277">
                        <a:moveTo>
                          <a:pt x="124" y="1277"/>
                        </a:moveTo>
                        <a:lnTo>
                          <a:pt x="110" y="1245"/>
                        </a:lnTo>
                        <a:lnTo>
                          <a:pt x="96" y="1215"/>
                        </a:lnTo>
                        <a:lnTo>
                          <a:pt x="96" y="1183"/>
                        </a:lnTo>
                        <a:lnTo>
                          <a:pt x="83" y="1136"/>
                        </a:lnTo>
                        <a:lnTo>
                          <a:pt x="69" y="1104"/>
                        </a:lnTo>
                        <a:lnTo>
                          <a:pt x="69" y="1072"/>
                        </a:lnTo>
                        <a:lnTo>
                          <a:pt x="55" y="1041"/>
                        </a:lnTo>
                        <a:lnTo>
                          <a:pt x="55" y="1009"/>
                        </a:lnTo>
                        <a:lnTo>
                          <a:pt x="41" y="978"/>
                        </a:lnTo>
                        <a:lnTo>
                          <a:pt x="41" y="947"/>
                        </a:lnTo>
                        <a:lnTo>
                          <a:pt x="41" y="899"/>
                        </a:lnTo>
                        <a:lnTo>
                          <a:pt x="27" y="868"/>
                        </a:lnTo>
                        <a:lnTo>
                          <a:pt x="27" y="836"/>
                        </a:lnTo>
                        <a:lnTo>
                          <a:pt x="27" y="804"/>
                        </a:lnTo>
                        <a:lnTo>
                          <a:pt x="13" y="772"/>
                        </a:lnTo>
                        <a:lnTo>
                          <a:pt x="13" y="725"/>
                        </a:lnTo>
                        <a:lnTo>
                          <a:pt x="13" y="693"/>
                        </a:lnTo>
                        <a:lnTo>
                          <a:pt x="13" y="663"/>
                        </a:lnTo>
                        <a:lnTo>
                          <a:pt x="13" y="631"/>
                        </a:lnTo>
                        <a:lnTo>
                          <a:pt x="13" y="584"/>
                        </a:lnTo>
                        <a:lnTo>
                          <a:pt x="13" y="552"/>
                        </a:lnTo>
                        <a:lnTo>
                          <a:pt x="0" y="520"/>
                        </a:lnTo>
                        <a:lnTo>
                          <a:pt x="13" y="489"/>
                        </a:lnTo>
                        <a:lnTo>
                          <a:pt x="13" y="441"/>
                        </a:lnTo>
                        <a:lnTo>
                          <a:pt x="13" y="410"/>
                        </a:lnTo>
                        <a:lnTo>
                          <a:pt x="13" y="378"/>
                        </a:lnTo>
                        <a:lnTo>
                          <a:pt x="13" y="346"/>
                        </a:lnTo>
                        <a:lnTo>
                          <a:pt x="13" y="316"/>
                        </a:lnTo>
                        <a:lnTo>
                          <a:pt x="13" y="267"/>
                        </a:lnTo>
                        <a:lnTo>
                          <a:pt x="27" y="237"/>
                        </a:lnTo>
                        <a:lnTo>
                          <a:pt x="27" y="205"/>
                        </a:lnTo>
                        <a:lnTo>
                          <a:pt x="27" y="173"/>
                        </a:lnTo>
                        <a:lnTo>
                          <a:pt x="27" y="141"/>
                        </a:lnTo>
                        <a:lnTo>
                          <a:pt x="41" y="109"/>
                        </a:lnTo>
                        <a:lnTo>
                          <a:pt x="41" y="62"/>
                        </a:lnTo>
                        <a:lnTo>
                          <a:pt x="55" y="31"/>
                        </a:lnTo>
                        <a:lnTo>
                          <a:pt x="55" y="0"/>
                        </a:lnTo>
                        <a:lnTo>
                          <a:pt x="124" y="127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162400" y="2685960"/>
                    <a:ext cx="65160" cy="674640"/>
                  </a:xfrm>
                  <a:custGeom>
                    <a:avLst/>
                    <a:gdLst/>
                    <a:ahLst/>
                    <a:rect l="l" t="t" r="r" b="b"/>
                    <a:pathLst>
                      <a:path w="124" h="1277">
                        <a:moveTo>
                          <a:pt x="124" y="1277"/>
                        </a:moveTo>
                        <a:lnTo>
                          <a:pt x="110" y="1245"/>
                        </a:lnTo>
                        <a:lnTo>
                          <a:pt x="96" y="1215"/>
                        </a:lnTo>
                        <a:lnTo>
                          <a:pt x="96" y="1183"/>
                        </a:lnTo>
                        <a:lnTo>
                          <a:pt x="83" y="1136"/>
                        </a:lnTo>
                        <a:lnTo>
                          <a:pt x="69" y="1104"/>
                        </a:lnTo>
                        <a:lnTo>
                          <a:pt x="69" y="1072"/>
                        </a:lnTo>
                        <a:lnTo>
                          <a:pt x="55" y="1041"/>
                        </a:lnTo>
                        <a:lnTo>
                          <a:pt x="55" y="1009"/>
                        </a:lnTo>
                        <a:lnTo>
                          <a:pt x="41" y="978"/>
                        </a:lnTo>
                        <a:lnTo>
                          <a:pt x="41" y="947"/>
                        </a:lnTo>
                        <a:lnTo>
                          <a:pt x="41" y="899"/>
                        </a:lnTo>
                        <a:lnTo>
                          <a:pt x="27" y="868"/>
                        </a:lnTo>
                        <a:lnTo>
                          <a:pt x="27" y="836"/>
                        </a:lnTo>
                        <a:lnTo>
                          <a:pt x="27" y="804"/>
                        </a:lnTo>
                        <a:lnTo>
                          <a:pt x="13" y="772"/>
                        </a:lnTo>
                        <a:lnTo>
                          <a:pt x="13" y="725"/>
                        </a:lnTo>
                        <a:lnTo>
                          <a:pt x="13" y="693"/>
                        </a:lnTo>
                        <a:lnTo>
                          <a:pt x="13" y="663"/>
                        </a:lnTo>
                        <a:lnTo>
                          <a:pt x="13" y="631"/>
                        </a:lnTo>
                        <a:lnTo>
                          <a:pt x="13" y="584"/>
                        </a:lnTo>
                        <a:lnTo>
                          <a:pt x="13" y="552"/>
                        </a:lnTo>
                        <a:lnTo>
                          <a:pt x="0" y="520"/>
                        </a:lnTo>
                        <a:lnTo>
                          <a:pt x="13" y="489"/>
                        </a:lnTo>
                        <a:lnTo>
                          <a:pt x="13" y="441"/>
                        </a:lnTo>
                        <a:lnTo>
                          <a:pt x="13" y="410"/>
                        </a:lnTo>
                        <a:lnTo>
                          <a:pt x="13" y="378"/>
                        </a:lnTo>
                        <a:lnTo>
                          <a:pt x="13" y="346"/>
                        </a:lnTo>
                        <a:lnTo>
                          <a:pt x="13" y="316"/>
                        </a:lnTo>
                        <a:lnTo>
                          <a:pt x="13" y="267"/>
                        </a:lnTo>
                        <a:lnTo>
                          <a:pt x="27" y="237"/>
                        </a:lnTo>
                        <a:lnTo>
                          <a:pt x="27" y="205"/>
                        </a:lnTo>
                        <a:lnTo>
                          <a:pt x="27" y="173"/>
                        </a:lnTo>
                        <a:lnTo>
                          <a:pt x="27" y="141"/>
                        </a:lnTo>
                        <a:lnTo>
                          <a:pt x="41" y="109"/>
                        </a:lnTo>
                        <a:lnTo>
                          <a:pt x="41" y="62"/>
                        </a:lnTo>
                        <a:lnTo>
                          <a:pt x="55" y="31"/>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191200" y="2527200"/>
                  <a:ext cx="44280" cy="158760"/>
                  <a:chOff x="5191200" y="2527200"/>
                  <a:chExt cx="44280" cy="158760"/>
                </a:xfrm>
              </p:grpSpPr>
              <p:sp>
                <p:nvSpPr>
                  <p:cNvPr id="956" name=""/>
                  <p:cNvSpPr/>
                  <p:nvPr/>
                </p:nvSpPr>
                <p:spPr>
                  <a:xfrm>
                    <a:off x="5191200" y="2527200"/>
                    <a:ext cx="44280" cy="158760"/>
                  </a:xfrm>
                  <a:custGeom>
                    <a:avLst/>
                    <a:gdLst/>
                    <a:ahLst/>
                    <a:rect l="l" t="t" r="r" b="b"/>
                    <a:pathLst>
                      <a:path w="83" h="300">
                        <a:moveTo>
                          <a:pt x="0" y="300"/>
                        </a:moveTo>
                        <a:lnTo>
                          <a:pt x="14" y="268"/>
                        </a:lnTo>
                        <a:lnTo>
                          <a:pt x="14" y="221"/>
                        </a:lnTo>
                        <a:lnTo>
                          <a:pt x="28" y="189"/>
                        </a:lnTo>
                        <a:lnTo>
                          <a:pt x="28" y="142"/>
                        </a:lnTo>
                        <a:lnTo>
                          <a:pt x="41" y="111"/>
                        </a:lnTo>
                        <a:lnTo>
                          <a:pt x="55" y="79"/>
                        </a:lnTo>
                        <a:lnTo>
                          <a:pt x="69" y="32"/>
                        </a:lnTo>
                        <a:lnTo>
                          <a:pt x="83" y="0"/>
                        </a:lnTo>
                        <a:lnTo>
                          <a:pt x="0" y="30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191200" y="2527200"/>
                    <a:ext cx="44280" cy="158760"/>
                  </a:xfrm>
                  <a:custGeom>
                    <a:avLst/>
                    <a:gdLst/>
                    <a:ahLst/>
                    <a:rect l="l" t="t" r="r" b="b"/>
                    <a:pathLst>
                      <a:path w="83" h="300">
                        <a:moveTo>
                          <a:pt x="0" y="300"/>
                        </a:moveTo>
                        <a:lnTo>
                          <a:pt x="14" y="268"/>
                        </a:lnTo>
                        <a:lnTo>
                          <a:pt x="14" y="221"/>
                        </a:lnTo>
                        <a:lnTo>
                          <a:pt x="28" y="189"/>
                        </a:lnTo>
                        <a:lnTo>
                          <a:pt x="28" y="142"/>
                        </a:lnTo>
                        <a:lnTo>
                          <a:pt x="41" y="111"/>
                        </a:lnTo>
                        <a:lnTo>
                          <a:pt x="55" y="79"/>
                        </a:lnTo>
                        <a:lnTo>
                          <a:pt x="69" y="32"/>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5235480" y="1959120"/>
                  <a:ext cx="453960" cy="568080"/>
                  <a:chOff x="5235480" y="1959120"/>
                  <a:chExt cx="453960" cy="568080"/>
                </a:xfrm>
              </p:grpSpPr>
              <p:sp>
                <p:nvSpPr>
                  <p:cNvPr id="959" name=""/>
                  <p:cNvSpPr/>
                  <p:nvPr/>
                </p:nvSpPr>
                <p:spPr>
                  <a:xfrm>
                    <a:off x="5235480" y="1959120"/>
                    <a:ext cx="453960" cy="568080"/>
                  </a:xfrm>
                  <a:custGeom>
                    <a:avLst/>
                    <a:gdLst/>
                    <a:ahLst/>
                    <a:rect l="l" t="t" r="r" b="b"/>
                    <a:pathLst>
                      <a:path w="859" h="1073">
                        <a:moveTo>
                          <a:pt x="0" y="1073"/>
                        </a:moveTo>
                        <a:lnTo>
                          <a:pt x="14" y="1041"/>
                        </a:lnTo>
                        <a:lnTo>
                          <a:pt x="28" y="1009"/>
                        </a:lnTo>
                        <a:lnTo>
                          <a:pt x="41" y="979"/>
                        </a:lnTo>
                        <a:lnTo>
                          <a:pt x="55" y="947"/>
                        </a:lnTo>
                        <a:lnTo>
                          <a:pt x="69" y="915"/>
                        </a:lnTo>
                        <a:lnTo>
                          <a:pt x="83" y="883"/>
                        </a:lnTo>
                        <a:lnTo>
                          <a:pt x="97" y="836"/>
                        </a:lnTo>
                        <a:lnTo>
                          <a:pt x="111" y="804"/>
                        </a:lnTo>
                        <a:lnTo>
                          <a:pt x="124" y="789"/>
                        </a:lnTo>
                        <a:lnTo>
                          <a:pt x="152" y="757"/>
                        </a:lnTo>
                        <a:lnTo>
                          <a:pt x="166" y="726"/>
                        </a:lnTo>
                        <a:lnTo>
                          <a:pt x="180" y="694"/>
                        </a:lnTo>
                        <a:lnTo>
                          <a:pt x="207" y="663"/>
                        </a:lnTo>
                        <a:lnTo>
                          <a:pt x="221" y="647"/>
                        </a:lnTo>
                        <a:lnTo>
                          <a:pt x="235" y="615"/>
                        </a:lnTo>
                        <a:lnTo>
                          <a:pt x="263" y="584"/>
                        </a:lnTo>
                        <a:lnTo>
                          <a:pt x="277" y="568"/>
                        </a:lnTo>
                        <a:lnTo>
                          <a:pt x="304" y="536"/>
                        </a:lnTo>
                        <a:lnTo>
                          <a:pt x="318" y="505"/>
                        </a:lnTo>
                        <a:lnTo>
                          <a:pt x="346" y="489"/>
                        </a:lnTo>
                        <a:lnTo>
                          <a:pt x="360" y="457"/>
                        </a:lnTo>
                        <a:lnTo>
                          <a:pt x="387" y="427"/>
                        </a:lnTo>
                        <a:lnTo>
                          <a:pt x="401" y="410"/>
                        </a:lnTo>
                        <a:lnTo>
                          <a:pt x="429" y="378"/>
                        </a:lnTo>
                        <a:lnTo>
                          <a:pt x="443" y="363"/>
                        </a:lnTo>
                        <a:lnTo>
                          <a:pt x="470" y="331"/>
                        </a:lnTo>
                        <a:lnTo>
                          <a:pt x="498" y="316"/>
                        </a:lnTo>
                        <a:lnTo>
                          <a:pt x="512" y="284"/>
                        </a:lnTo>
                        <a:lnTo>
                          <a:pt x="539" y="269"/>
                        </a:lnTo>
                        <a:lnTo>
                          <a:pt x="567" y="252"/>
                        </a:lnTo>
                        <a:lnTo>
                          <a:pt x="581" y="220"/>
                        </a:lnTo>
                        <a:lnTo>
                          <a:pt x="610" y="205"/>
                        </a:lnTo>
                        <a:lnTo>
                          <a:pt x="638" y="173"/>
                        </a:lnTo>
                        <a:lnTo>
                          <a:pt x="665" y="158"/>
                        </a:lnTo>
                        <a:lnTo>
                          <a:pt x="679" y="142"/>
                        </a:lnTo>
                        <a:lnTo>
                          <a:pt x="707" y="111"/>
                        </a:lnTo>
                        <a:lnTo>
                          <a:pt x="734" y="95"/>
                        </a:lnTo>
                        <a:lnTo>
                          <a:pt x="762" y="79"/>
                        </a:lnTo>
                        <a:lnTo>
                          <a:pt x="790" y="63"/>
                        </a:lnTo>
                        <a:lnTo>
                          <a:pt x="804" y="32"/>
                        </a:lnTo>
                        <a:lnTo>
                          <a:pt x="831" y="16"/>
                        </a:lnTo>
                        <a:lnTo>
                          <a:pt x="859" y="0"/>
                        </a:lnTo>
                        <a:lnTo>
                          <a:pt x="0" y="10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235480" y="1959120"/>
                    <a:ext cx="453960" cy="568080"/>
                  </a:xfrm>
                  <a:custGeom>
                    <a:avLst/>
                    <a:gdLst/>
                    <a:ahLst/>
                    <a:rect l="l" t="t" r="r" b="b"/>
                    <a:pathLst>
                      <a:path w="859" h="1073">
                        <a:moveTo>
                          <a:pt x="0" y="1073"/>
                        </a:moveTo>
                        <a:lnTo>
                          <a:pt x="14" y="1041"/>
                        </a:lnTo>
                        <a:lnTo>
                          <a:pt x="28" y="1009"/>
                        </a:lnTo>
                        <a:lnTo>
                          <a:pt x="41" y="979"/>
                        </a:lnTo>
                        <a:lnTo>
                          <a:pt x="55" y="947"/>
                        </a:lnTo>
                        <a:lnTo>
                          <a:pt x="69" y="915"/>
                        </a:lnTo>
                        <a:lnTo>
                          <a:pt x="83" y="883"/>
                        </a:lnTo>
                        <a:lnTo>
                          <a:pt x="97" y="836"/>
                        </a:lnTo>
                        <a:lnTo>
                          <a:pt x="111" y="804"/>
                        </a:lnTo>
                        <a:lnTo>
                          <a:pt x="124" y="789"/>
                        </a:lnTo>
                        <a:lnTo>
                          <a:pt x="152" y="757"/>
                        </a:lnTo>
                        <a:lnTo>
                          <a:pt x="166" y="726"/>
                        </a:lnTo>
                        <a:lnTo>
                          <a:pt x="180" y="694"/>
                        </a:lnTo>
                        <a:lnTo>
                          <a:pt x="207" y="663"/>
                        </a:lnTo>
                        <a:lnTo>
                          <a:pt x="221" y="647"/>
                        </a:lnTo>
                        <a:lnTo>
                          <a:pt x="235" y="615"/>
                        </a:lnTo>
                        <a:lnTo>
                          <a:pt x="263" y="584"/>
                        </a:lnTo>
                        <a:lnTo>
                          <a:pt x="277" y="568"/>
                        </a:lnTo>
                        <a:lnTo>
                          <a:pt x="304" y="536"/>
                        </a:lnTo>
                        <a:lnTo>
                          <a:pt x="318" y="505"/>
                        </a:lnTo>
                        <a:lnTo>
                          <a:pt x="346" y="489"/>
                        </a:lnTo>
                        <a:lnTo>
                          <a:pt x="360" y="457"/>
                        </a:lnTo>
                        <a:lnTo>
                          <a:pt x="387" y="427"/>
                        </a:lnTo>
                        <a:lnTo>
                          <a:pt x="401" y="410"/>
                        </a:lnTo>
                        <a:lnTo>
                          <a:pt x="429" y="378"/>
                        </a:lnTo>
                        <a:lnTo>
                          <a:pt x="443" y="363"/>
                        </a:lnTo>
                        <a:lnTo>
                          <a:pt x="470" y="331"/>
                        </a:lnTo>
                        <a:lnTo>
                          <a:pt x="498" y="316"/>
                        </a:lnTo>
                        <a:lnTo>
                          <a:pt x="512" y="284"/>
                        </a:lnTo>
                        <a:lnTo>
                          <a:pt x="539" y="269"/>
                        </a:lnTo>
                        <a:lnTo>
                          <a:pt x="567" y="252"/>
                        </a:lnTo>
                        <a:lnTo>
                          <a:pt x="581" y="220"/>
                        </a:lnTo>
                        <a:lnTo>
                          <a:pt x="610" y="205"/>
                        </a:lnTo>
                        <a:lnTo>
                          <a:pt x="638" y="173"/>
                        </a:lnTo>
                        <a:lnTo>
                          <a:pt x="665" y="158"/>
                        </a:lnTo>
                        <a:lnTo>
                          <a:pt x="679" y="142"/>
                        </a:lnTo>
                        <a:lnTo>
                          <a:pt x="707" y="111"/>
                        </a:lnTo>
                        <a:lnTo>
                          <a:pt x="734" y="95"/>
                        </a:lnTo>
                        <a:lnTo>
                          <a:pt x="762" y="79"/>
                        </a:lnTo>
                        <a:lnTo>
                          <a:pt x="790" y="63"/>
                        </a:lnTo>
                        <a:lnTo>
                          <a:pt x="804" y="32"/>
                        </a:lnTo>
                        <a:lnTo>
                          <a:pt x="831" y="16"/>
                        </a:lnTo>
                        <a:lnTo>
                          <a:pt x="8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5689440" y="1825560"/>
                  <a:ext cx="235080" cy="133560"/>
                  <a:chOff x="5689440" y="1825560"/>
                  <a:chExt cx="235080" cy="133560"/>
                </a:xfrm>
              </p:grpSpPr>
              <p:sp>
                <p:nvSpPr>
                  <p:cNvPr id="962" name=""/>
                  <p:cNvSpPr/>
                  <p:nvPr/>
                </p:nvSpPr>
                <p:spPr>
                  <a:xfrm>
                    <a:off x="5689440" y="1825560"/>
                    <a:ext cx="235080" cy="133560"/>
                  </a:xfrm>
                  <a:custGeom>
                    <a:avLst/>
                    <a:gdLst/>
                    <a:ahLst/>
                    <a:rect l="l" t="t" r="r" b="b"/>
                    <a:pathLst>
                      <a:path w="442" h="253">
                        <a:moveTo>
                          <a:pt x="0" y="253"/>
                        </a:moveTo>
                        <a:lnTo>
                          <a:pt x="41" y="237"/>
                        </a:lnTo>
                        <a:lnTo>
                          <a:pt x="69" y="206"/>
                        </a:lnTo>
                        <a:lnTo>
                          <a:pt x="97" y="190"/>
                        </a:lnTo>
                        <a:lnTo>
                          <a:pt x="124" y="175"/>
                        </a:lnTo>
                        <a:lnTo>
                          <a:pt x="152" y="158"/>
                        </a:lnTo>
                        <a:lnTo>
                          <a:pt x="180" y="143"/>
                        </a:lnTo>
                        <a:lnTo>
                          <a:pt x="207" y="128"/>
                        </a:lnTo>
                        <a:lnTo>
                          <a:pt x="235" y="111"/>
                        </a:lnTo>
                        <a:lnTo>
                          <a:pt x="263" y="96"/>
                        </a:lnTo>
                        <a:lnTo>
                          <a:pt x="290" y="64"/>
                        </a:lnTo>
                        <a:lnTo>
                          <a:pt x="332" y="64"/>
                        </a:lnTo>
                        <a:lnTo>
                          <a:pt x="359" y="49"/>
                        </a:lnTo>
                        <a:lnTo>
                          <a:pt x="387" y="32"/>
                        </a:lnTo>
                        <a:lnTo>
                          <a:pt x="415" y="17"/>
                        </a:lnTo>
                        <a:lnTo>
                          <a:pt x="442"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689440" y="1825560"/>
                    <a:ext cx="235080" cy="133560"/>
                  </a:xfrm>
                  <a:custGeom>
                    <a:avLst/>
                    <a:gdLst/>
                    <a:ahLst/>
                    <a:rect l="l" t="t" r="r" b="b"/>
                    <a:pathLst>
                      <a:path w="442" h="253">
                        <a:moveTo>
                          <a:pt x="0" y="253"/>
                        </a:moveTo>
                        <a:lnTo>
                          <a:pt x="41" y="237"/>
                        </a:lnTo>
                        <a:lnTo>
                          <a:pt x="69" y="206"/>
                        </a:lnTo>
                        <a:lnTo>
                          <a:pt x="97" y="190"/>
                        </a:lnTo>
                        <a:lnTo>
                          <a:pt x="124" y="175"/>
                        </a:lnTo>
                        <a:lnTo>
                          <a:pt x="152" y="158"/>
                        </a:lnTo>
                        <a:lnTo>
                          <a:pt x="180" y="143"/>
                        </a:lnTo>
                        <a:lnTo>
                          <a:pt x="207" y="128"/>
                        </a:lnTo>
                        <a:lnTo>
                          <a:pt x="235" y="111"/>
                        </a:lnTo>
                        <a:lnTo>
                          <a:pt x="263" y="96"/>
                        </a:lnTo>
                        <a:lnTo>
                          <a:pt x="290" y="64"/>
                        </a:lnTo>
                        <a:lnTo>
                          <a:pt x="332" y="64"/>
                        </a:lnTo>
                        <a:lnTo>
                          <a:pt x="359" y="49"/>
                        </a:lnTo>
                        <a:lnTo>
                          <a:pt x="387" y="32"/>
                        </a:lnTo>
                        <a:lnTo>
                          <a:pt x="415" y="17"/>
                        </a:lnTo>
                        <a:lnTo>
                          <a:pt x="4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924520" y="1792440"/>
                  <a:ext cx="73080" cy="33120"/>
                  <a:chOff x="5924520" y="1792440"/>
                  <a:chExt cx="73080" cy="33120"/>
                </a:xfrm>
              </p:grpSpPr>
              <p:sp>
                <p:nvSpPr>
                  <p:cNvPr id="965" name=""/>
                  <p:cNvSpPr/>
                  <p:nvPr/>
                </p:nvSpPr>
                <p:spPr>
                  <a:xfrm>
                    <a:off x="5924520" y="1792440"/>
                    <a:ext cx="73080" cy="33120"/>
                  </a:xfrm>
                  <a:custGeom>
                    <a:avLst/>
                    <a:gdLst/>
                    <a:ahLst/>
                    <a:rect l="l" t="t" r="r" b="b"/>
                    <a:pathLst>
                      <a:path w="140" h="62">
                        <a:moveTo>
                          <a:pt x="0" y="62"/>
                        </a:moveTo>
                        <a:lnTo>
                          <a:pt x="42" y="47"/>
                        </a:lnTo>
                        <a:lnTo>
                          <a:pt x="99" y="15"/>
                        </a:lnTo>
                        <a:lnTo>
                          <a:pt x="140"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6" name=""/>
                  <p:cNvSpPr/>
                  <p:nvPr/>
                </p:nvSpPr>
                <p:spPr>
                  <a:xfrm>
                    <a:off x="5924520" y="1792440"/>
                    <a:ext cx="73080" cy="33120"/>
                  </a:xfrm>
                  <a:custGeom>
                    <a:avLst/>
                    <a:gdLst/>
                    <a:ahLst/>
                    <a:rect l="l" t="t" r="r" b="b"/>
                    <a:pathLst>
                      <a:path w="140" h="62">
                        <a:moveTo>
                          <a:pt x="0" y="62"/>
                        </a:moveTo>
                        <a:lnTo>
                          <a:pt x="42" y="47"/>
                        </a:lnTo>
                        <a:lnTo>
                          <a:pt x="99" y="15"/>
                        </a:lnTo>
                        <a:lnTo>
                          <a:pt x="14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967" name=""/>
                <p:cNvGrpSpPr/>
                <p:nvPr/>
              </p:nvGrpSpPr>
              <p:grpSpPr>
                <a:xfrm>
                  <a:off x="5997600" y="1774800"/>
                  <a:ext cx="36360" cy="17640"/>
                  <a:chOff x="5997600" y="1774800"/>
                  <a:chExt cx="36360" cy="17640"/>
                </a:xfrm>
              </p:grpSpPr>
              <p:sp>
                <p:nvSpPr>
                  <p:cNvPr id="968" name=""/>
                  <p:cNvSpPr/>
                  <p:nvPr/>
                </p:nvSpPr>
                <p:spPr>
                  <a:xfrm>
                    <a:off x="5997600" y="1774800"/>
                    <a:ext cx="36360" cy="17640"/>
                  </a:xfrm>
                  <a:custGeom>
                    <a:avLst/>
                    <a:gdLst/>
                    <a:ahLst/>
                    <a:rect l="l" t="t" r="r" b="b"/>
                    <a:pathLst>
                      <a:path w="69" h="32">
                        <a:moveTo>
                          <a:pt x="0" y="32"/>
                        </a:moveTo>
                        <a:lnTo>
                          <a:pt x="28" y="15"/>
                        </a:lnTo>
                        <a:lnTo>
                          <a:pt x="55" y="15"/>
                        </a:lnTo>
                        <a:lnTo>
                          <a:pt x="69"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9" name=""/>
                  <p:cNvSpPr/>
                  <p:nvPr/>
                </p:nvSpPr>
                <p:spPr>
                  <a:xfrm>
                    <a:off x="5997600" y="1774800"/>
                    <a:ext cx="36360" cy="17640"/>
                  </a:xfrm>
                  <a:custGeom>
                    <a:avLst/>
                    <a:gdLst/>
                    <a:ahLst/>
                    <a:rect l="l" t="t" r="r" b="b"/>
                    <a:pathLst>
                      <a:path w="69" h="32">
                        <a:moveTo>
                          <a:pt x="0" y="32"/>
                        </a:moveTo>
                        <a:lnTo>
                          <a:pt x="28" y="15"/>
                        </a:lnTo>
                        <a:lnTo>
                          <a:pt x="55" y="15"/>
                        </a:lnTo>
                        <a:lnTo>
                          <a:pt x="69"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70" name=""/>
                <p:cNvGrpSpPr/>
                <p:nvPr/>
              </p:nvGrpSpPr>
              <p:grpSpPr>
                <a:xfrm>
                  <a:off x="5638680" y="3778200"/>
                  <a:ext cx="490680" cy="335160"/>
                  <a:chOff x="5638680" y="3778200"/>
                  <a:chExt cx="490680" cy="335160"/>
                </a:xfrm>
              </p:grpSpPr>
              <p:sp>
                <p:nvSpPr>
                  <p:cNvPr id="971" name=""/>
                  <p:cNvSpPr/>
                  <p:nvPr/>
                </p:nvSpPr>
                <p:spPr>
                  <a:xfrm>
                    <a:off x="5638680" y="3778200"/>
                    <a:ext cx="490680" cy="335160"/>
                  </a:xfrm>
                  <a:custGeom>
                    <a:avLst/>
                    <a:gdLst/>
                    <a:ahLst/>
                    <a:rect l="l" t="t" r="r" b="b"/>
                    <a:pathLst>
                      <a:path w="928" h="631">
                        <a:moveTo>
                          <a:pt x="928" y="631"/>
                        </a:moveTo>
                        <a:lnTo>
                          <a:pt x="887" y="631"/>
                        </a:lnTo>
                        <a:lnTo>
                          <a:pt x="859" y="616"/>
                        </a:lnTo>
                        <a:lnTo>
                          <a:pt x="831" y="599"/>
                        </a:lnTo>
                        <a:lnTo>
                          <a:pt x="804" y="584"/>
                        </a:lnTo>
                        <a:lnTo>
                          <a:pt x="776" y="584"/>
                        </a:lnTo>
                        <a:lnTo>
                          <a:pt x="748" y="569"/>
                        </a:lnTo>
                        <a:lnTo>
                          <a:pt x="721" y="552"/>
                        </a:lnTo>
                        <a:lnTo>
                          <a:pt x="693" y="537"/>
                        </a:lnTo>
                        <a:lnTo>
                          <a:pt x="665" y="520"/>
                        </a:lnTo>
                        <a:lnTo>
                          <a:pt x="638" y="505"/>
                        </a:lnTo>
                        <a:lnTo>
                          <a:pt x="609" y="490"/>
                        </a:lnTo>
                        <a:lnTo>
                          <a:pt x="581" y="473"/>
                        </a:lnTo>
                        <a:lnTo>
                          <a:pt x="553" y="458"/>
                        </a:lnTo>
                        <a:lnTo>
                          <a:pt x="526" y="441"/>
                        </a:lnTo>
                        <a:lnTo>
                          <a:pt x="498" y="426"/>
                        </a:lnTo>
                        <a:lnTo>
                          <a:pt x="470" y="411"/>
                        </a:lnTo>
                        <a:lnTo>
                          <a:pt x="456" y="379"/>
                        </a:lnTo>
                        <a:lnTo>
                          <a:pt x="429" y="362"/>
                        </a:lnTo>
                        <a:lnTo>
                          <a:pt x="401" y="347"/>
                        </a:lnTo>
                        <a:lnTo>
                          <a:pt x="374" y="332"/>
                        </a:lnTo>
                        <a:lnTo>
                          <a:pt x="346" y="315"/>
                        </a:lnTo>
                        <a:lnTo>
                          <a:pt x="332" y="284"/>
                        </a:lnTo>
                        <a:lnTo>
                          <a:pt x="304" y="268"/>
                        </a:lnTo>
                        <a:lnTo>
                          <a:pt x="277" y="253"/>
                        </a:lnTo>
                        <a:lnTo>
                          <a:pt x="249" y="221"/>
                        </a:lnTo>
                        <a:lnTo>
                          <a:pt x="221" y="205"/>
                        </a:lnTo>
                        <a:lnTo>
                          <a:pt x="208" y="189"/>
                        </a:lnTo>
                        <a:lnTo>
                          <a:pt x="180" y="158"/>
                        </a:lnTo>
                        <a:lnTo>
                          <a:pt x="152" y="142"/>
                        </a:lnTo>
                        <a:lnTo>
                          <a:pt x="138" y="111"/>
                        </a:lnTo>
                        <a:lnTo>
                          <a:pt x="97" y="95"/>
                        </a:lnTo>
                        <a:lnTo>
                          <a:pt x="69" y="64"/>
                        </a:lnTo>
                        <a:lnTo>
                          <a:pt x="55" y="47"/>
                        </a:lnTo>
                        <a:lnTo>
                          <a:pt x="28" y="17"/>
                        </a:lnTo>
                        <a:lnTo>
                          <a:pt x="0" y="0"/>
                        </a:lnTo>
                        <a:lnTo>
                          <a:pt x="928" y="6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638680" y="3778200"/>
                    <a:ext cx="490680" cy="335160"/>
                  </a:xfrm>
                  <a:custGeom>
                    <a:avLst/>
                    <a:gdLst/>
                    <a:ahLst/>
                    <a:rect l="l" t="t" r="r" b="b"/>
                    <a:pathLst>
                      <a:path w="928" h="631">
                        <a:moveTo>
                          <a:pt x="928" y="631"/>
                        </a:moveTo>
                        <a:lnTo>
                          <a:pt x="887" y="631"/>
                        </a:lnTo>
                        <a:lnTo>
                          <a:pt x="859" y="616"/>
                        </a:lnTo>
                        <a:lnTo>
                          <a:pt x="831" y="599"/>
                        </a:lnTo>
                        <a:lnTo>
                          <a:pt x="804" y="584"/>
                        </a:lnTo>
                        <a:lnTo>
                          <a:pt x="776" y="584"/>
                        </a:lnTo>
                        <a:lnTo>
                          <a:pt x="748" y="569"/>
                        </a:lnTo>
                        <a:lnTo>
                          <a:pt x="721" y="552"/>
                        </a:lnTo>
                        <a:lnTo>
                          <a:pt x="693" y="537"/>
                        </a:lnTo>
                        <a:lnTo>
                          <a:pt x="665" y="520"/>
                        </a:lnTo>
                        <a:lnTo>
                          <a:pt x="638" y="505"/>
                        </a:lnTo>
                        <a:lnTo>
                          <a:pt x="609" y="490"/>
                        </a:lnTo>
                        <a:lnTo>
                          <a:pt x="581" y="473"/>
                        </a:lnTo>
                        <a:lnTo>
                          <a:pt x="553" y="458"/>
                        </a:lnTo>
                        <a:lnTo>
                          <a:pt x="526" y="441"/>
                        </a:lnTo>
                        <a:lnTo>
                          <a:pt x="498" y="426"/>
                        </a:lnTo>
                        <a:lnTo>
                          <a:pt x="470" y="411"/>
                        </a:lnTo>
                        <a:lnTo>
                          <a:pt x="456" y="379"/>
                        </a:lnTo>
                        <a:lnTo>
                          <a:pt x="429" y="362"/>
                        </a:lnTo>
                        <a:lnTo>
                          <a:pt x="401" y="347"/>
                        </a:lnTo>
                        <a:lnTo>
                          <a:pt x="374" y="332"/>
                        </a:lnTo>
                        <a:lnTo>
                          <a:pt x="346" y="315"/>
                        </a:lnTo>
                        <a:lnTo>
                          <a:pt x="332" y="284"/>
                        </a:lnTo>
                        <a:lnTo>
                          <a:pt x="304" y="268"/>
                        </a:lnTo>
                        <a:lnTo>
                          <a:pt x="277" y="253"/>
                        </a:lnTo>
                        <a:lnTo>
                          <a:pt x="249" y="221"/>
                        </a:lnTo>
                        <a:lnTo>
                          <a:pt x="221" y="205"/>
                        </a:lnTo>
                        <a:lnTo>
                          <a:pt x="208" y="189"/>
                        </a:lnTo>
                        <a:lnTo>
                          <a:pt x="180" y="158"/>
                        </a:lnTo>
                        <a:lnTo>
                          <a:pt x="152" y="142"/>
                        </a:lnTo>
                        <a:lnTo>
                          <a:pt x="138" y="111"/>
                        </a:lnTo>
                        <a:lnTo>
                          <a:pt x="97" y="95"/>
                        </a:lnTo>
                        <a:lnTo>
                          <a:pt x="69" y="64"/>
                        </a:lnTo>
                        <a:lnTo>
                          <a:pt x="55" y="47"/>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5381640" y="3336840"/>
                  <a:ext cx="257040" cy="441360"/>
                  <a:chOff x="5381640" y="3336840"/>
                  <a:chExt cx="257040" cy="441360"/>
                </a:xfrm>
              </p:grpSpPr>
              <p:sp>
                <p:nvSpPr>
                  <p:cNvPr id="974" name=""/>
                  <p:cNvSpPr/>
                  <p:nvPr/>
                </p:nvSpPr>
                <p:spPr>
                  <a:xfrm>
                    <a:off x="5381640" y="3336840"/>
                    <a:ext cx="257040" cy="441360"/>
                  </a:xfrm>
                  <a:custGeom>
                    <a:avLst/>
                    <a:gdLst/>
                    <a:ahLst/>
                    <a:rect l="l" t="t" r="r" b="b"/>
                    <a:pathLst>
                      <a:path w="485" h="836">
                        <a:moveTo>
                          <a:pt x="485" y="836"/>
                        </a:moveTo>
                        <a:lnTo>
                          <a:pt x="471" y="804"/>
                        </a:lnTo>
                        <a:lnTo>
                          <a:pt x="444" y="789"/>
                        </a:lnTo>
                        <a:lnTo>
                          <a:pt x="430" y="757"/>
                        </a:lnTo>
                        <a:lnTo>
                          <a:pt x="402" y="742"/>
                        </a:lnTo>
                        <a:lnTo>
                          <a:pt x="388" y="710"/>
                        </a:lnTo>
                        <a:lnTo>
                          <a:pt x="361" y="678"/>
                        </a:lnTo>
                        <a:lnTo>
                          <a:pt x="347" y="663"/>
                        </a:lnTo>
                        <a:lnTo>
                          <a:pt x="318" y="631"/>
                        </a:lnTo>
                        <a:lnTo>
                          <a:pt x="304" y="599"/>
                        </a:lnTo>
                        <a:lnTo>
                          <a:pt x="290" y="584"/>
                        </a:lnTo>
                        <a:lnTo>
                          <a:pt x="262" y="552"/>
                        </a:lnTo>
                        <a:lnTo>
                          <a:pt x="249" y="520"/>
                        </a:lnTo>
                        <a:lnTo>
                          <a:pt x="235" y="489"/>
                        </a:lnTo>
                        <a:lnTo>
                          <a:pt x="207" y="458"/>
                        </a:lnTo>
                        <a:lnTo>
                          <a:pt x="193" y="442"/>
                        </a:lnTo>
                        <a:lnTo>
                          <a:pt x="179" y="410"/>
                        </a:lnTo>
                        <a:lnTo>
                          <a:pt x="166" y="379"/>
                        </a:lnTo>
                        <a:lnTo>
                          <a:pt x="138" y="347"/>
                        </a:lnTo>
                        <a:lnTo>
                          <a:pt x="124" y="316"/>
                        </a:lnTo>
                        <a:lnTo>
                          <a:pt x="110" y="284"/>
                        </a:lnTo>
                        <a:lnTo>
                          <a:pt x="96" y="252"/>
                        </a:lnTo>
                        <a:lnTo>
                          <a:pt x="83" y="222"/>
                        </a:lnTo>
                        <a:lnTo>
                          <a:pt x="69" y="190"/>
                        </a:lnTo>
                        <a:lnTo>
                          <a:pt x="55" y="158"/>
                        </a:lnTo>
                        <a:lnTo>
                          <a:pt x="41" y="126"/>
                        </a:lnTo>
                        <a:lnTo>
                          <a:pt x="41" y="94"/>
                        </a:lnTo>
                        <a:lnTo>
                          <a:pt x="27" y="64"/>
                        </a:lnTo>
                        <a:lnTo>
                          <a:pt x="13" y="32"/>
                        </a:lnTo>
                        <a:lnTo>
                          <a:pt x="0" y="0"/>
                        </a:lnTo>
                        <a:lnTo>
                          <a:pt x="485" y="8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81640" y="3336840"/>
                    <a:ext cx="257040" cy="441360"/>
                  </a:xfrm>
                  <a:custGeom>
                    <a:avLst/>
                    <a:gdLst/>
                    <a:ahLst/>
                    <a:rect l="l" t="t" r="r" b="b"/>
                    <a:pathLst>
                      <a:path w="485" h="836">
                        <a:moveTo>
                          <a:pt x="485" y="836"/>
                        </a:moveTo>
                        <a:lnTo>
                          <a:pt x="471" y="804"/>
                        </a:lnTo>
                        <a:lnTo>
                          <a:pt x="444" y="789"/>
                        </a:lnTo>
                        <a:lnTo>
                          <a:pt x="430" y="757"/>
                        </a:lnTo>
                        <a:lnTo>
                          <a:pt x="402" y="742"/>
                        </a:lnTo>
                        <a:lnTo>
                          <a:pt x="388" y="710"/>
                        </a:lnTo>
                        <a:lnTo>
                          <a:pt x="361" y="678"/>
                        </a:lnTo>
                        <a:lnTo>
                          <a:pt x="347" y="663"/>
                        </a:lnTo>
                        <a:lnTo>
                          <a:pt x="318" y="631"/>
                        </a:lnTo>
                        <a:lnTo>
                          <a:pt x="304" y="599"/>
                        </a:lnTo>
                        <a:lnTo>
                          <a:pt x="290" y="584"/>
                        </a:lnTo>
                        <a:lnTo>
                          <a:pt x="262" y="552"/>
                        </a:lnTo>
                        <a:lnTo>
                          <a:pt x="249" y="520"/>
                        </a:lnTo>
                        <a:lnTo>
                          <a:pt x="235" y="489"/>
                        </a:lnTo>
                        <a:lnTo>
                          <a:pt x="207" y="458"/>
                        </a:lnTo>
                        <a:lnTo>
                          <a:pt x="193" y="442"/>
                        </a:lnTo>
                        <a:lnTo>
                          <a:pt x="179" y="410"/>
                        </a:lnTo>
                        <a:lnTo>
                          <a:pt x="166" y="379"/>
                        </a:lnTo>
                        <a:lnTo>
                          <a:pt x="138" y="347"/>
                        </a:lnTo>
                        <a:lnTo>
                          <a:pt x="124" y="316"/>
                        </a:lnTo>
                        <a:lnTo>
                          <a:pt x="110" y="284"/>
                        </a:lnTo>
                        <a:lnTo>
                          <a:pt x="96" y="252"/>
                        </a:lnTo>
                        <a:lnTo>
                          <a:pt x="83" y="222"/>
                        </a:lnTo>
                        <a:lnTo>
                          <a:pt x="69" y="190"/>
                        </a:lnTo>
                        <a:lnTo>
                          <a:pt x="55" y="158"/>
                        </a:lnTo>
                        <a:lnTo>
                          <a:pt x="41" y="126"/>
                        </a:lnTo>
                        <a:lnTo>
                          <a:pt x="41" y="94"/>
                        </a:lnTo>
                        <a:lnTo>
                          <a:pt x="27" y="64"/>
                        </a:lnTo>
                        <a:lnTo>
                          <a:pt x="13"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5330880" y="2811600"/>
                  <a:ext cx="50760" cy="525240"/>
                  <a:chOff x="5330880" y="2811600"/>
                  <a:chExt cx="50760" cy="525240"/>
                </a:xfrm>
              </p:grpSpPr>
              <p:sp>
                <p:nvSpPr>
                  <p:cNvPr id="977" name=""/>
                  <p:cNvSpPr/>
                  <p:nvPr/>
                </p:nvSpPr>
                <p:spPr>
                  <a:xfrm>
                    <a:off x="5330880" y="2811600"/>
                    <a:ext cx="50760" cy="525240"/>
                  </a:xfrm>
                  <a:custGeom>
                    <a:avLst/>
                    <a:gdLst/>
                    <a:ahLst/>
                    <a:rect l="l" t="t" r="r" b="b"/>
                    <a:pathLst>
                      <a:path w="97" h="993">
                        <a:moveTo>
                          <a:pt x="97" y="993"/>
                        </a:moveTo>
                        <a:lnTo>
                          <a:pt x="97" y="961"/>
                        </a:lnTo>
                        <a:lnTo>
                          <a:pt x="83" y="930"/>
                        </a:lnTo>
                        <a:lnTo>
                          <a:pt x="69" y="899"/>
                        </a:lnTo>
                        <a:lnTo>
                          <a:pt x="69" y="867"/>
                        </a:lnTo>
                        <a:lnTo>
                          <a:pt x="55" y="835"/>
                        </a:lnTo>
                        <a:lnTo>
                          <a:pt x="55" y="804"/>
                        </a:lnTo>
                        <a:lnTo>
                          <a:pt x="41" y="757"/>
                        </a:lnTo>
                        <a:lnTo>
                          <a:pt x="41" y="725"/>
                        </a:lnTo>
                        <a:lnTo>
                          <a:pt x="41" y="693"/>
                        </a:lnTo>
                        <a:lnTo>
                          <a:pt x="27" y="662"/>
                        </a:lnTo>
                        <a:lnTo>
                          <a:pt x="27" y="631"/>
                        </a:lnTo>
                        <a:lnTo>
                          <a:pt x="14" y="584"/>
                        </a:lnTo>
                        <a:lnTo>
                          <a:pt x="14" y="552"/>
                        </a:lnTo>
                        <a:lnTo>
                          <a:pt x="14" y="520"/>
                        </a:lnTo>
                        <a:lnTo>
                          <a:pt x="14" y="488"/>
                        </a:lnTo>
                        <a:lnTo>
                          <a:pt x="0" y="441"/>
                        </a:lnTo>
                        <a:lnTo>
                          <a:pt x="0" y="409"/>
                        </a:lnTo>
                        <a:lnTo>
                          <a:pt x="0" y="377"/>
                        </a:lnTo>
                        <a:lnTo>
                          <a:pt x="0" y="347"/>
                        </a:lnTo>
                        <a:lnTo>
                          <a:pt x="0" y="299"/>
                        </a:lnTo>
                        <a:lnTo>
                          <a:pt x="0" y="268"/>
                        </a:lnTo>
                        <a:lnTo>
                          <a:pt x="0" y="236"/>
                        </a:lnTo>
                        <a:lnTo>
                          <a:pt x="0" y="204"/>
                        </a:lnTo>
                        <a:lnTo>
                          <a:pt x="0" y="173"/>
                        </a:lnTo>
                        <a:lnTo>
                          <a:pt x="0" y="126"/>
                        </a:lnTo>
                        <a:lnTo>
                          <a:pt x="0" y="94"/>
                        </a:lnTo>
                        <a:lnTo>
                          <a:pt x="14" y="62"/>
                        </a:lnTo>
                        <a:lnTo>
                          <a:pt x="14" y="30"/>
                        </a:lnTo>
                        <a:lnTo>
                          <a:pt x="14" y="0"/>
                        </a:lnTo>
                        <a:lnTo>
                          <a:pt x="97" y="99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330880" y="2811600"/>
                    <a:ext cx="50760" cy="525240"/>
                  </a:xfrm>
                  <a:custGeom>
                    <a:avLst/>
                    <a:gdLst/>
                    <a:ahLst/>
                    <a:rect l="l" t="t" r="r" b="b"/>
                    <a:pathLst>
                      <a:path w="97" h="993">
                        <a:moveTo>
                          <a:pt x="97" y="993"/>
                        </a:moveTo>
                        <a:lnTo>
                          <a:pt x="97" y="961"/>
                        </a:lnTo>
                        <a:lnTo>
                          <a:pt x="83" y="930"/>
                        </a:lnTo>
                        <a:lnTo>
                          <a:pt x="69" y="899"/>
                        </a:lnTo>
                        <a:lnTo>
                          <a:pt x="69" y="867"/>
                        </a:lnTo>
                        <a:lnTo>
                          <a:pt x="55" y="835"/>
                        </a:lnTo>
                        <a:lnTo>
                          <a:pt x="55" y="804"/>
                        </a:lnTo>
                        <a:lnTo>
                          <a:pt x="41" y="757"/>
                        </a:lnTo>
                        <a:lnTo>
                          <a:pt x="41" y="725"/>
                        </a:lnTo>
                        <a:lnTo>
                          <a:pt x="41" y="693"/>
                        </a:lnTo>
                        <a:lnTo>
                          <a:pt x="27" y="662"/>
                        </a:lnTo>
                        <a:lnTo>
                          <a:pt x="27" y="631"/>
                        </a:lnTo>
                        <a:lnTo>
                          <a:pt x="14" y="584"/>
                        </a:lnTo>
                        <a:lnTo>
                          <a:pt x="14" y="552"/>
                        </a:lnTo>
                        <a:lnTo>
                          <a:pt x="14" y="520"/>
                        </a:lnTo>
                        <a:lnTo>
                          <a:pt x="14" y="488"/>
                        </a:lnTo>
                        <a:lnTo>
                          <a:pt x="0" y="441"/>
                        </a:lnTo>
                        <a:lnTo>
                          <a:pt x="0" y="409"/>
                        </a:lnTo>
                        <a:lnTo>
                          <a:pt x="0" y="377"/>
                        </a:lnTo>
                        <a:lnTo>
                          <a:pt x="0" y="347"/>
                        </a:lnTo>
                        <a:lnTo>
                          <a:pt x="0" y="299"/>
                        </a:lnTo>
                        <a:lnTo>
                          <a:pt x="0" y="268"/>
                        </a:lnTo>
                        <a:lnTo>
                          <a:pt x="0" y="236"/>
                        </a:lnTo>
                        <a:lnTo>
                          <a:pt x="0" y="204"/>
                        </a:lnTo>
                        <a:lnTo>
                          <a:pt x="0" y="173"/>
                        </a:lnTo>
                        <a:lnTo>
                          <a:pt x="0" y="126"/>
                        </a:lnTo>
                        <a:lnTo>
                          <a:pt x="0" y="94"/>
                        </a:lnTo>
                        <a:lnTo>
                          <a:pt x="14" y="62"/>
                        </a:lnTo>
                        <a:lnTo>
                          <a:pt x="14" y="30"/>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5338800" y="2627280"/>
                  <a:ext cx="28440" cy="184320"/>
                  <a:chOff x="5338800" y="2627280"/>
                  <a:chExt cx="28440" cy="184320"/>
                </a:xfrm>
              </p:grpSpPr>
              <p:sp>
                <p:nvSpPr>
                  <p:cNvPr id="980" name=""/>
                  <p:cNvSpPr/>
                  <p:nvPr/>
                </p:nvSpPr>
                <p:spPr>
                  <a:xfrm>
                    <a:off x="5338800" y="2627280"/>
                    <a:ext cx="28440" cy="184320"/>
                  </a:xfrm>
                  <a:custGeom>
                    <a:avLst/>
                    <a:gdLst/>
                    <a:ahLst/>
                    <a:rect l="l" t="t" r="r" b="b"/>
                    <a:pathLst>
                      <a:path w="55" h="348">
                        <a:moveTo>
                          <a:pt x="0" y="348"/>
                        </a:moveTo>
                        <a:lnTo>
                          <a:pt x="13" y="299"/>
                        </a:lnTo>
                        <a:lnTo>
                          <a:pt x="13" y="269"/>
                        </a:lnTo>
                        <a:lnTo>
                          <a:pt x="13" y="220"/>
                        </a:lnTo>
                        <a:lnTo>
                          <a:pt x="27" y="190"/>
                        </a:lnTo>
                        <a:lnTo>
                          <a:pt x="27" y="158"/>
                        </a:lnTo>
                        <a:lnTo>
                          <a:pt x="41" y="111"/>
                        </a:lnTo>
                        <a:lnTo>
                          <a:pt x="41" y="79"/>
                        </a:lnTo>
                        <a:lnTo>
                          <a:pt x="55" y="47"/>
                        </a:lnTo>
                        <a:lnTo>
                          <a:pt x="55" y="0"/>
                        </a:lnTo>
                        <a:lnTo>
                          <a:pt x="0" y="34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338800" y="2627280"/>
                    <a:ext cx="28440" cy="184320"/>
                  </a:xfrm>
                  <a:custGeom>
                    <a:avLst/>
                    <a:gdLst/>
                    <a:ahLst/>
                    <a:rect l="l" t="t" r="r" b="b"/>
                    <a:pathLst>
                      <a:path w="55" h="348">
                        <a:moveTo>
                          <a:pt x="0" y="348"/>
                        </a:moveTo>
                        <a:lnTo>
                          <a:pt x="13" y="299"/>
                        </a:lnTo>
                        <a:lnTo>
                          <a:pt x="13" y="269"/>
                        </a:lnTo>
                        <a:lnTo>
                          <a:pt x="13" y="220"/>
                        </a:lnTo>
                        <a:lnTo>
                          <a:pt x="27" y="190"/>
                        </a:lnTo>
                        <a:lnTo>
                          <a:pt x="27" y="158"/>
                        </a:lnTo>
                        <a:lnTo>
                          <a:pt x="41" y="111"/>
                        </a:lnTo>
                        <a:lnTo>
                          <a:pt x="41" y="79"/>
                        </a:lnTo>
                        <a:lnTo>
                          <a:pt x="55" y="47"/>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367240" y="1959120"/>
                  <a:ext cx="447840" cy="668160"/>
                  <a:chOff x="5367240" y="1959120"/>
                  <a:chExt cx="447840" cy="668160"/>
                </a:xfrm>
              </p:grpSpPr>
              <p:sp>
                <p:nvSpPr>
                  <p:cNvPr id="983" name=""/>
                  <p:cNvSpPr/>
                  <p:nvPr/>
                </p:nvSpPr>
                <p:spPr>
                  <a:xfrm>
                    <a:off x="5367240" y="1959120"/>
                    <a:ext cx="447840" cy="668160"/>
                  </a:xfrm>
                  <a:custGeom>
                    <a:avLst/>
                    <a:gdLst/>
                    <a:ahLst/>
                    <a:rect l="l" t="t" r="r" b="b"/>
                    <a:pathLst>
                      <a:path w="845" h="1262">
                        <a:moveTo>
                          <a:pt x="0" y="1262"/>
                        </a:moveTo>
                        <a:lnTo>
                          <a:pt x="14" y="1231"/>
                        </a:lnTo>
                        <a:lnTo>
                          <a:pt x="14" y="1199"/>
                        </a:lnTo>
                        <a:lnTo>
                          <a:pt x="28" y="1167"/>
                        </a:lnTo>
                        <a:lnTo>
                          <a:pt x="41" y="1136"/>
                        </a:lnTo>
                        <a:lnTo>
                          <a:pt x="41" y="1105"/>
                        </a:lnTo>
                        <a:lnTo>
                          <a:pt x="55" y="1073"/>
                        </a:lnTo>
                        <a:lnTo>
                          <a:pt x="69" y="1041"/>
                        </a:lnTo>
                        <a:lnTo>
                          <a:pt x="83" y="1009"/>
                        </a:lnTo>
                        <a:lnTo>
                          <a:pt x="97" y="979"/>
                        </a:lnTo>
                        <a:lnTo>
                          <a:pt x="97" y="947"/>
                        </a:lnTo>
                        <a:lnTo>
                          <a:pt x="111" y="915"/>
                        </a:lnTo>
                        <a:lnTo>
                          <a:pt x="124" y="883"/>
                        </a:lnTo>
                        <a:lnTo>
                          <a:pt x="138" y="836"/>
                        </a:lnTo>
                        <a:lnTo>
                          <a:pt x="152" y="804"/>
                        </a:lnTo>
                        <a:lnTo>
                          <a:pt x="180" y="789"/>
                        </a:lnTo>
                        <a:lnTo>
                          <a:pt x="194" y="757"/>
                        </a:lnTo>
                        <a:lnTo>
                          <a:pt x="207" y="726"/>
                        </a:lnTo>
                        <a:lnTo>
                          <a:pt x="221" y="694"/>
                        </a:lnTo>
                        <a:lnTo>
                          <a:pt x="235" y="663"/>
                        </a:lnTo>
                        <a:lnTo>
                          <a:pt x="263" y="631"/>
                        </a:lnTo>
                        <a:lnTo>
                          <a:pt x="277" y="615"/>
                        </a:lnTo>
                        <a:lnTo>
                          <a:pt x="290" y="584"/>
                        </a:lnTo>
                        <a:lnTo>
                          <a:pt x="318" y="553"/>
                        </a:lnTo>
                        <a:lnTo>
                          <a:pt x="332" y="536"/>
                        </a:lnTo>
                        <a:lnTo>
                          <a:pt x="346" y="505"/>
                        </a:lnTo>
                        <a:lnTo>
                          <a:pt x="375" y="474"/>
                        </a:lnTo>
                        <a:lnTo>
                          <a:pt x="389" y="457"/>
                        </a:lnTo>
                        <a:lnTo>
                          <a:pt x="416" y="427"/>
                        </a:lnTo>
                        <a:lnTo>
                          <a:pt x="430" y="395"/>
                        </a:lnTo>
                        <a:lnTo>
                          <a:pt x="458" y="378"/>
                        </a:lnTo>
                        <a:lnTo>
                          <a:pt x="472" y="348"/>
                        </a:lnTo>
                        <a:lnTo>
                          <a:pt x="499" y="331"/>
                        </a:lnTo>
                        <a:lnTo>
                          <a:pt x="513" y="299"/>
                        </a:lnTo>
                        <a:lnTo>
                          <a:pt x="541" y="284"/>
                        </a:lnTo>
                        <a:lnTo>
                          <a:pt x="568" y="252"/>
                        </a:lnTo>
                        <a:lnTo>
                          <a:pt x="582" y="237"/>
                        </a:lnTo>
                        <a:lnTo>
                          <a:pt x="610" y="205"/>
                        </a:lnTo>
                        <a:lnTo>
                          <a:pt x="638" y="190"/>
                        </a:lnTo>
                        <a:lnTo>
                          <a:pt x="665" y="158"/>
                        </a:lnTo>
                        <a:lnTo>
                          <a:pt x="693" y="142"/>
                        </a:lnTo>
                        <a:lnTo>
                          <a:pt x="707" y="126"/>
                        </a:lnTo>
                        <a:lnTo>
                          <a:pt x="734" y="95"/>
                        </a:lnTo>
                        <a:lnTo>
                          <a:pt x="762" y="79"/>
                        </a:lnTo>
                        <a:lnTo>
                          <a:pt x="776" y="63"/>
                        </a:lnTo>
                        <a:lnTo>
                          <a:pt x="804" y="32"/>
                        </a:lnTo>
                        <a:lnTo>
                          <a:pt x="831" y="16"/>
                        </a:lnTo>
                        <a:lnTo>
                          <a:pt x="845" y="0"/>
                        </a:lnTo>
                        <a:lnTo>
                          <a:pt x="0" y="12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367240" y="1959120"/>
                    <a:ext cx="447840" cy="668160"/>
                  </a:xfrm>
                  <a:custGeom>
                    <a:avLst/>
                    <a:gdLst/>
                    <a:ahLst/>
                    <a:rect l="l" t="t" r="r" b="b"/>
                    <a:pathLst>
                      <a:path w="845" h="1262">
                        <a:moveTo>
                          <a:pt x="0" y="1262"/>
                        </a:moveTo>
                        <a:lnTo>
                          <a:pt x="14" y="1231"/>
                        </a:lnTo>
                        <a:lnTo>
                          <a:pt x="14" y="1199"/>
                        </a:lnTo>
                        <a:lnTo>
                          <a:pt x="28" y="1167"/>
                        </a:lnTo>
                        <a:lnTo>
                          <a:pt x="41" y="1136"/>
                        </a:lnTo>
                        <a:lnTo>
                          <a:pt x="41" y="1105"/>
                        </a:lnTo>
                        <a:lnTo>
                          <a:pt x="55" y="1073"/>
                        </a:lnTo>
                        <a:lnTo>
                          <a:pt x="69" y="1041"/>
                        </a:lnTo>
                        <a:lnTo>
                          <a:pt x="83" y="1009"/>
                        </a:lnTo>
                        <a:lnTo>
                          <a:pt x="97" y="979"/>
                        </a:lnTo>
                        <a:lnTo>
                          <a:pt x="97" y="947"/>
                        </a:lnTo>
                        <a:lnTo>
                          <a:pt x="111" y="915"/>
                        </a:lnTo>
                        <a:lnTo>
                          <a:pt x="124" y="883"/>
                        </a:lnTo>
                        <a:lnTo>
                          <a:pt x="138" y="836"/>
                        </a:lnTo>
                        <a:lnTo>
                          <a:pt x="152" y="804"/>
                        </a:lnTo>
                        <a:lnTo>
                          <a:pt x="180" y="789"/>
                        </a:lnTo>
                        <a:lnTo>
                          <a:pt x="194" y="757"/>
                        </a:lnTo>
                        <a:lnTo>
                          <a:pt x="207" y="726"/>
                        </a:lnTo>
                        <a:lnTo>
                          <a:pt x="221" y="694"/>
                        </a:lnTo>
                        <a:lnTo>
                          <a:pt x="235" y="663"/>
                        </a:lnTo>
                        <a:lnTo>
                          <a:pt x="263" y="631"/>
                        </a:lnTo>
                        <a:lnTo>
                          <a:pt x="277" y="615"/>
                        </a:lnTo>
                        <a:lnTo>
                          <a:pt x="290" y="584"/>
                        </a:lnTo>
                        <a:lnTo>
                          <a:pt x="318" y="553"/>
                        </a:lnTo>
                        <a:lnTo>
                          <a:pt x="332" y="536"/>
                        </a:lnTo>
                        <a:lnTo>
                          <a:pt x="346" y="505"/>
                        </a:lnTo>
                        <a:lnTo>
                          <a:pt x="375" y="474"/>
                        </a:lnTo>
                        <a:lnTo>
                          <a:pt x="389" y="457"/>
                        </a:lnTo>
                        <a:lnTo>
                          <a:pt x="416" y="427"/>
                        </a:lnTo>
                        <a:lnTo>
                          <a:pt x="430" y="395"/>
                        </a:lnTo>
                        <a:lnTo>
                          <a:pt x="458" y="378"/>
                        </a:lnTo>
                        <a:lnTo>
                          <a:pt x="472" y="348"/>
                        </a:lnTo>
                        <a:lnTo>
                          <a:pt x="499" y="331"/>
                        </a:lnTo>
                        <a:lnTo>
                          <a:pt x="513" y="299"/>
                        </a:lnTo>
                        <a:lnTo>
                          <a:pt x="541" y="284"/>
                        </a:lnTo>
                        <a:lnTo>
                          <a:pt x="568" y="252"/>
                        </a:lnTo>
                        <a:lnTo>
                          <a:pt x="582" y="237"/>
                        </a:lnTo>
                        <a:lnTo>
                          <a:pt x="610" y="205"/>
                        </a:lnTo>
                        <a:lnTo>
                          <a:pt x="638" y="190"/>
                        </a:lnTo>
                        <a:lnTo>
                          <a:pt x="665" y="158"/>
                        </a:lnTo>
                        <a:lnTo>
                          <a:pt x="693" y="142"/>
                        </a:lnTo>
                        <a:lnTo>
                          <a:pt x="707" y="126"/>
                        </a:lnTo>
                        <a:lnTo>
                          <a:pt x="734" y="95"/>
                        </a:lnTo>
                        <a:lnTo>
                          <a:pt x="762" y="79"/>
                        </a:lnTo>
                        <a:lnTo>
                          <a:pt x="776" y="63"/>
                        </a:lnTo>
                        <a:lnTo>
                          <a:pt x="804" y="32"/>
                        </a:lnTo>
                        <a:lnTo>
                          <a:pt x="831" y="16"/>
                        </a:lnTo>
                        <a:lnTo>
                          <a:pt x="8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 name=""/>
                <p:cNvGrpSpPr/>
                <p:nvPr/>
              </p:nvGrpSpPr>
              <p:grpSpPr>
                <a:xfrm>
                  <a:off x="5815080" y="1825560"/>
                  <a:ext cx="212760" cy="133560"/>
                  <a:chOff x="5815080" y="1825560"/>
                  <a:chExt cx="212760" cy="133560"/>
                </a:xfrm>
              </p:grpSpPr>
              <p:sp>
                <p:nvSpPr>
                  <p:cNvPr id="986" name=""/>
                  <p:cNvSpPr/>
                  <p:nvPr/>
                </p:nvSpPr>
                <p:spPr>
                  <a:xfrm>
                    <a:off x="5815080" y="1825560"/>
                    <a:ext cx="212760" cy="133560"/>
                  </a:xfrm>
                  <a:custGeom>
                    <a:avLst/>
                    <a:gdLst/>
                    <a:ahLst/>
                    <a:rect l="l" t="t" r="r" b="b"/>
                    <a:pathLst>
                      <a:path w="402" h="253">
                        <a:moveTo>
                          <a:pt x="0" y="253"/>
                        </a:moveTo>
                        <a:lnTo>
                          <a:pt x="28" y="222"/>
                        </a:lnTo>
                        <a:lnTo>
                          <a:pt x="55" y="206"/>
                        </a:lnTo>
                        <a:lnTo>
                          <a:pt x="83" y="190"/>
                        </a:lnTo>
                        <a:lnTo>
                          <a:pt x="111" y="175"/>
                        </a:lnTo>
                        <a:lnTo>
                          <a:pt x="138" y="143"/>
                        </a:lnTo>
                        <a:lnTo>
                          <a:pt x="166" y="128"/>
                        </a:lnTo>
                        <a:lnTo>
                          <a:pt x="194" y="111"/>
                        </a:lnTo>
                        <a:lnTo>
                          <a:pt x="221" y="96"/>
                        </a:lnTo>
                        <a:lnTo>
                          <a:pt x="249" y="79"/>
                        </a:lnTo>
                        <a:lnTo>
                          <a:pt x="277" y="64"/>
                        </a:lnTo>
                        <a:lnTo>
                          <a:pt x="306" y="49"/>
                        </a:lnTo>
                        <a:lnTo>
                          <a:pt x="347" y="32"/>
                        </a:lnTo>
                        <a:lnTo>
                          <a:pt x="375" y="17"/>
                        </a:lnTo>
                        <a:lnTo>
                          <a:pt x="402"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815080" y="1825560"/>
                    <a:ext cx="212760" cy="133560"/>
                  </a:xfrm>
                  <a:custGeom>
                    <a:avLst/>
                    <a:gdLst/>
                    <a:ahLst/>
                    <a:rect l="l" t="t" r="r" b="b"/>
                    <a:pathLst>
                      <a:path w="402" h="253">
                        <a:moveTo>
                          <a:pt x="0" y="253"/>
                        </a:moveTo>
                        <a:lnTo>
                          <a:pt x="28" y="222"/>
                        </a:lnTo>
                        <a:lnTo>
                          <a:pt x="55" y="206"/>
                        </a:lnTo>
                        <a:lnTo>
                          <a:pt x="83" y="190"/>
                        </a:lnTo>
                        <a:lnTo>
                          <a:pt x="111" y="175"/>
                        </a:lnTo>
                        <a:lnTo>
                          <a:pt x="138" y="143"/>
                        </a:lnTo>
                        <a:lnTo>
                          <a:pt x="166" y="128"/>
                        </a:lnTo>
                        <a:lnTo>
                          <a:pt x="194" y="111"/>
                        </a:lnTo>
                        <a:lnTo>
                          <a:pt x="221" y="96"/>
                        </a:lnTo>
                        <a:lnTo>
                          <a:pt x="249" y="79"/>
                        </a:lnTo>
                        <a:lnTo>
                          <a:pt x="277" y="64"/>
                        </a:lnTo>
                        <a:lnTo>
                          <a:pt x="306" y="49"/>
                        </a:lnTo>
                        <a:lnTo>
                          <a:pt x="347" y="32"/>
                        </a:lnTo>
                        <a:lnTo>
                          <a:pt x="375" y="17"/>
                        </a:lnTo>
                        <a:lnTo>
                          <a:pt x="40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6027840" y="1792440"/>
                  <a:ext cx="65160" cy="33120"/>
                  <a:chOff x="6027840" y="1792440"/>
                  <a:chExt cx="65160" cy="33120"/>
                </a:xfrm>
              </p:grpSpPr>
              <p:sp>
                <p:nvSpPr>
                  <p:cNvPr id="989" name=""/>
                  <p:cNvSpPr/>
                  <p:nvPr/>
                </p:nvSpPr>
                <p:spPr>
                  <a:xfrm>
                    <a:off x="6027840" y="1792440"/>
                    <a:ext cx="65160" cy="33120"/>
                  </a:xfrm>
                  <a:custGeom>
                    <a:avLst/>
                    <a:gdLst/>
                    <a:ahLst/>
                    <a:rect l="l" t="t" r="r" b="b"/>
                    <a:pathLst>
                      <a:path w="125" h="62">
                        <a:moveTo>
                          <a:pt x="0" y="62"/>
                        </a:moveTo>
                        <a:lnTo>
                          <a:pt x="42" y="47"/>
                        </a:lnTo>
                        <a:lnTo>
                          <a:pt x="83" y="15"/>
                        </a:lnTo>
                        <a:lnTo>
                          <a:pt x="125"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0" name=""/>
                  <p:cNvSpPr/>
                  <p:nvPr/>
                </p:nvSpPr>
                <p:spPr>
                  <a:xfrm>
                    <a:off x="6027840" y="1792440"/>
                    <a:ext cx="65160" cy="33120"/>
                  </a:xfrm>
                  <a:custGeom>
                    <a:avLst/>
                    <a:gdLst/>
                    <a:ahLst/>
                    <a:rect l="l" t="t" r="r" b="b"/>
                    <a:pathLst>
                      <a:path w="125" h="62">
                        <a:moveTo>
                          <a:pt x="0" y="62"/>
                        </a:moveTo>
                        <a:lnTo>
                          <a:pt x="42" y="47"/>
                        </a:lnTo>
                        <a:lnTo>
                          <a:pt x="83" y="15"/>
                        </a:lnTo>
                        <a:lnTo>
                          <a:pt x="12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991" name=""/>
                <p:cNvGrpSpPr/>
                <p:nvPr/>
              </p:nvGrpSpPr>
              <p:grpSpPr>
                <a:xfrm>
                  <a:off x="6093000" y="1774800"/>
                  <a:ext cx="36360" cy="17640"/>
                  <a:chOff x="6093000" y="1774800"/>
                  <a:chExt cx="36360" cy="17640"/>
                </a:xfrm>
              </p:grpSpPr>
              <p:sp>
                <p:nvSpPr>
                  <p:cNvPr id="992" name=""/>
                  <p:cNvSpPr/>
                  <p:nvPr/>
                </p:nvSpPr>
                <p:spPr>
                  <a:xfrm>
                    <a:off x="6093000" y="1774800"/>
                    <a:ext cx="36360" cy="17640"/>
                  </a:xfrm>
                  <a:custGeom>
                    <a:avLst/>
                    <a:gdLst/>
                    <a:ahLst/>
                    <a:rect l="l" t="t" r="r" b="b"/>
                    <a:pathLst>
                      <a:path w="69" h="32">
                        <a:moveTo>
                          <a:pt x="0" y="32"/>
                        </a:moveTo>
                        <a:lnTo>
                          <a:pt x="28" y="15"/>
                        </a:lnTo>
                        <a:lnTo>
                          <a:pt x="55" y="15"/>
                        </a:lnTo>
                        <a:lnTo>
                          <a:pt x="69"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6093000" y="1774800"/>
                    <a:ext cx="36360" cy="17640"/>
                  </a:xfrm>
                  <a:custGeom>
                    <a:avLst/>
                    <a:gdLst/>
                    <a:ahLst/>
                    <a:rect l="l" t="t" r="r" b="b"/>
                    <a:pathLst>
                      <a:path w="69" h="32">
                        <a:moveTo>
                          <a:pt x="0" y="32"/>
                        </a:moveTo>
                        <a:lnTo>
                          <a:pt x="28" y="15"/>
                        </a:lnTo>
                        <a:lnTo>
                          <a:pt x="55" y="15"/>
                        </a:lnTo>
                        <a:lnTo>
                          <a:pt x="69"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94" name=""/>
                <p:cNvGrpSpPr/>
                <p:nvPr/>
              </p:nvGrpSpPr>
              <p:grpSpPr>
                <a:xfrm>
                  <a:off x="5997600" y="3987720"/>
                  <a:ext cx="220680" cy="125640"/>
                  <a:chOff x="5997600" y="3987720"/>
                  <a:chExt cx="220680" cy="125640"/>
                </a:xfrm>
              </p:grpSpPr>
              <p:sp>
                <p:nvSpPr>
                  <p:cNvPr id="995" name=""/>
                  <p:cNvSpPr/>
                  <p:nvPr/>
                </p:nvSpPr>
                <p:spPr>
                  <a:xfrm>
                    <a:off x="5997600" y="3987720"/>
                    <a:ext cx="220680" cy="125640"/>
                  </a:xfrm>
                  <a:custGeom>
                    <a:avLst/>
                    <a:gdLst/>
                    <a:ahLst/>
                    <a:rect l="l" t="t" r="r" b="b"/>
                    <a:pathLst>
                      <a:path w="415" h="237">
                        <a:moveTo>
                          <a:pt x="415" y="237"/>
                        </a:moveTo>
                        <a:lnTo>
                          <a:pt x="387" y="237"/>
                        </a:lnTo>
                        <a:lnTo>
                          <a:pt x="346" y="222"/>
                        </a:lnTo>
                        <a:lnTo>
                          <a:pt x="318" y="205"/>
                        </a:lnTo>
                        <a:lnTo>
                          <a:pt x="291" y="190"/>
                        </a:lnTo>
                        <a:lnTo>
                          <a:pt x="263" y="175"/>
                        </a:lnTo>
                        <a:lnTo>
                          <a:pt x="221" y="158"/>
                        </a:lnTo>
                        <a:lnTo>
                          <a:pt x="194" y="143"/>
                        </a:lnTo>
                        <a:lnTo>
                          <a:pt x="166" y="126"/>
                        </a:lnTo>
                        <a:lnTo>
                          <a:pt x="138" y="96"/>
                        </a:lnTo>
                        <a:lnTo>
                          <a:pt x="111" y="79"/>
                        </a:lnTo>
                        <a:lnTo>
                          <a:pt x="83" y="64"/>
                        </a:lnTo>
                        <a:lnTo>
                          <a:pt x="55" y="47"/>
                        </a:lnTo>
                        <a:lnTo>
                          <a:pt x="28" y="17"/>
                        </a:lnTo>
                        <a:lnTo>
                          <a:pt x="0" y="0"/>
                        </a:lnTo>
                        <a:lnTo>
                          <a:pt x="415" y="2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997600" y="3987720"/>
                    <a:ext cx="220680" cy="125640"/>
                  </a:xfrm>
                  <a:custGeom>
                    <a:avLst/>
                    <a:gdLst/>
                    <a:ahLst/>
                    <a:rect l="l" t="t" r="r" b="b"/>
                    <a:pathLst>
                      <a:path w="415" h="237">
                        <a:moveTo>
                          <a:pt x="415" y="237"/>
                        </a:moveTo>
                        <a:lnTo>
                          <a:pt x="387" y="237"/>
                        </a:lnTo>
                        <a:lnTo>
                          <a:pt x="346" y="222"/>
                        </a:lnTo>
                        <a:lnTo>
                          <a:pt x="318" y="205"/>
                        </a:lnTo>
                        <a:lnTo>
                          <a:pt x="291" y="190"/>
                        </a:lnTo>
                        <a:lnTo>
                          <a:pt x="263" y="175"/>
                        </a:lnTo>
                        <a:lnTo>
                          <a:pt x="221" y="158"/>
                        </a:lnTo>
                        <a:lnTo>
                          <a:pt x="194" y="143"/>
                        </a:lnTo>
                        <a:lnTo>
                          <a:pt x="166" y="126"/>
                        </a:lnTo>
                        <a:lnTo>
                          <a:pt x="138" y="96"/>
                        </a:lnTo>
                        <a:lnTo>
                          <a:pt x="111" y="79"/>
                        </a:lnTo>
                        <a:lnTo>
                          <a:pt x="83" y="64"/>
                        </a:lnTo>
                        <a:lnTo>
                          <a:pt x="55" y="47"/>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5851440" y="3854520"/>
                  <a:ext cx="146160" cy="133200"/>
                  <a:chOff x="5851440" y="3854520"/>
                  <a:chExt cx="146160" cy="133200"/>
                </a:xfrm>
              </p:grpSpPr>
              <p:sp>
                <p:nvSpPr>
                  <p:cNvPr id="998" name=""/>
                  <p:cNvSpPr/>
                  <p:nvPr/>
                </p:nvSpPr>
                <p:spPr>
                  <a:xfrm>
                    <a:off x="5851440" y="3854520"/>
                    <a:ext cx="146160" cy="133200"/>
                  </a:xfrm>
                  <a:custGeom>
                    <a:avLst/>
                    <a:gdLst/>
                    <a:ahLst/>
                    <a:rect l="l" t="t" r="r" b="b"/>
                    <a:pathLst>
                      <a:path w="278" h="252">
                        <a:moveTo>
                          <a:pt x="278" y="252"/>
                        </a:moveTo>
                        <a:lnTo>
                          <a:pt x="251" y="237"/>
                        </a:lnTo>
                        <a:lnTo>
                          <a:pt x="221" y="205"/>
                        </a:lnTo>
                        <a:lnTo>
                          <a:pt x="180" y="173"/>
                        </a:lnTo>
                        <a:lnTo>
                          <a:pt x="152" y="158"/>
                        </a:lnTo>
                        <a:lnTo>
                          <a:pt x="138" y="126"/>
                        </a:lnTo>
                        <a:lnTo>
                          <a:pt x="111" y="111"/>
                        </a:lnTo>
                        <a:lnTo>
                          <a:pt x="83" y="79"/>
                        </a:lnTo>
                        <a:lnTo>
                          <a:pt x="55" y="47"/>
                        </a:lnTo>
                        <a:lnTo>
                          <a:pt x="28" y="16"/>
                        </a:lnTo>
                        <a:lnTo>
                          <a:pt x="0" y="0"/>
                        </a:lnTo>
                        <a:lnTo>
                          <a:pt x="278" y="2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851440" y="3854520"/>
                    <a:ext cx="146160" cy="133200"/>
                  </a:xfrm>
                  <a:custGeom>
                    <a:avLst/>
                    <a:gdLst/>
                    <a:ahLst/>
                    <a:rect l="l" t="t" r="r" b="b"/>
                    <a:pathLst>
                      <a:path w="278" h="252">
                        <a:moveTo>
                          <a:pt x="278" y="252"/>
                        </a:moveTo>
                        <a:lnTo>
                          <a:pt x="251" y="237"/>
                        </a:lnTo>
                        <a:lnTo>
                          <a:pt x="221" y="205"/>
                        </a:lnTo>
                        <a:lnTo>
                          <a:pt x="180" y="173"/>
                        </a:lnTo>
                        <a:lnTo>
                          <a:pt x="152" y="158"/>
                        </a:lnTo>
                        <a:lnTo>
                          <a:pt x="138" y="126"/>
                        </a:lnTo>
                        <a:lnTo>
                          <a:pt x="111" y="111"/>
                        </a:lnTo>
                        <a:lnTo>
                          <a:pt x="83" y="79"/>
                        </a:lnTo>
                        <a:lnTo>
                          <a:pt x="55" y="47"/>
                        </a:lnTo>
                        <a:lnTo>
                          <a:pt x="28"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5549760" y="3360600"/>
                  <a:ext cx="301680" cy="493920"/>
                  <a:chOff x="5549760" y="3360600"/>
                  <a:chExt cx="301680" cy="493920"/>
                </a:xfrm>
              </p:grpSpPr>
              <p:sp>
                <p:nvSpPr>
                  <p:cNvPr id="1001" name=""/>
                  <p:cNvSpPr/>
                  <p:nvPr/>
                </p:nvSpPr>
                <p:spPr>
                  <a:xfrm>
                    <a:off x="5549760" y="3360600"/>
                    <a:ext cx="301680" cy="493920"/>
                  </a:xfrm>
                  <a:custGeom>
                    <a:avLst/>
                    <a:gdLst/>
                    <a:ahLst/>
                    <a:rect l="l" t="t" r="r" b="b"/>
                    <a:pathLst>
                      <a:path w="568" h="931">
                        <a:moveTo>
                          <a:pt x="568" y="931"/>
                        </a:moveTo>
                        <a:lnTo>
                          <a:pt x="541" y="900"/>
                        </a:lnTo>
                        <a:lnTo>
                          <a:pt x="527" y="868"/>
                        </a:lnTo>
                        <a:lnTo>
                          <a:pt x="499" y="853"/>
                        </a:lnTo>
                        <a:lnTo>
                          <a:pt x="485" y="821"/>
                        </a:lnTo>
                        <a:lnTo>
                          <a:pt x="458" y="806"/>
                        </a:lnTo>
                        <a:lnTo>
                          <a:pt x="444" y="774"/>
                        </a:lnTo>
                        <a:lnTo>
                          <a:pt x="416" y="742"/>
                        </a:lnTo>
                        <a:lnTo>
                          <a:pt x="402" y="727"/>
                        </a:lnTo>
                        <a:lnTo>
                          <a:pt x="375" y="695"/>
                        </a:lnTo>
                        <a:lnTo>
                          <a:pt x="361" y="663"/>
                        </a:lnTo>
                        <a:lnTo>
                          <a:pt x="333" y="648"/>
                        </a:lnTo>
                        <a:lnTo>
                          <a:pt x="319" y="616"/>
                        </a:lnTo>
                        <a:lnTo>
                          <a:pt x="292" y="584"/>
                        </a:lnTo>
                        <a:lnTo>
                          <a:pt x="264" y="552"/>
                        </a:lnTo>
                        <a:lnTo>
                          <a:pt x="250" y="520"/>
                        </a:lnTo>
                        <a:lnTo>
                          <a:pt x="222" y="505"/>
                        </a:lnTo>
                        <a:lnTo>
                          <a:pt x="209" y="473"/>
                        </a:lnTo>
                        <a:lnTo>
                          <a:pt x="195" y="442"/>
                        </a:lnTo>
                        <a:lnTo>
                          <a:pt x="181" y="411"/>
                        </a:lnTo>
                        <a:lnTo>
                          <a:pt x="167" y="379"/>
                        </a:lnTo>
                        <a:lnTo>
                          <a:pt x="139" y="348"/>
                        </a:lnTo>
                        <a:lnTo>
                          <a:pt x="126" y="316"/>
                        </a:lnTo>
                        <a:lnTo>
                          <a:pt x="112" y="284"/>
                        </a:lnTo>
                        <a:lnTo>
                          <a:pt x="98" y="253"/>
                        </a:lnTo>
                        <a:lnTo>
                          <a:pt x="84" y="222"/>
                        </a:lnTo>
                        <a:lnTo>
                          <a:pt x="70" y="190"/>
                        </a:lnTo>
                        <a:lnTo>
                          <a:pt x="56" y="158"/>
                        </a:lnTo>
                        <a:lnTo>
                          <a:pt x="43" y="126"/>
                        </a:lnTo>
                        <a:lnTo>
                          <a:pt x="43" y="96"/>
                        </a:lnTo>
                        <a:lnTo>
                          <a:pt x="29" y="64"/>
                        </a:lnTo>
                        <a:lnTo>
                          <a:pt x="15" y="32"/>
                        </a:lnTo>
                        <a:lnTo>
                          <a:pt x="0" y="0"/>
                        </a:lnTo>
                        <a:lnTo>
                          <a:pt x="568" y="9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549760" y="3360600"/>
                    <a:ext cx="301680" cy="493920"/>
                  </a:xfrm>
                  <a:custGeom>
                    <a:avLst/>
                    <a:gdLst/>
                    <a:ahLst/>
                    <a:rect l="l" t="t" r="r" b="b"/>
                    <a:pathLst>
                      <a:path w="568" h="931">
                        <a:moveTo>
                          <a:pt x="568" y="931"/>
                        </a:moveTo>
                        <a:lnTo>
                          <a:pt x="541" y="900"/>
                        </a:lnTo>
                        <a:lnTo>
                          <a:pt x="527" y="868"/>
                        </a:lnTo>
                        <a:lnTo>
                          <a:pt x="499" y="853"/>
                        </a:lnTo>
                        <a:lnTo>
                          <a:pt x="485" y="821"/>
                        </a:lnTo>
                        <a:lnTo>
                          <a:pt x="458" y="806"/>
                        </a:lnTo>
                        <a:lnTo>
                          <a:pt x="444" y="774"/>
                        </a:lnTo>
                        <a:lnTo>
                          <a:pt x="416" y="742"/>
                        </a:lnTo>
                        <a:lnTo>
                          <a:pt x="402" y="727"/>
                        </a:lnTo>
                        <a:lnTo>
                          <a:pt x="375" y="695"/>
                        </a:lnTo>
                        <a:lnTo>
                          <a:pt x="361" y="663"/>
                        </a:lnTo>
                        <a:lnTo>
                          <a:pt x="333" y="648"/>
                        </a:lnTo>
                        <a:lnTo>
                          <a:pt x="319" y="616"/>
                        </a:lnTo>
                        <a:lnTo>
                          <a:pt x="292" y="584"/>
                        </a:lnTo>
                        <a:lnTo>
                          <a:pt x="264" y="552"/>
                        </a:lnTo>
                        <a:lnTo>
                          <a:pt x="250" y="520"/>
                        </a:lnTo>
                        <a:lnTo>
                          <a:pt x="222" y="505"/>
                        </a:lnTo>
                        <a:lnTo>
                          <a:pt x="209" y="473"/>
                        </a:lnTo>
                        <a:lnTo>
                          <a:pt x="195" y="442"/>
                        </a:lnTo>
                        <a:lnTo>
                          <a:pt x="181" y="411"/>
                        </a:lnTo>
                        <a:lnTo>
                          <a:pt x="167" y="379"/>
                        </a:lnTo>
                        <a:lnTo>
                          <a:pt x="139" y="348"/>
                        </a:lnTo>
                        <a:lnTo>
                          <a:pt x="126" y="316"/>
                        </a:lnTo>
                        <a:lnTo>
                          <a:pt x="112" y="284"/>
                        </a:lnTo>
                        <a:lnTo>
                          <a:pt x="98" y="253"/>
                        </a:lnTo>
                        <a:lnTo>
                          <a:pt x="84" y="222"/>
                        </a:lnTo>
                        <a:lnTo>
                          <a:pt x="70" y="190"/>
                        </a:lnTo>
                        <a:lnTo>
                          <a:pt x="56" y="158"/>
                        </a:lnTo>
                        <a:lnTo>
                          <a:pt x="43" y="126"/>
                        </a:lnTo>
                        <a:lnTo>
                          <a:pt x="43" y="96"/>
                        </a:lnTo>
                        <a:lnTo>
                          <a:pt x="29" y="64"/>
                        </a:lnTo>
                        <a:lnTo>
                          <a:pt x="15"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3" name=""/>
                <p:cNvGrpSpPr/>
                <p:nvPr/>
              </p:nvGrpSpPr>
              <p:grpSpPr>
                <a:xfrm>
                  <a:off x="5499000" y="2585880"/>
                  <a:ext cx="50760" cy="774720"/>
                  <a:chOff x="5499000" y="2585880"/>
                  <a:chExt cx="50760" cy="774720"/>
                </a:xfrm>
              </p:grpSpPr>
              <p:sp>
                <p:nvSpPr>
                  <p:cNvPr id="1004" name=""/>
                  <p:cNvSpPr/>
                  <p:nvPr/>
                </p:nvSpPr>
                <p:spPr>
                  <a:xfrm>
                    <a:off x="5499000" y="2585880"/>
                    <a:ext cx="50760" cy="774720"/>
                  </a:xfrm>
                  <a:custGeom>
                    <a:avLst/>
                    <a:gdLst/>
                    <a:ahLst/>
                    <a:rect l="l" t="t" r="r" b="b"/>
                    <a:pathLst>
                      <a:path w="97" h="1466">
                        <a:moveTo>
                          <a:pt x="97" y="1466"/>
                        </a:moveTo>
                        <a:lnTo>
                          <a:pt x="97" y="1434"/>
                        </a:lnTo>
                        <a:lnTo>
                          <a:pt x="83" y="1404"/>
                        </a:lnTo>
                        <a:lnTo>
                          <a:pt x="69" y="1356"/>
                        </a:lnTo>
                        <a:lnTo>
                          <a:pt x="69" y="1325"/>
                        </a:lnTo>
                        <a:lnTo>
                          <a:pt x="55" y="1293"/>
                        </a:lnTo>
                        <a:lnTo>
                          <a:pt x="55" y="1261"/>
                        </a:lnTo>
                        <a:lnTo>
                          <a:pt x="41" y="1230"/>
                        </a:lnTo>
                        <a:lnTo>
                          <a:pt x="41" y="1198"/>
                        </a:lnTo>
                        <a:lnTo>
                          <a:pt x="41" y="1167"/>
                        </a:lnTo>
                        <a:lnTo>
                          <a:pt x="28" y="1136"/>
                        </a:lnTo>
                        <a:lnTo>
                          <a:pt x="28" y="1088"/>
                        </a:lnTo>
                        <a:lnTo>
                          <a:pt x="28" y="1057"/>
                        </a:lnTo>
                        <a:lnTo>
                          <a:pt x="14" y="1025"/>
                        </a:lnTo>
                        <a:lnTo>
                          <a:pt x="14" y="993"/>
                        </a:lnTo>
                        <a:lnTo>
                          <a:pt x="14" y="961"/>
                        </a:lnTo>
                        <a:lnTo>
                          <a:pt x="14" y="931"/>
                        </a:lnTo>
                        <a:lnTo>
                          <a:pt x="14" y="882"/>
                        </a:lnTo>
                        <a:lnTo>
                          <a:pt x="0" y="852"/>
                        </a:lnTo>
                        <a:lnTo>
                          <a:pt x="0" y="820"/>
                        </a:lnTo>
                        <a:lnTo>
                          <a:pt x="0" y="788"/>
                        </a:lnTo>
                        <a:lnTo>
                          <a:pt x="0" y="756"/>
                        </a:lnTo>
                        <a:lnTo>
                          <a:pt x="0" y="709"/>
                        </a:lnTo>
                        <a:lnTo>
                          <a:pt x="0" y="678"/>
                        </a:lnTo>
                        <a:lnTo>
                          <a:pt x="0" y="646"/>
                        </a:lnTo>
                        <a:lnTo>
                          <a:pt x="0" y="614"/>
                        </a:lnTo>
                        <a:lnTo>
                          <a:pt x="0" y="583"/>
                        </a:lnTo>
                        <a:lnTo>
                          <a:pt x="14" y="535"/>
                        </a:lnTo>
                        <a:lnTo>
                          <a:pt x="14" y="505"/>
                        </a:lnTo>
                        <a:lnTo>
                          <a:pt x="14" y="473"/>
                        </a:lnTo>
                        <a:lnTo>
                          <a:pt x="14" y="441"/>
                        </a:lnTo>
                        <a:lnTo>
                          <a:pt x="14" y="409"/>
                        </a:lnTo>
                        <a:lnTo>
                          <a:pt x="28" y="362"/>
                        </a:lnTo>
                        <a:lnTo>
                          <a:pt x="28" y="330"/>
                        </a:lnTo>
                        <a:lnTo>
                          <a:pt x="28" y="298"/>
                        </a:lnTo>
                        <a:lnTo>
                          <a:pt x="28" y="268"/>
                        </a:lnTo>
                        <a:lnTo>
                          <a:pt x="41" y="236"/>
                        </a:lnTo>
                        <a:lnTo>
                          <a:pt x="41" y="204"/>
                        </a:lnTo>
                        <a:lnTo>
                          <a:pt x="55" y="172"/>
                        </a:lnTo>
                        <a:lnTo>
                          <a:pt x="55" y="125"/>
                        </a:lnTo>
                        <a:lnTo>
                          <a:pt x="55" y="94"/>
                        </a:lnTo>
                        <a:lnTo>
                          <a:pt x="69" y="62"/>
                        </a:lnTo>
                        <a:lnTo>
                          <a:pt x="69" y="31"/>
                        </a:lnTo>
                        <a:lnTo>
                          <a:pt x="83" y="0"/>
                        </a:lnTo>
                        <a:lnTo>
                          <a:pt x="97" y="146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499000" y="2585880"/>
                    <a:ext cx="50760" cy="774720"/>
                  </a:xfrm>
                  <a:custGeom>
                    <a:avLst/>
                    <a:gdLst/>
                    <a:ahLst/>
                    <a:rect l="l" t="t" r="r" b="b"/>
                    <a:pathLst>
                      <a:path w="97" h="1466">
                        <a:moveTo>
                          <a:pt x="97" y="1466"/>
                        </a:moveTo>
                        <a:lnTo>
                          <a:pt x="97" y="1434"/>
                        </a:lnTo>
                        <a:lnTo>
                          <a:pt x="83" y="1404"/>
                        </a:lnTo>
                        <a:lnTo>
                          <a:pt x="69" y="1356"/>
                        </a:lnTo>
                        <a:lnTo>
                          <a:pt x="69" y="1325"/>
                        </a:lnTo>
                        <a:lnTo>
                          <a:pt x="55" y="1293"/>
                        </a:lnTo>
                        <a:lnTo>
                          <a:pt x="55" y="1261"/>
                        </a:lnTo>
                        <a:lnTo>
                          <a:pt x="41" y="1230"/>
                        </a:lnTo>
                        <a:lnTo>
                          <a:pt x="41" y="1198"/>
                        </a:lnTo>
                        <a:lnTo>
                          <a:pt x="41" y="1167"/>
                        </a:lnTo>
                        <a:lnTo>
                          <a:pt x="28" y="1136"/>
                        </a:lnTo>
                        <a:lnTo>
                          <a:pt x="28" y="1088"/>
                        </a:lnTo>
                        <a:lnTo>
                          <a:pt x="28" y="1057"/>
                        </a:lnTo>
                        <a:lnTo>
                          <a:pt x="14" y="1025"/>
                        </a:lnTo>
                        <a:lnTo>
                          <a:pt x="14" y="993"/>
                        </a:lnTo>
                        <a:lnTo>
                          <a:pt x="14" y="961"/>
                        </a:lnTo>
                        <a:lnTo>
                          <a:pt x="14" y="931"/>
                        </a:lnTo>
                        <a:lnTo>
                          <a:pt x="14" y="882"/>
                        </a:lnTo>
                        <a:lnTo>
                          <a:pt x="0" y="852"/>
                        </a:lnTo>
                        <a:lnTo>
                          <a:pt x="0" y="820"/>
                        </a:lnTo>
                        <a:lnTo>
                          <a:pt x="0" y="788"/>
                        </a:lnTo>
                        <a:lnTo>
                          <a:pt x="0" y="756"/>
                        </a:lnTo>
                        <a:lnTo>
                          <a:pt x="0" y="709"/>
                        </a:lnTo>
                        <a:lnTo>
                          <a:pt x="0" y="678"/>
                        </a:lnTo>
                        <a:lnTo>
                          <a:pt x="0" y="646"/>
                        </a:lnTo>
                        <a:lnTo>
                          <a:pt x="0" y="614"/>
                        </a:lnTo>
                        <a:lnTo>
                          <a:pt x="0" y="583"/>
                        </a:lnTo>
                        <a:lnTo>
                          <a:pt x="14" y="535"/>
                        </a:lnTo>
                        <a:lnTo>
                          <a:pt x="14" y="505"/>
                        </a:lnTo>
                        <a:lnTo>
                          <a:pt x="14" y="473"/>
                        </a:lnTo>
                        <a:lnTo>
                          <a:pt x="14" y="441"/>
                        </a:lnTo>
                        <a:lnTo>
                          <a:pt x="14" y="409"/>
                        </a:lnTo>
                        <a:lnTo>
                          <a:pt x="28" y="362"/>
                        </a:lnTo>
                        <a:lnTo>
                          <a:pt x="28" y="330"/>
                        </a:lnTo>
                        <a:lnTo>
                          <a:pt x="28" y="298"/>
                        </a:lnTo>
                        <a:lnTo>
                          <a:pt x="28" y="268"/>
                        </a:lnTo>
                        <a:lnTo>
                          <a:pt x="41" y="236"/>
                        </a:lnTo>
                        <a:lnTo>
                          <a:pt x="41" y="204"/>
                        </a:lnTo>
                        <a:lnTo>
                          <a:pt x="55" y="172"/>
                        </a:lnTo>
                        <a:lnTo>
                          <a:pt x="55" y="125"/>
                        </a:lnTo>
                        <a:lnTo>
                          <a:pt x="55" y="94"/>
                        </a:lnTo>
                        <a:lnTo>
                          <a:pt x="69" y="62"/>
                        </a:lnTo>
                        <a:lnTo>
                          <a:pt x="69" y="31"/>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5543640" y="1959120"/>
                  <a:ext cx="395280" cy="626760"/>
                  <a:chOff x="5543640" y="1959120"/>
                  <a:chExt cx="395280" cy="626760"/>
                </a:xfrm>
              </p:grpSpPr>
              <p:sp>
                <p:nvSpPr>
                  <p:cNvPr id="1007" name=""/>
                  <p:cNvSpPr/>
                  <p:nvPr/>
                </p:nvSpPr>
                <p:spPr>
                  <a:xfrm>
                    <a:off x="5543640" y="1959120"/>
                    <a:ext cx="395280" cy="626760"/>
                  </a:xfrm>
                  <a:custGeom>
                    <a:avLst/>
                    <a:gdLst/>
                    <a:ahLst/>
                    <a:rect l="l" t="t" r="r" b="b"/>
                    <a:pathLst>
                      <a:path w="748" h="1184">
                        <a:moveTo>
                          <a:pt x="0" y="1184"/>
                        </a:moveTo>
                        <a:lnTo>
                          <a:pt x="0" y="1152"/>
                        </a:lnTo>
                        <a:lnTo>
                          <a:pt x="14" y="1120"/>
                        </a:lnTo>
                        <a:lnTo>
                          <a:pt x="29" y="1088"/>
                        </a:lnTo>
                        <a:lnTo>
                          <a:pt x="29" y="1058"/>
                        </a:lnTo>
                        <a:lnTo>
                          <a:pt x="43" y="1026"/>
                        </a:lnTo>
                        <a:lnTo>
                          <a:pt x="57" y="994"/>
                        </a:lnTo>
                        <a:lnTo>
                          <a:pt x="70" y="962"/>
                        </a:lnTo>
                        <a:lnTo>
                          <a:pt x="70" y="930"/>
                        </a:lnTo>
                        <a:lnTo>
                          <a:pt x="84" y="900"/>
                        </a:lnTo>
                        <a:lnTo>
                          <a:pt x="98" y="851"/>
                        </a:lnTo>
                        <a:lnTo>
                          <a:pt x="112" y="821"/>
                        </a:lnTo>
                        <a:lnTo>
                          <a:pt x="126" y="789"/>
                        </a:lnTo>
                        <a:lnTo>
                          <a:pt x="140" y="773"/>
                        </a:lnTo>
                        <a:lnTo>
                          <a:pt x="153" y="742"/>
                        </a:lnTo>
                        <a:lnTo>
                          <a:pt x="167" y="710"/>
                        </a:lnTo>
                        <a:lnTo>
                          <a:pt x="195" y="678"/>
                        </a:lnTo>
                        <a:lnTo>
                          <a:pt x="209" y="647"/>
                        </a:lnTo>
                        <a:lnTo>
                          <a:pt x="223" y="615"/>
                        </a:lnTo>
                        <a:lnTo>
                          <a:pt x="236" y="584"/>
                        </a:lnTo>
                        <a:lnTo>
                          <a:pt x="264" y="568"/>
                        </a:lnTo>
                        <a:lnTo>
                          <a:pt x="278" y="536"/>
                        </a:lnTo>
                        <a:lnTo>
                          <a:pt x="306" y="505"/>
                        </a:lnTo>
                        <a:lnTo>
                          <a:pt x="319" y="474"/>
                        </a:lnTo>
                        <a:lnTo>
                          <a:pt x="347" y="457"/>
                        </a:lnTo>
                        <a:lnTo>
                          <a:pt x="361" y="427"/>
                        </a:lnTo>
                        <a:lnTo>
                          <a:pt x="389" y="395"/>
                        </a:lnTo>
                        <a:lnTo>
                          <a:pt x="402" y="378"/>
                        </a:lnTo>
                        <a:lnTo>
                          <a:pt x="416" y="348"/>
                        </a:lnTo>
                        <a:lnTo>
                          <a:pt x="444" y="316"/>
                        </a:lnTo>
                        <a:lnTo>
                          <a:pt x="458" y="299"/>
                        </a:lnTo>
                        <a:lnTo>
                          <a:pt x="485" y="269"/>
                        </a:lnTo>
                        <a:lnTo>
                          <a:pt x="499" y="252"/>
                        </a:lnTo>
                        <a:lnTo>
                          <a:pt x="527" y="220"/>
                        </a:lnTo>
                        <a:lnTo>
                          <a:pt x="555" y="205"/>
                        </a:lnTo>
                        <a:lnTo>
                          <a:pt x="568" y="173"/>
                        </a:lnTo>
                        <a:lnTo>
                          <a:pt x="596" y="158"/>
                        </a:lnTo>
                        <a:lnTo>
                          <a:pt x="610" y="126"/>
                        </a:lnTo>
                        <a:lnTo>
                          <a:pt x="637" y="111"/>
                        </a:lnTo>
                        <a:lnTo>
                          <a:pt x="651" y="79"/>
                        </a:lnTo>
                        <a:lnTo>
                          <a:pt x="679" y="63"/>
                        </a:lnTo>
                        <a:lnTo>
                          <a:pt x="707" y="48"/>
                        </a:lnTo>
                        <a:lnTo>
                          <a:pt x="720" y="16"/>
                        </a:lnTo>
                        <a:lnTo>
                          <a:pt x="748" y="0"/>
                        </a:lnTo>
                        <a:lnTo>
                          <a:pt x="0" y="118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543640" y="1959120"/>
                    <a:ext cx="395280" cy="626760"/>
                  </a:xfrm>
                  <a:custGeom>
                    <a:avLst/>
                    <a:gdLst/>
                    <a:ahLst/>
                    <a:rect l="l" t="t" r="r" b="b"/>
                    <a:pathLst>
                      <a:path w="748" h="1184">
                        <a:moveTo>
                          <a:pt x="0" y="1184"/>
                        </a:moveTo>
                        <a:lnTo>
                          <a:pt x="0" y="1152"/>
                        </a:lnTo>
                        <a:lnTo>
                          <a:pt x="14" y="1120"/>
                        </a:lnTo>
                        <a:lnTo>
                          <a:pt x="29" y="1088"/>
                        </a:lnTo>
                        <a:lnTo>
                          <a:pt x="29" y="1058"/>
                        </a:lnTo>
                        <a:lnTo>
                          <a:pt x="43" y="1026"/>
                        </a:lnTo>
                        <a:lnTo>
                          <a:pt x="57" y="994"/>
                        </a:lnTo>
                        <a:lnTo>
                          <a:pt x="70" y="962"/>
                        </a:lnTo>
                        <a:lnTo>
                          <a:pt x="70" y="930"/>
                        </a:lnTo>
                        <a:lnTo>
                          <a:pt x="84" y="900"/>
                        </a:lnTo>
                        <a:lnTo>
                          <a:pt x="98" y="851"/>
                        </a:lnTo>
                        <a:lnTo>
                          <a:pt x="112" y="821"/>
                        </a:lnTo>
                        <a:lnTo>
                          <a:pt x="126" y="789"/>
                        </a:lnTo>
                        <a:lnTo>
                          <a:pt x="140" y="773"/>
                        </a:lnTo>
                        <a:lnTo>
                          <a:pt x="153" y="742"/>
                        </a:lnTo>
                        <a:lnTo>
                          <a:pt x="167" y="710"/>
                        </a:lnTo>
                        <a:lnTo>
                          <a:pt x="195" y="678"/>
                        </a:lnTo>
                        <a:lnTo>
                          <a:pt x="209" y="647"/>
                        </a:lnTo>
                        <a:lnTo>
                          <a:pt x="223" y="615"/>
                        </a:lnTo>
                        <a:lnTo>
                          <a:pt x="236" y="584"/>
                        </a:lnTo>
                        <a:lnTo>
                          <a:pt x="264" y="568"/>
                        </a:lnTo>
                        <a:lnTo>
                          <a:pt x="278" y="536"/>
                        </a:lnTo>
                        <a:lnTo>
                          <a:pt x="306" y="505"/>
                        </a:lnTo>
                        <a:lnTo>
                          <a:pt x="319" y="474"/>
                        </a:lnTo>
                        <a:lnTo>
                          <a:pt x="347" y="457"/>
                        </a:lnTo>
                        <a:lnTo>
                          <a:pt x="361" y="427"/>
                        </a:lnTo>
                        <a:lnTo>
                          <a:pt x="389" y="395"/>
                        </a:lnTo>
                        <a:lnTo>
                          <a:pt x="402" y="378"/>
                        </a:lnTo>
                        <a:lnTo>
                          <a:pt x="416" y="348"/>
                        </a:lnTo>
                        <a:lnTo>
                          <a:pt x="444" y="316"/>
                        </a:lnTo>
                        <a:lnTo>
                          <a:pt x="458" y="299"/>
                        </a:lnTo>
                        <a:lnTo>
                          <a:pt x="485" y="269"/>
                        </a:lnTo>
                        <a:lnTo>
                          <a:pt x="499" y="252"/>
                        </a:lnTo>
                        <a:lnTo>
                          <a:pt x="527" y="220"/>
                        </a:lnTo>
                        <a:lnTo>
                          <a:pt x="555" y="205"/>
                        </a:lnTo>
                        <a:lnTo>
                          <a:pt x="568" y="173"/>
                        </a:lnTo>
                        <a:lnTo>
                          <a:pt x="596" y="158"/>
                        </a:lnTo>
                        <a:lnTo>
                          <a:pt x="610" y="126"/>
                        </a:lnTo>
                        <a:lnTo>
                          <a:pt x="637" y="111"/>
                        </a:lnTo>
                        <a:lnTo>
                          <a:pt x="651" y="79"/>
                        </a:lnTo>
                        <a:lnTo>
                          <a:pt x="679" y="63"/>
                        </a:lnTo>
                        <a:lnTo>
                          <a:pt x="707" y="48"/>
                        </a:lnTo>
                        <a:lnTo>
                          <a:pt x="720" y="16"/>
                        </a:lnTo>
                        <a:lnTo>
                          <a:pt x="7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9" name=""/>
                <p:cNvGrpSpPr/>
                <p:nvPr/>
              </p:nvGrpSpPr>
              <p:grpSpPr>
                <a:xfrm>
                  <a:off x="5938920" y="1825560"/>
                  <a:ext cx="183960" cy="133560"/>
                  <a:chOff x="5938920" y="1825560"/>
                  <a:chExt cx="183960" cy="133560"/>
                </a:xfrm>
              </p:grpSpPr>
              <p:sp>
                <p:nvSpPr>
                  <p:cNvPr id="1010" name=""/>
                  <p:cNvSpPr/>
                  <p:nvPr/>
                </p:nvSpPr>
                <p:spPr>
                  <a:xfrm>
                    <a:off x="5938920" y="1825560"/>
                    <a:ext cx="183960" cy="133560"/>
                  </a:xfrm>
                  <a:custGeom>
                    <a:avLst/>
                    <a:gdLst/>
                    <a:ahLst/>
                    <a:rect l="l" t="t" r="r" b="b"/>
                    <a:pathLst>
                      <a:path w="347" h="253">
                        <a:moveTo>
                          <a:pt x="0" y="253"/>
                        </a:moveTo>
                        <a:lnTo>
                          <a:pt x="28" y="222"/>
                        </a:lnTo>
                        <a:lnTo>
                          <a:pt x="55" y="206"/>
                        </a:lnTo>
                        <a:lnTo>
                          <a:pt x="71" y="190"/>
                        </a:lnTo>
                        <a:lnTo>
                          <a:pt x="98" y="158"/>
                        </a:lnTo>
                        <a:lnTo>
                          <a:pt x="126" y="143"/>
                        </a:lnTo>
                        <a:lnTo>
                          <a:pt x="154" y="128"/>
                        </a:lnTo>
                        <a:lnTo>
                          <a:pt x="181" y="111"/>
                        </a:lnTo>
                        <a:lnTo>
                          <a:pt x="209" y="79"/>
                        </a:lnTo>
                        <a:lnTo>
                          <a:pt x="237" y="64"/>
                        </a:lnTo>
                        <a:lnTo>
                          <a:pt x="264" y="49"/>
                        </a:lnTo>
                        <a:lnTo>
                          <a:pt x="292" y="32"/>
                        </a:lnTo>
                        <a:lnTo>
                          <a:pt x="320" y="17"/>
                        </a:lnTo>
                        <a:lnTo>
                          <a:pt x="347"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938920" y="1825560"/>
                    <a:ext cx="183960" cy="133560"/>
                  </a:xfrm>
                  <a:custGeom>
                    <a:avLst/>
                    <a:gdLst/>
                    <a:ahLst/>
                    <a:rect l="l" t="t" r="r" b="b"/>
                    <a:pathLst>
                      <a:path w="347" h="253">
                        <a:moveTo>
                          <a:pt x="0" y="253"/>
                        </a:moveTo>
                        <a:lnTo>
                          <a:pt x="28" y="222"/>
                        </a:lnTo>
                        <a:lnTo>
                          <a:pt x="55" y="206"/>
                        </a:lnTo>
                        <a:lnTo>
                          <a:pt x="71" y="190"/>
                        </a:lnTo>
                        <a:lnTo>
                          <a:pt x="98" y="158"/>
                        </a:lnTo>
                        <a:lnTo>
                          <a:pt x="126" y="143"/>
                        </a:lnTo>
                        <a:lnTo>
                          <a:pt x="154" y="128"/>
                        </a:lnTo>
                        <a:lnTo>
                          <a:pt x="181" y="111"/>
                        </a:lnTo>
                        <a:lnTo>
                          <a:pt x="209" y="79"/>
                        </a:lnTo>
                        <a:lnTo>
                          <a:pt x="237" y="64"/>
                        </a:lnTo>
                        <a:lnTo>
                          <a:pt x="264" y="49"/>
                        </a:lnTo>
                        <a:lnTo>
                          <a:pt x="292" y="32"/>
                        </a:lnTo>
                        <a:lnTo>
                          <a:pt x="320" y="17"/>
                        </a:lnTo>
                        <a:lnTo>
                          <a:pt x="34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 name=""/>
                <p:cNvGrpSpPr/>
                <p:nvPr/>
              </p:nvGrpSpPr>
              <p:grpSpPr>
                <a:xfrm>
                  <a:off x="6122880" y="1792440"/>
                  <a:ext cx="58680" cy="33120"/>
                  <a:chOff x="6122880" y="1792440"/>
                  <a:chExt cx="58680" cy="33120"/>
                </a:xfrm>
              </p:grpSpPr>
              <p:sp>
                <p:nvSpPr>
                  <p:cNvPr id="1013" name=""/>
                  <p:cNvSpPr/>
                  <p:nvPr/>
                </p:nvSpPr>
                <p:spPr>
                  <a:xfrm>
                    <a:off x="6122880" y="1792440"/>
                    <a:ext cx="58680" cy="33120"/>
                  </a:xfrm>
                  <a:custGeom>
                    <a:avLst/>
                    <a:gdLst/>
                    <a:ahLst/>
                    <a:rect l="l" t="t" r="r" b="b"/>
                    <a:pathLst>
                      <a:path w="111" h="62">
                        <a:moveTo>
                          <a:pt x="0" y="62"/>
                        </a:moveTo>
                        <a:lnTo>
                          <a:pt x="42" y="47"/>
                        </a:lnTo>
                        <a:lnTo>
                          <a:pt x="83" y="15"/>
                        </a:lnTo>
                        <a:lnTo>
                          <a:pt x="111"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4" name=""/>
                  <p:cNvSpPr/>
                  <p:nvPr/>
                </p:nvSpPr>
                <p:spPr>
                  <a:xfrm>
                    <a:off x="6122880" y="1792440"/>
                    <a:ext cx="58680" cy="33120"/>
                  </a:xfrm>
                  <a:custGeom>
                    <a:avLst/>
                    <a:gdLst/>
                    <a:ahLst/>
                    <a:rect l="l" t="t" r="r" b="b"/>
                    <a:pathLst>
                      <a:path w="111" h="62">
                        <a:moveTo>
                          <a:pt x="0" y="62"/>
                        </a:moveTo>
                        <a:lnTo>
                          <a:pt x="42" y="47"/>
                        </a:lnTo>
                        <a:lnTo>
                          <a:pt x="83" y="15"/>
                        </a:lnTo>
                        <a:lnTo>
                          <a:pt x="11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015" name=""/>
                <p:cNvGrpSpPr/>
                <p:nvPr/>
              </p:nvGrpSpPr>
              <p:grpSpPr>
                <a:xfrm>
                  <a:off x="6181560" y="1774800"/>
                  <a:ext cx="36720" cy="17640"/>
                  <a:chOff x="6181560" y="1774800"/>
                  <a:chExt cx="36720" cy="17640"/>
                </a:xfrm>
              </p:grpSpPr>
              <p:sp>
                <p:nvSpPr>
                  <p:cNvPr id="1016" name=""/>
                  <p:cNvSpPr/>
                  <p:nvPr/>
                </p:nvSpPr>
                <p:spPr>
                  <a:xfrm>
                    <a:off x="6181560" y="1774800"/>
                    <a:ext cx="36720" cy="17640"/>
                  </a:xfrm>
                  <a:custGeom>
                    <a:avLst/>
                    <a:gdLst/>
                    <a:ahLst/>
                    <a:rect l="l" t="t" r="r" b="b"/>
                    <a:pathLst>
                      <a:path w="69" h="32">
                        <a:moveTo>
                          <a:pt x="0" y="32"/>
                        </a:moveTo>
                        <a:lnTo>
                          <a:pt x="28" y="15"/>
                        </a:lnTo>
                        <a:lnTo>
                          <a:pt x="55" y="15"/>
                        </a:lnTo>
                        <a:lnTo>
                          <a:pt x="69"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7" name=""/>
                  <p:cNvSpPr/>
                  <p:nvPr/>
                </p:nvSpPr>
                <p:spPr>
                  <a:xfrm>
                    <a:off x="6181560" y="1774800"/>
                    <a:ext cx="36720" cy="17640"/>
                  </a:xfrm>
                  <a:custGeom>
                    <a:avLst/>
                    <a:gdLst/>
                    <a:ahLst/>
                    <a:rect l="l" t="t" r="r" b="b"/>
                    <a:pathLst>
                      <a:path w="69" h="32">
                        <a:moveTo>
                          <a:pt x="0" y="32"/>
                        </a:moveTo>
                        <a:lnTo>
                          <a:pt x="28" y="15"/>
                        </a:lnTo>
                        <a:lnTo>
                          <a:pt x="55" y="15"/>
                        </a:lnTo>
                        <a:lnTo>
                          <a:pt x="69"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18" name=""/>
                <p:cNvGrpSpPr/>
                <p:nvPr/>
              </p:nvGrpSpPr>
              <p:grpSpPr>
                <a:xfrm>
                  <a:off x="5734080" y="3403440"/>
                  <a:ext cx="571320" cy="709920"/>
                  <a:chOff x="5734080" y="3403440"/>
                  <a:chExt cx="571320" cy="709920"/>
                </a:xfrm>
              </p:grpSpPr>
              <p:sp>
                <p:nvSpPr>
                  <p:cNvPr id="1019" name=""/>
                  <p:cNvSpPr/>
                  <p:nvPr/>
                </p:nvSpPr>
                <p:spPr>
                  <a:xfrm>
                    <a:off x="5734080" y="3403440"/>
                    <a:ext cx="571320" cy="709920"/>
                  </a:xfrm>
                  <a:custGeom>
                    <a:avLst/>
                    <a:gdLst/>
                    <a:ahLst/>
                    <a:rect l="l" t="t" r="r" b="b"/>
                    <a:pathLst>
                      <a:path w="1080" h="1341">
                        <a:moveTo>
                          <a:pt x="1080" y="1341"/>
                        </a:moveTo>
                        <a:lnTo>
                          <a:pt x="1052" y="1341"/>
                        </a:lnTo>
                        <a:lnTo>
                          <a:pt x="1025" y="1326"/>
                        </a:lnTo>
                        <a:lnTo>
                          <a:pt x="997" y="1309"/>
                        </a:lnTo>
                        <a:lnTo>
                          <a:pt x="983" y="1294"/>
                        </a:lnTo>
                        <a:lnTo>
                          <a:pt x="956" y="1279"/>
                        </a:lnTo>
                        <a:lnTo>
                          <a:pt x="928" y="1262"/>
                        </a:lnTo>
                        <a:lnTo>
                          <a:pt x="900" y="1247"/>
                        </a:lnTo>
                        <a:lnTo>
                          <a:pt x="873" y="1230"/>
                        </a:lnTo>
                        <a:lnTo>
                          <a:pt x="845" y="1215"/>
                        </a:lnTo>
                        <a:lnTo>
                          <a:pt x="831" y="1200"/>
                        </a:lnTo>
                        <a:lnTo>
                          <a:pt x="803" y="1183"/>
                        </a:lnTo>
                        <a:lnTo>
                          <a:pt x="776" y="1151"/>
                        </a:lnTo>
                        <a:lnTo>
                          <a:pt x="748" y="1136"/>
                        </a:lnTo>
                        <a:lnTo>
                          <a:pt x="734" y="1121"/>
                        </a:lnTo>
                        <a:lnTo>
                          <a:pt x="707" y="1104"/>
                        </a:lnTo>
                        <a:lnTo>
                          <a:pt x="679" y="1072"/>
                        </a:lnTo>
                        <a:lnTo>
                          <a:pt x="665" y="1057"/>
                        </a:lnTo>
                        <a:lnTo>
                          <a:pt x="637" y="1042"/>
                        </a:lnTo>
                        <a:lnTo>
                          <a:pt x="610" y="1010"/>
                        </a:lnTo>
                        <a:lnTo>
                          <a:pt x="596" y="994"/>
                        </a:lnTo>
                        <a:lnTo>
                          <a:pt x="568" y="963"/>
                        </a:lnTo>
                        <a:lnTo>
                          <a:pt x="554" y="947"/>
                        </a:lnTo>
                        <a:lnTo>
                          <a:pt x="527" y="915"/>
                        </a:lnTo>
                        <a:lnTo>
                          <a:pt x="499" y="899"/>
                        </a:lnTo>
                        <a:lnTo>
                          <a:pt x="485" y="868"/>
                        </a:lnTo>
                        <a:lnTo>
                          <a:pt x="458" y="852"/>
                        </a:lnTo>
                        <a:lnTo>
                          <a:pt x="442" y="821"/>
                        </a:lnTo>
                        <a:lnTo>
                          <a:pt x="415" y="789"/>
                        </a:lnTo>
                        <a:lnTo>
                          <a:pt x="401" y="774"/>
                        </a:lnTo>
                        <a:lnTo>
                          <a:pt x="387" y="742"/>
                        </a:lnTo>
                        <a:lnTo>
                          <a:pt x="359" y="710"/>
                        </a:lnTo>
                        <a:lnTo>
                          <a:pt x="346" y="695"/>
                        </a:lnTo>
                        <a:lnTo>
                          <a:pt x="332" y="663"/>
                        </a:lnTo>
                        <a:lnTo>
                          <a:pt x="304" y="631"/>
                        </a:lnTo>
                        <a:lnTo>
                          <a:pt x="290" y="616"/>
                        </a:lnTo>
                        <a:lnTo>
                          <a:pt x="276" y="584"/>
                        </a:lnTo>
                        <a:lnTo>
                          <a:pt x="249" y="552"/>
                        </a:lnTo>
                        <a:lnTo>
                          <a:pt x="235" y="520"/>
                        </a:lnTo>
                        <a:lnTo>
                          <a:pt x="221" y="490"/>
                        </a:lnTo>
                        <a:lnTo>
                          <a:pt x="207" y="473"/>
                        </a:lnTo>
                        <a:lnTo>
                          <a:pt x="194" y="441"/>
                        </a:lnTo>
                        <a:lnTo>
                          <a:pt x="166" y="411"/>
                        </a:lnTo>
                        <a:lnTo>
                          <a:pt x="152" y="379"/>
                        </a:lnTo>
                        <a:lnTo>
                          <a:pt x="138" y="347"/>
                        </a:lnTo>
                        <a:lnTo>
                          <a:pt x="124" y="316"/>
                        </a:lnTo>
                        <a:lnTo>
                          <a:pt x="111" y="284"/>
                        </a:lnTo>
                        <a:lnTo>
                          <a:pt x="97" y="269"/>
                        </a:lnTo>
                        <a:lnTo>
                          <a:pt x="83" y="237"/>
                        </a:lnTo>
                        <a:lnTo>
                          <a:pt x="69" y="205"/>
                        </a:lnTo>
                        <a:lnTo>
                          <a:pt x="69" y="174"/>
                        </a:lnTo>
                        <a:lnTo>
                          <a:pt x="55" y="143"/>
                        </a:lnTo>
                        <a:lnTo>
                          <a:pt x="41" y="111"/>
                        </a:lnTo>
                        <a:lnTo>
                          <a:pt x="28" y="79"/>
                        </a:lnTo>
                        <a:lnTo>
                          <a:pt x="14" y="47"/>
                        </a:lnTo>
                        <a:lnTo>
                          <a:pt x="14" y="17"/>
                        </a:lnTo>
                        <a:lnTo>
                          <a:pt x="0" y="0"/>
                        </a:lnTo>
                        <a:lnTo>
                          <a:pt x="1080" y="134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734080" y="3403440"/>
                    <a:ext cx="571320" cy="709920"/>
                  </a:xfrm>
                  <a:custGeom>
                    <a:avLst/>
                    <a:gdLst/>
                    <a:ahLst/>
                    <a:rect l="l" t="t" r="r" b="b"/>
                    <a:pathLst>
                      <a:path w="1080" h="1341">
                        <a:moveTo>
                          <a:pt x="1080" y="1341"/>
                        </a:moveTo>
                        <a:lnTo>
                          <a:pt x="1052" y="1341"/>
                        </a:lnTo>
                        <a:lnTo>
                          <a:pt x="1025" y="1326"/>
                        </a:lnTo>
                        <a:lnTo>
                          <a:pt x="997" y="1309"/>
                        </a:lnTo>
                        <a:lnTo>
                          <a:pt x="983" y="1294"/>
                        </a:lnTo>
                        <a:lnTo>
                          <a:pt x="956" y="1279"/>
                        </a:lnTo>
                        <a:lnTo>
                          <a:pt x="928" y="1262"/>
                        </a:lnTo>
                        <a:lnTo>
                          <a:pt x="900" y="1247"/>
                        </a:lnTo>
                        <a:lnTo>
                          <a:pt x="873" y="1230"/>
                        </a:lnTo>
                        <a:lnTo>
                          <a:pt x="845" y="1215"/>
                        </a:lnTo>
                        <a:lnTo>
                          <a:pt x="831" y="1200"/>
                        </a:lnTo>
                        <a:lnTo>
                          <a:pt x="803" y="1183"/>
                        </a:lnTo>
                        <a:lnTo>
                          <a:pt x="776" y="1151"/>
                        </a:lnTo>
                        <a:lnTo>
                          <a:pt x="748" y="1136"/>
                        </a:lnTo>
                        <a:lnTo>
                          <a:pt x="734" y="1121"/>
                        </a:lnTo>
                        <a:lnTo>
                          <a:pt x="707" y="1104"/>
                        </a:lnTo>
                        <a:lnTo>
                          <a:pt x="679" y="1072"/>
                        </a:lnTo>
                        <a:lnTo>
                          <a:pt x="665" y="1057"/>
                        </a:lnTo>
                        <a:lnTo>
                          <a:pt x="637" y="1042"/>
                        </a:lnTo>
                        <a:lnTo>
                          <a:pt x="610" y="1010"/>
                        </a:lnTo>
                        <a:lnTo>
                          <a:pt x="596" y="994"/>
                        </a:lnTo>
                        <a:lnTo>
                          <a:pt x="568" y="963"/>
                        </a:lnTo>
                        <a:lnTo>
                          <a:pt x="554" y="947"/>
                        </a:lnTo>
                        <a:lnTo>
                          <a:pt x="527" y="915"/>
                        </a:lnTo>
                        <a:lnTo>
                          <a:pt x="499" y="899"/>
                        </a:lnTo>
                        <a:lnTo>
                          <a:pt x="485" y="868"/>
                        </a:lnTo>
                        <a:lnTo>
                          <a:pt x="458" y="852"/>
                        </a:lnTo>
                        <a:lnTo>
                          <a:pt x="442" y="821"/>
                        </a:lnTo>
                        <a:lnTo>
                          <a:pt x="415" y="789"/>
                        </a:lnTo>
                        <a:lnTo>
                          <a:pt x="401" y="774"/>
                        </a:lnTo>
                        <a:lnTo>
                          <a:pt x="387" y="742"/>
                        </a:lnTo>
                        <a:lnTo>
                          <a:pt x="359" y="710"/>
                        </a:lnTo>
                        <a:lnTo>
                          <a:pt x="346" y="695"/>
                        </a:lnTo>
                        <a:lnTo>
                          <a:pt x="332" y="663"/>
                        </a:lnTo>
                        <a:lnTo>
                          <a:pt x="304" y="631"/>
                        </a:lnTo>
                        <a:lnTo>
                          <a:pt x="290" y="616"/>
                        </a:lnTo>
                        <a:lnTo>
                          <a:pt x="276" y="584"/>
                        </a:lnTo>
                        <a:lnTo>
                          <a:pt x="249" y="552"/>
                        </a:lnTo>
                        <a:lnTo>
                          <a:pt x="235" y="520"/>
                        </a:lnTo>
                        <a:lnTo>
                          <a:pt x="221" y="490"/>
                        </a:lnTo>
                        <a:lnTo>
                          <a:pt x="207" y="473"/>
                        </a:lnTo>
                        <a:lnTo>
                          <a:pt x="194" y="441"/>
                        </a:lnTo>
                        <a:lnTo>
                          <a:pt x="166" y="411"/>
                        </a:lnTo>
                        <a:lnTo>
                          <a:pt x="152" y="379"/>
                        </a:lnTo>
                        <a:lnTo>
                          <a:pt x="138" y="347"/>
                        </a:lnTo>
                        <a:lnTo>
                          <a:pt x="124" y="316"/>
                        </a:lnTo>
                        <a:lnTo>
                          <a:pt x="111" y="284"/>
                        </a:lnTo>
                        <a:lnTo>
                          <a:pt x="97" y="269"/>
                        </a:lnTo>
                        <a:lnTo>
                          <a:pt x="83" y="237"/>
                        </a:lnTo>
                        <a:lnTo>
                          <a:pt x="69" y="205"/>
                        </a:lnTo>
                        <a:lnTo>
                          <a:pt x="69" y="174"/>
                        </a:lnTo>
                        <a:lnTo>
                          <a:pt x="55" y="143"/>
                        </a:lnTo>
                        <a:lnTo>
                          <a:pt x="41" y="111"/>
                        </a:lnTo>
                        <a:lnTo>
                          <a:pt x="28" y="79"/>
                        </a:lnTo>
                        <a:lnTo>
                          <a:pt x="14" y="47"/>
                        </a:lnTo>
                        <a:lnTo>
                          <a:pt x="14"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5683320" y="3193920"/>
                  <a:ext cx="50760" cy="209520"/>
                  <a:chOff x="5683320" y="3193920"/>
                  <a:chExt cx="50760" cy="209520"/>
                </a:xfrm>
              </p:grpSpPr>
              <p:sp>
                <p:nvSpPr>
                  <p:cNvPr id="1022" name=""/>
                  <p:cNvSpPr/>
                  <p:nvPr/>
                </p:nvSpPr>
                <p:spPr>
                  <a:xfrm>
                    <a:off x="5683320" y="3193920"/>
                    <a:ext cx="50760" cy="209520"/>
                  </a:xfrm>
                  <a:custGeom>
                    <a:avLst/>
                    <a:gdLst/>
                    <a:ahLst/>
                    <a:rect l="l" t="t" r="r" b="b"/>
                    <a:pathLst>
                      <a:path w="97" h="394">
                        <a:moveTo>
                          <a:pt x="97" y="394"/>
                        </a:moveTo>
                        <a:lnTo>
                          <a:pt x="83" y="347"/>
                        </a:lnTo>
                        <a:lnTo>
                          <a:pt x="69" y="315"/>
                        </a:lnTo>
                        <a:lnTo>
                          <a:pt x="69" y="268"/>
                        </a:lnTo>
                        <a:lnTo>
                          <a:pt x="55" y="236"/>
                        </a:lnTo>
                        <a:lnTo>
                          <a:pt x="55" y="189"/>
                        </a:lnTo>
                        <a:lnTo>
                          <a:pt x="42" y="157"/>
                        </a:lnTo>
                        <a:lnTo>
                          <a:pt x="42" y="126"/>
                        </a:lnTo>
                        <a:lnTo>
                          <a:pt x="14" y="79"/>
                        </a:lnTo>
                        <a:lnTo>
                          <a:pt x="14" y="47"/>
                        </a:lnTo>
                        <a:lnTo>
                          <a:pt x="0" y="0"/>
                        </a:lnTo>
                        <a:lnTo>
                          <a:pt x="97" y="39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683320" y="3193920"/>
                    <a:ext cx="50760" cy="209520"/>
                  </a:xfrm>
                  <a:custGeom>
                    <a:avLst/>
                    <a:gdLst/>
                    <a:ahLst/>
                    <a:rect l="l" t="t" r="r" b="b"/>
                    <a:pathLst>
                      <a:path w="97" h="394">
                        <a:moveTo>
                          <a:pt x="97" y="394"/>
                        </a:moveTo>
                        <a:lnTo>
                          <a:pt x="83" y="347"/>
                        </a:lnTo>
                        <a:lnTo>
                          <a:pt x="69" y="315"/>
                        </a:lnTo>
                        <a:lnTo>
                          <a:pt x="69" y="268"/>
                        </a:lnTo>
                        <a:lnTo>
                          <a:pt x="55" y="236"/>
                        </a:lnTo>
                        <a:lnTo>
                          <a:pt x="55" y="189"/>
                        </a:lnTo>
                        <a:lnTo>
                          <a:pt x="42" y="157"/>
                        </a:lnTo>
                        <a:lnTo>
                          <a:pt x="42" y="126"/>
                        </a:lnTo>
                        <a:lnTo>
                          <a:pt x="14" y="79"/>
                        </a:lnTo>
                        <a:lnTo>
                          <a:pt x="14"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5667480" y="2568600"/>
                  <a:ext cx="52200" cy="625320"/>
                  <a:chOff x="5667480" y="2568600"/>
                  <a:chExt cx="52200" cy="625320"/>
                </a:xfrm>
              </p:grpSpPr>
              <p:sp>
                <p:nvSpPr>
                  <p:cNvPr id="1025" name=""/>
                  <p:cNvSpPr/>
                  <p:nvPr/>
                </p:nvSpPr>
                <p:spPr>
                  <a:xfrm>
                    <a:off x="5667480" y="2568600"/>
                    <a:ext cx="52200" cy="625320"/>
                  </a:xfrm>
                  <a:custGeom>
                    <a:avLst/>
                    <a:gdLst/>
                    <a:ahLst/>
                    <a:rect l="l" t="t" r="r" b="b"/>
                    <a:pathLst>
                      <a:path w="97" h="1183">
                        <a:moveTo>
                          <a:pt x="28" y="1183"/>
                        </a:moveTo>
                        <a:lnTo>
                          <a:pt x="28" y="1151"/>
                        </a:lnTo>
                        <a:lnTo>
                          <a:pt x="28" y="1120"/>
                        </a:lnTo>
                        <a:lnTo>
                          <a:pt x="14" y="1089"/>
                        </a:lnTo>
                        <a:lnTo>
                          <a:pt x="14" y="1057"/>
                        </a:lnTo>
                        <a:lnTo>
                          <a:pt x="14" y="1025"/>
                        </a:lnTo>
                        <a:lnTo>
                          <a:pt x="14" y="978"/>
                        </a:lnTo>
                        <a:lnTo>
                          <a:pt x="14" y="946"/>
                        </a:lnTo>
                        <a:lnTo>
                          <a:pt x="0" y="914"/>
                        </a:lnTo>
                        <a:lnTo>
                          <a:pt x="0" y="884"/>
                        </a:lnTo>
                        <a:lnTo>
                          <a:pt x="0" y="852"/>
                        </a:lnTo>
                        <a:lnTo>
                          <a:pt x="0" y="805"/>
                        </a:lnTo>
                        <a:lnTo>
                          <a:pt x="0" y="773"/>
                        </a:lnTo>
                        <a:lnTo>
                          <a:pt x="0" y="741"/>
                        </a:lnTo>
                        <a:lnTo>
                          <a:pt x="0" y="710"/>
                        </a:lnTo>
                        <a:lnTo>
                          <a:pt x="0" y="662"/>
                        </a:lnTo>
                        <a:lnTo>
                          <a:pt x="0" y="631"/>
                        </a:lnTo>
                        <a:lnTo>
                          <a:pt x="0" y="599"/>
                        </a:lnTo>
                        <a:lnTo>
                          <a:pt x="0" y="552"/>
                        </a:lnTo>
                        <a:lnTo>
                          <a:pt x="0" y="520"/>
                        </a:lnTo>
                        <a:lnTo>
                          <a:pt x="0" y="488"/>
                        </a:lnTo>
                        <a:lnTo>
                          <a:pt x="14" y="458"/>
                        </a:lnTo>
                        <a:lnTo>
                          <a:pt x="14" y="409"/>
                        </a:lnTo>
                        <a:lnTo>
                          <a:pt x="14" y="379"/>
                        </a:lnTo>
                        <a:lnTo>
                          <a:pt x="14" y="347"/>
                        </a:lnTo>
                        <a:lnTo>
                          <a:pt x="28" y="300"/>
                        </a:lnTo>
                        <a:lnTo>
                          <a:pt x="28" y="268"/>
                        </a:lnTo>
                        <a:lnTo>
                          <a:pt x="28" y="236"/>
                        </a:lnTo>
                        <a:lnTo>
                          <a:pt x="42" y="204"/>
                        </a:lnTo>
                        <a:lnTo>
                          <a:pt x="42" y="173"/>
                        </a:lnTo>
                        <a:lnTo>
                          <a:pt x="70" y="126"/>
                        </a:lnTo>
                        <a:lnTo>
                          <a:pt x="70" y="94"/>
                        </a:lnTo>
                        <a:lnTo>
                          <a:pt x="83" y="63"/>
                        </a:lnTo>
                        <a:lnTo>
                          <a:pt x="83" y="32"/>
                        </a:lnTo>
                        <a:lnTo>
                          <a:pt x="97" y="0"/>
                        </a:lnTo>
                        <a:lnTo>
                          <a:pt x="28" y="11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667480" y="2568600"/>
                    <a:ext cx="52200" cy="625320"/>
                  </a:xfrm>
                  <a:custGeom>
                    <a:avLst/>
                    <a:gdLst/>
                    <a:ahLst/>
                    <a:rect l="l" t="t" r="r" b="b"/>
                    <a:pathLst>
                      <a:path w="97" h="1183">
                        <a:moveTo>
                          <a:pt x="28" y="1183"/>
                        </a:moveTo>
                        <a:lnTo>
                          <a:pt x="28" y="1151"/>
                        </a:lnTo>
                        <a:lnTo>
                          <a:pt x="28" y="1120"/>
                        </a:lnTo>
                        <a:lnTo>
                          <a:pt x="14" y="1089"/>
                        </a:lnTo>
                        <a:lnTo>
                          <a:pt x="14" y="1057"/>
                        </a:lnTo>
                        <a:lnTo>
                          <a:pt x="14" y="1025"/>
                        </a:lnTo>
                        <a:lnTo>
                          <a:pt x="14" y="978"/>
                        </a:lnTo>
                        <a:lnTo>
                          <a:pt x="14" y="946"/>
                        </a:lnTo>
                        <a:lnTo>
                          <a:pt x="0" y="914"/>
                        </a:lnTo>
                        <a:lnTo>
                          <a:pt x="0" y="884"/>
                        </a:lnTo>
                        <a:lnTo>
                          <a:pt x="0" y="852"/>
                        </a:lnTo>
                        <a:lnTo>
                          <a:pt x="0" y="805"/>
                        </a:lnTo>
                        <a:lnTo>
                          <a:pt x="0" y="773"/>
                        </a:lnTo>
                        <a:lnTo>
                          <a:pt x="0" y="741"/>
                        </a:lnTo>
                        <a:lnTo>
                          <a:pt x="0" y="710"/>
                        </a:lnTo>
                        <a:lnTo>
                          <a:pt x="0" y="662"/>
                        </a:lnTo>
                        <a:lnTo>
                          <a:pt x="0" y="631"/>
                        </a:lnTo>
                        <a:lnTo>
                          <a:pt x="0" y="599"/>
                        </a:lnTo>
                        <a:lnTo>
                          <a:pt x="0" y="552"/>
                        </a:lnTo>
                        <a:lnTo>
                          <a:pt x="0" y="520"/>
                        </a:lnTo>
                        <a:lnTo>
                          <a:pt x="0" y="488"/>
                        </a:lnTo>
                        <a:lnTo>
                          <a:pt x="14" y="458"/>
                        </a:lnTo>
                        <a:lnTo>
                          <a:pt x="14" y="409"/>
                        </a:lnTo>
                        <a:lnTo>
                          <a:pt x="14" y="379"/>
                        </a:lnTo>
                        <a:lnTo>
                          <a:pt x="14" y="347"/>
                        </a:lnTo>
                        <a:lnTo>
                          <a:pt x="28" y="300"/>
                        </a:lnTo>
                        <a:lnTo>
                          <a:pt x="28" y="268"/>
                        </a:lnTo>
                        <a:lnTo>
                          <a:pt x="28" y="236"/>
                        </a:lnTo>
                        <a:lnTo>
                          <a:pt x="42" y="204"/>
                        </a:lnTo>
                        <a:lnTo>
                          <a:pt x="42" y="173"/>
                        </a:lnTo>
                        <a:lnTo>
                          <a:pt x="70" y="126"/>
                        </a:lnTo>
                        <a:lnTo>
                          <a:pt x="70" y="94"/>
                        </a:lnTo>
                        <a:lnTo>
                          <a:pt x="83" y="63"/>
                        </a:lnTo>
                        <a:lnTo>
                          <a:pt x="83" y="32"/>
                        </a:lnTo>
                        <a:lnTo>
                          <a:pt x="9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5719680" y="1959120"/>
                  <a:ext cx="336600" cy="609480"/>
                  <a:chOff x="5719680" y="1959120"/>
                  <a:chExt cx="336600" cy="609480"/>
                </a:xfrm>
              </p:grpSpPr>
              <p:sp>
                <p:nvSpPr>
                  <p:cNvPr id="1028" name=""/>
                  <p:cNvSpPr/>
                  <p:nvPr/>
                </p:nvSpPr>
                <p:spPr>
                  <a:xfrm>
                    <a:off x="5719680" y="1959120"/>
                    <a:ext cx="336600" cy="609480"/>
                  </a:xfrm>
                  <a:custGeom>
                    <a:avLst/>
                    <a:gdLst/>
                    <a:ahLst/>
                    <a:rect l="l" t="t" r="r" b="b"/>
                    <a:pathLst>
                      <a:path w="638" h="1152">
                        <a:moveTo>
                          <a:pt x="0" y="1152"/>
                        </a:moveTo>
                        <a:lnTo>
                          <a:pt x="0" y="1120"/>
                        </a:lnTo>
                        <a:lnTo>
                          <a:pt x="14" y="1073"/>
                        </a:lnTo>
                        <a:lnTo>
                          <a:pt x="28" y="1041"/>
                        </a:lnTo>
                        <a:lnTo>
                          <a:pt x="42" y="1009"/>
                        </a:lnTo>
                        <a:lnTo>
                          <a:pt x="42" y="979"/>
                        </a:lnTo>
                        <a:lnTo>
                          <a:pt x="56" y="947"/>
                        </a:lnTo>
                        <a:lnTo>
                          <a:pt x="69" y="915"/>
                        </a:lnTo>
                        <a:lnTo>
                          <a:pt x="83" y="883"/>
                        </a:lnTo>
                        <a:lnTo>
                          <a:pt x="97" y="836"/>
                        </a:lnTo>
                        <a:lnTo>
                          <a:pt x="111" y="804"/>
                        </a:lnTo>
                        <a:lnTo>
                          <a:pt x="125" y="773"/>
                        </a:lnTo>
                        <a:lnTo>
                          <a:pt x="139" y="742"/>
                        </a:lnTo>
                        <a:lnTo>
                          <a:pt x="152" y="710"/>
                        </a:lnTo>
                        <a:lnTo>
                          <a:pt x="166" y="678"/>
                        </a:lnTo>
                        <a:lnTo>
                          <a:pt x="180" y="647"/>
                        </a:lnTo>
                        <a:lnTo>
                          <a:pt x="194" y="615"/>
                        </a:lnTo>
                        <a:lnTo>
                          <a:pt x="208" y="584"/>
                        </a:lnTo>
                        <a:lnTo>
                          <a:pt x="222" y="553"/>
                        </a:lnTo>
                        <a:lnTo>
                          <a:pt x="235" y="536"/>
                        </a:lnTo>
                        <a:lnTo>
                          <a:pt x="263" y="505"/>
                        </a:lnTo>
                        <a:lnTo>
                          <a:pt x="277" y="474"/>
                        </a:lnTo>
                        <a:lnTo>
                          <a:pt x="291" y="442"/>
                        </a:lnTo>
                        <a:lnTo>
                          <a:pt x="318" y="410"/>
                        </a:lnTo>
                        <a:lnTo>
                          <a:pt x="332" y="378"/>
                        </a:lnTo>
                        <a:lnTo>
                          <a:pt x="346" y="363"/>
                        </a:lnTo>
                        <a:lnTo>
                          <a:pt x="374" y="331"/>
                        </a:lnTo>
                        <a:lnTo>
                          <a:pt x="387" y="299"/>
                        </a:lnTo>
                        <a:lnTo>
                          <a:pt x="401" y="269"/>
                        </a:lnTo>
                        <a:lnTo>
                          <a:pt x="429" y="252"/>
                        </a:lnTo>
                        <a:lnTo>
                          <a:pt x="443" y="220"/>
                        </a:lnTo>
                        <a:lnTo>
                          <a:pt x="470" y="190"/>
                        </a:lnTo>
                        <a:lnTo>
                          <a:pt x="486" y="173"/>
                        </a:lnTo>
                        <a:lnTo>
                          <a:pt x="513" y="142"/>
                        </a:lnTo>
                        <a:lnTo>
                          <a:pt x="527" y="126"/>
                        </a:lnTo>
                        <a:lnTo>
                          <a:pt x="555" y="95"/>
                        </a:lnTo>
                        <a:lnTo>
                          <a:pt x="569" y="63"/>
                        </a:lnTo>
                        <a:lnTo>
                          <a:pt x="596" y="48"/>
                        </a:lnTo>
                        <a:lnTo>
                          <a:pt x="624" y="16"/>
                        </a:lnTo>
                        <a:lnTo>
                          <a:pt x="638" y="0"/>
                        </a:lnTo>
                        <a:lnTo>
                          <a:pt x="0" y="11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719680" y="1959120"/>
                    <a:ext cx="336600" cy="609480"/>
                  </a:xfrm>
                  <a:custGeom>
                    <a:avLst/>
                    <a:gdLst/>
                    <a:ahLst/>
                    <a:rect l="l" t="t" r="r" b="b"/>
                    <a:pathLst>
                      <a:path w="638" h="1152">
                        <a:moveTo>
                          <a:pt x="0" y="1152"/>
                        </a:moveTo>
                        <a:lnTo>
                          <a:pt x="0" y="1120"/>
                        </a:lnTo>
                        <a:lnTo>
                          <a:pt x="14" y="1073"/>
                        </a:lnTo>
                        <a:lnTo>
                          <a:pt x="28" y="1041"/>
                        </a:lnTo>
                        <a:lnTo>
                          <a:pt x="42" y="1009"/>
                        </a:lnTo>
                        <a:lnTo>
                          <a:pt x="42" y="979"/>
                        </a:lnTo>
                        <a:lnTo>
                          <a:pt x="56" y="947"/>
                        </a:lnTo>
                        <a:lnTo>
                          <a:pt x="69" y="915"/>
                        </a:lnTo>
                        <a:lnTo>
                          <a:pt x="83" y="883"/>
                        </a:lnTo>
                        <a:lnTo>
                          <a:pt x="97" y="836"/>
                        </a:lnTo>
                        <a:lnTo>
                          <a:pt x="111" y="804"/>
                        </a:lnTo>
                        <a:lnTo>
                          <a:pt x="125" y="773"/>
                        </a:lnTo>
                        <a:lnTo>
                          <a:pt x="139" y="742"/>
                        </a:lnTo>
                        <a:lnTo>
                          <a:pt x="152" y="710"/>
                        </a:lnTo>
                        <a:lnTo>
                          <a:pt x="166" y="678"/>
                        </a:lnTo>
                        <a:lnTo>
                          <a:pt x="180" y="647"/>
                        </a:lnTo>
                        <a:lnTo>
                          <a:pt x="194" y="615"/>
                        </a:lnTo>
                        <a:lnTo>
                          <a:pt x="208" y="584"/>
                        </a:lnTo>
                        <a:lnTo>
                          <a:pt x="222" y="553"/>
                        </a:lnTo>
                        <a:lnTo>
                          <a:pt x="235" y="536"/>
                        </a:lnTo>
                        <a:lnTo>
                          <a:pt x="263" y="505"/>
                        </a:lnTo>
                        <a:lnTo>
                          <a:pt x="277" y="474"/>
                        </a:lnTo>
                        <a:lnTo>
                          <a:pt x="291" y="442"/>
                        </a:lnTo>
                        <a:lnTo>
                          <a:pt x="318" y="410"/>
                        </a:lnTo>
                        <a:lnTo>
                          <a:pt x="332" y="378"/>
                        </a:lnTo>
                        <a:lnTo>
                          <a:pt x="346" y="363"/>
                        </a:lnTo>
                        <a:lnTo>
                          <a:pt x="374" y="331"/>
                        </a:lnTo>
                        <a:lnTo>
                          <a:pt x="387" y="299"/>
                        </a:lnTo>
                        <a:lnTo>
                          <a:pt x="401" y="269"/>
                        </a:lnTo>
                        <a:lnTo>
                          <a:pt x="429" y="252"/>
                        </a:lnTo>
                        <a:lnTo>
                          <a:pt x="443" y="220"/>
                        </a:lnTo>
                        <a:lnTo>
                          <a:pt x="470" y="190"/>
                        </a:lnTo>
                        <a:lnTo>
                          <a:pt x="486" y="173"/>
                        </a:lnTo>
                        <a:lnTo>
                          <a:pt x="513" y="142"/>
                        </a:lnTo>
                        <a:lnTo>
                          <a:pt x="527" y="126"/>
                        </a:lnTo>
                        <a:lnTo>
                          <a:pt x="555" y="95"/>
                        </a:lnTo>
                        <a:lnTo>
                          <a:pt x="569" y="63"/>
                        </a:lnTo>
                        <a:lnTo>
                          <a:pt x="596" y="48"/>
                        </a:lnTo>
                        <a:lnTo>
                          <a:pt x="624" y="16"/>
                        </a:lnTo>
                        <a:lnTo>
                          <a:pt x="63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6056280" y="1825560"/>
                  <a:ext cx="168480" cy="133560"/>
                  <a:chOff x="6056280" y="1825560"/>
                  <a:chExt cx="168480" cy="133560"/>
                </a:xfrm>
              </p:grpSpPr>
              <p:sp>
                <p:nvSpPr>
                  <p:cNvPr id="1031" name=""/>
                  <p:cNvSpPr/>
                  <p:nvPr/>
                </p:nvSpPr>
                <p:spPr>
                  <a:xfrm>
                    <a:off x="6056280" y="1825560"/>
                    <a:ext cx="168480" cy="133560"/>
                  </a:xfrm>
                  <a:custGeom>
                    <a:avLst/>
                    <a:gdLst/>
                    <a:ahLst/>
                    <a:rect l="l" t="t" r="r" b="b"/>
                    <a:pathLst>
                      <a:path w="318" h="253">
                        <a:moveTo>
                          <a:pt x="0" y="253"/>
                        </a:moveTo>
                        <a:lnTo>
                          <a:pt x="27" y="222"/>
                        </a:lnTo>
                        <a:lnTo>
                          <a:pt x="55" y="206"/>
                        </a:lnTo>
                        <a:lnTo>
                          <a:pt x="83" y="175"/>
                        </a:lnTo>
                        <a:lnTo>
                          <a:pt x="110" y="143"/>
                        </a:lnTo>
                        <a:lnTo>
                          <a:pt x="138" y="128"/>
                        </a:lnTo>
                        <a:lnTo>
                          <a:pt x="166" y="96"/>
                        </a:lnTo>
                        <a:lnTo>
                          <a:pt x="193" y="79"/>
                        </a:lnTo>
                        <a:lnTo>
                          <a:pt x="221" y="64"/>
                        </a:lnTo>
                        <a:lnTo>
                          <a:pt x="263" y="32"/>
                        </a:lnTo>
                        <a:lnTo>
                          <a:pt x="290" y="17"/>
                        </a:lnTo>
                        <a:lnTo>
                          <a:pt x="318"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6056280" y="1825560"/>
                    <a:ext cx="168480" cy="133560"/>
                  </a:xfrm>
                  <a:custGeom>
                    <a:avLst/>
                    <a:gdLst/>
                    <a:ahLst/>
                    <a:rect l="l" t="t" r="r" b="b"/>
                    <a:pathLst>
                      <a:path w="318" h="253">
                        <a:moveTo>
                          <a:pt x="0" y="253"/>
                        </a:moveTo>
                        <a:lnTo>
                          <a:pt x="27" y="222"/>
                        </a:lnTo>
                        <a:lnTo>
                          <a:pt x="55" y="206"/>
                        </a:lnTo>
                        <a:lnTo>
                          <a:pt x="83" y="175"/>
                        </a:lnTo>
                        <a:lnTo>
                          <a:pt x="110" y="143"/>
                        </a:lnTo>
                        <a:lnTo>
                          <a:pt x="138" y="128"/>
                        </a:lnTo>
                        <a:lnTo>
                          <a:pt x="166" y="96"/>
                        </a:lnTo>
                        <a:lnTo>
                          <a:pt x="193" y="79"/>
                        </a:lnTo>
                        <a:lnTo>
                          <a:pt x="221" y="64"/>
                        </a:lnTo>
                        <a:lnTo>
                          <a:pt x="263" y="32"/>
                        </a:lnTo>
                        <a:lnTo>
                          <a:pt x="290" y="17"/>
                        </a:lnTo>
                        <a:lnTo>
                          <a:pt x="3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6224760" y="1792440"/>
                  <a:ext cx="52200" cy="33120"/>
                  <a:chOff x="6224760" y="1792440"/>
                  <a:chExt cx="52200" cy="33120"/>
                </a:xfrm>
              </p:grpSpPr>
              <p:sp>
                <p:nvSpPr>
                  <p:cNvPr id="1034" name=""/>
                  <p:cNvSpPr/>
                  <p:nvPr/>
                </p:nvSpPr>
                <p:spPr>
                  <a:xfrm>
                    <a:off x="6224760" y="1792440"/>
                    <a:ext cx="52200" cy="33120"/>
                  </a:xfrm>
                  <a:custGeom>
                    <a:avLst/>
                    <a:gdLst/>
                    <a:ahLst/>
                    <a:rect l="l" t="t" r="r" b="b"/>
                    <a:pathLst>
                      <a:path w="97" h="62">
                        <a:moveTo>
                          <a:pt x="0" y="62"/>
                        </a:moveTo>
                        <a:lnTo>
                          <a:pt x="28" y="47"/>
                        </a:lnTo>
                        <a:lnTo>
                          <a:pt x="69" y="15"/>
                        </a:lnTo>
                        <a:lnTo>
                          <a:pt x="97"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 name=""/>
                  <p:cNvSpPr/>
                  <p:nvPr/>
                </p:nvSpPr>
                <p:spPr>
                  <a:xfrm>
                    <a:off x="6224760" y="1792440"/>
                    <a:ext cx="52200" cy="33120"/>
                  </a:xfrm>
                  <a:custGeom>
                    <a:avLst/>
                    <a:gdLst/>
                    <a:ahLst/>
                    <a:rect l="l" t="t" r="r" b="b"/>
                    <a:pathLst>
                      <a:path w="97" h="62">
                        <a:moveTo>
                          <a:pt x="0" y="62"/>
                        </a:moveTo>
                        <a:lnTo>
                          <a:pt x="28" y="47"/>
                        </a:lnTo>
                        <a:lnTo>
                          <a:pt x="69" y="15"/>
                        </a:lnTo>
                        <a:lnTo>
                          <a:pt x="97"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036" name=""/>
                <p:cNvGrpSpPr/>
                <p:nvPr/>
              </p:nvGrpSpPr>
              <p:grpSpPr>
                <a:xfrm>
                  <a:off x="6276960" y="1774800"/>
                  <a:ext cx="28440" cy="17640"/>
                  <a:chOff x="6276960" y="1774800"/>
                  <a:chExt cx="28440" cy="17640"/>
                </a:xfrm>
              </p:grpSpPr>
              <p:sp>
                <p:nvSpPr>
                  <p:cNvPr id="1037" name=""/>
                  <p:cNvSpPr/>
                  <p:nvPr/>
                </p:nvSpPr>
                <p:spPr>
                  <a:xfrm>
                    <a:off x="6276960" y="1774800"/>
                    <a:ext cx="28440" cy="17640"/>
                  </a:xfrm>
                  <a:custGeom>
                    <a:avLst/>
                    <a:gdLst/>
                    <a:ahLst/>
                    <a:rect l="l" t="t" r="r" b="b"/>
                    <a:pathLst>
                      <a:path w="55" h="32">
                        <a:moveTo>
                          <a:pt x="0" y="32"/>
                        </a:moveTo>
                        <a:lnTo>
                          <a:pt x="27" y="15"/>
                        </a:lnTo>
                        <a:lnTo>
                          <a:pt x="41" y="15"/>
                        </a:lnTo>
                        <a:lnTo>
                          <a:pt x="55"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6276960" y="1774800"/>
                    <a:ext cx="28440" cy="17640"/>
                  </a:xfrm>
                  <a:custGeom>
                    <a:avLst/>
                    <a:gdLst/>
                    <a:ahLst/>
                    <a:rect l="l" t="t" r="r" b="b"/>
                    <a:pathLst>
                      <a:path w="55" h="32">
                        <a:moveTo>
                          <a:pt x="0" y="32"/>
                        </a:moveTo>
                        <a:lnTo>
                          <a:pt x="27" y="15"/>
                        </a:lnTo>
                        <a:lnTo>
                          <a:pt x="41" y="15"/>
                        </a:lnTo>
                        <a:lnTo>
                          <a:pt x="5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39" name=""/>
                <p:cNvGrpSpPr/>
                <p:nvPr/>
              </p:nvGrpSpPr>
              <p:grpSpPr>
                <a:xfrm>
                  <a:off x="6224760" y="3987720"/>
                  <a:ext cx="168120" cy="125640"/>
                  <a:chOff x="6224760" y="3987720"/>
                  <a:chExt cx="168120" cy="125640"/>
                </a:xfrm>
              </p:grpSpPr>
              <p:sp>
                <p:nvSpPr>
                  <p:cNvPr id="1040" name=""/>
                  <p:cNvSpPr/>
                  <p:nvPr/>
                </p:nvSpPr>
                <p:spPr>
                  <a:xfrm>
                    <a:off x="6224760" y="3987720"/>
                    <a:ext cx="168120" cy="125640"/>
                  </a:xfrm>
                  <a:custGeom>
                    <a:avLst/>
                    <a:gdLst/>
                    <a:ahLst/>
                    <a:rect l="l" t="t" r="r" b="b"/>
                    <a:pathLst>
                      <a:path w="318" h="237">
                        <a:moveTo>
                          <a:pt x="318" y="237"/>
                        </a:moveTo>
                        <a:lnTo>
                          <a:pt x="290" y="222"/>
                        </a:lnTo>
                        <a:lnTo>
                          <a:pt x="263" y="205"/>
                        </a:lnTo>
                        <a:lnTo>
                          <a:pt x="235" y="190"/>
                        </a:lnTo>
                        <a:lnTo>
                          <a:pt x="207" y="175"/>
                        </a:lnTo>
                        <a:lnTo>
                          <a:pt x="180" y="158"/>
                        </a:lnTo>
                        <a:lnTo>
                          <a:pt x="152" y="126"/>
                        </a:lnTo>
                        <a:lnTo>
                          <a:pt x="124" y="111"/>
                        </a:lnTo>
                        <a:lnTo>
                          <a:pt x="97" y="96"/>
                        </a:lnTo>
                        <a:lnTo>
                          <a:pt x="69" y="64"/>
                        </a:lnTo>
                        <a:lnTo>
                          <a:pt x="41" y="47"/>
                        </a:lnTo>
                        <a:lnTo>
                          <a:pt x="28" y="32"/>
                        </a:lnTo>
                        <a:lnTo>
                          <a:pt x="0" y="0"/>
                        </a:lnTo>
                        <a:lnTo>
                          <a:pt x="318" y="2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224760" y="3987720"/>
                    <a:ext cx="168120" cy="125640"/>
                  </a:xfrm>
                  <a:custGeom>
                    <a:avLst/>
                    <a:gdLst/>
                    <a:ahLst/>
                    <a:rect l="l" t="t" r="r" b="b"/>
                    <a:pathLst>
                      <a:path w="318" h="237">
                        <a:moveTo>
                          <a:pt x="318" y="237"/>
                        </a:moveTo>
                        <a:lnTo>
                          <a:pt x="290" y="222"/>
                        </a:lnTo>
                        <a:lnTo>
                          <a:pt x="263" y="205"/>
                        </a:lnTo>
                        <a:lnTo>
                          <a:pt x="235" y="190"/>
                        </a:lnTo>
                        <a:lnTo>
                          <a:pt x="207" y="175"/>
                        </a:lnTo>
                        <a:lnTo>
                          <a:pt x="180" y="158"/>
                        </a:lnTo>
                        <a:lnTo>
                          <a:pt x="152" y="126"/>
                        </a:lnTo>
                        <a:lnTo>
                          <a:pt x="124" y="111"/>
                        </a:lnTo>
                        <a:lnTo>
                          <a:pt x="97" y="96"/>
                        </a:lnTo>
                        <a:lnTo>
                          <a:pt x="69" y="64"/>
                        </a:lnTo>
                        <a:lnTo>
                          <a:pt x="41" y="47"/>
                        </a:lnTo>
                        <a:lnTo>
                          <a:pt x="28"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5894280" y="3403440"/>
                  <a:ext cx="330480" cy="584280"/>
                  <a:chOff x="5894280" y="3403440"/>
                  <a:chExt cx="330480" cy="584280"/>
                </a:xfrm>
              </p:grpSpPr>
              <p:sp>
                <p:nvSpPr>
                  <p:cNvPr id="1043" name=""/>
                  <p:cNvSpPr/>
                  <p:nvPr/>
                </p:nvSpPr>
                <p:spPr>
                  <a:xfrm>
                    <a:off x="5894280" y="3403440"/>
                    <a:ext cx="330480" cy="584280"/>
                  </a:xfrm>
                  <a:custGeom>
                    <a:avLst/>
                    <a:gdLst/>
                    <a:ahLst/>
                    <a:rect l="l" t="t" r="r" b="b"/>
                    <a:pathLst>
                      <a:path w="624" h="1104">
                        <a:moveTo>
                          <a:pt x="624" y="1104"/>
                        </a:moveTo>
                        <a:lnTo>
                          <a:pt x="596" y="1089"/>
                        </a:lnTo>
                        <a:lnTo>
                          <a:pt x="582" y="1057"/>
                        </a:lnTo>
                        <a:lnTo>
                          <a:pt x="555" y="1042"/>
                        </a:lnTo>
                        <a:lnTo>
                          <a:pt x="541" y="1010"/>
                        </a:lnTo>
                        <a:lnTo>
                          <a:pt x="513" y="994"/>
                        </a:lnTo>
                        <a:lnTo>
                          <a:pt x="499" y="963"/>
                        </a:lnTo>
                        <a:lnTo>
                          <a:pt x="472" y="931"/>
                        </a:lnTo>
                        <a:lnTo>
                          <a:pt x="458" y="915"/>
                        </a:lnTo>
                        <a:lnTo>
                          <a:pt x="430" y="884"/>
                        </a:lnTo>
                        <a:lnTo>
                          <a:pt x="416" y="852"/>
                        </a:lnTo>
                        <a:lnTo>
                          <a:pt x="389" y="836"/>
                        </a:lnTo>
                        <a:lnTo>
                          <a:pt x="375" y="805"/>
                        </a:lnTo>
                        <a:lnTo>
                          <a:pt x="361" y="774"/>
                        </a:lnTo>
                        <a:lnTo>
                          <a:pt x="333" y="742"/>
                        </a:lnTo>
                        <a:lnTo>
                          <a:pt x="320" y="710"/>
                        </a:lnTo>
                        <a:lnTo>
                          <a:pt x="306" y="678"/>
                        </a:lnTo>
                        <a:lnTo>
                          <a:pt x="278" y="663"/>
                        </a:lnTo>
                        <a:lnTo>
                          <a:pt x="264" y="631"/>
                        </a:lnTo>
                        <a:lnTo>
                          <a:pt x="250" y="599"/>
                        </a:lnTo>
                        <a:lnTo>
                          <a:pt x="223" y="569"/>
                        </a:lnTo>
                        <a:lnTo>
                          <a:pt x="209" y="537"/>
                        </a:lnTo>
                        <a:lnTo>
                          <a:pt x="195" y="505"/>
                        </a:lnTo>
                        <a:lnTo>
                          <a:pt x="181" y="473"/>
                        </a:lnTo>
                        <a:lnTo>
                          <a:pt x="168" y="441"/>
                        </a:lnTo>
                        <a:lnTo>
                          <a:pt x="154" y="411"/>
                        </a:lnTo>
                        <a:lnTo>
                          <a:pt x="138" y="379"/>
                        </a:lnTo>
                        <a:lnTo>
                          <a:pt x="125" y="347"/>
                        </a:lnTo>
                        <a:lnTo>
                          <a:pt x="111" y="316"/>
                        </a:lnTo>
                        <a:lnTo>
                          <a:pt x="97" y="284"/>
                        </a:lnTo>
                        <a:lnTo>
                          <a:pt x="83" y="253"/>
                        </a:lnTo>
                        <a:lnTo>
                          <a:pt x="69" y="221"/>
                        </a:lnTo>
                        <a:lnTo>
                          <a:pt x="55" y="190"/>
                        </a:lnTo>
                        <a:lnTo>
                          <a:pt x="42" y="158"/>
                        </a:lnTo>
                        <a:lnTo>
                          <a:pt x="42" y="126"/>
                        </a:lnTo>
                        <a:lnTo>
                          <a:pt x="28" y="79"/>
                        </a:lnTo>
                        <a:lnTo>
                          <a:pt x="14" y="47"/>
                        </a:lnTo>
                        <a:lnTo>
                          <a:pt x="14" y="17"/>
                        </a:lnTo>
                        <a:lnTo>
                          <a:pt x="0" y="0"/>
                        </a:lnTo>
                        <a:lnTo>
                          <a:pt x="624" y="110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894280" y="3403440"/>
                    <a:ext cx="330480" cy="584280"/>
                  </a:xfrm>
                  <a:custGeom>
                    <a:avLst/>
                    <a:gdLst/>
                    <a:ahLst/>
                    <a:rect l="l" t="t" r="r" b="b"/>
                    <a:pathLst>
                      <a:path w="624" h="1104">
                        <a:moveTo>
                          <a:pt x="624" y="1104"/>
                        </a:moveTo>
                        <a:lnTo>
                          <a:pt x="596" y="1089"/>
                        </a:lnTo>
                        <a:lnTo>
                          <a:pt x="582" y="1057"/>
                        </a:lnTo>
                        <a:lnTo>
                          <a:pt x="555" y="1042"/>
                        </a:lnTo>
                        <a:lnTo>
                          <a:pt x="541" y="1010"/>
                        </a:lnTo>
                        <a:lnTo>
                          <a:pt x="513" y="994"/>
                        </a:lnTo>
                        <a:lnTo>
                          <a:pt x="499" y="963"/>
                        </a:lnTo>
                        <a:lnTo>
                          <a:pt x="472" y="931"/>
                        </a:lnTo>
                        <a:lnTo>
                          <a:pt x="458" y="915"/>
                        </a:lnTo>
                        <a:lnTo>
                          <a:pt x="430" y="884"/>
                        </a:lnTo>
                        <a:lnTo>
                          <a:pt x="416" y="852"/>
                        </a:lnTo>
                        <a:lnTo>
                          <a:pt x="389" y="836"/>
                        </a:lnTo>
                        <a:lnTo>
                          <a:pt x="375" y="805"/>
                        </a:lnTo>
                        <a:lnTo>
                          <a:pt x="361" y="774"/>
                        </a:lnTo>
                        <a:lnTo>
                          <a:pt x="333" y="742"/>
                        </a:lnTo>
                        <a:lnTo>
                          <a:pt x="320" y="710"/>
                        </a:lnTo>
                        <a:lnTo>
                          <a:pt x="306" y="678"/>
                        </a:lnTo>
                        <a:lnTo>
                          <a:pt x="278" y="663"/>
                        </a:lnTo>
                        <a:lnTo>
                          <a:pt x="264" y="631"/>
                        </a:lnTo>
                        <a:lnTo>
                          <a:pt x="250" y="599"/>
                        </a:lnTo>
                        <a:lnTo>
                          <a:pt x="223" y="569"/>
                        </a:lnTo>
                        <a:lnTo>
                          <a:pt x="209" y="537"/>
                        </a:lnTo>
                        <a:lnTo>
                          <a:pt x="195" y="505"/>
                        </a:lnTo>
                        <a:lnTo>
                          <a:pt x="181" y="473"/>
                        </a:lnTo>
                        <a:lnTo>
                          <a:pt x="168" y="441"/>
                        </a:lnTo>
                        <a:lnTo>
                          <a:pt x="154" y="411"/>
                        </a:lnTo>
                        <a:lnTo>
                          <a:pt x="138" y="379"/>
                        </a:lnTo>
                        <a:lnTo>
                          <a:pt x="125" y="347"/>
                        </a:lnTo>
                        <a:lnTo>
                          <a:pt x="111" y="316"/>
                        </a:lnTo>
                        <a:lnTo>
                          <a:pt x="97" y="284"/>
                        </a:lnTo>
                        <a:lnTo>
                          <a:pt x="83" y="253"/>
                        </a:lnTo>
                        <a:lnTo>
                          <a:pt x="69" y="221"/>
                        </a:lnTo>
                        <a:lnTo>
                          <a:pt x="55" y="190"/>
                        </a:lnTo>
                        <a:lnTo>
                          <a:pt x="42" y="158"/>
                        </a:lnTo>
                        <a:lnTo>
                          <a:pt x="42" y="126"/>
                        </a:lnTo>
                        <a:lnTo>
                          <a:pt x="28" y="79"/>
                        </a:lnTo>
                        <a:lnTo>
                          <a:pt x="14" y="47"/>
                        </a:lnTo>
                        <a:lnTo>
                          <a:pt x="14"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5843520" y="2527200"/>
                  <a:ext cx="50760" cy="876240"/>
                  <a:chOff x="5843520" y="2527200"/>
                  <a:chExt cx="50760" cy="876240"/>
                </a:xfrm>
              </p:grpSpPr>
              <p:sp>
                <p:nvSpPr>
                  <p:cNvPr id="1046" name=""/>
                  <p:cNvSpPr/>
                  <p:nvPr/>
                </p:nvSpPr>
                <p:spPr>
                  <a:xfrm>
                    <a:off x="5843520" y="2527200"/>
                    <a:ext cx="50760" cy="876240"/>
                  </a:xfrm>
                  <a:custGeom>
                    <a:avLst/>
                    <a:gdLst/>
                    <a:ahLst/>
                    <a:rect l="l" t="t" r="r" b="b"/>
                    <a:pathLst>
                      <a:path w="97" h="1656">
                        <a:moveTo>
                          <a:pt x="97" y="1656"/>
                        </a:moveTo>
                        <a:lnTo>
                          <a:pt x="83" y="1609"/>
                        </a:lnTo>
                        <a:lnTo>
                          <a:pt x="83" y="1577"/>
                        </a:lnTo>
                        <a:lnTo>
                          <a:pt x="69" y="1545"/>
                        </a:lnTo>
                        <a:lnTo>
                          <a:pt x="69" y="1515"/>
                        </a:lnTo>
                        <a:lnTo>
                          <a:pt x="56" y="1483"/>
                        </a:lnTo>
                        <a:lnTo>
                          <a:pt x="56" y="1451"/>
                        </a:lnTo>
                        <a:lnTo>
                          <a:pt x="42" y="1419"/>
                        </a:lnTo>
                        <a:lnTo>
                          <a:pt x="42" y="1388"/>
                        </a:lnTo>
                        <a:lnTo>
                          <a:pt x="42" y="1341"/>
                        </a:lnTo>
                        <a:lnTo>
                          <a:pt x="28" y="1309"/>
                        </a:lnTo>
                        <a:lnTo>
                          <a:pt x="28" y="1278"/>
                        </a:lnTo>
                        <a:lnTo>
                          <a:pt x="28" y="1247"/>
                        </a:lnTo>
                        <a:lnTo>
                          <a:pt x="14" y="1215"/>
                        </a:lnTo>
                        <a:lnTo>
                          <a:pt x="14" y="1168"/>
                        </a:lnTo>
                        <a:lnTo>
                          <a:pt x="14" y="1136"/>
                        </a:lnTo>
                        <a:lnTo>
                          <a:pt x="14" y="1104"/>
                        </a:lnTo>
                        <a:lnTo>
                          <a:pt x="14" y="1072"/>
                        </a:lnTo>
                        <a:lnTo>
                          <a:pt x="0" y="1042"/>
                        </a:lnTo>
                        <a:lnTo>
                          <a:pt x="0" y="993"/>
                        </a:lnTo>
                        <a:lnTo>
                          <a:pt x="0" y="963"/>
                        </a:lnTo>
                        <a:lnTo>
                          <a:pt x="0" y="931"/>
                        </a:lnTo>
                        <a:lnTo>
                          <a:pt x="0" y="899"/>
                        </a:lnTo>
                        <a:lnTo>
                          <a:pt x="0" y="852"/>
                        </a:lnTo>
                        <a:lnTo>
                          <a:pt x="0" y="820"/>
                        </a:lnTo>
                        <a:lnTo>
                          <a:pt x="0" y="789"/>
                        </a:lnTo>
                        <a:lnTo>
                          <a:pt x="0" y="757"/>
                        </a:lnTo>
                        <a:lnTo>
                          <a:pt x="0" y="725"/>
                        </a:lnTo>
                        <a:lnTo>
                          <a:pt x="0" y="678"/>
                        </a:lnTo>
                        <a:lnTo>
                          <a:pt x="0" y="646"/>
                        </a:lnTo>
                        <a:lnTo>
                          <a:pt x="0" y="616"/>
                        </a:lnTo>
                        <a:lnTo>
                          <a:pt x="0" y="584"/>
                        </a:lnTo>
                        <a:lnTo>
                          <a:pt x="14" y="537"/>
                        </a:lnTo>
                        <a:lnTo>
                          <a:pt x="14" y="505"/>
                        </a:lnTo>
                        <a:lnTo>
                          <a:pt x="14" y="473"/>
                        </a:lnTo>
                        <a:lnTo>
                          <a:pt x="14" y="441"/>
                        </a:lnTo>
                        <a:lnTo>
                          <a:pt x="14" y="409"/>
                        </a:lnTo>
                        <a:lnTo>
                          <a:pt x="28" y="362"/>
                        </a:lnTo>
                        <a:lnTo>
                          <a:pt x="28" y="331"/>
                        </a:lnTo>
                        <a:lnTo>
                          <a:pt x="28" y="300"/>
                        </a:lnTo>
                        <a:lnTo>
                          <a:pt x="42" y="268"/>
                        </a:lnTo>
                        <a:lnTo>
                          <a:pt x="42" y="236"/>
                        </a:lnTo>
                        <a:lnTo>
                          <a:pt x="42" y="205"/>
                        </a:lnTo>
                        <a:lnTo>
                          <a:pt x="56" y="158"/>
                        </a:lnTo>
                        <a:lnTo>
                          <a:pt x="56" y="126"/>
                        </a:lnTo>
                        <a:lnTo>
                          <a:pt x="69" y="94"/>
                        </a:lnTo>
                        <a:lnTo>
                          <a:pt x="69" y="63"/>
                        </a:lnTo>
                        <a:lnTo>
                          <a:pt x="83" y="32"/>
                        </a:lnTo>
                        <a:lnTo>
                          <a:pt x="83" y="0"/>
                        </a:lnTo>
                        <a:lnTo>
                          <a:pt x="97" y="165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5843520" y="2527200"/>
                    <a:ext cx="50760" cy="876240"/>
                  </a:xfrm>
                  <a:custGeom>
                    <a:avLst/>
                    <a:gdLst/>
                    <a:ahLst/>
                    <a:rect l="l" t="t" r="r" b="b"/>
                    <a:pathLst>
                      <a:path w="97" h="1656">
                        <a:moveTo>
                          <a:pt x="97" y="1656"/>
                        </a:moveTo>
                        <a:lnTo>
                          <a:pt x="83" y="1609"/>
                        </a:lnTo>
                        <a:lnTo>
                          <a:pt x="83" y="1577"/>
                        </a:lnTo>
                        <a:lnTo>
                          <a:pt x="69" y="1545"/>
                        </a:lnTo>
                        <a:lnTo>
                          <a:pt x="69" y="1515"/>
                        </a:lnTo>
                        <a:lnTo>
                          <a:pt x="56" y="1483"/>
                        </a:lnTo>
                        <a:lnTo>
                          <a:pt x="56" y="1451"/>
                        </a:lnTo>
                        <a:lnTo>
                          <a:pt x="42" y="1419"/>
                        </a:lnTo>
                        <a:lnTo>
                          <a:pt x="42" y="1388"/>
                        </a:lnTo>
                        <a:lnTo>
                          <a:pt x="42" y="1341"/>
                        </a:lnTo>
                        <a:lnTo>
                          <a:pt x="28" y="1309"/>
                        </a:lnTo>
                        <a:lnTo>
                          <a:pt x="28" y="1278"/>
                        </a:lnTo>
                        <a:lnTo>
                          <a:pt x="28" y="1247"/>
                        </a:lnTo>
                        <a:lnTo>
                          <a:pt x="14" y="1215"/>
                        </a:lnTo>
                        <a:lnTo>
                          <a:pt x="14" y="1168"/>
                        </a:lnTo>
                        <a:lnTo>
                          <a:pt x="14" y="1136"/>
                        </a:lnTo>
                        <a:lnTo>
                          <a:pt x="14" y="1104"/>
                        </a:lnTo>
                        <a:lnTo>
                          <a:pt x="14" y="1072"/>
                        </a:lnTo>
                        <a:lnTo>
                          <a:pt x="0" y="1042"/>
                        </a:lnTo>
                        <a:lnTo>
                          <a:pt x="0" y="993"/>
                        </a:lnTo>
                        <a:lnTo>
                          <a:pt x="0" y="963"/>
                        </a:lnTo>
                        <a:lnTo>
                          <a:pt x="0" y="931"/>
                        </a:lnTo>
                        <a:lnTo>
                          <a:pt x="0" y="899"/>
                        </a:lnTo>
                        <a:lnTo>
                          <a:pt x="0" y="852"/>
                        </a:lnTo>
                        <a:lnTo>
                          <a:pt x="0" y="820"/>
                        </a:lnTo>
                        <a:lnTo>
                          <a:pt x="0" y="789"/>
                        </a:lnTo>
                        <a:lnTo>
                          <a:pt x="0" y="757"/>
                        </a:lnTo>
                        <a:lnTo>
                          <a:pt x="0" y="725"/>
                        </a:lnTo>
                        <a:lnTo>
                          <a:pt x="0" y="678"/>
                        </a:lnTo>
                        <a:lnTo>
                          <a:pt x="0" y="646"/>
                        </a:lnTo>
                        <a:lnTo>
                          <a:pt x="0" y="616"/>
                        </a:lnTo>
                        <a:lnTo>
                          <a:pt x="0" y="584"/>
                        </a:lnTo>
                        <a:lnTo>
                          <a:pt x="14" y="537"/>
                        </a:lnTo>
                        <a:lnTo>
                          <a:pt x="14" y="505"/>
                        </a:lnTo>
                        <a:lnTo>
                          <a:pt x="14" y="473"/>
                        </a:lnTo>
                        <a:lnTo>
                          <a:pt x="14" y="441"/>
                        </a:lnTo>
                        <a:lnTo>
                          <a:pt x="14" y="409"/>
                        </a:lnTo>
                        <a:lnTo>
                          <a:pt x="28" y="362"/>
                        </a:lnTo>
                        <a:lnTo>
                          <a:pt x="28" y="331"/>
                        </a:lnTo>
                        <a:lnTo>
                          <a:pt x="28" y="300"/>
                        </a:lnTo>
                        <a:lnTo>
                          <a:pt x="42" y="268"/>
                        </a:lnTo>
                        <a:lnTo>
                          <a:pt x="42" y="236"/>
                        </a:lnTo>
                        <a:lnTo>
                          <a:pt x="42" y="205"/>
                        </a:lnTo>
                        <a:lnTo>
                          <a:pt x="56" y="158"/>
                        </a:lnTo>
                        <a:lnTo>
                          <a:pt x="56" y="126"/>
                        </a:lnTo>
                        <a:lnTo>
                          <a:pt x="69" y="94"/>
                        </a:lnTo>
                        <a:lnTo>
                          <a:pt x="69" y="63"/>
                        </a:lnTo>
                        <a:lnTo>
                          <a:pt x="83" y="32"/>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5888160" y="1959120"/>
                  <a:ext cx="293400" cy="568080"/>
                  <a:chOff x="5888160" y="1959120"/>
                  <a:chExt cx="293400" cy="568080"/>
                </a:xfrm>
              </p:grpSpPr>
              <p:sp>
                <p:nvSpPr>
                  <p:cNvPr id="1049" name=""/>
                  <p:cNvSpPr/>
                  <p:nvPr/>
                </p:nvSpPr>
                <p:spPr>
                  <a:xfrm>
                    <a:off x="5888160" y="1959120"/>
                    <a:ext cx="293400" cy="568080"/>
                  </a:xfrm>
                  <a:custGeom>
                    <a:avLst/>
                    <a:gdLst/>
                    <a:ahLst/>
                    <a:rect l="l" t="t" r="r" b="b"/>
                    <a:pathLst>
                      <a:path w="555" h="1073">
                        <a:moveTo>
                          <a:pt x="0" y="1073"/>
                        </a:moveTo>
                        <a:lnTo>
                          <a:pt x="14" y="1041"/>
                        </a:lnTo>
                        <a:lnTo>
                          <a:pt x="14" y="1009"/>
                        </a:lnTo>
                        <a:lnTo>
                          <a:pt x="28" y="979"/>
                        </a:lnTo>
                        <a:lnTo>
                          <a:pt x="42" y="947"/>
                        </a:lnTo>
                        <a:lnTo>
                          <a:pt x="42" y="915"/>
                        </a:lnTo>
                        <a:lnTo>
                          <a:pt x="56" y="883"/>
                        </a:lnTo>
                        <a:lnTo>
                          <a:pt x="69" y="836"/>
                        </a:lnTo>
                        <a:lnTo>
                          <a:pt x="83" y="804"/>
                        </a:lnTo>
                        <a:lnTo>
                          <a:pt x="97" y="773"/>
                        </a:lnTo>
                        <a:lnTo>
                          <a:pt x="97" y="742"/>
                        </a:lnTo>
                        <a:lnTo>
                          <a:pt x="111" y="710"/>
                        </a:lnTo>
                        <a:lnTo>
                          <a:pt x="125" y="678"/>
                        </a:lnTo>
                        <a:lnTo>
                          <a:pt x="139" y="647"/>
                        </a:lnTo>
                        <a:lnTo>
                          <a:pt x="152" y="615"/>
                        </a:lnTo>
                        <a:lnTo>
                          <a:pt x="168" y="584"/>
                        </a:lnTo>
                        <a:lnTo>
                          <a:pt x="182" y="553"/>
                        </a:lnTo>
                        <a:lnTo>
                          <a:pt x="209" y="521"/>
                        </a:lnTo>
                        <a:lnTo>
                          <a:pt x="223" y="489"/>
                        </a:lnTo>
                        <a:lnTo>
                          <a:pt x="237" y="457"/>
                        </a:lnTo>
                        <a:lnTo>
                          <a:pt x="251" y="427"/>
                        </a:lnTo>
                        <a:lnTo>
                          <a:pt x="264" y="395"/>
                        </a:lnTo>
                        <a:lnTo>
                          <a:pt x="292" y="363"/>
                        </a:lnTo>
                        <a:lnTo>
                          <a:pt x="306" y="348"/>
                        </a:lnTo>
                        <a:lnTo>
                          <a:pt x="320" y="316"/>
                        </a:lnTo>
                        <a:lnTo>
                          <a:pt x="334" y="284"/>
                        </a:lnTo>
                        <a:lnTo>
                          <a:pt x="361" y="252"/>
                        </a:lnTo>
                        <a:lnTo>
                          <a:pt x="375" y="237"/>
                        </a:lnTo>
                        <a:lnTo>
                          <a:pt x="389" y="205"/>
                        </a:lnTo>
                        <a:lnTo>
                          <a:pt x="417" y="173"/>
                        </a:lnTo>
                        <a:lnTo>
                          <a:pt x="430" y="142"/>
                        </a:lnTo>
                        <a:lnTo>
                          <a:pt x="444" y="126"/>
                        </a:lnTo>
                        <a:lnTo>
                          <a:pt x="472" y="95"/>
                        </a:lnTo>
                        <a:lnTo>
                          <a:pt x="486" y="79"/>
                        </a:lnTo>
                        <a:lnTo>
                          <a:pt x="513" y="48"/>
                        </a:lnTo>
                        <a:lnTo>
                          <a:pt x="527" y="16"/>
                        </a:lnTo>
                        <a:lnTo>
                          <a:pt x="555" y="0"/>
                        </a:lnTo>
                        <a:lnTo>
                          <a:pt x="0" y="10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888160" y="1959120"/>
                    <a:ext cx="293400" cy="568080"/>
                  </a:xfrm>
                  <a:custGeom>
                    <a:avLst/>
                    <a:gdLst/>
                    <a:ahLst/>
                    <a:rect l="l" t="t" r="r" b="b"/>
                    <a:pathLst>
                      <a:path w="555" h="1073">
                        <a:moveTo>
                          <a:pt x="0" y="1073"/>
                        </a:moveTo>
                        <a:lnTo>
                          <a:pt x="14" y="1041"/>
                        </a:lnTo>
                        <a:lnTo>
                          <a:pt x="14" y="1009"/>
                        </a:lnTo>
                        <a:lnTo>
                          <a:pt x="28" y="979"/>
                        </a:lnTo>
                        <a:lnTo>
                          <a:pt x="42" y="947"/>
                        </a:lnTo>
                        <a:lnTo>
                          <a:pt x="42" y="915"/>
                        </a:lnTo>
                        <a:lnTo>
                          <a:pt x="56" y="883"/>
                        </a:lnTo>
                        <a:lnTo>
                          <a:pt x="69" y="836"/>
                        </a:lnTo>
                        <a:lnTo>
                          <a:pt x="83" y="804"/>
                        </a:lnTo>
                        <a:lnTo>
                          <a:pt x="97" y="773"/>
                        </a:lnTo>
                        <a:lnTo>
                          <a:pt x="97" y="742"/>
                        </a:lnTo>
                        <a:lnTo>
                          <a:pt x="111" y="710"/>
                        </a:lnTo>
                        <a:lnTo>
                          <a:pt x="125" y="678"/>
                        </a:lnTo>
                        <a:lnTo>
                          <a:pt x="139" y="647"/>
                        </a:lnTo>
                        <a:lnTo>
                          <a:pt x="152" y="615"/>
                        </a:lnTo>
                        <a:lnTo>
                          <a:pt x="168" y="584"/>
                        </a:lnTo>
                        <a:lnTo>
                          <a:pt x="182" y="553"/>
                        </a:lnTo>
                        <a:lnTo>
                          <a:pt x="209" y="521"/>
                        </a:lnTo>
                        <a:lnTo>
                          <a:pt x="223" y="489"/>
                        </a:lnTo>
                        <a:lnTo>
                          <a:pt x="237" y="457"/>
                        </a:lnTo>
                        <a:lnTo>
                          <a:pt x="251" y="427"/>
                        </a:lnTo>
                        <a:lnTo>
                          <a:pt x="264" y="395"/>
                        </a:lnTo>
                        <a:lnTo>
                          <a:pt x="292" y="363"/>
                        </a:lnTo>
                        <a:lnTo>
                          <a:pt x="306" y="348"/>
                        </a:lnTo>
                        <a:lnTo>
                          <a:pt x="320" y="316"/>
                        </a:lnTo>
                        <a:lnTo>
                          <a:pt x="334" y="284"/>
                        </a:lnTo>
                        <a:lnTo>
                          <a:pt x="361" y="252"/>
                        </a:lnTo>
                        <a:lnTo>
                          <a:pt x="375" y="237"/>
                        </a:lnTo>
                        <a:lnTo>
                          <a:pt x="389" y="205"/>
                        </a:lnTo>
                        <a:lnTo>
                          <a:pt x="417" y="173"/>
                        </a:lnTo>
                        <a:lnTo>
                          <a:pt x="430" y="142"/>
                        </a:lnTo>
                        <a:lnTo>
                          <a:pt x="444" y="126"/>
                        </a:lnTo>
                        <a:lnTo>
                          <a:pt x="472" y="95"/>
                        </a:lnTo>
                        <a:lnTo>
                          <a:pt x="486" y="79"/>
                        </a:lnTo>
                        <a:lnTo>
                          <a:pt x="513" y="48"/>
                        </a:lnTo>
                        <a:lnTo>
                          <a:pt x="527" y="16"/>
                        </a:lnTo>
                        <a:lnTo>
                          <a:pt x="5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6181560" y="1825560"/>
                  <a:ext cx="146160" cy="133560"/>
                  <a:chOff x="6181560" y="1825560"/>
                  <a:chExt cx="146160" cy="133560"/>
                </a:xfrm>
              </p:grpSpPr>
              <p:sp>
                <p:nvSpPr>
                  <p:cNvPr id="1052" name=""/>
                  <p:cNvSpPr/>
                  <p:nvPr/>
                </p:nvSpPr>
                <p:spPr>
                  <a:xfrm>
                    <a:off x="6181560" y="1825560"/>
                    <a:ext cx="146160" cy="133560"/>
                  </a:xfrm>
                  <a:custGeom>
                    <a:avLst/>
                    <a:gdLst/>
                    <a:ahLst/>
                    <a:rect l="l" t="t" r="r" b="b"/>
                    <a:pathLst>
                      <a:path w="277" h="253">
                        <a:moveTo>
                          <a:pt x="0" y="253"/>
                        </a:moveTo>
                        <a:lnTo>
                          <a:pt x="14" y="222"/>
                        </a:lnTo>
                        <a:lnTo>
                          <a:pt x="41" y="190"/>
                        </a:lnTo>
                        <a:lnTo>
                          <a:pt x="69" y="175"/>
                        </a:lnTo>
                        <a:lnTo>
                          <a:pt x="97" y="143"/>
                        </a:lnTo>
                        <a:lnTo>
                          <a:pt x="124" y="111"/>
                        </a:lnTo>
                        <a:lnTo>
                          <a:pt x="152" y="96"/>
                        </a:lnTo>
                        <a:lnTo>
                          <a:pt x="180" y="64"/>
                        </a:lnTo>
                        <a:lnTo>
                          <a:pt x="207" y="49"/>
                        </a:lnTo>
                        <a:lnTo>
                          <a:pt x="235" y="17"/>
                        </a:lnTo>
                        <a:lnTo>
                          <a:pt x="277" y="0"/>
                        </a:lnTo>
                        <a:lnTo>
                          <a:pt x="0"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181560" y="1825560"/>
                    <a:ext cx="146160" cy="133560"/>
                  </a:xfrm>
                  <a:custGeom>
                    <a:avLst/>
                    <a:gdLst/>
                    <a:ahLst/>
                    <a:rect l="l" t="t" r="r" b="b"/>
                    <a:pathLst>
                      <a:path w="277" h="253">
                        <a:moveTo>
                          <a:pt x="0" y="253"/>
                        </a:moveTo>
                        <a:lnTo>
                          <a:pt x="14" y="222"/>
                        </a:lnTo>
                        <a:lnTo>
                          <a:pt x="41" y="190"/>
                        </a:lnTo>
                        <a:lnTo>
                          <a:pt x="69" y="175"/>
                        </a:lnTo>
                        <a:lnTo>
                          <a:pt x="97" y="143"/>
                        </a:lnTo>
                        <a:lnTo>
                          <a:pt x="124" y="111"/>
                        </a:lnTo>
                        <a:lnTo>
                          <a:pt x="152" y="96"/>
                        </a:lnTo>
                        <a:lnTo>
                          <a:pt x="180" y="64"/>
                        </a:lnTo>
                        <a:lnTo>
                          <a:pt x="207" y="49"/>
                        </a:lnTo>
                        <a:lnTo>
                          <a:pt x="235" y="17"/>
                        </a:lnTo>
                        <a:lnTo>
                          <a:pt x="27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6327720" y="1792440"/>
                  <a:ext cx="44640" cy="33120"/>
                  <a:chOff x="6327720" y="1792440"/>
                  <a:chExt cx="44640" cy="33120"/>
                </a:xfrm>
              </p:grpSpPr>
              <p:sp>
                <p:nvSpPr>
                  <p:cNvPr id="1055" name=""/>
                  <p:cNvSpPr/>
                  <p:nvPr/>
                </p:nvSpPr>
                <p:spPr>
                  <a:xfrm>
                    <a:off x="6327720" y="1792440"/>
                    <a:ext cx="44640" cy="33120"/>
                  </a:xfrm>
                  <a:custGeom>
                    <a:avLst/>
                    <a:gdLst/>
                    <a:ahLst/>
                    <a:rect l="l" t="t" r="r" b="b"/>
                    <a:pathLst>
                      <a:path w="83" h="62">
                        <a:moveTo>
                          <a:pt x="0" y="62"/>
                        </a:moveTo>
                        <a:lnTo>
                          <a:pt x="27" y="47"/>
                        </a:lnTo>
                        <a:lnTo>
                          <a:pt x="55" y="15"/>
                        </a:lnTo>
                        <a:lnTo>
                          <a:pt x="83" y="0"/>
                        </a:lnTo>
                        <a:lnTo>
                          <a:pt x="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6" name=""/>
                  <p:cNvSpPr/>
                  <p:nvPr/>
                </p:nvSpPr>
                <p:spPr>
                  <a:xfrm>
                    <a:off x="6327720" y="1792440"/>
                    <a:ext cx="44640" cy="33120"/>
                  </a:xfrm>
                  <a:custGeom>
                    <a:avLst/>
                    <a:gdLst/>
                    <a:ahLst/>
                    <a:rect l="l" t="t" r="r" b="b"/>
                    <a:pathLst>
                      <a:path w="83" h="62">
                        <a:moveTo>
                          <a:pt x="0" y="62"/>
                        </a:moveTo>
                        <a:lnTo>
                          <a:pt x="27" y="47"/>
                        </a:lnTo>
                        <a:lnTo>
                          <a:pt x="55" y="15"/>
                        </a:lnTo>
                        <a:lnTo>
                          <a:pt x="83"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057" name=""/>
                <p:cNvGrpSpPr/>
                <p:nvPr/>
              </p:nvGrpSpPr>
              <p:grpSpPr>
                <a:xfrm>
                  <a:off x="6372360" y="1774800"/>
                  <a:ext cx="20520" cy="17640"/>
                  <a:chOff x="6372360" y="1774800"/>
                  <a:chExt cx="20520" cy="17640"/>
                </a:xfrm>
              </p:grpSpPr>
              <p:sp>
                <p:nvSpPr>
                  <p:cNvPr id="1058" name=""/>
                  <p:cNvSpPr/>
                  <p:nvPr/>
                </p:nvSpPr>
                <p:spPr>
                  <a:xfrm>
                    <a:off x="6372360" y="1774800"/>
                    <a:ext cx="20520" cy="17640"/>
                  </a:xfrm>
                  <a:custGeom>
                    <a:avLst/>
                    <a:gdLst/>
                    <a:ahLst/>
                    <a:rect l="l" t="t" r="r" b="b"/>
                    <a:pathLst>
                      <a:path w="41" h="32">
                        <a:moveTo>
                          <a:pt x="0" y="32"/>
                        </a:moveTo>
                        <a:lnTo>
                          <a:pt x="13" y="15"/>
                        </a:lnTo>
                        <a:lnTo>
                          <a:pt x="41" y="15"/>
                        </a:lnTo>
                        <a:lnTo>
                          <a:pt x="41"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9" name=""/>
                  <p:cNvSpPr/>
                  <p:nvPr/>
                </p:nvSpPr>
                <p:spPr>
                  <a:xfrm>
                    <a:off x="6372360" y="1774800"/>
                    <a:ext cx="20520" cy="17640"/>
                  </a:xfrm>
                  <a:custGeom>
                    <a:avLst/>
                    <a:gdLst/>
                    <a:ahLst/>
                    <a:rect l="l" t="t" r="r" b="b"/>
                    <a:pathLst>
                      <a:path w="41" h="32">
                        <a:moveTo>
                          <a:pt x="0" y="32"/>
                        </a:moveTo>
                        <a:lnTo>
                          <a:pt x="13" y="15"/>
                        </a:lnTo>
                        <a:lnTo>
                          <a:pt x="41" y="15"/>
                        </a:lnTo>
                        <a:lnTo>
                          <a:pt x="41"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60" name=""/>
                <p:cNvGrpSpPr/>
                <p:nvPr/>
              </p:nvGrpSpPr>
              <p:grpSpPr>
                <a:xfrm>
                  <a:off x="6041880" y="3336840"/>
                  <a:ext cx="439920" cy="776520"/>
                  <a:chOff x="6041880" y="3336840"/>
                  <a:chExt cx="439920" cy="776520"/>
                </a:xfrm>
              </p:grpSpPr>
              <p:sp>
                <p:nvSpPr>
                  <p:cNvPr id="1061" name=""/>
                  <p:cNvSpPr/>
                  <p:nvPr/>
                </p:nvSpPr>
                <p:spPr>
                  <a:xfrm>
                    <a:off x="6041880" y="3336840"/>
                    <a:ext cx="439920" cy="776520"/>
                  </a:xfrm>
                  <a:custGeom>
                    <a:avLst/>
                    <a:gdLst/>
                    <a:ahLst/>
                    <a:rect l="l" t="t" r="r" b="b"/>
                    <a:pathLst>
                      <a:path w="831" h="1467">
                        <a:moveTo>
                          <a:pt x="831" y="1467"/>
                        </a:moveTo>
                        <a:lnTo>
                          <a:pt x="818" y="1452"/>
                        </a:lnTo>
                        <a:lnTo>
                          <a:pt x="790" y="1435"/>
                        </a:lnTo>
                        <a:lnTo>
                          <a:pt x="762" y="1420"/>
                        </a:lnTo>
                        <a:lnTo>
                          <a:pt x="735" y="1405"/>
                        </a:lnTo>
                        <a:lnTo>
                          <a:pt x="721" y="1388"/>
                        </a:lnTo>
                        <a:lnTo>
                          <a:pt x="693" y="1356"/>
                        </a:lnTo>
                        <a:lnTo>
                          <a:pt x="664" y="1341"/>
                        </a:lnTo>
                        <a:lnTo>
                          <a:pt x="650" y="1326"/>
                        </a:lnTo>
                        <a:lnTo>
                          <a:pt x="623" y="1294"/>
                        </a:lnTo>
                        <a:lnTo>
                          <a:pt x="609" y="1277"/>
                        </a:lnTo>
                        <a:lnTo>
                          <a:pt x="581" y="1247"/>
                        </a:lnTo>
                        <a:lnTo>
                          <a:pt x="567" y="1230"/>
                        </a:lnTo>
                        <a:lnTo>
                          <a:pt x="540" y="1198"/>
                        </a:lnTo>
                        <a:lnTo>
                          <a:pt x="526" y="1183"/>
                        </a:lnTo>
                        <a:lnTo>
                          <a:pt x="498" y="1151"/>
                        </a:lnTo>
                        <a:lnTo>
                          <a:pt x="484" y="1136"/>
                        </a:lnTo>
                        <a:lnTo>
                          <a:pt x="457" y="1104"/>
                        </a:lnTo>
                        <a:lnTo>
                          <a:pt x="443" y="1073"/>
                        </a:lnTo>
                        <a:lnTo>
                          <a:pt x="429" y="1057"/>
                        </a:lnTo>
                        <a:lnTo>
                          <a:pt x="401" y="1025"/>
                        </a:lnTo>
                        <a:lnTo>
                          <a:pt x="387" y="994"/>
                        </a:lnTo>
                        <a:lnTo>
                          <a:pt x="374" y="962"/>
                        </a:lnTo>
                        <a:lnTo>
                          <a:pt x="346" y="931"/>
                        </a:lnTo>
                        <a:lnTo>
                          <a:pt x="332" y="915"/>
                        </a:lnTo>
                        <a:lnTo>
                          <a:pt x="318" y="883"/>
                        </a:lnTo>
                        <a:lnTo>
                          <a:pt x="304" y="853"/>
                        </a:lnTo>
                        <a:lnTo>
                          <a:pt x="291" y="821"/>
                        </a:lnTo>
                        <a:lnTo>
                          <a:pt x="277" y="789"/>
                        </a:lnTo>
                        <a:lnTo>
                          <a:pt x="249" y="757"/>
                        </a:lnTo>
                        <a:lnTo>
                          <a:pt x="235" y="725"/>
                        </a:lnTo>
                        <a:lnTo>
                          <a:pt x="221" y="695"/>
                        </a:lnTo>
                        <a:lnTo>
                          <a:pt x="208" y="663"/>
                        </a:lnTo>
                        <a:lnTo>
                          <a:pt x="194" y="631"/>
                        </a:lnTo>
                        <a:lnTo>
                          <a:pt x="180" y="599"/>
                        </a:lnTo>
                        <a:lnTo>
                          <a:pt x="166" y="567"/>
                        </a:lnTo>
                        <a:lnTo>
                          <a:pt x="166" y="537"/>
                        </a:lnTo>
                        <a:lnTo>
                          <a:pt x="152" y="505"/>
                        </a:lnTo>
                        <a:lnTo>
                          <a:pt x="138" y="473"/>
                        </a:lnTo>
                        <a:lnTo>
                          <a:pt x="125" y="442"/>
                        </a:lnTo>
                        <a:lnTo>
                          <a:pt x="111" y="410"/>
                        </a:lnTo>
                        <a:lnTo>
                          <a:pt x="97" y="379"/>
                        </a:lnTo>
                        <a:lnTo>
                          <a:pt x="97" y="347"/>
                        </a:lnTo>
                        <a:lnTo>
                          <a:pt x="83" y="316"/>
                        </a:lnTo>
                        <a:lnTo>
                          <a:pt x="69" y="284"/>
                        </a:lnTo>
                        <a:lnTo>
                          <a:pt x="69" y="252"/>
                        </a:lnTo>
                        <a:lnTo>
                          <a:pt x="55" y="222"/>
                        </a:lnTo>
                        <a:lnTo>
                          <a:pt x="42" y="190"/>
                        </a:lnTo>
                        <a:lnTo>
                          <a:pt x="42" y="158"/>
                        </a:lnTo>
                        <a:lnTo>
                          <a:pt x="28" y="126"/>
                        </a:lnTo>
                        <a:lnTo>
                          <a:pt x="28" y="94"/>
                        </a:lnTo>
                        <a:lnTo>
                          <a:pt x="14" y="64"/>
                        </a:lnTo>
                        <a:lnTo>
                          <a:pt x="14" y="32"/>
                        </a:lnTo>
                        <a:lnTo>
                          <a:pt x="0" y="0"/>
                        </a:lnTo>
                        <a:lnTo>
                          <a:pt x="831" y="146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041880" y="3336840"/>
                    <a:ext cx="439920" cy="776520"/>
                  </a:xfrm>
                  <a:custGeom>
                    <a:avLst/>
                    <a:gdLst/>
                    <a:ahLst/>
                    <a:rect l="l" t="t" r="r" b="b"/>
                    <a:pathLst>
                      <a:path w="831" h="1467">
                        <a:moveTo>
                          <a:pt x="831" y="1467"/>
                        </a:moveTo>
                        <a:lnTo>
                          <a:pt x="818" y="1452"/>
                        </a:lnTo>
                        <a:lnTo>
                          <a:pt x="790" y="1435"/>
                        </a:lnTo>
                        <a:lnTo>
                          <a:pt x="762" y="1420"/>
                        </a:lnTo>
                        <a:lnTo>
                          <a:pt x="735" y="1405"/>
                        </a:lnTo>
                        <a:lnTo>
                          <a:pt x="721" y="1388"/>
                        </a:lnTo>
                        <a:lnTo>
                          <a:pt x="693" y="1356"/>
                        </a:lnTo>
                        <a:lnTo>
                          <a:pt x="664" y="1341"/>
                        </a:lnTo>
                        <a:lnTo>
                          <a:pt x="650" y="1326"/>
                        </a:lnTo>
                        <a:lnTo>
                          <a:pt x="623" y="1294"/>
                        </a:lnTo>
                        <a:lnTo>
                          <a:pt x="609" y="1277"/>
                        </a:lnTo>
                        <a:lnTo>
                          <a:pt x="581" y="1247"/>
                        </a:lnTo>
                        <a:lnTo>
                          <a:pt x="567" y="1230"/>
                        </a:lnTo>
                        <a:lnTo>
                          <a:pt x="540" y="1198"/>
                        </a:lnTo>
                        <a:lnTo>
                          <a:pt x="526" y="1183"/>
                        </a:lnTo>
                        <a:lnTo>
                          <a:pt x="498" y="1151"/>
                        </a:lnTo>
                        <a:lnTo>
                          <a:pt x="484" y="1136"/>
                        </a:lnTo>
                        <a:lnTo>
                          <a:pt x="457" y="1104"/>
                        </a:lnTo>
                        <a:lnTo>
                          <a:pt x="443" y="1073"/>
                        </a:lnTo>
                        <a:lnTo>
                          <a:pt x="429" y="1057"/>
                        </a:lnTo>
                        <a:lnTo>
                          <a:pt x="401" y="1025"/>
                        </a:lnTo>
                        <a:lnTo>
                          <a:pt x="387" y="994"/>
                        </a:lnTo>
                        <a:lnTo>
                          <a:pt x="374" y="962"/>
                        </a:lnTo>
                        <a:lnTo>
                          <a:pt x="346" y="931"/>
                        </a:lnTo>
                        <a:lnTo>
                          <a:pt x="332" y="915"/>
                        </a:lnTo>
                        <a:lnTo>
                          <a:pt x="318" y="883"/>
                        </a:lnTo>
                        <a:lnTo>
                          <a:pt x="304" y="853"/>
                        </a:lnTo>
                        <a:lnTo>
                          <a:pt x="291" y="821"/>
                        </a:lnTo>
                        <a:lnTo>
                          <a:pt x="277" y="789"/>
                        </a:lnTo>
                        <a:lnTo>
                          <a:pt x="249" y="757"/>
                        </a:lnTo>
                        <a:lnTo>
                          <a:pt x="235" y="725"/>
                        </a:lnTo>
                        <a:lnTo>
                          <a:pt x="221" y="695"/>
                        </a:lnTo>
                        <a:lnTo>
                          <a:pt x="208" y="663"/>
                        </a:lnTo>
                        <a:lnTo>
                          <a:pt x="194" y="631"/>
                        </a:lnTo>
                        <a:lnTo>
                          <a:pt x="180" y="599"/>
                        </a:lnTo>
                        <a:lnTo>
                          <a:pt x="166" y="567"/>
                        </a:lnTo>
                        <a:lnTo>
                          <a:pt x="166" y="537"/>
                        </a:lnTo>
                        <a:lnTo>
                          <a:pt x="152" y="505"/>
                        </a:lnTo>
                        <a:lnTo>
                          <a:pt x="138" y="473"/>
                        </a:lnTo>
                        <a:lnTo>
                          <a:pt x="125" y="442"/>
                        </a:lnTo>
                        <a:lnTo>
                          <a:pt x="111" y="410"/>
                        </a:lnTo>
                        <a:lnTo>
                          <a:pt x="97" y="379"/>
                        </a:lnTo>
                        <a:lnTo>
                          <a:pt x="97" y="347"/>
                        </a:lnTo>
                        <a:lnTo>
                          <a:pt x="83" y="316"/>
                        </a:lnTo>
                        <a:lnTo>
                          <a:pt x="69" y="284"/>
                        </a:lnTo>
                        <a:lnTo>
                          <a:pt x="69" y="252"/>
                        </a:lnTo>
                        <a:lnTo>
                          <a:pt x="55" y="222"/>
                        </a:lnTo>
                        <a:lnTo>
                          <a:pt x="42" y="190"/>
                        </a:lnTo>
                        <a:lnTo>
                          <a:pt x="42" y="158"/>
                        </a:lnTo>
                        <a:lnTo>
                          <a:pt x="28" y="126"/>
                        </a:lnTo>
                        <a:lnTo>
                          <a:pt x="28" y="94"/>
                        </a:lnTo>
                        <a:lnTo>
                          <a:pt x="14"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6019920" y="2793960"/>
                  <a:ext cx="21960" cy="542880"/>
                  <a:chOff x="6019920" y="2793960"/>
                  <a:chExt cx="21960" cy="542880"/>
                </a:xfrm>
              </p:grpSpPr>
              <p:sp>
                <p:nvSpPr>
                  <p:cNvPr id="1064" name=""/>
                  <p:cNvSpPr/>
                  <p:nvPr/>
                </p:nvSpPr>
                <p:spPr>
                  <a:xfrm>
                    <a:off x="6019920" y="2793960"/>
                    <a:ext cx="21960" cy="542880"/>
                  </a:xfrm>
                  <a:custGeom>
                    <a:avLst/>
                    <a:gdLst/>
                    <a:ahLst/>
                    <a:rect l="l" t="t" r="r" b="b"/>
                    <a:pathLst>
                      <a:path w="41" h="1025">
                        <a:moveTo>
                          <a:pt x="41" y="1025"/>
                        </a:moveTo>
                        <a:lnTo>
                          <a:pt x="41" y="993"/>
                        </a:lnTo>
                        <a:lnTo>
                          <a:pt x="27" y="962"/>
                        </a:lnTo>
                        <a:lnTo>
                          <a:pt x="27" y="914"/>
                        </a:lnTo>
                        <a:lnTo>
                          <a:pt x="27" y="883"/>
                        </a:lnTo>
                        <a:lnTo>
                          <a:pt x="13" y="852"/>
                        </a:lnTo>
                        <a:lnTo>
                          <a:pt x="13" y="820"/>
                        </a:lnTo>
                        <a:lnTo>
                          <a:pt x="13" y="773"/>
                        </a:lnTo>
                        <a:lnTo>
                          <a:pt x="13" y="742"/>
                        </a:lnTo>
                        <a:lnTo>
                          <a:pt x="0" y="710"/>
                        </a:lnTo>
                        <a:lnTo>
                          <a:pt x="0" y="678"/>
                        </a:lnTo>
                        <a:lnTo>
                          <a:pt x="0" y="631"/>
                        </a:lnTo>
                        <a:lnTo>
                          <a:pt x="0" y="599"/>
                        </a:lnTo>
                        <a:lnTo>
                          <a:pt x="0" y="567"/>
                        </a:lnTo>
                        <a:lnTo>
                          <a:pt x="0" y="537"/>
                        </a:lnTo>
                        <a:lnTo>
                          <a:pt x="0" y="488"/>
                        </a:lnTo>
                        <a:lnTo>
                          <a:pt x="0" y="458"/>
                        </a:lnTo>
                        <a:lnTo>
                          <a:pt x="0" y="426"/>
                        </a:lnTo>
                        <a:lnTo>
                          <a:pt x="0" y="394"/>
                        </a:lnTo>
                        <a:lnTo>
                          <a:pt x="0" y="347"/>
                        </a:lnTo>
                        <a:lnTo>
                          <a:pt x="0" y="315"/>
                        </a:lnTo>
                        <a:lnTo>
                          <a:pt x="0" y="284"/>
                        </a:lnTo>
                        <a:lnTo>
                          <a:pt x="0" y="236"/>
                        </a:lnTo>
                        <a:lnTo>
                          <a:pt x="0" y="205"/>
                        </a:lnTo>
                        <a:lnTo>
                          <a:pt x="0" y="173"/>
                        </a:lnTo>
                        <a:lnTo>
                          <a:pt x="0" y="141"/>
                        </a:lnTo>
                        <a:lnTo>
                          <a:pt x="0" y="94"/>
                        </a:lnTo>
                        <a:lnTo>
                          <a:pt x="0" y="62"/>
                        </a:lnTo>
                        <a:lnTo>
                          <a:pt x="0" y="32"/>
                        </a:lnTo>
                        <a:lnTo>
                          <a:pt x="0" y="0"/>
                        </a:lnTo>
                        <a:lnTo>
                          <a:pt x="41" y="102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019920" y="2793960"/>
                    <a:ext cx="21960" cy="542880"/>
                  </a:xfrm>
                  <a:custGeom>
                    <a:avLst/>
                    <a:gdLst/>
                    <a:ahLst/>
                    <a:rect l="l" t="t" r="r" b="b"/>
                    <a:pathLst>
                      <a:path w="41" h="1025">
                        <a:moveTo>
                          <a:pt x="41" y="1025"/>
                        </a:moveTo>
                        <a:lnTo>
                          <a:pt x="41" y="993"/>
                        </a:lnTo>
                        <a:lnTo>
                          <a:pt x="27" y="962"/>
                        </a:lnTo>
                        <a:lnTo>
                          <a:pt x="27" y="914"/>
                        </a:lnTo>
                        <a:lnTo>
                          <a:pt x="27" y="883"/>
                        </a:lnTo>
                        <a:lnTo>
                          <a:pt x="13" y="852"/>
                        </a:lnTo>
                        <a:lnTo>
                          <a:pt x="13" y="820"/>
                        </a:lnTo>
                        <a:lnTo>
                          <a:pt x="13" y="773"/>
                        </a:lnTo>
                        <a:lnTo>
                          <a:pt x="13" y="742"/>
                        </a:lnTo>
                        <a:lnTo>
                          <a:pt x="0" y="710"/>
                        </a:lnTo>
                        <a:lnTo>
                          <a:pt x="0" y="678"/>
                        </a:lnTo>
                        <a:lnTo>
                          <a:pt x="0" y="631"/>
                        </a:lnTo>
                        <a:lnTo>
                          <a:pt x="0" y="599"/>
                        </a:lnTo>
                        <a:lnTo>
                          <a:pt x="0" y="567"/>
                        </a:lnTo>
                        <a:lnTo>
                          <a:pt x="0" y="537"/>
                        </a:lnTo>
                        <a:lnTo>
                          <a:pt x="0" y="488"/>
                        </a:lnTo>
                        <a:lnTo>
                          <a:pt x="0" y="458"/>
                        </a:lnTo>
                        <a:lnTo>
                          <a:pt x="0" y="426"/>
                        </a:lnTo>
                        <a:lnTo>
                          <a:pt x="0" y="394"/>
                        </a:lnTo>
                        <a:lnTo>
                          <a:pt x="0" y="347"/>
                        </a:lnTo>
                        <a:lnTo>
                          <a:pt x="0" y="315"/>
                        </a:lnTo>
                        <a:lnTo>
                          <a:pt x="0" y="284"/>
                        </a:lnTo>
                        <a:lnTo>
                          <a:pt x="0" y="236"/>
                        </a:lnTo>
                        <a:lnTo>
                          <a:pt x="0" y="205"/>
                        </a:lnTo>
                        <a:lnTo>
                          <a:pt x="0" y="173"/>
                        </a:lnTo>
                        <a:lnTo>
                          <a:pt x="0" y="141"/>
                        </a:lnTo>
                        <a:lnTo>
                          <a:pt x="0" y="94"/>
                        </a:lnTo>
                        <a:lnTo>
                          <a:pt x="0" y="62"/>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6019920" y="2468520"/>
                  <a:ext cx="44280" cy="325440"/>
                  <a:chOff x="6019920" y="2468520"/>
                  <a:chExt cx="44280" cy="325440"/>
                </a:xfrm>
              </p:grpSpPr>
              <p:sp>
                <p:nvSpPr>
                  <p:cNvPr id="1067" name=""/>
                  <p:cNvSpPr/>
                  <p:nvPr/>
                </p:nvSpPr>
                <p:spPr>
                  <a:xfrm>
                    <a:off x="6019920" y="2468520"/>
                    <a:ext cx="44280" cy="325440"/>
                  </a:xfrm>
                  <a:custGeom>
                    <a:avLst/>
                    <a:gdLst/>
                    <a:ahLst/>
                    <a:rect l="l" t="t" r="r" b="b"/>
                    <a:pathLst>
                      <a:path w="83" h="616">
                        <a:moveTo>
                          <a:pt x="0" y="616"/>
                        </a:moveTo>
                        <a:lnTo>
                          <a:pt x="0" y="569"/>
                        </a:lnTo>
                        <a:lnTo>
                          <a:pt x="0" y="537"/>
                        </a:lnTo>
                        <a:lnTo>
                          <a:pt x="0" y="505"/>
                        </a:lnTo>
                        <a:lnTo>
                          <a:pt x="0" y="458"/>
                        </a:lnTo>
                        <a:lnTo>
                          <a:pt x="13" y="426"/>
                        </a:lnTo>
                        <a:lnTo>
                          <a:pt x="13" y="394"/>
                        </a:lnTo>
                        <a:lnTo>
                          <a:pt x="13" y="347"/>
                        </a:lnTo>
                        <a:lnTo>
                          <a:pt x="27" y="316"/>
                        </a:lnTo>
                        <a:lnTo>
                          <a:pt x="27" y="284"/>
                        </a:lnTo>
                        <a:lnTo>
                          <a:pt x="27" y="237"/>
                        </a:lnTo>
                        <a:lnTo>
                          <a:pt x="41" y="205"/>
                        </a:lnTo>
                        <a:lnTo>
                          <a:pt x="41" y="174"/>
                        </a:lnTo>
                        <a:lnTo>
                          <a:pt x="55" y="143"/>
                        </a:lnTo>
                        <a:lnTo>
                          <a:pt x="69" y="96"/>
                        </a:lnTo>
                        <a:lnTo>
                          <a:pt x="69" y="64"/>
                        </a:lnTo>
                        <a:lnTo>
                          <a:pt x="83" y="32"/>
                        </a:lnTo>
                        <a:lnTo>
                          <a:pt x="83" y="0"/>
                        </a:lnTo>
                        <a:lnTo>
                          <a:pt x="0" y="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019920" y="2468520"/>
                    <a:ext cx="44280" cy="325440"/>
                  </a:xfrm>
                  <a:custGeom>
                    <a:avLst/>
                    <a:gdLst/>
                    <a:ahLst/>
                    <a:rect l="l" t="t" r="r" b="b"/>
                    <a:pathLst>
                      <a:path w="83" h="616">
                        <a:moveTo>
                          <a:pt x="0" y="616"/>
                        </a:moveTo>
                        <a:lnTo>
                          <a:pt x="0" y="569"/>
                        </a:lnTo>
                        <a:lnTo>
                          <a:pt x="0" y="537"/>
                        </a:lnTo>
                        <a:lnTo>
                          <a:pt x="0" y="505"/>
                        </a:lnTo>
                        <a:lnTo>
                          <a:pt x="0" y="458"/>
                        </a:lnTo>
                        <a:lnTo>
                          <a:pt x="13" y="426"/>
                        </a:lnTo>
                        <a:lnTo>
                          <a:pt x="13" y="394"/>
                        </a:lnTo>
                        <a:lnTo>
                          <a:pt x="13" y="347"/>
                        </a:lnTo>
                        <a:lnTo>
                          <a:pt x="27" y="316"/>
                        </a:lnTo>
                        <a:lnTo>
                          <a:pt x="27" y="284"/>
                        </a:lnTo>
                        <a:lnTo>
                          <a:pt x="27" y="237"/>
                        </a:lnTo>
                        <a:lnTo>
                          <a:pt x="41" y="205"/>
                        </a:lnTo>
                        <a:lnTo>
                          <a:pt x="41" y="174"/>
                        </a:lnTo>
                        <a:lnTo>
                          <a:pt x="55" y="143"/>
                        </a:lnTo>
                        <a:lnTo>
                          <a:pt x="69" y="96"/>
                        </a:lnTo>
                        <a:lnTo>
                          <a:pt x="69" y="64"/>
                        </a:lnTo>
                        <a:lnTo>
                          <a:pt x="83" y="32"/>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9" name=""/>
                <p:cNvGrpSpPr/>
                <p:nvPr/>
              </p:nvGrpSpPr>
              <p:grpSpPr>
                <a:xfrm>
                  <a:off x="6064200" y="1959120"/>
                  <a:ext cx="233280" cy="509400"/>
                  <a:chOff x="6064200" y="1959120"/>
                  <a:chExt cx="233280" cy="509400"/>
                </a:xfrm>
              </p:grpSpPr>
              <p:sp>
                <p:nvSpPr>
                  <p:cNvPr id="1070" name=""/>
                  <p:cNvSpPr/>
                  <p:nvPr/>
                </p:nvSpPr>
                <p:spPr>
                  <a:xfrm>
                    <a:off x="6064200" y="1959120"/>
                    <a:ext cx="233280" cy="509400"/>
                  </a:xfrm>
                  <a:custGeom>
                    <a:avLst/>
                    <a:gdLst/>
                    <a:ahLst/>
                    <a:rect l="l" t="t" r="r" b="b"/>
                    <a:pathLst>
                      <a:path w="442" h="962">
                        <a:moveTo>
                          <a:pt x="0" y="962"/>
                        </a:moveTo>
                        <a:lnTo>
                          <a:pt x="13" y="915"/>
                        </a:lnTo>
                        <a:lnTo>
                          <a:pt x="27" y="883"/>
                        </a:lnTo>
                        <a:lnTo>
                          <a:pt x="27" y="836"/>
                        </a:lnTo>
                        <a:lnTo>
                          <a:pt x="41" y="804"/>
                        </a:lnTo>
                        <a:lnTo>
                          <a:pt x="55" y="773"/>
                        </a:lnTo>
                        <a:lnTo>
                          <a:pt x="55" y="742"/>
                        </a:lnTo>
                        <a:lnTo>
                          <a:pt x="69" y="710"/>
                        </a:lnTo>
                        <a:lnTo>
                          <a:pt x="83" y="663"/>
                        </a:lnTo>
                        <a:lnTo>
                          <a:pt x="96" y="631"/>
                        </a:lnTo>
                        <a:lnTo>
                          <a:pt x="110" y="600"/>
                        </a:lnTo>
                        <a:lnTo>
                          <a:pt x="124" y="568"/>
                        </a:lnTo>
                        <a:lnTo>
                          <a:pt x="138" y="536"/>
                        </a:lnTo>
                        <a:lnTo>
                          <a:pt x="152" y="505"/>
                        </a:lnTo>
                        <a:lnTo>
                          <a:pt x="166" y="474"/>
                        </a:lnTo>
                        <a:lnTo>
                          <a:pt x="179" y="442"/>
                        </a:lnTo>
                        <a:lnTo>
                          <a:pt x="193" y="410"/>
                        </a:lnTo>
                        <a:lnTo>
                          <a:pt x="207" y="378"/>
                        </a:lnTo>
                        <a:lnTo>
                          <a:pt x="221" y="348"/>
                        </a:lnTo>
                        <a:lnTo>
                          <a:pt x="249" y="316"/>
                        </a:lnTo>
                        <a:lnTo>
                          <a:pt x="262" y="284"/>
                        </a:lnTo>
                        <a:lnTo>
                          <a:pt x="276" y="252"/>
                        </a:lnTo>
                        <a:lnTo>
                          <a:pt x="290" y="220"/>
                        </a:lnTo>
                        <a:lnTo>
                          <a:pt x="318" y="205"/>
                        </a:lnTo>
                        <a:lnTo>
                          <a:pt x="332" y="173"/>
                        </a:lnTo>
                        <a:lnTo>
                          <a:pt x="345" y="142"/>
                        </a:lnTo>
                        <a:lnTo>
                          <a:pt x="373" y="111"/>
                        </a:lnTo>
                        <a:lnTo>
                          <a:pt x="387" y="79"/>
                        </a:lnTo>
                        <a:lnTo>
                          <a:pt x="401" y="48"/>
                        </a:lnTo>
                        <a:lnTo>
                          <a:pt x="428" y="32"/>
                        </a:lnTo>
                        <a:lnTo>
                          <a:pt x="442" y="0"/>
                        </a:lnTo>
                        <a:lnTo>
                          <a:pt x="0" y="9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064200" y="1959120"/>
                    <a:ext cx="233280" cy="509400"/>
                  </a:xfrm>
                  <a:custGeom>
                    <a:avLst/>
                    <a:gdLst/>
                    <a:ahLst/>
                    <a:rect l="l" t="t" r="r" b="b"/>
                    <a:pathLst>
                      <a:path w="442" h="962">
                        <a:moveTo>
                          <a:pt x="0" y="962"/>
                        </a:moveTo>
                        <a:lnTo>
                          <a:pt x="13" y="915"/>
                        </a:lnTo>
                        <a:lnTo>
                          <a:pt x="27" y="883"/>
                        </a:lnTo>
                        <a:lnTo>
                          <a:pt x="27" y="836"/>
                        </a:lnTo>
                        <a:lnTo>
                          <a:pt x="41" y="804"/>
                        </a:lnTo>
                        <a:lnTo>
                          <a:pt x="55" y="773"/>
                        </a:lnTo>
                        <a:lnTo>
                          <a:pt x="55" y="742"/>
                        </a:lnTo>
                        <a:lnTo>
                          <a:pt x="69" y="710"/>
                        </a:lnTo>
                        <a:lnTo>
                          <a:pt x="83" y="663"/>
                        </a:lnTo>
                        <a:lnTo>
                          <a:pt x="96" y="631"/>
                        </a:lnTo>
                        <a:lnTo>
                          <a:pt x="110" y="600"/>
                        </a:lnTo>
                        <a:lnTo>
                          <a:pt x="124" y="568"/>
                        </a:lnTo>
                        <a:lnTo>
                          <a:pt x="138" y="536"/>
                        </a:lnTo>
                        <a:lnTo>
                          <a:pt x="152" y="505"/>
                        </a:lnTo>
                        <a:lnTo>
                          <a:pt x="166" y="474"/>
                        </a:lnTo>
                        <a:lnTo>
                          <a:pt x="179" y="442"/>
                        </a:lnTo>
                        <a:lnTo>
                          <a:pt x="193" y="410"/>
                        </a:lnTo>
                        <a:lnTo>
                          <a:pt x="207" y="378"/>
                        </a:lnTo>
                        <a:lnTo>
                          <a:pt x="221" y="348"/>
                        </a:lnTo>
                        <a:lnTo>
                          <a:pt x="249" y="316"/>
                        </a:lnTo>
                        <a:lnTo>
                          <a:pt x="262" y="284"/>
                        </a:lnTo>
                        <a:lnTo>
                          <a:pt x="276" y="252"/>
                        </a:lnTo>
                        <a:lnTo>
                          <a:pt x="290" y="220"/>
                        </a:lnTo>
                        <a:lnTo>
                          <a:pt x="318" y="205"/>
                        </a:lnTo>
                        <a:lnTo>
                          <a:pt x="332" y="173"/>
                        </a:lnTo>
                        <a:lnTo>
                          <a:pt x="345" y="142"/>
                        </a:lnTo>
                        <a:lnTo>
                          <a:pt x="373" y="111"/>
                        </a:lnTo>
                        <a:lnTo>
                          <a:pt x="387" y="79"/>
                        </a:lnTo>
                        <a:lnTo>
                          <a:pt x="401" y="48"/>
                        </a:lnTo>
                        <a:lnTo>
                          <a:pt x="428" y="32"/>
                        </a:lnTo>
                        <a:lnTo>
                          <a:pt x="4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2" name=""/>
                <p:cNvGrpSpPr/>
                <p:nvPr/>
              </p:nvGrpSpPr>
              <p:grpSpPr>
                <a:xfrm>
                  <a:off x="6297480" y="1833480"/>
                  <a:ext cx="111240" cy="125640"/>
                  <a:chOff x="6297480" y="1833480"/>
                  <a:chExt cx="111240" cy="125640"/>
                </a:xfrm>
              </p:grpSpPr>
              <p:sp>
                <p:nvSpPr>
                  <p:cNvPr id="1073" name=""/>
                  <p:cNvSpPr/>
                  <p:nvPr/>
                </p:nvSpPr>
                <p:spPr>
                  <a:xfrm>
                    <a:off x="6297480" y="1833480"/>
                    <a:ext cx="111240" cy="125640"/>
                  </a:xfrm>
                  <a:custGeom>
                    <a:avLst/>
                    <a:gdLst/>
                    <a:ahLst/>
                    <a:rect l="l" t="t" r="r" b="b"/>
                    <a:pathLst>
                      <a:path w="209" h="236">
                        <a:moveTo>
                          <a:pt x="0" y="236"/>
                        </a:moveTo>
                        <a:lnTo>
                          <a:pt x="28" y="205"/>
                        </a:lnTo>
                        <a:lnTo>
                          <a:pt x="56" y="173"/>
                        </a:lnTo>
                        <a:lnTo>
                          <a:pt x="69" y="141"/>
                        </a:lnTo>
                        <a:lnTo>
                          <a:pt x="97" y="111"/>
                        </a:lnTo>
                        <a:lnTo>
                          <a:pt x="125" y="79"/>
                        </a:lnTo>
                        <a:lnTo>
                          <a:pt x="152" y="47"/>
                        </a:lnTo>
                        <a:lnTo>
                          <a:pt x="180" y="32"/>
                        </a:lnTo>
                        <a:lnTo>
                          <a:pt x="209" y="0"/>
                        </a:lnTo>
                        <a:lnTo>
                          <a:pt x="0" y="2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97480" y="1833480"/>
                    <a:ext cx="111240" cy="125640"/>
                  </a:xfrm>
                  <a:custGeom>
                    <a:avLst/>
                    <a:gdLst/>
                    <a:ahLst/>
                    <a:rect l="l" t="t" r="r" b="b"/>
                    <a:pathLst>
                      <a:path w="209" h="236">
                        <a:moveTo>
                          <a:pt x="0" y="236"/>
                        </a:moveTo>
                        <a:lnTo>
                          <a:pt x="28" y="205"/>
                        </a:lnTo>
                        <a:lnTo>
                          <a:pt x="56" y="173"/>
                        </a:lnTo>
                        <a:lnTo>
                          <a:pt x="69" y="141"/>
                        </a:lnTo>
                        <a:lnTo>
                          <a:pt x="97" y="111"/>
                        </a:lnTo>
                        <a:lnTo>
                          <a:pt x="125" y="79"/>
                        </a:lnTo>
                        <a:lnTo>
                          <a:pt x="152" y="47"/>
                        </a:lnTo>
                        <a:lnTo>
                          <a:pt x="180" y="32"/>
                        </a:lnTo>
                        <a:lnTo>
                          <a:pt x="20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6408720" y="1792440"/>
                  <a:ext cx="58680" cy="41040"/>
                  <a:chOff x="6408720" y="1792440"/>
                  <a:chExt cx="58680" cy="41040"/>
                </a:xfrm>
              </p:grpSpPr>
              <p:sp>
                <p:nvSpPr>
                  <p:cNvPr id="1076" name=""/>
                  <p:cNvSpPr/>
                  <p:nvPr/>
                </p:nvSpPr>
                <p:spPr>
                  <a:xfrm>
                    <a:off x="6408720" y="1792440"/>
                    <a:ext cx="58680" cy="41040"/>
                  </a:xfrm>
                  <a:custGeom>
                    <a:avLst/>
                    <a:gdLst/>
                    <a:ahLst/>
                    <a:rect l="l" t="t" r="r" b="b"/>
                    <a:pathLst>
                      <a:path w="111" h="79">
                        <a:moveTo>
                          <a:pt x="0" y="79"/>
                        </a:moveTo>
                        <a:lnTo>
                          <a:pt x="42" y="47"/>
                        </a:lnTo>
                        <a:lnTo>
                          <a:pt x="69" y="32"/>
                        </a:lnTo>
                        <a:lnTo>
                          <a:pt x="111" y="0"/>
                        </a:lnTo>
                        <a:lnTo>
                          <a:pt x="0"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7" name=""/>
                  <p:cNvSpPr/>
                  <p:nvPr/>
                </p:nvSpPr>
                <p:spPr>
                  <a:xfrm>
                    <a:off x="6408720" y="1792440"/>
                    <a:ext cx="58680" cy="41040"/>
                  </a:xfrm>
                  <a:custGeom>
                    <a:avLst/>
                    <a:gdLst/>
                    <a:ahLst/>
                    <a:rect l="l" t="t" r="r" b="b"/>
                    <a:pathLst>
                      <a:path w="111" h="79">
                        <a:moveTo>
                          <a:pt x="0" y="79"/>
                        </a:moveTo>
                        <a:lnTo>
                          <a:pt x="42" y="47"/>
                        </a:lnTo>
                        <a:lnTo>
                          <a:pt x="69" y="32"/>
                        </a:lnTo>
                        <a:lnTo>
                          <a:pt x="111"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078" name=""/>
                <p:cNvGrpSpPr/>
                <p:nvPr/>
              </p:nvGrpSpPr>
              <p:grpSpPr>
                <a:xfrm>
                  <a:off x="6467400" y="1774800"/>
                  <a:ext cx="14400" cy="17640"/>
                  <a:chOff x="6467400" y="1774800"/>
                  <a:chExt cx="14400" cy="17640"/>
                </a:xfrm>
              </p:grpSpPr>
              <p:sp>
                <p:nvSpPr>
                  <p:cNvPr id="1079" name=""/>
                  <p:cNvSpPr/>
                  <p:nvPr/>
                </p:nvSpPr>
                <p:spPr>
                  <a:xfrm>
                    <a:off x="6467400" y="1774800"/>
                    <a:ext cx="14400" cy="17640"/>
                  </a:xfrm>
                  <a:custGeom>
                    <a:avLst/>
                    <a:gdLst/>
                    <a:ahLst/>
                    <a:rect l="l" t="t" r="r" b="b"/>
                    <a:pathLst>
                      <a:path w="27" h="32">
                        <a:moveTo>
                          <a:pt x="0" y="32"/>
                        </a:moveTo>
                        <a:lnTo>
                          <a:pt x="14" y="15"/>
                        </a:lnTo>
                        <a:lnTo>
                          <a:pt x="27" y="15"/>
                        </a:lnTo>
                        <a:lnTo>
                          <a:pt x="27"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0" name=""/>
                  <p:cNvSpPr/>
                  <p:nvPr/>
                </p:nvSpPr>
                <p:spPr>
                  <a:xfrm>
                    <a:off x="6467400" y="1774800"/>
                    <a:ext cx="14400" cy="17640"/>
                  </a:xfrm>
                  <a:custGeom>
                    <a:avLst/>
                    <a:gdLst/>
                    <a:ahLst/>
                    <a:rect l="l" t="t" r="r" b="b"/>
                    <a:pathLst>
                      <a:path w="27" h="32">
                        <a:moveTo>
                          <a:pt x="0" y="32"/>
                        </a:moveTo>
                        <a:lnTo>
                          <a:pt x="14" y="15"/>
                        </a:lnTo>
                        <a:lnTo>
                          <a:pt x="27" y="15"/>
                        </a:lnTo>
                        <a:lnTo>
                          <a:pt x="2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81" name=""/>
                <p:cNvGrpSpPr/>
                <p:nvPr/>
              </p:nvGrpSpPr>
              <p:grpSpPr>
                <a:xfrm>
                  <a:off x="6467400" y="4003560"/>
                  <a:ext cx="109440" cy="109800"/>
                  <a:chOff x="6467400" y="4003560"/>
                  <a:chExt cx="109440" cy="109800"/>
                </a:xfrm>
              </p:grpSpPr>
              <p:sp>
                <p:nvSpPr>
                  <p:cNvPr id="1082" name=""/>
                  <p:cNvSpPr/>
                  <p:nvPr/>
                </p:nvSpPr>
                <p:spPr>
                  <a:xfrm>
                    <a:off x="6467400" y="4003560"/>
                    <a:ext cx="109440" cy="109800"/>
                  </a:xfrm>
                  <a:custGeom>
                    <a:avLst/>
                    <a:gdLst/>
                    <a:ahLst/>
                    <a:rect l="l" t="t" r="r" b="b"/>
                    <a:pathLst>
                      <a:path w="207" h="205">
                        <a:moveTo>
                          <a:pt x="207" y="205"/>
                        </a:moveTo>
                        <a:lnTo>
                          <a:pt x="180" y="190"/>
                        </a:lnTo>
                        <a:lnTo>
                          <a:pt x="152" y="158"/>
                        </a:lnTo>
                        <a:lnTo>
                          <a:pt x="124" y="143"/>
                        </a:lnTo>
                        <a:lnTo>
                          <a:pt x="97" y="111"/>
                        </a:lnTo>
                        <a:lnTo>
                          <a:pt x="69" y="79"/>
                        </a:lnTo>
                        <a:lnTo>
                          <a:pt x="41" y="64"/>
                        </a:lnTo>
                        <a:lnTo>
                          <a:pt x="14" y="32"/>
                        </a:lnTo>
                        <a:lnTo>
                          <a:pt x="0" y="0"/>
                        </a:lnTo>
                        <a:lnTo>
                          <a:pt x="207" y="2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67400" y="4003560"/>
                    <a:ext cx="109440" cy="109800"/>
                  </a:xfrm>
                  <a:custGeom>
                    <a:avLst/>
                    <a:gdLst/>
                    <a:ahLst/>
                    <a:rect l="l" t="t" r="r" b="b"/>
                    <a:pathLst>
                      <a:path w="207" h="205">
                        <a:moveTo>
                          <a:pt x="207" y="205"/>
                        </a:moveTo>
                        <a:lnTo>
                          <a:pt x="180" y="190"/>
                        </a:lnTo>
                        <a:lnTo>
                          <a:pt x="152" y="158"/>
                        </a:lnTo>
                        <a:lnTo>
                          <a:pt x="124" y="143"/>
                        </a:lnTo>
                        <a:lnTo>
                          <a:pt x="97" y="111"/>
                        </a:lnTo>
                        <a:lnTo>
                          <a:pt x="69" y="79"/>
                        </a:lnTo>
                        <a:lnTo>
                          <a:pt x="41"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4" name=""/>
                <p:cNvGrpSpPr/>
                <p:nvPr/>
              </p:nvGrpSpPr>
              <p:grpSpPr>
                <a:xfrm>
                  <a:off x="6232680" y="3462480"/>
                  <a:ext cx="234720" cy="541080"/>
                  <a:chOff x="6232680" y="3462480"/>
                  <a:chExt cx="234720" cy="541080"/>
                </a:xfrm>
              </p:grpSpPr>
              <p:sp>
                <p:nvSpPr>
                  <p:cNvPr id="1085" name=""/>
                  <p:cNvSpPr/>
                  <p:nvPr/>
                </p:nvSpPr>
                <p:spPr>
                  <a:xfrm>
                    <a:off x="6232680" y="3462480"/>
                    <a:ext cx="234720" cy="541080"/>
                  </a:xfrm>
                  <a:custGeom>
                    <a:avLst/>
                    <a:gdLst/>
                    <a:ahLst/>
                    <a:rect l="l" t="t" r="r" b="b"/>
                    <a:pathLst>
                      <a:path w="444" h="1025">
                        <a:moveTo>
                          <a:pt x="444" y="1025"/>
                        </a:moveTo>
                        <a:lnTo>
                          <a:pt x="416" y="993"/>
                        </a:lnTo>
                        <a:lnTo>
                          <a:pt x="402" y="978"/>
                        </a:lnTo>
                        <a:lnTo>
                          <a:pt x="388" y="946"/>
                        </a:lnTo>
                        <a:lnTo>
                          <a:pt x="361" y="914"/>
                        </a:lnTo>
                        <a:lnTo>
                          <a:pt x="347" y="899"/>
                        </a:lnTo>
                        <a:lnTo>
                          <a:pt x="333" y="867"/>
                        </a:lnTo>
                        <a:lnTo>
                          <a:pt x="319" y="836"/>
                        </a:lnTo>
                        <a:lnTo>
                          <a:pt x="290" y="804"/>
                        </a:lnTo>
                        <a:lnTo>
                          <a:pt x="276" y="773"/>
                        </a:lnTo>
                        <a:lnTo>
                          <a:pt x="263" y="741"/>
                        </a:lnTo>
                        <a:lnTo>
                          <a:pt x="249" y="710"/>
                        </a:lnTo>
                        <a:lnTo>
                          <a:pt x="235" y="678"/>
                        </a:lnTo>
                        <a:lnTo>
                          <a:pt x="221" y="646"/>
                        </a:lnTo>
                        <a:lnTo>
                          <a:pt x="207" y="616"/>
                        </a:lnTo>
                        <a:lnTo>
                          <a:pt x="193" y="584"/>
                        </a:lnTo>
                        <a:lnTo>
                          <a:pt x="180" y="552"/>
                        </a:lnTo>
                        <a:lnTo>
                          <a:pt x="166" y="520"/>
                        </a:lnTo>
                        <a:lnTo>
                          <a:pt x="152" y="488"/>
                        </a:lnTo>
                        <a:lnTo>
                          <a:pt x="138" y="458"/>
                        </a:lnTo>
                        <a:lnTo>
                          <a:pt x="124" y="426"/>
                        </a:lnTo>
                        <a:lnTo>
                          <a:pt x="110" y="394"/>
                        </a:lnTo>
                        <a:lnTo>
                          <a:pt x="97" y="347"/>
                        </a:lnTo>
                        <a:lnTo>
                          <a:pt x="83" y="315"/>
                        </a:lnTo>
                        <a:lnTo>
                          <a:pt x="69" y="283"/>
                        </a:lnTo>
                        <a:lnTo>
                          <a:pt x="69" y="252"/>
                        </a:lnTo>
                        <a:lnTo>
                          <a:pt x="55" y="221"/>
                        </a:lnTo>
                        <a:lnTo>
                          <a:pt x="41" y="189"/>
                        </a:lnTo>
                        <a:lnTo>
                          <a:pt x="27" y="158"/>
                        </a:lnTo>
                        <a:lnTo>
                          <a:pt x="27" y="126"/>
                        </a:lnTo>
                        <a:lnTo>
                          <a:pt x="14" y="94"/>
                        </a:lnTo>
                        <a:lnTo>
                          <a:pt x="14" y="63"/>
                        </a:lnTo>
                        <a:lnTo>
                          <a:pt x="0" y="32"/>
                        </a:lnTo>
                        <a:lnTo>
                          <a:pt x="0" y="0"/>
                        </a:lnTo>
                        <a:lnTo>
                          <a:pt x="444" y="102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232680" y="3462480"/>
                    <a:ext cx="234720" cy="541080"/>
                  </a:xfrm>
                  <a:custGeom>
                    <a:avLst/>
                    <a:gdLst/>
                    <a:ahLst/>
                    <a:rect l="l" t="t" r="r" b="b"/>
                    <a:pathLst>
                      <a:path w="444" h="1025">
                        <a:moveTo>
                          <a:pt x="444" y="1025"/>
                        </a:moveTo>
                        <a:lnTo>
                          <a:pt x="416" y="993"/>
                        </a:lnTo>
                        <a:lnTo>
                          <a:pt x="402" y="978"/>
                        </a:lnTo>
                        <a:lnTo>
                          <a:pt x="388" y="946"/>
                        </a:lnTo>
                        <a:lnTo>
                          <a:pt x="361" y="914"/>
                        </a:lnTo>
                        <a:lnTo>
                          <a:pt x="347" y="899"/>
                        </a:lnTo>
                        <a:lnTo>
                          <a:pt x="333" y="867"/>
                        </a:lnTo>
                        <a:lnTo>
                          <a:pt x="319" y="836"/>
                        </a:lnTo>
                        <a:lnTo>
                          <a:pt x="290" y="804"/>
                        </a:lnTo>
                        <a:lnTo>
                          <a:pt x="276" y="773"/>
                        </a:lnTo>
                        <a:lnTo>
                          <a:pt x="263" y="741"/>
                        </a:lnTo>
                        <a:lnTo>
                          <a:pt x="249" y="710"/>
                        </a:lnTo>
                        <a:lnTo>
                          <a:pt x="235" y="678"/>
                        </a:lnTo>
                        <a:lnTo>
                          <a:pt x="221" y="646"/>
                        </a:lnTo>
                        <a:lnTo>
                          <a:pt x="207" y="616"/>
                        </a:lnTo>
                        <a:lnTo>
                          <a:pt x="193" y="584"/>
                        </a:lnTo>
                        <a:lnTo>
                          <a:pt x="180" y="552"/>
                        </a:lnTo>
                        <a:lnTo>
                          <a:pt x="166" y="520"/>
                        </a:lnTo>
                        <a:lnTo>
                          <a:pt x="152" y="488"/>
                        </a:lnTo>
                        <a:lnTo>
                          <a:pt x="138" y="458"/>
                        </a:lnTo>
                        <a:lnTo>
                          <a:pt x="124" y="426"/>
                        </a:lnTo>
                        <a:lnTo>
                          <a:pt x="110" y="394"/>
                        </a:lnTo>
                        <a:lnTo>
                          <a:pt x="97" y="347"/>
                        </a:lnTo>
                        <a:lnTo>
                          <a:pt x="83" y="315"/>
                        </a:lnTo>
                        <a:lnTo>
                          <a:pt x="69" y="283"/>
                        </a:lnTo>
                        <a:lnTo>
                          <a:pt x="69" y="252"/>
                        </a:lnTo>
                        <a:lnTo>
                          <a:pt x="55" y="221"/>
                        </a:lnTo>
                        <a:lnTo>
                          <a:pt x="41" y="189"/>
                        </a:lnTo>
                        <a:lnTo>
                          <a:pt x="27" y="158"/>
                        </a:lnTo>
                        <a:lnTo>
                          <a:pt x="27" y="126"/>
                        </a:lnTo>
                        <a:lnTo>
                          <a:pt x="14" y="94"/>
                        </a:lnTo>
                        <a:lnTo>
                          <a:pt x="14" y="63"/>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6188040" y="3193920"/>
                  <a:ext cx="44640" cy="268560"/>
                  <a:chOff x="6188040" y="3193920"/>
                  <a:chExt cx="44640" cy="268560"/>
                </a:xfrm>
              </p:grpSpPr>
              <p:sp>
                <p:nvSpPr>
                  <p:cNvPr id="1088" name=""/>
                  <p:cNvSpPr/>
                  <p:nvPr/>
                </p:nvSpPr>
                <p:spPr>
                  <a:xfrm>
                    <a:off x="6188040" y="3193920"/>
                    <a:ext cx="44640" cy="268560"/>
                  </a:xfrm>
                  <a:custGeom>
                    <a:avLst/>
                    <a:gdLst/>
                    <a:ahLst/>
                    <a:rect l="l" t="t" r="r" b="b"/>
                    <a:pathLst>
                      <a:path w="83" h="505">
                        <a:moveTo>
                          <a:pt x="83" y="505"/>
                        </a:moveTo>
                        <a:lnTo>
                          <a:pt x="69" y="473"/>
                        </a:lnTo>
                        <a:lnTo>
                          <a:pt x="69" y="426"/>
                        </a:lnTo>
                        <a:lnTo>
                          <a:pt x="55" y="394"/>
                        </a:lnTo>
                        <a:lnTo>
                          <a:pt x="55" y="347"/>
                        </a:lnTo>
                        <a:lnTo>
                          <a:pt x="41" y="315"/>
                        </a:lnTo>
                        <a:lnTo>
                          <a:pt x="41" y="268"/>
                        </a:lnTo>
                        <a:lnTo>
                          <a:pt x="27" y="236"/>
                        </a:lnTo>
                        <a:lnTo>
                          <a:pt x="27" y="189"/>
                        </a:lnTo>
                        <a:lnTo>
                          <a:pt x="14" y="157"/>
                        </a:lnTo>
                        <a:lnTo>
                          <a:pt x="14" y="110"/>
                        </a:lnTo>
                        <a:lnTo>
                          <a:pt x="14" y="79"/>
                        </a:lnTo>
                        <a:lnTo>
                          <a:pt x="14" y="32"/>
                        </a:lnTo>
                        <a:lnTo>
                          <a:pt x="0" y="0"/>
                        </a:lnTo>
                        <a:lnTo>
                          <a:pt x="83" y="5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188040" y="3193920"/>
                    <a:ext cx="44640" cy="268560"/>
                  </a:xfrm>
                  <a:custGeom>
                    <a:avLst/>
                    <a:gdLst/>
                    <a:ahLst/>
                    <a:rect l="l" t="t" r="r" b="b"/>
                    <a:pathLst>
                      <a:path w="83" h="505">
                        <a:moveTo>
                          <a:pt x="83" y="505"/>
                        </a:moveTo>
                        <a:lnTo>
                          <a:pt x="69" y="473"/>
                        </a:lnTo>
                        <a:lnTo>
                          <a:pt x="69" y="426"/>
                        </a:lnTo>
                        <a:lnTo>
                          <a:pt x="55" y="394"/>
                        </a:lnTo>
                        <a:lnTo>
                          <a:pt x="55" y="347"/>
                        </a:lnTo>
                        <a:lnTo>
                          <a:pt x="41" y="315"/>
                        </a:lnTo>
                        <a:lnTo>
                          <a:pt x="41" y="268"/>
                        </a:lnTo>
                        <a:lnTo>
                          <a:pt x="27" y="236"/>
                        </a:lnTo>
                        <a:lnTo>
                          <a:pt x="27" y="189"/>
                        </a:lnTo>
                        <a:lnTo>
                          <a:pt x="14" y="157"/>
                        </a:lnTo>
                        <a:lnTo>
                          <a:pt x="14" y="110"/>
                        </a:lnTo>
                        <a:lnTo>
                          <a:pt x="14" y="79"/>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0" name=""/>
                <p:cNvGrpSpPr/>
                <p:nvPr/>
              </p:nvGrpSpPr>
              <p:grpSpPr>
                <a:xfrm>
                  <a:off x="6181560" y="2668680"/>
                  <a:ext cx="14400" cy="525240"/>
                  <a:chOff x="6181560" y="2668680"/>
                  <a:chExt cx="14400" cy="525240"/>
                </a:xfrm>
              </p:grpSpPr>
              <p:sp>
                <p:nvSpPr>
                  <p:cNvPr id="1091" name=""/>
                  <p:cNvSpPr/>
                  <p:nvPr/>
                </p:nvSpPr>
                <p:spPr>
                  <a:xfrm>
                    <a:off x="6181560" y="2668680"/>
                    <a:ext cx="14400" cy="525240"/>
                  </a:xfrm>
                  <a:custGeom>
                    <a:avLst/>
                    <a:gdLst/>
                    <a:ahLst/>
                    <a:rect l="l" t="t" r="r" b="b"/>
                    <a:pathLst>
                      <a:path w="28" h="994">
                        <a:moveTo>
                          <a:pt x="14" y="994"/>
                        </a:moveTo>
                        <a:lnTo>
                          <a:pt x="14" y="962"/>
                        </a:lnTo>
                        <a:lnTo>
                          <a:pt x="14" y="931"/>
                        </a:lnTo>
                        <a:lnTo>
                          <a:pt x="14" y="883"/>
                        </a:lnTo>
                        <a:lnTo>
                          <a:pt x="14" y="853"/>
                        </a:lnTo>
                        <a:lnTo>
                          <a:pt x="14" y="821"/>
                        </a:lnTo>
                        <a:lnTo>
                          <a:pt x="0" y="774"/>
                        </a:lnTo>
                        <a:lnTo>
                          <a:pt x="0" y="742"/>
                        </a:lnTo>
                        <a:lnTo>
                          <a:pt x="0" y="710"/>
                        </a:lnTo>
                        <a:lnTo>
                          <a:pt x="0" y="678"/>
                        </a:lnTo>
                        <a:lnTo>
                          <a:pt x="0" y="631"/>
                        </a:lnTo>
                        <a:lnTo>
                          <a:pt x="0" y="599"/>
                        </a:lnTo>
                        <a:lnTo>
                          <a:pt x="0" y="568"/>
                        </a:lnTo>
                        <a:lnTo>
                          <a:pt x="0" y="537"/>
                        </a:lnTo>
                        <a:lnTo>
                          <a:pt x="0" y="489"/>
                        </a:lnTo>
                        <a:lnTo>
                          <a:pt x="0" y="457"/>
                        </a:lnTo>
                        <a:lnTo>
                          <a:pt x="0" y="426"/>
                        </a:lnTo>
                        <a:lnTo>
                          <a:pt x="0" y="395"/>
                        </a:lnTo>
                        <a:lnTo>
                          <a:pt x="0" y="348"/>
                        </a:lnTo>
                        <a:lnTo>
                          <a:pt x="0" y="316"/>
                        </a:lnTo>
                        <a:lnTo>
                          <a:pt x="0" y="284"/>
                        </a:lnTo>
                        <a:lnTo>
                          <a:pt x="0" y="252"/>
                        </a:lnTo>
                        <a:lnTo>
                          <a:pt x="14" y="205"/>
                        </a:lnTo>
                        <a:lnTo>
                          <a:pt x="14" y="173"/>
                        </a:lnTo>
                        <a:lnTo>
                          <a:pt x="14" y="141"/>
                        </a:lnTo>
                        <a:lnTo>
                          <a:pt x="14" y="111"/>
                        </a:lnTo>
                        <a:lnTo>
                          <a:pt x="14" y="63"/>
                        </a:lnTo>
                        <a:lnTo>
                          <a:pt x="28" y="32"/>
                        </a:lnTo>
                        <a:lnTo>
                          <a:pt x="28" y="0"/>
                        </a:lnTo>
                        <a:lnTo>
                          <a:pt x="14" y="99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181560" y="2668680"/>
                    <a:ext cx="14400" cy="525240"/>
                  </a:xfrm>
                  <a:custGeom>
                    <a:avLst/>
                    <a:gdLst/>
                    <a:ahLst/>
                    <a:rect l="l" t="t" r="r" b="b"/>
                    <a:pathLst>
                      <a:path w="28" h="994">
                        <a:moveTo>
                          <a:pt x="14" y="994"/>
                        </a:moveTo>
                        <a:lnTo>
                          <a:pt x="14" y="962"/>
                        </a:lnTo>
                        <a:lnTo>
                          <a:pt x="14" y="931"/>
                        </a:lnTo>
                        <a:lnTo>
                          <a:pt x="14" y="883"/>
                        </a:lnTo>
                        <a:lnTo>
                          <a:pt x="14" y="853"/>
                        </a:lnTo>
                        <a:lnTo>
                          <a:pt x="14" y="821"/>
                        </a:lnTo>
                        <a:lnTo>
                          <a:pt x="0" y="774"/>
                        </a:lnTo>
                        <a:lnTo>
                          <a:pt x="0" y="742"/>
                        </a:lnTo>
                        <a:lnTo>
                          <a:pt x="0" y="710"/>
                        </a:lnTo>
                        <a:lnTo>
                          <a:pt x="0" y="678"/>
                        </a:lnTo>
                        <a:lnTo>
                          <a:pt x="0" y="631"/>
                        </a:lnTo>
                        <a:lnTo>
                          <a:pt x="0" y="599"/>
                        </a:lnTo>
                        <a:lnTo>
                          <a:pt x="0" y="568"/>
                        </a:lnTo>
                        <a:lnTo>
                          <a:pt x="0" y="537"/>
                        </a:lnTo>
                        <a:lnTo>
                          <a:pt x="0" y="489"/>
                        </a:lnTo>
                        <a:lnTo>
                          <a:pt x="0" y="457"/>
                        </a:lnTo>
                        <a:lnTo>
                          <a:pt x="0" y="426"/>
                        </a:lnTo>
                        <a:lnTo>
                          <a:pt x="0" y="395"/>
                        </a:lnTo>
                        <a:lnTo>
                          <a:pt x="0" y="348"/>
                        </a:lnTo>
                        <a:lnTo>
                          <a:pt x="0" y="316"/>
                        </a:lnTo>
                        <a:lnTo>
                          <a:pt x="0" y="284"/>
                        </a:lnTo>
                        <a:lnTo>
                          <a:pt x="0" y="252"/>
                        </a:lnTo>
                        <a:lnTo>
                          <a:pt x="14" y="205"/>
                        </a:lnTo>
                        <a:lnTo>
                          <a:pt x="14" y="173"/>
                        </a:lnTo>
                        <a:lnTo>
                          <a:pt x="14" y="141"/>
                        </a:lnTo>
                        <a:lnTo>
                          <a:pt x="14" y="111"/>
                        </a:lnTo>
                        <a:lnTo>
                          <a:pt x="14" y="63"/>
                        </a:lnTo>
                        <a:lnTo>
                          <a:pt x="28" y="32"/>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
                <p:cNvGrpSpPr/>
                <p:nvPr/>
              </p:nvGrpSpPr>
              <p:grpSpPr>
                <a:xfrm>
                  <a:off x="6195960" y="2468520"/>
                  <a:ext cx="28800" cy="200160"/>
                  <a:chOff x="6195960" y="2468520"/>
                  <a:chExt cx="28800" cy="200160"/>
                </a:xfrm>
              </p:grpSpPr>
              <p:sp>
                <p:nvSpPr>
                  <p:cNvPr id="1094" name=""/>
                  <p:cNvSpPr/>
                  <p:nvPr/>
                </p:nvSpPr>
                <p:spPr>
                  <a:xfrm>
                    <a:off x="6195960" y="2468520"/>
                    <a:ext cx="28800" cy="200160"/>
                  </a:xfrm>
                  <a:custGeom>
                    <a:avLst/>
                    <a:gdLst/>
                    <a:ahLst/>
                    <a:rect l="l" t="t" r="r" b="b"/>
                    <a:pathLst>
                      <a:path w="55" h="379">
                        <a:moveTo>
                          <a:pt x="0" y="379"/>
                        </a:moveTo>
                        <a:lnTo>
                          <a:pt x="0" y="347"/>
                        </a:lnTo>
                        <a:lnTo>
                          <a:pt x="13" y="300"/>
                        </a:lnTo>
                        <a:lnTo>
                          <a:pt x="13" y="269"/>
                        </a:lnTo>
                        <a:lnTo>
                          <a:pt x="13" y="222"/>
                        </a:lnTo>
                        <a:lnTo>
                          <a:pt x="27" y="190"/>
                        </a:lnTo>
                        <a:lnTo>
                          <a:pt x="27" y="143"/>
                        </a:lnTo>
                        <a:lnTo>
                          <a:pt x="41" y="111"/>
                        </a:lnTo>
                        <a:lnTo>
                          <a:pt x="41" y="64"/>
                        </a:lnTo>
                        <a:lnTo>
                          <a:pt x="41" y="32"/>
                        </a:lnTo>
                        <a:lnTo>
                          <a:pt x="55" y="0"/>
                        </a:lnTo>
                        <a:lnTo>
                          <a:pt x="0" y="37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195960" y="2468520"/>
                    <a:ext cx="28800" cy="200160"/>
                  </a:xfrm>
                  <a:custGeom>
                    <a:avLst/>
                    <a:gdLst/>
                    <a:ahLst/>
                    <a:rect l="l" t="t" r="r" b="b"/>
                    <a:pathLst>
                      <a:path w="55" h="379">
                        <a:moveTo>
                          <a:pt x="0" y="379"/>
                        </a:moveTo>
                        <a:lnTo>
                          <a:pt x="0" y="347"/>
                        </a:lnTo>
                        <a:lnTo>
                          <a:pt x="13" y="300"/>
                        </a:lnTo>
                        <a:lnTo>
                          <a:pt x="13" y="269"/>
                        </a:lnTo>
                        <a:lnTo>
                          <a:pt x="13" y="222"/>
                        </a:lnTo>
                        <a:lnTo>
                          <a:pt x="27" y="190"/>
                        </a:lnTo>
                        <a:lnTo>
                          <a:pt x="27" y="143"/>
                        </a:lnTo>
                        <a:lnTo>
                          <a:pt x="41" y="111"/>
                        </a:lnTo>
                        <a:lnTo>
                          <a:pt x="41" y="64"/>
                        </a:lnTo>
                        <a:lnTo>
                          <a:pt x="41" y="32"/>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6224760" y="1959120"/>
                  <a:ext cx="198360" cy="509400"/>
                  <a:chOff x="6224760" y="1959120"/>
                  <a:chExt cx="198360" cy="509400"/>
                </a:xfrm>
              </p:grpSpPr>
              <p:sp>
                <p:nvSpPr>
                  <p:cNvPr id="1097" name=""/>
                  <p:cNvSpPr/>
                  <p:nvPr/>
                </p:nvSpPr>
                <p:spPr>
                  <a:xfrm>
                    <a:off x="6224760" y="1959120"/>
                    <a:ext cx="198360" cy="509400"/>
                  </a:xfrm>
                  <a:custGeom>
                    <a:avLst/>
                    <a:gdLst/>
                    <a:ahLst/>
                    <a:rect l="l" t="t" r="r" b="b"/>
                    <a:pathLst>
                      <a:path w="375" h="962">
                        <a:moveTo>
                          <a:pt x="0" y="962"/>
                        </a:moveTo>
                        <a:lnTo>
                          <a:pt x="14" y="915"/>
                        </a:lnTo>
                        <a:lnTo>
                          <a:pt x="14" y="883"/>
                        </a:lnTo>
                        <a:lnTo>
                          <a:pt x="28" y="836"/>
                        </a:lnTo>
                        <a:lnTo>
                          <a:pt x="28" y="804"/>
                        </a:lnTo>
                        <a:lnTo>
                          <a:pt x="41" y="773"/>
                        </a:lnTo>
                        <a:lnTo>
                          <a:pt x="55" y="742"/>
                        </a:lnTo>
                        <a:lnTo>
                          <a:pt x="55" y="694"/>
                        </a:lnTo>
                        <a:lnTo>
                          <a:pt x="69" y="663"/>
                        </a:lnTo>
                        <a:lnTo>
                          <a:pt x="83" y="631"/>
                        </a:lnTo>
                        <a:lnTo>
                          <a:pt x="97" y="600"/>
                        </a:lnTo>
                        <a:lnTo>
                          <a:pt x="97" y="568"/>
                        </a:lnTo>
                        <a:lnTo>
                          <a:pt x="111" y="536"/>
                        </a:lnTo>
                        <a:lnTo>
                          <a:pt x="124" y="505"/>
                        </a:lnTo>
                        <a:lnTo>
                          <a:pt x="138" y="474"/>
                        </a:lnTo>
                        <a:lnTo>
                          <a:pt x="152" y="427"/>
                        </a:lnTo>
                        <a:lnTo>
                          <a:pt x="166" y="395"/>
                        </a:lnTo>
                        <a:lnTo>
                          <a:pt x="180" y="363"/>
                        </a:lnTo>
                        <a:lnTo>
                          <a:pt x="194" y="331"/>
                        </a:lnTo>
                        <a:lnTo>
                          <a:pt x="207" y="299"/>
                        </a:lnTo>
                        <a:lnTo>
                          <a:pt x="221" y="269"/>
                        </a:lnTo>
                        <a:lnTo>
                          <a:pt x="235" y="237"/>
                        </a:lnTo>
                        <a:lnTo>
                          <a:pt x="249" y="205"/>
                        </a:lnTo>
                        <a:lnTo>
                          <a:pt x="263" y="173"/>
                        </a:lnTo>
                        <a:lnTo>
                          <a:pt x="277" y="142"/>
                        </a:lnTo>
                        <a:lnTo>
                          <a:pt x="304" y="111"/>
                        </a:lnTo>
                        <a:lnTo>
                          <a:pt x="318" y="95"/>
                        </a:lnTo>
                        <a:lnTo>
                          <a:pt x="333" y="63"/>
                        </a:lnTo>
                        <a:lnTo>
                          <a:pt x="347" y="32"/>
                        </a:lnTo>
                        <a:lnTo>
                          <a:pt x="375" y="0"/>
                        </a:lnTo>
                        <a:lnTo>
                          <a:pt x="0" y="9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224760" y="1959120"/>
                    <a:ext cx="198360" cy="509400"/>
                  </a:xfrm>
                  <a:custGeom>
                    <a:avLst/>
                    <a:gdLst/>
                    <a:ahLst/>
                    <a:rect l="l" t="t" r="r" b="b"/>
                    <a:pathLst>
                      <a:path w="375" h="962">
                        <a:moveTo>
                          <a:pt x="0" y="962"/>
                        </a:moveTo>
                        <a:lnTo>
                          <a:pt x="14" y="915"/>
                        </a:lnTo>
                        <a:lnTo>
                          <a:pt x="14" y="883"/>
                        </a:lnTo>
                        <a:lnTo>
                          <a:pt x="28" y="836"/>
                        </a:lnTo>
                        <a:lnTo>
                          <a:pt x="28" y="804"/>
                        </a:lnTo>
                        <a:lnTo>
                          <a:pt x="41" y="773"/>
                        </a:lnTo>
                        <a:lnTo>
                          <a:pt x="55" y="742"/>
                        </a:lnTo>
                        <a:lnTo>
                          <a:pt x="55" y="694"/>
                        </a:lnTo>
                        <a:lnTo>
                          <a:pt x="69" y="663"/>
                        </a:lnTo>
                        <a:lnTo>
                          <a:pt x="83" y="631"/>
                        </a:lnTo>
                        <a:lnTo>
                          <a:pt x="97" y="600"/>
                        </a:lnTo>
                        <a:lnTo>
                          <a:pt x="97" y="568"/>
                        </a:lnTo>
                        <a:lnTo>
                          <a:pt x="111" y="536"/>
                        </a:lnTo>
                        <a:lnTo>
                          <a:pt x="124" y="505"/>
                        </a:lnTo>
                        <a:lnTo>
                          <a:pt x="138" y="474"/>
                        </a:lnTo>
                        <a:lnTo>
                          <a:pt x="152" y="427"/>
                        </a:lnTo>
                        <a:lnTo>
                          <a:pt x="166" y="395"/>
                        </a:lnTo>
                        <a:lnTo>
                          <a:pt x="180" y="363"/>
                        </a:lnTo>
                        <a:lnTo>
                          <a:pt x="194" y="331"/>
                        </a:lnTo>
                        <a:lnTo>
                          <a:pt x="207" y="299"/>
                        </a:lnTo>
                        <a:lnTo>
                          <a:pt x="221" y="269"/>
                        </a:lnTo>
                        <a:lnTo>
                          <a:pt x="235" y="237"/>
                        </a:lnTo>
                        <a:lnTo>
                          <a:pt x="249" y="205"/>
                        </a:lnTo>
                        <a:lnTo>
                          <a:pt x="263" y="173"/>
                        </a:lnTo>
                        <a:lnTo>
                          <a:pt x="277" y="142"/>
                        </a:lnTo>
                        <a:lnTo>
                          <a:pt x="304" y="111"/>
                        </a:lnTo>
                        <a:lnTo>
                          <a:pt x="318" y="95"/>
                        </a:lnTo>
                        <a:lnTo>
                          <a:pt x="333" y="63"/>
                        </a:lnTo>
                        <a:lnTo>
                          <a:pt x="347" y="32"/>
                        </a:lnTo>
                        <a:lnTo>
                          <a:pt x="37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9" name=""/>
                <p:cNvGrpSpPr/>
                <p:nvPr/>
              </p:nvGrpSpPr>
              <p:grpSpPr>
                <a:xfrm>
                  <a:off x="6423120" y="1833480"/>
                  <a:ext cx="88920" cy="125640"/>
                  <a:chOff x="6423120" y="1833480"/>
                  <a:chExt cx="88920" cy="125640"/>
                </a:xfrm>
              </p:grpSpPr>
              <p:sp>
                <p:nvSpPr>
                  <p:cNvPr id="1100" name=""/>
                  <p:cNvSpPr/>
                  <p:nvPr/>
                </p:nvSpPr>
                <p:spPr>
                  <a:xfrm>
                    <a:off x="6423120" y="1833480"/>
                    <a:ext cx="88920" cy="125640"/>
                  </a:xfrm>
                  <a:custGeom>
                    <a:avLst/>
                    <a:gdLst/>
                    <a:ahLst/>
                    <a:rect l="l" t="t" r="r" b="b"/>
                    <a:pathLst>
                      <a:path w="166" h="236">
                        <a:moveTo>
                          <a:pt x="0" y="236"/>
                        </a:moveTo>
                        <a:lnTo>
                          <a:pt x="14" y="205"/>
                        </a:lnTo>
                        <a:lnTo>
                          <a:pt x="27" y="173"/>
                        </a:lnTo>
                        <a:lnTo>
                          <a:pt x="55" y="141"/>
                        </a:lnTo>
                        <a:lnTo>
                          <a:pt x="83" y="111"/>
                        </a:lnTo>
                        <a:lnTo>
                          <a:pt x="97" y="79"/>
                        </a:lnTo>
                        <a:lnTo>
                          <a:pt x="124" y="62"/>
                        </a:lnTo>
                        <a:lnTo>
                          <a:pt x="152" y="32"/>
                        </a:lnTo>
                        <a:lnTo>
                          <a:pt x="166" y="0"/>
                        </a:lnTo>
                        <a:lnTo>
                          <a:pt x="0" y="2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23120" y="1833480"/>
                    <a:ext cx="88920" cy="125640"/>
                  </a:xfrm>
                  <a:custGeom>
                    <a:avLst/>
                    <a:gdLst/>
                    <a:ahLst/>
                    <a:rect l="l" t="t" r="r" b="b"/>
                    <a:pathLst>
                      <a:path w="166" h="236">
                        <a:moveTo>
                          <a:pt x="0" y="236"/>
                        </a:moveTo>
                        <a:lnTo>
                          <a:pt x="14" y="205"/>
                        </a:lnTo>
                        <a:lnTo>
                          <a:pt x="27" y="173"/>
                        </a:lnTo>
                        <a:lnTo>
                          <a:pt x="55" y="141"/>
                        </a:lnTo>
                        <a:lnTo>
                          <a:pt x="83" y="111"/>
                        </a:lnTo>
                        <a:lnTo>
                          <a:pt x="97" y="79"/>
                        </a:lnTo>
                        <a:lnTo>
                          <a:pt x="124" y="62"/>
                        </a:lnTo>
                        <a:lnTo>
                          <a:pt x="152" y="32"/>
                        </a:lnTo>
                        <a:lnTo>
                          <a:pt x="1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6512040" y="1792440"/>
                  <a:ext cx="42840" cy="41040"/>
                  <a:chOff x="6512040" y="1792440"/>
                  <a:chExt cx="42840" cy="41040"/>
                </a:xfrm>
              </p:grpSpPr>
              <p:sp>
                <p:nvSpPr>
                  <p:cNvPr id="1103" name=""/>
                  <p:cNvSpPr/>
                  <p:nvPr/>
                </p:nvSpPr>
                <p:spPr>
                  <a:xfrm>
                    <a:off x="6512040" y="1792440"/>
                    <a:ext cx="42840" cy="41040"/>
                  </a:xfrm>
                  <a:custGeom>
                    <a:avLst/>
                    <a:gdLst/>
                    <a:ahLst/>
                    <a:rect l="l" t="t" r="r" b="b"/>
                    <a:pathLst>
                      <a:path w="83" h="79">
                        <a:moveTo>
                          <a:pt x="0" y="79"/>
                        </a:moveTo>
                        <a:lnTo>
                          <a:pt x="27" y="47"/>
                        </a:lnTo>
                        <a:lnTo>
                          <a:pt x="55" y="32"/>
                        </a:lnTo>
                        <a:lnTo>
                          <a:pt x="83" y="0"/>
                        </a:lnTo>
                        <a:lnTo>
                          <a:pt x="0"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4" name=""/>
                  <p:cNvSpPr/>
                  <p:nvPr/>
                </p:nvSpPr>
                <p:spPr>
                  <a:xfrm>
                    <a:off x="6512040" y="1792440"/>
                    <a:ext cx="42840" cy="41040"/>
                  </a:xfrm>
                  <a:custGeom>
                    <a:avLst/>
                    <a:gdLst/>
                    <a:ahLst/>
                    <a:rect l="l" t="t" r="r" b="b"/>
                    <a:pathLst>
                      <a:path w="83" h="79">
                        <a:moveTo>
                          <a:pt x="0" y="79"/>
                        </a:moveTo>
                        <a:lnTo>
                          <a:pt x="27" y="47"/>
                        </a:lnTo>
                        <a:lnTo>
                          <a:pt x="55" y="32"/>
                        </a:lnTo>
                        <a:lnTo>
                          <a:pt x="83"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105" name=""/>
                <p:cNvGrpSpPr/>
                <p:nvPr/>
              </p:nvGrpSpPr>
              <p:grpSpPr>
                <a:xfrm>
                  <a:off x="6554880" y="1774800"/>
                  <a:ext cx="21960" cy="17640"/>
                  <a:chOff x="6554880" y="1774800"/>
                  <a:chExt cx="21960" cy="17640"/>
                </a:xfrm>
              </p:grpSpPr>
              <p:sp>
                <p:nvSpPr>
                  <p:cNvPr id="1106" name=""/>
                  <p:cNvSpPr/>
                  <p:nvPr/>
                </p:nvSpPr>
                <p:spPr>
                  <a:xfrm>
                    <a:off x="6554880" y="1774800"/>
                    <a:ext cx="21960" cy="17640"/>
                  </a:xfrm>
                  <a:custGeom>
                    <a:avLst/>
                    <a:gdLst/>
                    <a:ahLst/>
                    <a:rect l="l" t="t" r="r" b="b"/>
                    <a:pathLst>
                      <a:path w="41" h="32">
                        <a:moveTo>
                          <a:pt x="0" y="32"/>
                        </a:moveTo>
                        <a:lnTo>
                          <a:pt x="14" y="15"/>
                        </a:lnTo>
                        <a:lnTo>
                          <a:pt x="27" y="15"/>
                        </a:lnTo>
                        <a:lnTo>
                          <a:pt x="41"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7" name=""/>
                  <p:cNvSpPr/>
                  <p:nvPr/>
                </p:nvSpPr>
                <p:spPr>
                  <a:xfrm>
                    <a:off x="6554880" y="1774800"/>
                    <a:ext cx="21960" cy="17640"/>
                  </a:xfrm>
                  <a:custGeom>
                    <a:avLst/>
                    <a:gdLst/>
                    <a:ahLst/>
                    <a:rect l="l" t="t" r="r" b="b"/>
                    <a:pathLst>
                      <a:path w="41" h="32">
                        <a:moveTo>
                          <a:pt x="0" y="32"/>
                        </a:moveTo>
                        <a:lnTo>
                          <a:pt x="14" y="15"/>
                        </a:lnTo>
                        <a:lnTo>
                          <a:pt x="27" y="15"/>
                        </a:lnTo>
                        <a:lnTo>
                          <a:pt x="41"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08" name=""/>
                <p:cNvGrpSpPr/>
                <p:nvPr/>
              </p:nvGrpSpPr>
              <p:grpSpPr>
                <a:xfrm>
                  <a:off x="6576840" y="4003560"/>
                  <a:ext cx="87480" cy="109800"/>
                  <a:chOff x="6576840" y="4003560"/>
                  <a:chExt cx="87480" cy="109800"/>
                </a:xfrm>
              </p:grpSpPr>
              <p:sp>
                <p:nvSpPr>
                  <p:cNvPr id="1109" name=""/>
                  <p:cNvSpPr/>
                  <p:nvPr/>
                </p:nvSpPr>
                <p:spPr>
                  <a:xfrm>
                    <a:off x="6576840" y="4003560"/>
                    <a:ext cx="87480" cy="109800"/>
                  </a:xfrm>
                  <a:custGeom>
                    <a:avLst/>
                    <a:gdLst/>
                    <a:ahLst/>
                    <a:rect l="l" t="t" r="r" b="b"/>
                    <a:pathLst>
                      <a:path w="166" h="205">
                        <a:moveTo>
                          <a:pt x="166" y="205"/>
                        </a:moveTo>
                        <a:lnTo>
                          <a:pt x="139" y="190"/>
                        </a:lnTo>
                        <a:lnTo>
                          <a:pt x="111" y="158"/>
                        </a:lnTo>
                        <a:lnTo>
                          <a:pt x="83" y="126"/>
                        </a:lnTo>
                        <a:lnTo>
                          <a:pt x="69" y="94"/>
                        </a:lnTo>
                        <a:lnTo>
                          <a:pt x="42" y="64"/>
                        </a:lnTo>
                        <a:lnTo>
                          <a:pt x="14" y="32"/>
                        </a:lnTo>
                        <a:lnTo>
                          <a:pt x="0" y="0"/>
                        </a:lnTo>
                        <a:lnTo>
                          <a:pt x="166" y="2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576840" y="4003560"/>
                    <a:ext cx="87480" cy="109800"/>
                  </a:xfrm>
                  <a:custGeom>
                    <a:avLst/>
                    <a:gdLst/>
                    <a:ahLst/>
                    <a:rect l="l" t="t" r="r" b="b"/>
                    <a:pathLst>
                      <a:path w="166" h="205">
                        <a:moveTo>
                          <a:pt x="166" y="205"/>
                        </a:moveTo>
                        <a:lnTo>
                          <a:pt x="139" y="190"/>
                        </a:lnTo>
                        <a:lnTo>
                          <a:pt x="111" y="158"/>
                        </a:lnTo>
                        <a:lnTo>
                          <a:pt x="83" y="126"/>
                        </a:lnTo>
                        <a:lnTo>
                          <a:pt x="69" y="94"/>
                        </a:lnTo>
                        <a:lnTo>
                          <a:pt x="42"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6504120" y="3854520"/>
                  <a:ext cx="72720" cy="149040"/>
                  <a:chOff x="6504120" y="3854520"/>
                  <a:chExt cx="72720" cy="149040"/>
                </a:xfrm>
              </p:grpSpPr>
              <p:sp>
                <p:nvSpPr>
                  <p:cNvPr id="1112" name=""/>
                  <p:cNvSpPr/>
                  <p:nvPr/>
                </p:nvSpPr>
                <p:spPr>
                  <a:xfrm>
                    <a:off x="6504120" y="3854520"/>
                    <a:ext cx="72720" cy="149040"/>
                  </a:xfrm>
                  <a:custGeom>
                    <a:avLst/>
                    <a:gdLst/>
                    <a:ahLst/>
                    <a:rect l="l" t="t" r="r" b="b"/>
                    <a:pathLst>
                      <a:path w="138" h="284">
                        <a:moveTo>
                          <a:pt x="138" y="284"/>
                        </a:moveTo>
                        <a:lnTo>
                          <a:pt x="111" y="252"/>
                        </a:lnTo>
                        <a:lnTo>
                          <a:pt x="97" y="220"/>
                        </a:lnTo>
                        <a:lnTo>
                          <a:pt x="83" y="173"/>
                        </a:lnTo>
                        <a:lnTo>
                          <a:pt x="55" y="142"/>
                        </a:lnTo>
                        <a:lnTo>
                          <a:pt x="41" y="111"/>
                        </a:lnTo>
                        <a:lnTo>
                          <a:pt x="28" y="63"/>
                        </a:lnTo>
                        <a:lnTo>
                          <a:pt x="14" y="32"/>
                        </a:lnTo>
                        <a:lnTo>
                          <a:pt x="0" y="0"/>
                        </a:lnTo>
                        <a:lnTo>
                          <a:pt x="138" y="28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504120" y="3854520"/>
                    <a:ext cx="72720" cy="149040"/>
                  </a:xfrm>
                  <a:custGeom>
                    <a:avLst/>
                    <a:gdLst/>
                    <a:ahLst/>
                    <a:rect l="l" t="t" r="r" b="b"/>
                    <a:pathLst>
                      <a:path w="138" h="284">
                        <a:moveTo>
                          <a:pt x="138" y="284"/>
                        </a:moveTo>
                        <a:lnTo>
                          <a:pt x="111" y="252"/>
                        </a:lnTo>
                        <a:lnTo>
                          <a:pt x="97" y="220"/>
                        </a:lnTo>
                        <a:lnTo>
                          <a:pt x="83" y="173"/>
                        </a:lnTo>
                        <a:lnTo>
                          <a:pt x="55" y="142"/>
                        </a:lnTo>
                        <a:lnTo>
                          <a:pt x="41" y="111"/>
                        </a:lnTo>
                        <a:lnTo>
                          <a:pt x="28" y="63"/>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6378480" y="3419640"/>
                  <a:ext cx="125640" cy="434880"/>
                  <a:chOff x="6378480" y="3419640"/>
                  <a:chExt cx="125640" cy="434880"/>
                </a:xfrm>
              </p:grpSpPr>
              <p:sp>
                <p:nvSpPr>
                  <p:cNvPr id="1115" name=""/>
                  <p:cNvSpPr/>
                  <p:nvPr/>
                </p:nvSpPr>
                <p:spPr>
                  <a:xfrm>
                    <a:off x="6378480" y="3419640"/>
                    <a:ext cx="125640" cy="434880"/>
                  </a:xfrm>
                  <a:custGeom>
                    <a:avLst/>
                    <a:gdLst/>
                    <a:ahLst/>
                    <a:rect l="l" t="t" r="r" b="b"/>
                    <a:pathLst>
                      <a:path w="237" h="820">
                        <a:moveTo>
                          <a:pt x="237" y="820"/>
                        </a:moveTo>
                        <a:lnTo>
                          <a:pt x="223" y="789"/>
                        </a:lnTo>
                        <a:lnTo>
                          <a:pt x="209" y="742"/>
                        </a:lnTo>
                        <a:lnTo>
                          <a:pt x="195" y="710"/>
                        </a:lnTo>
                        <a:lnTo>
                          <a:pt x="182" y="678"/>
                        </a:lnTo>
                        <a:lnTo>
                          <a:pt x="168" y="646"/>
                        </a:lnTo>
                        <a:lnTo>
                          <a:pt x="154" y="616"/>
                        </a:lnTo>
                        <a:lnTo>
                          <a:pt x="154" y="584"/>
                        </a:lnTo>
                        <a:lnTo>
                          <a:pt x="140" y="552"/>
                        </a:lnTo>
                        <a:lnTo>
                          <a:pt x="126" y="520"/>
                        </a:lnTo>
                        <a:lnTo>
                          <a:pt x="112" y="488"/>
                        </a:lnTo>
                        <a:lnTo>
                          <a:pt x="99" y="441"/>
                        </a:lnTo>
                        <a:lnTo>
                          <a:pt x="99" y="409"/>
                        </a:lnTo>
                        <a:lnTo>
                          <a:pt x="85" y="379"/>
                        </a:lnTo>
                        <a:lnTo>
                          <a:pt x="71" y="347"/>
                        </a:lnTo>
                        <a:lnTo>
                          <a:pt x="71" y="315"/>
                        </a:lnTo>
                        <a:lnTo>
                          <a:pt x="57" y="284"/>
                        </a:lnTo>
                        <a:lnTo>
                          <a:pt x="57" y="237"/>
                        </a:lnTo>
                        <a:lnTo>
                          <a:pt x="43" y="205"/>
                        </a:lnTo>
                        <a:lnTo>
                          <a:pt x="28" y="173"/>
                        </a:lnTo>
                        <a:lnTo>
                          <a:pt x="28" y="142"/>
                        </a:lnTo>
                        <a:lnTo>
                          <a:pt x="14" y="111"/>
                        </a:lnTo>
                        <a:lnTo>
                          <a:pt x="14" y="64"/>
                        </a:lnTo>
                        <a:lnTo>
                          <a:pt x="14" y="32"/>
                        </a:lnTo>
                        <a:lnTo>
                          <a:pt x="0" y="0"/>
                        </a:lnTo>
                        <a:lnTo>
                          <a:pt x="237" y="82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378480" y="3419640"/>
                    <a:ext cx="125640" cy="434880"/>
                  </a:xfrm>
                  <a:custGeom>
                    <a:avLst/>
                    <a:gdLst/>
                    <a:ahLst/>
                    <a:rect l="l" t="t" r="r" b="b"/>
                    <a:pathLst>
                      <a:path w="237" h="820">
                        <a:moveTo>
                          <a:pt x="237" y="820"/>
                        </a:moveTo>
                        <a:lnTo>
                          <a:pt x="223" y="789"/>
                        </a:lnTo>
                        <a:lnTo>
                          <a:pt x="209" y="742"/>
                        </a:lnTo>
                        <a:lnTo>
                          <a:pt x="195" y="710"/>
                        </a:lnTo>
                        <a:lnTo>
                          <a:pt x="182" y="678"/>
                        </a:lnTo>
                        <a:lnTo>
                          <a:pt x="168" y="646"/>
                        </a:lnTo>
                        <a:lnTo>
                          <a:pt x="154" y="616"/>
                        </a:lnTo>
                        <a:lnTo>
                          <a:pt x="154" y="584"/>
                        </a:lnTo>
                        <a:lnTo>
                          <a:pt x="140" y="552"/>
                        </a:lnTo>
                        <a:lnTo>
                          <a:pt x="126" y="520"/>
                        </a:lnTo>
                        <a:lnTo>
                          <a:pt x="112" y="488"/>
                        </a:lnTo>
                        <a:lnTo>
                          <a:pt x="99" y="441"/>
                        </a:lnTo>
                        <a:lnTo>
                          <a:pt x="99" y="409"/>
                        </a:lnTo>
                        <a:lnTo>
                          <a:pt x="85" y="379"/>
                        </a:lnTo>
                        <a:lnTo>
                          <a:pt x="71" y="347"/>
                        </a:lnTo>
                        <a:lnTo>
                          <a:pt x="71" y="315"/>
                        </a:lnTo>
                        <a:lnTo>
                          <a:pt x="57" y="284"/>
                        </a:lnTo>
                        <a:lnTo>
                          <a:pt x="57" y="237"/>
                        </a:lnTo>
                        <a:lnTo>
                          <a:pt x="43" y="205"/>
                        </a:lnTo>
                        <a:lnTo>
                          <a:pt x="28" y="173"/>
                        </a:lnTo>
                        <a:lnTo>
                          <a:pt x="28" y="142"/>
                        </a:lnTo>
                        <a:lnTo>
                          <a:pt x="14" y="111"/>
                        </a:lnTo>
                        <a:lnTo>
                          <a:pt x="14"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6356520" y="3135240"/>
                  <a:ext cx="21960" cy="284400"/>
                  <a:chOff x="6356520" y="3135240"/>
                  <a:chExt cx="21960" cy="284400"/>
                </a:xfrm>
              </p:grpSpPr>
              <p:sp>
                <p:nvSpPr>
                  <p:cNvPr id="1118" name=""/>
                  <p:cNvSpPr/>
                  <p:nvPr/>
                </p:nvSpPr>
                <p:spPr>
                  <a:xfrm>
                    <a:off x="6356520" y="3135240"/>
                    <a:ext cx="21960" cy="284400"/>
                  </a:xfrm>
                  <a:custGeom>
                    <a:avLst/>
                    <a:gdLst/>
                    <a:ahLst/>
                    <a:rect l="l" t="t" r="r" b="b"/>
                    <a:pathLst>
                      <a:path w="41" h="537">
                        <a:moveTo>
                          <a:pt x="41" y="537"/>
                        </a:moveTo>
                        <a:lnTo>
                          <a:pt x="41" y="505"/>
                        </a:lnTo>
                        <a:lnTo>
                          <a:pt x="41" y="458"/>
                        </a:lnTo>
                        <a:lnTo>
                          <a:pt x="28" y="426"/>
                        </a:lnTo>
                        <a:lnTo>
                          <a:pt x="28" y="379"/>
                        </a:lnTo>
                        <a:lnTo>
                          <a:pt x="14" y="347"/>
                        </a:lnTo>
                        <a:lnTo>
                          <a:pt x="14" y="300"/>
                        </a:lnTo>
                        <a:lnTo>
                          <a:pt x="14" y="268"/>
                        </a:lnTo>
                        <a:lnTo>
                          <a:pt x="0" y="221"/>
                        </a:lnTo>
                        <a:lnTo>
                          <a:pt x="0" y="190"/>
                        </a:lnTo>
                        <a:lnTo>
                          <a:pt x="0" y="158"/>
                        </a:lnTo>
                        <a:lnTo>
                          <a:pt x="0" y="111"/>
                        </a:lnTo>
                        <a:lnTo>
                          <a:pt x="0" y="79"/>
                        </a:lnTo>
                        <a:lnTo>
                          <a:pt x="0" y="32"/>
                        </a:lnTo>
                        <a:lnTo>
                          <a:pt x="0" y="0"/>
                        </a:lnTo>
                        <a:lnTo>
                          <a:pt x="41" y="5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356520" y="3135240"/>
                    <a:ext cx="21960" cy="284400"/>
                  </a:xfrm>
                  <a:custGeom>
                    <a:avLst/>
                    <a:gdLst/>
                    <a:ahLst/>
                    <a:rect l="l" t="t" r="r" b="b"/>
                    <a:pathLst>
                      <a:path w="41" h="537">
                        <a:moveTo>
                          <a:pt x="41" y="537"/>
                        </a:moveTo>
                        <a:lnTo>
                          <a:pt x="41" y="505"/>
                        </a:lnTo>
                        <a:lnTo>
                          <a:pt x="41" y="458"/>
                        </a:lnTo>
                        <a:lnTo>
                          <a:pt x="28" y="426"/>
                        </a:lnTo>
                        <a:lnTo>
                          <a:pt x="28" y="379"/>
                        </a:lnTo>
                        <a:lnTo>
                          <a:pt x="14" y="347"/>
                        </a:lnTo>
                        <a:lnTo>
                          <a:pt x="14" y="300"/>
                        </a:lnTo>
                        <a:lnTo>
                          <a:pt x="14" y="268"/>
                        </a:lnTo>
                        <a:lnTo>
                          <a:pt x="0" y="221"/>
                        </a:lnTo>
                        <a:lnTo>
                          <a:pt x="0" y="190"/>
                        </a:lnTo>
                        <a:lnTo>
                          <a:pt x="0" y="158"/>
                        </a:lnTo>
                        <a:lnTo>
                          <a:pt x="0" y="111"/>
                        </a:lnTo>
                        <a:lnTo>
                          <a:pt x="0" y="79"/>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6350040" y="2727360"/>
                  <a:ext cx="6480" cy="407880"/>
                  <a:chOff x="6350040" y="2727360"/>
                  <a:chExt cx="6480" cy="407880"/>
                </a:xfrm>
              </p:grpSpPr>
              <p:sp>
                <p:nvSpPr>
                  <p:cNvPr id="1121" name=""/>
                  <p:cNvSpPr/>
                  <p:nvPr/>
                </p:nvSpPr>
                <p:spPr>
                  <a:xfrm>
                    <a:off x="6350040" y="2727360"/>
                    <a:ext cx="6480" cy="407880"/>
                  </a:xfrm>
                  <a:custGeom>
                    <a:avLst/>
                    <a:gdLst/>
                    <a:ahLst/>
                    <a:rect l="l" t="t" r="r" b="b"/>
                    <a:pathLst>
                      <a:path w="14" h="772">
                        <a:moveTo>
                          <a:pt x="14" y="772"/>
                        </a:moveTo>
                        <a:lnTo>
                          <a:pt x="14" y="742"/>
                        </a:lnTo>
                        <a:lnTo>
                          <a:pt x="14" y="693"/>
                        </a:lnTo>
                        <a:lnTo>
                          <a:pt x="0" y="663"/>
                        </a:lnTo>
                        <a:lnTo>
                          <a:pt x="0" y="631"/>
                        </a:lnTo>
                        <a:lnTo>
                          <a:pt x="0" y="584"/>
                        </a:lnTo>
                        <a:lnTo>
                          <a:pt x="0" y="552"/>
                        </a:lnTo>
                        <a:lnTo>
                          <a:pt x="0" y="520"/>
                        </a:lnTo>
                        <a:lnTo>
                          <a:pt x="0" y="473"/>
                        </a:lnTo>
                        <a:lnTo>
                          <a:pt x="0" y="441"/>
                        </a:lnTo>
                        <a:lnTo>
                          <a:pt x="0" y="410"/>
                        </a:lnTo>
                        <a:lnTo>
                          <a:pt x="0" y="362"/>
                        </a:lnTo>
                        <a:lnTo>
                          <a:pt x="0" y="331"/>
                        </a:lnTo>
                        <a:lnTo>
                          <a:pt x="0" y="299"/>
                        </a:lnTo>
                        <a:lnTo>
                          <a:pt x="0" y="252"/>
                        </a:lnTo>
                        <a:lnTo>
                          <a:pt x="0" y="220"/>
                        </a:lnTo>
                        <a:lnTo>
                          <a:pt x="0" y="188"/>
                        </a:lnTo>
                        <a:lnTo>
                          <a:pt x="0" y="141"/>
                        </a:lnTo>
                        <a:lnTo>
                          <a:pt x="0" y="109"/>
                        </a:lnTo>
                        <a:lnTo>
                          <a:pt x="0" y="79"/>
                        </a:lnTo>
                        <a:lnTo>
                          <a:pt x="14" y="47"/>
                        </a:lnTo>
                        <a:lnTo>
                          <a:pt x="14" y="0"/>
                        </a:lnTo>
                        <a:lnTo>
                          <a:pt x="14" y="77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350040" y="2727360"/>
                    <a:ext cx="6480" cy="407880"/>
                  </a:xfrm>
                  <a:custGeom>
                    <a:avLst/>
                    <a:gdLst/>
                    <a:ahLst/>
                    <a:rect l="l" t="t" r="r" b="b"/>
                    <a:pathLst>
                      <a:path w="14" h="772">
                        <a:moveTo>
                          <a:pt x="14" y="772"/>
                        </a:moveTo>
                        <a:lnTo>
                          <a:pt x="14" y="742"/>
                        </a:lnTo>
                        <a:lnTo>
                          <a:pt x="14" y="693"/>
                        </a:lnTo>
                        <a:lnTo>
                          <a:pt x="0" y="663"/>
                        </a:lnTo>
                        <a:lnTo>
                          <a:pt x="0" y="631"/>
                        </a:lnTo>
                        <a:lnTo>
                          <a:pt x="0" y="584"/>
                        </a:lnTo>
                        <a:lnTo>
                          <a:pt x="0" y="552"/>
                        </a:lnTo>
                        <a:lnTo>
                          <a:pt x="0" y="520"/>
                        </a:lnTo>
                        <a:lnTo>
                          <a:pt x="0" y="473"/>
                        </a:lnTo>
                        <a:lnTo>
                          <a:pt x="0" y="441"/>
                        </a:lnTo>
                        <a:lnTo>
                          <a:pt x="0" y="410"/>
                        </a:lnTo>
                        <a:lnTo>
                          <a:pt x="0" y="362"/>
                        </a:lnTo>
                        <a:lnTo>
                          <a:pt x="0" y="331"/>
                        </a:lnTo>
                        <a:lnTo>
                          <a:pt x="0" y="299"/>
                        </a:lnTo>
                        <a:lnTo>
                          <a:pt x="0" y="252"/>
                        </a:lnTo>
                        <a:lnTo>
                          <a:pt x="0" y="220"/>
                        </a:lnTo>
                        <a:lnTo>
                          <a:pt x="0" y="188"/>
                        </a:lnTo>
                        <a:lnTo>
                          <a:pt x="0" y="141"/>
                        </a:lnTo>
                        <a:lnTo>
                          <a:pt x="0" y="109"/>
                        </a:lnTo>
                        <a:lnTo>
                          <a:pt x="0" y="79"/>
                        </a:lnTo>
                        <a:lnTo>
                          <a:pt x="14" y="47"/>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3" name=""/>
                <p:cNvGrpSpPr/>
                <p:nvPr/>
              </p:nvGrpSpPr>
              <p:grpSpPr>
                <a:xfrm>
                  <a:off x="6356520" y="2443320"/>
                  <a:ext cx="29880" cy="284040"/>
                  <a:chOff x="6356520" y="2443320"/>
                  <a:chExt cx="29880" cy="284040"/>
                </a:xfrm>
              </p:grpSpPr>
              <p:sp>
                <p:nvSpPr>
                  <p:cNvPr id="1124" name=""/>
                  <p:cNvSpPr/>
                  <p:nvPr/>
                </p:nvSpPr>
                <p:spPr>
                  <a:xfrm>
                    <a:off x="6356520" y="2443320"/>
                    <a:ext cx="29880" cy="284040"/>
                  </a:xfrm>
                  <a:custGeom>
                    <a:avLst/>
                    <a:gdLst/>
                    <a:ahLst/>
                    <a:rect l="l" t="t" r="r" b="b"/>
                    <a:pathLst>
                      <a:path w="55" h="537">
                        <a:moveTo>
                          <a:pt x="0" y="537"/>
                        </a:moveTo>
                        <a:lnTo>
                          <a:pt x="0" y="505"/>
                        </a:lnTo>
                        <a:lnTo>
                          <a:pt x="14" y="473"/>
                        </a:lnTo>
                        <a:lnTo>
                          <a:pt x="14" y="426"/>
                        </a:lnTo>
                        <a:lnTo>
                          <a:pt x="14" y="394"/>
                        </a:lnTo>
                        <a:lnTo>
                          <a:pt x="14" y="363"/>
                        </a:lnTo>
                        <a:lnTo>
                          <a:pt x="28" y="331"/>
                        </a:lnTo>
                        <a:lnTo>
                          <a:pt x="28" y="284"/>
                        </a:lnTo>
                        <a:lnTo>
                          <a:pt x="28" y="252"/>
                        </a:lnTo>
                        <a:lnTo>
                          <a:pt x="28" y="221"/>
                        </a:lnTo>
                        <a:lnTo>
                          <a:pt x="41" y="173"/>
                        </a:lnTo>
                        <a:lnTo>
                          <a:pt x="41" y="143"/>
                        </a:lnTo>
                        <a:lnTo>
                          <a:pt x="41" y="111"/>
                        </a:lnTo>
                        <a:lnTo>
                          <a:pt x="55" y="79"/>
                        </a:lnTo>
                        <a:lnTo>
                          <a:pt x="55" y="32"/>
                        </a:lnTo>
                        <a:lnTo>
                          <a:pt x="55" y="0"/>
                        </a:lnTo>
                        <a:lnTo>
                          <a:pt x="0" y="5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356520" y="2443320"/>
                    <a:ext cx="29880" cy="284040"/>
                  </a:xfrm>
                  <a:custGeom>
                    <a:avLst/>
                    <a:gdLst/>
                    <a:ahLst/>
                    <a:rect l="l" t="t" r="r" b="b"/>
                    <a:pathLst>
                      <a:path w="55" h="537">
                        <a:moveTo>
                          <a:pt x="0" y="537"/>
                        </a:moveTo>
                        <a:lnTo>
                          <a:pt x="0" y="505"/>
                        </a:lnTo>
                        <a:lnTo>
                          <a:pt x="14" y="473"/>
                        </a:lnTo>
                        <a:lnTo>
                          <a:pt x="14" y="426"/>
                        </a:lnTo>
                        <a:lnTo>
                          <a:pt x="14" y="394"/>
                        </a:lnTo>
                        <a:lnTo>
                          <a:pt x="14" y="363"/>
                        </a:lnTo>
                        <a:lnTo>
                          <a:pt x="28" y="331"/>
                        </a:lnTo>
                        <a:lnTo>
                          <a:pt x="28" y="284"/>
                        </a:lnTo>
                        <a:lnTo>
                          <a:pt x="28" y="252"/>
                        </a:lnTo>
                        <a:lnTo>
                          <a:pt x="28" y="221"/>
                        </a:lnTo>
                        <a:lnTo>
                          <a:pt x="41" y="173"/>
                        </a:lnTo>
                        <a:lnTo>
                          <a:pt x="41" y="143"/>
                        </a:lnTo>
                        <a:lnTo>
                          <a:pt x="41" y="111"/>
                        </a:lnTo>
                        <a:lnTo>
                          <a:pt x="55" y="79"/>
                        </a:lnTo>
                        <a:lnTo>
                          <a:pt x="55" y="32"/>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6" name=""/>
                <p:cNvGrpSpPr/>
                <p:nvPr/>
              </p:nvGrpSpPr>
              <p:grpSpPr>
                <a:xfrm>
                  <a:off x="6386400" y="1976400"/>
                  <a:ext cx="146160" cy="466920"/>
                  <a:chOff x="6386400" y="1976400"/>
                  <a:chExt cx="146160" cy="466920"/>
                </a:xfrm>
              </p:grpSpPr>
              <p:sp>
                <p:nvSpPr>
                  <p:cNvPr id="1127" name=""/>
                  <p:cNvSpPr/>
                  <p:nvPr/>
                </p:nvSpPr>
                <p:spPr>
                  <a:xfrm>
                    <a:off x="6386400" y="1976400"/>
                    <a:ext cx="146160" cy="466920"/>
                  </a:xfrm>
                  <a:custGeom>
                    <a:avLst/>
                    <a:gdLst/>
                    <a:ahLst/>
                    <a:rect l="l" t="t" r="r" b="b"/>
                    <a:pathLst>
                      <a:path w="278" h="883">
                        <a:moveTo>
                          <a:pt x="0" y="883"/>
                        </a:moveTo>
                        <a:lnTo>
                          <a:pt x="14" y="851"/>
                        </a:lnTo>
                        <a:lnTo>
                          <a:pt x="14" y="804"/>
                        </a:lnTo>
                        <a:lnTo>
                          <a:pt x="29" y="772"/>
                        </a:lnTo>
                        <a:lnTo>
                          <a:pt x="29" y="725"/>
                        </a:lnTo>
                        <a:lnTo>
                          <a:pt x="43" y="694"/>
                        </a:lnTo>
                        <a:lnTo>
                          <a:pt x="43" y="662"/>
                        </a:lnTo>
                        <a:lnTo>
                          <a:pt x="57" y="631"/>
                        </a:lnTo>
                        <a:lnTo>
                          <a:pt x="57" y="599"/>
                        </a:lnTo>
                        <a:lnTo>
                          <a:pt x="71" y="552"/>
                        </a:lnTo>
                        <a:lnTo>
                          <a:pt x="85" y="521"/>
                        </a:lnTo>
                        <a:lnTo>
                          <a:pt x="85" y="489"/>
                        </a:lnTo>
                        <a:lnTo>
                          <a:pt x="98" y="457"/>
                        </a:lnTo>
                        <a:lnTo>
                          <a:pt x="112" y="425"/>
                        </a:lnTo>
                        <a:lnTo>
                          <a:pt x="126" y="395"/>
                        </a:lnTo>
                        <a:lnTo>
                          <a:pt x="140" y="363"/>
                        </a:lnTo>
                        <a:lnTo>
                          <a:pt x="140" y="316"/>
                        </a:lnTo>
                        <a:lnTo>
                          <a:pt x="154" y="284"/>
                        </a:lnTo>
                        <a:lnTo>
                          <a:pt x="168" y="252"/>
                        </a:lnTo>
                        <a:lnTo>
                          <a:pt x="181" y="220"/>
                        </a:lnTo>
                        <a:lnTo>
                          <a:pt x="195" y="188"/>
                        </a:lnTo>
                        <a:lnTo>
                          <a:pt x="209" y="158"/>
                        </a:lnTo>
                        <a:lnTo>
                          <a:pt x="223" y="126"/>
                        </a:lnTo>
                        <a:lnTo>
                          <a:pt x="237" y="94"/>
                        </a:lnTo>
                        <a:lnTo>
                          <a:pt x="251" y="63"/>
                        </a:lnTo>
                        <a:lnTo>
                          <a:pt x="264" y="31"/>
                        </a:lnTo>
                        <a:lnTo>
                          <a:pt x="278" y="0"/>
                        </a:lnTo>
                        <a:lnTo>
                          <a:pt x="0" y="8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386400" y="1976400"/>
                    <a:ext cx="146160" cy="466920"/>
                  </a:xfrm>
                  <a:custGeom>
                    <a:avLst/>
                    <a:gdLst/>
                    <a:ahLst/>
                    <a:rect l="l" t="t" r="r" b="b"/>
                    <a:pathLst>
                      <a:path w="278" h="883">
                        <a:moveTo>
                          <a:pt x="0" y="883"/>
                        </a:moveTo>
                        <a:lnTo>
                          <a:pt x="14" y="851"/>
                        </a:lnTo>
                        <a:lnTo>
                          <a:pt x="14" y="804"/>
                        </a:lnTo>
                        <a:lnTo>
                          <a:pt x="29" y="772"/>
                        </a:lnTo>
                        <a:lnTo>
                          <a:pt x="29" y="725"/>
                        </a:lnTo>
                        <a:lnTo>
                          <a:pt x="43" y="694"/>
                        </a:lnTo>
                        <a:lnTo>
                          <a:pt x="43" y="662"/>
                        </a:lnTo>
                        <a:lnTo>
                          <a:pt x="57" y="631"/>
                        </a:lnTo>
                        <a:lnTo>
                          <a:pt x="57" y="599"/>
                        </a:lnTo>
                        <a:lnTo>
                          <a:pt x="71" y="552"/>
                        </a:lnTo>
                        <a:lnTo>
                          <a:pt x="85" y="521"/>
                        </a:lnTo>
                        <a:lnTo>
                          <a:pt x="85" y="489"/>
                        </a:lnTo>
                        <a:lnTo>
                          <a:pt x="98" y="457"/>
                        </a:lnTo>
                        <a:lnTo>
                          <a:pt x="112" y="425"/>
                        </a:lnTo>
                        <a:lnTo>
                          <a:pt x="126" y="395"/>
                        </a:lnTo>
                        <a:lnTo>
                          <a:pt x="140" y="363"/>
                        </a:lnTo>
                        <a:lnTo>
                          <a:pt x="140" y="316"/>
                        </a:lnTo>
                        <a:lnTo>
                          <a:pt x="154" y="284"/>
                        </a:lnTo>
                        <a:lnTo>
                          <a:pt x="168" y="252"/>
                        </a:lnTo>
                        <a:lnTo>
                          <a:pt x="181" y="220"/>
                        </a:lnTo>
                        <a:lnTo>
                          <a:pt x="195" y="188"/>
                        </a:lnTo>
                        <a:lnTo>
                          <a:pt x="209" y="158"/>
                        </a:lnTo>
                        <a:lnTo>
                          <a:pt x="223" y="126"/>
                        </a:lnTo>
                        <a:lnTo>
                          <a:pt x="237" y="94"/>
                        </a:lnTo>
                        <a:lnTo>
                          <a:pt x="251" y="63"/>
                        </a:lnTo>
                        <a:lnTo>
                          <a:pt x="264" y="31"/>
                        </a:lnTo>
                        <a:lnTo>
                          <a:pt x="27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9" name=""/>
                <p:cNvGrpSpPr/>
                <p:nvPr/>
              </p:nvGrpSpPr>
              <p:grpSpPr>
                <a:xfrm>
                  <a:off x="6532560" y="1833480"/>
                  <a:ext cx="81000" cy="142920"/>
                  <a:chOff x="6532560" y="1833480"/>
                  <a:chExt cx="81000" cy="142920"/>
                </a:xfrm>
              </p:grpSpPr>
              <p:sp>
                <p:nvSpPr>
                  <p:cNvPr id="1130" name=""/>
                  <p:cNvSpPr/>
                  <p:nvPr/>
                </p:nvSpPr>
                <p:spPr>
                  <a:xfrm>
                    <a:off x="6532560" y="1833480"/>
                    <a:ext cx="81000" cy="142920"/>
                  </a:xfrm>
                  <a:custGeom>
                    <a:avLst/>
                    <a:gdLst/>
                    <a:ahLst/>
                    <a:rect l="l" t="t" r="r" b="b"/>
                    <a:pathLst>
                      <a:path w="152" h="268">
                        <a:moveTo>
                          <a:pt x="0" y="268"/>
                        </a:moveTo>
                        <a:lnTo>
                          <a:pt x="14" y="236"/>
                        </a:lnTo>
                        <a:lnTo>
                          <a:pt x="28" y="189"/>
                        </a:lnTo>
                        <a:lnTo>
                          <a:pt x="56" y="158"/>
                        </a:lnTo>
                        <a:lnTo>
                          <a:pt x="69" y="126"/>
                        </a:lnTo>
                        <a:lnTo>
                          <a:pt x="83" y="94"/>
                        </a:lnTo>
                        <a:lnTo>
                          <a:pt x="111" y="62"/>
                        </a:lnTo>
                        <a:lnTo>
                          <a:pt x="139" y="32"/>
                        </a:lnTo>
                        <a:lnTo>
                          <a:pt x="152" y="0"/>
                        </a:lnTo>
                        <a:lnTo>
                          <a:pt x="0"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532560" y="1833480"/>
                    <a:ext cx="81000" cy="142920"/>
                  </a:xfrm>
                  <a:custGeom>
                    <a:avLst/>
                    <a:gdLst/>
                    <a:ahLst/>
                    <a:rect l="l" t="t" r="r" b="b"/>
                    <a:pathLst>
                      <a:path w="152" h="268">
                        <a:moveTo>
                          <a:pt x="0" y="268"/>
                        </a:moveTo>
                        <a:lnTo>
                          <a:pt x="14" y="236"/>
                        </a:lnTo>
                        <a:lnTo>
                          <a:pt x="28" y="189"/>
                        </a:lnTo>
                        <a:lnTo>
                          <a:pt x="56" y="158"/>
                        </a:lnTo>
                        <a:lnTo>
                          <a:pt x="69" y="126"/>
                        </a:lnTo>
                        <a:lnTo>
                          <a:pt x="83" y="94"/>
                        </a:lnTo>
                        <a:lnTo>
                          <a:pt x="111" y="62"/>
                        </a:lnTo>
                        <a:lnTo>
                          <a:pt x="139" y="32"/>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2" name=""/>
                <p:cNvGrpSpPr/>
                <p:nvPr/>
              </p:nvGrpSpPr>
              <p:grpSpPr>
                <a:xfrm>
                  <a:off x="6613560" y="1792440"/>
                  <a:ext cx="36360" cy="41040"/>
                  <a:chOff x="6613560" y="1792440"/>
                  <a:chExt cx="36360" cy="41040"/>
                </a:xfrm>
              </p:grpSpPr>
              <p:sp>
                <p:nvSpPr>
                  <p:cNvPr id="1133" name=""/>
                  <p:cNvSpPr/>
                  <p:nvPr/>
                </p:nvSpPr>
                <p:spPr>
                  <a:xfrm>
                    <a:off x="6613560" y="1792440"/>
                    <a:ext cx="36360" cy="41040"/>
                  </a:xfrm>
                  <a:custGeom>
                    <a:avLst/>
                    <a:gdLst/>
                    <a:ahLst/>
                    <a:rect l="l" t="t" r="r" b="b"/>
                    <a:pathLst>
                      <a:path w="70" h="79">
                        <a:moveTo>
                          <a:pt x="0" y="79"/>
                        </a:moveTo>
                        <a:lnTo>
                          <a:pt x="28" y="47"/>
                        </a:lnTo>
                        <a:lnTo>
                          <a:pt x="42" y="32"/>
                        </a:lnTo>
                        <a:lnTo>
                          <a:pt x="70" y="0"/>
                        </a:lnTo>
                        <a:lnTo>
                          <a:pt x="0"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4" name=""/>
                  <p:cNvSpPr/>
                  <p:nvPr/>
                </p:nvSpPr>
                <p:spPr>
                  <a:xfrm>
                    <a:off x="6613560" y="1792440"/>
                    <a:ext cx="36360" cy="41040"/>
                  </a:xfrm>
                  <a:custGeom>
                    <a:avLst/>
                    <a:gdLst/>
                    <a:ahLst/>
                    <a:rect l="l" t="t" r="r" b="b"/>
                    <a:pathLst>
                      <a:path w="70" h="79">
                        <a:moveTo>
                          <a:pt x="0" y="79"/>
                        </a:moveTo>
                        <a:lnTo>
                          <a:pt x="28" y="47"/>
                        </a:lnTo>
                        <a:lnTo>
                          <a:pt x="42" y="32"/>
                        </a:lnTo>
                        <a:lnTo>
                          <a:pt x="7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135" name=""/>
                <p:cNvGrpSpPr/>
                <p:nvPr/>
              </p:nvGrpSpPr>
              <p:grpSpPr>
                <a:xfrm>
                  <a:off x="6649920" y="1774800"/>
                  <a:ext cx="14400" cy="17640"/>
                  <a:chOff x="6649920" y="1774800"/>
                  <a:chExt cx="14400" cy="17640"/>
                </a:xfrm>
              </p:grpSpPr>
              <p:sp>
                <p:nvSpPr>
                  <p:cNvPr id="1136" name=""/>
                  <p:cNvSpPr/>
                  <p:nvPr/>
                </p:nvSpPr>
                <p:spPr>
                  <a:xfrm>
                    <a:off x="6649920" y="1774800"/>
                    <a:ext cx="14400" cy="17640"/>
                  </a:xfrm>
                  <a:custGeom>
                    <a:avLst/>
                    <a:gdLst/>
                    <a:ahLst/>
                    <a:rect l="l" t="t" r="r" b="b"/>
                    <a:pathLst>
                      <a:path w="27" h="32">
                        <a:moveTo>
                          <a:pt x="0" y="32"/>
                        </a:moveTo>
                        <a:lnTo>
                          <a:pt x="13" y="15"/>
                        </a:lnTo>
                        <a:lnTo>
                          <a:pt x="27" y="15"/>
                        </a:lnTo>
                        <a:lnTo>
                          <a:pt x="27"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7" name=""/>
                  <p:cNvSpPr/>
                  <p:nvPr/>
                </p:nvSpPr>
                <p:spPr>
                  <a:xfrm>
                    <a:off x="6649920" y="1774800"/>
                    <a:ext cx="14400" cy="17640"/>
                  </a:xfrm>
                  <a:custGeom>
                    <a:avLst/>
                    <a:gdLst/>
                    <a:ahLst/>
                    <a:rect l="l" t="t" r="r" b="b"/>
                    <a:pathLst>
                      <a:path w="27" h="32">
                        <a:moveTo>
                          <a:pt x="0" y="32"/>
                        </a:moveTo>
                        <a:lnTo>
                          <a:pt x="13" y="15"/>
                        </a:lnTo>
                        <a:lnTo>
                          <a:pt x="27" y="15"/>
                        </a:lnTo>
                        <a:lnTo>
                          <a:pt x="2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38" name=""/>
                <p:cNvGrpSpPr/>
                <p:nvPr/>
              </p:nvGrpSpPr>
              <p:grpSpPr>
                <a:xfrm>
                  <a:off x="6562800" y="3537000"/>
                  <a:ext cx="190440" cy="576360"/>
                  <a:chOff x="6562800" y="3537000"/>
                  <a:chExt cx="190440" cy="576360"/>
                </a:xfrm>
              </p:grpSpPr>
              <p:sp>
                <p:nvSpPr>
                  <p:cNvPr id="1139" name=""/>
                  <p:cNvSpPr/>
                  <p:nvPr/>
                </p:nvSpPr>
                <p:spPr>
                  <a:xfrm>
                    <a:off x="6562800" y="3537000"/>
                    <a:ext cx="190440" cy="576360"/>
                  </a:xfrm>
                  <a:custGeom>
                    <a:avLst/>
                    <a:gdLst/>
                    <a:ahLst/>
                    <a:rect l="l" t="t" r="r" b="b"/>
                    <a:pathLst>
                      <a:path w="359" h="1088">
                        <a:moveTo>
                          <a:pt x="359" y="1088"/>
                        </a:moveTo>
                        <a:lnTo>
                          <a:pt x="345" y="1073"/>
                        </a:lnTo>
                        <a:lnTo>
                          <a:pt x="332" y="1041"/>
                        </a:lnTo>
                        <a:lnTo>
                          <a:pt x="304" y="1009"/>
                        </a:lnTo>
                        <a:lnTo>
                          <a:pt x="290" y="994"/>
                        </a:lnTo>
                        <a:lnTo>
                          <a:pt x="276" y="962"/>
                        </a:lnTo>
                        <a:lnTo>
                          <a:pt x="262" y="930"/>
                        </a:lnTo>
                        <a:lnTo>
                          <a:pt x="249" y="898"/>
                        </a:lnTo>
                        <a:lnTo>
                          <a:pt x="235" y="868"/>
                        </a:lnTo>
                        <a:lnTo>
                          <a:pt x="221" y="836"/>
                        </a:lnTo>
                        <a:lnTo>
                          <a:pt x="207" y="804"/>
                        </a:lnTo>
                        <a:lnTo>
                          <a:pt x="193" y="772"/>
                        </a:lnTo>
                        <a:lnTo>
                          <a:pt x="179" y="741"/>
                        </a:lnTo>
                        <a:lnTo>
                          <a:pt x="166" y="710"/>
                        </a:lnTo>
                        <a:lnTo>
                          <a:pt x="152" y="678"/>
                        </a:lnTo>
                        <a:lnTo>
                          <a:pt x="138" y="646"/>
                        </a:lnTo>
                        <a:lnTo>
                          <a:pt x="138" y="615"/>
                        </a:lnTo>
                        <a:lnTo>
                          <a:pt x="124" y="583"/>
                        </a:lnTo>
                        <a:lnTo>
                          <a:pt x="110" y="552"/>
                        </a:lnTo>
                        <a:lnTo>
                          <a:pt x="96" y="504"/>
                        </a:lnTo>
                        <a:lnTo>
                          <a:pt x="96" y="474"/>
                        </a:lnTo>
                        <a:lnTo>
                          <a:pt x="83" y="442"/>
                        </a:lnTo>
                        <a:lnTo>
                          <a:pt x="83" y="410"/>
                        </a:lnTo>
                        <a:lnTo>
                          <a:pt x="69" y="378"/>
                        </a:lnTo>
                        <a:lnTo>
                          <a:pt x="55" y="346"/>
                        </a:lnTo>
                        <a:lnTo>
                          <a:pt x="55" y="299"/>
                        </a:lnTo>
                        <a:lnTo>
                          <a:pt x="41" y="267"/>
                        </a:lnTo>
                        <a:lnTo>
                          <a:pt x="41" y="237"/>
                        </a:lnTo>
                        <a:lnTo>
                          <a:pt x="27" y="205"/>
                        </a:lnTo>
                        <a:lnTo>
                          <a:pt x="27" y="173"/>
                        </a:lnTo>
                        <a:lnTo>
                          <a:pt x="13" y="141"/>
                        </a:lnTo>
                        <a:lnTo>
                          <a:pt x="13" y="110"/>
                        </a:lnTo>
                        <a:lnTo>
                          <a:pt x="0" y="79"/>
                        </a:lnTo>
                        <a:lnTo>
                          <a:pt x="0" y="47"/>
                        </a:lnTo>
                        <a:lnTo>
                          <a:pt x="0" y="0"/>
                        </a:lnTo>
                        <a:lnTo>
                          <a:pt x="359" y="108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562800" y="3537000"/>
                    <a:ext cx="190440" cy="576360"/>
                  </a:xfrm>
                  <a:custGeom>
                    <a:avLst/>
                    <a:gdLst/>
                    <a:ahLst/>
                    <a:rect l="l" t="t" r="r" b="b"/>
                    <a:pathLst>
                      <a:path w="359" h="1088">
                        <a:moveTo>
                          <a:pt x="359" y="1088"/>
                        </a:moveTo>
                        <a:lnTo>
                          <a:pt x="345" y="1073"/>
                        </a:lnTo>
                        <a:lnTo>
                          <a:pt x="332" y="1041"/>
                        </a:lnTo>
                        <a:lnTo>
                          <a:pt x="304" y="1009"/>
                        </a:lnTo>
                        <a:lnTo>
                          <a:pt x="290" y="994"/>
                        </a:lnTo>
                        <a:lnTo>
                          <a:pt x="276" y="962"/>
                        </a:lnTo>
                        <a:lnTo>
                          <a:pt x="262" y="930"/>
                        </a:lnTo>
                        <a:lnTo>
                          <a:pt x="249" y="898"/>
                        </a:lnTo>
                        <a:lnTo>
                          <a:pt x="235" y="868"/>
                        </a:lnTo>
                        <a:lnTo>
                          <a:pt x="221" y="836"/>
                        </a:lnTo>
                        <a:lnTo>
                          <a:pt x="207" y="804"/>
                        </a:lnTo>
                        <a:lnTo>
                          <a:pt x="193" y="772"/>
                        </a:lnTo>
                        <a:lnTo>
                          <a:pt x="179" y="741"/>
                        </a:lnTo>
                        <a:lnTo>
                          <a:pt x="166" y="710"/>
                        </a:lnTo>
                        <a:lnTo>
                          <a:pt x="152" y="678"/>
                        </a:lnTo>
                        <a:lnTo>
                          <a:pt x="138" y="646"/>
                        </a:lnTo>
                        <a:lnTo>
                          <a:pt x="138" y="615"/>
                        </a:lnTo>
                        <a:lnTo>
                          <a:pt x="124" y="583"/>
                        </a:lnTo>
                        <a:lnTo>
                          <a:pt x="110" y="552"/>
                        </a:lnTo>
                        <a:lnTo>
                          <a:pt x="96" y="504"/>
                        </a:lnTo>
                        <a:lnTo>
                          <a:pt x="96" y="474"/>
                        </a:lnTo>
                        <a:lnTo>
                          <a:pt x="83" y="442"/>
                        </a:lnTo>
                        <a:lnTo>
                          <a:pt x="83" y="410"/>
                        </a:lnTo>
                        <a:lnTo>
                          <a:pt x="69" y="378"/>
                        </a:lnTo>
                        <a:lnTo>
                          <a:pt x="55" y="346"/>
                        </a:lnTo>
                        <a:lnTo>
                          <a:pt x="55" y="299"/>
                        </a:lnTo>
                        <a:lnTo>
                          <a:pt x="41" y="267"/>
                        </a:lnTo>
                        <a:lnTo>
                          <a:pt x="41" y="237"/>
                        </a:lnTo>
                        <a:lnTo>
                          <a:pt x="27" y="205"/>
                        </a:lnTo>
                        <a:lnTo>
                          <a:pt x="27" y="173"/>
                        </a:lnTo>
                        <a:lnTo>
                          <a:pt x="13" y="141"/>
                        </a:lnTo>
                        <a:lnTo>
                          <a:pt x="13" y="110"/>
                        </a:lnTo>
                        <a:lnTo>
                          <a:pt x="0" y="79"/>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1" name=""/>
                <p:cNvGrpSpPr/>
                <p:nvPr/>
              </p:nvGrpSpPr>
              <p:grpSpPr>
                <a:xfrm>
                  <a:off x="6526080" y="3278160"/>
                  <a:ext cx="36720" cy="258840"/>
                  <a:chOff x="6526080" y="3278160"/>
                  <a:chExt cx="36720" cy="258840"/>
                </a:xfrm>
              </p:grpSpPr>
              <p:sp>
                <p:nvSpPr>
                  <p:cNvPr id="1142" name=""/>
                  <p:cNvSpPr/>
                  <p:nvPr/>
                </p:nvSpPr>
                <p:spPr>
                  <a:xfrm>
                    <a:off x="6526080" y="3278160"/>
                    <a:ext cx="36720" cy="258840"/>
                  </a:xfrm>
                  <a:custGeom>
                    <a:avLst/>
                    <a:gdLst/>
                    <a:ahLst/>
                    <a:rect l="l" t="t" r="r" b="b"/>
                    <a:pathLst>
                      <a:path w="70" h="490">
                        <a:moveTo>
                          <a:pt x="70" y="490"/>
                        </a:moveTo>
                        <a:lnTo>
                          <a:pt x="56" y="458"/>
                        </a:lnTo>
                        <a:lnTo>
                          <a:pt x="56" y="427"/>
                        </a:lnTo>
                        <a:lnTo>
                          <a:pt x="42" y="380"/>
                        </a:lnTo>
                        <a:lnTo>
                          <a:pt x="42" y="348"/>
                        </a:lnTo>
                        <a:lnTo>
                          <a:pt x="28" y="301"/>
                        </a:lnTo>
                        <a:lnTo>
                          <a:pt x="28" y="269"/>
                        </a:lnTo>
                        <a:lnTo>
                          <a:pt x="28" y="222"/>
                        </a:lnTo>
                        <a:lnTo>
                          <a:pt x="14" y="190"/>
                        </a:lnTo>
                        <a:lnTo>
                          <a:pt x="14" y="143"/>
                        </a:lnTo>
                        <a:lnTo>
                          <a:pt x="14" y="111"/>
                        </a:lnTo>
                        <a:lnTo>
                          <a:pt x="14" y="64"/>
                        </a:lnTo>
                        <a:lnTo>
                          <a:pt x="0" y="32"/>
                        </a:lnTo>
                        <a:lnTo>
                          <a:pt x="0" y="0"/>
                        </a:lnTo>
                        <a:lnTo>
                          <a:pt x="70" y="49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526080" y="3278160"/>
                    <a:ext cx="36720" cy="258840"/>
                  </a:xfrm>
                  <a:custGeom>
                    <a:avLst/>
                    <a:gdLst/>
                    <a:ahLst/>
                    <a:rect l="l" t="t" r="r" b="b"/>
                    <a:pathLst>
                      <a:path w="70" h="490">
                        <a:moveTo>
                          <a:pt x="70" y="490"/>
                        </a:moveTo>
                        <a:lnTo>
                          <a:pt x="56" y="458"/>
                        </a:lnTo>
                        <a:lnTo>
                          <a:pt x="56" y="427"/>
                        </a:lnTo>
                        <a:lnTo>
                          <a:pt x="42" y="380"/>
                        </a:lnTo>
                        <a:lnTo>
                          <a:pt x="42" y="348"/>
                        </a:lnTo>
                        <a:lnTo>
                          <a:pt x="28" y="301"/>
                        </a:lnTo>
                        <a:lnTo>
                          <a:pt x="28" y="269"/>
                        </a:lnTo>
                        <a:lnTo>
                          <a:pt x="28" y="222"/>
                        </a:lnTo>
                        <a:lnTo>
                          <a:pt x="14" y="190"/>
                        </a:lnTo>
                        <a:lnTo>
                          <a:pt x="14" y="143"/>
                        </a:lnTo>
                        <a:lnTo>
                          <a:pt x="14" y="111"/>
                        </a:lnTo>
                        <a:lnTo>
                          <a:pt x="14" y="64"/>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4" name=""/>
                <p:cNvGrpSpPr/>
                <p:nvPr/>
              </p:nvGrpSpPr>
              <p:grpSpPr>
                <a:xfrm>
                  <a:off x="6518160" y="2585880"/>
                  <a:ext cx="14400" cy="692280"/>
                  <a:chOff x="6518160" y="2585880"/>
                  <a:chExt cx="14400" cy="692280"/>
                </a:xfrm>
              </p:grpSpPr>
              <p:sp>
                <p:nvSpPr>
                  <p:cNvPr id="1145" name=""/>
                  <p:cNvSpPr/>
                  <p:nvPr/>
                </p:nvSpPr>
                <p:spPr>
                  <a:xfrm>
                    <a:off x="6518160" y="2585880"/>
                    <a:ext cx="14400" cy="692280"/>
                  </a:xfrm>
                  <a:custGeom>
                    <a:avLst/>
                    <a:gdLst/>
                    <a:ahLst/>
                    <a:rect l="l" t="t" r="r" b="b"/>
                    <a:pathLst>
                      <a:path w="27" h="1308">
                        <a:moveTo>
                          <a:pt x="13" y="1308"/>
                        </a:moveTo>
                        <a:lnTo>
                          <a:pt x="13" y="1277"/>
                        </a:lnTo>
                        <a:lnTo>
                          <a:pt x="13" y="1230"/>
                        </a:lnTo>
                        <a:lnTo>
                          <a:pt x="13" y="1198"/>
                        </a:lnTo>
                        <a:lnTo>
                          <a:pt x="13" y="1167"/>
                        </a:lnTo>
                        <a:lnTo>
                          <a:pt x="13" y="1136"/>
                        </a:lnTo>
                        <a:lnTo>
                          <a:pt x="13" y="1104"/>
                        </a:lnTo>
                        <a:lnTo>
                          <a:pt x="13" y="1057"/>
                        </a:lnTo>
                        <a:lnTo>
                          <a:pt x="13" y="1025"/>
                        </a:lnTo>
                        <a:lnTo>
                          <a:pt x="13" y="993"/>
                        </a:lnTo>
                        <a:lnTo>
                          <a:pt x="13" y="961"/>
                        </a:lnTo>
                        <a:lnTo>
                          <a:pt x="13" y="914"/>
                        </a:lnTo>
                        <a:lnTo>
                          <a:pt x="13" y="882"/>
                        </a:lnTo>
                        <a:lnTo>
                          <a:pt x="13" y="852"/>
                        </a:lnTo>
                        <a:lnTo>
                          <a:pt x="13" y="820"/>
                        </a:lnTo>
                        <a:lnTo>
                          <a:pt x="13" y="788"/>
                        </a:lnTo>
                        <a:lnTo>
                          <a:pt x="13" y="741"/>
                        </a:lnTo>
                        <a:lnTo>
                          <a:pt x="13" y="709"/>
                        </a:lnTo>
                        <a:lnTo>
                          <a:pt x="13" y="678"/>
                        </a:lnTo>
                        <a:lnTo>
                          <a:pt x="13" y="646"/>
                        </a:lnTo>
                        <a:lnTo>
                          <a:pt x="0" y="599"/>
                        </a:lnTo>
                        <a:lnTo>
                          <a:pt x="0" y="567"/>
                        </a:lnTo>
                        <a:lnTo>
                          <a:pt x="0" y="535"/>
                        </a:lnTo>
                        <a:lnTo>
                          <a:pt x="0" y="505"/>
                        </a:lnTo>
                        <a:lnTo>
                          <a:pt x="0" y="473"/>
                        </a:lnTo>
                        <a:lnTo>
                          <a:pt x="0" y="426"/>
                        </a:lnTo>
                        <a:lnTo>
                          <a:pt x="0" y="394"/>
                        </a:lnTo>
                        <a:lnTo>
                          <a:pt x="0" y="362"/>
                        </a:lnTo>
                        <a:lnTo>
                          <a:pt x="13" y="330"/>
                        </a:lnTo>
                        <a:lnTo>
                          <a:pt x="13" y="283"/>
                        </a:lnTo>
                        <a:lnTo>
                          <a:pt x="13" y="251"/>
                        </a:lnTo>
                        <a:lnTo>
                          <a:pt x="13" y="220"/>
                        </a:lnTo>
                        <a:lnTo>
                          <a:pt x="13" y="189"/>
                        </a:lnTo>
                        <a:lnTo>
                          <a:pt x="13" y="141"/>
                        </a:lnTo>
                        <a:lnTo>
                          <a:pt x="13" y="110"/>
                        </a:lnTo>
                        <a:lnTo>
                          <a:pt x="13" y="78"/>
                        </a:lnTo>
                        <a:lnTo>
                          <a:pt x="27" y="31"/>
                        </a:lnTo>
                        <a:lnTo>
                          <a:pt x="27" y="0"/>
                        </a:lnTo>
                        <a:lnTo>
                          <a:pt x="13" y="130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518160" y="2585880"/>
                    <a:ext cx="14400" cy="692280"/>
                  </a:xfrm>
                  <a:custGeom>
                    <a:avLst/>
                    <a:gdLst/>
                    <a:ahLst/>
                    <a:rect l="l" t="t" r="r" b="b"/>
                    <a:pathLst>
                      <a:path w="27" h="1308">
                        <a:moveTo>
                          <a:pt x="13" y="1308"/>
                        </a:moveTo>
                        <a:lnTo>
                          <a:pt x="13" y="1277"/>
                        </a:lnTo>
                        <a:lnTo>
                          <a:pt x="13" y="1230"/>
                        </a:lnTo>
                        <a:lnTo>
                          <a:pt x="13" y="1198"/>
                        </a:lnTo>
                        <a:lnTo>
                          <a:pt x="13" y="1167"/>
                        </a:lnTo>
                        <a:lnTo>
                          <a:pt x="13" y="1136"/>
                        </a:lnTo>
                        <a:lnTo>
                          <a:pt x="13" y="1104"/>
                        </a:lnTo>
                        <a:lnTo>
                          <a:pt x="13" y="1057"/>
                        </a:lnTo>
                        <a:lnTo>
                          <a:pt x="13" y="1025"/>
                        </a:lnTo>
                        <a:lnTo>
                          <a:pt x="13" y="993"/>
                        </a:lnTo>
                        <a:lnTo>
                          <a:pt x="13" y="961"/>
                        </a:lnTo>
                        <a:lnTo>
                          <a:pt x="13" y="914"/>
                        </a:lnTo>
                        <a:lnTo>
                          <a:pt x="13" y="882"/>
                        </a:lnTo>
                        <a:lnTo>
                          <a:pt x="13" y="852"/>
                        </a:lnTo>
                        <a:lnTo>
                          <a:pt x="13" y="820"/>
                        </a:lnTo>
                        <a:lnTo>
                          <a:pt x="13" y="788"/>
                        </a:lnTo>
                        <a:lnTo>
                          <a:pt x="13" y="741"/>
                        </a:lnTo>
                        <a:lnTo>
                          <a:pt x="13" y="709"/>
                        </a:lnTo>
                        <a:lnTo>
                          <a:pt x="13" y="678"/>
                        </a:lnTo>
                        <a:lnTo>
                          <a:pt x="13" y="646"/>
                        </a:lnTo>
                        <a:lnTo>
                          <a:pt x="0" y="599"/>
                        </a:lnTo>
                        <a:lnTo>
                          <a:pt x="0" y="567"/>
                        </a:lnTo>
                        <a:lnTo>
                          <a:pt x="0" y="535"/>
                        </a:lnTo>
                        <a:lnTo>
                          <a:pt x="0" y="505"/>
                        </a:lnTo>
                        <a:lnTo>
                          <a:pt x="0" y="473"/>
                        </a:lnTo>
                        <a:lnTo>
                          <a:pt x="0" y="426"/>
                        </a:lnTo>
                        <a:lnTo>
                          <a:pt x="0" y="394"/>
                        </a:lnTo>
                        <a:lnTo>
                          <a:pt x="0" y="362"/>
                        </a:lnTo>
                        <a:lnTo>
                          <a:pt x="13" y="330"/>
                        </a:lnTo>
                        <a:lnTo>
                          <a:pt x="13" y="283"/>
                        </a:lnTo>
                        <a:lnTo>
                          <a:pt x="13" y="251"/>
                        </a:lnTo>
                        <a:lnTo>
                          <a:pt x="13" y="220"/>
                        </a:lnTo>
                        <a:lnTo>
                          <a:pt x="13" y="189"/>
                        </a:lnTo>
                        <a:lnTo>
                          <a:pt x="13" y="141"/>
                        </a:lnTo>
                        <a:lnTo>
                          <a:pt x="13" y="110"/>
                        </a:lnTo>
                        <a:lnTo>
                          <a:pt x="13" y="78"/>
                        </a:lnTo>
                        <a:lnTo>
                          <a:pt x="27" y="31"/>
                        </a:lnTo>
                        <a:lnTo>
                          <a:pt x="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7" name=""/>
                <p:cNvGrpSpPr/>
                <p:nvPr/>
              </p:nvGrpSpPr>
              <p:grpSpPr>
                <a:xfrm>
                  <a:off x="6532560" y="2443320"/>
                  <a:ext cx="15840" cy="142560"/>
                  <a:chOff x="6532560" y="2443320"/>
                  <a:chExt cx="15840" cy="142560"/>
                </a:xfrm>
              </p:grpSpPr>
              <p:sp>
                <p:nvSpPr>
                  <p:cNvPr id="1148" name=""/>
                  <p:cNvSpPr/>
                  <p:nvPr/>
                </p:nvSpPr>
                <p:spPr>
                  <a:xfrm>
                    <a:off x="6532560" y="2443320"/>
                    <a:ext cx="15840" cy="142560"/>
                  </a:xfrm>
                  <a:custGeom>
                    <a:avLst/>
                    <a:gdLst/>
                    <a:ahLst/>
                    <a:rect l="l" t="t" r="r" b="b"/>
                    <a:pathLst>
                      <a:path w="28" h="269">
                        <a:moveTo>
                          <a:pt x="0" y="269"/>
                        </a:moveTo>
                        <a:lnTo>
                          <a:pt x="0" y="221"/>
                        </a:lnTo>
                        <a:lnTo>
                          <a:pt x="0" y="190"/>
                        </a:lnTo>
                        <a:lnTo>
                          <a:pt x="14" y="143"/>
                        </a:lnTo>
                        <a:lnTo>
                          <a:pt x="14" y="94"/>
                        </a:lnTo>
                        <a:lnTo>
                          <a:pt x="14" y="47"/>
                        </a:lnTo>
                        <a:lnTo>
                          <a:pt x="28" y="0"/>
                        </a:lnTo>
                        <a:lnTo>
                          <a:pt x="0" y="26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532560" y="2443320"/>
                    <a:ext cx="15840" cy="142560"/>
                  </a:xfrm>
                  <a:custGeom>
                    <a:avLst/>
                    <a:gdLst/>
                    <a:ahLst/>
                    <a:rect l="l" t="t" r="r" b="b"/>
                    <a:pathLst>
                      <a:path w="28" h="269">
                        <a:moveTo>
                          <a:pt x="0" y="269"/>
                        </a:moveTo>
                        <a:lnTo>
                          <a:pt x="0" y="221"/>
                        </a:lnTo>
                        <a:lnTo>
                          <a:pt x="0" y="190"/>
                        </a:lnTo>
                        <a:lnTo>
                          <a:pt x="14" y="143"/>
                        </a:lnTo>
                        <a:lnTo>
                          <a:pt x="14" y="94"/>
                        </a:lnTo>
                        <a:lnTo>
                          <a:pt x="14" y="47"/>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6548400" y="1976400"/>
                  <a:ext cx="109440" cy="466920"/>
                  <a:chOff x="6548400" y="1976400"/>
                  <a:chExt cx="109440" cy="466920"/>
                </a:xfrm>
              </p:grpSpPr>
              <p:sp>
                <p:nvSpPr>
                  <p:cNvPr id="1151" name=""/>
                  <p:cNvSpPr/>
                  <p:nvPr/>
                </p:nvSpPr>
                <p:spPr>
                  <a:xfrm>
                    <a:off x="6548400" y="1976400"/>
                    <a:ext cx="109440" cy="466920"/>
                  </a:xfrm>
                  <a:custGeom>
                    <a:avLst/>
                    <a:gdLst/>
                    <a:ahLst/>
                    <a:rect l="l" t="t" r="r" b="b"/>
                    <a:pathLst>
                      <a:path w="207" h="883">
                        <a:moveTo>
                          <a:pt x="0" y="883"/>
                        </a:moveTo>
                        <a:lnTo>
                          <a:pt x="0" y="851"/>
                        </a:lnTo>
                        <a:lnTo>
                          <a:pt x="14" y="804"/>
                        </a:lnTo>
                        <a:lnTo>
                          <a:pt x="14" y="757"/>
                        </a:lnTo>
                        <a:lnTo>
                          <a:pt x="14" y="725"/>
                        </a:lnTo>
                        <a:lnTo>
                          <a:pt x="28" y="694"/>
                        </a:lnTo>
                        <a:lnTo>
                          <a:pt x="28" y="662"/>
                        </a:lnTo>
                        <a:lnTo>
                          <a:pt x="41" y="615"/>
                        </a:lnTo>
                        <a:lnTo>
                          <a:pt x="41" y="583"/>
                        </a:lnTo>
                        <a:lnTo>
                          <a:pt x="55" y="552"/>
                        </a:lnTo>
                        <a:lnTo>
                          <a:pt x="55" y="521"/>
                        </a:lnTo>
                        <a:lnTo>
                          <a:pt x="69" y="473"/>
                        </a:lnTo>
                        <a:lnTo>
                          <a:pt x="69" y="442"/>
                        </a:lnTo>
                        <a:lnTo>
                          <a:pt x="83" y="410"/>
                        </a:lnTo>
                        <a:lnTo>
                          <a:pt x="83" y="378"/>
                        </a:lnTo>
                        <a:lnTo>
                          <a:pt x="97" y="346"/>
                        </a:lnTo>
                        <a:lnTo>
                          <a:pt x="111" y="299"/>
                        </a:lnTo>
                        <a:lnTo>
                          <a:pt x="111" y="267"/>
                        </a:lnTo>
                        <a:lnTo>
                          <a:pt x="124" y="237"/>
                        </a:lnTo>
                        <a:lnTo>
                          <a:pt x="138" y="205"/>
                        </a:lnTo>
                        <a:lnTo>
                          <a:pt x="152" y="173"/>
                        </a:lnTo>
                        <a:lnTo>
                          <a:pt x="152" y="126"/>
                        </a:lnTo>
                        <a:lnTo>
                          <a:pt x="166" y="94"/>
                        </a:lnTo>
                        <a:lnTo>
                          <a:pt x="180" y="63"/>
                        </a:lnTo>
                        <a:lnTo>
                          <a:pt x="194" y="31"/>
                        </a:lnTo>
                        <a:lnTo>
                          <a:pt x="207" y="0"/>
                        </a:lnTo>
                        <a:lnTo>
                          <a:pt x="0" y="8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548400" y="1976400"/>
                    <a:ext cx="109440" cy="466920"/>
                  </a:xfrm>
                  <a:custGeom>
                    <a:avLst/>
                    <a:gdLst/>
                    <a:ahLst/>
                    <a:rect l="l" t="t" r="r" b="b"/>
                    <a:pathLst>
                      <a:path w="207" h="883">
                        <a:moveTo>
                          <a:pt x="0" y="883"/>
                        </a:moveTo>
                        <a:lnTo>
                          <a:pt x="0" y="851"/>
                        </a:lnTo>
                        <a:lnTo>
                          <a:pt x="14" y="804"/>
                        </a:lnTo>
                        <a:lnTo>
                          <a:pt x="14" y="757"/>
                        </a:lnTo>
                        <a:lnTo>
                          <a:pt x="14" y="725"/>
                        </a:lnTo>
                        <a:lnTo>
                          <a:pt x="28" y="694"/>
                        </a:lnTo>
                        <a:lnTo>
                          <a:pt x="28" y="662"/>
                        </a:lnTo>
                        <a:lnTo>
                          <a:pt x="41" y="615"/>
                        </a:lnTo>
                        <a:lnTo>
                          <a:pt x="41" y="583"/>
                        </a:lnTo>
                        <a:lnTo>
                          <a:pt x="55" y="552"/>
                        </a:lnTo>
                        <a:lnTo>
                          <a:pt x="55" y="521"/>
                        </a:lnTo>
                        <a:lnTo>
                          <a:pt x="69" y="473"/>
                        </a:lnTo>
                        <a:lnTo>
                          <a:pt x="69" y="442"/>
                        </a:lnTo>
                        <a:lnTo>
                          <a:pt x="83" y="410"/>
                        </a:lnTo>
                        <a:lnTo>
                          <a:pt x="83" y="378"/>
                        </a:lnTo>
                        <a:lnTo>
                          <a:pt x="97" y="346"/>
                        </a:lnTo>
                        <a:lnTo>
                          <a:pt x="111" y="299"/>
                        </a:lnTo>
                        <a:lnTo>
                          <a:pt x="111" y="267"/>
                        </a:lnTo>
                        <a:lnTo>
                          <a:pt x="124" y="237"/>
                        </a:lnTo>
                        <a:lnTo>
                          <a:pt x="138" y="205"/>
                        </a:lnTo>
                        <a:lnTo>
                          <a:pt x="152" y="173"/>
                        </a:lnTo>
                        <a:lnTo>
                          <a:pt x="152" y="126"/>
                        </a:lnTo>
                        <a:lnTo>
                          <a:pt x="166" y="94"/>
                        </a:lnTo>
                        <a:lnTo>
                          <a:pt x="180" y="63"/>
                        </a:lnTo>
                        <a:lnTo>
                          <a:pt x="194" y="31"/>
                        </a:lnTo>
                        <a:lnTo>
                          <a:pt x="20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6657840" y="1833480"/>
                  <a:ext cx="59040" cy="142920"/>
                  <a:chOff x="6657840" y="1833480"/>
                  <a:chExt cx="59040" cy="142920"/>
                </a:xfrm>
              </p:grpSpPr>
              <p:sp>
                <p:nvSpPr>
                  <p:cNvPr id="1154" name=""/>
                  <p:cNvSpPr/>
                  <p:nvPr/>
                </p:nvSpPr>
                <p:spPr>
                  <a:xfrm>
                    <a:off x="6657840" y="1833480"/>
                    <a:ext cx="59040" cy="142920"/>
                  </a:xfrm>
                  <a:custGeom>
                    <a:avLst/>
                    <a:gdLst/>
                    <a:ahLst/>
                    <a:rect l="l" t="t" r="r" b="b"/>
                    <a:pathLst>
                      <a:path w="111" h="268">
                        <a:moveTo>
                          <a:pt x="0" y="268"/>
                        </a:moveTo>
                        <a:lnTo>
                          <a:pt x="14" y="220"/>
                        </a:lnTo>
                        <a:lnTo>
                          <a:pt x="28" y="189"/>
                        </a:lnTo>
                        <a:lnTo>
                          <a:pt x="42" y="158"/>
                        </a:lnTo>
                        <a:lnTo>
                          <a:pt x="56" y="111"/>
                        </a:lnTo>
                        <a:lnTo>
                          <a:pt x="70" y="79"/>
                        </a:lnTo>
                        <a:lnTo>
                          <a:pt x="97" y="32"/>
                        </a:lnTo>
                        <a:lnTo>
                          <a:pt x="111" y="0"/>
                        </a:lnTo>
                        <a:lnTo>
                          <a:pt x="0"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657840" y="1833480"/>
                    <a:ext cx="59040" cy="142920"/>
                  </a:xfrm>
                  <a:custGeom>
                    <a:avLst/>
                    <a:gdLst/>
                    <a:ahLst/>
                    <a:rect l="l" t="t" r="r" b="b"/>
                    <a:pathLst>
                      <a:path w="111" h="268">
                        <a:moveTo>
                          <a:pt x="0" y="268"/>
                        </a:moveTo>
                        <a:lnTo>
                          <a:pt x="14" y="220"/>
                        </a:lnTo>
                        <a:lnTo>
                          <a:pt x="28" y="189"/>
                        </a:lnTo>
                        <a:lnTo>
                          <a:pt x="42" y="158"/>
                        </a:lnTo>
                        <a:lnTo>
                          <a:pt x="56" y="111"/>
                        </a:lnTo>
                        <a:lnTo>
                          <a:pt x="70" y="79"/>
                        </a:lnTo>
                        <a:lnTo>
                          <a:pt x="97" y="32"/>
                        </a:lnTo>
                        <a:lnTo>
                          <a:pt x="1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6716880" y="1792440"/>
                  <a:ext cx="28440" cy="41040"/>
                  <a:chOff x="6716880" y="1792440"/>
                  <a:chExt cx="28440" cy="41040"/>
                </a:xfrm>
              </p:grpSpPr>
              <p:sp>
                <p:nvSpPr>
                  <p:cNvPr id="1157" name=""/>
                  <p:cNvSpPr/>
                  <p:nvPr/>
                </p:nvSpPr>
                <p:spPr>
                  <a:xfrm>
                    <a:off x="6716880" y="1792440"/>
                    <a:ext cx="28440" cy="41040"/>
                  </a:xfrm>
                  <a:custGeom>
                    <a:avLst/>
                    <a:gdLst/>
                    <a:ahLst/>
                    <a:rect l="l" t="t" r="r" b="b"/>
                    <a:pathLst>
                      <a:path w="55" h="79">
                        <a:moveTo>
                          <a:pt x="0" y="79"/>
                        </a:moveTo>
                        <a:lnTo>
                          <a:pt x="14" y="62"/>
                        </a:lnTo>
                        <a:lnTo>
                          <a:pt x="28" y="32"/>
                        </a:lnTo>
                        <a:lnTo>
                          <a:pt x="55" y="0"/>
                        </a:lnTo>
                        <a:lnTo>
                          <a:pt x="0"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8" name=""/>
                  <p:cNvSpPr/>
                  <p:nvPr/>
                </p:nvSpPr>
                <p:spPr>
                  <a:xfrm>
                    <a:off x="6716880" y="1792440"/>
                    <a:ext cx="28440" cy="41040"/>
                  </a:xfrm>
                  <a:custGeom>
                    <a:avLst/>
                    <a:gdLst/>
                    <a:ahLst/>
                    <a:rect l="l" t="t" r="r" b="b"/>
                    <a:pathLst>
                      <a:path w="55" h="79">
                        <a:moveTo>
                          <a:pt x="0" y="79"/>
                        </a:moveTo>
                        <a:lnTo>
                          <a:pt x="14" y="62"/>
                        </a:lnTo>
                        <a:lnTo>
                          <a:pt x="28" y="32"/>
                        </a:lnTo>
                        <a:lnTo>
                          <a:pt x="55"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159" name=""/>
                <p:cNvGrpSpPr/>
                <p:nvPr/>
              </p:nvGrpSpPr>
              <p:grpSpPr>
                <a:xfrm>
                  <a:off x="6745320" y="1774800"/>
                  <a:ext cx="7920" cy="17640"/>
                  <a:chOff x="6745320" y="1774800"/>
                  <a:chExt cx="7920" cy="17640"/>
                </a:xfrm>
              </p:grpSpPr>
              <p:sp>
                <p:nvSpPr>
                  <p:cNvPr id="1160" name=""/>
                  <p:cNvSpPr/>
                  <p:nvPr/>
                </p:nvSpPr>
                <p:spPr>
                  <a:xfrm>
                    <a:off x="6745320" y="1774800"/>
                    <a:ext cx="7920" cy="17640"/>
                  </a:xfrm>
                  <a:custGeom>
                    <a:avLst/>
                    <a:gdLst/>
                    <a:ahLst/>
                    <a:rect l="l" t="t" r="r" b="b"/>
                    <a:pathLst>
                      <a:path w="14" h="32">
                        <a:moveTo>
                          <a:pt x="0" y="32"/>
                        </a:moveTo>
                        <a:lnTo>
                          <a:pt x="0" y="15"/>
                        </a:lnTo>
                        <a:lnTo>
                          <a:pt x="14" y="15"/>
                        </a:lnTo>
                        <a:lnTo>
                          <a:pt x="14"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1" name=""/>
                  <p:cNvSpPr/>
                  <p:nvPr/>
                </p:nvSpPr>
                <p:spPr>
                  <a:xfrm>
                    <a:off x="6745320" y="1774800"/>
                    <a:ext cx="7920" cy="17640"/>
                  </a:xfrm>
                  <a:custGeom>
                    <a:avLst/>
                    <a:gdLst/>
                    <a:ahLst/>
                    <a:rect l="l" t="t" r="r" b="b"/>
                    <a:pathLst>
                      <a:path w="14" h="32">
                        <a:moveTo>
                          <a:pt x="0" y="32"/>
                        </a:moveTo>
                        <a:lnTo>
                          <a:pt x="0" y="15"/>
                        </a:lnTo>
                        <a:lnTo>
                          <a:pt x="14" y="15"/>
                        </a:lnTo>
                        <a:lnTo>
                          <a:pt x="14"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62" name=""/>
                <p:cNvGrpSpPr/>
                <p:nvPr/>
              </p:nvGrpSpPr>
              <p:grpSpPr>
                <a:xfrm>
                  <a:off x="6759720" y="3828960"/>
                  <a:ext cx="82440" cy="284400"/>
                  <a:chOff x="6759720" y="3828960"/>
                  <a:chExt cx="82440" cy="284400"/>
                </a:xfrm>
              </p:grpSpPr>
              <p:sp>
                <p:nvSpPr>
                  <p:cNvPr id="1163" name=""/>
                  <p:cNvSpPr/>
                  <p:nvPr/>
                </p:nvSpPr>
                <p:spPr>
                  <a:xfrm>
                    <a:off x="6759720" y="3828960"/>
                    <a:ext cx="82440" cy="284400"/>
                  </a:xfrm>
                  <a:custGeom>
                    <a:avLst/>
                    <a:gdLst/>
                    <a:ahLst/>
                    <a:rect l="l" t="t" r="r" b="b"/>
                    <a:pathLst>
                      <a:path w="154" h="536">
                        <a:moveTo>
                          <a:pt x="154" y="536"/>
                        </a:moveTo>
                        <a:lnTo>
                          <a:pt x="140" y="504"/>
                        </a:lnTo>
                        <a:lnTo>
                          <a:pt x="126" y="474"/>
                        </a:lnTo>
                        <a:lnTo>
                          <a:pt x="112" y="442"/>
                        </a:lnTo>
                        <a:lnTo>
                          <a:pt x="97" y="410"/>
                        </a:lnTo>
                        <a:lnTo>
                          <a:pt x="83" y="378"/>
                        </a:lnTo>
                        <a:lnTo>
                          <a:pt x="83" y="331"/>
                        </a:lnTo>
                        <a:lnTo>
                          <a:pt x="69" y="299"/>
                        </a:lnTo>
                        <a:lnTo>
                          <a:pt x="55" y="267"/>
                        </a:lnTo>
                        <a:lnTo>
                          <a:pt x="41" y="220"/>
                        </a:lnTo>
                        <a:lnTo>
                          <a:pt x="41" y="189"/>
                        </a:lnTo>
                        <a:lnTo>
                          <a:pt x="28" y="158"/>
                        </a:lnTo>
                        <a:lnTo>
                          <a:pt x="14" y="110"/>
                        </a:lnTo>
                        <a:lnTo>
                          <a:pt x="14" y="79"/>
                        </a:lnTo>
                        <a:lnTo>
                          <a:pt x="0" y="47"/>
                        </a:lnTo>
                        <a:lnTo>
                          <a:pt x="0" y="0"/>
                        </a:lnTo>
                        <a:lnTo>
                          <a:pt x="154" y="5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759720" y="3828960"/>
                    <a:ext cx="82440" cy="284400"/>
                  </a:xfrm>
                  <a:custGeom>
                    <a:avLst/>
                    <a:gdLst/>
                    <a:ahLst/>
                    <a:rect l="l" t="t" r="r" b="b"/>
                    <a:pathLst>
                      <a:path w="154" h="536">
                        <a:moveTo>
                          <a:pt x="154" y="536"/>
                        </a:moveTo>
                        <a:lnTo>
                          <a:pt x="140" y="504"/>
                        </a:lnTo>
                        <a:lnTo>
                          <a:pt x="126" y="474"/>
                        </a:lnTo>
                        <a:lnTo>
                          <a:pt x="112" y="442"/>
                        </a:lnTo>
                        <a:lnTo>
                          <a:pt x="97" y="410"/>
                        </a:lnTo>
                        <a:lnTo>
                          <a:pt x="83" y="378"/>
                        </a:lnTo>
                        <a:lnTo>
                          <a:pt x="83" y="331"/>
                        </a:lnTo>
                        <a:lnTo>
                          <a:pt x="69" y="299"/>
                        </a:lnTo>
                        <a:lnTo>
                          <a:pt x="55" y="267"/>
                        </a:lnTo>
                        <a:lnTo>
                          <a:pt x="41" y="220"/>
                        </a:lnTo>
                        <a:lnTo>
                          <a:pt x="41" y="189"/>
                        </a:lnTo>
                        <a:lnTo>
                          <a:pt x="28" y="158"/>
                        </a:lnTo>
                        <a:lnTo>
                          <a:pt x="14" y="110"/>
                        </a:lnTo>
                        <a:lnTo>
                          <a:pt x="14" y="79"/>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5" name=""/>
                <p:cNvGrpSpPr/>
                <p:nvPr/>
              </p:nvGrpSpPr>
              <p:grpSpPr>
                <a:xfrm>
                  <a:off x="6716880" y="3578400"/>
                  <a:ext cx="42840" cy="250560"/>
                  <a:chOff x="6716880" y="3578400"/>
                  <a:chExt cx="42840" cy="250560"/>
                </a:xfrm>
              </p:grpSpPr>
              <p:sp>
                <p:nvSpPr>
                  <p:cNvPr id="1166" name=""/>
                  <p:cNvSpPr/>
                  <p:nvPr/>
                </p:nvSpPr>
                <p:spPr>
                  <a:xfrm>
                    <a:off x="6716880" y="3578400"/>
                    <a:ext cx="42840" cy="250560"/>
                  </a:xfrm>
                  <a:custGeom>
                    <a:avLst/>
                    <a:gdLst/>
                    <a:ahLst/>
                    <a:rect l="l" t="t" r="r" b="b"/>
                    <a:pathLst>
                      <a:path w="83" h="473">
                        <a:moveTo>
                          <a:pt x="83" y="473"/>
                        </a:moveTo>
                        <a:lnTo>
                          <a:pt x="69" y="442"/>
                        </a:lnTo>
                        <a:lnTo>
                          <a:pt x="69" y="410"/>
                        </a:lnTo>
                        <a:lnTo>
                          <a:pt x="55" y="378"/>
                        </a:lnTo>
                        <a:lnTo>
                          <a:pt x="55" y="331"/>
                        </a:lnTo>
                        <a:lnTo>
                          <a:pt x="42" y="299"/>
                        </a:lnTo>
                        <a:lnTo>
                          <a:pt x="42" y="267"/>
                        </a:lnTo>
                        <a:lnTo>
                          <a:pt x="28" y="220"/>
                        </a:lnTo>
                        <a:lnTo>
                          <a:pt x="28" y="188"/>
                        </a:lnTo>
                        <a:lnTo>
                          <a:pt x="28" y="158"/>
                        </a:lnTo>
                        <a:lnTo>
                          <a:pt x="14" y="109"/>
                        </a:lnTo>
                        <a:lnTo>
                          <a:pt x="14" y="79"/>
                        </a:lnTo>
                        <a:lnTo>
                          <a:pt x="14" y="47"/>
                        </a:lnTo>
                        <a:lnTo>
                          <a:pt x="0" y="0"/>
                        </a:lnTo>
                        <a:lnTo>
                          <a:pt x="83" y="4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716880" y="3578400"/>
                    <a:ext cx="42840" cy="250560"/>
                  </a:xfrm>
                  <a:custGeom>
                    <a:avLst/>
                    <a:gdLst/>
                    <a:ahLst/>
                    <a:rect l="l" t="t" r="r" b="b"/>
                    <a:pathLst>
                      <a:path w="83" h="473">
                        <a:moveTo>
                          <a:pt x="83" y="473"/>
                        </a:moveTo>
                        <a:lnTo>
                          <a:pt x="69" y="442"/>
                        </a:lnTo>
                        <a:lnTo>
                          <a:pt x="69" y="410"/>
                        </a:lnTo>
                        <a:lnTo>
                          <a:pt x="55" y="378"/>
                        </a:lnTo>
                        <a:lnTo>
                          <a:pt x="55" y="331"/>
                        </a:lnTo>
                        <a:lnTo>
                          <a:pt x="42" y="299"/>
                        </a:lnTo>
                        <a:lnTo>
                          <a:pt x="42" y="267"/>
                        </a:lnTo>
                        <a:lnTo>
                          <a:pt x="28" y="220"/>
                        </a:lnTo>
                        <a:lnTo>
                          <a:pt x="28" y="188"/>
                        </a:lnTo>
                        <a:lnTo>
                          <a:pt x="28" y="158"/>
                        </a:lnTo>
                        <a:lnTo>
                          <a:pt x="14" y="109"/>
                        </a:lnTo>
                        <a:lnTo>
                          <a:pt x="14" y="79"/>
                        </a:lnTo>
                        <a:lnTo>
                          <a:pt x="14"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8" name=""/>
                <p:cNvGrpSpPr/>
                <p:nvPr/>
              </p:nvGrpSpPr>
              <p:grpSpPr>
                <a:xfrm>
                  <a:off x="6694560" y="3236760"/>
                  <a:ext cx="22320" cy="341640"/>
                  <a:chOff x="6694560" y="3236760"/>
                  <a:chExt cx="22320" cy="341640"/>
                </a:xfrm>
              </p:grpSpPr>
              <p:sp>
                <p:nvSpPr>
                  <p:cNvPr id="1169" name=""/>
                  <p:cNvSpPr/>
                  <p:nvPr/>
                </p:nvSpPr>
                <p:spPr>
                  <a:xfrm>
                    <a:off x="6694560" y="3236760"/>
                    <a:ext cx="22320" cy="341640"/>
                  </a:xfrm>
                  <a:custGeom>
                    <a:avLst/>
                    <a:gdLst/>
                    <a:ahLst/>
                    <a:rect l="l" t="t" r="r" b="b"/>
                    <a:pathLst>
                      <a:path w="41" h="647">
                        <a:moveTo>
                          <a:pt x="41" y="647"/>
                        </a:moveTo>
                        <a:lnTo>
                          <a:pt x="41" y="615"/>
                        </a:lnTo>
                        <a:lnTo>
                          <a:pt x="41" y="584"/>
                        </a:lnTo>
                        <a:lnTo>
                          <a:pt x="27" y="536"/>
                        </a:lnTo>
                        <a:lnTo>
                          <a:pt x="27" y="505"/>
                        </a:lnTo>
                        <a:lnTo>
                          <a:pt x="27" y="473"/>
                        </a:lnTo>
                        <a:lnTo>
                          <a:pt x="27" y="441"/>
                        </a:lnTo>
                        <a:lnTo>
                          <a:pt x="13" y="394"/>
                        </a:lnTo>
                        <a:lnTo>
                          <a:pt x="13" y="362"/>
                        </a:lnTo>
                        <a:lnTo>
                          <a:pt x="13" y="332"/>
                        </a:lnTo>
                        <a:lnTo>
                          <a:pt x="13" y="283"/>
                        </a:lnTo>
                        <a:lnTo>
                          <a:pt x="0" y="253"/>
                        </a:lnTo>
                        <a:lnTo>
                          <a:pt x="0" y="221"/>
                        </a:lnTo>
                        <a:lnTo>
                          <a:pt x="0" y="189"/>
                        </a:lnTo>
                        <a:lnTo>
                          <a:pt x="0" y="142"/>
                        </a:lnTo>
                        <a:lnTo>
                          <a:pt x="0" y="110"/>
                        </a:lnTo>
                        <a:lnTo>
                          <a:pt x="0" y="78"/>
                        </a:lnTo>
                        <a:lnTo>
                          <a:pt x="0" y="31"/>
                        </a:lnTo>
                        <a:lnTo>
                          <a:pt x="0" y="0"/>
                        </a:lnTo>
                        <a:lnTo>
                          <a:pt x="41" y="64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694560" y="3236760"/>
                    <a:ext cx="22320" cy="341640"/>
                  </a:xfrm>
                  <a:custGeom>
                    <a:avLst/>
                    <a:gdLst/>
                    <a:ahLst/>
                    <a:rect l="l" t="t" r="r" b="b"/>
                    <a:pathLst>
                      <a:path w="41" h="647">
                        <a:moveTo>
                          <a:pt x="41" y="647"/>
                        </a:moveTo>
                        <a:lnTo>
                          <a:pt x="41" y="615"/>
                        </a:lnTo>
                        <a:lnTo>
                          <a:pt x="41" y="584"/>
                        </a:lnTo>
                        <a:lnTo>
                          <a:pt x="27" y="536"/>
                        </a:lnTo>
                        <a:lnTo>
                          <a:pt x="27" y="505"/>
                        </a:lnTo>
                        <a:lnTo>
                          <a:pt x="27" y="473"/>
                        </a:lnTo>
                        <a:lnTo>
                          <a:pt x="27" y="441"/>
                        </a:lnTo>
                        <a:lnTo>
                          <a:pt x="13" y="394"/>
                        </a:lnTo>
                        <a:lnTo>
                          <a:pt x="13" y="362"/>
                        </a:lnTo>
                        <a:lnTo>
                          <a:pt x="13" y="332"/>
                        </a:lnTo>
                        <a:lnTo>
                          <a:pt x="13" y="283"/>
                        </a:lnTo>
                        <a:lnTo>
                          <a:pt x="0" y="253"/>
                        </a:lnTo>
                        <a:lnTo>
                          <a:pt x="0" y="221"/>
                        </a:lnTo>
                        <a:lnTo>
                          <a:pt x="0" y="189"/>
                        </a:lnTo>
                        <a:lnTo>
                          <a:pt x="0" y="142"/>
                        </a:lnTo>
                        <a:lnTo>
                          <a:pt x="0" y="110"/>
                        </a:lnTo>
                        <a:lnTo>
                          <a:pt x="0" y="78"/>
                        </a:lnTo>
                        <a:lnTo>
                          <a:pt x="0" y="3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1" name=""/>
                <p:cNvGrpSpPr/>
                <p:nvPr/>
              </p:nvGrpSpPr>
              <p:grpSpPr>
                <a:xfrm>
                  <a:off x="6686640" y="2627280"/>
                  <a:ext cx="7920" cy="609480"/>
                  <a:chOff x="6686640" y="2627280"/>
                  <a:chExt cx="7920" cy="609480"/>
                </a:xfrm>
              </p:grpSpPr>
              <p:sp>
                <p:nvSpPr>
                  <p:cNvPr id="1172" name=""/>
                  <p:cNvSpPr/>
                  <p:nvPr/>
                </p:nvSpPr>
                <p:spPr>
                  <a:xfrm>
                    <a:off x="6686640" y="2627280"/>
                    <a:ext cx="7920" cy="609480"/>
                  </a:xfrm>
                  <a:custGeom>
                    <a:avLst/>
                    <a:gdLst/>
                    <a:ahLst/>
                    <a:rect l="l" t="t" r="r" b="b"/>
                    <a:pathLst>
                      <a:path w="14" h="1152">
                        <a:moveTo>
                          <a:pt x="14" y="1152"/>
                        </a:moveTo>
                        <a:lnTo>
                          <a:pt x="14" y="1120"/>
                        </a:lnTo>
                        <a:lnTo>
                          <a:pt x="14" y="1089"/>
                        </a:lnTo>
                        <a:lnTo>
                          <a:pt x="14" y="1041"/>
                        </a:lnTo>
                        <a:lnTo>
                          <a:pt x="14" y="1010"/>
                        </a:lnTo>
                        <a:lnTo>
                          <a:pt x="14" y="979"/>
                        </a:lnTo>
                        <a:lnTo>
                          <a:pt x="0" y="947"/>
                        </a:lnTo>
                        <a:lnTo>
                          <a:pt x="0" y="915"/>
                        </a:lnTo>
                        <a:lnTo>
                          <a:pt x="0" y="868"/>
                        </a:lnTo>
                        <a:lnTo>
                          <a:pt x="0" y="836"/>
                        </a:lnTo>
                        <a:lnTo>
                          <a:pt x="0" y="804"/>
                        </a:lnTo>
                        <a:lnTo>
                          <a:pt x="0" y="774"/>
                        </a:lnTo>
                        <a:lnTo>
                          <a:pt x="0" y="725"/>
                        </a:lnTo>
                        <a:lnTo>
                          <a:pt x="0" y="695"/>
                        </a:lnTo>
                        <a:lnTo>
                          <a:pt x="0" y="663"/>
                        </a:lnTo>
                        <a:lnTo>
                          <a:pt x="0" y="631"/>
                        </a:lnTo>
                        <a:lnTo>
                          <a:pt x="0" y="600"/>
                        </a:lnTo>
                        <a:lnTo>
                          <a:pt x="0" y="552"/>
                        </a:lnTo>
                        <a:lnTo>
                          <a:pt x="0" y="521"/>
                        </a:lnTo>
                        <a:lnTo>
                          <a:pt x="0" y="489"/>
                        </a:lnTo>
                        <a:lnTo>
                          <a:pt x="0" y="457"/>
                        </a:lnTo>
                        <a:lnTo>
                          <a:pt x="0" y="427"/>
                        </a:lnTo>
                        <a:lnTo>
                          <a:pt x="0" y="378"/>
                        </a:lnTo>
                        <a:lnTo>
                          <a:pt x="0" y="348"/>
                        </a:lnTo>
                        <a:lnTo>
                          <a:pt x="0" y="316"/>
                        </a:lnTo>
                        <a:lnTo>
                          <a:pt x="0" y="284"/>
                        </a:lnTo>
                        <a:lnTo>
                          <a:pt x="0" y="252"/>
                        </a:lnTo>
                        <a:lnTo>
                          <a:pt x="0" y="205"/>
                        </a:lnTo>
                        <a:lnTo>
                          <a:pt x="0" y="173"/>
                        </a:lnTo>
                        <a:lnTo>
                          <a:pt x="0" y="142"/>
                        </a:lnTo>
                        <a:lnTo>
                          <a:pt x="0" y="111"/>
                        </a:lnTo>
                        <a:lnTo>
                          <a:pt x="14" y="63"/>
                        </a:lnTo>
                        <a:lnTo>
                          <a:pt x="14" y="32"/>
                        </a:lnTo>
                        <a:lnTo>
                          <a:pt x="14" y="0"/>
                        </a:lnTo>
                        <a:lnTo>
                          <a:pt x="14" y="11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686640" y="2627280"/>
                    <a:ext cx="7920" cy="609480"/>
                  </a:xfrm>
                  <a:custGeom>
                    <a:avLst/>
                    <a:gdLst/>
                    <a:ahLst/>
                    <a:rect l="l" t="t" r="r" b="b"/>
                    <a:pathLst>
                      <a:path w="14" h="1152">
                        <a:moveTo>
                          <a:pt x="14" y="1152"/>
                        </a:moveTo>
                        <a:lnTo>
                          <a:pt x="14" y="1120"/>
                        </a:lnTo>
                        <a:lnTo>
                          <a:pt x="14" y="1089"/>
                        </a:lnTo>
                        <a:lnTo>
                          <a:pt x="14" y="1041"/>
                        </a:lnTo>
                        <a:lnTo>
                          <a:pt x="14" y="1010"/>
                        </a:lnTo>
                        <a:lnTo>
                          <a:pt x="14" y="979"/>
                        </a:lnTo>
                        <a:lnTo>
                          <a:pt x="0" y="947"/>
                        </a:lnTo>
                        <a:lnTo>
                          <a:pt x="0" y="915"/>
                        </a:lnTo>
                        <a:lnTo>
                          <a:pt x="0" y="868"/>
                        </a:lnTo>
                        <a:lnTo>
                          <a:pt x="0" y="836"/>
                        </a:lnTo>
                        <a:lnTo>
                          <a:pt x="0" y="804"/>
                        </a:lnTo>
                        <a:lnTo>
                          <a:pt x="0" y="774"/>
                        </a:lnTo>
                        <a:lnTo>
                          <a:pt x="0" y="725"/>
                        </a:lnTo>
                        <a:lnTo>
                          <a:pt x="0" y="695"/>
                        </a:lnTo>
                        <a:lnTo>
                          <a:pt x="0" y="663"/>
                        </a:lnTo>
                        <a:lnTo>
                          <a:pt x="0" y="631"/>
                        </a:lnTo>
                        <a:lnTo>
                          <a:pt x="0" y="600"/>
                        </a:lnTo>
                        <a:lnTo>
                          <a:pt x="0" y="552"/>
                        </a:lnTo>
                        <a:lnTo>
                          <a:pt x="0" y="521"/>
                        </a:lnTo>
                        <a:lnTo>
                          <a:pt x="0" y="489"/>
                        </a:lnTo>
                        <a:lnTo>
                          <a:pt x="0" y="457"/>
                        </a:lnTo>
                        <a:lnTo>
                          <a:pt x="0" y="427"/>
                        </a:lnTo>
                        <a:lnTo>
                          <a:pt x="0" y="378"/>
                        </a:lnTo>
                        <a:lnTo>
                          <a:pt x="0" y="348"/>
                        </a:lnTo>
                        <a:lnTo>
                          <a:pt x="0" y="316"/>
                        </a:lnTo>
                        <a:lnTo>
                          <a:pt x="0" y="284"/>
                        </a:lnTo>
                        <a:lnTo>
                          <a:pt x="0" y="252"/>
                        </a:lnTo>
                        <a:lnTo>
                          <a:pt x="0" y="205"/>
                        </a:lnTo>
                        <a:lnTo>
                          <a:pt x="0" y="173"/>
                        </a:lnTo>
                        <a:lnTo>
                          <a:pt x="0" y="142"/>
                        </a:lnTo>
                        <a:lnTo>
                          <a:pt x="0" y="111"/>
                        </a:lnTo>
                        <a:lnTo>
                          <a:pt x="14" y="63"/>
                        </a:lnTo>
                        <a:lnTo>
                          <a:pt x="14" y="32"/>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4" name=""/>
                <p:cNvGrpSpPr/>
                <p:nvPr/>
              </p:nvGrpSpPr>
              <p:grpSpPr>
                <a:xfrm>
                  <a:off x="6694560" y="2610000"/>
                  <a:ext cx="1440" cy="17280"/>
                  <a:chOff x="6694560" y="2610000"/>
                  <a:chExt cx="1440" cy="17280"/>
                </a:xfrm>
              </p:grpSpPr>
              <p:sp>
                <p:nvSpPr>
                  <p:cNvPr id="1175" name=""/>
                  <p:cNvSpPr/>
                  <p:nvPr/>
                </p:nvSpPr>
                <p:spPr>
                  <a:xfrm>
                    <a:off x="6694560" y="2610000"/>
                    <a:ext cx="1440" cy="17280"/>
                  </a:xfrm>
                  <a:custGeom>
                    <a:avLst/>
                    <a:gdLst/>
                    <a:ahLst/>
                    <a:rect l="l" t="t" r="r" b="b"/>
                    <a:pathLst>
                      <a:path w="0" h="31">
                        <a:moveTo>
                          <a:pt x="0" y="31"/>
                        </a:moveTo>
                        <a:lnTo>
                          <a:pt x="0" y="15"/>
                        </a:lnTo>
                        <a:lnTo>
                          <a:pt x="0" y="0"/>
                        </a:lnTo>
                        <a:lnTo>
                          <a:pt x="0" y="31"/>
                        </a:lnTo>
                        <a:close/>
                      </a:path>
                    </a:pathLst>
                  </a:custGeom>
                  <a:solidFill>
                    <a:srgbClr val="cce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6" name=""/>
                  <p:cNvSpPr/>
                  <p:nvPr/>
                </p:nvSpPr>
                <p:spPr>
                  <a:xfrm>
                    <a:off x="6694560" y="2610000"/>
                    <a:ext cx="1440" cy="17280"/>
                  </a:xfrm>
                  <a:custGeom>
                    <a:avLst/>
                    <a:gdLst/>
                    <a:ahLst/>
                    <a:rect l="l" t="t" r="r" b="b"/>
                    <a:pathLst>
                      <a:path w="0" h="31">
                        <a:moveTo>
                          <a:pt x="0" y="31"/>
                        </a:moveTo>
                        <a:lnTo>
                          <a:pt x="0" y="15"/>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77" name=""/>
                <p:cNvGrpSpPr/>
                <p:nvPr/>
              </p:nvGrpSpPr>
              <p:grpSpPr>
                <a:xfrm>
                  <a:off x="6694560" y="2394000"/>
                  <a:ext cx="14040" cy="216000"/>
                  <a:chOff x="6694560" y="2394000"/>
                  <a:chExt cx="14040" cy="216000"/>
                </a:xfrm>
              </p:grpSpPr>
              <p:sp>
                <p:nvSpPr>
                  <p:cNvPr id="1178" name=""/>
                  <p:cNvSpPr/>
                  <p:nvPr/>
                </p:nvSpPr>
                <p:spPr>
                  <a:xfrm>
                    <a:off x="6694560" y="2394000"/>
                    <a:ext cx="14040" cy="216000"/>
                  </a:xfrm>
                  <a:custGeom>
                    <a:avLst/>
                    <a:gdLst/>
                    <a:ahLst/>
                    <a:rect l="l" t="t" r="r" b="b"/>
                    <a:pathLst>
                      <a:path w="27" h="410">
                        <a:moveTo>
                          <a:pt x="0" y="410"/>
                        </a:moveTo>
                        <a:lnTo>
                          <a:pt x="0" y="363"/>
                        </a:lnTo>
                        <a:lnTo>
                          <a:pt x="0" y="331"/>
                        </a:lnTo>
                        <a:lnTo>
                          <a:pt x="13" y="284"/>
                        </a:lnTo>
                        <a:lnTo>
                          <a:pt x="13" y="252"/>
                        </a:lnTo>
                        <a:lnTo>
                          <a:pt x="13" y="205"/>
                        </a:lnTo>
                        <a:lnTo>
                          <a:pt x="13" y="173"/>
                        </a:lnTo>
                        <a:lnTo>
                          <a:pt x="13" y="141"/>
                        </a:lnTo>
                        <a:lnTo>
                          <a:pt x="27" y="94"/>
                        </a:lnTo>
                        <a:lnTo>
                          <a:pt x="27" y="62"/>
                        </a:lnTo>
                        <a:lnTo>
                          <a:pt x="27" y="0"/>
                        </a:lnTo>
                        <a:lnTo>
                          <a:pt x="0" y="4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694560" y="2394000"/>
                    <a:ext cx="14040" cy="216000"/>
                  </a:xfrm>
                  <a:custGeom>
                    <a:avLst/>
                    <a:gdLst/>
                    <a:ahLst/>
                    <a:rect l="l" t="t" r="r" b="b"/>
                    <a:pathLst>
                      <a:path w="27" h="410">
                        <a:moveTo>
                          <a:pt x="0" y="410"/>
                        </a:moveTo>
                        <a:lnTo>
                          <a:pt x="0" y="363"/>
                        </a:lnTo>
                        <a:lnTo>
                          <a:pt x="0" y="331"/>
                        </a:lnTo>
                        <a:lnTo>
                          <a:pt x="13" y="284"/>
                        </a:lnTo>
                        <a:lnTo>
                          <a:pt x="13" y="252"/>
                        </a:lnTo>
                        <a:lnTo>
                          <a:pt x="13" y="205"/>
                        </a:lnTo>
                        <a:lnTo>
                          <a:pt x="13" y="173"/>
                        </a:lnTo>
                        <a:lnTo>
                          <a:pt x="13" y="141"/>
                        </a:lnTo>
                        <a:lnTo>
                          <a:pt x="27" y="94"/>
                        </a:lnTo>
                        <a:lnTo>
                          <a:pt x="27" y="62"/>
                        </a:lnTo>
                        <a:lnTo>
                          <a:pt x="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6708600" y="2025720"/>
                  <a:ext cx="59040" cy="368280"/>
                  <a:chOff x="6708600" y="2025720"/>
                  <a:chExt cx="59040" cy="368280"/>
                </a:xfrm>
              </p:grpSpPr>
              <p:sp>
                <p:nvSpPr>
                  <p:cNvPr id="1181" name=""/>
                  <p:cNvSpPr/>
                  <p:nvPr/>
                </p:nvSpPr>
                <p:spPr>
                  <a:xfrm>
                    <a:off x="6708600" y="2025720"/>
                    <a:ext cx="59040" cy="368280"/>
                  </a:xfrm>
                  <a:custGeom>
                    <a:avLst/>
                    <a:gdLst/>
                    <a:ahLst/>
                    <a:rect l="l" t="t" r="r" b="b"/>
                    <a:pathLst>
                      <a:path w="111" h="695">
                        <a:moveTo>
                          <a:pt x="0" y="695"/>
                        </a:moveTo>
                        <a:lnTo>
                          <a:pt x="0" y="663"/>
                        </a:lnTo>
                        <a:lnTo>
                          <a:pt x="0" y="631"/>
                        </a:lnTo>
                        <a:lnTo>
                          <a:pt x="14" y="584"/>
                        </a:lnTo>
                        <a:lnTo>
                          <a:pt x="14" y="552"/>
                        </a:lnTo>
                        <a:lnTo>
                          <a:pt x="14" y="521"/>
                        </a:lnTo>
                        <a:lnTo>
                          <a:pt x="28" y="474"/>
                        </a:lnTo>
                        <a:lnTo>
                          <a:pt x="28" y="442"/>
                        </a:lnTo>
                        <a:lnTo>
                          <a:pt x="28" y="410"/>
                        </a:lnTo>
                        <a:lnTo>
                          <a:pt x="42" y="363"/>
                        </a:lnTo>
                        <a:lnTo>
                          <a:pt x="42" y="331"/>
                        </a:lnTo>
                        <a:lnTo>
                          <a:pt x="56" y="301"/>
                        </a:lnTo>
                        <a:lnTo>
                          <a:pt x="56" y="252"/>
                        </a:lnTo>
                        <a:lnTo>
                          <a:pt x="69" y="222"/>
                        </a:lnTo>
                        <a:lnTo>
                          <a:pt x="69" y="190"/>
                        </a:lnTo>
                        <a:lnTo>
                          <a:pt x="83" y="143"/>
                        </a:lnTo>
                        <a:lnTo>
                          <a:pt x="83" y="111"/>
                        </a:lnTo>
                        <a:lnTo>
                          <a:pt x="97" y="79"/>
                        </a:lnTo>
                        <a:lnTo>
                          <a:pt x="97" y="32"/>
                        </a:lnTo>
                        <a:lnTo>
                          <a:pt x="111" y="0"/>
                        </a:lnTo>
                        <a:lnTo>
                          <a:pt x="0" y="69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708600" y="2025720"/>
                    <a:ext cx="59040" cy="368280"/>
                  </a:xfrm>
                  <a:custGeom>
                    <a:avLst/>
                    <a:gdLst/>
                    <a:ahLst/>
                    <a:rect l="l" t="t" r="r" b="b"/>
                    <a:pathLst>
                      <a:path w="111" h="695">
                        <a:moveTo>
                          <a:pt x="0" y="695"/>
                        </a:moveTo>
                        <a:lnTo>
                          <a:pt x="0" y="663"/>
                        </a:lnTo>
                        <a:lnTo>
                          <a:pt x="0" y="631"/>
                        </a:lnTo>
                        <a:lnTo>
                          <a:pt x="14" y="584"/>
                        </a:lnTo>
                        <a:lnTo>
                          <a:pt x="14" y="552"/>
                        </a:lnTo>
                        <a:lnTo>
                          <a:pt x="14" y="521"/>
                        </a:lnTo>
                        <a:lnTo>
                          <a:pt x="28" y="474"/>
                        </a:lnTo>
                        <a:lnTo>
                          <a:pt x="28" y="442"/>
                        </a:lnTo>
                        <a:lnTo>
                          <a:pt x="28" y="410"/>
                        </a:lnTo>
                        <a:lnTo>
                          <a:pt x="42" y="363"/>
                        </a:lnTo>
                        <a:lnTo>
                          <a:pt x="42" y="331"/>
                        </a:lnTo>
                        <a:lnTo>
                          <a:pt x="56" y="301"/>
                        </a:lnTo>
                        <a:lnTo>
                          <a:pt x="56" y="252"/>
                        </a:lnTo>
                        <a:lnTo>
                          <a:pt x="69" y="222"/>
                        </a:lnTo>
                        <a:lnTo>
                          <a:pt x="69" y="190"/>
                        </a:lnTo>
                        <a:lnTo>
                          <a:pt x="83" y="143"/>
                        </a:lnTo>
                        <a:lnTo>
                          <a:pt x="83" y="111"/>
                        </a:lnTo>
                        <a:lnTo>
                          <a:pt x="97" y="79"/>
                        </a:lnTo>
                        <a:lnTo>
                          <a:pt x="97" y="32"/>
                        </a:lnTo>
                        <a:lnTo>
                          <a:pt x="1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6767640" y="1859040"/>
                  <a:ext cx="44280" cy="166680"/>
                  <a:chOff x="6767640" y="1859040"/>
                  <a:chExt cx="44280" cy="166680"/>
                </a:xfrm>
              </p:grpSpPr>
              <p:sp>
                <p:nvSpPr>
                  <p:cNvPr id="1184" name=""/>
                  <p:cNvSpPr/>
                  <p:nvPr/>
                </p:nvSpPr>
                <p:spPr>
                  <a:xfrm>
                    <a:off x="6767640" y="1859040"/>
                    <a:ext cx="44280" cy="166680"/>
                  </a:xfrm>
                  <a:custGeom>
                    <a:avLst/>
                    <a:gdLst/>
                    <a:ahLst/>
                    <a:rect l="l" t="t" r="r" b="b"/>
                    <a:pathLst>
                      <a:path w="83" h="315">
                        <a:moveTo>
                          <a:pt x="0" y="315"/>
                        </a:moveTo>
                        <a:lnTo>
                          <a:pt x="0" y="284"/>
                        </a:lnTo>
                        <a:lnTo>
                          <a:pt x="14" y="237"/>
                        </a:lnTo>
                        <a:lnTo>
                          <a:pt x="27" y="205"/>
                        </a:lnTo>
                        <a:lnTo>
                          <a:pt x="27" y="158"/>
                        </a:lnTo>
                        <a:lnTo>
                          <a:pt x="41" y="126"/>
                        </a:lnTo>
                        <a:lnTo>
                          <a:pt x="55" y="79"/>
                        </a:lnTo>
                        <a:lnTo>
                          <a:pt x="69" y="47"/>
                        </a:lnTo>
                        <a:lnTo>
                          <a:pt x="83" y="0"/>
                        </a:lnTo>
                        <a:lnTo>
                          <a:pt x="0" y="31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767640" y="1859040"/>
                    <a:ext cx="44280" cy="166680"/>
                  </a:xfrm>
                  <a:custGeom>
                    <a:avLst/>
                    <a:gdLst/>
                    <a:ahLst/>
                    <a:rect l="l" t="t" r="r" b="b"/>
                    <a:pathLst>
                      <a:path w="83" h="315">
                        <a:moveTo>
                          <a:pt x="0" y="315"/>
                        </a:moveTo>
                        <a:lnTo>
                          <a:pt x="0" y="284"/>
                        </a:lnTo>
                        <a:lnTo>
                          <a:pt x="14" y="237"/>
                        </a:lnTo>
                        <a:lnTo>
                          <a:pt x="27" y="205"/>
                        </a:lnTo>
                        <a:lnTo>
                          <a:pt x="27" y="158"/>
                        </a:lnTo>
                        <a:lnTo>
                          <a:pt x="41" y="126"/>
                        </a:lnTo>
                        <a:lnTo>
                          <a:pt x="55" y="79"/>
                        </a:lnTo>
                        <a:lnTo>
                          <a:pt x="69" y="47"/>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6" name=""/>
                <p:cNvGrpSpPr/>
                <p:nvPr/>
              </p:nvGrpSpPr>
              <p:grpSpPr>
                <a:xfrm>
                  <a:off x="6811920" y="1809720"/>
                  <a:ext cx="14400" cy="49320"/>
                  <a:chOff x="6811920" y="1809720"/>
                  <a:chExt cx="14400" cy="49320"/>
                </a:xfrm>
              </p:grpSpPr>
              <p:sp>
                <p:nvSpPr>
                  <p:cNvPr id="1187" name=""/>
                  <p:cNvSpPr/>
                  <p:nvPr/>
                </p:nvSpPr>
                <p:spPr>
                  <a:xfrm>
                    <a:off x="6811920" y="1809720"/>
                    <a:ext cx="14400" cy="49320"/>
                  </a:xfrm>
                  <a:custGeom>
                    <a:avLst/>
                    <a:gdLst/>
                    <a:ahLst/>
                    <a:rect l="l" t="t" r="r" b="b"/>
                    <a:pathLst>
                      <a:path w="29" h="94">
                        <a:moveTo>
                          <a:pt x="0" y="94"/>
                        </a:moveTo>
                        <a:lnTo>
                          <a:pt x="0" y="62"/>
                        </a:lnTo>
                        <a:lnTo>
                          <a:pt x="15" y="30"/>
                        </a:lnTo>
                        <a:lnTo>
                          <a:pt x="29" y="0"/>
                        </a:lnTo>
                        <a:lnTo>
                          <a:pt x="0" y="94"/>
                        </a:lnTo>
                        <a:close/>
                      </a:path>
                    </a:pathLst>
                  </a:custGeom>
                  <a:solidFill>
                    <a:srgbClr val="cce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8" name=""/>
                  <p:cNvSpPr/>
                  <p:nvPr/>
                </p:nvSpPr>
                <p:spPr>
                  <a:xfrm>
                    <a:off x="6811920" y="1809720"/>
                    <a:ext cx="14400" cy="49320"/>
                  </a:xfrm>
                  <a:custGeom>
                    <a:avLst/>
                    <a:gdLst/>
                    <a:ahLst/>
                    <a:rect l="l" t="t" r="r" b="b"/>
                    <a:pathLst>
                      <a:path w="29" h="94">
                        <a:moveTo>
                          <a:pt x="0" y="94"/>
                        </a:moveTo>
                        <a:lnTo>
                          <a:pt x="0" y="62"/>
                        </a:lnTo>
                        <a:lnTo>
                          <a:pt x="15" y="30"/>
                        </a:lnTo>
                        <a:lnTo>
                          <a:pt x="29"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89" name=""/>
                <p:cNvGrpSpPr/>
                <p:nvPr/>
              </p:nvGrpSpPr>
              <p:grpSpPr>
                <a:xfrm>
                  <a:off x="6826320" y="1774800"/>
                  <a:ext cx="15840" cy="34920"/>
                  <a:chOff x="6826320" y="1774800"/>
                  <a:chExt cx="15840" cy="34920"/>
                </a:xfrm>
              </p:grpSpPr>
              <p:sp>
                <p:nvSpPr>
                  <p:cNvPr id="1190" name=""/>
                  <p:cNvSpPr/>
                  <p:nvPr/>
                </p:nvSpPr>
                <p:spPr>
                  <a:xfrm>
                    <a:off x="6826320" y="1774800"/>
                    <a:ext cx="15840" cy="34920"/>
                  </a:xfrm>
                  <a:custGeom>
                    <a:avLst/>
                    <a:gdLst/>
                    <a:ahLst/>
                    <a:rect l="l" t="t" r="r" b="b"/>
                    <a:pathLst>
                      <a:path w="28" h="64">
                        <a:moveTo>
                          <a:pt x="0" y="64"/>
                        </a:moveTo>
                        <a:lnTo>
                          <a:pt x="14" y="47"/>
                        </a:lnTo>
                        <a:lnTo>
                          <a:pt x="28" y="15"/>
                        </a:lnTo>
                        <a:lnTo>
                          <a:pt x="28" y="0"/>
                        </a:lnTo>
                        <a:lnTo>
                          <a:pt x="0" y="64"/>
                        </a:lnTo>
                        <a:close/>
                      </a:path>
                    </a:pathLst>
                  </a:custGeom>
                  <a:solidFill>
                    <a:srgbClr val="cce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1" name=""/>
                  <p:cNvSpPr/>
                  <p:nvPr/>
                </p:nvSpPr>
                <p:spPr>
                  <a:xfrm>
                    <a:off x="6826320" y="1774800"/>
                    <a:ext cx="15840" cy="34920"/>
                  </a:xfrm>
                  <a:custGeom>
                    <a:avLst/>
                    <a:gdLst/>
                    <a:ahLst/>
                    <a:rect l="l" t="t" r="r" b="b"/>
                    <a:pathLst>
                      <a:path w="28" h="64">
                        <a:moveTo>
                          <a:pt x="0" y="64"/>
                        </a:moveTo>
                        <a:lnTo>
                          <a:pt x="14" y="47"/>
                        </a:lnTo>
                        <a:lnTo>
                          <a:pt x="28" y="15"/>
                        </a:lnTo>
                        <a:lnTo>
                          <a:pt x="28"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192" name=""/>
                <p:cNvGrpSpPr/>
                <p:nvPr/>
              </p:nvGrpSpPr>
              <p:grpSpPr>
                <a:xfrm>
                  <a:off x="6885000" y="3736800"/>
                  <a:ext cx="50760" cy="376560"/>
                  <a:chOff x="6885000" y="3736800"/>
                  <a:chExt cx="50760" cy="376560"/>
                </a:xfrm>
              </p:grpSpPr>
              <p:sp>
                <p:nvSpPr>
                  <p:cNvPr id="1193" name=""/>
                  <p:cNvSpPr/>
                  <p:nvPr/>
                </p:nvSpPr>
                <p:spPr>
                  <a:xfrm>
                    <a:off x="6885000" y="3736800"/>
                    <a:ext cx="50760" cy="376560"/>
                  </a:xfrm>
                  <a:custGeom>
                    <a:avLst/>
                    <a:gdLst/>
                    <a:ahLst/>
                    <a:rect l="l" t="t" r="r" b="b"/>
                    <a:pathLst>
                      <a:path w="96" h="710">
                        <a:moveTo>
                          <a:pt x="96" y="710"/>
                        </a:moveTo>
                        <a:lnTo>
                          <a:pt x="83" y="678"/>
                        </a:lnTo>
                        <a:lnTo>
                          <a:pt x="69" y="648"/>
                        </a:lnTo>
                        <a:lnTo>
                          <a:pt x="69" y="616"/>
                        </a:lnTo>
                        <a:lnTo>
                          <a:pt x="55" y="584"/>
                        </a:lnTo>
                        <a:lnTo>
                          <a:pt x="55" y="537"/>
                        </a:lnTo>
                        <a:lnTo>
                          <a:pt x="55" y="505"/>
                        </a:lnTo>
                        <a:lnTo>
                          <a:pt x="41" y="473"/>
                        </a:lnTo>
                        <a:lnTo>
                          <a:pt x="41" y="441"/>
                        </a:lnTo>
                        <a:lnTo>
                          <a:pt x="27" y="394"/>
                        </a:lnTo>
                        <a:lnTo>
                          <a:pt x="27" y="363"/>
                        </a:lnTo>
                        <a:lnTo>
                          <a:pt x="27" y="332"/>
                        </a:lnTo>
                        <a:lnTo>
                          <a:pt x="27" y="284"/>
                        </a:lnTo>
                        <a:lnTo>
                          <a:pt x="13" y="253"/>
                        </a:lnTo>
                        <a:lnTo>
                          <a:pt x="13" y="221"/>
                        </a:lnTo>
                        <a:lnTo>
                          <a:pt x="13" y="190"/>
                        </a:lnTo>
                        <a:lnTo>
                          <a:pt x="13" y="143"/>
                        </a:lnTo>
                        <a:lnTo>
                          <a:pt x="0" y="111"/>
                        </a:lnTo>
                        <a:lnTo>
                          <a:pt x="0" y="79"/>
                        </a:lnTo>
                        <a:lnTo>
                          <a:pt x="0" y="32"/>
                        </a:lnTo>
                        <a:lnTo>
                          <a:pt x="0" y="0"/>
                        </a:lnTo>
                        <a:lnTo>
                          <a:pt x="96" y="7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6885000" y="3736800"/>
                    <a:ext cx="50760" cy="376560"/>
                  </a:xfrm>
                  <a:custGeom>
                    <a:avLst/>
                    <a:gdLst/>
                    <a:ahLst/>
                    <a:rect l="l" t="t" r="r" b="b"/>
                    <a:pathLst>
                      <a:path w="96" h="710">
                        <a:moveTo>
                          <a:pt x="96" y="710"/>
                        </a:moveTo>
                        <a:lnTo>
                          <a:pt x="83" y="678"/>
                        </a:lnTo>
                        <a:lnTo>
                          <a:pt x="69" y="648"/>
                        </a:lnTo>
                        <a:lnTo>
                          <a:pt x="69" y="616"/>
                        </a:lnTo>
                        <a:lnTo>
                          <a:pt x="55" y="584"/>
                        </a:lnTo>
                        <a:lnTo>
                          <a:pt x="55" y="537"/>
                        </a:lnTo>
                        <a:lnTo>
                          <a:pt x="55" y="505"/>
                        </a:lnTo>
                        <a:lnTo>
                          <a:pt x="41" y="473"/>
                        </a:lnTo>
                        <a:lnTo>
                          <a:pt x="41" y="441"/>
                        </a:lnTo>
                        <a:lnTo>
                          <a:pt x="27" y="394"/>
                        </a:lnTo>
                        <a:lnTo>
                          <a:pt x="27" y="363"/>
                        </a:lnTo>
                        <a:lnTo>
                          <a:pt x="27" y="332"/>
                        </a:lnTo>
                        <a:lnTo>
                          <a:pt x="27" y="284"/>
                        </a:lnTo>
                        <a:lnTo>
                          <a:pt x="13" y="253"/>
                        </a:lnTo>
                        <a:lnTo>
                          <a:pt x="13" y="221"/>
                        </a:lnTo>
                        <a:lnTo>
                          <a:pt x="13" y="190"/>
                        </a:lnTo>
                        <a:lnTo>
                          <a:pt x="13" y="143"/>
                        </a:lnTo>
                        <a:lnTo>
                          <a:pt x="0" y="111"/>
                        </a:lnTo>
                        <a:lnTo>
                          <a:pt x="0" y="79"/>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6870600" y="3519360"/>
                  <a:ext cx="14400" cy="217440"/>
                  <a:chOff x="6870600" y="3519360"/>
                  <a:chExt cx="14400" cy="217440"/>
                </a:xfrm>
              </p:grpSpPr>
              <p:sp>
                <p:nvSpPr>
                  <p:cNvPr id="1196" name=""/>
                  <p:cNvSpPr/>
                  <p:nvPr/>
                </p:nvSpPr>
                <p:spPr>
                  <a:xfrm>
                    <a:off x="6870600" y="3519360"/>
                    <a:ext cx="14400" cy="217440"/>
                  </a:xfrm>
                  <a:custGeom>
                    <a:avLst/>
                    <a:gdLst/>
                    <a:ahLst/>
                    <a:rect l="l" t="t" r="r" b="b"/>
                    <a:pathLst>
                      <a:path w="28" h="410">
                        <a:moveTo>
                          <a:pt x="28" y="410"/>
                        </a:moveTo>
                        <a:lnTo>
                          <a:pt x="14" y="378"/>
                        </a:lnTo>
                        <a:lnTo>
                          <a:pt x="14" y="331"/>
                        </a:lnTo>
                        <a:lnTo>
                          <a:pt x="14" y="299"/>
                        </a:lnTo>
                        <a:lnTo>
                          <a:pt x="14" y="269"/>
                        </a:lnTo>
                        <a:lnTo>
                          <a:pt x="14" y="220"/>
                        </a:lnTo>
                        <a:lnTo>
                          <a:pt x="0" y="190"/>
                        </a:lnTo>
                        <a:lnTo>
                          <a:pt x="0" y="158"/>
                        </a:lnTo>
                        <a:lnTo>
                          <a:pt x="0" y="111"/>
                        </a:lnTo>
                        <a:lnTo>
                          <a:pt x="0" y="79"/>
                        </a:lnTo>
                        <a:lnTo>
                          <a:pt x="0" y="32"/>
                        </a:lnTo>
                        <a:lnTo>
                          <a:pt x="0" y="0"/>
                        </a:lnTo>
                        <a:lnTo>
                          <a:pt x="28" y="4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870600" y="3519360"/>
                    <a:ext cx="14400" cy="217440"/>
                  </a:xfrm>
                  <a:custGeom>
                    <a:avLst/>
                    <a:gdLst/>
                    <a:ahLst/>
                    <a:rect l="l" t="t" r="r" b="b"/>
                    <a:pathLst>
                      <a:path w="28" h="410">
                        <a:moveTo>
                          <a:pt x="28" y="410"/>
                        </a:moveTo>
                        <a:lnTo>
                          <a:pt x="14" y="378"/>
                        </a:lnTo>
                        <a:lnTo>
                          <a:pt x="14" y="331"/>
                        </a:lnTo>
                        <a:lnTo>
                          <a:pt x="14" y="299"/>
                        </a:lnTo>
                        <a:lnTo>
                          <a:pt x="14" y="269"/>
                        </a:lnTo>
                        <a:lnTo>
                          <a:pt x="14" y="220"/>
                        </a:lnTo>
                        <a:lnTo>
                          <a:pt x="0" y="190"/>
                        </a:lnTo>
                        <a:lnTo>
                          <a:pt x="0" y="158"/>
                        </a:lnTo>
                        <a:lnTo>
                          <a:pt x="0" y="111"/>
                        </a:lnTo>
                        <a:lnTo>
                          <a:pt x="0" y="79"/>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8" name=""/>
                <p:cNvGrpSpPr/>
                <p:nvPr/>
              </p:nvGrpSpPr>
              <p:grpSpPr>
                <a:xfrm>
                  <a:off x="6848640" y="2335320"/>
                  <a:ext cx="21960" cy="1184040"/>
                  <a:chOff x="6848640" y="2335320"/>
                  <a:chExt cx="21960" cy="1184040"/>
                </a:xfrm>
              </p:grpSpPr>
              <p:sp>
                <p:nvSpPr>
                  <p:cNvPr id="1199" name=""/>
                  <p:cNvSpPr/>
                  <p:nvPr/>
                </p:nvSpPr>
                <p:spPr>
                  <a:xfrm>
                    <a:off x="6848640" y="2335320"/>
                    <a:ext cx="21960" cy="1184040"/>
                  </a:xfrm>
                  <a:custGeom>
                    <a:avLst/>
                    <a:gdLst/>
                    <a:ahLst/>
                    <a:rect l="l" t="t" r="r" b="b"/>
                    <a:pathLst>
                      <a:path w="42" h="2240">
                        <a:moveTo>
                          <a:pt x="42" y="2240"/>
                        </a:moveTo>
                        <a:lnTo>
                          <a:pt x="28" y="2209"/>
                        </a:lnTo>
                        <a:lnTo>
                          <a:pt x="28" y="2177"/>
                        </a:lnTo>
                        <a:lnTo>
                          <a:pt x="28" y="2130"/>
                        </a:lnTo>
                        <a:lnTo>
                          <a:pt x="28" y="2098"/>
                        </a:lnTo>
                        <a:lnTo>
                          <a:pt x="28" y="2066"/>
                        </a:lnTo>
                        <a:lnTo>
                          <a:pt x="28" y="2036"/>
                        </a:lnTo>
                        <a:lnTo>
                          <a:pt x="14" y="2004"/>
                        </a:lnTo>
                        <a:lnTo>
                          <a:pt x="14" y="1957"/>
                        </a:lnTo>
                        <a:lnTo>
                          <a:pt x="14" y="1925"/>
                        </a:lnTo>
                        <a:lnTo>
                          <a:pt x="14" y="1893"/>
                        </a:lnTo>
                        <a:lnTo>
                          <a:pt x="14" y="1861"/>
                        </a:lnTo>
                        <a:lnTo>
                          <a:pt x="14" y="1830"/>
                        </a:lnTo>
                        <a:lnTo>
                          <a:pt x="14" y="1782"/>
                        </a:lnTo>
                        <a:lnTo>
                          <a:pt x="14" y="1751"/>
                        </a:lnTo>
                        <a:lnTo>
                          <a:pt x="0" y="1720"/>
                        </a:lnTo>
                        <a:lnTo>
                          <a:pt x="0" y="1688"/>
                        </a:lnTo>
                        <a:lnTo>
                          <a:pt x="0" y="1657"/>
                        </a:lnTo>
                        <a:lnTo>
                          <a:pt x="0" y="1610"/>
                        </a:lnTo>
                        <a:lnTo>
                          <a:pt x="0" y="1578"/>
                        </a:lnTo>
                        <a:lnTo>
                          <a:pt x="0" y="1546"/>
                        </a:lnTo>
                        <a:lnTo>
                          <a:pt x="0" y="1514"/>
                        </a:lnTo>
                        <a:lnTo>
                          <a:pt x="0" y="1484"/>
                        </a:lnTo>
                        <a:lnTo>
                          <a:pt x="0" y="1435"/>
                        </a:lnTo>
                        <a:lnTo>
                          <a:pt x="0" y="1405"/>
                        </a:lnTo>
                        <a:lnTo>
                          <a:pt x="0" y="1373"/>
                        </a:lnTo>
                        <a:lnTo>
                          <a:pt x="0" y="1341"/>
                        </a:lnTo>
                        <a:lnTo>
                          <a:pt x="0" y="1309"/>
                        </a:lnTo>
                        <a:lnTo>
                          <a:pt x="0" y="1262"/>
                        </a:lnTo>
                        <a:lnTo>
                          <a:pt x="0" y="1230"/>
                        </a:lnTo>
                        <a:lnTo>
                          <a:pt x="0" y="1199"/>
                        </a:lnTo>
                        <a:lnTo>
                          <a:pt x="0" y="1168"/>
                        </a:lnTo>
                        <a:lnTo>
                          <a:pt x="0" y="1136"/>
                        </a:lnTo>
                        <a:lnTo>
                          <a:pt x="0" y="1088"/>
                        </a:lnTo>
                        <a:lnTo>
                          <a:pt x="0" y="1057"/>
                        </a:lnTo>
                        <a:lnTo>
                          <a:pt x="0" y="1026"/>
                        </a:lnTo>
                        <a:lnTo>
                          <a:pt x="0" y="994"/>
                        </a:lnTo>
                        <a:lnTo>
                          <a:pt x="0" y="962"/>
                        </a:lnTo>
                        <a:lnTo>
                          <a:pt x="0" y="915"/>
                        </a:lnTo>
                        <a:lnTo>
                          <a:pt x="0" y="883"/>
                        </a:lnTo>
                        <a:lnTo>
                          <a:pt x="0" y="851"/>
                        </a:lnTo>
                        <a:lnTo>
                          <a:pt x="0" y="821"/>
                        </a:lnTo>
                        <a:lnTo>
                          <a:pt x="0" y="789"/>
                        </a:lnTo>
                        <a:lnTo>
                          <a:pt x="0" y="742"/>
                        </a:lnTo>
                        <a:lnTo>
                          <a:pt x="0" y="710"/>
                        </a:lnTo>
                        <a:lnTo>
                          <a:pt x="0" y="678"/>
                        </a:lnTo>
                        <a:lnTo>
                          <a:pt x="0" y="646"/>
                        </a:lnTo>
                        <a:lnTo>
                          <a:pt x="0" y="615"/>
                        </a:lnTo>
                        <a:lnTo>
                          <a:pt x="0" y="568"/>
                        </a:lnTo>
                        <a:lnTo>
                          <a:pt x="14" y="536"/>
                        </a:lnTo>
                        <a:lnTo>
                          <a:pt x="14" y="505"/>
                        </a:lnTo>
                        <a:lnTo>
                          <a:pt x="14" y="474"/>
                        </a:lnTo>
                        <a:lnTo>
                          <a:pt x="14" y="426"/>
                        </a:lnTo>
                        <a:lnTo>
                          <a:pt x="14" y="395"/>
                        </a:lnTo>
                        <a:lnTo>
                          <a:pt x="14" y="363"/>
                        </a:lnTo>
                        <a:lnTo>
                          <a:pt x="14" y="331"/>
                        </a:lnTo>
                        <a:lnTo>
                          <a:pt x="14" y="299"/>
                        </a:lnTo>
                        <a:lnTo>
                          <a:pt x="28" y="252"/>
                        </a:lnTo>
                        <a:lnTo>
                          <a:pt x="28" y="220"/>
                        </a:lnTo>
                        <a:lnTo>
                          <a:pt x="28" y="190"/>
                        </a:lnTo>
                        <a:lnTo>
                          <a:pt x="28" y="141"/>
                        </a:lnTo>
                        <a:lnTo>
                          <a:pt x="28" y="111"/>
                        </a:lnTo>
                        <a:lnTo>
                          <a:pt x="28" y="63"/>
                        </a:lnTo>
                        <a:lnTo>
                          <a:pt x="42" y="32"/>
                        </a:lnTo>
                        <a:lnTo>
                          <a:pt x="42" y="0"/>
                        </a:lnTo>
                        <a:lnTo>
                          <a:pt x="42" y="224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848640" y="2335320"/>
                    <a:ext cx="21960" cy="1184040"/>
                  </a:xfrm>
                  <a:custGeom>
                    <a:avLst/>
                    <a:gdLst/>
                    <a:ahLst/>
                    <a:rect l="l" t="t" r="r" b="b"/>
                    <a:pathLst>
                      <a:path w="42" h="2240">
                        <a:moveTo>
                          <a:pt x="42" y="2240"/>
                        </a:moveTo>
                        <a:lnTo>
                          <a:pt x="28" y="2209"/>
                        </a:lnTo>
                        <a:lnTo>
                          <a:pt x="28" y="2177"/>
                        </a:lnTo>
                        <a:lnTo>
                          <a:pt x="28" y="2130"/>
                        </a:lnTo>
                        <a:lnTo>
                          <a:pt x="28" y="2098"/>
                        </a:lnTo>
                        <a:lnTo>
                          <a:pt x="28" y="2066"/>
                        </a:lnTo>
                        <a:lnTo>
                          <a:pt x="28" y="2036"/>
                        </a:lnTo>
                        <a:lnTo>
                          <a:pt x="14" y="2004"/>
                        </a:lnTo>
                        <a:lnTo>
                          <a:pt x="14" y="1957"/>
                        </a:lnTo>
                        <a:lnTo>
                          <a:pt x="14" y="1925"/>
                        </a:lnTo>
                        <a:lnTo>
                          <a:pt x="14" y="1893"/>
                        </a:lnTo>
                        <a:lnTo>
                          <a:pt x="14" y="1861"/>
                        </a:lnTo>
                        <a:lnTo>
                          <a:pt x="14" y="1830"/>
                        </a:lnTo>
                        <a:lnTo>
                          <a:pt x="14" y="1782"/>
                        </a:lnTo>
                        <a:lnTo>
                          <a:pt x="14" y="1751"/>
                        </a:lnTo>
                        <a:lnTo>
                          <a:pt x="0" y="1720"/>
                        </a:lnTo>
                        <a:lnTo>
                          <a:pt x="0" y="1688"/>
                        </a:lnTo>
                        <a:lnTo>
                          <a:pt x="0" y="1657"/>
                        </a:lnTo>
                        <a:lnTo>
                          <a:pt x="0" y="1610"/>
                        </a:lnTo>
                        <a:lnTo>
                          <a:pt x="0" y="1578"/>
                        </a:lnTo>
                        <a:lnTo>
                          <a:pt x="0" y="1546"/>
                        </a:lnTo>
                        <a:lnTo>
                          <a:pt x="0" y="1514"/>
                        </a:lnTo>
                        <a:lnTo>
                          <a:pt x="0" y="1484"/>
                        </a:lnTo>
                        <a:lnTo>
                          <a:pt x="0" y="1435"/>
                        </a:lnTo>
                        <a:lnTo>
                          <a:pt x="0" y="1405"/>
                        </a:lnTo>
                        <a:lnTo>
                          <a:pt x="0" y="1373"/>
                        </a:lnTo>
                        <a:lnTo>
                          <a:pt x="0" y="1341"/>
                        </a:lnTo>
                        <a:lnTo>
                          <a:pt x="0" y="1309"/>
                        </a:lnTo>
                        <a:lnTo>
                          <a:pt x="0" y="1262"/>
                        </a:lnTo>
                        <a:lnTo>
                          <a:pt x="0" y="1230"/>
                        </a:lnTo>
                        <a:lnTo>
                          <a:pt x="0" y="1199"/>
                        </a:lnTo>
                        <a:lnTo>
                          <a:pt x="0" y="1168"/>
                        </a:lnTo>
                        <a:lnTo>
                          <a:pt x="0" y="1136"/>
                        </a:lnTo>
                        <a:lnTo>
                          <a:pt x="0" y="1088"/>
                        </a:lnTo>
                        <a:lnTo>
                          <a:pt x="0" y="1057"/>
                        </a:lnTo>
                        <a:lnTo>
                          <a:pt x="0" y="1026"/>
                        </a:lnTo>
                        <a:lnTo>
                          <a:pt x="0" y="994"/>
                        </a:lnTo>
                        <a:lnTo>
                          <a:pt x="0" y="962"/>
                        </a:lnTo>
                        <a:lnTo>
                          <a:pt x="0" y="915"/>
                        </a:lnTo>
                        <a:lnTo>
                          <a:pt x="0" y="883"/>
                        </a:lnTo>
                        <a:lnTo>
                          <a:pt x="0" y="851"/>
                        </a:lnTo>
                        <a:lnTo>
                          <a:pt x="0" y="821"/>
                        </a:lnTo>
                        <a:lnTo>
                          <a:pt x="0" y="789"/>
                        </a:lnTo>
                        <a:lnTo>
                          <a:pt x="0" y="742"/>
                        </a:lnTo>
                        <a:lnTo>
                          <a:pt x="0" y="710"/>
                        </a:lnTo>
                        <a:lnTo>
                          <a:pt x="0" y="678"/>
                        </a:lnTo>
                        <a:lnTo>
                          <a:pt x="0" y="646"/>
                        </a:lnTo>
                        <a:lnTo>
                          <a:pt x="0" y="615"/>
                        </a:lnTo>
                        <a:lnTo>
                          <a:pt x="0" y="568"/>
                        </a:lnTo>
                        <a:lnTo>
                          <a:pt x="14" y="536"/>
                        </a:lnTo>
                        <a:lnTo>
                          <a:pt x="14" y="505"/>
                        </a:lnTo>
                        <a:lnTo>
                          <a:pt x="14" y="474"/>
                        </a:lnTo>
                        <a:lnTo>
                          <a:pt x="14" y="426"/>
                        </a:lnTo>
                        <a:lnTo>
                          <a:pt x="14" y="395"/>
                        </a:lnTo>
                        <a:lnTo>
                          <a:pt x="14" y="363"/>
                        </a:lnTo>
                        <a:lnTo>
                          <a:pt x="14" y="331"/>
                        </a:lnTo>
                        <a:lnTo>
                          <a:pt x="14" y="299"/>
                        </a:lnTo>
                        <a:lnTo>
                          <a:pt x="28" y="252"/>
                        </a:lnTo>
                        <a:lnTo>
                          <a:pt x="28" y="220"/>
                        </a:lnTo>
                        <a:lnTo>
                          <a:pt x="28" y="190"/>
                        </a:lnTo>
                        <a:lnTo>
                          <a:pt x="28" y="141"/>
                        </a:lnTo>
                        <a:lnTo>
                          <a:pt x="28" y="111"/>
                        </a:lnTo>
                        <a:lnTo>
                          <a:pt x="28" y="63"/>
                        </a:lnTo>
                        <a:lnTo>
                          <a:pt x="42" y="32"/>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6870600" y="1976400"/>
                  <a:ext cx="28800" cy="358920"/>
                  <a:chOff x="6870600" y="1976400"/>
                  <a:chExt cx="28800" cy="358920"/>
                </a:xfrm>
              </p:grpSpPr>
              <p:sp>
                <p:nvSpPr>
                  <p:cNvPr id="1202" name=""/>
                  <p:cNvSpPr/>
                  <p:nvPr/>
                </p:nvSpPr>
                <p:spPr>
                  <a:xfrm>
                    <a:off x="6870600" y="1976400"/>
                    <a:ext cx="28800" cy="358920"/>
                  </a:xfrm>
                  <a:custGeom>
                    <a:avLst/>
                    <a:gdLst/>
                    <a:ahLst/>
                    <a:rect l="l" t="t" r="r" b="b"/>
                    <a:pathLst>
                      <a:path w="55" h="678">
                        <a:moveTo>
                          <a:pt x="0" y="678"/>
                        </a:moveTo>
                        <a:lnTo>
                          <a:pt x="0" y="646"/>
                        </a:lnTo>
                        <a:lnTo>
                          <a:pt x="0" y="615"/>
                        </a:lnTo>
                        <a:lnTo>
                          <a:pt x="0" y="583"/>
                        </a:lnTo>
                        <a:lnTo>
                          <a:pt x="0" y="552"/>
                        </a:lnTo>
                        <a:lnTo>
                          <a:pt x="14" y="521"/>
                        </a:lnTo>
                        <a:lnTo>
                          <a:pt x="14" y="489"/>
                        </a:lnTo>
                        <a:lnTo>
                          <a:pt x="14" y="442"/>
                        </a:lnTo>
                        <a:lnTo>
                          <a:pt x="14" y="410"/>
                        </a:lnTo>
                        <a:lnTo>
                          <a:pt x="28" y="363"/>
                        </a:lnTo>
                        <a:lnTo>
                          <a:pt x="28" y="331"/>
                        </a:lnTo>
                        <a:lnTo>
                          <a:pt x="28" y="284"/>
                        </a:lnTo>
                        <a:lnTo>
                          <a:pt x="28" y="237"/>
                        </a:lnTo>
                        <a:lnTo>
                          <a:pt x="28" y="205"/>
                        </a:lnTo>
                        <a:lnTo>
                          <a:pt x="41" y="173"/>
                        </a:lnTo>
                        <a:lnTo>
                          <a:pt x="41" y="126"/>
                        </a:lnTo>
                        <a:lnTo>
                          <a:pt x="41" y="94"/>
                        </a:lnTo>
                        <a:lnTo>
                          <a:pt x="41" y="63"/>
                        </a:lnTo>
                        <a:lnTo>
                          <a:pt x="55" y="31"/>
                        </a:lnTo>
                        <a:lnTo>
                          <a:pt x="55" y="0"/>
                        </a:lnTo>
                        <a:lnTo>
                          <a:pt x="0" y="67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870600" y="1976400"/>
                    <a:ext cx="28800" cy="358920"/>
                  </a:xfrm>
                  <a:custGeom>
                    <a:avLst/>
                    <a:gdLst/>
                    <a:ahLst/>
                    <a:rect l="l" t="t" r="r" b="b"/>
                    <a:pathLst>
                      <a:path w="55" h="678">
                        <a:moveTo>
                          <a:pt x="0" y="678"/>
                        </a:moveTo>
                        <a:lnTo>
                          <a:pt x="0" y="646"/>
                        </a:lnTo>
                        <a:lnTo>
                          <a:pt x="0" y="615"/>
                        </a:lnTo>
                        <a:lnTo>
                          <a:pt x="0" y="583"/>
                        </a:lnTo>
                        <a:lnTo>
                          <a:pt x="0" y="552"/>
                        </a:lnTo>
                        <a:lnTo>
                          <a:pt x="14" y="521"/>
                        </a:lnTo>
                        <a:lnTo>
                          <a:pt x="14" y="489"/>
                        </a:lnTo>
                        <a:lnTo>
                          <a:pt x="14" y="442"/>
                        </a:lnTo>
                        <a:lnTo>
                          <a:pt x="14" y="410"/>
                        </a:lnTo>
                        <a:lnTo>
                          <a:pt x="28" y="363"/>
                        </a:lnTo>
                        <a:lnTo>
                          <a:pt x="28" y="331"/>
                        </a:lnTo>
                        <a:lnTo>
                          <a:pt x="28" y="284"/>
                        </a:lnTo>
                        <a:lnTo>
                          <a:pt x="28" y="237"/>
                        </a:lnTo>
                        <a:lnTo>
                          <a:pt x="28" y="205"/>
                        </a:lnTo>
                        <a:lnTo>
                          <a:pt x="41" y="173"/>
                        </a:lnTo>
                        <a:lnTo>
                          <a:pt x="41" y="126"/>
                        </a:lnTo>
                        <a:lnTo>
                          <a:pt x="41" y="94"/>
                        </a:lnTo>
                        <a:lnTo>
                          <a:pt x="41" y="63"/>
                        </a:lnTo>
                        <a:lnTo>
                          <a:pt x="55" y="31"/>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4" name=""/>
                <p:cNvGrpSpPr/>
                <p:nvPr/>
              </p:nvGrpSpPr>
              <p:grpSpPr>
                <a:xfrm>
                  <a:off x="6899400" y="1833480"/>
                  <a:ext cx="21960" cy="142920"/>
                  <a:chOff x="6899400" y="1833480"/>
                  <a:chExt cx="21960" cy="142920"/>
                </a:xfrm>
              </p:grpSpPr>
              <p:sp>
                <p:nvSpPr>
                  <p:cNvPr id="1205" name=""/>
                  <p:cNvSpPr/>
                  <p:nvPr/>
                </p:nvSpPr>
                <p:spPr>
                  <a:xfrm>
                    <a:off x="6899400" y="1833480"/>
                    <a:ext cx="21960" cy="142920"/>
                  </a:xfrm>
                  <a:custGeom>
                    <a:avLst/>
                    <a:gdLst/>
                    <a:ahLst/>
                    <a:rect l="l" t="t" r="r" b="b"/>
                    <a:pathLst>
                      <a:path w="42" h="268">
                        <a:moveTo>
                          <a:pt x="0" y="268"/>
                        </a:moveTo>
                        <a:lnTo>
                          <a:pt x="0" y="220"/>
                        </a:lnTo>
                        <a:lnTo>
                          <a:pt x="14" y="173"/>
                        </a:lnTo>
                        <a:lnTo>
                          <a:pt x="14" y="141"/>
                        </a:lnTo>
                        <a:lnTo>
                          <a:pt x="28" y="94"/>
                        </a:lnTo>
                        <a:lnTo>
                          <a:pt x="28" y="47"/>
                        </a:lnTo>
                        <a:lnTo>
                          <a:pt x="42" y="0"/>
                        </a:lnTo>
                        <a:lnTo>
                          <a:pt x="0"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899400" y="1833480"/>
                    <a:ext cx="21960" cy="142920"/>
                  </a:xfrm>
                  <a:custGeom>
                    <a:avLst/>
                    <a:gdLst/>
                    <a:ahLst/>
                    <a:rect l="l" t="t" r="r" b="b"/>
                    <a:pathLst>
                      <a:path w="42" h="268">
                        <a:moveTo>
                          <a:pt x="0" y="268"/>
                        </a:moveTo>
                        <a:lnTo>
                          <a:pt x="0" y="220"/>
                        </a:lnTo>
                        <a:lnTo>
                          <a:pt x="14" y="173"/>
                        </a:lnTo>
                        <a:lnTo>
                          <a:pt x="14" y="141"/>
                        </a:lnTo>
                        <a:lnTo>
                          <a:pt x="28" y="94"/>
                        </a:lnTo>
                        <a:lnTo>
                          <a:pt x="28" y="47"/>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7" name=""/>
                <p:cNvGrpSpPr/>
                <p:nvPr/>
              </p:nvGrpSpPr>
              <p:grpSpPr>
                <a:xfrm>
                  <a:off x="6921360" y="1792440"/>
                  <a:ext cx="7920" cy="41040"/>
                  <a:chOff x="6921360" y="1792440"/>
                  <a:chExt cx="7920" cy="41040"/>
                </a:xfrm>
              </p:grpSpPr>
              <p:sp>
                <p:nvSpPr>
                  <p:cNvPr id="1208" name=""/>
                  <p:cNvSpPr/>
                  <p:nvPr/>
                </p:nvSpPr>
                <p:spPr>
                  <a:xfrm>
                    <a:off x="6921360" y="1792440"/>
                    <a:ext cx="7920" cy="41040"/>
                  </a:xfrm>
                  <a:custGeom>
                    <a:avLst/>
                    <a:gdLst/>
                    <a:ahLst/>
                    <a:rect l="l" t="t" r="r" b="b"/>
                    <a:pathLst>
                      <a:path w="14" h="79">
                        <a:moveTo>
                          <a:pt x="0" y="79"/>
                        </a:moveTo>
                        <a:lnTo>
                          <a:pt x="0" y="47"/>
                        </a:lnTo>
                        <a:lnTo>
                          <a:pt x="14" y="32"/>
                        </a:lnTo>
                        <a:lnTo>
                          <a:pt x="14" y="0"/>
                        </a:lnTo>
                        <a:lnTo>
                          <a:pt x="0"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9" name=""/>
                  <p:cNvSpPr/>
                  <p:nvPr/>
                </p:nvSpPr>
                <p:spPr>
                  <a:xfrm>
                    <a:off x="6921360" y="1792440"/>
                    <a:ext cx="7920" cy="41040"/>
                  </a:xfrm>
                  <a:custGeom>
                    <a:avLst/>
                    <a:gdLst/>
                    <a:ahLst/>
                    <a:rect l="l" t="t" r="r" b="b"/>
                    <a:pathLst>
                      <a:path w="14" h="79">
                        <a:moveTo>
                          <a:pt x="0" y="79"/>
                        </a:moveTo>
                        <a:lnTo>
                          <a:pt x="0" y="47"/>
                        </a:lnTo>
                        <a:lnTo>
                          <a:pt x="14" y="32"/>
                        </a:lnTo>
                        <a:lnTo>
                          <a:pt x="14"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10" name=""/>
                <p:cNvGrpSpPr/>
                <p:nvPr/>
              </p:nvGrpSpPr>
              <p:grpSpPr>
                <a:xfrm>
                  <a:off x="6929280" y="1774800"/>
                  <a:ext cx="6480" cy="17640"/>
                  <a:chOff x="6929280" y="1774800"/>
                  <a:chExt cx="6480" cy="17640"/>
                </a:xfrm>
              </p:grpSpPr>
              <p:sp>
                <p:nvSpPr>
                  <p:cNvPr id="1211" name=""/>
                  <p:cNvSpPr/>
                  <p:nvPr/>
                </p:nvSpPr>
                <p:spPr>
                  <a:xfrm>
                    <a:off x="6929280" y="1774800"/>
                    <a:ext cx="6480" cy="17640"/>
                  </a:xfrm>
                  <a:custGeom>
                    <a:avLst/>
                    <a:gdLst/>
                    <a:ahLst/>
                    <a:rect l="l" t="t" r="r" b="b"/>
                    <a:pathLst>
                      <a:path w="13" h="32">
                        <a:moveTo>
                          <a:pt x="0" y="32"/>
                        </a:moveTo>
                        <a:lnTo>
                          <a:pt x="0" y="15"/>
                        </a:lnTo>
                        <a:lnTo>
                          <a:pt x="13"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6929280" y="1774800"/>
                    <a:ext cx="6480" cy="17640"/>
                  </a:xfrm>
                  <a:custGeom>
                    <a:avLst/>
                    <a:gdLst/>
                    <a:ahLst/>
                    <a:rect l="l" t="t" r="r" b="b"/>
                    <a:pathLst>
                      <a:path w="13" h="32">
                        <a:moveTo>
                          <a:pt x="0" y="32"/>
                        </a:moveTo>
                        <a:lnTo>
                          <a:pt x="0" y="15"/>
                        </a:lnTo>
                        <a:lnTo>
                          <a:pt x="13"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13" name=""/>
                <p:cNvGrpSpPr/>
                <p:nvPr/>
              </p:nvGrpSpPr>
              <p:grpSpPr>
                <a:xfrm>
                  <a:off x="7024680" y="1774800"/>
                  <a:ext cx="1440" cy="2338560"/>
                  <a:chOff x="7024680" y="1774800"/>
                  <a:chExt cx="1440" cy="2338560"/>
                </a:xfrm>
              </p:grpSpPr>
              <p:sp>
                <p:nvSpPr>
                  <p:cNvPr id="1214" name=""/>
                  <p:cNvSpPr/>
                  <p:nvPr/>
                </p:nvSpPr>
                <p:spPr>
                  <a:xfrm>
                    <a:off x="7024680" y="1774800"/>
                    <a:ext cx="1440" cy="2338560"/>
                  </a:xfrm>
                  <a:custGeom>
                    <a:avLst/>
                    <a:gdLst/>
                    <a:ahLst/>
                    <a:rect l="l" t="t" r="r" b="b"/>
                    <a:pathLst>
                      <a:path w="0" h="4417">
                        <a:moveTo>
                          <a:pt x="0" y="4417"/>
                        </a:moveTo>
                        <a:lnTo>
                          <a:pt x="0" y="4385"/>
                        </a:lnTo>
                        <a:lnTo>
                          <a:pt x="0" y="4355"/>
                        </a:lnTo>
                        <a:lnTo>
                          <a:pt x="0" y="4323"/>
                        </a:lnTo>
                        <a:lnTo>
                          <a:pt x="0" y="4291"/>
                        </a:lnTo>
                        <a:lnTo>
                          <a:pt x="0" y="4259"/>
                        </a:lnTo>
                        <a:lnTo>
                          <a:pt x="0" y="4212"/>
                        </a:lnTo>
                        <a:lnTo>
                          <a:pt x="0" y="4180"/>
                        </a:lnTo>
                        <a:lnTo>
                          <a:pt x="0" y="4148"/>
                        </a:lnTo>
                        <a:lnTo>
                          <a:pt x="0" y="4118"/>
                        </a:lnTo>
                        <a:lnTo>
                          <a:pt x="0" y="4086"/>
                        </a:lnTo>
                        <a:lnTo>
                          <a:pt x="0" y="4054"/>
                        </a:lnTo>
                        <a:lnTo>
                          <a:pt x="0" y="4007"/>
                        </a:lnTo>
                        <a:lnTo>
                          <a:pt x="0" y="3975"/>
                        </a:lnTo>
                        <a:lnTo>
                          <a:pt x="0" y="3944"/>
                        </a:lnTo>
                        <a:lnTo>
                          <a:pt x="0" y="3912"/>
                        </a:lnTo>
                        <a:lnTo>
                          <a:pt x="0" y="3881"/>
                        </a:lnTo>
                        <a:lnTo>
                          <a:pt x="0" y="3833"/>
                        </a:lnTo>
                        <a:lnTo>
                          <a:pt x="0" y="3803"/>
                        </a:lnTo>
                        <a:lnTo>
                          <a:pt x="0" y="3771"/>
                        </a:lnTo>
                        <a:lnTo>
                          <a:pt x="0" y="3739"/>
                        </a:lnTo>
                        <a:lnTo>
                          <a:pt x="0" y="3707"/>
                        </a:lnTo>
                        <a:lnTo>
                          <a:pt x="0" y="3675"/>
                        </a:lnTo>
                        <a:lnTo>
                          <a:pt x="0" y="3628"/>
                        </a:lnTo>
                        <a:lnTo>
                          <a:pt x="0" y="3596"/>
                        </a:lnTo>
                        <a:lnTo>
                          <a:pt x="0" y="3566"/>
                        </a:lnTo>
                        <a:lnTo>
                          <a:pt x="0" y="3534"/>
                        </a:lnTo>
                        <a:lnTo>
                          <a:pt x="0" y="3502"/>
                        </a:lnTo>
                        <a:lnTo>
                          <a:pt x="0" y="3455"/>
                        </a:lnTo>
                        <a:lnTo>
                          <a:pt x="0" y="3423"/>
                        </a:lnTo>
                        <a:lnTo>
                          <a:pt x="0" y="3392"/>
                        </a:lnTo>
                        <a:lnTo>
                          <a:pt x="0" y="3360"/>
                        </a:lnTo>
                        <a:lnTo>
                          <a:pt x="0" y="3329"/>
                        </a:lnTo>
                        <a:lnTo>
                          <a:pt x="0" y="3297"/>
                        </a:lnTo>
                        <a:lnTo>
                          <a:pt x="0" y="3250"/>
                        </a:lnTo>
                        <a:lnTo>
                          <a:pt x="0" y="3219"/>
                        </a:lnTo>
                        <a:lnTo>
                          <a:pt x="0" y="3187"/>
                        </a:lnTo>
                        <a:lnTo>
                          <a:pt x="0" y="3155"/>
                        </a:lnTo>
                        <a:lnTo>
                          <a:pt x="0" y="3123"/>
                        </a:lnTo>
                        <a:lnTo>
                          <a:pt x="0" y="3076"/>
                        </a:lnTo>
                        <a:lnTo>
                          <a:pt x="0" y="3044"/>
                        </a:lnTo>
                        <a:lnTo>
                          <a:pt x="0" y="3014"/>
                        </a:lnTo>
                        <a:lnTo>
                          <a:pt x="0" y="2982"/>
                        </a:lnTo>
                        <a:lnTo>
                          <a:pt x="0" y="2950"/>
                        </a:lnTo>
                        <a:lnTo>
                          <a:pt x="0" y="2918"/>
                        </a:lnTo>
                        <a:lnTo>
                          <a:pt x="0" y="2871"/>
                        </a:lnTo>
                        <a:lnTo>
                          <a:pt x="0" y="2839"/>
                        </a:lnTo>
                        <a:lnTo>
                          <a:pt x="0" y="2808"/>
                        </a:lnTo>
                        <a:lnTo>
                          <a:pt x="0" y="2777"/>
                        </a:lnTo>
                        <a:lnTo>
                          <a:pt x="0" y="2745"/>
                        </a:lnTo>
                        <a:lnTo>
                          <a:pt x="0" y="2698"/>
                        </a:lnTo>
                        <a:lnTo>
                          <a:pt x="0" y="2667"/>
                        </a:lnTo>
                        <a:lnTo>
                          <a:pt x="0" y="2635"/>
                        </a:lnTo>
                        <a:lnTo>
                          <a:pt x="0" y="2603"/>
                        </a:lnTo>
                        <a:lnTo>
                          <a:pt x="0" y="2571"/>
                        </a:lnTo>
                        <a:lnTo>
                          <a:pt x="0" y="2541"/>
                        </a:lnTo>
                        <a:lnTo>
                          <a:pt x="0" y="2492"/>
                        </a:lnTo>
                        <a:lnTo>
                          <a:pt x="0" y="2462"/>
                        </a:lnTo>
                        <a:lnTo>
                          <a:pt x="0" y="2430"/>
                        </a:lnTo>
                        <a:lnTo>
                          <a:pt x="0" y="2398"/>
                        </a:lnTo>
                        <a:lnTo>
                          <a:pt x="0" y="2366"/>
                        </a:lnTo>
                        <a:lnTo>
                          <a:pt x="0" y="2334"/>
                        </a:lnTo>
                        <a:lnTo>
                          <a:pt x="0" y="2287"/>
                        </a:lnTo>
                        <a:lnTo>
                          <a:pt x="0" y="2256"/>
                        </a:lnTo>
                        <a:lnTo>
                          <a:pt x="0" y="2225"/>
                        </a:lnTo>
                        <a:lnTo>
                          <a:pt x="0" y="2193"/>
                        </a:lnTo>
                        <a:lnTo>
                          <a:pt x="0" y="2161"/>
                        </a:lnTo>
                        <a:lnTo>
                          <a:pt x="0" y="2114"/>
                        </a:lnTo>
                        <a:lnTo>
                          <a:pt x="0" y="2083"/>
                        </a:lnTo>
                        <a:lnTo>
                          <a:pt x="0" y="2051"/>
                        </a:lnTo>
                        <a:lnTo>
                          <a:pt x="0" y="2019"/>
                        </a:lnTo>
                        <a:lnTo>
                          <a:pt x="0" y="1987"/>
                        </a:lnTo>
                        <a:lnTo>
                          <a:pt x="0" y="1957"/>
                        </a:lnTo>
                        <a:lnTo>
                          <a:pt x="0" y="1908"/>
                        </a:lnTo>
                        <a:lnTo>
                          <a:pt x="0" y="1878"/>
                        </a:lnTo>
                        <a:lnTo>
                          <a:pt x="0" y="1846"/>
                        </a:lnTo>
                        <a:lnTo>
                          <a:pt x="0" y="1814"/>
                        </a:lnTo>
                        <a:lnTo>
                          <a:pt x="0" y="1782"/>
                        </a:lnTo>
                        <a:lnTo>
                          <a:pt x="0" y="1735"/>
                        </a:lnTo>
                        <a:lnTo>
                          <a:pt x="0" y="1703"/>
                        </a:lnTo>
                        <a:lnTo>
                          <a:pt x="0" y="1672"/>
                        </a:lnTo>
                        <a:lnTo>
                          <a:pt x="0" y="1641"/>
                        </a:lnTo>
                        <a:lnTo>
                          <a:pt x="0" y="1609"/>
                        </a:lnTo>
                        <a:lnTo>
                          <a:pt x="0" y="1578"/>
                        </a:lnTo>
                        <a:lnTo>
                          <a:pt x="0" y="1531"/>
                        </a:lnTo>
                        <a:lnTo>
                          <a:pt x="0" y="1499"/>
                        </a:lnTo>
                        <a:lnTo>
                          <a:pt x="0" y="1467"/>
                        </a:lnTo>
                        <a:lnTo>
                          <a:pt x="0" y="1435"/>
                        </a:lnTo>
                        <a:lnTo>
                          <a:pt x="0" y="1405"/>
                        </a:lnTo>
                        <a:lnTo>
                          <a:pt x="0" y="1356"/>
                        </a:lnTo>
                        <a:lnTo>
                          <a:pt x="0" y="1326"/>
                        </a:lnTo>
                        <a:lnTo>
                          <a:pt x="0" y="1294"/>
                        </a:lnTo>
                        <a:lnTo>
                          <a:pt x="0" y="1262"/>
                        </a:lnTo>
                        <a:lnTo>
                          <a:pt x="0" y="1230"/>
                        </a:lnTo>
                        <a:lnTo>
                          <a:pt x="0" y="1183"/>
                        </a:lnTo>
                        <a:lnTo>
                          <a:pt x="0" y="1136"/>
                        </a:lnTo>
                        <a:lnTo>
                          <a:pt x="0" y="1104"/>
                        </a:lnTo>
                        <a:lnTo>
                          <a:pt x="0" y="1073"/>
                        </a:lnTo>
                        <a:lnTo>
                          <a:pt x="0" y="1041"/>
                        </a:lnTo>
                        <a:lnTo>
                          <a:pt x="0" y="1010"/>
                        </a:lnTo>
                        <a:lnTo>
                          <a:pt x="0" y="978"/>
                        </a:lnTo>
                        <a:lnTo>
                          <a:pt x="0" y="931"/>
                        </a:lnTo>
                        <a:lnTo>
                          <a:pt x="0" y="900"/>
                        </a:lnTo>
                        <a:lnTo>
                          <a:pt x="0" y="868"/>
                        </a:lnTo>
                        <a:lnTo>
                          <a:pt x="0" y="836"/>
                        </a:lnTo>
                        <a:lnTo>
                          <a:pt x="0" y="804"/>
                        </a:lnTo>
                        <a:lnTo>
                          <a:pt x="0" y="757"/>
                        </a:lnTo>
                        <a:lnTo>
                          <a:pt x="0" y="725"/>
                        </a:lnTo>
                        <a:lnTo>
                          <a:pt x="0" y="695"/>
                        </a:lnTo>
                        <a:lnTo>
                          <a:pt x="0" y="663"/>
                        </a:lnTo>
                        <a:lnTo>
                          <a:pt x="0" y="631"/>
                        </a:lnTo>
                        <a:lnTo>
                          <a:pt x="0" y="599"/>
                        </a:lnTo>
                        <a:lnTo>
                          <a:pt x="0" y="552"/>
                        </a:lnTo>
                        <a:lnTo>
                          <a:pt x="0" y="520"/>
                        </a:lnTo>
                        <a:lnTo>
                          <a:pt x="0" y="489"/>
                        </a:lnTo>
                        <a:lnTo>
                          <a:pt x="0" y="458"/>
                        </a:lnTo>
                        <a:lnTo>
                          <a:pt x="0" y="426"/>
                        </a:lnTo>
                        <a:lnTo>
                          <a:pt x="0" y="379"/>
                        </a:lnTo>
                        <a:lnTo>
                          <a:pt x="0" y="347"/>
                        </a:lnTo>
                        <a:lnTo>
                          <a:pt x="0" y="316"/>
                        </a:lnTo>
                        <a:lnTo>
                          <a:pt x="0" y="284"/>
                        </a:lnTo>
                        <a:lnTo>
                          <a:pt x="0" y="252"/>
                        </a:lnTo>
                        <a:lnTo>
                          <a:pt x="0" y="222"/>
                        </a:lnTo>
                        <a:lnTo>
                          <a:pt x="0" y="173"/>
                        </a:lnTo>
                        <a:lnTo>
                          <a:pt x="0" y="143"/>
                        </a:lnTo>
                        <a:lnTo>
                          <a:pt x="0" y="111"/>
                        </a:lnTo>
                        <a:lnTo>
                          <a:pt x="0" y="79"/>
                        </a:lnTo>
                        <a:lnTo>
                          <a:pt x="0" y="47"/>
                        </a:lnTo>
                        <a:lnTo>
                          <a:pt x="0" y="0"/>
                        </a:lnTo>
                        <a:lnTo>
                          <a:pt x="0" y="441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024680" y="1774800"/>
                    <a:ext cx="1440" cy="2338560"/>
                  </a:xfrm>
                  <a:custGeom>
                    <a:avLst/>
                    <a:gdLst/>
                    <a:ahLst/>
                    <a:rect l="l" t="t" r="r" b="b"/>
                    <a:pathLst>
                      <a:path w="0" h="4417">
                        <a:moveTo>
                          <a:pt x="0" y="4417"/>
                        </a:moveTo>
                        <a:lnTo>
                          <a:pt x="0" y="4385"/>
                        </a:lnTo>
                        <a:lnTo>
                          <a:pt x="0" y="4355"/>
                        </a:lnTo>
                        <a:lnTo>
                          <a:pt x="0" y="4323"/>
                        </a:lnTo>
                        <a:lnTo>
                          <a:pt x="0" y="4291"/>
                        </a:lnTo>
                        <a:lnTo>
                          <a:pt x="0" y="4259"/>
                        </a:lnTo>
                        <a:lnTo>
                          <a:pt x="0" y="4212"/>
                        </a:lnTo>
                        <a:lnTo>
                          <a:pt x="0" y="4180"/>
                        </a:lnTo>
                        <a:lnTo>
                          <a:pt x="0" y="4148"/>
                        </a:lnTo>
                        <a:lnTo>
                          <a:pt x="0" y="4118"/>
                        </a:lnTo>
                        <a:lnTo>
                          <a:pt x="0" y="4086"/>
                        </a:lnTo>
                        <a:lnTo>
                          <a:pt x="0" y="4054"/>
                        </a:lnTo>
                        <a:lnTo>
                          <a:pt x="0" y="4007"/>
                        </a:lnTo>
                        <a:lnTo>
                          <a:pt x="0" y="3975"/>
                        </a:lnTo>
                        <a:lnTo>
                          <a:pt x="0" y="3944"/>
                        </a:lnTo>
                        <a:lnTo>
                          <a:pt x="0" y="3912"/>
                        </a:lnTo>
                        <a:lnTo>
                          <a:pt x="0" y="3881"/>
                        </a:lnTo>
                        <a:lnTo>
                          <a:pt x="0" y="3833"/>
                        </a:lnTo>
                        <a:lnTo>
                          <a:pt x="0" y="3803"/>
                        </a:lnTo>
                        <a:lnTo>
                          <a:pt x="0" y="3771"/>
                        </a:lnTo>
                        <a:lnTo>
                          <a:pt x="0" y="3739"/>
                        </a:lnTo>
                        <a:lnTo>
                          <a:pt x="0" y="3707"/>
                        </a:lnTo>
                        <a:lnTo>
                          <a:pt x="0" y="3675"/>
                        </a:lnTo>
                        <a:lnTo>
                          <a:pt x="0" y="3628"/>
                        </a:lnTo>
                        <a:lnTo>
                          <a:pt x="0" y="3596"/>
                        </a:lnTo>
                        <a:lnTo>
                          <a:pt x="0" y="3566"/>
                        </a:lnTo>
                        <a:lnTo>
                          <a:pt x="0" y="3534"/>
                        </a:lnTo>
                        <a:lnTo>
                          <a:pt x="0" y="3502"/>
                        </a:lnTo>
                        <a:lnTo>
                          <a:pt x="0" y="3455"/>
                        </a:lnTo>
                        <a:lnTo>
                          <a:pt x="0" y="3423"/>
                        </a:lnTo>
                        <a:lnTo>
                          <a:pt x="0" y="3392"/>
                        </a:lnTo>
                        <a:lnTo>
                          <a:pt x="0" y="3360"/>
                        </a:lnTo>
                        <a:lnTo>
                          <a:pt x="0" y="3329"/>
                        </a:lnTo>
                        <a:lnTo>
                          <a:pt x="0" y="3297"/>
                        </a:lnTo>
                        <a:lnTo>
                          <a:pt x="0" y="3250"/>
                        </a:lnTo>
                        <a:lnTo>
                          <a:pt x="0" y="3219"/>
                        </a:lnTo>
                        <a:lnTo>
                          <a:pt x="0" y="3187"/>
                        </a:lnTo>
                        <a:lnTo>
                          <a:pt x="0" y="3155"/>
                        </a:lnTo>
                        <a:lnTo>
                          <a:pt x="0" y="3123"/>
                        </a:lnTo>
                        <a:lnTo>
                          <a:pt x="0" y="3076"/>
                        </a:lnTo>
                        <a:lnTo>
                          <a:pt x="0" y="3044"/>
                        </a:lnTo>
                        <a:lnTo>
                          <a:pt x="0" y="3014"/>
                        </a:lnTo>
                        <a:lnTo>
                          <a:pt x="0" y="2982"/>
                        </a:lnTo>
                        <a:lnTo>
                          <a:pt x="0" y="2950"/>
                        </a:lnTo>
                        <a:lnTo>
                          <a:pt x="0" y="2918"/>
                        </a:lnTo>
                        <a:lnTo>
                          <a:pt x="0" y="2871"/>
                        </a:lnTo>
                        <a:lnTo>
                          <a:pt x="0" y="2839"/>
                        </a:lnTo>
                        <a:lnTo>
                          <a:pt x="0" y="2808"/>
                        </a:lnTo>
                        <a:lnTo>
                          <a:pt x="0" y="2777"/>
                        </a:lnTo>
                        <a:lnTo>
                          <a:pt x="0" y="2745"/>
                        </a:lnTo>
                        <a:lnTo>
                          <a:pt x="0" y="2698"/>
                        </a:lnTo>
                        <a:lnTo>
                          <a:pt x="0" y="2667"/>
                        </a:lnTo>
                        <a:lnTo>
                          <a:pt x="0" y="2635"/>
                        </a:lnTo>
                        <a:lnTo>
                          <a:pt x="0" y="2603"/>
                        </a:lnTo>
                        <a:lnTo>
                          <a:pt x="0" y="2571"/>
                        </a:lnTo>
                        <a:lnTo>
                          <a:pt x="0" y="2541"/>
                        </a:lnTo>
                        <a:lnTo>
                          <a:pt x="0" y="2492"/>
                        </a:lnTo>
                        <a:lnTo>
                          <a:pt x="0" y="2462"/>
                        </a:lnTo>
                        <a:lnTo>
                          <a:pt x="0" y="2430"/>
                        </a:lnTo>
                        <a:lnTo>
                          <a:pt x="0" y="2398"/>
                        </a:lnTo>
                        <a:lnTo>
                          <a:pt x="0" y="2366"/>
                        </a:lnTo>
                        <a:lnTo>
                          <a:pt x="0" y="2334"/>
                        </a:lnTo>
                        <a:lnTo>
                          <a:pt x="0" y="2287"/>
                        </a:lnTo>
                        <a:lnTo>
                          <a:pt x="0" y="2256"/>
                        </a:lnTo>
                        <a:lnTo>
                          <a:pt x="0" y="2225"/>
                        </a:lnTo>
                        <a:lnTo>
                          <a:pt x="0" y="2193"/>
                        </a:lnTo>
                        <a:lnTo>
                          <a:pt x="0" y="2161"/>
                        </a:lnTo>
                        <a:lnTo>
                          <a:pt x="0" y="2114"/>
                        </a:lnTo>
                        <a:lnTo>
                          <a:pt x="0" y="2083"/>
                        </a:lnTo>
                        <a:lnTo>
                          <a:pt x="0" y="2051"/>
                        </a:lnTo>
                        <a:lnTo>
                          <a:pt x="0" y="2019"/>
                        </a:lnTo>
                        <a:lnTo>
                          <a:pt x="0" y="1987"/>
                        </a:lnTo>
                        <a:lnTo>
                          <a:pt x="0" y="1957"/>
                        </a:lnTo>
                        <a:lnTo>
                          <a:pt x="0" y="1908"/>
                        </a:lnTo>
                        <a:lnTo>
                          <a:pt x="0" y="1878"/>
                        </a:lnTo>
                        <a:lnTo>
                          <a:pt x="0" y="1846"/>
                        </a:lnTo>
                        <a:lnTo>
                          <a:pt x="0" y="1814"/>
                        </a:lnTo>
                        <a:lnTo>
                          <a:pt x="0" y="1782"/>
                        </a:lnTo>
                        <a:lnTo>
                          <a:pt x="0" y="1735"/>
                        </a:lnTo>
                        <a:lnTo>
                          <a:pt x="0" y="1703"/>
                        </a:lnTo>
                        <a:lnTo>
                          <a:pt x="0" y="1672"/>
                        </a:lnTo>
                        <a:lnTo>
                          <a:pt x="0" y="1641"/>
                        </a:lnTo>
                        <a:lnTo>
                          <a:pt x="0" y="1609"/>
                        </a:lnTo>
                        <a:lnTo>
                          <a:pt x="0" y="1578"/>
                        </a:lnTo>
                        <a:lnTo>
                          <a:pt x="0" y="1531"/>
                        </a:lnTo>
                        <a:lnTo>
                          <a:pt x="0" y="1499"/>
                        </a:lnTo>
                        <a:lnTo>
                          <a:pt x="0" y="1467"/>
                        </a:lnTo>
                        <a:lnTo>
                          <a:pt x="0" y="1435"/>
                        </a:lnTo>
                        <a:lnTo>
                          <a:pt x="0" y="1405"/>
                        </a:lnTo>
                        <a:lnTo>
                          <a:pt x="0" y="1356"/>
                        </a:lnTo>
                        <a:lnTo>
                          <a:pt x="0" y="1326"/>
                        </a:lnTo>
                        <a:lnTo>
                          <a:pt x="0" y="1294"/>
                        </a:lnTo>
                        <a:lnTo>
                          <a:pt x="0" y="1262"/>
                        </a:lnTo>
                        <a:lnTo>
                          <a:pt x="0" y="1230"/>
                        </a:lnTo>
                        <a:lnTo>
                          <a:pt x="0" y="1183"/>
                        </a:lnTo>
                        <a:lnTo>
                          <a:pt x="0" y="1136"/>
                        </a:lnTo>
                        <a:lnTo>
                          <a:pt x="0" y="1104"/>
                        </a:lnTo>
                        <a:lnTo>
                          <a:pt x="0" y="1073"/>
                        </a:lnTo>
                        <a:lnTo>
                          <a:pt x="0" y="1041"/>
                        </a:lnTo>
                        <a:lnTo>
                          <a:pt x="0" y="1010"/>
                        </a:lnTo>
                        <a:lnTo>
                          <a:pt x="0" y="978"/>
                        </a:lnTo>
                        <a:lnTo>
                          <a:pt x="0" y="931"/>
                        </a:lnTo>
                        <a:lnTo>
                          <a:pt x="0" y="900"/>
                        </a:lnTo>
                        <a:lnTo>
                          <a:pt x="0" y="868"/>
                        </a:lnTo>
                        <a:lnTo>
                          <a:pt x="0" y="836"/>
                        </a:lnTo>
                        <a:lnTo>
                          <a:pt x="0" y="804"/>
                        </a:lnTo>
                        <a:lnTo>
                          <a:pt x="0" y="757"/>
                        </a:lnTo>
                        <a:lnTo>
                          <a:pt x="0" y="725"/>
                        </a:lnTo>
                        <a:lnTo>
                          <a:pt x="0" y="695"/>
                        </a:lnTo>
                        <a:lnTo>
                          <a:pt x="0" y="663"/>
                        </a:lnTo>
                        <a:lnTo>
                          <a:pt x="0" y="631"/>
                        </a:lnTo>
                        <a:lnTo>
                          <a:pt x="0" y="599"/>
                        </a:lnTo>
                        <a:lnTo>
                          <a:pt x="0" y="552"/>
                        </a:lnTo>
                        <a:lnTo>
                          <a:pt x="0" y="520"/>
                        </a:lnTo>
                        <a:lnTo>
                          <a:pt x="0" y="489"/>
                        </a:lnTo>
                        <a:lnTo>
                          <a:pt x="0" y="458"/>
                        </a:lnTo>
                        <a:lnTo>
                          <a:pt x="0" y="426"/>
                        </a:lnTo>
                        <a:lnTo>
                          <a:pt x="0" y="379"/>
                        </a:lnTo>
                        <a:lnTo>
                          <a:pt x="0" y="347"/>
                        </a:lnTo>
                        <a:lnTo>
                          <a:pt x="0" y="316"/>
                        </a:lnTo>
                        <a:lnTo>
                          <a:pt x="0" y="284"/>
                        </a:lnTo>
                        <a:lnTo>
                          <a:pt x="0" y="252"/>
                        </a:lnTo>
                        <a:lnTo>
                          <a:pt x="0" y="222"/>
                        </a:lnTo>
                        <a:lnTo>
                          <a:pt x="0" y="173"/>
                        </a:lnTo>
                        <a:lnTo>
                          <a:pt x="0" y="143"/>
                        </a:lnTo>
                        <a:lnTo>
                          <a:pt x="0" y="111"/>
                        </a:lnTo>
                        <a:lnTo>
                          <a:pt x="0" y="79"/>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7120080" y="3736800"/>
                  <a:ext cx="50760" cy="376560"/>
                  <a:chOff x="7120080" y="3736800"/>
                  <a:chExt cx="50760" cy="376560"/>
                </a:xfrm>
              </p:grpSpPr>
              <p:sp>
                <p:nvSpPr>
                  <p:cNvPr id="1217" name=""/>
                  <p:cNvSpPr/>
                  <p:nvPr/>
                </p:nvSpPr>
                <p:spPr>
                  <a:xfrm>
                    <a:off x="7120080" y="3736800"/>
                    <a:ext cx="50760" cy="376560"/>
                  </a:xfrm>
                  <a:custGeom>
                    <a:avLst/>
                    <a:gdLst/>
                    <a:ahLst/>
                    <a:rect l="l" t="t" r="r" b="b"/>
                    <a:pathLst>
                      <a:path w="97" h="710">
                        <a:moveTo>
                          <a:pt x="0" y="710"/>
                        </a:moveTo>
                        <a:lnTo>
                          <a:pt x="14" y="678"/>
                        </a:lnTo>
                        <a:lnTo>
                          <a:pt x="14" y="648"/>
                        </a:lnTo>
                        <a:lnTo>
                          <a:pt x="28" y="616"/>
                        </a:lnTo>
                        <a:lnTo>
                          <a:pt x="28" y="584"/>
                        </a:lnTo>
                        <a:lnTo>
                          <a:pt x="42" y="537"/>
                        </a:lnTo>
                        <a:lnTo>
                          <a:pt x="42" y="505"/>
                        </a:lnTo>
                        <a:lnTo>
                          <a:pt x="42" y="473"/>
                        </a:lnTo>
                        <a:lnTo>
                          <a:pt x="55" y="441"/>
                        </a:lnTo>
                        <a:lnTo>
                          <a:pt x="55" y="394"/>
                        </a:lnTo>
                        <a:lnTo>
                          <a:pt x="55" y="363"/>
                        </a:lnTo>
                        <a:lnTo>
                          <a:pt x="69" y="332"/>
                        </a:lnTo>
                        <a:lnTo>
                          <a:pt x="69" y="284"/>
                        </a:lnTo>
                        <a:lnTo>
                          <a:pt x="69" y="253"/>
                        </a:lnTo>
                        <a:lnTo>
                          <a:pt x="69" y="221"/>
                        </a:lnTo>
                        <a:lnTo>
                          <a:pt x="83" y="190"/>
                        </a:lnTo>
                        <a:lnTo>
                          <a:pt x="83" y="143"/>
                        </a:lnTo>
                        <a:lnTo>
                          <a:pt x="83" y="111"/>
                        </a:lnTo>
                        <a:lnTo>
                          <a:pt x="83" y="79"/>
                        </a:lnTo>
                        <a:lnTo>
                          <a:pt x="97" y="32"/>
                        </a:lnTo>
                        <a:lnTo>
                          <a:pt x="97" y="0"/>
                        </a:lnTo>
                        <a:lnTo>
                          <a:pt x="0" y="7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120080" y="3736800"/>
                    <a:ext cx="50760" cy="376560"/>
                  </a:xfrm>
                  <a:custGeom>
                    <a:avLst/>
                    <a:gdLst/>
                    <a:ahLst/>
                    <a:rect l="l" t="t" r="r" b="b"/>
                    <a:pathLst>
                      <a:path w="97" h="710">
                        <a:moveTo>
                          <a:pt x="0" y="710"/>
                        </a:moveTo>
                        <a:lnTo>
                          <a:pt x="14" y="678"/>
                        </a:lnTo>
                        <a:lnTo>
                          <a:pt x="14" y="648"/>
                        </a:lnTo>
                        <a:lnTo>
                          <a:pt x="28" y="616"/>
                        </a:lnTo>
                        <a:lnTo>
                          <a:pt x="28" y="584"/>
                        </a:lnTo>
                        <a:lnTo>
                          <a:pt x="42" y="537"/>
                        </a:lnTo>
                        <a:lnTo>
                          <a:pt x="42" y="505"/>
                        </a:lnTo>
                        <a:lnTo>
                          <a:pt x="42" y="473"/>
                        </a:lnTo>
                        <a:lnTo>
                          <a:pt x="55" y="441"/>
                        </a:lnTo>
                        <a:lnTo>
                          <a:pt x="55" y="394"/>
                        </a:lnTo>
                        <a:lnTo>
                          <a:pt x="55" y="363"/>
                        </a:lnTo>
                        <a:lnTo>
                          <a:pt x="69" y="332"/>
                        </a:lnTo>
                        <a:lnTo>
                          <a:pt x="69" y="284"/>
                        </a:lnTo>
                        <a:lnTo>
                          <a:pt x="69" y="253"/>
                        </a:lnTo>
                        <a:lnTo>
                          <a:pt x="69" y="221"/>
                        </a:lnTo>
                        <a:lnTo>
                          <a:pt x="83" y="190"/>
                        </a:lnTo>
                        <a:lnTo>
                          <a:pt x="83" y="143"/>
                        </a:lnTo>
                        <a:lnTo>
                          <a:pt x="83" y="111"/>
                        </a:lnTo>
                        <a:lnTo>
                          <a:pt x="83" y="79"/>
                        </a:lnTo>
                        <a:lnTo>
                          <a:pt x="97" y="32"/>
                        </a:lnTo>
                        <a:lnTo>
                          <a:pt x="9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7170840" y="3519360"/>
                  <a:ext cx="14040" cy="217440"/>
                  <a:chOff x="7170840" y="3519360"/>
                  <a:chExt cx="14040" cy="217440"/>
                </a:xfrm>
              </p:grpSpPr>
              <p:sp>
                <p:nvSpPr>
                  <p:cNvPr id="1220" name=""/>
                  <p:cNvSpPr/>
                  <p:nvPr/>
                </p:nvSpPr>
                <p:spPr>
                  <a:xfrm>
                    <a:off x="7170840" y="3519360"/>
                    <a:ext cx="14040" cy="217440"/>
                  </a:xfrm>
                  <a:custGeom>
                    <a:avLst/>
                    <a:gdLst/>
                    <a:ahLst/>
                    <a:rect l="l" t="t" r="r" b="b"/>
                    <a:pathLst>
                      <a:path w="28" h="410">
                        <a:moveTo>
                          <a:pt x="0" y="410"/>
                        </a:moveTo>
                        <a:lnTo>
                          <a:pt x="0" y="378"/>
                        </a:lnTo>
                        <a:lnTo>
                          <a:pt x="0" y="331"/>
                        </a:lnTo>
                        <a:lnTo>
                          <a:pt x="14" y="299"/>
                        </a:lnTo>
                        <a:lnTo>
                          <a:pt x="14" y="269"/>
                        </a:lnTo>
                        <a:lnTo>
                          <a:pt x="14" y="220"/>
                        </a:lnTo>
                        <a:lnTo>
                          <a:pt x="14" y="190"/>
                        </a:lnTo>
                        <a:lnTo>
                          <a:pt x="28" y="158"/>
                        </a:lnTo>
                        <a:lnTo>
                          <a:pt x="28" y="111"/>
                        </a:lnTo>
                        <a:lnTo>
                          <a:pt x="28" y="79"/>
                        </a:lnTo>
                        <a:lnTo>
                          <a:pt x="28" y="32"/>
                        </a:lnTo>
                        <a:lnTo>
                          <a:pt x="28" y="0"/>
                        </a:lnTo>
                        <a:lnTo>
                          <a:pt x="0" y="4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170840" y="3519360"/>
                    <a:ext cx="14040" cy="217440"/>
                  </a:xfrm>
                  <a:custGeom>
                    <a:avLst/>
                    <a:gdLst/>
                    <a:ahLst/>
                    <a:rect l="l" t="t" r="r" b="b"/>
                    <a:pathLst>
                      <a:path w="28" h="410">
                        <a:moveTo>
                          <a:pt x="0" y="410"/>
                        </a:moveTo>
                        <a:lnTo>
                          <a:pt x="0" y="378"/>
                        </a:lnTo>
                        <a:lnTo>
                          <a:pt x="0" y="331"/>
                        </a:lnTo>
                        <a:lnTo>
                          <a:pt x="14" y="299"/>
                        </a:lnTo>
                        <a:lnTo>
                          <a:pt x="14" y="269"/>
                        </a:lnTo>
                        <a:lnTo>
                          <a:pt x="14" y="220"/>
                        </a:lnTo>
                        <a:lnTo>
                          <a:pt x="14" y="190"/>
                        </a:lnTo>
                        <a:lnTo>
                          <a:pt x="28" y="158"/>
                        </a:lnTo>
                        <a:lnTo>
                          <a:pt x="28" y="111"/>
                        </a:lnTo>
                        <a:lnTo>
                          <a:pt x="28" y="79"/>
                        </a:lnTo>
                        <a:lnTo>
                          <a:pt x="28" y="32"/>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7184880" y="2335320"/>
                  <a:ext cx="1800" cy="1184040"/>
                  <a:chOff x="7184880" y="2335320"/>
                  <a:chExt cx="1800" cy="1184040"/>
                </a:xfrm>
              </p:grpSpPr>
              <p:sp>
                <p:nvSpPr>
                  <p:cNvPr id="1223" name=""/>
                  <p:cNvSpPr/>
                  <p:nvPr/>
                </p:nvSpPr>
                <p:spPr>
                  <a:xfrm>
                    <a:off x="7184880" y="2335320"/>
                    <a:ext cx="1800" cy="1184040"/>
                  </a:xfrm>
                  <a:custGeom>
                    <a:avLst/>
                    <a:gdLst/>
                    <a:ahLst/>
                    <a:rect l="l" t="t" r="r" b="b"/>
                    <a:pathLst>
                      <a:path w="0" h="2240">
                        <a:moveTo>
                          <a:pt x="0" y="2240"/>
                        </a:moveTo>
                        <a:lnTo>
                          <a:pt x="0" y="2209"/>
                        </a:lnTo>
                        <a:lnTo>
                          <a:pt x="0" y="2177"/>
                        </a:lnTo>
                        <a:lnTo>
                          <a:pt x="0" y="2130"/>
                        </a:lnTo>
                        <a:lnTo>
                          <a:pt x="0" y="2098"/>
                        </a:lnTo>
                        <a:lnTo>
                          <a:pt x="0" y="2066"/>
                        </a:lnTo>
                        <a:lnTo>
                          <a:pt x="0" y="2036"/>
                        </a:lnTo>
                        <a:lnTo>
                          <a:pt x="0" y="2004"/>
                        </a:lnTo>
                        <a:lnTo>
                          <a:pt x="0" y="1957"/>
                        </a:lnTo>
                        <a:lnTo>
                          <a:pt x="0" y="1925"/>
                        </a:lnTo>
                        <a:lnTo>
                          <a:pt x="0" y="1893"/>
                        </a:lnTo>
                        <a:lnTo>
                          <a:pt x="0" y="1861"/>
                        </a:lnTo>
                        <a:lnTo>
                          <a:pt x="0" y="1830"/>
                        </a:lnTo>
                        <a:lnTo>
                          <a:pt x="0" y="1782"/>
                        </a:lnTo>
                        <a:lnTo>
                          <a:pt x="0" y="1751"/>
                        </a:lnTo>
                        <a:lnTo>
                          <a:pt x="0" y="1720"/>
                        </a:lnTo>
                        <a:lnTo>
                          <a:pt x="0" y="1688"/>
                        </a:lnTo>
                        <a:lnTo>
                          <a:pt x="0" y="1657"/>
                        </a:lnTo>
                        <a:lnTo>
                          <a:pt x="0" y="1610"/>
                        </a:lnTo>
                        <a:lnTo>
                          <a:pt x="0" y="1578"/>
                        </a:lnTo>
                        <a:lnTo>
                          <a:pt x="0" y="1546"/>
                        </a:lnTo>
                        <a:lnTo>
                          <a:pt x="0" y="1514"/>
                        </a:lnTo>
                        <a:lnTo>
                          <a:pt x="0" y="1484"/>
                        </a:lnTo>
                        <a:lnTo>
                          <a:pt x="0" y="1435"/>
                        </a:lnTo>
                        <a:lnTo>
                          <a:pt x="0" y="1405"/>
                        </a:lnTo>
                        <a:lnTo>
                          <a:pt x="0" y="1373"/>
                        </a:lnTo>
                        <a:lnTo>
                          <a:pt x="0" y="1341"/>
                        </a:lnTo>
                        <a:lnTo>
                          <a:pt x="0" y="1309"/>
                        </a:lnTo>
                        <a:lnTo>
                          <a:pt x="0" y="1262"/>
                        </a:lnTo>
                        <a:lnTo>
                          <a:pt x="0" y="1230"/>
                        </a:lnTo>
                        <a:lnTo>
                          <a:pt x="0" y="1199"/>
                        </a:lnTo>
                        <a:lnTo>
                          <a:pt x="0" y="1168"/>
                        </a:lnTo>
                        <a:lnTo>
                          <a:pt x="0" y="1136"/>
                        </a:lnTo>
                        <a:lnTo>
                          <a:pt x="0" y="1088"/>
                        </a:lnTo>
                        <a:lnTo>
                          <a:pt x="0" y="1057"/>
                        </a:lnTo>
                        <a:lnTo>
                          <a:pt x="0" y="1026"/>
                        </a:lnTo>
                        <a:lnTo>
                          <a:pt x="0" y="994"/>
                        </a:lnTo>
                        <a:lnTo>
                          <a:pt x="0" y="962"/>
                        </a:lnTo>
                        <a:lnTo>
                          <a:pt x="0" y="915"/>
                        </a:lnTo>
                        <a:lnTo>
                          <a:pt x="0" y="883"/>
                        </a:lnTo>
                        <a:lnTo>
                          <a:pt x="0" y="851"/>
                        </a:lnTo>
                        <a:lnTo>
                          <a:pt x="0" y="821"/>
                        </a:lnTo>
                        <a:lnTo>
                          <a:pt x="0" y="789"/>
                        </a:lnTo>
                        <a:lnTo>
                          <a:pt x="0" y="742"/>
                        </a:lnTo>
                        <a:lnTo>
                          <a:pt x="0" y="710"/>
                        </a:lnTo>
                        <a:lnTo>
                          <a:pt x="0" y="678"/>
                        </a:lnTo>
                        <a:lnTo>
                          <a:pt x="0" y="646"/>
                        </a:lnTo>
                        <a:lnTo>
                          <a:pt x="0" y="615"/>
                        </a:lnTo>
                        <a:lnTo>
                          <a:pt x="0" y="568"/>
                        </a:lnTo>
                        <a:lnTo>
                          <a:pt x="0" y="536"/>
                        </a:lnTo>
                        <a:lnTo>
                          <a:pt x="0" y="505"/>
                        </a:lnTo>
                        <a:lnTo>
                          <a:pt x="0" y="474"/>
                        </a:lnTo>
                        <a:lnTo>
                          <a:pt x="0" y="426"/>
                        </a:lnTo>
                        <a:lnTo>
                          <a:pt x="0" y="395"/>
                        </a:lnTo>
                        <a:lnTo>
                          <a:pt x="0" y="363"/>
                        </a:lnTo>
                        <a:lnTo>
                          <a:pt x="0" y="331"/>
                        </a:lnTo>
                        <a:lnTo>
                          <a:pt x="0" y="299"/>
                        </a:lnTo>
                        <a:lnTo>
                          <a:pt x="0" y="252"/>
                        </a:lnTo>
                        <a:lnTo>
                          <a:pt x="0" y="220"/>
                        </a:lnTo>
                        <a:lnTo>
                          <a:pt x="0" y="190"/>
                        </a:lnTo>
                        <a:lnTo>
                          <a:pt x="0" y="141"/>
                        </a:lnTo>
                        <a:lnTo>
                          <a:pt x="0" y="111"/>
                        </a:lnTo>
                        <a:lnTo>
                          <a:pt x="0" y="63"/>
                        </a:lnTo>
                        <a:lnTo>
                          <a:pt x="0" y="32"/>
                        </a:lnTo>
                        <a:lnTo>
                          <a:pt x="0" y="0"/>
                        </a:lnTo>
                        <a:lnTo>
                          <a:pt x="0" y="224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184880" y="2335320"/>
                    <a:ext cx="1800" cy="1184040"/>
                  </a:xfrm>
                  <a:custGeom>
                    <a:avLst/>
                    <a:gdLst/>
                    <a:ahLst/>
                    <a:rect l="l" t="t" r="r" b="b"/>
                    <a:pathLst>
                      <a:path w="0" h="2240">
                        <a:moveTo>
                          <a:pt x="0" y="2240"/>
                        </a:moveTo>
                        <a:lnTo>
                          <a:pt x="0" y="2209"/>
                        </a:lnTo>
                        <a:lnTo>
                          <a:pt x="0" y="2177"/>
                        </a:lnTo>
                        <a:lnTo>
                          <a:pt x="0" y="2130"/>
                        </a:lnTo>
                        <a:lnTo>
                          <a:pt x="0" y="2098"/>
                        </a:lnTo>
                        <a:lnTo>
                          <a:pt x="0" y="2066"/>
                        </a:lnTo>
                        <a:lnTo>
                          <a:pt x="0" y="2036"/>
                        </a:lnTo>
                        <a:lnTo>
                          <a:pt x="0" y="2004"/>
                        </a:lnTo>
                        <a:lnTo>
                          <a:pt x="0" y="1957"/>
                        </a:lnTo>
                        <a:lnTo>
                          <a:pt x="0" y="1925"/>
                        </a:lnTo>
                        <a:lnTo>
                          <a:pt x="0" y="1893"/>
                        </a:lnTo>
                        <a:lnTo>
                          <a:pt x="0" y="1861"/>
                        </a:lnTo>
                        <a:lnTo>
                          <a:pt x="0" y="1830"/>
                        </a:lnTo>
                        <a:lnTo>
                          <a:pt x="0" y="1782"/>
                        </a:lnTo>
                        <a:lnTo>
                          <a:pt x="0" y="1751"/>
                        </a:lnTo>
                        <a:lnTo>
                          <a:pt x="0" y="1720"/>
                        </a:lnTo>
                        <a:lnTo>
                          <a:pt x="0" y="1688"/>
                        </a:lnTo>
                        <a:lnTo>
                          <a:pt x="0" y="1657"/>
                        </a:lnTo>
                        <a:lnTo>
                          <a:pt x="0" y="1610"/>
                        </a:lnTo>
                        <a:lnTo>
                          <a:pt x="0" y="1578"/>
                        </a:lnTo>
                        <a:lnTo>
                          <a:pt x="0" y="1546"/>
                        </a:lnTo>
                        <a:lnTo>
                          <a:pt x="0" y="1514"/>
                        </a:lnTo>
                        <a:lnTo>
                          <a:pt x="0" y="1484"/>
                        </a:lnTo>
                        <a:lnTo>
                          <a:pt x="0" y="1435"/>
                        </a:lnTo>
                        <a:lnTo>
                          <a:pt x="0" y="1405"/>
                        </a:lnTo>
                        <a:lnTo>
                          <a:pt x="0" y="1373"/>
                        </a:lnTo>
                        <a:lnTo>
                          <a:pt x="0" y="1341"/>
                        </a:lnTo>
                        <a:lnTo>
                          <a:pt x="0" y="1309"/>
                        </a:lnTo>
                        <a:lnTo>
                          <a:pt x="0" y="1262"/>
                        </a:lnTo>
                        <a:lnTo>
                          <a:pt x="0" y="1230"/>
                        </a:lnTo>
                        <a:lnTo>
                          <a:pt x="0" y="1199"/>
                        </a:lnTo>
                        <a:lnTo>
                          <a:pt x="0" y="1168"/>
                        </a:lnTo>
                        <a:lnTo>
                          <a:pt x="0" y="1136"/>
                        </a:lnTo>
                        <a:lnTo>
                          <a:pt x="0" y="1088"/>
                        </a:lnTo>
                        <a:lnTo>
                          <a:pt x="0" y="1057"/>
                        </a:lnTo>
                        <a:lnTo>
                          <a:pt x="0" y="1026"/>
                        </a:lnTo>
                        <a:lnTo>
                          <a:pt x="0" y="994"/>
                        </a:lnTo>
                        <a:lnTo>
                          <a:pt x="0" y="962"/>
                        </a:lnTo>
                        <a:lnTo>
                          <a:pt x="0" y="915"/>
                        </a:lnTo>
                        <a:lnTo>
                          <a:pt x="0" y="883"/>
                        </a:lnTo>
                        <a:lnTo>
                          <a:pt x="0" y="851"/>
                        </a:lnTo>
                        <a:lnTo>
                          <a:pt x="0" y="821"/>
                        </a:lnTo>
                        <a:lnTo>
                          <a:pt x="0" y="789"/>
                        </a:lnTo>
                        <a:lnTo>
                          <a:pt x="0" y="742"/>
                        </a:lnTo>
                        <a:lnTo>
                          <a:pt x="0" y="710"/>
                        </a:lnTo>
                        <a:lnTo>
                          <a:pt x="0" y="678"/>
                        </a:lnTo>
                        <a:lnTo>
                          <a:pt x="0" y="646"/>
                        </a:lnTo>
                        <a:lnTo>
                          <a:pt x="0" y="615"/>
                        </a:lnTo>
                        <a:lnTo>
                          <a:pt x="0" y="568"/>
                        </a:lnTo>
                        <a:lnTo>
                          <a:pt x="0" y="536"/>
                        </a:lnTo>
                        <a:lnTo>
                          <a:pt x="0" y="505"/>
                        </a:lnTo>
                        <a:lnTo>
                          <a:pt x="0" y="474"/>
                        </a:lnTo>
                        <a:lnTo>
                          <a:pt x="0" y="426"/>
                        </a:lnTo>
                        <a:lnTo>
                          <a:pt x="0" y="395"/>
                        </a:lnTo>
                        <a:lnTo>
                          <a:pt x="0" y="363"/>
                        </a:lnTo>
                        <a:lnTo>
                          <a:pt x="0" y="331"/>
                        </a:lnTo>
                        <a:lnTo>
                          <a:pt x="0" y="299"/>
                        </a:lnTo>
                        <a:lnTo>
                          <a:pt x="0" y="252"/>
                        </a:lnTo>
                        <a:lnTo>
                          <a:pt x="0" y="220"/>
                        </a:lnTo>
                        <a:lnTo>
                          <a:pt x="0" y="190"/>
                        </a:lnTo>
                        <a:lnTo>
                          <a:pt x="0" y="141"/>
                        </a:lnTo>
                        <a:lnTo>
                          <a:pt x="0" y="111"/>
                        </a:lnTo>
                        <a:lnTo>
                          <a:pt x="0" y="63"/>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7148520" y="1976400"/>
                  <a:ext cx="36360" cy="358920"/>
                  <a:chOff x="7148520" y="1976400"/>
                  <a:chExt cx="36360" cy="358920"/>
                </a:xfrm>
              </p:grpSpPr>
              <p:sp>
                <p:nvSpPr>
                  <p:cNvPr id="1226" name=""/>
                  <p:cNvSpPr/>
                  <p:nvPr/>
                </p:nvSpPr>
                <p:spPr>
                  <a:xfrm>
                    <a:off x="7148520" y="1976400"/>
                    <a:ext cx="36360" cy="358920"/>
                  </a:xfrm>
                  <a:custGeom>
                    <a:avLst/>
                    <a:gdLst/>
                    <a:ahLst/>
                    <a:rect l="l" t="t" r="r" b="b"/>
                    <a:pathLst>
                      <a:path w="70" h="678">
                        <a:moveTo>
                          <a:pt x="70" y="678"/>
                        </a:moveTo>
                        <a:lnTo>
                          <a:pt x="70" y="646"/>
                        </a:lnTo>
                        <a:lnTo>
                          <a:pt x="70" y="615"/>
                        </a:lnTo>
                        <a:lnTo>
                          <a:pt x="56" y="583"/>
                        </a:lnTo>
                        <a:lnTo>
                          <a:pt x="56" y="552"/>
                        </a:lnTo>
                        <a:lnTo>
                          <a:pt x="56" y="521"/>
                        </a:lnTo>
                        <a:lnTo>
                          <a:pt x="56" y="489"/>
                        </a:lnTo>
                        <a:lnTo>
                          <a:pt x="56" y="442"/>
                        </a:lnTo>
                        <a:lnTo>
                          <a:pt x="56" y="410"/>
                        </a:lnTo>
                        <a:lnTo>
                          <a:pt x="42" y="363"/>
                        </a:lnTo>
                        <a:lnTo>
                          <a:pt x="42" y="331"/>
                        </a:lnTo>
                        <a:lnTo>
                          <a:pt x="42" y="284"/>
                        </a:lnTo>
                        <a:lnTo>
                          <a:pt x="42" y="237"/>
                        </a:lnTo>
                        <a:lnTo>
                          <a:pt x="28" y="205"/>
                        </a:lnTo>
                        <a:lnTo>
                          <a:pt x="28" y="173"/>
                        </a:lnTo>
                        <a:lnTo>
                          <a:pt x="28" y="126"/>
                        </a:lnTo>
                        <a:lnTo>
                          <a:pt x="14" y="94"/>
                        </a:lnTo>
                        <a:lnTo>
                          <a:pt x="14" y="63"/>
                        </a:lnTo>
                        <a:lnTo>
                          <a:pt x="14" y="31"/>
                        </a:lnTo>
                        <a:lnTo>
                          <a:pt x="0" y="0"/>
                        </a:lnTo>
                        <a:lnTo>
                          <a:pt x="70" y="67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148520" y="1976400"/>
                    <a:ext cx="36360" cy="358920"/>
                  </a:xfrm>
                  <a:custGeom>
                    <a:avLst/>
                    <a:gdLst/>
                    <a:ahLst/>
                    <a:rect l="l" t="t" r="r" b="b"/>
                    <a:pathLst>
                      <a:path w="70" h="678">
                        <a:moveTo>
                          <a:pt x="70" y="678"/>
                        </a:moveTo>
                        <a:lnTo>
                          <a:pt x="70" y="646"/>
                        </a:lnTo>
                        <a:lnTo>
                          <a:pt x="70" y="615"/>
                        </a:lnTo>
                        <a:lnTo>
                          <a:pt x="56" y="583"/>
                        </a:lnTo>
                        <a:lnTo>
                          <a:pt x="56" y="552"/>
                        </a:lnTo>
                        <a:lnTo>
                          <a:pt x="56" y="521"/>
                        </a:lnTo>
                        <a:lnTo>
                          <a:pt x="56" y="489"/>
                        </a:lnTo>
                        <a:lnTo>
                          <a:pt x="56" y="442"/>
                        </a:lnTo>
                        <a:lnTo>
                          <a:pt x="56" y="410"/>
                        </a:lnTo>
                        <a:lnTo>
                          <a:pt x="42" y="363"/>
                        </a:lnTo>
                        <a:lnTo>
                          <a:pt x="42" y="331"/>
                        </a:lnTo>
                        <a:lnTo>
                          <a:pt x="42" y="284"/>
                        </a:lnTo>
                        <a:lnTo>
                          <a:pt x="42" y="237"/>
                        </a:lnTo>
                        <a:lnTo>
                          <a:pt x="28" y="205"/>
                        </a:lnTo>
                        <a:lnTo>
                          <a:pt x="28" y="173"/>
                        </a:lnTo>
                        <a:lnTo>
                          <a:pt x="28" y="126"/>
                        </a:lnTo>
                        <a:lnTo>
                          <a:pt x="14" y="94"/>
                        </a:lnTo>
                        <a:lnTo>
                          <a:pt x="14" y="63"/>
                        </a:lnTo>
                        <a:lnTo>
                          <a:pt x="14" y="3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7134120" y="1833480"/>
                  <a:ext cx="14400" cy="142920"/>
                  <a:chOff x="7134120" y="1833480"/>
                  <a:chExt cx="14400" cy="142920"/>
                </a:xfrm>
              </p:grpSpPr>
              <p:sp>
                <p:nvSpPr>
                  <p:cNvPr id="1229" name=""/>
                  <p:cNvSpPr/>
                  <p:nvPr/>
                </p:nvSpPr>
                <p:spPr>
                  <a:xfrm>
                    <a:off x="7134120" y="1833480"/>
                    <a:ext cx="14400" cy="142920"/>
                  </a:xfrm>
                  <a:custGeom>
                    <a:avLst/>
                    <a:gdLst/>
                    <a:ahLst/>
                    <a:rect l="l" t="t" r="r" b="b"/>
                    <a:pathLst>
                      <a:path w="27" h="268">
                        <a:moveTo>
                          <a:pt x="27" y="268"/>
                        </a:moveTo>
                        <a:lnTo>
                          <a:pt x="27" y="220"/>
                        </a:lnTo>
                        <a:lnTo>
                          <a:pt x="27" y="173"/>
                        </a:lnTo>
                        <a:lnTo>
                          <a:pt x="14" y="141"/>
                        </a:lnTo>
                        <a:lnTo>
                          <a:pt x="14" y="94"/>
                        </a:lnTo>
                        <a:lnTo>
                          <a:pt x="0" y="47"/>
                        </a:lnTo>
                        <a:lnTo>
                          <a:pt x="0" y="0"/>
                        </a:lnTo>
                        <a:lnTo>
                          <a:pt x="27"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134120" y="1833480"/>
                    <a:ext cx="14400" cy="142920"/>
                  </a:xfrm>
                  <a:custGeom>
                    <a:avLst/>
                    <a:gdLst/>
                    <a:ahLst/>
                    <a:rect l="l" t="t" r="r" b="b"/>
                    <a:pathLst>
                      <a:path w="27" h="268">
                        <a:moveTo>
                          <a:pt x="27" y="268"/>
                        </a:moveTo>
                        <a:lnTo>
                          <a:pt x="27" y="220"/>
                        </a:lnTo>
                        <a:lnTo>
                          <a:pt x="27" y="173"/>
                        </a:lnTo>
                        <a:lnTo>
                          <a:pt x="14" y="141"/>
                        </a:lnTo>
                        <a:lnTo>
                          <a:pt x="14" y="94"/>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120080" y="1792440"/>
                  <a:ext cx="14040" cy="41040"/>
                  <a:chOff x="7120080" y="1792440"/>
                  <a:chExt cx="14040" cy="41040"/>
                </a:xfrm>
              </p:grpSpPr>
              <p:sp>
                <p:nvSpPr>
                  <p:cNvPr id="1232" name=""/>
                  <p:cNvSpPr/>
                  <p:nvPr/>
                </p:nvSpPr>
                <p:spPr>
                  <a:xfrm>
                    <a:off x="7120080" y="1792440"/>
                    <a:ext cx="14040" cy="41040"/>
                  </a:xfrm>
                  <a:custGeom>
                    <a:avLst/>
                    <a:gdLst/>
                    <a:ahLst/>
                    <a:rect l="l" t="t" r="r" b="b"/>
                    <a:pathLst>
                      <a:path w="28" h="79">
                        <a:moveTo>
                          <a:pt x="28" y="79"/>
                        </a:moveTo>
                        <a:lnTo>
                          <a:pt x="14" y="47"/>
                        </a:lnTo>
                        <a:lnTo>
                          <a:pt x="14" y="32"/>
                        </a:lnTo>
                        <a:lnTo>
                          <a:pt x="0" y="0"/>
                        </a:lnTo>
                        <a:lnTo>
                          <a:pt x="28"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3" name=""/>
                  <p:cNvSpPr/>
                  <p:nvPr/>
                </p:nvSpPr>
                <p:spPr>
                  <a:xfrm>
                    <a:off x="7120080" y="1792440"/>
                    <a:ext cx="14040" cy="41040"/>
                  </a:xfrm>
                  <a:custGeom>
                    <a:avLst/>
                    <a:gdLst/>
                    <a:ahLst/>
                    <a:rect l="l" t="t" r="r" b="b"/>
                    <a:pathLst>
                      <a:path w="28" h="79">
                        <a:moveTo>
                          <a:pt x="28" y="79"/>
                        </a:moveTo>
                        <a:lnTo>
                          <a:pt x="14" y="47"/>
                        </a:lnTo>
                        <a:lnTo>
                          <a:pt x="14" y="32"/>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34" name=""/>
                <p:cNvGrpSpPr/>
                <p:nvPr/>
              </p:nvGrpSpPr>
              <p:grpSpPr>
                <a:xfrm>
                  <a:off x="7120080" y="1774800"/>
                  <a:ext cx="1440" cy="17640"/>
                  <a:chOff x="7120080" y="1774800"/>
                  <a:chExt cx="1440" cy="17640"/>
                </a:xfrm>
              </p:grpSpPr>
              <p:sp>
                <p:nvSpPr>
                  <p:cNvPr id="1235" name=""/>
                  <p:cNvSpPr/>
                  <p:nvPr/>
                </p:nvSpPr>
                <p:spPr>
                  <a:xfrm>
                    <a:off x="7120080" y="1774800"/>
                    <a:ext cx="1440" cy="17640"/>
                  </a:xfrm>
                  <a:custGeom>
                    <a:avLst/>
                    <a:gdLst/>
                    <a:ahLst/>
                    <a:rect l="l" t="t" r="r" b="b"/>
                    <a:pathLst>
                      <a:path w="0" h="32">
                        <a:moveTo>
                          <a:pt x="0" y="32"/>
                        </a:moveTo>
                        <a:lnTo>
                          <a:pt x="0" y="15"/>
                        </a:lnTo>
                        <a:lnTo>
                          <a:pt x="0" y="0"/>
                        </a:lnTo>
                        <a:lnTo>
                          <a:pt x="0"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6" name=""/>
                  <p:cNvSpPr/>
                  <p:nvPr/>
                </p:nvSpPr>
                <p:spPr>
                  <a:xfrm>
                    <a:off x="7120080" y="1774800"/>
                    <a:ext cx="1440" cy="17640"/>
                  </a:xfrm>
                  <a:custGeom>
                    <a:avLst/>
                    <a:gdLst/>
                    <a:ahLst/>
                    <a:rect l="l" t="t" r="r" b="b"/>
                    <a:pathLst>
                      <a:path w="0" h="32">
                        <a:moveTo>
                          <a:pt x="0" y="32"/>
                        </a:moveTo>
                        <a:lnTo>
                          <a:pt x="0"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37" name=""/>
                <p:cNvGrpSpPr/>
                <p:nvPr/>
              </p:nvGrpSpPr>
              <p:grpSpPr>
                <a:xfrm>
                  <a:off x="7207200" y="3828960"/>
                  <a:ext cx="88920" cy="284400"/>
                  <a:chOff x="7207200" y="3828960"/>
                  <a:chExt cx="88920" cy="284400"/>
                </a:xfrm>
              </p:grpSpPr>
              <p:sp>
                <p:nvSpPr>
                  <p:cNvPr id="1238" name=""/>
                  <p:cNvSpPr/>
                  <p:nvPr/>
                </p:nvSpPr>
                <p:spPr>
                  <a:xfrm>
                    <a:off x="7207200" y="3828960"/>
                    <a:ext cx="88920" cy="284400"/>
                  </a:xfrm>
                  <a:custGeom>
                    <a:avLst/>
                    <a:gdLst/>
                    <a:ahLst/>
                    <a:rect l="l" t="t" r="r" b="b"/>
                    <a:pathLst>
                      <a:path w="167" h="536">
                        <a:moveTo>
                          <a:pt x="0" y="536"/>
                        </a:moveTo>
                        <a:lnTo>
                          <a:pt x="14" y="504"/>
                        </a:lnTo>
                        <a:lnTo>
                          <a:pt x="28" y="474"/>
                        </a:lnTo>
                        <a:lnTo>
                          <a:pt x="42" y="442"/>
                        </a:lnTo>
                        <a:lnTo>
                          <a:pt x="55" y="410"/>
                        </a:lnTo>
                        <a:lnTo>
                          <a:pt x="71" y="378"/>
                        </a:lnTo>
                        <a:lnTo>
                          <a:pt x="84" y="331"/>
                        </a:lnTo>
                        <a:lnTo>
                          <a:pt x="98" y="299"/>
                        </a:lnTo>
                        <a:lnTo>
                          <a:pt x="112" y="267"/>
                        </a:lnTo>
                        <a:lnTo>
                          <a:pt x="112" y="220"/>
                        </a:lnTo>
                        <a:lnTo>
                          <a:pt x="126" y="189"/>
                        </a:lnTo>
                        <a:lnTo>
                          <a:pt x="140" y="158"/>
                        </a:lnTo>
                        <a:lnTo>
                          <a:pt x="140" y="110"/>
                        </a:lnTo>
                        <a:lnTo>
                          <a:pt x="154" y="79"/>
                        </a:lnTo>
                        <a:lnTo>
                          <a:pt x="154" y="47"/>
                        </a:lnTo>
                        <a:lnTo>
                          <a:pt x="167" y="0"/>
                        </a:lnTo>
                        <a:lnTo>
                          <a:pt x="0" y="5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207200" y="3828960"/>
                    <a:ext cx="88920" cy="284400"/>
                  </a:xfrm>
                  <a:custGeom>
                    <a:avLst/>
                    <a:gdLst/>
                    <a:ahLst/>
                    <a:rect l="l" t="t" r="r" b="b"/>
                    <a:pathLst>
                      <a:path w="167" h="536">
                        <a:moveTo>
                          <a:pt x="0" y="536"/>
                        </a:moveTo>
                        <a:lnTo>
                          <a:pt x="14" y="504"/>
                        </a:lnTo>
                        <a:lnTo>
                          <a:pt x="28" y="474"/>
                        </a:lnTo>
                        <a:lnTo>
                          <a:pt x="42" y="442"/>
                        </a:lnTo>
                        <a:lnTo>
                          <a:pt x="55" y="410"/>
                        </a:lnTo>
                        <a:lnTo>
                          <a:pt x="71" y="378"/>
                        </a:lnTo>
                        <a:lnTo>
                          <a:pt x="84" y="331"/>
                        </a:lnTo>
                        <a:lnTo>
                          <a:pt x="98" y="299"/>
                        </a:lnTo>
                        <a:lnTo>
                          <a:pt x="112" y="267"/>
                        </a:lnTo>
                        <a:lnTo>
                          <a:pt x="112" y="220"/>
                        </a:lnTo>
                        <a:lnTo>
                          <a:pt x="126" y="189"/>
                        </a:lnTo>
                        <a:lnTo>
                          <a:pt x="140" y="158"/>
                        </a:lnTo>
                        <a:lnTo>
                          <a:pt x="140" y="110"/>
                        </a:lnTo>
                        <a:lnTo>
                          <a:pt x="154" y="79"/>
                        </a:lnTo>
                        <a:lnTo>
                          <a:pt x="154" y="47"/>
                        </a:lnTo>
                        <a:lnTo>
                          <a:pt x="16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96120" y="3578400"/>
                  <a:ext cx="36720" cy="250560"/>
                  <a:chOff x="7296120" y="3578400"/>
                  <a:chExt cx="36720" cy="250560"/>
                </a:xfrm>
              </p:grpSpPr>
              <p:sp>
                <p:nvSpPr>
                  <p:cNvPr id="1241" name=""/>
                  <p:cNvSpPr/>
                  <p:nvPr/>
                </p:nvSpPr>
                <p:spPr>
                  <a:xfrm>
                    <a:off x="7296120" y="3578400"/>
                    <a:ext cx="36720" cy="250560"/>
                  </a:xfrm>
                  <a:custGeom>
                    <a:avLst/>
                    <a:gdLst/>
                    <a:ahLst/>
                    <a:rect l="l" t="t" r="r" b="b"/>
                    <a:pathLst>
                      <a:path w="70" h="473">
                        <a:moveTo>
                          <a:pt x="0" y="473"/>
                        </a:moveTo>
                        <a:lnTo>
                          <a:pt x="0" y="442"/>
                        </a:lnTo>
                        <a:lnTo>
                          <a:pt x="14" y="410"/>
                        </a:lnTo>
                        <a:lnTo>
                          <a:pt x="14" y="378"/>
                        </a:lnTo>
                        <a:lnTo>
                          <a:pt x="28" y="331"/>
                        </a:lnTo>
                        <a:lnTo>
                          <a:pt x="28" y="299"/>
                        </a:lnTo>
                        <a:lnTo>
                          <a:pt x="42" y="267"/>
                        </a:lnTo>
                        <a:lnTo>
                          <a:pt x="42" y="220"/>
                        </a:lnTo>
                        <a:lnTo>
                          <a:pt x="42" y="188"/>
                        </a:lnTo>
                        <a:lnTo>
                          <a:pt x="56" y="158"/>
                        </a:lnTo>
                        <a:lnTo>
                          <a:pt x="56" y="109"/>
                        </a:lnTo>
                        <a:lnTo>
                          <a:pt x="70" y="79"/>
                        </a:lnTo>
                        <a:lnTo>
                          <a:pt x="70" y="47"/>
                        </a:lnTo>
                        <a:lnTo>
                          <a:pt x="70" y="0"/>
                        </a:lnTo>
                        <a:lnTo>
                          <a:pt x="0" y="4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296120" y="3578400"/>
                    <a:ext cx="36720" cy="250560"/>
                  </a:xfrm>
                  <a:custGeom>
                    <a:avLst/>
                    <a:gdLst/>
                    <a:ahLst/>
                    <a:rect l="l" t="t" r="r" b="b"/>
                    <a:pathLst>
                      <a:path w="70" h="473">
                        <a:moveTo>
                          <a:pt x="0" y="473"/>
                        </a:moveTo>
                        <a:lnTo>
                          <a:pt x="0" y="442"/>
                        </a:lnTo>
                        <a:lnTo>
                          <a:pt x="14" y="410"/>
                        </a:lnTo>
                        <a:lnTo>
                          <a:pt x="14" y="378"/>
                        </a:lnTo>
                        <a:lnTo>
                          <a:pt x="28" y="331"/>
                        </a:lnTo>
                        <a:lnTo>
                          <a:pt x="28" y="299"/>
                        </a:lnTo>
                        <a:lnTo>
                          <a:pt x="42" y="267"/>
                        </a:lnTo>
                        <a:lnTo>
                          <a:pt x="42" y="220"/>
                        </a:lnTo>
                        <a:lnTo>
                          <a:pt x="42" y="188"/>
                        </a:lnTo>
                        <a:lnTo>
                          <a:pt x="56" y="158"/>
                        </a:lnTo>
                        <a:lnTo>
                          <a:pt x="56" y="109"/>
                        </a:lnTo>
                        <a:lnTo>
                          <a:pt x="70" y="79"/>
                        </a:lnTo>
                        <a:lnTo>
                          <a:pt x="70" y="47"/>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7332840" y="3236760"/>
                  <a:ext cx="28440" cy="341640"/>
                  <a:chOff x="7332840" y="3236760"/>
                  <a:chExt cx="28440" cy="341640"/>
                </a:xfrm>
              </p:grpSpPr>
              <p:sp>
                <p:nvSpPr>
                  <p:cNvPr id="1244" name=""/>
                  <p:cNvSpPr/>
                  <p:nvPr/>
                </p:nvSpPr>
                <p:spPr>
                  <a:xfrm>
                    <a:off x="7332840" y="3236760"/>
                    <a:ext cx="28440" cy="341640"/>
                  </a:xfrm>
                  <a:custGeom>
                    <a:avLst/>
                    <a:gdLst/>
                    <a:ahLst/>
                    <a:rect l="l" t="t" r="r" b="b"/>
                    <a:pathLst>
                      <a:path w="55" h="647">
                        <a:moveTo>
                          <a:pt x="0" y="647"/>
                        </a:moveTo>
                        <a:lnTo>
                          <a:pt x="13" y="615"/>
                        </a:lnTo>
                        <a:lnTo>
                          <a:pt x="13" y="584"/>
                        </a:lnTo>
                        <a:lnTo>
                          <a:pt x="13" y="536"/>
                        </a:lnTo>
                        <a:lnTo>
                          <a:pt x="13" y="505"/>
                        </a:lnTo>
                        <a:lnTo>
                          <a:pt x="27" y="473"/>
                        </a:lnTo>
                        <a:lnTo>
                          <a:pt x="27" y="441"/>
                        </a:lnTo>
                        <a:lnTo>
                          <a:pt x="27" y="394"/>
                        </a:lnTo>
                        <a:lnTo>
                          <a:pt x="27" y="362"/>
                        </a:lnTo>
                        <a:lnTo>
                          <a:pt x="41" y="332"/>
                        </a:lnTo>
                        <a:lnTo>
                          <a:pt x="41" y="283"/>
                        </a:lnTo>
                        <a:lnTo>
                          <a:pt x="41" y="253"/>
                        </a:lnTo>
                        <a:lnTo>
                          <a:pt x="41" y="221"/>
                        </a:lnTo>
                        <a:lnTo>
                          <a:pt x="41" y="189"/>
                        </a:lnTo>
                        <a:lnTo>
                          <a:pt x="55" y="142"/>
                        </a:lnTo>
                        <a:lnTo>
                          <a:pt x="55" y="110"/>
                        </a:lnTo>
                        <a:lnTo>
                          <a:pt x="55" y="78"/>
                        </a:lnTo>
                        <a:lnTo>
                          <a:pt x="55" y="31"/>
                        </a:lnTo>
                        <a:lnTo>
                          <a:pt x="55" y="0"/>
                        </a:lnTo>
                        <a:lnTo>
                          <a:pt x="0" y="64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332840" y="3236760"/>
                    <a:ext cx="28440" cy="341640"/>
                  </a:xfrm>
                  <a:custGeom>
                    <a:avLst/>
                    <a:gdLst/>
                    <a:ahLst/>
                    <a:rect l="l" t="t" r="r" b="b"/>
                    <a:pathLst>
                      <a:path w="55" h="647">
                        <a:moveTo>
                          <a:pt x="0" y="647"/>
                        </a:moveTo>
                        <a:lnTo>
                          <a:pt x="13" y="615"/>
                        </a:lnTo>
                        <a:lnTo>
                          <a:pt x="13" y="584"/>
                        </a:lnTo>
                        <a:lnTo>
                          <a:pt x="13" y="536"/>
                        </a:lnTo>
                        <a:lnTo>
                          <a:pt x="13" y="505"/>
                        </a:lnTo>
                        <a:lnTo>
                          <a:pt x="27" y="473"/>
                        </a:lnTo>
                        <a:lnTo>
                          <a:pt x="27" y="441"/>
                        </a:lnTo>
                        <a:lnTo>
                          <a:pt x="27" y="394"/>
                        </a:lnTo>
                        <a:lnTo>
                          <a:pt x="27" y="362"/>
                        </a:lnTo>
                        <a:lnTo>
                          <a:pt x="41" y="332"/>
                        </a:lnTo>
                        <a:lnTo>
                          <a:pt x="41" y="283"/>
                        </a:lnTo>
                        <a:lnTo>
                          <a:pt x="41" y="253"/>
                        </a:lnTo>
                        <a:lnTo>
                          <a:pt x="41" y="221"/>
                        </a:lnTo>
                        <a:lnTo>
                          <a:pt x="41" y="189"/>
                        </a:lnTo>
                        <a:lnTo>
                          <a:pt x="55" y="142"/>
                        </a:lnTo>
                        <a:lnTo>
                          <a:pt x="55" y="110"/>
                        </a:lnTo>
                        <a:lnTo>
                          <a:pt x="55" y="78"/>
                        </a:lnTo>
                        <a:lnTo>
                          <a:pt x="55" y="31"/>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7361280" y="2627280"/>
                  <a:ext cx="1440" cy="609480"/>
                  <a:chOff x="7361280" y="2627280"/>
                  <a:chExt cx="1440" cy="609480"/>
                </a:xfrm>
              </p:grpSpPr>
              <p:sp>
                <p:nvSpPr>
                  <p:cNvPr id="1247" name=""/>
                  <p:cNvSpPr/>
                  <p:nvPr/>
                </p:nvSpPr>
                <p:spPr>
                  <a:xfrm>
                    <a:off x="7361280" y="2627280"/>
                    <a:ext cx="1440" cy="609480"/>
                  </a:xfrm>
                  <a:custGeom>
                    <a:avLst/>
                    <a:gdLst/>
                    <a:ahLst/>
                    <a:rect l="l" t="t" r="r" b="b"/>
                    <a:pathLst>
                      <a:path w="0" h="1152">
                        <a:moveTo>
                          <a:pt x="0" y="1152"/>
                        </a:moveTo>
                        <a:lnTo>
                          <a:pt x="0" y="1120"/>
                        </a:lnTo>
                        <a:lnTo>
                          <a:pt x="0" y="1089"/>
                        </a:lnTo>
                        <a:lnTo>
                          <a:pt x="0" y="1058"/>
                        </a:lnTo>
                        <a:lnTo>
                          <a:pt x="0" y="1010"/>
                        </a:lnTo>
                        <a:lnTo>
                          <a:pt x="0" y="979"/>
                        </a:lnTo>
                        <a:lnTo>
                          <a:pt x="0" y="947"/>
                        </a:lnTo>
                        <a:lnTo>
                          <a:pt x="0" y="915"/>
                        </a:lnTo>
                        <a:lnTo>
                          <a:pt x="0" y="883"/>
                        </a:lnTo>
                        <a:lnTo>
                          <a:pt x="0" y="853"/>
                        </a:lnTo>
                        <a:lnTo>
                          <a:pt x="0" y="804"/>
                        </a:lnTo>
                        <a:lnTo>
                          <a:pt x="0" y="774"/>
                        </a:lnTo>
                        <a:lnTo>
                          <a:pt x="0" y="742"/>
                        </a:lnTo>
                        <a:lnTo>
                          <a:pt x="0" y="710"/>
                        </a:lnTo>
                        <a:lnTo>
                          <a:pt x="0" y="678"/>
                        </a:lnTo>
                        <a:lnTo>
                          <a:pt x="0" y="647"/>
                        </a:lnTo>
                        <a:lnTo>
                          <a:pt x="0" y="600"/>
                        </a:lnTo>
                        <a:lnTo>
                          <a:pt x="0" y="568"/>
                        </a:lnTo>
                        <a:lnTo>
                          <a:pt x="0" y="536"/>
                        </a:lnTo>
                        <a:lnTo>
                          <a:pt x="0" y="505"/>
                        </a:lnTo>
                        <a:lnTo>
                          <a:pt x="0" y="474"/>
                        </a:lnTo>
                        <a:lnTo>
                          <a:pt x="0" y="427"/>
                        </a:lnTo>
                        <a:lnTo>
                          <a:pt x="0" y="395"/>
                        </a:lnTo>
                        <a:lnTo>
                          <a:pt x="0" y="363"/>
                        </a:lnTo>
                        <a:lnTo>
                          <a:pt x="0" y="331"/>
                        </a:lnTo>
                        <a:lnTo>
                          <a:pt x="0" y="284"/>
                        </a:lnTo>
                        <a:lnTo>
                          <a:pt x="0" y="252"/>
                        </a:lnTo>
                        <a:lnTo>
                          <a:pt x="0" y="220"/>
                        </a:lnTo>
                        <a:lnTo>
                          <a:pt x="0" y="190"/>
                        </a:lnTo>
                        <a:lnTo>
                          <a:pt x="0" y="142"/>
                        </a:lnTo>
                        <a:lnTo>
                          <a:pt x="0" y="111"/>
                        </a:lnTo>
                        <a:lnTo>
                          <a:pt x="0" y="79"/>
                        </a:lnTo>
                        <a:lnTo>
                          <a:pt x="0" y="32"/>
                        </a:lnTo>
                        <a:lnTo>
                          <a:pt x="0" y="0"/>
                        </a:lnTo>
                        <a:lnTo>
                          <a:pt x="0" y="11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361280" y="2627280"/>
                    <a:ext cx="1440" cy="609480"/>
                  </a:xfrm>
                  <a:custGeom>
                    <a:avLst/>
                    <a:gdLst/>
                    <a:ahLst/>
                    <a:rect l="l" t="t" r="r" b="b"/>
                    <a:pathLst>
                      <a:path w="0" h="1152">
                        <a:moveTo>
                          <a:pt x="0" y="1152"/>
                        </a:moveTo>
                        <a:lnTo>
                          <a:pt x="0" y="1120"/>
                        </a:lnTo>
                        <a:lnTo>
                          <a:pt x="0" y="1089"/>
                        </a:lnTo>
                        <a:lnTo>
                          <a:pt x="0" y="1058"/>
                        </a:lnTo>
                        <a:lnTo>
                          <a:pt x="0" y="1010"/>
                        </a:lnTo>
                        <a:lnTo>
                          <a:pt x="0" y="979"/>
                        </a:lnTo>
                        <a:lnTo>
                          <a:pt x="0" y="947"/>
                        </a:lnTo>
                        <a:lnTo>
                          <a:pt x="0" y="915"/>
                        </a:lnTo>
                        <a:lnTo>
                          <a:pt x="0" y="883"/>
                        </a:lnTo>
                        <a:lnTo>
                          <a:pt x="0" y="853"/>
                        </a:lnTo>
                        <a:lnTo>
                          <a:pt x="0" y="804"/>
                        </a:lnTo>
                        <a:lnTo>
                          <a:pt x="0" y="774"/>
                        </a:lnTo>
                        <a:lnTo>
                          <a:pt x="0" y="742"/>
                        </a:lnTo>
                        <a:lnTo>
                          <a:pt x="0" y="710"/>
                        </a:lnTo>
                        <a:lnTo>
                          <a:pt x="0" y="678"/>
                        </a:lnTo>
                        <a:lnTo>
                          <a:pt x="0" y="647"/>
                        </a:lnTo>
                        <a:lnTo>
                          <a:pt x="0" y="600"/>
                        </a:lnTo>
                        <a:lnTo>
                          <a:pt x="0" y="568"/>
                        </a:lnTo>
                        <a:lnTo>
                          <a:pt x="0" y="536"/>
                        </a:lnTo>
                        <a:lnTo>
                          <a:pt x="0" y="505"/>
                        </a:lnTo>
                        <a:lnTo>
                          <a:pt x="0" y="474"/>
                        </a:lnTo>
                        <a:lnTo>
                          <a:pt x="0" y="427"/>
                        </a:lnTo>
                        <a:lnTo>
                          <a:pt x="0" y="395"/>
                        </a:lnTo>
                        <a:lnTo>
                          <a:pt x="0" y="363"/>
                        </a:lnTo>
                        <a:lnTo>
                          <a:pt x="0" y="331"/>
                        </a:lnTo>
                        <a:lnTo>
                          <a:pt x="0" y="284"/>
                        </a:lnTo>
                        <a:lnTo>
                          <a:pt x="0" y="252"/>
                        </a:lnTo>
                        <a:lnTo>
                          <a:pt x="0" y="220"/>
                        </a:lnTo>
                        <a:lnTo>
                          <a:pt x="0" y="190"/>
                        </a:lnTo>
                        <a:lnTo>
                          <a:pt x="0" y="142"/>
                        </a:lnTo>
                        <a:lnTo>
                          <a:pt x="0" y="111"/>
                        </a:lnTo>
                        <a:lnTo>
                          <a:pt x="0" y="79"/>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7361280" y="2610000"/>
                  <a:ext cx="1440" cy="17280"/>
                  <a:chOff x="7361280" y="2610000"/>
                  <a:chExt cx="1440" cy="17280"/>
                </a:xfrm>
              </p:grpSpPr>
              <p:sp>
                <p:nvSpPr>
                  <p:cNvPr id="1250" name=""/>
                  <p:cNvSpPr/>
                  <p:nvPr/>
                </p:nvSpPr>
                <p:spPr>
                  <a:xfrm>
                    <a:off x="7361280" y="2610000"/>
                    <a:ext cx="1440" cy="17280"/>
                  </a:xfrm>
                  <a:custGeom>
                    <a:avLst/>
                    <a:gdLst/>
                    <a:ahLst/>
                    <a:rect l="l" t="t" r="r" b="b"/>
                    <a:pathLst>
                      <a:path w="0" h="31">
                        <a:moveTo>
                          <a:pt x="0" y="31"/>
                        </a:moveTo>
                        <a:lnTo>
                          <a:pt x="0" y="15"/>
                        </a:lnTo>
                        <a:lnTo>
                          <a:pt x="0" y="0"/>
                        </a:lnTo>
                        <a:lnTo>
                          <a:pt x="0" y="31"/>
                        </a:lnTo>
                        <a:close/>
                      </a:path>
                    </a:pathLst>
                  </a:custGeom>
                  <a:solidFill>
                    <a:srgbClr val="cce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1" name=""/>
                  <p:cNvSpPr/>
                  <p:nvPr/>
                </p:nvSpPr>
                <p:spPr>
                  <a:xfrm>
                    <a:off x="7361280" y="2610000"/>
                    <a:ext cx="1440" cy="17280"/>
                  </a:xfrm>
                  <a:custGeom>
                    <a:avLst/>
                    <a:gdLst/>
                    <a:ahLst/>
                    <a:rect l="l" t="t" r="r" b="b"/>
                    <a:pathLst>
                      <a:path w="0" h="31">
                        <a:moveTo>
                          <a:pt x="0" y="31"/>
                        </a:moveTo>
                        <a:lnTo>
                          <a:pt x="0" y="15"/>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52" name=""/>
                <p:cNvGrpSpPr/>
                <p:nvPr/>
              </p:nvGrpSpPr>
              <p:grpSpPr>
                <a:xfrm>
                  <a:off x="7338960" y="2394000"/>
                  <a:ext cx="22320" cy="216000"/>
                  <a:chOff x="7338960" y="2394000"/>
                  <a:chExt cx="22320" cy="216000"/>
                </a:xfrm>
              </p:grpSpPr>
              <p:sp>
                <p:nvSpPr>
                  <p:cNvPr id="1253" name=""/>
                  <p:cNvSpPr/>
                  <p:nvPr/>
                </p:nvSpPr>
                <p:spPr>
                  <a:xfrm>
                    <a:off x="7338960" y="2394000"/>
                    <a:ext cx="22320" cy="216000"/>
                  </a:xfrm>
                  <a:custGeom>
                    <a:avLst/>
                    <a:gdLst/>
                    <a:ahLst/>
                    <a:rect l="l" t="t" r="r" b="b"/>
                    <a:pathLst>
                      <a:path w="42" h="410">
                        <a:moveTo>
                          <a:pt x="42" y="410"/>
                        </a:moveTo>
                        <a:lnTo>
                          <a:pt x="28" y="363"/>
                        </a:lnTo>
                        <a:lnTo>
                          <a:pt x="28" y="331"/>
                        </a:lnTo>
                        <a:lnTo>
                          <a:pt x="28" y="284"/>
                        </a:lnTo>
                        <a:lnTo>
                          <a:pt x="28" y="252"/>
                        </a:lnTo>
                        <a:lnTo>
                          <a:pt x="28" y="205"/>
                        </a:lnTo>
                        <a:lnTo>
                          <a:pt x="14" y="173"/>
                        </a:lnTo>
                        <a:lnTo>
                          <a:pt x="14" y="141"/>
                        </a:lnTo>
                        <a:lnTo>
                          <a:pt x="14" y="94"/>
                        </a:lnTo>
                        <a:lnTo>
                          <a:pt x="14" y="62"/>
                        </a:lnTo>
                        <a:lnTo>
                          <a:pt x="0" y="0"/>
                        </a:lnTo>
                        <a:lnTo>
                          <a:pt x="42" y="41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338960" y="2394000"/>
                    <a:ext cx="22320" cy="216000"/>
                  </a:xfrm>
                  <a:custGeom>
                    <a:avLst/>
                    <a:gdLst/>
                    <a:ahLst/>
                    <a:rect l="l" t="t" r="r" b="b"/>
                    <a:pathLst>
                      <a:path w="42" h="410">
                        <a:moveTo>
                          <a:pt x="42" y="410"/>
                        </a:moveTo>
                        <a:lnTo>
                          <a:pt x="28" y="363"/>
                        </a:lnTo>
                        <a:lnTo>
                          <a:pt x="28" y="331"/>
                        </a:lnTo>
                        <a:lnTo>
                          <a:pt x="28" y="284"/>
                        </a:lnTo>
                        <a:lnTo>
                          <a:pt x="28" y="252"/>
                        </a:lnTo>
                        <a:lnTo>
                          <a:pt x="28" y="205"/>
                        </a:lnTo>
                        <a:lnTo>
                          <a:pt x="14" y="173"/>
                        </a:lnTo>
                        <a:lnTo>
                          <a:pt x="14" y="141"/>
                        </a:lnTo>
                        <a:lnTo>
                          <a:pt x="14" y="94"/>
                        </a:lnTo>
                        <a:lnTo>
                          <a:pt x="14" y="6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288200" y="2025720"/>
                  <a:ext cx="50760" cy="368280"/>
                  <a:chOff x="7288200" y="2025720"/>
                  <a:chExt cx="50760" cy="368280"/>
                </a:xfrm>
              </p:grpSpPr>
              <p:sp>
                <p:nvSpPr>
                  <p:cNvPr id="1256" name=""/>
                  <p:cNvSpPr/>
                  <p:nvPr/>
                </p:nvSpPr>
                <p:spPr>
                  <a:xfrm>
                    <a:off x="7288200" y="2025720"/>
                    <a:ext cx="50760" cy="368280"/>
                  </a:xfrm>
                  <a:custGeom>
                    <a:avLst/>
                    <a:gdLst/>
                    <a:ahLst/>
                    <a:rect l="l" t="t" r="r" b="b"/>
                    <a:pathLst>
                      <a:path w="96" h="695">
                        <a:moveTo>
                          <a:pt x="96" y="695"/>
                        </a:moveTo>
                        <a:lnTo>
                          <a:pt x="96" y="663"/>
                        </a:lnTo>
                        <a:lnTo>
                          <a:pt x="96" y="631"/>
                        </a:lnTo>
                        <a:lnTo>
                          <a:pt x="96" y="584"/>
                        </a:lnTo>
                        <a:lnTo>
                          <a:pt x="83" y="552"/>
                        </a:lnTo>
                        <a:lnTo>
                          <a:pt x="83" y="521"/>
                        </a:lnTo>
                        <a:lnTo>
                          <a:pt x="83" y="474"/>
                        </a:lnTo>
                        <a:lnTo>
                          <a:pt x="69" y="442"/>
                        </a:lnTo>
                        <a:lnTo>
                          <a:pt x="69" y="410"/>
                        </a:lnTo>
                        <a:lnTo>
                          <a:pt x="69" y="363"/>
                        </a:lnTo>
                        <a:lnTo>
                          <a:pt x="55" y="331"/>
                        </a:lnTo>
                        <a:lnTo>
                          <a:pt x="55" y="301"/>
                        </a:lnTo>
                        <a:lnTo>
                          <a:pt x="41" y="252"/>
                        </a:lnTo>
                        <a:lnTo>
                          <a:pt x="41" y="222"/>
                        </a:lnTo>
                        <a:lnTo>
                          <a:pt x="27" y="190"/>
                        </a:lnTo>
                        <a:lnTo>
                          <a:pt x="27" y="143"/>
                        </a:lnTo>
                        <a:lnTo>
                          <a:pt x="13" y="111"/>
                        </a:lnTo>
                        <a:lnTo>
                          <a:pt x="13" y="79"/>
                        </a:lnTo>
                        <a:lnTo>
                          <a:pt x="0" y="32"/>
                        </a:lnTo>
                        <a:lnTo>
                          <a:pt x="0" y="0"/>
                        </a:lnTo>
                        <a:lnTo>
                          <a:pt x="96" y="69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288200" y="2025720"/>
                    <a:ext cx="50760" cy="368280"/>
                  </a:xfrm>
                  <a:custGeom>
                    <a:avLst/>
                    <a:gdLst/>
                    <a:ahLst/>
                    <a:rect l="l" t="t" r="r" b="b"/>
                    <a:pathLst>
                      <a:path w="96" h="695">
                        <a:moveTo>
                          <a:pt x="96" y="695"/>
                        </a:moveTo>
                        <a:lnTo>
                          <a:pt x="96" y="663"/>
                        </a:lnTo>
                        <a:lnTo>
                          <a:pt x="96" y="631"/>
                        </a:lnTo>
                        <a:lnTo>
                          <a:pt x="96" y="584"/>
                        </a:lnTo>
                        <a:lnTo>
                          <a:pt x="83" y="552"/>
                        </a:lnTo>
                        <a:lnTo>
                          <a:pt x="83" y="521"/>
                        </a:lnTo>
                        <a:lnTo>
                          <a:pt x="83" y="474"/>
                        </a:lnTo>
                        <a:lnTo>
                          <a:pt x="69" y="442"/>
                        </a:lnTo>
                        <a:lnTo>
                          <a:pt x="69" y="410"/>
                        </a:lnTo>
                        <a:lnTo>
                          <a:pt x="69" y="363"/>
                        </a:lnTo>
                        <a:lnTo>
                          <a:pt x="55" y="331"/>
                        </a:lnTo>
                        <a:lnTo>
                          <a:pt x="55" y="301"/>
                        </a:lnTo>
                        <a:lnTo>
                          <a:pt x="41" y="252"/>
                        </a:lnTo>
                        <a:lnTo>
                          <a:pt x="41" y="222"/>
                        </a:lnTo>
                        <a:lnTo>
                          <a:pt x="27" y="190"/>
                        </a:lnTo>
                        <a:lnTo>
                          <a:pt x="27" y="143"/>
                        </a:lnTo>
                        <a:lnTo>
                          <a:pt x="13" y="111"/>
                        </a:lnTo>
                        <a:lnTo>
                          <a:pt x="13" y="79"/>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7245360" y="1859040"/>
                  <a:ext cx="42840" cy="166680"/>
                  <a:chOff x="7245360" y="1859040"/>
                  <a:chExt cx="42840" cy="166680"/>
                </a:xfrm>
              </p:grpSpPr>
              <p:sp>
                <p:nvSpPr>
                  <p:cNvPr id="1259" name=""/>
                  <p:cNvSpPr/>
                  <p:nvPr/>
                </p:nvSpPr>
                <p:spPr>
                  <a:xfrm>
                    <a:off x="7245360" y="1859040"/>
                    <a:ext cx="42840" cy="166680"/>
                  </a:xfrm>
                  <a:custGeom>
                    <a:avLst/>
                    <a:gdLst/>
                    <a:ahLst/>
                    <a:rect l="l" t="t" r="r" b="b"/>
                    <a:pathLst>
                      <a:path w="83" h="315">
                        <a:moveTo>
                          <a:pt x="83" y="315"/>
                        </a:moveTo>
                        <a:lnTo>
                          <a:pt x="69" y="284"/>
                        </a:lnTo>
                        <a:lnTo>
                          <a:pt x="69" y="237"/>
                        </a:lnTo>
                        <a:lnTo>
                          <a:pt x="55" y="205"/>
                        </a:lnTo>
                        <a:lnTo>
                          <a:pt x="41" y="158"/>
                        </a:lnTo>
                        <a:lnTo>
                          <a:pt x="27" y="126"/>
                        </a:lnTo>
                        <a:lnTo>
                          <a:pt x="27" y="79"/>
                        </a:lnTo>
                        <a:lnTo>
                          <a:pt x="13" y="47"/>
                        </a:lnTo>
                        <a:lnTo>
                          <a:pt x="0" y="0"/>
                        </a:lnTo>
                        <a:lnTo>
                          <a:pt x="83" y="31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245360" y="1859040"/>
                    <a:ext cx="42840" cy="166680"/>
                  </a:xfrm>
                  <a:custGeom>
                    <a:avLst/>
                    <a:gdLst/>
                    <a:ahLst/>
                    <a:rect l="l" t="t" r="r" b="b"/>
                    <a:pathLst>
                      <a:path w="83" h="315">
                        <a:moveTo>
                          <a:pt x="83" y="315"/>
                        </a:moveTo>
                        <a:lnTo>
                          <a:pt x="69" y="284"/>
                        </a:lnTo>
                        <a:lnTo>
                          <a:pt x="69" y="237"/>
                        </a:lnTo>
                        <a:lnTo>
                          <a:pt x="55" y="205"/>
                        </a:lnTo>
                        <a:lnTo>
                          <a:pt x="41" y="158"/>
                        </a:lnTo>
                        <a:lnTo>
                          <a:pt x="27" y="126"/>
                        </a:lnTo>
                        <a:lnTo>
                          <a:pt x="27" y="79"/>
                        </a:lnTo>
                        <a:lnTo>
                          <a:pt x="13"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7221600" y="1809720"/>
                  <a:ext cx="23760" cy="49320"/>
                  <a:chOff x="7221600" y="1809720"/>
                  <a:chExt cx="23760" cy="49320"/>
                </a:xfrm>
              </p:grpSpPr>
              <p:sp>
                <p:nvSpPr>
                  <p:cNvPr id="1262" name=""/>
                  <p:cNvSpPr/>
                  <p:nvPr/>
                </p:nvSpPr>
                <p:spPr>
                  <a:xfrm>
                    <a:off x="7221600" y="1809720"/>
                    <a:ext cx="23760" cy="49320"/>
                  </a:xfrm>
                  <a:custGeom>
                    <a:avLst/>
                    <a:gdLst/>
                    <a:ahLst/>
                    <a:rect l="l" t="t" r="r" b="b"/>
                    <a:pathLst>
                      <a:path w="43" h="94">
                        <a:moveTo>
                          <a:pt x="43" y="94"/>
                        </a:moveTo>
                        <a:lnTo>
                          <a:pt x="27" y="62"/>
                        </a:lnTo>
                        <a:lnTo>
                          <a:pt x="14" y="30"/>
                        </a:lnTo>
                        <a:lnTo>
                          <a:pt x="0" y="0"/>
                        </a:lnTo>
                        <a:lnTo>
                          <a:pt x="43" y="94"/>
                        </a:lnTo>
                        <a:close/>
                      </a:path>
                    </a:pathLst>
                  </a:custGeom>
                  <a:solidFill>
                    <a:srgbClr val="cce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3" name=""/>
                  <p:cNvSpPr/>
                  <p:nvPr/>
                </p:nvSpPr>
                <p:spPr>
                  <a:xfrm>
                    <a:off x="7221600" y="1809720"/>
                    <a:ext cx="23760" cy="49320"/>
                  </a:xfrm>
                  <a:custGeom>
                    <a:avLst/>
                    <a:gdLst/>
                    <a:ahLst/>
                    <a:rect l="l" t="t" r="r" b="b"/>
                    <a:pathLst>
                      <a:path w="43" h="94">
                        <a:moveTo>
                          <a:pt x="43" y="94"/>
                        </a:moveTo>
                        <a:lnTo>
                          <a:pt x="27" y="62"/>
                        </a:lnTo>
                        <a:lnTo>
                          <a:pt x="14" y="30"/>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264" name=""/>
                <p:cNvGrpSpPr/>
                <p:nvPr/>
              </p:nvGrpSpPr>
              <p:grpSpPr>
                <a:xfrm>
                  <a:off x="7207200" y="1774800"/>
                  <a:ext cx="14400" cy="34920"/>
                  <a:chOff x="7207200" y="1774800"/>
                  <a:chExt cx="14400" cy="34920"/>
                </a:xfrm>
              </p:grpSpPr>
              <p:sp>
                <p:nvSpPr>
                  <p:cNvPr id="1265" name=""/>
                  <p:cNvSpPr/>
                  <p:nvPr/>
                </p:nvSpPr>
                <p:spPr>
                  <a:xfrm>
                    <a:off x="7207200" y="1774800"/>
                    <a:ext cx="14400" cy="34920"/>
                  </a:xfrm>
                  <a:custGeom>
                    <a:avLst/>
                    <a:gdLst/>
                    <a:ahLst/>
                    <a:rect l="l" t="t" r="r" b="b"/>
                    <a:pathLst>
                      <a:path w="28" h="64">
                        <a:moveTo>
                          <a:pt x="28" y="64"/>
                        </a:moveTo>
                        <a:lnTo>
                          <a:pt x="14" y="47"/>
                        </a:lnTo>
                        <a:lnTo>
                          <a:pt x="14" y="15"/>
                        </a:lnTo>
                        <a:lnTo>
                          <a:pt x="0" y="0"/>
                        </a:lnTo>
                        <a:lnTo>
                          <a:pt x="28" y="64"/>
                        </a:lnTo>
                        <a:close/>
                      </a:path>
                    </a:pathLst>
                  </a:custGeom>
                  <a:solidFill>
                    <a:srgbClr val="cce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6" name=""/>
                  <p:cNvSpPr/>
                  <p:nvPr/>
                </p:nvSpPr>
                <p:spPr>
                  <a:xfrm>
                    <a:off x="7207200" y="1774800"/>
                    <a:ext cx="14400" cy="34920"/>
                  </a:xfrm>
                  <a:custGeom>
                    <a:avLst/>
                    <a:gdLst/>
                    <a:ahLst/>
                    <a:rect l="l" t="t" r="r" b="b"/>
                    <a:pathLst>
                      <a:path w="28" h="64">
                        <a:moveTo>
                          <a:pt x="28" y="64"/>
                        </a:moveTo>
                        <a:lnTo>
                          <a:pt x="14" y="47"/>
                        </a:lnTo>
                        <a:lnTo>
                          <a:pt x="14" y="15"/>
                        </a:lnTo>
                        <a:lnTo>
                          <a:pt x="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267" name=""/>
                <p:cNvGrpSpPr/>
                <p:nvPr/>
              </p:nvGrpSpPr>
              <p:grpSpPr>
                <a:xfrm>
                  <a:off x="7296120" y="3537000"/>
                  <a:ext cx="196920" cy="576360"/>
                  <a:chOff x="7296120" y="3537000"/>
                  <a:chExt cx="196920" cy="576360"/>
                </a:xfrm>
              </p:grpSpPr>
              <p:sp>
                <p:nvSpPr>
                  <p:cNvPr id="1268" name=""/>
                  <p:cNvSpPr/>
                  <p:nvPr/>
                </p:nvSpPr>
                <p:spPr>
                  <a:xfrm>
                    <a:off x="7296120" y="3537000"/>
                    <a:ext cx="196920" cy="576360"/>
                  </a:xfrm>
                  <a:custGeom>
                    <a:avLst/>
                    <a:gdLst/>
                    <a:ahLst/>
                    <a:rect l="l" t="t" r="r" b="b"/>
                    <a:pathLst>
                      <a:path w="374" h="1088">
                        <a:moveTo>
                          <a:pt x="0" y="1088"/>
                        </a:moveTo>
                        <a:lnTo>
                          <a:pt x="28" y="1073"/>
                        </a:lnTo>
                        <a:lnTo>
                          <a:pt x="42" y="1041"/>
                        </a:lnTo>
                        <a:lnTo>
                          <a:pt x="56" y="1009"/>
                        </a:lnTo>
                        <a:lnTo>
                          <a:pt x="70" y="994"/>
                        </a:lnTo>
                        <a:lnTo>
                          <a:pt x="97" y="962"/>
                        </a:lnTo>
                        <a:lnTo>
                          <a:pt x="111" y="930"/>
                        </a:lnTo>
                        <a:lnTo>
                          <a:pt x="125" y="898"/>
                        </a:lnTo>
                        <a:lnTo>
                          <a:pt x="139" y="868"/>
                        </a:lnTo>
                        <a:lnTo>
                          <a:pt x="153" y="836"/>
                        </a:lnTo>
                        <a:lnTo>
                          <a:pt x="166" y="804"/>
                        </a:lnTo>
                        <a:lnTo>
                          <a:pt x="180" y="772"/>
                        </a:lnTo>
                        <a:lnTo>
                          <a:pt x="194" y="741"/>
                        </a:lnTo>
                        <a:lnTo>
                          <a:pt x="194" y="710"/>
                        </a:lnTo>
                        <a:lnTo>
                          <a:pt x="208" y="678"/>
                        </a:lnTo>
                        <a:lnTo>
                          <a:pt x="222" y="646"/>
                        </a:lnTo>
                        <a:lnTo>
                          <a:pt x="236" y="615"/>
                        </a:lnTo>
                        <a:lnTo>
                          <a:pt x="249" y="583"/>
                        </a:lnTo>
                        <a:lnTo>
                          <a:pt x="249" y="552"/>
                        </a:lnTo>
                        <a:lnTo>
                          <a:pt x="263" y="504"/>
                        </a:lnTo>
                        <a:lnTo>
                          <a:pt x="277" y="474"/>
                        </a:lnTo>
                        <a:lnTo>
                          <a:pt x="277" y="442"/>
                        </a:lnTo>
                        <a:lnTo>
                          <a:pt x="291" y="410"/>
                        </a:lnTo>
                        <a:lnTo>
                          <a:pt x="305" y="378"/>
                        </a:lnTo>
                        <a:lnTo>
                          <a:pt x="305" y="346"/>
                        </a:lnTo>
                        <a:lnTo>
                          <a:pt x="319" y="299"/>
                        </a:lnTo>
                        <a:lnTo>
                          <a:pt x="319" y="267"/>
                        </a:lnTo>
                        <a:lnTo>
                          <a:pt x="332" y="237"/>
                        </a:lnTo>
                        <a:lnTo>
                          <a:pt x="332" y="205"/>
                        </a:lnTo>
                        <a:lnTo>
                          <a:pt x="346" y="173"/>
                        </a:lnTo>
                        <a:lnTo>
                          <a:pt x="346" y="141"/>
                        </a:lnTo>
                        <a:lnTo>
                          <a:pt x="360" y="110"/>
                        </a:lnTo>
                        <a:lnTo>
                          <a:pt x="360" y="79"/>
                        </a:lnTo>
                        <a:lnTo>
                          <a:pt x="374" y="47"/>
                        </a:lnTo>
                        <a:lnTo>
                          <a:pt x="374" y="0"/>
                        </a:lnTo>
                        <a:lnTo>
                          <a:pt x="0" y="108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296120" y="3537000"/>
                    <a:ext cx="196920" cy="576360"/>
                  </a:xfrm>
                  <a:custGeom>
                    <a:avLst/>
                    <a:gdLst/>
                    <a:ahLst/>
                    <a:rect l="l" t="t" r="r" b="b"/>
                    <a:pathLst>
                      <a:path w="374" h="1088">
                        <a:moveTo>
                          <a:pt x="0" y="1088"/>
                        </a:moveTo>
                        <a:lnTo>
                          <a:pt x="28" y="1073"/>
                        </a:lnTo>
                        <a:lnTo>
                          <a:pt x="42" y="1041"/>
                        </a:lnTo>
                        <a:lnTo>
                          <a:pt x="56" y="1009"/>
                        </a:lnTo>
                        <a:lnTo>
                          <a:pt x="70" y="994"/>
                        </a:lnTo>
                        <a:lnTo>
                          <a:pt x="97" y="962"/>
                        </a:lnTo>
                        <a:lnTo>
                          <a:pt x="111" y="930"/>
                        </a:lnTo>
                        <a:lnTo>
                          <a:pt x="125" y="898"/>
                        </a:lnTo>
                        <a:lnTo>
                          <a:pt x="139" y="868"/>
                        </a:lnTo>
                        <a:lnTo>
                          <a:pt x="153" y="836"/>
                        </a:lnTo>
                        <a:lnTo>
                          <a:pt x="166" y="804"/>
                        </a:lnTo>
                        <a:lnTo>
                          <a:pt x="180" y="772"/>
                        </a:lnTo>
                        <a:lnTo>
                          <a:pt x="194" y="741"/>
                        </a:lnTo>
                        <a:lnTo>
                          <a:pt x="194" y="710"/>
                        </a:lnTo>
                        <a:lnTo>
                          <a:pt x="208" y="678"/>
                        </a:lnTo>
                        <a:lnTo>
                          <a:pt x="222" y="646"/>
                        </a:lnTo>
                        <a:lnTo>
                          <a:pt x="236" y="615"/>
                        </a:lnTo>
                        <a:lnTo>
                          <a:pt x="249" y="583"/>
                        </a:lnTo>
                        <a:lnTo>
                          <a:pt x="249" y="552"/>
                        </a:lnTo>
                        <a:lnTo>
                          <a:pt x="263" y="504"/>
                        </a:lnTo>
                        <a:lnTo>
                          <a:pt x="277" y="474"/>
                        </a:lnTo>
                        <a:lnTo>
                          <a:pt x="277" y="442"/>
                        </a:lnTo>
                        <a:lnTo>
                          <a:pt x="291" y="410"/>
                        </a:lnTo>
                        <a:lnTo>
                          <a:pt x="305" y="378"/>
                        </a:lnTo>
                        <a:lnTo>
                          <a:pt x="305" y="346"/>
                        </a:lnTo>
                        <a:lnTo>
                          <a:pt x="319" y="299"/>
                        </a:lnTo>
                        <a:lnTo>
                          <a:pt x="319" y="267"/>
                        </a:lnTo>
                        <a:lnTo>
                          <a:pt x="332" y="237"/>
                        </a:lnTo>
                        <a:lnTo>
                          <a:pt x="332" y="205"/>
                        </a:lnTo>
                        <a:lnTo>
                          <a:pt x="346" y="173"/>
                        </a:lnTo>
                        <a:lnTo>
                          <a:pt x="346" y="141"/>
                        </a:lnTo>
                        <a:lnTo>
                          <a:pt x="360" y="110"/>
                        </a:lnTo>
                        <a:lnTo>
                          <a:pt x="360" y="79"/>
                        </a:lnTo>
                        <a:lnTo>
                          <a:pt x="374" y="47"/>
                        </a:lnTo>
                        <a:lnTo>
                          <a:pt x="3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493040" y="3278160"/>
                  <a:ext cx="30240" cy="258840"/>
                  <a:chOff x="7493040" y="3278160"/>
                  <a:chExt cx="30240" cy="258840"/>
                </a:xfrm>
              </p:grpSpPr>
              <p:sp>
                <p:nvSpPr>
                  <p:cNvPr id="1271" name=""/>
                  <p:cNvSpPr/>
                  <p:nvPr/>
                </p:nvSpPr>
                <p:spPr>
                  <a:xfrm>
                    <a:off x="7493040" y="3278160"/>
                    <a:ext cx="30240" cy="258840"/>
                  </a:xfrm>
                  <a:custGeom>
                    <a:avLst/>
                    <a:gdLst/>
                    <a:ahLst/>
                    <a:rect l="l" t="t" r="r" b="b"/>
                    <a:pathLst>
                      <a:path w="55" h="490">
                        <a:moveTo>
                          <a:pt x="0" y="490"/>
                        </a:moveTo>
                        <a:lnTo>
                          <a:pt x="0" y="458"/>
                        </a:lnTo>
                        <a:lnTo>
                          <a:pt x="14" y="427"/>
                        </a:lnTo>
                        <a:lnTo>
                          <a:pt x="14" y="380"/>
                        </a:lnTo>
                        <a:lnTo>
                          <a:pt x="28" y="348"/>
                        </a:lnTo>
                        <a:lnTo>
                          <a:pt x="28" y="301"/>
                        </a:lnTo>
                        <a:lnTo>
                          <a:pt x="28" y="269"/>
                        </a:lnTo>
                        <a:lnTo>
                          <a:pt x="41" y="222"/>
                        </a:lnTo>
                        <a:lnTo>
                          <a:pt x="41" y="190"/>
                        </a:lnTo>
                        <a:lnTo>
                          <a:pt x="41" y="143"/>
                        </a:lnTo>
                        <a:lnTo>
                          <a:pt x="41" y="111"/>
                        </a:lnTo>
                        <a:lnTo>
                          <a:pt x="55" y="64"/>
                        </a:lnTo>
                        <a:lnTo>
                          <a:pt x="55" y="32"/>
                        </a:lnTo>
                        <a:lnTo>
                          <a:pt x="55" y="0"/>
                        </a:lnTo>
                        <a:lnTo>
                          <a:pt x="0" y="49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493040" y="3278160"/>
                    <a:ext cx="30240" cy="258840"/>
                  </a:xfrm>
                  <a:custGeom>
                    <a:avLst/>
                    <a:gdLst/>
                    <a:ahLst/>
                    <a:rect l="l" t="t" r="r" b="b"/>
                    <a:pathLst>
                      <a:path w="55" h="490">
                        <a:moveTo>
                          <a:pt x="0" y="490"/>
                        </a:moveTo>
                        <a:lnTo>
                          <a:pt x="0" y="458"/>
                        </a:lnTo>
                        <a:lnTo>
                          <a:pt x="14" y="427"/>
                        </a:lnTo>
                        <a:lnTo>
                          <a:pt x="14" y="380"/>
                        </a:lnTo>
                        <a:lnTo>
                          <a:pt x="28" y="348"/>
                        </a:lnTo>
                        <a:lnTo>
                          <a:pt x="28" y="301"/>
                        </a:lnTo>
                        <a:lnTo>
                          <a:pt x="28" y="269"/>
                        </a:lnTo>
                        <a:lnTo>
                          <a:pt x="41" y="222"/>
                        </a:lnTo>
                        <a:lnTo>
                          <a:pt x="41" y="190"/>
                        </a:lnTo>
                        <a:lnTo>
                          <a:pt x="41" y="143"/>
                        </a:lnTo>
                        <a:lnTo>
                          <a:pt x="41" y="111"/>
                        </a:lnTo>
                        <a:lnTo>
                          <a:pt x="55" y="64"/>
                        </a:lnTo>
                        <a:lnTo>
                          <a:pt x="55" y="32"/>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7523280" y="2585880"/>
                  <a:ext cx="14040" cy="692280"/>
                  <a:chOff x="7523280" y="2585880"/>
                  <a:chExt cx="14040" cy="692280"/>
                </a:xfrm>
              </p:grpSpPr>
              <p:sp>
                <p:nvSpPr>
                  <p:cNvPr id="1274" name=""/>
                  <p:cNvSpPr/>
                  <p:nvPr/>
                </p:nvSpPr>
                <p:spPr>
                  <a:xfrm>
                    <a:off x="7523280" y="2585880"/>
                    <a:ext cx="14040" cy="692280"/>
                  </a:xfrm>
                  <a:custGeom>
                    <a:avLst/>
                    <a:gdLst/>
                    <a:ahLst/>
                    <a:rect l="l" t="t" r="r" b="b"/>
                    <a:pathLst>
                      <a:path w="28" h="1308">
                        <a:moveTo>
                          <a:pt x="0" y="1308"/>
                        </a:moveTo>
                        <a:lnTo>
                          <a:pt x="0" y="1277"/>
                        </a:lnTo>
                        <a:lnTo>
                          <a:pt x="0" y="1230"/>
                        </a:lnTo>
                        <a:lnTo>
                          <a:pt x="14" y="1198"/>
                        </a:lnTo>
                        <a:lnTo>
                          <a:pt x="14" y="1167"/>
                        </a:lnTo>
                        <a:lnTo>
                          <a:pt x="14" y="1136"/>
                        </a:lnTo>
                        <a:lnTo>
                          <a:pt x="14" y="1104"/>
                        </a:lnTo>
                        <a:lnTo>
                          <a:pt x="14" y="1057"/>
                        </a:lnTo>
                        <a:lnTo>
                          <a:pt x="14" y="1025"/>
                        </a:lnTo>
                        <a:lnTo>
                          <a:pt x="14" y="993"/>
                        </a:lnTo>
                        <a:lnTo>
                          <a:pt x="28" y="961"/>
                        </a:lnTo>
                        <a:lnTo>
                          <a:pt x="28" y="914"/>
                        </a:lnTo>
                        <a:lnTo>
                          <a:pt x="28" y="882"/>
                        </a:lnTo>
                        <a:lnTo>
                          <a:pt x="28" y="852"/>
                        </a:lnTo>
                        <a:lnTo>
                          <a:pt x="28" y="820"/>
                        </a:lnTo>
                        <a:lnTo>
                          <a:pt x="28" y="788"/>
                        </a:lnTo>
                        <a:lnTo>
                          <a:pt x="28" y="741"/>
                        </a:lnTo>
                        <a:lnTo>
                          <a:pt x="28" y="709"/>
                        </a:lnTo>
                        <a:lnTo>
                          <a:pt x="28" y="678"/>
                        </a:lnTo>
                        <a:lnTo>
                          <a:pt x="28" y="646"/>
                        </a:lnTo>
                        <a:lnTo>
                          <a:pt x="28" y="599"/>
                        </a:lnTo>
                        <a:lnTo>
                          <a:pt x="28" y="567"/>
                        </a:lnTo>
                        <a:lnTo>
                          <a:pt x="28" y="535"/>
                        </a:lnTo>
                        <a:lnTo>
                          <a:pt x="28" y="505"/>
                        </a:lnTo>
                        <a:lnTo>
                          <a:pt x="14" y="473"/>
                        </a:lnTo>
                        <a:lnTo>
                          <a:pt x="14" y="426"/>
                        </a:lnTo>
                        <a:lnTo>
                          <a:pt x="14" y="394"/>
                        </a:lnTo>
                        <a:lnTo>
                          <a:pt x="14" y="362"/>
                        </a:lnTo>
                        <a:lnTo>
                          <a:pt x="14" y="330"/>
                        </a:lnTo>
                        <a:lnTo>
                          <a:pt x="14" y="283"/>
                        </a:lnTo>
                        <a:lnTo>
                          <a:pt x="14" y="251"/>
                        </a:lnTo>
                        <a:lnTo>
                          <a:pt x="14" y="220"/>
                        </a:lnTo>
                        <a:lnTo>
                          <a:pt x="14" y="189"/>
                        </a:lnTo>
                        <a:lnTo>
                          <a:pt x="0" y="141"/>
                        </a:lnTo>
                        <a:lnTo>
                          <a:pt x="0" y="110"/>
                        </a:lnTo>
                        <a:lnTo>
                          <a:pt x="0" y="78"/>
                        </a:lnTo>
                        <a:lnTo>
                          <a:pt x="0" y="31"/>
                        </a:lnTo>
                        <a:lnTo>
                          <a:pt x="0" y="0"/>
                        </a:lnTo>
                        <a:lnTo>
                          <a:pt x="0" y="130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523280" y="2585880"/>
                    <a:ext cx="14040" cy="692280"/>
                  </a:xfrm>
                  <a:custGeom>
                    <a:avLst/>
                    <a:gdLst/>
                    <a:ahLst/>
                    <a:rect l="l" t="t" r="r" b="b"/>
                    <a:pathLst>
                      <a:path w="28" h="1308">
                        <a:moveTo>
                          <a:pt x="0" y="1308"/>
                        </a:moveTo>
                        <a:lnTo>
                          <a:pt x="0" y="1277"/>
                        </a:lnTo>
                        <a:lnTo>
                          <a:pt x="0" y="1230"/>
                        </a:lnTo>
                        <a:lnTo>
                          <a:pt x="14" y="1198"/>
                        </a:lnTo>
                        <a:lnTo>
                          <a:pt x="14" y="1167"/>
                        </a:lnTo>
                        <a:lnTo>
                          <a:pt x="14" y="1136"/>
                        </a:lnTo>
                        <a:lnTo>
                          <a:pt x="14" y="1104"/>
                        </a:lnTo>
                        <a:lnTo>
                          <a:pt x="14" y="1057"/>
                        </a:lnTo>
                        <a:lnTo>
                          <a:pt x="14" y="1025"/>
                        </a:lnTo>
                        <a:lnTo>
                          <a:pt x="14" y="993"/>
                        </a:lnTo>
                        <a:lnTo>
                          <a:pt x="28" y="961"/>
                        </a:lnTo>
                        <a:lnTo>
                          <a:pt x="28" y="914"/>
                        </a:lnTo>
                        <a:lnTo>
                          <a:pt x="28" y="882"/>
                        </a:lnTo>
                        <a:lnTo>
                          <a:pt x="28" y="852"/>
                        </a:lnTo>
                        <a:lnTo>
                          <a:pt x="28" y="820"/>
                        </a:lnTo>
                        <a:lnTo>
                          <a:pt x="28" y="788"/>
                        </a:lnTo>
                        <a:lnTo>
                          <a:pt x="28" y="741"/>
                        </a:lnTo>
                        <a:lnTo>
                          <a:pt x="28" y="709"/>
                        </a:lnTo>
                        <a:lnTo>
                          <a:pt x="28" y="678"/>
                        </a:lnTo>
                        <a:lnTo>
                          <a:pt x="28" y="646"/>
                        </a:lnTo>
                        <a:lnTo>
                          <a:pt x="28" y="599"/>
                        </a:lnTo>
                        <a:lnTo>
                          <a:pt x="28" y="567"/>
                        </a:lnTo>
                        <a:lnTo>
                          <a:pt x="28" y="535"/>
                        </a:lnTo>
                        <a:lnTo>
                          <a:pt x="28" y="505"/>
                        </a:lnTo>
                        <a:lnTo>
                          <a:pt x="14" y="473"/>
                        </a:lnTo>
                        <a:lnTo>
                          <a:pt x="14" y="426"/>
                        </a:lnTo>
                        <a:lnTo>
                          <a:pt x="14" y="394"/>
                        </a:lnTo>
                        <a:lnTo>
                          <a:pt x="14" y="362"/>
                        </a:lnTo>
                        <a:lnTo>
                          <a:pt x="14" y="330"/>
                        </a:lnTo>
                        <a:lnTo>
                          <a:pt x="14" y="283"/>
                        </a:lnTo>
                        <a:lnTo>
                          <a:pt x="14" y="251"/>
                        </a:lnTo>
                        <a:lnTo>
                          <a:pt x="14" y="220"/>
                        </a:lnTo>
                        <a:lnTo>
                          <a:pt x="14" y="189"/>
                        </a:lnTo>
                        <a:lnTo>
                          <a:pt x="0" y="141"/>
                        </a:lnTo>
                        <a:lnTo>
                          <a:pt x="0" y="110"/>
                        </a:lnTo>
                        <a:lnTo>
                          <a:pt x="0" y="78"/>
                        </a:lnTo>
                        <a:lnTo>
                          <a:pt x="0" y="3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7508880" y="2443320"/>
                  <a:ext cx="14400" cy="142560"/>
                  <a:chOff x="7508880" y="2443320"/>
                  <a:chExt cx="14400" cy="142560"/>
                </a:xfrm>
              </p:grpSpPr>
              <p:sp>
                <p:nvSpPr>
                  <p:cNvPr id="1277" name=""/>
                  <p:cNvSpPr/>
                  <p:nvPr/>
                </p:nvSpPr>
                <p:spPr>
                  <a:xfrm>
                    <a:off x="7508880" y="2443320"/>
                    <a:ext cx="14400" cy="142560"/>
                  </a:xfrm>
                  <a:custGeom>
                    <a:avLst/>
                    <a:gdLst/>
                    <a:ahLst/>
                    <a:rect l="l" t="t" r="r" b="b"/>
                    <a:pathLst>
                      <a:path w="27" h="269">
                        <a:moveTo>
                          <a:pt x="27" y="269"/>
                        </a:moveTo>
                        <a:lnTo>
                          <a:pt x="13" y="221"/>
                        </a:lnTo>
                        <a:lnTo>
                          <a:pt x="13" y="190"/>
                        </a:lnTo>
                        <a:lnTo>
                          <a:pt x="13" y="143"/>
                        </a:lnTo>
                        <a:lnTo>
                          <a:pt x="0" y="94"/>
                        </a:lnTo>
                        <a:lnTo>
                          <a:pt x="0" y="47"/>
                        </a:lnTo>
                        <a:lnTo>
                          <a:pt x="0" y="0"/>
                        </a:lnTo>
                        <a:lnTo>
                          <a:pt x="27" y="26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508880" y="2443320"/>
                    <a:ext cx="14400" cy="142560"/>
                  </a:xfrm>
                  <a:custGeom>
                    <a:avLst/>
                    <a:gdLst/>
                    <a:ahLst/>
                    <a:rect l="l" t="t" r="r" b="b"/>
                    <a:pathLst>
                      <a:path w="27" h="269">
                        <a:moveTo>
                          <a:pt x="27" y="269"/>
                        </a:moveTo>
                        <a:lnTo>
                          <a:pt x="13" y="221"/>
                        </a:lnTo>
                        <a:lnTo>
                          <a:pt x="13" y="190"/>
                        </a:lnTo>
                        <a:lnTo>
                          <a:pt x="13" y="143"/>
                        </a:lnTo>
                        <a:lnTo>
                          <a:pt x="0" y="94"/>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7397640" y="1976400"/>
                  <a:ext cx="111240" cy="466920"/>
                  <a:chOff x="7397640" y="1976400"/>
                  <a:chExt cx="111240" cy="466920"/>
                </a:xfrm>
              </p:grpSpPr>
              <p:sp>
                <p:nvSpPr>
                  <p:cNvPr id="1280" name=""/>
                  <p:cNvSpPr/>
                  <p:nvPr/>
                </p:nvSpPr>
                <p:spPr>
                  <a:xfrm>
                    <a:off x="7397640" y="1976400"/>
                    <a:ext cx="111240" cy="466920"/>
                  </a:xfrm>
                  <a:custGeom>
                    <a:avLst/>
                    <a:gdLst/>
                    <a:ahLst/>
                    <a:rect l="l" t="t" r="r" b="b"/>
                    <a:pathLst>
                      <a:path w="208" h="883">
                        <a:moveTo>
                          <a:pt x="208" y="883"/>
                        </a:moveTo>
                        <a:lnTo>
                          <a:pt x="194" y="851"/>
                        </a:lnTo>
                        <a:lnTo>
                          <a:pt x="194" y="804"/>
                        </a:lnTo>
                        <a:lnTo>
                          <a:pt x="194" y="757"/>
                        </a:lnTo>
                        <a:lnTo>
                          <a:pt x="180" y="725"/>
                        </a:lnTo>
                        <a:lnTo>
                          <a:pt x="180" y="694"/>
                        </a:lnTo>
                        <a:lnTo>
                          <a:pt x="166" y="662"/>
                        </a:lnTo>
                        <a:lnTo>
                          <a:pt x="166" y="615"/>
                        </a:lnTo>
                        <a:lnTo>
                          <a:pt x="152" y="583"/>
                        </a:lnTo>
                        <a:lnTo>
                          <a:pt x="152" y="552"/>
                        </a:lnTo>
                        <a:lnTo>
                          <a:pt x="138" y="521"/>
                        </a:lnTo>
                        <a:lnTo>
                          <a:pt x="138" y="473"/>
                        </a:lnTo>
                        <a:lnTo>
                          <a:pt x="125" y="442"/>
                        </a:lnTo>
                        <a:lnTo>
                          <a:pt x="125" y="410"/>
                        </a:lnTo>
                        <a:lnTo>
                          <a:pt x="111" y="378"/>
                        </a:lnTo>
                        <a:lnTo>
                          <a:pt x="97" y="346"/>
                        </a:lnTo>
                        <a:lnTo>
                          <a:pt x="97" y="299"/>
                        </a:lnTo>
                        <a:lnTo>
                          <a:pt x="83" y="267"/>
                        </a:lnTo>
                        <a:lnTo>
                          <a:pt x="69" y="237"/>
                        </a:lnTo>
                        <a:lnTo>
                          <a:pt x="69" y="205"/>
                        </a:lnTo>
                        <a:lnTo>
                          <a:pt x="55" y="173"/>
                        </a:lnTo>
                        <a:lnTo>
                          <a:pt x="42" y="126"/>
                        </a:lnTo>
                        <a:lnTo>
                          <a:pt x="28" y="94"/>
                        </a:lnTo>
                        <a:lnTo>
                          <a:pt x="28" y="63"/>
                        </a:lnTo>
                        <a:lnTo>
                          <a:pt x="14" y="31"/>
                        </a:lnTo>
                        <a:lnTo>
                          <a:pt x="0" y="0"/>
                        </a:lnTo>
                        <a:lnTo>
                          <a:pt x="208" y="8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397640" y="1976400"/>
                    <a:ext cx="111240" cy="466920"/>
                  </a:xfrm>
                  <a:custGeom>
                    <a:avLst/>
                    <a:gdLst/>
                    <a:ahLst/>
                    <a:rect l="l" t="t" r="r" b="b"/>
                    <a:pathLst>
                      <a:path w="208" h="883">
                        <a:moveTo>
                          <a:pt x="208" y="883"/>
                        </a:moveTo>
                        <a:lnTo>
                          <a:pt x="194" y="851"/>
                        </a:lnTo>
                        <a:lnTo>
                          <a:pt x="194" y="804"/>
                        </a:lnTo>
                        <a:lnTo>
                          <a:pt x="194" y="757"/>
                        </a:lnTo>
                        <a:lnTo>
                          <a:pt x="180" y="725"/>
                        </a:lnTo>
                        <a:lnTo>
                          <a:pt x="180" y="694"/>
                        </a:lnTo>
                        <a:lnTo>
                          <a:pt x="166" y="662"/>
                        </a:lnTo>
                        <a:lnTo>
                          <a:pt x="166" y="615"/>
                        </a:lnTo>
                        <a:lnTo>
                          <a:pt x="152" y="583"/>
                        </a:lnTo>
                        <a:lnTo>
                          <a:pt x="152" y="552"/>
                        </a:lnTo>
                        <a:lnTo>
                          <a:pt x="138" y="521"/>
                        </a:lnTo>
                        <a:lnTo>
                          <a:pt x="138" y="473"/>
                        </a:lnTo>
                        <a:lnTo>
                          <a:pt x="125" y="442"/>
                        </a:lnTo>
                        <a:lnTo>
                          <a:pt x="125" y="410"/>
                        </a:lnTo>
                        <a:lnTo>
                          <a:pt x="111" y="378"/>
                        </a:lnTo>
                        <a:lnTo>
                          <a:pt x="97" y="346"/>
                        </a:lnTo>
                        <a:lnTo>
                          <a:pt x="97" y="299"/>
                        </a:lnTo>
                        <a:lnTo>
                          <a:pt x="83" y="267"/>
                        </a:lnTo>
                        <a:lnTo>
                          <a:pt x="69" y="237"/>
                        </a:lnTo>
                        <a:lnTo>
                          <a:pt x="69" y="205"/>
                        </a:lnTo>
                        <a:lnTo>
                          <a:pt x="55" y="173"/>
                        </a:lnTo>
                        <a:lnTo>
                          <a:pt x="42" y="126"/>
                        </a:lnTo>
                        <a:lnTo>
                          <a:pt x="28" y="94"/>
                        </a:lnTo>
                        <a:lnTo>
                          <a:pt x="28" y="63"/>
                        </a:lnTo>
                        <a:lnTo>
                          <a:pt x="14" y="3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7332840" y="1833480"/>
                  <a:ext cx="64800" cy="142920"/>
                  <a:chOff x="7332840" y="1833480"/>
                  <a:chExt cx="64800" cy="142920"/>
                </a:xfrm>
              </p:grpSpPr>
              <p:sp>
                <p:nvSpPr>
                  <p:cNvPr id="1283" name=""/>
                  <p:cNvSpPr/>
                  <p:nvPr/>
                </p:nvSpPr>
                <p:spPr>
                  <a:xfrm>
                    <a:off x="7332840" y="1833480"/>
                    <a:ext cx="64800" cy="142920"/>
                  </a:xfrm>
                  <a:custGeom>
                    <a:avLst/>
                    <a:gdLst/>
                    <a:ahLst/>
                    <a:rect l="l" t="t" r="r" b="b"/>
                    <a:pathLst>
                      <a:path w="124" h="268">
                        <a:moveTo>
                          <a:pt x="124" y="268"/>
                        </a:moveTo>
                        <a:lnTo>
                          <a:pt x="110" y="220"/>
                        </a:lnTo>
                        <a:lnTo>
                          <a:pt x="96" y="189"/>
                        </a:lnTo>
                        <a:lnTo>
                          <a:pt x="83" y="158"/>
                        </a:lnTo>
                        <a:lnTo>
                          <a:pt x="55" y="111"/>
                        </a:lnTo>
                        <a:lnTo>
                          <a:pt x="41" y="79"/>
                        </a:lnTo>
                        <a:lnTo>
                          <a:pt x="27" y="32"/>
                        </a:lnTo>
                        <a:lnTo>
                          <a:pt x="0" y="0"/>
                        </a:lnTo>
                        <a:lnTo>
                          <a:pt x="124"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332840" y="1833480"/>
                    <a:ext cx="64800" cy="142920"/>
                  </a:xfrm>
                  <a:custGeom>
                    <a:avLst/>
                    <a:gdLst/>
                    <a:ahLst/>
                    <a:rect l="l" t="t" r="r" b="b"/>
                    <a:pathLst>
                      <a:path w="124" h="268">
                        <a:moveTo>
                          <a:pt x="124" y="268"/>
                        </a:moveTo>
                        <a:lnTo>
                          <a:pt x="110" y="220"/>
                        </a:lnTo>
                        <a:lnTo>
                          <a:pt x="96" y="189"/>
                        </a:lnTo>
                        <a:lnTo>
                          <a:pt x="83" y="158"/>
                        </a:lnTo>
                        <a:lnTo>
                          <a:pt x="55" y="111"/>
                        </a:lnTo>
                        <a:lnTo>
                          <a:pt x="41" y="79"/>
                        </a:lnTo>
                        <a:lnTo>
                          <a:pt x="27"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310520" y="1792440"/>
                  <a:ext cx="22320" cy="41040"/>
                  <a:chOff x="7310520" y="1792440"/>
                  <a:chExt cx="22320" cy="41040"/>
                </a:xfrm>
              </p:grpSpPr>
              <p:sp>
                <p:nvSpPr>
                  <p:cNvPr id="1286" name=""/>
                  <p:cNvSpPr/>
                  <p:nvPr/>
                </p:nvSpPr>
                <p:spPr>
                  <a:xfrm>
                    <a:off x="7310520" y="1792440"/>
                    <a:ext cx="22320" cy="41040"/>
                  </a:xfrm>
                  <a:custGeom>
                    <a:avLst/>
                    <a:gdLst/>
                    <a:ahLst/>
                    <a:rect l="l" t="t" r="r" b="b"/>
                    <a:pathLst>
                      <a:path w="42" h="79">
                        <a:moveTo>
                          <a:pt x="42" y="79"/>
                        </a:moveTo>
                        <a:lnTo>
                          <a:pt x="28" y="62"/>
                        </a:lnTo>
                        <a:lnTo>
                          <a:pt x="14" y="32"/>
                        </a:lnTo>
                        <a:lnTo>
                          <a:pt x="0" y="0"/>
                        </a:lnTo>
                        <a:lnTo>
                          <a:pt x="42"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7" name=""/>
                  <p:cNvSpPr/>
                  <p:nvPr/>
                </p:nvSpPr>
                <p:spPr>
                  <a:xfrm>
                    <a:off x="7310520" y="1792440"/>
                    <a:ext cx="22320" cy="41040"/>
                  </a:xfrm>
                  <a:custGeom>
                    <a:avLst/>
                    <a:gdLst/>
                    <a:ahLst/>
                    <a:rect l="l" t="t" r="r" b="b"/>
                    <a:pathLst>
                      <a:path w="42" h="79">
                        <a:moveTo>
                          <a:pt x="42" y="79"/>
                        </a:moveTo>
                        <a:lnTo>
                          <a:pt x="28" y="62"/>
                        </a:lnTo>
                        <a:lnTo>
                          <a:pt x="14" y="32"/>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88" name=""/>
                <p:cNvGrpSpPr/>
                <p:nvPr/>
              </p:nvGrpSpPr>
              <p:grpSpPr>
                <a:xfrm>
                  <a:off x="7296120" y="1774800"/>
                  <a:ext cx="14400" cy="17640"/>
                  <a:chOff x="7296120" y="1774800"/>
                  <a:chExt cx="14400" cy="17640"/>
                </a:xfrm>
              </p:grpSpPr>
              <p:sp>
                <p:nvSpPr>
                  <p:cNvPr id="1289" name=""/>
                  <p:cNvSpPr/>
                  <p:nvPr/>
                </p:nvSpPr>
                <p:spPr>
                  <a:xfrm>
                    <a:off x="7296120" y="1774800"/>
                    <a:ext cx="14400" cy="17640"/>
                  </a:xfrm>
                  <a:custGeom>
                    <a:avLst/>
                    <a:gdLst/>
                    <a:ahLst/>
                    <a:rect l="l" t="t" r="r" b="b"/>
                    <a:pathLst>
                      <a:path w="28" h="32">
                        <a:moveTo>
                          <a:pt x="28" y="32"/>
                        </a:moveTo>
                        <a:lnTo>
                          <a:pt x="14" y="15"/>
                        </a:lnTo>
                        <a:lnTo>
                          <a:pt x="0" y="0"/>
                        </a:lnTo>
                        <a:lnTo>
                          <a:pt x="28"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0" name=""/>
                  <p:cNvSpPr/>
                  <p:nvPr/>
                </p:nvSpPr>
                <p:spPr>
                  <a:xfrm>
                    <a:off x="7296120" y="1774800"/>
                    <a:ext cx="14400" cy="17640"/>
                  </a:xfrm>
                  <a:custGeom>
                    <a:avLst/>
                    <a:gdLst/>
                    <a:ahLst/>
                    <a:rect l="l" t="t" r="r" b="b"/>
                    <a:pathLst>
                      <a:path w="28" h="32">
                        <a:moveTo>
                          <a:pt x="28" y="32"/>
                        </a:moveTo>
                        <a:lnTo>
                          <a:pt x="14"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91" name=""/>
                <p:cNvGrpSpPr/>
                <p:nvPr/>
              </p:nvGrpSpPr>
              <p:grpSpPr>
                <a:xfrm>
                  <a:off x="7391520" y="4003560"/>
                  <a:ext cx="87120" cy="109800"/>
                  <a:chOff x="7391520" y="4003560"/>
                  <a:chExt cx="87120" cy="109800"/>
                </a:xfrm>
              </p:grpSpPr>
              <p:sp>
                <p:nvSpPr>
                  <p:cNvPr id="1292" name=""/>
                  <p:cNvSpPr/>
                  <p:nvPr/>
                </p:nvSpPr>
                <p:spPr>
                  <a:xfrm>
                    <a:off x="7391520" y="4003560"/>
                    <a:ext cx="87120" cy="109800"/>
                  </a:xfrm>
                  <a:custGeom>
                    <a:avLst/>
                    <a:gdLst/>
                    <a:ahLst/>
                    <a:rect l="l" t="t" r="r" b="b"/>
                    <a:pathLst>
                      <a:path w="166" h="205">
                        <a:moveTo>
                          <a:pt x="0" y="205"/>
                        </a:moveTo>
                        <a:lnTo>
                          <a:pt x="28" y="190"/>
                        </a:lnTo>
                        <a:lnTo>
                          <a:pt x="42" y="158"/>
                        </a:lnTo>
                        <a:lnTo>
                          <a:pt x="69" y="126"/>
                        </a:lnTo>
                        <a:lnTo>
                          <a:pt x="97" y="94"/>
                        </a:lnTo>
                        <a:lnTo>
                          <a:pt x="125" y="64"/>
                        </a:lnTo>
                        <a:lnTo>
                          <a:pt x="139" y="32"/>
                        </a:lnTo>
                        <a:lnTo>
                          <a:pt x="166" y="0"/>
                        </a:lnTo>
                        <a:lnTo>
                          <a:pt x="0" y="2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391520" y="4003560"/>
                    <a:ext cx="87120" cy="109800"/>
                  </a:xfrm>
                  <a:custGeom>
                    <a:avLst/>
                    <a:gdLst/>
                    <a:ahLst/>
                    <a:rect l="l" t="t" r="r" b="b"/>
                    <a:pathLst>
                      <a:path w="166" h="205">
                        <a:moveTo>
                          <a:pt x="0" y="205"/>
                        </a:moveTo>
                        <a:lnTo>
                          <a:pt x="28" y="190"/>
                        </a:lnTo>
                        <a:lnTo>
                          <a:pt x="42" y="158"/>
                        </a:lnTo>
                        <a:lnTo>
                          <a:pt x="69" y="126"/>
                        </a:lnTo>
                        <a:lnTo>
                          <a:pt x="97" y="94"/>
                        </a:lnTo>
                        <a:lnTo>
                          <a:pt x="125" y="64"/>
                        </a:lnTo>
                        <a:lnTo>
                          <a:pt x="139" y="32"/>
                        </a:lnTo>
                        <a:lnTo>
                          <a:pt x="1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7478640" y="3854520"/>
                  <a:ext cx="73080" cy="149040"/>
                  <a:chOff x="7478640" y="3854520"/>
                  <a:chExt cx="73080" cy="149040"/>
                </a:xfrm>
              </p:grpSpPr>
              <p:sp>
                <p:nvSpPr>
                  <p:cNvPr id="1295" name=""/>
                  <p:cNvSpPr/>
                  <p:nvPr/>
                </p:nvSpPr>
                <p:spPr>
                  <a:xfrm>
                    <a:off x="7478640" y="3854520"/>
                    <a:ext cx="73080" cy="149040"/>
                  </a:xfrm>
                  <a:custGeom>
                    <a:avLst/>
                    <a:gdLst/>
                    <a:ahLst/>
                    <a:rect l="l" t="t" r="r" b="b"/>
                    <a:pathLst>
                      <a:path w="139" h="284">
                        <a:moveTo>
                          <a:pt x="0" y="284"/>
                        </a:moveTo>
                        <a:lnTo>
                          <a:pt x="14" y="252"/>
                        </a:lnTo>
                        <a:lnTo>
                          <a:pt x="42" y="220"/>
                        </a:lnTo>
                        <a:lnTo>
                          <a:pt x="56" y="173"/>
                        </a:lnTo>
                        <a:lnTo>
                          <a:pt x="69" y="142"/>
                        </a:lnTo>
                        <a:lnTo>
                          <a:pt x="83" y="111"/>
                        </a:lnTo>
                        <a:lnTo>
                          <a:pt x="111" y="63"/>
                        </a:lnTo>
                        <a:lnTo>
                          <a:pt x="125" y="32"/>
                        </a:lnTo>
                        <a:lnTo>
                          <a:pt x="139" y="0"/>
                        </a:lnTo>
                        <a:lnTo>
                          <a:pt x="0" y="28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478640" y="3854520"/>
                    <a:ext cx="73080" cy="149040"/>
                  </a:xfrm>
                  <a:custGeom>
                    <a:avLst/>
                    <a:gdLst/>
                    <a:ahLst/>
                    <a:rect l="l" t="t" r="r" b="b"/>
                    <a:pathLst>
                      <a:path w="139" h="284">
                        <a:moveTo>
                          <a:pt x="0" y="284"/>
                        </a:moveTo>
                        <a:lnTo>
                          <a:pt x="14" y="252"/>
                        </a:lnTo>
                        <a:lnTo>
                          <a:pt x="42" y="220"/>
                        </a:lnTo>
                        <a:lnTo>
                          <a:pt x="56" y="173"/>
                        </a:lnTo>
                        <a:lnTo>
                          <a:pt x="69" y="142"/>
                        </a:lnTo>
                        <a:lnTo>
                          <a:pt x="83" y="111"/>
                        </a:lnTo>
                        <a:lnTo>
                          <a:pt x="111" y="63"/>
                        </a:lnTo>
                        <a:lnTo>
                          <a:pt x="125" y="32"/>
                        </a:lnTo>
                        <a:lnTo>
                          <a:pt x="13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551720" y="3419640"/>
                  <a:ext cx="117360" cy="434880"/>
                  <a:chOff x="7551720" y="3419640"/>
                  <a:chExt cx="117360" cy="434880"/>
                </a:xfrm>
              </p:grpSpPr>
              <p:sp>
                <p:nvSpPr>
                  <p:cNvPr id="1298" name=""/>
                  <p:cNvSpPr/>
                  <p:nvPr/>
                </p:nvSpPr>
                <p:spPr>
                  <a:xfrm>
                    <a:off x="7551720" y="3419640"/>
                    <a:ext cx="117360" cy="434880"/>
                  </a:xfrm>
                  <a:custGeom>
                    <a:avLst/>
                    <a:gdLst/>
                    <a:ahLst/>
                    <a:rect l="l" t="t" r="r" b="b"/>
                    <a:pathLst>
                      <a:path w="222" h="820">
                        <a:moveTo>
                          <a:pt x="0" y="820"/>
                        </a:moveTo>
                        <a:lnTo>
                          <a:pt x="13" y="789"/>
                        </a:lnTo>
                        <a:lnTo>
                          <a:pt x="27" y="742"/>
                        </a:lnTo>
                        <a:lnTo>
                          <a:pt x="41" y="710"/>
                        </a:lnTo>
                        <a:lnTo>
                          <a:pt x="41" y="678"/>
                        </a:lnTo>
                        <a:lnTo>
                          <a:pt x="55" y="646"/>
                        </a:lnTo>
                        <a:lnTo>
                          <a:pt x="69" y="616"/>
                        </a:lnTo>
                        <a:lnTo>
                          <a:pt x="83" y="584"/>
                        </a:lnTo>
                        <a:lnTo>
                          <a:pt x="96" y="552"/>
                        </a:lnTo>
                        <a:lnTo>
                          <a:pt x="110" y="520"/>
                        </a:lnTo>
                        <a:lnTo>
                          <a:pt x="110" y="488"/>
                        </a:lnTo>
                        <a:lnTo>
                          <a:pt x="124" y="441"/>
                        </a:lnTo>
                        <a:lnTo>
                          <a:pt x="138" y="409"/>
                        </a:lnTo>
                        <a:lnTo>
                          <a:pt x="138" y="379"/>
                        </a:lnTo>
                        <a:lnTo>
                          <a:pt x="152" y="347"/>
                        </a:lnTo>
                        <a:lnTo>
                          <a:pt x="166" y="315"/>
                        </a:lnTo>
                        <a:lnTo>
                          <a:pt x="166" y="284"/>
                        </a:lnTo>
                        <a:lnTo>
                          <a:pt x="179" y="237"/>
                        </a:lnTo>
                        <a:lnTo>
                          <a:pt x="193" y="205"/>
                        </a:lnTo>
                        <a:lnTo>
                          <a:pt x="193" y="173"/>
                        </a:lnTo>
                        <a:lnTo>
                          <a:pt x="208" y="142"/>
                        </a:lnTo>
                        <a:lnTo>
                          <a:pt x="208" y="111"/>
                        </a:lnTo>
                        <a:lnTo>
                          <a:pt x="208" y="64"/>
                        </a:lnTo>
                        <a:lnTo>
                          <a:pt x="222" y="32"/>
                        </a:lnTo>
                        <a:lnTo>
                          <a:pt x="222" y="0"/>
                        </a:lnTo>
                        <a:lnTo>
                          <a:pt x="0" y="82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7551720" y="3419640"/>
                    <a:ext cx="117360" cy="434880"/>
                  </a:xfrm>
                  <a:custGeom>
                    <a:avLst/>
                    <a:gdLst/>
                    <a:ahLst/>
                    <a:rect l="l" t="t" r="r" b="b"/>
                    <a:pathLst>
                      <a:path w="222" h="820">
                        <a:moveTo>
                          <a:pt x="0" y="820"/>
                        </a:moveTo>
                        <a:lnTo>
                          <a:pt x="13" y="789"/>
                        </a:lnTo>
                        <a:lnTo>
                          <a:pt x="27" y="742"/>
                        </a:lnTo>
                        <a:lnTo>
                          <a:pt x="41" y="710"/>
                        </a:lnTo>
                        <a:lnTo>
                          <a:pt x="41" y="678"/>
                        </a:lnTo>
                        <a:lnTo>
                          <a:pt x="55" y="646"/>
                        </a:lnTo>
                        <a:lnTo>
                          <a:pt x="69" y="616"/>
                        </a:lnTo>
                        <a:lnTo>
                          <a:pt x="83" y="584"/>
                        </a:lnTo>
                        <a:lnTo>
                          <a:pt x="96" y="552"/>
                        </a:lnTo>
                        <a:lnTo>
                          <a:pt x="110" y="520"/>
                        </a:lnTo>
                        <a:lnTo>
                          <a:pt x="110" y="488"/>
                        </a:lnTo>
                        <a:lnTo>
                          <a:pt x="124" y="441"/>
                        </a:lnTo>
                        <a:lnTo>
                          <a:pt x="138" y="409"/>
                        </a:lnTo>
                        <a:lnTo>
                          <a:pt x="138" y="379"/>
                        </a:lnTo>
                        <a:lnTo>
                          <a:pt x="152" y="347"/>
                        </a:lnTo>
                        <a:lnTo>
                          <a:pt x="166" y="315"/>
                        </a:lnTo>
                        <a:lnTo>
                          <a:pt x="166" y="284"/>
                        </a:lnTo>
                        <a:lnTo>
                          <a:pt x="179" y="237"/>
                        </a:lnTo>
                        <a:lnTo>
                          <a:pt x="193" y="205"/>
                        </a:lnTo>
                        <a:lnTo>
                          <a:pt x="193" y="173"/>
                        </a:lnTo>
                        <a:lnTo>
                          <a:pt x="208" y="142"/>
                        </a:lnTo>
                        <a:lnTo>
                          <a:pt x="208" y="111"/>
                        </a:lnTo>
                        <a:lnTo>
                          <a:pt x="208" y="64"/>
                        </a:lnTo>
                        <a:lnTo>
                          <a:pt x="222" y="32"/>
                        </a:lnTo>
                        <a:lnTo>
                          <a:pt x="2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669080" y="3135240"/>
                  <a:ext cx="30240" cy="284400"/>
                  <a:chOff x="7669080" y="3135240"/>
                  <a:chExt cx="30240" cy="284400"/>
                </a:xfrm>
              </p:grpSpPr>
              <p:sp>
                <p:nvSpPr>
                  <p:cNvPr id="1301" name=""/>
                  <p:cNvSpPr/>
                  <p:nvPr/>
                </p:nvSpPr>
                <p:spPr>
                  <a:xfrm>
                    <a:off x="7669080" y="3135240"/>
                    <a:ext cx="30240" cy="284400"/>
                  </a:xfrm>
                  <a:custGeom>
                    <a:avLst/>
                    <a:gdLst/>
                    <a:ahLst/>
                    <a:rect l="l" t="t" r="r" b="b"/>
                    <a:pathLst>
                      <a:path w="56" h="537">
                        <a:moveTo>
                          <a:pt x="0" y="537"/>
                        </a:moveTo>
                        <a:lnTo>
                          <a:pt x="14" y="505"/>
                        </a:lnTo>
                        <a:lnTo>
                          <a:pt x="14" y="458"/>
                        </a:lnTo>
                        <a:lnTo>
                          <a:pt x="14" y="426"/>
                        </a:lnTo>
                        <a:lnTo>
                          <a:pt x="28" y="379"/>
                        </a:lnTo>
                        <a:lnTo>
                          <a:pt x="28" y="347"/>
                        </a:lnTo>
                        <a:lnTo>
                          <a:pt x="28" y="300"/>
                        </a:lnTo>
                        <a:lnTo>
                          <a:pt x="42" y="268"/>
                        </a:lnTo>
                        <a:lnTo>
                          <a:pt x="42" y="221"/>
                        </a:lnTo>
                        <a:lnTo>
                          <a:pt x="42" y="190"/>
                        </a:lnTo>
                        <a:lnTo>
                          <a:pt x="56" y="158"/>
                        </a:lnTo>
                        <a:lnTo>
                          <a:pt x="56" y="111"/>
                        </a:lnTo>
                        <a:lnTo>
                          <a:pt x="56" y="79"/>
                        </a:lnTo>
                        <a:lnTo>
                          <a:pt x="56" y="32"/>
                        </a:lnTo>
                        <a:lnTo>
                          <a:pt x="56" y="0"/>
                        </a:lnTo>
                        <a:lnTo>
                          <a:pt x="0" y="5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669080" y="3135240"/>
                    <a:ext cx="30240" cy="284400"/>
                  </a:xfrm>
                  <a:custGeom>
                    <a:avLst/>
                    <a:gdLst/>
                    <a:ahLst/>
                    <a:rect l="l" t="t" r="r" b="b"/>
                    <a:pathLst>
                      <a:path w="56" h="537">
                        <a:moveTo>
                          <a:pt x="0" y="537"/>
                        </a:moveTo>
                        <a:lnTo>
                          <a:pt x="14" y="505"/>
                        </a:lnTo>
                        <a:lnTo>
                          <a:pt x="14" y="458"/>
                        </a:lnTo>
                        <a:lnTo>
                          <a:pt x="14" y="426"/>
                        </a:lnTo>
                        <a:lnTo>
                          <a:pt x="28" y="379"/>
                        </a:lnTo>
                        <a:lnTo>
                          <a:pt x="28" y="347"/>
                        </a:lnTo>
                        <a:lnTo>
                          <a:pt x="28" y="300"/>
                        </a:lnTo>
                        <a:lnTo>
                          <a:pt x="42" y="268"/>
                        </a:lnTo>
                        <a:lnTo>
                          <a:pt x="42" y="221"/>
                        </a:lnTo>
                        <a:lnTo>
                          <a:pt x="42" y="190"/>
                        </a:lnTo>
                        <a:lnTo>
                          <a:pt x="56" y="158"/>
                        </a:lnTo>
                        <a:lnTo>
                          <a:pt x="56" y="111"/>
                        </a:lnTo>
                        <a:lnTo>
                          <a:pt x="56" y="79"/>
                        </a:lnTo>
                        <a:lnTo>
                          <a:pt x="56" y="32"/>
                        </a:lnTo>
                        <a:lnTo>
                          <a:pt x="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7699320" y="2727360"/>
                  <a:ext cx="1800" cy="407880"/>
                  <a:chOff x="7699320" y="2727360"/>
                  <a:chExt cx="1800" cy="407880"/>
                </a:xfrm>
              </p:grpSpPr>
              <p:sp>
                <p:nvSpPr>
                  <p:cNvPr id="1304" name=""/>
                  <p:cNvSpPr/>
                  <p:nvPr/>
                </p:nvSpPr>
                <p:spPr>
                  <a:xfrm>
                    <a:off x="7699320" y="2727360"/>
                    <a:ext cx="1800" cy="407880"/>
                  </a:xfrm>
                  <a:custGeom>
                    <a:avLst/>
                    <a:gdLst/>
                    <a:ahLst/>
                    <a:rect l="l" t="t" r="r" b="b"/>
                    <a:pathLst>
                      <a:path w="0" h="772">
                        <a:moveTo>
                          <a:pt x="0" y="772"/>
                        </a:moveTo>
                        <a:lnTo>
                          <a:pt x="0" y="742"/>
                        </a:lnTo>
                        <a:lnTo>
                          <a:pt x="0" y="693"/>
                        </a:lnTo>
                        <a:lnTo>
                          <a:pt x="0" y="663"/>
                        </a:lnTo>
                        <a:lnTo>
                          <a:pt x="0" y="631"/>
                        </a:lnTo>
                        <a:lnTo>
                          <a:pt x="0" y="584"/>
                        </a:lnTo>
                        <a:lnTo>
                          <a:pt x="0" y="552"/>
                        </a:lnTo>
                        <a:lnTo>
                          <a:pt x="0" y="520"/>
                        </a:lnTo>
                        <a:lnTo>
                          <a:pt x="0" y="473"/>
                        </a:lnTo>
                        <a:lnTo>
                          <a:pt x="0" y="441"/>
                        </a:lnTo>
                        <a:lnTo>
                          <a:pt x="0" y="410"/>
                        </a:lnTo>
                        <a:lnTo>
                          <a:pt x="0" y="362"/>
                        </a:lnTo>
                        <a:lnTo>
                          <a:pt x="0" y="331"/>
                        </a:lnTo>
                        <a:lnTo>
                          <a:pt x="0" y="299"/>
                        </a:lnTo>
                        <a:lnTo>
                          <a:pt x="0" y="252"/>
                        </a:lnTo>
                        <a:lnTo>
                          <a:pt x="0" y="220"/>
                        </a:lnTo>
                        <a:lnTo>
                          <a:pt x="0" y="188"/>
                        </a:lnTo>
                        <a:lnTo>
                          <a:pt x="0" y="141"/>
                        </a:lnTo>
                        <a:lnTo>
                          <a:pt x="0" y="109"/>
                        </a:lnTo>
                        <a:lnTo>
                          <a:pt x="0" y="79"/>
                        </a:lnTo>
                        <a:lnTo>
                          <a:pt x="0" y="47"/>
                        </a:lnTo>
                        <a:lnTo>
                          <a:pt x="0" y="0"/>
                        </a:lnTo>
                        <a:lnTo>
                          <a:pt x="0" y="77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699320" y="2727360"/>
                    <a:ext cx="1800" cy="407880"/>
                  </a:xfrm>
                  <a:custGeom>
                    <a:avLst/>
                    <a:gdLst/>
                    <a:ahLst/>
                    <a:rect l="l" t="t" r="r" b="b"/>
                    <a:pathLst>
                      <a:path w="0" h="772">
                        <a:moveTo>
                          <a:pt x="0" y="772"/>
                        </a:moveTo>
                        <a:lnTo>
                          <a:pt x="0" y="742"/>
                        </a:lnTo>
                        <a:lnTo>
                          <a:pt x="0" y="693"/>
                        </a:lnTo>
                        <a:lnTo>
                          <a:pt x="0" y="663"/>
                        </a:lnTo>
                        <a:lnTo>
                          <a:pt x="0" y="631"/>
                        </a:lnTo>
                        <a:lnTo>
                          <a:pt x="0" y="584"/>
                        </a:lnTo>
                        <a:lnTo>
                          <a:pt x="0" y="552"/>
                        </a:lnTo>
                        <a:lnTo>
                          <a:pt x="0" y="520"/>
                        </a:lnTo>
                        <a:lnTo>
                          <a:pt x="0" y="473"/>
                        </a:lnTo>
                        <a:lnTo>
                          <a:pt x="0" y="441"/>
                        </a:lnTo>
                        <a:lnTo>
                          <a:pt x="0" y="410"/>
                        </a:lnTo>
                        <a:lnTo>
                          <a:pt x="0" y="362"/>
                        </a:lnTo>
                        <a:lnTo>
                          <a:pt x="0" y="331"/>
                        </a:lnTo>
                        <a:lnTo>
                          <a:pt x="0" y="299"/>
                        </a:lnTo>
                        <a:lnTo>
                          <a:pt x="0" y="252"/>
                        </a:lnTo>
                        <a:lnTo>
                          <a:pt x="0" y="220"/>
                        </a:lnTo>
                        <a:lnTo>
                          <a:pt x="0" y="188"/>
                        </a:lnTo>
                        <a:lnTo>
                          <a:pt x="0" y="141"/>
                        </a:lnTo>
                        <a:lnTo>
                          <a:pt x="0" y="109"/>
                        </a:lnTo>
                        <a:lnTo>
                          <a:pt x="0" y="79"/>
                        </a:lnTo>
                        <a:lnTo>
                          <a:pt x="0"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7662960" y="2443320"/>
                  <a:ext cx="36360" cy="284040"/>
                  <a:chOff x="7662960" y="2443320"/>
                  <a:chExt cx="36360" cy="284040"/>
                </a:xfrm>
              </p:grpSpPr>
              <p:sp>
                <p:nvSpPr>
                  <p:cNvPr id="1307" name=""/>
                  <p:cNvSpPr/>
                  <p:nvPr/>
                </p:nvSpPr>
                <p:spPr>
                  <a:xfrm>
                    <a:off x="7662960" y="2443320"/>
                    <a:ext cx="36360" cy="284040"/>
                  </a:xfrm>
                  <a:custGeom>
                    <a:avLst/>
                    <a:gdLst/>
                    <a:ahLst/>
                    <a:rect l="l" t="t" r="r" b="b"/>
                    <a:pathLst>
                      <a:path w="70" h="537">
                        <a:moveTo>
                          <a:pt x="70" y="537"/>
                        </a:moveTo>
                        <a:lnTo>
                          <a:pt x="56" y="505"/>
                        </a:lnTo>
                        <a:lnTo>
                          <a:pt x="56" y="458"/>
                        </a:lnTo>
                        <a:lnTo>
                          <a:pt x="56" y="426"/>
                        </a:lnTo>
                        <a:lnTo>
                          <a:pt x="56" y="379"/>
                        </a:lnTo>
                        <a:lnTo>
                          <a:pt x="42" y="347"/>
                        </a:lnTo>
                        <a:lnTo>
                          <a:pt x="42" y="316"/>
                        </a:lnTo>
                        <a:lnTo>
                          <a:pt x="42" y="269"/>
                        </a:lnTo>
                        <a:lnTo>
                          <a:pt x="28" y="237"/>
                        </a:lnTo>
                        <a:lnTo>
                          <a:pt x="28" y="190"/>
                        </a:lnTo>
                        <a:lnTo>
                          <a:pt x="28" y="158"/>
                        </a:lnTo>
                        <a:lnTo>
                          <a:pt x="14" y="111"/>
                        </a:lnTo>
                        <a:lnTo>
                          <a:pt x="14" y="79"/>
                        </a:lnTo>
                        <a:lnTo>
                          <a:pt x="14" y="47"/>
                        </a:lnTo>
                        <a:lnTo>
                          <a:pt x="0" y="0"/>
                        </a:lnTo>
                        <a:lnTo>
                          <a:pt x="70" y="5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662960" y="2443320"/>
                    <a:ext cx="36360" cy="284040"/>
                  </a:xfrm>
                  <a:custGeom>
                    <a:avLst/>
                    <a:gdLst/>
                    <a:ahLst/>
                    <a:rect l="l" t="t" r="r" b="b"/>
                    <a:pathLst>
                      <a:path w="70" h="537">
                        <a:moveTo>
                          <a:pt x="70" y="537"/>
                        </a:moveTo>
                        <a:lnTo>
                          <a:pt x="56" y="505"/>
                        </a:lnTo>
                        <a:lnTo>
                          <a:pt x="56" y="458"/>
                        </a:lnTo>
                        <a:lnTo>
                          <a:pt x="56" y="426"/>
                        </a:lnTo>
                        <a:lnTo>
                          <a:pt x="56" y="379"/>
                        </a:lnTo>
                        <a:lnTo>
                          <a:pt x="42" y="347"/>
                        </a:lnTo>
                        <a:lnTo>
                          <a:pt x="42" y="316"/>
                        </a:lnTo>
                        <a:lnTo>
                          <a:pt x="42" y="269"/>
                        </a:lnTo>
                        <a:lnTo>
                          <a:pt x="28" y="237"/>
                        </a:lnTo>
                        <a:lnTo>
                          <a:pt x="28" y="190"/>
                        </a:lnTo>
                        <a:lnTo>
                          <a:pt x="28" y="158"/>
                        </a:lnTo>
                        <a:lnTo>
                          <a:pt x="14" y="111"/>
                        </a:lnTo>
                        <a:lnTo>
                          <a:pt x="14" y="79"/>
                        </a:lnTo>
                        <a:lnTo>
                          <a:pt x="14"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7523280" y="1976400"/>
                  <a:ext cx="139680" cy="466920"/>
                  <a:chOff x="7523280" y="1976400"/>
                  <a:chExt cx="139680" cy="466920"/>
                </a:xfrm>
              </p:grpSpPr>
              <p:sp>
                <p:nvSpPr>
                  <p:cNvPr id="1310" name=""/>
                  <p:cNvSpPr/>
                  <p:nvPr/>
                </p:nvSpPr>
                <p:spPr>
                  <a:xfrm>
                    <a:off x="7523280" y="1976400"/>
                    <a:ext cx="139680" cy="466920"/>
                  </a:xfrm>
                  <a:custGeom>
                    <a:avLst/>
                    <a:gdLst/>
                    <a:ahLst/>
                    <a:rect l="l" t="t" r="r" b="b"/>
                    <a:pathLst>
                      <a:path w="264" h="883">
                        <a:moveTo>
                          <a:pt x="264" y="883"/>
                        </a:moveTo>
                        <a:lnTo>
                          <a:pt x="264" y="851"/>
                        </a:lnTo>
                        <a:lnTo>
                          <a:pt x="249" y="804"/>
                        </a:lnTo>
                        <a:lnTo>
                          <a:pt x="249" y="772"/>
                        </a:lnTo>
                        <a:lnTo>
                          <a:pt x="235" y="725"/>
                        </a:lnTo>
                        <a:lnTo>
                          <a:pt x="235" y="694"/>
                        </a:lnTo>
                        <a:lnTo>
                          <a:pt x="222" y="662"/>
                        </a:lnTo>
                        <a:lnTo>
                          <a:pt x="222" y="631"/>
                        </a:lnTo>
                        <a:lnTo>
                          <a:pt x="208" y="599"/>
                        </a:lnTo>
                        <a:lnTo>
                          <a:pt x="194" y="552"/>
                        </a:lnTo>
                        <a:lnTo>
                          <a:pt x="194" y="521"/>
                        </a:lnTo>
                        <a:lnTo>
                          <a:pt x="180" y="489"/>
                        </a:lnTo>
                        <a:lnTo>
                          <a:pt x="166" y="457"/>
                        </a:lnTo>
                        <a:lnTo>
                          <a:pt x="166" y="425"/>
                        </a:lnTo>
                        <a:lnTo>
                          <a:pt x="152" y="395"/>
                        </a:lnTo>
                        <a:lnTo>
                          <a:pt x="139" y="363"/>
                        </a:lnTo>
                        <a:lnTo>
                          <a:pt x="125" y="316"/>
                        </a:lnTo>
                        <a:lnTo>
                          <a:pt x="111" y="284"/>
                        </a:lnTo>
                        <a:lnTo>
                          <a:pt x="97" y="252"/>
                        </a:lnTo>
                        <a:lnTo>
                          <a:pt x="83" y="220"/>
                        </a:lnTo>
                        <a:lnTo>
                          <a:pt x="83" y="188"/>
                        </a:lnTo>
                        <a:lnTo>
                          <a:pt x="69" y="158"/>
                        </a:lnTo>
                        <a:lnTo>
                          <a:pt x="56" y="126"/>
                        </a:lnTo>
                        <a:lnTo>
                          <a:pt x="42" y="94"/>
                        </a:lnTo>
                        <a:lnTo>
                          <a:pt x="28" y="63"/>
                        </a:lnTo>
                        <a:lnTo>
                          <a:pt x="14" y="31"/>
                        </a:lnTo>
                        <a:lnTo>
                          <a:pt x="0" y="0"/>
                        </a:lnTo>
                        <a:lnTo>
                          <a:pt x="264" y="8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23280" y="1976400"/>
                    <a:ext cx="139680" cy="466920"/>
                  </a:xfrm>
                  <a:custGeom>
                    <a:avLst/>
                    <a:gdLst/>
                    <a:ahLst/>
                    <a:rect l="l" t="t" r="r" b="b"/>
                    <a:pathLst>
                      <a:path w="264" h="883">
                        <a:moveTo>
                          <a:pt x="264" y="883"/>
                        </a:moveTo>
                        <a:lnTo>
                          <a:pt x="264" y="851"/>
                        </a:lnTo>
                        <a:lnTo>
                          <a:pt x="249" y="804"/>
                        </a:lnTo>
                        <a:lnTo>
                          <a:pt x="249" y="772"/>
                        </a:lnTo>
                        <a:lnTo>
                          <a:pt x="235" y="725"/>
                        </a:lnTo>
                        <a:lnTo>
                          <a:pt x="235" y="694"/>
                        </a:lnTo>
                        <a:lnTo>
                          <a:pt x="222" y="662"/>
                        </a:lnTo>
                        <a:lnTo>
                          <a:pt x="222" y="631"/>
                        </a:lnTo>
                        <a:lnTo>
                          <a:pt x="208" y="599"/>
                        </a:lnTo>
                        <a:lnTo>
                          <a:pt x="194" y="552"/>
                        </a:lnTo>
                        <a:lnTo>
                          <a:pt x="194" y="521"/>
                        </a:lnTo>
                        <a:lnTo>
                          <a:pt x="180" y="489"/>
                        </a:lnTo>
                        <a:lnTo>
                          <a:pt x="166" y="457"/>
                        </a:lnTo>
                        <a:lnTo>
                          <a:pt x="166" y="425"/>
                        </a:lnTo>
                        <a:lnTo>
                          <a:pt x="152" y="395"/>
                        </a:lnTo>
                        <a:lnTo>
                          <a:pt x="139" y="363"/>
                        </a:lnTo>
                        <a:lnTo>
                          <a:pt x="125" y="316"/>
                        </a:lnTo>
                        <a:lnTo>
                          <a:pt x="111" y="284"/>
                        </a:lnTo>
                        <a:lnTo>
                          <a:pt x="97" y="252"/>
                        </a:lnTo>
                        <a:lnTo>
                          <a:pt x="83" y="220"/>
                        </a:lnTo>
                        <a:lnTo>
                          <a:pt x="83" y="188"/>
                        </a:lnTo>
                        <a:lnTo>
                          <a:pt x="69" y="158"/>
                        </a:lnTo>
                        <a:lnTo>
                          <a:pt x="56" y="126"/>
                        </a:lnTo>
                        <a:lnTo>
                          <a:pt x="42" y="94"/>
                        </a:lnTo>
                        <a:lnTo>
                          <a:pt x="28" y="63"/>
                        </a:lnTo>
                        <a:lnTo>
                          <a:pt x="14" y="3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7434360" y="1833480"/>
                  <a:ext cx="88920" cy="142920"/>
                  <a:chOff x="7434360" y="1833480"/>
                  <a:chExt cx="88920" cy="142920"/>
                </a:xfrm>
              </p:grpSpPr>
              <p:sp>
                <p:nvSpPr>
                  <p:cNvPr id="1313" name=""/>
                  <p:cNvSpPr/>
                  <p:nvPr/>
                </p:nvSpPr>
                <p:spPr>
                  <a:xfrm>
                    <a:off x="7434360" y="1833480"/>
                    <a:ext cx="88920" cy="142920"/>
                  </a:xfrm>
                  <a:custGeom>
                    <a:avLst/>
                    <a:gdLst/>
                    <a:ahLst/>
                    <a:rect l="l" t="t" r="r" b="b"/>
                    <a:pathLst>
                      <a:path w="166" h="268">
                        <a:moveTo>
                          <a:pt x="166" y="268"/>
                        </a:moveTo>
                        <a:lnTo>
                          <a:pt x="139" y="236"/>
                        </a:lnTo>
                        <a:lnTo>
                          <a:pt x="125" y="189"/>
                        </a:lnTo>
                        <a:lnTo>
                          <a:pt x="111" y="158"/>
                        </a:lnTo>
                        <a:lnTo>
                          <a:pt x="83" y="126"/>
                        </a:lnTo>
                        <a:lnTo>
                          <a:pt x="69" y="94"/>
                        </a:lnTo>
                        <a:lnTo>
                          <a:pt x="56" y="62"/>
                        </a:lnTo>
                        <a:lnTo>
                          <a:pt x="28" y="32"/>
                        </a:lnTo>
                        <a:lnTo>
                          <a:pt x="0" y="0"/>
                        </a:lnTo>
                        <a:lnTo>
                          <a:pt x="166" y="26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434360" y="1833480"/>
                    <a:ext cx="88920" cy="142920"/>
                  </a:xfrm>
                  <a:custGeom>
                    <a:avLst/>
                    <a:gdLst/>
                    <a:ahLst/>
                    <a:rect l="l" t="t" r="r" b="b"/>
                    <a:pathLst>
                      <a:path w="166" h="268">
                        <a:moveTo>
                          <a:pt x="166" y="268"/>
                        </a:moveTo>
                        <a:lnTo>
                          <a:pt x="139" y="236"/>
                        </a:lnTo>
                        <a:lnTo>
                          <a:pt x="125" y="189"/>
                        </a:lnTo>
                        <a:lnTo>
                          <a:pt x="111" y="158"/>
                        </a:lnTo>
                        <a:lnTo>
                          <a:pt x="83" y="126"/>
                        </a:lnTo>
                        <a:lnTo>
                          <a:pt x="69" y="94"/>
                        </a:lnTo>
                        <a:lnTo>
                          <a:pt x="56" y="62"/>
                        </a:lnTo>
                        <a:lnTo>
                          <a:pt x="28"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405560" y="1792440"/>
                  <a:ext cx="28800" cy="41040"/>
                  <a:chOff x="7405560" y="1792440"/>
                  <a:chExt cx="28800" cy="41040"/>
                </a:xfrm>
              </p:grpSpPr>
              <p:sp>
                <p:nvSpPr>
                  <p:cNvPr id="1316" name=""/>
                  <p:cNvSpPr/>
                  <p:nvPr/>
                </p:nvSpPr>
                <p:spPr>
                  <a:xfrm>
                    <a:off x="7405560" y="1792440"/>
                    <a:ext cx="28800" cy="41040"/>
                  </a:xfrm>
                  <a:custGeom>
                    <a:avLst/>
                    <a:gdLst/>
                    <a:ahLst/>
                    <a:rect l="l" t="t" r="r" b="b"/>
                    <a:pathLst>
                      <a:path w="55" h="79">
                        <a:moveTo>
                          <a:pt x="55" y="79"/>
                        </a:moveTo>
                        <a:lnTo>
                          <a:pt x="41" y="47"/>
                        </a:lnTo>
                        <a:lnTo>
                          <a:pt x="14" y="32"/>
                        </a:lnTo>
                        <a:lnTo>
                          <a:pt x="0" y="0"/>
                        </a:lnTo>
                        <a:lnTo>
                          <a:pt x="55"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7" name=""/>
                  <p:cNvSpPr/>
                  <p:nvPr/>
                </p:nvSpPr>
                <p:spPr>
                  <a:xfrm>
                    <a:off x="7405560" y="1792440"/>
                    <a:ext cx="28800" cy="41040"/>
                  </a:xfrm>
                  <a:custGeom>
                    <a:avLst/>
                    <a:gdLst/>
                    <a:ahLst/>
                    <a:rect l="l" t="t" r="r" b="b"/>
                    <a:pathLst>
                      <a:path w="55" h="79">
                        <a:moveTo>
                          <a:pt x="55" y="79"/>
                        </a:moveTo>
                        <a:lnTo>
                          <a:pt x="41" y="47"/>
                        </a:lnTo>
                        <a:lnTo>
                          <a:pt x="14" y="32"/>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318" name=""/>
                <p:cNvGrpSpPr/>
                <p:nvPr/>
              </p:nvGrpSpPr>
              <p:grpSpPr>
                <a:xfrm>
                  <a:off x="7391520" y="1774800"/>
                  <a:ext cx="14040" cy="17640"/>
                  <a:chOff x="7391520" y="1774800"/>
                  <a:chExt cx="14040" cy="17640"/>
                </a:xfrm>
              </p:grpSpPr>
              <p:sp>
                <p:nvSpPr>
                  <p:cNvPr id="1319" name=""/>
                  <p:cNvSpPr/>
                  <p:nvPr/>
                </p:nvSpPr>
                <p:spPr>
                  <a:xfrm>
                    <a:off x="7391520" y="1774800"/>
                    <a:ext cx="14040" cy="17640"/>
                  </a:xfrm>
                  <a:custGeom>
                    <a:avLst/>
                    <a:gdLst/>
                    <a:ahLst/>
                    <a:rect l="l" t="t" r="r" b="b"/>
                    <a:pathLst>
                      <a:path w="28" h="32">
                        <a:moveTo>
                          <a:pt x="28" y="32"/>
                        </a:moveTo>
                        <a:lnTo>
                          <a:pt x="14" y="15"/>
                        </a:lnTo>
                        <a:lnTo>
                          <a:pt x="0" y="15"/>
                        </a:lnTo>
                        <a:lnTo>
                          <a:pt x="0" y="0"/>
                        </a:lnTo>
                        <a:lnTo>
                          <a:pt x="28"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0" name=""/>
                  <p:cNvSpPr/>
                  <p:nvPr/>
                </p:nvSpPr>
                <p:spPr>
                  <a:xfrm>
                    <a:off x="7391520" y="1774800"/>
                    <a:ext cx="14040" cy="17640"/>
                  </a:xfrm>
                  <a:custGeom>
                    <a:avLst/>
                    <a:gdLst/>
                    <a:ahLst/>
                    <a:rect l="l" t="t" r="r" b="b"/>
                    <a:pathLst>
                      <a:path w="28" h="32">
                        <a:moveTo>
                          <a:pt x="28" y="32"/>
                        </a:moveTo>
                        <a:lnTo>
                          <a:pt x="14" y="15"/>
                        </a:lnTo>
                        <a:lnTo>
                          <a:pt x="0"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21" name=""/>
                <p:cNvGrpSpPr/>
                <p:nvPr/>
              </p:nvGrpSpPr>
              <p:grpSpPr>
                <a:xfrm>
                  <a:off x="7478640" y="4003560"/>
                  <a:ext cx="109440" cy="109800"/>
                  <a:chOff x="7478640" y="4003560"/>
                  <a:chExt cx="109440" cy="109800"/>
                </a:xfrm>
              </p:grpSpPr>
              <p:sp>
                <p:nvSpPr>
                  <p:cNvPr id="1322" name=""/>
                  <p:cNvSpPr/>
                  <p:nvPr/>
                </p:nvSpPr>
                <p:spPr>
                  <a:xfrm>
                    <a:off x="7478640" y="4003560"/>
                    <a:ext cx="109440" cy="109800"/>
                  </a:xfrm>
                  <a:custGeom>
                    <a:avLst/>
                    <a:gdLst/>
                    <a:ahLst/>
                    <a:rect l="l" t="t" r="r" b="b"/>
                    <a:pathLst>
                      <a:path w="208" h="205">
                        <a:moveTo>
                          <a:pt x="0" y="205"/>
                        </a:moveTo>
                        <a:lnTo>
                          <a:pt x="28" y="190"/>
                        </a:lnTo>
                        <a:lnTo>
                          <a:pt x="56" y="158"/>
                        </a:lnTo>
                        <a:lnTo>
                          <a:pt x="83" y="143"/>
                        </a:lnTo>
                        <a:lnTo>
                          <a:pt x="111" y="111"/>
                        </a:lnTo>
                        <a:lnTo>
                          <a:pt x="139" y="79"/>
                        </a:lnTo>
                        <a:lnTo>
                          <a:pt x="152" y="64"/>
                        </a:lnTo>
                        <a:lnTo>
                          <a:pt x="180" y="32"/>
                        </a:lnTo>
                        <a:lnTo>
                          <a:pt x="208" y="0"/>
                        </a:lnTo>
                        <a:lnTo>
                          <a:pt x="0" y="2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78640" y="4003560"/>
                    <a:ext cx="109440" cy="109800"/>
                  </a:xfrm>
                  <a:custGeom>
                    <a:avLst/>
                    <a:gdLst/>
                    <a:ahLst/>
                    <a:rect l="l" t="t" r="r" b="b"/>
                    <a:pathLst>
                      <a:path w="208" h="205">
                        <a:moveTo>
                          <a:pt x="0" y="205"/>
                        </a:moveTo>
                        <a:lnTo>
                          <a:pt x="28" y="190"/>
                        </a:lnTo>
                        <a:lnTo>
                          <a:pt x="56" y="158"/>
                        </a:lnTo>
                        <a:lnTo>
                          <a:pt x="83" y="143"/>
                        </a:lnTo>
                        <a:lnTo>
                          <a:pt x="111" y="111"/>
                        </a:lnTo>
                        <a:lnTo>
                          <a:pt x="139" y="79"/>
                        </a:lnTo>
                        <a:lnTo>
                          <a:pt x="152" y="64"/>
                        </a:lnTo>
                        <a:lnTo>
                          <a:pt x="180" y="32"/>
                        </a:lnTo>
                        <a:lnTo>
                          <a:pt x="2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588080" y="3462480"/>
                  <a:ext cx="235080" cy="541080"/>
                  <a:chOff x="7588080" y="3462480"/>
                  <a:chExt cx="235080" cy="541080"/>
                </a:xfrm>
              </p:grpSpPr>
              <p:sp>
                <p:nvSpPr>
                  <p:cNvPr id="1325" name=""/>
                  <p:cNvSpPr/>
                  <p:nvPr/>
                </p:nvSpPr>
                <p:spPr>
                  <a:xfrm>
                    <a:off x="7588080" y="3462480"/>
                    <a:ext cx="235080" cy="541080"/>
                  </a:xfrm>
                  <a:custGeom>
                    <a:avLst/>
                    <a:gdLst/>
                    <a:ahLst/>
                    <a:rect l="l" t="t" r="r" b="b"/>
                    <a:pathLst>
                      <a:path w="444" h="1025">
                        <a:moveTo>
                          <a:pt x="0" y="1025"/>
                        </a:moveTo>
                        <a:lnTo>
                          <a:pt x="14" y="993"/>
                        </a:lnTo>
                        <a:lnTo>
                          <a:pt x="41" y="978"/>
                        </a:lnTo>
                        <a:lnTo>
                          <a:pt x="55" y="946"/>
                        </a:lnTo>
                        <a:lnTo>
                          <a:pt x="69" y="914"/>
                        </a:lnTo>
                        <a:lnTo>
                          <a:pt x="83" y="899"/>
                        </a:lnTo>
                        <a:lnTo>
                          <a:pt x="110" y="867"/>
                        </a:lnTo>
                        <a:lnTo>
                          <a:pt x="124" y="836"/>
                        </a:lnTo>
                        <a:lnTo>
                          <a:pt x="139" y="804"/>
                        </a:lnTo>
                        <a:lnTo>
                          <a:pt x="153" y="773"/>
                        </a:lnTo>
                        <a:lnTo>
                          <a:pt x="167" y="741"/>
                        </a:lnTo>
                        <a:lnTo>
                          <a:pt x="195" y="710"/>
                        </a:lnTo>
                        <a:lnTo>
                          <a:pt x="209" y="678"/>
                        </a:lnTo>
                        <a:lnTo>
                          <a:pt x="222" y="646"/>
                        </a:lnTo>
                        <a:lnTo>
                          <a:pt x="236" y="616"/>
                        </a:lnTo>
                        <a:lnTo>
                          <a:pt x="250" y="584"/>
                        </a:lnTo>
                        <a:lnTo>
                          <a:pt x="264" y="552"/>
                        </a:lnTo>
                        <a:lnTo>
                          <a:pt x="278" y="520"/>
                        </a:lnTo>
                        <a:lnTo>
                          <a:pt x="292" y="488"/>
                        </a:lnTo>
                        <a:lnTo>
                          <a:pt x="305" y="458"/>
                        </a:lnTo>
                        <a:lnTo>
                          <a:pt x="319" y="426"/>
                        </a:lnTo>
                        <a:lnTo>
                          <a:pt x="333" y="394"/>
                        </a:lnTo>
                        <a:lnTo>
                          <a:pt x="333" y="347"/>
                        </a:lnTo>
                        <a:lnTo>
                          <a:pt x="347" y="315"/>
                        </a:lnTo>
                        <a:lnTo>
                          <a:pt x="361" y="283"/>
                        </a:lnTo>
                        <a:lnTo>
                          <a:pt x="375" y="252"/>
                        </a:lnTo>
                        <a:lnTo>
                          <a:pt x="388" y="221"/>
                        </a:lnTo>
                        <a:lnTo>
                          <a:pt x="388" y="189"/>
                        </a:lnTo>
                        <a:lnTo>
                          <a:pt x="402" y="158"/>
                        </a:lnTo>
                        <a:lnTo>
                          <a:pt x="416" y="126"/>
                        </a:lnTo>
                        <a:lnTo>
                          <a:pt x="416" y="94"/>
                        </a:lnTo>
                        <a:lnTo>
                          <a:pt x="430" y="63"/>
                        </a:lnTo>
                        <a:lnTo>
                          <a:pt x="430" y="32"/>
                        </a:lnTo>
                        <a:lnTo>
                          <a:pt x="444" y="0"/>
                        </a:lnTo>
                        <a:lnTo>
                          <a:pt x="0" y="102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588080" y="3462480"/>
                    <a:ext cx="235080" cy="541080"/>
                  </a:xfrm>
                  <a:custGeom>
                    <a:avLst/>
                    <a:gdLst/>
                    <a:ahLst/>
                    <a:rect l="l" t="t" r="r" b="b"/>
                    <a:pathLst>
                      <a:path w="444" h="1025">
                        <a:moveTo>
                          <a:pt x="0" y="1025"/>
                        </a:moveTo>
                        <a:lnTo>
                          <a:pt x="14" y="993"/>
                        </a:lnTo>
                        <a:lnTo>
                          <a:pt x="41" y="978"/>
                        </a:lnTo>
                        <a:lnTo>
                          <a:pt x="55" y="946"/>
                        </a:lnTo>
                        <a:lnTo>
                          <a:pt x="69" y="914"/>
                        </a:lnTo>
                        <a:lnTo>
                          <a:pt x="83" y="899"/>
                        </a:lnTo>
                        <a:lnTo>
                          <a:pt x="110" y="867"/>
                        </a:lnTo>
                        <a:lnTo>
                          <a:pt x="124" y="836"/>
                        </a:lnTo>
                        <a:lnTo>
                          <a:pt x="139" y="804"/>
                        </a:lnTo>
                        <a:lnTo>
                          <a:pt x="153" y="773"/>
                        </a:lnTo>
                        <a:lnTo>
                          <a:pt x="167" y="741"/>
                        </a:lnTo>
                        <a:lnTo>
                          <a:pt x="195" y="710"/>
                        </a:lnTo>
                        <a:lnTo>
                          <a:pt x="209" y="678"/>
                        </a:lnTo>
                        <a:lnTo>
                          <a:pt x="222" y="646"/>
                        </a:lnTo>
                        <a:lnTo>
                          <a:pt x="236" y="616"/>
                        </a:lnTo>
                        <a:lnTo>
                          <a:pt x="250" y="584"/>
                        </a:lnTo>
                        <a:lnTo>
                          <a:pt x="264" y="552"/>
                        </a:lnTo>
                        <a:lnTo>
                          <a:pt x="278" y="520"/>
                        </a:lnTo>
                        <a:lnTo>
                          <a:pt x="292" y="488"/>
                        </a:lnTo>
                        <a:lnTo>
                          <a:pt x="305" y="458"/>
                        </a:lnTo>
                        <a:lnTo>
                          <a:pt x="319" y="426"/>
                        </a:lnTo>
                        <a:lnTo>
                          <a:pt x="333" y="394"/>
                        </a:lnTo>
                        <a:lnTo>
                          <a:pt x="333" y="347"/>
                        </a:lnTo>
                        <a:lnTo>
                          <a:pt x="347" y="315"/>
                        </a:lnTo>
                        <a:lnTo>
                          <a:pt x="361" y="283"/>
                        </a:lnTo>
                        <a:lnTo>
                          <a:pt x="375" y="252"/>
                        </a:lnTo>
                        <a:lnTo>
                          <a:pt x="388" y="221"/>
                        </a:lnTo>
                        <a:lnTo>
                          <a:pt x="388" y="189"/>
                        </a:lnTo>
                        <a:lnTo>
                          <a:pt x="402" y="158"/>
                        </a:lnTo>
                        <a:lnTo>
                          <a:pt x="416" y="126"/>
                        </a:lnTo>
                        <a:lnTo>
                          <a:pt x="416" y="94"/>
                        </a:lnTo>
                        <a:lnTo>
                          <a:pt x="430" y="63"/>
                        </a:lnTo>
                        <a:lnTo>
                          <a:pt x="430" y="32"/>
                        </a:lnTo>
                        <a:lnTo>
                          <a:pt x="4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7823160" y="3193920"/>
                  <a:ext cx="36720" cy="268560"/>
                  <a:chOff x="7823160" y="3193920"/>
                  <a:chExt cx="36720" cy="268560"/>
                </a:xfrm>
              </p:grpSpPr>
              <p:sp>
                <p:nvSpPr>
                  <p:cNvPr id="1328" name=""/>
                  <p:cNvSpPr/>
                  <p:nvPr/>
                </p:nvSpPr>
                <p:spPr>
                  <a:xfrm>
                    <a:off x="7823160" y="3193920"/>
                    <a:ext cx="36720" cy="268560"/>
                  </a:xfrm>
                  <a:custGeom>
                    <a:avLst/>
                    <a:gdLst/>
                    <a:ahLst/>
                    <a:rect l="l" t="t" r="r" b="b"/>
                    <a:pathLst>
                      <a:path w="69" h="505">
                        <a:moveTo>
                          <a:pt x="0" y="505"/>
                        </a:moveTo>
                        <a:lnTo>
                          <a:pt x="0" y="473"/>
                        </a:lnTo>
                        <a:lnTo>
                          <a:pt x="14" y="426"/>
                        </a:lnTo>
                        <a:lnTo>
                          <a:pt x="14" y="394"/>
                        </a:lnTo>
                        <a:lnTo>
                          <a:pt x="27" y="347"/>
                        </a:lnTo>
                        <a:lnTo>
                          <a:pt x="27" y="315"/>
                        </a:lnTo>
                        <a:lnTo>
                          <a:pt x="41" y="268"/>
                        </a:lnTo>
                        <a:lnTo>
                          <a:pt x="41" y="236"/>
                        </a:lnTo>
                        <a:lnTo>
                          <a:pt x="55" y="189"/>
                        </a:lnTo>
                        <a:lnTo>
                          <a:pt x="55" y="157"/>
                        </a:lnTo>
                        <a:lnTo>
                          <a:pt x="55" y="110"/>
                        </a:lnTo>
                        <a:lnTo>
                          <a:pt x="69" y="79"/>
                        </a:lnTo>
                        <a:lnTo>
                          <a:pt x="69" y="32"/>
                        </a:lnTo>
                        <a:lnTo>
                          <a:pt x="69" y="0"/>
                        </a:lnTo>
                        <a:lnTo>
                          <a:pt x="0" y="50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823160" y="3193920"/>
                    <a:ext cx="36720" cy="268560"/>
                  </a:xfrm>
                  <a:custGeom>
                    <a:avLst/>
                    <a:gdLst/>
                    <a:ahLst/>
                    <a:rect l="l" t="t" r="r" b="b"/>
                    <a:pathLst>
                      <a:path w="69" h="505">
                        <a:moveTo>
                          <a:pt x="0" y="505"/>
                        </a:moveTo>
                        <a:lnTo>
                          <a:pt x="0" y="473"/>
                        </a:lnTo>
                        <a:lnTo>
                          <a:pt x="14" y="426"/>
                        </a:lnTo>
                        <a:lnTo>
                          <a:pt x="14" y="394"/>
                        </a:lnTo>
                        <a:lnTo>
                          <a:pt x="27" y="347"/>
                        </a:lnTo>
                        <a:lnTo>
                          <a:pt x="27" y="315"/>
                        </a:lnTo>
                        <a:lnTo>
                          <a:pt x="41" y="268"/>
                        </a:lnTo>
                        <a:lnTo>
                          <a:pt x="41" y="236"/>
                        </a:lnTo>
                        <a:lnTo>
                          <a:pt x="55" y="189"/>
                        </a:lnTo>
                        <a:lnTo>
                          <a:pt x="55" y="157"/>
                        </a:lnTo>
                        <a:lnTo>
                          <a:pt x="55" y="110"/>
                        </a:lnTo>
                        <a:lnTo>
                          <a:pt x="69" y="79"/>
                        </a:lnTo>
                        <a:lnTo>
                          <a:pt x="69" y="32"/>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859880" y="2668680"/>
                  <a:ext cx="7920" cy="525240"/>
                  <a:chOff x="7859880" y="2668680"/>
                  <a:chExt cx="7920" cy="525240"/>
                </a:xfrm>
              </p:grpSpPr>
              <p:sp>
                <p:nvSpPr>
                  <p:cNvPr id="1331" name=""/>
                  <p:cNvSpPr/>
                  <p:nvPr/>
                </p:nvSpPr>
                <p:spPr>
                  <a:xfrm>
                    <a:off x="7859880" y="2668680"/>
                    <a:ext cx="7920" cy="525240"/>
                  </a:xfrm>
                  <a:custGeom>
                    <a:avLst/>
                    <a:gdLst/>
                    <a:ahLst/>
                    <a:rect l="l" t="t" r="r" b="b"/>
                    <a:pathLst>
                      <a:path w="14" h="994">
                        <a:moveTo>
                          <a:pt x="0" y="994"/>
                        </a:moveTo>
                        <a:lnTo>
                          <a:pt x="0" y="962"/>
                        </a:lnTo>
                        <a:lnTo>
                          <a:pt x="0" y="931"/>
                        </a:lnTo>
                        <a:lnTo>
                          <a:pt x="14" y="883"/>
                        </a:lnTo>
                        <a:lnTo>
                          <a:pt x="14" y="853"/>
                        </a:lnTo>
                        <a:lnTo>
                          <a:pt x="14" y="821"/>
                        </a:lnTo>
                        <a:lnTo>
                          <a:pt x="14" y="789"/>
                        </a:lnTo>
                        <a:lnTo>
                          <a:pt x="14" y="742"/>
                        </a:lnTo>
                        <a:lnTo>
                          <a:pt x="14" y="710"/>
                        </a:lnTo>
                        <a:lnTo>
                          <a:pt x="14" y="678"/>
                        </a:lnTo>
                        <a:lnTo>
                          <a:pt x="14" y="646"/>
                        </a:lnTo>
                        <a:lnTo>
                          <a:pt x="14" y="599"/>
                        </a:lnTo>
                        <a:lnTo>
                          <a:pt x="14" y="568"/>
                        </a:lnTo>
                        <a:lnTo>
                          <a:pt x="14" y="537"/>
                        </a:lnTo>
                        <a:lnTo>
                          <a:pt x="14" y="505"/>
                        </a:lnTo>
                        <a:lnTo>
                          <a:pt x="14" y="457"/>
                        </a:lnTo>
                        <a:lnTo>
                          <a:pt x="14" y="426"/>
                        </a:lnTo>
                        <a:lnTo>
                          <a:pt x="14" y="395"/>
                        </a:lnTo>
                        <a:lnTo>
                          <a:pt x="14" y="363"/>
                        </a:lnTo>
                        <a:lnTo>
                          <a:pt x="14" y="316"/>
                        </a:lnTo>
                        <a:lnTo>
                          <a:pt x="14" y="284"/>
                        </a:lnTo>
                        <a:lnTo>
                          <a:pt x="14" y="252"/>
                        </a:lnTo>
                        <a:lnTo>
                          <a:pt x="0" y="205"/>
                        </a:lnTo>
                        <a:lnTo>
                          <a:pt x="0" y="173"/>
                        </a:lnTo>
                        <a:lnTo>
                          <a:pt x="0" y="141"/>
                        </a:lnTo>
                        <a:lnTo>
                          <a:pt x="0" y="111"/>
                        </a:lnTo>
                        <a:lnTo>
                          <a:pt x="0" y="63"/>
                        </a:lnTo>
                        <a:lnTo>
                          <a:pt x="0" y="32"/>
                        </a:lnTo>
                        <a:lnTo>
                          <a:pt x="0" y="0"/>
                        </a:lnTo>
                        <a:lnTo>
                          <a:pt x="0" y="99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859880" y="2668680"/>
                    <a:ext cx="7920" cy="525240"/>
                  </a:xfrm>
                  <a:custGeom>
                    <a:avLst/>
                    <a:gdLst/>
                    <a:ahLst/>
                    <a:rect l="l" t="t" r="r" b="b"/>
                    <a:pathLst>
                      <a:path w="14" h="994">
                        <a:moveTo>
                          <a:pt x="0" y="994"/>
                        </a:moveTo>
                        <a:lnTo>
                          <a:pt x="0" y="962"/>
                        </a:lnTo>
                        <a:lnTo>
                          <a:pt x="0" y="931"/>
                        </a:lnTo>
                        <a:lnTo>
                          <a:pt x="14" y="883"/>
                        </a:lnTo>
                        <a:lnTo>
                          <a:pt x="14" y="853"/>
                        </a:lnTo>
                        <a:lnTo>
                          <a:pt x="14" y="821"/>
                        </a:lnTo>
                        <a:lnTo>
                          <a:pt x="14" y="789"/>
                        </a:lnTo>
                        <a:lnTo>
                          <a:pt x="14" y="742"/>
                        </a:lnTo>
                        <a:lnTo>
                          <a:pt x="14" y="710"/>
                        </a:lnTo>
                        <a:lnTo>
                          <a:pt x="14" y="678"/>
                        </a:lnTo>
                        <a:lnTo>
                          <a:pt x="14" y="646"/>
                        </a:lnTo>
                        <a:lnTo>
                          <a:pt x="14" y="599"/>
                        </a:lnTo>
                        <a:lnTo>
                          <a:pt x="14" y="568"/>
                        </a:lnTo>
                        <a:lnTo>
                          <a:pt x="14" y="537"/>
                        </a:lnTo>
                        <a:lnTo>
                          <a:pt x="14" y="505"/>
                        </a:lnTo>
                        <a:lnTo>
                          <a:pt x="14" y="457"/>
                        </a:lnTo>
                        <a:lnTo>
                          <a:pt x="14" y="426"/>
                        </a:lnTo>
                        <a:lnTo>
                          <a:pt x="14" y="395"/>
                        </a:lnTo>
                        <a:lnTo>
                          <a:pt x="14" y="363"/>
                        </a:lnTo>
                        <a:lnTo>
                          <a:pt x="14" y="316"/>
                        </a:lnTo>
                        <a:lnTo>
                          <a:pt x="14" y="284"/>
                        </a:lnTo>
                        <a:lnTo>
                          <a:pt x="14" y="252"/>
                        </a:lnTo>
                        <a:lnTo>
                          <a:pt x="0" y="205"/>
                        </a:lnTo>
                        <a:lnTo>
                          <a:pt x="0" y="173"/>
                        </a:lnTo>
                        <a:lnTo>
                          <a:pt x="0" y="141"/>
                        </a:lnTo>
                        <a:lnTo>
                          <a:pt x="0" y="111"/>
                        </a:lnTo>
                        <a:lnTo>
                          <a:pt x="0" y="63"/>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7831080" y="2468520"/>
                  <a:ext cx="28800" cy="200160"/>
                  <a:chOff x="7831080" y="2468520"/>
                  <a:chExt cx="28800" cy="200160"/>
                </a:xfrm>
              </p:grpSpPr>
              <p:sp>
                <p:nvSpPr>
                  <p:cNvPr id="1334" name=""/>
                  <p:cNvSpPr/>
                  <p:nvPr/>
                </p:nvSpPr>
                <p:spPr>
                  <a:xfrm>
                    <a:off x="7831080" y="2468520"/>
                    <a:ext cx="28800" cy="200160"/>
                  </a:xfrm>
                  <a:custGeom>
                    <a:avLst/>
                    <a:gdLst/>
                    <a:ahLst/>
                    <a:rect l="l" t="t" r="r" b="b"/>
                    <a:pathLst>
                      <a:path w="55" h="379">
                        <a:moveTo>
                          <a:pt x="55" y="379"/>
                        </a:moveTo>
                        <a:lnTo>
                          <a:pt x="41" y="347"/>
                        </a:lnTo>
                        <a:lnTo>
                          <a:pt x="41" y="300"/>
                        </a:lnTo>
                        <a:lnTo>
                          <a:pt x="41" y="269"/>
                        </a:lnTo>
                        <a:lnTo>
                          <a:pt x="27" y="222"/>
                        </a:lnTo>
                        <a:lnTo>
                          <a:pt x="27" y="190"/>
                        </a:lnTo>
                        <a:lnTo>
                          <a:pt x="27" y="143"/>
                        </a:lnTo>
                        <a:lnTo>
                          <a:pt x="13" y="111"/>
                        </a:lnTo>
                        <a:lnTo>
                          <a:pt x="13" y="64"/>
                        </a:lnTo>
                        <a:lnTo>
                          <a:pt x="0" y="32"/>
                        </a:lnTo>
                        <a:lnTo>
                          <a:pt x="0" y="0"/>
                        </a:lnTo>
                        <a:lnTo>
                          <a:pt x="55" y="37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831080" y="2468520"/>
                    <a:ext cx="28800" cy="200160"/>
                  </a:xfrm>
                  <a:custGeom>
                    <a:avLst/>
                    <a:gdLst/>
                    <a:ahLst/>
                    <a:rect l="l" t="t" r="r" b="b"/>
                    <a:pathLst>
                      <a:path w="55" h="379">
                        <a:moveTo>
                          <a:pt x="55" y="379"/>
                        </a:moveTo>
                        <a:lnTo>
                          <a:pt x="41" y="347"/>
                        </a:lnTo>
                        <a:lnTo>
                          <a:pt x="41" y="300"/>
                        </a:lnTo>
                        <a:lnTo>
                          <a:pt x="41" y="269"/>
                        </a:lnTo>
                        <a:lnTo>
                          <a:pt x="27" y="222"/>
                        </a:lnTo>
                        <a:lnTo>
                          <a:pt x="27" y="190"/>
                        </a:lnTo>
                        <a:lnTo>
                          <a:pt x="27" y="143"/>
                        </a:lnTo>
                        <a:lnTo>
                          <a:pt x="13" y="111"/>
                        </a:lnTo>
                        <a:lnTo>
                          <a:pt x="13" y="64"/>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7632720" y="1959120"/>
                  <a:ext cx="198360" cy="509400"/>
                  <a:chOff x="7632720" y="1959120"/>
                  <a:chExt cx="198360" cy="509400"/>
                </a:xfrm>
              </p:grpSpPr>
              <p:sp>
                <p:nvSpPr>
                  <p:cNvPr id="1337" name=""/>
                  <p:cNvSpPr/>
                  <p:nvPr/>
                </p:nvSpPr>
                <p:spPr>
                  <a:xfrm>
                    <a:off x="7632720" y="1959120"/>
                    <a:ext cx="198360" cy="509400"/>
                  </a:xfrm>
                  <a:custGeom>
                    <a:avLst/>
                    <a:gdLst/>
                    <a:ahLst/>
                    <a:rect l="l" t="t" r="r" b="b"/>
                    <a:pathLst>
                      <a:path w="375" h="962">
                        <a:moveTo>
                          <a:pt x="375" y="962"/>
                        </a:moveTo>
                        <a:lnTo>
                          <a:pt x="361" y="915"/>
                        </a:lnTo>
                        <a:lnTo>
                          <a:pt x="347" y="883"/>
                        </a:lnTo>
                        <a:lnTo>
                          <a:pt x="347" y="836"/>
                        </a:lnTo>
                        <a:lnTo>
                          <a:pt x="333" y="804"/>
                        </a:lnTo>
                        <a:lnTo>
                          <a:pt x="333" y="773"/>
                        </a:lnTo>
                        <a:lnTo>
                          <a:pt x="319" y="742"/>
                        </a:lnTo>
                        <a:lnTo>
                          <a:pt x="305" y="694"/>
                        </a:lnTo>
                        <a:lnTo>
                          <a:pt x="292" y="663"/>
                        </a:lnTo>
                        <a:lnTo>
                          <a:pt x="292" y="631"/>
                        </a:lnTo>
                        <a:lnTo>
                          <a:pt x="278" y="600"/>
                        </a:lnTo>
                        <a:lnTo>
                          <a:pt x="264" y="568"/>
                        </a:lnTo>
                        <a:lnTo>
                          <a:pt x="250" y="536"/>
                        </a:lnTo>
                        <a:lnTo>
                          <a:pt x="236" y="505"/>
                        </a:lnTo>
                        <a:lnTo>
                          <a:pt x="222" y="474"/>
                        </a:lnTo>
                        <a:lnTo>
                          <a:pt x="222" y="427"/>
                        </a:lnTo>
                        <a:lnTo>
                          <a:pt x="209" y="395"/>
                        </a:lnTo>
                        <a:lnTo>
                          <a:pt x="195" y="363"/>
                        </a:lnTo>
                        <a:lnTo>
                          <a:pt x="181" y="331"/>
                        </a:lnTo>
                        <a:lnTo>
                          <a:pt x="167" y="299"/>
                        </a:lnTo>
                        <a:lnTo>
                          <a:pt x="139" y="269"/>
                        </a:lnTo>
                        <a:lnTo>
                          <a:pt x="126" y="237"/>
                        </a:lnTo>
                        <a:lnTo>
                          <a:pt x="112" y="205"/>
                        </a:lnTo>
                        <a:lnTo>
                          <a:pt x="98" y="173"/>
                        </a:lnTo>
                        <a:lnTo>
                          <a:pt x="84" y="142"/>
                        </a:lnTo>
                        <a:lnTo>
                          <a:pt x="70" y="111"/>
                        </a:lnTo>
                        <a:lnTo>
                          <a:pt x="56" y="95"/>
                        </a:lnTo>
                        <a:lnTo>
                          <a:pt x="27" y="63"/>
                        </a:lnTo>
                        <a:lnTo>
                          <a:pt x="14" y="32"/>
                        </a:lnTo>
                        <a:lnTo>
                          <a:pt x="0" y="0"/>
                        </a:lnTo>
                        <a:lnTo>
                          <a:pt x="375" y="9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632720" y="1959120"/>
                    <a:ext cx="198360" cy="509400"/>
                  </a:xfrm>
                  <a:custGeom>
                    <a:avLst/>
                    <a:gdLst/>
                    <a:ahLst/>
                    <a:rect l="l" t="t" r="r" b="b"/>
                    <a:pathLst>
                      <a:path w="375" h="962">
                        <a:moveTo>
                          <a:pt x="375" y="962"/>
                        </a:moveTo>
                        <a:lnTo>
                          <a:pt x="361" y="915"/>
                        </a:lnTo>
                        <a:lnTo>
                          <a:pt x="347" y="883"/>
                        </a:lnTo>
                        <a:lnTo>
                          <a:pt x="347" y="836"/>
                        </a:lnTo>
                        <a:lnTo>
                          <a:pt x="333" y="804"/>
                        </a:lnTo>
                        <a:lnTo>
                          <a:pt x="333" y="773"/>
                        </a:lnTo>
                        <a:lnTo>
                          <a:pt x="319" y="742"/>
                        </a:lnTo>
                        <a:lnTo>
                          <a:pt x="305" y="694"/>
                        </a:lnTo>
                        <a:lnTo>
                          <a:pt x="292" y="663"/>
                        </a:lnTo>
                        <a:lnTo>
                          <a:pt x="292" y="631"/>
                        </a:lnTo>
                        <a:lnTo>
                          <a:pt x="278" y="600"/>
                        </a:lnTo>
                        <a:lnTo>
                          <a:pt x="264" y="568"/>
                        </a:lnTo>
                        <a:lnTo>
                          <a:pt x="250" y="536"/>
                        </a:lnTo>
                        <a:lnTo>
                          <a:pt x="236" y="505"/>
                        </a:lnTo>
                        <a:lnTo>
                          <a:pt x="222" y="474"/>
                        </a:lnTo>
                        <a:lnTo>
                          <a:pt x="222" y="427"/>
                        </a:lnTo>
                        <a:lnTo>
                          <a:pt x="209" y="395"/>
                        </a:lnTo>
                        <a:lnTo>
                          <a:pt x="195" y="363"/>
                        </a:lnTo>
                        <a:lnTo>
                          <a:pt x="181" y="331"/>
                        </a:lnTo>
                        <a:lnTo>
                          <a:pt x="167" y="299"/>
                        </a:lnTo>
                        <a:lnTo>
                          <a:pt x="139" y="269"/>
                        </a:lnTo>
                        <a:lnTo>
                          <a:pt x="126" y="237"/>
                        </a:lnTo>
                        <a:lnTo>
                          <a:pt x="112" y="205"/>
                        </a:lnTo>
                        <a:lnTo>
                          <a:pt x="98" y="173"/>
                        </a:lnTo>
                        <a:lnTo>
                          <a:pt x="84" y="142"/>
                        </a:lnTo>
                        <a:lnTo>
                          <a:pt x="70" y="111"/>
                        </a:lnTo>
                        <a:lnTo>
                          <a:pt x="56" y="95"/>
                        </a:lnTo>
                        <a:lnTo>
                          <a:pt x="27" y="63"/>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7537320" y="1833480"/>
                  <a:ext cx="95400" cy="125640"/>
                  <a:chOff x="7537320" y="1833480"/>
                  <a:chExt cx="95400" cy="125640"/>
                </a:xfrm>
              </p:grpSpPr>
              <p:sp>
                <p:nvSpPr>
                  <p:cNvPr id="1340" name=""/>
                  <p:cNvSpPr/>
                  <p:nvPr/>
                </p:nvSpPr>
                <p:spPr>
                  <a:xfrm>
                    <a:off x="7537320" y="1833480"/>
                    <a:ext cx="95400" cy="125640"/>
                  </a:xfrm>
                  <a:custGeom>
                    <a:avLst/>
                    <a:gdLst/>
                    <a:ahLst/>
                    <a:rect l="l" t="t" r="r" b="b"/>
                    <a:pathLst>
                      <a:path w="180" h="236">
                        <a:moveTo>
                          <a:pt x="180" y="236"/>
                        </a:moveTo>
                        <a:lnTo>
                          <a:pt x="166" y="205"/>
                        </a:lnTo>
                        <a:lnTo>
                          <a:pt x="138" y="173"/>
                        </a:lnTo>
                        <a:lnTo>
                          <a:pt x="124" y="141"/>
                        </a:lnTo>
                        <a:lnTo>
                          <a:pt x="97" y="111"/>
                        </a:lnTo>
                        <a:lnTo>
                          <a:pt x="69" y="79"/>
                        </a:lnTo>
                        <a:lnTo>
                          <a:pt x="55" y="62"/>
                        </a:lnTo>
                        <a:lnTo>
                          <a:pt x="28" y="32"/>
                        </a:lnTo>
                        <a:lnTo>
                          <a:pt x="0" y="0"/>
                        </a:lnTo>
                        <a:lnTo>
                          <a:pt x="180" y="2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7537320" y="1833480"/>
                    <a:ext cx="95400" cy="125640"/>
                  </a:xfrm>
                  <a:custGeom>
                    <a:avLst/>
                    <a:gdLst/>
                    <a:ahLst/>
                    <a:rect l="l" t="t" r="r" b="b"/>
                    <a:pathLst>
                      <a:path w="180" h="236">
                        <a:moveTo>
                          <a:pt x="180" y="236"/>
                        </a:moveTo>
                        <a:lnTo>
                          <a:pt x="166" y="205"/>
                        </a:lnTo>
                        <a:lnTo>
                          <a:pt x="138" y="173"/>
                        </a:lnTo>
                        <a:lnTo>
                          <a:pt x="124" y="141"/>
                        </a:lnTo>
                        <a:lnTo>
                          <a:pt x="97" y="111"/>
                        </a:lnTo>
                        <a:lnTo>
                          <a:pt x="69" y="79"/>
                        </a:lnTo>
                        <a:lnTo>
                          <a:pt x="55" y="62"/>
                        </a:lnTo>
                        <a:lnTo>
                          <a:pt x="28"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7493040" y="1792440"/>
                  <a:ext cx="44280" cy="41040"/>
                  <a:chOff x="7493040" y="1792440"/>
                  <a:chExt cx="44280" cy="41040"/>
                </a:xfrm>
              </p:grpSpPr>
              <p:sp>
                <p:nvSpPr>
                  <p:cNvPr id="1343" name=""/>
                  <p:cNvSpPr/>
                  <p:nvPr/>
                </p:nvSpPr>
                <p:spPr>
                  <a:xfrm>
                    <a:off x="7493040" y="1792440"/>
                    <a:ext cx="44280" cy="41040"/>
                  </a:xfrm>
                  <a:custGeom>
                    <a:avLst/>
                    <a:gdLst/>
                    <a:ahLst/>
                    <a:rect l="l" t="t" r="r" b="b"/>
                    <a:pathLst>
                      <a:path w="83" h="79">
                        <a:moveTo>
                          <a:pt x="83" y="79"/>
                        </a:moveTo>
                        <a:lnTo>
                          <a:pt x="55" y="47"/>
                        </a:lnTo>
                        <a:lnTo>
                          <a:pt x="28" y="32"/>
                        </a:lnTo>
                        <a:lnTo>
                          <a:pt x="0" y="0"/>
                        </a:lnTo>
                        <a:lnTo>
                          <a:pt x="83"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4" name=""/>
                  <p:cNvSpPr/>
                  <p:nvPr/>
                </p:nvSpPr>
                <p:spPr>
                  <a:xfrm>
                    <a:off x="7493040" y="1792440"/>
                    <a:ext cx="44280" cy="41040"/>
                  </a:xfrm>
                  <a:custGeom>
                    <a:avLst/>
                    <a:gdLst/>
                    <a:ahLst/>
                    <a:rect l="l" t="t" r="r" b="b"/>
                    <a:pathLst>
                      <a:path w="83" h="79">
                        <a:moveTo>
                          <a:pt x="83" y="79"/>
                        </a:moveTo>
                        <a:lnTo>
                          <a:pt x="55" y="47"/>
                        </a:lnTo>
                        <a:lnTo>
                          <a:pt x="28" y="32"/>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345" name=""/>
                <p:cNvGrpSpPr/>
                <p:nvPr/>
              </p:nvGrpSpPr>
              <p:grpSpPr>
                <a:xfrm>
                  <a:off x="7478640" y="1774800"/>
                  <a:ext cx="14400" cy="17640"/>
                  <a:chOff x="7478640" y="1774800"/>
                  <a:chExt cx="14400" cy="17640"/>
                </a:xfrm>
              </p:grpSpPr>
              <p:sp>
                <p:nvSpPr>
                  <p:cNvPr id="1346" name=""/>
                  <p:cNvSpPr/>
                  <p:nvPr/>
                </p:nvSpPr>
                <p:spPr>
                  <a:xfrm>
                    <a:off x="7478640" y="1774800"/>
                    <a:ext cx="14400" cy="17640"/>
                  </a:xfrm>
                  <a:custGeom>
                    <a:avLst/>
                    <a:gdLst/>
                    <a:ahLst/>
                    <a:rect l="l" t="t" r="r" b="b"/>
                    <a:pathLst>
                      <a:path w="28" h="32">
                        <a:moveTo>
                          <a:pt x="28" y="32"/>
                        </a:moveTo>
                        <a:lnTo>
                          <a:pt x="14" y="15"/>
                        </a:lnTo>
                        <a:lnTo>
                          <a:pt x="0" y="15"/>
                        </a:lnTo>
                        <a:lnTo>
                          <a:pt x="0" y="0"/>
                        </a:lnTo>
                        <a:lnTo>
                          <a:pt x="28"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7" name=""/>
                  <p:cNvSpPr/>
                  <p:nvPr/>
                </p:nvSpPr>
                <p:spPr>
                  <a:xfrm>
                    <a:off x="7478640" y="1774800"/>
                    <a:ext cx="14400" cy="17640"/>
                  </a:xfrm>
                  <a:custGeom>
                    <a:avLst/>
                    <a:gdLst/>
                    <a:ahLst/>
                    <a:rect l="l" t="t" r="r" b="b"/>
                    <a:pathLst>
                      <a:path w="28" h="32">
                        <a:moveTo>
                          <a:pt x="28" y="32"/>
                        </a:moveTo>
                        <a:lnTo>
                          <a:pt x="14" y="15"/>
                        </a:lnTo>
                        <a:lnTo>
                          <a:pt x="0"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48" name=""/>
                <p:cNvGrpSpPr/>
                <p:nvPr/>
              </p:nvGrpSpPr>
              <p:grpSpPr>
                <a:xfrm>
                  <a:off x="7566120" y="3336840"/>
                  <a:ext cx="439560" cy="776520"/>
                  <a:chOff x="7566120" y="3336840"/>
                  <a:chExt cx="439560" cy="776520"/>
                </a:xfrm>
              </p:grpSpPr>
              <p:sp>
                <p:nvSpPr>
                  <p:cNvPr id="1349" name=""/>
                  <p:cNvSpPr/>
                  <p:nvPr/>
                </p:nvSpPr>
                <p:spPr>
                  <a:xfrm>
                    <a:off x="7566120" y="3336840"/>
                    <a:ext cx="439560" cy="776520"/>
                  </a:xfrm>
                  <a:custGeom>
                    <a:avLst/>
                    <a:gdLst/>
                    <a:ahLst/>
                    <a:rect l="l" t="t" r="r" b="b"/>
                    <a:pathLst>
                      <a:path w="831" h="1467">
                        <a:moveTo>
                          <a:pt x="0" y="1467"/>
                        </a:moveTo>
                        <a:lnTo>
                          <a:pt x="28" y="1452"/>
                        </a:lnTo>
                        <a:lnTo>
                          <a:pt x="56" y="1435"/>
                        </a:lnTo>
                        <a:lnTo>
                          <a:pt x="69" y="1420"/>
                        </a:lnTo>
                        <a:lnTo>
                          <a:pt x="97" y="1405"/>
                        </a:lnTo>
                        <a:lnTo>
                          <a:pt x="125" y="1388"/>
                        </a:lnTo>
                        <a:lnTo>
                          <a:pt x="139" y="1356"/>
                        </a:lnTo>
                        <a:lnTo>
                          <a:pt x="166" y="1341"/>
                        </a:lnTo>
                        <a:lnTo>
                          <a:pt x="195" y="1326"/>
                        </a:lnTo>
                        <a:lnTo>
                          <a:pt x="209" y="1294"/>
                        </a:lnTo>
                        <a:lnTo>
                          <a:pt x="237" y="1277"/>
                        </a:lnTo>
                        <a:lnTo>
                          <a:pt x="251" y="1247"/>
                        </a:lnTo>
                        <a:lnTo>
                          <a:pt x="278" y="1230"/>
                        </a:lnTo>
                        <a:lnTo>
                          <a:pt x="292" y="1198"/>
                        </a:lnTo>
                        <a:lnTo>
                          <a:pt x="320" y="1183"/>
                        </a:lnTo>
                        <a:lnTo>
                          <a:pt x="334" y="1151"/>
                        </a:lnTo>
                        <a:lnTo>
                          <a:pt x="361" y="1136"/>
                        </a:lnTo>
                        <a:lnTo>
                          <a:pt x="375" y="1104"/>
                        </a:lnTo>
                        <a:lnTo>
                          <a:pt x="403" y="1073"/>
                        </a:lnTo>
                        <a:lnTo>
                          <a:pt x="417" y="1057"/>
                        </a:lnTo>
                        <a:lnTo>
                          <a:pt x="430" y="1025"/>
                        </a:lnTo>
                        <a:lnTo>
                          <a:pt x="458" y="994"/>
                        </a:lnTo>
                        <a:lnTo>
                          <a:pt x="472" y="962"/>
                        </a:lnTo>
                        <a:lnTo>
                          <a:pt x="486" y="931"/>
                        </a:lnTo>
                        <a:lnTo>
                          <a:pt x="500" y="915"/>
                        </a:lnTo>
                        <a:lnTo>
                          <a:pt x="513" y="883"/>
                        </a:lnTo>
                        <a:lnTo>
                          <a:pt x="541" y="853"/>
                        </a:lnTo>
                        <a:lnTo>
                          <a:pt x="555" y="821"/>
                        </a:lnTo>
                        <a:lnTo>
                          <a:pt x="569" y="789"/>
                        </a:lnTo>
                        <a:lnTo>
                          <a:pt x="582" y="757"/>
                        </a:lnTo>
                        <a:lnTo>
                          <a:pt x="596" y="725"/>
                        </a:lnTo>
                        <a:lnTo>
                          <a:pt x="610" y="695"/>
                        </a:lnTo>
                        <a:lnTo>
                          <a:pt x="624" y="663"/>
                        </a:lnTo>
                        <a:lnTo>
                          <a:pt x="638" y="631"/>
                        </a:lnTo>
                        <a:lnTo>
                          <a:pt x="652" y="599"/>
                        </a:lnTo>
                        <a:lnTo>
                          <a:pt x="665" y="567"/>
                        </a:lnTo>
                        <a:lnTo>
                          <a:pt x="679" y="537"/>
                        </a:lnTo>
                        <a:lnTo>
                          <a:pt x="693" y="505"/>
                        </a:lnTo>
                        <a:lnTo>
                          <a:pt x="707" y="473"/>
                        </a:lnTo>
                        <a:lnTo>
                          <a:pt x="721" y="442"/>
                        </a:lnTo>
                        <a:lnTo>
                          <a:pt x="721" y="410"/>
                        </a:lnTo>
                        <a:lnTo>
                          <a:pt x="735" y="379"/>
                        </a:lnTo>
                        <a:lnTo>
                          <a:pt x="748" y="347"/>
                        </a:lnTo>
                        <a:lnTo>
                          <a:pt x="762" y="316"/>
                        </a:lnTo>
                        <a:lnTo>
                          <a:pt x="762" y="284"/>
                        </a:lnTo>
                        <a:lnTo>
                          <a:pt x="776" y="252"/>
                        </a:lnTo>
                        <a:lnTo>
                          <a:pt x="790" y="222"/>
                        </a:lnTo>
                        <a:lnTo>
                          <a:pt x="790" y="190"/>
                        </a:lnTo>
                        <a:lnTo>
                          <a:pt x="804" y="158"/>
                        </a:lnTo>
                        <a:lnTo>
                          <a:pt x="804" y="126"/>
                        </a:lnTo>
                        <a:lnTo>
                          <a:pt x="818" y="94"/>
                        </a:lnTo>
                        <a:lnTo>
                          <a:pt x="818" y="64"/>
                        </a:lnTo>
                        <a:lnTo>
                          <a:pt x="831" y="32"/>
                        </a:lnTo>
                        <a:lnTo>
                          <a:pt x="831" y="0"/>
                        </a:lnTo>
                        <a:lnTo>
                          <a:pt x="0" y="146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566120" y="3336840"/>
                    <a:ext cx="439560" cy="776520"/>
                  </a:xfrm>
                  <a:custGeom>
                    <a:avLst/>
                    <a:gdLst/>
                    <a:ahLst/>
                    <a:rect l="l" t="t" r="r" b="b"/>
                    <a:pathLst>
                      <a:path w="831" h="1467">
                        <a:moveTo>
                          <a:pt x="0" y="1467"/>
                        </a:moveTo>
                        <a:lnTo>
                          <a:pt x="28" y="1452"/>
                        </a:lnTo>
                        <a:lnTo>
                          <a:pt x="56" y="1435"/>
                        </a:lnTo>
                        <a:lnTo>
                          <a:pt x="69" y="1420"/>
                        </a:lnTo>
                        <a:lnTo>
                          <a:pt x="97" y="1405"/>
                        </a:lnTo>
                        <a:lnTo>
                          <a:pt x="125" y="1388"/>
                        </a:lnTo>
                        <a:lnTo>
                          <a:pt x="139" y="1356"/>
                        </a:lnTo>
                        <a:lnTo>
                          <a:pt x="166" y="1341"/>
                        </a:lnTo>
                        <a:lnTo>
                          <a:pt x="195" y="1326"/>
                        </a:lnTo>
                        <a:lnTo>
                          <a:pt x="209" y="1294"/>
                        </a:lnTo>
                        <a:lnTo>
                          <a:pt x="237" y="1277"/>
                        </a:lnTo>
                        <a:lnTo>
                          <a:pt x="251" y="1247"/>
                        </a:lnTo>
                        <a:lnTo>
                          <a:pt x="278" y="1230"/>
                        </a:lnTo>
                        <a:lnTo>
                          <a:pt x="292" y="1198"/>
                        </a:lnTo>
                        <a:lnTo>
                          <a:pt x="320" y="1183"/>
                        </a:lnTo>
                        <a:lnTo>
                          <a:pt x="334" y="1151"/>
                        </a:lnTo>
                        <a:lnTo>
                          <a:pt x="361" y="1136"/>
                        </a:lnTo>
                        <a:lnTo>
                          <a:pt x="375" y="1104"/>
                        </a:lnTo>
                        <a:lnTo>
                          <a:pt x="403" y="1073"/>
                        </a:lnTo>
                        <a:lnTo>
                          <a:pt x="417" y="1057"/>
                        </a:lnTo>
                        <a:lnTo>
                          <a:pt x="430" y="1025"/>
                        </a:lnTo>
                        <a:lnTo>
                          <a:pt x="458" y="994"/>
                        </a:lnTo>
                        <a:lnTo>
                          <a:pt x="472" y="962"/>
                        </a:lnTo>
                        <a:lnTo>
                          <a:pt x="486" y="931"/>
                        </a:lnTo>
                        <a:lnTo>
                          <a:pt x="500" y="915"/>
                        </a:lnTo>
                        <a:lnTo>
                          <a:pt x="513" y="883"/>
                        </a:lnTo>
                        <a:lnTo>
                          <a:pt x="541" y="853"/>
                        </a:lnTo>
                        <a:lnTo>
                          <a:pt x="555" y="821"/>
                        </a:lnTo>
                        <a:lnTo>
                          <a:pt x="569" y="789"/>
                        </a:lnTo>
                        <a:lnTo>
                          <a:pt x="582" y="757"/>
                        </a:lnTo>
                        <a:lnTo>
                          <a:pt x="596" y="725"/>
                        </a:lnTo>
                        <a:lnTo>
                          <a:pt x="610" y="695"/>
                        </a:lnTo>
                        <a:lnTo>
                          <a:pt x="624" y="663"/>
                        </a:lnTo>
                        <a:lnTo>
                          <a:pt x="638" y="631"/>
                        </a:lnTo>
                        <a:lnTo>
                          <a:pt x="652" y="599"/>
                        </a:lnTo>
                        <a:lnTo>
                          <a:pt x="665" y="567"/>
                        </a:lnTo>
                        <a:lnTo>
                          <a:pt x="679" y="537"/>
                        </a:lnTo>
                        <a:lnTo>
                          <a:pt x="693" y="505"/>
                        </a:lnTo>
                        <a:lnTo>
                          <a:pt x="707" y="473"/>
                        </a:lnTo>
                        <a:lnTo>
                          <a:pt x="721" y="442"/>
                        </a:lnTo>
                        <a:lnTo>
                          <a:pt x="721" y="410"/>
                        </a:lnTo>
                        <a:lnTo>
                          <a:pt x="735" y="379"/>
                        </a:lnTo>
                        <a:lnTo>
                          <a:pt x="748" y="347"/>
                        </a:lnTo>
                        <a:lnTo>
                          <a:pt x="762" y="316"/>
                        </a:lnTo>
                        <a:lnTo>
                          <a:pt x="762" y="284"/>
                        </a:lnTo>
                        <a:lnTo>
                          <a:pt x="776" y="252"/>
                        </a:lnTo>
                        <a:lnTo>
                          <a:pt x="790" y="222"/>
                        </a:lnTo>
                        <a:lnTo>
                          <a:pt x="790" y="190"/>
                        </a:lnTo>
                        <a:lnTo>
                          <a:pt x="804" y="158"/>
                        </a:lnTo>
                        <a:lnTo>
                          <a:pt x="804" y="126"/>
                        </a:lnTo>
                        <a:lnTo>
                          <a:pt x="818" y="94"/>
                        </a:lnTo>
                        <a:lnTo>
                          <a:pt x="818" y="64"/>
                        </a:lnTo>
                        <a:lnTo>
                          <a:pt x="831" y="32"/>
                        </a:lnTo>
                        <a:lnTo>
                          <a:pt x="8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8005680" y="2793960"/>
                  <a:ext cx="30240" cy="542880"/>
                  <a:chOff x="8005680" y="2793960"/>
                  <a:chExt cx="30240" cy="542880"/>
                </a:xfrm>
              </p:grpSpPr>
              <p:sp>
                <p:nvSpPr>
                  <p:cNvPr id="1352" name=""/>
                  <p:cNvSpPr/>
                  <p:nvPr/>
                </p:nvSpPr>
                <p:spPr>
                  <a:xfrm>
                    <a:off x="8005680" y="2793960"/>
                    <a:ext cx="30240" cy="542880"/>
                  </a:xfrm>
                  <a:custGeom>
                    <a:avLst/>
                    <a:gdLst/>
                    <a:ahLst/>
                    <a:rect l="l" t="t" r="r" b="b"/>
                    <a:pathLst>
                      <a:path w="56" h="1025">
                        <a:moveTo>
                          <a:pt x="0" y="1025"/>
                        </a:moveTo>
                        <a:lnTo>
                          <a:pt x="14" y="993"/>
                        </a:lnTo>
                        <a:lnTo>
                          <a:pt x="14" y="962"/>
                        </a:lnTo>
                        <a:lnTo>
                          <a:pt x="28" y="914"/>
                        </a:lnTo>
                        <a:lnTo>
                          <a:pt x="28" y="883"/>
                        </a:lnTo>
                        <a:lnTo>
                          <a:pt x="28" y="852"/>
                        </a:lnTo>
                        <a:lnTo>
                          <a:pt x="28" y="820"/>
                        </a:lnTo>
                        <a:lnTo>
                          <a:pt x="42" y="773"/>
                        </a:lnTo>
                        <a:lnTo>
                          <a:pt x="42" y="742"/>
                        </a:lnTo>
                        <a:lnTo>
                          <a:pt x="42" y="710"/>
                        </a:lnTo>
                        <a:lnTo>
                          <a:pt x="42" y="678"/>
                        </a:lnTo>
                        <a:lnTo>
                          <a:pt x="42" y="631"/>
                        </a:lnTo>
                        <a:lnTo>
                          <a:pt x="56" y="599"/>
                        </a:lnTo>
                        <a:lnTo>
                          <a:pt x="56" y="567"/>
                        </a:lnTo>
                        <a:lnTo>
                          <a:pt x="56" y="537"/>
                        </a:lnTo>
                        <a:lnTo>
                          <a:pt x="56" y="488"/>
                        </a:lnTo>
                        <a:lnTo>
                          <a:pt x="56" y="458"/>
                        </a:lnTo>
                        <a:lnTo>
                          <a:pt x="56" y="426"/>
                        </a:lnTo>
                        <a:lnTo>
                          <a:pt x="56" y="394"/>
                        </a:lnTo>
                        <a:lnTo>
                          <a:pt x="56" y="347"/>
                        </a:lnTo>
                        <a:lnTo>
                          <a:pt x="56" y="315"/>
                        </a:lnTo>
                        <a:lnTo>
                          <a:pt x="56" y="284"/>
                        </a:lnTo>
                        <a:lnTo>
                          <a:pt x="56" y="236"/>
                        </a:lnTo>
                        <a:lnTo>
                          <a:pt x="56" y="205"/>
                        </a:lnTo>
                        <a:lnTo>
                          <a:pt x="56" y="173"/>
                        </a:lnTo>
                        <a:lnTo>
                          <a:pt x="56" y="141"/>
                        </a:lnTo>
                        <a:lnTo>
                          <a:pt x="56" y="94"/>
                        </a:lnTo>
                        <a:lnTo>
                          <a:pt x="56" y="62"/>
                        </a:lnTo>
                        <a:lnTo>
                          <a:pt x="56" y="32"/>
                        </a:lnTo>
                        <a:lnTo>
                          <a:pt x="56" y="0"/>
                        </a:lnTo>
                        <a:lnTo>
                          <a:pt x="0" y="1025"/>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005680" y="2793960"/>
                    <a:ext cx="30240" cy="542880"/>
                  </a:xfrm>
                  <a:custGeom>
                    <a:avLst/>
                    <a:gdLst/>
                    <a:ahLst/>
                    <a:rect l="l" t="t" r="r" b="b"/>
                    <a:pathLst>
                      <a:path w="56" h="1025">
                        <a:moveTo>
                          <a:pt x="0" y="1025"/>
                        </a:moveTo>
                        <a:lnTo>
                          <a:pt x="14" y="993"/>
                        </a:lnTo>
                        <a:lnTo>
                          <a:pt x="14" y="962"/>
                        </a:lnTo>
                        <a:lnTo>
                          <a:pt x="28" y="914"/>
                        </a:lnTo>
                        <a:lnTo>
                          <a:pt x="28" y="883"/>
                        </a:lnTo>
                        <a:lnTo>
                          <a:pt x="28" y="852"/>
                        </a:lnTo>
                        <a:lnTo>
                          <a:pt x="28" y="820"/>
                        </a:lnTo>
                        <a:lnTo>
                          <a:pt x="42" y="773"/>
                        </a:lnTo>
                        <a:lnTo>
                          <a:pt x="42" y="742"/>
                        </a:lnTo>
                        <a:lnTo>
                          <a:pt x="42" y="710"/>
                        </a:lnTo>
                        <a:lnTo>
                          <a:pt x="42" y="678"/>
                        </a:lnTo>
                        <a:lnTo>
                          <a:pt x="42" y="631"/>
                        </a:lnTo>
                        <a:lnTo>
                          <a:pt x="56" y="599"/>
                        </a:lnTo>
                        <a:lnTo>
                          <a:pt x="56" y="567"/>
                        </a:lnTo>
                        <a:lnTo>
                          <a:pt x="56" y="537"/>
                        </a:lnTo>
                        <a:lnTo>
                          <a:pt x="56" y="488"/>
                        </a:lnTo>
                        <a:lnTo>
                          <a:pt x="56" y="458"/>
                        </a:lnTo>
                        <a:lnTo>
                          <a:pt x="56" y="426"/>
                        </a:lnTo>
                        <a:lnTo>
                          <a:pt x="56" y="394"/>
                        </a:lnTo>
                        <a:lnTo>
                          <a:pt x="56" y="347"/>
                        </a:lnTo>
                        <a:lnTo>
                          <a:pt x="56" y="315"/>
                        </a:lnTo>
                        <a:lnTo>
                          <a:pt x="56" y="284"/>
                        </a:lnTo>
                        <a:lnTo>
                          <a:pt x="56" y="236"/>
                        </a:lnTo>
                        <a:lnTo>
                          <a:pt x="56" y="205"/>
                        </a:lnTo>
                        <a:lnTo>
                          <a:pt x="56" y="173"/>
                        </a:lnTo>
                        <a:lnTo>
                          <a:pt x="56" y="141"/>
                        </a:lnTo>
                        <a:lnTo>
                          <a:pt x="56" y="94"/>
                        </a:lnTo>
                        <a:lnTo>
                          <a:pt x="56" y="62"/>
                        </a:lnTo>
                        <a:lnTo>
                          <a:pt x="56" y="32"/>
                        </a:lnTo>
                        <a:lnTo>
                          <a:pt x="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7985160" y="2468520"/>
                  <a:ext cx="50760" cy="325440"/>
                  <a:chOff x="7985160" y="2468520"/>
                  <a:chExt cx="50760" cy="325440"/>
                </a:xfrm>
              </p:grpSpPr>
              <p:sp>
                <p:nvSpPr>
                  <p:cNvPr id="1355" name=""/>
                  <p:cNvSpPr/>
                  <p:nvPr/>
                </p:nvSpPr>
                <p:spPr>
                  <a:xfrm>
                    <a:off x="7985160" y="2468520"/>
                    <a:ext cx="50760" cy="325440"/>
                  </a:xfrm>
                  <a:custGeom>
                    <a:avLst/>
                    <a:gdLst/>
                    <a:ahLst/>
                    <a:rect l="l" t="t" r="r" b="b"/>
                    <a:pathLst>
                      <a:path w="97" h="616">
                        <a:moveTo>
                          <a:pt x="97" y="616"/>
                        </a:moveTo>
                        <a:lnTo>
                          <a:pt x="97" y="569"/>
                        </a:lnTo>
                        <a:lnTo>
                          <a:pt x="97" y="537"/>
                        </a:lnTo>
                        <a:lnTo>
                          <a:pt x="83" y="505"/>
                        </a:lnTo>
                        <a:lnTo>
                          <a:pt x="83" y="458"/>
                        </a:lnTo>
                        <a:lnTo>
                          <a:pt x="83" y="426"/>
                        </a:lnTo>
                        <a:lnTo>
                          <a:pt x="83" y="394"/>
                        </a:lnTo>
                        <a:lnTo>
                          <a:pt x="69" y="347"/>
                        </a:lnTo>
                        <a:lnTo>
                          <a:pt x="69" y="316"/>
                        </a:lnTo>
                        <a:lnTo>
                          <a:pt x="55" y="284"/>
                        </a:lnTo>
                        <a:lnTo>
                          <a:pt x="55" y="237"/>
                        </a:lnTo>
                        <a:lnTo>
                          <a:pt x="55" y="205"/>
                        </a:lnTo>
                        <a:lnTo>
                          <a:pt x="41" y="174"/>
                        </a:lnTo>
                        <a:lnTo>
                          <a:pt x="41" y="143"/>
                        </a:lnTo>
                        <a:lnTo>
                          <a:pt x="28" y="96"/>
                        </a:lnTo>
                        <a:lnTo>
                          <a:pt x="14" y="64"/>
                        </a:lnTo>
                        <a:lnTo>
                          <a:pt x="14" y="32"/>
                        </a:lnTo>
                        <a:lnTo>
                          <a:pt x="0" y="0"/>
                        </a:lnTo>
                        <a:lnTo>
                          <a:pt x="97" y="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985160" y="2468520"/>
                    <a:ext cx="50760" cy="325440"/>
                  </a:xfrm>
                  <a:custGeom>
                    <a:avLst/>
                    <a:gdLst/>
                    <a:ahLst/>
                    <a:rect l="l" t="t" r="r" b="b"/>
                    <a:pathLst>
                      <a:path w="97" h="616">
                        <a:moveTo>
                          <a:pt x="97" y="616"/>
                        </a:moveTo>
                        <a:lnTo>
                          <a:pt x="97" y="569"/>
                        </a:lnTo>
                        <a:lnTo>
                          <a:pt x="97" y="537"/>
                        </a:lnTo>
                        <a:lnTo>
                          <a:pt x="83" y="505"/>
                        </a:lnTo>
                        <a:lnTo>
                          <a:pt x="83" y="458"/>
                        </a:lnTo>
                        <a:lnTo>
                          <a:pt x="83" y="426"/>
                        </a:lnTo>
                        <a:lnTo>
                          <a:pt x="83" y="394"/>
                        </a:lnTo>
                        <a:lnTo>
                          <a:pt x="69" y="347"/>
                        </a:lnTo>
                        <a:lnTo>
                          <a:pt x="69" y="316"/>
                        </a:lnTo>
                        <a:lnTo>
                          <a:pt x="55" y="284"/>
                        </a:lnTo>
                        <a:lnTo>
                          <a:pt x="55" y="237"/>
                        </a:lnTo>
                        <a:lnTo>
                          <a:pt x="55" y="205"/>
                        </a:lnTo>
                        <a:lnTo>
                          <a:pt x="41" y="174"/>
                        </a:lnTo>
                        <a:lnTo>
                          <a:pt x="41" y="143"/>
                        </a:lnTo>
                        <a:lnTo>
                          <a:pt x="28" y="96"/>
                        </a:lnTo>
                        <a:lnTo>
                          <a:pt x="14" y="64"/>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7750080" y="1959120"/>
                  <a:ext cx="235080" cy="509400"/>
                  <a:chOff x="7750080" y="1959120"/>
                  <a:chExt cx="235080" cy="509400"/>
                </a:xfrm>
              </p:grpSpPr>
              <p:sp>
                <p:nvSpPr>
                  <p:cNvPr id="1358" name=""/>
                  <p:cNvSpPr/>
                  <p:nvPr/>
                </p:nvSpPr>
                <p:spPr>
                  <a:xfrm>
                    <a:off x="7750080" y="1959120"/>
                    <a:ext cx="235080" cy="509400"/>
                  </a:xfrm>
                  <a:custGeom>
                    <a:avLst/>
                    <a:gdLst/>
                    <a:ahLst/>
                    <a:rect l="l" t="t" r="r" b="b"/>
                    <a:pathLst>
                      <a:path w="443" h="962">
                        <a:moveTo>
                          <a:pt x="443" y="962"/>
                        </a:moveTo>
                        <a:lnTo>
                          <a:pt x="443" y="915"/>
                        </a:lnTo>
                        <a:lnTo>
                          <a:pt x="429" y="883"/>
                        </a:lnTo>
                        <a:lnTo>
                          <a:pt x="415" y="836"/>
                        </a:lnTo>
                        <a:lnTo>
                          <a:pt x="415" y="804"/>
                        </a:lnTo>
                        <a:lnTo>
                          <a:pt x="401" y="773"/>
                        </a:lnTo>
                        <a:lnTo>
                          <a:pt x="388" y="742"/>
                        </a:lnTo>
                        <a:lnTo>
                          <a:pt x="374" y="710"/>
                        </a:lnTo>
                        <a:lnTo>
                          <a:pt x="360" y="663"/>
                        </a:lnTo>
                        <a:lnTo>
                          <a:pt x="346" y="631"/>
                        </a:lnTo>
                        <a:lnTo>
                          <a:pt x="346" y="600"/>
                        </a:lnTo>
                        <a:lnTo>
                          <a:pt x="332" y="568"/>
                        </a:lnTo>
                        <a:lnTo>
                          <a:pt x="318" y="536"/>
                        </a:lnTo>
                        <a:lnTo>
                          <a:pt x="305" y="505"/>
                        </a:lnTo>
                        <a:lnTo>
                          <a:pt x="291" y="474"/>
                        </a:lnTo>
                        <a:lnTo>
                          <a:pt x="263" y="442"/>
                        </a:lnTo>
                        <a:lnTo>
                          <a:pt x="249" y="410"/>
                        </a:lnTo>
                        <a:lnTo>
                          <a:pt x="235" y="378"/>
                        </a:lnTo>
                        <a:lnTo>
                          <a:pt x="222" y="348"/>
                        </a:lnTo>
                        <a:lnTo>
                          <a:pt x="208" y="316"/>
                        </a:lnTo>
                        <a:lnTo>
                          <a:pt x="194" y="284"/>
                        </a:lnTo>
                        <a:lnTo>
                          <a:pt x="166" y="252"/>
                        </a:lnTo>
                        <a:lnTo>
                          <a:pt x="153" y="220"/>
                        </a:lnTo>
                        <a:lnTo>
                          <a:pt x="139" y="205"/>
                        </a:lnTo>
                        <a:lnTo>
                          <a:pt x="125" y="173"/>
                        </a:lnTo>
                        <a:lnTo>
                          <a:pt x="97" y="142"/>
                        </a:lnTo>
                        <a:lnTo>
                          <a:pt x="83" y="111"/>
                        </a:lnTo>
                        <a:lnTo>
                          <a:pt x="70" y="79"/>
                        </a:lnTo>
                        <a:lnTo>
                          <a:pt x="42" y="48"/>
                        </a:lnTo>
                        <a:lnTo>
                          <a:pt x="28" y="32"/>
                        </a:lnTo>
                        <a:lnTo>
                          <a:pt x="0" y="0"/>
                        </a:lnTo>
                        <a:lnTo>
                          <a:pt x="443" y="9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750080" y="1959120"/>
                    <a:ext cx="235080" cy="509400"/>
                  </a:xfrm>
                  <a:custGeom>
                    <a:avLst/>
                    <a:gdLst/>
                    <a:ahLst/>
                    <a:rect l="l" t="t" r="r" b="b"/>
                    <a:pathLst>
                      <a:path w="443" h="962">
                        <a:moveTo>
                          <a:pt x="443" y="962"/>
                        </a:moveTo>
                        <a:lnTo>
                          <a:pt x="443" y="915"/>
                        </a:lnTo>
                        <a:lnTo>
                          <a:pt x="429" y="883"/>
                        </a:lnTo>
                        <a:lnTo>
                          <a:pt x="415" y="836"/>
                        </a:lnTo>
                        <a:lnTo>
                          <a:pt x="415" y="804"/>
                        </a:lnTo>
                        <a:lnTo>
                          <a:pt x="401" y="773"/>
                        </a:lnTo>
                        <a:lnTo>
                          <a:pt x="388" y="742"/>
                        </a:lnTo>
                        <a:lnTo>
                          <a:pt x="374" y="710"/>
                        </a:lnTo>
                        <a:lnTo>
                          <a:pt x="360" y="663"/>
                        </a:lnTo>
                        <a:lnTo>
                          <a:pt x="346" y="631"/>
                        </a:lnTo>
                        <a:lnTo>
                          <a:pt x="346" y="600"/>
                        </a:lnTo>
                        <a:lnTo>
                          <a:pt x="332" y="568"/>
                        </a:lnTo>
                        <a:lnTo>
                          <a:pt x="318" y="536"/>
                        </a:lnTo>
                        <a:lnTo>
                          <a:pt x="305" y="505"/>
                        </a:lnTo>
                        <a:lnTo>
                          <a:pt x="291" y="474"/>
                        </a:lnTo>
                        <a:lnTo>
                          <a:pt x="263" y="442"/>
                        </a:lnTo>
                        <a:lnTo>
                          <a:pt x="249" y="410"/>
                        </a:lnTo>
                        <a:lnTo>
                          <a:pt x="235" y="378"/>
                        </a:lnTo>
                        <a:lnTo>
                          <a:pt x="222" y="348"/>
                        </a:lnTo>
                        <a:lnTo>
                          <a:pt x="208" y="316"/>
                        </a:lnTo>
                        <a:lnTo>
                          <a:pt x="194" y="284"/>
                        </a:lnTo>
                        <a:lnTo>
                          <a:pt x="166" y="252"/>
                        </a:lnTo>
                        <a:lnTo>
                          <a:pt x="153" y="220"/>
                        </a:lnTo>
                        <a:lnTo>
                          <a:pt x="139" y="205"/>
                        </a:lnTo>
                        <a:lnTo>
                          <a:pt x="125" y="173"/>
                        </a:lnTo>
                        <a:lnTo>
                          <a:pt x="97" y="142"/>
                        </a:lnTo>
                        <a:lnTo>
                          <a:pt x="83" y="111"/>
                        </a:lnTo>
                        <a:lnTo>
                          <a:pt x="70" y="79"/>
                        </a:lnTo>
                        <a:lnTo>
                          <a:pt x="42" y="48"/>
                        </a:lnTo>
                        <a:lnTo>
                          <a:pt x="28"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7640640" y="1833480"/>
                  <a:ext cx="109440" cy="125640"/>
                  <a:chOff x="7640640" y="1833480"/>
                  <a:chExt cx="109440" cy="125640"/>
                </a:xfrm>
              </p:grpSpPr>
              <p:sp>
                <p:nvSpPr>
                  <p:cNvPr id="1361" name=""/>
                  <p:cNvSpPr/>
                  <p:nvPr/>
                </p:nvSpPr>
                <p:spPr>
                  <a:xfrm>
                    <a:off x="7640640" y="1833480"/>
                    <a:ext cx="109440" cy="125640"/>
                  </a:xfrm>
                  <a:custGeom>
                    <a:avLst/>
                    <a:gdLst/>
                    <a:ahLst/>
                    <a:rect l="l" t="t" r="r" b="b"/>
                    <a:pathLst>
                      <a:path w="208" h="236">
                        <a:moveTo>
                          <a:pt x="208" y="236"/>
                        </a:moveTo>
                        <a:lnTo>
                          <a:pt x="195" y="205"/>
                        </a:lnTo>
                        <a:lnTo>
                          <a:pt x="167" y="173"/>
                        </a:lnTo>
                        <a:lnTo>
                          <a:pt x="139" y="141"/>
                        </a:lnTo>
                        <a:lnTo>
                          <a:pt x="112" y="111"/>
                        </a:lnTo>
                        <a:lnTo>
                          <a:pt x="84" y="79"/>
                        </a:lnTo>
                        <a:lnTo>
                          <a:pt x="56" y="47"/>
                        </a:lnTo>
                        <a:lnTo>
                          <a:pt x="27" y="32"/>
                        </a:lnTo>
                        <a:lnTo>
                          <a:pt x="0" y="0"/>
                        </a:lnTo>
                        <a:lnTo>
                          <a:pt x="208" y="2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640640" y="1833480"/>
                    <a:ext cx="109440" cy="125640"/>
                  </a:xfrm>
                  <a:custGeom>
                    <a:avLst/>
                    <a:gdLst/>
                    <a:ahLst/>
                    <a:rect l="l" t="t" r="r" b="b"/>
                    <a:pathLst>
                      <a:path w="208" h="236">
                        <a:moveTo>
                          <a:pt x="208" y="236"/>
                        </a:moveTo>
                        <a:lnTo>
                          <a:pt x="195" y="205"/>
                        </a:lnTo>
                        <a:lnTo>
                          <a:pt x="167" y="173"/>
                        </a:lnTo>
                        <a:lnTo>
                          <a:pt x="139" y="141"/>
                        </a:lnTo>
                        <a:lnTo>
                          <a:pt x="112" y="111"/>
                        </a:lnTo>
                        <a:lnTo>
                          <a:pt x="84" y="79"/>
                        </a:lnTo>
                        <a:lnTo>
                          <a:pt x="56" y="47"/>
                        </a:lnTo>
                        <a:lnTo>
                          <a:pt x="27"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7588080" y="1792440"/>
                  <a:ext cx="52560" cy="41040"/>
                  <a:chOff x="7588080" y="1792440"/>
                  <a:chExt cx="52560" cy="41040"/>
                </a:xfrm>
              </p:grpSpPr>
              <p:sp>
                <p:nvSpPr>
                  <p:cNvPr id="1364" name=""/>
                  <p:cNvSpPr/>
                  <p:nvPr/>
                </p:nvSpPr>
                <p:spPr>
                  <a:xfrm>
                    <a:off x="7588080" y="1792440"/>
                    <a:ext cx="52560" cy="41040"/>
                  </a:xfrm>
                  <a:custGeom>
                    <a:avLst/>
                    <a:gdLst/>
                    <a:ahLst/>
                    <a:rect l="l" t="t" r="r" b="b"/>
                    <a:pathLst>
                      <a:path w="97" h="79">
                        <a:moveTo>
                          <a:pt x="97" y="79"/>
                        </a:moveTo>
                        <a:lnTo>
                          <a:pt x="69" y="47"/>
                        </a:lnTo>
                        <a:lnTo>
                          <a:pt x="27" y="32"/>
                        </a:lnTo>
                        <a:lnTo>
                          <a:pt x="0" y="0"/>
                        </a:lnTo>
                        <a:lnTo>
                          <a:pt x="97" y="79"/>
                        </a:lnTo>
                        <a:close/>
                      </a:path>
                    </a:pathLst>
                  </a:custGeom>
                  <a:solidFill>
                    <a:srgbClr val="cce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5" name=""/>
                  <p:cNvSpPr/>
                  <p:nvPr/>
                </p:nvSpPr>
                <p:spPr>
                  <a:xfrm>
                    <a:off x="7588080" y="1792440"/>
                    <a:ext cx="52560" cy="41040"/>
                  </a:xfrm>
                  <a:custGeom>
                    <a:avLst/>
                    <a:gdLst/>
                    <a:ahLst/>
                    <a:rect l="l" t="t" r="r" b="b"/>
                    <a:pathLst>
                      <a:path w="97" h="79">
                        <a:moveTo>
                          <a:pt x="97" y="79"/>
                        </a:moveTo>
                        <a:lnTo>
                          <a:pt x="69" y="47"/>
                        </a:lnTo>
                        <a:lnTo>
                          <a:pt x="27" y="32"/>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366" name=""/>
                <p:cNvGrpSpPr/>
                <p:nvPr/>
              </p:nvGrpSpPr>
              <p:grpSpPr>
                <a:xfrm>
                  <a:off x="7566120" y="1774800"/>
                  <a:ext cx="21960" cy="17640"/>
                  <a:chOff x="7566120" y="1774800"/>
                  <a:chExt cx="21960" cy="17640"/>
                </a:xfrm>
              </p:grpSpPr>
              <p:sp>
                <p:nvSpPr>
                  <p:cNvPr id="1367" name=""/>
                  <p:cNvSpPr/>
                  <p:nvPr/>
                </p:nvSpPr>
                <p:spPr>
                  <a:xfrm>
                    <a:off x="7566120" y="1774800"/>
                    <a:ext cx="21960" cy="17640"/>
                  </a:xfrm>
                  <a:custGeom>
                    <a:avLst/>
                    <a:gdLst/>
                    <a:ahLst/>
                    <a:rect l="l" t="t" r="r" b="b"/>
                    <a:pathLst>
                      <a:path w="42" h="32">
                        <a:moveTo>
                          <a:pt x="42" y="32"/>
                        </a:moveTo>
                        <a:lnTo>
                          <a:pt x="28" y="15"/>
                        </a:lnTo>
                        <a:lnTo>
                          <a:pt x="14" y="15"/>
                        </a:lnTo>
                        <a:lnTo>
                          <a:pt x="0" y="0"/>
                        </a:lnTo>
                        <a:lnTo>
                          <a:pt x="42"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8" name=""/>
                  <p:cNvSpPr/>
                  <p:nvPr/>
                </p:nvSpPr>
                <p:spPr>
                  <a:xfrm>
                    <a:off x="7566120" y="1774800"/>
                    <a:ext cx="21960" cy="17640"/>
                  </a:xfrm>
                  <a:custGeom>
                    <a:avLst/>
                    <a:gdLst/>
                    <a:ahLst/>
                    <a:rect l="l" t="t" r="r" b="b"/>
                    <a:pathLst>
                      <a:path w="42" h="32">
                        <a:moveTo>
                          <a:pt x="42" y="32"/>
                        </a:moveTo>
                        <a:lnTo>
                          <a:pt x="28" y="15"/>
                        </a:lnTo>
                        <a:lnTo>
                          <a:pt x="14"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69" name=""/>
                <p:cNvGrpSpPr/>
                <p:nvPr/>
              </p:nvGrpSpPr>
              <p:grpSpPr>
                <a:xfrm>
                  <a:off x="7655040" y="3987720"/>
                  <a:ext cx="176040" cy="125640"/>
                  <a:chOff x="7655040" y="3987720"/>
                  <a:chExt cx="176040" cy="125640"/>
                </a:xfrm>
              </p:grpSpPr>
              <p:sp>
                <p:nvSpPr>
                  <p:cNvPr id="1370" name=""/>
                  <p:cNvSpPr/>
                  <p:nvPr/>
                </p:nvSpPr>
                <p:spPr>
                  <a:xfrm>
                    <a:off x="7655040" y="3987720"/>
                    <a:ext cx="176040" cy="125640"/>
                  </a:xfrm>
                  <a:custGeom>
                    <a:avLst/>
                    <a:gdLst/>
                    <a:ahLst/>
                    <a:rect l="l" t="t" r="r" b="b"/>
                    <a:pathLst>
                      <a:path w="334" h="237">
                        <a:moveTo>
                          <a:pt x="0" y="237"/>
                        </a:moveTo>
                        <a:lnTo>
                          <a:pt x="29" y="222"/>
                        </a:lnTo>
                        <a:lnTo>
                          <a:pt x="57" y="205"/>
                        </a:lnTo>
                        <a:lnTo>
                          <a:pt x="85" y="190"/>
                        </a:lnTo>
                        <a:lnTo>
                          <a:pt x="112" y="175"/>
                        </a:lnTo>
                        <a:lnTo>
                          <a:pt x="140" y="158"/>
                        </a:lnTo>
                        <a:lnTo>
                          <a:pt x="168" y="126"/>
                        </a:lnTo>
                        <a:lnTo>
                          <a:pt x="195" y="111"/>
                        </a:lnTo>
                        <a:lnTo>
                          <a:pt x="223" y="96"/>
                        </a:lnTo>
                        <a:lnTo>
                          <a:pt x="251" y="64"/>
                        </a:lnTo>
                        <a:lnTo>
                          <a:pt x="278" y="47"/>
                        </a:lnTo>
                        <a:lnTo>
                          <a:pt x="306" y="32"/>
                        </a:lnTo>
                        <a:lnTo>
                          <a:pt x="334" y="0"/>
                        </a:lnTo>
                        <a:lnTo>
                          <a:pt x="0" y="2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655040" y="3987720"/>
                    <a:ext cx="176040" cy="125640"/>
                  </a:xfrm>
                  <a:custGeom>
                    <a:avLst/>
                    <a:gdLst/>
                    <a:ahLst/>
                    <a:rect l="l" t="t" r="r" b="b"/>
                    <a:pathLst>
                      <a:path w="334" h="237">
                        <a:moveTo>
                          <a:pt x="0" y="237"/>
                        </a:moveTo>
                        <a:lnTo>
                          <a:pt x="29" y="222"/>
                        </a:lnTo>
                        <a:lnTo>
                          <a:pt x="57" y="205"/>
                        </a:lnTo>
                        <a:lnTo>
                          <a:pt x="85" y="190"/>
                        </a:lnTo>
                        <a:lnTo>
                          <a:pt x="112" y="175"/>
                        </a:lnTo>
                        <a:lnTo>
                          <a:pt x="140" y="158"/>
                        </a:lnTo>
                        <a:lnTo>
                          <a:pt x="168" y="126"/>
                        </a:lnTo>
                        <a:lnTo>
                          <a:pt x="195" y="111"/>
                        </a:lnTo>
                        <a:lnTo>
                          <a:pt x="223" y="96"/>
                        </a:lnTo>
                        <a:lnTo>
                          <a:pt x="251" y="64"/>
                        </a:lnTo>
                        <a:lnTo>
                          <a:pt x="278" y="47"/>
                        </a:lnTo>
                        <a:lnTo>
                          <a:pt x="306" y="32"/>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7831080" y="3403440"/>
                  <a:ext cx="330120" cy="584280"/>
                  <a:chOff x="7831080" y="3403440"/>
                  <a:chExt cx="330120" cy="584280"/>
                </a:xfrm>
              </p:grpSpPr>
              <p:sp>
                <p:nvSpPr>
                  <p:cNvPr id="1373" name=""/>
                  <p:cNvSpPr/>
                  <p:nvPr/>
                </p:nvSpPr>
                <p:spPr>
                  <a:xfrm>
                    <a:off x="7831080" y="3403440"/>
                    <a:ext cx="330120" cy="584280"/>
                  </a:xfrm>
                  <a:custGeom>
                    <a:avLst/>
                    <a:gdLst/>
                    <a:ahLst/>
                    <a:rect l="l" t="t" r="r" b="b"/>
                    <a:pathLst>
                      <a:path w="623" h="1104">
                        <a:moveTo>
                          <a:pt x="0" y="1104"/>
                        </a:moveTo>
                        <a:lnTo>
                          <a:pt x="13" y="1089"/>
                        </a:lnTo>
                        <a:lnTo>
                          <a:pt x="41" y="1057"/>
                        </a:lnTo>
                        <a:lnTo>
                          <a:pt x="55" y="1042"/>
                        </a:lnTo>
                        <a:lnTo>
                          <a:pt x="82" y="1010"/>
                        </a:lnTo>
                        <a:lnTo>
                          <a:pt x="96" y="994"/>
                        </a:lnTo>
                        <a:lnTo>
                          <a:pt x="124" y="963"/>
                        </a:lnTo>
                        <a:lnTo>
                          <a:pt x="138" y="931"/>
                        </a:lnTo>
                        <a:lnTo>
                          <a:pt x="165" y="915"/>
                        </a:lnTo>
                        <a:lnTo>
                          <a:pt x="179" y="884"/>
                        </a:lnTo>
                        <a:lnTo>
                          <a:pt x="207" y="852"/>
                        </a:lnTo>
                        <a:lnTo>
                          <a:pt x="221" y="836"/>
                        </a:lnTo>
                        <a:lnTo>
                          <a:pt x="248" y="805"/>
                        </a:lnTo>
                        <a:lnTo>
                          <a:pt x="262" y="774"/>
                        </a:lnTo>
                        <a:lnTo>
                          <a:pt x="276" y="742"/>
                        </a:lnTo>
                        <a:lnTo>
                          <a:pt x="304" y="710"/>
                        </a:lnTo>
                        <a:lnTo>
                          <a:pt x="318" y="678"/>
                        </a:lnTo>
                        <a:lnTo>
                          <a:pt x="331" y="663"/>
                        </a:lnTo>
                        <a:lnTo>
                          <a:pt x="359" y="631"/>
                        </a:lnTo>
                        <a:lnTo>
                          <a:pt x="373" y="599"/>
                        </a:lnTo>
                        <a:lnTo>
                          <a:pt x="387" y="569"/>
                        </a:lnTo>
                        <a:lnTo>
                          <a:pt x="401" y="537"/>
                        </a:lnTo>
                        <a:lnTo>
                          <a:pt x="414" y="505"/>
                        </a:lnTo>
                        <a:lnTo>
                          <a:pt x="442" y="473"/>
                        </a:lnTo>
                        <a:lnTo>
                          <a:pt x="456" y="441"/>
                        </a:lnTo>
                        <a:lnTo>
                          <a:pt x="470" y="411"/>
                        </a:lnTo>
                        <a:lnTo>
                          <a:pt x="485" y="379"/>
                        </a:lnTo>
                        <a:lnTo>
                          <a:pt x="499" y="347"/>
                        </a:lnTo>
                        <a:lnTo>
                          <a:pt x="513" y="316"/>
                        </a:lnTo>
                        <a:lnTo>
                          <a:pt x="526" y="284"/>
                        </a:lnTo>
                        <a:lnTo>
                          <a:pt x="540" y="253"/>
                        </a:lnTo>
                        <a:lnTo>
                          <a:pt x="554" y="221"/>
                        </a:lnTo>
                        <a:lnTo>
                          <a:pt x="554" y="190"/>
                        </a:lnTo>
                        <a:lnTo>
                          <a:pt x="568" y="158"/>
                        </a:lnTo>
                        <a:lnTo>
                          <a:pt x="582" y="126"/>
                        </a:lnTo>
                        <a:lnTo>
                          <a:pt x="596" y="79"/>
                        </a:lnTo>
                        <a:lnTo>
                          <a:pt x="596" y="47"/>
                        </a:lnTo>
                        <a:lnTo>
                          <a:pt x="609" y="17"/>
                        </a:lnTo>
                        <a:lnTo>
                          <a:pt x="623" y="0"/>
                        </a:lnTo>
                        <a:lnTo>
                          <a:pt x="0" y="110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831080" y="3403440"/>
                    <a:ext cx="330120" cy="584280"/>
                  </a:xfrm>
                  <a:custGeom>
                    <a:avLst/>
                    <a:gdLst/>
                    <a:ahLst/>
                    <a:rect l="l" t="t" r="r" b="b"/>
                    <a:pathLst>
                      <a:path w="623" h="1104">
                        <a:moveTo>
                          <a:pt x="0" y="1104"/>
                        </a:moveTo>
                        <a:lnTo>
                          <a:pt x="13" y="1089"/>
                        </a:lnTo>
                        <a:lnTo>
                          <a:pt x="41" y="1057"/>
                        </a:lnTo>
                        <a:lnTo>
                          <a:pt x="55" y="1042"/>
                        </a:lnTo>
                        <a:lnTo>
                          <a:pt x="82" y="1010"/>
                        </a:lnTo>
                        <a:lnTo>
                          <a:pt x="96" y="994"/>
                        </a:lnTo>
                        <a:lnTo>
                          <a:pt x="124" y="963"/>
                        </a:lnTo>
                        <a:lnTo>
                          <a:pt x="138" y="931"/>
                        </a:lnTo>
                        <a:lnTo>
                          <a:pt x="165" y="915"/>
                        </a:lnTo>
                        <a:lnTo>
                          <a:pt x="179" y="884"/>
                        </a:lnTo>
                        <a:lnTo>
                          <a:pt x="207" y="852"/>
                        </a:lnTo>
                        <a:lnTo>
                          <a:pt x="221" y="836"/>
                        </a:lnTo>
                        <a:lnTo>
                          <a:pt x="248" y="805"/>
                        </a:lnTo>
                        <a:lnTo>
                          <a:pt x="262" y="774"/>
                        </a:lnTo>
                        <a:lnTo>
                          <a:pt x="276" y="742"/>
                        </a:lnTo>
                        <a:lnTo>
                          <a:pt x="304" y="710"/>
                        </a:lnTo>
                        <a:lnTo>
                          <a:pt x="318" y="678"/>
                        </a:lnTo>
                        <a:lnTo>
                          <a:pt x="331" y="663"/>
                        </a:lnTo>
                        <a:lnTo>
                          <a:pt x="359" y="631"/>
                        </a:lnTo>
                        <a:lnTo>
                          <a:pt x="373" y="599"/>
                        </a:lnTo>
                        <a:lnTo>
                          <a:pt x="387" y="569"/>
                        </a:lnTo>
                        <a:lnTo>
                          <a:pt x="401" y="537"/>
                        </a:lnTo>
                        <a:lnTo>
                          <a:pt x="414" y="505"/>
                        </a:lnTo>
                        <a:lnTo>
                          <a:pt x="442" y="473"/>
                        </a:lnTo>
                        <a:lnTo>
                          <a:pt x="456" y="441"/>
                        </a:lnTo>
                        <a:lnTo>
                          <a:pt x="470" y="411"/>
                        </a:lnTo>
                        <a:lnTo>
                          <a:pt x="485" y="379"/>
                        </a:lnTo>
                        <a:lnTo>
                          <a:pt x="499" y="347"/>
                        </a:lnTo>
                        <a:lnTo>
                          <a:pt x="513" y="316"/>
                        </a:lnTo>
                        <a:lnTo>
                          <a:pt x="526" y="284"/>
                        </a:lnTo>
                        <a:lnTo>
                          <a:pt x="540" y="253"/>
                        </a:lnTo>
                        <a:lnTo>
                          <a:pt x="554" y="221"/>
                        </a:lnTo>
                        <a:lnTo>
                          <a:pt x="554" y="190"/>
                        </a:lnTo>
                        <a:lnTo>
                          <a:pt x="568" y="158"/>
                        </a:lnTo>
                        <a:lnTo>
                          <a:pt x="582" y="126"/>
                        </a:lnTo>
                        <a:lnTo>
                          <a:pt x="596" y="79"/>
                        </a:lnTo>
                        <a:lnTo>
                          <a:pt x="596" y="47"/>
                        </a:lnTo>
                        <a:lnTo>
                          <a:pt x="609" y="17"/>
                        </a:lnTo>
                        <a:lnTo>
                          <a:pt x="6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8161200" y="2527200"/>
                  <a:ext cx="50760" cy="876240"/>
                  <a:chOff x="8161200" y="2527200"/>
                  <a:chExt cx="50760" cy="876240"/>
                </a:xfrm>
              </p:grpSpPr>
              <p:sp>
                <p:nvSpPr>
                  <p:cNvPr id="1376" name=""/>
                  <p:cNvSpPr/>
                  <p:nvPr/>
                </p:nvSpPr>
                <p:spPr>
                  <a:xfrm>
                    <a:off x="8161200" y="2527200"/>
                    <a:ext cx="50760" cy="876240"/>
                  </a:xfrm>
                  <a:custGeom>
                    <a:avLst/>
                    <a:gdLst/>
                    <a:ahLst/>
                    <a:rect l="l" t="t" r="r" b="b"/>
                    <a:pathLst>
                      <a:path w="97" h="1656">
                        <a:moveTo>
                          <a:pt x="0" y="1656"/>
                        </a:moveTo>
                        <a:lnTo>
                          <a:pt x="0" y="1609"/>
                        </a:lnTo>
                        <a:lnTo>
                          <a:pt x="14" y="1577"/>
                        </a:lnTo>
                        <a:lnTo>
                          <a:pt x="14" y="1545"/>
                        </a:lnTo>
                        <a:lnTo>
                          <a:pt x="28" y="1515"/>
                        </a:lnTo>
                        <a:lnTo>
                          <a:pt x="28" y="1483"/>
                        </a:lnTo>
                        <a:lnTo>
                          <a:pt x="42" y="1451"/>
                        </a:lnTo>
                        <a:lnTo>
                          <a:pt x="42" y="1419"/>
                        </a:lnTo>
                        <a:lnTo>
                          <a:pt x="42" y="1388"/>
                        </a:lnTo>
                        <a:lnTo>
                          <a:pt x="56" y="1341"/>
                        </a:lnTo>
                        <a:lnTo>
                          <a:pt x="56" y="1309"/>
                        </a:lnTo>
                        <a:lnTo>
                          <a:pt x="69" y="1278"/>
                        </a:lnTo>
                        <a:lnTo>
                          <a:pt x="69" y="1247"/>
                        </a:lnTo>
                        <a:lnTo>
                          <a:pt x="69" y="1215"/>
                        </a:lnTo>
                        <a:lnTo>
                          <a:pt x="69" y="1168"/>
                        </a:lnTo>
                        <a:lnTo>
                          <a:pt x="83" y="1136"/>
                        </a:lnTo>
                        <a:lnTo>
                          <a:pt x="83" y="1104"/>
                        </a:lnTo>
                        <a:lnTo>
                          <a:pt x="83" y="1072"/>
                        </a:lnTo>
                        <a:lnTo>
                          <a:pt x="83" y="1042"/>
                        </a:lnTo>
                        <a:lnTo>
                          <a:pt x="83" y="993"/>
                        </a:lnTo>
                        <a:lnTo>
                          <a:pt x="83" y="963"/>
                        </a:lnTo>
                        <a:lnTo>
                          <a:pt x="83" y="931"/>
                        </a:lnTo>
                        <a:lnTo>
                          <a:pt x="97" y="899"/>
                        </a:lnTo>
                        <a:lnTo>
                          <a:pt x="97" y="852"/>
                        </a:lnTo>
                        <a:lnTo>
                          <a:pt x="97" y="820"/>
                        </a:lnTo>
                        <a:lnTo>
                          <a:pt x="97" y="789"/>
                        </a:lnTo>
                        <a:lnTo>
                          <a:pt x="97" y="757"/>
                        </a:lnTo>
                        <a:lnTo>
                          <a:pt x="97" y="725"/>
                        </a:lnTo>
                        <a:lnTo>
                          <a:pt x="83" y="678"/>
                        </a:lnTo>
                        <a:lnTo>
                          <a:pt x="83" y="646"/>
                        </a:lnTo>
                        <a:lnTo>
                          <a:pt x="83" y="616"/>
                        </a:lnTo>
                        <a:lnTo>
                          <a:pt x="83" y="584"/>
                        </a:lnTo>
                        <a:lnTo>
                          <a:pt x="83" y="537"/>
                        </a:lnTo>
                        <a:lnTo>
                          <a:pt x="83" y="505"/>
                        </a:lnTo>
                        <a:lnTo>
                          <a:pt x="69" y="473"/>
                        </a:lnTo>
                        <a:lnTo>
                          <a:pt x="69" y="441"/>
                        </a:lnTo>
                        <a:lnTo>
                          <a:pt x="69" y="409"/>
                        </a:lnTo>
                        <a:lnTo>
                          <a:pt x="69" y="362"/>
                        </a:lnTo>
                        <a:lnTo>
                          <a:pt x="56" y="331"/>
                        </a:lnTo>
                        <a:lnTo>
                          <a:pt x="56" y="300"/>
                        </a:lnTo>
                        <a:lnTo>
                          <a:pt x="56" y="268"/>
                        </a:lnTo>
                        <a:lnTo>
                          <a:pt x="42" y="236"/>
                        </a:lnTo>
                        <a:lnTo>
                          <a:pt x="42" y="205"/>
                        </a:lnTo>
                        <a:lnTo>
                          <a:pt x="42" y="158"/>
                        </a:lnTo>
                        <a:lnTo>
                          <a:pt x="28" y="126"/>
                        </a:lnTo>
                        <a:lnTo>
                          <a:pt x="28" y="94"/>
                        </a:lnTo>
                        <a:lnTo>
                          <a:pt x="14" y="63"/>
                        </a:lnTo>
                        <a:lnTo>
                          <a:pt x="14" y="32"/>
                        </a:lnTo>
                        <a:lnTo>
                          <a:pt x="0" y="0"/>
                        </a:lnTo>
                        <a:lnTo>
                          <a:pt x="0" y="165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61200" y="2527200"/>
                    <a:ext cx="50760" cy="876240"/>
                  </a:xfrm>
                  <a:custGeom>
                    <a:avLst/>
                    <a:gdLst/>
                    <a:ahLst/>
                    <a:rect l="l" t="t" r="r" b="b"/>
                    <a:pathLst>
                      <a:path w="97" h="1656">
                        <a:moveTo>
                          <a:pt x="0" y="1656"/>
                        </a:moveTo>
                        <a:lnTo>
                          <a:pt x="0" y="1609"/>
                        </a:lnTo>
                        <a:lnTo>
                          <a:pt x="14" y="1577"/>
                        </a:lnTo>
                        <a:lnTo>
                          <a:pt x="14" y="1545"/>
                        </a:lnTo>
                        <a:lnTo>
                          <a:pt x="28" y="1515"/>
                        </a:lnTo>
                        <a:lnTo>
                          <a:pt x="28" y="1483"/>
                        </a:lnTo>
                        <a:lnTo>
                          <a:pt x="42" y="1451"/>
                        </a:lnTo>
                        <a:lnTo>
                          <a:pt x="42" y="1419"/>
                        </a:lnTo>
                        <a:lnTo>
                          <a:pt x="42" y="1388"/>
                        </a:lnTo>
                        <a:lnTo>
                          <a:pt x="56" y="1341"/>
                        </a:lnTo>
                        <a:lnTo>
                          <a:pt x="56" y="1309"/>
                        </a:lnTo>
                        <a:lnTo>
                          <a:pt x="69" y="1278"/>
                        </a:lnTo>
                        <a:lnTo>
                          <a:pt x="69" y="1247"/>
                        </a:lnTo>
                        <a:lnTo>
                          <a:pt x="69" y="1215"/>
                        </a:lnTo>
                        <a:lnTo>
                          <a:pt x="69" y="1168"/>
                        </a:lnTo>
                        <a:lnTo>
                          <a:pt x="83" y="1136"/>
                        </a:lnTo>
                        <a:lnTo>
                          <a:pt x="83" y="1104"/>
                        </a:lnTo>
                        <a:lnTo>
                          <a:pt x="83" y="1072"/>
                        </a:lnTo>
                        <a:lnTo>
                          <a:pt x="83" y="1042"/>
                        </a:lnTo>
                        <a:lnTo>
                          <a:pt x="83" y="993"/>
                        </a:lnTo>
                        <a:lnTo>
                          <a:pt x="83" y="963"/>
                        </a:lnTo>
                        <a:lnTo>
                          <a:pt x="83" y="931"/>
                        </a:lnTo>
                        <a:lnTo>
                          <a:pt x="97" y="899"/>
                        </a:lnTo>
                        <a:lnTo>
                          <a:pt x="97" y="852"/>
                        </a:lnTo>
                        <a:lnTo>
                          <a:pt x="97" y="820"/>
                        </a:lnTo>
                        <a:lnTo>
                          <a:pt x="97" y="789"/>
                        </a:lnTo>
                        <a:lnTo>
                          <a:pt x="97" y="757"/>
                        </a:lnTo>
                        <a:lnTo>
                          <a:pt x="97" y="725"/>
                        </a:lnTo>
                        <a:lnTo>
                          <a:pt x="83" y="678"/>
                        </a:lnTo>
                        <a:lnTo>
                          <a:pt x="83" y="646"/>
                        </a:lnTo>
                        <a:lnTo>
                          <a:pt x="83" y="616"/>
                        </a:lnTo>
                        <a:lnTo>
                          <a:pt x="83" y="584"/>
                        </a:lnTo>
                        <a:lnTo>
                          <a:pt x="83" y="537"/>
                        </a:lnTo>
                        <a:lnTo>
                          <a:pt x="83" y="505"/>
                        </a:lnTo>
                        <a:lnTo>
                          <a:pt x="69" y="473"/>
                        </a:lnTo>
                        <a:lnTo>
                          <a:pt x="69" y="441"/>
                        </a:lnTo>
                        <a:lnTo>
                          <a:pt x="69" y="409"/>
                        </a:lnTo>
                        <a:lnTo>
                          <a:pt x="69" y="362"/>
                        </a:lnTo>
                        <a:lnTo>
                          <a:pt x="56" y="331"/>
                        </a:lnTo>
                        <a:lnTo>
                          <a:pt x="56" y="300"/>
                        </a:lnTo>
                        <a:lnTo>
                          <a:pt x="56" y="268"/>
                        </a:lnTo>
                        <a:lnTo>
                          <a:pt x="42" y="236"/>
                        </a:lnTo>
                        <a:lnTo>
                          <a:pt x="42" y="205"/>
                        </a:lnTo>
                        <a:lnTo>
                          <a:pt x="42" y="158"/>
                        </a:lnTo>
                        <a:lnTo>
                          <a:pt x="28" y="126"/>
                        </a:lnTo>
                        <a:lnTo>
                          <a:pt x="28" y="94"/>
                        </a:lnTo>
                        <a:lnTo>
                          <a:pt x="14" y="63"/>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873920" y="1959120"/>
                  <a:ext cx="287280" cy="568080"/>
                  <a:chOff x="7873920" y="1959120"/>
                  <a:chExt cx="287280" cy="568080"/>
                </a:xfrm>
              </p:grpSpPr>
              <p:sp>
                <p:nvSpPr>
                  <p:cNvPr id="1379" name=""/>
                  <p:cNvSpPr/>
                  <p:nvPr/>
                </p:nvSpPr>
                <p:spPr>
                  <a:xfrm>
                    <a:off x="7873920" y="1959120"/>
                    <a:ext cx="287280" cy="568080"/>
                  </a:xfrm>
                  <a:custGeom>
                    <a:avLst/>
                    <a:gdLst/>
                    <a:ahLst/>
                    <a:rect l="l" t="t" r="r" b="b"/>
                    <a:pathLst>
                      <a:path w="541" h="1073">
                        <a:moveTo>
                          <a:pt x="541" y="1073"/>
                        </a:moveTo>
                        <a:lnTo>
                          <a:pt x="541" y="1041"/>
                        </a:lnTo>
                        <a:lnTo>
                          <a:pt x="527" y="1009"/>
                        </a:lnTo>
                        <a:lnTo>
                          <a:pt x="527" y="979"/>
                        </a:lnTo>
                        <a:lnTo>
                          <a:pt x="514" y="947"/>
                        </a:lnTo>
                        <a:lnTo>
                          <a:pt x="500" y="915"/>
                        </a:lnTo>
                        <a:lnTo>
                          <a:pt x="486" y="883"/>
                        </a:lnTo>
                        <a:lnTo>
                          <a:pt x="486" y="836"/>
                        </a:lnTo>
                        <a:lnTo>
                          <a:pt x="472" y="804"/>
                        </a:lnTo>
                        <a:lnTo>
                          <a:pt x="458" y="773"/>
                        </a:lnTo>
                        <a:lnTo>
                          <a:pt x="444" y="742"/>
                        </a:lnTo>
                        <a:lnTo>
                          <a:pt x="431" y="710"/>
                        </a:lnTo>
                        <a:lnTo>
                          <a:pt x="417" y="678"/>
                        </a:lnTo>
                        <a:lnTo>
                          <a:pt x="403" y="647"/>
                        </a:lnTo>
                        <a:lnTo>
                          <a:pt x="388" y="615"/>
                        </a:lnTo>
                        <a:lnTo>
                          <a:pt x="374" y="584"/>
                        </a:lnTo>
                        <a:lnTo>
                          <a:pt x="360" y="553"/>
                        </a:lnTo>
                        <a:lnTo>
                          <a:pt x="346" y="521"/>
                        </a:lnTo>
                        <a:lnTo>
                          <a:pt x="332" y="489"/>
                        </a:lnTo>
                        <a:lnTo>
                          <a:pt x="319" y="457"/>
                        </a:lnTo>
                        <a:lnTo>
                          <a:pt x="291" y="427"/>
                        </a:lnTo>
                        <a:lnTo>
                          <a:pt x="277" y="395"/>
                        </a:lnTo>
                        <a:lnTo>
                          <a:pt x="263" y="363"/>
                        </a:lnTo>
                        <a:lnTo>
                          <a:pt x="249" y="348"/>
                        </a:lnTo>
                        <a:lnTo>
                          <a:pt x="222" y="316"/>
                        </a:lnTo>
                        <a:lnTo>
                          <a:pt x="208" y="284"/>
                        </a:lnTo>
                        <a:lnTo>
                          <a:pt x="194" y="252"/>
                        </a:lnTo>
                        <a:lnTo>
                          <a:pt x="180" y="237"/>
                        </a:lnTo>
                        <a:lnTo>
                          <a:pt x="153" y="205"/>
                        </a:lnTo>
                        <a:lnTo>
                          <a:pt x="139" y="173"/>
                        </a:lnTo>
                        <a:lnTo>
                          <a:pt x="111" y="142"/>
                        </a:lnTo>
                        <a:lnTo>
                          <a:pt x="97" y="126"/>
                        </a:lnTo>
                        <a:lnTo>
                          <a:pt x="83" y="95"/>
                        </a:lnTo>
                        <a:lnTo>
                          <a:pt x="56" y="79"/>
                        </a:lnTo>
                        <a:lnTo>
                          <a:pt x="42" y="48"/>
                        </a:lnTo>
                        <a:lnTo>
                          <a:pt x="14" y="16"/>
                        </a:lnTo>
                        <a:lnTo>
                          <a:pt x="0" y="0"/>
                        </a:lnTo>
                        <a:lnTo>
                          <a:pt x="541" y="10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873920" y="1959120"/>
                    <a:ext cx="287280" cy="568080"/>
                  </a:xfrm>
                  <a:custGeom>
                    <a:avLst/>
                    <a:gdLst/>
                    <a:ahLst/>
                    <a:rect l="l" t="t" r="r" b="b"/>
                    <a:pathLst>
                      <a:path w="541" h="1073">
                        <a:moveTo>
                          <a:pt x="541" y="1073"/>
                        </a:moveTo>
                        <a:lnTo>
                          <a:pt x="541" y="1041"/>
                        </a:lnTo>
                        <a:lnTo>
                          <a:pt x="527" y="1009"/>
                        </a:lnTo>
                        <a:lnTo>
                          <a:pt x="527" y="979"/>
                        </a:lnTo>
                        <a:lnTo>
                          <a:pt x="514" y="947"/>
                        </a:lnTo>
                        <a:lnTo>
                          <a:pt x="500" y="915"/>
                        </a:lnTo>
                        <a:lnTo>
                          <a:pt x="486" y="883"/>
                        </a:lnTo>
                        <a:lnTo>
                          <a:pt x="486" y="836"/>
                        </a:lnTo>
                        <a:lnTo>
                          <a:pt x="472" y="804"/>
                        </a:lnTo>
                        <a:lnTo>
                          <a:pt x="458" y="773"/>
                        </a:lnTo>
                        <a:lnTo>
                          <a:pt x="444" y="742"/>
                        </a:lnTo>
                        <a:lnTo>
                          <a:pt x="431" y="710"/>
                        </a:lnTo>
                        <a:lnTo>
                          <a:pt x="417" y="678"/>
                        </a:lnTo>
                        <a:lnTo>
                          <a:pt x="403" y="647"/>
                        </a:lnTo>
                        <a:lnTo>
                          <a:pt x="388" y="615"/>
                        </a:lnTo>
                        <a:lnTo>
                          <a:pt x="374" y="584"/>
                        </a:lnTo>
                        <a:lnTo>
                          <a:pt x="360" y="553"/>
                        </a:lnTo>
                        <a:lnTo>
                          <a:pt x="346" y="521"/>
                        </a:lnTo>
                        <a:lnTo>
                          <a:pt x="332" y="489"/>
                        </a:lnTo>
                        <a:lnTo>
                          <a:pt x="319" y="457"/>
                        </a:lnTo>
                        <a:lnTo>
                          <a:pt x="291" y="427"/>
                        </a:lnTo>
                        <a:lnTo>
                          <a:pt x="277" y="395"/>
                        </a:lnTo>
                        <a:lnTo>
                          <a:pt x="263" y="363"/>
                        </a:lnTo>
                        <a:lnTo>
                          <a:pt x="249" y="348"/>
                        </a:lnTo>
                        <a:lnTo>
                          <a:pt x="222" y="316"/>
                        </a:lnTo>
                        <a:lnTo>
                          <a:pt x="208" y="284"/>
                        </a:lnTo>
                        <a:lnTo>
                          <a:pt x="194" y="252"/>
                        </a:lnTo>
                        <a:lnTo>
                          <a:pt x="180" y="237"/>
                        </a:lnTo>
                        <a:lnTo>
                          <a:pt x="153" y="205"/>
                        </a:lnTo>
                        <a:lnTo>
                          <a:pt x="139" y="173"/>
                        </a:lnTo>
                        <a:lnTo>
                          <a:pt x="111" y="142"/>
                        </a:lnTo>
                        <a:lnTo>
                          <a:pt x="97" y="126"/>
                        </a:lnTo>
                        <a:lnTo>
                          <a:pt x="83" y="95"/>
                        </a:lnTo>
                        <a:lnTo>
                          <a:pt x="56" y="79"/>
                        </a:lnTo>
                        <a:lnTo>
                          <a:pt x="42" y="48"/>
                        </a:lnTo>
                        <a:lnTo>
                          <a:pt x="14"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7728120" y="1825560"/>
                  <a:ext cx="145800" cy="133560"/>
                  <a:chOff x="7728120" y="1825560"/>
                  <a:chExt cx="145800" cy="133560"/>
                </a:xfrm>
              </p:grpSpPr>
              <p:sp>
                <p:nvSpPr>
                  <p:cNvPr id="1382" name=""/>
                  <p:cNvSpPr/>
                  <p:nvPr/>
                </p:nvSpPr>
                <p:spPr>
                  <a:xfrm>
                    <a:off x="7728120" y="1825560"/>
                    <a:ext cx="145800" cy="133560"/>
                  </a:xfrm>
                  <a:custGeom>
                    <a:avLst/>
                    <a:gdLst/>
                    <a:ahLst/>
                    <a:rect l="l" t="t" r="r" b="b"/>
                    <a:pathLst>
                      <a:path w="276" h="253">
                        <a:moveTo>
                          <a:pt x="276" y="253"/>
                        </a:moveTo>
                        <a:lnTo>
                          <a:pt x="249" y="222"/>
                        </a:lnTo>
                        <a:lnTo>
                          <a:pt x="221" y="190"/>
                        </a:lnTo>
                        <a:lnTo>
                          <a:pt x="194" y="175"/>
                        </a:lnTo>
                        <a:lnTo>
                          <a:pt x="166" y="143"/>
                        </a:lnTo>
                        <a:lnTo>
                          <a:pt x="138" y="111"/>
                        </a:lnTo>
                        <a:lnTo>
                          <a:pt x="111" y="96"/>
                        </a:lnTo>
                        <a:lnTo>
                          <a:pt x="83" y="64"/>
                        </a:lnTo>
                        <a:lnTo>
                          <a:pt x="55" y="49"/>
                        </a:lnTo>
                        <a:lnTo>
                          <a:pt x="28" y="17"/>
                        </a:lnTo>
                        <a:lnTo>
                          <a:pt x="0" y="0"/>
                        </a:lnTo>
                        <a:lnTo>
                          <a:pt x="276"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728120" y="1825560"/>
                    <a:ext cx="145800" cy="133560"/>
                  </a:xfrm>
                  <a:custGeom>
                    <a:avLst/>
                    <a:gdLst/>
                    <a:ahLst/>
                    <a:rect l="l" t="t" r="r" b="b"/>
                    <a:pathLst>
                      <a:path w="276" h="253">
                        <a:moveTo>
                          <a:pt x="276" y="253"/>
                        </a:moveTo>
                        <a:lnTo>
                          <a:pt x="249" y="222"/>
                        </a:lnTo>
                        <a:lnTo>
                          <a:pt x="221" y="190"/>
                        </a:lnTo>
                        <a:lnTo>
                          <a:pt x="194" y="175"/>
                        </a:lnTo>
                        <a:lnTo>
                          <a:pt x="166" y="143"/>
                        </a:lnTo>
                        <a:lnTo>
                          <a:pt x="138" y="111"/>
                        </a:lnTo>
                        <a:lnTo>
                          <a:pt x="111" y="96"/>
                        </a:lnTo>
                        <a:lnTo>
                          <a:pt x="83" y="64"/>
                        </a:lnTo>
                        <a:lnTo>
                          <a:pt x="55" y="49"/>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7684920" y="1792440"/>
                  <a:ext cx="43200" cy="33120"/>
                  <a:chOff x="7684920" y="1792440"/>
                  <a:chExt cx="43200" cy="33120"/>
                </a:xfrm>
              </p:grpSpPr>
              <p:sp>
                <p:nvSpPr>
                  <p:cNvPr id="1385" name=""/>
                  <p:cNvSpPr/>
                  <p:nvPr/>
                </p:nvSpPr>
                <p:spPr>
                  <a:xfrm>
                    <a:off x="7684920" y="1792440"/>
                    <a:ext cx="43200" cy="33120"/>
                  </a:xfrm>
                  <a:custGeom>
                    <a:avLst/>
                    <a:gdLst/>
                    <a:ahLst/>
                    <a:rect l="l" t="t" r="r" b="b"/>
                    <a:pathLst>
                      <a:path w="83" h="62">
                        <a:moveTo>
                          <a:pt x="83" y="62"/>
                        </a:moveTo>
                        <a:lnTo>
                          <a:pt x="55" y="47"/>
                        </a:lnTo>
                        <a:lnTo>
                          <a:pt x="28" y="15"/>
                        </a:lnTo>
                        <a:lnTo>
                          <a:pt x="0" y="0"/>
                        </a:lnTo>
                        <a:lnTo>
                          <a:pt x="83"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6" name=""/>
                  <p:cNvSpPr/>
                  <p:nvPr/>
                </p:nvSpPr>
                <p:spPr>
                  <a:xfrm>
                    <a:off x="7684920" y="1792440"/>
                    <a:ext cx="43200" cy="33120"/>
                  </a:xfrm>
                  <a:custGeom>
                    <a:avLst/>
                    <a:gdLst/>
                    <a:ahLst/>
                    <a:rect l="l" t="t" r="r" b="b"/>
                    <a:pathLst>
                      <a:path w="83" h="62">
                        <a:moveTo>
                          <a:pt x="83" y="62"/>
                        </a:moveTo>
                        <a:lnTo>
                          <a:pt x="55" y="47"/>
                        </a:lnTo>
                        <a:lnTo>
                          <a:pt x="28"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387" name=""/>
                <p:cNvGrpSpPr/>
                <p:nvPr/>
              </p:nvGrpSpPr>
              <p:grpSpPr>
                <a:xfrm>
                  <a:off x="7655040" y="1774800"/>
                  <a:ext cx="29880" cy="17640"/>
                  <a:chOff x="7655040" y="1774800"/>
                  <a:chExt cx="29880" cy="17640"/>
                </a:xfrm>
              </p:grpSpPr>
              <p:sp>
                <p:nvSpPr>
                  <p:cNvPr id="1388" name=""/>
                  <p:cNvSpPr/>
                  <p:nvPr/>
                </p:nvSpPr>
                <p:spPr>
                  <a:xfrm>
                    <a:off x="7655040" y="1774800"/>
                    <a:ext cx="29880" cy="17640"/>
                  </a:xfrm>
                  <a:custGeom>
                    <a:avLst/>
                    <a:gdLst/>
                    <a:ahLst/>
                    <a:rect l="l" t="t" r="r" b="b"/>
                    <a:pathLst>
                      <a:path w="57" h="32">
                        <a:moveTo>
                          <a:pt x="57" y="32"/>
                        </a:moveTo>
                        <a:lnTo>
                          <a:pt x="29" y="15"/>
                        </a:lnTo>
                        <a:lnTo>
                          <a:pt x="15" y="15"/>
                        </a:lnTo>
                        <a:lnTo>
                          <a:pt x="0" y="0"/>
                        </a:lnTo>
                        <a:lnTo>
                          <a:pt x="57"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9" name=""/>
                  <p:cNvSpPr/>
                  <p:nvPr/>
                </p:nvSpPr>
                <p:spPr>
                  <a:xfrm>
                    <a:off x="7655040" y="1774800"/>
                    <a:ext cx="29880" cy="17640"/>
                  </a:xfrm>
                  <a:custGeom>
                    <a:avLst/>
                    <a:gdLst/>
                    <a:ahLst/>
                    <a:rect l="l" t="t" r="r" b="b"/>
                    <a:pathLst>
                      <a:path w="57" h="32">
                        <a:moveTo>
                          <a:pt x="57" y="32"/>
                        </a:moveTo>
                        <a:lnTo>
                          <a:pt x="29" y="15"/>
                        </a:lnTo>
                        <a:lnTo>
                          <a:pt x="15"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90" name=""/>
                <p:cNvGrpSpPr/>
                <p:nvPr/>
              </p:nvGrpSpPr>
              <p:grpSpPr>
                <a:xfrm>
                  <a:off x="7743960" y="3403440"/>
                  <a:ext cx="577800" cy="709920"/>
                  <a:chOff x="7743960" y="3403440"/>
                  <a:chExt cx="577800" cy="709920"/>
                </a:xfrm>
              </p:grpSpPr>
              <p:sp>
                <p:nvSpPr>
                  <p:cNvPr id="1391" name=""/>
                  <p:cNvSpPr/>
                  <p:nvPr/>
                </p:nvSpPr>
                <p:spPr>
                  <a:xfrm>
                    <a:off x="7743960" y="3403440"/>
                    <a:ext cx="577800" cy="709920"/>
                  </a:xfrm>
                  <a:custGeom>
                    <a:avLst/>
                    <a:gdLst/>
                    <a:ahLst/>
                    <a:rect l="l" t="t" r="r" b="b"/>
                    <a:pathLst>
                      <a:path w="1094" h="1341">
                        <a:moveTo>
                          <a:pt x="0" y="1341"/>
                        </a:moveTo>
                        <a:lnTo>
                          <a:pt x="27" y="1341"/>
                        </a:lnTo>
                        <a:lnTo>
                          <a:pt x="55" y="1326"/>
                        </a:lnTo>
                        <a:lnTo>
                          <a:pt x="83" y="1309"/>
                        </a:lnTo>
                        <a:lnTo>
                          <a:pt x="110" y="1294"/>
                        </a:lnTo>
                        <a:lnTo>
                          <a:pt x="138" y="1279"/>
                        </a:lnTo>
                        <a:lnTo>
                          <a:pt x="166" y="1262"/>
                        </a:lnTo>
                        <a:lnTo>
                          <a:pt x="179" y="1247"/>
                        </a:lnTo>
                        <a:lnTo>
                          <a:pt x="207" y="1230"/>
                        </a:lnTo>
                        <a:lnTo>
                          <a:pt x="235" y="1215"/>
                        </a:lnTo>
                        <a:lnTo>
                          <a:pt x="262" y="1200"/>
                        </a:lnTo>
                        <a:lnTo>
                          <a:pt x="290" y="1183"/>
                        </a:lnTo>
                        <a:lnTo>
                          <a:pt x="304" y="1151"/>
                        </a:lnTo>
                        <a:lnTo>
                          <a:pt x="331" y="1136"/>
                        </a:lnTo>
                        <a:lnTo>
                          <a:pt x="359" y="1121"/>
                        </a:lnTo>
                        <a:lnTo>
                          <a:pt x="373" y="1104"/>
                        </a:lnTo>
                        <a:lnTo>
                          <a:pt x="401" y="1072"/>
                        </a:lnTo>
                        <a:lnTo>
                          <a:pt x="428" y="1057"/>
                        </a:lnTo>
                        <a:lnTo>
                          <a:pt x="456" y="1042"/>
                        </a:lnTo>
                        <a:lnTo>
                          <a:pt x="470" y="1010"/>
                        </a:lnTo>
                        <a:lnTo>
                          <a:pt x="497" y="994"/>
                        </a:lnTo>
                        <a:lnTo>
                          <a:pt x="511" y="963"/>
                        </a:lnTo>
                        <a:lnTo>
                          <a:pt x="539" y="947"/>
                        </a:lnTo>
                        <a:lnTo>
                          <a:pt x="567" y="915"/>
                        </a:lnTo>
                        <a:lnTo>
                          <a:pt x="580" y="899"/>
                        </a:lnTo>
                        <a:lnTo>
                          <a:pt x="608" y="868"/>
                        </a:lnTo>
                        <a:lnTo>
                          <a:pt x="622" y="852"/>
                        </a:lnTo>
                        <a:lnTo>
                          <a:pt x="651" y="821"/>
                        </a:lnTo>
                        <a:lnTo>
                          <a:pt x="665" y="789"/>
                        </a:lnTo>
                        <a:lnTo>
                          <a:pt x="679" y="774"/>
                        </a:lnTo>
                        <a:lnTo>
                          <a:pt x="706" y="742"/>
                        </a:lnTo>
                        <a:lnTo>
                          <a:pt x="720" y="710"/>
                        </a:lnTo>
                        <a:lnTo>
                          <a:pt x="748" y="695"/>
                        </a:lnTo>
                        <a:lnTo>
                          <a:pt x="762" y="663"/>
                        </a:lnTo>
                        <a:lnTo>
                          <a:pt x="775" y="631"/>
                        </a:lnTo>
                        <a:lnTo>
                          <a:pt x="803" y="616"/>
                        </a:lnTo>
                        <a:lnTo>
                          <a:pt x="817" y="584"/>
                        </a:lnTo>
                        <a:lnTo>
                          <a:pt x="831" y="552"/>
                        </a:lnTo>
                        <a:lnTo>
                          <a:pt x="845" y="520"/>
                        </a:lnTo>
                        <a:lnTo>
                          <a:pt x="872" y="490"/>
                        </a:lnTo>
                        <a:lnTo>
                          <a:pt x="886" y="473"/>
                        </a:lnTo>
                        <a:lnTo>
                          <a:pt x="900" y="441"/>
                        </a:lnTo>
                        <a:lnTo>
                          <a:pt x="914" y="411"/>
                        </a:lnTo>
                        <a:lnTo>
                          <a:pt x="928" y="379"/>
                        </a:lnTo>
                        <a:lnTo>
                          <a:pt x="941" y="347"/>
                        </a:lnTo>
                        <a:lnTo>
                          <a:pt x="955" y="316"/>
                        </a:lnTo>
                        <a:lnTo>
                          <a:pt x="969" y="284"/>
                        </a:lnTo>
                        <a:lnTo>
                          <a:pt x="983" y="269"/>
                        </a:lnTo>
                        <a:lnTo>
                          <a:pt x="997" y="237"/>
                        </a:lnTo>
                        <a:lnTo>
                          <a:pt x="1011" y="205"/>
                        </a:lnTo>
                        <a:lnTo>
                          <a:pt x="1024" y="174"/>
                        </a:lnTo>
                        <a:lnTo>
                          <a:pt x="1038" y="143"/>
                        </a:lnTo>
                        <a:lnTo>
                          <a:pt x="1052" y="111"/>
                        </a:lnTo>
                        <a:lnTo>
                          <a:pt x="1052" y="79"/>
                        </a:lnTo>
                        <a:lnTo>
                          <a:pt x="1066" y="47"/>
                        </a:lnTo>
                        <a:lnTo>
                          <a:pt x="1080" y="17"/>
                        </a:lnTo>
                        <a:lnTo>
                          <a:pt x="1094" y="0"/>
                        </a:lnTo>
                        <a:lnTo>
                          <a:pt x="0" y="134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743960" y="3403440"/>
                    <a:ext cx="577800" cy="709920"/>
                  </a:xfrm>
                  <a:custGeom>
                    <a:avLst/>
                    <a:gdLst/>
                    <a:ahLst/>
                    <a:rect l="l" t="t" r="r" b="b"/>
                    <a:pathLst>
                      <a:path w="1094" h="1341">
                        <a:moveTo>
                          <a:pt x="0" y="1341"/>
                        </a:moveTo>
                        <a:lnTo>
                          <a:pt x="27" y="1341"/>
                        </a:lnTo>
                        <a:lnTo>
                          <a:pt x="55" y="1326"/>
                        </a:lnTo>
                        <a:lnTo>
                          <a:pt x="83" y="1309"/>
                        </a:lnTo>
                        <a:lnTo>
                          <a:pt x="110" y="1294"/>
                        </a:lnTo>
                        <a:lnTo>
                          <a:pt x="138" y="1279"/>
                        </a:lnTo>
                        <a:lnTo>
                          <a:pt x="166" y="1262"/>
                        </a:lnTo>
                        <a:lnTo>
                          <a:pt x="179" y="1247"/>
                        </a:lnTo>
                        <a:lnTo>
                          <a:pt x="207" y="1230"/>
                        </a:lnTo>
                        <a:lnTo>
                          <a:pt x="235" y="1215"/>
                        </a:lnTo>
                        <a:lnTo>
                          <a:pt x="262" y="1200"/>
                        </a:lnTo>
                        <a:lnTo>
                          <a:pt x="290" y="1183"/>
                        </a:lnTo>
                        <a:lnTo>
                          <a:pt x="304" y="1151"/>
                        </a:lnTo>
                        <a:lnTo>
                          <a:pt x="331" y="1136"/>
                        </a:lnTo>
                        <a:lnTo>
                          <a:pt x="359" y="1121"/>
                        </a:lnTo>
                        <a:lnTo>
                          <a:pt x="373" y="1104"/>
                        </a:lnTo>
                        <a:lnTo>
                          <a:pt x="401" y="1072"/>
                        </a:lnTo>
                        <a:lnTo>
                          <a:pt x="428" y="1057"/>
                        </a:lnTo>
                        <a:lnTo>
                          <a:pt x="456" y="1042"/>
                        </a:lnTo>
                        <a:lnTo>
                          <a:pt x="470" y="1010"/>
                        </a:lnTo>
                        <a:lnTo>
                          <a:pt x="497" y="994"/>
                        </a:lnTo>
                        <a:lnTo>
                          <a:pt x="511" y="963"/>
                        </a:lnTo>
                        <a:lnTo>
                          <a:pt x="539" y="947"/>
                        </a:lnTo>
                        <a:lnTo>
                          <a:pt x="567" y="915"/>
                        </a:lnTo>
                        <a:lnTo>
                          <a:pt x="580" y="899"/>
                        </a:lnTo>
                        <a:lnTo>
                          <a:pt x="608" y="868"/>
                        </a:lnTo>
                        <a:lnTo>
                          <a:pt x="622" y="852"/>
                        </a:lnTo>
                        <a:lnTo>
                          <a:pt x="651" y="821"/>
                        </a:lnTo>
                        <a:lnTo>
                          <a:pt x="665" y="789"/>
                        </a:lnTo>
                        <a:lnTo>
                          <a:pt x="679" y="774"/>
                        </a:lnTo>
                        <a:lnTo>
                          <a:pt x="706" y="742"/>
                        </a:lnTo>
                        <a:lnTo>
                          <a:pt x="720" y="710"/>
                        </a:lnTo>
                        <a:lnTo>
                          <a:pt x="748" y="695"/>
                        </a:lnTo>
                        <a:lnTo>
                          <a:pt x="762" y="663"/>
                        </a:lnTo>
                        <a:lnTo>
                          <a:pt x="775" y="631"/>
                        </a:lnTo>
                        <a:lnTo>
                          <a:pt x="803" y="616"/>
                        </a:lnTo>
                        <a:lnTo>
                          <a:pt x="817" y="584"/>
                        </a:lnTo>
                        <a:lnTo>
                          <a:pt x="831" y="552"/>
                        </a:lnTo>
                        <a:lnTo>
                          <a:pt x="845" y="520"/>
                        </a:lnTo>
                        <a:lnTo>
                          <a:pt x="872" y="490"/>
                        </a:lnTo>
                        <a:lnTo>
                          <a:pt x="886" y="473"/>
                        </a:lnTo>
                        <a:lnTo>
                          <a:pt x="900" y="441"/>
                        </a:lnTo>
                        <a:lnTo>
                          <a:pt x="914" y="411"/>
                        </a:lnTo>
                        <a:lnTo>
                          <a:pt x="928" y="379"/>
                        </a:lnTo>
                        <a:lnTo>
                          <a:pt x="941" y="347"/>
                        </a:lnTo>
                        <a:lnTo>
                          <a:pt x="955" y="316"/>
                        </a:lnTo>
                        <a:lnTo>
                          <a:pt x="969" y="284"/>
                        </a:lnTo>
                        <a:lnTo>
                          <a:pt x="983" y="269"/>
                        </a:lnTo>
                        <a:lnTo>
                          <a:pt x="997" y="237"/>
                        </a:lnTo>
                        <a:lnTo>
                          <a:pt x="1011" y="205"/>
                        </a:lnTo>
                        <a:lnTo>
                          <a:pt x="1024" y="174"/>
                        </a:lnTo>
                        <a:lnTo>
                          <a:pt x="1038" y="143"/>
                        </a:lnTo>
                        <a:lnTo>
                          <a:pt x="1052" y="111"/>
                        </a:lnTo>
                        <a:lnTo>
                          <a:pt x="1052" y="79"/>
                        </a:lnTo>
                        <a:lnTo>
                          <a:pt x="1066" y="47"/>
                        </a:lnTo>
                        <a:lnTo>
                          <a:pt x="1080" y="17"/>
                        </a:lnTo>
                        <a:lnTo>
                          <a:pt x="10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8321760" y="3193920"/>
                  <a:ext cx="36360" cy="209520"/>
                  <a:chOff x="8321760" y="3193920"/>
                  <a:chExt cx="36360" cy="209520"/>
                </a:xfrm>
              </p:grpSpPr>
              <p:sp>
                <p:nvSpPr>
                  <p:cNvPr id="1394" name=""/>
                  <p:cNvSpPr/>
                  <p:nvPr/>
                </p:nvSpPr>
                <p:spPr>
                  <a:xfrm>
                    <a:off x="8321760" y="3193920"/>
                    <a:ext cx="36360" cy="209520"/>
                  </a:xfrm>
                  <a:custGeom>
                    <a:avLst/>
                    <a:gdLst/>
                    <a:ahLst/>
                    <a:rect l="l" t="t" r="r" b="b"/>
                    <a:pathLst>
                      <a:path w="69" h="394">
                        <a:moveTo>
                          <a:pt x="0" y="394"/>
                        </a:moveTo>
                        <a:lnTo>
                          <a:pt x="0" y="347"/>
                        </a:lnTo>
                        <a:lnTo>
                          <a:pt x="13" y="315"/>
                        </a:lnTo>
                        <a:lnTo>
                          <a:pt x="27" y="268"/>
                        </a:lnTo>
                        <a:lnTo>
                          <a:pt x="27" y="236"/>
                        </a:lnTo>
                        <a:lnTo>
                          <a:pt x="41" y="189"/>
                        </a:lnTo>
                        <a:lnTo>
                          <a:pt x="41" y="157"/>
                        </a:lnTo>
                        <a:lnTo>
                          <a:pt x="55" y="126"/>
                        </a:lnTo>
                        <a:lnTo>
                          <a:pt x="55" y="79"/>
                        </a:lnTo>
                        <a:lnTo>
                          <a:pt x="69" y="47"/>
                        </a:lnTo>
                        <a:lnTo>
                          <a:pt x="69" y="0"/>
                        </a:lnTo>
                        <a:lnTo>
                          <a:pt x="0" y="39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8321760" y="3193920"/>
                    <a:ext cx="36360" cy="209520"/>
                  </a:xfrm>
                  <a:custGeom>
                    <a:avLst/>
                    <a:gdLst/>
                    <a:ahLst/>
                    <a:rect l="l" t="t" r="r" b="b"/>
                    <a:pathLst>
                      <a:path w="69" h="394">
                        <a:moveTo>
                          <a:pt x="0" y="394"/>
                        </a:moveTo>
                        <a:lnTo>
                          <a:pt x="0" y="347"/>
                        </a:lnTo>
                        <a:lnTo>
                          <a:pt x="13" y="315"/>
                        </a:lnTo>
                        <a:lnTo>
                          <a:pt x="27" y="268"/>
                        </a:lnTo>
                        <a:lnTo>
                          <a:pt x="27" y="236"/>
                        </a:lnTo>
                        <a:lnTo>
                          <a:pt x="41" y="189"/>
                        </a:lnTo>
                        <a:lnTo>
                          <a:pt x="41" y="157"/>
                        </a:lnTo>
                        <a:lnTo>
                          <a:pt x="55" y="126"/>
                        </a:lnTo>
                        <a:lnTo>
                          <a:pt x="55" y="79"/>
                        </a:lnTo>
                        <a:lnTo>
                          <a:pt x="69" y="47"/>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8335800" y="2568600"/>
                  <a:ext cx="36720" cy="625320"/>
                  <a:chOff x="8335800" y="2568600"/>
                  <a:chExt cx="36720" cy="625320"/>
                </a:xfrm>
              </p:grpSpPr>
              <p:sp>
                <p:nvSpPr>
                  <p:cNvPr id="1397" name=""/>
                  <p:cNvSpPr/>
                  <p:nvPr/>
                </p:nvSpPr>
                <p:spPr>
                  <a:xfrm>
                    <a:off x="8335800" y="2568600"/>
                    <a:ext cx="36720" cy="625320"/>
                  </a:xfrm>
                  <a:custGeom>
                    <a:avLst/>
                    <a:gdLst/>
                    <a:ahLst/>
                    <a:rect l="l" t="t" r="r" b="b"/>
                    <a:pathLst>
                      <a:path w="69" h="1183">
                        <a:moveTo>
                          <a:pt x="42" y="1183"/>
                        </a:moveTo>
                        <a:lnTo>
                          <a:pt x="42" y="1151"/>
                        </a:lnTo>
                        <a:lnTo>
                          <a:pt x="56" y="1120"/>
                        </a:lnTo>
                        <a:lnTo>
                          <a:pt x="56" y="1089"/>
                        </a:lnTo>
                        <a:lnTo>
                          <a:pt x="56" y="1057"/>
                        </a:lnTo>
                        <a:lnTo>
                          <a:pt x="69" y="1025"/>
                        </a:lnTo>
                        <a:lnTo>
                          <a:pt x="69" y="978"/>
                        </a:lnTo>
                        <a:lnTo>
                          <a:pt x="69" y="946"/>
                        </a:lnTo>
                        <a:lnTo>
                          <a:pt x="69" y="914"/>
                        </a:lnTo>
                        <a:lnTo>
                          <a:pt x="69" y="884"/>
                        </a:lnTo>
                        <a:lnTo>
                          <a:pt x="69" y="835"/>
                        </a:lnTo>
                        <a:lnTo>
                          <a:pt x="69" y="805"/>
                        </a:lnTo>
                        <a:lnTo>
                          <a:pt x="69" y="773"/>
                        </a:lnTo>
                        <a:lnTo>
                          <a:pt x="69" y="741"/>
                        </a:lnTo>
                        <a:lnTo>
                          <a:pt x="69" y="694"/>
                        </a:lnTo>
                        <a:lnTo>
                          <a:pt x="69" y="662"/>
                        </a:lnTo>
                        <a:lnTo>
                          <a:pt x="69" y="631"/>
                        </a:lnTo>
                        <a:lnTo>
                          <a:pt x="69" y="584"/>
                        </a:lnTo>
                        <a:lnTo>
                          <a:pt x="69" y="552"/>
                        </a:lnTo>
                        <a:lnTo>
                          <a:pt x="69" y="520"/>
                        </a:lnTo>
                        <a:lnTo>
                          <a:pt x="69" y="488"/>
                        </a:lnTo>
                        <a:lnTo>
                          <a:pt x="69" y="441"/>
                        </a:lnTo>
                        <a:lnTo>
                          <a:pt x="56" y="409"/>
                        </a:lnTo>
                        <a:lnTo>
                          <a:pt x="56" y="379"/>
                        </a:lnTo>
                        <a:lnTo>
                          <a:pt x="56" y="330"/>
                        </a:lnTo>
                        <a:lnTo>
                          <a:pt x="56" y="300"/>
                        </a:lnTo>
                        <a:lnTo>
                          <a:pt x="42" y="268"/>
                        </a:lnTo>
                        <a:lnTo>
                          <a:pt x="42" y="236"/>
                        </a:lnTo>
                        <a:lnTo>
                          <a:pt x="42" y="189"/>
                        </a:lnTo>
                        <a:lnTo>
                          <a:pt x="28" y="157"/>
                        </a:lnTo>
                        <a:lnTo>
                          <a:pt x="28" y="126"/>
                        </a:lnTo>
                        <a:lnTo>
                          <a:pt x="14" y="94"/>
                        </a:lnTo>
                        <a:lnTo>
                          <a:pt x="14" y="63"/>
                        </a:lnTo>
                        <a:lnTo>
                          <a:pt x="0" y="32"/>
                        </a:lnTo>
                        <a:lnTo>
                          <a:pt x="0" y="0"/>
                        </a:lnTo>
                        <a:lnTo>
                          <a:pt x="42" y="118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335800" y="2568600"/>
                    <a:ext cx="36720" cy="625320"/>
                  </a:xfrm>
                  <a:custGeom>
                    <a:avLst/>
                    <a:gdLst/>
                    <a:ahLst/>
                    <a:rect l="l" t="t" r="r" b="b"/>
                    <a:pathLst>
                      <a:path w="69" h="1183">
                        <a:moveTo>
                          <a:pt x="42" y="1183"/>
                        </a:moveTo>
                        <a:lnTo>
                          <a:pt x="42" y="1151"/>
                        </a:lnTo>
                        <a:lnTo>
                          <a:pt x="56" y="1120"/>
                        </a:lnTo>
                        <a:lnTo>
                          <a:pt x="56" y="1089"/>
                        </a:lnTo>
                        <a:lnTo>
                          <a:pt x="56" y="1057"/>
                        </a:lnTo>
                        <a:lnTo>
                          <a:pt x="69" y="1025"/>
                        </a:lnTo>
                        <a:lnTo>
                          <a:pt x="69" y="978"/>
                        </a:lnTo>
                        <a:lnTo>
                          <a:pt x="69" y="946"/>
                        </a:lnTo>
                        <a:lnTo>
                          <a:pt x="69" y="914"/>
                        </a:lnTo>
                        <a:lnTo>
                          <a:pt x="69" y="884"/>
                        </a:lnTo>
                        <a:lnTo>
                          <a:pt x="69" y="835"/>
                        </a:lnTo>
                        <a:lnTo>
                          <a:pt x="69" y="805"/>
                        </a:lnTo>
                        <a:lnTo>
                          <a:pt x="69" y="773"/>
                        </a:lnTo>
                        <a:lnTo>
                          <a:pt x="69" y="741"/>
                        </a:lnTo>
                        <a:lnTo>
                          <a:pt x="69" y="694"/>
                        </a:lnTo>
                        <a:lnTo>
                          <a:pt x="69" y="662"/>
                        </a:lnTo>
                        <a:lnTo>
                          <a:pt x="69" y="631"/>
                        </a:lnTo>
                        <a:lnTo>
                          <a:pt x="69" y="584"/>
                        </a:lnTo>
                        <a:lnTo>
                          <a:pt x="69" y="552"/>
                        </a:lnTo>
                        <a:lnTo>
                          <a:pt x="69" y="520"/>
                        </a:lnTo>
                        <a:lnTo>
                          <a:pt x="69" y="488"/>
                        </a:lnTo>
                        <a:lnTo>
                          <a:pt x="69" y="441"/>
                        </a:lnTo>
                        <a:lnTo>
                          <a:pt x="56" y="409"/>
                        </a:lnTo>
                        <a:lnTo>
                          <a:pt x="56" y="379"/>
                        </a:lnTo>
                        <a:lnTo>
                          <a:pt x="56" y="330"/>
                        </a:lnTo>
                        <a:lnTo>
                          <a:pt x="56" y="300"/>
                        </a:lnTo>
                        <a:lnTo>
                          <a:pt x="42" y="268"/>
                        </a:lnTo>
                        <a:lnTo>
                          <a:pt x="42" y="236"/>
                        </a:lnTo>
                        <a:lnTo>
                          <a:pt x="42" y="189"/>
                        </a:lnTo>
                        <a:lnTo>
                          <a:pt x="28" y="157"/>
                        </a:lnTo>
                        <a:lnTo>
                          <a:pt x="28" y="126"/>
                        </a:lnTo>
                        <a:lnTo>
                          <a:pt x="14" y="94"/>
                        </a:lnTo>
                        <a:lnTo>
                          <a:pt x="14" y="63"/>
                        </a:ln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7991640" y="1959120"/>
                  <a:ext cx="344160" cy="609480"/>
                  <a:chOff x="7991640" y="1959120"/>
                  <a:chExt cx="344160" cy="609480"/>
                </a:xfrm>
              </p:grpSpPr>
              <p:sp>
                <p:nvSpPr>
                  <p:cNvPr id="1400" name=""/>
                  <p:cNvSpPr/>
                  <p:nvPr/>
                </p:nvSpPr>
                <p:spPr>
                  <a:xfrm>
                    <a:off x="7991640" y="1959120"/>
                    <a:ext cx="344160" cy="609480"/>
                  </a:xfrm>
                  <a:custGeom>
                    <a:avLst/>
                    <a:gdLst/>
                    <a:ahLst/>
                    <a:rect l="l" t="t" r="r" b="b"/>
                    <a:pathLst>
                      <a:path w="651" h="1152">
                        <a:moveTo>
                          <a:pt x="651" y="1152"/>
                        </a:moveTo>
                        <a:lnTo>
                          <a:pt x="637" y="1120"/>
                        </a:lnTo>
                        <a:lnTo>
                          <a:pt x="624" y="1073"/>
                        </a:lnTo>
                        <a:lnTo>
                          <a:pt x="624" y="1041"/>
                        </a:lnTo>
                        <a:lnTo>
                          <a:pt x="610" y="1009"/>
                        </a:lnTo>
                        <a:lnTo>
                          <a:pt x="596" y="979"/>
                        </a:lnTo>
                        <a:lnTo>
                          <a:pt x="596" y="947"/>
                        </a:lnTo>
                        <a:lnTo>
                          <a:pt x="582" y="915"/>
                        </a:lnTo>
                        <a:lnTo>
                          <a:pt x="568" y="883"/>
                        </a:lnTo>
                        <a:lnTo>
                          <a:pt x="554" y="836"/>
                        </a:lnTo>
                        <a:lnTo>
                          <a:pt x="541" y="804"/>
                        </a:lnTo>
                        <a:lnTo>
                          <a:pt x="527" y="773"/>
                        </a:lnTo>
                        <a:lnTo>
                          <a:pt x="513" y="742"/>
                        </a:lnTo>
                        <a:lnTo>
                          <a:pt x="499" y="710"/>
                        </a:lnTo>
                        <a:lnTo>
                          <a:pt x="485" y="678"/>
                        </a:lnTo>
                        <a:lnTo>
                          <a:pt x="471" y="647"/>
                        </a:lnTo>
                        <a:lnTo>
                          <a:pt x="458" y="615"/>
                        </a:lnTo>
                        <a:lnTo>
                          <a:pt x="444" y="584"/>
                        </a:lnTo>
                        <a:lnTo>
                          <a:pt x="416" y="553"/>
                        </a:lnTo>
                        <a:lnTo>
                          <a:pt x="402" y="536"/>
                        </a:lnTo>
                        <a:lnTo>
                          <a:pt x="388" y="505"/>
                        </a:lnTo>
                        <a:lnTo>
                          <a:pt x="375" y="474"/>
                        </a:lnTo>
                        <a:lnTo>
                          <a:pt x="347" y="442"/>
                        </a:lnTo>
                        <a:lnTo>
                          <a:pt x="333" y="410"/>
                        </a:lnTo>
                        <a:lnTo>
                          <a:pt x="319" y="378"/>
                        </a:lnTo>
                        <a:lnTo>
                          <a:pt x="292" y="363"/>
                        </a:lnTo>
                        <a:lnTo>
                          <a:pt x="278" y="331"/>
                        </a:lnTo>
                        <a:lnTo>
                          <a:pt x="264" y="299"/>
                        </a:lnTo>
                        <a:lnTo>
                          <a:pt x="236" y="269"/>
                        </a:lnTo>
                        <a:lnTo>
                          <a:pt x="222" y="252"/>
                        </a:lnTo>
                        <a:lnTo>
                          <a:pt x="195" y="220"/>
                        </a:lnTo>
                        <a:lnTo>
                          <a:pt x="181" y="190"/>
                        </a:lnTo>
                        <a:lnTo>
                          <a:pt x="152" y="173"/>
                        </a:lnTo>
                        <a:lnTo>
                          <a:pt x="138" y="142"/>
                        </a:lnTo>
                        <a:lnTo>
                          <a:pt x="110" y="126"/>
                        </a:lnTo>
                        <a:lnTo>
                          <a:pt x="97" y="95"/>
                        </a:lnTo>
                        <a:lnTo>
                          <a:pt x="69" y="63"/>
                        </a:lnTo>
                        <a:lnTo>
                          <a:pt x="41" y="48"/>
                        </a:lnTo>
                        <a:lnTo>
                          <a:pt x="27" y="16"/>
                        </a:lnTo>
                        <a:lnTo>
                          <a:pt x="0" y="0"/>
                        </a:lnTo>
                        <a:lnTo>
                          <a:pt x="651" y="11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991640" y="1959120"/>
                    <a:ext cx="344160" cy="609480"/>
                  </a:xfrm>
                  <a:custGeom>
                    <a:avLst/>
                    <a:gdLst/>
                    <a:ahLst/>
                    <a:rect l="l" t="t" r="r" b="b"/>
                    <a:pathLst>
                      <a:path w="651" h="1152">
                        <a:moveTo>
                          <a:pt x="651" y="1152"/>
                        </a:moveTo>
                        <a:lnTo>
                          <a:pt x="637" y="1120"/>
                        </a:lnTo>
                        <a:lnTo>
                          <a:pt x="624" y="1073"/>
                        </a:lnTo>
                        <a:lnTo>
                          <a:pt x="624" y="1041"/>
                        </a:lnTo>
                        <a:lnTo>
                          <a:pt x="610" y="1009"/>
                        </a:lnTo>
                        <a:lnTo>
                          <a:pt x="596" y="979"/>
                        </a:lnTo>
                        <a:lnTo>
                          <a:pt x="596" y="947"/>
                        </a:lnTo>
                        <a:lnTo>
                          <a:pt x="582" y="915"/>
                        </a:lnTo>
                        <a:lnTo>
                          <a:pt x="568" y="883"/>
                        </a:lnTo>
                        <a:lnTo>
                          <a:pt x="554" y="836"/>
                        </a:lnTo>
                        <a:lnTo>
                          <a:pt x="541" y="804"/>
                        </a:lnTo>
                        <a:lnTo>
                          <a:pt x="527" y="773"/>
                        </a:lnTo>
                        <a:lnTo>
                          <a:pt x="513" y="742"/>
                        </a:lnTo>
                        <a:lnTo>
                          <a:pt x="499" y="710"/>
                        </a:lnTo>
                        <a:lnTo>
                          <a:pt x="485" y="678"/>
                        </a:lnTo>
                        <a:lnTo>
                          <a:pt x="471" y="647"/>
                        </a:lnTo>
                        <a:lnTo>
                          <a:pt x="458" y="615"/>
                        </a:lnTo>
                        <a:lnTo>
                          <a:pt x="444" y="584"/>
                        </a:lnTo>
                        <a:lnTo>
                          <a:pt x="416" y="553"/>
                        </a:lnTo>
                        <a:lnTo>
                          <a:pt x="402" y="536"/>
                        </a:lnTo>
                        <a:lnTo>
                          <a:pt x="388" y="505"/>
                        </a:lnTo>
                        <a:lnTo>
                          <a:pt x="375" y="474"/>
                        </a:lnTo>
                        <a:lnTo>
                          <a:pt x="347" y="442"/>
                        </a:lnTo>
                        <a:lnTo>
                          <a:pt x="333" y="410"/>
                        </a:lnTo>
                        <a:lnTo>
                          <a:pt x="319" y="378"/>
                        </a:lnTo>
                        <a:lnTo>
                          <a:pt x="292" y="363"/>
                        </a:lnTo>
                        <a:lnTo>
                          <a:pt x="278" y="331"/>
                        </a:lnTo>
                        <a:lnTo>
                          <a:pt x="264" y="299"/>
                        </a:lnTo>
                        <a:lnTo>
                          <a:pt x="236" y="269"/>
                        </a:lnTo>
                        <a:lnTo>
                          <a:pt x="222" y="252"/>
                        </a:lnTo>
                        <a:lnTo>
                          <a:pt x="195" y="220"/>
                        </a:lnTo>
                        <a:lnTo>
                          <a:pt x="181" y="190"/>
                        </a:lnTo>
                        <a:lnTo>
                          <a:pt x="152" y="173"/>
                        </a:lnTo>
                        <a:lnTo>
                          <a:pt x="138" y="142"/>
                        </a:lnTo>
                        <a:lnTo>
                          <a:pt x="110" y="126"/>
                        </a:lnTo>
                        <a:lnTo>
                          <a:pt x="97" y="95"/>
                        </a:lnTo>
                        <a:lnTo>
                          <a:pt x="69" y="63"/>
                        </a:lnTo>
                        <a:lnTo>
                          <a:pt x="41" y="48"/>
                        </a:lnTo>
                        <a:lnTo>
                          <a:pt x="27"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7823160" y="1825560"/>
                  <a:ext cx="168480" cy="133560"/>
                  <a:chOff x="7823160" y="1825560"/>
                  <a:chExt cx="168480" cy="133560"/>
                </a:xfrm>
              </p:grpSpPr>
              <p:sp>
                <p:nvSpPr>
                  <p:cNvPr id="1403" name=""/>
                  <p:cNvSpPr/>
                  <p:nvPr/>
                </p:nvSpPr>
                <p:spPr>
                  <a:xfrm>
                    <a:off x="7823160" y="1825560"/>
                    <a:ext cx="168480" cy="133560"/>
                  </a:xfrm>
                  <a:custGeom>
                    <a:avLst/>
                    <a:gdLst/>
                    <a:ahLst/>
                    <a:rect l="l" t="t" r="r" b="b"/>
                    <a:pathLst>
                      <a:path w="318" h="253">
                        <a:moveTo>
                          <a:pt x="318" y="253"/>
                        </a:moveTo>
                        <a:lnTo>
                          <a:pt x="290" y="222"/>
                        </a:lnTo>
                        <a:lnTo>
                          <a:pt x="262" y="206"/>
                        </a:lnTo>
                        <a:lnTo>
                          <a:pt x="235" y="175"/>
                        </a:lnTo>
                        <a:lnTo>
                          <a:pt x="207" y="143"/>
                        </a:lnTo>
                        <a:lnTo>
                          <a:pt x="179" y="128"/>
                        </a:lnTo>
                        <a:lnTo>
                          <a:pt x="152" y="96"/>
                        </a:lnTo>
                        <a:lnTo>
                          <a:pt x="124" y="79"/>
                        </a:lnTo>
                        <a:lnTo>
                          <a:pt x="96" y="64"/>
                        </a:lnTo>
                        <a:lnTo>
                          <a:pt x="69" y="32"/>
                        </a:lnTo>
                        <a:lnTo>
                          <a:pt x="41" y="17"/>
                        </a:lnTo>
                        <a:lnTo>
                          <a:pt x="0" y="0"/>
                        </a:lnTo>
                        <a:lnTo>
                          <a:pt x="318"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823160" y="1825560"/>
                    <a:ext cx="168480" cy="133560"/>
                  </a:xfrm>
                  <a:custGeom>
                    <a:avLst/>
                    <a:gdLst/>
                    <a:ahLst/>
                    <a:rect l="l" t="t" r="r" b="b"/>
                    <a:pathLst>
                      <a:path w="318" h="253">
                        <a:moveTo>
                          <a:pt x="318" y="253"/>
                        </a:moveTo>
                        <a:lnTo>
                          <a:pt x="290" y="222"/>
                        </a:lnTo>
                        <a:lnTo>
                          <a:pt x="262" y="206"/>
                        </a:lnTo>
                        <a:lnTo>
                          <a:pt x="235" y="175"/>
                        </a:lnTo>
                        <a:lnTo>
                          <a:pt x="207" y="143"/>
                        </a:lnTo>
                        <a:lnTo>
                          <a:pt x="179" y="128"/>
                        </a:lnTo>
                        <a:lnTo>
                          <a:pt x="152" y="96"/>
                        </a:lnTo>
                        <a:lnTo>
                          <a:pt x="124" y="79"/>
                        </a:lnTo>
                        <a:lnTo>
                          <a:pt x="96" y="64"/>
                        </a:lnTo>
                        <a:lnTo>
                          <a:pt x="69" y="32"/>
                        </a:lnTo>
                        <a:lnTo>
                          <a:pt x="41"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7772400" y="1792440"/>
                  <a:ext cx="50760" cy="33120"/>
                  <a:chOff x="7772400" y="1792440"/>
                  <a:chExt cx="50760" cy="33120"/>
                </a:xfrm>
              </p:grpSpPr>
              <p:sp>
                <p:nvSpPr>
                  <p:cNvPr id="1406" name=""/>
                  <p:cNvSpPr/>
                  <p:nvPr/>
                </p:nvSpPr>
                <p:spPr>
                  <a:xfrm>
                    <a:off x="7772400" y="1792440"/>
                    <a:ext cx="50760" cy="33120"/>
                  </a:xfrm>
                  <a:custGeom>
                    <a:avLst/>
                    <a:gdLst/>
                    <a:ahLst/>
                    <a:rect l="l" t="t" r="r" b="b"/>
                    <a:pathLst>
                      <a:path w="97" h="62">
                        <a:moveTo>
                          <a:pt x="97" y="62"/>
                        </a:moveTo>
                        <a:lnTo>
                          <a:pt x="69" y="47"/>
                        </a:lnTo>
                        <a:lnTo>
                          <a:pt x="41" y="15"/>
                        </a:lnTo>
                        <a:lnTo>
                          <a:pt x="0" y="0"/>
                        </a:lnTo>
                        <a:lnTo>
                          <a:pt x="97"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7" name=""/>
                  <p:cNvSpPr/>
                  <p:nvPr/>
                </p:nvSpPr>
                <p:spPr>
                  <a:xfrm>
                    <a:off x="7772400" y="1792440"/>
                    <a:ext cx="50760" cy="33120"/>
                  </a:xfrm>
                  <a:custGeom>
                    <a:avLst/>
                    <a:gdLst/>
                    <a:ahLst/>
                    <a:rect l="l" t="t" r="r" b="b"/>
                    <a:pathLst>
                      <a:path w="97" h="62">
                        <a:moveTo>
                          <a:pt x="97" y="62"/>
                        </a:moveTo>
                        <a:lnTo>
                          <a:pt x="69" y="47"/>
                        </a:lnTo>
                        <a:lnTo>
                          <a:pt x="41"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408" name=""/>
                <p:cNvGrpSpPr/>
                <p:nvPr/>
              </p:nvGrpSpPr>
              <p:grpSpPr>
                <a:xfrm>
                  <a:off x="7743960" y="1774800"/>
                  <a:ext cx="28440" cy="17640"/>
                  <a:chOff x="7743960" y="1774800"/>
                  <a:chExt cx="28440" cy="17640"/>
                </a:xfrm>
              </p:grpSpPr>
              <p:sp>
                <p:nvSpPr>
                  <p:cNvPr id="1409" name=""/>
                  <p:cNvSpPr/>
                  <p:nvPr/>
                </p:nvSpPr>
                <p:spPr>
                  <a:xfrm>
                    <a:off x="7743960" y="1774800"/>
                    <a:ext cx="28440" cy="17640"/>
                  </a:xfrm>
                  <a:custGeom>
                    <a:avLst/>
                    <a:gdLst/>
                    <a:ahLst/>
                    <a:rect l="l" t="t" r="r" b="b"/>
                    <a:pathLst>
                      <a:path w="55" h="32">
                        <a:moveTo>
                          <a:pt x="55" y="32"/>
                        </a:moveTo>
                        <a:lnTo>
                          <a:pt x="41" y="15"/>
                        </a:lnTo>
                        <a:lnTo>
                          <a:pt x="13" y="15"/>
                        </a:lnTo>
                        <a:lnTo>
                          <a:pt x="0" y="0"/>
                        </a:lnTo>
                        <a:lnTo>
                          <a:pt x="55"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0" name=""/>
                  <p:cNvSpPr/>
                  <p:nvPr/>
                </p:nvSpPr>
                <p:spPr>
                  <a:xfrm>
                    <a:off x="7743960" y="1774800"/>
                    <a:ext cx="28440" cy="17640"/>
                  </a:xfrm>
                  <a:custGeom>
                    <a:avLst/>
                    <a:gdLst/>
                    <a:ahLst/>
                    <a:rect l="l" t="t" r="r" b="b"/>
                    <a:pathLst>
                      <a:path w="55" h="32">
                        <a:moveTo>
                          <a:pt x="55" y="32"/>
                        </a:moveTo>
                        <a:lnTo>
                          <a:pt x="41" y="15"/>
                        </a:lnTo>
                        <a:lnTo>
                          <a:pt x="13"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11" name=""/>
                <p:cNvGrpSpPr/>
                <p:nvPr/>
              </p:nvGrpSpPr>
              <p:grpSpPr>
                <a:xfrm>
                  <a:off x="7837560" y="3987720"/>
                  <a:ext cx="220680" cy="125640"/>
                  <a:chOff x="7837560" y="3987720"/>
                  <a:chExt cx="220680" cy="125640"/>
                </a:xfrm>
              </p:grpSpPr>
              <p:sp>
                <p:nvSpPr>
                  <p:cNvPr id="1412" name=""/>
                  <p:cNvSpPr/>
                  <p:nvPr/>
                </p:nvSpPr>
                <p:spPr>
                  <a:xfrm>
                    <a:off x="7837560" y="3987720"/>
                    <a:ext cx="220680" cy="125640"/>
                  </a:xfrm>
                  <a:custGeom>
                    <a:avLst/>
                    <a:gdLst/>
                    <a:ahLst/>
                    <a:rect l="l" t="t" r="r" b="b"/>
                    <a:pathLst>
                      <a:path w="415" h="237">
                        <a:moveTo>
                          <a:pt x="0" y="237"/>
                        </a:moveTo>
                        <a:lnTo>
                          <a:pt x="28" y="237"/>
                        </a:lnTo>
                        <a:lnTo>
                          <a:pt x="56" y="222"/>
                        </a:lnTo>
                        <a:lnTo>
                          <a:pt x="83" y="205"/>
                        </a:lnTo>
                        <a:lnTo>
                          <a:pt x="125" y="190"/>
                        </a:lnTo>
                        <a:lnTo>
                          <a:pt x="152" y="175"/>
                        </a:lnTo>
                        <a:lnTo>
                          <a:pt x="180" y="158"/>
                        </a:lnTo>
                        <a:lnTo>
                          <a:pt x="208" y="143"/>
                        </a:lnTo>
                        <a:lnTo>
                          <a:pt x="235" y="126"/>
                        </a:lnTo>
                        <a:lnTo>
                          <a:pt x="277" y="96"/>
                        </a:lnTo>
                        <a:lnTo>
                          <a:pt x="305" y="79"/>
                        </a:lnTo>
                        <a:lnTo>
                          <a:pt x="332" y="64"/>
                        </a:lnTo>
                        <a:lnTo>
                          <a:pt x="360" y="47"/>
                        </a:lnTo>
                        <a:lnTo>
                          <a:pt x="388" y="17"/>
                        </a:lnTo>
                        <a:lnTo>
                          <a:pt x="415" y="0"/>
                        </a:lnTo>
                        <a:lnTo>
                          <a:pt x="0" y="23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837560" y="3987720"/>
                    <a:ext cx="220680" cy="125640"/>
                  </a:xfrm>
                  <a:custGeom>
                    <a:avLst/>
                    <a:gdLst/>
                    <a:ahLst/>
                    <a:rect l="l" t="t" r="r" b="b"/>
                    <a:pathLst>
                      <a:path w="415" h="237">
                        <a:moveTo>
                          <a:pt x="0" y="237"/>
                        </a:moveTo>
                        <a:lnTo>
                          <a:pt x="28" y="237"/>
                        </a:lnTo>
                        <a:lnTo>
                          <a:pt x="56" y="222"/>
                        </a:lnTo>
                        <a:lnTo>
                          <a:pt x="83" y="205"/>
                        </a:lnTo>
                        <a:lnTo>
                          <a:pt x="125" y="190"/>
                        </a:lnTo>
                        <a:lnTo>
                          <a:pt x="152" y="175"/>
                        </a:lnTo>
                        <a:lnTo>
                          <a:pt x="180" y="158"/>
                        </a:lnTo>
                        <a:lnTo>
                          <a:pt x="208" y="143"/>
                        </a:lnTo>
                        <a:lnTo>
                          <a:pt x="235" y="126"/>
                        </a:lnTo>
                        <a:lnTo>
                          <a:pt x="277" y="96"/>
                        </a:lnTo>
                        <a:lnTo>
                          <a:pt x="305" y="79"/>
                        </a:lnTo>
                        <a:lnTo>
                          <a:pt x="332" y="64"/>
                        </a:lnTo>
                        <a:lnTo>
                          <a:pt x="360" y="47"/>
                        </a:lnTo>
                        <a:lnTo>
                          <a:pt x="388" y="17"/>
                        </a:lnTo>
                        <a:lnTo>
                          <a:pt x="4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058240" y="3854520"/>
                  <a:ext cx="145800" cy="133200"/>
                  <a:chOff x="8058240" y="3854520"/>
                  <a:chExt cx="145800" cy="133200"/>
                </a:xfrm>
              </p:grpSpPr>
              <p:sp>
                <p:nvSpPr>
                  <p:cNvPr id="1415" name=""/>
                  <p:cNvSpPr/>
                  <p:nvPr/>
                </p:nvSpPr>
                <p:spPr>
                  <a:xfrm>
                    <a:off x="8058240" y="3854520"/>
                    <a:ext cx="145800" cy="133200"/>
                  </a:xfrm>
                  <a:custGeom>
                    <a:avLst/>
                    <a:gdLst/>
                    <a:ahLst/>
                    <a:rect l="l" t="t" r="r" b="b"/>
                    <a:pathLst>
                      <a:path w="278" h="252">
                        <a:moveTo>
                          <a:pt x="0" y="252"/>
                        </a:moveTo>
                        <a:lnTo>
                          <a:pt x="28" y="237"/>
                        </a:lnTo>
                        <a:lnTo>
                          <a:pt x="57" y="205"/>
                        </a:lnTo>
                        <a:lnTo>
                          <a:pt x="85" y="173"/>
                        </a:lnTo>
                        <a:lnTo>
                          <a:pt x="112" y="158"/>
                        </a:lnTo>
                        <a:lnTo>
                          <a:pt x="140" y="126"/>
                        </a:lnTo>
                        <a:lnTo>
                          <a:pt x="168" y="111"/>
                        </a:lnTo>
                        <a:lnTo>
                          <a:pt x="195" y="79"/>
                        </a:lnTo>
                        <a:lnTo>
                          <a:pt x="223" y="47"/>
                        </a:lnTo>
                        <a:lnTo>
                          <a:pt x="251" y="16"/>
                        </a:lnTo>
                        <a:lnTo>
                          <a:pt x="278" y="0"/>
                        </a:lnTo>
                        <a:lnTo>
                          <a:pt x="0" y="25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058240" y="3854520"/>
                    <a:ext cx="145800" cy="133200"/>
                  </a:xfrm>
                  <a:custGeom>
                    <a:avLst/>
                    <a:gdLst/>
                    <a:ahLst/>
                    <a:rect l="l" t="t" r="r" b="b"/>
                    <a:pathLst>
                      <a:path w="278" h="252">
                        <a:moveTo>
                          <a:pt x="0" y="252"/>
                        </a:moveTo>
                        <a:lnTo>
                          <a:pt x="28" y="237"/>
                        </a:lnTo>
                        <a:lnTo>
                          <a:pt x="57" y="205"/>
                        </a:lnTo>
                        <a:lnTo>
                          <a:pt x="85" y="173"/>
                        </a:lnTo>
                        <a:lnTo>
                          <a:pt x="112" y="158"/>
                        </a:lnTo>
                        <a:lnTo>
                          <a:pt x="140" y="126"/>
                        </a:lnTo>
                        <a:lnTo>
                          <a:pt x="168" y="111"/>
                        </a:lnTo>
                        <a:lnTo>
                          <a:pt x="195" y="79"/>
                        </a:lnTo>
                        <a:lnTo>
                          <a:pt x="223" y="47"/>
                        </a:lnTo>
                        <a:lnTo>
                          <a:pt x="251" y="16"/>
                        </a:lnTo>
                        <a:lnTo>
                          <a:pt x="27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8204040" y="3360600"/>
                  <a:ext cx="285840" cy="493920"/>
                  <a:chOff x="8204040" y="3360600"/>
                  <a:chExt cx="285840" cy="493920"/>
                </a:xfrm>
              </p:grpSpPr>
              <p:sp>
                <p:nvSpPr>
                  <p:cNvPr id="1418" name=""/>
                  <p:cNvSpPr/>
                  <p:nvPr/>
                </p:nvSpPr>
                <p:spPr>
                  <a:xfrm>
                    <a:off x="8204040" y="3360600"/>
                    <a:ext cx="285840" cy="493920"/>
                  </a:xfrm>
                  <a:custGeom>
                    <a:avLst/>
                    <a:gdLst/>
                    <a:ahLst/>
                    <a:rect l="l" t="t" r="r" b="b"/>
                    <a:pathLst>
                      <a:path w="540" h="931">
                        <a:moveTo>
                          <a:pt x="0" y="931"/>
                        </a:moveTo>
                        <a:lnTo>
                          <a:pt x="14" y="900"/>
                        </a:lnTo>
                        <a:lnTo>
                          <a:pt x="42" y="868"/>
                        </a:lnTo>
                        <a:lnTo>
                          <a:pt x="56" y="853"/>
                        </a:lnTo>
                        <a:lnTo>
                          <a:pt x="83" y="821"/>
                        </a:lnTo>
                        <a:lnTo>
                          <a:pt x="97" y="806"/>
                        </a:lnTo>
                        <a:lnTo>
                          <a:pt x="125" y="774"/>
                        </a:lnTo>
                        <a:lnTo>
                          <a:pt x="139" y="742"/>
                        </a:lnTo>
                        <a:lnTo>
                          <a:pt x="166" y="727"/>
                        </a:lnTo>
                        <a:lnTo>
                          <a:pt x="180" y="695"/>
                        </a:lnTo>
                        <a:lnTo>
                          <a:pt x="208" y="663"/>
                        </a:lnTo>
                        <a:lnTo>
                          <a:pt x="222" y="648"/>
                        </a:lnTo>
                        <a:lnTo>
                          <a:pt x="249" y="616"/>
                        </a:lnTo>
                        <a:lnTo>
                          <a:pt x="263" y="584"/>
                        </a:lnTo>
                        <a:lnTo>
                          <a:pt x="277" y="552"/>
                        </a:lnTo>
                        <a:lnTo>
                          <a:pt x="305" y="520"/>
                        </a:lnTo>
                        <a:lnTo>
                          <a:pt x="318" y="505"/>
                        </a:lnTo>
                        <a:lnTo>
                          <a:pt x="332" y="473"/>
                        </a:lnTo>
                        <a:lnTo>
                          <a:pt x="360" y="442"/>
                        </a:lnTo>
                        <a:lnTo>
                          <a:pt x="374" y="411"/>
                        </a:lnTo>
                        <a:lnTo>
                          <a:pt x="388" y="379"/>
                        </a:lnTo>
                        <a:lnTo>
                          <a:pt x="401" y="348"/>
                        </a:lnTo>
                        <a:lnTo>
                          <a:pt x="415" y="316"/>
                        </a:lnTo>
                        <a:lnTo>
                          <a:pt x="429" y="284"/>
                        </a:lnTo>
                        <a:lnTo>
                          <a:pt x="443" y="253"/>
                        </a:lnTo>
                        <a:lnTo>
                          <a:pt x="457" y="222"/>
                        </a:lnTo>
                        <a:lnTo>
                          <a:pt x="471" y="190"/>
                        </a:lnTo>
                        <a:lnTo>
                          <a:pt x="484" y="158"/>
                        </a:lnTo>
                        <a:lnTo>
                          <a:pt x="498" y="126"/>
                        </a:lnTo>
                        <a:lnTo>
                          <a:pt x="512" y="96"/>
                        </a:lnTo>
                        <a:lnTo>
                          <a:pt x="526" y="64"/>
                        </a:lnTo>
                        <a:lnTo>
                          <a:pt x="540" y="32"/>
                        </a:lnTo>
                        <a:lnTo>
                          <a:pt x="540" y="0"/>
                        </a:lnTo>
                        <a:lnTo>
                          <a:pt x="0" y="9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8204040" y="3360600"/>
                    <a:ext cx="285840" cy="493920"/>
                  </a:xfrm>
                  <a:custGeom>
                    <a:avLst/>
                    <a:gdLst/>
                    <a:ahLst/>
                    <a:rect l="l" t="t" r="r" b="b"/>
                    <a:pathLst>
                      <a:path w="540" h="931">
                        <a:moveTo>
                          <a:pt x="0" y="931"/>
                        </a:moveTo>
                        <a:lnTo>
                          <a:pt x="14" y="900"/>
                        </a:lnTo>
                        <a:lnTo>
                          <a:pt x="42" y="868"/>
                        </a:lnTo>
                        <a:lnTo>
                          <a:pt x="56" y="853"/>
                        </a:lnTo>
                        <a:lnTo>
                          <a:pt x="83" y="821"/>
                        </a:lnTo>
                        <a:lnTo>
                          <a:pt x="97" y="806"/>
                        </a:lnTo>
                        <a:lnTo>
                          <a:pt x="125" y="774"/>
                        </a:lnTo>
                        <a:lnTo>
                          <a:pt x="139" y="742"/>
                        </a:lnTo>
                        <a:lnTo>
                          <a:pt x="166" y="727"/>
                        </a:lnTo>
                        <a:lnTo>
                          <a:pt x="180" y="695"/>
                        </a:lnTo>
                        <a:lnTo>
                          <a:pt x="208" y="663"/>
                        </a:lnTo>
                        <a:lnTo>
                          <a:pt x="222" y="648"/>
                        </a:lnTo>
                        <a:lnTo>
                          <a:pt x="249" y="616"/>
                        </a:lnTo>
                        <a:lnTo>
                          <a:pt x="263" y="584"/>
                        </a:lnTo>
                        <a:lnTo>
                          <a:pt x="277" y="552"/>
                        </a:lnTo>
                        <a:lnTo>
                          <a:pt x="305" y="520"/>
                        </a:lnTo>
                        <a:lnTo>
                          <a:pt x="318" y="505"/>
                        </a:lnTo>
                        <a:lnTo>
                          <a:pt x="332" y="473"/>
                        </a:lnTo>
                        <a:lnTo>
                          <a:pt x="360" y="442"/>
                        </a:lnTo>
                        <a:lnTo>
                          <a:pt x="374" y="411"/>
                        </a:lnTo>
                        <a:lnTo>
                          <a:pt x="388" y="379"/>
                        </a:lnTo>
                        <a:lnTo>
                          <a:pt x="401" y="348"/>
                        </a:lnTo>
                        <a:lnTo>
                          <a:pt x="415" y="316"/>
                        </a:lnTo>
                        <a:lnTo>
                          <a:pt x="429" y="284"/>
                        </a:lnTo>
                        <a:lnTo>
                          <a:pt x="443" y="253"/>
                        </a:lnTo>
                        <a:lnTo>
                          <a:pt x="457" y="222"/>
                        </a:lnTo>
                        <a:lnTo>
                          <a:pt x="471" y="190"/>
                        </a:lnTo>
                        <a:lnTo>
                          <a:pt x="484" y="158"/>
                        </a:lnTo>
                        <a:lnTo>
                          <a:pt x="498" y="126"/>
                        </a:lnTo>
                        <a:lnTo>
                          <a:pt x="512" y="96"/>
                        </a:lnTo>
                        <a:lnTo>
                          <a:pt x="526" y="64"/>
                        </a:lnTo>
                        <a:lnTo>
                          <a:pt x="540" y="32"/>
                        </a:lnTo>
                        <a:lnTo>
                          <a:pt x="5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8489880" y="2585880"/>
                  <a:ext cx="60480" cy="774720"/>
                  <a:chOff x="8489880" y="2585880"/>
                  <a:chExt cx="60480" cy="774720"/>
                </a:xfrm>
              </p:grpSpPr>
              <p:sp>
                <p:nvSpPr>
                  <p:cNvPr id="1421" name=""/>
                  <p:cNvSpPr/>
                  <p:nvPr/>
                </p:nvSpPr>
                <p:spPr>
                  <a:xfrm>
                    <a:off x="8489880" y="2585880"/>
                    <a:ext cx="60480" cy="774720"/>
                  </a:xfrm>
                  <a:custGeom>
                    <a:avLst/>
                    <a:gdLst/>
                    <a:ahLst/>
                    <a:rect l="l" t="t" r="r" b="b"/>
                    <a:pathLst>
                      <a:path w="112" h="1466">
                        <a:moveTo>
                          <a:pt x="0" y="1466"/>
                        </a:moveTo>
                        <a:lnTo>
                          <a:pt x="14" y="1434"/>
                        </a:lnTo>
                        <a:lnTo>
                          <a:pt x="14" y="1404"/>
                        </a:lnTo>
                        <a:lnTo>
                          <a:pt x="29" y="1356"/>
                        </a:lnTo>
                        <a:lnTo>
                          <a:pt x="56" y="1325"/>
                        </a:lnTo>
                        <a:lnTo>
                          <a:pt x="56" y="1293"/>
                        </a:lnTo>
                        <a:lnTo>
                          <a:pt x="70" y="1261"/>
                        </a:lnTo>
                        <a:lnTo>
                          <a:pt x="70" y="1230"/>
                        </a:lnTo>
                        <a:lnTo>
                          <a:pt x="70" y="1198"/>
                        </a:lnTo>
                        <a:lnTo>
                          <a:pt x="84" y="1167"/>
                        </a:lnTo>
                        <a:lnTo>
                          <a:pt x="84" y="1136"/>
                        </a:lnTo>
                        <a:lnTo>
                          <a:pt x="98" y="1088"/>
                        </a:lnTo>
                        <a:lnTo>
                          <a:pt x="98" y="1057"/>
                        </a:lnTo>
                        <a:lnTo>
                          <a:pt x="98" y="1025"/>
                        </a:lnTo>
                        <a:lnTo>
                          <a:pt x="98" y="993"/>
                        </a:lnTo>
                        <a:lnTo>
                          <a:pt x="112" y="961"/>
                        </a:lnTo>
                        <a:lnTo>
                          <a:pt x="112" y="931"/>
                        </a:lnTo>
                        <a:lnTo>
                          <a:pt x="112" y="882"/>
                        </a:lnTo>
                        <a:lnTo>
                          <a:pt x="112" y="852"/>
                        </a:lnTo>
                        <a:lnTo>
                          <a:pt x="112" y="820"/>
                        </a:lnTo>
                        <a:lnTo>
                          <a:pt x="112" y="788"/>
                        </a:lnTo>
                        <a:lnTo>
                          <a:pt x="112" y="756"/>
                        </a:lnTo>
                        <a:lnTo>
                          <a:pt x="112" y="709"/>
                        </a:lnTo>
                        <a:lnTo>
                          <a:pt x="112" y="678"/>
                        </a:lnTo>
                        <a:lnTo>
                          <a:pt x="112" y="646"/>
                        </a:lnTo>
                        <a:lnTo>
                          <a:pt x="112" y="614"/>
                        </a:lnTo>
                        <a:lnTo>
                          <a:pt x="112" y="583"/>
                        </a:lnTo>
                        <a:lnTo>
                          <a:pt x="112" y="535"/>
                        </a:lnTo>
                        <a:lnTo>
                          <a:pt x="112" y="505"/>
                        </a:lnTo>
                        <a:lnTo>
                          <a:pt x="112" y="473"/>
                        </a:lnTo>
                        <a:lnTo>
                          <a:pt x="98" y="441"/>
                        </a:lnTo>
                        <a:lnTo>
                          <a:pt x="98" y="409"/>
                        </a:lnTo>
                        <a:lnTo>
                          <a:pt x="98" y="362"/>
                        </a:lnTo>
                        <a:lnTo>
                          <a:pt x="98" y="330"/>
                        </a:lnTo>
                        <a:lnTo>
                          <a:pt x="84" y="298"/>
                        </a:lnTo>
                        <a:lnTo>
                          <a:pt x="84" y="268"/>
                        </a:lnTo>
                        <a:lnTo>
                          <a:pt x="84" y="236"/>
                        </a:lnTo>
                        <a:lnTo>
                          <a:pt x="70" y="204"/>
                        </a:lnTo>
                        <a:lnTo>
                          <a:pt x="70" y="172"/>
                        </a:lnTo>
                        <a:lnTo>
                          <a:pt x="70" y="125"/>
                        </a:lnTo>
                        <a:lnTo>
                          <a:pt x="56" y="94"/>
                        </a:lnTo>
                        <a:lnTo>
                          <a:pt x="56" y="62"/>
                        </a:lnTo>
                        <a:lnTo>
                          <a:pt x="29" y="31"/>
                        </a:lnTo>
                        <a:lnTo>
                          <a:pt x="29" y="0"/>
                        </a:lnTo>
                        <a:lnTo>
                          <a:pt x="0" y="146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489880" y="2585880"/>
                    <a:ext cx="60480" cy="774720"/>
                  </a:xfrm>
                  <a:custGeom>
                    <a:avLst/>
                    <a:gdLst/>
                    <a:ahLst/>
                    <a:rect l="l" t="t" r="r" b="b"/>
                    <a:pathLst>
                      <a:path w="112" h="1466">
                        <a:moveTo>
                          <a:pt x="0" y="1466"/>
                        </a:moveTo>
                        <a:lnTo>
                          <a:pt x="14" y="1434"/>
                        </a:lnTo>
                        <a:lnTo>
                          <a:pt x="14" y="1404"/>
                        </a:lnTo>
                        <a:lnTo>
                          <a:pt x="29" y="1356"/>
                        </a:lnTo>
                        <a:lnTo>
                          <a:pt x="56" y="1325"/>
                        </a:lnTo>
                        <a:lnTo>
                          <a:pt x="56" y="1293"/>
                        </a:lnTo>
                        <a:lnTo>
                          <a:pt x="70" y="1261"/>
                        </a:lnTo>
                        <a:lnTo>
                          <a:pt x="70" y="1230"/>
                        </a:lnTo>
                        <a:lnTo>
                          <a:pt x="70" y="1198"/>
                        </a:lnTo>
                        <a:lnTo>
                          <a:pt x="84" y="1167"/>
                        </a:lnTo>
                        <a:lnTo>
                          <a:pt x="84" y="1136"/>
                        </a:lnTo>
                        <a:lnTo>
                          <a:pt x="98" y="1088"/>
                        </a:lnTo>
                        <a:lnTo>
                          <a:pt x="98" y="1057"/>
                        </a:lnTo>
                        <a:lnTo>
                          <a:pt x="98" y="1025"/>
                        </a:lnTo>
                        <a:lnTo>
                          <a:pt x="98" y="993"/>
                        </a:lnTo>
                        <a:lnTo>
                          <a:pt x="112" y="961"/>
                        </a:lnTo>
                        <a:lnTo>
                          <a:pt x="112" y="931"/>
                        </a:lnTo>
                        <a:lnTo>
                          <a:pt x="112" y="882"/>
                        </a:lnTo>
                        <a:lnTo>
                          <a:pt x="112" y="852"/>
                        </a:lnTo>
                        <a:lnTo>
                          <a:pt x="112" y="820"/>
                        </a:lnTo>
                        <a:lnTo>
                          <a:pt x="112" y="788"/>
                        </a:lnTo>
                        <a:lnTo>
                          <a:pt x="112" y="756"/>
                        </a:lnTo>
                        <a:lnTo>
                          <a:pt x="112" y="709"/>
                        </a:lnTo>
                        <a:lnTo>
                          <a:pt x="112" y="678"/>
                        </a:lnTo>
                        <a:lnTo>
                          <a:pt x="112" y="646"/>
                        </a:lnTo>
                        <a:lnTo>
                          <a:pt x="112" y="614"/>
                        </a:lnTo>
                        <a:lnTo>
                          <a:pt x="112" y="583"/>
                        </a:lnTo>
                        <a:lnTo>
                          <a:pt x="112" y="535"/>
                        </a:lnTo>
                        <a:lnTo>
                          <a:pt x="112" y="505"/>
                        </a:lnTo>
                        <a:lnTo>
                          <a:pt x="112" y="473"/>
                        </a:lnTo>
                        <a:lnTo>
                          <a:pt x="98" y="441"/>
                        </a:lnTo>
                        <a:lnTo>
                          <a:pt x="98" y="409"/>
                        </a:lnTo>
                        <a:lnTo>
                          <a:pt x="98" y="362"/>
                        </a:lnTo>
                        <a:lnTo>
                          <a:pt x="98" y="330"/>
                        </a:lnTo>
                        <a:lnTo>
                          <a:pt x="84" y="298"/>
                        </a:lnTo>
                        <a:lnTo>
                          <a:pt x="84" y="268"/>
                        </a:lnTo>
                        <a:lnTo>
                          <a:pt x="84" y="236"/>
                        </a:lnTo>
                        <a:lnTo>
                          <a:pt x="70" y="204"/>
                        </a:lnTo>
                        <a:lnTo>
                          <a:pt x="70" y="172"/>
                        </a:lnTo>
                        <a:lnTo>
                          <a:pt x="70" y="125"/>
                        </a:lnTo>
                        <a:lnTo>
                          <a:pt x="56" y="94"/>
                        </a:lnTo>
                        <a:lnTo>
                          <a:pt x="56" y="62"/>
                        </a:lnTo>
                        <a:lnTo>
                          <a:pt x="29" y="31"/>
                        </a:lnTo>
                        <a:lnTo>
                          <a:pt x="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8116920" y="1959120"/>
                  <a:ext cx="388800" cy="626760"/>
                  <a:chOff x="8116920" y="1959120"/>
                  <a:chExt cx="388800" cy="626760"/>
                </a:xfrm>
              </p:grpSpPr>
              <p:sp>
                <p:nvSpPr>
                  <p:cNvPr id="1424" name=""/>
                  <p:cNvSpPr/>
                  <p:nvPr/>
                </p:nvSpPr>
                <p:spPr>
                  <a:xfrm>
                    <a:off x="8116920" y="1959120"/>
                    <a:ext cx="388800" cy="626760"/>
                  </a:xfrm>
                  <a:custGeom>
                    <a:avLst/>
                    <a:gdLst/>
                    <a:ahLst/>
                    <a:rect l="l" t="t" r="r" b="b"/>
                    <a:pathLst>
                      <a:path w="735" h="1184">
                        <a:moveTo>
                          <a:pt x="735" y="1184"/>
                        </a:moveTo>
                        <a:lnTo>
                          <a:pt x="720" y="1152"/>
                        </a:lnTo>
                        <a:lnTo>
                          <a:pt x="720" y="1120"/>
                        </a:lnTo>
                        <a:lnTo>
                          <a:pt x="706" y="1088"/>
                        </a:lnTo>
                        <a:lnTo>
                          <a:pt x="692" y="1058"/>
                        </a:lnTo>
                        <a:lnTo>
                          <a:pt x="678" y="1026"/>
                        </a:lnTo>
                        <a:lnTo>
                          <a:pt x="678" y="994"/>
                        </a:lnTo>
                        <a:lnTo>
                          <a:pt x="664" y="962"/>
                        </a:lnTo>
                        <a:lnTo>
                          <a:pt x="650" y="930"/>
                        </a:lnTo>
                        <a:lnTo>
                          <a:pt x="637" y="900"/>
                        </a:lnTo>
                        <a:lnTo>
                          <a:pt x="623" y="851"/>
                        </a:lnTo>
                        <a:lnTo>
                          <a:pt x="609" y="821"/>
                        </a:lnTo>
                        <a:lnTo>
                          <a:pt x="595" y="789"/>
                        </a:lnTo>
                        <a:lnTo>
                          <a:pt x="581" y="773"/>
                        </a:lnTo>
                        <a:lnTo>
                          <a:pt x="567" y="742"/>
                        </a:lnTo>
                        <a:lnTo>
                          <a:pt x="554" y="710"/>
                        </a:lnTo>
                        <a:lnTo>
                          <a:pt x="540" y="678"/>
                        </a:lnTo>
                        <a:lnTo>
                          <a:pt x="526" y="647"/>
                        </a:lnTo>
                        <a:lnTo>
                          <a:pt x="498" y="615"/>
                        </a:lnTo>
                        <a:lnTo>
                          <a:pt x="484" y="584"/>
                        </a:lnTo>
                        <a:lnTo>
                          <a:pt x="471" y="568"/>
                        </a:lnTo>
                        <a:lnTo>
                          <a:pt x="457" y="536"/>
                        </a:lnTo>
                        <a:lnTo>
                          <a:pt x="429" y="505"/>
                        </a:lnTo>
                        <a:lnTo>
                          <a:pt x="415" y="474"/>
                        </a:lnTo>
                        <a:lnTo>
                          <a:pt x="401" y="457"/>
                        </a:lnTo>
                        <a:lnTo>
                          <a:pt x="374" y="427"/>
                        </a:lnTo>
                        <a:lnTo>
                          <a:pt x="360" y="395"/>
                        </a:lnTo>
                        <a:lnTo>
                          <a:pt x="332" y="378"/>
                        </a:lnTo>
                        <a:lnTo>
                          <a:pt x="318" y="348"/>
                        </a:lnTo>
                        <a:lnTo>
                          <a:pt x="305" y="316"/>
                        </a:lnTo>
                        <a:lnTo>
                          <a:pt x="277" y="299"/>
                        </a:lnTo>
                        <a:lnTo>
                          <a:pt x="263" y="269"/>
                        </a:lnTo>
                        <a:lnTo>
                          <a:pt x="235" y="252"/>
                        </a:lnTo>
                        <a:lnTo>
                          <a:pt x="222" y="220"/>
                        </a:lnTo>
                        <a:lnTo>
                          <a:pt x="194" y="205"/>
                        </a:lnTo>
                        <a:lnTo>
                          <a:pt x="166" y="173"/>
                        </a:lnTo>
                        <a:lnTo>
                          <a:pt x="152" y="158"/>
                        </a:lnTo>
                        <a:lnTo>
                          <a:pt x="125" y="126"/>
                        </a:lnTo>
                        <a:lnTo>
                          <a:pt x="111" y="111"/>
                        </a:lnTo>
                        <a:lnTo>
                          <a:pt x="83" y="79"/>
                        </a:lnTo>
                        <a:lnTo>
                          <a:pt x="56" y="63"/>
                        </a:lnTo>
                        <a:lnTo>
                          <a:pt x="42" y="48"/>
                        </a:lnTo>
                        <a:lnTo>
                          <a:pt x="14" y="16"/>
                        </a:lnTo>
                        <a:lnTo>
                          <a:pt x="0" y="0"/>
                        </a:lnTo>
                        <a:lnTo>
                          <a:pt x="735" y="118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116920" y="1959120"/>
                    <a:ext cx="388800" cy="626760"/>
                  </a:xfrm>
                  <a:custGeom>
                    <a:avLst/>
                    <a:gdLst/>
                    <a:ahLst/>
                    <a:rect l="l" t="t" r="r" b="b"/>
                    <a:pathLst>
                      <a:path w="735" h="1184">
                        <a:moveTo>
                          <a:pt x="735" y="1184"/>
                        </a:moveTo>
                        <a:lnTo>
                          <a:pt x="720" y="1152"/>
                        </a:lnTo>
                        <a:lnTo>
                          <a:pt x="720" y="1120"/>
                        </a:lnTo>
                        <a:lnTo>
                          <a:pt x="706" y="1088"/>
                        </a:lnTo>
                        <a:lnTo>
                          <a:pt x="692" y="1058"/>
                        </a:lnTo>
                        <a:lnTo>
                          <a:pt x="678" y="1026"/>
                        </a:lnTo>
                        <a:lnTo>
                          <a:pt x="678" y="994"/>
                        </a:lnTo>
                        <a:lnTo>
                          <a:pt x="664" y="962"/>
                        </a:lnTo>
                        <a:lnTo>
                          <a:pt x="650" y="930"/>
                        </a:lnTo>
                        <a:lnTo>
                          <a:pt x="637" y="900"/>
                        </a:lnTo>
                        <a:lnTo>
                          <a:pt x="623" y="851"/>
                        </a:lnTo>
                        <a:lnTo>
                          <a:pt x="609" y="821"/>
                        </a:lnTo>
                        <a:lnTo>
                          <a:pt x="595" y="789"/>
                        </a:lnTo>
                        <a:lnTo>
                          <a:pt x="581" y="773"/>
                        </a:lnTo>
                        <a:lnTo>
                          <a:pt x="567" y="742"/>
                        </a:lnTo>
                        <a:lnTo>
                          <a:pt x="554" y="710"/>
                        </a:lnTo>
                        <a:lnTo>
                          <a:pt x="540" y="678"/>
                        </a:lnTo>
                        <a:lnTo>
                          <a:pt x="526" y="647"/>
                        </a:lnTo>
                        <a:lnTo>
                          <a:pt x="498" y="615"/>
                        </a:lnTo>
                        <a:lnTo>
                          <a:pt x="484" y="584"/>
                        </a:lnTo>
                        <a:lnTo>
                          <a:pt x="471" y="568"/>
                        </a:lnTo>
                        <a:lnTo>
                          <a:pt x="457" y="536"/>
                        </a:lnTo>
                        <a:lnTo>
                          <a:pt x="429" y="505"/>
                        </a:lnTo>
                        <a:lnTo>
                          <a:pt x="415" y="474"/>
                        </a:lnTo>
                        <a:lnTo>
                          <a:pt x="401" y="457"/>
                        </a:lnTo>
                        <a:lnTo>
                          <a:pt x="374" y="427"/>
                        </a:lnTo>
                        <a:lnTo>
                          <a:pt x="360" y="395"/>
                        </a:lnTo>
                        <a:lnTo>
                          <a:pt x="332" y="378"/>
                        </a:lnTo>
                        <a:lnTo>
                          <a:pt x="318" y="348"/>
                        </a:lnTo>
                        <a:lnTo>
                          <a:pt x="305" y="316"/>
                        </a:lnTo>
                        <a:lnTo>
                          <a:pt x="277" y="299"/>
                        </a:lnTo>
                        <a:lnTo>
                          <a:pt x="263" y="269"/>
                        </a:lnTo>
                        <a:lnTo>
                          <a:pt x="235" y="252"/>
                        </a:lnTo>
                        <a:lnTo>
                          <a:pt x="222" y="220"/>
                        </a:lnTo>
                        <a:lnTo>
                          <a:pt x="194" y="205"/>
                        </a:lnTo>
                        <a:lnTo>
                          <a:pt x="166" y="173"/>
                        </a:lnTo>
                        <a:lnTo>
                          <a:pt x="152" y="158"/>
                        </a:lnTo>
                        <a:lnTo>
                          <a:pt x="125" y="126"/>
                        </a:lnTo>
                        <a:lnTo>
                          <a:pt x="111" y="111"/>
                        </a:lnTo>
                        <a:lnTo>
                          <a:pt x="83" y="79"/>
                        </a:lnTo>
                        <a:lnTo>
                          <a:pt x="56" y="63"/>
                        </a:lnTo>
                        <a:lnTo>
                          <a:pt x="42" y="48"/>
                        </a:lnTo>
                        <a:lnTo>
                          <a:pt x="14"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7926480" y="1825560"/>
                  <a:ext cx="190440" cy="133560"/>
                  <a:chOff x="7926480" y="1825560"/>
                  <a:chExt cx="190440" cy="133560"/>
                </a:xfrm>
              </p:grpSpPr>
              <p:sp>
                <p:nvSpPr>
                  <p:cNvPr id="1427" name=""/>
                  <p:cNvSpPr/>
                  <p:nvPr/>
                </p:nvSpPr>
                <p:spPr>
                  <a:xfrm>
                    <a:off x="7926480" y="1825560"/>
                    <a:ext cx="190440" cy="133560"/>
                  </a:xfrm>
                  <a:custGeom>
                    <a:avLst/>
                    <a:gdLst/>
                    <a:ahLst/>
                    <a:rect l="l" t="t" r="r" b="b"/>
                    <a:pathLst>
                      <a:path w="361" h="253">
                        <a:moveTo>
                          <a:pt x="361" y="253"/>
                        </a:moveTo>
                        <a:lnTo>
                          <a:pt x="334" y="222"/>
                        </a:lnTo>
                        <a:lnTo>
                          <a:pt x="306" y="206"/>
                        </a:lnTo>
                        <a:lnTo>
                          <a:pt x="277" y="190"/>
                        </a:lnTo>
                        <a:lnTo>
                          <a:pt x="249" y="158"/>
                        </a:lnTo>
                        <a:lnTo>
                          <a:pt x="222" y="143"/>
                        </a:lnTo>
                        <a:lnTo>
                          <a:pt x="194" y="128"/>
                        </a:lnTo>
                        <a:lnTo>
                          <a:pt x="166" y="111"/>
                        </a:lnTo>
                        <a:lnTo>
                          <a:pt x="139" y="79"/>
                        </a:lnTo>
                        <a:lnTo>
                          <a:pt x="111" y="64"/>
                        </a:lnTo>
                        <a:lnTo>
                          <a:pt x="83" y="49"/>
                        </a:lnTo>
                        <a:lnTo>
                          <a:pt x="56" y="32"/>
                        </a:lnTo>
                        <a:lnTo>
                          <a:pt x="28" y="17"/>
                        </a:lnTo>
                        <a:lnTo>
                          <a:pt x="0" y="0"/>
                        </a:lnTo>
                        <a:lnTo>
                          <a:pt x="361"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926480" y="1825560"/>
                    <a:ext cx="190440" cy="133560"/>
                  </a:xfrm>
                  <a:custGeom>
                    <a:avLst/>
                    <a:gdLst/>
                    <a:ahLst/>
                    <a:rect l="l" t="t" r="r" b="b"/>
                    <a:pathLst>
                      <a:path w="361" h="253">
                        <a:moveTo>
                          <a:pt x="361" y="253"/>
                        </a:moveTo>
                        <a:lnTo>
                          <a:pt x="334" y="222"/>
                        </a:lnTo>
                        <a:lnTo>
                          <a:pt x="306" y="206"/>
                        </a:lnTo>
                        <a:lnTo>
                          <a:pt x="277" y="190"/>
                        </a:lnTo>
                        <a:lnTo>
                          <a:pt x="249" y="158"/>
                        </a:lnTo>
                        <a:lnTo>
                          <a:pt x="222" y="143"/>
                        </a:lnTo>
                        <a:lnTo>
                          <a:pt x="194" y="128"/>
                        </a:lnTo>
                        <a:lnTo>
                          <a:pt x="166" y="111"/>
                        </a:lnTo>
                        <a:lnTo>
                          <a:pt x="139" y="79"/>
                        </a:lnTo>
                        <a:lnTo>
                          <a:pt x="111" y="64"/>
                        </a:lnTo>
                        <a:lnTo>
                          <a:pt x="83" y="49"/>
                        </a:lnTo>
                        <a:lnTo>
                          <a:pt x="56" y="32"/>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7867800" y="1792440"/>
                  <a:ext cx="58680" cy="33120"/>
                  <a:chOff x="7867800" y="1792440"/>
                  <a:chExt cx="58680" cy="33120"/>
                </a:xfrm>
              </p:grpSpPr>
              <p:sp>
                <p:nvSpPr>
                  <p:cNvPr id="1430" name=""/>
                  <p:cNvSpPr/>
                  <p:nvPr/>
                </p:nvSpPr>
                <p:spPr>
                  <a:xfrm>
                    <a:off x="7867800" y="1792440"/>
                    <a:ext cx="58680" cy="33120"/>
                  </a:xfrm>
                  <a:custGeom>
                    <a:avLst/>
                    <a:gdLst/>
                    <a:ahLst/>
                    <a:rect l="l" t="t" r="r" b="b"/>
                    <a:pathLst>
                      <a:path w="110" h="62">
                        <a:moveTo>
                          <a:pt x="110" y="62"/>
                        </a:moveTo>
                        <a:lnTo>
                          <a:pt x="69" y="47"/>
                        </a:lnTo>
                        <a:lnTo>
                          <a:pt x="41" y="15"/>
                        </a:lnTo>
                        <a:lnTo>
                          <a:pt x="0" y="0"/>
                        </a:lnTo>
                        <a:lnTo>
                          <a:pt x="11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1" name=""/>
                  <p:cNvSpPr/>
                  <p:nvPr/>
                </p:nvSpPr>
                <p:spPr>
                  <a:xfrm>
                    <a:off x="7867800" y="1792440"/>
                    <a:ext cx="58680" cy="33120"/>
                  </a:xfrm>
                  <a:custGeom>
                    <a:avLst/>
                    <a:gdLst/>
                    <a:ahLst/>
                    <a:rect l="l" t="t" r="r" b="b"/>
                    <a:pathLst>
                      <a:path w="110" h="62">
                        <a:moveTo>
                          <a:pt x="110" y="62"/>
                        </a:moveTo>
                        <a:lnTo>
                          <a:pt x="69" y="47"/>
                        </a:lnTo>
                        <a:lnTo>
                          <a:pt x="41"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432" name=""/>
                <p:cNvGrpSpPr/>
                <p:nvPr/>
              </p:nvGrpSpPr>
              <p:grpSpPr>
                <a:xfrm>
                  <a:off x="7837560" y="1774800"/>
                  <a:ext cx="30240" cy="17640"/>
                  <a:chOff x="7837560" y="1774800"/>
                  <a:chExt cx="30240" cy="17640"/>
                </a:xfrm>
              </p:grpSpPr>
              <p:sp>
                <p:nvSpPr>
                  <p:cNvPr id="1433" name=""/>
                  <p:cNvSpPr/>
                  <p:nvPr/>
                </p:nvSpPr>
                <p:spPr>
                  <a:xfrm>
                    <a:off x="7837560" y="1774800"/>
                    <a:ext cx="30240" cy="17640"/>
                  </a:xfrm>
                  <a:custGeom>
                    <a:avLst/>
                    <a:gdLst/>
                    <a:ahLst/>
                    <a:rect l="l" t="t" r="r" b="b"/>
                    <a:pathLst>
                      <a:path w="56" h="32">
                        <a:moveTo>
                          <a:pt x="56" y="32"/>
                        </a:moveTo>
                        <a:lnTo>
                          <a:pt x="28" y="15"/>
                        </a:lnTo>
                        <a:lnTo>
                          <a:pt x="14" y="15"/>
                        </a:lnTo>
                        <a:lnTo>
                          <a:pt x="0" y="0"/>
                        </a:lnTo>
                        <a:lnTo>
                          <a:pt x="56"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4" name=""/>
                  <p:cNvSpPr/>
                  <p:nvPr/>
                </p:nvSpPr>
                <p:spPr>
                  <a:xfrm>
                    <a:off x="7837560" y="1774800"/>
                    <a:ext cx="30240" cy="17640"/>
                  </a:xfrm>
                  <a:custGeom>
                    <a:avLst/>
                    <a:gdLst/>
                    <a:ahLst/>
                    <a:rect l="l" t="t" r="r" b="b"/>
                    <a:pathLst>
                      <a:path w="56" h="32">
                        <a:moveTo>
                          <a:pt x="56" y="32"/>
                        </a:moveTo>
                        <a:lnTo>
                          <a:pt x="28" y="15"/>
                        </a:lnTo>
                        <a:lnTo>
                          <a:pt x="14"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35" name=""/>
                <p:cNvGrpSpPr/>
                <p:nvPr/>
              </p:nvGrpSpPr>
              <p:grpSpPr>
                <a:xfrm>
                  <a:off x="7926480" y="3778200"/>
                  <a:ext cx="476280" cy="335160"/>
                  <a:chOff x="7926480" y="3778200"/>
                  <a:chExt cx="476280" cy="335160"/>
                </a:xfrm>
              </p:grpSpPr>
              <p:sp>
                <p:nvSpPr>
                  <p:cNvPr id="1436" name=""/>
                  <p:cNvSpPr/>
                  <p:nvPr/>
                </p:nvSpPr>
                <p:spPr>
                  <a:xfrm>
                    <a:off x="7926480" y="3778200"/>
                    <a:ext cx="476280" cy="335160"/>
                  </a:xfrm>
                  <a:custGeom>
                    <a:avLst/>
                    <a:gdLst/>
                    <a:ahLst/>
                    <a:rect l="l" t="t" r="r" b="b"/>
                    <a:pathLst>
                      <a:path w="901" h="631">
                        <a:moveTo>
                          <a:pt x="0" y="631"/>
                        </a:moveTo>
                        <a:lnTo>
                          <a:pt x="28" y="631"/>
                        </a:lnTo>
                        <a:lnTo>
                          <a:pt x="56" y="616"/>
                        </a:lnTo>
                        <a:lnTo>
                          <a:pt x="83" y="599"/>
                        </a:lnTo>
                        <a:lnTo>
                          <a:pt x="111" y="584"/>
                        </a:lnTo>
                        <a:lnTo>
                          <a:pt x="139" y="584"/>
                        </a:lnTo>
                        <a:lnTo>
                          <a:pt x="180" y="569"/>
                        </a:lnTo>
                        <a:lnTo>
                          <a:pt x="208" y="552"/>
                        </a:lnTo>
                        <a:lnTo>
                          <a:pt x="235" y="537"/>
                        </a:lnTo>
                        <a:lnTo>
                          <a:pt x="263" y="520"/>
                        </a:lnTo>
                        <a:lnTo>
                          <a:pt x="291" y="505"/>
                        </a:lnTo>
                        <a:lnTo>
                          <a:pt x="306" y="490"/>
                        </a:lnTo>
                        <a:lnTo>
                          <a:pt x="334" y="473"/>
                        </a:lnTo>
                        <a:lnTo>
                          <a:pt x="361" y="458"/>
                        </a:lnTo>
                        <a:lnTo>
                          <a:pt x="389" y="441"/>
                        </a:lnTo>
                        <a:lnTo>
                          <a:pt x="417" y="426"/>
                        </a:lnTo>
                        <a:lnTo>
                          <a:pt x="444" y="411"/>
                        </a:lnTo>
                        <a:lnTo>
                          <a:pt x="472" y="379"/>
                        </a:lnTo>
                        <a:lnTo>
                          <a:pt x="500" y="362"/>
                        </a:lnTo>
                        <a:lnTo>
                          <a:pt x="527" y="347"/>
                        </a:lnTo>
                        <a:lnTo>
                          <a:pt x="541" y="332"/>
                        </a:lnTo>
                        <a:lnTo>
                          <a:pt x="569" y="315"/>
                        </a:lnTo>
                        <a:lnTo>
                          <a:pt x="596" y="284"/>
                        </a:lnTo>
                        <a:lnTo>
                          <a:pt x="624" y="268"/>
                        </a:lnTo>
                        <a:lnTo>
                          <a:pt x="652" y="253"/>
                        </a:lnTo>
                        <a:lnTo>
                          <a:pt x="666" y="221"/>
                        </a:lnTo>
                        <a:lnTo>
                          <a:pt x="693" y="205"/>
                        </a:lnTo>
                        <a:lnTo>
                          <a:pt x="721" y="189"/>
                        </a:lnTo>
                        <a:lnTo>
                          <a:pt x="735" y="158"/>
                        </a:lnTo>
                        <a:lnTo>
                          <a:pt x="762" y="142"/>
                        </a:lnTo>
                        <a:lnTo>
                          <a:pt x="790" y="111"/>
                        </a:lnTo>
                        <a:lnTo>
                          <a:pt x="818" y="95"/>
                        </a:lnTo>
                        <a:lnTo>
                          <a:pt x="832" y="64"/>
                        </a:lnTo>
                        <a:lnTo>
                          <a:pt x="859" y="47"/>
                        </a:lnTo>
                        <a:lnTo>
                          <a:pt x="873" y="17"/>
                        </a:lnTo>
                        <a:lnTo>
                          <a:pt x="901" y="0"/>
                        </a:lnTo>
                        <a:lnTo>
                          <a:pt x="0" y="6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7926480" y="3778200"/>
                    <a:ext cx="476280" cy="335160"/>
                  </a:xfrm>
                  <a:custGeom>
                    <a:avLst/>
                    <a:gdLst/>
                    <a:ahLst/>
                    <a:rect l="l" t="t" r="r" b="b"/>
                    <a:pathLst>
                      <a:path w="901" h="631">
                        <a:moveTo>
                          <a:pt x="0" y="631"/>
                        </a:moveTo>
                        <a:lnTo>
                          <a:pt x="28" y="631"/>
                        </a:lnTo>
                        <a:lnTo>
                          <a:pt x="56" y="616"/>
                        </a:lnTo>
                        <a:lnTo>
                          <a:pt x="83" y="599"/>
                        </a:lnTo>
                        <a:lnTo>
                          <a:pt x="111" y="584"/>
                        </a:lnTo>
                        <a:lnTo>
                          <a:pt x="139" y="584"/>
                        </a:lnTo>
                        <a:lnTo>
                          <a:pt x="180" y="569"/>
                        </a:lnTo>
                        <a:lnTo>
                          <a:pt x="208" y="552"/>
                        </a:lnTo>
                        <a:lnTo>
                          <a:pt x="235" y="537"/>
                        </a:lnTo>
                        <a:lnTo>
                          <a:pt x="263" y="520"/>
                        </a:lnTo>
                        <a:lnTo>
                          <a:pt x="291" y="505"/>
                        </a:lnTo>
                        <a:lnTo>
                          <a:pt x="306" y="490"/>
                        </a:lnTo>
                        <a:lnTo>
                          <a:pt x="334" y="473"/>
                        </a:lnTo>
                        <a:lnTo>
                          <a:pt x="361" y="458"/>
                        </a:lnTo>
                        <a:lnTo>
                          <a:pt x="389" y="441"/>
                        </a:lnTo>
                        <a:lnTo>
                          <a:pt x="417" y="426"/>
                        </a:lnTo>
                        <a:lnTo>
                          <a:pt x="444" y="411"/>
                        </a:lnTo>
                        <a:lnTo>
                          <a:pt x="472" y="379"/>
                        </a:lnTo>
                        <a:lnTo>
                          <a:pt x="500" y="362"/>
                        </a:lnTo>
                        <a:lnTo>
                          <a:pt x="527" y="347"/>
                        </a:lnTo>
                        <a:lnTo>
                          <a:pt x="541" y="332"/>
                        </a:lnTo>
                        <a:lnTo>
                          <a:pt x="569" y="315"/>
                        </a:lnTo>
                        <a:lnTo>
                          <a:pt x="596" y="284"/>
                        </a:lnTo>
                        <a:lnTo>
                          <a:pt x="624" y="268"/>
                        </a:lnTo>
                        <a:lnTo>
                          <a:pt x="652" y="253"/>
                        </a:lnTo>
                        <a:lnTo>
                          <a:pt x="666" y="221"/>
                        </a:lnTo>
                        <a:lnTo>
                          <a:pt x="693" y="205"/>
                        </a:lnTo>
                        <a:lnTo>
                          <a:pt x="721" y="189"/>
                        </a:lnTo>
                        <a:lnTo>
                          <a:pt x="735" y="158"/>
                        </a:lnTo>
                        <a:lnTo>
                          <a:pt x="762" y="142"/>
                        </a:lnTo>
                        <a:lnTo>
                          <a:pt x="790" y="111"/>
                        </a:lnTo>
                        <a:lnTo>
                          <a:pt x="818" y="95"/>
                        </a:lnTo>
                        <a:lnTo>
                          <a:pt x="832" y="64"/>
                        </a:lnTo>
                        <a:lnTo>
                          <a:pt x="859" y="47"/>
                        </a:lnTo>
                        <a:lnTo>
                          <a:pt x="873" y="17"/>
                        </a:lnTo>
                        <a:lnTo>
                          <a:pt x="9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8402760" y="3336840"/>
                  <a:ext cx="263520" cy="441360"/>
                  <a:chOff x="8402760" y="3336840"/>
                  <a:chExt cx="263520" cy="441360"/>
                </a:xfrm>
              </p:grpSpPr>
              <p:sp>
                <p:nvSpPr>
                  <p:cNvPr id="1439" name=""/>
                  <p:cNvSpPr/>
                  <p:nvPr/>
                </p:nvSpPr>
                <p:spPr>
                  <a:xfrm>
                    <a:off x="8402760" y="3336840"/>
                    <a:ext cx="263520" cy="441360"/>
                  </a:xfrm>
                  <a:custGeom>
                    <a:avLst/>
                    <a:gdLst/>
                    <a:ahLst/>
                    <a:rect l="l" t="t" r="r" b="b"/>
                    <a:pathLst>
                      <a:path w="499" h="836">
                        <a:moveTo>
                          <a:pt x="0" y="836"/>
                        </a:moveTo>
                        <a:lnTo>
                          <a:pt x="27" y="804"/>
                        </a:lnTo>
                        <a:lnTo>
                          <a:pt x="41" y="789"/>
                        </a:lnTo>
                        <a:lnTo>
                          <a:pt x="69" y="757"/>
                        </a:lnTo>
                        <a:lnTo>
                          <a:pt x="83" y="742"/>
                        </a:lnTo>
                        <a:lnTo>
                          <a:pt x="110" y="710"/>
                        </a:lnTo>
                        <a:lnTo>
                          <a:pt x="124" y="678"/>
                        </a:lnTo>
                        <a:lnTo>
                          <a:pt x="152" y="663"/>
                        </a:lnTo>
                        <a:lnTo>
                          <a:pt x="166" y="631"/>
                        </a:lnTo>
                        <a:lnTo>
                          <a:pt x="195" y="599"/>
                        </a:lnTo>
                        <a:lnTo>
                          <a:pt x="222" y="584"/>
                        </a:lnTo>
                        <a:lnTo>
                          <a:pt x="236" y="552"/>
                        </a:lnTo>
                        <a:lnTo>
                          <a:pt x="264" y="520"/>
                        </a:lnTo>
                        <a:lnTo>
                          <a:pt x="278" y="489"/>
                        </a:lnTo>
                        <a:lnTo>
                          <a:pt x="292" y="458"/>
                        </a:lnTo>
                        <a:lnTo>
                          <a:pt x="319" y="442"/>
                        </a:lnTo>
                        <a:lnTo>
                          <a:pt x="333" y="410"/>
                        </a:lnTo>
                        <a:lnTo>
                          <a:pt x="347" y="379"/>
                        </a:lnTo>
                        <a:lnTo>
                          <a:pt x="361" y="347"/>
                        </a:lnTo>
                        <a:lnTo>
                          <a:pt x="375" y="316"/>
                        </a:lnTo>
                        <a:lnTo>
                          <a:pt x="388" y="284"/>
                        </a:lnTo>
                        <a:lnTo>
                          <a:pt x="402" y="252"/>
                        </a:lnTo>
                        <a:lnTo>
                          <a:pt x="416" y="222"/>
                        </a:lnTo>
                        <a:lnTo>
                          <a:pt x="430" y="190"/>
                        </a:lnTo>
                        <a:lnTo>
                          <a:pt x="444" y="158"/>
                        </a:lnTo>
                        <a:lnTo>
                          <a:pt x="458" y="126"/>
                        </a:lnTo>
                        <a:lnTo>
                          <a:pt x="471" y="94"/>
                        </a:lnTo>
                        <a:lnTo>
                          <a:pt x="485" y="64"/>
                        </a:lnTo>
                        <a:lnTo>
                          <a:pt x="499" y="32"/>
                        </a:lnTo>
                        <a:lnTo>
                          <a:pt x="499" y="0"/>
                        </a:lnTo>
                        <a:lnTo>
                          <a:pt x="0" y="83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402760" y="3336840"/>
                    <a:ext cx="263520" cy="441360"/>
                  </a:xfrm>
                  <a:custGeom>
                    <a:avLst/>
                    <a:gdLst/>
                    <a:ahLst/>
                    <a:rect l="l" t="t" r="r" b="b"/>
                    <a:pathLst>
                      <a:path w="499" h="836">
                        <a:moveTo>
                          <a:pt x="0" y="836"/>
                        </a:moveTo>
                        <a:lnTo>
                          <a:pt x="27" y="804"/>
                        </a:lnTo>
                        <a:lnTo>
                          <a:pt x="41" y="789"/>
                        </a:lnTo>
                        <a:lnTo>
                          <a:pt x="69" y="757"/>
                        </a:lnTo>
                        <a:lnTo>
                          <a:pt x="83" y="742"/>
                        </a:lnTo>
                        <a:lnTo>
                          <a:pt x="110" y="710"/>
                        </a:lnTo>
                        <a:lnTo>
                          <a:pt x="124" y="678"/>
                        </a:lnTo>
                        <a:lnTo>
                          <a:pt x="152" y="663"/>
                        </a:lnTo>
                        <a:lnTo>
                          <a:pt x="166" y="631"/>
                        </a:lnTo>
                        <a:lnTo>
                          <a:pt x="195" y="599"/>
                        </a:lnTo>
                        <a:lnTo>
                          <a:pt x="222" y="584"/>
                        </a:lnTo>
                        <a:lnTo>
                          <a:pt x="236" y="552"/>
                        </a:lnTo>
                        <a:lnTo>
                          <a:pt x="264" y="520"/>
                        </a:lnTo>
                        <a:lnTo>
                          <a:pt x="278" y="489"/>
                        </a:lnTo>
                        <a:lnTo>
                          <a:pt x="292" y="458"/>
                        </a:lnTo>
                        <a:lnTo>
                          <a:pt x="319" y="442"/>
                        </a:lnTo>
                        <a:lnTo>
                          <a:pt x="333" y="410"/>
                        </a:lnTo>
                        <a:lnTo>
                          <a:pt x="347" y="379"/>
                        </a:lnTo>
                        <a:lnTo>
                          <a:pt x="361" y="347"/>
                        </a:lnTo>
                        <a:lnTo>
                          <a:pt x="375" y="316"/>
                        </a:lnTo>
                        <a:lnTo>
                          <a:pt x="388" y="284"/>
                        </a:lnTo>
                        <a:lnTo>
                          <a:pt x="402" y="252"/>
                        </a:lnTo>
                        <a:lnTo>
                          <a:pt x="416" y="222"/>
                        </a:lnTo>
                        <a:lnTo>
                          <a:pt x="430" y="190"/>
                        </a:lnTo>
                        <a:lnTo>
                          <a:pt x="444" y="158"/>
                        </a:lnTo>
                        <a:lnTo>
                          <a:pt x="458" y="126"/>
                        </a:lnTo>
                        <a:lnTo>
                          <a:pt x="471" y="94"/>
                        </a:lnTo>
                        <a:lnTo>
                          <a:pt x="485" y="64"/>
                        </a:lnTo>
                        <a:lnTo>
                          <a:pt x="499" y="32"/>
                        </a:lnTo>
                        <a:lnTo>
                          <a:pt x="4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666280" y="2811600"/>
                  <a:ext cx="52200" cy="525240"/>
                  <a:chOff x="8666280" y="2811600"/>
                  <a:chExt cx="52200" cy="525240"/>
                </a:xfrm>
              </p:grpSpPr>
              <p:sp>
                <p:nvSpPr>
                  <p:cNvPr id="1442" name=""/>
                  <p:cNvSpPr/>
                  <p:nvPr/>
                </p:nvSpPr>
                <p:spPr>
                  <a:xfrm>
                    <a:off x="8666280" y="2811600"/>
                    <a:ext cx="52200" cy="525240"/>
                  </a:xfrm>
                  <a:custGeom>
                    <a:avLst/>
                    <a:gdLst/>
                    <a:ahLst/>
                    <a:rect l="l" t="t" r="r" b="b"/>
                    <a:pathLst>
                      <a:path w="97" h="993">
                        <a:moveTo>
                          <a:pt x="0" y="993"/>
                        </a:moveTo>
                        <a:lnTo>
                          <a:pt x="14" y="961"/>
                        </a:lnTo>
                        <a:lnTo>
                          <a:pt x="14" y="930"/>
                        </a:lnTo>
                        <a:lnTo>
                          <a:pt x="28" y="899"/>
                        </a:lnTo>
                        <a:lnTo>
                          <a:pt x="42" y="867"/>
                        </a:lnTo>
                        <a:lnTo>
                          <a:pt x="42" y="835"/>
                        </a:lnTo>
                        <a:lnTo>
                          <a:pt x="55" y="804"/>
                        </a:lnTo>
                        <a:lnTo>
                          <a:pt x="55" y="757"/>
                        </a:lnTo>
                        <a:lnTo>
                          <a:pt x="69" y="725"/>
                        </a:lnTo>
                        <a:lnTo>
                          <a:pt x="69" y="693"/>
                        </a:lnTo>
                        <a:lnTo>
                          <a:pt x="69" y="662"/>
                        </a:lnTo>
                        <a:lnTo>
                          <a:pt x="83" y="631"/>
                        </a:lnTo>
                        <a:lnTo>
                          <a:pt x="83" y="584"/>
                        </a:lnTo>
                        <a:lnTo>
                          <a:pt x="83" y="552"/>
                        </a:lnTo>
                        <a:lnTo>
                          <a:pt x="97" y="520"/>
                        </a:lnTo>
                        <a:lnTo>
                          <a:pt x="97" y="488"/>
                        </a:lnTo>
                        <a:lnTo>
                          <a:pt x="97" y="441"/>
                        </a:lnTo>
                        <a:lnTo>
                          <a:pt x="97" y="409"/>
                        </a:lnTo>
                        <a:lnTo>
                          <a:pt x="97" y="377"/>
                        </a:lnTo>
                        <a:lnTo>
                          <a:pt x="97" y="347"/>
                        </a:lnTo>
                        <a:lnTo>
                          <a:pt x="97" y="299"/>
                        </a:lnTo>
                        <a:lnTo>
                          <a:pt x="97" y="268"/>
                        </a:lnTo>
                        <a:lnTo>
                          <a:pt x="97" y="236"/>
                        </a:lnTo>
                        <a:lnTo>
                          <a:pt x="97" y="204"/>
                        </a:lnTo>
                        <a:lnTo>
                          <a:pt x="97" y="173"/>
                        </a:lnTo>
                        <a:lnTo>
                          <a:pt x="97" y="126"/>
                        </a:lnTo>
                        <a:lnTo>
                          <a:pt x="97" y="94"/>
                        </a:lnTo>
                        <a:lnTo>
                          <a:pt x="97" y="62"/>
                        </a:lnTo>
                        <a:lnTo>
                          <a:pt x="97" y="30"/>
                        </a:lnTo>
                        <a:lnTo>
                          <a:pt x="83" y="0"/>
                        </a:lnTo>
                        <a:lnTo>
                          <a:pt x="0" y="99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666280" y="2811600"/>
                    <a:ext cx="52200" cy="525240"/>
                  </a:xfrm>
                  <a:custGeom>
                    <a:avLst/>
                    <a:gdLst/>
                    <a:ahLst/>
                    <a:rect l="l" t="t" r="r" b="b"/>
                    <a:pathLst>
                      <a:path w="97" h="993">
                        <a:moveTo>
                          <a:pt x="0" y="993"/>
                        </a:moveTo>
                        <a:lnTo>
                          <a:pt x="14" y="961"/>
                        </a:lnTo>
                        <a:lnTo>
                          <a:pt x="14" y="930"/>
                        </a:lnTo>
                        <a:lnTo>
                          <a:pt x="28" y="899"/>
                        </a:lnTo>
                        <a:lnTo>
                          <a:pt x="42" y="867"/>
                        </a:lnTo>
                        <a:lnTo>
                          <a:pt x="42" y="835"/>
                        </a:lnTo>
                        <a:lnTo>
                          <a:pt x="55" y="804"/>
                        </a:lnTo>
                        <a:lnTo>
                          <a:pt x="55" y="757"/>
                        </a:lnTo>
                        <a:lnTo>
                          <a:pt x="69" y="725"/>
                        </a:lnTo>
                        <a:lnTo>
                          <a:pt x="69" y="693"/>
                        </a:lnTo>
                        <a:lnTo>
                          <a:pt x="69" y="662"/>
                        </a:lnTo>
                        <a:lnTo>
                          <a:pt x="83" y="631"/>
                        </a:lnTo>
                        <a:lnTo>
                          <a:pt x="83" y="584"/>
                        </a:lnTo>
                        <a:lnTo>
                          <a:pt x="83" y="552"/>
                        </a:lnTo>
                        <a:lnTo>
                          <a:pt x="97" y="520"/>
                        </a:lnTo>
                        <a:lnTo>
                          <a:pt x="97" y="488"/>
                        </a:lnTo>
                        <a:lnTo>
                          <a:pt x="97" y="441"/>
                        </a:lnTo>
                        <a:lnTo>
                          <a:pt x="97" y="409"/>
                        </a:lnTo>
                        <a:lnTo>
                          <a:pt x="97" y="377"/>
                        </a:lnTo>
                        <a:lnTo>
                          <a:pt x="97" y="347"/>
                        </a:lnTo>
                        <a:lnTo>
                          <a:pt x="97" y="299"/>
                        </a:lnTo>
                        <a:lnTo>
                          <a:pt x="97" y="268"/>
                        </a:lnTo>
                        <a:lnTo>
                          <a:pt x="97" y="236"/>
                        </a:lnTo>
                        <a:lnTo>
                          <a:pt x="97" y="204"/>
                        </a:lnTo>
                        <a:lnTo>
                          <a:pt x="97" y="173"/>
                        </a:lnTo>
                        <a:lnTo>
                          <a:pt x="97" y="126"/>
                        </a:lnTo>
                        <a:lnTo>
                          <a:pt x="97" y="94"/>
                        </a:lnTo>
                        <a:lnTo>
                          <a:pt x="97" y="62"/>
                        </a:lnTo>
                        <a:lnTo>
                          <a:pt x="97" y="30"/>
                        </a:lnTo>
                        <a:lnTo>
                          <a:pt x="8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8682120" y="2627280"/>
                  <a:ext cx="28440" cy="184320"/>
                  <a:chOff x="8682120" y="2627280"/>
                  <a:chExt cx="28440" cy="184320"/>
                </a:xfrm>
              </p:grpSpPr>
              <p:sp>
                <p:nvSpPr>
                  <p:cNvPr id="1445" name=""/>
                  <p:cNvSpPr/>
                  <p:nvPr/>
                </p:nvSpPr>
                <p:spPr>
                  <a:xfrm>
                    <a:off x="8682120" y="2627280"/>
                    <a:ext cx="28440" cy="184320"/>
                  </a:xfrm>
                  <a:custGeom>
                    <a:avLst/>
                    <a:gdLst/>
                    <a:ahLst/>
                    <a:rect l="l" t="t" r="r" b="b"/>
                    <a:pathLst>
                      <a:path w="55" h="348">
                        <a:moveTo>
                          <a:pt x="55" y="348"/>
                        </a:moveTo>
                        <a:lnTo>
                          <a:pt x="55" y="299"/>
                        </a:lnTo>
                        <a:lnTo>
                          <a:pt x="55" y="269"/>
                        </a:lnTo>
                        <a:lnTo>
                          <a:pt x="41" y="220"/>
                        </a:lnTo>
                        <a:lnTo>
                          <a:pt x="41" y="190"/>
                        </a:lnTo>
                        <a:lnTo>
                          <a:pt x="27" y="158"/>
                        </a:lnTo>
                        <a:lnTo>
                          <a:pt x="27" y="111"/>
                        </a:lnTo>
                        <a:lnTo>
                          <a:pt x="14" y="79"/>
                        </a:lnTo>
                        <a:lnTo>
                          <a:pt x="14" y="47"/>
                        </a:lnTo>
                        <a:lnTo>
                          <a:pt x="0" y="0"/>
                        </a:lnTo>
                        <a:lnTo>
                          <a:pt x="55" y="348"/>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82120" y="2627280"/>
                    <a:ext cx="28440" cy="184320"/>
                  </a:xfrm>
                  <a:custGeom>
                    <a:avLst/>
                    <a:gdLst/>
                    <a:ahLst/>
                    <a:rect l="l" t="t" r="r" b="b"/>
                    <a:pathLst>
                      <a:path w="55" h="348">
                        <a:moveTo>
                          <a:pt x="55" y="348"/>
                        </a:moveTo>
                        <a:lnTo>
                          <a:pt x="55" y="299"/>
                        </a:lnTo>
                        <a:lnTo>
                          <a:pt x="55" y="269"/>
                        </a:lnTo>
                        <a:lnTo>
                          <a:pt x="41" y="220"/>
                        </a:lnTo>
                        <a:lnTo>
                          <a:pt x="41" y="190"/>
                        </a:lnTo>
                        <a:lnTo>
                          <a:pt x="27" y="158"/>
                        </a:lnTo>
                        <a:lnTo>
                          <a:pt x="27" y="111"/>
                        </a:lnTo>
                        <a:lnTo>
                          <a:pt x="14" y="79"/>
                        </a:lnTo>
                        <a:lnTo>
                          <a:pt x="14" y="4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8234280" y="1959120"/>
                  <a:ext cx="447840" cy="668160"/>
                  <a:chOff x="8234280" y="1959120"/>
                  <a:chExt cx="447840" cy="668160"/>
                </a:xfrm>
              </p:grpSpPr>
              <p:sp>
                <p:nvSpPr>
                  <p:cNvPr id="1448" name=""/>
                  <p:cNvSpPr/>
                  <p:nvPr/>
                </p:nvSpPr>
                <p:spPr>
                  <a:xfrm>
                    <a:off x="8234280" y="1959120"/>
                    <a:ext cx="447840" cy="668160"/>
                  </a:xfrm>
                  <a:custGeom>
                    <a:avLst/>
                    <a:gdLst/>
                    <a:ahLst/>
                    <a:rect l="l" t="t" r="r" b="b"/>
                    <a:pathLst>
                      <a:path w="845" h="1262">
                        <a:moveTo>
                          <a:pt x="845" y="1262"/>
                        </a:moveTo>
                        <a:lnTo>
                          <a:pt x="845" y="1231"/>
                        </a:lnTo>
                        <a:lnTo>
                          <a:pt x="831" y="1199"/>
                        </a:lnTo>
                        <a:lnTo>
                          <a:pt x="831" y="1167"/>
                        </a:lnTo>
                        <a:lnTo>
                          <a:pt x="817" y="1136"/>
                        </a:lnTo>
                        <a:lnTo>
                          <a:pt x="803" y="1105"/>
                        </a:lnTo>
                        <a:lnTo>
                          <a:pt x="789" y="1073"/>
                        </a:lnTo>
                        <a:lnTo>
                          <a:pt x="789" y="1041"/>
                        </a:lnTo>
                        <a:lnTo>
                          <a:pt x="776" y="1009"/>
                        </a:lnTo>
                        <a:lnTo>
                          <a:pt x="762" y="979"/>
                        </a:lnTo>
                        <a:lnTo>
                          <a:pt x="748" y="947"/>
                        </a:lnTo>
                        <a:lnTo>
                          <a:pt x="734" y="915"/>
                        </a:lnTo>
                        <a:lnTo>
                          <a:pt x="720" y="883"/>
                        </a:lnTo>
                        <a:lnTo>
                          <a:pt x="706" y="836"/>
                        </a:lnTo>
                        <a:lnTo>
                          <a:pt x="693" y="804"/>
                        </a:lnTo>
                        <a:lnTo>
                          <a:pt x="679" y="789"/>
                        </a:lnTo>
                        <a:lnTo>
                          <a:pt x="665" y="757"/>
                        </a:lnTo>
                        <a:lnTo>
                          <a:pt x="651" y="726"/>
                        </a:lnTo>
                        <a:lnTo>
                          <a:pt x="623" y="694"/>
                        </a:lnTo>
                        <a:lnTo>
                          <a:pt x="610" y="663"/>
                        </a:lnTo>
                        <a:lnTo>
                          <a:pt x="596" y="631"/>
                        </a:lnTo>
                        <a:lnTo>
                          <a:pt x="582" y="615"/>
                        </a:lnTo>
                        <a:lnTo>
                          <a:pt x="554" y="584"/>
                        </a:lnTo>
                        <a:lnTo>
                          <a:pt x="540" y="553"/>
                        </a:lnTo>
                        <a:lnTo>
                          <a:pt x="513" y="536"/>
                        </a:lnTo>
                        <a:lnTo>
                          <a:pt x="484" y="505"/>
                        </a:lnTo>
                        <a:lnTo>
                          <a:pt x="470" y="474"/>
                        </a:lnTo>
                        <a:lnTo>
                          <a:pt x="442" y="457"/>
                        </a:lnTo>
                        <a:lnTo>
                          <a:pt x="428" y="427"/>
                        </a:lnTo>
                        <a:lnTo>
                          <a:pt x="401" y="395"/>
                        </a:lnTo>
                        <a:lnTo>
                          <a:pt x="387" y="378"/>
                        </a:lnTo>
                        <a:lnTo>
                          <a:pt x="359" y="348"/>
                        </a:lnTo>
                        <a:lnTo>
                          <a:pt x="345" y="331"/>
                        </a:lnTo>
                        <a:lnTo>
                          <a:pt x="318" y="299"/>
                        </a:lnTo>
                        <a:lnTo>
                          <a:pt x="304" y="284"/>
                        </a:lnTo>
                        <a:lnTo>
                          <a:pt x="276" y="252"/>
                        </a:lnTo>
                        <a:lnTo>
                          <a:pt x="249" y="237"/>
                        </a:lnTo>
                        <a:lnTo>
                          <a:pt x="235" y="205"/>
                        </a:lnTo>
                        <a:lnTo>
                          <a:pt x="207" y="190"/>
                        </a:lnTo>
                        <a:lnTo>
                          <a:pt x="179" y="158"/>
                        </a:lnTo>
                        <a:lnTo>
                          <a:pt x="166" y="142"/>
                        </a:lnTo>
                        <a:lnTo>
                          <a:pt x="138" y="126"/>
                        </a:lnTo>
                        <a:lnTo>
                          <a:pt x="110" y="95"/>
                        </a:lnTo>
                        <a:lnTo>
                          <a:pt x="96" y="79"/>
                        </a:lnTo>
                        <a:lnTo>
                          <a:pt x="69" y="63"/>
                        </a:lnTo>
                        <a:lnTo>
                          <a:pt x="41" y="32"/>
                        </a:lnTo>
                        <a:lnTo>
                          <a:pt x="27" y="16"/>
                        </a:lnTo>
                        <a:lnTo>
                          <a:pt x="0" y="0"/>
                        </a:lnTo>
                        <a:lnTo>
                          <a:pt x="845" y="126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234280" y="1959120"/>
                    <a:ext cx="447840" cy="668160"/>
                  </a:xfrm>
                  <a:custGeom>
                    <a:avLst/>
                    <a:gdLst/>
                    <a:ahLst/>
                    <a:rect l="l" t="t" r="r" b="b"/>
                    <a:pathLst>
                      <a:path w="845" h="1262">
                        <a:moveTo>
                          <a:pt x="845" y="1262"/>
                        </a:moveTo>
                        <a:lnTo>
                          <a:pt x="845" y="1231"/>
                        </a:lnTo>
                        <a:lnTo>
                          <a:pt x="831" y="1199"/>
                        </a:lnTo>
                        <a:lnTo>
                          <a:pt x="831" y="1167"/>
                        </a:lnTo>
                        <a:lnTo>
                          <a:pt x="817" y="1136"/>
                        </a:lnTo>
                        <a:lnTo>
                          <a:pt x="803" y="1105"/>
                        </a:lnTo>
                        <a:lnTo>
                          <a:pt x="789" y="1073"/>
                        </a:lnTo>
                        <a:lnTo>
                          <a:pt x="789" y="1041"/>
                        </a:lnTo>
                        <a:lnTo>
                          <a:pt x="776" y="1009"/>
                        </a:lnTo>
                        <a:lnTo>
                          <a:pt x="762" y="979"/>
                        </a:lnTo>
                        <a:lnTo>
                          <a:pt x="748" y="947"/>
                        </a:lnTo>
                        <a:lnTo>
                          <a:pt x="734" y="915"/>
                        </a:lnTo>
                        <a:lnTo>
                          <a:pt x="720" y="883"/>
                        </a:lnTo>
                        <a:lnTo>
                          <a:pt x="706" y="836"/>
                        </a:lnTo>
                        <a:lnTo>
                          <a:pt x="693" y="804"/>
                        </a:lnTo>
                        <a:lnTo>
                          <a:pt x="679" y="789"/>
                        </a:lnTo>
                        <a:lnTo>
                          <a:pt x="665" y="757"/>
                        </a:lnTo>
                        <a:lnTo>
                          <a:pt x="651" y="726"/>
                        </a:lnTo>
                        <a:lnTo>
                          <a:pt x="623" y="694"/>
                        </a:lnTo>
                        <a:lnTo>
                          <a:pt x="610" y="663"/>
                        </a:lnTo>
                        <a:lnTo>
                          <a:pt x="596" y="631"/>
                        </a:lnTo>
                        <a:lnTo>
                          <a:pt x="582" y="615"/>
                        </a:lnTo>
                        <a:lnTo>
                          <a:pt x="554" y="584"/>
                        </a:lnTo>
                        <a:lnTo>
                          <a:pt x="540" y="553"/>
                        </a:lnTo>
                        <a:lnTo>
                          <a:pt x="513" y="536"/>
                        </a:lnTo>
                        <a:lnTo>
                          <a:pt x="484" y="505"/>
                        </a:lnTo>
                        <a:lnTo>
                          <a:pt x="470" y="474"/>
                        </a:lnTo>
                        <a:lnTo>
                          <a:pt x="442" y="457"/>
                        </a:lnTo>
                        <a:lnTo>
                          <a:pt x="428" y="427"/>
                        </a:lnTo>
                        <a:lnTo>
                          <a:pt x="401" y="395"/>
                        </a:lnTo>
                        <a:lnTo>
                          <a:pt x="387" y="378"/>
                        </a:lnTo>
                        <a:lnTo>
                          <a:pt x="359" y="348"/>
                        </a:lnTo>
                        <a:lnTo>
                          <a:pt x="345" y="331"/>
                        </a:lnTo>
                        <a:lnTo>
                          <a:pt x="318" y="299"/>
                        </a:lnTo>
                        <a:lnTo>
                          <a:pt x="304" y="284"/>
                        </a:lnTo>
                        <a:lnTo>
                          <a:pt x="276" y="252"/>
                        </a:lnTo>
                        <a:lnTo>
                          <a:pt x="249" y="237"/>
                        </a:lnTo>
                        <a:lnTo>
                          <a:pt x="235" y="205"/>
                        </a:lnTo>
                        <a:lnTo>
                          <a:pt x="207" y="190"/>
                        </a:lnTo>
                        <a:lnTo>
                          <a:pt x="179" y="158"/>
                        </a:lnTo>
                        <a:lnTo>
                          <a:pt x="166" y="142"/>
                        </a:lnTo>
                        <a:lnTo>
                          <a:pt x="138" y="126"/>
                        </a:lnTo>
                        <a:lnTo>
                          <a:pt x="110" y="95"/>
                        </a:lnTo>
                        <a:lnTo>
                          <a:pt x="96" y="79"/>
                        </a:lnTo>
                        <a:lnTo>
                          <a:pt x="69" y="63"/>
                        </a:lnTo>
                        <a:lnTo>
                          <a:pt x="41" y="32"/>
                        </a:lnTo>
                        <a:lnTo>
                          <a:pt x="27"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8028000" y="1825560"/>
                  <a:ext cx="206280" cy="133560"/>
                  <a:chOff x="8028000" y="1825560"/>
                  <a:chExt cx="206280" cy="133560"/>
                </a:xfrm>
              </p:grpSpPr>
              <p:sp>
                <p:nvSpPr>
                  <p:cNvPr id="1451" name=""/>
                  <p:cNvSpPr/>
                  <p:nvPr/>
                </p:nvSpPr>
                <p:spPr>
                  <a:xfrm>
                    <a:off x="8028000" y="1825560"/>
                    <a:ext cx="206280" cy="133560"/>
                  </a:xfrm>
                  <a:custGeom>
                    <a:avLst/>
                    <a:gdLst/>
                    <a:ahLst/>
                    <a:rect l="l" t="t" r="r" b="b"/>
                    <a:pathLst>
                      <a:path w="389" h="253">
                        <a:moveTo>
                          <a:pt x="389" y="253"/>
                        </a:moveTo>
                        <a:lnTo>
                          <a:pt x="361" y="222"/>
                        </a:lnTo>
                        <a:lnTo>
                          <a:pt x="333" y="206"/>
                        </a:lnTo>
                        <a:lnTo>
                          <a:pt x="306" y="190"/>
                        </a:lnTo>
                        <a:lnTo>
                          <a:pt x="278" y="175"/>
                        </a:lnTo>
                        <a:lnTo>
                          <a:pt x="250" y="143"/>
                        </a:lnTo>
                        <a:lnTo>
                          <a:pt x="223" y="128"/>
                        </a:lnTo>
                        <a:lnTo>
                          <a:pt x="195" y="111"/>
                        </a:lnTo>
                        <a:lnTo>
                          <a:pt x="167" y="96"/>
                        </a:lnTo>
                        <a:lnTo>
                          <a:pt x="140" y="79"/>
                        </a:lnTo>
                        <a:lnTo>
                          <a:pt x="112" y="64"/>
                        </a:lnTo>
                        <a:lnTo>
                          <a:pt x="83" y="49"/>
                        </a:lnTo>
                        <a:lnTo>
                          <a:pt x="55" y="32"/>
                        </a:lnTo>
                        <a:lnTo>
                          <a:pt x="28" y="17"/>
                        </a:lnTo>
                        <a:lnTo>
                          <a:pt x="0" y="0"/>
                        </a:lnTo>
                        <a:lnTo>
                          <a:pt x="389"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028000" y="1825560"/>
                    <a:ext cx="206280" cy="133560"/>
                  </a:xfrm>
                  <a:custGeom>
                    <a:avLst/>
                    <a:gdLst/>
                    <a:ahLst/>
                    <a:rect l="l" t="t" r="r" b="b"/>
                    <a:pathLst>
                      <a:path w="389" h="253">
                        <a:moveTo>
                          <a:pt x="389" y="253"/>
                        </a:moveTo>
                        <a:lnTo>
                          <a:pt x="361" y="222"/>
                        </a:lnTo>
                        <a:lnTo>
                          <a:pt x="333" y="206"/>
                        </a:lnTo>
                        <a:lnTo>
                          <a:pt x="306" y="190"/>
                        </a:lnTo>
                        <a:lnTo>
                          <a:pt x="278" y="175"/>
                        </a:lnTo>
                        <a:lnTo>
                          <a:pt x="250" y="143"/>
                        </a:lnTo>
                        <a:lnTo>
                          <a:pt x="223" y="128"/>
                        </a:lnTo>
                        <a:lnTo>
                          <a:pt x="195" y="111"/>
                        </a:lnTo>
                        <a:lnTo>
                          <a:pt x="167" y="96"/>
                        </a:lnTo>
                        <a:lnTo>
                          <a:pt x="140" y="79"/>
                        </a:lnTo>
                        <a:lnTo>
                          <a:pt x="112" y="64"/>
                        </a:lnTo>
                        <a:lnTo>
                          <a:pt x="83" y="49"/>
                        </a:lnTo>
                        <a:lnTo>
                          <a:pt x="55" y="32"/>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7962840" y="1792440"/>
                  <a:ext cx="65160" cy="33120"/>
                  <a:chOff x="7962840" y="1792440"/>
                  <a:chExt cx="65160" cy="33120"/>
                </a:xfrm>
              </p:grpSpPr>
              <p:sp>
                <p:nvSpPr>
                  <p:cNvPr id="1454" name=""/>
                  <p:cNvSpPr/>
                  <p:nvPr/>
                </p:nvSpPr>
                <p:spPr>
                  <a:xfrm>
                    <a:off x="7962840" y="1792440"/>
                    <a:ext cx="65160" cy="33120"/>
                  </a:xfrm>
                  <a:custGeom>
                    <a:avLst/>
                    <a:gdLst/>
                    <a:ahLst/>
                    <a:rect l="l" t="t" r="r" b="b"/>
                    <a:pathLst>
                      <a:path w="125" h="62">
                        <a:moveTo>
                          <a:pt x="125" y="62"/>
                        </a:moveTo>
                        <a:lnTo>
                          <a:pt x="83" y="47"/>
                        </a:lnTo>
                        <a:lnTo>
                          <a:pt x="42" y="15"/>
                        </a:lnTo>
                        <a:lnTo>
                          <a:pt x="0" y="0"/>
                        </a:lnTo>
                        <a:lnTo>
                          <a:pt x="125"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5" name=""/>
                  <p:cNvSpPr/>
                  <p:nvPr/>
                </p:nvSpPr>
                <p:spPr>
                  <a:xfrm>
                    <a:off x="7962840" y="1792440"/>
                    <a:ext cx="65160" cy="33120"/>
                  </a:xfrm>
                  <a:custGeom>
                    <a:avLst/>
                    <a:gdLst/>
                    <a:ahLst/>
                    <a:rect l="l" t="t" r="r" b="b"/>
                    <a:pathLst>
                      <a:path w="125" h="62">
                        <a:moveTo>
                          <a:pt x="125" y="62"/>
                        </a:moveTo>
                        <a:lnTo>
                          <a:pt x="83" y="47"/>
                        </a:lnTo>
                        <a:lnTo>
                          <a:pt x="42"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456" name=""/>
                <p:cNvGrpSpPr/>
                <p:nvPr/>
              </p:nvGrpSpPr>
              <p:grpSpPr>
                <a:xfrm>
                  <a:off x="7926480" y="1774800"/>
                  <a:ext cx="36360" cy="17640"/>
                  <a:chOff x="7926480" y="1774800"/>
                  <a:chExt cx="36360" cy="17640"/>
                </a:xfrm>
              </p:grpSpPr>
              <p:sp>
                <p:nvSpPr>
                  <p:cNvPr id="1457" name=""/>
                  <p:cNvSpPr/>
                  <p:nvPr/>
                </p:nvSpPr>
                <p:spPr>
                  <a:xfrm>
                    <a:off x="7926480" y="1774800"/>
                    <a:ext cx="36360" cy="17640"/>
                  </a:xfrm>
                  <a:custGeom>
                    <a:avLst/>
                    <a:gdLst/>
                    <a:ahLst/>
                    <a:rect l="l" t="t" r="r" b="b"/>
                    <a:pathLst>
                      <a:path w="69" h="32">
                        <a:moveTo>
                          <a:pt x="69" y="32"/>
                        </a:moveTo>
                        <a:lnTo>
                          <a:pt x="42" y="15"/>
                        </a:lnTo>
                        <a:lnTo>
                          <a:pt x="14" y="15"/>
                        </a:lnTo>
                        <a:lnTo>
                          <a:pt x="0" y="0"/>
                        </a:lnTo>
                        <a:lnTo>
                          <a:pt x="69"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8" name=""/>
                  <p:cNvSpPr/>
                  <p:nvPr/>
                </p:nvSpPr>
                <p:spPr>
                  <a:xfrm>
                    <a:off x="7926480" y="1774800"/>
                    <a:ext cx="36360" cy="17640"/>
                  </a:xfrm>
                  <a:custGeom>
                    <a:avLst/>
                    <a:gdLst/>
                    <a:ahLst/>
                    <a:rect l="l" t="t" r="r" b="b"/>
                    <a:pathLst>
                      <a:path w="69" h="32">
                        <a:moveTo>
                          <a:pt x="69" y="32"/>
                        </a:moveTo>
                        <a:lnTo>
                          <a:pt x="42" y="15"/>
                        </a:lnTo>
                        <a:lnTo>
                          <a:pt x="14"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59" name=""/>
                <p:cNvGrpSpPr/>
                <p:nvPr/>
              </p:nvGrpSpPr>
              <p:grpSpPr>
                <a:xfrm>
                  <a:off x="8013600" y="3778200"/>
                  <a:ext cx="536760" cy="335160"/>
                  <a:chOff x="8013600" y="3778200"/>
                  <a:chExt cx="536760" cy="335160"/>
                </a:xfrm>
              </p:grpSpPr>
              <p:sp>
                <p:nvSpPr>
                  <p:cNvPr id="1460" name=""/>
                  <p:cNvSpPr/>
                  <p:nvPr/>
                </p:nvSpPr>
                <p:spPr>
                  <a:xfrm>
                    <a:off x="8013600" y="3778200"/>
                    <a:ext cx="536760" cy="335160"/>
                  </a:xfrm>
                  <a:custGeom>
                    <a:avLst/>
                    <a:gdLst/>
                    <a:ahLst/>
                    <a:rect l="l" t="t" r="r" b="b"/>
                    <a:pathLst>
                      <a:path w="1013" h="631">
                        <a:moveTo>
                          <a:pt x="0" y="631"/>
                        </a:moveTo>
                        <a:lnTo>
                          <a:pt x="28" y="631"/>
                        </a:lnTo>
                        <a:lnTo>
                          <a:pt x="69" y="616"/>
                        </a:lnTo>
                        <a:lnTo>
                          <a:pt x="97" y="599"/>
                        </a:lnTo>
                        <a:lnTo>
                          <a:pt x="125" y="599"/>
                        </a:lnTo>
                        <a:lnTo>
                          <a:pt x="154" y="584"/>
                        </a:lnTo>
                        <a:lnTo>
                          <a:pt x="181" y="569"/>
                        </a:lnTo>
                        <a:lnTo>
                          <a:pt x="209" y="552"/>
                        </a:lnTo>
                        <a:lnTo>
                          <a:pt x="237" y="537"/>
                        </a:lnTo>
                        <a:lnTo>
                          <a:pt x="264" y="537"/>
                        </a:lnTo>
                        <a:lnTo>
                          <a:pt x="292" y="520"/>
                        </a:lnTo>
                        <a:lnTo>
                          <a:pt x="320" y="505"/>
                        </a:lnTo>
                        <a:lnTo>
                          <a:pt x="347" y="490"/>
                        </a:lnTo>
                        <a:lnTo>
                          <a:pt x="375" y="473"/>
                        </a:lnTo>
                        <a:lnTo>
                          <a:pt x="403" y="458"/>
                        </a:lnTo>
                        <a:lnTo>
                          <a:pt x="430" y="441"/>
                        </a:lnTo>
                        <a:lnTo>
                          <a:pt x="458" y="426"/>
                        </a:lnTo>
                        <a:lnTo>
                          <a:pt x="486" y="411"/>
                        </a:lnTo>
                        <a:lnTo>
                          <a:pt x="513" y="394"/>
                        </a:lnTo>
                        <a:lnTo>
                          <a:pt x="541" y="362"/>
                        </a:lnTo>
                        <a:lnTo>
                          <a:pt x="569" y="347"/>
                        </a:lnTo>
                        <a:lnTo>
                          <a:pt x="596" y="332"/>
                        </a:lnTo>
                        <a:lnTo>
                          <a:pt x="624" y="315"/>
                        </a:lnTo>
                        <a:lnTo>
                          <a:pt x="652" y="300"/>
                        </a:lnTo>
                        <a:lnTo>
                          <a:pt x="679" y="284"/>
                        </a:lnTo>
                        <a:lnTo>
                          <a:pt x="693" y="253"/>
                        </a:lnTo>
                        <a:lnTo>
                          <a:pt x="721" y="237"/>
                        </a:lnTo>
                        <a:lnTo>
                          <a:pt x="749" y="221"/>
                        </a:lnTo>
                        <a:lnTo>
                          <a:pt x="776" y="189"/>
                        </a:lnTo>
                        <a:lnTo>
                          <a:pt x="804" y="174"/>
                        </a:lnTo>
                        <a:lnTo>
                          <a:pt x="832" y="158"/>
                        </a:lnTo>
                        <a:lnTo>
                          <a:pt x="845" y="126"/>
                        </a:lnTo>
                        <a:lnTo>
                          <a:pt x="873" y="111"/>
                        </a:lnTo>
                        <a:lnTo>
                          <a:pt x="901" y="95"/>
                        </a:lnTo>
                        <a:lnTo>
                          <a:pt x="930" y="64"/>
                        </a:lnTo>
                        <a:lnTo>
                          <a:pt x="957" y="47"/>
                        </a:lnTo>
                        <a:lnTo>
                          <a:pt x="985" y="17"/>
                        </a:lnTo>
                        <a:lnTo>
                          <a:pt x="1013" y="0"/>
                        </a:lnTo>
                        <a:lnTo>
                          <a:pt x="0" y="6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8013600" y="3778200"/>
                    <a:ext cx="536760" cy="335160"/>
                  </a:xfrm>
                  <a:custGeom>
                    <a:avLst/>
                    <a:gdLst/>
                    <a:ahLst/>
                    <a:rect l="l" t="t" r="r" b="b"/>
                    <a:pathLst>
                      <a:path w="1013" h="631">
                        <a:moveTo>
                          <a:pt x="0" y="631"/>
                        </a:moveTo>
                        <a:lnTo>
                          <a:pt x="28" y="631"/>
                        </a:lnTo>
                        <a:lnTo>
                          <a:pt x="69" y="616"/>
                        </a:lnTo>
                        <a:lnTo>
                          <a:pt x="97" y="599"/>
                        </a:lnTo>
                        <a:lnTo>
                          <a:pt x="125" y="599"/>
                        </a:lnTo>
                        <a:lnTo>
                          <a:pt x="154" y="584"/>
                        </a:lnTo>
                        <a:lnTo>
                          <a:pt x="181" y="569"/>
                        </a:lnTo>
                        <a:lnTo>
                          <a:pt x="209" y="552"/>
                        </a:lnTo>
                        <a:lnTo>
                          <a:pt x="237" y="537"/>
                        </a:lnTo>
                        <a:lnTo>
                          <a:pt x="264" y="537"/>
                        </a:lnTo>
                        <a:lnTo>
                          <a:pt x="292" y="520"/>
                        </a:lnTo>
                        <a:lnTo>
                          <a:pt x="320" y="505"/>
                        </a:lnTo>
                        <a:lnTo>
                          <a:pt x="347" y="490"/>
                        </a:lnTo>
                        <a:lnTo>
                          <a:pt x="375" y="473"/>
                        </a:lnTo>
                        <a:lnTo>
                          <a:pt x="403" y="458"/>
                        </a:lnTo>
                        <a:lnTo>
                          <a:pt x="430" y="441"/>
                        </a:lnTo>
                        <a:lnTo>
                          <a:pt x="458" y="426"/>
                        </a:lnTo>
                        <a:lnTo>
                          <a:pt x="486" y="411"/>
                        </a:lnTo>
                        <a:lnTo>
                          <a:pt x="513" y="394"/>
                        </a:lnTo>
                        <a:lnTo>
                          <a:pt x="541" y="362"/>
                        </a:lnTo>
                        <a:lnTo>
                          <a:pt x="569" y="347"/>
                        </a:lnTo>
                        <a:lnTo>
                          <a:pt x="596" y="332"/>
                        </a:lnTo>
                        <a:lnTo>
                          <a:pt x="624" y="315"/>
                        </a:lnTo>
                        <a:lnTo>
                          <a:pt x="652" y="300"/>
                        </a:lnTo>
                        <a:lnTo>
                          <a:pt x="679" y="284"/>
                        </a:lnTo>
                        <a:lnTo>
                          <a:pt x="693" y="253"/>
                        </a:lnTo>
                        <a:lnTo>
                          <a:pt x="721" y="237"/>
                        </a:lnTo>
                        <a:lnTo>
                          <a:pt x="749" y="221"/>
                        </a:lnTo>
                        <a:lnTo>
                          <a:pt x="776" y="189"/>
                        </a:lnTo>
                        <a:lnTo>
                          <a:pt x="804" y="174"/>
                        </a:lnTo>
                        <a:lnTo>
                          <a:pt x="832" y="158"/>
                        </a:lnTo>
                        <a:lnTo>
                          <a:pt x="845" y="126"/>
                        </a:lnTo>
                        <a:lnTo>
                          <a:pt x="873" y="111"/>
                        </a:lnTo>
                        <a:lnTo>
                          <a:pt x="901" y="95"/>
                        </a:lnTo>
                        <a:lnTo>
                          <a:pt x="930" y="64"/>
                        </a:lnTo>
                        <a:lnTo>
                          <a:pt x="957" y="47"/>
                        </a:lnTo>
                        <a:lnTo>
                          <a:pt x="985" y="17"/>
                        </a:lnTo>
                        <a:lnTo>
                          <a:pt x="10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8550360" y="3360600"/>
                  <a:ext cx="277560" cy="417600"/>
                  <a:chOff x="8550360" y="3360600"/>
                  <a:chExt cx="277560" cy="417600"/>
                </a:xfrm>
              </p:grpSpPr>
              <p:sp>
                <p:nvSpPr>
                  <p:cNvPr id="1463" name=""/>
                  <p:cNvSpPr/>
                  <p:nvPr/>
                </p:nvSpPr>
                <p:spPr>
                  <a:xfrm>
                    <a:off x="8550360" y="3360600"/>
                    <a:ext cx="277560" cy="417600"/>
                  </a:xfrm>
                  <a:custGeom>
                    <a:avLst/>
                    <a:gdLst/>
                    <a:ahLst/>
                    <a:rect l="l" t="t" r="r" b="b"/>
                    <a:pathLst>
                      <a:path w="525" h="789">
                        <a:moveTo>
                          <a:pt x="0" y="789"/>
                        </a:moveTo>
                        <a:lnTo>
                          <a:pt x="27" y="757"/>
                        </a:lnTo>
                        <a:lnTo>
                          <a:pt x="41" y="742"/>
                        </a:lnTo>
                        <a:lnTo>
                          <a:pt x="69" y="710"/>
                        </a:lnTo>
                        <a:lnTo>
                          <a:pt x="83" y="695"/>
                        </a:lnTo>
                        <a:lnTo>
                          <a:pt x="110" y="663"/>
                        </a:lnTo>
                        <a:lnTo>
                          <a:pt x="138" y="631"/>
                        </a:lnTo>
                        <a:lnTo>
                          <a:pt x="152" y="616"/>
                        </a:lnTo>
                        <a:lnTo>
                          <a:pt x="180" y="584"/>
                        </a:lnTo>
                        <a:lnTo>
                          <a:pt x="193" y="552"/>
                        </a:lnTo>
                        <a:lnTo>
                          <a:pt x="221" y="537"/>
                        </a:lnTo>
                        <a:lnTo>
                          <a:pt x="235" y="505"/>
                        </a:lnTo>
                        <a:lnTo>
                          <a:pt x="263" y="473"/>
                        </a:lnTo>
                        <a:lnTo>
                          <a:pt x="276" y="458"/>
                        </a:lnTo>
                        <a:lnTo>
                          <a:pt x="290" y="426"/>
                        </a:lnTo>
                        <a:lnTo>
                          <a:pt x="318" y="395"/>
                        </a:lnTo>
                        <a:lnTo>
                          <a:pt x="332" y="363"/>
                        </a:lnTo>
                        <a:lnTo>
                          <a:pt x="346" y="332"/>
                        </a:lnTo>
                        <a:lnTo>
                          <a:pt x="373" y="300"/>
                        </a:lnTo>
                        <a:lnTo>
                          <a:pt x="387" y="269"/>
                        </a:lnTo>
                        <a:lnTo>
                          <a:pt x="401" y="253"/>
                        </a:lnTo>
                        <a:lnTo>
                          <a:pt x="415" y="222"/>
                        </a:lnTo>
                        <a:lnTo>
                          <a:pt x="428" y="190"/>
                        </a:lnTo>
                        <a:lnTo>
                          <a:pt x="442" y="158"/>
                        </a:lnTo>
                        <a:lnTo>
                          <a:pt x="470" y="126"/>
                        </a:lnTo>
                        <a:lnTo>
                          <a:pt x="484" y="96"/>
                        </a:lnTo>
                        <a:lnTo>
                          <a:pt x="498" y="64"/>
                        </a:lnTo>
                        <a:lnTo>
                          <a:pt x="511" y="32"/>
                        </a:lnTo>
                        <a:lnTo>
                          <a:pt x="525" y="0"/>
                        </a:lnTo>
                        <a:lnTo>
                          <a:pt x="0" y="78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8550360" y="3360600"/>
                    <a:ext cx="277560" cy="417600"/>
                  </a:xfrm>
                  <a:custGeom>
                    <a:avLst/>
                    <a:gdLst/>
                    <a:ahLst/>
                    <a:rect l="l" t="t" r="r" b="b"/>
                    <a:pathLst>
                      <a:path w="525" h="789">
                        <a:moveTo>
                          <a:pt x="0" y="789"/>
                        </a:moveTo>
                        <a:lnTo>
                          <a:pt x="27" y="757"/>
                        </a:lnTo>
                        <a:lnTo>
                          <a:pt x="41" y="742"/>
                        </a:lnTo>
                        <a:lnTo>
                          <a:pt x="69" y="710"/>
                        </a:lnTo>
                        <a:lnTo>
                          <a:pt x="83" y="695"/>
                        </a:lnTo>
                        <a:lnTo>
                          <a:pt x="110" y="663"/>
                        </a:lnTo>
                        <a:lnTo>
                          <a:pt x="138" y="631"/>
                        </a:lnTo>
                        <a:lnTo>
                          <a:pt x="152" y="616"/>
                        </a:lnTo>
                        <a:lnTo>
                          <a:pt x="180" y="584"/>
                        </a:lnTo>
                        <a:lnTo>
                          <a:pt x="193" y="552"/>
                        </a:lnTo>
                        <a:lnTo>
                          <a:pt x="221" y="537"/>
                        </a:lnTo>
                        <a:lnTo>
                          <a:pt x="235" y="505"/>
                        </a:lnTo>
                        <a:lnTo>
                          <a:pt x="263" y="473"/>
                        </a:lnTo>
                        <a:lnTo>
                          <a:pt x="276" y="458"/>
                        </a:lnTo>
                        <a:lnTo>
                          <a:pt x="290" y="426"/>
                        </a:lnTo>
                        <a:lnTo>
                          <a:pt x="318" y="395"/>
                        </a:lnTo>
                        <a:lnTo>
                          <a:pt x="332" y="363"/>
                        </a:lnTo>
                        <a:lnTo>
                          <a:pt x="346" y="332"/>
                        </a:lnTo>
                        <a:lnTo>
                          <a:pt x="373" y="300"/>
                        </a:lnTo>
                        <a:lnTo>
                          <a:pt x="387" y="269"/>
                        </a:lnTo>
                        <a:lnTo>
                          <a:pt x="401" y="253"/>
                        </a:lnTo>
                        <a:lnTo>
                          <a:pt x="415" y="222"/>
                        </a:lnTo>
                        <a:lnTo>
                          <a:pt x="428" y="190"/>
                        </a:lnTo>
                        <a:lnTo>
                          <a:pt x="442" y="158"/>
                        </a:lnTo>
                        <a:lnTo>
                          <a:pt x="470" y="126"/>
                        </a:lnTo>
                        <a:lnTo>
                          <a:pt x="484" y="96"/>
                        </a:lnTo>
                        <a:lnTo>
                          <a:pt x="498" y="64"/>
                        </a:lnTo>
                        <a:lnTo>
                          <a:pt x="511" y="32"/>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8827920" y="2685960"/>
                  <a:ext cx="65160" cy="674640"/>
                  <a:chOff x="8827920" y="2685960"/>
                  <a:chExt cx="65160" cy="674640"/>
                </a:xfrm>
              </p:grpSpPr>
              <p:sp>
                <p:nvSpPr>
                  <p:cNvPr id="1466" name=""/>
                  <p:cNvSpPr/>
                  <p:nvPr/>
                </p:nvSpPr>
                <p:spPr>
                  <a:xfrm>
                    <a:off x="8827920" y="2685960"/>
                    <a:ext cx="65160" cy="674640"/>
                  </a:xfrm>
                  <a:custGeom>
                    <a:avLst/>
                    <a:gdLst/>
                    <a:ahLst/>
                    <a:rect l="l" t="t" r="r" b="b"/>
                    <a:pathLst>
                      <a:path w="125" h="1277">
                        <a:moveTo>
                          <a:pt x="0" y="1277"/>
                        </a:moveTo>
                        <a:lnTo>
                          <a:pt x="14" y="1230"/>
                        </a:lnTo>
                        <a:lnTo>
                          <a:pt x="14" y="1198"/>
                        </a:lnTo>
                        <a:lnTo>
                          <a:pt x="28" y="1167"/>
                        </a:lnTo>
                        <a:lnTo>
                          <a:pt x="42" y="1136"/>
                        </a:lnTo>
                        <a:lnTo>
                          <a:pt x="56" y="1104"/>
                        </a:lnTo>
                        <a:lnTo>
                          <a:pt x="69" y="1057"/>
                        </a:lnTo>
                        <a:lnTo>
                          <a:pt x="69" y="1025"/>
                        </a:lnTo>
                        <a:lnTo>
                          <a:pt x="83" y="994"/>
                        </a:lnTo>
                        <a:lnTo>
                          <a:pt x="83" y="962"/>
                        </a:lnTo>
                        <a:lnTo>
                          <a:pt x="97" y="915"/>
                        </a:lnTo>
                        <a:lnTo>
                          <a:pt x="97" y="883"/>
                        </a:lnTo>
                        <a:lnTo>
                          <a:pt x="111" y="851"/>
                        </a:lnTo>
                        <a:lnTo>
                          <a:pt x="111" y="821"/>
                        </a:lnTo>
                        <a:lnTo>
                          <a:pt x="111" y="789"/>
                        </a:lnTo>
                        <a:lnTo>
                          <a:pt x="111" y="742"/>
                        </a:lnTo>
                        <a:lnTo>
                          <a:pt x="125" y="710"/>
                        </a:lnTo>
                        <a:lnTo>
                          <a:pt x="125" y="678"/>
                        </a:lnTo>
                        <a:lnTo>
                          <a:pt x="125" y="646"/>
                        </a:lnTo>
                        <a:lnTo>
                          <a:pt x="125" y="614"/>
                        </a:lnTo>
                        <a:lnTo>
                          <a:pt x="125" y="567"/>
                        </a:lnTo>
                        <a:lnTo>
                          <a:pt x="125" y="536"/>
                        </a:lnTo>
                        <a:lnTo>
                          <a:pt x="125" y="505"/>
                        </a:lnTo>
                        <a:lnTo>
                          <a:pt x="125" y="473"/>
                        </a:lnTo>
                        <a:lnTo>
                          <a:pt x="125" y="441"/>
                        </a:lnTo>
                        <a:lnTo>
                          <a:pt x="111" y="410"/>
                        </a:lnTo>
                        <a:lnTo>
                          <a:pt x="111" y="363"/>
                        </a:lnTo>
                        <a:lnTo>
                          <a:pt x="111" y="331"/>
                        </a:lnTo>
                        <a:lnTo>
                          <a:pt x="111" y="299"/>
                        </a:lnTo>
                        <a:lnTo>
                          <a:pt x="111" y="267"/>
                        </a:lnTo>
                        <a:lnTo>
                          <a:pt x="97" y="237"/>
                        </a:lnTo>
                        <a:lnTo>
                          <a:pt x="97" y="205"/>
                        </a:lnTo>
                        <a:lnTo>
                          <a:pt x="97" y="173"/>
                        </a:lnTo>
                        <a:lnTo>
                          <a:pt x="83" y="141"/>
                        </a:lnTo>
                        <a:lnTo>
                          <a:pt x="83" y="109"/>
                        </a:lnTo>
                        <a:lnTo>
                          <a:pt x="69" y="62"/>
                        </a:lnTo>
                        <a:lnTo>
                          <a:pt x="69" y="31"/>
                        </a:lnTo>
                        <a:lnTo>
                          <a:pt x="69" y="0"/>
                        </a:lnTo>
                        <a:lnTo>
                          <a:pt x="0" y="127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8827920" y="2685960"/>
                    <a:ext cx="65160" cy="674640"/>
                  </a:xfrm>
                  <a:custGeom>
                    <a:avLst/>
                    <a:gdLst/>
                    <a:ahLst/>
                    <a:rect l="l" t="t" r="r" b="b"/>
                    <a:pathLst>
                      <a:path w="125" h="1277">
                        <a:moveTo>
                          <a:pt x="0" y="1277"/>
                        </a:moveTo>
                        <a:lnTo>
                          <a:pt x="14" y="1230"/>
                        </a:lnTo>
                        <a:lnTo>
                          <a:pt x="14" y="1198"/>
                        </a:lnTo>
                        <a:lnTo>
                          <a:pt x="28" y="1167"/>
                        </a:lnTo>
                        <a:lnTo>
                          <a:pt x="42" y="1136"/>
                        </a:lnTo>
                        <a:lnTo>
                          <a:pt x="56" y="1104"/>
                        </a:lnTo>
                        <a:lnTo>
                          <a:pt x="69" y="1057"/>
                        </a:lnTo>
                        <a:lnTo>
                          <a:pt x="69" y="1025"/>
                        </a:lnTo>
                        <a:lnTo>
                          <a:pt x="83" y="994"/>
                        </a:lnTo>
                        <a:lnTo>
                          <a:pt x="83" y="962"/>
                        </a:lnTo>
                        <a:lnTo>
                          <a:pt x="97" y="915"/>
                        </a:lnTo>
                        <a:lnTo>
                          <a:pt x="97" y="883"/>
                        </a:lnTo>
                        <a:lnTo>
                          <a:pt x="111" y="851"/>
                        </a:lnTo>
                        <a:lnTo>
                          <a:pt x="111" y="821"/>
                        </a:lnTo>
                        <a:lnTo>
                          <a:pt x="111" y="789"/>
                        </a:lnTo>
                        <a:lnTo>
                          <a:pt x="111" y="742"/>
                        </a:lnTo>
                        <a:lnTo>
                          <a:pt x="125" y="710"/>
                        </a:lnTo>
                        <a:lnTo>
                          <a:pt x="125" y="678"/>
                        </a:lnTo>
                        <a:lnTo>
                          <a:pt x="125" y="646"/>
                        </a:lnTo>
                        <a:lnTo>
                          <a:pt x="125" y="614"/>
                        </a:lnTo>
                        <a:lnTo>
                          <a:pt x="125" y="567"/>
                        </a:lnTo>
                        <a:lnTo>
                          <a:pt x="125" y="536"/>
                        </a:lnTo>
                        <a:lnTo>
                          <a:pt x="125" y="505"/>
                        </a:lnTo>
                        <a:lnTo>
                          <a:pt x="125" y="473"/>
                        </a:lnTo>
                        <a:lnTo>
                          <a:pt x="125" y="441"/>
                        </a:lnTo>
                        <a:lnTo>
                          <a:pt x="111" y="410"/>
                        </a:lnTo>
                        <a:lnTo>
                          <a:pt x="111" y="363"/>
                        </a:lnTo>
                        <a:lnTo>
                          <a:pt x="111" y="331"/>
                        </a:lnTo>
                        <a:lnTo>
                          <a:pt x="111" y="299"/>
                        </a:lnTo>
                        <a:lnTo>
                          <a:pt x="111" y="267"/>
                        </a:lnTo>
                        <a:lnTo>
                          <a:pt x="97" y="237"/>
                        </a:lnTo>
                        <a:lnTo>
                          <a:pt x="97" y="205"/>
                        </a:lnTo>
                        <a:lnTo>
                          <a:pt x="97" y="173"/>
                        </a:lnTo>
                        <a:lnTo>
                          <a:pt x="83" y="141"/>
                        </a:lnTo>
                        <a:lnTo>
                          <a:pt x="83" y="109"/>
                        </a:lnTo>
                        <a:lnTo>
                          <a:pt x="69" y="62"/>
                        </a:lnTo>
                        <a:lnTo>
                          <a:pt x="69" y="31"/>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820000" y="2527200"/>
                  <a:ext cx="44640" cy="158760"/>
                  <a:chOff x="8820000" y="2527200"/>
                  <a:chExt cx="44640" cy="158760"/>
                </a:xfrm>
              </p:grpSpPr>
              <p:sp>
                <p:nvSpPr>
                  <p:cNvPr id="1469" name=""/>
                  <p:cNvSpPr/>
                  <p:nvPr/>
                </p:nvSpPr>
                <p:spPr>
                  <a:xfrm>
                    <a:off x="8820000" y="2527200"/>
                    <a:ext cx="44640" cy="158760"/>
                  </a:xfrm>
                  <a:custGeom>
                    <a:avLst/>
                    <a:gdLst/>
                    <a:ahLst/>
                    <a:rect l="l" t="t" r="r" b="b"/>
                    <a:pathLst>
                      <a:path w="83" h="300">
                        <a:moveTo>
                          <a:pt x="83" y="300"/>
                        </a:moveTo>
                        <a:lnTo>
                          <a:pt x="70" y="268"/>
                        </a:lnTo>
                        <a:lnTo>
                          <a:pt x="56" y="221"/>
                        </a:lnTo>
                        <a:lnTo>
                          <a:pt x="56" y="189"/>
                        </a:lnTo>
                        <a:lnTo>
                          <a:pt x="42" y="142"/>
                        </a:lnTo>
                        <a:lnTo>
                          <a:pt x="28" y="111"/>
                        </a:lnTo>
                        <a:lnTo>
                          <a:pt x="14" y="79"/>
                        </a:lnTo>
                        <a:lnTo>
                          <a:pt x="14" y="32"/>
                        </a:lnTo>
                        <a:lnTo>
                          <a:pt x="0" y="0"/>
                        </a:lnTo>
                        <a:lnTo>
                          <a:pt x="83" y="30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820000" y="2527200"/>
                    <a:ext cx="44640" cy="158760"/>
                  </a:xfrm>
                  <a:custGeom>
                    <a:avLst/>
                    <a:gdLst/>
                    <a:ahLst/>
                    <a:rect l="l" t="t" r="r" b="b"/>
                    <a:pathLst>
                      <a:path w="83" h="300">
                        <a:moveTo>
                          <a:pt x="83" y="300"/>
                        </a:moveTo>
                        <a:lnTo>
                          <a:pt x="70" y="268"/>
                        </a:lnTo>
                        <a:lnTo>
                          <a:pt x="56" y="221"/>
                        </a:lnTo>
                        <a:lnTo>
                          <a:pt x="56" y="189"/>
                        </a:lnTo>
                        <a:lnTo>
                          <a:pt x="42" y="142"/>
                        </a:lnTo>
                        <a:lnTo>
                          <a:pt x="28" y="111"/>
                        </a:lnTo>
                        <a:lnTo>
                          <a:pt x="14" y="79"/>
                        </a:lnTo>
                        <a:lnTo>
                          <a:pt x="14"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8358120" y="1959120"/>
                  <a:ext cx="461880" cy="568080"/>
                  <a:chOff x="8358120" y="1959120"/>
                  <a:chExt cx="461880" cy="568080"/>
                </a:xfrm>
              </p:grpSpPr>
              <p:sp>
                <p:nvSpPr>
                  <p:cNvPr id="1472" name=""/>
                  <p:cNvSpPr/>
                  <p:nvPr/>
                </p:nvSpPr>
                <p:spPr>
                  <a:xfrm>
                    <a:off x="8358120" y="1959120"/>
                    <a:ext cx="461880" cy="568080"/>
                  </a:xfrm>
                  <a:custGeom>
                    <a:avLst/>
                    <a:gdLst/>
                    <a:ahLst/>
                    <a:rect l="l" t="t" r="r" b="b"/>
                    <a:pathLst>
                      <a:path w="872" h="1073">
                        <a:moveTo>
                          <a:pt x="872" y="1073"/>
                        </a:moveTo>
                        <a:lnTo>
                          <a:pt x="859" y="1041"/>
                        </a:lnTo>
                        <a:lnTo>
                          <a:pt x="845" y="1009"/>
                        </a:lnTo>
                        <a:lnTo>
                          <a:pt x="831" y="979"/>
                        </a:lnTo>
                        <a:lnTo>
                          <a:pt x="817" y="947"/>
                        </a:lnTo>
                        <a:lnTo>
                          <a:pt x="803" y="915"/>
                        </a:lnTo>
                        <a:lnTo>
                          <a:pt x="789" y="883"/>
                        </a:lnTo>
                        <a:lnTo>
                          <a:pt x="762" y="836"/>
                        </a:lnTo>
                        <a:lnTo>
                          <a:pt x="748" y="804"/>
                        </a:lnTo>
                        <a:lnTo>
                          <a:pt x="734" y="789"/>
                        </a:lnTo>
                        <a:lnTo>
                          <a:pt x="720" y="757"/>
                        </a:lnTo>
                        <a:lnTo>
                          <a:pt x="707" y="726"/>
                        </a:lnTo>
                        <a:lnTo>
                          <a:pt x="679" y="694"/>
                        </a:lnTo>
                        <a:lnTo>
                          <a:pt x="665" y="663"/>
                        </a:lnTo>
                        <a:lnTo>
                          <a:pt x="651" y="647"/>
                        </a:lnTo>
                        <a:lnTo>
                          <a:pt x="624" y="615"/>
                        </a:lnTo>
                        <a:lnTo>
                          <a:pt x="610" y="584"/>
                        </a:lnTo>
                        <a:lnTo>
                          <a:pt x="582" y="568"/>
                        </a:lnTo>
                        <a:lnTo>
                          <a:pt x="568" y="536"/>
                        </a:lnTo>
                        <a:lnTo>
                          <a:pt x="541" y="505"/>
                        </a:lnTo>
                        <a:lnTo>
                          <a:pt x="527" y="489"/>
                        </a:lnTo>
                        <a:lnTo>
                          <a:pt x="499" y="457"/>
                        </a:lnTo>
                        <a:lnTo>
                          <a:pt x="485" y="427"/>
                        </a:lnTo>
                        <a:lnTo>
                          <a:pt x="458" y="410"/>
                        </a:lnTo>
                        <a:lnTo>
                          <a:pt x="444" y="378"/>
                        </a:lnTo>
                        <a:lnTo>
                          <a:pt x="416" y="363"/>
                        </a:lnTo>
                        <a:lnTo>
                          <a:pt x="388" y="331"/>
                        </a:lnTo>
                        <a:lnTo>
                          <a:pt x="375" y="316"/>
                        </a:lnTo>
                        <a:lnTo>
                          <a:pt x="347" y="284"/>
                        </a:lnTo>
                        <a:lnTo>
                          <a:pt x="319" y="269"/>
                        </a:lnTo>
                        <a:lnTo>
                          <a:pt x="305" y="252"/>
                        </a:lnTo>
                        <a:lnTo>
                          <a:pt x="263" y="220"/>
                        </a:lnTo>
                        <a:lnTo>
                          <a:pt x="235" y="205"/>
                        </a:lnTo>
                        <a:lnTo>
                          <a:pt x="221" y="173"/>
                        </a:lnTo>
                        <a:lnTo>
                          <a:pt x="193" y="158"/>
                        </a:lnTo>
                        <a:lnTo>
                          <a:pt x="166" y="142"/>
                        </a:lnTo>
                        <a:lnTo>
                          <a:pt x="138" y="111"/>
                        </a:lnTo>
                        <a:lnTo>
                          <a:pt x="124" y="95"/>
                        </a:lnTo>
                        <a:lnTo>
                          <a:pt x="97" y="79"/>
                        </a:lnTo>
                        <a:lnTo>
                          <a:pt x="69" y="63"/>
                        </a:lnTo>
                        <a:lnTo>
                          <a:pt x="41" y="32"/>
                        </a:lnTo>
                        <a:lnTo>
                          <a:pt x="14" y="16"/>
                        </a:lnTo>
                        <a:lnTo>
                          <a:pt x="0" y="0"/>
                        </a:lnTo>
                        <a:lnTo>
                          <a:pt x="872" y="107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8358120" y="1959120"/>
                    <a:ext cx="461880" cy="568080"/>
                  </a:xfrm>
                  <a:custGeom>
                    <a:avLst/>
                    <a:gdLst/>
                    <a:ahLst/>
                    <a:rect l="l" t="t" r="r" b="b"/>
                    <a:pathLst>
                      <a:path w="872" h="1073">
                        <a:moveTo>
                          <a:pt x="872" y="1073"/>
                        </a:moveTo>
                        <a:lnTo>
                          <a:pt x="859" y="1041"/>
                        </a:lnTo>
                        <a:lnTo>
                          <a:pt x="845" y="1009"/>
                        </a:lnTo>
                        <a:lnTo>
                          <a:pt x="831" y="979"/>
                        </a:lnTo>
                        <a:lnTo>
                          <a:pt x="817" y="947"/>
                        </a:lnTo>
                        <a:lnTo>
                          <a:pt x="803" y="915"/>
                        </a:lnTo>
                        <a:lnTo>
                          <a:pt x="789" y="883"/>
                        </a:lnTo>
                        <a:lnTo>
                          <a:pt x="762" y="836"/>
                        </a:lnTo>
                        <a:lnTo>
                          <a:pt x="748" y="804"/>
                        </a:lnTo>
                        <a:lnTo>
                          <a:pt x="734" y="789"/>
                        </a:lnTo>
                        <a:lnTo>
                          <a:pt x="720" y="757"/>
                        </a:lnTo>
                        <a:lnTo>
                          <a:pt x="707" y="726"/>
                        </a:lnTo>
                        <a:lnTo>
                          <a:pt x="679" y="694"/>
                        </a:lnTo>
                        <a:lnTo>
                          <a:pt x="665" y="663"/>
                        </a:lnTo>
                        <a:lnTo>
                          <a:pt x="651" y="647"/>
                        </a:lnTo>
                        <a:lnTo>
                          <a:pt x="624" y="615"/>
                        </a:lnTo>
                        <a:lnTo>
                          <a:pt x="610" y="584"/>
                        </a:lnTo>
                        <a:lnTo>
                          <a:pt x="582" y="568"/>
                        </a:lnTo>
                        <a:lnTo>
                          <a:pt x="568" y="536"/>
                        </a:lnTo>
                        <a:lnTo>
                          <a:pt x="541" y="505"/>
                        </a:lnTo>
                        <a:lnTo>
                          <a:pt x="527" y="489"/>
                        </a:lnTo>
                        <a:lnTo>
                          <a:pt x="499" y="457"/>
                        </a:lnTo>
                        <a:lnTo>
                          <a:pt x="485" y="427"/>
                        </a:lnTo>
                        <a:lnTo>
                          <a:pt x="458" y="410"/>
                        </a:lnTo>
                        <a:lnTo>
                          <a:pt x="444" y="378"/>
                        </a:lnTo>
                        <a:lnTo>
                          <a:pt x="416" y="363"/>
                        </a:lnTo>
                        <a:lnTo>
                          <a:pt x="388" y="331"/>
                        </a:lnTo>
                        <a:lnTo>
                          <a:pt x="375" y="316"/>
                        </a:lnTo>
                        <a:lnTo>
                          <a:pt x="347" y="284"/>
                        </a:lnTo>
                        <a:lnTo>
                          <a:pt x="319" y="269"/>
                        </a:lnTo>
                        <a:lnTo>
                          <a:pt x="305" y="252"/>
                        </a:lnTo>
                        <a:lnTo>
                          <a:pt x="263" y="220"/>
                        </a:lnTo>
                        <a:lnTo>
                          <a:pt x="235" y="205"/>
                        </a:lnTo>
                        <a:lnTo>
                          <a:pt x="221" y="173"/>
                        </a:lnTo>
                        <a:lnTo>
                          <a:pt x="193" y="158"/>
                        </a:lnTo>
                        <a:lnTo>
                          <a:pt x="166" y="142"/>
                        </a:lnTo>
                        <a:lnTo>
                          <a:pt x="138" y="111"/>
                        </a:lnTo>
                        <a:lnTo>
                          <a:pt x="124" y="95"/>
                        </a:lnTo>
                        <a:lnTo>
                          <a:pt x="97" y="79"/>
                        </a:lnTo>
                        <a:lnTo>
                          <a:pt x="69" y="63"/>
                        </a:lnTo>
                        <a:lnTo>
                          <a:pt x="41" y="32"/>
                        </a:lnTo>
                        <a:lnTo>
                          <a:pt x="14"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8124840" y="1825560"/>
                  <a:ext cx="233280" cy="133560"/>
                  <a:chOff x="8124840" y="1825560"/>
                  <a:chExt cx="233280" cy="133560"/>
                </a:xfrm>
              </p:grpSpPr>
              <p:sp>
                <p:nvSpPr>
                  <p:cNvPr id="1475" name=""/>
                  <p:cNvSpPr/>
                  <p:nvPr/>
                </p:nvSpPr>
                <p:spPr>
                  <a:xfrm>
                    <a:off x="8124840" y="1825560"/>
                    <a:ext cx="233280" cy="133560"/>
                  </a:xfrm>
                  <a:custGeom>
                    <a:avLst/>
                    <a:gdLst/>
                    <a:ahLst/>
                    <a:rect l="l" t="t" r="r" b="b"/>
                    <a:pathLst>
                      <a:path w="443" h="253">
                        <a:moveTo>
                          <a:pt x="443" y="253"/>
                        </a:moveTo>
                        <a:lnTo>
                          <a:pt x="415" y="237"/>
                        </a:lnTo>
                        <a:lnTo>
                          <a:pt x="387" y="206"/>
                        </a:lnTo>
                        <a:lnTo>
                          <a:pt x="360" y="190"/>
                        </a:lnTo>
                        <a:lnTo>
                          <a:pt x="332" y="175"/>
                        </a:lnTo>
                        <a:lnTo>
                          <a:pt x="304" y="158"/>
                        </a:lnTo>
                        <a:lnTo>
                          <a:pt x="263" y="143"/>
                        </a:lnTo>
                        <a:lnTo>
                          <a:pt x="235" y="128"/>
                        </a:lnTo>
                        <a:lnTo>
                          <a:pt x="208" y="111"/>
                        </a:lnTo>
                        <a:lnTo>
                          <a:pt x="180" y="96"/>
                        </a:lnTo>
                        <a:lnTo>
                          <a:pt x="152" y="64"/>
                        </a:lnTo>
                        <a:lnTo>
                          <a:pt x="125" y="64"/>
                        </a:lnTo>
                        <a:lnTo>
                          <a:pt x="97" y="49"/>
                        </a:lnTo>
                        <a:lnTo>
                          <a:pt x="69" y="32"/>
                        </a:lnTo>
                        <a:lnTo>
                          <a:pt x="28" y="17"/>
                        </a:lnTo>
                        <a:lnTo>
                          <a:pt x="0" y="0"/>
                        </a:lnTo>
                        <a:lnTo>
                          <a:pt x="443" y="253"/>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8124840" y="1825560"/>
                    <a:ext cx="233280" cy="133560"/>
                  </a:xfrm>
                  <a:custGeom>
                    <a:avLst/>
                    <a:gdLst/>
                    <a:ahLst/>
                    <a:rect l="l" t="t" r="r" b="b"/>
                    <a:pathLst>
                      <a:path w="443" h="253">
                        <a:moveTo>
                          <a:pt x="443" y="253"/>
                        </a:moveTo>
                        <a:lnTo>
                          <a:pt x="415" y="237"/>
                        </a:lnTo>
                        <a:lnTo>
                          <a:pt x="387" y="206"/>
                        </a:lnTo>
                        <a:lnTo>
                          <a:pt x="360" y="190"/>
                        </a:lnTo>
                        <a:lnTo>
                          <a:pt x="332" y="175"/>
                        </a:lnTo>
                        <a:lnTo>
                          <a:pt x="304" y="158"/>
                        </a:lnTo>
                        <a:lnTo>
                          <a:pt x="263" y="143"/>
                        </a:lnTo>
                        <a:lnTo>
                          <a:pt x="235" y="128"/>
                        </a:lnTo>
                        <a:lnTo>
                          <a:pt x="208" y="111"/>
                        </a:lnTo>
                        <a:lnTo>
                          <a:pt x="180" y="96"/>
                        </a:lnTo>
                        <a:lnTo>
                          <a:pt x="152" y="64"/>
                        </a:lnTo>
                        <a:lnTo>
                          <a:pt x="125" y="64"/>
                        </a:lnTo>
                        <a:lnTo>
                          <a:pt x="97" y="49"/>
                        </a:lnTo>
                        <a:lnTo>
                          <a:pt x="69" y="32"/>
                        </a:lnTo>
                        <a:lnTo>
                          <a:pt x="28"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8050320" y="1792440"/>
                  <a:ext cx="74520" cy="33120"/>
                  <a:chOff x="8050320" y="1792440"/>
                  <a:chExt cx="74520" cy="33120"/>
                </a:xfrm>
              </p:grpSpPr>
              <p:sp>
                <p:nvSpPr>
                  <p:cNvPr id="1478" name=""/>
                  <p:cNvSpPr/>
                  <p:nvPr/>
                </p:nvSpPr>
                <p:spPr>
                  <a:xfrm>
                    <a:off x="8050320" y="1792440"/>
                    <a:ext cx="74520" cy="33120"/>
                  </a:xfrm>
                  <a:custGeom>
                    <a:avLst/>
                    <a:gdLst/>
                    <a:ahLst/>
                    <a:rect l="l" t="t" r="r" b="b"/>
                    <a:pathLst>
                      <a:path w="140" h="62">
                        <a:moveTo>
                          <a:pt x="140" y="62"/>
                        </a:moveTo>
                        <a:lnTo>
                          <a:pt x="99" y="47"/>
                        </a:lnTo>
                        <a:lnTo>
                          <a:pt x="56" y="15"/>
                        </a:lnTo>
                        <a:lnTo>
                          <a:pt x="0" y="0"/>
                        </a:lnTo>
                        <a:lnTo>
                          <a:pt x="140" y="62"/>
                        </a:lnTo>
                        <a:close/>
                      </a:path>
                    </a:pathLst>
                  </a:custGeom>
                  <a:solidFill>
                    <a:srgbClr val="cce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9" name=""/>
                  <p:cNvSpPr/>
                  <p:nvPr/>
                </p:nvSpPr>
                <p:spPr>
                  <a:xfrm>
                    <a:off x="8050320" y="1792440"/>
                    <a:ext cx="74520" cy="33120"/>
                  </a:xfrm>
                  <a:custGeom>
                    <a:avLst/>
                    <a:gdLst/>
                    <a:ahLst/>
                    <a:rect l="l" t="t" r="r" b="b"/>
                    <a:pathLst>
                      <a:path w="140" h="62">
                        <a:moveTo>
                          <a:pt x="140" y="62"/>
                        </a:moveTo>
                        <a:lnTo>
                          <a:pt x="99" y="47"/>
                        </a:lnTo>
                        <a:lnTo>
                          <a:pt x="56"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480" name=""/>
                <p:cNvGrpSpPr/>
                <p:nvPr/>
              </p:nvGrpSpPr>
              <p:grpSpPr>
                <a:xfrm>
                  <a:off x="8013600" y="1774800"/>
                  <a:ext cx="36720" cy="17640"/>
                  <a:chOff x="8013600" y="1774800"/>
                  <a:chExt cx="36720" cy="17640"/>
                </a:xfrm>
              </p:grpSpPr>
              <p:sp>
                <p:nvSpPr>
                  <p:cNvPr id="1481" name=""/>
                  <p:cNvSpPr/>
                  <p:nvPr/>
                </p:nvSpPr>
                <p:spPr>
                  <a:xfrm>
                    <a:off x="8013600" y="1774800"/>
                    <a:ext cx="36720" cy="17640"/>
                  </a:xfrm>
                  <a:custGeom>
                    <a:avLst/>
                    <a:gdLst/>
                    <a:ahLst/>
                    <a:rect l="l" t="t" r="r" b="b"/>
                    <a:pathLst>
                      <a:path w="69" h="32">
                        <a:moveTo>
                          <a:pt x="69" y="32"/>
                        </a:moveTo>
                        <a:lnTo>
                          <a:pt x="42" y="15"/>
                        </a:lnTo>
                        <a:lnTo>
                          <a:pt x="14" y="15"/>
                        </a:lnTo>
                        <a:lnTo>
                          <a:pt x="0" y="0"/>
                        </a:lnTo>
                        <a:lnTo>
                          <a:pt x="69" y="32"/>
                        </a:lnTo>
                        <a:close/>
                      </a:path>
                    </a:pathLst>
                  </a:custGeom>
                  <a:solidFill>
                    <a:srgbClr val="ccec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2" name=""/>
                  <p:cNvSpPr/>
                  <p:nvPr/>
                </p:nvSpPr>
                <p:spPr>
                  <a:xfrm>
                    <a:off x="8013600" y="1774800"/>
                    <a:ext cx="36720" cy="17640"/>
                  </a:xfrm>
                  <a:custGeom>
                    <a:avLst/>
                    <a:gdLst/>
                    <a:ahLst/>
                    <a:rect l="l" t="t" r="r" b="b"/>
                    <a:pathLst>
                      <a:path w="69" h="32">
                        <a:moveTo>
                          <a:pt x="69" y="32"/>
                        </a:moveTo>
                        <a:lnTo>
                          <a:pt x="42" y="15"/>
                        </a:lnTo>
                        <a:lnTo>
                          <a:pt x="14" y="1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83" name=""/>
                <p:cNvGrpSpPr/>
                <p:nvPr/>
              </p:nvGrpSpPr>
              <p:grpSpPr>
                <a:xfrm>
                  <a:off x="5653080" y="3995640"/>
                  <a:ext cx="2735280" cy="1800"/>
                  <a:chOff x="5653080" y="3995640"/>
                  <a:chExt cx="2735280" cy="1800"/>
                </a:xfrm>
              </p:grpSpPr>
              <p:sp>
                <p:nvSpPr>
                  <p:cNvPr id="1484" name=""/>
                  <p:cNvSpPr/>
                  <p:nvPr/>
                </p:nvSpPr>
                <p:spPr>
                  <a:xfrm>
                    <a:off x="5653080" y="3995640"/>
                    <a:ext cx="2735280" cy="1800"/>
                  </a:xfrm>
                  <a:custGeom>
                    <a:avLst/>
                    <a:gdLst/>
                    <a:ahLst/>
                    <a:rect l="l" t="t" r="r" b="b"/>
                    <a:pathLst>
                      <a:path w="5167" h="0">
                        <a:moveTo>
                          <a:pt x="0" y="0"/>
                        </a:moveTo>
                        <a:lnTo>
                          <a:pt x="27" y="0"/>
                        </a:lnTo>
                        <a:lnTo>
                          <a:pt x="69" y="0"/>
                        </a:lnTo>
                        <a:lnTo>
                          <a:pt x="110" y="0"/>
                        </a:lnTo>
                        <a:lnTo>
                          <a:pt x="138" y="0"/>
                        </a:lnTo>
                        <a:lnTo>
                          <a:pt x="166" y="0"/>
                        </a:lnTo>
                        <a:lnTo>
                          <a:pt x="193" y="0"/>
                        </a:lnTo>
                        <a:lnTo>
                          <a:pt x="221" y="0"/>
                        </a:lnTo>
                        <a:lnTo>
                          <a:pt x="263" y="0"/>
                        </a:lnTo>
                        <a:lnTo>
                          <a:pt x="290" y="0"/>
                        </a:lnTo>
                        <a:lnTo>
                          <a:pt x="318" y="0"/>
                        </a:lnTo>
                        <a:lnTo>
                          <a:pt x="346" y="0"/>
                        </a:lnTo>
                        <a:lnTo>
                          <a:pt x="373" y="0"/>
                        </a:lnTo>
                        <a:lnTo>
                          <a:pt x="401" y="0"/>
                        </a:lnTo>
                        <a:lnTo>
                          <a:pt x="442" y="0"/>
                        </a:lnTo>
                        <a:lnTo>
                          <a:pt x="470" y="0"/>
                        </a:lnTo>
                        <a:lnTo>
                          <a:pt x="498" y="0"/>
                        </a:lnTo>
                        <a:lnTo>
                          <a:pt x="525" y="0"/>
                        </a:lnTo>
                        <a:lnTo>
                          <a:pt x="553" y="0"/>
                        </a:lnTo>
                        <a:lnTo>
                          <a:pt x="581" y="0"/>
                        </a:lnTo>
                        <a:lnTo>
                          <a:pt x="624" y="0"/>
                        </a:lnTo>
                        <a:lnTo>
                          <a:pt x="651" y="0"/>
                        </a:lnTo>
                        <a:lnTo>
                          <a:pt x="679" y="0"/>
                        </a:lnTo>
                        <a:lnTo>
                          <a:pt x="706" y="0"/>
                        </a:lnTo>
                        <a:lnTo>
                          <a:pt x="734" y="0"/>
                        </a:lnTo>
                        <a:lnTo>
                          <a:pt x="776" y="0"/>
                        </a:lnTo>
                        <a:lnTo>
                          <a:pt x="803" y="0"/>
                        </a:lnTo>
                        <a:lnTo>
                          <a:pt x="831" y="0"/>
                        </a:lnTo>
                        <a:lnTo>
                          <a:pt x="859" y="0"/>
                        </a:lnTo>
                        <a:lnTo>
                          <a:pt x="886" y="0"/>
                        </a:lnTo>
                        <a:lnTo>
                          <a:pt x="914" y="0"/>
                        </a:lnTo>
                        <a:lnTo>
                          <a:pt x="955" y="0"/>
                        </a:lnTo>
                        <a:lnTo>
                          <a:pt x="983" y="0"/>
                        </a:lnTo>
                        <a:lnTo>
                          <a:pt x="1011" y="0"/>
                        </a:lnTo>
                        <a:lnTo>
                          <a:pt x="1038" y="0"/>
                        </a:lnTo>
                        <a:lnTo>
                          <a:pt x="1066" y="0"/>
                        </a:lnTo>
                        <a:lnTo>
                          <a:pt x="1094" y="0"/>
                        </a:lnTo>
                        <a:lnTo>
                          <a:pt x="1135" y="0"/>
                        </a:lnTo>
                        <a:lnTo>
                          <a:pt x="1163" y="0"/>
                        </a:lnTo>
                        <a:lnTo>
                          <a:pt x="1191" y="0"/>
                        </a:lnTo>
                        <a:lnTo>
                          <a:pt x="1218" y="0"/>
                        </a:lnTo>
                        <a:lnTo>
                          <a:pt x="1246" y="0"/>
                        </a:lnTo>
                        <a:lnTo>
                          <a:pt x="1274" y="0"/>
                        </a:lnTo>
                        <a:lnTo>
                          <a:pt x="1315" y="0"/>
                        </a:lnTo>
                        <a:lnTo>
                          <a:pt x="1343" y="0"/>
                        </a:lnTo>
                        <a:lnTo>
                          <a:pt x="1370" y="0"/>
                        </a:lnTo>
                        <a:lnTo>
                          <a:pt x="1398" y="0"/>
                        </a:lnTo>
                        <a:lnTo>
                          <a:pt x="1427" y="0"/>
                        </a:lnTo>
                        <a:lnTo>
                          <a:pt x="1455" y="0"/>
                        </a:lnTo>
                        <a:lnTo>
                          <a:pt x="1496" y="0"/>
                        </a:lnTo>
                        <a:lnTo>
                          <a:pt x="1524" y="0"/>
                        </a:lnTo>
                        <a:lnTo>
                          <a:pt x="1552" y="0"/>
                        </a:lnTo>
                        <a:lnTo>
                          <a:pt x="1579" y="0"/>
                        </a:lnTo>
                        <a:lnTo>
                          <a:pt x="1607" y="0"/>
                        </a:lnTo>
                        <a:lnTo>
                          <a:pt x="1635" y="0"/>
                        </a:lnTo>
                        <a:lnTo>
                          <a:pt x="1676" y="0"/>
                        </a:lnTo>
                        <a:lnTo>
                          <a:pt x="1704" y="0"/>
                        </a:lnTo>
                        <a:lnTo>
                          <a:pt x="1731" y="0"/>
                        </a:lnTo>
                        <a:lnTo>
                          <a:pt x="1759" y="0"/>
                        </a:lnTo>
                        <a:lnTo>
                          <a:pt x="1787" y="0"/>
                        </a:lnTo>
                        <a:lnTo>
                          <a:pt x="1814" y="0"/>
                        </a:lnTo>
                        <a:lnTo>
                          <a:pt x="1856" y="0"/>
                        </a:lnTo>
                        <a:lnTo>
                          <a:pt x="1884" y="0"/>
                        </a:lnTo>
                        <a:lnTo>
                          <a:pt x="1911" y="0"/>
                        </a:lnTo>
                        <a:lnTo>
                          <a:pt x="1939" y="0"/>
                        </a:lnTo>
                        <a:lnTo>
                          <a:pt x="1967" y="0"/>
                        </a:lnTo>
                        <a:lnTo>
                          <a:pt x="1994" y="0"/>
                        </a:lnTo>
                        <a:lnTo>
                          <a:pt x="2036" y="0"/>
                        </a:lnTo>
                        <a:lnTo>
                          <a:pt x="2063" y="0"/>
                        </a:lnTo>
                        <a:lnTo>
                          <a:pt x="2091" y="0"/>
                        </a:lnTo>
                        <a:lnTo>
                          <a:pt x="2119" y="0"/>
                        </a:lnTo>
                        <a:lnTo>
                          <a:pt x="2146" y="0"/>
                        </a:lnTo>
                        <a:lnTo>
                          <a:pt x="2174" y="0"/>
                        </a:lnTo>
                        <a:lnTo>
                          <a:pt x="2217" y="0"/>
                        </a:lnTo>
                        <a:lnTo>
                          <a:pt x="2245" y="0"/>
                        </a:lnTo>
                        <a:lnTo>
                          <a:pt x="2272" y="0"/>
                        </a:lnTo>
                        <a:lnTo>
                          <a:pt x="2300" y="0"/>
                        </a:lnTo>
                        <a:lnTo>
                          <a:pt x="2328" y="0"/>
                        </a:lnTo>
                        <a:lnTo>
                          <a:pt x="2355" y="0"/>
                        </a:lnTo>
                        <a:lnTo>
                          <a:pt x="2397" y="0"/>
                        </a:lnTo>
                        <a:lnTo>
                          <a:pt x="2424" y="0"/>
                        </a:lnTo>
                        <a:lnTo>
                          <a:pt x="2452" y="0"/>
                        </a:lnTo>
                        <a:lnTo>
                          <a:pt x="2480" y="0"/>
                        </a:lnTo>
                        <a:lnTo>
                          <a:pt x="2507" y="0"/>
                        </a:lnTo>
                        <a:lnTo>
                          <a:pt x="2535" y="0"/>
                        </a:lnTo>
                        <a:lnTo>
                          <a:pt x="2576" y="0"/>
                        </a:lnTo>
                        <a:lnTo>
                          <a:pt x="2604" y="0"/>
                        </a:lnTo>
                        <a:lnTo>
                          <a:pt x="2632" y="0"/>
                        </a:lnTo>
                        <a:lnTo>
                          <a:pt x="2659" y="0"/>
                        </a:lnTo>
                        <a:lnTo>
                          <a:pt x="2687" y="0"/>
                        </a:lnTo>
                        <a:lnTo>
                          <a:pt x="2729" y="0"/>
                        </a:lnTo>
                        <a:lnTo>
                          <a:pt x="2770" y="0"/>
                        </a:lnTo>
                        <a:lnTo>
                          <a:pt x="2798" y="0"/>
                        </a:lnTo>
                        <a:lnTo>
                          <a:pt x="2825" y="0"/>
                        </a:lnTo>
                        <a:lnTo>
                          <a:pt x="2853" y="0"/>
                        </a:lnTo>
                        <a:lnTo>
                          <a:pt x="2881" y="0"/>
                        </a:lnTo>
                        <a:lnTo>
                          <a:pt x="2922" y="0"/>
                        </a:lnTo>
                        <a:lnTo>
                          <a:pt x="2950" y="0"/>
                        </a:lnTo>
                        <a:lnTo>
                          <a:pt x="2978" y="0"/>
                        </a:lnTo>
                        <a:lnTo>
                          <a:pt x="3007" y="0"/>
                        </a:lnTo>
                        <a:lnTo>
                          <a:pt x="3034" y="0"/>
                        </a:lnTo>
                        <a:lnTo>
                          <a:pt x="3062" y="0"/>
                        </a:lnTo>
                        <a:lnTo>
                          <a:pt x="3103" y="0"/>
                        </a:lnTo>
                        <a:lnTo>
                          <a:pt x="3131" y="0"/>
                        </a:lnTo>
                        <a:lnTo>
                          <a:pt x="3159" y="0"/>
                        </a:lnTo>
                        <a:lnTo>
                          <a:pt x="3186" y="0"/>
                        </a:lnTo>
                        <a:lnTo>
                          <a:pt x="3214" y="0"/>
                        </a:lnTo>
                        <a:lnTo>
                          <a:pt x="3242" y="0"/>
                        </a:lnTo>
                        <a:lnTo>
                          <a:pt x="3283" y="0"/>
                        </a:lnTo>
                        <a:lnTo>
                          <a:pt x="3311" y="0"/>
                        </a:lnTo>
                        <a:lnTo>
                          <a:pt x="3339" y="0"/>
                        </a:lnTo>
                        <a:lnTo>
                          <a:pt x="3366" y="0"/>
                        </a:lnTo>
                        <a:lnTo>
                          <a:pt x="3394" y="0"/>
                        </a:lnTo>
                        <a:lnTo>
                          <a:pt x="3422" y="0"/>
                        </a:lnTo>
                        <a:lnTo>
                          <a:pt x="3463" y="0"/>
                        </a:lnTo>
                        <a:lnTo>
                          <a:pt x="3491" y="0"/>
                        </a:lnTo>
                        <a:lnTo>
                          <a:pt x="3518" y="0"/>
                        </a:lnTo>
                        <a:lnTo>
                          <a:pt x="3546" y="0"/>
                        </a:lnTo>
                        <a:lnTo>
                          <a:pt x="3574" y="0"/>
                        </a:lnTo>
                        <a:lnTo>
                          <a:pt x="3601" y="0"/>
                        </a:lnTo>
                        <a:lnTo>
                          <a:pt x="3643" y="0"/>
                        </a:lnTo>
                        <a:lnTo>
                          <a:pt x="3671" y="0"/>
                        </a:lnTo>
                        <a:lnTo>
                          <a:pt x="3698" y="0"/>
                        </a:lnTo>
                        <a:lnTo>
                          <a:pt x="3726" y="0"/>
                        </a:lnTo>
                        <a:lnTo>
                          <a:pt x="3754" y="0"/>
                        </a:lnTo>
                        <a:lnTo>
                          <a:pt x="3781" y="0"/>
                        </a:lnTo>
                        <a:lnTo>
                          <a:pt x="3824" y="0"/>
                        </a:lnTo>
                        <a:lnTo>
                          <a:pt x="3852" y="0"/>
                        </a:lnTo>
                        <a:lnTo>
                          <a:pt x="3879" y="0"/>
                        </a:lnTo>
                        <a:lnTo>
                          <a:pt x="3907" y="0"/>
                        </a:lnTo>
                        <a:lnTo>
                          <a:pt x="3935" y="0"/>
                        </a:lnTo>
                        <a:lnTo>
                          <a:pt x="3962" y="0"/>
                        </a:lnTo>
                        <a:lnTo>
                          <a:pt x="4004" y="0"/>
                        </a:lnTo>
                        <a:lnTo>
                          <a:pt x="4032" y="0"/>
                        </a:lnTo>
                        <a:lnTo>
                          <a:pt x="4059" y="0"/>
                        </a:lnTo>
                        <a:lnTo>
                          <a:pt x="4087" y="0"/>
                        </a:lnTo>
                        <a:lnTo>
                          <a:pt x="4115" y="0"/>
                        </a:lnTo>
                        <a:lnTo>
                          <a:pt x="4142" y="0"/>
                        </a:lnTo>
                        <a:lnTo>
                          <a:pt x="4184" y="0"/>
                        </a:lnTo>
                        <a:lnTo>
                          <a:pt x="4211" y="0"/>
                        </a:lnTo>
                        <a:lnTo>
                          <a:pt x="4239" y="0"/>
                        </a:lnTo>
                        <a:lnTo>
                          <a:pt x="4267" y="0"/>
                        </a:lnTo>
                        <a:lnTo>
                          <a:pt x="4294" y="0"/>
                        </a:lnTo>
                        <a:lnTo>
                          <a:pt x="4322" y="0"/>
                        </a:lnTo>
                        <a:lnTo>
                          <a:pt x="4363" y="0"/>
                        </a:lnTo>
                        <a:lnTo>
                          <a:pt x="4391" y="0"/>
                        </a:lnTo>
                        <a:lnTo>
                          <a:pt x="4419" y="0"/>
                        </a:lnTo>
                        <a:lnTo>
                          <a:pt x="4446" y="0"/>
                        </a:lnTo>
                        <a:lnTo>
                          <a:pt x="4474" y="0"/>
                        </a:lnTo>
                        <a:lnTo>
                          <a:pt x="4502" y="0"/>
                        </a:lnTo>
                        <a:lnTo>
                          <a:pt x="4543" y="0"/>
                        </a:lnTo>
                        <a:lnTo>
                          <a:pt x="4571" y="0"/>
                        </a:lnTo>
                        <a:lnTo>
                          <a:pt x="4600" y="0"/>
                        </a:lnTo>
                        <a:lnTo>
                          <a:pt x="4628" y="0"/>
                        </a:lnTo>
                        <a:lnTo>
                          <a:pt x="4655" y="0"/>
                        </a:lnTo>
                        <a:lnTo>
                          <a:pt x="4697" y="0"/>
                        </a:lnTo>
                        <a:lnTo>
                          <a:pt x="4724" y="0"/>
                        </a:lnTo>
                        <a:lnTo>
                          <a:pt x="4752" y="0"/>
                        </a:lnTo>
                        <a:lnTo>
                          <a:pt x="4780" y="0"/>
                        </a:lnTo>
                        <a:lnTo>
                          <a:pt x="4807" y="0"/>
                        </a:lnTo>
                        <a:lnTo>
                          <a:pt x="4835" y="0"/>
                        </a:lnTo>
                        <a:lnTo>
                          <a:pt x="4877" y="0"/>
                        </a:lnTo>
                        <a:lnTo>
                          <a:pt x="4904" y="0"/>
                        </a:lnTo>
                        <a:lnTo>
                          <a:pt x="4932" y="0"/>
                        </a:lnTo>
                        <a:lnTo>
                          <a:pt x="4960" y="0"/>
                        </a:lnTo>
                        <a:lnTo>
                          <a:pt x="4987" y="0"/>
                        </a:lnTo>
                        <a:lnTo>
                          <a:pt x="5015" y="0"/>
                        </a:lnTo>
                        <a:lnTo>
                          <a:pt x="5056" y="0"/>
                        </a:lnTo>
                        <a:lnTo>
                          <a:pt x="5084" y="0"/>
                        </a:lnTo>
                        <a:lnTo>
                          <a:pt x="5112" y="0"/>
                        </a:lnTo>
                        <a:lnTo>
                          <a:pt x="5139" y="0"/>
                        </a:lnTo>
                        <a:lnTo>
                          <a:pt x="5167" y="0"/>
                        </a:lnTo>
                        <a:lnTo>
                          <a:pt x="0" y="0"/>
                        </a:lnTo>
                        <a:close/>
                      </a:path>
                    </a:pathLst>
                  </a:custGeom>
                  <a:solidFill>
                    <a:srgbClr val="cce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5" name=""/>
                  <p:cNvSpPr/>
                  <p:nvPr/>
                </p:nvSpPr>
                <p:spPr>
                  <a:xfrm>
                    <a:off x="5653080" y="3995640"/>
                    <a:ext cx="2735280" cy="1800"/>
                  </a:xfrm>
                  <a:custGeom>
                    <a:avLst/>
                    <a:gdLst/>
                    <a:ahLst/>
                    <a:rect l="l" t="t" r="r" b="b"/>
                    <a:pathLst>
                      <a:path w="5167" h="0">
                        <a:moveTo>
                          <a:pt x="0" y="0"/>
                        </a:moveTo>
                        <a:lnTo>
                          <a:pt x="27" y="0"/>
                        </a:lnTo>
                        <a:lnTo>
                          <a:pt x="69" y="0"/>
                        </a:lnTo>
                        <a:lnTo>
                          <a:pt x="110" y="0"/>
                        </a:lnTo>
                        <a:lnTo>
                          <a:pt x="138" y="0"/>
                        </a:lnTo>
                        <a:lnTo>
                          <a:pt x="166" y="0"/>
                        </a:lnTo>
                        <a:lnTo>
                          <a:pt x="193" y="0"/>
                        </a:lnTo>
                        <a:lnTo>
                          <a:pt x="221" y="0"/>
                        </a:lnTo>
                        <a:lnTo>
                          <a:pt x="263" y="0"/>
                        </a:lnTo>
                        <a:lnTo>
                          <a:pt x="290" y="0"/>
                        </a:lnTo>
                        <a:lnTo>
                          <a:pt x="318" y="0"/>
                        </a:lnTo>
                        <a:lnTo>
                          <a:pt x="346" y="0"/>
                        </a:lnTo>
                        <a:lnTo>
                          <a:pt x="373" y="0"/>
                        </a:lnTo>
                        <a:lnTo>
                          <a:pt x="401" y="0"/>
                        </a:lnTo>
                        <a:lnTo>
                          <a:pt x="442" y="0"/>
                        </a:lnTo>
                        <a:lnTo>
                          <a:pt x="470" y="0"/>
                        </a:lnTo>
                        <a:lnTo>
                          <a:pt x="498" y="0"/>
                        </a:lnTo>
                        <a:lnTo>
                          <a:pt x="525" y="0"/>
                        </a:lnTo>
                        <a:lnTo>
                          <a:pt x="553" y="0"/>
                        </a:lnTo>
                        <a:lnTo>
                          <a:pt x="581" y="0"/>
                        </a:lnTo>
                        <a:lnTo>
                          <a:pt x="624" y="0"/>
                        </a:lnTo>
                        <a:lnTo>
                          <a:pt x="651" y="0"/>
                        </a:lnTo>
                        <a:lnTo>
                          <a:pt x="679" y="0"/>
                        </a:lnTo>
                        <a:lnTo>
                          <a:pt x="706" y="0"/>
                        </a:lnTo>
                        <a:lnTo>
                          <a:pt x="734" y="0"/>
                        </a:lnTo>
                        <a:lnTo>
                          <a:pt x="776" y="0"/>
                        </a:lnTo>
                        <a:lnTo>
                          <a:pt x="803" y="0"/>
                        </a:lnTo>
                        <a:lnTo>
                          <a:pt x="831" y="0"/>
                        </a:lnTo>
                        <a:lnTo>
                          <a:pt x="859" y="0"/>
                        </a:lnTo>
                        <a:lnTo>
                          <a:pt x="886" y="0"/>
                        </a:lnTo>
                        <a:lnTo>
                          <a:pt x="914" y="0"/>
                        </a:lnTo>
                        <a:lnTo>
                          <a:pt x="955" y="0"/>
                        </a:lnTo>
                        <a:lnTo>
                          <a:pt x="983" y="0"/>
                        </a:lnTo>
                        <a:lnTo>
                          <a:pt x="1011" y="0"/>
                        </a:lnTo>
                        <a:lnTo>
                          <a:pt x="1038" y="0"/>
                        </a:lnTo>
                        <a:lnTo>
                          <a:pt x="1066" y="0"/>
                        </a:lnTo>
                        <a:lnTo>
                          <a:pt x="1094" y="0"/>
                        </a:lnTo>
                        <a:lnTo>
                          <a:pt x="1135" y="0"/>
                        </a:lnTo>
                        <a:lnTo>
                          <a:pt x="1163" y="0"/>
                        </a:lnTo>
                        <a:lnTo>
                          <a:pt x="1191" y="0"/>
                        </a:lnTo>
                        <a:lnTo>
                          <a:pt x="1218" y="0"/>
                        </a:lnTo>
                        <a:lnTo>
                          <a:pt x="1246" y="0"/>
                        </a:lnTo>
                        <a:lnTo>
                          <a:pt x="1274" y="0"/>
                        </a:lnTo>
                        <a:lnTo>
                          <a:pt x="1315" y="0"/>
                        </a:lnTo>
                        <a:lnTo>
                          <a:pt x="1343" y="0"/>
                        </a:lnTo>
                        <a:lnTo>
                          <a:pt x="1370" y="0"/>
                        </a:lnTo>
                        <a:lnTo>
                          <a:pt x="1398" y="0"/>
                        </a:lnTo>
                        <a:lnTo>
                          <a:pt x="1427" y="0"/>
                        </a:lnTo>
                        <a:lnTo>
                          <a:pt x="1455" y="0"/>
                        </a:lnTo>
                        <a:lnTo>
                          <a:pt x="1496" y="0"/>
                        </a:lnTo>
                        <a:lnTo>
                          <a:pt x="1524" y="0"/>
                        </a:lnTo>
                        <a:lnTo>
                          <a:pt x="1552" y="0"/>
                        </a:lnTo>
                        <a:lnTo>
                          <a:pt x="1579" y="0"/>
                        </a:lnTo>
                        <a:lnTo>
                          <a:pt x="1607" y="0"/>
                        </a:lnTo>
                        <a:lnTo>
                          <a:pt x="1635" y="0"/>
                        </a:lnTo>
                        <a:lnTo>
                          <a:pt x="1676" y="0"/>
                        </a:lnTo>
                        <a:lnTo>
                          <a:pt x="1704" y="0"/>
                        </a:lnTo>
                        <a:lnTo>
                          <a:pt x="1731" y="0"/>
                        </a:lnTo>
                        <a:lnTo>
                          <a:pt x="1759" y="0"/>
                        </a:lnTo>
                        <a:lnTo>
                          <a:pt x="1787" y="0"/>
                        </a:lnTo>
                        <a:lnTo>
                          <a:pt x="1814" y="0"/>
                        </a:lnTo>
                        <a:lnTo>
                          <a:pt x="1856" y="0"/>
                        </a:lnTo>
                        <a:lnTo>
                          <a:pt x="1884" y="0"/>
                        </a:lnTo>
                        <a:lnTo>
                          <a:pt x="1911" y="0"/>
                        </a:lnTo>
                        <a:lnTo>
                          <a:pt x="1939" y="0"/>
                        </a:lnTo>
                        <a:lnTo>
                          <a:pt x="1967" y="0"/>
                        </a:lnTo>
                        <a:lnTo>
                          <a:pt x="1994" y="0"/>
                        </a:lnTo>
                        <a:lnTo>
                          <a:pt x="2036" y="0"/>
                        </a:lnTo>
                        <a:lnTo>
                          <a:pt x="2063" y="0"/>
                        </a:lnTo>
                        <a:lnTo>
                          <a:pt x="2091" y="0"/>
                        </a:lnTo>
                        <a:lnTo>
                          <a:pt x="2119" y="0"/>
                        </a:lnTo>
                        <a:lnTo>
                          <a:pt x="2146" y="0"/>
                        </a:lnTo>
                        <a:lnTo>
                          <a:pt x="2174" y="0"/>
                        </a:lnTo>
                        <a:lnTo>
                          <a:pt x="2217" y="0"/>
                        </a:lnTo>
                        <a:lnTo>
                          <a:pt x="2245" y="0"/>
                        </a:lnTo>
                        <a:lnTo>
                          <a:pt x="2272" y="0"/>
                        </a:lnTo>
                        <a:lnTo>
                          <a:pt x="2300" y="0"/>
                        </a:lnTo>
                        <a:lnTo>
                          <a:pt x="2328" y="0"/>
                        </a:lnTo>
                        <a:lnTo>
                          <a:pt x="2355" y="0"/>
                        </a:lnTo>
                        <a:lnTo>
                          <a:pt x="2397" y="0"/>
                        </a:lnTo>
                        <a:lnTo>
                          <a:pt x="2424" y="0"/>
                        </a:lnTo>
                        <a:lnTo>
                          <a:pt x="2452" y="0"/>
                        </a:lnTo>
                        <a:lnTo>
                          <a:pt x="2480" y="0"/>
                        </a:lnTo>
                        <a:lnTo>
                          <a:pt x="2507" y="0"/>
                        </a:lnTo>
                        <a:lnTo>
                          <a:pt x="2535" y="0"/>
                        </a:lnTo>
                        <a:lnTo>
                          <a:pt x="2576" y="0"/>
                        </a:lnTo>
                        <a:lnTo>
                          <a:pt x="2604" y="0"/>
                        </a:lnTo>
                        <a:lnTo>
                          <a:pt x="2632" y="0"/>
                        </a:lnTo>
                        <a:lnTo>
                          <a:pt x="2659" y="0"/>
                        </a:lnTo>
                        <a:lnTo>
                          <a:pt x="2687" y="0"/>
                        </a:lnTo>
                        <a:lnTo>
                          <a:pt x="2729" y="0"/>
                        </a:lnTo>
                        <a:lnTo>
                          <a:pt x="2770" y="0"/>
                        </a:lnTo>
                        <a:lnTo>
                          <a:pt x="2798" y="0"/>
                        </a:lnTo>
                        <a:lnTo>
                          <a:pt x="2825" y="0"/>
                        </a:lnTo>
                        <a:lnTo>
                          <a:pt x="2853" y="0"/>
                        </a:lnTo>
                        <a:lnTo>
                          <a:pt x="2881" y="0"/>
                        </a:lnTo>
                        <a:lnTo>
                          <a:pt x="2922" y="0"/>
                        </a:lnTo>
                        <a:lnTo>
                          <a:pt x="2950" y="0"/>
                        </a:lnTo>
                        <a:lnTo>
                          <a:pt x="2978" y="0"/>
                        </a:lnTo>
                        <a:lnTo>
                          <a:pt x="3007" y="0"/>
                        </a:lnTo>
                        <a:lnTo>
                          <a:pt x="3034" y="0"/>
                        </a:lnTo>
                        <a:lnTo>
                          <a:pt x="3062" y="0"/>
                        </a:lnTo>
                        <a:lnTo>
                          <a:pt x="3103" y="0"/>
                        </a:lnTo>
                        <a:lnTo>
                          <a:pt x="3131" y="0"/>
                        </a:lnTo>
                        <a:lnTo>
                          <a:pt x="3159" y="0"/>
                        </a:lnTo>
                        <a:lnTo>
                          <a:pt x="3186" y="0"/>
                        </a:lnTo>
                        <a:lnTo>
                          <a:pt x="3214" y="0"/>
                        </a:lnTo>
                        <a:lnTo>
                          <a:pt x="3242" y="0"/>
                        </a:lnTo>
                        <a:lnTo>
                          <a:pt x="3283" y="0"/>
                        </a:lnTo>
                        <a:lnTo>
                          <a:pt x="3311" y="0"/>
                        </a:lnTo>
                        <a:lnTo>
                          <a:pt x="3339" y="0"/>
                        </a:lnTo>
                        <a:lnTo>
                          <a:pt x="3366" y="0"/>
                        </a:lnTo>
                        <a:lnTo>
                          <a:pt x="3394" y="0"/>
                        </a:lnTo>
                        <a:lnTo>
                          <a:pt x="3422" y="0"/>
                        </a:lnTo>
                        <a:lnTo>
                          <a:pt x="3463" y="0"/>
                        </a:lnTo>
                        <a:lnTo>
                          <a:pt x="3491" y="0"/>
                        </a:lnTo>
                        <a:lnTo>
                          <a:pt x="3518" y="0"/>
                        </a:lnTo>
                        <a:lnTo>
                          <a:pt x="3546" y="0"/>
                        </a:lnTo>
                        <a:lnTo>
                          <a:pt x="3574" y="0"/>
                        </a:lnTo>
                        <a:lnTo>
                          <a:pt x="3601" y="0"/>
                        </a:lnTo>
                        <a:lnTo>
                          <a:pt x="3643" y="0"/>
                        </a:lnTo>
                        <a:lnTo>
                          <a:pt x="3671" y="0"/>
                        </a:lnTo>
                        <a:lnTo>
                          <a:pt x="3698" y="0"/>
                        </a:lnTo>
                        <a:lnTo>
                          <a:pt x="3726" y="0"/>
                        </a:lnTo>
                        <a:lnTo>
                          <a:pt x="3754" y="0"/>
                        </a:lnTo>
                        <a:lnTo>
                          <a:pt x="3781" y="0"/>
                        </a:lnTo>
                        <a:lnTo>
                          <a:pt x="3824" y="0"/>
                        </a:lnTo>
                        <a:lnTo>
                          <a:pt x="3852" y="0"/>
                        </a:lnTo>
                        <a:lnTo>
                          <a:pt x="3879" y="0"/>
                        </a:lnTo>
                        <a:lnTo>
                          <a:pt x="3907" y="0"/>
                        </a:lnTo>
                        <a:lnTo>
                          <a:pt x="3935" y="0"/>
                        </a:lnTo>
                        <a:lnTo>
                          <a:pt x="3962" y="0"/>
                        </a:lnTo>
                        <a:lnTo>
                          <a:pt x="4004" y="0"/>
                        </a:lnTo>
                        <a:lnTo>
                          <a:pt x="4032" y="0"/>
                        </a:lnTo>
                        <a:lnTo>
                          <a:pt x="4059" y="0"/>
                        </a:lnTo>
                        <a:lnTo>
                          <a:pt x="4087" y="0"/>
                        </a:lnTo>
                        <a:lnTo>
                          <a:pt x="4115" y="0"/>
                        </a:lnTo>
                        <a:lnTo>
                          <a:pt x="4142" y="0"/>
                        </a:lnTo>
                        <a:lnTo>
                          <a:pt x="4184" y="0"/>
                        </a:lnTo>
                        <a:lnTo>
                          <a:pt x="4211" y="0"/>
                        </a:lnTo>
                        <a:lnTo>
                          <a:pt x="4239" y="0"/>
                        </a:lnTo>
                        <a:lnTo>
                          <a:pt x="4267" y="0"/>
                        </a:lnTo>
                        <a:lnTo>
                          <a:pt x="4294" y="0"/>
                        </a:lnTo>
                        <a:lnTo>
                          <a:pt x="4322" y="0"/>
                        </a:lnTo>
                        <a:lnTo>
                          <a:pt x="4363" y="0"/>
                        </a:lnTo>
                        <a:lnTo>
                          <a:pt x="4391" y="0"/>
                        </a:lnTo>
                        <a:lnTo>
                          <a:pt x="4419" y="0"/>
                        </a:lnTo>
                        <a:lnTo>
                          <a:pt x="4446" y="0"/>
                        </a:lnTo>
                        <a:lnTo>
                          <a:pt x="4474" y="0"/>
                        </a:lnTo>
                        <a:lnTo>
                          <a:pt x="4502" y="0"/>
                        </a:lnTo>
                        <a:lnTo>
                          <a:pt x="4543" y="0"/>
                        </a:lnTo>
                        <a:lnTo>
                          <a:pt x="4571" y="0"/>
                        </a:lnTo>
                        <a:lnTo>
                          <a:pt x="4600" y="0"/>
                        </a:lnTo>
                        <a:lnTo>
                          <a:pt x="4628" y="0"/>
                        </a:lnTo>
                        <a:lnTo>
                          <a:pt x="4655" y="0"/>
                        </a:lnTo>
                        <a:lnTo>
                          <a:pt x="4697" y="0"/>
                        </a:lnTo>
                        <a:lnTo>
                          <a:pt x="4724" y="0"/>
                        </a:lnTo>
                        <a:lnTo>
                          <a:pt x="4752" y="0"/>
                        </a:lnTo>
                        <a:lnTo>
                          <a:pt x="4780" y="0"/>
                        </a:lnTo>
                        <a:lnTo>
                          <a:pt x="4807" y="0"/>
                        </a:lnTo>
                        <a:lnTo>
                          <a:pt x="4835" y="0"/>
                        </a:lnTo>
                        <a:lnTo>
                          <a:pt x="4877" y="0"/>
                        </a:lnTo>
                        <a:lnTo>
                          <a:pt x="4904" y="0"/>
                        </a:lnTo>
                        <a:lnTo>
                          <a:pt x="4932" y="0"/>
                        </a:lnTo>
                        <a:lnTo>
                          <a:pt x="4960" y="0"/>
                        </a:lnTo>
                        <a:lnTo>
                          <a:pt x="4987" y="0"/>
                        </a:lnTo>
                        <a:lnTo>
                          <a:pt x="5015" y="0"/>
                        </a:lnTo>
                        <a:lnTo>
                          <a:pt x="5056" y="0"/>
                        </a:lnTo>
                        <a:lnTo>
                          <a:pt x="5084" y="0"/>
                        </a:lnTo>
                        <a:lnTo>
                          <a:pt x="5112" y="0"/>
                        </a:lnTo>
                        <a:lnTo>
                          <a:pt x="5139" y="0"/>
                        </a:lnTo>
                        <a:lnTo>
                          <a:pt x="5167"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486" name=""/>
                <p:cNvGrpSpPr/>
                <p:nvPr/>
              </p:nvGrpSpPr>
              <p:grpSpPr>
                <a:xfrm>
                  <a:off x="5403960" y="3803760"/>
                  <a:ext cx="3247920" cy="1440"/>
                  <a:chOff x="5403960" y="3803760"/>
                  <a:chExt cx="3247920" cy="1440"/>
                </a:xfrm>
              </p:grpSpPr>
              <p:sp>
                <p:nvSpPr>
                  <p:cNvPr id="1487" name=""/>
                  <p:cNvSpPr/>
                  <p:nvPr/>
                </p:nvSpPr>
                <p:spPr>
                  <a:xfrm>
                    <a:off x="5403960" y="3803760"/>
                    <a:ext cx="3247920" cy="1440"/>
                  </a:xfrm>
                  <a:custGeom>
                    <a:avLst/>
                    <a:gdLst/>
                    <a:ahLst/>
                    <a:rect l="l" t="t" r="r" b="b"/>
                    <a:pathLst>
                      <a:path w="6138" h="0">
                        <a:moveTo>
                          <a:pt x="0" y="0"/>
                        </a:moveTo>
                        <a:lnTo>
                          <a:pt x="28" y="0"/>
                        </a:lnTo>
                        <a:lnTo>
                          <a:pt x="55" y="0"/>
                        </a:lnTo>
                        <a:lnTo>
                          <a:pt x="83" y="0"/>
                        </a:lnTo>
                        <a:lnTo>
                          <a:pt x="111" y="0"/>
                        </a:lnTo>
                        <a:lnTo>
                          <a:pt x="152" y="0"/>
                        </a:lnTo>
                        <a:lnTo>
                          <a:pt x="180" y="0"/>
                        </a:lnTo>
                        <a:lnTo>
                          <a:pt x="208" y="0"/>
                        </a:lnTo>
                        <a:lnTo>
                          <a:pt x="235" y="0"/>
                        </a:lnTo>
                        <a:lnTo>
                          <a:pt x="263" y="0"/>
                        </a:lnTo>
                        <a:lnTo>
                          <a:pt x="292" y="0"/>
                        </a:lnTo>
                        <a:lnTo>
                          <a:pt x="333" y="0"/>
                        </a:lnTo>
                        <a:lnTo>
                          <a:pt x="361" y="0"/>
                        </a:lnTo>
                        <a:lnTo>
                          <a:pt x="389" y="0"/>
                        </a:lnTo>
                        <a:lnTo>
                          <a:pt x="416" y="0"/>
                        </a:lnTo>
                        <a:lnTo>
                          <a:pt x="444" y="0"/>
                        </a:lnTo>
                        <a:lnTo>
                          <a:pt x="472" y="0"/>
                        </a:lnTo>
                        <a:lnTo>
                          <a:pt x="513" y="0"/>
                        </a:lnTo>
                        <a:lnTo>
                          <a:pt x="541" y="0"/>
                        </a:lnTo>
                        <a:lnTo>
                          <a:pt x="582" y="0"/>
                        </a:lnTo>
                        <a:lnTo>
                          <a:pt x="610" y="0"/>
                        </a:lnTo>
                        <a:lnTo>
                          <a:pt x="638" y="0"/>
                        </a:lnTo>
                        <a:lnTo>
                          <a:pt x="665" y="0"/>
                        </a:lnTo>
                        <a:lnTo>
                          <a:pt x="707" y="0"/>
                        </a:lnTo>
                        <a:lnTo>
                          <a:pt x="735" y="0"/>
                        </a:lnTo>
                        <a:lnTo>
                          <a:pt x="762" y="0"/>
                        </a:lnTo>
                        <a:lnTo>
                          <a:pt x="790" y="0"/>
                        </a:lnTo>
                        <a:lnTo>
                          <a:pt x="818" y="0"/>
                        </a:lnTo>
                        <a:lnTo>
                          <a:pt x="845" y="0"/>
                        </a:lnTo>
                        <a:lnTo>
                          <a:pt x="887" y="0"/>
                        </a:lnTo>
                        <a:lnTo>
                          <a:pt x="914" y="0"/>
                        </a:lnTo>
                        <a:lnTo>
                          <a:pt x="942" y="0"/>
                        </a:lnTo>
                        <a:lnTo>
                          <a:pt x="970" y="0"/>
                        </a:lnTo>
                        <a:lnTo>
                          <a:pt x="997" y="0"/>
                        </a:lnTo>
                        <a:lnTo>
                          <a:pt x="1025" y="0"/>
                        </a:lnTo>
                        <a:lnTo>
                          <a:pt x="1066" y="0"/>
                        </a:lnTo>
                        <a:lnTo>
                          <a:pt x="1096" y="0"/>
                        </a:lnTo>
                        <a:lnTo>
                          <a:pt x="1123" y="0"/>
                        </a:lnTo>
                        <a:lnTo>
                          <a:pt x="1151" y="0"/>
                        </a:lnTo>
                        <a:lnTo>
                          <a:pt x="1178" y="0"/>
                        </a:lnTo>
                        <a:lnTo>
                          <a:pt x="1206" y="0"/>
                        </a:lnTo>
                        <a:lnTo>
                          <a:pt x="1248" y="0"/>
                        </a:lnTo>
                        <a:lnTo>
                          <a:pt x="1275" y="0"/>
                        </a:lnTo>
                        <a:lnTo>
                          <a:pt x="1303" y="0"/>
                        </a:lnTo>
                        <a:lnTo>
                          <a:pt x="1331" y="0"/>
                        </a:lnTo>
                        <a:lnTo>
                          <a:pt x="1358" y="0"/>
                        </a:lnTo>
                        <a:lnTo>
                          <a:pt x="1386" y="0"/>
                        </a:lnTo>
                        <a:lnTo>
                          <a:pt x="1427" y="0"/>
                        </a:lnTo>
                        <a:lnTo>
                          <a:pt x="1455" y="0"/>
                        </a:lnTo>
                        <a:lnTo>
                          <a:pt x="1483" y="0"/>
                        </a:lnTo>
                        <a:lnTo>
                          <a:pt x="1510" y="0"/>
                        </a:lnTo>
                        <a:lnTo>
                          <a:pt x="1538" y="0"/>
                        </a:lnTo>
                        <a:lnTo>
                          <a:pt x="1566" y="0"/>
                        </a:lnTo>
                        <a:lnTo>
                          <a:pt x="1607" y="0"/>
                        </a:lnTo>
                        <a:lnTo>
                          <a:pt x="1635" y="0"/>
                        </a:lnTo>
                        <a:lnTo>
                          <a:pt x="1663" y="0"/>
                        </a:lnTo>
                        <a:lnTo>
                          <a:pt x="1690" y="0"/>
                        </a:lnTo>
                        <a:lnTo>
                          <a:pt x="1718" y="0"/>
                        </a:lnTo>
                        <a:lnTo>
                          <a:pt x="1746" y="0"/>
                        </a:lnTo>
                        <a:lnTo>
                          <a:pt x="1787" y="0"/>
                        </a:lnTo>
                        <a:lnTo>
                          <a:pt x="1815" y="0"/>
                        </a:lnTo>
                        <a:lnTo>
                          <a:pt x="1842" y="0"/>
                        </a:lnTo>
                        <a:lnTo>
                          <a:pt x="1870" y="0"/>
                        </a:lnTo>
                        <a:lnTo>
                          <a:pt x="1899" y="0"/>
                        </a:lnTo>
                        <a:lnTo>
                          <a:pt x="1927" y="0"/>
                        </a:lnTo>
                        <a:lnTo>
                          <a:pt x="1968" y="0"/>
                        </a:lnTo>
                        <a:lnTo>
                          <a:pt x="1996" y="0"/>
                        </a:lnTo>
                        <a:lnTo>
                          <a:pt x="2024" y="0"/>
                        </a:lnTo>
                        <a:lnTo>
                          <a:pt x="2051" y="0"/>
                        </a:lnTo>
                        <a:lnTo>
                          <a:pt x="2079" y="0"/>
                        </a:lnTo>
                        <a:lnTo>
                          <a:pt x="2107"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48" y="0"/>
                        </a:lnTo>
                        <a:lnTo>
                          <a:pt x="3076" y="0"/>
                        </a:lnTo>
                        <a:lnTo>
                          <a:pt x="3104" y="0"/>
                        </a:lnTo>
                        <a:lnTo>
                          <a:pt x="3131" y="0"/>
                        </a:lnTo>
                        <a:lnTo>
                          <a:pt x="3159" y="0"/>
                        </a:lnTo>
                        <a:lnTo>
                          <a:pt x="3201" y="0"/>
                        </a:lnTo>
                        <a:lnTo>
                          <a:pt x="3242" y="0"/>
                        </a:lnTo>
                        <a:lnTo>
                          <a:pt x="3270" y="0"/>
                        </a:lnTo>
                        <a:lnTo>
                          <a:pt x="3297" y="0"/>
                        </a:lnTo>
                        <a:lnTo>
                          <a:pt x="3325" y="0"/>
                        </a:lnTo>
                        <a:lnTo>
                          <a:pt x="3353" y="0"/>
                        </a:lnTo>
                        <a:lnTo>
                          <a:pt x="3394" y="0"/>
                        </a:lnTo>
                        <a:lnTo>
                          <a:pt x="3422" y="0"/>
                        </a:lnTo>
                        <a:lnTo>
                          <a:pt x="3450" y="0"/>
                        </a:lnTo>
                        <a:lnTo>
                          <a:pt x="3479" y="0"/>
                        </a:lnTo>
                        <a:lnTo>
                          <a:pt x="3506" y="0"/>
                        </a:lnTo>
                        <a:lnTo>
                          <a:pt x="3534" y="0"/>
                        </a:lnTo>
                        <a:lnTo>
                          <a:pt x="3575" y="0"/>
                        </a:lnTo>
                        <a:lnTo>
                          <a:pt x="3603" y="0"/>
                        </a:lnTo>
                        <a:lnTo>
                          <a:pt x="3631" y="0"/>
                        </a:lnTo>
                        <a:lnTo>
                          <a:pt x="3658" y="0"/>
                        </a:lnTo>
                        <a:lnTo>
                          <a:pt x="3686" y="0"/>
                        </a:lnTo>
                        <a:lnTo>
                          <a:pt x="3714" y="0"/>
                        </a:lnTo>
                        <a:lnTo>
                          <a:pt x="3755" y="0"/>
                        </a:lnTo>
                        <a:lnTo>
                          <a:pt x="3783" y="0"/>
                        </a:lnTo>
                        <a:lnTo>
                          <a:pt x="3811" y="0"/>
                        </a:lnTo>
                        <a:lnTo>
                          <a:pt x="3838" y="0"/>
                        </a:lnTo>
                        <a:lnTo>
                          <a:pt x="3866" y="0"/>
                        </a:lnTo>
                        <a:lnTo>
                          <a:pt x="3894" y="0"/>
                        </a:lnTo>
                        <a:lnTo>
                          <a:pt x="3935" y="0"/>
                        </a:lnTo>
                        <a:lnTo>
                          <a:pt x="3963" y="0"/>
                        </a:lnTo>
                        <a:lnTo>
                          <a:pt x="3990" y="0"/>
                        </a:lnTo>
                        <a:lnTo>
                          <a:pt x="4018" y="0"/>
                        </a:lnTo>
                        <a:lnTo>
                          <a:pt x="4046" y="0"/>
                        </a:lnTo>
                        <a:lnTo>
                          <a:pt x="4073" y="0"/>
                        </a:lnTo>
                        <a:lnTo>
                          <a:pt x="4115" y="0"/>
                        </a:lnTo>
                        <a:lnTo>
                          <a:pt x="4143" y="0"/>
                        </a:lnTo>
                        <a:lnTo>
                          <a:pt x="4170" y="0"/>
                        </a:lnTo>
                        <a:lnTo>
                          <a:pt x="4198" y="0"/>
                        </a:lnTo>
                        <a:lnTo>
                          <a:pt x="4226" y="0"/>
                        </a:lnTo>
                        <a:lnTo>
                          <a:pt x="4253" y="0"/>
                        </a:lnTo>
                        <a:lnTo>
                          <a:pt x="4296" y="0"/>
                        </a:lnTo>
                        <a:lnTo>
                          <a:pt x="4324" y="0"/>
                        </a:lnTo>
                        <a:lnTo>
                          <a:pt x="4351" y="0"/>
                        </a:lnTo>
                        <a:lnTo>
                          <a:pt x="4379" y="0"/>
                        </a:lnTo>
                        <a:lnTo>
                          <a:pt x="4407" y="0"/>
                        </a:lnTo>
                        <a:lnTo>
                          <a:pt x="4434" y="0"/>
                        </a:lnTo>
                        <a:lnTo>
                          <a:pt x="4476" y="0"/>
                        </a:lnTo>
                        <a:lnTo>
                          <a:pt x="4504" y="0"/>
                        </a:lnTo>
                        <a:lnTo>
                          <a:pt x="4531" y="0"/>
                        </a:lnTo>
                        <a:lnTo>
                          <a:pt x="4559" y="0"/>
                        </a:lnTo>
                        <a:lnTo>
                          <a:pt x="4587" y="0"/>
                        </a:lnTo>
                        <a:lnTo>
                          <a:pt x="4614" y="0"/>
                        </a:lnTo>
                        <a:lnTo>
                          <a:pt x="4656" y="0"/>
                        </a:lnTo>
                        <a:lnTo>
                          <a:pt x="4683" y="0"/>
                        </a:lnTo>
                        <a:lnTo>
                          <a:pt x="4711" y="0"/>
                        </a:lnTo>
                        <a:lnTo>
                          <a:pt x="4739" y="0"/>
                        </a:lnTo>
                        <a:lnTo>
                          <a:pt x="4766" y="0"/>
                        </a:lnTo>
                        <a:lnTo>
                          <a:pt x="4794" y="0"/>
                        </a:lnTo>
                        <a:lnTo>
                          <a:pt x="4835" y="0"/>
                        </a:lnTo>
                        <a:lnTo>
                          <a:pt x="4863" y="0"/>
                        </a:lnTo>
                        <a:lnTo>
                          <a:pt x="4891" y="0"/>
                        </a:lnTo>
                        <a:lnTo>
                          <a:pt x="4918" y="0"/>
                        </a:lnTo>
                        <a:lnTo>
                          <a:pt x="4946" y="0"/>
                        </a:lnTo>
                        <a:lnTo>
                          <a:pt x="4974" y="0"/>
                        </a:lnTo>
                        <a:lnTo>
                          <a:pt x="5015" y="0"/>
                        </a:lnTo>
                        <a:lnTo>
                          <a:pt x="5043" y="0"/>
                        </a:lnTo>
                        <a:lnTo>
                          <a:pt x="5072" y="0"/>
                        </a:lnTo>
                        <a:lnTo>
                          <a:pt x="5100" y="0"/>
                        </a:lnTo>
                        <a:lnTo>
                          <a:pt x="5127" y="0"/>
                        </a:lnTo>
                        <a:lnTo>
                          <a:pt x="5155" y="0"/>
                        </a:lnTo>
                        <a:lnTo>
                          <a:pt x="5196" y="0"/>
                        </a:lnTo>
                        <a:lnTo>
                          <a:pt x="5224" y="0"/>
                        </a:lnTo>
                        <a:lnTo>
                          <a:pt x="5252" y="0"/>
                        </a:lnTo>
                        <a:lnTo>
                          <a:pt x="5279" y="0"/>
                        </a:lnTo>
                        <a:lnTo>
                          <a:pt x="5307" y="0"/>
                        </a:lnTo>
                        <a:lnTo>
                          <a:pt x="5335" y="0"/>
                        </a:lnTo>
                        <a:lnTo>
                          <a:pt x="5376" y="0"/>
                        </a:lnTo>
                        <a:lnTo>
                          <a:pt x="5404" y="0"/>
                        </a:lnTo>
                        <a:lnTo>
                          <a:pt x="5432" y="0"/>
                        </a:lnTo>
                        <a:lnTo>
                          <a:pt x="5459" y="0"/>
                        </a:lnTo>
                        <a:lnTo>
                          <a:pt x="5487" y="0"/>
                        </a:lnTo>
                        <a:lnTo>
                          <a:pt x="5515" y="0"/>
                        </a:lnTo>
                        <a:lnTo>
                          <a:pt x="5556" y="0"/>
                        </a:lnTo>
                        <a:lnTo>
                          <a:pt x="5584" y="0"/>
                        </a:lnTo>
                        <a:lnTo>
                          <a:pt x="5611" y="0"/>
                        </a:lnTo>
                        <a:lnTo>
                          <a:pt x="5639" y="0"/>
                        </a:lnTo>
                        <a:lnTo>
                          <a:pt x="5667" y="0"/>
                        </a:lnTo>
                        <a:lnTo>
                          <a:pt x="5694" y="0"/>
                        </a:lnTo>
                        <a:lnTo>
                          <a:pt x="5736" y="0"/>
                        </a:lnTo>
                        <a:lnTo>
                          <a:pt x="5764" y="0"/>
                        </a:lnTo>
                        <a:lnTo>
                          <a:pt x="5791" y="0"/>
                        </a:lnTo>
                        <a:lnTo>
                          <a:pt x="5819" y="0"/>
                        </a:lnTo>
                        <a:lnTo>
                          <a:pt x="5847" y="0"/>
                        </a:lnTo>
                        <a:lnTo>
                          <a:pt x="5889" y="0"/>
                        </a:lnTo>
                        <a:lnTo>
                          <a:pt x="5931" y="0"/>
                        </a:lnTo>
                        <a:lnTo>
                          <a:pt x="5959" y="0"/>
                        </a:lnTo>
                        <a:lnTo>
                          <a:pt x="5986" y="0"/>
                        </a:lnTo>
                        <a:lnTo>
                          <a:pt x="6014" y="0"/>
                        </a:lnTo>
                        <a:lnTo>
                          <a:pt x="6042" y="0"/>
                        </a:lnTo>
                        <a:lnTo>
                          <a:pt x="6069" y="0"/>
                        </a:lnTo>
                        <a:lnTo>
                          <a:pt x="6111" y="0"/>
                        </a:lnTo>
                        <a:lnTo>
                          <a:pt x="6138"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5403960" y="3803760"/>
                    <a:ext cx="3247920" cy="1440"/>
                  </a:xfrm>
                  <a:custGeom>
                    <a:avLst/>
                    <a:gdLst/>
                    <a:ahLst/>
                    <a:rect l="l" t="t" r="r" b="b"/>
                    <a:pathLst>
                      <a:path w="6138" h="0">
                        <a:moveTo>
                          <a:pt x="0" y="0"/>
                        </a:moveTo>
                        <a:lnTo>
                          <a:pt x="28" y="0"/>
                        </a:lnTo>
                        <a:lnTo>
                          <a:pt x="55" y="0"/>
                        </a:lnTo>
                        <a:lnTo>
                          <a:pt x="83" y="0"/>
                        </a:lnTo>
                        <a:lnTo>
                          <a:pt x="111" y="0"/>
                        </a:lnTo>
                        <a:lnTo>
                          <a:pt x="152" y="0"/>
                        </a:lnTo>
                        <a:lnTo>
                          <a:pt x="180" y="0"/>
                        </a:lnTo>
                        <a:lnTo>
                          <a:pt x="208" y="0"/>
                        </a:lnTo>
                        <a:lnTo>
                          <a:pt x="235" y="0"/>
                        </a:lnTo>
                        <a:lnTo>
                          <a:pt x="263" y="0"/>
                        </a:lnTo>
                        <a:lnTo>
                          <a:pt x="292" y="0"/>
                        </a:lnTo>
                        <a:lnTo>
                          <a:pt x="333" y="0"/>
                        </a:lnTo>
                        <a:lnTo>
                          <a:pt x="361" y="0"/>
                        </a:lnTo>
                        <a:lnTo>
                          <a:pt x="389" y="0"/>
                        </a:lnTo>
                        <a:lnTo>
                          <a:pt x="416" y="0"/>
                        </a:lnTo>
                        <a:lnTo>
                          <a:pt x="444" y="0"/>
                        </a:lnTo>
                        <a:lnTo>
                          <a:pt x="472" y="0"/>
                        </a:lnTo>
                        <a:lnTo>
                          <a:pt x="513" y="0"/>
                        </a:lnTo>
                        <a:lnTo>
                          <a:pt x="541" y="0"/>
                        </a:lnTo>
                        <a:lnTo>
                          <a:pt x="582" y="0"/>
                        </a:lnTo>
                        <a:lnTo>
                          <a:pt x="610" y="0"/>
                        </a:lnTo>
                        <a:lnTo>
                          <a:pt x="638" y="0"/>
                        </a:lnTo>
                        <a:lnTo>
                          <a:pt x="665" y="0"/>
                        </a:lnTo>
                        <a:lnTo>
                          <a:pt x="707" y="0"/>
                        </a:lnTo>
                        <a:lnTo>
                          <a:pt x="735" y="0"/>
                        </a:lnTo>
                        <a:lnTo>
                          <a:pt x="762" y="0"/>
                        </a:lnTo>
                        <a:lnTo>
                          <a:pt x="790" y="0"/>
                        </a:lnTo>
                        <a:lnTo>
                          <a:pt x="818" y="0"/>
                        </a:lnTo>
                        <a:lnTo>
                          <a:pt x="845" y="0"/>
                        </a:lnTo>
                        <a:lnTo>
                          <a:pt x="887" y="0"/>
                        </a:lnTo>
                        <a:lnTo>
                          <a:pt x="914" y="0"/>
                        </a:lnTo>
                        <a:lnTo>
                          <a:pt x="942" y="0"/>
                        </a:lnTo>
                        <a:lnTo>
                          <a:pt x="970" y="0"/>
                        </a:lnTo>
                        <a:lnTo>
                          <a:pt x="997" y="0"/>
                        </a:lnTo>
                        <a:lnTo>
                          <a:pt x="1025" y="0"/>
                        </a:lnTo>
                        <a:lnTo>
                          <a:pt x="1066" y="0"/>
                        </a:lnTo>
                        <a:lnTo>
                          <a:pt x="1096" y="0"/>
                        </a:lnTo>
                        <a:lnTo>
                          <a:pt x="1123" y="0"/>
                        </a:lnTo>
                        <a:lnTo>
                          <a:pt x="1151" y="0"/>
                        </a:lnTo>
                        <a:lnTo>
                          <a:pt x="1178" y="0"/>
                        </a:lnTo>
                        <a:lnTo>
                          <a:pt x="1206" y="0"/>
                        </a:lnTo>
                        <a:lnTo>
                          <a:pt x="1248" y="0"/>
                        </a:lnTo>
                        <a:lnTo>
                          <a:pt x="1275" y="0"/>
                        </a:lnTo>
                        <a:lnTo>
                          <a:pt x="1303" y="0"/>
                        </a:lnTo>
                        <a:lnTo>
                          <a:pt x="1331" y="0"/>
                        </a:lnTo>
                        <a:lnTo>
                          <a:pt x="1358" y="0"/>
                        </a:lnTo>
                        <a:lnTo>
                          <a:pt x="1386" y="0"/>
                        </a:lnTo>
                        <a:lnTo>
                          <a:pt x="1427" y="0"/>
                        </a:lnTo>
                        <a:lnTo>
                          <a:pt x="1455" y="0"/>
                        </a:lnTo>
                        <a:lnTo>
                          <a:pt x="1483" y="0"/>
                        </a:lnTo>
                        <a:lnTo>
                          <a:pt x="1510" y="0"/>
                        </a:lnTo>
                        <a:lnTo>
                          <a:pt x="1538" y="0"/>
                        </a:lnTo>
                        <a:lnTo>
                          <a:pt x="1566" y="0"/>
                        </a:lnTo>
                        <a:lnTo>
                          <a:pt x="1607" y="0"/>
                        </a:lnTo>
                        <a:lnTo>
                          <a:pt x="1635" y="0"/>
                        </a:lnTo>
                        <a:lnTo>
                          <a:pt x="1663" y="0"/>
                        </a:lnTo>
                        <a:lnTo>
                          <a:pt x="1690" y="0"/>
                        </a:lnTo>
                        <a:lnTo>
                          <a:pt x="1718" y="0"/>
                        </a:lnTo>
                        <a:lnTo>
                          <a:pt x="1746" y="0"/>
                        </a:lnTo>
                        <a:lnTo>
                          <a:pt x="1787" y="0"/>
                        </a:lnTo>
                        <a:lnTo>
                          <a:pt x="1815" y="0"/>
                        </a:lnTo>
                        <a:lnTo>
                          <a:pt x="1842" y="0"/>
                        </a:lnTo>
                        <a:lnTo>
                          <a:pt x="1870" y="0"/>
                        </a:lnTo>
                        <a:lnTo>
                          <a:pt x="1899" y="0"/>
                        </a:lnTo>
                        <a:lnTo>
                          <a:pt x="1927" y="0"/>
                        </a:lnTo>
                        <a:lnTo>
                          <a:pt x="1968" y="0"/>
                        </a:lnTo>
                        <a:lnTo>
                          <a:pt x="1996" y="0"/>
                        </a:lnTo>
                        <a:lnTo>
                          <a:pt x="2024" y="0"/>
                        </a:lnTo>
                        <a:lnTo>
                          <a:pt x="2051" y="0"/>
                        </a:lnTo>
                        <a:lnTo>
                          <a:pt x="2079" y="0"/>
                        </a:lnTo>
                        <a:lnTo>
                          <a:pt x="2107"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48" y="0"/>
                        </a:lnTo>
                        <a:lnTo>
                          <a:pt x="3076" y="0"/>
                        </a:lnTo>
                        <a:lnTo>
                          <a:pt x="3104" y="0"/>
                        </a:lnTo>
                        <a:lnTo>
                          <a:pt x="3131" y="0"/>
                        </a:lnTo>
                        <a:lnTo>
                          <a:pt x="3159" y="0"/>
                        </a:lnTo>
                        <a:lnTo>
                          <a:pt x="3201" y="0"/>
                        </a:lnTo>
                        <a:lnTo>
                          <a:pt x="3242" y="0"/>
                        </a:lnTo>
                        <a:lnTo>
                          <a:pt x="3270" y="0"/>
                        </a:lnTo>
                        <a:lnTo>
                          <a:pt x="3297" y="0"/>
                        </a:lnTo>
                        <a:lnTo>
                          <a:pt x="3325" y="0"/>
                        </a:lnTo>
                        <a:lnTo>
                          <a:pt x="3353" y="0"/>
                        </a:lnTo>
                        <a:lnTo>
                          <a:pt x="3394" y="0"/>
                        </a:lnTo>
                        <a:lnTo>
                          <a:pt x="3422" y="0"/>
                        </a:lnTo>
                        <a:lnTo>
                          <a:pt x="3450" y="0"/>
                        </a:lnTo>
                        <a:lnTo>
                          <a:pt x="3479" y="0"/>
                        </a:lnTo>
                        <a:lnTo>
                          <a:pt x="3506" y="0"/>
                        </a:lnTo>
                        <a:lnTo>
                          <a:pt x="3534" y="0"/>
                        </a:lnTo>
                        <a:lnTo>
                          <a:pt x="3575" y="0"/>
                        </a:lnTo>
                        <a:lnTo>
                          <a:pt x="3603" y="0"/>
                        </a:lnTo>
                        <a:lnTo>
                          <a:pt x="3631" y="0"/>
                        </a:lnTo>
                        <a:lnTo>
                          <a:pt x="3658" y="0"/>
                        </a:lnTo>
                        <a:lnTo>
                          <a:pt x="3686" y="0"/>
                        </a:lnTo>
                        <a:lnTo>
                          <a:pt x="3714" y="0"/>
                        </a:lnTo>
                        <a:lnTo>
                          <a:pt x="3755" y="0"/>
                        </a:lnTo>
                        <a:lnTo>
                          <a:pt x="3783" y="0"/>
                        </a:lnTo>
                        <a:lnTo>
                          <a:pt x="3811" y="0"/>
                        </a:lnTo>
                        <a:lnTo>
                          <a:pt x="3838" y="0"/>
                        </a:lnTo>
                        <a:lnTo>
                          <a:pt x="3866" y="0"/>
                        </a:lnTo>
                        <a:lnTo>
                          <a:pt x="3894" y="0"/>
                        </a:lnTo>
                        <a:lnTo>
                          <a:pt x="3935" y="0"/>
                        </a:lnTo>
                        <a:lnTo>
                          <a:pt x="3963" y="0"/>
                        </a:lnTo>
                        <a:lnTo>
                          <a:pt x="3990" y="0"/>
                        </a:lnTo>
                        <a:lnTo>
                          <a:pt x="4018" y="0"/>
                        </a:lnTo>
                        <a:lnTo>
                          <a:pt x="4046" y="0"/>
                        </a:lnTo>
                        <a:lnTo>
                          <a:pt x="4073" y="0"/>
                        </a:lnTo>
                        <a:lnTo>
                          <a:pt x="4115" y="0"/>
                        </a:lnTo>
                        <a:lnTo>
                          <a:pt x="4143" y="0"/>
                        </a:lnTo>
                        <a:lnTo>
                          <a:pt x="4170" y="0"/>
                        </a:lnTo>
                        <a:lnTo>
                          <a:pt x="4198" y="0"/>
                        </a:lnTo>
                        <a:lnTo>
                          <a:pt x="4226" y="0"/>
                        </a:lnTo>
                        <a:lnTo>
                          <a:pt x="4253" y="0"/>
                        </a:lnTo>
                        <a:lnTo>
                          <a:pt x="4296" y="0"/>
                        </a:lnTo>
                        <a:lnTo>
                          <a:pt x="4324" y="0"/>
                        </a:lnTo>
                        <a:lnTo>
                          <a:pt x="4351" y="0"/>
                        </a:lnTo>
                        <a:lnTo>
                          <a:pt x="4379" y="0"/>
                        </a:lnTo>
                        <a:lnTo>
                          <a:pt x="4407" y="0"/>
                        </a:lnTo>
                        <a:lnTo>
                          <a:pt x="4434" y="0"/>
                        </a:lnTo>
                        <a:lnTo>
                          <a:pt x="4476" y="0"/>
                        </a:lnTo>
                        <a:lnTo>
                          <a:pt x="4504" y="0"/>
                        </a:lnTo>
                        <a:lnTo>
                          <a:pt x="4531" y="0"/>
                        </a:lnTo>
                        <a:lnTo>
                          <a:pt x="4559" y="0"/>
                        </a:lnTo>
                        <a:lnTo>
                          <a:pt x="4587" y="0"/>
                        </a:lnTo>
                        <a:lnTo>
                          <a:pt x="4614" y="0"/>
                        </a:lnTo>
                        <a:lnTo>
                          <a:pt x="4656" y="0"/>
                        </a:lnTo>
                        <a:lnTo>
                          <a:pt x="4683" y="0"/>
                        </a:lnTo>
                        <a:lnTo>
                          <a:pt x="4711" y="0"/>
                        </a:lnTo>
                        <a:lnTo>
                          <a:pt x="4739" y="0"/>
                        </a:lnTo>
                        <a:lnTo>
                          <a:pt x="4766" y="0"/>
                        </a:lnTo>
                        <a:lnTo>
                          <a:pt x="4794" y="0"/>
                        </a:lnTo>
                        <a:lnTo>
                          <a:pt x="4835" y="0"/>
                        </a:lnTo>
                        <a:lnTo>
                          <a:pt x="4863" y="0"/>
                        </a:lnTo>
                        <a:lnTo>
                          <a:pt x="4891" y="0"/>
                        </a:lnTo>
                        <a:lnTo>
                          <a:pt x="4918" y="0"/>
                        </a:lnTo>
                        <a:lnTo>
                          <a:pt x="4946" y="0"/>
                        </a:lnTo>
                        <a:lnTo>
                          <a:pt x="4974" y="0"/>
                        </a:lnTo>
                        <a:lnTo>
                          <a:pt x="5015" y="0"/>
                        </a:lnTo>
                        <a:lnTo>
                          <a:pt x="5043" y="0"/>
                        </a:lnTo>
                        <a:lnTo>
                          <a:pt x="5072" y="0"/>
                        </a:lnTo>
                        <a:lnTo>
                          <a:pt x="5100" y="0"/>
                        </a:lnTo>
                        <a:lnTo>
                          <a:pt x="5127" y="0"/>
                        </a:lnTo>
                        <a:lnTo>
                          <a:pt x="5155" y="0"/>
                        </a:lnTo>
                        <a:lnTo>
                          <a:pt x="5196" y="0"/>
                        </a:lnTo>
                        <a:lnTo>
                          <a:pt x="5224" y="0"/>
                        </a:lnTo>
                        <a:lnTo>
                          <a:pt x="5252" y="0"/>
                        </a:lnTo>
                        <a:lnTo>
                          <a:pt x="5279" y="0"/>
                        </a:lnTo>
                        <a:lnTo>
                          <a:pt x="5307" y="0"/>
                        </a:lnTo>
                        <a:lnTo>
                          <a:pt x="5335" y="0"/>
                        </a:lnTo>
                        <a:lnTo>
                          <a:pt x="5376" y="0"/>
                        </a:lnTo>
                        <a:lnTo>
                          <a:pt x="5404" y="0"/>
                        </a:lnTo>
                        <a:lnTo>
                          <a:pt x="5432" y="0"/>
                        </a:lnTo>
                        <a:lnTo>
                          <a:pt x="5459" y="0"/>
                        </a:lnTo>
                        <a:lnTo>
                          <a:pt x="5487" y="0"/>
                        </a:lnTo>
                        <a:lnTo>
                          <a:pt x="5515" y="0"/>
                        </a:lnTo>
                        <a:lnTo>
                          <a:pt x="5556" y="0"/>
                        </a:lnTo>
                        <a:lnTo>
                          <a:pt x="5584" y="0"/>
                        </a:lnTo>
                        <a:lnTo>
                          <a:pt x="5611" y="0"/>
                        </a:lnTo>
                        <a:lnTo>
                          <a:pt x="5639" y="0"/>
                        </a:lnTo>
                        <a:lnTo>
                          <a:pt x="5667" y="0"/>
                        </a:lnTo>
                        <a:lnTo>
                          <a:pt x="5694" y="0"/>
                        </a:lnTo>
                        <a:lnTo>
                          <a:pt x="5736" y="0"/>
                        </a:lnTo>
                        <a:lnTo>
                          <a:pt x="5764" y="0"/>
                        </a:lnTo>
                        <a:lnTo>
                          <a:pt x="5791" y="0"/>
                        </a:lnTo>
                        <a:lnTo>
                          <a:pt x="5819" y="0"/>
                        </a:lnTo>
                        <a:lnTo>
                          <a:pt x="5847" y="0"/>
                        </a:lnTo>
                        <a:lnTo>
                          <a:pt x="5889" y="0"/>
                        </a:lnTo>
                        <a:lnTo>
                          <a:pt x="5931" y="0"/>
                        </a:lnTo>
                        <a:lnTo>
                          <a:pt x="5959" y="0"/>
                        </a:lnTo>
                        <a:lnTo>
                          <a:pt x="5986" y="0"/>
                        </a:lnTo>
                        <a:lnTo>
                          <a:pt x="6014" y="0"/>
                        </a:lnTo>
                        <a:lnTo>
                          <a:pt x="6042" y="0"/>
                        </a:lnTo>
                        <a:lnTo>
                          <a:pt x="6069" y="0"/>
                        </a:lnTo>
                        <a:lnTo>
                          <a:pt x="6111" y="0"/>
                        </a:lnTo>
                        <a:lnTo>
                          <a:pt x="6138"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89" name=""/>
                <p:cNvGrpSpPr/>
                <p:nvPr/>
              </p:nvGrpSpPr>
              <p:grpSpPr>
                <a:xfrm>
                  <a:off x="5207040" y="3603600"/>
                  <a:ext cx="3643200" cy="1440"/>
                  <a:chOff x="5207040" y="3603600"/>
                  <a:chExt cx="3643200" cy="1440"/>
                </a:xfrm>
              </p:grpSpPr>
              <p:sp>
                <p:nvSpPr>
                  <p:cNvPr id="1490" name=""/>
                  <p:cNvSpPr/>
                  <p:nvPr/>
                </p:nvSpPr>
                <p:spPr>
                  <a:xfrm>
                    <a:off x="5207040" y="3603600"/>
                    <a:ext cx="3643200" cy="1440"/>
                  </a:xfrm>
                  <a:custGeom>
                    <a:avLst/>
                    <a:gdLst/>
                    <a:ahLst/>
                    <a:rect l="l" t="t" r="r" b="b"/>
                    <a:pathLst>
                      <a:path w="6885" h="0">
                        <a:moveTo>
                          <a:pt x="0" y="0"/>
                        </a:moveTo>
                        <a:lnTo>
                          <a:pt x="27" y="0"/>
                        </a:lnTo>
                        <a:lnTo>
                          <a:pt x="55" y="0"/>
                        </a:lnTo>
                        <a:lnTo>
                          <a:pt x="83" y="0"/>
                        </a:lnTo>
                        <a:lnTo>
                          <a:pt x="124" y="0"/>
                        </a:lnTo>
                        <a:lnTo>
                          <a:pt x="152" y="0"/>
                        </a:lnTo>
                        <a:lnTo>
                          <a:pt x="179" y="0"/>
                        </a:lnTo>
                        <a:lnTo>
                          <a:pt x="207" y="0"/>
                        </a:lnTo>
                        <a:lnTo>
                          <a:pt x="235" y="0"/>
                        </a:lnTo>
                        <a:lnTo>
                          <a:pt x="262" y="0"/>
                        </a:lnTo>
                        <a:lnTo>
                          <a:pt x="304" y="0"/>
                        </a:lnTo>
                        <a:lnTo>
                          <a:pt x="332" y="0"/>
                        </a:lnTo>
                        <a:lnTo>
                          <a:pt x="359" y="0"/>
                        </a:lnTo>
                        <a:lnTo>
                          <a:pt x="387" y="0"/>
                        </a:lnTo>
                        <a:lnTo>
                          <a:pt x="415" y="0"/>
                        </a:lnTo>
                        <a:lnTo>
                          <a:pt x="442" y="0"/>
                        </a:lnTo>
                        <a:lnTo>
                          <a:pt x="470" y="0"/>
                        </a:lnTo>
                        <a:lnTo>
                          <a:pt x="511" y="0"/>
                        </a:lnTo>
                        <a:lnTo>
                          <a:pt x="539" y="0"/>
                        </a:lnTo>
                        <a:lnTo>
                          <a:pt x="567" y="0"/>
                        </a:lnTo>
                        <a:lnTo>
                          <a:pt x="594" y="0"/>
                        </a:lnTo>
                        <a:lnTo>
                          <a:pt x="622" y="0"/>
                        </a:lnTo>
                        <a:lnTo>
                          <a:pt x="650" y="0"/>
                        </a:lnTo>
                        <a:lnTo>
                          <a:pt x="693" y="0"/>
                        </a:lnTo>
                        <a:lnTo>
                          <a:pt x="720" y="0"/>
                        </a:lnTo>
                        <a:lnTo>
                          <a:pt x="748" y="0"/>
                        </a:lnTo>
                        <a:lnTo>
                          <a:pt x="776" y="0"/>
                        </a:lnTo>
                        <a:lnTo>
                          <a:pt x="803" y="0"/>
                        </a:lnTo>
                        <a:lnTo>
                          <a:pt x="831" y="0"/>
                        </a:lnTo>
                        <a:lnTo>
                          <a:pt x="872" y="0"/>
                        </a:lnTo>
                        <a:lnTo>
                          <a:pt x="900" y="0"/>
                        </a:lnTo>
                        <a:lnTo>
                          <a:pt x="942" y="0"/>
                        </a:lnTo>
                        <a:lnTo>
                          <a:pt x="969" y="0"/>
                        </a:lnTo>
                        <a:lnTo>
                          <a:pt x="997" y="0"/>
                        </a:lnTo>
                        <a:lnTo>
                          <a:pt x="1025" y="0"/>
                        </a:lnTo>
                        <a:lnTo>
                          <a:pt x="1066" y="0"/>
                        </a:lnTo>
                        <a:lnTo>
                          <a:pt x="1094" y="0"/>
                        </a:lnTo>
                        <a:lnTo>
                          <a:pt x="1121" y="0"/>
                        </a:lnTo>
                        <a:lnTo>
                          <a:pt x="1149" y="0"/>
                        </a:lnTo>
                        <a:lnTo>
                          <a:pt x="1177" y="0"/>
                        </a:lnTo>
                        <a:lnTo>
                          <a:pt x="1204" y="0"/>
                        </a:lnTo>
                        <a:lnTo>
                          <a:pt x="1246" y="0"/>
                        </a:lnTo>
                        <a:lnTo>
                          <a:pt x="1273" y="0"/>
                        </a:lnTo>
                        <a:lnTo>
                          <a:pt x="1301" y="0"/>
                        </a:lnTo>
                        <a:lnTo>
                          <a:pt x="1329" y="0"/>
                        </a:lnTo>
                        <a:lnTo>
                          <a:pt x="1356" y="0"/>
                        </a:lnTo>
                        <a:lnTo>
                          <a:pt x="1384" y="0"/>
                        </a:lnTo>
                        <a:lnTo>
                          <a:pt x="1426" y="0"/>
                        </a:lnTo>
                        <a:lnTo>
                          <a:pt x="1455" y="0"/>
                        </a:lnTo>
                        <a:lnTo>
                          <a:pt x="1482" y="0"/>
                        </a:lnTo>
                        <a:lnTo>
                          <a:pt x="1510" y="0"/>
                        </a:lnTo>
                        <a:lnTo>
                          <a:pt x="1538" y="0"/>
                        </a:lnTo>
                        <a:lnTo>
                          <a:pt x="1565" y="0"/>
                        </a:lnTo>
                        <a:lnTo>
                          <a:pt x="1607" y="0"/>
                        </a:lnTo>
                        <a:lnTo>
                          <a:pt x="1634" y="0"/>
                        </a:lnTo>
                        <a:lnTo>
                          <a:pt x="1662" y="0"/>
                        </a:lnTo>
                        <a:lnTo>
                          <a:pt x="1690" y="0"/>
                        </a:lnTo>
                        <a:lnTo>
                          <a:pt x="1717" y="0"/>
                        </a:lnTo>
                        <a:lnTo>
                          <a:pt x="1745" y="0"/>
                        </a:lnTo>
                        <a:lnTo>
                          <a:pt x="1787" y="0"/>
                        </a:lnTo>
                        <a:lnTo>
                          <a:pt x="1814" y="0"/>
                        </a:lnTo>
                        <a:lnTo>
                          <a:pt x="1842" y="0"/>
                        </a:lnTo>
                        <a:lnTo>
                          <a:pt x="1870" y="0"/>
                        </a:lnTo>
                        <a:lnTo>
                          <a:pt x="1897" y="0"/>
                        </a:lnTo>
                        <a:lnTo>
                          <a:pt x="1925" y="0"/>
                        </a:lnTo>
                        <a:lnTo>
                          <a:pt x="1966" y="0"/>
                        </a:lnTo>
                        <a:lnTo>
                          <a:pt x="1994" y="0"/>
                        </a:lnTo>
                        <a:lnTo>
                          <a:pt x="2022" y="0"/>
                        </a:lnTo>
                        <a:lnTo>
                          <a:pt x="2049" y="0"/>
                        </a:lnTo>
                        <a:lnTo>
                          <a:pt x="2077" y="0"/>
                        </a:lnTo>
                        <a:lnTo>
                          <a:pt x="2105" y="0"/>
                        </a:lnTo>
                        <a:lnTo>
                          <a:pt x="2146" y="0"/>
                        </a:lnTo>
                        <a:lnTo>
                          <a:pt x="2174" y="0"/>
                        </a:lnTo>
                        <a:lnTo>
                          <a:pt x="2202" y="0"/>
                        </a:lnTo>
                        <a:lnTo>
                          <a:pt x="2229" y="0"/>
                        </a:lnTo>
                        <a:lnTo>
                          <a:pt x="2258" y="0"/>
                        </a:lnTo>
                        <a:lnTo>
                          <a:pt x="2286" y="0"/>
                        </a:lnTo>
                        <a:lnTo>
                          <a:pt x="2327" y="0"/>
                        </a:lnTo>
                        <a:lnTo>
                          <a:pt x="2355" y="0"/>
                        </a:lnTo>
                        <a:lnTo>
                          <a:pt x="2383" y="0"/>
                        </a:lnTo>
                        <a:lnTo>
                          <a:pt x="2410" y="0"/>
                        </a:lnTo>
                        <a:lnTo>
                          <a:pt x="2438" y="0"/>
                        </a:lnTo>
                        <a:lnTo>
                          <a:pt x="2466" y="0"/>
                        </a:lnTo>
                        <a:lnTo>
                          <a:pt x="2507" y="0"/>
                        </a:lnTo>
                        <a:lnTo>
                          <a:pt x="2535" y="0"/>
                        </a:lnTo>
                        <a:lnTo>
                          <a:pt x="2563" y="0"/>
                        </a:lnTo>
                        <a:lnTo>
                          <a:pt x="2590" y="0"/>
                        </a:lnTo>
                        <a:lnTo>
                          <a:pt x="2618" y="0"/>
                        </a:lnTo>
                        <a:lnTo>
                          <a:pt x="2646" y="0"/>
                        </a:lnTo>
                        <a:lnTo>
                          <a:pt x="2687" y="0"/>
                        </a:lnTo>
                        <a:lnTo>
                          <a:pt x="2715" y="0"/>
                        </a:lnTo>
                        <a:lnTo>
                          <a:pt x="2742" y="0"/>
                        </a:lnTo>
                        <a:lnTo>
                          <a:pt x="2770" y="0"/>
                        </a:lnTo>
                        <a:lnTo>
                          <a:pt x="2798" y="0"/>
                        </a:lnTo>
                        <a:lnTo>
                          <a:pt x="2825" y="0"/>
                        </a:lnTo>
                        <a:lnTo>
                          <a:pt x="2867" y="0"/>
                        </a:lnTo>
                        <a:lnTo>
                          <a:pt x="2895" y="0"/>
                        </a:lnTo>
                        <a:lnTo>
                          <a:pt x="2922" y="0"/>
                        </a:lnTo>
                        <a:lnTo>
                          <a:pt x="2950" y="0"/>
                        </a:lnTo>
                        <a:lnTo>
                          <a:pt x="2977" y="0"/>
                        </a:lnTo>
                        <a:lnTo>
                          <a:pt x="3005"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8" y="0"/>
                        </a:lnTo>
                        <a:lnTo>
                          <a:pt x="3435" y="0"/>
                        </a:lnTo>
                        <a:lnTo>
                          <a:pt x="3463" y="0"/>
                        </a:lnTo>
                        <a:lnTo>
                          <a:pt x="3491" y="0"/>
                        </a:lnTo>
                        <a:lnTo>
                          <a:pt x="3518" y="0"/>
                        </a:lnTo>
                        <a:lnTo>
                          <a:pt x="3546" y="0"/>
                        </a:lnTo>
                        <a:lnTo>
                          <a:pt x="3601" y="0"/>
                        </a:lnTo>
                        <a:lnTo>
                          <a:pt x="3629" y="0"/>
                        </a:lnTo>
                        <a:lnTo>
                          <a:pt x="3657" y="0"/>
                        </a:lnTo>
                        <a:lnTo>
                          <a:pt x="3684" y="0"/>
                        </a:lnTo>
                        <a:lnTo>
                          <a:pt x="3712" y="0"/>
                        </a:lnTo>
                        <a:lnTo>
                          <a:pt x="3740" y="0"/>
                        </a:lnTo>
                        <a:lnTo>
                          <a:pt x="3781" y="0"/>
                        </a:lnTo>
                        <a:lnTo>
                          <a:pt x="3809" y="0"/>
                        </a:lnTo>
                        <a:lnTo>
                          <a:pt x="3836" y="0"/>
                        </a:lnTo>
                        <a:lnTo>
                          <a:pt x="3865" y="0"/>
                        </a:lnTo>
                        <a:lnTo>
                          <a:pt x="3893" y="0"/>
                        </a:lnTo>
                        <a:lnTo>
                          <a:pt x="3921" y="0"/>
                        </a:lnTo>
                        <a:lnTo>
                          <a:pt x="3962" y="0"/>
                        </a:lnTo>
                        <a:lnTo>
                          <a:pt x="3990" y="0"/>
                        </a:lnTo>
                        <a:lnTo>
                          <a:pt x="4018" y="0"/>
                        </a:lnTo>
                        <a:lnTo>
                          <a:pt x="4045" y="0"/>
                        </a:lnTo>
                        <a:lnTo>
                          <a:pt x="4073" y="0"/>
                        </a:lnTo>
                        <a:lnTo>
                          <a:pt x="4101" y="0"/>
                        </a:lnTo>
                        <a:lnTo>
                          <a:pt x="4142" y="0"/>
                        </a:lnTo>
                        <a:lnTo>
                          <a:pt x="4170" y="0"/>
                        </a:lnTo>
                        <a:lnTo>
                          <a:pt x="4197" y="0"/>
                        </a:lnTo>
                        <a:lnTo>
                          <a:pt x="4225" y="0"/>
                        </a:lnTo>
                        <a:lnTo>
                          <a:pt x="4253" y="0"/>
                        </a:lnTo>
                        <a:lnTo>
                          <a:pt x="4280" y="0"/>
                        </a:lnTo>
                        <a:lnTo>
                          <a:pt x="4322" y="0"/>
                        </a:lnTo>
                        <a:lnTo>
                          <a:pt x="4350" y="0"/>
                        </a:lnTo>
                        <a:lnTo>
                          <a:pt x="4377" y="0"/>
                        </a:lnTo>
                        <a:lnTo>
                          <a:pt x="4405" y="0"/>
                        </a:lnTo>
                        <a:lnTo>
                          <a:pt x="4433" y="0"/>
                        </a:lnTo>
                        <a:lnTo>
                          <a:pt x="4460" y="0"/>
                        </a:lnTo>
                        <a:lnTo>
                          <a:pt x="4502" y="0"/>
                        </a:lnTo>
                        <a:lnTo>
                          <a:pt x="4529" y="0"/>
                        </a:lnTo>
                        <a:lnTo>
                          <a:pt x="4557" y="0"/>
                        </a:lnTo>
                        <a:lnTo>
                          <a:pt x="4585" y="0"/>
                        </a:lnTo>
                        <a:lnTo>
                          <a:pt x="4612"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1" y="0"/>
                        </a:lnTo>
                        <a:lnTo>
                          <a:pt x="5042" y="0"/>
                        </a:lnTo>
                        <a:lnTo>
                          <a:pt x="5070" y="0"/>
                        </a:lnTo>
                        <a:lnTo>
                          <a:pt x="5098" y="0"/>
                        </a:lnTo>
                        <a:lnTo>
                          <a:pt x="5125" y="0"/>
                        </a:lnTo>
                        <a:lnTo>
                          <a:pt x="5153" y="0"/>
                        </a:lnTo>
                        <a:lnTo>
                          <a:pt x="5181" y="0"/>
                        </a:lnTo>
                        <a:lnTo>
                          <a:pt x="5222" y="0"/>
                        </a:lnTo>
                        <a:lnTo>
                          <a:pt x="5250" y="0"/>
                        </a:lnTo>
                        <a:lnTo>
                          <a:pt x="5278" y="0"/>
                        </a:lnTo>
                        <a:lnTo>
                          <a:pt x="5305" y="0"/>
                        </a:lnTo>
                        <a:lnTo>
                          <a:pt x="5333" y="0"/>
                        </a:lnTo>
                        <a:lnTo>
                          <a:pt x="5361" y="0"/>
                        </a:lnTo>
                        <a:lnTo>
                          <a:pt x="5402" y="0"/>
                        </a:lnTo>
                        <a:lnTo>
                          <a:pt x="5430" y="0"/>
                        </a:lnTo>
                        <a:lnTo>
                          <a:pt x="5459" y="0"/>
                        </a:lnTo>
                        <a:lnTo>
                          <a:pt x="5486" y="0"/>
                        </a:lnTo>
                        <a:lnTo>
                          <a:pt x="5514" y="0"/>
                        </a:lnTo>
                        <a:lnTo>
                          <a:pt x="5542" y="0"/>
                        </a:lnTo>
                        <a:lnTo>
                          <a:pt x="5583" y="0"/>
                        </a:lnTo>
                        <a:lnTo>
                          <a:pt x="5611" y="0"/>
                        </a:lnTo>
                        <a:lnTo>
                          <a:pt x="5639" y="0"/>
                        </a:lnTo>
                        <a:lnTo>
                          <a:pt x="5666" y="0"/>
                        </a:lnTo>
                        <a:lnTo>
                          <a:pt x="5694" y="0"/>
                        </a:lnTo>
                        <a:lnTo>
                          <a:pt x="5722" y="0"/>
                        </a:lnTo>
                        <a:lnTo>
                          <a:pt x="5763" y="0"/>
                        </a:lnTo>
                        <a:lnTo>
                          <a:pt x="5791" y="0"/>
                        </a:lnTo>
                        <a:lnTo>
                          <a:pt x="5818" y="0"/>
                        </a:lnTo>
                        <a:lnTo>
                          <a:pt x="5846" y="0"/>
                        </a:lnTo>
                        <a:lnTo>
                          <a:pt x="5874" y="0"/>
                        </a:lnTo>
                        <a:lnTo>
                          <a:pt x="5901" y="0"/>
                        </a:lnTo>
                        <a:lnTo>
                          <a:pt x="5943" y="0"/>
                        </a:lnTo>
                        <a:lnTo>
                          <a:pt x="5971" y="0"/>
                        </a:lnTo>
                        <a:lnTo>
                          <a:pt x="5998" y="0"/>
                        </a:lnTo>
                        <a:lnTo>
                          <a:pt x="6026" y="0"/>
                        </a:lnTo>
                        <a:lnTo>
                          <a:pt x="6054" y="0"/>
                        </a:lnTo>
                        <a:lnTo>
                          <a:pt x="6081" y="0"/>
                        </a:lnTo>
                        <a:lnTo>
                          <a:pt x="6123" y="0"/>
                        </a:lnTo>
                        <a:lnTo>
                          <a:pt x="6150" y="0"/>
                        </a:lnTo>
                        <a:lnTo>
                          <a:pt x="6178" y="0"/>
                        </a:lnTo>
                        <a:lnTo>
                          <a:pt x="6206" y="0"/>
                        </a:lnTo>
                        <a:lnTo>
                          <a:pt x="6235" y="0"/>
                        </a:lnTo>
                        <a:lnTo>
                          <a:pt x="6276" y="0"/>
                        </a:lnTo>
                        <a:lnTo>
                          <a:pt x="6318" y="0"/>
                        </a:lnTo>
                        <a:lnTo>
                          <a:pt x="6345" y="0"/>
                        </a:lnTo>
                        <a:lnTo>
                          <a:pt x="6373" y="0"/>
                        </a:lnTo>
                        <a:lnTo>
                          <a:pt x="6401" y="0"/>
                        </a:lnTo>
                        <a:lnTo>
                          <a:pt x="6428" y="0"/>
                        </a:lnTo>
                        <a:lnTo>
                          <a:pt x="6456" y="0"/>
                        </a:lnTo>
                        <a:lnTo>
                          <a:pt x="6484" y="0"/>
                        </a:lnTo>
                        <a:lnTo>
                          <a:pt x="6525" y="0"/>
                        </a:lnTo>
                        <a:lnTo>
                          <a:pt x="6553" y="0"/>
                        </a:lnTo>
                        <a:lnTo>
                          <a:pt x="6581" y="0"/>
                        </a:lnTo>
                        <a:lnTo>
                          <a:pt x="6608" y="0"/>
                        </a:lnTo>
                        <a:lnTo>
                          <a:pt x="6636" y="0"/>
                        </a:lnTo>
                        <a:lnTo>
                          <a:pt x="6664" y="0"/>
                        </a:lnTo>
                        <a:lnTo>
                          <a:pt x="6705" y="0"/>
                        </a:lnTo>
                        <a:lnTo>
                          <a:pt x="6733" y="0"/>
                        </a:lnTo>
                        <a:lnTo>
                          <a:pt x="6760" y="0"/>
                        </a:lnTo>
                        <a:lnTo>
                          <a:pt x="6788" y="0"/>
                        </a:lnTo>
                        <a:lnTo>
                          <a:pt x="6816" y="0"/>
                        </a:lnTo>
                        <a:lnTo>
                          <a:pt x="6843" y="0"/>
                        </a:lnTo>
                        <a:lnTo>
                          <a:pt x="6885"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5207040" y="3603600"/>
                    <a:ext cx="3643200" cy="1440"/>
                  </a:xfrm>
                  <a:custGeom>
                    <a:avLst/>
                    <a:gdLst/>
                    <a:ahLst/>
                    <a:rect l="l" t="t" r="r" b="b"/>
                    <a:pathLst>
                      <a:path w="6885" h="0">
                        <a:moveTo>
                          <a:pt x="0" y="0"/>
                        </a:moveTo>
                        <a:lnTo>
                          <a:pt x="27" y="0"/>
                        </a:lnTo>
                        <a:lnTo>
                          <a:pt x="55" y="0"/>
                        </a:lnTo>
                        <a:lnTo>
                          <a:pt x="83" y="0"/>
                        </a:lnTo>
                        <a:lnTo>
                          <a:pt x="124" y="0"/>
                        </a:lnTo>
                        <a:lnTo>
                          <a:pt x="152" y="0"/>
                        </a:lnTo>
                        <a:lnTo>
                          <a:pt x="179" y="0"/>
                        </a:lnTo>
                        <a:lnTo>
                          <a:pt x="207" y="0"/>
                        </a:lnTo>
                        <a:lnTo>
                          <a:pt x="235" y="0"/>
                        </a:lnTo>
                        <a:lnTo>
                          <a:pt x="262" y="0"/>
                        </a:lnTo>
                        <a:lnTo>
                          <a:pt x="304" y="0"/>
                        </a:lnTo>
                        <a:lnTo>
                          <a:pt x="332" y="0"/>
                        </a:lnTo>
                        <a:lnTo>
                          <a:pt x="359" y="0"/>
                        </a:lnTo>
                        <a:lnTo>
                          <a:pt x="387" y="0"/>
                        </a:lnTo>
                        <a:lnTo>
                          <a:pt x="415" y="0"/>
                        </a:lnTo>
                        <a:lnTo>
                          <a:pt x="442" y="0"/>
                        </a:lnTo>
                        <a:lnTo>
                          <a:pt x="470" y="0"/>
                        </a:lnTo>
                        <a:lnTo>
                          <a:pt x="511" y="0"/>
                        </a:lnTo>
                        <a:lnTo>
                          <a:pt x="539" y="0"/>
                        </a:lnTo>
                        <a:lnTo>
                          <a:pt x="567" y="0"/>
                        </a:lnTo>
                        <a:lnTo>
                          <a:pt x="594" y="0"/>
                        </a:lnTo>
                        <a:lnTo>
                          <a:pt x="622" y="0"/>
                        </a:lnTo>
                        <a:lnTo>
                          <a:pt x="650" y="0"/>
                        </a:lnTo>
                        <a:lnTo>
                          <a:pt x="693" y="0"/>
                        </a:lnTo>
                        <a:lnTo>
                          <a:pt x="720" y="0"/>
                        </a:lnTo>
                        <a:lnTo>
                          <a:pt x="748" y="0"/>
                        </a:lnTo>
                        <a:lnTo>
                          <a:pt x="776" y="0"/>
                        </a:lnTo>
                        <a:lnTo>
                          <a:pt x="803" y="0"/>
                        </a:lnTo>
                        <a:lnTo>
                          <a:pt x="831" y="0"/>
                        </a:lnTo>
                        <a:lnTo>
                          <a:pt x="872" y="0"/>
                        </a:lnTo>
                        <a:lnTo>
                          <a:pt x="900" y="0"/>
                        </a:lnTo>
                        <a:lnTo>
                          <a:pt x="942" y="0"/>
                        </a:lnTo>
                        <a:lnTo>
                          <a:pt x="969" y="0"/>
                        </a:lnTo>
                        <a:lnTo>
                          <a:pt x="997" y="0"/>
                        </a:lnTo>
                        <a:lnTo>
                          <a:pt x="1025" y="0"/>
                        </a:lnTo>
                        <a:lnTo>
                          <a:pt x="1066" y="0"/>
                        </a:lnTo>
                        <a:lnTo>
                          <a:pt x="1094" y="0"/>
                        </a:lnTo>
                        <a:lnTo>
                          <a:pt x="1121" y="0"/>
                        </a:lnTo>
                        <a:lnTo>
                          <a:pt x="1149" y="0"/>
                        </a:lnTo>
                        <a:lnTo>
                          <a:pt x="1177" y="0"/>
                        </a:lnTo>
                        <a:lnTo>
                          <a:pt x="1204" y="0"/>
                        </a:lnTo>
                        <a:lnTo>
                          <a:pt x="1246" y="0"/>
                        </a:lnTo>
                        <a:lnTo>
                          <a:pt x="1273" y="0"/>
                        </a:lnTo>
                        <a:lnTo>
                          <a:pt x="1301" y="0"/>
                        </a:lnTo>
                        <a:lnTo>
                          <a:pt x="1329" y="0"/>
                        </a:lnTo>
                        <a:lnTo>
                          <a:pt x="1356" y="0"/>
                        </a:lnTo>
                        <a:lnTo>
                          <a:pt x="1384" y="0"/>
                        </a:lnTo>
                        <a:lnTo>
                          <a:pt x="1426" y="0"/>
                        </a:lnTo>
                        <a:lnTo>
                          <a:pt x="1455" y="0"/>
                        </a:lnTo>
                        <a:lnTo>
                          <a:pt x="1482" y="0"/>
                        </a:lnTo>
                        <a:lnTo>
                          <a:pt x="1510" y="0"/>
                        </a:lnTo>
                        <a:lnTo>
                          <a:pt x="1538" y="0"/>
                        </a:lnTo>
                        <a:lnTo>
                          <a:pt x="1565" y="0"/>
                        </a:lnTo>
                        <a:lnTo>
                          <a:pt x="1607" y="0"/>
                        </a:lnTo>
                        <a:lnTo>
                          <a:pt x="1634" y="0"/>
                        </a:lnTo>
                        <a:lnTo>
                          <a:pt x="1662" y="0"/>
                        </a:lnTo>
                        <a:lnTo>
                          <a:pt x="1690" y="0"/>
                        </a:lnTo>
                        <a:lnTo>
                          <a:pt x="1717" y="0"/>
                        </a:lnTo>
                        <a:lnTo>
                          <a:pt x="1745" y="0"/>
                        </a:lnTo>
                        <a:lnTo>
                          <a:pt x="1787" y="0"/>
                        </a:lnTo>
                        <a:lnTo>
                          <a:pt x="1814" y="0"/>
                        </a:lnTo>
                        <a:lnTo>
                          <a:pt x="1842" y="0"/>
                        </a:lnTo>
                        <a:lnTo>
                          <a:pt x="1870" y="0"/>
                        </a:lnTo>
                        <a:lnTo>
                          <a:pt x="1897" y="0"/>
                        </a:lnTo>
                        <a:lnTo>
                          <a:pt x="1925" y="0"/>
                        </a:lnTo>
                        <a:lnTo>
                          <a:pt x="1966" y="0"/>
                        </a:lnTo>
                        <a:lnTo>
                          <a:pt x="1994" y="0"/>
                        </a:lnTo>
                        <a:lnTo>
                          <a:pt x="2022" y="0"/>
                        </a:lnTo>
                        <a:lnTo>
                          <a:pt x="2049" y="0"/>
                        </a:lnTo>
                        <a:lnTo>
                          <a:pt x="2077" y="0"/>
                        </a:lnTo>
                        <a:lnTo>
                          <a:pt x="2105" y="0"/>
                        </a:lnTo>
                        <a:lnTo>
                          <a:pt x="2146" y="0"/>
                        </a:lnTo>
                        <a:lnTo>
                          <a:pt x="2174" y="0"/>
                        </a:lnTo>
                        <a:lnTo>
                          <a:pt x="2202" y="0"/>
                        </a:lnTo>
                        <a:lnTo>
                          <a:pt x="2229" y="0"/>
                        </a:lnTo>
                        <a:lnTo>
                          <a:pt x="2258" y="0"/>
                        </a:lnTo>
                        <a:lnTo>
                          <a:pt x="2286" y="0"/>
                        </a:lnTo>
                        <a:lnTo>
                          <a:pt x="2327" y="0"/>
                        </a:lnTo>
                        <a:lnTo>
                          <a:pt x="2355" y="0"/>
                        </a:lnTo>
                        <a:lnTo>
                          <a:pt x="2383" y="0"/>
                        </a:lnTo>
                        <a:lnTo>
                          <a:pt x="2410" y="0"/>
                        </a:lnTo>
                        <a:lnTo>
                          <a:pt x="2438" y="0"/>
                        </a:lnTo>
                        <a:lnTo>
                          <a:pt x="2466" y="0"/>
                        </a:lnTo>
                        <a:lnTo>
                          <a:pt x="2507" y="0"/>
                        </a:lnTo>
                        <a:lnTo>
                          <a:pt x="2535" y="0"/>
                        </a:lnTo>
                        <a:lnTo>
                          <a:pt x="2563" y="0"/>
                        </a:lnTo>
                        <a:lnTo>
                          <a:pt x="2590" y="0"/>
                        </a:lnTo>
                        <a:lnTo>
                          <a:pt x="2618" y="0"/>
                        </a:lnTo>
                        <a:lnTo>
                          <a:pt x="2646" y="0"/>
                        </a:lnTo>
                        <a:lnTo>
                          <a:pt x="2687" y="0"/>
                        </a:lnTo>
                        <a:lnTo>
                          <a:pt x="2715" y="0"/>
                        </a:lnTo>
                        <a:lnTo>
                          <a:pt x="2742" y="0"/>
                        </a:lnTo>
                        <a:lnTo>
                          <a:pt x="2770" y="0"/>
                        </a:lnTo>
                        <a:lnTo>
                          <a:pt x="2798" y="0"/>
                        </a:lnTo>
                        <a:lnTo>
                          <a:pt x="2825" y="0"/>
                        </a:lnTo>
                        <a:lnTo>
                          <a:pt x="2867" y="0"/>
                        </a:lnTo>
                        <a:lnTo>
                          <a:pt x="2895" y="0"/>
                        </a:lnTo>
                        <a:lnTo>
                          <a:pt x="2922" y="0"/>
                        </a:lnTo>
                        <a:lnTo>
                          <a:pt x="2950" y="0"/>
                        </a:lnTo>
                        <a:lnTo>
                          <a:pt x="2977" y="0"/>
                        </a:lnTo>
                        <a:lnTo>
                          <a:pt x="3005"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8" y="0"/>
                        </a:lnTo>
                        <a:lnTo>
                          <a:pt x="3435" y="0"/>
                        </a:lnTo>
                        <a:lnTo>
                          <a:pt x="3463" y="0"/>
                        </a:lnTo>
                        <a:lnTo>
                          <a:pt x="3491" y="0"/>
                        </a:lnTo>
                        <a:lnTo>
                          <a:pt x="3518" y="0"/>
                        </a:lnTo>
                        <a:lnTo>
                          <a:pt x="3546" y="0"/>
                        </a:lnTo>
                        <a:lnTo>
                          <a:pt x="3601" y="0"/>
                        </a:lnTo>
                        <a:lnTo>
                          <a:pt x="3629" y="0"/>
                        </a:lnTo>
                        <a:lnTo>
                          <a:pt x="3657" y="0"/>
                        </a:lnTo>
                        <a:lnTo>
                          <a:pt x="3684" y="0"/>
                        </a:lnTo>
                        <a:lnTo>
                          <a:pt x="3712" y="0"/>
                        </a:lnTo>
                        <a:lnTo>
                          <a:pt x="3740" y="0"/>
                        </a:lnTo>
                        <a:lnTo>
                          <a:pt x="3781" y="0"/>
                        </a:lnTo>
                        <a:lnTo>
                          <a:pt x="3809" y="0"/>
                        </a:lnTo>
                        <a:lnTo>
                          <a:pt x="3836" y="0"/>
                        </a:lnTo>
                        <a:lnTo>
                          <a:pt x="3865" y="0"/>
                        </a:lnTo>
                        <a:lnTo>
                          <a:pt x="3893" y="0"/>
                        </a:lnTo>
                        <a:lnTo>
                          <a:pt x="3921" y="0"/>
                        </a:lnTo>
                        <a:lnTo>
                          <a:pt x="3962" y="0"/>
                        </a:lnTo>
                        <a:lnTo>
                          <a:pt x="3990" y="0"/>
                        </a:lnTo>
                        <a:lnTo>
                          <a:pt x="4018" y="0"/>
                        </a:lnTo>
                        <a:lnTo>
                          <a:pt x="4045" y="0"/>
                        </a:lnTo>
                        <a:lnTo>
                          <a:pt x="4073" y="0"/>
                        </a:lnTo>
                        <a:lnTo>
                          <a:pt x="4101" y="0"/>
                        </a:lnTo>
                        <a:lnTo>
                          <a:pt x="4142" y="0"/>
                        </a:lnTo>
                        <a:lnTo>
                          <a:pt x="4170" y="0"/>
                        </a:lnTo>
                        <a:lnTo>
                          <a:pt x="4197" y="0"/>
                        </a:lnTo>
                        <a:lnTo>
                          <a:pt x="4225" y="0"/>
                        </a:lnTo>
                        <a:lnTo>
                          <a:pt x="4253" y="0"/>
                        </a:lnTo>
                        <a:lnTo>
                          <a:pt x="4280" y="0"/>
                        </a:lnTo>
                        <a:lnTo>
                          <a:pt x="4322" y="0"/>
                        </a:lnTo>
                        <a:lnTo>
                          <a:pt x="4350" y="0"/>
                        </a:lnTo>
                        <a:lnTo>
                          <a:pt x="4377" y="0"/>
                        </a:lnTo>
                        <a:lnTo>
                          <a:pt x="4405" y="0"/>
                        </a:lnTo>
                        <a:lnTo>
                          <a:pt x="4433" y="0"/>
                        </a:lnTo>
                        <a:lnTo>
                          <a:pt x="4460" y="0"/>
                        </a:lnTo>
                        <a:lnTo>
                          <a:pt x="4502" y="0"/>
                        </a:lnTo>
                        <a:lnTo>
                          <a:pt x="4529" y="0"/>
                        </a:lnTo>
                        <a:lnTo>
                          <a:pt x="4557" y="0"/>
                        </a:lnTo>
                        <a:lnTo>
                          <a:pt x="4585" y="0"/>
                        </a:lnTo>
                        <a:lnTo>
                          <a:pt x="4612"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1" y="0"/>
                        </a:lnTo>
                        <a:lnTo>
                          <a:pt x="5042" y="0"/>
                        </a:lnTo>
                        <a:lnTo>
                          <a:pt x="5070" y="0"/>
                        </a:lnTo>
                        <a:lnTo>
                          <a:pt x="5098" y="0"/>
                        </a:lnTo>
                        <a:lnTo>
                          <a:pt x="5125" y="0"/>
                        </a:lnTo>
                        <a:lnTo>
                          <a:pt x="5153" y="0"/>
                        </a:lnTo>
                        <a:lnTo>
                          <a:pt x="5181" y="0"/>
                        </a:lnTo>
                        <a:lnTo>
                          <a:pt x="5222" y="0"/>
                        </a:lnTo>
                        <a:lnTo>
                          <a:pt x="5250" y="0"/>
                        </a:lnTo>
                        <a:lnTo>
                          <a:pt x="5278" y="0"/>
                        </a:lnTo>
                        <a:lnTo>
                          <a:pt x="5305" y="0"/>
                        </a:lnTo>
                        <a:lnTo>
                          <a:pt x="5333" y="0"/>
                        </a:lnTo>
                        <a:lnTo>
                          <a:pt x="5361" y="0"/>
                        </a:lnTo>
                        <a:lnTo>
                          <a:pt x="5402" y="0"/>
                        </a:lnTo>
                        <a:lnTo>
                          <a:pt x="5430" y="0"/>
                        </a:lnTo>
                        <a:lnTo>
                          <a:pt x="5459" y="0"/>
                        </a:lnTo>
                        <a:lnTo>
                          <a:pt x="5486" y="0"/>
                        </a:lnTo>
                        <a:lnTo>
                          <a:pt x="5514" y="0"/>
                        </a:lnTo>
                        <a:lnTo>
                          <a:pt x="5542" y="0"/>
                        </a:lnTo>
                        <a:lnTo>
                          <a:pt x="5583" y="0"/>
                        </a:lnTo>
                        <a:lnTo>
                          <a:pt x="5611" y="0"/>
                        </a:lnTo>
                        <a:lnTo>
                          <a:pt x="5639" y="0"/>
                        </a:lnTo>
                        <a:lnTo>
                          <a:pt x="5666" y="0"/>
                        </a:lnTo>
                        <a:lnTo>
                          <a:pt x="5694" y="0"/>
                        </a:lnTo>
                        <a:lnTo>
                          <a:pt x="5722" y="0"/>
                        </a:lnTo>
                        <a:lnTo>
                          <a:pt x="5763" y="0"/>
                        </a:lnTo>
                        <a:lnTo>
                          <a:pt x="5791" y="0"/>
                        </a:lnTo>
                        <a:lnTo>
                          <a:pt x="5818" y="0"/>
                        </a:lnTo>
                        <a:lnTo>
                          <a:pt x="5846" y="0"/>
                        </a:lnTo>
                        <a:lnTo>
                          <a:pt x="5874" y="0"/>
                        </a:lnTo>
                        <a:lnTo>
                          <a:pt x="5901" y="0"/>
                        </a:lnTo>
                        <a:lnTo>
                          <a:pt x="5943" y="0"/>
                        </a:lnTo>
                        <a:lnTo>
                          <a:pt x="5971" y="0"/>
                        </a:lnTo>
                        <a:lnTo>
                          <a:pt x="5998" y="0"/>
                        </a:lnTo>
                        <a:lnTo>
                          <a:pt x="6026" y="0"/>
                        </a:lnTo>
                        <a:lnTo>
                          <a:pt x="6054" y="0"/>
                        </a:lnTo>
                        <a:lnTo>
                          <a:pt x="6081" y="0"/>
                        </a:lnTo>
                        <a:lnTo>
                          <a:pt x="6123" y="0"/>
                        </a:lnTo>
                        <a:lnTo>
                          <a:pt x="6150" y="0"/>
                        </a:lnTo>
                        <a:lnTo>
                          <a:pt x="6178" y="0"/>
                        </a:lnTo>
                        <a:lnTo>
                          <a:pt x="6206" y="0"/>
                        </a:lnTo>
                        <a:lnTo>
                          <a:pt x="6235" y="0"/>
                        </a:lnTo>
                        <a:lnTo>
                          <a:pt x="6276" y="0"/>
                        </a:lnTo>
                        <a:lnTo>
                          <a:pt x="6318" y="0"/>
                        </a:lnTo>
                        <a:lnTo>
                          <a:pt x="6345" y="0"/>
                        </a:lnTo>
                        <a:lnTo>
                          <a:pt x="6373" y="0"/>
                        </a:lnTo>
                        <a:lnTo>
                          <a:pt x="6401" y="0"/>
                        </a:lnTo>
                        <a:lnTo>
                          <a:pt x="6428" y="0"/>
                        </a:lnTo>
                        <a:lnTo>
                          <a:pt x="6456" y="0"/>
                        </a:lnTo>
                        <a:lnTo>
                          <a:pt x="6484" y="0"/>
                        </a:lnTo>
                        <a:lnTo>
                          <a:pt x="6525" y="0"/>
                        </a:lnTo>
                        <a:lnTo>
                          <a:pt x="6553" y="0"/>
                        </a:lnTo>
                        <a:lnTo>
                          <a:pt x="6581" y="0"/>
                        </a:lnTo>
                        <a:lnTo>
                          <a:pt x="6608" y="0"/>
                        </a:lnTo>
                        <a:lnTo>
                          <a:pt x="6636" y="0"/>
                        </a:lnTo>
                        <a:lnTo>
                          <a:pt x="6664" y="0"/>
                        </a:lnTo>
                        <a:lnTo>
                          <a:pt x="6705" y="0"/>
                        </a:lnTo>
                        <a:lnTo>
                          <a:pt x="6733" y="0"/>
                        </a:lnTo>
                        <a:lnTo>
                          <a:pt x="6760" y="0"/>
                        </a:lnTo>
                        <a:lnTo>
                          <a:pt x="6788" y="0"/>
                        </a:lnTo>
                        <a:lnTo>
                          <a:pt x="6816" y="0"/>
                        </a:lnTo>
                        <a:lnTo>
                          <a:pt x="6843" y="0"/>
                        </a:lnTo>
                        <a:lnTo>
                          <a:pt x="688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92" name=""/>
                <p:cNvGrpSpPr/>
                <p:nvPr/>
              </p:nvGrpSpPr>
              <p:grpSpPr>
                <a:xfrm>
                  <a:off x="5073480" y="3386160"/>
                  <a:ext cx="3900600" cy="1440"/>
                  <a:chOff x="5073480" y="3386160"/>
                  <a:chExt cx="3900600" cy="1440"/>
                </a:xfrm>
              </p:grpSpPr>
              <p:sp>
                <p:nvSpPr>
                  <p:cNvPr id="1493" name=""/>
                  <p:cNvSpPr/>
                  <p:nvPr/>
                </p:nvSpPr>
                <p:spPr>
                  <a:xfrm>
                    <a:off x="5073480" y="3386160"/>
                    <a:ext cx="3900600" cy="1440"/>
                  </a:xfrm>
                  <a:custGeom>
                    <a:avLst/>
                    <a:gdLst/>
                    <a:ahLst/>
                    <a:rect l="l" t="t" r="r" b="b"/>
                    <a:pathLst>
                      <a:path w="7372" h="0">
                        <a:moveTo>
                          <a:pt x="0" y="0"/>
                        </a:moveTo>
                        <a:lnTo>
                          <a:pt x="28" y="0"/>
                        </a:lnTo>
                        <a:lnTo>
                          <a:pt x="69" y="0"/>
                        </a:lnTo>
                        <a:lnTo>
                          <a:pt x="97" y="0"/>
                        </a:lnTo>
                        <a:lnTo>
                          <a:pt x="126" y="0"/>
                        </a:lnTo>
                        <a:lnTo>
                          <a:pt x="154" y="0"/>
                        </a:lnTo>
                        <a:lnTo>
                          <a:pt x="181" y="0"/>
                        </a:lnTo>
                        <a:lnTo>
                          <a:pt x="209" y="0"/>
                        </a:lnTo>
                        <a:lnTo>
                          <a:pt x="251" y="0"/>
                        </a:lnTo>
                        <a:lnTo>
                          <a:pt x="278" y="0"/>
                        </a:lnTo>
                        <a:lnTo>
                          <a:pt x="306" y="0"/>
                        </a:lnTo>
                        <a:lnTo>
                          <a:pt x="334" y="0"/>
                        </a:lnTo>
                        <a:lnTo>
                          <a:pt x="361" y="0"/>
                        </a:lnTo>
                        <a:lnTo>
                          <a:pt x="389" y="0"/>
                        </a:lnTo>
                        <a:lnTo>
                          <a:pt x="430" y="0"/>
                        </a:lnTo>
                        <a:lnTo>
                          <a:pt x="458" y="0"/>
                        </a:lnTo>
                        <a:lnTo>
                          <a:pt x="486" y="0"/>
                        </a:lnTo>
                        <a:lnTo>
                          <a:pt x="513" y="0"/>
                        </a:lnTo>
                        <a:lnTo>
                          <a:pt x="541" y="0"/>
                        </a:lnTo>
                        <a:lnTo>
                          <a:pt x="569" y="0"/>
                        </a:lnTo>
                        <a:lnTo>
                          <a:pt x="610" y="0"/>
                        </a:lnTo>
                        <a:lnTo>
                          <a:pt x="638" y="0"/>
                        </a:lnTo>
                        <a:lnTo>
                          <a:pt x="666" y="0"/>
                        </a:lnTo>
                        <a:lnTo>
                          <a:pt x="693" y="0"/>
                        </a:lnTo>
                        <a:lnTo>
                          <a:pt x="721" y="0"/>
                        </a:lnTo>
                        <a:lnTo>
                          <a:pt x="749" y="0"/>
                        </a:lnTo>
                        <a:lnTo>
                          <a:pt x="790" y="0"/>
                        </a:lnTo>
                        <a:lnTo>
                          <a:pt x="818" y="0"/>
                        </a:lnTo>
                        <a:lnTo>
                          <a:pt x="845" y="0"/>
                        </a:lnTo>
                        <a:lnTo>
                          <a:pt x="873" y="0"/>
                        </a:lnTo>
                        <a:lnTo>
                          <a:pt x="901" y="0"/>
                        </a:lnTo>
                        <a:lnTo>
                          <a:pt x="930" y="0"/>
                        </a:lnTo>
                        <a:lnTo>
                          <a:pt x="971" y="0"/>
                        </a:lnTo>
                        <a:lnTo>
                          <a:pt x="999" y="0"/>
                        </a:lnTo>
                        <a:lnTo>
                          <a:pt x="1027" y="0"/>
                        </a:lnTo>
                        <a:lnTo>
                          <a:pt x="1054" y="0"/>
                        </a:lnTo>
                        <a:lnTo>
                          <a:pt x="1082" y="0"/>
                        </a:lnTo>
                        <a:lnTo>
                          <a:pt x="1110" y="0"/>
                        </a:lnTo>
                        <a:lnTo>
                          <a:pt x="1151" y="0"/>
                        </a:lnTo>
                        <a:lnTo>
                          <a:pt x="1193" y="0"/>
                        </a:lnTo>
                        <a:lnTo>
                          <a:pt x="1220" y="0"/>
                        </a:lnTo>
                        <a:lnTo>
                          <a:pt x="1248" y="0"/>
                        </a:lnTo>
                        <a:lnTo>
                          <a:pt x="1276" y="0"/>
                        </a:lnTo>
                        <a:lnTo>
                          <a:pt x="1303" y="0"/>
                        </a:lnTo>
                        <a:lnTo>
                          <a:pt x="1345" y="0"/>
                        </a:lnTo>
                        <a:lnTo>
                          <a:pt x="1372" y="0"/>
                        </a:lnTo>
                        <a:lnTo>
                          <a:pt x="1400" y="0"/>
                        </a:lnTo>
                        <a:lnTo>
                          <a:pt x="1428" y="0"/>
                        </a:lnTo>
                        <a:lnTo>
                          <a:pt x="1455" y="0"/>
                        </a:lnTo>
                        <a:lnTo>
                          <a:pt x="1483" y="0"/>
                        </a:lnTo>
                        <a:lnTo>
                          <a:pt x="1524" y="0"/>
                        </a:lnTo>
                        <a:lnTo>
                          <a:pt x="1552" y="0"/>
                        </a:lnTo>
                        <a:lnTo>
                          <a:pt x="1580" y="0"/>
                        </a:lnTo>
                        <a:lnTo>
                          <a:pt x="1607" y="0"/>
                        </a:lnTo>
                        <a:lnTo>
                          <a:pt x="1635" y="0"/>
                        </a:lnTo>
                        <a:lnTo>
                          <a:pt x="1677" y="0"/>
                        </a:lnTo>
                        <a:lnTo>
                          <a:pt x="1706" y="0"/>
                        </a:lnTo>
                        <a:lnTo>
                          <a:pt x="1733" y="0"/>
                        </a:lnTo>
                        <a:lnTo>
                          <a:pt x="1761" y="0"/>
                        </a:lnTo>
                        <a:lnTo>
                          <a:pt x="1789" y="0"/>
                        </a:lnTo>
                        <a:lnTo>
                          <a:pt x="1816" y="0"/>
                        </a:lnTo>
                        <a:lnTo>
                          <a:pt x="1858" y="0"/>
                        </a:lnTo>
                        <a:lnTo>
                          <a:pt x="1885" y="0"/>
                        </a:lnTo>
                        <a:lnTo>
                          <a:pt x="1913" y="0"/>
                        </a:lnTo>
                        <a:lnTo>
                          <a:pt x="1941" y="0"/>
                        </a:lnTo>
                        <a:lnTo>
                          <a:pt x="1968" y="0"/>
                        </a:lnTo>
                        <a:lnTo>
                          <a:pt x="1996" y="0"/>
                        </a:lnTo>
                        <a:lnTo>
                          <a:pt x="2038" y="0"/>
                        </a:lnTo>
                        <a:lnTo>
                          <a:pt x="2065" y="0"/>
                        </a:lnTo>
                        <a:lnTo>
                          <a:pt x="2093" y="0"/>
                        </a:lnTo>
                        <a:lnTo>
                          <a:pt x="2121" y="0"/>
                        </a:lnTo>
                        <a:lnTo>
                          <a:pt x="2148" y="0"/>
                        </a:lnTo>
                        <a:lnTo>
                          <a:pt x="2176" y="0"/>
                        </a:lnTo>
                        <a:lnTo>
                          <a:pt x="2217" y="0"/>
                        </a:lnTo>
                        <a:lnTo>
                          <a:pt x="2245" y="0"/>
                        </a:lnTo>
                        <a:lnTo>
                          <a:pt x="2273" y="0"/>
                        </a:lnTo>
                        <a:lnTo>
                          <a:pt x="2300" y="0"/>
                        </a:lnTo>
                        <a:lnTo>
                          <a:pt x="2328" y="0"/>
                        </a:lnTo>
                        <a:lnTo>
                          <a:pt x="2356" y="0"/>
                        </a:lnTo>
                        <a:lnTo>
                          <a:pt x="2397" y="0"/>
                        </a:lnTo>
                        <a:lnTo>
                          <a:pt x="2425" y="0"/>
                        </a:lnTo>
                        <a:lnTo>
                          <a:pt x="2453" y="0"/>
                        </a:lnTo>
                        <a:lnTo>
                          <a:pt x="2480" y="0"/>
                        </a:lnTo>
                        <a:lnTo>
                          <a:pt x="2509" y="0"/>
                        </a:lnTo>
                        <a:lnTo>
                          <a:pt x="2537" y="0"/>
                        </a:lnTo>
                        <a:lnTo>
                          <a:pt x="2578" y="0"/>
                        </a:lnTo>
                        <a:lnTo>
                          <a:pt x="2606" y="0"/>
                        </a:lnTo>
                        <a:lnTo>
                          <a:pt x="2634" y="0"/>
                        </a:lnTo>
                        <a:lnTo>
                          <a:pt x="2661" y="0"/>
                        </a:lnTo>
                        <a:lnTo>
                          <a:pt x="2689" y="0"/>
                        </a:lnTo>
                        <a:lnTo>
                          <a:pt x="2717" y="0"/>
                        </a:lnTo>
                        <a:lnTo>
                          <a:pt x="2758" y="0"/>
                        </a:lnTo>
                        <a:lnTo>
                          <a:pt x="2786" y="0"/>
                        </a:lnTo>
                        <a:lnTo>
                          <a:pt x="2814" y="0"/>
                        </a:lnTo>
                        <a:lnTo>
                          <a:pt x="2841" y="0"/>
                        </a:lnTo>
                        <a:lnTo>
                          <a:pt x="2869" y="0"/>
                        </a:lnTo>
                        <a:lnTo>
                          <a:pt x="2897" y="0"/>
                        </a:lnTo>
                        <a:lnTo>
                          <a:pt x="2938" y="0"/>
                        </a:lnTo>
                        <a:lnTo>
                          <a:pt x="2966" y="0"/>
                        </a:lnTo>
                        <a:lnTo>
                          <a:pt x="2993" y="0"/>
                        </a:lnTo>
                        <a:lnTo>
                          <a:pt x="3021" y="0"/>
                        </a:lnTo>
                        <a:lnTo>
                          <a:pt x="3049" y="0"/>
                        </a:lnTo>
                        <a:lnTo>
                          <a:pt x="3076" y="0"/>
                        </a:lnTo>
                        <a:lnTo>
                          <a:pt x="3118" y="0"/>
                        </a:lnTo>
                        <a:lnTo>
                          <a:pt x="3146" y="0"/>
                        </a:lnTo>
                        <a:lnTo>
                          <a:pt x="3173" y="0"/>
                        </a:lnTo>
                        <a:lnTo>
                          <a:pt x="3201" y="0"/>
                        </a:lnTo>
                        <a:lnTo>
                          <a:pt x="3228" y="0"/>
                        </a:lnTo>
                        <a:lnTo>
                          <a:pt x="3256" y="0"/>
                        </a:lnTo>
                        <a:lnTo>
                          <a:pt x="3299" y="0"/>
                        </a:lnTo>
                        <a:lnTo>
                          <a:pt x="3327" y="0"/>
                        </a:lnTo>
                        <a:lnTo>
                          <a:pt x="3354" y="0"/>
                        </a:lnTo>
                        <a:lnTo>
                          <a:pt x="3382" y="0"/>
                        </a:lnTo>
                        <a:lnTo>
                          <a:pt x="3410" y="0"/>
                        </a:lnTo>
                        <a:lnTo>
                          <a:pt x="3437" y="0"/>
                        </a:lnTo>
                        <a:lnTo>
                          <a:pt x="3479" y="0"/>
                        </a:lnTo>
                        <a:lnTo>
                          <a:pt x="3507" y="0"/>
                        </a:lnTo>
                        <a:lnTo>
                          <a:pt x="3534" y="0"/>
                        </a:lnTo>
                        <a:lnTo>
                          <a:pt x="3562" y="0"/>
                        </a:lnTo>
                        <a:lnTo>
                          <a:pt x="3589" y="0"/>
                        </a:lnTo>
                        <a:lnTo>
                          <a:pt x="3617" y="0"/>
                        </a:lnTo>
                        <a:lnTo>
                          <a:pt x="3659" y="0"/>
                        </a:lnTo>
                        <a:lnTo>
                          <a:pt x="3686" y="0"/>
                        </a:lnTo>
                        <a:lnTo>
                          <a:pt x="3714" y="0"/>
                        </a:lnTo>
                        <a:lnTo>
                          <a:pt x="3742" y="0"/>
                        </a:lnTo>
                        <a:lnTo>
                          <a:pt x="3769" y="0"/>
                        </a:lnTo>
                        <a:lnTo>
                          <a:pt x="3797" y="0"/>
                        </a:lnTo>
                        <a:lnTo>
                          <a:pt x="3852" y="0"/>
                        </a:lnTo>
                        <a:lnTo>
                          <a:pt x="3880" y="0"/>
                        </a:lnTo>
                        <a:lnTo>
                          <a:pt x="3908" y="0"/>
                        </a:lnTo>
                        <a:lnTo>
                          <a:pt x="3935" y="0"/>
                        </a:lnTo>
                        <a:lnTo>
                          <a:pt x="3963" y="0"/>
                        </a:lnTo>
                        <a:lnTo>
                          <a:pt x="3991" y="0"/>
                        </a:lnTo>
                        <a:lnTo>
                          <a:pt x="4032" y="0"/>
                        </a:lnTo>
                        <a:lnTo>
                          <a:pt x="4060" y="0"/>
                        </a:lnTo>
                        <a:lnTo>
                          <a:pt x="4087" y="0"/>
                        </a:lnTo>
                        <a:lnTo>
                          <a:pt x="4116" y="0"/>
                        </a:lnTo>
                        <a:lnTo>
                          <a:pt x="4144" y="0"/>
                        </a:lnTo>
                        <a:lnTo>
                          <a:pt x="4172" y="0"/>
                        </a:lnTo>
                        <a:lnTo>
                          <a:pt x="4213" y="0"/>
                        </a:lnTo>
                        <a:lnTo>
                          <a:pt x="4241" y="0"/>
                        </a:lnTo>
                        <a:lnTo>
                          <a:pt x="4269" y="0"/>
                        </a:lnTo>
                        <a:lnTo>
                          <a:pt x="4296" y="0"/>
                        </a:lnTo>
                        <a:lnTo>
                          <a:pt x="4324" y="0"/>
                        </a:lnTo>
                        <a:lnTo>
                          <a:pt x="4352" y="0"/>
                        </a:lnTo>
                        <a:lnTo>
                          <a:pt x="4393" y="0"/>
                        </a:lnTo>
                        <a:lnTo>
                          <a:pt x="4421" y="0"/>
                        </a:lnTo>
                        <a:lnTo>
                          <a:pt x="4448" y="0"/>
                        </a:lnTo>
                        <a:lnTo>
                          <a:pt x="4476" y="0"/>
                        </a:lnTo>
                        <a:lnTo>
                          <a:pt x="4504" y="0"/>
                        </a:lnTo>
                        <a:lnTo>
                          <a:pt x="4531" y="0"/>
                        </a:lnTo>
                        <a:lnTo>
                          <a:pt x="4573" y="0"/>
                        </a:lnTo>
                        <a:lnTo>
                          <a:pt x="4601" y="0"/>
                        </a:lnTo>
                        <a:lnTo>
                          <a:pt x="4628" y="0"/>
                        </a:lnTo>
                        <a:lnTo>
                          <a:pt x="4656" y="0"/>
                        </a:lnTo>
                        <a:lnTo>
                          <a:pt x="4684" y="0"/>
                        </a:lnTo>
                        <a:lnTo>
                          <a:pt x="4711" y="0"/>
                        </a:lnTo>
                        <a:lnTo>
                          <a:pt x="4753" y="0"/>
                        </a:lnTo>
                        <a:lnTo>
                          <a:pt x="4780" y="0"/>
                        </a:lnTo>
                        <a:lnTo>
                          <a:pt x="4808" y="0"/>
                        </a:lnTo>
                        <a:lnTo>
                          <a:pt x="4836" y="0"/>
                        </a:lnTo>
                        <a:lnTo>
                          <a:pt x="4863" y="0"/>
                        </a:lnTo>
                        <a:lnTo>
                          <a:pt x="4892" y="0"/>
                        </a:lnTo>
                        <a:lnTo>
                          <a:pt x="4934" y="0"/>
                        </a:lnTo>
                        <a:lnTo>
                          <a:pt x="4962" y="0"/>
                        </a:lnTo>
                        <a:lnTo>
                          <a:pt x="4989" y="0"/>
                        </a:lnTo>
                        <a:lnTo>
                          <a:pt x="5017" y="0"/>
                        </a:lnTo>
                        <a:lnTo>
                          <a:pt x="5045" y="0"/>
                        </a:lnTo>
                        <a:lnTo>
                          <a:pt x="5072" y="0"/>
                        </a:lnTo>
                        <a:lnTo>
                          <a:pt x="5114" y="0"/>
                        </a:lnTo>
                        <a:lnTo>
                          <a:pt x="5141" y="0"/>
                        </a:lnTo>
                        <a:lnTo>
                          <a:pt x="5169" y="0"/>
                        </a:lnTo>
                        <a:lnTo>
                          <a:pt x="5197" y="0"/>
                        </a:lnTo>
                        <a:lnTo>
                          <a:pt x="5224" y="0"/>
                        </a:lnTo>
                        <a:lnTo>
                          <a:pt x="5252" y="0"/>
                        </a:lnTo>
                        <a:lnTo>
                          <a:pt x="5293" y="0"/>
                        </a:lnTo>
                        <a:lnTo>
                          <a:pt x="5321" y="0"/>
                        </a:lnTo>
                        <a:lnTo>
                          <a:pt x="5349" y="0"/>
                        </a:lnTo>
                        <a:lnTo>
                          <a:pt x="5376" y="0"/>
                        </a:lnTo>
                        <a:lnTo>
                          <a:pt x="5404" y="0"/>
                        </a:lnTo>
                        <a:lnTo>
                          <a:pt x="5432" y="0"/>
                        </a:lnTo>
                        <a:lnTo>
                          <a:pt x="5473" y="0"/>
                        </a:lnTo>
                        <a:lnTo>
                          <a:pt x="5501" y="0"/>
                        </a:lnTo>
                        <a:lnTo>
                          <a:pt x="5529" y="0"/>
                        </a:lnTo>
                        <a:lnTo>
                          <a:pt x="5556" y="0"/>
                        </a:lnTo>
                        <a:lnTo>
                          <a:pt x="5584" y="0"/>
                        </a:lnTo>
                        <a:lnTo>
                          <a:pt x="5612" y="0"/>
                        </a:lnTo>
                        <a:lnTo>
                          <a:pt x="5653" y="0"/>
                        </a:lnTo>
                        <a:lnTo>
                          <a:pt x="5681" y="0"/>
                        </a:lnTo>
                        <a:lnTo>
                          <a:pt x="5710" y="0"/>
                        </a:lnTo>
                        <a:lnTo>
                          <a:pt x="5737" y="0"/>
                        </a:lnTo>
                        <a:lnTo>
                          <a:pt x="5765" y="0"/>
                        </a:lnTo>
                        <a:lnTo>
                          <a:pt x="5807" y="0"/>
                        </a:lnTo>
                        <a:lnTo>
                          <a:pt x="5834" y="0"/>
                        </a:lnTo>
                        <a:lnTo>
                          <a:pt x="5862" y="0"/>
                        </a:lnTo>
                        <a:lnTo>
                          <a:pt x="5890" y="0"/>
                        </a:lnTo>
                        <a:lnTo>
                          <a:pt x="5917" y="0"/>
                        </a:lnTo>
                        <a:lnTo>
                          <a:pt x="5945" y="0"/>
                        </a:lnTo>
                        <a:lnTo>
                          <a:pt x="5986" y="0"/>
                        </a:lnTo>
                        <a:lnTo>
                          <a:pt x="6014" y="0"/>
                        </a:lnTo>
                        <a:lnTo>
                          <a:pt x="6042" y="0"/>
                        </a:lnTo>
                        <a:lnTo>
                          <a:pt x="6069" y="0"/>
                        </a:lnTo>
                        <a:lnTo>
                          <a:pt x="6097" y="0"/>
                        </a:lnTo>
                        <a:lnTo>
                          <a:pt x="6125" y="0"/>
                        </a:lnTo>
                        <a:lnTo>
                          <a:pt x="6166" y="0"/>
                        </a:lnTo>
                        <a:lnTo>
                          <a:pt x="6194" y="0"/>
                        </a:lnTo>
                        <a:lnTo>
                          <a:pt x="6222" y="0"/>
                        </a:lnTo>
                        <a:lnTo>
                          <a:pt x="6249" y="0"/>
                        </a:lnTo>
                        <a:lnTo>
                          <a:pt x="6277" y="0"/>
                        </a:lnTo>
                        <a:lnTo>
                          <a:pt x="6305" y="0"/>
                        </a:lnTo>
                        <a:lnTo>
                          <a:pt x="6346" y="0"/>
                        </a:lnTo>
                        <a:lnTo>
                          <a:pt x="6374" y="0"/>
                        </a:lnTo>
                        <a:lnTo>
                          <a:pt x="6401" y="0"/>
                        </a:lnTo>
                        <a:lnTo>
                          <a:pt x="6429" y="0"/>
                        </a:lnTo>
                        <a:lnTo>
                          <a:pt x="6457" y="0"/>
                        </a:lnTo>
                        <a:lnTo>
                          <a:pt x="6486" y="0"/>
                        </a:lnTo>
                        <a:lnTo>
                          <a:pt x="6541" y="0"/>
                        </a:lnTo>
                        <a:lnTo>
                          <a:pt x="6569" y="0"/>
                        </a:lnTo>
                        <a:lnTo>
                          <a:pt x="6596" y="0"/>
                        </a:lnTo>
                        <a:lnTo>
                          <a:pt x="6624" y="0"/>
                        </a:lnTo>
                        <a:lnTo>
                          <a:pt x="6652" y="0"/>
                        </a:lnTo>
                        <a:lnTo>
                          <a:pt x="6679" y="0"/>
                        </a:lnTo>
                        <a:lnTo>
                          <a:pt x="6721" y="0"/>
                        </a:lnTo>
                        <a:lnTo>
                          <a:pt x="6749" y="0"/>
                        </a:lnTo>
                        <a:lnTo>
                          <a:pt x="6776" y="0"/>
                        </a:lnTo>
                        <a:lnTo>
                          <a:pt x="6804" y="0"/>
                        </a:lnTo>
                        <a:lnTo>
                          <a:pt x="6832" y="0"/>
                        </a:lnTo>
                        <a:lnTo>
                          <a:pt x="6859" y="0"/>
                        </a:lnTo>
                        <a:lnTo>
                          <a:pt x="6901" y="0"/>
                        </a:lnTo>
                        <a:lnTo>
                          <a:pt x="6928" y="0"/>
                        </a:lnTo>
                        <a:lnTo>
                          <a:pt x="6956" y="0"/>
                        </a:lnTo>
                        <a:lnTo>
                          <a:pt x="6984" y="0"/>
                        </a:lnTo>
                        <a:lnTo>
                          <a:pt x="7011" y="0"/>
                        </a:lnTo>
                        <a:lnTo>
                          <a:pt x="7039" y="0"/>
                        </a:lnTo>
                        <a:lnTo>
                          <a:pt x="7080" y="0"/>
                        </a:lnTo>
                        <a:lnTo>
                          <a:pt x="7108" y="0"/>
                        </a:lnTo>
                        <a:lnTo>
                          <a:pt x="7136" y="0"/>
                        </a:lnTo>
                        <a:lnTo>
                          <a:pt x="7163" y="0"/>
                        </a:lnTo>
                        <a:lnTo>
                          <a:pt x="7191" y="0"/>
                        </a:lnTo>
                        <a:lnTo>
                          <a:pt x="7219" y="0"/>
                        </a:lnTo>
                        <a:lnTo>
                          <a:pt x="7260" y="0"/>
                        </a:lnTo>
                        <a:lnTo>
                          <a:pt x="7289" y="0"/>
                        </a:lnTo>
                        <a:lnTo>
                          <a:pt x="7317" y="0"/>
                        </a:lnTo>
                        <a:lnTo>
                          <a:pt x="7345" y="0"/>
                        </a:lnTo>
                        <a:lnTo>
                          <a:pt x="7372"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5073480" y="3386160"/>
                    <a:ext cx="3900600" cy="1440"/>
                  </a:xfrm>
                  <a:custGeom>
                    <a:avLst/>
                    <a:gdLst/>
                    <a:ahLst/>
                    <a:rect l="l" t="t" r="r" b="b"/>
                    <a:pathLst>
                      <a:path w="7372" h="0">
                        <a:moveTo>
                          <a:pt x="0" y="0"/>
                        </a:moveTo>
                        <a:lnTo>
                          <a:pt x="28" y="0"/>
                        </a:lnTo>
                        <a:lnTo>
                          <a:pt x="69" y="0"/>
                        </a:lnTo>
                        <a:lnTo>
                          <a:pt x="97" y="0"/>
                        </a:lnTo>
                        <a:lnTo>
                          <a:pt x="126" y="0"/>
                        </a:lnTo>
                        <a:lnTo>
                          <a:pt x="154" y="0"/>
                        </a:lnTo>
                        <a:lnTo>
                          <a:pt x="181" y="0"/>
                        </a:lnTo>
                        <a:lnTo>
                          <a:pt x="209" y="0"/>
                        </a:lnTo>
                        <a:lnTo>
                          <a:pt x="251" y="0"/>
                        </a:lnTo>
                        <a:lnTo>
                          <a:pt x="278" y="0"/>
                        </a:lnTo>
                        <a:lnTo>
                          <a:pt x="306" y="0"/>
                        </a:lnTo>
                        <a:lnTo>
                          <a:pt x="334" y="0"/>
                        </a:lnTo>
                        <a:lnTo>
                          <a:pt x="361" y="0"/>
                        </a:lnTo>
                        <a:lnTo>
                          <a:pt x="389" y="0"/>
                        </a:lnTo>
                        <a:lnTo>
                          <a:pt x="430" y="0"/>
                        </a:lnTo>
                        <a:lnTo>
                          <a:pt x="458" y="0"/>
                        </a:lnTo>
                        <a:lnTo>
                          <a:pt x="486" y="0"/>
                        </a:lnTo>
                        <a:lnTo>
                          <a:pt x="513" y="0"/>
                        </a:lnTo>
                        <a:lnTo>
                          <a:pt x="541" y="0"/>
                        </a:lnTo>
                        <a:lnTo>
                          <a:pt x="569" y="0"/>
                        </a:lnTo>
                        <a:lnTo>
                          <a:pt x="610" y="0"/>
                        </a:lnTo>
                        <a:lnTo>
                          <a:pt x="638" y="0"/>
                        </a:lnTo>
                        <a:lnTo>
                          <a:pt x="666" y="0"/>
                        </a:lnTo>
                        <a:lnTo>
                          <a:pt x="693" y="0"/>
                        </a:lnTo>
                        <a:lnTo>
                          <a:pt x="721" y="0"/>
                        </a:lnTo>
                        <a:lnTo>
                          <a:pt x="749" y="0"/>
                        </a:lnTo>
                        <a:lnTo>
                          <a:pt x="790" y="0"/>
                        </a:lnTo>
                        <a:lnTo>
                          <a:pt x="818" y="0"/>
                        </a:lnTo>
                        <a:lnTo>
                          <a:pt x="845" y="0"/>
                        </a:lnTo>
                        <a:lnTo>
                          <a:pt x="873" y="0"/>
                        </a:lnTo>
                        <a:lnTo>
                          <a:pt x="901" y="0"/>
                        </a:lnTo>
                        <a:lnTo>
                          <a:pt x="930" y="0"/>
                        </a:lnTo>
                        <a:lnTo>
                          <a:pt x="971" y="0"/>
                        </a:lnTo>
                        <a:lnTo>
                          <a:pt x="999" y="0"/>
                        </a:lnTo>
                        <a:lnTo>
                          <a:pt x="1027" y="0"/>
                        </a:lnTo>
                        <a:lnTo>
                          <a:pt x="1054" y="0"/>
                        </a:lnTo>
                        <a:lnTo>
                          <a:pt x="1082" y="0"/>
                        </a:lnTo>
                        <a:lnTo>
                          <a:pt x="1110" y="0"/>
                        </a:lnTo>
                        <a:lnTo>
                          <a:pt x="1151" y="0"/>
                        </a:lnTo>
                        <a:lnTo>
                          <a:pt x="1193" y="0"/>
                        </a:lnTo>
                        <a:lnTo>
                          <a:pt x="1220" y="0"/>
                        </a:lnTo>
                        <a:lnTo>
                          <a:pt x="1248" y="0"/>
                        </a:lnTo>
                        <a:lnTo>
                          <a:pt x="1276" y="0"/>
                        </a:lnTo>
                        <a:lnTo>
                          <a:pt x="1303" y="0"/>
                        </a:lnTo>
                        <a:lnTo>
                          <a:pt x="1345" y="0"/>
                        </a:lnTo>
                        <a:lnTo>
                          <a:pt x="1372" y="0"/>
                        </a:lnTo>
                        <a:lnTo>
                          <a:pt x="1400" y="0"/>
                        </a:lnTo>
                        <a:lnTo>
                          <a:pt x="1428" y="0"/>
                        </a:lnTo>
                        <a:lnTo>
                          <a:pt x="1455" y="0"/>
                        </a:lnTo>
                        <a:lnTo>
                          <a:pt x="1483" y="0"/>
                        </a:lnTo>
                        <a:lnTo>
                          <a:pt x="1524" y="0"/>
                        </a:lnTo>
                        <a:lnTo>
                          <a:pt x="1552" y="0"/>
                        </a:lnTo>
                        <a:lnTo>
                          <a:pt x="1580" y="0"/>
                        </a:lnTo>
                        <a:lnTo>
                          <a:pt x="1607" y="0"/>
                        </a:lnTo>
                        <a:lnTo>
                          <a:pt x="1635" y="0"/>
                        </a:lnTo>
                        <a:lnTo>
                          <a:pt x="1677" y="0"/>
                        </a:lnTo>
                        <a:lnTo>
                          <a:pt x="1706" y="0"/>
                        </a:lnTo>
                        <a:lnTo>
                          <a:pt x="1733" y="0"/>
                        </a:lnTo>
                        <a:lnTo>
                          <a:pt x="1761" y="0"/>
                        </a:lnTo>
                        <a:lnTo>
                          <a:pt x="1789" y="0"/>
                        </a:lnTo>
                        <a:lnTo>
                          <a:pt x="1816" y="0"/>
                        </a:lnTo>
                        <a:lnTo>
                          <a:pt x="1858" y="0"/>
                        </a:lnTo>
                        <a:lnTo>
                          <a:pt x="1885" y="0"/>
                        </a:lnTo>
                        <a:lnTo>
                          <a:pt x="1913" y="0"/>
                        </a:lnTo>
                        <a:lnTo>
                          <a:pt x="1941" y="0"/>
                        </a:lnTo>
                        <a:lnTo>
                          <a:pt x="1968" y="0"/>
                        </a:lnTo>
                        <a:lnTo>
                          <a:pt x="1996" y="0"/>
                        </a:lnTo>
                        <a:lnTo>
                          <a:pt x="2038" y="0"/>
                        </a:lnTo>
                        <a:lnTo>
                          <a:pt x="2065" y="0"/>
                        </a:lnTo>
                        <a:lnTo>
                          <a:pt x="2093" y="0"/>
                        </a:lnTo>
                        <a:lnTo>
                          <a:pt x="2121" y="0"/>
                        </a:lnTo>
                        <a:lnTo>
                          <a:pt x="2148" y="0"/>
                        </a:lnTo>
                        <a:lnTo>
                          <a:pt x="2176" y="0"/>
                        </a:lnTo>
                        <a:lnTo>
                          <a:pt x="2217" y="0"/>
                        </a:lnTo>
                        <a:lnTo>
                          <a:pt x="2245" y="0"/>
                        </a:lnTo>
                        <a:lnTo>
                          <a:pt x="2273" y="0"/>
                        </a:lnTo>
                        <a:lnTo>
                          <a:pt x="2300" y="0"/>
                        </a:lnTo>
                        <a:lnTo>
                          <a:pt x="2328" y="0"/>
                        </a:lnTo>
                        <a:lnTo>
                          <a:pt x="2356" y="0"/>
                        </a:lnTo>
                        <a:lnTo>
                          <a:pt x="2397" y="0"/>
                        </a:lnTo>
                        <a:lnTo>
                          <a:pt x="2425" y="0"/>
                        </a:lnTo>
                        <a:lnTo>
                          <a:pt x="2453" y="0"/>
                        </a:lnTo>
                        <a:lnTo>
                          <a:pt x="2480" y="0"/>
                        </a:lnTo>
                        <a:lnTo>
                          <a:pt x="2509" y="0"/>
                        </a:lnTo>
                        <a:lnTo>
                          <a:pt x="2537" y="0"/>
                        </a:lnTo>
                        <a:lnTo>
                          <a:pt x="2578" y="0"/>
                        </a:lnTo>
                        <a:lnTo>
                          <a:pt x="2606" y="0"/>
                        </a:lnTo>
                        <a:lnTo>
                          <a:pt x="2634" y="0"/>
                        </a:lnTo>
                        <a:lnTo>
                          <a:pt x="2661" y="0"/>
                        </a:lnTo>
                        <a:lnTo>
                          <a:pt x="2689" y="0"/>
                        </a:lnTo>
                        <a:lnTo>
                          <a:pt x="2717" y="0"/>
                        </a:lnTo>
                        <a:lnTo>
                          <a:pt x="2758" y="0"/>
                        </a:lnTo>
                        <a:lnTo>
                          <a:pt x="2786" y="0"/>
                        </a:lnTo>
                        <a:lnTo>
                          <a:pt x="2814" y="0"/>
                        </a:lnTo>
                        <a:lnTo>
                          <a:pt x="2841" y="0"/>
                        </a:lnTo>
                        <a:lnTo>
                          <a:pt x="2869" y="0"/>
                        </a:lnTo>
                        <a:lnTo>
                          <a:pt x="2897" y="0"/>
                        </a:lnTo>
                        <a:lnTo>
                          <a:pt x="2938" y="0"/>
                        </a:lnTo>
                        <a:lnTo>
                          <a:pt x="2966" y="0"/>
                        </a:lnTo>
                        <a:lnTo>
                          <a:pt x="2993" y="0"/>
                        </a:lnTo>
                        <a:lnTo>
                          <a:pt x="3021" y="0"/>
                        </a:lnTo>
                        <a:lnTo>
                          <a:pt x="3049" y="0"/>
                        </a:lnTo>
                        <a:lnTo>
                          <a:pt x="3076" y="0"/>
                        </a:lnTo>
                        <a:lnTo>
                          <a:pt x="3118" y="0"/>
                        </a:lnTo>
                        <a:lnTo>
                          <a:pt x="3146" y="0"/>
                        </a:lnTo>
                        <a:lnTo>
                          <a:pt x="3173" y="0"/>
                        </a:lnTo>
                        <a:lnTo>
                          <a:pt x="3201" y="0"/>
                        </a:lnTo>
                        <a:lnTo>
                          <a:pt x="3228" y="0"/>
                        </a:lnTo>
                        <a:lnTo>
                          <a:pt x="3256" y="0"/>
                        </a:lnTo>
                        <a:lnTo>
                          <a:pt x="3299" y="0"/>
                        </a:lnTo>
                        <a:lnTo>
                          <a:pt x="3327" y="0"/>
                        </a:lnTo>
                        <a:lnTo>
                          <a:pt x="3354" y="0"/>
                        </a:lnTo>
                        <a:lnTo>
                          <a:pt x="3382" y="0"/>
                        </a:lnTo>
                        <a:lnTo>
                          <a:pt x="3410" y="0"/>
                        </a:lnTo>
                        <a:lnTo>
                          <a:pt x="3437" y="0"/>
                        </a:lnTo>
                        <a:lnTo>
                          <a:pt x="3479" y="0"/>
                        </a:lnTo>
                        <a:lnTo>
                          <a:pt x="3507" y="0"/>
                        </a:lnTo>
                        <a:lnTo>
                          <a:pt x="3534" y="0"/>
                        </a:lnTo>
                        <a:lnTo>
                          <a:pt x="3562" y="0"/>
                        </a:lnTo>
                        <a:lnTo>
                          <a:pt x="3589" y="0"/>
                        </a:lnTo>
                        <a:lnTo>
                          <a:pt x="3617" y="0"/>
                        </a:lnTo>
                        <a:lnTo>
                          <a:pt x="3659" y="0"/>
                        </a:lnTo>
                        <a:lnTo>
                          <a:pt x="3686" y="0"/>
                        </a:lnTo>
                        <a:lnTo>
                          <a:pt x="3714" y="0"/>
                        </a:lnTo>
                        <a:lnTo>
                          <a:pt x="3742" y="0"/>
                        </a:lnTo>
                        <a:lnTo>
                          <a:pt x="3769" y="0"/>
                        </a:lnTo>
                        <a:lnTo>
                          <a:pt x="3797" y="0"/>
                        </a:lnTo>
                        <a:lnTo>
                          <a:pt x="3852" y="0"/>
                        </a:lnTo>
                        <a:lnTo>
                          <a:pt x="3880" y="0"/>
                        </a:lnTo>
                        <a:lnTo>
                          <a:pt x="3908" y="0"/>
                        </a:lnTo>
                        <a:lnTo>
                          <a:pt x="3935" y="0"/>
                        </a:lnTo>
                        <a:lnTo>
                          <a:pt x="3963" y="0"/>
                        </a:lnTo>
                        <a:lnTo>
                          <a:pt x="3991" y="0"/>
                        </a:lnTo>
                        <a:lnTo>
                          <a:pt x="4032" y="0"/>
                        </a:lnTo>
                        <a:lnTo>
                          <a:pt x="4060" y="0"/>
                        </a:lnTo>
                        <a:lnTo>
                          <a:pt x="4087" y="0"/>
                        </a:lnTo>
                        <a:lnTo>
                          <a:pt x="4116" y="0"/>
                        </a:lnTo>
                        <a:lnTo>
                          <a:pt x="4144" y="0"/>
                        </a:lnTo>
                        <a:lnTo>
                          <a:pt x="4172" y="0"/>
                        </a:lnTo>
                        <a:lnTo>
                          <a:pt x="4213" y="0"/>
                        </a:lnTo>
                        <a:lnTo>
                          <a:pt x="4241" y="0"/>
                        </a:lnTo>
                        <a:lnTo>
                          <a:pt x="4269" y="0"/>
                        </a:lnTo>
                        <a:lnTo>
                          <a:pt x="4296" y="0"/>
                        </a:lnTo>
                        <a:lnTo>
                          <a:pt x="4324" y="0"/>
                        </a:lnTo>
                        <a:lnTo>
                          <a:pt x="4352" y="0"/>
                        </a:lnTo>
                        <a:lnTo>
                          <a:pt x="4393" y="0"/>
                        </a:lnTo>
                        <a:lnTo>
                          <a:pt x="4421" y="0"/>
                        </a:lnTo>
                        <a:lnTo>
                          <a:pt x="4448" y="0"/>
                        </a:lnTo>
                        <a:lnTo>
                          <a:pt x="4476" y="0"/>
                        </a:lnTo>
                        <a:lnTo>
                          <a:pt x="4504" y="0"/>
                        </a:lnTo>
                        <a:lnTo>
                          <a:pt x="4531" y="0"/>
                        </a:lnTo>
                        <a:lnTo>
                          <a:pt x="4573" y="0"/>
                        </a:lnTo>
                        <a:lnTo>
                          <a:pt x="4601" y="0"/>
                        </a:lnTo>
                        <a:lnTo>
                          <a:pt x="4628" y="0"/>
                        </a:lnTo>
                        <a:lnTo>
                          <a:pt x="4656" y="0"/>
                        </a:lnTo>
                        <a:lnTo>
                          <a:pt x="4684" y="0"/>
                        </a:lnTo>
                        <a:lnTo>
                          <a:pt x="4711" y="0"/>
                        </a:lnTo>
                        <a:lnTo>
                          <a:pt x="4753" y="0"/>
                        </a:lnTo>
                        <a:lnTo>
                          <a:pt x="4780" y="0"/>
                        </a:lnTo>
                        <a:lnTo>
                          <a:pt x="4808" y="0"/>
                        </a:lnTo>
                        <a:lnTo>
                          <a:pt x="4836" y="0"/>
                        </a:lnTo>
                        <a:lnTo>
                          <a:pt x="4863" y="0"/>
                        </a:lnTo>
                        <a:lnTo>
                          <a:pt x="4892" y="0"/>
                        </a:lnTo>
                        <a:lnTo>
                          <a:pt x="4934" y="0"/>
                        </a:lnTo>
                        <a:lnTo>
                          <a:pt x="4962" y="0"/>
                        </a:lnTo>
                        <a:lnTo>
                          <a:pt x="4989" y="0"/>
                        </a:lnTo>
                        <a:lnTo>
                          <a:pt x="5017" y="0"/>
                        </a:lnTo>
                        <a:lnTo>
                          <a:pt x="5045" y="0"/>
                        </a:lnTo>
                        <a:lnTo>
                          <a:pt x="5072" y="0"/>
                        </a:lnTo>
                        <a:lnTo>
                          <a:pt x="5114" y="0"/>
                        </a:lnTo>
                        <a:lnTo>
                          <a:pt x="5141" y="0"/>
                        </a:lnTo>
                        <a:lnTo>
                          <a:pt x="5169" y="0"/>
                        </a:lnTo>
                        <a:lnTo>
                          <a:pt x="5197" y="0"/>
                        </a:lnTo>
                        <a:lnTo>
                          <a:pt x="5224" y="0"/>
                        </a:lnTo>
                        <a:lnTo>
                          <a:pt x="5252" y="0"/>
                        </a:lnTo>
                        <a:lnTo>
                          <a:pt x="5293" y="0"/>
                        </a:lnTo>
                        <a:lnTo>
                          <a:pt x="5321" y="0"/>
                        </a:lnTo>
                        <a:lnTo>
                          <a:pt x="5349" y="0"/>
                        </a:lnTo>
                        <a:lnTo>
                          <a:pt x="5376" y="0"/>
                        </a:lnTo>
                        <a:lnTo>
                          <a:pt x="5404" y="0"/>
                        </a:lnTo>
                        <a:lnTo>
                          <a:pt x="5432" y="0"/>
                        </a:lnTo>
                        <a:lnTo>
                          <a:pt x="5473" y="0"/>
                        </a:lnTo>
                        <a:lnTo>
                          <a:pt x="5501" y="0"/>
                        </a:lnTo>
                        <a:lnTo>
                          <a:pt x="5529" y="0"/>
                        </a:lnTo>
                        <a:lnTo>
                          <a:pt x="5556" y="0"/>
                        </a:lnTo>
                        <a:lnTo>
                          <a:pt x="5584" y="0"/>
                        </a:lnTo>
                        <a:lnTo>
                          <a:pt x="5612" y="0"/>
                        </a:lnTo>
                        <a:lnTo>
                          <a:pt x="5653" y="0"/>
                        </a:lnTo>
                        <a:lnTo>
                          <a:pt x="5681" y="0"/>
                        </a:lnTo>
                        <a:lnTo>
                          <a:pt x="5710" y="0"/>
                        </a:lnTo>
                        <a:lnTo>
                          <a:pt x="5737" y="0"/>
                        </a:lnTo>
                        <a:lnTo>
                          <a:pt x="5765" y="0"/>
                        </a:lnTo>
                        <a:lnTo>
                          <a:pt x="5807" y="0"/>
                        </a:lnTo>
                        <a:lnTo>
                          <a:pt x="5834" y="0"/>
                        </a:lnTo>
                        <a:lnTo>
                          <a:pt x="5862" y="0"/>
                        </a:lnTo>
                        <a:lnTo>
                          <a:pt x="5890" y="0"/>
                        </a:lnTo>
                        <a:lnTo>
                          <a:pt x="5917" y="0"/>
                        </a:lnTo>
                        <a:lnTo>
                          <a:pt x="5945" y="0"/>
                        </a:lnTo>
                        <a:lnTo>
                          <a:pt x="5986" y="0"/>
                        </a:lnTo>
                        <a:lnTo>
                          <a:pt x="6014" y="0"/>
                        </a:lnTo>
                        <a:lnTo>
                          <a:pt x="6042" y="0"/>
                        </a:lnTo>
                        <a:lnTo>
                          <a:pt x="6069" y="0"/>
                        </a:lnTo>
                        <a:lnTo>
                          <a:pt x="6097" y="0"/>
                        </a:lnTo>
                        <a:lnTo>
                          <a:pt x="6125" y="0"/>
                        </a:lnTo>
                        <a:lnTo>
                          <a:pt x="6166" y="0"/>
                        </a:lnTo>
                        <a:lnTo>
                          <a:pt x="6194" y="0"/>
                        </a:lnTo>
                        <a:lnTo>
                          <a:pt x="6222" y="0"/>
                        </a:lnTo>
                        <a:lnTo>
                          <a:pt x="6249" y="0"/>
                        </a:lnTo>
                        <a:lnTo>
                          <a:pt x="6277" y="0"/>
                        </a:lnTo>
                        <a:lnTo>
                          <a:pt x="6305" y="0"/>
                        </a:lnTo>
                        <a:lnTo>
                          <a:pt x="6346" y="0"/>
                        </a:lnTo>
                        <a:lnTo>
                          <a:pt x="6374" y="0"/>
                        </a:lnTo>
                        <a:lnTo>
                          <a:pt x="6401" y="0"/>
                        </a:lnTo>
                        <a:lnTo>
                          <a:pt x="6429" y="0"/>
                        </a:lnTo>
                        <a:lnTo>
                          <a:pt x="6457" y="0"/>
                        </a:lnTo>
                        <a:lnTo>
                          <a:pt x="6486" y="0"/>
                        </a:lnTo>
                        <a:lnTo>
                          <a:pt x="6541" y="0"/>
                        </a:lnTo>
                        <a:lnTo>
                          <a:pt x="6569" y="0"/>
                        </a:lnTo>
                        <a:lnTo>
                          <a:pt x="6596" y="0"/>
                        </a:lnTo>
                        <a:lnTo>
                          <a:pt x="6624" y="0"/>
                        </a:lnTo>
                        <a:lnTo>
                          <a:pt x="6652" y="0"/>
                        </a:lnTo>
                        <a:lnTo>
                          <a:pt x="6679" y="0"/>
                        </a:lnTo>
                        <a:lnTo>
                          <a:pt x="6721" y="0"/>
                        </a:lnTo>
                        <a:lnTo>
                          <a:pt x="6749" y="0"/>
                        </a:lnTo>
                        <a:lnTo>
                          <a:pt x="6776" y="0"/>
                        </a:lnTo>
                        <a:lnTo>
                          <a:pt x="6804" y="0"/>
                        </a:lnTo>
                        <a:lnTo>
                          <a:pt x="6832" y="0"/>
                        </a:lnTo>
                        <a:lnTo>
                          <a:pt x="6859" y="0"/>
                        </a:lnTo>
                        <a:lnTo>
                          <a:pt x="6901" y="0"/>
                        </a:lnTo>
                        <a:lnTo>
                          <a:pt x="6928" y="0"/>
                        </a:lnTo>
                        <a:lnTo>
                          <a:pt x="6956" y="0"/>
                        </a:lnTo>
                        <a:lnTo>
                          <a:pt x="6984" y="0"/>
                        </a:lnTo>
                        <a:lnTo>
                          <a:pt x="7011" y="0"/>
                        </a:lnTo>
                        <a:lnTo>
                          <a:pt x="7039" y="0"/>
                        </a:lnTo>
                        <a:lnTo>
                          <a:pt x="7080" y="0"/>
                        </a:lnTo>
                        <a:lnTo>
                          <a:pt x="7108" y="0"/>
                        </a:lnTo>
                        <a:lnTo>
                          <a:pt x="7136" y="0"/>
                        </a:lnTo>
                        <a:lnTo>
                          <a:pt x="7163" y="0"/>
                        </a:lnTo>
                        <a:lnTo>
                          <a:pt x="7191" y="0"/>
                        </a:lnTo>
                        <a:lnTo>
                          <a:pt x="7219" y="0"/>
                        </a:lnTo>
                        <a:lnTo>
                          <a:pt x="7260" y="0"/>
                        </a:lnTo>
                        <a:lnTo>
                          <a:pt x="7289" y="0"/>
                        </a:lnTo>
                        <a:lnTo>
                          <a:pt x="7317" y="0"/>
                        </a:lnTo>
                        <a:lnTo>
                          <a:pt x="7345" y="0"/>
                        </a:lnTo>
                        <a:lnTo>
                          <a:pt x="737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95" name=""/>
                <p:cNvGrpSpPr/>
                <p:nvPr/>
              </p:nvGrpSpPr>
              <p:grpSpPr>
                <a:xfrm>
                  <a:off x="5014800" y="3170160"/>
                  <a:ext cx="4017960" cy="1800"/>
                  <a:chOff x="5014800" y="3170160"/>
                  <a:chExt cx="4017960" cy="1800"/>
                </a:xfrm>
              </p:grpSpPr>
              <p:sp>
                <p:nvSpPr>
                  <p:cNvPr id="1496" name=""/>
                  <p:cNvSpPr/>
                  <p:nvPr/>
                </p:nvSpPr>
                <p:spPr>
                  <a:xfrm>
                    <a:off x="5014800" y="3170160"/>
                    <a:ext cx="4017960" cy="1800"/>
                  </a:xfrm>
                  <a:custGeom>
                    <a:avLst/>
                    <a:gdLst/>
                    <a:ahLst/>
                    <a:rect l="l" t="t" r="r" b="b"/>
                    <a:pathLst>
                      <a:path w="7593" h="0">
                        <a:moveTo>
                          <a:pt x="0" y="0"/>
                        </a:moveTo>
                        <a:lnTo>
                          <a:pt x="27" y="0"/>
                        </a:lnTo>
                        <a:lnTo>
                          <a:pt x="55" y="0"/>
                        </a:lnTo>
                        <a:lnTo>
                          <a:pt x="83" y="0"/>
                        </a:lnTo>
                        <a:lnTo>
                          <a:pt x="124" y="0"/>
                        </a:lnTo>
                        <a:lnTo>
                          <a:pt x="152" y="0"/>
                        </a:lnTo>
                        <a:lnTo>
                          <a:pt x="179" y="0"/>
                        </a:lnTo>
                        <a:lnTo>
                          <a:pt x="207" y="0"/>
                        </a:lnTo>
                        <a:lnTo>
                          <a:pt x="236" y="0"/>
                        </a:lnTo>
                        <a:lnTo>
                          <a:pt x="264" y="0"/>
                        </a:lnTo>
                        <a:lnTo>
                          <a:pt x="305" y="0"/>
                        </a:lnTo>
                        <a:lnTo>
                          <a:pt x="333" y="0"/>
                        </a:lnTo>
                        <a:lnTo>
                          <a:pt x="361" y="0"/>
                        </a:lnTo>
                        <a:lnTo>
                          <a:pt x="388" y="0"/>
                        </a:lnTo>
                        <a:lnTo>
                          <a:pt x="416" y="0"/>
                        </a:lnTo>
                        <a:lnTo>
                          <a:pt x="444" y="0"/>
                        </a:lnTo>
                        <a:lnTo>
                          <a:pt x="485" y="0"/>
                        </a:lnTo>
                        <a:lnTo>
                          <a:pt x="513" y="0"/>
                        </a:lnTo>
                        <a:lnTo>
                          <a:pt x="540" y="0"/>
                        </a:lnTo>
                        <a:lnTo>
                          <a:pt x="568" y="0"/>
                        </a:lnTo>
                        <a:lnTo>
                          <a:pt x="596" y="0"/>
                        </a:lnTo>
                        <a:lnTo>
                          <a:pt x="623" y="0"/>
                        </a:lnTo>
                        <a:lnTo>
                          <a:pt x="665" y="0"/>
                        </a:lnTo>
                        <a:lnTo>
                          <a:pt x="693" y="0"/>
                        </a:lnTo>
                        <a:lnTo>
                          <a:pt x="720" y="0"/>
                        </a:lnTo>
                        <a:lnTo>
                          <a:pt x="748" y="0"/>
                        </a:lnTo>
                        <a:lnTo>
                          <a:pt x="776" y="0"/>
                        </a:lnTo>
                        <a:lnTo>
                          <a:pt x="803" y="0"/>
                        </a:lnTo>
                        <a:lnTo>
                          <a:pt x="845" y="0"/>
                        </a:lnTo>
                        <a:lnTo>
                          <a:pt x="872" y="0"/>
                        </a:lnTo>
                        <a:lnTo>
                          <a:pt x="900" y="0"/>
                        </a:lnTo>
                        <a:lnTo>
                          <a:pt x="928" y="0"/>
                        </a:lnTo>
                        <a:lnTo>
                          <a:pt x="955" y="0"/>
                        </a:lnTo>
                        <a:lnTo>
                          <a:pt x="983" y="0"/>
                        </a:lnTo>
                        <a:lnTo>
                          <a:pt x="1026" y="0"/>
                        </a:lnTo>
                        <a:lnTo>
                          <a:pt x="1054" y="0"/>
                        </a:lnTo>
                        <a:lnTo>
                          <a:pt x="1081" y="0"/>
                        </a:lnTo>
                        <a:lnTo>
                          <a:pt x="1109" y="0"/>
                        </a:lnTo>
                        <a:lnTo>
                          <a:pt x="1137" y="0"/>
                        </a:lnTo>
                        <a:lnTo>
                          <a:pt x="1164" y="0"/>
                        </a:lnTo>
                        <a:lnTo>
                          <a:pt x="1206" y="0"/>
                        </a:lnTo>
                        <a:lnTo>
                          <a:pt x="1233" y="0"/>
                        </a:lnTo>
                        <a:lnTo>
                          <a:pt x="1261" y="0"/>
                        </a:lnTo>
                        <a:lnTo>
                          <a:pt x="1303" y="0"/>
                        </a:lnTo>
                        <a:lnTo>
                          <a:pt x="1330" y="0"/>
                        </a:lnTo>
                        <a:lnTo>
                          <a:pt x="1358" y="0"/>
                        </a:lnTo>
                        <a:lnTo>
                          <a:pt x="1399" y="0"/>
                        </a:lnTo>
                        <a:lnTo>
                          <a:pt x="1427" y="0"/>
                        </a:lnTo>
                        <a:lnTo>
                          <a:pt x="1455" y="0"/>
                        </a:lnTo>
                        <a:lnTo>
                          <a:pt x="1482" y="0"/>
                        </a:lnTo>
                        <a:lnTo>
                          <a:pt x="1510" y="0"/>
                        </a:lnTo>
                        <a:lnTo>
                          <a:pt x="1538" y="0"/>
                        </a:lnTo>
                        <a:lnTo>
                          <a:pt x="1579" y="0"/>
                        </a:lnTo>
                        <a:lnTo>
                          <a:pt x="1607" y="0"/>
                        </a:lnTo>
                        <a:lnTo>
                          <a:pt x="1634" y="0"/>
                        </a:lnTo>
                        <a:lnTo>
                          <a:pt x="1662" y="0"/>
                        </a:lnTo>
                        <a:lnTo>
                          <a:pt x="1690" y="0"/>
                        </a:lnTo>
                        <a:lnTo>
                          <a:pt x="1717" y="0"/>
                        </a:lnTo>
                        <a:lnTo>
                          <a:pt x="1759" y="0"/>
                        </a:lnTo>
                        <a:lnTo>
                          <a:pt x="1787" y="0"/>
                        </a:lnTo>
                        <a:lnTo>
                          <a:pt x="1816" y="0"/>
                        </a:lnTo>
                        <a:lnTo>
                          <a:pt x="1843" y="0"/>
                        </a:lnTo>
                        <a:lnTo>
                          <a:pt x="1871" y="0"/>
                        </a:lnTo>
                        <a:lnTo>
                          <a:pt x="1899" y="0"/>
                        </a:lnTo>
                        <a:lnTo>
                          <a:pt x="1940" y="0"/>
                        </a:lnTo>
                        <a:lnTo>
                          <a:pt x="1968" y="0"/>
                        </a:lnTo>
                        <a:lnTo>
                          <a:pt x="1995" y="0"/>
                        </a:lnTo>
                        <a:lnTo>
                          <a:pt x="2023" y="0"/>
                        </a:lnTo>
                        <a:lnTo>
                          <a:pt x="2051" y="0"/>
                        </a:lnTo>
                        <a:lnTo>
                          <a:pt x="2078" y="0"/>
                        </a:lnTo>
                        <a:lnTo>
                          <a:pt x="2120" y="0"/>
                        </a:lnTo>
                        <a:lnTo>
                          <a:pt x="2148" y="0"/>
                        </a:lnTo>
                        <a:lnTo>
                          <a:pt x="2175" y="0"/>
                        </a:lnTo>
                        <a:lnTo>
                          <a:pt x="2203" y="0"/>
                        </a:lnTo>
                        <a:lnTo>
                          <a:pt x="2231" y="0"/>
                        </a:lnTo>
                        <a:lnTo>
                          <a:pt x="2258" y="0"/>
                        </a:lnTo>
                        <a:lnTo>
                          <a:pt x="2300" y="0"/>
                        </a:lnTo>
                        <a:lnTo>
                          <a:pt x="2327" y="0"/>
                        </a:lnTo>
                        <a:lnTo>
                          <a:pt x="2355" y="0"/>
                        </a:lnTo>
                        <a:lnTo>
                          <a:pt x="2383" y="0"/>
                        </a:lnTo>
                        <a:lnTo>
                          <a:pt x="2410" y="0"/>
                        </a:lnTo>
                        <a:lnTo>
                          <a:pt x="2438" y="0"/>
                        </a:lnTo>
                        <a:lnTo>
                          <a:pt x="2480" y="0"/>
                        </a:lnTo>
                        <a:lnTo>
                          <a:pt x="2507" y="0"/>
                        </a:lnTo>
                        <a:lnTo>
                          <a:pt x="2535" y="0"/>
                        </a:lnTo>
                        <a:lnTo>
                          <a:pt x="2563" y="0"/>
                        </a:lnTo>
                        <a:lnTo>
                          <a:pt x="2590" y="0"/>
                        </a:lnTo>
                        <a:lnTo>
                          <a:pt x="2619" y="0"/>
                        </a:lnTo>
                        <a:lnTo>
                          <a:pt x="2647" y="0"/>
                        </a:lnTo>
                        <a:lnTo>
                          <a:pt x="2688" y="0"/>
                        </a:lnTo>
                        <a:lnTo>
                          <a:pt x="2716" y="0"/>
                        </a:lnTo>
                        <a:lnTo>
                          <a:pt x="2744" y="0"/>
                        </a:lnTo>
                        <a:lnTo>
                          <a:pt x="2771" y="0"/>
                        </a:lnTo>
                        <a:lnTo>
                          <a:pt x="2799" y="0"/>
                        </a:lnTo>
                        <a:lnTo>
                          <a:pt x="2827" y="0"/>
                        </a:lnTo>
                        <a:lnTo>
                          <a:pt x="2868" y="0"/>
                        </a:lnTo>
                        <a:lnTo>
                          <a:pt x="2896" y="0"/>
                        </a:lnTo>
                        <a:lnTo>
                          <a:pt x="2924" y="0"/>
                        </a:lnTo>
                        <a:lnTo>
                          <a:pt x="2951" y="0"/>
                        </a:lnTo>
                        <a:lnTo>
                          <a:pt x="2979" y="0"/>
                        </a:lnTo>
                        <a:lnTo>
                          <a:pt x="3007"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9" y="0"/>
                        </a:lnTo>
                        <a:lnTo>
                          <a:pt x="3437" y="0"/>
                        </a:lnTo>
                        <a:lnTo>
                          <a:pt x="3464" y="0"/>
                        </a:lnTo>
                        <a:lnTo>
                          <a:pt x="3492" y="0"/>
                        </a:lnTo>
                        <a:lnTo>
                          <a:pt x="3520" y="0"/>
                        </a:lnTo>
                        <a:lnTo>
                          <a:pt x="3547" y="0"/>
                        </a:lnTo>
                        <a:lnTo>
                          <a:pt x="3589" y="0"/>
                        </a:lnTo>
                        <a:lnTo>
                          <a:pt x="3617" y="0"/>
                        </a:lnTo>
                        <a:lnTo>
                          <a:pt x="3644" y="0"/>
                        </a:lnTo>
                        <a:lnTo>
                          <a:pt x="3672" y="0"/>
                        </a:lnTo>
                        <a:lnTo>
                          <a:pt x="3699" y="0"/>
                        </a:lnTo>
                        <a:lnTo>
                          <a:pt x="3727" y="0"/>
                        </a:lnTo>
                        <a:lnTo>
                          <a:pt x="3769" y="0"/>
                        </a:lnTo>
                        <a:lnTo>
                          <a:pt x="3796" y="0"/>
                        </a:lnTo>
                        <a:lnTo>
                          <a:pt x="3824" y="0"/>
                        </a:lnTo>
                        <a:lnTo>
                          <a:pt x="3852" y="0"/>
                        </a:lnTo>
                        <a:lnTo>
                          <a:pt x="3879" y="0"/>
                        </a:lnTo>
                        <a:lnTo>
                          <a:pt x="3907" y="0"/>
                        </a:lnTo>
                        <a:lnTo>
                          <a:pt x="3962" y="0"/>
                        </a:lnTo>
                        <a:lnTo>
                          <a:pt x="3990" y="0"/>
                        </a:lnTo>
                        <a:lnTo>
                          <a:pt x="4018" y="0"/>
                        </a:lnTo>
                        <a:lnTo>
                          <a:pt x="4045" y="0"/>
                        </a:lnTo>
                        <a:lnTo>
                          <a:pt x="4073" y="0"/>
                        </a:lnTo>
                        <a:lnTo>
                          <a:pt x="4101" y="0"/>
                        </a:lnTo>
                        <a:lnTo>
                          <a:pt x="4142" y="0"/>
                        </a:lnTo>
                        <a:lnTo>
                          <a:pt x="4170" y="0"/>
                        </a:lnTo>
                        <a:lnTo>
                          <a:pt x="4197" y="0"/>
                        </a:lnTo>
                        <a:lnTo>
                          <a:pt x="4226" y="0"/>
                        </a:lnTo>
                        <a:lnTo>
                          <a:pt x="4254" y="0"/>
                        </a:lnTo>
                        <a:lnTo>
                          <a:pt x="4282" y="0"/>
                        </a:lnTo>
                        <a:lnTo>
                          <a:pt x="4323" y="0"/>
                        </a:lnTo>
                        <a:lnTo>
                          <a:pt x="4351" y="0"/>
                        </a:lnTo>
                        <a:lnTo>
                          <a:pt x="4379" y="0"/>
                        </a:lnTo>
                        <a:lnTo>
                          <a:pt x="4406" y="0"/>
                        </a:lnTo>
                        <a:lnTo>
                          <a:pt x="4434" y="0"/>
                        </a:lnTo>
                        <a:lnTo>
                          <a:pt x="4462" y="0"/>
                        </a:lnTo>
                        <a:lnTo>
                          <a:pt x="4503" y="0"/>
                        </a:lnTo>
                        <a:lnTo>
                          <a:pt x="4531" y="0"/>
                        </a:lnTo>
                        <a:lnTo>
                          <a:pt x="4558" y="0"/>
                        </a:lnTo>
                        <a:lnTo>
                          <a:pt x="4586" y="0"/>
                        </a:lnTo>
                        <a:lnTo>
                          <a:pt x="4614"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2" y="0"/>
                        </a:lnTo>
                        <a:lnTo>
                          <a:pt x="5044" y="0"/>
                        </a:lnTo>
                        <a:lnTo>
                          <a:pt x="5072" y="0"/>
                        </a:lnTo>
                        <a:lnTo>
                          <a:pt x="5099" y="0"/>
                        </a:lnTo>
                        <a:lnTo>
                          <a:pt x="5127" y="0"/>
                        </a:lnTo>
                        <a:lnTo>
                          <a:pt x="5155" y="0"/>
                        </a:lnTo>
                        <a:lnTo>
                          <a:pt x="5182" y="0"/>
                        </a:lnTo>
                        <a:lnTo>
                          <a:pt x="5210" y="0"/>
                        </a:lnTo>
                        <a:lnTo>
                          <a:pt x="5251" y="0"/>
                        </a:lnTo>
                        <a:lnTo>
                          <a:pt x="5279" y="0"/>
                        </a:lnTo>
                        <a:lnTo>
                          <a:pt x="5307" y="0"/>
                        </a:lnTo>
                        <a:lnTo>
                          <a:pt x="5334" y="0"/>
                        </a:lnTo>
                        <a:lnTo>
                          <a:pt x="5362" y="0"/>
                        </a:lnTo>
                        <a:lnTo>
                          <a:pt x="5390" y="0"/>
                        </a:lnTo>
                        <a:lnTo>
                          <a:pt x="5431" y="0"/>
                        </a:lnTo>
                        <a:lnTo>
                          <a:pt x="5459" y="0"/>
                        </a:lnTo>
                        <a:lnTo>
                          <a:pt x="5486" y="0"/>
                        </a:lnTo>
                        <a:lnTo>
                          <a:pt x="5514" y="0"/>
                        </a:lnTo>
                        <a:lnTo>
                          <a:pt x="5542" y="0"/>
                        </a:lnTo>
                        <a:lnTo>
                          <a:pt x="5569" y="0"/>
                        </a:lnTo>
                        <a:lnTo>
                          <a:pt x="5611" y="0"/>
                        </a:lnTo>
                        <a:lnTo>
                          <a:pt x="5639" y="0"/>
                        </a:lnTo>
                        <a:lnTo>
                          <a:pt x="5666" y="0"/>
                        </a:lnTo>
                        <a:lnTo>
                          <a:pt x="5694" y="0"/>
                        </a:lnTo>
                        <a:lnTo>
                          <a:pt x="5722" y="0"/>
                        </a:lnTo>
                        <a:lnTo>
                          <a:pt x="5749" y="0"/>
                        </a:lnTo>
                        <a:lnTo>
                          <a:pt x="5791" y="0"/>
                        </a:lnTo>
                        <a:lnTo>
                          <a:pt x="5820" y="0"/>
                        </a:lnTo>
                        <a:lnTo>
                          <a:pt x="5847" y="0"/>
                        </a:lnTo>
                        <a:lnTo>
                          <a:pt x="5875" y="0"/>
                        </a:lnTo>
                        <a:lnTo>
                          <a:pt x="5903" y="0"/>
                        </a:lnTo>
                        <a:lnTo>
                          <a:pt x="5930" y="0"/>
                        </a:lnTo>
                        <a:lnTo>
                          <a:pt x="5972" y="0"/>
                        </a:lnTo>
                        <a:lnTo>
                          <a:pt x="6000" y="0"/>
                        </a:lnTo>
                        <a:lnTo>
                          <a:pt x="6027" y="0"/>
                        </a:lnTo>
                        <a:lnTo>
                          <a:pt x="6055" y="0"/>
                        </a:lnTo>
                        <a:lnTo>
                          <a:pt x="6083" y="0"/>
                        </a:lnTo>
                        <a:lnTo>
                          <a:pt x="6110" y="0"/>
                        </a:lnTo>
                        <a:lnTo>
                          <a:pt x="6152" y="0"/>
                        </a:lnTo>
                        <a:lnTo>
                          <a:pt x="6179" y="0"/>
                        </a:lnTo>
                        <a:lnTo>
                          <a:pt x="6207" y="0"/>
                        </a:lnTo>
                        <a:lnTo>
                          <a:pt x="6235" y="0"/>
                        </a:lnTo>
                        <a:lnTo>
                          <a:pt x="6262" y="0"/>
                        </a:lnTo>
                        <a:lnTo>
                          <a:pt x="6290" y="0"/>
                        </a:lnTo>
                        <a:lnTo>
                          <a:pt x="6332" y="0"/>
                        </a:lnTo>
                        <a:lnTo>
                          <a:pt x="6359" y="0"/>
                        </a:lnTo>
                        <a:lnTo>
                          <a:pt x="6387" y="0"/>
                        </a:lnTo>
                        <a:lnTo>
                          <a:pt x="6415" y="0"/>
                        </a:lnTo>
                        <a:lnTo>
                          <a:pt x="6442" y="0"/>
                        </a:lnTo>
                        <a:lnTo>
                          <a:pt x="6470" y="0"/>
                        </a:lnTo>
                        <a:lnTo>
                          <a:pt x="6511" y="0"/>
                        </a:lnTo>
                        <a:lnTo>
                          <a:pt x="6539" y="0"/>
                        </a:lnTo>
                        <a:lnTo>
                          <a:pt x="6567" y="0"/>
                        </a:lnTo>
                        <a:lnTo>
                          <a:pt x="6596" y="0"/>
                        </a:lnTo>
                        <a:lnTo>
                          <a:pt x="6637" y="0"/>
                        </a:lnTo>
                        <a:lnTo>
                          <a:pt x="6665" y="0"/>
                        </a:lnTo>
                        <a:lnTo>
                          <a:pt x="6706" y="0"/>
                        </a:lnTo>
                        <a:lnTo>
                          <a:pt x="6734" y="0"/>
                        </a:lnTo>
                        <a:lnTo>
                          <a:pt x="6762" y="0"/>
                        </a:lnTo>
                        <a:lnTo>
                          <a:pt x="6789" y="0"/>
                        </a:lnTo>
                        <a:lnTo>
                          <a:pt x="6817" y="0"/>
                        </a:lnTo>
                        <a:lnTo>
                          <a:pt x="6845" y="0"/>
                        </a:lnTo>
                        <a:lnTo>
                          <a:pt x="6886" y="0"/>
                        </a:lnTo>
                        <a:lnTo>
                          <a:pt x="6914" y="0"/>
                        </a:lnTo>
                        <a:lnTo>
                          <a:pt x="6942" y="0"/>
                        </a:lnTo>
                        <a:lnTo>
                          <a:pt x="6969" y="0"/>
                        </a:lnTo>
                        <a:lnTo>
                          <a:pt x="6997" y="0"/>
                        </a:lnTo>
                        <a:lnTo>
                          <a:pt x="7025" y="0"/>
                        </a:lnTo>
                        <a:lnTo>
                          <a:pt x="7066" y="0"/>
                        </a:lnTo>
                        <a:lnTo>
                          <a:pt x="7094" y="0"/>
                        </a:lnTo>
                        <a:lnTo>
                          <a:pt x="7121" y="0"/>
                        </a:lnTo>
                        <a:lnTo>
                          <a:pt x="7149" y="0"/>
                        </a:lnTo>
                        <a:lnTo>
                          <a:pt x="7177" y="0"/>
                        </a:lnTo>
                        <a:lnTo>
                          <a:pt x="7204" y="0"/>
                        </a:lnTo>
                        <a:lnTo>
                          <a:pt x="7246" y="0"/>
                        </a:lnTo>
                        <a:lnTo>
                          <a:pt x="7273" y="0"/>
                        </a:lnTo>
                        <a:lnTo>
                          <a:pt x="7301" y="0"/>
                        </a:lnTo>
                        <a:lnTo>
                          <a:pt x="7329" y="0"/>
                        </a:lnTo>
                        <a:lnTo>
                          <a:pt x="7356" y="0"/>
                        </a:lnTo>
                        <a:lnTo>
                          <a:pt x="7384" y="0"/>
                        </a:lnTo>
                        <a:lnTo>
                          <a:pt x="7427" y="0"/>
                        </a:lnTo>
                        <a:lnTo>
                          <a:pt x="7455" y="0"/>
                        </a:lnTo>
                        <a:lnTo>
                          <a:pt x="7482" y="0"/>
                        </a:lnTo>
                        <a:lnTo>
                          <a:pt x="7510" y="0"/>
                        </a:lnTo>
                        <a:lnTo>
                          <a:pt x="7538" y="0"/>
                        </a:lnTo>
                        <a:lnTo>
                          <a:pt x="7565" y="0"/>
                        </a:lnTo>
                        <a:lnTo>
                          <a:pt x="7593" y="0"/>
                        </a:lnTo>
                        <a:lnTo>
                          <a:pt x="0" y="0"/>
                        </a:lnTo>
                        <a:close/>
                      </a:path>
                    </a:pathLst>
                  </a:custGeom>
                  <a:solidFill>
                    <a:srgbClr val="cce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7" name=""/>
                  <p:cNvSpPr/>
                  <p:nvPr/>
                </p:nvSpPr>
                <p:spPr>
                  <a:xfrm>
                    <a:off x="5014800" y="3170160"/>
                    <a:ext cx="4017960" cy="1800"/>
                  </a:xfrm>
                  <a:custGeom>
                    <a:avLst/>
                    <a:gdLst/>
                    <a:ahLst/>
                    <a:rect l="l" t="t" r="r" b="b"/>
                    <a:pathLst>
                      <a:path w="7593" h="0">
                        <a:moveTo>
                          <a:pt x="0" y="0"/>
                        </a:moveTo>
                        <a:lnTo>
                          <a:pt x="27" y="0"/>
                        </a:lnTo>
                        <a:lnTo>
                          <a:pt x="55" y="0"/>
                        </a:lnTo>
                        <a:lnTo>
                          <a:pt x="83" y="0"/>
                        </a:lnTo>
                        <a:lnTo>
                          <a:pt x="124" y="0"/>
                        </a:lnTo>
                        <a:lnTo>
                          <a:pt x="152" y="0"/>
                        </a:lnTo>
                        <a:lnTo>
                          <a:pt x="179" y="0"/>
                        </a:lnTo>
                        <a:lnTo>
                          <a:pt x="207" y="0"/>
                        </a:lnTo>
                        <a:lnTo>
                          <a:pt x="236" y="0"/>
                        </a:lnTo>
                        <a:lnTo>
                          <a:pt x="264" y="0"/>
                        </a:lnTo>
                        <a:lnTo>
                          <a:pt x="305" y="0"/>
                        </a:lnTo>
                        <a:lnTo>
                          <a:pt x="333" y="0"/>
                        </a:lnTo>
                        <a:lnTo>
                          <a:pt x="361" y="0"/>
                        </a:lnTo>
                        <a:lnTo>
                          <a:pt x="388" y="0"/>
                        </a:lnTo>
                        <a:lnTo>
                          <a:pt x="416" y="0"/>
                        </a:lnTo>
                        <a:lnTo>
                          <a:pt x="444" y="0"/>
                        </a:lnTo>
                        <a:lnTo>
                          <a:pt x="485" y="0"/>
                        </a:lnTo>
                        <a:lnTo>
                          <a:pt x="513" y="0"/>
                        </a:lnTo>
                        <a:lnTo>
                          <a:pt x="540" y="0"/>
                        </a:lnTo>
                        <a:lnTo>
                          <a:pt x="568" y="0"/>
                        </a:lnTo>
                        <a:lnTo>
                          <a:pt x="596" y="0"/>
                        </a:lnTo>
                        <a:lnTo>
                          <a:pt x="623" y="0"/>
                        </a:lnTo>
                        <a:lnTo>
                          <a:pt x="665" y="0"/>
                        </a:lnTo>
                        <a:lnTo>
                          <a:pt x="693" y="0"/>
                        </a:lnTo>
                        <a:lnTo>
                          <a:pt x="720" y="0"/>
                        </a:lnTo>
                        <a:lnTo>
                          <a:pt x="748" y="0"/>
                        </a:lnTo>
                        <a:lnTo>
                          <a:pt x="776" y="0"/>
                        </a:lnTo>
                        <a:lnTo>
                          <a:pt x="803" y="0"/>
                        </a:lnTo>
                        <a:lnTo>
                          <a:pt x="845" y="0"/>
                        </a:lnTo>
                        <a:lnTo>
                          <a:pt x="872" y="0"/>
                        </a:lnTo>
                        <a:lnTo>
                          <a:pt x="900" y="0"/>
                        </a:lnTo>
                        <a:lnTo>
                          <a:pt x="928" y="0"/>
                        </a:lnTo>
                        <a:lnTo>
                          <a:pt x="955" y="0"/>
                        </a:lnTo>
                        <a:lnTo>
                          <a:pt x="983" y="0"/>
                        </a:lnTo>
                        <a:lnTo>
                          <a:pt x="1026" y="0"/>
                        </a:lnTo>
                        <a:lnTo>
                          <a:pt x="1054" y="0"/>
                        </a:lnTo>
                        <a:lnTo>
                          <a:pt x="1081" y="0"/>
                        </a:lnTo>
                        <a:lnTo>
                          <a:pt x="1109" y="0"/>
                        </a:lnTo>
                        <a:lnTo>
                          <a:pt x="1137" y="0"/>
                        </a:lnTo>
                        <a:lnTo>
                          <a:pt x="1164" y="0"/>
                        </a:lnTo>
                        <a:lnTo>
                          <a:pt x="1206" y="0"/>
                        </a:lnTo>
                        <a:lnTo>
                          <a:pt x="1233" y="0"/>
                        </a:lnTo>
                        <a:lnTo>
                          <a:pt x="1261" y="0"/>
                        </a:lnTo>
                        <a:lnTo>
                          <a:pt x="1303" y="0"/>
                        </a:lnTo>
                        <a:lnTo>
                          <a:pt x="1330" y="0"/>
                        </a:lnTo>
                        <a:lnTo>
                          <a:pt x="1358" y="0"/>
                        </a:lnTo>
                        <a:lnTo>
                          <a:pt x="1399" y="0"/>
                        </a:lnTo>
                        <a:lnTo>
                          <a:pt x="1427" y="0"/>
                        </a:lnTo>
                        <a:lnTo>
                          <a:pt x="1455" y="0"/>
                        </a:lnTo>
                        <a:lnTo>
                          <a:pt x="1482" y="0"/>
                        </a:lnTo>
                        <a:lnTo>
                          <a:pt x="1510" y="0"/>
                        </a:lnTo>
                        <a:lnTo>
                          <a:pt x="1538" y="0"/>
                        </a:lnTo>
                        <a:lnTo>
                          <a:pt x="1579" y="0"/>
                        </a:lnTo>
                        <a:lnTo>
                          <a:pt x="1607" y="0"/>
                        </a:lnTo>
                        <a:lnTo>
                          <a:pt x="1634" y="0"/>
                        </a:lnTo>
                        <a:lnTo>
                          <a:pt x="1662" y="0"/>
                        </a:lnTo>
                        <a:lnTo>
                          <a:pt x="1690" y="0"/>
                        </a:lnTo>
                        <a:lnTo>
                          <a:pt x="1717" y="0"/>
                        </a:lnTo>
                        <a:lnTo>
                          <a:pt x="1759" y="0"/>
                        </a:lnTo>
                        <a:lnTo>
                          <a:pt x="1787" y="0"/>
                        </a:lnTo>
                        <a:lnTo>
                          <a:pt x="1816" y="0"/>
                        </a:lnTo>
                        <a:lnTo>
                          <a:pt x="1843" y="0"/>
                        </a:lnTo>
                        <a:lnTo>
                          <a:pt x="1871" y="0"/>
                        </a:lnTo>
                        <a:lnTo>
                          <a:pt x="1899" y="0"/>
                        </a:lnTo>
                        <a:lnTo>
                          <a:pt x="1940" y="0"/>
                        </a:lnTo>
                        <a:lnTo>
                          <a:pt x="1968" y="0"/>
                        </a:lnTo>
                        <a:lnTo>
                          <a:pt x="1995" y="0"/>
                        </a:lnTo>
                        <a:lnTo>
                          <a:pt x="2023" y="0"/>
                        </a:lnTo>
                        <a:lnTo>
                          <a:pt x="2051" y="0"/>
                        </a:lnTo>
                        <a:lnTo>
                          <a:pt x="2078" y="0"/>
                        </a:lnTo>
                        <a:lnTo>
                          <a:pt x="2120" y="0"/>
                        </a:lnTo>
                        <a:lnTo>
                          <a:pt x="2148" y="0"/>
                        </a:lnTo>
                        <a:lnTo>
                          <a:pt x="2175" y="0"/>
                        </a:lnTo>
                        <a:lnTo>
                          <a:pt x="2203" y="0"/>
                        </a:lnTo>
                        <a:lnTo>
                          <a:pt x="2231" y="0"/>
                        </a:lnTo>
                        <a:lnTo>
                          <a:pt x="2258" y="0"/>
                        </a:lnTo>
                        <a:lnTo>
                          <a:pt x="2300" y="0"/>
                        </a:lnTo>
                        <a:lnTo>
                          <a:pt x="2327" y="0"/>
                        </a:lnTo>
                        <a:lnTo>
                          <a:pt x="2355" y="0"/>
                        </a:lnTo>
                        <a:lnTo>
                          <a:pt x="2383" y="0"/>
                        </a:lnTo>
                        <a:lnTo>
                          <a:pt x="2410" y="0"/>
                        </a:lnTo>
                        <a:lnTo>
                          <a:pt x="2438" y="0"/>
                        </a:lnTo>
                        <a:lnTo>
                          <a:pt x="2480" y="0"/>
                        </a:lnTo>
                        <a:lnTo>
                          <a:pt x="2507" y="0"/>
                        </a:lnTo>
                        <a:lnTo>
                          <a:pt x="2535" y="0"/>
                        </a:lnTo>
                        <a:lnTo>
                          <a:pt x="2563" y="0"/>
                        </a:lnTo>
                        <a:lnTo>
                          <a:pt x="2590" y="0"/>
                        </a:lnTo>
                        <a:lnTo>
                          <a:pt x="2619" y="0"/>
                        </a:lnTo>
                        <a:lnTo>
                          <a:pt x="2647" y="0"/>
                        </a:lnTo>
                        <a:lnTo>
                          <a:pt x="2688" y="0"/>
                        </a:lnTo>
                        <a:lnTo>
                          <a:pt x="2716" y="0"/>
                        </a:lnTo>
                        <a:lnTo>
                          <a:pt x="2744" y="0"/>
                        </a:lnTo>
                        <a:lnTo>
                          <a:pt x="2771" y="0"/>
                        </a:lnTo>
                        <a:lnTo>
                          <a:pt x="2799" y="0"/>
                        </a:lnTo>
                        <a:lnTo>
                          <a:pt x="2827" y="0"/>
                        </a:lnTo>
                        <a:lnTo>
                          <a:pt x="2868" y="0"/>
                        </a:lnTo>
                        <a:lnTo>
                          <a:pt x="2896" y="0"/>
                        </a:lnTo>
                        <a:lnTo>
                          <a:pt x="2924" y="0"/>
                        </a:lnTo>
                        <a:lnTo>
                          <a:pt x="2951" y="0"/>
                        </a:lnTo>
                        <a:lnTo>
                          <a:pt x="2979" y="0"/>
                        </a:lnTo>
                        <a:lnTo>
                          <a:pt x="3007"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9" y="0"/>
                        </a:lnTo>
                        <a:lnTo>
                          <a:pt x="3437" y="0"/>
                        </a:lnTo>
                        <a:lnTo>
                          <a:pt x="3464" y="0"/>
                        </a:lnTo>
                        <a:lnTo>
                          <a:pt x="3492" y="0"/>
                        </a:lnTo>
                        <a:lnTo>
                          <a:pt x="3520" y="0"/>
                        </a:lnTo>
                        <a:lnTo>
                          <a:pt x="3547" y="0"/>
                        </a:lnTo>
                        <a:lnTo>
                          <a:pt x="3589" y="0"/>
                        </a:lnTo>
                        <a:lnTo>
                          <a:pt x="3617" y="0"/>
                        </a:lnTo>
                        <a:lnTo>
                          <a:pt x="3644" y="0"/>
                        </a:lnTo>
                        <a:lnTo>
                          <a:pt x="3672" y="0"/>
                        </a:lnTo>
                        <a:lnTo>
                          <a:pt x="3699" y="0"/>
                        </a:lnTo>
                        <a:lnTo>
                          <a:pt x="3727" y="0"/>
                        </a:lnTo>
                        <a:lnTo>
                          <a:pt x="3769" y="0"/>
                        </a:lnTo>
                        <a:lnTo>
                          <a:pt x="3796" y="0"/>
                        </a:lnTo>
                        <a:lnTo>
                          <a:pt x="3824" y="0"/>
                        </a:lnTo>
                        <a:lnTo>
                          <a:pt x="3852" y="0"/>
                        </a:lnTo>
                        <a:lnTo>
                          <a:pt x="3879" y="0"/>
                        </a:lnTo>
                        <a:lnTo>
                          <a:pt x="3907" y="0"/>
                        </a:lnTo>
                        <a:lnTo>
                          <a:pt x="3962" y="0"/>
                        </a:lnTo>
                        <a:lnTo>
                          <a:pt x="3990" y="0"/>
                        </a:lnTo>
                        <a:lnTo>
                          <a:pt x="4018" y="0"/>
                        </a:lnTo>
                        <a:lnTo>
                          <a:pt x="4045" y="0"/>
                        </a:lnTo>
                        <a:lnTo>
                          <a:pt x="4073" y="0"/>
                        </a:lnTo>
                        <a:lnTo>
                          <a:pt x="4101" y="0"/>
                        </a:lnTo>
                        <a:lnTo>
                          <a:pt x="4142" y="0"/>
                        </a:lnTo>
                        <a:lnTo>
                          <a:pt x="4170" y="0"/>
                        </a:lnTo>
                        <a:lnTo>
                          <a:pt x="4197" y="0"/>
                        </a:lnTo>
                        <a:lnTo>
                          <a:pt x="4226" y="0"/>
                        </a:lnTo>
                        <a:lnTo>
                          <a:pt x="4254" y="0"/>
                        </a:lnTo>
                        <a:lnTo>
                          <a:pt x="4282" y="0"/>
                        </a:lnTo>
                        <a:lnTo>
                          <a:pt x="4323" y="0"/>
                        </a:lnTo>
                        <a:lnTo>
                          <a:pt x="4351" y="0"/>
                        </a:lnTo>
                        <a:lnTo>
                          <a:pt x="4379" y="0"/>
                        </a:lnTo>
                        <a:lnTo>
                          <a:pt x="4406" y="0"/>
                        </a:lnTo>
                        <a:lnTo>
                          <a:pt x="4434" y="0"/>
                        </a:lnTo>
                        <a:lnTo>
                          <a:pt x="4462" y="0"/>
                        </a:lnTo>
                        <a:lnTo>
                          <a:pt x="4503" y="0"/>
                        </a:lnTo>
                        <a:lnTo>
                          <a:pt x="4531" y="0"/>
                        </a:lnTo>
                        <a:lnTo>
                          <a:pt x="4558" y="0"/>
                        </a:lnTo>
                        <a:lnTo>
                          <a:pt x="4586" y="0"/>
                        </a:lnTo>
                        <a:lnTo>
                          <a:pt x="4614"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2" y="0"/>
                        </a:lnTo>
                        <a:lnTo>
                          <a:pt x="5044" y="0"/>
                        </a:lnTo>
                        <a:lnTo>
                          <a:pt x="5072" y="0"/>
                        </a:lnTo>
                        <a:lnTo>
                          <a:pt x="5099" y="0"/>
                        </a:lnTo>
                        <a:lnTo>
                          <a:pt x="5127" y="0"/>
                        </a:lnTo>
                        <a:lnTo>
                          <a:pt x="5155" y="0"/>
                        </a:lnTo>
                        <a:lnTo>
                          <a:pt x="5182" y="0"/>
                        </a:lnTo>
                        <a:lnTo>
                          <a:pt x="5210" y="0"/>
                        </a:lnTo>
                        <a:lnTo>
                          <a:pt x="5251" y="0"/>
                        </a:lnTo>
                        <a:lnTo>
                          <a:pt x="5279" y="0"/>
                        </a:lnTo>
                        <a:lnTo>
                          <a:pt x="5307" y="0"/>
                        </a:lnTo>
                        <a:lnTo>
                          <a:pt x="5334" y="0"/>
                        </a:lnTo>
                        <a:lnTo>
                          <a:pt x="5362" y="0"/>
                        </a:lnTo>
                        <a:lnTo>
                          <a:pt x="5390" y="0"/>
                        </a:lnTo>
                        <a:lnTo>
                          <a:pt x="5431" y="0"/>
                        </a:lnTo>
                        <a:lnTo>
                          <a:pt x="5459" y="0"/>
                        </a:lnTo>
                        <a:lnTo>
                          <a:pt x="5486" y="0"/>
                        </a:lnTo>
                        <a:lnTo>
                          <a:pt x="5514" y="0"/>
                        </a:lnTo>
                        <a:lnTo>
                          <a:pt x="5542" y="0"/>
                        </a:lnTo>
                        <a:lnTo>
                          <a:pt x="5569" y="0"/>
                        </a:lnTo>
                        <a:lnTo>
                          <a:pt x="5611" y="0"/>
                        </a:lnTo>
                        <a:lnTo>
                          <a:pt x="5639" y="0"/>
                        </a:lnTo>
                        <a:lnTo>
                          <a:pt x="5666" y="0"/>
                        </a:lnTo>
                        <a:lnTo>
                          <a:pt x="5694" y="0"/>
                        </a:lnTo>
                        <a:lnTo>
                          <a:pt x="5722" y="0"/>
                        </a:lnTo>
                        <a:lnTo>
                          <a:pt x="5749" y="0"/>
                        </a:lnTo>
                        <a:lnTo>
                          <a:pt x="5791" y="0"/>
                        </a:lnTo>
                        <a:lnTo>
                          <a:pt x="5820" y="0"/>
                        </a:lnTo>
                        <a:lnTo>
                          <a:pt x="5847" y="0"/>
                        </a:lnTo>
                        <a:lnTo>
                          <a:pt x="5875" y="0"/>
                        </a:lnTo>
                        <a:lnTo>
                          <a:pt x="5903" y="0"/>
                        </a:lnTo>
                        <a:lnTo>
                          <a:pt x="5930" y="0"/>
                        </a:lnTo>
                        <a:lnTo>
                          <a:pt x="5972" y="0"/>
                        </a:lnTo>
                        <a:lnTo>
                          <a:pt x="6000" y="0"/>
                        </a:lnTo>
                        <a:lnTo>
                          <a:pt x="6027" y="0"/>
                        </a:lnTo>
                        <a:lnTo>
                          <a:pt x="6055" y="0"/>
                        </a:lnTo>
                        <a:lnTo>
                          <a:pt x="6083" y="0"/>
                        </a:lnTo>
                        <a:lnTo>
                          <a:pt x="6110" y="0"/>
                        </a:lnTo>
                        <a:lnTo>
                          <a:pt x="6152" y="0"/>
                        </a:lnTo>
                        <a:lnTo>
                          <a:pt x="6179" y="0"/>
                        </a:lnTo>
                        <a:lnTo>
                          <a:pt x="6207" y="0"/>
                        </a:lnTo>
                        <a:lnTo>
                          <a:pt x="6235" y="0"/>
                        </a:lnTo>
                        <a:lnTo>
                          <a:pt x="6262" y="0"/>
                        </a:lnTo>
                        <a:lnTo>
                          <a:pt x="6290" y="0"/>
                        </a:lnTo>
                        <a:lnTo>
                          <a:pt x="6332" y="0"/>
                        </a:lnTo>
                        <a:lnTo>
                          <a:pt x="6359" y="0"/>
                        </a:lnTo>
                        <a:lnTo>
                          <a:pt x="6387" y="0"/>
                        </a:lnTo>
                        <a:lnTo>
                          <a:pt x="6415" y="0"/>
                        </a:lnTo>
                        <a:lnTo>
                          <a:pt x="6442" y="0"/>
                        </a:lnTo>
                        <a:lnTo>
                          <a:pt x="6470" y="0"/>
                        </a:lnTo>
                        <a:lnTo>
                          <a:pt x="6511" y="0"/>
                        </a:lnTo>
                        <a:lnTo>
                          <a:pt x="6539" y="0"/>
                        </a:lnTo>
                        <a:lnTo>
                          <a:pt x="6567" y="0"/>
                        </a:lnTo>
                        <a:lnTo>
                          <a:pt x="6596" y="0"/>
                        </a:lnTo>
                        <a:lnTo>
                          <a:pt x="6637" y="0"/>
                        </a:lnTo>
                        <a:lnTo>
                          <a:pt x="6665" y="0"/>
                        </a:lnTo>
                        <a:lnTo>
                          <a:pt x="6706" y="0"/>
                        </a:lnTo>
                        <a:lnTo>
                          <a:pt x="6734" y="0"/>
                        </a:lnTo>
                        <a:lnTo>
                          <a:pt x="6762" y="0"/>
                        </a:lnTo>
                        <a:lnTo>
                          <a:pt x="6789" y="0"/>
                        </a:lnTo>
                        <a:lnTo>
                          <a:pt x="6817" y="0"/>
                        </a:lnTo>
                        <a:lnTo>
                          <a:pt x="6845" y="0"/>
                        </a:lnTo>
                        <a:lnTo>
                          <a:pt x="6886" y="0"/>
                        </a:lnTo>
                        <a:lnTo>
                          <a:pt x="6914" y="0"/>
                        </a:lnTo>
                        <a:lnTo>
                          <a:pt x="6942" y="0"/>
                        </a:lnTo>
                        <a:lnTo>
                          <a:pt x="6969" y="0"/>
                        </a:lnTo>
                        <a:lnTo>
                          <a:pt x="6997" y="0"/>
                        </a:lnTo>
                        <a:lnTo>
                          <a:pt x="7025" y="0"/>
                        </a:lnTo>
                        <a:lnTo>
                          <a:pt x="7066" y="0"/>
                        </a:lnTo>
                        <a:lnTo>
                          <a:pt x="7094" y="0"/>
                        </a:lnTo>
                        <a:lnTo>
                          <a:pt x="7121" y="0"/>
                        </a:lnTo>
                        <a:lnTo>
                          <a:pt x="7149" y="0"/>
                        </a:lnTo>
                        <a:lnTo>
                          <a:pt x="7177" y="0"/>
                        </a:lnTo>
                        <a:lnTo>
                          <a:pt x="7204" y="0"/>
                        </a:lnTo>
                        <a:lnTo>
                          <a:pt x="7246" y="0"/>
                        </a:lnTo>
                        <a:lnTo>
                          <a:pt x="7273" y="0"/>
                        </a:lnTo>
                        <a:lnTo>
                          <a:pt x="7301" y="0"/>
                        </a:lnTo>
                        <a:lnTo>
                          <a:pt x="7329" y="0"/>
                        </a:lnTo>
                        <a:lnTo>
                          <a:pt x="7356" y="0"/>
                        </a:lnTo>
                        <a:lnTo>
                          <a:pt x="7384" y="0"/>
                        </a:lnTo>
                        <a:lnTo>
                          <a:pt x="7427" y="0"/>
                        </a:lnTo>
                        <a:lnTo>
                          <a:pt x="7455" y="0"/>
                        </a:lnTo>
                        <a:lnTo>
                          <a:pt x="7482" y="0"/>
                        </a:lnTo>
                        <a:lnTo>
                          <a:pt x="7510" y="0"/>
                        </a:lnTo>
                        <a:lnTo>
                          <a:pt x="7538" y="0"/>
                        </a:lnTo>
                        <a:lnTo>
                          <a:pt x="7565" y="0"/>
                        </a:lnTo>
                        <a:lnTo>
                          <a:pt x="759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498" name=""/>
                <p:cNvGrpSpPr/>
                <p:nvPr/>
              </p:nvGrpSpPr>
              <p:grpSpPr>
                <a:xfrm>
                  <a:off x="4992840" y="2952720"/>
                  <a:ext cx="4062240" cy="1440"/>
                  <a:chOff x="4992840" y="2952720"/>
                  <a:chExt cx="4062240" cy="1440"/>
                </a:xfrm>
              </p:grpSpPr>
              <p:sp>
                <p:nvSpPr>
                  <p:cNvPr id="1499" name=""/>
                  <p:cNvSpPr/>
                  <p:nvPr/>
                </p:nvSpPr>
                <p:spPr>
                  <a:xfrm>
                    <a:off x="4992840" y="2952720"/>
                    <a:ext cx="4062240" cy="1440"/>
                  </a:xfrm>
                  <a:custGeom>
                    <a:avLst/>
                    <a:gdLst/>
                    <a:ahLst/>
                    <a:rect l="l" t="t" r="r" b="b"/>
                    <a:pathLst>
                      <a:path w="7676" h="0">
                        <a:moveTo>
                          <a:pt x="0" y="0"/>
                        </a:moveTo>
                        <a:lnTo>
                          <a:pt x="28" y="0"/>
                        </a:lnTo>
                        <a:lnTo>
                          <a:pt x="69" y="0"/>
                        </a:lnTo>
                        <a:lnTo>
                          <a:pt x="97" y="0"/>
                        </a:lnTo>
                        <a:lnTo>
                          <a:pt x="125" y="0"/>
                        </a:lnTo>
                        <a:lnTo>
                          <a:pt x="152" y="0"/>
                        </a:lnTo>
                        <a:lnTo>
                          <a:pt x="180" y="0"/>
                        </a:lnTo>
                        <a:lnTo>
                          <a:pt x="208" y="0"/>
                        </a:lnTo>
                        <a:lnTo>
                          <a:pt x="249" y="0"/>
                        </a:lnTo>
                        <a:lnTo>
                          <a:pt x="278" y="0"/>
                        </a:lnTo>
                        <a:lnTo>
                          <a:pt x="306" y="0"/>
                        </a:lnTo>
                        <a:lnTo>
                          <a:pt x="333" y="0"/>
                        </a:lnTo>
                        <a:lnTo>
                          <a:pt x="361" y="0"/>
                        </a:lnTo>
                        <a:lnTo>
                          <a:pt x="389" y="0"/>
                        </a:lnTo>
                        <a:lnTo>
                          <a:pt x="430" y="0"/>
                        </a:lnTo>
                        <a:lnTo>
                          <a:pt x="458" y="0"/>
                        </a:lnTo>
                        <a:lnTo>
                          <a:pt x="486" y="0"/>
                        </a:lnTo>
                        <a:lnTo>
                          <a:pt x="513" y="0"/>
                        </a:lnTo>
                        <a:lnTo>
                          <a:pt x="541" y="0"/>
                        </a:lnTo>
                        <a:lnTo>
                          <a:pt x="569" y="0"/>
                        </a:lnTo>
                        <a:lnTo>
                          <a:pt x="596" y="0"/>
                        </a:lnTo>
                        <a:lnTo>
                          <a:pt x="638" y="0"/>
                        </a:lnTo>
                        <a:lnTo>
                          <a:pt x="665" y="0"/>
                        </a:lnTo>
                        <a:lnTo>
                          <a:pt x="693" y="0"/>
                        </a:lnTo>
                        <a:lnTo>
                          <a:pt x="721" y="0"/>
                        </a:lnTo>
                        <a:lnTo>
                          <a:pt x="748" y="0"/>
                        </a:lnTo>
                        <a:lnTo>
                          <a:pt x="776" y="0"/>
                        </a:lnTo>
                        <a:lnTo>
                          <a:pt x="818" y="0"/>
                        </a:lnTo>
                        <a:lnTo>
                          <a:pt x="845" y="0"/>
                        </a:lnTo>
                        <a:lnTo>
                          <a:pt x="873" y="0"/>
                        </a:lnTo>
                        <a:lnTo>
                          <a:pt x="901" y="0"/>
                        </a:lnTo>
                        <a:lnTo>
                          <a:pt x="928" y="0"/>
                        </a:lnTo>
                        <a:lnTo>
                          <a:pt x="956" y="0"/>
                        </a:lnTo>
                        <a:lnTo>
                          <a:pt x="997" y="0"/>
                        </a:lnTo>
                        <a:lnTo>
                          <a:pt x="1025" y="0"/>
                        </a:lnTo>
                        <a:lnTo>
                          <a:pt x="1053" y="0"/>
                        </a:lnTo>
                        <a:lnTo>
                          <a:pt x="1082" y="0"/>
                        </a:lnTo>
                        <a:lnTo>
                          <a:pt x="1109" y="0"/>
                        </a:lnTo>
                        <a:lnTo>
                          <a:pt x="1137" y="0"/>
                        </a:lnTo>
                        <a:lnTo>
                          <a:pt x="1179" y="0"/>
                        </a:lnTo>
                        <a:lnTo>
                          <a:pt x="1206" y="0"/>
                        </a:lnTo>
                        <a:lnTo>
                          <a:pt x="1234" y="0"/>
                        </a:lnTo>
                        <a:lnTo>
                          <a:pt x="1262" y="0"/>
                        </a:lnTo>
                        <a:lnTo>
                          <a:pt x="1289" y="0"/>
                        </a:lnTo>
                        <a:lnTo>
                          <a:pt x="1317" y="0"/>
                        </a:lnTo>
                        <a:lnTo>
                          <a:pt x="1358" y="0"/>
                        </a:lnTo>
                        <a:lnTo>
                          <a:pt x="1400" y="0"/>
                        </a:lnTo>
                        <a:lnTo>
                          <a:pt x="1428" y="0"/>
                        </a:lnTo>
                        <a:lnTo>
                          <a:pt x="1455" y="0"/>
                        </a:lnTo>
                        <a:lnTo>
                          <a:pt x="1483" y="0"/>
                        </a:lnTo>
                        <a:lnTo>
                          <a:pt x="1511" y="0"/>
                        </a:lnTo>
                        <a:lnTo>
                          <a:pt x="1538" y="0"/>
                        </a:lnTo>
                        <a:lnTo>
                          <a:pt x="1580" y="0"/>
                        </a:lnTo>
                        <a:lnTo>
                          <a:pt x="1607" y="0"/>
                        </a:lnTo>
                        <a:lnTo>
                          <a:pt x="1635" y="0"/>
                        </a:lnTo>
                        <a:lnTo>
                          <a:pt x="1663" y="0"/>
                        </a:lnTo>
                        <a:lnTo>
                          <a:pt x="1690" y="0"/>
                        </a:lnTo>
                        <a:lnTo>
                          <a:pt x="1718" y="0"/>
                        </a:lnTo>
                        <a:lnTo>
                          <a:pt x="1759" y="0"/>
                        </a:lnTo>
                        <a:lnTo>
                          <a:pt x="1787" y="0"/>
                        </a:lnTo>
                        <a:lnTo>
                          <a:pt x="1815" y="0"/>
                        </a:lnTo>
                        <a:lnTo>
                          <a:pt x="1842" y="0"/>
                        </a:lnTo>
                        <a:lnTo>
                          <a:pt x="1872" y="0"/>
                        </a:lnTo>
                        <a:lnTo>
                          <a:pt x="1899" y="0"/>
                        </a:lnTo>
                        <a:lnTo>
                          <a:pt x="1941" y="0"/>
                        </a:lnTo>
                        <a:lnTo>
                          <a:pt x="1968" y="0"/>
                        </a:lnTo>
                        <a:lnTo>
                          <a:pt x="1996" y="0"/>
                        </a:lnTo>
                        <a:lnTo>
                          <a:pt x="2024" y="0"/>
                        </a:lnTo>
                        <a:lnTo>
                          <a:pt x="2051" y="0"/>
                        </a:lnTo>
                        <a:lnTo>
                          <a:pt x="2079" y="0"/>
                        </a:lnTo>
                        <a:lnTo>
                          <a:pt x="2120"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35" y="0"/>
                        </a:lnTo>
                        <a:lnTo>
                          <a:pt x="3076" y="0"/>
                        </a:lnTo>
                        <a:lnTo>
                          <a:pt x="3104" y="0"/>
                        </a:lnTo>
                        <a:lnTo>
                          <a:pt x="3132" y="0"/>
                        </a:lnTo>
                        <a:lnTo>
                          <a:pt x="3159" y="0"/>
                        </a:lnTo>
                        <a:lnTo>
                          <a:pt x="3187" y="0"/>
                        </a:lnTo>
                        <a:lnTo>
                          <a:pt x="3215" y="0"/>
                        </a:lnTo>
                        <a:lnTo>
                          <a:pt x="3256" y="0"/>
                        </a:lnTo>
                        <a:lnTo>
                          <a:pt x="3284" y="0"/>
                        </a:lnTo>
                        <a:lnTo>
                          <a:pt x="3311" y="0"/>
                        </a:lnTo>
                        <a:lnTo>
                          <a:pt x="3339" y="0"/>
                        </a:lnTo>
                        <a:lnTo>
                          <a:pt x="3367" y="0"/>
                        </a:lnTo>
                        <a:lnTo>
                          <a:pt x="3394" y="0"/>
                        </a:lnTo>
                        <a:lnTo>
                          <a:pt x="3436" y="0"/>
                        </a:lnTo>
                        <a:lnTo>
                          <a:pt x="3465" y="0"/>
                        </a:lnTo>
                        <a:lnTo>
                          <a:pt x="3493" y="0"/>
                        </a:lnTo>
                        <a:lnTo>
                          <a:pt x="3520" y="0"/>
                        </a:lnTo>
                        <a:lnTo>
                          <a:pt x="3548" y="0"/>
                        </a:lnTo>
                        <a:lnTo>
                          <a:pt x="3576" y="0"/>
                        </a:lnTo>
                        <a:lnTo>
                          <a:pt x="3617" y="0"/>
                        </a:lnTo>
                        <a:lnTo>
                          <a:pt x="3645" y="0"/>
                        </a:lnTo>
                        <a:lnTo>
                          <a:pt x="3672" y="0"/>
                        </a:lnTo>
                        <a:lnTo>
                          <a:pt x="3700" y="0"/>
                        </a:lnTo>
                        <a:lnTo>
                          <a:pt x="3728" y="0"/>
                        </a:lnTo>
                        <a:lnTo>
                          <a:pt x="3755" y="0"/>
                        </a:lnTo>
                        <a:lnTo>
                          <a:pt x="3797" y="0"/>
                        </a:lnTo>
                        <a:lnTo>
                          <a:pt x="3824" y="0"/>
                        </a:lnTo>
                        <a:lnTo>
                          <a:pt x="3852" y="0"/>
                        </a:lnTo>
                        <a:lnTo>
                          <a:pt x="3880" y="0"/>
                        </a:lnTo>
                        <a:lnTo>
                          <a:pt x="3907" y="0"/>
                        </a:lnTo>
                        <a:lnTo>
                          <a:pt x="3935" y="0"/>
                        </a:lnTo>
                        <a:lnTo>
                          <a:pt x="3963" y="0"/>
                        </a:lnTo>
                        <a:lnTo>
                          <a:pt x="4018" y="0"/>
                        </a:lnTo>
                        <a:lnTo>
                          <a:pt x="4046" y="0"/>
                        </a:lnTo>
                        <a:lnTo>
                          <a:pt x="4073" y="0"/>
                        </a:lnTo>
                        <a:lnTo>
                          <a:pt x="4101" y="0"/>
                        </a:lnTo>
                        <a:lnTo>
                          <a:pt x="4129" y="0"/>
                        </a:lnTo>
                        <a:lnTo>
                          <a:pt x="4156" y="0"/>
                        </a:lnTo>
                        <a:lnTo>
                          <a:pt x="4198" y="0"/>
                        </a:lnTo>
                        <a:lnTo>
                          <a:pt x="4226" y="0"/>
                        </a:lnTo>
                        <a:lnTo>
                          <a:pt x="4255" y="0"/>
                        </a:lnTo>
                        <a:lnTo>
                          <a:pt x="4282" y="0"/>
                        </a:lnTo>
                        <a:lnTo>
                          <a:pt x="4310" y="0"/>
                        </a:lnTo>
                        <a:lnTo>
                          <a:pt x="4338" y="0"/>
                        </a:lnTo>
                        <a:lnTo>
                          <a:pt x="4379" y="0"/>
                        </a:lnTo>
                        <a:lnTo>
                          <a:pt x="4407" y="0"/>
                        </a:lnTo>
                        <a:lnTo>
                          <a:pt x="4434" y="0"/>
                        </a:lnTo>
                        <a:lnTo>
                          <a:pt x="4462" y="0"/>
                        </a:lnTo>
                        <a:lnTo>
                          <a:pt x="4490" y="0"/>
                        </a:lnTo>
                        <a:lnTo>
                          <a:pt x="4517" y="0"/>
                        </a:lnTo>
                        <a:lnTo>
                          <a:pt x="4559" y="0"/>
                        </a:lnTo>
                        <a:lnTo>
                          <a:pt x="4587" y="0"/>
                        </a:lnTo>
                        <a:lnTo>
                          <a:pt x="4614" y="0"/>
                        </a:lnTo>
                        <a:lnTo>
                          <a:pt x="4642" y="0"/>
                        </a:lnTo>
                        <a:lnTo>
                          <a:pt x="4670" y="0"/>
                        </a:lnTo>
                        <a:lnTo>
                          <a:pt x="4697" y="0"/>
                        </a:lnTo>
                        <a:lnTo>
                          <a:pt x="4725" y="0"/>
                        </a:lnTo>
                        <a:lnTo>
                          <a:pt x="4766" y="0"/>
                        </a:lnTo>
                        <a:lnTo>
                          <a:pt x="4794" y="0"/>
                        </a:lnTo>
                        <a:lnTo>
                          <a:pt x="4822" y="0"/>
                        </a:lnTo>
                        <a:lnTo>
                          <a:pt x="4849" y="0"/>
                        </a:lnTo>
                        <a:lnTo>
                          <a:pt x="4877" y="0"/>
                        </a:lnTo>
                        <a:lnTo>
                          <a:pt x="4905" y="0"/>
                        </a:lnTo>
                        <a:lnTo>
                          <a:pt x="4946" y="0"/>
                        </a:lnTo>
                        <a:lnTo>
                          <a:pt x="4974" y="0"/>
                        </a:lnTo>
                        <a:lnTo>
                          <a:pt x="5002" y="0"/>
                        </a:lnTo>
                        <a:lnTo>
                          <a:pt x="5029" y="0"/>
                        </a:lnTo>
                        <a:lnTo>
                          <a:pt x="5058" y="0"/>
                        </a:lnTo>
                        <a:lnTo>
                          <a:pt x="5086" y="0"/>
                        </a:lnTo>
                        <a:lnTo>
                          <a:pt x="5127" y="0"/>
                        </a:lnTo>
                        <a:lnTo>
                          <a:pt x="5155" y="0"/>
                        </a:lnTo>
                        <a:lnTo>
                          <a:pt x="5183" y="0"/>
                        </a:lnTo>
                        <a:lnTo>
                          <a:pt x="5210" y="0"/>
                        </a:lnTo>
                        <a:lnTo>
                          <a:pt x="5238" y="0"/>
                        </a:lnTo>
                        <a:lnTo>
                          <a:pt x="5266" y="0"/>
                        </a:lnTo>
                        <a:lnTo>
                          <a:pt x="5307" y="0"/>
                        </a:lnTo>
                        <a:lnTo>
                          <a:pt x="5335" y="0"/>
                        </a:lnTo>
                        <a:lnTo>
                          <a:pt x="5363" y="0"/>
                        </a:lnTo>
                        <a:lnTo>
                          <a:pt x="5390" y="0"/>
                        </a:lnTo>
                        <a:lnTo>
                          <a:pt x="5418" y="0"/>
                        </a:lnTo>
                        <a:lnTo>
                          <a:pt x="5445" y="0"/>
                        </a:lnTo>
                        <a:lnTo>
                          <a:pt x="5487" y="0"/>
                        </a:lnTo>
                        <a:lnTo>
                          <a:pt x="5515" y="0"/>
                        </a:lnTo>
                        <a:lnTo>
                          <a:pt x="5542" y="0"/>
                        </a:lnTo>
                        <a:lnTo>
                          <a:pt x="5570" y="0"/>
                        </a:lnTo>
                        <a:lnTo>
                          <a:pt x="5598" y="0"/>
                        </a:lnTo>
                        <a:lnTo>
                          <a:pt x="5625" y="0"/>
                        </a:lnTo>
                        <a:lnTo>
                          <a:pt x="5653" y="0"/>
                        </a:lnTo>
                        <a:lnTo>
                          <a:pt x="5694" y="0"/>
                        </a:lnTo>
                        <a:lnTo>
                          <a:pt x="5722" y="0"/>
                        </a:lnTo>
                        <a:lnTo>
                          <a:pt x="5750" y="0"/>
                        </a:lnTo>
                        <a:lnTo>
                          <a:pt x="5777" y="0"/>
                        </a:lnTo>
                        <a:lnTo>
                          <a:pt x="5805" y="0"/>
                        </a:lnTo>
                        <a:lnTo>
                          <a:pt x="5833" y="0"/>
                        </a:lnTo>
                        <a:lnTo>
                          <a:pt x="5876" y="0"/>
                        </a:lnTo>
                        <a:lnTo>
                          <a:pt x="5903" y="0"/>
                        </a:lnTo>
                        <a:lnTo>
                          <a:pt x="5931" y="0"/>
                        </a:lnTo>
                        <a:lnTo>
                          <a:pt x="5959" y="0"/>
                        </a:lnTo>
                        <a:lnTo>
                          <a:pt x="5986" y="0"/>
                        </a:lnTo>
                        <a:lnTo>
                          <a:pt x="6014" y="0"/>
                        </a:lnTo>
                        <a:lnTo>
                          <a:pt x="6055" y="0"/>
                        </a:lnTo>
                        <a:lnTo>
                          <a:pt x="6083" y="0"/>
                        </a:lnTo>
                        <a:lnTo>
                          <a:pt x="6111" y="0"/>
                        </a:lnTo>
                        <a:lnTo>
                          <a:pt x="6138" y="0"/>
                        </a:lnTo>
                        <a:lnTo>
                          <a:pt x="6166" y="0"/>
                        </a:lnTo>
                        <a:lnTo>
                          <a:pt x="6194" y="0"/>
                        </a:lnTo>
                        <a:lnTo>
                          <a:pt x="6235" y="0"/>
                        </a:lnTo>
                        <a:lnTo>
                          <a:pt x="6263" y="0"/>
                        </a:lnTo>
                        <a:lnTo>
                          <a:pt x="6291" y="0"/>
                        </a:lnTo>
                        <a:lnTo>
                          <a:pt x="6318" y="0"/>
                        </a:lnTo>
                        <a:lnTo>
                          <a:pt x="6346" y="0"/>
                        </a:lnTo>
                        <a:lnTo>
                          <a:pt x="6374" y="0"/>
                        </a:lnTo>
                        <a:lnTo>
                          <a:pt x="6401" y="0"/>
                        </a:lnTo>
                        <a:lnTo>
                          <a:pt x="6443" y="0"/>
                        </a:lnTo>
                        <a:lnTo>
                          <a:pt x="6470" y="0"/>
                        </a:lnTo>
                        <a:lnTo>
                          <a:pt x="6498" y="0"/>
                        </a:lnTo>
                        <a:lnTo>
                          <a:pt x="6526" y="0"/>
                        </a:lnTo>
                        <a:lnTo>
                          <a:pt x="6553" y="0"/>
                        </a:lnTo>
                        <a:lnTo>
                          <a:pt x="6581" y="0"/>
                        </a:lnTo>
                        <a:lnTo>
                          <a:pt x="6623" y="0"/>
                        </a:lnTo>
                        <a:lnTo>
                          <a:pt x="6665" y="0"/>
                        </a:lnTo>
                        <a:lnTo>
                          <a:pt x="6693" y="0"/>
                        </a:lnTo>
                        <a:lnTo>
                          <a:pt x="6721" y="0"/>
                        </a:lnTo>
                        <a:lnTo>
                          <a:pt x="6748" y="0"/>
                        </a:lnTo>
                        <a:lnTo>
                          <a:pt x="6776" y="0"/>
                        </a:lnTo>
                        <a:lnTo>
                          <a:pt x="6818" y="0"/>
                        </a:lnTo>
                        <a:lnTo>
                          <a:pt x="6845" y="0"/>
                        </a:lnTo>
                        <a:lnTo>
                          <a:pt x="6873" y="0"/>
                        </a:lnTo>
                        <a:lnTo>
                          <a:pt x="6901" y="0"/>
                        </a:lnTo>
                        <a:lnTo>
                          <a:pt x="6928" y="0"/>
                        </a:lnTo>
                        <a:lnTo>
                          <a:pt x="6956" y="0"/>
                        </a:lnTo>
                        <a:lnTo>
                          <a:pt x="6997" y="0"/>
                        </a:lnTo>
                        <a:lnTo>
                          <a:pt x="7025" y="0"/>
                        </a:lnTo>
                        <a:lnTo>
                          <a:pt x="7053" y="0"/>
                        </a:lnTo>
                        <a:lnTo>
                          <a:pt x="7080" y="0"/>
                        </a:lnTo>
                        <a:lnTo>
                          <a:pt x="7108" y="0"/>
                        </a:lnTo>
                        <a:lnTo>
                          <a:pt x="7136" y="0"/>
                        </a:lnTo>
                        <a:lnTo>
                          <a:pt x="7177" y="0"/>
                        </a:lnTo>
                        <a:lnTo>
                          <a:pt x="7205" y="0"/>
                        </a:lnTo>
                        <a:lnTo>
                          <a:pt x="7232" y="0"/>
                        </a:lnTo>
                        <a:lnTo>
                          <a:pt x="7260" y="0"/>
                        </a:lnTo>
                        <a:lnTo>
                          <a:pt x="7288" y="0"/>
                        </a:lnTo>
                        <a:lnTo>
                          <a:pt x="7315" y="0"/>
                        </a:lnTo>
                        <a:lnTo>
                          <a:pt x="7343" y="0"/>
                        </a:lnTo>
                        <a:lnTo>
                          <a:pt x="7385" y="0"/>
                        </a:lnTo>
                        <a:lnTo>
                          <a:pt x="7412" y="0"/>
                        </a:lnTo>
                        <a:lnTo>
                          <a:pt x="7441" y="0"/>
                        </a:lnTo>
                        <a:lnTo>
                          <a:pt x="7469" y="0"/>
                        </a:lnTo>
                        <a:lnTo>
                          <a:pt x="7497" y="0"/>
                        </a:lnTo>
                        <a:lnTo>
                          <a:pt x="7524" y="0"/>
                        </a:lnTo>
                        <a:lnTo>
                          <a:pt x="7566" y="0"/>
                        </a:lnTo>
                        <a:lnTo>
                          <a:pt x="7593" y="0"/>
                        </a:lnTo>
                        <a:lnTo>
                          <a:pt x="7621" y="0"/>
                        </a:lnTo>
                        <a:lnTo>
                          <a:pt x="7649" y="0"/>
                        </a:lnTo>
                        <a:lnTo>
                          <a:pt x="7676"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4992840" y="2952720"/>
                    <a:ext cx="4062240" cy="1440"/>
                  </a:xfrm>
                  <a:custGeom>
                    <a:avLst/>
                    <a:gdLst/>
                    <a:ahLst/>
                    <a:rect l="l" t="t" r="r" b="b"/>
                    <a:pathLst>
                      <a:path w="7676" h="0">
                        <a:moveTo>
                          <a:pt x="0" y="0"/>
                        </a:moveTo>
                        <a:lnTo>
                          <a:pt x="28" y="0"/>
                        </a:lnTo>
                        <a:lnTo>
                          <a:pt x="69" y="0"/>
                        </a:lnTo>
                        <a:lnTo>
                          <a:pt x="97" y="0"/>
                        </a:lnTo>
                        <a:lnTo>
                          <a:pt x="125" y="0"/>
                        </a:lnTo>
                        <a:lnTo>
                          <a:pt x="152" y="0"/>
                        </a:lnTo>
                        <a:lnTo>
                          <a:pt x="180" y="0"/>
                        </a:lnTo>
                        <a:lnTo>
                          <a:pt x="208" y="0"/>
                        </a:lnTo>
                        <a:lnTo>
                          <a:pt x="249" y="0"/>
                        </a:lnTo>
                        <a:lnTo>
                          <a:pt x="278" y="0"/>
                        </a:lnTo>
                        <a:lnTo>
                          <a:pt x="306" y="0"/>
                        </a:lnTo>
                        <a:lnTo>
                          <a:pt x="333" y="0"/>
                        </a:lnTo>
                        <a:lnTo>
                          <a:pt x="361" y="0"/>
                        </a:lnTo>
                        <a:lnTo>
                          <a:pt x="389" y="0"/>
                        </a:lnTo>
                        <a:lnTo>
                          <a:pt x="430" y="0"/>
                        </a:lnTo>
                        <a:lnTo>
                          <a:pt x="458" y="0"/>
                        </a:lnTo>
                        <a:lnTo>
                          <a:pt x="486" y="0"/>
                        </a:lnTo>
                        <a:lnTo>
                          <a:pt x="513" y="0"/>
                        </a:lnTo>
                        <a:lnTo>
                          <a:pt x="541" y="0"/>
                        </a:lnTo>
                        <a:lnTo>
                          <a:pt x="569" y="0"/>
                        </a:lnTo>
                        <a:lnTo>
                          <a:pt x="596" y="0"/>
                        </a:lnTo>
                        <a:lnTo>
                          <a:pt x="638" y="0"/>
                        </a:lnTo>
                        <a:lnTo>
                          <a:pt x="665" y="0"/>
                        </a:lnTo>
                        <a:lnTo>
                          <a:pt x="693" y="0"/>
                        </a:lnTo>
                        <a:lnTo>
                          <a:pt x="721" y="0"/>
                        </a:lnTo>
                        <a:lnTo>
                          <a:pt x="748" y="0"/>
                        </a:lnTo>
                        <a:lnTo>
                          <a:pt x="776" y="0"/>
                        </a:lnTo>
                        <a:lnTo>
                          <a:pt x="818" y="0"/>
                        </a:lnTo>
                        <a:lnTo>
                          <a:pt x="845" y="0"/>
                        </a:lnTo>
                        <a:lnTo>
                          <a:pt x="873" y="0"/>
                        </a:lnTo>
                        <a:lnTo>
                          <a:pt x="901" y="0"/>
                        </a:lnTo>
                        <a:lnTo>
                          <a:pt x="928" y="0"/>
                        </a:lnTo>
                        <a:lnTo>
                          <a:pt x="956" y="0"/>
                        </a:lnTo>
                        <a:lnTo>
                          <a:pt x="997" y="0"/>
                        </a:lnTo>
                        <a:lnTo>
                          <a:pt x="1025" y="0"/>
                        </a:lnTo>
                        <a:lnTo>
                          <a:pt x="1053" y="0"/>
                        </a:lnTo>
                        <a:lnTo>
                          <a:pt x="1082" y="0"/>
                        </a:lnTo>
                        <a:lnTo>
                          <a:pt x="1109" y="0"/>
                        </a:lnTo>
                        <a:lnTo>
                          <a:pt x="1137" y="0"/>
                        </a:lnTo>
                        <a:lnTo>
                          <a:pt x="1179" y="0"/>
                        </a:lnTo>
                        <a:lnTo>
                          <a:pt x="1206" y="0"/>
                        </a:lnTo>
                        <a:lnTo>
                          <a:pt x="1234" y="0"/>
                        </a:lnTo>
                        <a:lnTo>
                          <a:pt x="1262" y="0"/>
                        </a:lnTo>
                        <a:lnTo>
                          <a:pt x="1289" y="0"/>
                        </a:lnTo>
                        <a:lnTo>
                          <a:pt x="1317" y="0"/>
                        </a:lnTo>
                        <a:lnTo>
                          <a:pt x="1358" y="0"/>
                        </a:lnTo>
                        <a:lnTo>
                          <a:pt x="1400" y="0"/>
                        </a:lnTo>
                        <a:lnTo>
                          <a:pt x="1428" y="0"/>
                        </a:lnTo>
                        <a:lnTo>
                          <a:pt x="1455" y="0"/>
                        </a:lnTo>
                        <a:lnTo>
                          <a:pt x="1483" y="0"/>
                        </a:lnTo>
                        <a:lnTo>
                          <a:pt x="1511" y="0"/>
                        </a:lnTo>
                        <a:lnTo>
                          <a:pt x="1538" y="0"/>
                        </a:lnTo>
                        <a:lnTo>
                          <a:pt x="1580" y="0"/>
                        </a:lnTo>
                        <a:lnTo>
                          <a:pt x="1607" y="0"/>
                        </a:lnTo>
                        <a:lnTo>
                          <a:pt x="1635" y="0"/>
                        </a:lnTo>
                        <a:lnTo>
                          <a:pt x="1663" y="0"/>
                        </a:lnTo>
                        <a:lnTo>
                          <a:pt x="1690" y="0"/>
                        </a:lnTo>
                        <a:lnTo>
                          <a:pt x="1718" y="0"/>
                        </a:lnTo>
                        <a:lnTo>
                          <a:pt x="1759" y="0"/>
                        </a:lnTo>
                        <a:lnTo>
                          <a:pt x="1787" y="0"/>
                        </a:lnTo>
                        <a:lnTo>
                          <a:pt x="1815" y="0"/>
                        </a:lnTo>
                        <a:lnTo>
                          <a:pt x="1842" y="0"/>
                        </a:lnTo>
                        <a:lnTo>
                          <a:pt x="1872" y="0"/>
                        </a:lnTo>
                        <a:lnTo>
                          <a:pt x="1899" y="0"/>
                        </a:lnTo>
                        <a:lnTo>
                          <a:pt x="1941" y="0"/>
                        </a:lnTo>
                        <a:lnTo>
                          <a:pt x="1968" y="0"/>
                        </a:lnTo>
                        <a:lnTo>
                          <a:pt x="1996" y="0"/>
                        </a:lnTo>
                        <a:lnTo>
                          <a:pt x="2024" y="0"/>
                        </a:lnTo>
                        <a:lnTo>
                          <a:pt x="2051" y="0"/>
                        </a:lnTo>
                        <a:lnTo>
                          <a:pt x="2079" y="0"/>
                        </a:lnTo>
                        <a:lnTo>
                          <a:pt x="2120"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35" y="0"/>
                        </a:lnTo>
                        <a:lnTo>
                          <a:pt x="3076" y="0"/>
                        </a:lnTo>
                        <a:lnTo>
                          <a:pt x="3104" y="0"/>
                        </a:lnTo>
                        <a:lnTo>
                          <a:pt x="3132" y="0"/>
                        </a:lnTo>
                        <a:lnTo>
                          <a:pt x="3159" y="0"/>
                        </a:lnTo>
                        <a:lnTo>
                          <a:pt x="3187" y="0"/>
                        </a:lnTo>
                        <a:lnTo>
                          <a:pt x="3215" y="0"/>
                        </a:lnTo>
                        <a:lnTo>
                          <a:pt x="3256" y="0"/>
                        </a:lnTo>
                        <a:lnTo>
                          <a:pt x="3284" y="0"/>
                        </a:lnTo>
                        <a:lnTo>
                          <a:pt x="3311" y="0"/>
                        </a:lnTo>
                        <a:lnTo>
                          <a:pt x="3339" y="0"/>
                        </a:lnTo>
                        <a:lnTo>
                          <a:pt x="3367" y="0"/>
                        </a:lnTo>
                        <a:lnTo>
                          <a:pt x="3394" y="0"/>
                        </a:lnTo>
                        <a:lnTo>
                          <a:pt x="3436" y="0"/>
                        </a:lnTo>
                        <a:lnTo>
                          <a:pt x="3465" y="0"/>
                        </a:lnTo>
                        <a:lnTo>
                          <a:pt x="3493" y="0"/>
                        </a:lnTo>
                        <a:lnTo>
                          <a:pt x="3520" y="0"/>
                        </a:lnTo>
                        <a:lnTo>
                          <a:pt x="3548" y="0"/>
                        </a:lnTo>
                        <a:lnTo>
                          <a:pt x="3576" y="0"/>
                        </a:lnTo>
                        <a:lnTo>
                          <a:pt x="3617" y="0"/>
                        </a:lnTo>
                        <a:lnTo>
                          <a:pt x="3645" y="0"/>
                        </a:lnTo>
                        <a:lnTo>
                          <a:pt x="3672" y="0"/>
                        </a:lnTo>
                        <a:lnTo>
                          <a:pt x="3700" y="0"/>
                        </a:lnTo>
                        <a:lnTo>
                          <a:pt x="3728" y="0"/>
                        </a:lnTo>
                        <a:lnTo>
                          <a:pt x="3755" y="0"/>
                        </a:lnTo>
                        <a:lnTo>
                          <a:pt x="3797" y="0"/>
                        </a:lnTo>
                        <a:lnTo>
                          <a:pt x="3824" y="0"/>
                        </a:lnTo>
                        <a:lnTo>
                          <a:pt x="3852" y="0"/>
                        </a:lnTo>
                        <a:lnTo>
                          <a:pt x="3880" y="0"/>
                        </a:lnTo>
                        <a:lnTo>
                          <a:pt x="3907" y="0"/>
                        </a:lnTo>
                        <a:lnTo>
                          <a:pt x="3935" y="0"/>
                        </a:lnTo>
                        <a:lnTo>
                          <a:pt x="3963" y="0"/>
                        </a:lnTo>
                        <a:lnTo>
                          <a:pt x="4018" y="0"/>
                        </a:lnTo>
                        <a:lnTo>
                          <a:pt x="4046" y="0"/>
                        </a:lnTo>
                        <a:lnTo>
                          <a:pt x="4073" y="0"/>
                        </a:lnTo>
                        <a:lnTo>
                          <a:pt x="4101" y="0"/>
                        </a:lnTo>
                        <a:lnTo>
                          <a:pt x="4129" y="0"/>
                        </a:lnTo>
                        <a:lnTo>
                          <a:pt x="4156" y="0"/>
                        </a:lnTo>
                        <a:lnTo>
                          <a:pt x="4198" y="0"/>
                        </a:lnTo>
                        <a:lnTo>
                          <a:pt x="4226" y="0"/>
                        </a:lnTo>
                        <a:lnTo>
                          <a:pt x="4255" y="0"/>
                        </a:lnTo>
                        <a:lnTo>
                          <a:pt x="4282" y="0"/>
                        </a:lnTo>
                        <a:lnTo>
                          <a:pt x="4310" y="0"/>
                        </a:lnTo>
                        <a:lnTo>
                          <a:pt x="4338" y="0"/>
                        </a:lnTo>
                        <a:lnTo>
                          <a:pt x="4379" y="0"/>
                        </a:lnTo>
                        <a:lnTo>
                          <a:pt x="4407" y="0"/>
                        </a:lnTo>
                        <a:lnTo>
                          <a:pt x="4434" y="0"/>
                        </a:lnTo>
                        <a:lnTo>
                          <a:pt x="4462" y="0"/>
                        </a:lnTo>
                        <a:lnTo>
                          <a:pt x="4490" y="0"/>
                        </a:lnTo>
                        <a:lnTo>
                          <a:pt x="4517" y="0"/>
                        </a:lnTo>
                        <a:lnTo>
                          <a:pt x="4559" y="0"/>
                        </a:lnTo>
                        <a:lnTo>
                          <a:pt x="4587" y="0"/>
                        </a:lnTo>
                        <a:lnTo>
                          <a:pt x="4614" y="0"/>
                        </a:lnTo>
                        <a:lnTo>
                          <a:pt x="4642" y="0"/>
                        </a:lnTo>
                        <a:lnTo>
                          <a:pt x="4670" y="0"/>
                        </a:lnTo>
                        <a:lnTo>
                          <a:pt x="4697" y="0"/>
                        </a:lnTo>
                        <a:lnTo>
                          <a:pt x="4725" y="0"/>
                        </a:lnTo>
                        <a:lnTo>
                          <a:pt x="4766" y="0"/>
                        </a:lnTo>
                        <a:lnTo>
                          <a:pt x="4794" y="0"/>
                        </a:lnTo>
                        <a:lnTo>
                          <a:pt x="4822" y="0"/>
                        </a:lnTo>
                        <a:lnTo>
                          <a:pt x="4849" y="0"/>
                        </a:lnTo>
                        <a:lnTo>
                          <a:pt x="4877" y="0"/>
                        </a:lnTo>
                        <a:lnTo>
                          <a:pt x="4905" y="0"/>
                        </a:lnTo>
                        <a:lnTo>
                          <a:pt x="4946" y="0"/>
                        </a:lnTo>
                        <a:lnTo>
                          <a:pt x="4974" y="0"/>
                        </a:lnTo>
                        <a:lnTo>
                          <a:pt x="5002" y="0"/>
                        </a:lnTo>
                        <a:lnTo>
                          <a:pt x="5029" y="0"/>
                        </a:lnTo>
                        <a:lnTo>
                          <a:pt x="5058" y="0"/>
                        </a:lnTo>
                        <a:lnTo>
                          <a:pt x="5086" y="0"/>
                        </a:lnTo>
                        <a:lnTo>
                          <a:pt x="5127" y="0"/>
                        </a:lnTo>
                        <a:lnTo>
                          <a:pt x="5155" y="0"/>
                        </a:lnTo>
                        <a:lnTo>
                          <a:pt x="5183" y="0"/>
                        </a:lnTo>
                        <a:lnTo>
                          <a:pt x="5210" y="0"/>
                        </a:lnTo>
                        <a:lnTo>
                          <a:pt x="5238" y="0"/>
                        </a:lnTo>
                        <a:lnTo>
                          <a:pt x="5266" y="0"/>
                        </a:lnTo>
                        <a:lnTo>
                          <a:pt x="5307" y="0"/>
                        </a:lnTo>
                        <a:lnTo>
                          <a:pt x="5335" y="0"/>
                        </a:lnTo>
                        <a:lnTo>
                          <a:pt x="5363" y="0"/>
                        </a:lnTo>
                        <a:lnTo>
                          <a:pt x="5390" y="0"/>
                        </a:lnTo>
                        <a:lnTo>
                          <a:pt x="5418" y="0"/>
                        </a:lnTo>
                        <a:lnTo>
                          <a:pt x="5445" y="0"/>
                        </a:lnTo>
                        <a:lnTo>
                          <a:pt x="5487" y="0"/>
                        </a:lnTo>
                        <a:lnTo>
                          <a:pt x="5515" y="0"/>
                        </a:lnTo>
                        <a:lnTo>
                          <a:pt x="5542" y="0"/>
                        </a:lnTo>
                        <a:lnTo>
                          <a:pt x="5570" y="0"/>
                        </a:lnTo>
                        <a:lnTo>
                          <a:pt x="5598" y="0"/>
                        </a:lnTo>
                        <a:lnTo>
                          <a:pt x="5625" y="0"/>
                        </a:lnTo>
                        <a:lnTo>
                          <a:pt x="5653" y="0"/>
                        </a:lnTo>
                        <a:lnTo>
                          <a:pt x="5694" y="0"/>
                        </a:lnTo>
                        <a:lnTo>
                          <a:pt x="5722" y="0"/>
                        </a:lnTo>
                        <a:lnTo>
                          <a:pt x="5750" y="0"/>
                        </a:lnTo>
                        <a:lnTo>
                          <a:pt x="5777" y="0"/>
                        </a:lnTo>
                        <a:lnTo>
                          <a:pt x="5805" y="0"/>
                        </a:lnTo>
                        <a:lnTo>
                          <a:pt x="5833" y="0"/>
                        </a:lnTo>
                        <a:lnTo>
                          <a:pt x="5876" y="0"/>
                        </a:lnTo>
                        <a:lnTo>
                          <a:pt x="5903" y="0"/>
                        </a:lnTo>
                        <a:lnTo>
                          <a:pt x="5931" y="0"/>
                        </a:lnTo>
                        <a:lnTo>
                          <a:pt x="5959" y="0"/>
                        </a:lnTo>
                        <a:lnTo>
                          <a:pt x="5986" y="0"/>
                        </a:lnTo>
                        <a:lnTo>
                          <a:pt x="6014" y="0"/>
                        </a:lnTo>
                        <a:lnTo>
                          <a:pt x="6055" y="0"/>
                        </a:lnTo>
                        <a:lnTo>
                          <a:pt x="6083" y="0"/>
                        </a:lnTo>
                        <a:lnTo>
                          <a:pt x="6111" y="0"/>
                        </a:lnTo>
                        <a:lnTo>
                          <a:pt x="6138" y="0"/>
                        </a:lnTo>
                        <a:lnTo>
                          <a:pt x="6166" y="0"/>
                        </a:lnTo>
                        <a:lnTo>
                          <a:pt x="6194" y="0"/>
                        </a:lnTo>
                        <a:lnTo>
                          <a:pt x="6235" y="0"/>
                        </a:lnTo>
                        <a:lnTo>
                          <a:pt x="6263" y="0"/>
                        </a:lnTo>
                        <a:lnTo>
                          <a:pt x="6291" y="0"/>
                        </a:lnTo>
                        <a:lnTo>
                          <a:pt x="6318" y="0"/>
                        </a:lnTo>
                        <a:lnTo>
                          <a:pt x="6346" y="0"/>
                        </a:lnTo>
                        <a:lnTo>
                          <a:pt x="6374" y="0"/>
                        </a:lnTo>
                        <a:lnTo>
                          <a:pt x="6401" y="0"/>
                        </a:lnTo>
                        <a:lnTo>
                          <a:pt x="6443" y="0"/>
                        </a:lnTo>
                        <a:lnTo>
                          <a:pt x="6470" y="0"/>
                        </a:lnTo>
                        <a:lnTo>
                          <a:pt x="6498" y="0"/>
                        </a:lnTo>
                        <a:lnTo>
                          <a:pt x="6526" y="0"/>
                        </a:lnTo>
                        <a:lnTo>
                          <a:pt x="6553" y="0"/>
                        </a:lnTo>
                        <a:lnTo>
                          <a:pt x="6581" y="0"/>
                        </a:lnTo>
                        <a:lnTo>
                          <a:pt x="6623" y="0"/>
                        </a:lnTo>
                        <a:lnTo>
                          <a:pt x="6665" y="0"/>
                        </a:lnTo>
                        <a:lnTo>
                          <a:pt x="6693" y="0"/>
                        </a:lnTo>
                        <a:lnTo>
                          <a:pt x="6721" y="0"/>
                        </a:lnTo>
                        <a:lnTo>
                          <a:pt x="6748" y="0"/>
                        </a:lnTo>
                        <a:lnTo>
                          <a:pt x="6776" y="0"/>
                        </a:lnTo>
                        <a:lnTo>
                          <a:pt x="6818" y="0"/>
                        </a:lnTo>
                        <a:lnTo>
                          <a:pt x="6845" y="0"/>
                        </a:lnTo>
                        <a:lnTo>
                          <a:pt x="6873" y="0"/>
                        </a:lnTo>
                        <a:lnTo>
                          <a:pt x="6901" y="0"/>
                        </a:lnTo>
                        <a:lnTo>
                          <a:pt x="6928" y="0"/>
                        </a:lnTo>
                        <a:lnTo>
                          <a:pt x="6956" y="0"/>
                        </a:lnTo>
                        <a:lnTo>
                          <a:pt x="6997" y="0"/>
                        </a:lnTo>
                        <a:lnTo>
                          <a:pt x="7025" y="0"/>
                        </a:lnTo>
                        <a:lnTo>
                          <a:pt x="7053" y="0"/>
                        </a:lnTo>
                        <a:lnTo>
                          <a:pt x="7080" y="0"/>
                        </a:lnTo>
                        <a:lnTo>
                          <a:pt x="7108" y="0"/>
                        </a:lnTo>
                        <a:lnTo>
                          <a:pt x="7136" y="0"/>
                        </a:lnTo>
                        <a:lnTo>
                          <a:pt x="7177" y="0"/>
                        </a:lnTo>
                        <a:lnTo>
                          <a:pt x="7205" y="0"/>
                        </a:lnTo>
                        <a:lnTo>
                          <a:pt x="7232" y="0"/>
                        </a:lnTo>
                        <a:lnTo>
                          <a:pt x="7260" y="0"/>
                        </a:lnTo>
                        <a:lnTo>
                          <a:pt x="7288" y="0"/>
                        </a:lnTo>
                        <a:lnTo>
                          <a:pt x="7315" y="0"/>
                        </a:lnTo>
                        <a:lnTo>
                          <a:pt x="7343" y="0"/>
                        </a:lnTo>
                        <a:lnTo>
                          <a:pt x="7385" y="0"/>
                        </a:lnTo>
                        <a:lnTo>
                          <a:pt x="7412" y="0"/>
                        </a:lnTo>
                        <a:lnTo>
                          <a:pt x="7441" y="0"/>
                        </a:lnTo>
                        <a:lnTo>
                          <a:pt x="7469" y="0"/>
                        </a:lnTo>
                        <a:lnTo>
                          <a:pt x="7497" y="0"/>
                        </a:lnTo>
                        <a:lnTo>
                          <a:pt x="7524" y="0"/>
                        </a:lnTo>
                        <a:lnTo>
                          <a:pt x="7566" y="0"/>
                        </a:lnTo>
                        <a:lnTo>
                          <a:pt x="7593" y="0"/>
                        </a:lnTo>
                        <a:lnTo>
                          <a:pt x="7621" y="0"/>
                        </a:lnTo>
                        <a:lnTo>
                          <a:pt x="7649" y="0"/>
                        </a:lnTo>
                        <a:lnTo>
                          <a:pt x="7676"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01" name=""/>
                <p:cNvGrpSpPr/>
                <p:nvPr/>
              </p:nvGrpSpPr>
              <p:grpSpPr>
                <a:xfrm>
                  <a:off x="5014800" y="2735280"/>
                  <a:ext cx="4017960" cy="1440"/>
                  <a:chOff x="5014800" y="2735280"/>
                  <a:chExt cx="4017960" cy="1440"/>
                </a:xfrm>
              </p:grpSpPr>
              <p:sp>
                <p:nvSpPr>
                  <p:cNvPr id="1502" name=""/>
                  <p:cNvSpPr/>
                  <p:nvPr/>
                </p:nvSpPr>
                <p:spPr>
                  <a:xfrm>
                    <a:off x="5014800" y="2735280"/>
                    <a:ext cx="4017960" cy="1440"/>
                  </a:xfrm>
                  <a:custGeom>
                    <a:avLst/>
                    <a:gdLst/>
                    <a:ahLst/>
                    <a:rect l="l" t="t" r="r" b="b"/>
                    <a:pathLst>
                      <a:path w="7593" h="0">
                        <a:moveTo>
                          <a:pt x="0" y="0"/>
                        </a:moveTo>
                        <a:lnTo>
                          <a:pt x="27" y="0"/>
                        </a:lnTo>
                        <a:lnTo>
                          <a:pt x="55" y="0"/>
                        </a:lnTo>
                        <a:lnTo>
                          <a:pt x="83" y="0"/>
                        </a:lnTo>
                        <a:lnTo>
                          <a:pt x="124" y="0"/>
                        </a:lnTo>
                        <a:lnTo>
                          <a:pt x="152" y="0"/>
                        </a:lnTo>
                        <a:lnTo>
                          <a:pt x="179" y="0"/>
                        </a:lnTo>
                        <a:lnTo>
                          <a:pt x="207" y="0"/>
                        </a:lnTo>
                        <a:lnTo>
                          <a:pt x="236" y="0"/>
                        </a:lnTo>
                        <a:lnTo>
                          <a:pt x="264" y="0"/>
                        </a:lnTo>
                        <a:lnTo>
                          <a:pt x="305" y="0"/>
                        </a:lnTo>
                        <a:lnTo>
                          <a:pt x="333" y="0"/>
                        </a:lnTo>
                        <a:lnTo>
                          <a:pt x="361" y="0"/>
                        </a:lnTo>
                        <a:lnTo>
                          <a:pt x="388" y="0"/>
                        </a:lnTo>
                        <a:lnTo>
                          <a:pt x="416" y="0"/>
                        </a:lnTo>
                        <a:lnTo>
                          <a:pt x="444" y="0"/>
                        </a:lnTo>
                        <a:lnTo>
                          <a:pt x="485" y="0"/>
                        </a:lnTo>
                        <a:lnTo>
                          <a:pt x="513" y="0"/>
                        </a:lnTo>
                        <a:lnTo>
                          <a:pt x="540" y="0"/>
                        </a:lnTo>
                        <a:lnTo>
                          <a:pt x="568" y="0"/>
                        </a:lnTo>
                        <a:lnTo>
                          <a:pt x="596" y="0"/>
                        </a:lnTo>
                        <a:lnTo>
                          <a:pt x="623" y="0"/>
                        </a:lnTo>
                        <a:lnTo>
                          <a:pt x="665" y="0"/>
                        </a:lnTo>
                        <a:lnTo>
                          <a:pt x="693" y="0"/>
                        </a:lnTo>
                        <a:lnTo>
                          <a:pt x="720" y="0"/>
                        </a:lnTo>
                        <a:lnTo>
                          <a:pt x="748" y="0"/>
                        </a:lnTo>
                        <a:lnTo>
                          <a:pt x="776" y="0"/>
                        </a:lnTo>
                        <a:lnTo>
                          <a:pt x="803" y="0"/>
                        </a:lnTo>
                        <a:lnTo>
                          <a:pt x="845" y="0"/>
                        </a:lnTo>
                        <a:lnTo>
                          <a:pt x="872" y="0"/>
                        </a:lnTo>
                        <a:lnTo>
                          <a:pt x="900" y="0"/>
                        </a:lnTo>
                        <a:lnTo>
                          <a:pt x="928" y="0"/>
                        </a:lnTo>
                        <a:lnTo>
                          <a:pt x="955" y="0"/>
                        </a:lnTo>
                        <a:lnTo>
                          <a:pt x="983" y="0"/>
                        </a:lnTo>
                        <a:lnTo>
                          <a:pt x="1026" y="0"/>
                        </a:lnTo>
                        <a:lnTo>
                          <a:pt x="1054" y="0"/>
                        </a:lnTo>
                        <a:lnTo>
                          <a:pt x="1081" y="0"/>
                        </a:lnTo>
                        <a:lnTo>
                          <a:pt x="1109" y="0"/>
                        </a:lnTo>
                        <a:lnTo>
                          <a:pt x="1137" y="0"/>
                        </a:lnTo>
                        <a:lnTo>
                          <a:pt x="1164" y="0"/>
                        </a:lnTo>
                        <a:lnTo>
                          <a:pt x="1206" y="0"/>
                        </a:lnTo>
                        <a:lnTo>
                          <a:pt x="1233" y="0"/>
                        </a:lnTo>
                        <a:lnTo>
                          <a:pt x="1261" y="0"/>
                        </a:lnTo>
                        <a:lnTo>
                          <a:pt x="1303" y="0"/>
                        </a:lnTo>
                        <a:lnTo>
                          <a:pt x="1330" y="0"/>
                        </a:lnTo>
                        <a:lnTo>
                          <a:pt x="1358" y="0"/>
                        </a:lnTo>
                        <a:lnTo>
                          <a:pt x="1399" y="0"/>
                        </a:lnTo>
                        <a:lnTo>
                          <a:pt x="1427" y="0"/>
                        </a:lnTo>
                        <a:lnTo>
                          <a:pt x="1455" y="0"/>
                        </a:lnTo>
                        <a:lnTo>
                          <a:pt x="1482" y="0"/>
                        </a:lnTo>
                        <a:lnTo>
                          <a:pt x="1510" y="0"/>
                        </a:lnTo>
                        <a:lnTo>
                          <a:pt x="1538" y="0"/>
                        </a:lnTo>
                        <a:lnTo>
                          <a:pt x="1579" y="0"/>
                        </a:lnTo>
                        <a:lnTo>
                          <a:pt x="1607" y="0"/>
                        </a:lnTo>
                        <a:lnTo>
                          <a:pt x="1634" y="0"/>
                        </a:lnTo>
                        <a:lnTo>
                          <a:pt x="1662" y="0"/>
                        </a:lnTo>
                        <a:lnTo>
                          <a:pt x="1690" y="0"/>
                        </a:lnTo>
                        <a:lnTo>
                          <a:pt x="1717" y="0"/>
                        </a:lnTo>
                        <a:lnTo>
                          <a:pt x="1759" y="0"/>
                        </a:lnTo>
                        <a:lnTo>
                          <a:pt x="1787" y="0"/>
                        </a:lnTo>
                        <a:lnTo>
                          <a:pt x="1816" y="0"/>
                        </a:lnTo>
                        <a:lnTo>
                          <a:pt x="1843" y="0"/>
                        </a:lnTo>
                        <a:lnTo>
                          <a:pt x="1871" y="0"/>
                        </a:lnTo>
                        <a:lnTo>
                          <a:pt x="1899" y="0"/>
                        </a:lnTo>
                        <a:lnTo>
                          <a:pt x="1940" y="0"/>
                        </a:lnTo>
                        <a:lnTo>
                          <a:pt x="1968" y="0"/>
                        </a:lnTo>
                        <a:lnTo>
                          <a:pt x="1995" y="0"/>
                        </a:lnTo>
                        <a:lnTo>
                          <a:pt x="2023" y="0"/>
                        </a:lnTo>
                        <a:lnTo>
                          <a:pt x="2051" y="0"/>
                        </a:lnTo>
                        <a:lnTo>
                          <a:pt x="2078" y="0"/>
                        </a:lnTo>
                        <a:lnTo>
                          <a:pt x="2120" y="0"/>
                        </a:lnTo>
                        <a:lnTo>
                          <a:pt x="2148" y="0"/>
                        </a:lnTo>
                        <a:lnTo>
                          <a:pt x="2175" y="0"/>
                        </a:lnTo>
                        <a:lnTo>
                          <a:pt x="2203" y="0"/>
                        </a:lnTo>
                        <a:lnTo>
                          <a:pt x="2231" y="0"/>
                        </a:lnTo>
                        <a:lnTo>
                          <a:pt x="2258" y="0"/>
                        </a:lnTo>
                        <a:lnTo>
                          <a:pt x="2300" y="0"/>
                        </a:lnTo>
                        <a:lnTo>
                          <a:pt x="2327" y="0"/>
                        </a:lnTo>
                        <a:lnTo>
                          <a:pt x="2355" y="0"/>
                        </a:lnTo>
                        <a:lnTo>
                          <a:pt x="2383" y="0"/>
                        </a:lnTo>
                        <a:lnTo>
                          <a:pt x="2410" y="0"/>
                        </a:lnTo>
                        <a:lnTo>
                          <a:pt x="2438" y="0"/>
                        </a:lnTo>
                        <a:lnTo>
                          <a:pt x="2480" y="0"/>
                        </a:lnTo>
                        <a:lnTo>
                          <a:pt x="2507" y="0"/>
                        </a:lnTo>
                        <a:lnTo>
                          <a:pt x="2535" y="0"/>
                        </a:lnTo>
                        <a:lnTo>
                          <a:pt x="2563" y="0"/>
                        </a:lnTo>
                        <a:lnTo>
                          <a:pt x="2590" y="0"/>
                        </a:lnTo>
                        <a:lnTo>
                          <a:pt x="2619" y="0"/>
                        </a:lnTo>
                        <a:lnTo>
                          <a:pt x="2647" y="0"/>
                        </a:lnTo>
                        <a:lnTo>
                          <a:pt x="2688" y="0"/>
                        </a:lnTo>
                        <a:lnTo>
                          <a:pt x="2716" y="0"/>
                        </a:lnTo>
                        <a:lnTo>
                          <a:pt x="2744" y="0"/>
                        </a:lnTo>
                        <a:lnTo>
                          <a:pt x="2771" y="0"/>
                        </a:lnTo>
                        <a:lnTo>
                          <a:pt x="2799" y="0"/>
                        </a:lnTo>
                        <a:lnTo>
                          <a:pt x="2827" y="0"/>
                        </a:lnTo>
                        <a:lnTo>
                          <a:pt x="2868" y="0"/>
                        </a:lnTo>
                        <a:lnTo>
                          <a:pt x="2896" y="0"/>
                        </a:lnTo>
                        <a:lnTo>
                          <a:pt x="2924" y="0"/>
                        </a:lnTo>
                        <a:lnTo>
                          <a:pt x="2951" y="0"/>
                        </a:lnTo>
                        <a:lnTo>
                          <a:pt x="2979" y="0"/>
                        </a:lnTo>
                        <a:lnTo>
                          <a:pt x="3007"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9" y="0"/>
                        </a:lnTo>
                        <a:lnTo>
                          <a:pt x="3437" y="0"/>
                        </a:lnTo>
                        <a:lnTo>
                          <a:pt x="3464" y="0"/>
                        </a:lnTo>
                        <a:lnTo>
                          <a:pt x="3492" y="0"/>
                        </a:lnTo>
                        <a:lnTo>
                          <a:pt x="3520" y="0"/>
                        </a:lnTo>
                        <a:lnTo>
                          <a:pt x="3547" y="0"/>
                        </a:lnTo>
                        <a:lnTo>
                          <a:pt x="3589" y="0"/>
                        </a:lnTo>
                        <a:lnTo>
                          <a:pt x="3617" y="0"/>
                        </a:lnTo>
                        <a:lnTo>
                          <a:pt x="3644" y="0"/>
                        </a:lnTo>
                        <a:lnTo>
                          <a:pt x="3672" y="0"/>
                        </a:lnTo>
                        <a:lnTo>
                          <a:pt x="3699" y="0"/>
                        </a:lnTo>
                        <a:lnTo>
                          <a:pt x="3727" y="0"/>
                        </a:lnTo>
                        <a:lnTo>
                          <a:pt x="3769" y="0"/>
                        </a:lnTo>
                        <a:lnTo>
                          <a:pt x="3796" y="0"/>
                        </a:lnTo>
                        <a:lnTo>
                          <a:pt x="3824" y="0"/>
                        </a:lnTo>
                        <a:lnTo>
                          <a:pt x="3852" y="0"/>
                        </a:lnTo>
                        <a:lnTo>
                          <a:pt x="3879" y="0"/>
                        </a:lnTo>
                        <a:lnTo>
                          <a:pt x="3907" y="0"/>
                        </a:lnTo>
                        <a:lnTo>
                          <a:pt x="3962" y="0"/>
                        </a:lnTo>
                        <a:lnTo>
                          <a:pt x="3990" y="0"/>
                        </a:lnTo>
                        <a:lnTo>
                          <a:pt x="4018" y="0"/>
                        </a:lnTo>
                        <a:lnTo>
                          <a:pt x="4045" y="0"/>
                        </a:lnTo>
                        <a:lnTo>
                          <a:pt x="4073" y="0"/>
                        </a:lnTo>
                        <a:lnTo>
                          <a:pt x="4101" y="0"/>
                        </a:lnTo>
                        <a:lnTo>
                          <a:pt x="4142" y="0"/>
                        </a:lnTo>
                        <a:lnTo>
                          <a:pt x="4170" y="0"/>
                        </a:lnTo>
                        <a:lnTo>
                          <a:pt x="4197" y="0"/>
                        </a:lnTo>
                        <a:lnTo>
                          <a:pt x="4226" y="0"/>
                        </a:lnTo>
                        <a:lnTo>
                          <a:pt x="4254" y="0"/>
                        </a:lnTo>
                        <a:lnTo>
                          <a:pt x="4282" y="0"/>
                        </a:lnTo>
                        <a:lnTo>
                          <a:pt x="4323" y="0"/>
                        </a:lnTo>
                        <a:lnTo>
                          <a:pt x="4351" y="0"/>
                        </a:lnTo>
                        <a:lnTo>
                          <a:pt x="4379" y="0"/>
                        </a:lnTo>
                        <a:lnTo>
                          <a:pt x="4406" y="0"/>
                        </a:lnTo>
                        <a:lnTo>
                          <a:pt x="4434" y="0"/>
                        </a:lnTo>
                        <a:lnTo>
                          <a:pt x="4462" y="0"/>
                        </a:lnTo>
                        <a:lnTo>
                          <a:pt x="4503" y="0"/>
                        </a:lnTo>
                        <a:lnTo>
                          <a:pt x="4531" y="0"/>
                        </a:lnTo>
                        <a:lnTo>
                          <a:pt x="4558" y="0"/>
                        </a:lnTo>
                        <a:lnTo>
                          <a:pt x="4586" y="0"/>
                        </a:lnTo>
                        <a:lnTo>
                          <a:pt x="4614"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2" y="0"/>
                        </a:lnTo>
                        <a:lnTo>
                          <a:pt x="5044" y="0"/>
                        </a:lnTo>
                        <a:lnTo>
                          <a:pt x="5072" y="0"/>
                        </a:lnTo>
                        <a:lnTo>
                          <a:pt x="5099" y="0"/>
                        </a:lnTo>
                        <a:lnTo>
                          <a:pt x="5127" y="0"/>
                        </a:lnTo>
                        <a:lnTo>
                          <a:pt x="5155" y="0"/>
                        </a:lnTo>
                        <a:lnTo>
                          <a:pt x="5182" y="0"/>
                        </a:lnTo>
                        <a:lnTo>
                          <a:pt x="5210" y="0"/>
                        </a:lnTo>
                        <a:lnTo>
                          <a:pt x="5251" y="0"/>
                        </a:lnTo>
                        <a:lnTo>
                          <a:pt x="5279" y="0"/>
                        </a:lnTo>
                        <a:lnTo>
                          <a:pt x="5307" y="0"/>
                        </a:lnTo>
                        <a:lnTo>
                          <a:pt x="5334" y="0"/>
                        </a:lnTo>
                        <a:lnTo>
                          <a:pt x="5362" y="0"/>
                        </a:lnTo>
                        <a:lnTo>
                          <a:pt x="5390" y="0"/>
                        </a:lnTo>
                        <a:lnTo>
                          <a:pt x="5431" y="0"/>
                        </a:lnTo>
                        <a:lnTo>
                          <a:pt x="5459" y="0"/>
                        </a:lnTo>
                        <a:lnTo>
                          <a:pt x="5486" y="0"/>
                        </a:lnTo>
                        <a:lnTo>
                          <a:pt x="5514" y="0"/>
                        </a:lnTo>
                        <a:lnTo>
                          <a:pt x="5542" y="0"/>
                        </a:lnTo>
                        <a:lnTo>
                          <a:pt x="5569" y="0"/>
                        </a:lnTo>
                        <a:lnTo>
                          <a:pt x="5611" y="0"/>
                        </a:lnTo>
                        <a:lnTo>
                          <a:pt x="5639" y="0"/>
                        </a:lnTo>
                        <a:lnTo>
                          <a:pt x="5666" y="0"/>
                        </a:lnTo>
                        <a:lnTo>
                          <a:pt x="5694" y="0"/>
                        </a:lnTo>
                        <a:lnTo>
                          <a:pt x="5722" y="0"/>
                        </a:lnTo>
                        <a:lnTo>
                          <a:pt x="5749" y="0"/>
                        </a:lnTo>
                        <a:lnTo>
                          <a:pt x="5791" y="0"/>
                        </a:lnTo>
                        <a:lnTo>
                          <a:pt x="5820" y="0"/>
                        </a:lnTo>
                        <a:lnTo>
                          <a:pt x="5847" y="0"/>
                        </a:lnTo>
                        <a:lnTo>
                          <a:pt x="5875" y="0"/>
                        </a:lnTo>
                        <a:lnTo>
                          <a:pt x="5903" y="0"/>
                        </a:lnTo>
                        <a:lnTo>
                          <a:pt x="5930" y="0"/>
                        </a:lnTo>
                        <a:lnTo>
                          <a:pt x="5972" y="0"/>
                        </a:lnTo>
                        <a:lnTo>
                          <a:pt x="6000" y="0"/>
                        </a:lnTo>
                        <a:lnTo>
                          <a:pt x="6027" y="0"/>
                        </a:lnTo>
                        <a:lnTo>
                          <a:pt x="6055" y="0"/>
                        </a:lnTo>
                        <a:lnTo>
                          <a:pt x="6083" y="0"/>
                        </a:lnTo>
                        <a:lnTo>
                          <a:pt x="6110" y="0"/>
                        </a:lnTo>
                        <a:lnTo>
                          <a:pt x="6152" y="0"/>
                        </a:lnTo>
                        <a:lnTo>
                          <a:pt x="6179" y="0"/>
                        </a:lnTo>
                        <a:lnTo>
                          <a:pt x="6207" y="0"/>
                        </a:lnTo>
                        <a:lnTo>
                          <a:pt x="6235" y="0"/>
                        </a:lnTo>
                        <a:lnTo>
                          <a:pt x="6262" y="0"/>
                        </a:lnTo>
                        <a:lnTo>
                          <a:pt x="6290" y="0"/>
                        </a:lnTo>
                        <a:lnTo>
                          <a:pt x="6332" y="0"/>
                        </a:lnTo>
                        <a:lnTo>
                          <a:pt x="6359" y="0"/>
                        </a:lnTo>
                        <a:lnTo>
                          <a:pt x="6387" y="0"/>
                        </a:lnTo>
                        <a:lnTo>
                          <a:pt x="6415" y="0"/>
                        </a:lnTo>
                        <a:lnTo>
                          <a:pt x="6442" y="0"/>
                        </a:lnTo>
                        <a:lnTo>
                          <a:pt x="6470" y="0"/>
                        </a:lnTo>
                        <a:lnTo>
                          <a:pt x="6511" y="0"/>
                        </a:lnTo>
                        <a:lnTo>
                          <a:pt x="6539" y="0"/>
                        </a:lnTo>
                        <a:lnTo>
                          <a:pt x="6567" y="0"/>
                        </a:lnTo>
                        <a:lnTo>
                          <a:pt x="6596" y="0"/>
                        </a:lnTo>
                        <a:lnTo>
                          <a:pt x="6637" y="0"/>
                        </a:lnTo>
                        <a:lnTo>
                          <a:pt x="6665" y="0"/>
                        </a:lnTo>
                        <a:lnTo>
                          <a:pt x="6706" y="0"/>
                        </a:lnTo>
                        <a:lnTo>
                          <a:pt x="6734" y="0"/>
                        </a:lnTo>
                        <a:lnTo>
                          <a:pt x="6762" y="0"/>
                        </a:lnTo>
                        <a:lnTo>
                          <a:pt x="6789" y="0"/>
                        </a:lnTo>
                        <a:lnTo>
                          <a:pt x="6817" y="0"/>
                        </a:lnTo>
                        <a:lnTo>
                          <a:pt x="6845" y="0"/>
                        </a:lnTo>
                        <a:lnTo>
                          <a:pt x="6886" y="0"/>
                        </a:lnTo>
                        <a:lnTo>
                          <a:pt x="6914" y="0"/>
                        </a:lnTo>
                        <a:lnTo>
                          <a:pt x="6942" y="0"/>
                        </a:lnTo>
                        <a:lnTo>
                          <a:pt x="6969" y="0"/>
                        </a:lnTo>
                        <a:lnTo>
                          <a:pt x="6997" y="0"/>
                        </a:lnTo>
                        <a:lnTo>
                          <a:pt x="7025" y="0"/>
                        </a:lnTo>
                        <a:lnTo>
                          <a:pt x="7066" y="0"/>
                        </a:lnTo>
                        <a:lnTo>
                          <a:pt x="7094" y="0"/>
                        </a:lnTo>
                        <a:lnTo>
                          <a:pt x="7121" y="0"/>
                        </a:lnTo>
                        <a:lnTo>
                          <a:pt x="7149" y="0"/>
                        </a:lnTo>
                        <a:lnTo>
                          <a:pt x="7177" y="0"/>
                        </a:lnTo>
                        <a:lnTo>
                          <a:pt x="7204" y="0"/>
                        </a:lnTo>
                        <a:lnTo>
                          <a:pt x="7246" y="0"/>
                        </a:lnTo>
                        <a:lnTo>
                          <a:pt x="7273" y="0"/>
                        </a:lnTo>
                        <a:lnTo>
                          <a:pt x="7301" y="0"/>
                        </a:lnTo>
                        <a:lnTo>
                          <a:pt x="7329" y="0"/>
                        </a:lnTo>
                        <a:lnTo>
                          <a:pt x="7356" y="0"/>
                        </a:lnTo>
                        <a:lnTo>
                          <a:pt x="7384" y="0"/>
                        </a:lnTo>
                        <a:lnTo>
                          <a:pt x="7427" y="0"/>
                        </a:lnTo>
                        <a:lnTo>
                          <a:pt x="7455" y="0"/>
                        </a:lnTo>
                        <a:lnTo>
                          <a:pt x="7482" y="0"/>
                        </a:lnTo>
                        <a:lnTo>
                          <a:pt x="7510" y="0"/>
                        </a:lnTo>
                        <a:lnTo>
                          <a:pt x="7538" y="0"/>
                        </a:lnTo>
                        <a:lnTo>
                          <a:pt x="7565" y="0"/>
                        </a:lnTo>
                        <a:lnTo>
                          <a:pt x="7593"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3" name=""/>
                  <p:cNvSpPr/>
                  <p:nvPr/>
                </p:nvSpPr>
                <p:spPr>
                  <a:xfrm>
                    <a:off x="5014800" y="2735280"/>
                    <a:ext cx="4017960" cy="1440"/>
                  </a:xfrm>
                  <a:custGeom>
                    <a:avLst/>
                    <a:gdLst/>
                    <a:ahLst/>
                    <a:rect l="l" t="t" r="r" b="b"/>
                    <a:pathLst>
                      <a:path w="7593" h="0">
                        <a:moveTo>
                          <a:pt x="0" y="0"/>
                        </a:moveTo>
                        <a:lnTo>
                          <a:pt x="27" y="0"/>
                        </a:lnTo>
                        <a:lnTo>
                          <a:pt x="55" y="0"/>
                        </a:lnTo>
                        <a:lnTo>
                          <a:pt x="83" y="0"/>
                        </a:lnTo>
                        <a:lnTo>
                          <a:pt x="124" y="0"/>
                        </a:lnTo>
                        <a:lnTo>
                          <a:pt x="152" y="0"/>
                        </a:lnTo>
                        <a:lnTo>
                          <a:pt x="179" y="0"/>
                        </a:lnTo>
                        <a:lnTo>
                          <a:pt x="207" y="0"/>
                        </a:lnTo>
                        <a:lnTo>
                          <a:pt x="236" y="0"/>
                        </a:lnTo>
                        <a:lnTo>
                          <a:pt x="264" y="0"/>
                        </a:lnTo>
                        <a:lnTo>
                          <a:pt x="305" y="0"/>
                        </a:lnTo>
                        <a:lnTo>
                          <a:pt x="333" y="0"/>
                        </a:lnTo>
                        <a:lnTo>
                          <a:pt x="361" y="0"/>
                        </a:lnTo>
                        <a:lnTo>
                          <a:pt x="388" y="0"/>
                        </a:lnTo>
                        <a:lnTo>
                          <a:pt x="416" y="0"/>
                        </a:lnTo>
                        <a:lnTo>
                          <a:pt x="444" y="0"/>
                        </a:lnTo>
                        <a:lnTo>
                          <a:pt x="485" y="0"/>
                        </a:lnTo>
                        <a:lnTo>
                          <a:pt x="513" y="0"/>
                        </a:lnTo>
                        <a:lnTo>
                          <a:pt x="540" y="0"/>
                        </a:lnTo>
                        <a:lnTo>
                          <a:pt x="568" y="0"/>
                        </a:lnTo>
                        <a:lnTo>
                          <a:pt x="596" y="0"/>
                        </a:lnTo>
                        <a:lnTo>
                          <a:pt x="623" y="0"/>
                        </a:lnTo>
                        <a:lnTo>
                          <a:pt x="665" y="0"/>
                        </a:lnTo>
                        <a:lnTo>
                          <a:pt x="693" y="0"/>
                        </a:lnTo>
                        <a:lnTo>
                          <a:pt x="720" y="0"/>
                        </a:lnTo>
                        <a:lnTo>
                          <a:pt x="748" y="0"/>
                        </a:lnTo>
                        <a:lnTo>
                          <a:pt x="776" y="0"/>
                        </a:lnTo>
                        <a:lnTo>
                          <a:pt x="803" y="0"/>
                        </a:lnTo>
                        <a:lnTo>
                          <a:pt x="845" y="0"/>
                        </a:lnTo>
                        <a:lnTo>
                          <a:pt x="872" y="0"/>
                        </a:lnTo>
                        <a:lnTo>
                          <a:pt x="900" y="0"/>
                        </a:lnTo>
                        <a:lnTo>
                          <a:pt x="928" y="0"/>
                        </a:lnTo>
                        <a:lnTo>
                          <a:pt x="955" y="0"/>
                        </a:lnTo>
                        <a:lnTo>
                          <a:pt x="983" y="0"/>
                        </a:lnTo>
                        <a:lnTo>
                          <a:pt x="1026" y="0"/>
                        </a:lnTo>
                        <a:lnTo>
                          <a:pt x="1054" y="0"/>
                        </a:lnTo>
                        <a:lnTo>
                          <a:pt x="1081" y="0"/>
                        </a:lnTo>
                        <a:lnTo>
                          <a:pt x="1109" y="0"/>
                        </a:lnTo>
                        <a:lnTo>
                          <a:pt x="1137" y="0"/>
                        </a:lnTo>
                        <a:lnTo>
                          <a:pt x="1164" y="0"/>
                        </a:lnTo>
                        <a:lnTo>
                          <a:pt x="1206" y="0"/>
                        </a:lnTo>
                        <a:lnTo>
                          <a:pt x="1233" y="0"/>
                        </a:lnTo>
                        <a:lnTo>
                          <a:pt x="1261" y="0"/>
                        </a:lnTo>
                        <a:lnTo>
                          <a:pt x="1303" y="0"/>
                        </a:lnTo>
                        <a:lnTo>
                          <a:pt x="1330" y="0"/>
                        </a:lnTo>
                        <a:lnTo>
                          <a:pt x="1358" y="0"/>
                        </a:lnTo>
                        <a:lnTo>
                          <a:pt x="1399" y="0"/>
                        </a:lnTo>
                        <a:lnTo>
                          <a:pt x="1427" y="0"/>
                        </a:lnTo>
                        <a:lnTo>
                          <a:pt x="1455" y="0"/>
                        </a:lnTo>
                        <a:lnTo>
                          <a:pt x="1482" y="0"/>
                        </a:lnTo>
                        <a:lnTo>
                          <a:pt x="1510" y="0"/>
                        </a:lnTo>
                        <a:lnTo>
                          <a:pt x="1538" y="0"/>
                        </a:lnTo>
                        <a:lnTo>
                          <a:pt x="1579" y="0"/>
                        </a:lnTo>
                        <a:lnTo>
                          <a:pt x="1607" y="0"/>
                        </a:lnTo>
                        <a:lnTo>
                          <a:pt x="1634" y="0"/>
                        </a:lnTo>
                        <a:lnTo>
                          <a:pt x="1662" y="0"/>
                        </a:lnTo>
                        <a:lnTo>
                          <a:pt x="1690" y="0"/>
                        </a:lnTo>
                        <a:lnTo>
                          <a:pt x="1717" y="0"/>
                        </a:lnTo>
                        <a:lnTo>
                          <a:pt x="1759" y="0"/>
                        </a:lnTo>
                        <a:lnTo>
                          <a:pt x="1787" y="0"/>
                        </a:lnTo>
                        <a:lnTo>
                          <a:pt x="1816" y="0"/>
                        </a:lnTo>
                        <a:lnTo>
                          <a:pt x="1843" y="0"/>
                        </a:lnTo>
                        <a:lnTo>
                          <a:pt x="1871" y="0"/>
                        </a:lnTo>
                        <a:lnTo>
                          <a:pt x="1899" y="0"/>
                        </a:lnTo>
                        <a:lnTo>
                          <a:pt x="1940" y="0"/>
                        </a:lnTo>
                        <a:lnTo>
                          <a:pt x="1968" y="0"/>
                        </a:lnTo>
                        <a:lnTo>
                          <a:pt x="1995" y="0"/>
                        </a:lnTo>
                        <a:lnTo>
                          <a:pt x="2023" y="0"/>
                        </a:lnTo>
                        <a:lnTo>
                          <a:pt x="2051" y="0"/>
                        </a:lnTo>
                        <a:lnTo>
                          <a:pt x="2078" y="0"/>
                        </a:lnTo>
                        <a:lnTo>
                          <a:pt x="2120" y="0"/>
                        </a:lnTo>
                        <a:lnTo>
                          <a:pt x="2148" y="0"/>
                        </a:lnTo>
                        <a:lnTo>
                          <a:pt x="2175" y="0"/>
                        </a:lnTo>
                        <a:lnTo>
                          <a:pt x="2203" y="0"/>
                        </a:lnTo>
                        <a:lnTo>
                          <a:pt x="2231" y="0"/>
                        </a:lnTo>
                        <a:lnTo>
                          <a:pt x="2258" y="0"/>
                        </a:lnTo>
                        <a:lnTo>
                          <a:pt x="2300" y="0"/>
                        </a:lnTo>
                        <a:lnTo>
                          <a:pt x="2327" y="0"/>
                        </a:lnTo>
                        <a:lnTo>
                          <a:pt x="2355" y="0"/>
                        </a:lnTo>
                        <a:lnTo>
                          <a:pt x="2383" y="0"/>
                        </a:lnTo>
                        <a:lnTo>
                          <a:pt x="2410" y="0"/>
                        </a:lnTo>
                        <a:lnTo>
                          <a:pt x="2438" y="0"/>
                        </a:lnTo>
                        <a:lnTo>
                          <a:pt x="2480" y="0"/>
                        </a:lnTo>
                        <a:lnTo>
                          <a:pt x="2507" y="0"/>
                        </a:lnTo>
                        <a:lnTo>
                          <a:pt x="2535" y="0"/>
                        </a:lnTo>
                        <a:lnTo>
                          <a:pt x="2563" y="0"/>
                        </a:lnTo>
                        <a:lnTo>
                          <a:pt x="2590" y="0"/>
                        </a:lnTo>
                        <a:lnTo>
                          <a:pt x="2619" y="0"/>
                        </a:lnTo>
                        <a:lnTo>
                          <a:pt x="2647" y="0"/>
                        </a:lnTo>
                        <a:lnTo>
                          <a:pt x="2688" y="0"/>
                        </a:lnTo>
                        <a:lnTo>
                          <a:pt x="2716" y="0"/>
                        </a:lnTo>
                        <a:lnTo>
                          <a:pt x="2744" y="0"/>
                        </a:lnTo>
                        <a:lnTo>
                          <a:pt x="2771" y="0"/>
                        </a:lnTo>
                        <a:lnTo>
                          <a:pt x="2799" y="0"/>
                        </a:lnTo>
                        <a:lnTo>
                          <a:pt x="2827" y="0"/>
                        </a:lnTo>
                        <a:lnTo>
                          <a:pt x="2868" y="0"/>
                        </a:lnTo>
                        <a:lnTo>
                          <a:pt x="2896" y="0"/>
                        </a:lnTo>
                        <a:lnTo>
                          <a:pt x="2924" y="0"/>
                        </a:lnTo>
                        <a:lnTo>
                          <a:pt x="2951" y="0"/>
                        </a:lnTo>
                        <a:lnTo>
                          <a:pt x="2979" y="0"/>
                        </a:lnTo>
                        <a:lnTo>
                          <a:pt x="3007"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9" y="0"/>
                        </a:lnTo>
                        <a:lnTo>
                          <a:pt x="3437" y="0"/>
                        </a:lnTo>
                        <a:lnTo>
                          <a:pt x="3464" y="0"/>
                        </a:lnTo>
                        <a:lnTo>
                          <a:pt x="3492" y="0"/>
                        </a:lnTo>
                        <a:lnTo>
                          <a:pt x="3520" y="0"/>
                        </a:lnTo>
                        <a:lnTo>
                          <a:pt x="3547" y="0"/>
                        </a:lnTo>
                        <a:lnTo>
                          <a:pt x="3589" y="0"/>
                        </a:lnTo>
                        <a:lnTo>
                          <a:pt x="3617" y="0"/>
                        </a:lnTo>
                        <a:lnTo>
                          <a:pt x="3644" y="0"/>
                        </a:lnTo>
                        <a:lnTo>
                          <a:pt x="3672" y="0"/>
                        </a:lnTo>
                        <a:lnTo>
                          <a:pt x="3699" y="0"/>
                        </a:lnTo>
                        <a:lnTo>
                          <a:pt x="3727" y="0"/>
                        </a:lnTo>
                        <a:lnTo>
                          <a:pt x="3769" y="0"/>
                        </a:lnTo>
                        <a:lnTo>
                          <a:pt x="3796" y="0"/>
                        </a:lnTo>
                        <a:lnTo>
                          <a:pt x="3824" y="0"/>
                        </a:lnTo>
                        <a:lnTo>
                          <a:pt x="3852" y="0"/>
                        </a:lnTo>
                        <a:lnTo>
                          <a:pt x="3879" y="0"/>
                        </a:lnTo>
                        <a:lnTo>
                          <a:pt x="3907" y="0"/>
                        </a:lnTo>
                        <a:lnTo>
                          <a:pt x="3962" y="0"/>
                        </a:lnTo>
                        <a:lnTo>
                          <a:pt x="3990" y="0"/>
                        </a:lnTo>
                        <a:lnTo>
                          <a:pt x="4018" y="0"/>
                        </a:lnTo>
                        <a:lnTo>
                          <a:pt x="4045" y="0"/>
                        </a:lnTo>
                        <a:lnTo>
                          <a:pt x="4073" y="0"/>
                        </a:lnTo>
                        <a:lnTo>
                          <a:pt x="4101" y="0"/>
                        </a:lnTo>
                        <a:lnTo>
                          <a:pt x="4142" y="0"/>
                        </a:lnTo>
                        <a:lnTo>
                          <a:pt x="4170" y="0"/>
                        </a:lnTo>
                        <a:lnTo>
                          <a:pt x="4197" y="0"/>
                        </a:lnTo>
                        <a:lnTo>
                          <a:pt x="4226" y="0"/>
                        </a:lnTo>
                        <a:lnTo>
                          <a:pt x="4254" y="0"/>
                        </a:lnTo>
                        <a:lnTo>
                          <a:pt x="4282" y="0"/>
                        </a:lnTo>
                        <a:lnTo>
                          <a:pt x="4323" y="0"/>
                        </a:lnTo>
                        <a:lnTo>
                          <a:pt x="4351" y="0"/>
                        </a:lnTo>
                        <a:lnTo>
                          <a:pt x="4379" y="0"/>
                        </a:lnTo>
                        <a:lnTo>
                          <a:pt x="4406" y="0"/>
                        </a:lnTo>
                        <a:lnTo>
                          <a:pt x="4434" y="0"/>
                        </a:lnTo>
                        <a:lnTo>
                          <a:pt x="4462" y="0"/>
                        </a:lnTo>
                        <a:lnTo>
                          <a:pt x="4503" y="0"/>
                        </a:lnTo>
                        <a:lnTo>
                          <a:pt x="4531" y="0"/>
                        </a:lnTo>
                        <a:lnTo>
                          <a:pt x="4558" y="0"/>
                        </a:lnTo>
                        <a:lnTo>
                          <a:pt x="4586" y="0"/>
                        </a:lnTo>
                        <a:lnTo>
                          <a:pt x="4614"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2" y="0"/>
                        </a:lnTo>
                        <a:lnTo>
                          <a:pt x="5044" y="0"/>
                        </a:lnTo>
                        <a:lnTo>
                          <a:pt x="5072" y="0"/>
                        </a:lnTo>
                        <a:lnTo>
                          <a:pt x="5099" y="0"/>
                        </a:lnTo>
                        <a:lnTo>
                          <a:pt x="5127" y="0"/>
                        </a:lnTo>
                        <a:lnTo>
                          <a:pt x="5155" y="0"/>
                        </a:lnTo>
                        <a:lnTo>
                          <a:pt x="5182" y="0"/>
                        </a:lnTo>
                        <a:lnTo>
                          <a:pt x="5210" y="0"/>
                        </a:lnTo>
                        <a:lnTo>
                          <a:pt x="5251" y="0"/>
                        </a:lnTo>
                        <a:lnTo>
                          <a:pt x="5279" y="0"/>
                        </a:lnTo>
                        <a:lnTo>
                          <a:pt x="5307" y="0"/>
                        </a:lnTo>
                        <a:lnTo>
                          <a:pt x="5334" y="0"/>
                        </a:lnTo>
                        <a:lnTo>
                          <a:pt x="5362" y="0"/>
                        </a:lnTo>
                        <a:lnTo>
                          <a:pt x="5390" y="0"/>
                        </a:lnTo>
                        <a:lnTo>
                          <a:pt x="5431" y="0"/>
                        </a:lnTo>
                        <a:lnTo>
                          <a:pt x="5459" y="0"/>
                        </a:lnTo>
                        <a:lnTo>
                          <a:pt x="5486" y="0"/>
                        </a:lnTo>
                        <a:lnTo>
                          <a:pt x="5514" y="0"/>
                        </a:lnTo>
                        <a:lnTo>
                          <a:pt x="5542" y="0"/>
                        </a:lnTo>
                        <a:lnTo>
                          <a:pt x="5569" y="0"/>
                        </a:lnTo>
                        <a:lnTo>
                          <a:pt x="5611" y="0"/>
                        </a:lnTo>
                        <a:lnTo>
                          <a:pt x="5639" y="0"/>
                        </a:lnTo>
                        <a:lnTo>
                          <a:pt x="5666" y="0"/>
                        </a:lnTo>
                        <a:lnTo>
                          <a:pt x="5694" y="0"/>
                        </a:lnTo>
                        <a:lnTo>
                          <a:pt x="5722" y="0"/>
                        </a:lnTo>
                        <a:lnTo>
                          <a:pt x="5749" y="0"/>
                        </a:lnTo>
                        <a:lnTo>
                          <a:pt x="5791" y="0"/>
                        </a:lnTo>
                        <a:lnTo>
                          <a:pt x="5820" y="0"/>
                        </a:lnTo>
                        <a:lnTo>
                          <a:pt x="5847" y="0"/>
                        </a:lnTo>
                        <a:lnTo>
                          <a:pt x="5875" y="0"/>
                        </a:lnTo>
                        <a:lnTo>
                          <a:pt x="5903" y="0"/>
                        </a:lnTo>
                        <a:lnTo>
                          <a:pt x="5930" y="0"/>
                        </a:lnTo>
                        <a:lnTo>
                          <a:pt x="5972" y="0"/>
                        </a:lnTo>
                        <a:lnTo>
                          <a:pt x="6000" y="0"/>
                        </a:lnTo>
                        <a:lnTo>
                          <a:pt x="6027" y="0"/>
                        </a:lnTo>
                        <a:lnTo>
                          <a:pt x="6055" y="0"/>
                        </a:lnTo>
                        <a:lnTo>
                          <a:pt x="6083" y="0"/>
                        </a:lnTo>
                        <a:lnTo>
                          <a:pt x="6110" y="0"/>
                        </a:lnTo>
                        <a:lnTo>
                          <a:pt x="6152" y="0"/>
                        </a:lnTo>
                        <a:lnTo>
                          <a:pt x="6179" y="0"/>
                        </a:lnTo>
                        <a:lnTo>
                          <a:pt x="6207" y="0"/>
                        </a:lnTo>
                        <a:lnTo>
                          <a:pt x="6235" y="0"/>
                        </a:lnTo>
                        <a:lnTo>
                          <a:pt x="6262" y="0"/>
                        </a:lnTo>
                        <a:lnTo>
                          <a:pt x="6290" y="0"/>
                        </a:lnTo>
                        <a:lnTo>
                          <a:pt x="6332" y="0"/>
                        </a:lnTo>
                        <a:lnTo>
                          <a:pt x="6359" y="0"/>
                        </a:lnTo>
                        <a:lnTo>
                          <a:pt x="6387" y="0"/>
                        </a:lnTo>
                        <a:lnTo>
                          <a:pt x="6415" y="0"/>
                        </a:lnTo>
                        <a:lnTo>
                          <a:pt x="6442" y="0"/>
                        </a:lnTo>
                        <a:lnTo>
                          <a:pt x="6470" y="0"/>
                        </a:lnTo>
                        <a:lnTo>
                          <a:pt x="6511" y="0"/>
                        </a:lnTo>
                        <a:lnTo>
                          <a:pt x="6539" y="0"/>
                        </a:lnTo>
                        <a:lnTo>
                          <a:pt x="6567" y="0"/>
                        </a:lnTo>
                        <a:lnTo>
                          <a:pt x="6596" y="0"/>
                        </a:lnTo>
                        <a:lnTo>
                          <a:pt x="6637" y="0"/>
                        </a:lnTo>
                        <a:lnTo>
                          <a:pt x="6665" y="0"/>
                        </a:lnTo>
                        <a:lnTo>
                          <a:pt x="6706" y="0"/>
                        </a:lnTo>
                        <a:lnTo>
                          <a:pt x="6734" y="0"/>
                        </a:lnTo>
                        <a:lnTo>
                          <a:pt x="6762" y="0"/>
                        </a:lnTo>
                        <a:lnTo>
                          <a:pt x="6789" y="0"/>
                        </a:lnTo>
                        <a:lnTo>
                          <a:pt x="6817" y="0"/>
                        </a:lnTo>
                        <a:lnTo>
                          <a:pt x="6845" y="0"/>
                        </a:lnTo>
                        <a:lnTo>
                          <a:pt x="6886" y="0"/>
                        </a:lnTo>
                        <a:lnTo>
                          <a:pt x="6914" y="0"/>
                        </a:lnTo>
                        <a:lnTo>
                          <a:pt x="6942" y="0"/>
                        </a:lnTo>
                        <a:lnTo>
                          <a:pt x="6969" y="0"/>
                        </a:lnTo>
                        <a:lnTo>
                          <a:pt x="6997" y="0"/>
                        </a:lnTo>
                        <a:lnTo>
                          <a:pt x="7025" y="0"/>
                        </a:lnTo>
                        <a:lnTo>
                          <a:pt x="7066" y="0"/>
                        </a:lnTo>
                        <a:lnTo>
                          <a:pt x="7094" y="0"/>
                        </a:lnTo>
                        <a:lnTo>
                          <a:pt x="7121" y="0"/>
                        </a:lnTo>
                        <a:lnTo>
                          <a:pt x="7149" y="0"/>
                        </a:lnTo>
                        <a:lnTo>
                          <a:pt x="7177" y="0"/>
                        </a:lnTo>
                        <a:lnTo>
                          <a:pt x="7204" y="0"/>
                        </a:lnTo>
                        <a:lnTo>
                          <a:pt x="7246" y="0"/>
                        </a:lnTo>
                        <a:lnTo>
                          <a:pt x="7273" y="0"/>
                        </a:lnTo>
                        <a:lnTo>
                          <a:pt x="7301" y="0"/>
                        </a:lnTo>
                        <a:lnTo>
                          <a:pt x="7329" y="0"/>
                        </a:lnTo>
                        <a:lnTo>
                          <a:pt x="7356" y="0"/>
                        </a:lnTo>
                        <a:lnTo>
                          <a:pt x="7384" y="0"/>
                        </a:lnTo>
                        <a:lnTo>
                          <a:pt x="7427" y="0"/>
                        </a:lnTo>
                        <a:lnTo>
                          <a:pt x="7455" y="0"/>
                        </a:lnTo>
                        <a:lnTo>
                          <a:pt x="7482" y="0"/>
                        </a:lnTo>
                        <a:lnTo>
                          <a:pt x="7510" y="0"/>
                        </a:lnTo>
                        <a:lnTo>
                          <a:pt x="7538" y="0"/>
                        </a:lnTo>
                        <a:lnTo>
                          <a:pt x="7565" y="0"/>
                        </a:lnTo>
                        <a:lnTo>
                          <a:pt x="759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04" name=""/>
                <p:cNvGrpSpPr/>
                <p:nvPr/>
              </p:nvGrpSpPr>
              <p:grpSpPr>
                <a:xfrm>
                  <a:off x="5073480" y="2519280"/>
                  <a:ext cx="3900600" cy="1800"/>
                  <a:chOff x="5073480" y="2519280"/>
                  <a:chExt cx="3900600" cy="1800"/>
                </a:xfrm>
              </p:grpSpPr>
              <p:sp>
                <p:nvSpPr>
                  <p:cNvPr id="1505" name=""/>
                  <p:cNvSpPr/>
                  <p:nvPr/>
                </p:nvSpPr>
                <p:spPr>
                  <a:xfrm>
                    <a:off x="5073480" y="2519280"/>
                    <a:ext cx="3900600" cy="1800"/>
                  </a:xfrm>
                  <a:custGeom>
                    <a:avLst/>
                    <a:gdLst/>
                    <a:ahLst/>
                    <a:rect l="l" t="t" r="r" b="b"/>
                    <a:pathLst>
                      <a:path w="7372" h="0">
                        <a:moveTo>
                          <a:pt x="0" y="0"/>
                        </a:moveTo>
                        <a:lnTo>
                          <a:pt x="28" y="0"/>
                        </a:lnTo>
                        <a:lnTo>
                          <a:pt x="69" y="0"/>
                        </a:lnTo>
                        <a:lnTo>
                          <a:pt x="97" y="0"/>
                        </a:lnTo>
                        <a:lnTo>
                          <a:pt x="126" y="0"/>
                        </a:lnTo>
                        <a:lnTo>
                          <a:pt x="154" y="0"/>
                        </a:lnTo>
                        <a:lnTo>
                          <a:pt x="181" y="0"/>
                        </a:lnTo>
                        <a:lnTo>
                          <a:pt x="209" y="0"/>
                        </a:lnTo>
                        <a:lnTo>
                          <a:pt x="251" y="0"/>
                        </a:lnTo>
                        <a:lnTo>
                          <a:pt x="278" y="0"/>
                        </a:lnTo>
                        <a:lnTo>
                          <a:pt x="306" y="0"/>
                        </a:lnTo>
                        <a:lnTo>
                          <a:pt x="334" y="0"/>
                        </a:lnTo>
                        <a:lnTo>
                          <a:pt x="361" y="0"/>
                        </a:lnTo>
                        <a:lnTo>
                          <a:pt x="389" y="0"/>
                        </a:lnTo>
                        <a:lnTo>
                          <a:pt x="430" y="0"/>
                        </a:lnTo>
                        <a:lnTo>
                          <a:pt x="458" y="0"/>
                        </a:lnTo>
                        <a:lnTo>
                          <a:pt x="486" y="0"/>
                        </a:lnTo>
                        <a:lnTo>
                          <a:pt x="513" y="0"/>
                        </a:lnTo>
                        <a:lnTo>
                          <a:pt x="541" y="0"/>
                        </a:lnTo>
                        <a:lnTo>
                          <a:pt x="569" y="0"/>
                        </a:lnTo>
                        <a:lnTo>
                          <a:pt x="610" y="0"/>
                        </a:lnTo>
                        <a:lnTo>
                          <a:pt x="638" y="0"/>
                        </a:lnTo>
                        <a:lnTo>
                          <a:pt x="666" y="0"/>
                        </a:lnTo>
                        <a:lnTo>
                          <a:pt x="693" y="0"/>
                        </a:lnTo>
                        <a:lnTo>
                          <a:pt x="721" y="0"/>
                        </a:lnTo>
                        <a:lnTo>
                          <a:pt x="749" y="0"/>
                        </a:lnTo>
                        <a:lnTo>
                          <a:pt x="790" y="0"/>
                        </a:lnTo>
                        <a:lnTo>
                          <a:pt x="818" y="0"/>
                        </a:lnTo>
                        <a:lnTo>
                          <a:pt x="845" y="0"/>
                        </a:lnTo>
                        <a:lnTo>
                          <a:pt x="873" y="0"/>
                        </a:lnTo>
                        <a:lnTo>
                          <a:pt x="901" y="0"/>
                        </a:lnTo>
                        <a:lnTo>
                          <a:pt x="930" y="0"/>
                        </a:lnTo>
                        <a:lnTo>
                          <a:pt x="971" y="0"/>
                        </a:lnTo>
                        <a:lnTo>
                          <a:pt x="999" y="0"/>
                        </a:lnTo>
                        <a:lnTo>
                          <a:pt x="1027" y="0"/>
                        </a:lnTo>
                        <a:lnTo>
                          <a:pt x="1054" y="0"/>
                        </a:lnTo>
                        <a:lnTo>
                          <a:pt x="1082" y="0"/>
                        </a:lnTo>
                        <a:lnTo>
                          <a:pt x="1110" y="0"/>
                        </a:lnTo>
                        <a:lnTo>
                          <a:pt x="1151" y="0"/>
                        </a:lnTo>
                        <a:lnTo>
                          <a:pt x="1193" y="0"/>
                        </a:lnTo>
                        <a:lnTo>
                          <a:pt x="1220" y="0"/>
                        </a:lnTo>
                        <a:lnTo>
                          <a:pt x="1248" y="0"/>
                        </a:lnTo>
                        <a:lnTo>
                          <a:pt x="1276" y="0"/>
                        </a:lnTo>
                        <a:lnTo>
                          <a:pt x="1303" y="0"/>
                        </a:lnTo>
                        <a:lnTo>
                          <a:pt x="1345" y="0"/>
                        </a:lnTo>
                        <a:lnTo>
                          <a:pt x="1372" y="0"/>
                        </a:lnTo>
                        <a:lnTo>
                          <a:pt x="1400" y="0"/>
                        </a:lnTo>
                        <a:lnTo>
                          <a:pt x="1428" y="0"/>
                        </a:lnTo>
                        <a:lnTo>
                          <a:pt x="1455" y="0"/>
                        </a:lnTo>
                        <a:lnTo>
                          <a:pt x="1483" y="0"/>
                        </a:lnTo>
                        <a:lnTo>
                          <a:pt x="1524" y="0"/>
                        </a:lnTo>
                        <a:lnTo>
                          <a:pt x="1552" y="0"/>
                        </a:lnTo>
                        <a:lnTo>
                          <a:pt x="1580" y="0"/>
                        </a:lnTo>
                        <a:lnTo>
                          <a:pt x="1607" y="0"/>
                        </a:lnTo>
                        <a:lnTo>
                          <a:pt x="1635" y="0"/>
                        </a:lnTo>
                        <a:lnTo>
                          <a:pt x="1677" y="0"/>
                        </a:lnTo>
                        <a:lnTo>
                          <a:pt x="1706" y="0"/>
                        </a:lnTo>
                        <a:lnTo>
                          <a:pt x="1733" y="0"/>
                        </a:lnTo>
                        <a:lnTo>
                          <a:pt x="1761" y="0"/>
                        </a:lnTo>
                        <a:lnTo>
                          <a:pt x="1789" y="0"/>
                        </a:lnTo>
                        <a:lnTo>
                          <a:pt x="1816" y="0"/>
                        </a:lnTo>
                        <a:lnTo>
                          <a:pt x="1858" y="0"/>
                        </a:lnTo>
                        <a:lnTo>
                          <a:pt x="1885" y="0"/>
                        </a:lnTo>
                        <a:lnTo>
                          <a:pt x="1913" y="0"/>
                        </a:lnTo>
                        <a:lnTo>
                          <a:pt x="1941" y="0"/>
                        </a:lnTo>
                        <a:lnTo>
                          <a:pt x="1968" y="0"/>
                        </a:lnTo>
                        <a:lnTo>
                          <a:pt x="1996" y="0"/>
                        </a:lnTo>
                        <a:lnTo>
                          <a:pt x="2038" y="0"/>
                        </a:lnTo>
                        <a:lnTo>
                          <a:pt x="2065" y="0"/>
                        </a:lnTo>
                        <a:lnTo>
                          <a:pt x="2093" y="0"/>
                        </a:lnTo>
                        <a:lnTo>
                          <a:pt x="2121" y="0"/>
                        </a:lnTo>
                        <a:lnTo>
                          <a:pt x="2148" y="0"/>
                        </a:lnTo>
                        <a:lnTo>
                          <a:pt x="2176" y="0"/>
                        </a:lnTo>
                        <a:lnTo>
                          <a:pt x="2217" y="0"/>
                        </a:lnTo>
                        <a:lnTo>
                          <a:pt x="2245" y="0"/>
                        </a:lnTo>
                        <a:lnTo>
                          <a:pt x="2273" y="0"/>
                        </a:lnTo>
                        <a:lnTo>
                          <a:pt x="2300" y="0"/>
                        </a:lnTo>
                        <a:lnTo>
                          <a:pt x="2328" y="0"/>
                        </a:lnTo>
                        <a:lnTo>
                          <a:pt x="2356" y="0"/>
                        </a:lnTo>
                        <a:lnTo>
                          <a:pt x="2397" y="0"/>
                        </a:lnTo>
                        <a:lnTo>
                          <a:pt x="2425" y="0"/>
                        </a:lnTo>
                        <a:lnTo>
                          <a:pt x="2453" y="0"/>
                        </a:lnTo>
                        <a:lnTo>
                          <a:pt x="2480" y="0"/>
                        </a:lnTo>
                        <a:lnTo>
                          <a:pt x="2509" y="0"/>
                        </a:lnTo>
                        <a:lnTo>
                          <a:pt x="2537" y="0"/>
                        </a:lnTo>
                        <a:lnTo>
                          <a:pt x="2578" y="0"/>
                        </a:lnTo>
                        <a:lnTo>
                          <a:pt x="2606" y="0"/>
                        </a:lnTo>
                        <a:lnTo>
                          <a:pt x="2634" y="0"/>
                        </a:lnTo>
                        <a:lnTo>
                          <a:pt x="2661" y="0"/>
                        </a:lnTo>
                        <a:lnTo>
                          <a:pt x="2689" y="0"/>
                        </a:lnTo>
                        <a:lnTo>
                          <a:pt x="2717" y="0"/>
                        </a:lnTo>
                        <a:lnTo>
                          <a:pt x="2758" y="0"/>
                        </a:lnTo>
                        <a:lnTo>
                          <a:pt x="2786" y="0"/>
                        </a:lnTo>
                        <a:lnTo>
                          <a:pt x="2814" y="0"/>
                        </a:lnTo>
                        <a:lnTo>
                          <a:pt x="2841" y="0"/>
                        </a:lnTo>
                        <a:lnTo>
                          <a:pt x="2869" y="0"/>
                        </a:lnTo>
                        <a:lnTo>
                          <a:pt x="2897" y="0"/>
                        </a:lnTo>
                        <a:lnTo>
                          <a:pt x="2938" y="0"/>
                        </a:lnTo>
                        <a:lnTo>
                          <a:pt x="2966" y="0"/>
                        </a:lnTo>
                        <a:lnTo>
                          <a:pt x="2993" y="0"/>
                        </a:lnTo>
                        <a:lnTo>
                          <a:pt x="3021" y="0"/>
                        </a:lnTo>
                        <a:lnTo>
                          <a:pt x="3049" y="0"/>
                        </a:lnTo>
                        <a:lnTo>
                          <a:pt x="3076" y="0"/>
                        </a:lnTo>
                        <a:lnTo>
                          <a:pt x="3118" y="0"/>
                        </a:lnTo>
                        <a:lnTo>
                          <a:pt x="3146" y="0"/>
                        </a:lnTo>
                        <a:lnTo>
                          <a:pt x="3173" y="0"/>
                        </a:lnTo>
                        <a:lnTo>
                          <a:pt x="3201" y="0"/>
                        </a:lnTo>
                        <a:lnTo>
                          <a:pt x="3228" y="0"/>
                        </a:lnTo>
                        <a:lnTo>
                          <a:pt x="3256" y="0"/>
                        </a:lnTo>
                        <a:lnTo>
                          <a:pt x="3299" y="0"/>
                        </a:lnTo>
                        <a:lnTo>
                          <a:pt x="3327" y="0"/>
                        </a:lnTo>
                        <a:lnTo>
                          <a:pt x="3354" y="0"/>
                        </a:lnTo>
                        <a:lnTo>
                          <a:pt x="3382" y="0"/>
                        </a:lnTo>
                        <a:lnTo>
                          <a:pt x="3410" y="0"/>
                        </a:lnTo>
                        <a:lnTo>
                          <a:pt x="3437" y="0"/>
                        </a:lnTo>
                        <a:lnTo>
                          <a:pt x="3479" y="0"/>
                        </a:lnTo>
                        <a:lnTo>
                          <a:pt x="3507" y="0"/>
                        </a:lnTo>
                        <a:lnTo>
                          <a:pt x="3534" y="0"/>
                        </a:lnTo>
                        <a:lnTo>
                          <a:pt x="3562" y="0"/>
                        </a:lnTo>
                        <a:lnTo>
                          <a:pt x="3589" y="0"/>
                        </a:lnTo>
                        <a:lnTo>
                          <a:pt x="3617" y="0"/>
                        </a:lnTo>
                        <a:lnTo>
                          <a:pt x="3659" y="0"/>
                        </a:lnTo>
                        <a:lnTo>
                          <a:pt x="3686" y="0"/>
                        </a:lnTo>
                        <a:lnTo>
                          <a:pt x="3714" y="0"/>
                        </a:lnTo>
                        <a:lnTo>
                          <a:pt x="3742" y="0"/>
                        </a:lnTo>
                        <a:lnTo>
                          <a:pt x="3769" y="0"/>
                        </a:lnTo>
                        <a:lnTo>
                          <a:pt x="3797" y="0"/>
                        </a:lnTo>
                        <a:lnTo>
                          <a:pt x="3852" y="0"/>
                        </a:lnTo>
                        <a:lnTo>
                          <a:pt x="3880" y="0"/>
                        </a:lnTo>
                        <a:lnTo>
                          <a:pt x="3908" y="0"/>
                        </a:lnTo>
                        <a:lnTo>
                          <a:pt x="3935" y="0"/>
                        </a:lnTo>
                        <a:lnTo>
                          <a:pt x="3963" y="0"/>
                        </a:lnTo>
                        <a:lnTo>
                          <a:pt x="3991" y="0"/>
                        </a:lnTo>
                        <a:lnTo>
                          <a:pt x="4032" y="0"/>
                        </a:lnTo>
                        <a:lnTo>
                          <a:pt x="4060" y="0"/>
                        </a:lnTo>
                        <a:lnTo>
                          <a:pt x="4087" y="0"/>
                        </a:lnTo>
                        <a:lnTo>
                          <a:pt x="4116" y="0"/>
                        </a:lnTo>
                        <a:lnTo>
                          <a:pt x="4144" y="0"/>
                        </a:lnTo>
                        <a:lnTo>
                          <a:pt x="4172" y="0"/>
                        </a:lnTo>
                        <a:lnTo>
                          <a:pt x="4213" y="0"/>
                        </a:lnTo>
                        <a:lnTo>
                          <a:pt x="4241" y="0"/>
                        </a:lnTo>
                        <a:lnTo>
                          <a:pt x="4269" y="0"/>
                        </a:lnTo>
                        <a:lnTo>
                          <a:pt x="4296" y="0"/>
                        </a:lnTo>
                        <a:lnTo>
                          <a:pt x="4324" y="0"/>
                        </a:lnTo>
                        <a:lnTo>
                          <a:pt x="4352" y="0"/>
                        </a:lnTo>
                        <a:lnTo>
                          <a:pt x="4393" y="0"/>
                        </a:lnTo>
                        <a:lnTo>
                          <a:pt x="4421" y="0"/>
                        </a:lnTo>
                        <a:lnTo>
                          <a:pt x="4448" y="0"/>
                        </a:lnTo>
                        <a:lnTo>
                          <a:pt x="4476" y="0"/>
                        </a:lnTo>
                        <a:lnTo>
                          <a:pt x="4504" y="0"/>
                        </a:lnTo>
                        <a:lnTo>
                          <a:pt x="4531" y="0"/>
                        </a:lnTo>
                        <a:lnTo>
                          <a:pt x="4573" y="0"/>
                        </a:lnTo>
                        <a:lnTo>
                          <a:pt x="4601" y="0"/>
                        </a:lnTo>
                        <a:lnTo>
                          <a:pt x="4628" y="0"/>
                        </a:lnTo>
                        <a:lnTo>
                          <a:pt x="4656" y="0"/>
                        </a:lnTo>
                        <a:lnTo>
                          <a:pt x="4684" y="0"/>
                        </a:lnTo>
                        <a:lnTo>
                          <a:pt x="4711" y="0"/>
                        </a:lnTo>
                        <a:lnTo>
                          <a:pt x="4753" y="0"/>
                        </a:lnTo>
                        <a:lnTo>
                          <a:pt x="4780" y="0"/>
                        </a:lnTo>
                        <a:lnTo>
                          <a:pt x="4808" y="0"/>
                        </a:lnTo>
                        <a:lnTo>
                          <a:pt x="4836" y="0"/>
                        </a:lnTo>
                        <a:lnTo>
                          <a:pt x="4863" y="0"/>
                        </a:lnTo>
                        <a:lnTo>
                          <a:pt x="4892" y="0"/>
                        </a:lnTo>
                        <a:lnTo>
                          <a:pt x="4934" y="0"/>
                        </a:lnTo>
                        <a:lnTo>
                          <a:pt x="4962" y="0"/>
                        </a:lnTo>
                        <a:lnTo>
                          <a:pt x="4989" y="0"/>
                        </a:lnTo>
                        <a:lnTo>
                          <a:pt x="5017" y="0"/>
                        </a:lnTo>
                        <a:lnTo>
                          <a:pt x="5045" y="0"/>
                        </a:lnTo>
                        <a:lnTo>
                          <a:pt x="5072" y="0"/>
                        </a:lnTo>
                        <a:lnTo>
                          <a:pt x="5114" y="0"/>
                        </a:lnTo>
                        <a:lnTo>
                          <a:pt x="5141" y="0"/>
                        </a:lnTo>
                        <a:lnTo>
                          <a:pt x="5169" y="0"/>
                        </a:lnTo>
                        <a:lnTo>
                          <a:pt x="5197" y="0"/>
                        </a:lnTo>
                        <a:lnTo>
                          <a:pt x="5224" y="0"/>
                        </a:lnTo>
                        <a:lnTo>
                          <a:pt x="5252" y="0"/>
                        </a:lnTo>
                        <a:lnTo>
                          <a:pt x="5293" y="0"/>
                        </a:lnTo>
                        <a:lnTo>
                          <a:pt x="5321" y="0"/>
                        </a:lnTo>
                        <a:lnTo>
                          <a:pt x="5349" y="0"/>
                        </a:lnTo>
                        <a:lnTo>
                          <a:pt x="5376" y="0"/>
                        </a:lnTo>
                        <a:lnTo>
                          <a:pt x="5404" y="0"/>
                        </a:lnTo>
                        <a:lnTo>
                          <a:pt x="5432" y="0"/>
                        </a:lnTo>
                        <a:lnTo>
                          <a:pt x="5473" y="0"/>
                        </a:lnTo>
                        <a:lnTo>
                          <a:pt x="5501" y="0"/>
                        </a:lnTo>
                        <a:lnTo>
                          <a:pt x="5529" y="0"/>
                        </a:lnTo>
                        <a:lnTo>
                          <a:pt x="5556" y="0"/>
                        </a:lnTo>
                        <a:lnTo>
                          <a:pt x="5584" y="0"/>
                        </a:lnTo>
                        <a:lnTo>
                          <a:pt x="5612" y="0"/>
                        </a:lnTo>
                        <a:lnTo>
                          <a:pt x="5653" y="0"/>
                        </a:lnTo>
                        <a:lnTo>
                          <a:pt x="5681" y="0"/>
                        </a:lnTo>
                        <a:lnTo>
                          <a:pt x="5710" y="0"/>
                        </a:lnTo>
                        <a:lnTo>
                          <a:pt x="5737" y="0"/>
                        </a:lnTo>
                        <a:lnTo>
                          <a:pt x="5765" y="0"/>
                        </a:lnTo>
                        <a:lnTo>
                          <a:pt x="5807" y="0"/>
                        </a:lnTo>
                        <a:lnTo>
                          <a:pt x="5834" y="0"/>
                        </a:lnTo>
                        <a:lnTo>
                          <a:pt x="5862" y="0"/>
                        </a:lnTo>
                        <a:lnTo>
                          <a:pt x="5890" y="0"/>
                        </a:lnTo>
                        <a:lnTo>
                          <a:pt x="5917" y="0"/>
                        </a:lnTo>
                        <a:lnTo>
                          <a:pt x="5945" y="0"/>
                        </a:lnTo>
                        <a:lnTo>
                          <a:pt x="5986" y="0"/>
                        </a:lnTo>
                        <a:lnTo>
                          <a:pt x="6014" y="0"/>
                        </a:lnTo>
                        <a:lnTo>
                          <a:pt x="6042" y="0"/>
                        </a:lnTo>
                        <a:lnTo>
                          <a:pt x="6069" y="0"/>
                        </a:lnTo>
                        <a:lnTo>
                          <a:pt x="6097" y="0"/>
                        </a:lnTo>
                        <a:lnTo>
                          <a:pt x="6125" y="0"/>
                        </a:lnTo>
                        <a:lnTo>
                          <a:pt x="6166" y="0"/>
                        </a:lnTo>
                        <a:lnTo>
                          <a:pt x="6194" y="0"/>
                        </a:lnTo>
                        <a:lnTo>
                          <a:pt x="6222" y="0"/>
                        </a:lnTo>
                        <a:lnTo>
                          <a:pt x="6249" y="0"/>
                        </a:lnTo>
                        <a:lnTo>
                          <a:pt x="6277" y="0"/>
                        </a:lnTo>
                        <a:lnTo>
                          <a:pt x="6305" y="0"/>
                        </a:lnTo>
                        <a:lnTo>
                          <a:pt x="6346" y="0"/>
                        </a:lnTo>
                        <a:lnTo>
                          <a:pt x="6374" y="0"/>
                        </a:lnTo>
                        <a:lnTo>
                          <a:pt x="6401" y="0"/>
                        </a:lnTo>
                        <a:lnTo>
                          <a:pt x="6429" y="0"/>
                        </a:lnTo>
                        <a:lnTo>
                          <a:pt x="6457" y="0"/>
                        </a:lnTo>
                        <a:lnTo>
                          <a:pt x="6486" y="0"/>
                        </a:lnTo>
                        <a:lnTo>
                          <a:pt x="6541" y="0"/>
                        </a:lnTo>
                        <a:lnTo>
                          <a:pt x="6569" y="0"/>
                        </a:lnTo>
                        <a:lnTo>
                          <a:pt x="6596" y="0"/>
                        </a:lnTo>
                        <a:lnTo>
                          <a:pt x="6624" y="0"/>
                        </a:lnTo>
                        <a:lnTo>
                          <a:pt x="6652" y="0"/>
                        </a:lnTo>
                        <a:lnTo>
                          <a:pt x="6679" y="0"/>
                        </a:lnTo>
                        <a:lnTo>
                          <a:pt x="6721" y="0"/>
                        </a:lnTo>
                        <a:lnTo>
                          <a:pt x="6749" y="0"/>
                        </a:lnTo>
                        <a:lnTo>
                          <a:pt x="6776" y="0"/>
                        </a:lnTo>
                        <a:lnTo>
                          <a:pt x="6804" y="0"/>
                        </a:lnTo>
                        <a:lnTo>
                          <a:pt x="6832" y="0"/>
                        </a:lnTo>
                        <a:lnTo>
                          <a:pt x="6859" y="0"/>
                        </a:lnTo>
                        <a:lnTo>
                          <a:pt x="6901" y="0"/>
                        </a:lnTo>
                        <a:lnTo>
                          <a:pt x="6928" y="0"/>
                        </a:lnTo>
                        <a:lnTo>
                          <a:pt x="6956" y="0"/>
                        </a:lnTo>
                        <a:lnTo>
                          <a:pt x="6984" y="0"/>
                        </a:lnTo>
                        <a:lnTo>
                          <a:pt x="7011" y="0"/>
                        </a:lnTo>
                        <a:lnTo>
                          <a:pt x="7039" y="0"/>
                        </a:lnTo>
                        <a:lnTo>
                          <a:pt x="7080" y="0"/>
                        </a:lnTo>
                        <a:lnTo>
                          <a:pt x="7108" y="0"/>
                        </a:lnTo>
                        <a:lnTo>
                          <a:pt x="7136" y="0"/>
                        </a:lnTo>
                        <a:lnTo>
                          <a:pt x="7163" y="0"/>
                        </a:lnTo>
                        <a:lnTo>
                          <a:pt x="7191" y="0"/>
                        </a:lnTo>
                        <a:lnTo>
                          <a:pt x="7219" y="0"/>
                        </a:lnTo>
                        <a:lnTo>
                          <a:pt x="7260" y="0"/>
                        </a:lnTo>
                        <a:lnTo>
                          <a:pt x="7289" y="0"/>
                        </a:lnTo>
                        <a:lnTo>
                          <a:pt x="7317" y="0"/>
                        </a:lnTo>
                        <a:lnTo>
                          <a:pt x="7345" y="0"/>
                        </a:lnTo>
                        <a:lnTo>
                          <a:pt x="7372" y="0"/>
                        </a:lnTo>
                        <a:lnTo>
                          <a:pt x="0" y="0"/>
                        </a:lnTo>
                        <a:close/>
                      </a:path>
                    </a:pathLst>
                  </a:custGeom>
                  <a:solidFill>
                    <a:srgbClr val="cce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6" name=""/>
                  <p:cNvSpPr/>
                  <p:nvPr/>
                </p:nvSpPr>
                <p:spPr>
                  <a:xfrm>
                    <a:off x="5073480" y="2519280"/>
                    <a:ext cx="3900600" cy="1800"/>
                  </a:xfrm>
                  <a:custGeom>
                    <a:avLst/>
                    <a:gdLst/>
                    <a:ahLst/>
                    <a:rect l="l" t="t" r="r" b="b"/>
                    <a:pathLst>
                      <a:path w="7372" h="0">
                        <a:moveTo>
                          <a:pt x="0" y="0"/>
                        </a:moveTo>
                        <a:lnTo>
                          <a:pt x="28" y="0"/>
                        </a:lnTo>
                        <a:lnTo>
                          <a:pt x="69" y="0"/>
                        </a:lnTo>
                        <a:lnTo>
                          <a:pt x="97" y="0"/>
                        </a:lnTo>
                        <a:lnTo>
                          <a:pt x="126" y="0"/>
                        </a:lnTo>
                        <a:lnTo>
                          <a:pt x="154" y="0"/>
                        </a:lnTo>
                        <a:lnTo>
                          <a:pt x="181" y="0"/>
                        </a:lnTo>
                        <a:lnTo>
                          <a:pt x="209" y="0"/>
                        </a:lnTo>
                        <a:lnTo>
                          <a:pt x="251" y="0"/>
                        </a:lnTo>
                        <a:lnTo>
                          <a:pt x="278" y="0"/>
                        </a:lnTo>
                        <a:lnTo>
                          <a:pt x="306" y="0"/>
                        </a:lnTo>
                        <a:lnTo>
                          <a:pt x="334" y="0"/>
                        </a:lnTo>
                        <a:lnTo>
                          <a:pt x="361" y="0"/>
                        </a:lnTo>
                        <a:lnTo>
                          <a:pt x="389" y="0"/>
                        </a:lnTo>
                        <a:lnTo>
                          <a:pt x="430" y="0"/>
                        </a:lnTo>
                        <a:lnTo>
                          <a:pt x="458" y="0"/>
                        </a:lnTo>
                        <a:lnTo>
                          <a:pt x="486" y="0"/>
                        </a:lnTo>
                        <a:lnTo>
                          <a:pt x="513" y="0"/>
                        </a:lnTo>
                        <a:lnTo>
                          <a:pt x="541" y="0"/>
                        </a:lnTo>
                        <a:lnTo>
                          <a:pt x="569" y="0"/>
                        </a:lnTo>
                        <a:lnTo>
                          <a:pt x="610" y="0"/>
                        </a:lnTo>
                        <a:lnTo>
                          <a:pt x="638" y="0"/>
                        </a:lnTo>
                        <a:lnTo>
                          <a:pt x="666" y="0"/>
                        </a:lnTo>
                        <a:lnTo>
                          <a:pt x="693" y="0"/>
                        </a:lnTo>
                        <a:lnTo>
                          <a:pt x="721" y="0"/>
                        </a:lnTo>
                        <a:lnTo>
                          <a:pt x="749" y="0"/>
                        </a:lnTo>
                        <a:lnTo>
                          <a:pt x="790" y="0"/>
                        </a:lnTo>
                        <a:lnTo>
                          <a:pt x="818" y="0"/>
                        </a:lnTo>
                        <a:lnTo>
                          <a:pt x="845" y="0"/>
                        </a:lnTo>
                        <a:lnTo>
                          <a:pt x="873" y="0"/>
                        </a:lnTo>
                        <a:lnTo>
                          <a:pt x="901" y="0"/>
                        </a:lnTo>
                        <a:lnTo>
                          <a:pt x="930" y="0"/>
                        </a:lnTo>
                        <a:lnTo>
                          <a:pt x="971" y="0"/>
                        </a:lnTo>
                        <a:lnTo>
                          <a:pt x="999" y="0"/>
                        </a:lnTo>
                        <a:lnTo>
                          <a:pt x="1027" y="0"/>
                        </a:lnTo>
                        <a:lnTo>
                          <a:pt x="1054" y="0"/>
                        </a:lnTo>
                        <a:lnTo>
                          <a:pt x="1082" y="0"/>
                        </a:lnTo>
                        <a:lnTo>
                          <a:pt x="1110" y="0"/>
                        </a:lnTo>
                        <a:lnTo>
                          <a:pt x="1151" y="0"/>
                        </a:lnTo>
                        <a:lnTo>
                          <a:pt x="1193" y="0"/>
                        </a:lnTo>
                        <a:lnTo>
                          <a:pt x="1220" y="0"/>
                        </a:lnTo>
                        <a:lnTo>
                          <a:pt x="1248" y="0"/>
                        </a:lnTo>
                        <a:lnTo>
                          <a:pt x="1276" y="0"/>
                        </a:lnTo>
                        <a:lnTo>
                          <a:pt x="1303" y="0"/>
                        </a:lnTo>
                        <a:lnTo>
                          <a:pt x="1345" y="0"/>
                        </a:lnTo>
                        <a:lnTo>
                          <a:pt x="1372" y="0"/>
                        </a:lnTo>
                        <a:lnTo>
                          <a:pt x="1400" y="0"/>
                        </a:lnTo>
                        <a:lnTo>
                          <a:pt x="1428" y="0"/>
                        </a:lnTo>
                        <a:lnTo>
                          <a:pt x="1455" y="0"/>
                        </a:lnTo>
                        <a:lnTo>
                          <a:pt x="1483" y="0"/>
                        </a:lnTo>
                        <a:lnTo>
                          <a:pt x="1524" y="0"/>
                        </a:lnTo>
                        <a:lnTo>
                          <a:pt x="1552" y="0"/>
                        </a:lnTo>
                        <a:lnTo>
                          <a:pt x="1580" y="0"/>
                        </a:lnTo>
                        <a:lnTo>
                          <a:pt x="1607" y="0"/>
                        </a:lnTo>
                        <a:lnTo>
                          <a:pt x="1635" y="0"/>
                        </a:lnTo>
                        <a:lnTo>
                          <a:pt x="1677" y="0"/>
                        </a:lnTo>
                        <a:lnTo>
                          <a:pt x="1706" y="0"/>
                        </a:lnTo>
                        <a:lnTo>
                          <a:pt x="1733" y="0"/>
                        </a:lnTo>
                        <a:lnTo>
                          <a:pt x="1761" y="0"/>
                        </a:lnTo>
                        <a:lnTo>
                          <a:pt x="1789" y="0"/>
                        </a:lnTo>
                        <a:lnTo>
                          <a:pt x="1816" y="0"/>
                        </a:lnTo>
                        <a:lnTo>
                          <a:pt x="1858" y="0"/>
                        </a:lnTo>
                        <a:lnTo>
                          <a:pt x="1885" y="0"/>
                        </a:lnTo>
                        <a:lnTo>
                          <a:pt x="1913" y="0"/>
                        </a:lnTo>
                        <a:lnTo>
                          <a:pt x="1941" y="0"/>
                        </a:lnTo>
                        <a:lnTo>
                          <a:pt x="1968" y="0"/>
                        </a:lnTo>
                        <a:lnTo>
                          <a:pt x="1996" y="0"/>
                        </a:lnTo>
                        <a:lnTo>
                          <a:pt x="2038" y="0"/>
                        </a:lnTo>
                        <a:lnTo>
                          <a:pt x="2065" y="0"/>
                        </a:lnTo>
                        <a:lnTo>
                          <a:pt x="2093" y="0"/>
                        </a:lnTo>
                        <a:lnTo>
                          <a:pt x="2121" y="0"/>
                        </a:lnTo>
                        <a:lnTo>
                          <a:pt x="2148" y="0"/>
                        </a:lnTo>
                        <a:lnTo>
                          <a:pt x="2176" y="0"/>
                        </a:lnTo>
                        <a:lnTo>
                          <a:pt x="2217" y="0"/>
                        </a:lnTo>
                        <a:lnTo>
                          <a:pt x="2245" y="0"/>
                        </a:lnTo>
                        <a:lnTo>
                          <a:pt x="2273" y="0"/>
                        </a:lnTo>
                        <a:lnTo>
                          <a:pt x="2300" y="0"/>
                        </a:lnTo>
                        <a:lnTo>
                          <a:pt x="2328" y="0"/>
                        </a:lnTo>
                        <a:lnTo>
                          <a:pt x="2356" y="0"/>
                        </a:lnTo>
                        <a:lnTo>
                          <a:pt x="2397" y="0"/>
                        </a:lnTo>
                        <a:lnTo>
                          <a:pt x="2425" y="0"/>
                        </a:lnTo>
                        <a:lnTo>
                          <a:pt x="2453" y="0"/>
                        </a:lnTo>
                        <a:lnTo>
                          <a:pt x="2480" y="0"/>
                        </a:lnTo>
                        <a:lnTo>
                          <a:pt x="2509" y="0"/>
                        </a:lnTo>
                        <a:lnTo>
                          <a:pt x="2537" y="0"/>
                        </a:lnTo>
                        <a:lnTo>
                          <a:pt x="2578" y="0"/>
                        </a:lnTo>
                        <a:lnTo>
                          <a:pt x="2606" y="0"/>
                        </a:lnTo>
                        <a:lnTo>
                          <a:pt x="2634" y="0"/>
                        </a:lnTo>
                        <a:lnTo>
                          <a:pt x="2661" y="0"/>
                        </a:lnTo>
                        <a:lnTo>
                          <a:pt x="2689" y="0"/>
                        </a:lnTo>
                        <a:lnTo>
                          <a:pt x="2717" y="0"/>
                        </a:lnTo>
                        <a:lnTo>
                          <a:pt x="2758" y="0"/>
                        </a:lnTo>
                        <a:lnTo>
                          <a:pt x="2786" y="0"/>
                        </a:lnTo>
                        <a:lnTo>
                          <a:pt x="2814" y="0"/>
                        </a:lnTo>
                        <a:lnTo>
                          <a:pt x="2841" y="0"/>
                        </a:lnTo>
                        <a:lnTo>
                          <a:pt x="2869" y="0"/>
                        </a:lnTo>
                        <a:lnTo>
                          <a:pt x="2897" y="0"/>
                        </a:lnTo>
                        <a:lnTo>
                          <a:pt x="2938" y="0"/>
                        </a:lnTo>
                        <a:lnTo>
                          <a:pt x="2966" y="0"/>
                        </a:lnTo>
                        <a:lnTo>
                          <a:pt x="2993" y="0"/>
                        </a:lnTo>
                        <a:lnTo>
                          <a:pt x="3021" y="0"/>
                        </a:lnTo>
                        <a:lnTo>
                          <a:pt x="3049" y="0"/>
                        </a:lnTo>
                        <a:lnTo>
                          <a:pt x="3076" y="0"/>
                        </a:lnTo>
                        <a:lnTo>
                          <a:pt x="3118" y="0"/>
                        </a:lnTo>
                        <a:lnTo>
                          <a:pt x="3146" y="0"/>
                        </a:lnTo>
                        <a:lnTo>
                          <a:pt x="3173" y="0"/>
                        </a:lnTo>
                        <a:lnTo>
                          <a:pt x="3201" y="0"/>
                        </a:lnTo>
                        <a:lnTo>
                          <a:pt x="3228" y="0"/>
                        </a:lnTo>
                        <a:lnTo>
                          <a:pt x="3256" y="0"/>
                        </a:lnTo>
                        <a:lnTo>
                          <a:pt x="3299" y="0"/>
                        </a:lnTo>
                        <a:lnTo>
                          <a:pt x="3327" y="0"/>
                        </a:lnTo>
                        <a:lnTo>
                          <a:pt x="3354" y="0"/>
                        </a:lnTo>
                        <a:lnTo>
                          <a:pt x="3382" y="0"/>
                        </a:lnTo>
                        <a:lnTo>
                          <a:pt x="3410" y="0"/>
                        </a:lnTo>
                        <a:lnTo>
                          <a:pt x="3437" y="0"/>
                        </a:lnTo>
                        <a:lnTo>
                          <a:pt x="3479" y="0"/>
                        </a:lnTo>
                        <a:lnTo>
                          <a:pt x="3507" y="0"/>
                        </a:lnTo>
                        <a:lnTo>
                          <a:pt x="3534" y="0"/>
                        </a:lnTo>
                        <a:lnTo>
                          <a:pt x="3562" y="0"/>
                        </a:lnTo>
                        <a:lnTo>
                          <a:pt x="3589" y="0"/>
                        </a:lnTo>
                        <a:lnTo>
                          <a:pt x="3617" y="0"/>
                        </a:lnTo>
                        <a:lnTo>
                          <a:pt x="3659" y="0"/>
                        </a:lnTo>
                        <a:lnTo>
                          <a:pt x="3686" y="0"/>
                        </a:lnTo>
                        <a:lnTo>
                          <a:pt x="3714" y="0"/>
                        </a:lnTo>
                        <a:lnTo>
                          <a:pt x="3742" y="0"/>
                        </a:lnTo>
                        <a:lnTo>
                          <a:pt x="3769" y="0"/>
                        </a:lnTo>
                        <a:lnTo>
                          <a:pt x="3797" y="0"/>
                        </a:lnTo>
                        <a:lnTo>
                          <a:pt x="3852" y="0"/>
                        </a:lnTo>
                        <a:lnTo>
                          <a:pt x="3880" y="0"/>
                        </a:lnTo>
                        <a:lnTo>
                          <a:pt x="3908" y="0"/>
                        </a:lnTo>
                        <a:lnTo>
                          <a:pt x="3935" y="0"/>
                        </a:lnTo>
                        <a:lnTo>
                          <a:pt x="3963" y="0"/>
                        </a:lnTo>
                        <a:lnTo>
                          <a:pt x="3991" y="0"/>
                        </a:lnTo>
                        <a:lnTo>
                          <a:pt x="4032" y="0"/>
                        </a:lnTo>
                        <a:lnTo>
                          <a:pt x="4060" y="0"/>
                        </a:lnTo>
                        <a:lnTo>
                          <a:pt x="4087" y="0"/>
                        </a:lnTo>
                        <a:lnTo>
                          <a:pt x="4116" y="0"/>
                        </a:lnTo>
                        <a:lnTo>
                          <a:pt x="4144" y="0"/>
                        </a:lnTo>
                        <a:lnTo>
                          <a:pt x="4172" y="0"/>
                        </a:lnTo>
                        <a:lnTo>
                          <a:pt x="4213" y="0"/>
                        </a:lnTo>
                        <a:lnTo>
                          <a:pt x="4241" y="0"/>
                        </a:lnTo>
                        <a:lnTo>
                          <a:pt x="4269" y="0"/>
                        </a:lnTo>
                        <a:lnTo>
                          <a:pt x="4296" y="0"/>
                        </a:lnTo>
                        <a:lnTo>
                          <a:pt x="4324" y="0"/>
                        </a:lnTo>
                        <a:lnTo>
                          <a:pt x="4352" y="0"/>
                        </a:lnTo>
                        <a:lnTo>
                          <a:pt x="4393" y="0"/>
                        </a:lnTo>
                        <a:lnTo>
                          <a:pt x="4421" y="0"/>
                        </a:lnTo>
                        <a:lnTo>
                          <a:pt x="4448" y="0"/>
                        </a:lnTo>
                        <a:lnTo>
                          <a:pt x="4476" y="0"/>
                        </a:lnTo>
                        <a:lnTo>
                          <a:pt x="4504" y="0"/>
                        </a:lnTo>
                        <a:lnTo>
                          <a:pt x="4531" y="0"/>
                        </a:lnTo>
                        <a:lnTo>
                          <a:pt x="4573" y="0"/>
                        </a:lnTo>
                        <a:lnTo>
                          <a:pt x="4601" y="0"/>
                        </a:lnTo>
                        <a:lnTo>
                          <a:pt x="4628" y="0"/>
                        </a:lnTo>
                        <a:lnTo>
                          <a:pt x="4656" y="0"/>
                        </a:lnTo>
                        <a:lnTo>
                          <a:pt x="4684" y="0"/>
                        </a:lnTo>
                        <a:lnTo>
                          <a:pt x="4711" y="0"/>
                        </a:lnTo>
                        <a:lnTo>
                          <a:pt x="4753" y="0"/>
                        </a:lnTo>
                        <a:lnTo>
                          <a:pt x="4780" y="0"/>
                        </a:lnTo>
                        <a:lnTo>
                          <a:pt x="4808" y="0"/>
                        </a:lnTo>
                        <a:lnTo>
                          <a:pt x="4836" y="0"/>
                        </a:lnTo>
                        <a:lnTo>
                          <a:pt x="4863" y="0"/>
                        </a:lnTo>
                        <a:lnTo>
                          <a:pt x="4892" y="0"/>
                        </a:lnTo>
                        <a:lnTo>
                          <a:pt x="4934" y="0"/>
                        </a:lnTo>
                        <a:lnTo>
                          <a:pt x="4962" y="0"/>
                        </a:lnTo>
                        <a:lnTo>
                          <a:pt x="4989" y="0"/>
                        </a:lnTo>
                        <a:lnTo>
                          <a:pt x="5017" y="0"/>
                        </a:lnTo>
                        <a:lnTo>
                          <a:pt x="5045" y="0"/>
                        </a:lnTo>
                        <a:lnTo>
                          <a:pt x="5072" y="0"/>
                        </a:lnTo>
                        <a:lnTo>
                          <a:pt x="5114" y="0"/>
                        </a:lnTo>
                        <a:lnTo>
                          <a:pt x="5141" y="0"/>
                        </a:lnTo>
                        <a:lnTo>
                          <a:pt x="5169" y="0"/>
                        </a:lnTo>
                        <a:lnTo>
                          <a:pt x="5197" y="0"/>
                        </a:lnTo>
                        <a:lnTo>
                          <a:pt x="5224" y="0"/>
                        </a:lnTo>
                        <a:lnTo>
                          <a:pt x="5252" y="0"/>
                        </a:lnTo>
                        <a:lnTo>
                          <a:pt x="5293" y="0"/>
                        </a:lnTo>
                        <a:lnTo>
                          <a:pt x="5321" y="0"/>
                        </a:lnTo>
                        <a:lnTo>
                          <a:pt x="5349" y="0"/>
                        </a:lnTo>
                        <a:lnTo>
                          <a:pt x="5376" y="0"/>
                        </a:lnTo>
                        <a:lnTo>
                          <a:pt x="5404" y="0"/>
                        </a:lnTo>
                        <a:lnTo>
                          <a:pt x="5432" y="0"/>
                        </a:lnTo>
                        <a:lnTo>
                          <a:pt x="5473" y="0"/>
                        </a:lnTo>
                        <a:lnTo>
                          <a:pt x="5501" y="0"/>
                        </a:lnTo>
                        <a:lnTo>
                          <a:pt x="5529" y="0"/>
                        </a:lnTo>
                        <a:lnTo>
                          <a:pt x="5556" y="0"/>
                        </a:lnTo>
                        <a:lnTo>
                          <a:pt x="5584" y="0"/>
                        </a:lnTo>
                        <a:lnTo>
                          <a:pt x="5612" y="0"/>
                        </a:lnTo>
                        <a:lnTo>
                          <a:pt x="5653" y="0"/>
                        </a:lnTo>
                        <a:lnTo>
                          <a:pt x="5681" y="0"/>
                        </a:lnTo>
                        <a:lnTo>
                          <a:pt x="5710" y="0"/>
                        </a:lnTo>
                        <a:lnTo>
                          <a:pt x="5737" y="0"/>
                        </a:lnTo>
                        <a:lnTo>
                          <a:pt x="5765" y="0"/>
                        </a:lnTo>
                        <a:lnTo>
                          <a:pt x="5807" y="0"/>
                        </a:lnTo>
                        <a:lnTo>
                          <a:pt x="5834" y="0"/>
                        </a:lnTo>
                        <a:lnTo>
                          <a:pt x="5862" y="0"/>
                        </a:lnTo>
                        <a:lnTo>
                          <a:pt x="5890" y="0"/>
                        </a:lnTo>
                        <a:lnTo>
                          <a:pt x="5917" y="0"/>
                        </a:lnTo>
                        <a:lnTo>
                          <a:pt x="5945" y="0"/>
                        </a:lnTo>
                        <a:lnTo>
                          <a:pt x="5986" y="0"/>
                        </a:lnTo>
                        <a:lnTo>
                          <a:pt x="6014" y="0"/>
                        </a:lnTo>
                        <a:lnTo>
                          <a:pt x="6042" y="0"/>
                        </a:lnTo>
                        <a:lnTo>
                          <a:pt x="6069" y="0"/>
                        </a:lnTo>
                        <a:lnTo>
                          <a:pt x="6097" y="0"/>
                        </a:lnTo>
                        <a:lnTo>
                          <a:pt x="6125" y="0"/>
                        </a:lnTo>
                        <a:lnTo>
                          <a:pt x="6166" y="0"/>
                        </a:lnTo>
                        <a:lnTo>
                          <a:pt x="6194" y="0"/>
                        </a:lnTo>
                        <a:lnTo>
                          <a:pt x="6222" y="0"/>
                        </a:lnTo>
                        <a:lnTo>
                          <a:pt x="6249" y="0"/>
                        </a:lnTo>
                        <a:lnTo>
                          <a:pt x="6277" y="0"/>
                        </a:lnTo>
                        <a:lnTo>
                          <a:pt x="6305" y="0"/>
                        </a:lnTo>
                        <a:lnTo>
                          <a:pt x="6346" y="0"/>
                        </a:lnTo>
                        <a:lnTo>
                          <a:pt x="6374" y="0"/>
                        </a:lnTo>
                        <a:lnTo>
                          <a:pt x="6401" y="0"/>
                        </a:lnTo>
                        <a:lnTo>
                          <a:pt x="6429" y="0"/>
                        </a:lnTo>
                        <a:lnTo>
                          <a:pt x="6457" y="0"/>
                        </a:lnTo>
                        <a:lnTo>
                          <a:pt x="6486" y="0"/>
                        </a:lnTo>
                        <a:lnTo>
                          <a:pt x="6541" y="0"/>
                        </a:lnTo>
                        <a:lnTo>
                          <a:pt x="6569" y="0"/>
                        </a:lnTo>
                        <a:lnTo>
                          <a:pt x="6596" y="0"/>
                        </a:lnTo>
                        <a:lnTo>
                          <a:pt x="6624" y="0"/>
                        </a:lnTo>
                        <a:lnTo>
                          <a:pt x="6652" y="0"/>
                        </a:lnTo>
                        <a:lnTo>
                          <a:pt x="6679" y="0"/>
                        </a:lnTo>
                        <a:lnTo>
                          <a:pt x="6721" y="0"/>
                        </a:lnTo>
                        <a:lnTo>
                          <a:pt x="6749" y="0"/>
                        </a:lnTo>
                        <a:lnTo>
                          <a:pt x="6776" y="0"/>
                        </a:lnTo>
                        <a:lnTo>
                          <a:pt x="6804" y="0"/>
                        </a:lnTo>
                        <a:lnTo>
                          <a:pt x="6832" y="0"/>
                        </a:lnTo>
                        <a:lnTo>
                          <a:pt x="6859" y="0"/>
                        </a:lnTo>
                        <a:lnTo>
                          <a:pt x="6901" y="0"/>
                        </a:lnTo>
                        <a:lnTo>
                          <a:pt x="6928" y="0"/>
                        </a:lnTo>
                        <a:lnTo>
                          <a:pt x="6956" y="0"/>
                        </a:lnTo>
                        <a:lnTo>
                          <a:pt x="6984" y="0"/>
                        </a:lnTo>
                        <a:lnTo>
                          <a:pt x="7011" y="0"/>
                        </a:lnTo>
                        <a:lnTo>
                          <a:pt x="7039" y="0"/>
                        </a:lnTo>
                        <a:lnTo>
                          <a:pt x="7080" y="0"/>
                        </a:lnTo>
                        <a:lnTo>
                          <a:pt x="7108" y="0"/>
                        </a:lnTo>
                        <a:lnTo>
                          <a:pt x="7136" y="0"/>
                        </a:lnTo>
                        <a:lnTo>
                          <a:pt x="7163" y="0"/>
                        </a:lnTo>
                        <a:lnTo>
                          <a:pt x="7191" y="0"/>
                        </a:lnTo>
                        <a:lnTo>
                          <a:pt x="7219" y="0"/>
                        </a:lnTo>
                        <a:lnTo>
                          <a:pt x="7260" y="0"/>
                        </a:lnTo>
                        <a:lnTo>
                          <a:pt x="7289" y="0"/>
                        </a:lnTo>
                        <a:lnTo>
                          <a:pt x="7317" y="0"/>
                        </a:lnTo>
                        <a:lnTo>
                          <a:pt x="7345" y="0"/>
                        </a:lnTo>
                        <a:lnTo>
                          <a:pt x="737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507" name=""/>
                <p:cNvGrpSpPr/>
                <p:nvPr/>
              </p:nvGrpSpPr>
              <p:grpSpPr>
                <a:xfrm>
                  <a:off x="5207040" y="2292480"/>
                  <a:ext cx="3643200" cy="1440"/>
                  <a:chOff x="5207040" y="2292480"/>
                  <a:chExt cx="3643200" cy="1440"/>
                </a:xfrm>
              </p:grpSpPr>
              <p:sp>
                <p:nvSpPr>
                  <p:cNvPr id="1508" name=""/>
                  <p:cNvSpPr/>
                  <p:nvPr/>
                </p:nvSpPr>
                <p:spPr>
                  <a:xfrm>
                    <a:off x="5207040" y="2292480"/>
                    <a:ext cx="3643200" cy="1440"/>
                  </a:xfrm>
                  <a:custGeom>
                    <a:avLst/>
                    <a:gdLst/>
                    <a:ahLst/>
                    <a:rect l="l" t="t" r="r" b="b"/>
                    <a:pathLst>
                      <a:path w="6885" h="0">
                        <a:moveTo>
                          <a:pt x="0" y="0"/>
                        </a:moveTo>
                        <a:lnTo>
                          <a:pt x="27" y="0"/>
                        </a:lnTo>
                        <a:lnTo>
                          <a:pt x="55" y="0"/>
                        </a:lnTo>
                        <a:lnTo>
                          <a:pt x="83" y="0"/>
                        </a:lnTo>
                        <a:lnTo>
                          <a:pt x="124" y="0"/>
                        </a:lnTo>
                        <a:lnTo>
                          <a:pt x="152" y="0"/>
                        </a:lnTo>
                        <a:lnTo>
                          <a:pt x="179" y="0"/>
                        </a:lnTo>
                        <a:lnTo>
                          <a:pt x="207" y="0"/>
                        </a:lnTo>
                        <a:lnTo>
                          <a:pt x="235" y="0"/>
                        </a:lnTo>
                        <a:lnTo>
                          <a:pt x="262" y="0"/>
                        </a:lnTo>
                        <a:lnTo>
                          <a:pt x="304" y="0"/>
                        </a:lnTo>
                        <a:lnTo>
                          <a:pt x="332" y="0"/>
                        </a:lnTo>
                        <a:lnTo>
                          <a:pt x="359" y="0"/>
                        </a:lnTo>
                        <a:lnTo>
                          <a:pt x="387" y="0"/>
                        </a:lnTo>
                        <a:lnTo>
                          <a:pt x="415" y="0"/>
                        </a:lnTo>
                        <a:lnTo>
                          <a:pt x="442" y="0"/>
                        </a:lnTo>
                        <a:lnTo>
                          <a:pt x="470" y="0"/>
                        </a:lnTo>
                        <a:lnTo>
                          <a:pt x="511" y="0"/>
                        </a:lnTo>
                        <a:lnTo>
                          <a:pt x="539" y="0"/>
                        </a:lnTo>
                        <a:lnTo>
                          <a:pt x="567" y="0"/>
                        </a:lnTo>
                        <a:lnTo>
                          <a:pt x="594" y="0"/>
                        </a:lnTo>
                        <a:lnTo>
                          <a:pt x="622" y="0"/>
                        </a:lnTo>
                        <a:lnTo>
                          <a:pt x="650" y="0"/>
                        </a:lnTo>
                        <a:lnTo>
                          <a:pt x="693" y="0"/>
                        </a:lnTo>
                        <a:lnTo>
                          <a:pt x="720" y="0"/>
                        </a:lnTo>
                        <a:lnTo>
                          <a:pt x="748" y="0"/>
                        </a:lnTo>
                        <a:lnTo>
                          <a:pt x="776" y="0"/>
                        </a:lnTo>
                        <a:lnTo>
                          <a:pt x="803" y="0"/>
                        </a:lnTo>
                        <a:lnTo>
                          <a:pt x="831" y="0"/>
                        </a:lnTo>
                        <a:lnTo>
                          <a:pt x="872" y="0"/>
                        </a:lnTo>
                        <a:lnTo>
                          <a:pt x="900" y="0"/>
                        </a:lnTo>
                        <a:lnTo>
                          <a:pt x="942" y="0"/>
                        </a:lnTo>
                        <a:lnTo>
                          <a:pt x="969" y="0"/>
                        </a:lnTo>
                        <a:lnTo>
                          <a:pt x="997" y="0"/>
                        </a:lnTo>
                        <a:lnTo>
                          <a:pt x="1025" y="0"/>
                        </a:lnTo>
                        <a:lnTo>
                          <a:pt x="1066" y="0"/>
                        </a:lnTo>
                        <a:lnTo>
                          <a:pt x="1094" y="0"/>
                        </a:lnTo>
                        <a:lnTo>
                          <a:pt x="1121" y="0"/>
                        </a:lnTo>
                        <a:lnTo>
                          <a:pt x="1149" y="0"/>
                        </a:lnTo>
                        <a:lnTo>
                          <a:pt x="1177" y="0"/>
                        </a:lnTo>
                        <a:lnTo>
                          <a:pt x="1204" y="0"/>
                        </a:lnTo>
                        <a:lnTo>
                          <a:pt x="1246" y="0"/>
                        </a:lnTo>
                        <a:lnTo>
                          <a:pt x="1273" y="0"/>
                        </a:lnTo>
                        <a:lnTo>
                          <a:pt x="1301" y="0"/>
                        </a:lnTo>
                        <a:lnTo>
                          <a:pt x="1329" y="0"/>
                        </a:lnTo>
                        <a:lnTo>
                          <a:pt x="1356" y="0"/>
                        </a:lnTo>
                        <a:lnTo>
                          <a:pt x="1384" y="0"/>
                        </a:lnTo>
                        <a:lnTo>
                          <a:pt x="1426" y="0"/>
                        </a:lnTo>
                        <a:lnTo>
                          <a:pt x="1455" y="0"/>
                        </a:lnTo>
                        <a:lnTo>
                          <a:pt x="1482" y="0"/>
                        </a:lnTo>
                        <a:lnTo>
                          <a:pt x="1510" y="0"/>
                        </a:lnTo>
                        <a:lnTo>
                          <a:pt x="1538" y="0"/>
                        </a:lnTo>
                        <a:lnTo>
                          <a:pt x="1565" y="0"/>
                        </a:lnTo>
                        <a:lnTo>
                          <a:pt x="1607" y="0"/>
                        </a:lnTo>
                        <a:lnTo>
                          <a:pt x="1634" y="0"/>
                        </a:lnTo>
                        <a:lnTo>
                          <a:pt x="1662" y="0"/>
                        </a:lnTo>
                        <a:lnTo>
                          <a:pt x="1690" y="0"/>
                        </a:lnTo>
                        <a:lnTo>
                          <a:pt x="1717" y="0"/>
                        </a:lnTo>
                        <a:lnTo>
                          <a:pt x="1745" y="0"/>
                        </a:lnTo>
                        <a:lnTo>
                          <a:pt x="1787" y="0"/>
                        </a:lnTo>
                        <a:lnTo>
                          <a:pt x="1814" y="0"/>
                        </a:lnTo>
                        <a:lnTo>
                          <a:pt x="1842" y="0"/>
                        </a:lnTo>
                        <a:lnTo>
                          <a:pt x="1870" y="0"/>
                        </a:lnTo>
                        <a:lnTo>
                          <a:pt x="1897" y="0"/>
                        </a:lnTo>
                        <a:lnTo>
                          <a:pt x="1925" y="0"/>
                        </a:lnTo>
                        <a:lnTo>
                          <a:pt x="1966" y="0"/>
                        </a:lnTo>
                        <a:lnTo>
                          <a:pt x="1994" y="0"/>
                        </a:lnTo>
                        <a:lnTo>
                          <a:pt x="2022" y="0"/>
                        </a:lnTo>
                        <a:lnTo>
                          <a:pt x="2049" y="0"/>
                        </a:lnTo>
                        <a:lnTo>
                          <a:pt x="2077" y="0"/>
                        </a:lnTo>
                        <a:lnTo>
                          <a:pt x="2105" y="0"/>
                        </a:lnTo>
                        <a:lnTo>
                          <a:pt x="2146" y="0"/>
                        </a:lnTo>
                        <a:lnTo>
                          <a:pt x="2174" y="0"/>
                        </a:lnTo>
                        <a:lnTo>
                          <a:pt x="2202" y="0"/>
                        </a:lnTo>
                        <a:lnTo>
                          <a:pt x="2229" y="0"/>
                        </a:lnTo>
                        <a:lnTo>
                          <a:pt x="2258" y="0"/>
                        </a:lnTo>
                        <a:lnTo>
                          <a:pt x="2286" y="0"/>
                        </a:lnTo>
                        <a:lnTo>
                          <a:pt x="2327" y="0"/>
                        </a:lnTo>
                        <a:lnTo>
                          <a:pt x="2355" y="0"/>
                        </a:lnTo>
                        <a:lnTo>
                          <a:pt x="2383" y="0"/>
                        </a:lnTo>
                        <a:lnTo>
                          <a:pt x="2410" y="0"/>
                        </a:lnTo>
                        <a:lnTo>
                          <a:pt x="2438" y="0"/>
                        </a:lnTo>
                        <a:lnTo>
                          <a:pt x="2466" y="0"/>
                        </a:lnTo>
                        <a:lnTo>
                          <a:pt x="2507" y="0"/>
                        </a:lnTo>
                        <a:lnTo>
                          <a:pt x="2535" y="0"/>
                        </a:lnTo>
                        <a:lnTo>
                          <a:pt x="2563" y="0"/>
                        </a:lnTo>
                        <a:lnTo>
                          <a:pt x="2590" y="0"/>
                        </a:lnTo>
                        <a:lnTo>
                          <a:pt x="2618" y="0"/>
                        </a:lnTo>
                        <a:lnTo>
                          <a:pt x="2646" y="0"/>
                        </a:lnTo>
                        <a:lnTo>
                          <a:pt x="2687" y="0"/>
                        </a:lnTo>
                        <a:lnTo>
                          <a:pt x="2715" y="0"/>
                        </a:lnTo>
                        <a:lnTo>
                          <a:pt x="2742" y="0"/>
                        </a:lnTo>
                        <a:lnTo>
                          <a:pt x="2770" y="0"/>
                        </a:lnTo>
                        <a:lnTo>
                          <a:pt x="2798" y="0"/>
                        </a:lnTo>
                        <a:lnTo>
                          <a:pt x="2825" y="0"/>
                        </a:lnTo>
                        <a:lnTo>
                          <a:pt x="2867" y="0"/>
                        </a:lnTo>
                        <a:lnTo>
                          <a:pt x="2895" y="0"/>
                        </a:lnTo>
                        <a:lnTo>
                          <a:pt x="2922" y="0"/>
                        </a:lnTo>
                        <a:lnTo>
                          <a:pt x="2950" y="0"/>
                        </a:lnTo>
                        <a:lnTo>
                          <a:pt x="2977" y="0"/>
                        </a:lnTo>
                        <a:lnTo>
                          <a:pt x="3005"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8" y="0"/>
                        </a:lnTo>
                        <a:lnTo>
                          <a:pt x="3435" y="0"/>
                        </a:lnTo>
                        <a:lnTo>
                          <a:pt x="3463" y="0"/>
                        </a:lnTo>
                        <a:lnTo>
                          <a:pt x="3491" y="0"/>
                        </a:lnTo>
                        <a:lnTo>
                          <a:pt x="3518" y="0"/>
                        </a:lnTo>
                        <a:lnTo>
                          <a:pt x="3546" y="0"/>
                        </a:lnTo>
                        <a:lnTo>
                          <a:pt x="3601" y="0"/>
                        </a:lnTo>
                        <a:lnTo>
                          <a:pt x="3629" y="0"/>
                        </a:lnTo>
                        <a:lnTo>
                          <a:pt x="3657" y="0"/>
                        </a:lnTo>
                        <a:lnTo>
                          <a:pt x="3684" y="0"/>
                        </a:lnTo>
                        <a:lnTo>
                          <a:pt x="3712" y="0"/>
                        </a:lnTo>
                        <a:lnTo>
                          <a:pt x="3740" y="0"/>
                        </a:lnTo>
                        <a:lnTo>
                          <a:pt x="3781" y="0"/>
                        </a:lnTo>
                        <a:lnTo>
                          <a:pt x="3809" y="0"/>
                        </a:lnTo>
                        <a:lnTo>
                          <a:pt x="3836" y="0"/>
                        </a:lnTo>
                        <a:lnTo>
                          <a:pt x="3865" y="0"/>
                        </a:lnTo>
                        <a:lnTo>
                          <a:pt x="3893" y="0"/>
                        </a:lnTo>
                        <a:lnTo>
                          <a:pt x="3921" y="0"/>
                        </a:lnTo>
                        <a:lnTo>
                          <a:pt x="3962" y="0"/>
                        </a:lnTo>
                        <a:lnTo>
                          <a:pt x="3990" y="0"/>
                        </a:lnTo>
                        <a:lnTo>
                          <a:pt x="4018" y="0"/>
                        </a:lnTo>
                        <a:lnTo>
                          <a:pt x="4045" y="0"/>
                        </a:lnTo>
                        <a:lnTo>
                          <a:pt x="4073" y="0"/>
                        </a:lnTo>
                        <a:lnTo>
                          <a:pt x="4101" y="0"/>
                        </a:lnTo>
                        <a:lnTo>
                          <a:pt x="4142" y="0"/>
                        </a:lnTo>
                        <a:lnTo>
                          <a:pt x="4170" y="0"/>
                        </a:lnTo>
                        <a:lnTo>
                          <a:pt x="4197" y="0"/>
                        </a:lnTo>
                        <a:lnTo>
                          <a:pt x="4225" y="0"/>
                        </a:lnTo>
                        <a:lnTo>
                          <a:pt x="4253" y="0"/>
                        </a:lnTo>
                        <a:lnTo>
                          <a:pt x="4280" y="0"/>
                        </a:lnTo>
                        <a:lnTo>
                          <a:pt x="4322" y="0"/>
                        </a:lnTo>
                        <a:lnTo>
                          <a:pt x="4350" y="0"/>
                        </a:lnTo>
                        <a:lnTo>
                          <a:pt x="4377" y="0"/>
                        </a:lnTo>
                        <a:lnTo>
                          <a:pt x="4405" y="0"/>
                        </a:lnTo>
                        <a:lnTo>
                          <a:pt x="4433" y="0"/>
                        </a:lnTo>
                        <a:lnTo>
                          <a:pt x="4460" y="0"/>
                        </a:lnTo>
                        <a:lnTo>
                          <a:pt x="4502" y="0"/>
                        </a:lnTo>
                        <a:lnTo>
                          <a:pt x="4529" y="0"/>
                        </a:lnTo>
                        <a:lnTo>
                          <a:pt x="4557" y="0"/>
                        </a:lnTo>
                        <a:lnTo>
                          <a:pt x="4585" y="0"/>
                        </a:lnTo>
                        <a:lnTo>
                          <a:pt x="4612"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1" y="0"/>
                        </a:lnTo>
                        <a:lnTo>
                          <a:pt x="5042" y="0"/>
                        </a:lnTo>
                        <a:lnTo>
                          <a:pt x="5070" y="0"/>
                        </a:lnTo>
                        <a:lnTo>
                          <a:pt x="5098" y="0"/>
                        </a:lnTo>
                        <a:lnTo>
                          <a:pt x="5125" y="0"/>
                        </a:lnTo>
                        <a:lnTo>
                          <a:pt x="5153" y="0"/>
                        </a:lnTo>
                        <a:lnTo>
                          <a:pt x="5181" y="0"/>
                        </a:lnTo>
                        <a:lnTo>
                          <a:pt x="5222" y="0"/>
                        </a:lnTo>
                        <a:lnTo>
                          <a:pt x="5250" y="0"/>
                        </a:lnTo>
                        <a:lnTo>
                          <a:pt x="5278" y="0"/>
                        </a:lnTo>
                        <a:lnTo>
                          <a:pt x="5305" y="0"/>
                        </a:lnTo>
                        <a:lnTo>
                          <a:pt x="5333" y="0"/>
                        </a:lnTo>
                        <a:lnTo>
                          <a:pt x="5361" y="0"/>
                        </a:lnTo>
                        <a:lnTo>
                          <a:pt x="5402" y="0"/>
                        </a:lnTo>
                        <a:lnTo>
                          <a:pt x="5430" y="0"/>
                        </a:lnTo>
                        <a:lnTo>
                          <a:pt x="5459" y="0"/>
                        </a:lnTo>
                        <a:lnTo>
                          <a:pt x="5486" y="0"/>
                        </a:lnTo>
                        <a:lnTo>
                          <a:pt x="5514" y="0"/>
                        </a:lnTo>
                        <a:lnTo>
                          <a:pt x="5542" y="0"/>
                        </a:lnTo>
                        <a:lnTo>
                          <a:pt x="5583" y="0"/>
                        </a:lnTo>
                        <a:lnTo>
                          <a:pt x="5611" y="0"/>
                        </a:lnTo>
                        <a:lnTo>
                          <a:pt x="5639" y="0"/>
                        </a:lnTo>
                        <a:lnTo>
                          <a:pt x="5666" y="0"/>
                        </a:lnTo>
                        <a:lnTo>
                          <a:pt x="5694" y="0"/>
                        </a:lnTo>
                        <a:lnTo>
                          <a:pt x="5722" y="0"/>
                        </a:lnTo>
                        <a:lnTo>
                          <a:pt x="5763" y="0"/>
                        </a:lnTo>
                        <a:lnTo>
                          <a:pt x="5791" y="0"/>
                        </a:lnTo>
                        <a:lnTo>
                          <a:pt x="5818" y="0"/>
                        </a:lnTo>
                        <a:lnTo>
                          <a:pt x="5846" y="0"/>
                        </a:lnTo>
                        <a:lnTo>
                          <a:pt x="5874" y="0"/>
                        </a:lnTo>
                        <a:lnTo>
                          <a:pt x="5901" y="0"/>
                        </a:lnTo>
                        <a:lnTo>
                          <a:pt x="5943" y="0"/>
                        </a:lnTo>
                        <a:lnTo>
                          <a:pt x="5971" y="0"/>
                        </a:lnTo>
                        <a:lnTo>
                          <a:pt x="5998" y="0"/>
                        </a:lnTo>
                        <a:lnTo>
                          <a:pt x="6026" y="0"/>
                        </a:lnTo>
                        <a:lnTo>
                          <a:pt x="6054" y="0"/>
                        </a:lnTo>
                        <a:lnTo>
                          <a:pt x="6081" y="0"/>
                        </a:lnTo>
                        <a:lnTo>
                          <a:pt x="6123" y="0"/>
                        </a:lnTo>
                        <a:lnTo>
                          <a:pt x="6150" y="0"/>
                        </a:lnTo>
                        <a:lnTo>
                          <a:pt x="6178" y="0"/>
                        </a:lnTo>
                        <a:lnTo>
                          <a:pt x="6206" y="0"/>
                        </a:lnTo>
                        <a:lnTo>
                          <a:pt x="6235" y="0"/>
                        </a:lnTo>
                        <a:lnTo>
                          <a:pt x="6276" y="0"/>
                        </a:lnTo>
                        <a:lnTo>
                          <a:pt x="6318" y="0"/>
                        </a:lnTo>
                        <a:lnTo>
                          <a:pt x="6345" y="0"/>
                        </a:lnTo>
                        <a:lnTo>
                          <a:pt x="6373" y="0"/>
                        </a:lnTo>
                        <a:lnTo>
                          <a:pt x="6401" y="0"/>
                        </a:lnTo>
                        <a:lnTo>
                          <a:pt x="6428" y="0"/>
                        </a:lnTo>
                        <a:lnTo>
                          <a:pt x="6456" y="0"/>
                        </a:lnTo>
                        <a:lnTo>
                          <a:pt x="6484" y="0"/>
                        </a:lnTo>
                        <a:lnTo>
                          <a:pt x="6525" y="0"/>
                        </a:lnTo>
                        <a:lnTo>
                          <a:pt x="6553" y="0"/>
                        </a:lnTo>
                        <a:lnTo>
                          <a:pt x="6581" y="0"/>
                        </a:lnTo>
                        <a:lnTo>
                          <a:pt x="6608" y="0"/>
                        </a:lnTo>
                        <a:lnTo>
                          <a:pt x="6636" y="0"/>
                        </a:lnTo>
                        <a:lnTo>
                          <a:pt x="6664" y="0"/>
                        </a:lnTo>
                        <a:lnTo>
                          <a:pt x="6705" y="0"/>
                        </a:lnTo>
                        <a:lnTo>
                          <a:pt x="6733" y="0"/>
                        </a:lnTo>
                        <a:lnTo>
                          <a:pt x="6760" y="0"/>
                        </a:lnTo>
                        <a:lnTo>
                          <a:pt x="6788" y="0"/>
                        </a:lnTo>
                        <a:lnTo>
                          <a:pt x="6816" y="0"/>
                        </a:lnTo>
                        <a:lnTo>
                          <a:pt x="6843" y="0"/>
                        </a:lnTo>
                        <a:lnTo>
                          <a:pt x="6885"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a:off x="5207040" y="2292480"/>
                    <a:ext cx="3643200" cy="1440"/>
                  </a:xfrm>
                  <a:custGeom>
                    <a:avLst/>
                    <a:gdLst/>
                    <a:ahLst/>
                    <a:rect l="l" t="t" r="r" b="b"/>
                    <a:pathLst>
                      <a:path w="6885" h="0">
                        <a:moveTo>
                          <a:pt x="0" y="0"/>
                        </a:moveTo>
                        <a:lnTo>
                          <a:pt x="27" y="0"/>
                        </a:lnTo>
                        <a:lnTo>
                          <a:pt x="55" y="0"/>
                        </a:lnTo>
                        <a:lnTo>
                          <a:pt x="83" y="0"/>
                        </a:lnTo>
                        <a:lnTo>
                          <a:pt x="124" y="0"/>
                        </a:lnTo>
                        <a:lnTo>
                          <a:pt x="152" y="0"/>
                        </a:lnTo>
                        <a:lnTo>
                          <a:pt x="179" y="0"/>
                        </a:lnTo>
                        <a:lnTo>
                          <a:pt x="207" y="0"/>
                        </a:lnTo>
                        <a:lnTo>
                          <a:pt x="235" y="0"/>
                        </a:lnTo>
                        <a:lnTo>
                          <a:pt x="262" y="0"/>
                        </a:lnTo>
                        <a:lnTo>
                          <a:pt x="304" y="0"/>
                        </a:lnTo>
                        <a:lnTo>
                          <a:pt x="332" y="0"/>
                        </a:lnTo>
                        <a:lnTo>
                          <a:pt x="359" y="0"/>
                        </a:lnTo>
                        <a:lnTo>
                          <a:pt x="387" y="0"/>
                        </a:lnTo>
                        <a:lnTo>
                          <a:pt x="415" y="0"/>
                        </a:lnTo>
                        <a:lnTo>
                          <a:pt x="442" y="0"/>
                        </a:lnTo>
                        <a:lnTo>
                          <a:pt x="470" y="0"/>
                        </a:lnTo>
                        <a:lnTo>
                          <a:pt x="511" y="0"/>
                        </a:lnTo>
                        <a:lnTo>
                          <a:pt x="539" y="0"/>
                        </a:lnTo>
                        <a:lnTo>
                          <a:pt x="567" y="0"/>
                        </a:lnTo>
                        <a:lnTo>
                          <a:pt x="594" y="0"/>
                        </a:lnTo>
                        <a:lnTo>
                          <a:pt x="622" y="0"/>
                        </a:lnTo>
                        <a:lnTo>
                          <a:pt x="650" y="0"/>
                        </a:lnTo>
                        <a:lnTo>
                          <a:pt x="693" y="0"/>
                        </a:lnTo>
                        <a:lnTo>
                          <a:pt x="720" y="0"/>
                        </a:lnTo>
                        <a:lnTo>
                          <a:pt x="748" y="0"/>
                        </a:lnTo>
                        <a:lnTo>
                          <a:pt x="776" y="0"/>
                        </a:lnTo>
                        <a:lnTo>
                          <a:pt x="803" y="0"/>
                        </a:lnTo>
                        <a:lnTo>
                          <a:pt x="831" y="0"/>
                        </a:lnTo>
                        <a:lnTo>
                          <a:pt x="872" y="0"/>
                        </a:lnTo>
                        <a:lnTo>
                          <a:pt x="900" y="0"/>
                        </a:lnTo>
                        <a:lnTo>
                          <a:pt x="942" y="0"/>
                        </a:lnTo>
                        <a:lnTo>
                          <a:pt x="969" y="0"/>
                        </a:lnTo>
                        <a:lnTo>
                          <a:pt x="997" y="0"/>
                        </a:lnTo>
                        <a:lnTo>
                          <a:pt x="1025" y="0"/>
                        </a:lnTo>
                        <a:lnTo>
                          <a:pt x="1066" y="0"/>
                        </a:lnTo>
                        <a:lnTo>
                          <a:pt x="1094" y="0"/>
                        </a:lnTo>
                        <a:lnTo>
                          <a:pt x="1121" y="0"/>
                        </a:lnTo>
                        <a:lnTo>
                          <a:pt x="1149" y="0"/>
                        </a:lnTo>
                        <a:lnTo>
                          <a:pt x="1177" y="0"/>
                        </a:lnTo>
                        <a:lnTo>
                          <a:pt x="1204" y="0"/>
                        </a:lnTo>
                        <a:lnTo>
                          <a:pt x="1246" y="0"/>
                        </a:lnTo>
                        <a:lnTo>
                          <a:pt x="1273" y="0"/>
                        </a:lnTo>
                        <a:lnTo>
                          <a:pt x="1301" y="0"/>
                        </a:lnTo>
                        <a:lnTo>
                          <a:pt x="1329" y="0"/>
                        </a:lnTo>
                        <a:lnTo>
                          <a:pt x="1356" y="0"/>
                        </a:lnTo>
                        <a:lnTo>
                          <a:pt x="1384" y="0"/>
                        </a:lnTo>
                        <a:lnTo>
                          <a:pt x="1426" y="0"/>
                        </a:lnTo>
                        <a:lnTo>
                          <a:pt x="1455" y="0"/>
                        </a:lnTo>
                        <a:lnTo>
                          <a:pt x="1482" y="0"/>
                        </a:lnTo>
                        <a:lnTo>
                          <a:pt x="1510" y="0"/>
                        </a:lnTo>
                        <a:lnTo>
                          <a:pt x="1538" y="0"/>
                        </a:lnTo>
                        <a:lnTo>
                          <a:pt x="1565" y="0"/>
                        </a:lnTo>
                        <a:lnTo>
                          <a:pt x="1607" y="0"/>
                        </a:lnTo>
                        <a:lnTo>
                          <a:pt x="1634" y="0"/>
                        </a:lnTo>
                        <a:lnTo>
                          <a:pt x="1662" y="0"/>
                        </a:lnTo>
                        <a:lnTo>
                          <a:pt x="1690" y="0"/>
                        </a:lnTo>
                        <a:lnTo>
                          <a:pt x="1717" y="0"/>
                        </a:lnTo>
                        <a:lnTo>
                          <a:pt x="1745" y="0"/>
                        </a:lnTo>
                        <a:lnTo>
                          <a:pt x="1787" y="0"/>
                        </a:lnTo>
                        <a:lnTo>
                          <a:pt x="1814" y="0"/>
                        </a:lnTo>
                        <a:lnTo>
                          <a:pt x="1842" y="0"/>
                        </a:lnTo>
                        <a:lnTo>
                          <a:pt x="1870" y="0"/>
                        </a:lnTo>
                        <a:lnTo>
                          <a:pt x="1897" y="0"/>
                        </a:lnTo>
                        <a:lnTo>
                          <a:pt x="1925" y="0"/>
                        </a:lnTo>
                        <a:lnTo>
                          <a:pt x="1966" y="0"/>
                        </a:lnTo>
                        <a:lnTo>
                          <a:pt x="1994" y="0"/>
                        </a:lnTo>
                        <a:lnTo>
                          <a:pt x="2022" y="0"/>
                        </a:lnTo>
                        <a:lnTo>
                          <a:pt x="2049" y="0"/>
                        </a:lnTo>
                        <a:lnTo>
                          <a:pt x="2077" y="0"/>
                        </a:lnTo>
                        <a:lnTo>
                          <a:pt x="2105" y="0"/>
                        </a:lnTo>
                        <a:lnTo>
                          <a:pt x="2146" y="0"/>
                        </a:lnTo>
                        <a:lnTo>
                          <a:pt x="2174" y="0"/>
                        </a:lnTo>
                        <a:lnTo>
                          <a:pt x="2202" y="0"/>
                        </a:lnTo>
                        <a:lnTo>
                          <a:pt x="2229" y="0"/>
                        </a:lnTo>
                        <a:lnTo>
                          <a:pt x="2258" y="0"/>
                        </a:lnTo>
                        <a:lnTo>
                          <a:pt x="2286" y="0"/>
                        </a:lnTo>
                        <a:lnTo>
                          <a:pt x="2327" y="0"/>
                        </a:lnTo>
                        <a:lnTo>
                          <a:pt x="2355" y="0"/>
                        </a:lnTo>
                        <a:lnTo>
                          <a:pt x="2383" y="0"/>
                        </a:lnTo>
                        <a:lnTo>
                          <a:pt x="2410" y="0"/>
                        </a:lnTo>
                        <a:lnTo>
                          <a:pt x="2438" y="0"/>
                        </a:lnTo>
                        <a:lnTo>
                          <a:pt x="2466" y="0"/>
                        </a:lnTo>
                        <a:lnTo>
                          <a:pt x="2507" y="0"/>
                        </a:lnTo>
                        <a:lnTo>
                          <a:pt x="2535" y="0"/>
                        </a:lnTo>
                        <a:lnTo>
                          <a:pt x="2563" y="0"/>
                        </a:lnTo>
                        <a:lnTo>
                          <a:pt x="2590" y="0"/>
                        </a:lnTo>
                        <a:lnTo>
                          <a:pt x="2618" y="0"/>
                        </a:lnTo>
                        <a:lnTo>
                          <a:pt x="2646" y="0"/>
                        </a:lnTo>
                        <a:lnTo>
                          <a:pt x="2687" y="0"/>
                        </a:lnTo>
                        <a:lnTo>
                          <a:pt x="2715" y="0"/>
                        </a:lnTo>
                        <a:lnTo>
                          <a:pt x="2742" y="0"/>
                        </a:lnTo>
                        <a:lnTo>
                          <a:pt x="2770" y="0"/>
                        </a:lnTo>
                        <a:lnTo>
                          <a:pt x="2798" y="0"/>
                        </a:lnTo>
                        <a:lnTo>
                          <a:pt x="2825" y="0"/>
                        </a:lnTo>
                        <a:lnTo>
                          <a:pt x="2867" y="0"/>
                        </a:lnTo>
                        <a:lnTo>
                          <a:pt x="2895" y="0"/>
                        </a:lnTo>
                        <a:lnTo>
                          <a:pt x="2922" y="0"/>
                        </a:lnTo>
                        <a:lnTo>
                          <a:pt x="2950" y="0"/>
                        </a:lnTo>
                        <a:lnTo>
                          <a:pt x="2977" y="0"/>
                        </a:lnTo>
                        <a:lnTo>
                          <a:pt x="3005" y="0"/>
                        </a:lnTo>
                        <a:lnTo>
                          <a:pt x="3048" y="0"/>
                        </a:lnTo>
                        <a:lnTo>
                          <a:pt x="3076" y="0"/>
                        </a:lnTo>
                        <a:lnTo>
                          <a:pt x="3103" y="0"/>
                        </a:lnTo>
                        <a:lnTo>
                          <a:pt x="3131" y="0"/>
                        </a:lnTo>
                        <a:lnTo>
                          <a:pt x="3159" y="0"/>
                        </a:lnTo>
                        <a:lnTo>
                          <a:pt x="3186" y="0"/>
                        </a:lnTo>
                        <a:lnTo>
                          <a:pt x="3228" y="0"/>
                        </a:lnTo>
                        <a:lnTo>
                          <a:pt x="3256" y="0"/>
                        </a:lnTo>
                        <a:lnTo>
                          <a:pt x="3283" y="0"/>
                        </a:lnTo>
                        <a:lnTo>
                          <a:pt x="3311" y="0"/>
                        </a:lnTo>
                        <a:lnTo>
                          <a:pt x="3338" y="0"/>
                        </a:lnTo>
                        <a:lnTo>
                          <a:pt x="3366" y="0"/>
                        </a:lnTo>
                        <a:lnTo>
                          <a:pt x="3408" y="0"/>
                        </a:lnTo>
                        <a:lnTo>
                          <a:pt x="3435" y="0"/>
                        </a:lnTo>
                        <a:lnTo>
                          <a:pt x="3463" y="0"/>
                        </a:lnTo>
                        <a:lnTo>
                          <a:pt x="3491" y="0"/>
                        </a:lnTo>
                        <a:lnTo>
                          <a:pt x="3518" y="0"/>
                        </a:lnTo>
                        <a:lnTo>
                          <a:pt x="3546" y="0"/>
                        </a:lnTo>
                        <a:lnTo>
                          <a:pt x="3601" y="0"/>
                        </a:lnTo>
                        <a:lnTo>
                          <a:pt x="3629" y="0"/>
                        </a:lnTo>
                        <a:lnTo>
                          <a:pt x="3657" y="0"/>
                        </a:lnTo>
                        <a:lnTo>
                          <a:pt x="3684" y="0"/>
                        </a:lnTo>
                        <a:lnTo>
                          <a:pt x="3712" y="0"/>
                        </a:lnTo>
                        <a:lnTo>
                          <a:pt x="3740" y="0"/>
                        </a:lnTo>
                        <a:lnTo>
                          <a:pt x="3781" y="0"/>
                        </a:lnTo>
                        <a:lnTo>
                          <a:pt x="3809" y="0"/>
                        </a:lnTo>
                        <a:lnTo>
                          <a:pt x="3836" y="0"/>
                        </a:lnTo>
                        <a:lnTo>
                          <a:pt x="3865" y="0"/>
                        </a:lnTo>
                        <a:lnTo>
                          <a:pt x="3893" y="0"/>
                        </a:lnTo>
                        <a:lnTo>
                          <a:pt x="3921" y="0"/>
                        </a:lnTo>
                        <a:lnTo>
                          <a:pt x="3962" y="0"/>
                        </a:lnTo>
                        <a:lnTo>
                          <a:pt x="3990" y="0"/>
                        </a:lnTo>
                        <a:lnTo>
                          <a:pt x="4018" y="0"/>
                        </a:lnTo>
                        <a:lnTo>
                          <a:pt x="4045" y="0"/>
                        </a:lnTo>
                        <a:lnTo>
                          <a:pt x="4073" y="0"/>
                        </a:lnTo>
                        <a:lnTo>
                          <a:pt x="4101" y="0"/>
                        </a:lnTo>
                        <a:lnTo>
                          <a:pt x="4142" y="0"/>
                        </a:lnTo>
                        <a:lnTo>
                          <a:pt x="4170" y="0"/>
                        </a:lnTo>
                        <a:lnTo>
                          <a:pt x="4197" y="0"/>
                        </a:lnTo>
                        <a:lnTo>
                          <a:pt x="4225" y="0"/>
                        </a:lnTo>
                        <a:lnTo>
                          <a:pt x="4253" y="0"/>
                        </a:lnTo>
                        <a:lnTo>
                          <a:pt x="4280" y="0"/>
                        </a:lnTo>
                        <a:lnTo>
                          <a:pt x="4322" y="0"/>
                        </a:lnTo>
                        <a:lnTo>
                          <a:pt x="4350" y="0"/>
                        </a:lnTo>
                        <a:lnTo>
                          <a:pt x="4377" y="0"/>
                        </a:lnTo>
                        <a:lnTo>
                          <a:pt x="4405" y="0"/>
                        </a:lnTo>
                        <a:lnTo>
                          <a:pt x="4433" y="0"/>
                        </a:lnTo>
                        <a:lnTo>
                          <a:pt x="4460" y="0"/>
                        </a:lnTo>
                        <a:lnTo>
                          <a:pt x="4502" y="0"/>
                        </a:lnTo>
                        <a:lnTo>
                          <a:pt x="4529" y="0"/>
                        </a:lnTo>
                        <a:lnTo>
                          <a:pt x="4557" y="0"/>
                        </a:lnTo>
                        <a:lnTo>
                          <a:pt x="4585" y="0"/>
                        </a:lnTo>
                        <a:lnTo>
                          <a:pt x="4612" y="0"/>
                        </a:lnTo>
                        <a:lnTo>
                          <a:pt x="4641" y="0"/>
                        </a:lnTo>
                        <a:lnTo>
                          <a:pt x="4683" y="0"/>
                        </a:lnTo>
                        <a:lnTo>
                          <a:pt x="4711" y="0"/>
                        </a:lnTo>
                        <a:lnTo>
                          <a:pt x="4738" y="0"/>
                        </a:lnTo>
                        <a:lnTo>
                          <a:pt x="4766" y="0"/>
                        </a:lnTo>
                        <a:lnTo>
                          <a:pt x="4794" y="0"/>
                        </a:lnTo>
                        <a:lnTo>
                          <a:pt x="4821" y="0"/>
                        </a:lnTo>
                        <a:lnTo>
                          <a:pt x="4863" y="0"/>
                        </a:lnTo>
                        <a:lnTo>
                          <a:pt x="4890" y="0"/>
                        </a:lnTo>
                        <a:lnTo>
                          <a:pt x="4918" y="0"/>
                        </a:lnTo>
                        <a:lnTo>
                          <a:pt x="4946" y="0"/>
                        </a:lnTo>
                        <a:lnTo>
                          <a:pt x="4973" y="0"/>
                        </a:lnTo>
                        <a:lnTo>
                          <a:pt x="5001" y="0"/>
                        </a:lnTo>
                        <a:lnTo>
                          <a:pt x="5042" y="0"/>
                        </a:lnTo>
                        <a:lnTo>
                          <a:pt x="5070" y="0"/>
                        </a:lnTo>
                        <a:lnTo>
                          <a:pt x="5098" y="0"/>
                        </a:lnTo>
                        <a:lnTo>
                          <a:pt x="5125" y="0"/>
                        </a:lnTo>
                        <a:lnTo>
                          <a:pt x="5153" y="0"/>
                        </a:lnTo>
                        <a:lnTo>
                          <a:pt x="5181" y="0"/>
                        </a:lnTo>
                        <a:lnTo>
                          <a:pt x="5222" y="0"/>
                        </a:lnTo>
                        <a:lnTo>
                          <a:pt x="5250" y="0"/>
                        </a:lnTo>
                        <a:lnTo>
                          <a:pt x="5278" y="0"/>
                        </a:lnTo>
                        <a:lnTo>
                          <a:pt x="5305" y="0"/>
                        </a:lnTo>
                        <a:lnTo>
                          <a:pt x="5333" y="0"/>
                        </a:lnTo>
                        <a:lnTo>
                          <a:pt x="5361" y="0"/>
                        </a:lnTo>
                        <a:lnTo>
                          <a:pt x="5402" y="0"/>
                        </a:lnTo>
                        <a:lnTo>
                          <a:pt x="5430" y="0"/>
                        </a:lnTo>
                        <a:lnTo>
                          <a:pt x="5459" y="0"/>
                        </a:lnTo>
                        <a:lnTo>
                          <a:pt x="5486" y="0"/>
                        </a:lnTo>
                        <a:lnTo>
                          <a:pt x="5514" y="0"/>
                        </a:lnTo>
                        <a:lnTo>
                          <a:pt x="5542" y="0"/>
                        </a:lnTo>
                        <a:lnTo>
                          <a:pt x="5583" y="0"/>
                        </a:lnTo>
                        <a:lnTo>
                          <a:pt x="5611" y="0"/>
                        </a:lnTo>
                        <a:lnTo>
                          <a:pt x="5639" y="0"/>
                        </a:lnTo>
                        <a:lnTo>
                          <a:pt x="5666" y="0"/>
                        </a:lnTo>
                        <a:lnTo>
                          <a:pt x="5694" y="0"/>
                        </a:lnTo>
                        <a:lnTo>
                          <a:pt x="5722" y="0"/>
                        </a:lnTo>
                        <a:lnTo>
                          <a:pt x="5763" y="0"/>
                        </a:lnTo>
                        <a:lnTo>
                          <a:pt x="5791" y="0"/>
                        </a:lnTo>
                        <a:lnTo>
                          <a:pt x="5818" y="0"/>
                        </a:lnTo>
                        <a:lnTo>
                          <a:pt x="5846" y="0"/>
                        </a:lnTo>
                        <a:lnTo>
                          <a:pt x="5874" y="0"/>
                        </a:lnTo>
                        <a:lnTo>
                          <a:pt x="5901" y="0"/>
                        </a:lnTo>
                        <a:lnTo>
                          <a:pt x="5943" y="0"/>
                        </a:lnTo>
                        <a:lnTo>
                          <a:pt x="5971" y="0"/>
                        </a:lnTo>
                        <a:lnTo>
                          <a:pt x="5998" y="0"/>
                        </a:lnTo>
                        <a:lnTo>
                          <a:pt x="6026" y="0"/>
                        </a:lnTo>
                        <a:lnTo>
                          <a:pt x="6054" y="0"/>
                        </a:lnTo>
                        <a:lnTo>
                          <a:pt x="6081" y="0"/>
                        </a:lnTo>
                        <a:lnTo>
                          <a:pt x="6123" y="0"/>
                        </a:lnTo>
                        <a:lnTo>
                          <a:pt x="6150" y="0"/>
                        </a:lnTo>
                        <a:lnTo>
                          <a:pt x="6178" y="0"/>
                        </a:lnTo>
                        <a:lnTo>
                          <a:pt x="6206" y="0"/>
                        </a:lnTo>
                        <a:lnTo>
                          <a:pt x="6235" y="0"/>
                        </a:lnTo>
                        <a:lnTo>
                          <a:pt x="6276" y="0"/>
                        </a:lnTo>
                        <a:lnTo>
                          <a:pt x="6318" y="0"/>
                        </a:lnTo>
                        <a:lnTo>
                          <a:pt x="6345" y="0"/>
                        </a:lnTo>
                        <a:lnTo>
                          <a:pt x="6373" y="0"/>
                        </a:lnTo>
                        <a:lnTo>
                          <a:pt x="6401" y="0"/>
                        </a:lnTo>
                        <a:lnTo>
                          <a:pt x="6428" y="0"/>
                        </a:lnTo>
                        <a:lnTo>
                          <a:pt x="6456" y="0"/>
                        </a:lnTo>
                        <a:lnTo>
                          <a:pt x="6484" y="0"/>
                        </a:lnTo>
                        <a:lnTo>
                          <a:pt x="6525" y="0"/>
                        </a:lnTo>
                        <a:lnTo>
                          <a:pt x="6553" y="0"/>
                        </a:lnTo>
                        <a:lnTo>
                          <a:pt x="6581" y="0"/>
                        </a:lnTo>
                        <a:lnTo>
                          <a:pt x="6608" y="0"/>
                        </a:lnTo>
                        <a:lnTo>
                          <a:pt x="6636" y="0"/>
                        </a:lnTo>
                        <a:lnTo>
                          <a:pt x="6664" y="0"/>
                        </a:lnTo>
                        <a:lnTo>
                          <a:pt x="6705" y="0"/>
                        </a:lnTo>
                        <a:lnTo>
                          <a:pt x="6733" y="0"/>
                        </a:lnTo>
                        <a:lnTo>
                          <a:pt x="6760" y="0"/>
                        </a:lnTo>
                        <a:lnTo>
                          <a:pt x="6788" y="0"/>
                        </a:lnTo>
                        <a:lnTo>
                          <a:pt x="6816" y="0"/>
                        </a:lnTo>
                        <a:lnTo>
                          <a:pt x="6843" y="0"/>
                        </a:lnTo>
                        <a:lnTo>
                          <a:pt x="688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10" name=""/>
                <p:cNvGrpSpPr/>
                <p:nvPr/>
              </p:nvGrpSpPr>
              <p:grpSpPr>
                <a:xfrm>
                  <a:off x="5403960" y="2084400"/>
                  <a:ext cx="3247920" cy="1440"/>
                  <a:chOff x="5403960" y="2084400"/>
                  <a:chExt cx="3247920" cy="1440"/>
                </a:xfrm>
              </p:grpSpPr>
              <p:sp>
                <p:nvSpPr>
                  <p:cNvPr id="1511" name=""/>
                  <p:cNvSpPr/>
                  <p:nvPr/>
                </p:nvSpPr>
                <p:spPr>
                  <a:xfrm>
                    <a:off x="5403960" y="2084400"/>
                    <a:ext cx="3247920" cy="1440"/>
                  </a:xfrm>
                  <a:custGeom>
                    <a:avLst/>
                    <a:gdLst/>
                    <a:ahLst/>
                    <a:rect l="l" t="t" r="r" b="b"/>
                    <a:pathLst>
                      <a:path w="6138" h="0">
                        <a:moveTo>
                          <a:pt x="0" y="0"/>
                        </a:moveTo>
                        <a:lnTo>
                          <a:pt x="28" y="0"/>
                        </a:lnTo>
                        <a:lnTo>
                          <a:pt x="55" y="0"/>
                        </a:lnTo>
                        <a:lnTo>
                          <a:pt x="83" y="0"/>
                        </a:lnTo>
                        <a:lnTo>
                          <a:pt x="111" y="0"/>
                        </a:lnTo>
                        <a:lnTo>
                          <a:pt x="152" y="0"/>
                        </a:lnTo>
                        <a:lnTo>
                          <a:pt x="180" y="0"/>
                        </a:lnTo>
                        <a:lnTo>
                          <a:pt x="208" y="0"/>
                        </a:lnTo>
                        <a:lnTo>
                          <a:pt x="235" y="0"/>
                        </a:lnTo>
                        <a:lnTo>
                          <a:pt x="263" y="0"/>
                        </a:lnTo>
                        <a:lnTo>
                          <a:pt x="292" y="0"/>
                        </a:lnTo>
                        <a:lnTo>
                          <a:pt x="333" y="0"/>
                        </a:lnTo>
                        <a:lnTo>
                          <a:pt x="361" y="0"/>
                        </a:lnTo>
                        <a:lnTo>
                          <a:pt x="389" y="0"/>
                        </a:lnTo>
                        <a:lnTo>
                          <a:pt x="416" y="0"/>
                        </a:lnTo>
                        <a:lnTo>
                          <a:pt x="444" y="0"/>
                        </a:lnTo>
                        <a:lnTo>
                          <a:pt x="472" y="0"/>
                        </a:lnTo>
                        <a:lnTo>
                          <a:pt x="513" y="0"/>
                        </a:lnTo>
                        <a:lnTo>
                          <a:pt x="541" y="0"/>
                        </a:lnTo>
                        <a:lnTo>
                          <a:pt x="582" y="0"/>
                        </a:lnTo>
                        <a:lnTo>
                          <a:pt x="610" y="0"/>
                        </a:lnTo>
                        <a:lnTo>
                          <a:pt x="638" y="0"/>
                        </a:lnTo>
                        <a:lnTo>
                          <a:pt x="665" y="0"/>
                        </a:lnTo>
                        <a:lnTo>
                          <a:pt x="707" y="0"/>
                        </a:lnTo>
                        <a:lnTo>
                          <a:pt x="735" y="0"/>
                        </a:lnTo>
                        <a:lnTo>
                          <a:pt x="762" y="0"/>
                        </a:lnTo>
                        <a:lnTo>
                          <a:pt x="790" y="0"/>
                        </a:lnTo>
                        <a:lnTo>
                          <a:pt x="818" y="0"/>
                        </a:lnTo>
                        <a:lnTo>
                          <a:pt x="845" y="0"/>
                        </a:lnTo>
                        <a:lnTo>
                          <a:pt x="887" y="0"/>
                        </a:lnTo>
                        <a:lnTo>
                          <a:pt x="914" y="0"/>
                        </a:lnTo>
                        <a:lnTo>
                          <a:pt x="942" y="0"/>
                        </a:lnTo>
                        <a:lnTo>
                          <a:pt x="970" y="0"/>
                        </a:lnTo>
                        <a:lnTo>
                          <a:pt x="997" y="0"/>
                        </a:lnTo>
                        <a:lnTo>
                          <a:pt x="1025" y="0"/>
                        </a:lnTo>
                        <a:lnTo>
                          <a:pt x="1066" y="0"/>
                        </a:lnTo>
                        <a:lnTo>
                          <a:pt x="1096" y="0"/>
                        </a:lnTo>
                        <a:lnTo>
                          <a:pt x="1123" y="0"/>
                        </a:lnTo>
                        <a:lnTo>
                          <a:pt x="1151" y="0"/>
                        </a:lnTo>
                        <a:lnTo>
                          <a:pt x="1178" y="0"/>
                        </a:lnTo>
                        <a:lnTo>
                          <a:pt x="1206" y="0"/>
                        </a:lnTo>
                        <a:lnTo>
                          <a:pt x="1248" y="0"/>
                        </a:lnTo>
                        <a:lnTo>
                          <a:pt x="1275" y="0"/>
                        </a:lnTo>
                        <a:lnTo>
                          <a:pt x="1303" y="0"/>
                        </a:lnTo>
                        <a:lnTo>
                          <a:pt x="1331" y="0"/>
                        </a:lnTo>
                        <a:lnTo>
                          <a:pt x="1358" y="0"/>
                        </a:lnTo>
                        <a:lnTo>
                          <a:pt x="1386" y="0"/>
                        </a:lnTo>
                        <a:lnTo>
                          <a:pt x="1427" y="0"/>
                        </a:lnTo>
                        <a:lnTo>
                          <a:pt x="1455" y="0"/>
                        </a:lnTo>
                        <a:lnTo>
                          <a:pt x="1483" y="0"/>
                        </a:lnTo>
                        <a:lnTo>
                          <a:pt x="1510" y="0"/>
                        </a:lnTo>
                        <a:lnTo>
                          <a:pt x="1538" y="0"/>
                        </a:lnTo>
                        <a:lnTo>
                          <a:pt x="1566" y="0"/>
                        </a:lnTo>
                        <a:lnTo>
                          <a:pt x="1607" y="0"/>
                        </a:lnTo>
                        <a:lnTo>
                          <a:pt x="1635" y="0"/>
                        </a:lnTo>
                        <a:lnTo>
                          <a:pt x="1663" y="0"/>
                        </a:lnTo>
                        <a:lnTo>
                          <a:pt x="1690" y="0"/>
                        </a:lnTo>
                        <a:lnTo>
                          <a:pt x="1718" y="0"/>
                        </a:lnTo>
                        <a:lnTo>
                          <a:pt x="1746" y="0"/>
                        </a:lnTo>
                        <a:lnTo>
                          <a:pt x="1787" y="0"/>
                        </a:lnTo>
                        <a:lnTo>
                          <a:pt x="1815" y="0"/>
                        </a:lnTo>
                        <a:lnTo>
                          <a:pt x="1842" y="0"/>
                        </a:lnTo>
                        <a:lnTo>
                          <a:pt x="1870" y="0"/>
                        </a:lnTo>
                        <a:lnTo>
                          <a:pt x="1899" y="0"/>
                        </a:lnTo>
                        <a:lnTo>
                          <a:pt x="1927" y="0"/>
                        </a:lnTo>
                        <a:lnTo>
                          <a:pt x="1968" y="0"/>
                        </a:lnTo>
                        <a:lnTo>
                          <a:pt x="1996" y="0"/>
                        </a:lnTo>
                        <a:lnTo>
                          <a:pt x="2024" y="0"/>
                        </a:lnTo>
                        <a:lnTo>
                          <a:pt x="2051" y="0"/>
                        </a:lnTo>
                        <a:lnTo>
                          <a:pt x="2079" y="0"/>
                        </a:lnTo>
                        <a:lnTo>
                          <a:pt x="2107"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48" y="0"/>
                        </a:lnTo>
                        <a:lnTo>
                          <a:pt x="3076" y="0"/>
                        </a:lnTo>
                        <a:lnTo>
                          <a:pt x="3104" y="0"/>
                        </a:lnTo>
                        <a:lnTo>
                          <a:pt x="3131" y="0"/>
                        </a:lnTo>
                        <a:lnTo>
                          <a:pt x="3159" y="0"/>
                        </a:lnTo>
                        <a:lnTo>
                          <a:pt x="3201" y="0"/>
                        </a:lnTo>
                        <a:lnTo>
                          <a:pt x="3242" y="0"/>
                        </a:lnTo>
                        <a:lnTo>
                          <a:pt x="3270" y="0"/>
                        </a:lnTo>
                        <a:lnTo>
                          <a:pt x="3297" y="0"/>
                        </a:lnTo>
                        <a:lnTo>
                          <a:pt x="3325" y="0"/>
                        </a:lnTo>
                        <a:lnTo>
                          <a:pt x="3353" y="0"/>
                        </a:lnTo>
                        <a:lnTo>
                          <a:pt x="3394" y="0"/>
                        </a:lnTo>
                        <a:lnTo>
                          <a:pt x="3422" y="0"/>
                        </a:lnTo>
                        <a:lnTo>
                          <a:pt x="3450" y="0"/>
                        </a:lnTo>
                        <a:lnTo>
                          <a:pt x="3479" y="0"/>
                        </a:lnTo>
                        <a:lnTo>
                          <a:pt x="3506" y="0"/>
                        </a:lnTo>
                        <a:lnTo>
                          <a:pt x="3534" y="0"/>
                        </a:lnTo>
                        <a:lnTo>
                          <a:pt x="3575" y="0"/>
                        </a:lnTo>
                        <a:lnTo>
                          <a:pt x="3603" y="0"/>
                        </a:lnTo>
                        <a:lnTo>
                          <a:pt x="3631" y="0"/>
                        </a:lnTo>
                        <a:lnTo>
                          <a:pt x="3658" y="0"/>
                        </a:lnTo>
                        <a:lnTo>
                          <a:pt x="3686" y="0"/>
                        </a:lnTo>
                        <a:lnTo>
                          <a:pt x="3714" y="0"/>
                        </a:lnTo>
                        <a:lnTo>
                          <a:pt x="3755" y="0"/>
                        </a:lnTo>
                        <a:lnTo>
                          <a:pt x="3783" y="0"/>
                        </a:lnTo>
                        <a:lnTo>
                          <a:pt x="3811" y="0"/>
                        </a:lnTo>
                        <a:lnTo>
                          <a:pt x="3838" y="0"/>
                        </a:lnTo>
                        <a:lnTo>
                          <a:pt x="3866" y="0"/>
                        </a:lnTo>
                        <a:lnTo>
                          <a:pt x="3894" y="0"/>
                        </a:lnTo>
                        <a:lnTo>
                          <a:pt x="3935" y="0"/>
                        </a:lnTo>
                        <a:lnTo>
                          <a:pt x="3963" y="0"/>
                        </a:lnTo>
                        <a:lnTo>
                          <a:pt x="3990" y="0"/>
                        </a:lnTo>
                        <a:lnTo>
                          <a:pt x="4018" y="0"/>
                        </a:lnTo>
                        <a:lnTo>
                          <a:pt x="4046" y="0"/>
                        </a:lnTo>
                        <a:lnTo>
                          <a:pt x="4073" y="0"/>
                        </a:lnTo>
                        <a:lnTo>
                          <a:pt x="4115" y="0"/>
                        </a:lnTo>
                        <a:lnTo>
                          <a:pt x="4143" y="0"/>
                        </a:lnTo>
                        <a:lnTo>
                          <a:pt x="4170" y="0"/>
                        </a:lnTo>
                        <a:lnTo>
                          <a:pt x="4198" y="0"/>
                        </a:lnTo>
                        <a:lnTo>
                          <a:pt x="4226" y="0"/>
                        </a:lnTo>
                        <a:lnTo>
                          <a:pt x="4253" y="0"/>
                        </a:lnTo>
                        <a:lnTo>
                          <a:pt x="4296" y="0"/>
                        </a:lnTo>
                        <a:lnTo>
                          <a:pt x="4324" y="0"/>
                        </a:lnTo>
                        <a:lnTo>
                          <a:pt x="4351" y="0"/>
                        </a:lnTo>
                        <a:lnTo>
                          <a:pt x="4379" y="0"/>
                        </a:lnTo>
                        <a:lnTo>
                          <a:pt x="4407" y="0"/>
                        </a:lnTo>
                        <a:lnTo>
                          <a:pt x="4434" y="0"/>
                        </a:lnTo>
                        <a:lnTo>
                          <a:pt x="4476" y="0"/>
                        </a:lnTo>
                        <a:lnTo>
                          <a:pt x="4504" y="0"/>
                        </a:lnTo>
                        <a:lnTo>
                          <a:pt x="4531" y="0"/>
                        </a:lnTo>
                        <a:lnTo>
                          <a:pt x="4559" y="0"/>
                        </a:lnTo>
                        <a:lnTo>
                          <a:pt x="4587" y="0"/>
                        </a:lnTo>
                        <a:lnTo>
                          <a:pt x="4614" y="0"/>
                        </a:lnTo>
                        <a:lnTo>
                          <a:pt x="4656" y="0"/>
                        </a:lnTo>
                        <a:lnTo>
                          <a:pt x="4683" y="0"/>
                        </a:lnTo>
                        <a:lnTo>
                          <a:pt x="4711" y="0"/>
                        </a:lnTo>
                        <a:lnTo>
                          <a:pt x="4739" y="0"/>
                        </a:lnTo>
                        <a:lnTo>
                          <a:pt x="4766" y="0"/>
                        </a:lnTo>
                        <a:lnTo>
                          <a:pt x="4794" y="0"/>
                        </a:lnTo>
                        <a:lnTo>
                          <a:pt x="4835" y="0"/>
                        </a:lnTo>
                        <a:lnTo>
                          <a:pt x="4863" y="0"/>
                        </a:lnTo>
                        <a:lnTo>
                          <a:pt x="4891" y="0"/>
                        </a:lnTo>
                        <a:lnTo>
                          <a:pt x="4918" y="0"/>
                        </a:lnTo>
                        <a:lnTo>
                          <a:pt x="4946" y="0"/>
                        </a:lnTo>
                        <a:lnTo>
                          <a:pt x="4974" y="0"/>
                        </a:lnTo>
                        <a:lnTo>
                          <a:pt x="5015" y="0"/>
                        </a:lnTo>
                        <a:lnTo>
                          <a:pt x="5043" y="0"/>
                        </a:lnTo>
                        <a:lnTo>
                          <a:pt x="5072" y="0"/>
                        </a:lnTo>
                        <a:lnTo>
                          <a:pt x="5100" y="0"/>
                        </a:lnTo>
                        <a:lnTo>
                          <a:pt x="5127" y="0"/>
                        </a:lnTo>
                        <a:lnTo>
                          <a:pt x="5155" y="0"/>
                        </a:lnTo>
                        <a:lnTo>
                          <a:pt x="5196" y="0"/>
                        </a:lnTo>
                        <a:lnTo>
                          <a:pt x="5224" y="0"/>
                        </a:lnTo>
                        <a:lnTo>
                          <a:pt x="5252" y="0"/>
                        </a:lnTo>
                        <a:lnTo>
                          <a:pt x="5279" y="0"/>
                        </a:lnTo>
                        <a:lnTo>
                          <a:pt x="5307" y="0"/>
                        </a:lnTo>
                        <a:lnTo>
                          <a:pt x="5335" y="0"/>
                        </a:lnTo>
                        <a:lnTo>
                          <a:pt x="5376" y="0"/>
                        </a:lnTo>
                        <a:lnTo>
                          <a:pt x="5404" y="0"/>
                        </a:lnTo>
                        <a:lnTo>
                          <a:pt x="5432" y="0"/>
                        </a:lnTo>
                        <a:lnTo>
                          <a:pt x="5459" y="0"/>
                        </a:lnTo>
                        <a:lnTo>
                          <a:pt x="5487" y="0"/>
                        </a:lnTo>
                        <a:lnTo>
                          <a:pt x="5515" y="0"/>
                        </a:lnTo>
                        <a:lnTo>
                          <a:pt x="5556" y="0"/>
                        </a:lnTo>
                        <a:lnTo>
                          <a:pt x="5584" y="0"/>
                        </a:lnTo>
                        <a:lnTo>
                          <a:pt x="5611" y="0"/>
                        </a:lnTo>
                        <a:lnTo>
                          <a:pt x="5639" y="0"/>
                        </a:lnTo>
                        <a:lnTo>
                          <a:pt x="5667" y="0"/>
                        </a:lnTo>
                        <a:lnTo>
                          <a:pt x="5694" y="0"/>
                        </a:lnTo>
                        <a:lnTo>
                          <a:pt x="5736" y="0"/>
                        </a:lnTo>
                        <a:lnTo>
                          <a:pt x="5764" y="0"/>
                        </a:lnTo>
                        <a:lnTo>
                          <a:pt x="5791" y="0"/>
                        </a:lnTo>
                        <a:lnTo>
                          <a:pt x="5819" y="0"/>
                        </a:lnTo>
                        <a:lnTo>
                          <a:pt x="5847" y="0"/>
                        </a:lnTo>
                        <a:lnTo>
                          <a:pt x="5889" y="0"/>
                        </a:lnTo>
                        <a:lnTo>
                          <a:pt x="5931" y="0"/>
                        </a:lnTo>
                        <a:lnTo>
                          <a:pt x="5959" y="0"/>
                        </a:lnTo>
                        <a:lnTo>
                          <a:pt x="5986" y="0"/>
                        </a:lnTo>
                        <a:lnTo>
                          <a:pt x="6014" y="0"/>
                        </a:lnTo>
                        <a:lnTo>
                          <a:pt x="6042" y="0"/>
                        </a:lnTo>
                        <a:lnTo>
                          <a:pt x="6069" y="0"/>
                        </a:lnTo>
                        <a:lnTo>
                          <a:pt x="6111" y="0"/>
                        </a:lnTo>
                        <a:lnTo>
                          <a:pt x="6138" y="0"/>
                        </a:lnTo>
                        <a:lnTo>
                          <a:pt x="0" y="0"/>
                        </a:lnTo>
                        <a:close/>
                      </a:path>
                    </a:pathLst>
                  </a:custGeom>
                  <a:solidFill>
                    <a:srgbClr val="c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2" name=""/>
                  <p:cNvSpPr/>
                  <p:nvPr/>
                </p:nvSpPr>
                <p:spPr>
                  <a:xfrm>
                    <a:off x="5403960" y="2084400"/>
                    <a:ext cx="3247920" cy="1440"/>
                  </a:xfrm>
                  <a:custGeom>
                    <a:avLst/>
                    <a:gdLst/>
                    <a:ahLst/>
                    <a:rect l="l" t="t" r="r" b="b"/>
                    <a:pathLst>
                      <a:path w="6138" h="0">
                        <a:moveTo>
                          <a:pt x="0" y="0"/>
                        </a:moveTo>
                        <a:lnTo>
                          <a:pt x="28" y="0"/>
                        </a:lnTo>
                        <a:lnTo>
                          <a:pt x="55" y="0"/>
                        </a:lnTo>
                        <a:lnTo>
                          <a:pt x="83" y="0"/>
                        </a:lnTo>
                        <a:lnTo>
                          <a:pt x="111" y="0"/>
                        </a:lnTo>
                        <a:lnTo>
                          <a:pt x="152" y="0"/>
                        </a:lnTo>
                        <a:lnTo>
                          <a:pt x="180" y="0"/>
                        </a:lnTo>
                        <a:lnTo>
                          <a:pt x="208" y="0"/>
                        </a:lnTo>
                        <a:lnTo>
                          <a:pt x="235" y="0"/>
                        </a:lnTo>
                        <a:lnTo>
                          <a:pt x="263" y="0"/>
                        </a:lnTo>
                        <a:lnTo>
                          <a:pt x="292" y="0"/>
                        </a:lnTo>
                        <a:lnTo>
                          <a:pt x="333" y="0"/>
                        </a:lnTo>
                        <a:lnTo>
                          <a:pt x="361" y="0"/>
                        </a:lnTo>
                        <a:lnTo>
                          <a:pt x="389" y="0"/>
                        </a:lnTo>
                        <a:lnTo>
                          <a:pt x="416" y="0"/>
                        </a:lnTo>
                        <a:lnTo>
                          <a:pt x="444" y="0"/>
                        </a:lnTo>
                        <a:lnTo>
                          <a:pt x="472" y="0"/>
                        </a:lnTo>
                        <a:lnTo>
                          <a:pt x="513" y="0"/>
                        </a:lnTo>
                        <a:lnTo>
                          <a:pt x="541" y="0"/>
                        </a:lnTo>
                        <a:lnTo>
                          <a:pt x="582" y="0"/>
                        </a:lnTo>
                        <a:lnTo>
                          <a:pt x="610" y="0"/>
                        </a:lnTo>
                        <a:lnTo>
                          <a:pt x="638" y="0"/>
                        </a:lnTo>
                        <a:lnTo>
                          <a:pt x="665" y="0"/>
                        </a:lnTo>
                        <a:lnTo>
                          <a:pt x="707" y="0"/>
                        </a:lnTo>
                        <a:lnTo>
                          <a:pt x="735" y="0"/>
                        </a:lnTo>
                        <a:lnTo>
                          <a:pt x="762" y="0"/>
                        </a:lnTo>
                        <a:lnTo>
                          <a:pt x="790" y="0"/>
                        </a:lnTo>
                        <a:lnTo>
                          <a:pt x="818" y="0"/>
                        </a:lnTo>
                        <a:lnTo>
                          <a:pt x="845" y="0"/>
                        </a:lnTo>
                        <a:lnTo>
                          <a:pt x="887" y="0"/>
                        </a:lnTo>
                        <a:lnTo>
                          <a:pt x="914" y="0"/>
                        </a:lnTo>
                        <a:lnTo>
                          <a:pt x="942" y="0"/>
                        </a:lnTo>
                        <a:lnTo>
                          <a:pt x="970" y="0"/>
                        </a:lnTo>
                        <a:lnTo>
                          <a:pt x="997" y="0"/>
                        </a:lnTo>
                        <a:lnTo>
                          <a:pt x="1025" y="0"/>
                        </a:lnTo>
                        <a:lnTo>
                          <a:pt x="1066" y="0"/>
                        </a:lnTo>
                        <a:lnTo>
                          <a:pt x="1096" y="0"/>
                        </a:lnTo>
                        <a:lnTo>
                          <a:pt x="1123" y="0"/>
                        </a:lnTo>
                        <a:lnTo>
                          <a:pt x="1151" y="0"/>
                        </a:lnTo>
                        <a:lnTo>
                          <a:pt x="1178" y="0"/>
                        </a:lnTo>
                        <a:lnTo>
                          <a:pt x="1206" y="0"/>
                        </a:lnTo>
                        <a:lnTo>
                          <a:pt x="1248" y="0"/>
                        </a:lnTo>
                        <a:lnTo>
                          <a:pt x="1275" y="0"/>
                        </a:lnTo>
                        <a:lnTo>
                          <a:pt x="1303" y="0"/>
                        </a:lnTo>
                        <a:lnTo>
                          <a:pt x="1331" y="0"/>
                        </a:lnTo>
                        <a:lnTo>
                          <a:pt x="1358" y="0"/>
                        </a:lnTo>
                        <a:lnTo>
                          <a:pt x="1386" y="0"/>
                        </a:lnTo>
                        <a:lnTo>
                          <a:pt x="1427" y="0"/>
                        </a:lnTo>
                        <a:lnTo>
                          <a:pt x="1455" y="0"/>
                        </a:lnTo>
                        <a:lnTo>
                          <a:pt x="1483" y="0"/>
                        </a:lnTo>
                        <a:lnTo>
                          <a:pt x="1510" y="0"/>
                        </a:lnTo>
                        <a:lnTo>
                          <a:pt x="1538" y="0"/>
                        </a:lnTo>
                        <a:lnTo>
                          <a:pt x="1566" y="0"/>
                        </a:lnTo>
                        <a:lnTo>
                          <a:pt x="1607" y="0"/>
                        </a:lnTo>
                        <a:lnTo>
                          <a:pt x="1635" y="0"/>
                        </a:lnTo>
                        <a:lnTo>
                          <a:pt x="1663" y="0"/>
                        </a:lnTo>
                        <a:lnTo>
                          <a:pt x="1690" y="0"/>
                        </a:lnTo>
                        <a:lnTo>
                          <a:pt x="1718" y="0"/>
                        </a:lnTo>
                        <a:lnTo>
                          <a:pt x="1746" y="0"/>
                        </a:lnTo>
                        <a:lnTo>
                          <a:pt x="1787" y="0"/>
                        </a:lnTo>
                        <a:lnTo>
                          <a:pt x="1815" y="0"/>
                        </a:lnTo>
                        <a:lnTo>
                          <a:pt x="1842" y="0"/>
                        </a:lnTo>
                        <a:lnTo>
                          <a:pt x="1870" y="0"/>
                        </a:lnTo>
                        <a:lnTo>
                          <a:pt x="1899" y="0"/>
                        </a:lnTo>
                        <a:lnTo>
                          <a:pt x="1927" y="0"/>
                        </a:lnTo>
                        <a:lnTo>
                          <a:pt x="1968" y="0"/>
                        </a:lnTo>
                        <a:lnTo>
                          <a:pt x="1996" y="0"/>
                        </a:lnTo>
                        <a:lnTo>
                          <a:pt x="2024" y="0"/>
                        </a:lnTo>
                        <a:lnTo>
                          <a:pt x="2051" y="0"/>
                        </a:lnTo>
                        <a:lnTo>
                          <a:pt x="2079" y="0"/>
                        </a:lnTo>
                        <a:lnTo>
                          <a:pt x="2107" y="0"/>
                        </a:lnTo>
                        <a:lnTo>
                          <a:pt x="2148" y="0"/>
                        </a:lnTo>
                        <a:lnTo>
                          <a:pt x="2176" y="0"/>
                        </a:lnTo>
                        <a:lnTo>
                          <a:pt x="2203" y="0"/>
                        </a:lnTo>
                        <a:lnTo>
                          <a:pt x="2231" y="0"/>
                        </a:lnTo>
                        <a:lnTo>
                          <a:pt x="2259" y="0"/>
                        </a:lnTo>
                        <a:lnTo>
                          <a:pt x="2286" y="0"/>
                        </a:lnTo>
                        <a:lnTo>
                          <a:pt x="2328" y="0"/>
                        </a:lnTo>
                        <a:lnTo>
                          <a:pt x="2356" y="0"/>
                        </a:lnTo>
                        <a:lnTo>
                          <a:pt x="2383" y="0"/>
                        </a:lnTo>
                        <a:lnTo>
                          <a:pt x="2411" y="0"/>
                        </a:lnTo>
                        <a:lnTo>
                          <a:pt x="2439" y="0"/>
                        </a:lnTo>
                        <a:lnTo>
                          <a:pt x="2466" y="0"/>
                        </a:lnTo>
                        <a:lnTo>
                          <a:pt x="2508" y="0"/>
                        </a:lnTo>
                        <a:lnTo>
                          <a:pt x="2535" y="0"/>
                        </a:lnTo>
                        <a:lnTo>
                          <a:pt x="2563" y="0"/>
                        </a:lnTo>
                        <a:lnTo>
                          <a:pt x="2591" y="0"/>
                        </a:lnTo>
                        <a:lnTo>
                          <a:pt x="2618" y="0"/>
                        </a:lnTo>
                        <a:lnTo>
                          <a:pt x="2646" y="0"/>
                        </a:lnTo>
                        <a:lnTo>
                          <a:pt x="2689" y="0"/>
                        </a:lnTo>
                        <a:lnTo>
                          <a:pt x="2717" y="0"/>
                        </a:lnTo>
                        <a:lnTo>
                          <a:pt x="2744" y="0"/>
                        </a:lnTo>
                        <a:lnTo>
                          <a:pt x="2772" y="0"/>
                        </a:lnTo>
                        <a:lnTo>
                          <a:pt x="2800" y="0"/>
                        </a:lnTo>
                        <a:lnTo>
                          <a:pt x="2827" y="0"/>
                        </a:lnTo>
                        <a:lnTo>
                          <a:pt x="2869" y="0"/>
                        </a:lnTo>
                        <a:lnTo>
                          <a:pt x="2896" y="0"/>
                        </a:lnTo>
                        <a:lnTo>
                          <a:pt x="2924" y="0"/>
                        </a:lnTo>
                        <a:lnTo>
                          <a:pt x="2952" y="0"/>
                        </a:lnTo>
                        <a:lnTo>
                          <a:pt x="2979" y="0"/>
                        </a:lnTo>
                        <a:lnTo>
                          <a:pt x="3007" y="0"/>
                        </a:lnTo>
                        <a:lnTo>
                          <a:pt x="3048" y="0"/>
                        </a:lnTo>
                        <a:lnTo>
                          <a:pt x="3076" y="0"/>
                        </a:lnTo>
                        <a:lnTo>
                          <a:pt x="3104" y="0"/>
                        </a:lnTo>
                        <a:lnTo>
                          <a:pt x="3131" y="0"/>
                        </a:lnTo>
                        <a:lnTo>
                          <a:pt x="3159" y="0"/>
                        </a:lnTo>
                        <a:lnTo>
                          <a:pt x="3201" y="0"/>
                        </a:lnTo>
                        <a:lnTo>
                          <a:pt x="3242" y="0"/>
                        </a:lnTo>
                        <a:lnTo>
                          <a:pt x="3270" y="0"/>
                        </a:lnTo>
                        <a:lnTo>
                          <a:pt x="3297" y="0"/>
                        </a:lnTo>
                        <a:lnTo>
                          <a:pt x="3325" y="0"/>
                        </a:lnTo>
                        <a:lnTo>
                          <a:pt x="3353" y="0"/>
                        </a:lnTo>
                        <a:lnTo>
                          <a:pt x="3394" y="0"/>
                        </a:lnTo>
                        <a:lnTo>
                          <a:pt x="3422" y="0"/>
                        </a:lnTo>
                        <a:lnTo>
                          <a:pt x="3450" y="0"/>
                        </a:lnTo>
                        <a:lnTo>
                          <a:pt x="3479" y="0"/>
                        </a:lnTo>
                        <a:lnTo>
                          <a:pt x="3506" y="0"/>
                        </a:lnTo>
                        <a:lnTo>
                          <a:pt x="3534" y="0"/>
                        </a:lnTo>
                        <a:lnTo>
                          <a:pt x="3575" y="0"/>
                        </a:lnTo>
                        <a:lnTo>
                          <a:pt x="3603" y="0"/>
                        </a:lnTo>
                        <a:lnTo>
                          <a:pt x="3631" y="0"/>
                        </a:lnTo>
                        <a:lnTo>
                          <a:pt x="3658" y="0"/>
                        </a:lnTo>
                        <a:lnTo>
                          <a:pt x="3686" y="0"/>
                        </a:lnTo>
                        <a:lnTo>
                          <a:pt x="3714" y="0"/>
                        </a:lnTo>
                        <a:lnTo>
                          <a:pt x="3755" y="0"/>
                        </a:lnTo>
                        <a:lnTo>
                          <a:pt x="3783" y="0"/>
                        </a:lnTo>
                        <a:lnTo>
                          <a:pt x="3811" y="0"/>
                        </a:lnTo>
                        <a:lnTo>
                          <a:pt x="3838" y="0"/>
                        </a:lnTo>
                        <a:lnTo>
                          <a:pt x="3866" y="0"/>
                        </a:lnTo>
                        <a:lnTo>
                          <a:pt x="3894" y="0"/>
                        </a:lnTo>
                        <a:lnTo>
                          <a:pt x="3935" y="0"/>
                        </a:lnTo>
                        <a:lnTo>
                          <a:pt x="3963" y="0"/>
                        </a:lnTo>
                        <a:lnTo>
                          <a:pt x="3990" y="0"/>
                        </a:lnTo>
                        <a:lnTo>
                          <a:pt x="4018" y="0"/>
                        </a:lnTo>
                        <a:lnTo>
                          <a:pt x="4046" y="0"/>
                        </a:lnTo>
                        <a:lnTo>
                          <a:pt x="4073" y="0"/>
                        </a:lnTo>
                        <a:lnTo>
                          <a:pt x="4115" y="0"/>
                        </a:lnTo>
                        <a:lnTo>
                          <a:pt x="4143" y="0"/>
                        </a:lnTo>
                        <a:lnTo>
                          <a:pt x="4170" y="0"/>
                        </a:lnTo>
                        <a:lnTo>
                          <a:pt x="4198" y="0"/>
                        </a:lnTo>
                        <a:lnTo>
                          <a:pt x="4226" y="0"/>
                        </a:lnTo>
                        <a:lnTo>
                          <a:pt x="4253" y="0"/>
                        </a:lnTo>
                        <a:lnTo>
                          <a:pt x="4296" y="0"/>
                        </a:lnTo>
                        <a:lnTo>
                          <a:pt x="4324" y="0"/>
                        </a:lnTo>
                        <a:lnTo>
                          <a:pt x="4351" y="0"/>
                        </a:lnTo>
                        <a:lnTo>
                          <a:pt x="4379" y="0"/>
                        </a:lnTo>
                        <a:lnTo>
                          <a:pt x="4407" y="0"/>
                        </a:lnTo>
                        <a:lnTo>
                          <a:pt x="4434" y="0"/>
                        </a:lnTo>
                        <a:lnTo>
                          <a:pt x="4476" y="0"/>
                        </a:lnTo>
                        <a:lnTo>
                          <a:pt x="4504" y="0"/>
                        </a:lnTo>
                        <a:lnTo>
                          <a:pt x="4531" y="0"/>
                        </a:lnTo>
                        <a:lnTo>
                          <a:pt x="4559" y="0"/>
                        </a:lnTo>
                        <a:lnTo>
                          <a:pt x="4587" y="0"/>
                        </a:lnTo>
                        <a:lnTo>
                          <a:pt x="4614" y="0"/>
                        </a:lnTo>
                        <a:lnTo>
                          <a:pt x="4656" y="0"/>
                        </a:lnTo>
                        <a:lnTo>
                          <a:pt x="4683" y="0"/>
                        </a:lnTo>
                        <a:lnTo>
                          <a:pt x="4711" y="0"/>
                        </a:lnTo>
                        <a:lnTo>
                          <a:pt x="4739" y="0"/>
                        </a:lnTo>
                        <a:lnTo>
                          <a:pt x="4766" y="0"/>
                        </a:lnTo>
                        <a:lnTo>
                          <a:pt x="4794" y="0"/>
                        </a:lnTo>
                        <a:lnTo>
                          <a:pt x="4835" y="0"/>
                        </a:lnTo>
                        <a:lnTo>
                          <a:pt x="4863" y="0"/>
                        </a:lnTo>
                        <a:lnTo>
                          <a:pt x="4891" y="0"/>
                        </a:lnTo>
                        <a:lnTo>
                          <a:pt x="4918" y="0"/>
                        </a:lnTo>
                        <a:lnTo>
                          <a:pt x="4946" y="0"/>
                        </a:lnTo>
                        <a:lnTo>
                          <a:pt x="4974" y="0"/>
                        </a:lnTo>
                        <a:lnTo>
                          <a:pt x="5015" y="0"/>
                        </a:lnTo>
                        <a:lnTo>
                          <a:pt x="5043" y="0"/>
                        </a:lnTo>
                        <a:lnTo>
                          <a:pt x="5072" y="0"/>
                        </a:lnTo>
                        <a:lnTo>
                          <a:pt x="5100" y="0"/>
                        </a:lnTo>
                        <a:lnTo>
                          <a:pt x="5127" y="0"/>
                        </a:lnTo>
                        <a:lnTo>
                          <a:pt x="5155" y="0"/>
                        </a:lnTo>
                        <a:lnTo>
                          <a:pt x="5196" y="0"/>
                        </a:lnTo>
                        <a:lnTo>
                          <a:pt x="5224" y="0"/>
                        </a:lnTo>
                        <a:lnTo>
                          <a:pt x="5252" y="0"/>
                        </a:lnTo>
                        <a:lnTo>
                          <a:pt x="5279" y="0"/>
                        </a:lnTo>
                        <a:lnTo>
                          <a:pt x="5307" y="0"/>
                        </a:lnTo>
                        <a:lnTo>
                          <a:pt x="5335" y="0"/>
                        </a:lnTo>
                        <a:lnTo>
                          <a:pt x="5376" y="0"/>
                        </a:lnTo>
                        <a:lnTo>
                          <a:pt x="5404" y="0"/>
                        </a:lnTo>
                        <a:lnTo>
                          <a:pt x="5432" y="0"/>
                        </a:lnTo>
                        <a:lnTo>
                          <a:pt x="5459" y="0"/>
                        </a:lnTo>
                        <a:lnTo>
                          <a:pt x="5487" y="0"/>
                        </a:lnTo>
                        <a:lnTo>
                          <a:pt x="5515" y="0"/>
                        </a:lnTo>
                        <a:lnTo>
                          <a:pt x="5556" y="0"/>
                        </a:lnTo>
                        <a:lnTo>
                          <a:pt x="5584" y="0"/>
                        </a:lnTo>
                        <a:lnTo>
                          <a:pt x="5611" y="0"/>
                        </a:lnTo>
                        <a:lnTo>
                          <a:pt x="5639" y="0"/>
                        </a:lnTo>
                        <a:lnTo>
                          <a:pt x="5667" y="0"/>
                        </a:lnTo>
                        <a:lnTo>
                          <a:pt x="5694" y="0"/>
                        </a:lnTo>
                        <a:lnTo>
                          <a:pt x="5736" y="0"/>
                        </a:lnTo>
                        <a:lnTo>
                          <a:pt x="5764" y="0"/>
                        </a:lnTo>
                        <a:lnTo>
                          <a:pt x="5791" y="0"/>
                        </a:lnTo>
                        <a:lnTo>
                          <a:pt x="5819" y="0"/>
                        </a:lnTo>
                        <a:lnTo>
                          <a:pt x="5847" y="0"/>
                        </a:lnTo>
                        <a:lnTo>
                          <a:pt x="5889" y="0"/>
                        </a:lnTo>
                        <a:lnTo>
                          <a:pt x="5931" y="0"/>
                        </a:lnTo>
                        <a:lnTo>
                          <a:pt x="5959" y="0"/>
                        </a:lnTo>
                        <a:lnTo>
                          <a:pt x="5986" y="0"/>
                        </a:lnTo>
                        <a:lnTo>
                          <a:pt x="6014" y="0"/>
                        </a:lnTo>
                        <a:lnTo>
                          <a:pt x="6042" y="0"/>
                        </a:lnTo>
                        <a:lnTo>
                          <a:pt x="6069" y="0"/>
                        </a:lnTo>
                        <a:lnTo>
                          <a:pt x="6111" y="0"/>
                        </a:lnTo>
                        <a:lnTo>
                          <a:pt x="6138"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513" name=""/>
              <p:cNvGrpSpPr/>
              <p:nvPr/>
            </p:nvGrpSpPr>
            <p:grpSpPr>
              <a:xfrm>
                <a:off x="5294160" y="1817640"/>
                <a:ext cx="3606840" cy="2303640"/>
                <a:chOff x="5294160" y="1817640"/>
                <a:chExt cx="3606840" cy="2303640"/>
              </a:xfrm>
            </p:grpSpPr>
            <p:sp>
              <p:nvSpPr>
                <p:cNvPr id="1514" name=""/>
                <p:cNvSpPr/>
                <p:nvPr/>
              </p:nvSpPr>
              <p:spPr>
                <a:xfrm>
                  <a:off x="5653080" y="1900080"/>
                  <a:ext cx="2735280" cy="1800"/>
                </a:xfrm>
                <a:custGeom>
                  <a:avLst/>
                  <a:gdLst/>
                  <a:ahLst/>
                  <a:rect l="l" t="t" r="r" b="b"/>
                  <a:pathLst>
                    <a:path w="5167" h="0">
                      <a:moveTo>
                        <a:pt x="0" y="0"/>
                      </a:moveTo>
                      <a:lnTo>
                        <a:pt x="27" y="0"/>
                      </a:lnTo>
                      <a:lnTo>
                        <a:pt x="69" y="0"/>
                      </a:lnTo>
                      <a:lnTo>
                        <a:pt x="110" y="0"/>
                      </a:lnTo>
                      <a:lnTo>
                        <a:pt x="138" y="0"/>
                      </a:lnTo>
                      <a:lnTo>
                        <a:pt x="166" y="0"/>
                      </a:lnTo>
                      <a:lnTo>
                        <a:pt x="193" y="0"/>
                      </a:lnTo>
                      <a:lnTo>
                        <a:pt x="221" y="0"/>
                      </a:lnTo>
                      <a:lnTo>
                        <a:pt x="263" y="0"/>
                      </a:lnTo>
                      <a:lnTo>
                        <a:pt x="290" y="0"/>
                      </a:lnTo>
                      <a:lnTo>
                        <a:pt x="318" y="0"/>
                      </a:lnTo>
                      <a:lnTo>
                        <a:pt x="346" y="0"/>
                      </a:lnTo>
                      <a:lnTo>
                        <a:pt x="373" y="0"/>
                      </a:lnTo>
                      <a:lnTo>
                        <a:pt x="401" y="0"/>
                      </a:lnTo>
                      <a:lnTo>
                        <a:pt x="442" y="0"/>
                      </a:lnTo>
                      <a:lnTo>
                        <a:pt x="470" y="0"/>
                      </a:lnTo>
                      <a:lnTo>
                        <a:pt x="498" y="0"/>
                      </a:lnTo>
                      <a:lnTo>
                        <a:pt x="525" y="0"/>
                      </a:lnTo>
                      <a:lnTo>
                        <a:pt x="553" y="0"/>
                      </a:lnTo>
                      <a:lnTo>
                        <a:pt x="581" y="0"/>
                      </a:lnTo>
                      <a:lnTo>
                        <a:pt x="624" y="0"/>
                      </a:lnTo>
                      <a:lnTo>
                        <a:pt x="651" y="0"/>
                      </a:lnTo>
                      <a:lnTo>
                        <a:pt x="679" y="0"/>
                      </a:lnTo>
                      <a:lnTo>
                        <a:pt x="706" y="0"/>
                      </a:lnTo>
                      <a:lnTo>
                        <a:pt x="734" y="0"/>
                      </a:lnTo>
                      <a:lnTo>
                        <a:pt x="776" y="0"/>
                      </a:lnTo>
                      <a:lnTo>
                        <a:pt x="803" y="0"/>
                      </a:lnTo>
                      <a:lnTo>
                        <a:pt x="831" y="0"/>
                      </a:lnTo>
                      <a:lnTo>
                        <a:pt x="859" y="0"/>
                      </a:lnTo>
                      <a:lnTo>
                        <a:pt x="886" y="0"/>
                      </a:lnTo>
                      <a:lnTo>
                        <a:pt x="914" y="0"/>
                      </a:lnTo>
                      <a:lnTo>
                        <a:pt x="955" y="0"/>
                      </a:lnTo>
                      <a:lnTo>
                        <a:pt x="983" y="0"/>
                      </a:lnTo>
                      <a:lnTo>
                        <a:pt x="1011" y="0"/>
                      </a:lnTo>
                      <a:lnTo>
                        <a:pt x="1038" y="0"/>
                      </a:lnTo>
                      <a:lnTo>
                        <a:pt x="1066" y="0"/>
                      </a:lnTo>
                      <a:lnTo>
                        <a:pt x="1094" y="0"/>
                      </a:lnTo>
                      <a:lnTo>
                        <a:pt x="1135" y="0"/>
                      </a:lnTo>
                      <a:lnTo>
                        <a:pt x="1163" y="0"/>
                      </a:lnTo>
                      <a:lnTo>
                        <a:pt x="1191" y="0"/>
                      </a:lnTo>
                      <a:lnTo>
                        <a:pt x="1218" y="0"/>
                      </a:lnTo>
                      <a:lnTo>
                        <a:pt x="1246" y="0"/>
                      </a:lnTo>
                      <a:lnTo>
                        <a:pt x="1274" y="0"/>
                      </a:lnTo>
                      <a:lnTo>
                        <a:pt x="1315" y="0"/>
                      </a:lnTo>
                      <a:lnTo>
                        <a:pt x="1343" y="0"/>
                      </a:lnTo>
                      <a:lnTo>
                        <a:pt x="1370" y="0"/>
                      </a:lnTo>
                      <a:lnTo>
                        <a:pt x="1398" y="0"/>
                      </a:lnTo>
                      <a:lnTo>
                        <a:pt x="1427" y="0"/>
                      </a:lnTo>
                      <a:lnTo>
                        <a:pt x="1455" y="0"/>
                      </a:lnTo>
                      <a:lnTo>
                        <a:pt x="1496" y="0"/>
                      </a:lnTo>
                      <a:lnTo>
                        <a:pt x="1524" y="0"/>
                      </a:lnTo>
                      <a:lnTo>
                        <a:pt x="1552" y="0"/>
                      </a:lnTo>
                      <a:lnTo>
                        <a:pt x="1579" y="0"/>
                      </a:lnTo>
                      <a:lnTo>
                        <a:pt x="1607" y="0"/>
                      </a:lnTo>
                      <a:lnTo>
                        <a:pt x="1635" y="0"/>
                      </a:lnTo>
                      <a:lnTo>
                        <a:pt x="1676" y="0"/>
                      </a:lnTo>
                      <a:lnTo>
                        <a:pt x="1704" y="0"/>
                      </a:lnTo>
                      <a:lnTo>
                        <a:pt x="1731" y="0"/>
                      </a:lnTo>
                      <a:lnTo>
                        <a:pt x="1759" y="0"/>
                      </a:lnTo>
                      <a:lnTo>
                        <a:pt x="1787" y="0"/>
                      </a:lnTo>
                      <a:lnTo>
                        <a:pt x="1814" y="0"/>
                      </a:lnTo>
                      <a:lnTo>
                        <a:pt x="1856" y="0"/>
                      </a:lnTo>
                      <a:lnTo>
                        <a:pt x="1884" y="0"/>
                      </a:lnTo>
                      <a:lnTo>
                        <a:pt x="1911" y="0"/>
                      </a:lnTo>
                      <a:lnTo>
                        <a:pt x="1939" y="0"/>
                      </a:lnTo>
                      <a:lnTo>
                        <a:pt x="1967" y="0"/>
                      </a:lnTo>
                      <a:lnTo>
                        <a:pt x="1994" y="0"/>
                      </a:lnTo>
                      <a:lnTo>
                        <a:pt x="2036" y="0"/>
                      </a:lnTo>
                      <a:lnTo>
                        <a:pt x="2063" y="0"/>
                      </a:lnTo>
                      <a:lnTo>
                        <a:pt x="2091" y="0"/>
                      </a:lnTo>
                      <a:lnTo>
                        <a:pt x="2119" y="0"/>
                      </a:lnTo>
                      <a:lnTo>
                        <a:pt x="2146" y="0"/>
                      </a:lnTo>
                      <a:lnTo>
                        <a:pt x="2174" y="0"/>
                      </a:lnTo>
                      <a:lnTo>
                        <a:pt x="2217" y="0"/>
                      </a:lnTo>
                      <a:lnTo>
                        <a:pt x="2245" y="0"/>
                      </a:lnTo>
                      <a:lnTo>
                        <a:pt x="2272" y="0"/>
                      </a:lnTo>
                      <a:lnTo>
                        <a:pt x="2300" y="0"/>
                      </a:lnTo>
                      <a:lnTo>
                        <a:pt x="2328" y="0"/>
                      </a:lnTo>
                      <a:lnTo>
                        <a:pt x="2355" y="0"/>
                      </a:lnTo>
                      <a:lnTo>
                        <a:pt x="2397" y="0"/>
                      </a:lnTo>
                      <a:lnTo>
                        <a:pt x="2424" y="0"/>
                      </a:lnTo>
                      <a:lnTo>
                        <a:pt x="2452" y="0"/>
                      </a:lnTo>
                      <a:lnTo>
                        <a:pt x="2480" y="0"/>
                      </a:lnTo>
                      <a:lnTo>
                        <a:pt x="2507" y="0"/>
                      </a:lnTo>
                      <a:lnTo>
                        <a:pt x="2535" y="0"/>
                      </a:lnTo>
                      <a:lnTo>
                        <a:pt x="2576" y="0"/>
                      </a:lnTo>
                      <a:lnTo>
                        <a:pt x="2604" y="0"/>
                      </a:lnTo>
                      <a:lnTo>
                        <a:pt x="2632" y="0"/>
                      </a:lnTo>
                      <a:lnTo>
                        <a:pt x="2659" y="0"/>
                      </a:lnTo>
                      <a:lnTo>
                        <a:pt x="2687" y="0"/>
                      </a:lnTo>
                      <a:lnTo>
                        <a:pt x="2729" y="0"/>
                      </a:lnTo>
                      <a:lnTo>
                        <a:pt x="2770" y="0"/>
                      </a:lnTo>
                      <a:lnTo>
                        <a:pt x="2798" y="0"/>
                      </a:lnTo>
                      <a:lnTo>
                        <a:pt x="2825" y="0"/>
                      </a:lnTo>
                      <a:lnTo>
                        <a:pt x="2853" y="0"/>
                      </a:lnTo>
                      <a:lnTo>
                        <a:pt x="2881" y="0"/>
                      </a:lnTo>
                      <a:lnTo>
                        <a:pt x="2922" y="0"/>
                      </a:lnTo>
                      <a:lnTo>
                        <a:pt x="2950" y="0"/>
                      </a:lnTo>
                      <a:lnTo>
                        <a:pt x="2978" y="0"/>
                      </a:lnTo>
                      <a:lnTo>
                        <a:pt x="3007" y="0"/>
                      </a:lnTo>
                      <a:lnTo>
                        <a:pt x="3034" y="0"/>
                      </a:lnTo>
                      <a:lnTo>
                        <a:pt x="3062" y="0"/>
                      </a:lnTo>
                      <a:lnTo>
                        <a:pt x="3103" y="0"/>
                      </a:lnTo>
                      <a:lnTo>
                        <a:pt x="3131" y="0"/>
                      </a:lnTo>
                      <a:lnTo>
                        <a:pt x="3159" y="0"/>
                      </a:lnTo>
                      <a:lnTo>
                        <a:pt x="3186" y="0"/>
                      </a:lnTo>
                      <a:lnTo>
                        <a:pt x="3214" y="0"/>
                      </a:lnTo>
                      <a:lnTo>
                        <a:pt x="3242" y="0"/>
                      </a:lnTo>
                      <a:lnTo>
                        <a:pt x="3283" y="0"/>
                      </a:lnTo>
                      <a:lnTo>
                        <a:pt x="3311" y="0"/>
                      </a:lnTo>
                      <a:lnTo>
                        <a:pt x="3339" y="0"/>
                      </a:lnTo>
                      <a:lnTo>
                        <a:pt x="3366" y="0"/>
                      </a:lnTo>
                      <a:lnTo>
                        <a:pt x="3394" y="0"/>
                      </a:lnTo>
                      <a:lnTo>
                        <a:pt x="3422" y="0"/>
                      </a:lnTo>
                      <a:lnTo>
                        <a:pt x="3463" y="0"/>
                      </a:lnTo>
                      <a:lnTo>
                        <a:pt x="3491" y="0"/>
                      </a:lnTo>
                      <a:lnTo>
                        <a:pt x="3518" y="0"/>
                      </a:lnTo>
                      <a:lnTo>
                        <a:pt x="3546" y="0"/>
                      </a:lnTo>
                      <a:lnTo>
                        <a:pt x="3574" y="0"/>
                      </a:lnTo>
                      <a:lnTo>
                        <a:pt x="3601" y="0"/>
                      </a:lnTo>
                      <a:lnTo>
                        <a:pt x="3643" y="0"/>
                      </a:lnTo>
                      <a:lnTo>
                        <a:pt x="3671" y="0"/>
                      </a:lnTo>
                      <a:lnTo>
                        <a:pt x="3698" y="0"/>
                      </a:lnTo>
                      <a:lnTo>
                        <a:pt x="3726" y="0"/>
                      </a:lnTo>
                      <a:lnTo>
                        <a:pt x="3754" y="0"/>
                      </a:lnTo>
                      <a:lnTo>
                        <a:pt x="3781" y="0"/>
                      </a:lnTo>
                      <a:lnTo>
                        <a:pt x="3824" y="0"/>
                      </a:lnTo>
                      <a:lnTo>
                        <a:pt x="3852" y="0"/>
                      </a:lnTo>
                      <a:lnTo>
                        <a:pt x="3879" y="0"/>
                      </a:lnTo>
                      <a:lnTo>
                        <a:pt x="3907" y="0"/>
                      </a:lnTo>
                      <a:lnTo>
                        <a:pt x="3935" y="0"/>
                      </a:lnTo>
                      <a:lnTo>
                        <a:pt x="3962" y="0"/>
                      </a:lnTo>
                      <a:lnTo>
                        <a:pt x="4004" y="0"/>
                      </a:lnTo>
                      <a:lnTo>
                        <a:pt x="4032" y="0"/>
                      </a:lnTo>
                      <a:lnTo>
                        <a:pt x="4059" y="0"/>
                      </a:lnTo>
                      <a:lnTo>
                        <a:pt x="4087" y="0"/>
                      </a:lnTo>
                      <a:lnTo>
                        <a:pt x="4115" y="0"/>
                      </a:lnTo>
                      <a:lnTo>
                        <a:pt x="4142" y="0"/>
                      </a:lnTo>
                      <a:lnTo>
                        <a:pt x="4184" y="0"/>
                      </a:lnTo>
                      <a:lnTo>
                        <a:pt x="4211" y="0"/>
                      </a:lnTo>
                      <a:lnTo>
                        <a:pt x="4239" y="0"/>
                      </a:lnTo>
                      <a:lnTo>
                        <a:pt x="4267" y="0"/>
                      </a:lnTo>
                      <a:lnTo>
                        <a:pt x="4294" y="0"/>
                      </a:lnTo>
                      <a:lnTo>
                        <a:pt x="4322" y="0"/>
                      </a:lnTo>
                      <a:lnTo>
                        <a:pt x="4363" y="0"/>
                      </a:lnTo>
                      <a:lnTo>
                        <a:pt x="4391" y="0"/>
                      </a:lnTo>
                      <a:lnTo>
                        <a:pt x="4419" y="0"/>
                      </a:lnTo>
                      <a:lnTo>
                        <a:pt x="4446" y="0"/>
                      </a:lnTo>
                      <a:lnTo>
                        <a:pt x="4474" y="0"/>
                      </a:lnTo>
                      <a:lnTo>
                        <a:pt x="4502" y="0"/>
                      </a:lnTo>
                      <a:lnTo>
                        <a:pt x="4543" y="0"/>
                      </a:lnTo>
                      <a:lnTo>
                        <a:pt x="4571" y="0"/>
                      </a:lnTo>
                      <a:lnTo>
                        <a:pt x="4600" y="0"/>
                      </a:lnTo>
                      <a:lnTo>
                        <a:pt x="4628" y="0"/>
                      </a:lnTo>
                      <a:lnTo>
                        <a:pt x="4655" y="0"/>
                      </a:lnTo>
                      <a:lnTo>
                        <a:pt x="4697" y="0"/>
                      </a:lnTo>
                      <a:lnTo>
                        <a:pt x="4724" y="0"/>
                      </a:lnTo>
                      <a:lnTo>
                        <a:pt x="4752" y="0"/>
                      </a:lnTo>
                      <a:lnTo>
                        <a:pt x="4780" y="0"/>
                      </a:lnTo>
                      <a:lnTo>
                        <a:pt x="4807" y="0"/>
                      </a:lnTo>
                      <a:lnTo>
                        <a:pt x="4835" y="0"/>
                      </a:lnTo>
                      <a:lnTo>
                        <a:pt x="4877" y="0"/>
                      </a:lnTo>
                      <a:lnTo>
                        <a:pt x="4904" y="0"/>
                      </a:lnTo>
                      <a:lnTo>
                        <a:pt x="4932" y="0"/>
                      </a:lnTo>
                      <a:lnTo>
                        <a:pt x="4960" y="0"/>
                      </a:lnTo>
                      <a:lnTo>
                        <a:pt x="4987" y="0"/>
                      </a:lnTo>
                      <a:lnTo>
                        <a:pt x="5015" y="0"/>
                      </a:lnTo>
                      <a:lnTo>
                        <a:pt x="5056" y="0"/>
                      </a:lnTo>
                      <a:lnTo>
                        <a:pt x="5084" y="0"/>
                      </a:lnTo>
                      <a:lnTo>
                        <a:pt x="5112" y="0"/>
                      </a:lnTo>
                      <a:lnTo>
                        <a:pt x="5139" y="0"/>
                      </a:lnTo>
                      <a:lnTo>
                        <a:pt x="5167"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a:off x="7662960" y="1851120"/>
                  <a:ext cx="21960" cy="1440"/>
                </a:xfrm>
                <a:custGeom>
                  <a:avLst/>
                  <a:gdLst/>
                  <a:ahLst/>
                  <a:rect l="l" t="t" r="r" b="b"/>
                  <a:pathLst>
                    <a:path w="42" h="0">
                      <a:moveTo>
                        <a:pt x="0" y="0"/>
                      </a:moveTo>
                      <a:lnTo>
                        <a:pt x="28" y="0"/>
                      </a:lnTo>
                      <a:lnTo>
                        <a:pt x="42" y="0"/>
                      </a:lnTo>
                      <a:lnTo>
                        <a:pt x="28" y="0"/>
                      </a:lnTo>
                      <a:lnTo>
                        <a:pt x="14" y="0"/>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a:off x="7662960" y="1851120"/>
                  <a:ext cx="21960" cy="1440"/>
                </a:xfrm>
                <a:custGeom>
                  <a:avLst/>
                  <a:gdLst/>
                  <a:ahLst/>
                  <a:rect l="l" t="t" r="r" b="b"/>
                  <a:pathLst>
                    <a:path w="42" h="0">
                      <a:moveTo>
                        <a:pt x="0" y="0"/>
                      </a:moveTo>
                      <a:lnTo>
                        <a:pt x="28" y="0"/>
                      </a:lnTo>
                      <a:lnTo>
                        <a:pt x="42" y="0"/>
                      </a:lnTo>
                      <a:lnTo>
                        <a:pt x="28" y="0"/>
                      </a:lnTo>
                      <a:lnTo>
                        <a:pt x="14"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7156440" y="1851120"/>
                  <a:ext cx="42840" cy="7920"/>
                </a:xfrm>
                <a:custGeom>
                  <a:avLst/>
                  <a:gdLst/>
                  <a:ahLst/>
                  <a:rect l="l" t="t" r="r" b="b"/>
                  <a:pathLst>
                    <a:path w="83" h="15">
                      <a:moveTo>
                        <a:pt x="83" y="0"/>
                      </a:moveTo>
                      <a:lnTo>
                        <a:pt x="69" y="15"/>
                      </a:lnTo>
                      <a:lnTo>
                        <a:pt x="42" y="15"/>
                      </a:lnTo>
                      <a:lnTo>
                        <a:pt x="14" y="0"/>
                      </a:lnTo>
                      <a:lnTo>
                        <a:pt x="0" y="0"/>
                      </a:lnTo>
                      <a:lnTo>
                        <a:pt x="14" y="0"/>
                      </a:lnTo>
                      <a:lnTo>
                        <a:pt x="42" y="0"/>
                      </a:lnTo>
                      <a:lnTo>
                        <a:pt x="69" y="0"/>
                      </a:lnTo>
                      <a:lnTo>
                        <a:pt x="83"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8" name=""/>
                <p:cNvSpPr/>
                <p:nvPr/>
              </p:nvSpPr>
              <p:spPr>
                <a:xfrm>
                  <a:off x="7156440" y="1851120"/>
                  <a:ext cx="42840" cy="7920"/>
                </a:xfrm>
                <a:custGeom>
                  <a:avLst/>
                  <a:gdLst/>
                  <a:ahLst/>
                  <a:rect l="l" t="t" r="r" b="b"/>
                  <a:pathLst>
                    <a:path w="83" h="15">
                      <a:moveTo>
                        <a:pt x="83" y="0"/>
                      </a:moveTo>
                      <a:lnTo>
                        <a:pt x="69" y="15"/>
                      </a:lnTo>
                      <a:lnTo>
                        <a:pt x="42" y="15"/>
                      </a:lnTo>
                      <a:lnTo>
                        <a:pt x="14" y="0"/>
                      </a:lnTo>
                      <a:lnTo>
                        <a:pt x="0" y="0"/>
                      </a:lnTo>
                      <a:lnTo>
                        <a:pt x="14" y="0"/>
                      </a:lnTo>
                      <a:lnTo>
                        <a:pt x="42" y="0"/>
                      </a:lnTo>
                      <a:lnTo>
                        <a:pt x="69" y="0"/>
                      </a:lnTo>
                      <a:lnTo>
                        <a:pt x="83"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9" name=""/>
                <p:cNvSpPr/>
                <p:nvPr/>
              </p:nvSpPr>
              <p:spPr>
                <a:xfrm>
                  <a:off x="6378480" y="1841400"/>
                  <a:ext cx="44640" cy="25560"/>
                </a:xfrm>
                <a:custGeom>
                  <a:avLst/>
                  <a:gdLst/>
                  <a:ahLst/>
                  <a:rect l="l" t="t" r="r" b="b"/>
                  <a:pathLst>
                    <a:path w="85" h="47">
                      <a:moveTo>
                        <a:pt x="0" y="0"/>
                      </a:moveTo>
                      <a:lnTo>
                        <a:pt x="28" y="0"/>
                      </a:lnTo>
                      <a:lnTo>
                        <a:pt x="57" y="17"/>
                      </a:lnTo>
                      <a:lnTo>
                        <a:pt x="85" y="32"/>
                      </a:lnTo>
                      <a:lnTo>
                        <a:pt x="57" y="47"/>
                      </a:lnTo>
                      <a:lnTo>
                        <a:pt x="43" y="47"/>
                      </a:lnTo>
                      <a:lnTo>
                        <a:pt x="14" y="32"/>
                      </a:lnTo>
                      <a:lnTo>
                        <a:pt x="0" y="0"/>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0" name=""/>
                <p:cNvSpPr/>
                <p:nvPr/>
              </p:nvSpPr>
              <p:spPr>
                <a:xfrm>
                  <a:off x="6378480" y="1841400"/>
                  <a:ext cx="44640" cy="25560"/>
                </a:xfrm>
                <a:custGeom>
                  <a:avLst/>
                  <a:gdLst/>
                  <a:ahLst/>
                  <a:rect l="l" t="t" r="r" b="b"/>
                  <a:pathLst>
                    <a:path w="85" h="47">
                      <a:moveTo>
                        <a:pt x="0" y="0"/>
                      </a:moveTo>
                      <a:lnTo>
                        <a:pt x="28" y="0"/>
                      </a:lnTo>
                      <a:lnTo>
                        <a:pt x="57" y="17"/>
                      </a:lnTo>
                      <a:lnTo>
                        <a:pt x="85" y="32"/>
                      </a:lnTo>
                      <a:lnTo>
                        <a:pt x="57" y="47"/>
                      </a:lnTo>
                      <a:lnTo>
                        <a:pt x="43" y="47"/>
                      </a:lnTo>
                      <a:lnTo>
                        <a:pt x="14" y="32"/>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1" name=""/>
                <p:cNvSpPr/>
                <p:nvPr/>
              </p:nvSpPr>
              <p:spPr>
                <a:xfrm>
                  <a:off x="6364440" y="1825560"/>
                  <a:ext cx="220680" cy="66600"/>
                </a:xfrm>
                <a:custGeom>
                  <a:avLst/>
                  <a:gdLst/>
                  <a:ahLst/>
                  <a:rect l="l" t="t" r="r" b="b"/>
                  <a:pathLst>
                    <a:path w="416" h="128">
                      <a:moveTo>
                        <a:pt x="278" y="0"/>
                      </a:moveTo>
                      <a:lnTo>
                        <a:pt x="319" y="0"/>
                      </a:lnTo>
                      <a:lnTo>
                        <a:pt x="375" y="17"/>
                      </a:lnTo>
                      <a:lnTo>
                        <a:pt x="416" y="17"/>
                      </a:lnTo>
                      <a:lnTo>
                        <a:pt x="402" y="17"/>
                      </a:lnTo>
                      <a:lnTo>
                        <a:pt x="388" y="32"/>
                      </a:lnTo>
                      <a:lnTo>
                        <a:pt x="361" y="32"/>
                      </a:lnTo>
                      <a:lnTo>
                        <a:pt x="319" y="32"/>
                      </a:lnTo>
                      <a:lnTo>
                        <a:pt x="278" y="49"/>
                      </a:lnTo>
                      <a:lnTo>
                        <a:pt x="236" y="49"/>
                      </a:lnTo>
                      <a:lnTo>
                        <a:pt x="209" y="64"/>
                      </a:lnTo>
                      <a:lnTo>
                        <a:pt x="181" y="64"/>
                      </a:lnTo>
                      <a:lnTo>
                        <a:pt x="195" y="64"/>
                      </a:lnTo>
                      <a:lnTo>
                        <a:pt x="209" y="64"/>
                      </a:lnTo>
                      <a:lnTo>
                        <a:pt x="209" y="79"/>
                      </a:lnTo>
                      <a:lnTo>
                        <a:pt x="195" y="96"/>
                      </a:lnTo>
                      <a:lnTo>
                        <a:pt x="181" y="79"/>
                      </a:lnTo>
                      <a:lnTo>
                        <a:pt x="153" y="96"/>
                      </a:lnTo>
                      <a:lnTo>
                        <a:pt x="153" y="111"/>
                      </a:lnTo>
                      <a:lnTo>
                        <a:pt x="153" y="128"/>
                      </a:lnTo>
                      <a:lnTo>
                        <a:pt x="139" y="128"/>
                      </a:lnTo>
                      <a:lnTo>
                        <a:pt x="112" y="128"/>
                      </a:lnTo>
                      <a:lnTo>
                        <a:pt x="98" y="128"/>
                      </a:lnTo>
                      <a:lnTo>
                        <a:pt x="98" y="111"/>
                      </a:lnTo>
                      <a:lnTo>
                        <a:pt x="84" y="111"/>
                      </a:lnTo>
                      <a:lnTo>
                        <a:pt x="55" y="128"/>
                      </a:lnTo>
                      <a:lnTo>
                        <a:pt x="41" y="111"/>
                      </a:lnTo>
                      <a:lnTo>
                        <a:pt x="14" y="111"/>
                      </a:lnTo>
                      <a:lnTo>
                        <a:pt x="0" y="128"/>
                      </a:lnTo>
                      <a:lnTo>
                        <a:pt x="0" y="111"/>
                      </a:lnTo>
                      <a:lnTo>
                        <a:pt x="14" y="96"/>
                      </a:lnTo>
                      <a:lnTo>
                        <a:pt x="70" y="79"/>
                      </a:lnTo>
                      <a:lnTo>
                        <a:pt x="98" y="79"/>
                      </a:lnTo>
                      <a:lnTo>
                        <a:pt x="98" y="64"/>
                      </a:lnTo>
                      <a:lnTo>
                        <a:pt x="84" y="79"/>
                      </a:lnTo>
                      <a:lnTo>
                        <a:pt x="84" y="64"/>
                      </a:lnTo>
                      <a:lnTo>
                        <a:pt x="98" y="49"/>
                      </a:lnTo>
                      <a:lnTo>
                        <a:pt x="112" y="49"/>
                      </a:lnTo>
                      <a:lnTo>
                        <a:pt x="126" y="32"/>
                      </a:lnTo>
                      <a:lnTo>
                        <a:pt x="139" y="32"/>
                      </a:lnTo>
                      <a:lnTo>
                        <a:pt x="139" y="49"/>
                      </a:lnTo>
                      <a:lnTo>
                        <a:pt x="153" y="49"/>
                      </a:lnTo>
                      <a:lnTo>
                        <a:pt x="167" y="49"/>
                      </a:lnTo>
                      <a:lnTo>
                        <a:pt x="167" y="64"/>
                      </a:lnTo>
                      <a:lnTo>
                        <a:pt x="181" y="49"/>
                      </a:lnTo>
                      <a:lnTo>
                        <a:pt x="195" y="49"/>
                      </a:lnTo>
                      <a:lnTo>
                        <a:pt x="195" y="32"/>
                      </a:lnTo>
                      <a:lnTo>
                        <a:pt x="153" y="32"/>
                      </a:lnTo>
                      <a:lnTo>
                        <a:pt x="112" y="32"/>
                      </a:lnTo>
                      <a:lnTo>
                        <a:pt x="70" y="17"/>
                      </a:lnTo>
                      <a:lnTo>
                        <a:pt x="84" y="17"/>
                      </a:lnTo>
                      <a:lnTo>
                        <a:pt x="98" y="17"/>
                      </a:lnTo>
                      <a:lnTo>
                        <a:pt x="126" y="17"/>
                      </a:lnTo>
                      <a:lnTo>
                        <a:pt x="167" y="17"/>
                      </a:lnTo>
                      <a:lnTo>
                        <a:pt x="209" y="0"/>
                      </a:lnTo>
                      <a:lnTo>
                        <a:pt x="236" y="0"/>
                      </a:lnTo>
                      <a:lnTo>
                        <a:pt x="278" y="0"/>
                      </a:lnTo>
                      <a:close/>
                    </a:path>
                  </a:pathLst>
                </a:custGeom>
                <a:solidFill>
                  <a:srgbClr val="0093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2" name=""/>
                <p:cNvSpPr/>
                <p:nvPr/>
              </p:nvSpPr>
              <p:spPr>
                <a:xfrm>
                  <a:off x="6364440" y="1825560"/>
                  <a:ext cx="220680" cy="66600"/>
                </a:xfrm>
                <a:custGeom>
                  <a:avLst/>
                  <a:gdLst/>
                  <a:ahLst/>
                  <a:rect l="l" t="t" r="r" b="b"/>
                  <a:pathLst>
                    <a:path w="416" h="128">
                      <a:moveTo>
                        <a:pt x="278" y="0"/>
                      </a:moveTo>
                      <a:lnTo>
                        <a:pt x="319" y="0"/>
                      </a:lnTo>
                      <a:lnTo>
                        <a:pt x="375" y="17"/>
                      </a:lnTo>
                      <a:lnTo>
                        <a:pt x="416" y="17"/>
                      </a:lnTo>
                      <a:lnTo>
                        <a:pt x="402" y="17"/>
                      </a:lnTo>
                      <a:lnTo>
                        <a:pt x="388" y="32"/>
                      </a:lnTo>
                      <a:lnTo>
                        <a:pt x="361" y="32"/>
                      </a:lnTo>
                      <a:lnTo>
                        <a:pt x="319" y="32"/>
                      </a:lnTo>
                      <a:lnTo>
                        <a:pt x="278" y="49"/>
                      </a:lnTo>
                      <a:lnTo>
                        <a:pt x="236" y="49"/>
                      </a:lnTo>
                      <a:lnTo>
                        <a:pt x="209" y="64"/>
                      </a:lnTo>
                      <a:lnTo>
                        <a:pt x="181" y="64"/>
                      </a:lnTo>
                      <a:lnTo>
                        <a:pt x="195" y="64"/>
                      </a:lnTo>
                      <a:lnTo>
                        <a:pt x="209" y="64"/>
                      </a:lnTo>
                      <a:lnTo>
                        <a:pt x="209" y="79"/>
                      </a:lnTo>
                      <a:lnTo>
                        <a:pt x="195" y="96"/>
                      </a:lnTo>
                      <a:lnTo>
                        <a:pt x="181" y="79"/>
                      </a:lnTo>
                      <a:lnTo>
                        <a:pt x="153" y="96"/>
                      </a:lnTo>
                      <a:lnTo>
                        <a:pt x="153" y="111"/>
                      </a:lnTo>
                      <a:lnTo>
                        <a:pt x="153" y="128"/>
                      </a:lnTo>
                      <a:lnTo>
                        <a:pt x="139" y="128"/>
                      </a:lnTo>
                      <a:lnTo>
                        <a:pt x="112" y="128"/>
                      </a:lnTo>
                      <a:lnTo>
                        <a:pt x="98" y="128"/>
                      </a:lnTo>
                      <a:lnTo>
                        <a:pt x="98" y="111"/>
                      </a:lnTo>
                      <a:lnTo>
                        <a:pt x="84" y="111"/>
                      </a:lnTo>
                      <a:lnTo>
                        <a:pt x="55" y="128"/>
                      </a:lnTo>
                      <a:lnTo>
                        <a:pt x="41" y="111"/>
                      </a:lnTo>
                      <a:lnTo>
                        <a:pt x="14" y="111"/>
                      </a:lnTo>
                      <a:lnTo>
                        <a:pt x="0" y="128"/>
                      </a:lnTo>
                      <a:lnTo>
                        <a:pt x="0" y="111"/>
                      </a:lnTo>
                      <a:lnTo>
                        <a:pt x="14" y="96"/>
                      </a:lnTo>
                      <a:lnTo>
                        <a:pt x="70" y="79"/>
                      </a:lnTo>
                      <a:lnTo>
                        <a:pt x="98" y="79"/>
                      </a:lnTo>
                      <a:lnTo>
                        <a:pt x="98" y="64"/>
                      </a:lnTo>
                      <a:lnTo>
                        <a:pt x="84" y="79"/>
                      </a:lnTo>
                      <a:lnTo>
                        <a:pt x="84" y="64"/>
                      </a:lnTo>
                      <a:lnTo>
                        <a:pt x="98" y="49"/>
                      </a:lnTo>
                      <a:lnTo>
                        <a:pt x="112" y="49"/>
                      </a:lnTo>
                      <a:lnTo>
                        <a:pt x="126" y="32"/>
                      </a:lnTo>
                      <a:lnTo>
                        <a:pt x="139" y="32"/>
                      </a:lnTo>
                      <a:lnTo>
                        <a:pt x="139" y="49"/>
                      </a:lnTo>
                      <a:lnTo>
                        <a:pt x="153" y="49"/>
                      </a:lnTo>
                      <a:lnTo>
                        <a:pt x="167" y="49"/>
                      </a:lnTo>
                      <a:lnTo>
                        <a:pt x="167" y="64"/>
                      </a:lnTo>
                      <a:lnTo>
                        <a:pt x="181" y="49"/>
                      </a:lnTo>
                      <a:lnTo>
                        <a:pt x="195" y="49"/>
                      </a:lnTo>
                      <a:lnTo>
                        <a:pt x="195" y="32"/>
                      </a:lnTo>
                      <a:lnTo>
                        <a:pt x="153" y="32"/>
                      </a:lnTo>
                      <a:lnTo>
                        <a:pt x="112" y="32"/>
                      </a:lnTo>
                      <a:lnTo>
                        <a:pt x="70" y="17"/>
                      </a:lnTo>
                      <a:lnTo>
                        <a:pt x="84" y="17"/>
                      </a:lnTo>
                      <a:lnTo>
                        <a:pt x="98" y="17"/>
                      </a:lnTo>
                      <a:lnTo>
                        <a:pt x="126" y="17"/>
                      </a:lnTo>
                      <a:lnTo>
                        <a:pt x="167" y="17"/>
                      </a:lnTo>
                      <a:lnTo>
                        <a:pt x="209" y="0"/>
                      </a:lnTo>
                      <a:lnTo>
                        <a:pt x="236" y="0"/>
                      </a:lnTo>
                      <a:lnTo>
                        <a:pt x="27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3" name=""/>
                <p:cNvSpPr/>
                <p:nvPr/>
              </p:nvSpPr>
              <p:spPr>
                <a:xfrm>
                  <a:off x="7705800" y="1851120"/>
                  <a:ext cx="30240" cy="7920"/>
                </a:xfrm>
                <a:custGeom>
                  <a:avLst/>
                  <a:gdLst/>
                  <a:ahLst/>
                  <a:rect l="l" t="t" r="r" b="b"/>
                  <a:pathLst>
                    <a:path w="56" h="15">
                      <a:moveTo>
                        <a:pt x="56" y="15"/>
                      </a:moveTo>
                      <a:lnTo>
                        <a:pt x="28" y="0"/>
                      </a:lnTo>
                      <a:lnTo>
                        <a:pt x="14" y="0"/>
                      </a:lnTo>
                      <a:lnTo>
                        <a:pt x="0" y="0"/>
                      </a:lnTo>
                      <a:lnTo>
                        <a:pt x="14" y="0"/>
                      </a:lnTo>
                      <a:lnTo>
                        <a:pt x="28" y="0"/>
                      </a:lnTo>
                      <a:lnTo>
                        <a:pt x="56" y="15"/>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7705800" y="1851120"/>
                  <a:ext cx="30240" cy="7920"/>
                </a:xfrm>
                <a:custGeom>
                  <a:avLst/>
                  <a:gdLst/>
                  <a:ahLst/>
                  <a:rect l="l" t="t" r="r" b="b"/>
                  <a:pathLst>
                    <a:path w="56" h="15">
                      <a:moveTo>
                        <a:pt x="56" y="15"/>
                      </a:moveTo>
                      <a:lnTo>
                        <a:pt x="28" y="0"/>
                      </a:lnTo>
                      <a:lnTo>
                        <a:pt x="14" y="0"/>
                      </a:lnTo>
                      <a:lnTo>
                        <a:pt x="0" y="0"/>
                      </a:lnTo>
                      <a:lnTo>
                        <a:pt x="14" y="0"/>
                      </a:lnTo>
                      <a:lnTo>
                        <a:pt x="28" y="0"/>
                      </a:lnTo>
                      <a:lnTo>
                        <a:pt x="56"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5" name=""/>
                <p:cNvSpPr/>
                <p:nvPr/>
              </p:nvSpPr>
              <p:spPr>
                <a:xfrm>
                  <a:off x="7750080" y="1859040"/>
                  <a:ext cx="7920" cy="7920"/>
                </a:xfrm>
                <a:custGeom>
                  <a:avLst/>
                  <a:gdLst/>
                  <a:ahLst/>
                  <a:rect l="l" t="t" r="r" b="b"/>
                  <a:pathLst>
                    <a:path w="14" h="15">
                      <a:moveTo>
                        <a:pt x="0" y="15"/>
                      </a:moveTo>
                      <a:lnTo>
                        <a:pt x="14" y="15"/>
                      </a:lnTo>
                      <a:lnTo>
                        <a:pt x="14" y="0"/>
                      </a:lnTo>
                      <a:lnTo>
                        <a:pt x="14" y="15"/>
                      </a:lnTo>
                      <a:lnTo>
                        <a:pt x="0" y="15"/>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7750080" y="1859040"/>
                  <a:ext cx="7920" cy="7920"/>
                </a:xfrm>
                <a:custGeom>
                  <a:avLst/>
                  <a:gdLst/>
                  <a:ahLst/>
                  <a:rect l="l" t="t" r="r" b="b"/>
                  <a:pathLst>
                    <a:path w="14" h="15">
                      <a:moveTo>
                        <a:pt x="0" y="15"/>
                      </a:moveTo>
                      <a:lnTo>
                        <a:pt x="14" y="15"/>
                      </a:lnTo>
                      <a:lnTo>
                        <a:pt x="14" y="0"/>
                      </a:lnTo>
                      <a:lnTo>
                        <a:pt x="14" y="15"/>
                      </a:lnTo>
                      <a:lnTo>
                        <a:pt x="0"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7" name=""/>
                <p:cNvSpPr/>
                <p:nvPr/>
              </p:nvSpPr>
              <p:spPr>
                <a:xfrm>
                  <a:off x="6269040" y="1859040"/>
                  <a:ext cx="22320" cy="7920"/>
                </a:xfrm>
                <a:custGeom>
                  <a:avLst/>
                  <a:gdLst/>
                  <a:ahLst/>
                  <a:rect l="l" t="t" r="r" b="b"/>
                  <a:pathLst>
                    <a:path w="41" h="15">
                      <a:moveTo>
                        <a:pt x="41" y="0"/>
                      </a:moveTo>
                      <a:lnTo>
                        <a:pt x="41" y="15"/>
                      </a:lnTo>
                      <a:lnTo>
                        <a:pt x="28" y="15"/>
                      </a:lnTo>
                      <a:lnTo>
                        <a:pt x="14" y="15"/>
                      </a:lnTo>
                      <a:lnTo>
                        <a:pt x="0" y="15"/>
                      </a:lnTo>
                      <a:lnTo>
                        <a:pt x="14" y="0"/>
                      </a:lnTo>
                      <a:lnTo>
                        <a:pt x="28" y="0"/>
                      </a:lnTo>
                      <a:lnTo>
                        <a:pt x="41"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8" name=""/>
                <p:cNvSpPr/>
                <p:nvPr/>
              </p:nvSpPr>
              <p:spPr>
                <a:xfrm>
                  <a:off x="6269040" y="1859040"/>
                  <a:ext cx="22320" cy="7920"/>
                </a:xfrm>
                <a:custGeom>
                  <a:avLst/>
                  <a:gdLst/>
                  <a:ahLst/>
                  <a:rect l="l" t="t" r="r" b="b"/>
                  <a:pathLst>
                    <a:path w="41" h="15">
                      <a:moveTo>
                        <a:pt x="41" y="0"/>
                      </a:moveTo>
                      <a:lnTo>
                        <a:pt x="41" y="15"/>
                      </a:lnTo>
                      <a:lnTo>
                        <a:pt x="28" y="15"/>
                      </a:lnTo>
                      <a:lnTo>
                        <a:pt x="14" y="15"/>
                      </a:lnTo>
                      <a:lnTo>
                        <a:pt x="0" y="15"/>
                      </a:lnTo>
                      <a:lnTo>
                        <a:pt x="14" y="0"/>
                      </a:lnTo>
                      <a:lnTo>
                        <a:pt x="28" y="0"/>
                      </a:lnTo>
                      <a:lnTo>
                        <a:pt x="4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097760" y="1851120"/>
                  <a:ext cx="87120" cy="33120"/>
                </a:xfrm>
                <a:custGeom>
                  <a:avLst/>
                  <a:gdLst/>
                  <a:ahLst/>
                  <a:rect l="l" t="t" r="r" b="b"/>
                  <a:pathLst>
                    <a:path w="166" h="62">
                      <a:moveTo>
                        <a:pt x="0" y="0"/>
                      </a:moveTo>
                      <a:lnTo>
                        <a:pt x="27" y="0"/>
                      </a:lnTo>
                      <a:lnTo>
                        <a:pt x="41" y="0"/>
                      </a:lnTo>
                      <a:lnTo>
                        <a:pt x="55" y="0"/>
                      </a:lnTo>
                      <a:lnTo>
                        <a:pt x="69" y="0"/>
                      </a:lnTo>
                      <a:lnTo>
                        <a:pt x="83" y="15"/>
                      </a:lnTo>
                      <a:lnTo>
                        <a:pt x="96" y="15"/>
                      </a:lnTo>
                      <a:lnTo>
                        <a:pt x="83" y="0"/>
                      </a:lnTo>
                      <a:lnTo>
                        <a:pt x="96" y="0"/>
                      </a:lnTo>
                      <a:lnTo>
                        <a:pt x="110" y="0"/>
                      </a:lnTo>
                      <a:lnTo>
                        <a:pt x="138" y="0"/>
                      </a:lnTo>
                      <a:lnTo>
                        <a:pt x="152" y="15"/>
                      </a:lnTo>
                      <a:lnTo>
                        <a:pt x="166" y="15"/>
                      </a:lnTo>
                      <a:lnTo>
                        <a:pt x="152" y="47"/>
                      </a:lnTo>
                      <a:lnTo>
                        <a:pt x="124" y="62"/>
                      </a:lnTo>
                      <a:lnTo>
                        <a:pt x="96" y="62"/>
                      </a:lnTo>
                      <a:lnTo>
                        <a:pt x="83" y="62"/>
                      </a:lnTo>
                      <a:lnTo>
                        <a:pt x="69" y="47"/>
                      </a:lnTo>
                      <a:lnTo>
                        <a:pt x="55" y="30"/>
                      </a:lnTo>
                      <a:lnTo>
                        <a:pt x="69" y="30"/>
                      </a:lnTo>
                      <a:lnTo>
                        <a:pt x="83" y="30"/>
                      </a:lnTo>
                      <a:lnTo>
                        <a:pt x="110" y="30"/>
                      </a:lnTo>
                      <a:lnTo>
                        <a:pt x="96" y="30"/>
                      </a:lnTo>
                      <a:lnTo>
                        <a:pt x="96" y="15"/>
                      </a:lnTo>
                      <a:lnTo>
                        <a:pt x="69" y="15"/>
                      </a:lnTo>
                      <a:lnTo>
                        <a:pt x="41" y="15"/>
                      </a:lnTo>
                      <a:lnTo>
                        <a:pt x="0" y="0"/>
                      </a:lnTo>
                      <a:close/>
                    </a:path>
                  </a:pathLst>
                </a:custGeom>
                <a:solidFill>
                  <a:srgbClr val="00937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0" name=""/>
                <p:cNvSpPr/>
                <p:nvPr/>
              </p:nvSpPr>
              <p:spPr>
                <a:xfrm>
                  <a:off x="7097760" y="1851120"/>
                  <a:ext cx="87120" cy="33120"/>
                </a:xfrm>
                <a:custGeom>
                  <a:avLst/>
                  <a:gdLst/>
                  <a:ahLst/>
                  <a:rect l="l" t="t" r="r" b="b"/>
                  <a:pathLst>
                    <a:path w="166" h="62">
                      <a:moveTo>
                        <a:pt x="0" y="0"/>
                      </a:moveTo>
                      <a:lnTo>
                        <a:pt x="27" y="0"/>
                      </a:lnTo>
                      <a:lnTo>
                        <a:pt x="41" y="0"/>
                      </a:lnTo>
                      <a:lnTo>
                        <a:pt x="55" y="0"/>
                      </a:lnTo>
                      <a:lnTo>
                        <a:pt x="69" y="0"/>
                      </a:lnTo>
                      <a:lnTo>
                        <a:pt x="83" y="15"/>
                      </a:lnTo>
                      <a:lnTo>
                        <a:pt x="96" y="15"/>
                      </a:lnTo>
                      <a:lnTo>
                        <a:pt x="83" y="0"/>
                      </a:lnTo>
                      <a:lnTo>
                        <a:pt x="96" y="0"/>
                      </a:lnTo>
                      <a:lnTo>
                        <a:pt x="110" y="0"/>
                      </a:lnTo>
                      <a:lnTo>
                        <a:pt x="138" y="0"/>
                      </a:lnTo>
                      <a:lnTo>
                        <a:pt x="152" y="15"/>
                      </a:lnTo>
                      <a:lnTo>
                        <a:pt x="166" y="15"/>
                      </a:lnTo>
                      <a:lnTo>
                        <a:pt x="152" y="47"/>
                      </a:lnTo>
                      <a:lnTo>
                        <a:pt x="124" y="62"/>
                      </a:lnTo>
                      <a:lnTo>
                        <a:pt x="96" y="62"/>
                      </a:lnTo>
                      <a:lnTo>
                        <a:pt x="83" y="62"/>
                      </a:lnTo>
                      <a:lnTo>
                        <a:pt x="69" y="47"/>
                      </a:lnTo>
                      <a:lnTo>
                        <a:pt x="55" y="30"/>
                      </a:lnTo>
                      <a:lnTo>
                        <a:pt x="69" y="30"/>
                      </a:lnTo>
                      <a:lnTo>
                        <a:pt x="83" y="30"/>
                      </a:lnTo>
                      <a:lnTo>
                        <a:pt x="110" y="30"/>
                      </a:lnTo>
                      <a:lnTo>
                        <a:pt x="96" y="30"/>
                      </a:lnTo>
                      <a:lnTo>
                        <a:pt x="96" y="15"/>
                      </a:lnTo>
                      <a:lnTo>
                        <a:pt x="69" y="15"/>
                      </a:lnTo>
                      <a:lnTo>
                        <a:pt x="41" y="15"/>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1" name=""/>
                <p:cNvSpPr/>
                <p:nvPr/>
              </p:nvSpPr>
              <p:spPr>
                <a:xfrm>
                  <a:off x="7794720" y="1866960"/>
                  <a:ext cx="6120" cy="1440"/>
                </a:xfrm>
                <a:custGeom>
                  <a:avLst/>
                  <a:gdLst/>
                  <a:ahLst/>
                  <a:rect l="l" t="t" r="r" b="b"/>
                  <a:pathLst>
                    <a:path w="14" h="0">
                      <a:moveTo>
                        <a:pt x="0" y="0"/>
                      </a:moveTo>
                      <a:lnTo>
                        <a:pt x="14" y="0"/>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a:off x="7794720" y="1866960"/>
                  <a:ext cx="6120" cy="1440"/>
                </a:xfrm>
                <a:custGeom>
                  <a:avLst/>
                  <a:gdLst/>
                  <a:ahLst/>
                  <a:rect l="l" t="t" r="r" b="b"/>
                  <a:pathLst>
                    <a:path w="14" h="0">
                      <a:moveTo>
                        <a:pt x="0" y="0"/>
                      </a:moveTo>
                      <a:lnTo>
                        <a:pt x="14"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a:off x="6122880" y="1876320"/>
                  <a:ext cx="36720" cy="15840"/>
                </a:xfrm>
                <a:custGeom>
                  <a:avLst/>
                  <a:gdLst/>
                  <a:ahLst/>
                  <a:rect l="l" t="t" r="r" b="b"/>
                  <a:pathLst>
                    <a:path w="69" h="32">
                      <a:moveTo>
                        <a:pt x="69" y="0"/>
                      </a:moveTo>
                      <a:lnTo>
                        <a:pt x="56" y="32"/>
                      </a:lnTo>
                      <a:lnTo>
                        <a:pt x="42" y="32"/>
                      </a:lnTo>
                      <a:lnTo>
                        <a:pt x="0" y="32"/>
                      </a:lnTo>
                      <a:lnTo>
                        <a:pt x="14" y="15"/>
                      </a:lnTo>
                      <a:lnTo>
                        <a:pt x="42" y="15"/>
                      </a:lnTo>
                      <a:lnTo>
                        <a:pt x="56" y="0"/>
                      </a:lnTo>
                      <a:lnTo>
                        <a:pt x="69" y="0"/>
                      </a:lnTo>
                      <a:close/>
                    </a:path>
                  </a:pathLst>
                </a:custGeom>
                <a:solidFill>
                  <a:srgbClr val="00937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4" name=""/>
                <p:cNvSpPr/>
                <p:nvPr/>
              </p:nvSpPr>
              <p:spPr>
                <a:xfrm>
                  <a:off x="6122880" y="1876320"/>
                  <a:ext cx="36720" cy="15840"/>
                </a:xfrm>
                <a:custGeom>
                  <a:avLst/>
                  <a:gdLst/>
                  <a:ahLst/>
                  <a:rect l="l" t="t" r="r" b="b"/>
                  <a:pathLst>
                    <a:path w="69" h="32">
                      <a:moveTo>
                        <a:pt x="69" y="0"/>
                      </a:moveTo>
                      <a:lnTo>
                        <a:pt x="56" y="32"/>
                      </a:lnTo>
                      <a:lnTo>
                        <a:pt x="42" y="32"/>
                      </a:lnTo>
                      <a:lnTo>
                        <a:pt x="0" y="32"/>
                      </a:lnTo>
                      <a:lnTo>
                        <a:pt x="14" y="15"/>
                      </a:lnTo>
                      <a:lnTo>
                        <a:pt x="42" y="15"/>
                      </a:lnTo>
                      <a:lnTo>
                        <a:pt x="56" y="0"/>
                      </a:lnTo>
                      <a:lnTo>
                        <a:pt x="6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5" name=""/>
                <p:cNvSpPr/>
                <p:nvPr/>
              </p:nvSpPr>
              <p:spPr>
                <a:xfrm>
                  <a:off x="6276960" y="1884240"/>
                  <a:ext cx="6480" cy="1800"/>
                </a:xfrm>
                <a:custGeom>
                  <a:avLst/>
                  <a:gdLst/>
                  <a:ahLst/>
                  <a:rect l="l" t="t" r="r" b="b"/>
                  <a:pathLst>
                    <a:path w="14" h="0">
                      <a:moveTo>
                        <a:pt x="14" y="0"/>
                      </a:moveTo>
                      <a:lnTo>
                        <a:pt x="0" y="0"/>
                      </a:lnTo>
                      <a:lnTo>
                        <a:pt x="14"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6" name=""/>
                <p:cNvSpPr/>
                <p:nvPr/>
              </p:nvSpPr>
              <p:spPr>
                <a:xfrm>
                  <a:off x="6276960" y="1884240"/>
                  <a:ext cx="6480" cy="1800"/>
                </a:xfrm>
                <a:custGeom>
                  <a:avLst/>
                  <a:gdLst/>
                  <a:ahLst/>
                  <a:rect l="l" t="t" r="r" b="b"/>
                  <a:pathLst>
                    <a:path w="14" h="0">
                      <a:moveTo>
                        <a:pt x="14" y="0"/>
                      </a:moveTo>
                      <a:lnTo>
                        <a:pt x="0" y="0"/>
                      </a:lnTo>
                      <a:lnTo>
                        <a:pt x="1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a:off x="6246720" y="1884240"/>
                  <a:ext cx="7920" cy="7920"/>
                </a:xfrm>
                <a:custGeom>
                  <a:avLst/>
                  <a:gdLst/>
                  <a:ahLst/>
                  <a:rect l="l" t="t" r="r" b="b"/>
                  <a:pathLst>
                    <a:path w="14" h="17">
                      <a:moveTo>
                        <a:pt x="14" y="0"/>
                      </a:moveTo>
                      <a:lnTo>
                        <a:pt x="0" y="17"/>
                      </a:lnTo>
                      <a:lnTo>
                        <a:pt x="14"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8" name=""/>
                <p:cNvSpPr/>
                <p:nvPr/>
              </p:nvSpPr>
              <p:spPr>
                <a:xfrm>
                  <a:off x="6246720" y="1884240"/>
                  <a:ext cx="7920" cy="7920"/>
                </a:xfrm>
                <a:custGeom>
                  <a:avLst/>
                  <a:gdLst/>
                  <a:ahLst/>
                  <a:rect l="l" t="t" r="r" b="b"/>
                  <a:pathLst>
                    <a:path w="14" h="17">
                      <a:moveTo>
                        <a:pt x="14" y="0"/>
                      </a:moveTo>
                      <a:lnTo>
                        <a:pt x="0" y="17"/>
                      </a:lnTo>
                      <a:lnTo>
                        <a:pt x="14"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9" name=""/>
                <p:cNvSpPr/>
                <p:nvPr/>
              </p:nvSpPr>
              <p:spPr>
                <a:xfrm>
                  <a:off x="6254640" y="1884240"/>
                  <a:ext cx="28800" cy="15840"/>
                </a:xfrm>
                <a:custGeom>
                  <a:avLst/>
                  <a:gdLst/>
                  <a:ahLst/>
                  <a:rect l="l" t="t" r="r" b="b"/>
                  <a:pathLst>
                    <a:path w="56" h="32">
                      <a:moveTo>
                        <a:pt x="56" y="0"/>
                      </a:moveTo>
                      <a:lnTo>
                        <a:pt x="42" y="17"/>
                      </a:lnTo>
                      <a:lnTo>
                        <a:pt x="28" y="32"/>
                      </a:lnTo>
                      <a:lnTo>
                        <a:pt x="14" y="32"/>
                      </a:lnTo>
                      <a:lnTo>
                        <a:pt x="0" y="32"/>
                      </a:lnTo>
                      <a:lnTo>
                        <a:pt x="14" y="17"/>
                      </a:lnTo>
                      <a:lnTo>
                        <a:pt x="42" y="0"/>
                      </a:lnTo>
                      <a:lnTo>
                        <a:pt x="56" y="0"/>
                      </a:lnTo>
                      <a:close/>
                    </a:path>
                  </a:pathLst>
                </a:custGeom>
                <a:solidFill>
                  <a:srgbClr val="00937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0" name=""/>
                <p:cNvSpPr/>
                <p:nvPr/>
              </p:nvSpPr>
              <p:spPr>
                <a:xfrm>
                  <a:off x="6254640" y="1884240"/>
                  <a:ext cx="28800" cy="15840"/>
                </a:xfrm>
                <a:custGeom>
                  <a:avLst/>
                  <a:gdLst/>
                  <a:ahLst/>
                  <a:rect l="l" t="t" r="r" b="b"/>
                  <a:pathLst>
                    <a:path w="56" h="32">
                      <a:moveTo>
                        <a:pt x="56" y="0"/>
                      </a:moveTo>
                      <a:lnTo>
                        <a:pt x="42" y="17"/>
                      </a:lnTo>
                      <a:lnTo>
                        <a:pt x="28" y="32"/>
                      </a:lnTo>
                      <a:lnTo>
                        <a:pt x="14" y="32"/>
                      </a:lnTo>
                      <a:lnTo>
                        <a:pt x="0" y="32"/>
                      </a:lnTo>
                      <a:lnTo>
                        <a:pt x="14" y="17"/>
                      </a:lnTo>
                      <a:lnTo>
                        <a:pt x="42" y="0"/>
                      </a:lnTo>
                      <a:lnTo>
                        <a:pt x="56"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1" name=""/>
                <p:cNvSpPr/>
                <p:nvPr/>
              </p:nvSpPr>
              <p:spPr>
                <a:xfrm>
                  <a:off x="6305400" y="1884240"/>
                  <a:ext cx="111240" cy="23760"/>
                </a:xfrm>
                <a:custGeom>
                  <a:avLst/>
                  <a:gdLst/>
                  <a:ahLst/>
                  <a:rect l="l" t="t" r="r" b="b"/>
                  <a:pathLst>
                    <a:path w="209" h="47">
                      <a:moveTo>
                        <a:pt x="69" y="0"/>
                      </a:moveTo>
                      <a:lnTo>
                        <a:pt x="83" y="17"/>
                      </a:lnTo>
                      <a:lnTo>
                        <a:pt x="97" y="17"/>
                      </a:lnTo>
                      <a:lnTo>
                        <a:pt x="138" y="32"/>
                      </a:lnTo>
                      <a:lnTo>
                        <a:pt x="166" y="32"/>
                      </a:lnTo>
                      <a:lnTo>
                        <a:pt x="209" y="47"/>
                      </a:lnTo>
                      <a:lnTo>
                        <a:pt x="195" y="47"/>
                      </a:lnTo>
                      <a:lnTo>
                        <a:pt x="181" y="47"/>
                      </a:lnTo>
                      <a:lnTo>
                        <a:pt x="166" y="47"/>
                      </a:lnTo>
                      <a:lnTo>
                        <a:pt x="125" y="32"/>
                      </a:lnTo>
                      <a:lnTo>
                        <a:pt x="83" y="32"/>
                      </a:lnTo>
                      <a:lnTo>
                        <a:pt x="42" y="17"/>
                      </a:lnTo>
                      <a:lnTo>
                        <a:pt x="0" y="0"/>
                      </a:lnTo>
                      <a:lnTo>
                        <a:pt x="14" y="0"/>
                      </a:lnTo>
                      <a:lnTo>
                        <a:pt x="28" y="0"/>
                      </a:lnTo>
                      <a:lnTo>
                        <a:pt x="42" y="0"/>
                      </a:lnTo>
                      <a:lnTo>
                        <a:pt x="55" y="0"/>
                      </a:lnTo>
                      <a:lnTo>
                        <a:pt x="69" y="0"/>
                      </a:lnTo>
                      <a:close/>
                    </a:path>
                  </a:pathLst>
                </a:custGeom>
                <a:solidFill>
                  <a:srgbClr val="00937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2" name=""/>
                <p:cNvSpPr/>
                <p:nvPr/>
              </p:nvSpPr>
              <p:spPr>
                <a:xfrm>
                  <a:off x="6305400" y="1884240"/>
                  <a:ext cx="111240" cy="23760"/>
                </a:xfrm>
                <a:custGeom>
                  <a:avLst/>
                  <a:gdLst/>
                  <a:ahLst/>
                  <a:rect l="l" t="t" r="r" b="b"/>
                  <a:pathLst>
                    <a:path w="209" h="47">
                      <a:moveTo>
                        <a:pt x="69" y="0"/>
                      </a:moveTo>
                      <a:lnTo>
                        <a:pt x="83" y="17"/>
                      </a:lnTo>
                      <a:lnTo>
                        <a:pt x="97" y="17"/>
                      </a:lnTo>
                      <a:lnTo>
                        <a:pt x="138" y="32"/>
                      </a:lnTo>
                      <a:lnTo>
                        <a:pt x="166" y="32"/>
                      </a:lnTo>
                      <a:lnTo>
                        <a:pt x="209" y="47"/>
                      </a:lnTo>
                      <a:lnTo>
                        <a:pt x="195" y="47"/>
                      </a:lnTo>
                      <a:lnTo>
                        <a:pt x="181" y="47"/>
                      </a:lnTo>
                      <a:lnTo>
                        <a:pt x="166" y="47"/>
                      </a:lnTo>
                      <a:lnTo>
                        <a:pt x="125" y="32"/>
                      </a:lnTo>
                      <a:lnTo>
                        <a:pt x="83" y="32"/>
                      </a:lnTo>
                      <a:lnTo>
                        <a:pt x="42" y="17"/>
                      </a:lnTo>
                      <a:lnTo>
                        <a:pt x="0" y="0"/>
                      </a:lnTo>
                      <a:lnTo>
                        <a:pt x="14" y="0"/>
                      </a:lnTo>
                      <a:lnTo>
                        <a:pt x="28" y="0"/>
                      </a:lnTo>
                      <a:lnTo>
                        <a:pt x="42" y="0"/>
                      </a:lnTo>
                      <a:lnTo>
                        <a:pt x="55" y="0"/>
                      </a:lnTo>
                      <a:lnTo>
                        <a:pt x="69"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3" name=""/>
                <p:cNvSpPr/>
                <p:nvPr/>
              </p:nvSpPr>
              <p:spPr>
                <a:xfrm>
                  <a:off x="6137280" y="1884240"/>
                  <a:ext cx="95400" cy="23760"/>
                </a:xfrm>
                <a:custGeom>
                  <a:avLst/>
                  <a:gdLst/>
                  <a:ahLst/>
                  <a:rect l="l" t="t" r="r" b="b"/>
                  <a:pathLst>
                    <a:path w="180" h="47">
                      <a:moveTo>
                        <a:pt x="97" y="17"/>
                      </a:moveTo>
                      <a:lnTo>
                        <a:pt x="124" y="0"/>
                      </a:lnTo>
                      <a:lnTo>
                        <a:pt x="138" y="0"/>
                      </a:lnTo>
                      <a:lnTo>
                        <a:pt x="166" y="0"/>
                      </a:lnTo>
                      <a:lnTo>
                        <a:pt x="180" y="17"/>
                      </a:lnTo>
                      <a:lnTo>
                        <a:pt x="180" y="32"/>
                      </a:lnTo>
                      <a:lnTo>
                        <a:pt x="166" y="32"/>
                      </a:lnTo>
                      <a:lnTo>
                        <a:pt x="152" y="32"/>
                      </a:lnTo>
                      <a:lnTo>
                        <a:pt x="138" y="32"/>
                      </a:lnTo>
                      <a:lnTo>
                        <a:pt x="124" y="32"/>
                      </a:lnTo>
                      <a:lnTo>
                        <a:pt x="111" y="32"/>
                      </a:lnTo>
                      <a:lnTo>
                        <a:pt x="97" y="32"/>
                      </a:lnTo>
                      <a:lnTo>
                        <a:pt x="83" y="32"/>
                      </a:lnTo>
                      <a:lnTo>
                        <a:pt x="69" y="32"/>
                      </a:lnTo>
                      <a:lnTo>
                        <a:pt x="55" y="32"/>
                      </a:lnTo>
                      <a:lnTo>
                        <a:pt x="28" y="32"/>
                      </a:lnTo>
                      <a:lnTo>
                        <a:pt x="14" y="47"/>
                      </a:lnTo>
                      <a:lnTo>
                        <a:pt x="0" y="32"/>
                      </a:lnTo>
                      <a:lnTo>
                        <a:pt x="0" y="17"/>
                      </a:lnTo>
                      <a:lnTo>
                        <a:pt x="28" y="17"/>
                      </a:lnTo>
                      <a:lnTo>
                        <a:pt x="41" y="17"/>
                      </a:lnTo>
                      <a:lnTo>
                        <a:pt x="69" y="17"/>
                      </a:lnTo>
                      <a:lnTo>
                        <a:pt x="83" y="17"/>
                      </a:lnTo>
                      <a:lnTo>
                        <a:pt x="97" y="17"/>
                      </a:lnTo>
                      <a:close/>
                    </a:path>
                  </a:pathLst>
                </a:custGeom>
                <a:solidFill>
                  <a:srgbClr val="00937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4" name=""/>
                <p:cNvSpPr/>
                <p:nvPr/>
              </p:nvSpPr>
              <p:spPr>
                <a:xfrm>
                  <a:off x="6137280" y="1884240"/>
                  <a:ext cx="95400" cy="23760"/>
                </a:xfrm>
                <a:custGeom>
                  <a:avLst/>
                  <a:gdLst/>
                  <a:ahLst/>
                  <a:rect l="l" t="t" r="r" b="b"/>
                  <a:pathLst>
                    <a:path w="180" h="47">
                      <a:moveTo>
                        <a:pt x="97" y="17"/>
                      </a:moveTo>
                      <a:lnTo>
                        <a:pt x="124" y="0"/>
                      </a:lnTo>
                      <a:lnTo>
                        <a:pt x="138" y="0"/>
                      </a:lnTo>
                      <a:lnTo>
                        <a:pt x="166" y="0"/>
                      </a:lnTo>
                      <a:lnTo>
                        <a:pt x="180" y="17"/>
                      </a:lnTo>
                      <a:lnTo>
                        <a:pt x="180" y="32"/>
                      </a:lnTo>
                      <a:lnTo>
                        <a:pt x="166" y="32"/>
                      </a:lnTo>
                      <a:lnTo>
                        <a:pt x="152" y="32"/>
                      </a:lnTo>
                      <a:lnTo>
                        <a:pt x="138" y="32"/>
                      </a:lnTo>
                      <a:lnTo>
                        <a:pt x="124" y="32"/>
                      </a:lnTo>
                      <a:lnTo>
                        <a:pt x="111" y="32"/>
                      </a:lnTo>
                      <a:lnTo>
                        <a:pt x="97" y="32"/>
                      </a:lnTo>
                      <a:lnTo>
                        <a:pt x="83" y="32"/>
                      </a:lnTo>
                      <a:lnTo>
                        <a:pt x="69" y="32"/>
                      </a:lnTo>
                      <a:lnTo>
                        <a:pt x="55" y="32"/>
                      </a:lnTo>
                      <a:lnTo>
                        <a:pt x="28" y="32"/>
                      </a:lnTo>
                      <a:lnTo>
                        <a:pt x="14" y="47"/>
                      </a:lnTo>
                      <a:lnTo>
                        <a:pt x="0" y="32"/>
                      </a:lnTo>
                      <a:lnTo>
                        <a:pt x="0" y="17"/>
                      </a:lnTo>
                      <a:lnTo>
                        <a:pt x="28" y="17"/>
                      </a:lnTo>
                      <a:lnTo>
                        <a:pt x="41" y="17"/>
                      </a:lnTo>
                      <a:lnTo>
                        <a:pt x="69" y="17"/>
                      </a:lnTo>
                      <a:lnTo>
                        <a:pt x="83" y="17"/>
                      </a:lnTo>
                      <a:lnTo>
                        <a:pt x="97" y="17"/>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5" name=""/>
                <p:cNvSpPr/>
                <p:nvPr/>
              </p:nvSpPr>
              <p:spPr>
                <a:xfrm>
                  <a:off x="8058240" y="1892160"/>
                  <a:ext cx="58680" cy="15840"/>
                </a:xfrm>
                <a:custGeom>
                  <a:avLst/>
                  <a:gdLst/>
                  <a:ahLst/>
                  <a:rect l="l" t="t" r="r" b="b"/>
                  <a:pathLst>
                    <a:path w="112" h="30">
                      <a:moveTo>
                        <a:pt x="57" y="30"/>
                      </a:moveTo>
                      <a:lnTo>
                        <a:pt x="42" y="15"/>
                      </a:lnTo>
                      <a:lnTo>
                        <a:pt x="28" y="15"/>
                      </a:lnTo>
                      <a:lnTo>
                        <a:pt x="0" y="15"/>
                      </a:lnTo>
                      <a:lnTo>
                        <a:pt x="0" y="0"/>
                      </a:lnTo>
                      <a:lnTo>
                        <a:pt x="42" y="0"/>
                      </a:lnTo>
                      <a:lnTo>
                        <a:pt x="71" y="15"/>
                      </a:lnTo>
                      <a:lnTo>
                        <a:pt x="112" y="15"/>
                      </a:lnTo>
                      <a:lnTo>
                        <a:pt x="112" y="30"/>
                      </a:lnTo>
                      <a:lnTo>
                        <a:pt x="85" y="30"/>
                      </a:lnTo>
                      <a:lnTo>
                        <a:pt x="57" y="30"/>
                      </a:lnTo>
                      <a:close/>
                    </a:path>
                  </a:pathLst>
                </a:custGeom>
                <a:solidFill>
                  <a:srgbClr val="00937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6" name=""/>
                <p:cNvSpPr/>
                <p:nvPr/>
              </p:nvSpPr>
              <p:spPr>
                <a:xfrm>
                  <a:off x="8058240" y="1892160"/>
                  <a:ext cx="58680" cy="15840"/>
                </a:xfrm>
                <a:custGeom>
                  <a:avLst/>
                  <a:gdLst/>
                  <a:ahLst/>
                  <a:rect l="l" t="t" r="r" b="b"/>
                  <a:pathLst>
                    <a:path w="112" h="30">
                      <a:moveTo>
                        <a:pt x="57" y="30"/>
                      </a:moveTo>
                      <a:lnTo>
                        <a:pt x="42" y="15"/>
                      </a:lnTo>
                      <a:lnTo>
                        <a:pt x="28" y="15"/>
                      </a:lnTo>
                      <a:lnTo>
                        <a:pt x="0" y="15"/>
                      </a:lnTo>
                      <a:lnTo>
                        <a:pt x="0" y="0"/>
                      </a:lnTo>
                      <a:lnTo>
                        <a:pt x="42" y="0"/>
                      </a:lnTo>
                      <a:lnTo>
                        <a:pt x="71" y="15"/>
                      </a:lnTo>
                      <a:lnTo>
                        <a:pt x="112" y="15"/>
                      </a:lnTo>
                      <a:lnTo>
                        <a:pt x="112" y="30"/>
                      </a:lnTo>
                      <a:lnTo>
                        <a:pt x="85" y="30"/>
                      </a:lnTo>
                      <a:lnTo>
                        <a:pt x="57" y="3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7" name=""/>
                <p:cNvSpPr/>
                <p:nvPr/>
              </p:nvSpPr>
              <p:spPr>
                <a:xfrm>
                  <a:off x="8124840" y="1900080"/>
                  <a:ext cx="42840" cy="7920"/>
                </a:xfrm>
                <a:custGeom>
                  <a:avLst/>
                  <a:gdLst/>
                  <a:ahLst/>
                  <a:rect l="l" t="t" r="r" b="b"/>
                  <a:pathLst>
                    <a:path w="83" h="15">
                      <a:moveTo>
                        <a:pt x="0" y="0"/>
                      </a:moveTo>
                      <a:lnTo>
                        <a:pt x="28" y="0"/>
                      </a:lnTo>
                      <a:lnTo>
                        <a:pt x="55" y="0"/>
                      </a:lnTo>
                      <a:lnTo>
                        <a:pt x="83" y="0"/>
                      </a:lnTo>
                      <a:lnTo>
                        <a:pt x="83" y="15"/>
                      </a:lnTo>
                      <a:lnTo>
                        <a:pt x="69" y="15"/>
                      </a:lnTo>
                      <a:lnTo>
                        <a:pt x="55" y="15"/>
                      </a:lnTo>
                      <a:lnTo>
                        <a:pt x="42" y="0"/>
                      </a:lnTo>
                      <a:lnTo>
                        <a:pt x="14" y="0"/>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8124840" y="1900080"/>
                  <a:ext cx="42840" cy="7920"/>
                </a:xfrm>
                <a:custGeom>
                  <a:avLst/>
                  <a:gdLst/>
                  <a:ahLst/>
                  <a:rect l="l" t="t" r="r" b="b"/>
                  <a:pathLst>
                    <a:path w="83" h="15">
                      <a:moveTo>
                        <a:pt x="0" y="0"/>
                      </a:moveTo>
                      <a:lnTo>
                        <a:pt x="28" y="0"/>
                      </a:lnTo>
                      <a:lnTo>
                        <a:pt x="55" y="0"/>
                      </a:lnTo>
                      <a:lnTo>
                        <a:pt x="83" y="0"/>
                      </a:lnTo>
                      <a:lnTo>
                        <a:pt x="83" y="15"/>
                      </a:lnTo>
                      <a:lnTo>
                        <a:pt x="69" y="15"/>
                      </a:lnTo>
                      <a:lnTo>
                        <a:pt x="55" y="15"/>
                      </a:lnTo>
                      <a:lnTo>
                        <a:pt x="42" y="0"/>
                      </a:lnTo>
                      <a:lnTo>
                        <a:pt x="14" y="0"/>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7450200" y="1876320"/>
                  <a:ext cx="87120" cy="49320"/>
                </a:xfrm>
                <a:custGeom>
                  <a:avLst/>
                  <a:gdLst/>
                  <a:ahLst/>
                  <a:rect l="l" t="t" r="r" b="b"/>
                  <a:pathLst>
                    <a:path w="166" h="94">
                      <a:moveTo>
                        <a:pt x="28" y="62"/>
                      </a:moveTo>
                      <a:lnTo>
                        <a:pt x="28" y="47"/>
                      </a:lnTo>
                      <a:lnTo>
                        <a:pt x="28" y="32"/>
                      </a:lnTo>
                      <a:lnTo>
                        <a:pt x="55" y="32"/>
                      </a:lnTo>
                      <a:lnTo>
                        <a:pt x="97" y="15"/>
                      </a:lnTo>
                      <a:lnTo>
                        <a:pt x="124" y="0"/>
                      </a:lnTo>
                      <a:lnTo>
                        <a:pt x="152" y="0"/>
                      </a:lnTo>
                      <a:lnTo>
                        <a:pt x="166" y="32"/>
                      </a:lnTo>
                      <a:lnTo>
                        <a:pt x="152" y="32"/>
                      </a:lnTo>
                      <a:lnTo>
                        <a:pt x="124" y="32"/>
                      </a:lnTo>
                      <a:lnTo>
                        <a:pt x="97" y="47"/>
                      </a:lnTo>
                      <a:lnTo>
                        <a:pt x="69" y="47"/>
                      </a:lnTo>
                      <a:lnTo>
                        <a:pt x="41" y="62"/>
                      </a:lnTo>
                      <a:lnTo>
                        <a:pt x="14" y="79"/>
                      </a:lnTo>
                      <a:lnTo>
                        <a:pt x="0" y="94"/>
                      </a:lnTo>
                      <a:lnTo>
                        <a:pt x="0" y="79"/>
                      </a:lnTo>
                      <a:lnTo>
                        <a:pt x="14" y="62"/>
                      </a:lnTo>
                      <a:lnTo>
                        <a:pt x="28" y="62"/>
                      </a:lnTo>
                      <a:close/>
                    </a:path>
                  </a:pathLst>
                </a:custGeom>
                <a:solidFill>
                  <a:srgbClr val="00937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0" name=""/>
                <p:cNvSpPr/>
                <p:nvPr/>
              </p:nvSpPr>
              <p:spPr>
                <a:xfrm>
                  <a:off x="7450200" y="1876320"/>
                  <a:ext cx="87120" cy="49320"/>
                </a:xfrm>
                <a:custGeom>
                  <a:avLst/>
                  <a:gdLst/>
                  <a:ahLst/>
                  <a:rect l="l" t="t" r="r" b="b"/>
                  <a:pathLst>
                    <a:path w="166" h="94">
                      <a:moveTo>
                        <a:pt x="28" y="62"/>
                      </a:moveTo>
                      <a:lnTo>
                        <a:pt x="28" y="47"/>
                      </a:lnTo>
                      <a:lnTo>
                        <a:pt x="28" y="32"/>
                      </a:lnTo>
                      <a:lnTo>
                        <a:pt x="55" y="32"/>
                      </a:lnTo>
                      <a:lnTo>
                        <a:pt x="97" y="15"/>
                      </a:lnTo>
                      <a:lnTo>
                        <a:pt x="124" y="0"/>
                      </a:lnTo>
                      <a:lnTo>
                        <a:pt x="152" y="0"/>
                      </a:lnTo>
                      <a:lnTo>
                        <a:pt x="166" y="32"/>
                      </a:lnTo>
                      <a:lnTo>
                        <a:pt x="152" y="32"/>
                      </a:lnTo>
                      <a:lnTo>
                        <a:pt x="124" y="32"/>
                      </a:lnTo>
                      <a:lnTo>
                        <a:pt x="97" y="47"/>
                      </a:lnTo>
                      <a:lnTo>
                        <a:pt x="69" y="47"/>
                      </a:lnTo>
                      <a:lnTo>
                        <a:pt x="41" y="62"/>
                      </a:lnTo>
                      <a:lnTo>
                        <a:pt x="14" y="79"/>
                      </a:lnTo>
                      <a:lnTo>
                        <a:pt x="0" y="94"/>
                      </a:lnTo>
                      <a:lnTo>
                        <a:pt x="0" y="79"/>
                      </a:lnTo>
                      <a:lnTo>
                        <a:pt x="14" y="62"/>
                      </a:lnTo>
                      <a:lnTo>
                        <a:pt x="28" y="6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1" name=""/>
                <p:cNvSpPr/>
                <p:nvPr/>
              </p:nvSpPr>
              <p:spPr>
                <a:xfrm>
                  <a:off x="6283440" y="1917720"/>
                  <a:ext cx="21960" cy="25560"/>
                </a:xfrm>
                <a:custGeom>
                  <a:avLst/>
                  <a:gdLst/>
                  <a:ahLst/>
                  <a:rect l="l" t="t" r="r" b="b"/>
                  <a:pathLst>
                    <a:path w="41" h="47">
                      <a:moveTo>
                        <a:pt x="13" y="0"/>
                      </a:moveTo>
                      <a:lnTo>
                        <a:pt x="27" y="0"/>
                      </a:lnTo>
                      <a:lnTo>
                        <a:pt x="41" y="15"/>
                      </a:lnTo>
                      <a:lnTo>
                        <a:pt x="27" y="31"/>
                      </a:lnTo>
                      <a:lnTo>
                        <a:pt x="13" y="47"/>
                      </a:lnTo>
                      <a:lnTo>
                        <a:pt x="0" y="31"/>
                      </a:lnTo>
                      <a:lnTo>
                        <a:pt x="0" y="15"/>
                      </a:lnTo>
                      <a:lnTo>
                        <a:pt x="13" y="0"/>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2" name=""/>
                <p:cNvSpPr/>
                <p:nvPr/>
              </p:nvSpPr>
              <p:spPr>
                <a:xfrm>
                  <a:off x="6283440" y="1917720"/>
                  <a:ext cx="21960" cy="25560"/>
                </a:xfrm>
                <a:custGeom>
                  <a:avLst/>
                  <a:gdLst/>
                  <a:ahLst/>
                  <a:rect l="l" t="t" r="r" b="b"/>
                  <a:pathLst>
                    <a:path w="41" h="47">
                      <a:moveTo>
                        <a:pt x="13" y="0"/>
                      </a:moveTo>
                      <a:lnTo>
                        <a:pt x="27" y="0"/>
                      </a:lnTo>
                      <a:lnTo>
                        <a:pt x="41" y="15"/>
                      </a:lnTo>
                      <a:lnTo>
                        <a:pt x="27" y="31"/>
                      </a:lnTo>
                      <a:lnTo>
                        <a:pt x="13" y="47"/>
                      </a:lnTo>
                      <a:lnTo>
                        <a:pt x="0" y="31"/>
                      </a:lnTo>
                      <a:lnTo>
                        <a:pt x="0" y="15"/>
                      </a:lnTo>
                      <a:lnTo>
                        <a:pt x="13"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3" name=""/>
                <p:cNvSpPr/>
                <p:nvPr/>
              </p:nvSpPr>
              <p:spPr>
                <a:xfrm>
                  <a:off x="7977240" y="1925640"/>
                  <a:ext cx="44280" cy="7920"/>
                </a:xfrm>
                <a:custGeom>
                  <a:avLst/>
                  <a:gdLst/>
                  <a:ahLst/>
                  <a:rect l="l" t="t" r="r" b="b"/>
                  <a:pathLst>
                    <a:path w="83" h="16">
                      <a:moveTo>
                        <a:pt x="0" y="0"/>
                      </a:moveTo>
                      <a:lnTo>
                        <a:pt x="28" y="0"/>
                      </a:lnTo>
                      <a:lnTo>
                        <a:pt x="42" y="0"/>
                      </a:lnTo>
                      <a:lnTo>
                        <a:pt x="55" y="0"/>
                      </a:lnTo>
                      <a:lnTo>
                        <a:pt x="69" y="0"/>
                      </a:lnTo>
                      <a:lnTo>
                        <a:pt x="83" y="16"/>
                      </a:lnTo>
                      <a:lnTo>
                        <a:pt x="55" y="16"/>
                      </a:lnTo>
                      <a:lnTo>
                        <a:pt x="28" y="16"/>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4" name=""/>
                <p:cNvSpPr/>
                <p:nvPr/>
              </p:nvSpPr>
              <p:spPr>
                <a:xfrm>
                  <a:off x="7977240" y="1925640"/>
                  <a:ext cx="44280" cy="7920"/>
                </a:xfrm>
                <a:custGeom>
                  <a:avLst/>
                  <a:gdLst/>
                  <a:ahLst/>
                  <a:rect l="l" t="t" r="r" b="b"/>
                  <a:pathLst>
                    <a:path w="83" h="16">
                      <a:moveTo>
                        <a:pt x="0" y="0"/>
                      </a:moveTo>
                      <a:lnTo>
                        <a:pt x="28" y="0"/>
                      </a:lnTo>
                      <a:lnTo>
                        <a:pt x="42" y="0"/>
                      </a:lnTo>
                      <a:lnTo>
                        <a:pt x="55" y="0"/>
                      </a:lnTo>
                      <a:lnTo>
                        <a:pt x="69" y="0"/>
                      </a:lnTo>
                      <a:lnTo>
                        <a:pt x="83" y="16"/>
                      </a:lnTo>
                      <a:lnTo>
                        <a:pt x="55" y="16"/>
                      </a:lnTo>
                      <a:lnTo>
                        <a:pt x="28" y="16"/>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5" name=""/>
                <p:cNvSpPr/>
                <p:nvPr/>
              </p:nvSpPr>
              <p:spPr>
                <a:xfrm>
                  <a:off x="6041880" y="1908000"/>
                  <a:ext cx="87480" cy="43200"/>
                </a:xfrm>
                <a:custGeom>
                  <a:avLst/>
                  <a:gdLst/>
                  <a:ahLst/>
                  <a:rect l="l" t="t" r="r" b="b"/>
                  <a:pathLst>
                    <a:path w="166" h="79">
                      <a:moveTo>
                        <a:pt x="125" y="17"/>
                      </a:moveTo>
                      <a:lnTo>
                        <a:pt x="138" y="17"/>
                      </a:lnTo>
                      <a:lnTo>
                        <a:pt x="152" y="17"/>
                      </a:lnTo>
                      <a:lnTo>
                        <a:pt x="166" y="32"/>
                      </a:lnTo>
                      <a:lnTo>
                        <a:pt x="125" y="48"/>
                      </a:lnTo>
                      <a:lnTo>
                        <a:pt x="83" y="64"/>
                      </a:lnTo>
                      <a:lnTo>
                        <a:pt x="55" y="64"/>
                      </a:lnTo>
                      <a:lnTo>
                        <a:pt x="28" y="79"/>
                      </a:lnTo>
                      <a:lnTo>
                        <a:pt x="14" y="79"/>
                      </a:lnTo>
                      <a:lnTo>
                        <a:pt x="0" y="79"/>
                      </a:lnTo>
                      <a:lnTo>
                        <a:pt x="0" y="64"/>
                      </a:lnTo>
                      <a:lnTo>
                        <a:pt x="0" y="48"/>
                      </a:lnTo>
                      <a:lnTo>
                        <a:pt x="14" y="48"/>
                      </a:lnTo>
                      <a:lnTo>
                        <a:pt x="28" y="32"/>
                      </a:lnTo>
                      <a:lnTo>
                        <a:pt x="42" y="32"/>
                      </a:lnTo>
                      <a:lnTo>
                        <a:pt x="55" y="17"/>
                      </a:lnTo>
                      <a:lnTo>
                        <a:pt x="55" y="0"/>
                      </a:lnTo>
                      <a:lnTo>
                        <a:pt x="83" y="0"/>
                      </a:lnTo>
                      <a:lnTo>
                        <a:pt x="97" y="0"/>
                      </a:lnTo>
                      <a:lnTo>
                        <a:pt x="125" y="17"/>
                      </a:lnTo>
                      <a:close/>
                    </a:path>
                  </a:pathLst>
                </a:custGeom>
                <a:solidFill>
                  <a:srgbClr val="00937d"/>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6" name=""/>
                <p:cNvSpPr/>
                <p:nvPr/>
              </p:nvSpPr>
              <p:spPr>
                <a:xfrm>
                  <a:off x="6041880" y="1908000"/>
                  <a:ext cx="87480" cy="43200"/>
                </a:xfrm>
                <a:custGeom>
                  <a:avLst/>
                  <a:gdLst/>
                  <a:ahLst/>
                  <a:rect l="l" t="t" r="r" b="b"/>
                  <a:pathLst>
                    <a:path w="166" h="79">
                      <a:moveTo>
                        <a:pt x="125" y="17"/>
                      </a:moveTo>
                      <a:lnTo>
                        <a:pt x="138" y="17"/>
                      </a:lnTo>
                      <a:lnTo>
                        <a:pt x="152" y="17"/>
                      </a:lnTo>
                      <a:lnTo>
                        <a:pt x="166" y="32"/>
                      </a:lnTo>
                      <a:lnTo>
                        <a:pt x="125" y="48"/>
                      </a:lnTo>
                      <a:lnTo>
                        <a:pt x="83" y="64"/>
                      </a:lnTo>
                      <a:lnTo>
                        <a:pt x="55" y="64"/>
                      </a:lnTo>
                      <a:lnTo>
                        <a:pt x="28" y="79"/>
                      </a:lnTo>
                      <a:lnTo>
                        <a:pt x="14" y="79"/>
                      </a:lnTo>
                      <a:lnTo>
                        <a:pt x="0" y="79"/>
                      </a:lnTo>
                      <a:lnTo>
                        <a:pt x="0" y="64"/>
                      </a:lnTo>
                      <a:lnTo>
                        <a:pt x="0" y="48"/>
                      </a:lnTo>
                      <a:lnTo>
                        <a:pt x="14" y="48"/>
                      </a:lnTo>
                      <a:lnTo>
                        <a:pt x="28" y="32"/>
                      </a:lnTo>
                      <a:lnTo>
                        <a:pt x="42" y="32"/>
                      </a:lnTo>
                      <a:lnTo>
                        <a:pt x="55" y="17"/>
                      </a:lnTo>
                      <a:lnTo>
                        <a:pt x="55" y="0"/>
                      </a:lnTo>
                      <a:lnTo>
                        <a:pt x="83" y="0"/>
                      </a:lnTo>
                      <a:lnTo>
                        <a:pt x="97" y="0"/>
                      </a:lnTo>
                      <a:lnTo>
                        <a:pt x="125" y="17"/>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7" name=""/>
                <p:cNvSpPr/>
                <p:nvPr/>
              </p:nvSpPr>
              <p:spPr>
                <a:xfrm>
                  <a:off x="6224760" y="1917720"/>
                  <a:ext cx="36360" cy="25560"/>
                </a:xfrm>
                <a:custGeom>
                  <a:avLst/>
                  <a:gdLst/>
                  <a:ahLst/>
                  <a:rect l="l" t="t" r="r" b="b"/>
                  <a:pathLst>
                    <a:path w="69" h="47">
                      <a:moveTo>
                        <a:pt x="55" y="0"/>
                      </a:moveTo>
                      <a:lnTo>
                        <a:pt x="55" y="15"/>
                      </a:lnTo>
                      <a:lnTo>
                        <a:pt x="69" y="31"/>
                      </a:lnTo>
                      <a:lnTo>
                        <a:pt x="69" y="47"/>
                      </a:lnTo>
                      <a:lnTo>
                        <a:pt x="55" y="47"/>
                      </a:lnTo>
                      <a:lnTo>
                        <a:pt x="28" y="47"/>
                      </a:lnTo>
                      <a:lnTo>
                        <a:pt x="14" y="31"/>
                      </a:lnTo>
                      <a:lnTo>
                        <a:pt x="0" y="15"/>
                      </a:lnTo>
                      <a:lnTo>
                        <a:pt x="14" y="15"/>
                      </a:lnTo>
                      <a:lnTo>
                        <a:pt x="28" y="0"/>
                      </a:lnTo>
                      <a:lnTo>
                        <a:pt x="41" y="0"/>
                      </a:lnTo>
                      <a:lnTo>
                        <a:pt x="55" y="0"/>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8" name=""/>
                <p:cNvSpPr/>
                <p:nvPr/>
              </p:nvSpPr>
              <p:spPr>
                <a:xfrm>
                  <a:off x="6224760" y="1917720"/>
                  <a:ext cx="36360" cy="25560"/>
                </a:xfrm>
                <a:custGeom>
                  <a:avLst/>
                  <a:gdLst/>
                  <a:ahLst/>
                  <a:rect l="l" t="t" r="r" b="b"/>
                  <a:pathLst>
                    <a:path w="69" h="47">
                      <a:moveTo>
                        <a:pt x="55" y="0"/>
                      </a:moveTo>
                      <a:lnTo>
                        <a:pt x="55" y="15"/>
                      </a:lnTo>
                      <a:lnTo>
                        <a:pt x="69" y="31"/>
                      </a:lnTo>
                      <a:lnTo>
                        <a:pt x="69" y="47"/>
                      </a:lnTo>
                      <a:lnTo>
                        <a:pt x="55" y="47"/>
                      </a:lnTo>
                      <a:lnTo>
                        <a:pt x="28" y="47"/>
                      </a:lnTo>
                      <a:lnTo>
                        <a:pt x="14" y="31"/>
                      </a:lnTo>
                      <a:lnTo>
                        <a:pt x="0" y="15"/>
                      </a:lnTo>
                      <a:lnTo>
                        <a:pt x="14" y="15"/>
                      </a:lnTo>
                      <a:lnTo>
                        <a:pt x="28" y="0"/>
                      </a:lnTo>
                      <a:lnTo>
                        <a:pt x="41" y="0"/>
                      </a:lnTo>
                      <a:lnTo>
                        <a:pt x="5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9" name=""/>
                <p:cNvSpPr/>
                <p:nvPr/>
              </p:nvSpPr>
              <p:spPr>
                <a:xfrm>
                  <a:off x="7434360" y="1925640"/>
                  <a:ext cx="58680" cy="25560"/>
                </a:xfrm>
                <a:custGeom>
                  <a:avLst/>
                  <a:gdLst/>
                  <a:ahLst/>
                  <a:rect l="l" t="t" r="r" b="b"/>
                  <a:pathLst>
                    <a:path w="111" h="47">
                      <a:moveTo>
                        <a:pt x="0" y="32"/>
                      </a:moveTo>
                      <a:lnTo>
                        <a:pt x="28" y="16"/>
                      </a:lnTo>
                      <a:lnTo>
                        <a:pt x="42" y="0"/>
                      </a:lnTo>
                      <a:lnTo>
                        <a:pt x="69" y="0"/>
                      </a:lnTo>
                      <a:lnTo>
                        <a:pt x="56" y="16"/>
                      </a:lnTo>
                      <a:lnTo>
                        <a:pt x="56" y="32"/>
                      </a:lnTo>
                      <a:lnTo>
                        <a:pt x="69" y="32"/>
                      </a:lnTo>
                      <a:lnTo>
                        <a:pt x="83" y="47"/>
                      </a:lnTo>
                      <a:lnTo>
                        <a:pt x="111" y="47"/>
                      </a:lnTo>
                      <a:lnTo>
                        <a:pt x="97" y="47"/>
                      </a:lnTo>
                      <a:lnTo>
                        <a:pt x="69" y="47"/>
                      </a:lnTo>
                      <a:lnTo>
                        <a:pt x="56" y="47"/>
                      </a:lnTo>
                      <a:lnTo>
                        <a:pt x="42" y="47"/>
                      </a:lnTo>
                      <a:lnTo>
                        <a:pt x="28" y="47"/>
                      </a:lnTo>
                      <a:lnTo>
                        <a:pt x="14" y="32"/>
                      </a:lnTo>
                      <a:lnTo>
                        <a:pt x="0" y="32"/>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0" name=""/>
                <p:cNvSpPr/>
                <p:nvPr/>
              </p:nvSpPr>
              <p:spPr>
                <a:xfrm>
                  <a:off x="7434360" y="1925640"/>
                  <a:ext cx="58680" cy="25560"/>
                </a:xfrm>
                <a:custGeom>
                  <a:avLst/>
                  <a:gdLst/>
                  <a:ahLst/>
                  <a:rect l="l" t="t" r="r" b="b"/>
                  <a:pathLst>
                    <a:path w="111" h="47">
                      <a:moveTo>
                        <a:pt x="0" y="32"/>
                      </a:moveTo>
                      <a:lnTo>
                        <a:pt x="28" y="16"/>
                      </a:lnTo>
                      <a:lnTo>
                        <a:pt x="42" y="0"/>
                      </a:lnTo>
                      <a:lnTo>
                        <a:pt x="69" y="0"/>
                      </a:lnTo>
                      <a:lnTo>
                        <a:pt x="56" y="16"/>
                      </a:lnTo>
                      <a:lnTo>
                        <a:pt x="56" y="32"/>
                      </a:lnTo>
                      <a:lnTo>
                        <a:pt x="69" y="32"/>
                      </a:lnTo>
                      <a:lnTo>
                        <a:pt x="83" y="47"/>
                      </a:lnTo>
                      <a:lnTo>
                        <a:pt x="111" y="47"/>
                      </a:lnTo>
                      <a:lnTo>
                        <a:pt x="97" y="47"/>
                      </a:lnTo>
                      <a:lnTo>
                        <a:pt x="69" y="47"/>
                      </a:lnTo>
                      <a:lnTo>
                        <a:pt x="56" y="47"/>
                      </a:lnTo>
                      <a:lnTo>
                        <a:pt x="42" y="47"/>
                      </a:lnTo>
                      <a:lnTo>
                        <a:pt x="28" y="47"/>
                      </a:lnTo>
                      <a:lnTo>
                        <a:pt x="14" y="32"/>
                      </a:lnTo>
                      <a:lnTo>
                        <a:pt x="0" y="3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1" name=""/>
                <p:cNvSpPr/>
                <p:nvPr/>
              </p:nvSpPr>
              <p:spPr>
                <a:xfrm>
                  <a:off x="6496200" y="1817640"/>
                  <a:ext cx="425160" cy="266760"/>
                </a:xfrm>
                <a:custGeom>
                  <a:avLst/>
                  <a:gdLst/>
                  <a:ahLst/>
                  <a:rect l="l" t="t" r="r" b="b"/>
                  <a:pathLst>
                    <a:path w="804" h="505">
                      <a:moveTo>
                        <a:pt x="429" y="363"/>
                      </a:moveTo>
                      <a:lnTo>
                        <a:pt x="387" y="363"/>
                      </a:lnTo>
                      <a:lnTo>
                        <a:pt x="360" y="379"/>
                      </a:lnTo>
                      <a:lnTo>
                        <a:pt x="332" y="394"/>
                      </a:lnTo>
                      <a:lnTo>
                        <a:pt x="332" y="410"/>
                      </a:lnTo>
                      <a:lnTo>
                        <a:pt x="318" y="426"/>
                      </a:lnTo>
                      <a:lnTo>
                        <a:pt x="304" y="426"/>
                      </a:lnTo>
                      <a:lnTo>
                        <a:pt x="277" y="441"/>
                      </a:lnTo>
                      <a:lnTo>
                        <a:pt x="277" y="458"/>
                      </a:lnTo>
                      <a:lnTo>
                        <a:pt x="291" y="458"/>
                      </a:lnTo>
                      <a:lnTo>
                        <a:pt x="291" y="473"/>
                      </a:lnTo>
                      <a:lnTo>
                        <a:pt x="277" y="488"/>
                      </a:lnTo>
                      <a:lnTo>
                        <a:pt x="249" y="505"/>
                      </a:lnTo>
                      <a:lnTo>
                        <a:pt x="235" y="505"/>
                      </a:lnTo>
                      <a:lnTo>
                        <a:pt x="235" y="488"/>
                      </a:lnTo>
                      <a:lnTo>
                        <a:pt x="221" y="488"/>
                      </a:lnTo>
                      <a:lnTo>
                        <a:pt x="194" y="488"/>
                      </a:lnTo>
                      <a:lnTo>
                        <a:pt x="180" y="488"/>
                      </a:lnTo>
                      <a:lnTo>
                        <a:pt x="166" y="473"/>
                      </a:lnTo>
                      <a:lnTo>
                        <a:pt x="166" y="458"/>
                      </a:lnTo>
                      <a:lnTo>
                        <a:pt x="166" y="426"/>
                      </a:lnTo>
                      <a:lnTo>
                        <a:pt x="180" y="410"/>
                      </a:lnTo>
                      <a:lnTo>
                        <a:pt x="194" y="410"/>
                      </a:lnTo>
                      <a:lnTo>
                        <a:pt x="194" y="394"/>
                      </a:lnTo>
                      <a:lnTo>
                        <a:pt x="180" y="394"/>
                      </a:lnTo>
                      <a:lnTo>
                        <a:pt x="152" y="410"/>
                      </a:lnTo>
                      <a:lnTo>
                        <a:pt x="152" y="394"/>
                      </a:lnTo>
                      <a:lnTo>
                        <a:pt x="180" y="379"/>
                      </a:lnTo>
                      <a:lnTo>
                        <a:pt x="180" y="363"/>
                      </a:lnTo>
                      <a:lnTo>
                        <a:pt x="152" y="379"/>
                      </a:lnTo>
                      <a:lnTo>
                        <a:pt x="138" y="363"/>
                      </a:lnTo>
                      <a:lnTo>
                        <a:pt x="152" y="347"/>
                      </a:lnTo>
                      <a:lnTo>
                        <a:pt x="166" y="347"/>
                      </a:lnTo>
                      <a:lnTo>
                        <a:pt x="180" y="347"/>
                      </a:lnTo>
                      <a:lnTo>
                        <a:pt x="194" y="347"/>
                      </a:lnTo>
                      <a:lnTo>
                        <a:pt x="208" y="347"/>
                      </a:lnTo>
                      <a:lnTo>
                        <a:pt x="180" y="347"/>
                      </a:lnTo>
                      <a:lnTo>
                        <a:pt x="166" y="363"/>
                      </a:lnTo>
                      <a:lnTo>
                        <a:pt x="138" y="363"/>
                      </a:lnTo>
                      <a:lnTo>
                        <a:pt x="138" y="347"/>
                      </a:lnTo>
                      <a:lnTo>
                        <a:pt x="152" y="331"/>
                      </a:lnTo>
                      <a:lnTo>
                        <a:pt x="166" y="331"/>
                      </a:lnTo>
                      <a:lnTo>
                        <a:pt x="180" y="331"/>
                      </a:lnTo>
                      <a:lnTo>
                        <a:pt x="166" y="331"/>
                      </a:lnTo>
                      <a:lnTo>
                        <a:pt x="166" y="316"/>
                      </a:lnTo>
                      <a:lnTo>
                        <a:pt x="180" y="316"/>
                      </a:lnTo>
                      <a:lnTo>
                        <a:pt x="208" y="331"/>
                      </a:lnTo>
                      <a:lnTo>
                        <a:pt x="208" y="316"/>
                      </a:lnTo>
                      <a:lnTo>
                        <a:pt x="194" y="316"/>
                      </a:lnTo>
                      <a:lnTo>
                        <a:pt x="180" y="316"/>
                      </a:lnTo>
                      <a:lnTo>
                        <a:pt x="166" y="316"/>
                      </a:lnTo>
                      <a:lnTo>
                        <a:pt x="166" y="300"/>
                      </a:lnTo>
                      <a:lnTo>
                        <a:pt x="194" y="300"/>
                      </a:lnTo>
                      <a:lnTo>
                        <a:pt x="208" y="300"/>
                      </a:lnTo>
                      <a:lnTo>
                        <a:pt x="221" y="300"/>
                      </a:lnTo>
                      <a:lnTo>
                        <a:pt x="221" y="284"/>
                      </a:lnTo>
                      <a:lnTo>
                        <a:pt x="235" y="268"/>
                      </a:lnTo>
                      <a:lnTo>
                        <a:pt x="221" y="268"/>
                      </a:lnTo>
                      <a:lnTo>
                        <a:pt x="208" y="268"/>
                      </a:lnTo>
                      <a:lnTo>
                        <a:pt x="194" y="268"/>
                      </a:lnTo>
                      <a:lnTo>
                        <a:pt x="194" y="252"/>
                      </a:lnTo>
                      <a:lnTo>
                        <a:pt x="208" y="237"/>
                      </a:lnTo>
                      <a:lnTo>
                        <a:pt x="208" y="221"/>
                      </a:lnTo>
                      <a:lnTo>
                        <a:pt x="194" y="221"/>
                      </a:lnTo>
                      <a:lnTo>
                        <a:pt x="180" y="221"/>
                      </a:lnTo>
                      <a:lnTo>
                        <a:pt x="166" y="237"/>
                      </a:lnTo>
                      <a:lnTo>
                        <a:pt x="180" y="237"/>
                      </a:lnTo>
                      <a:lnTo>
                        <a:pt x="194" y="221"/>
                      </a:lnTo>
                      <a:lnTo>
                        <a:pt x="180" y="221"/>
                      </a:lnTo>
                      <a:lnTo>
                        <a:pt x="166" y="221"/>
                      </a:lnTo>
                      <a:lnTo>
                        <a:pt x="180" y="221"/>
                      </a:lnTo>
                      <a:lnTo>
                        <a:pt x="166" y="221"/>
                      </a:lnTo>
                      <a:lnTo>
                        <a:pt x="166" y="190"/>
                      </a:lnTo>
                      <a:lnTo>
                        <a:pt x="166" y="158"/>
                      </a:lnTo>
                      <a:lnTo>
                        <a:pt x="152" y="143"/>
                      </a:lnTo>
                      <a:lnTo>
                        <a:pt x="138" y="143"/>
                      </a:lnTo>
                      <a:lnTo>
                        <a:pt x="125" y="126"/>
                      </a:lnTo>
                      <a:lnTo>
                        <a:pt x="111" y="126"/>
                      </a:lnTo>
                      <a:lnTo>
                        <a:pt x="69" y="126"/>
                      </a:lnTo>
                      <a:lnTo>
                        <a:pt x="42" y="126"/>
                      </a:lnTo>
                      <a:lnTo>
                        <a:pt x="0" y="126"/>
                      </a:lnTo>
                      <a:lnTo>
                        <a:pt x="14" y="126"/>
                      </a:lnTo>
                      <a:lnTo>
                        <a:pt x="28" y="111"/>
                      </a:lnTo>
                      <a:lnTo>
                        <a:pt x="14" y="94"/>
                      </a:lnTo>
                      <a:lnTo>
                        <a:pt x="14" y="79"/>
                      </a:lnTo>
                      <a:lnTo>
                        <a:pt x="28" y="94"/>
                      </a:lnTo>
                      <a:lnTo>
                        <a:pt x="42" y="94"/>
                      </a:lnTo>
                      <a:lnTo>
                        <a:pt x="83" y="79"/>
                      </a:lnTo>
                      <a:lnTo>
                        <a:pt x="111" y="79"/>
                      </a:lnTo>
                      <a:lnTo>
                        <a:pt x="152" y="64"/>
                      </a:lnTo>
                      <a:lnTo>
                        <a:pt x="125" y="64"/>
                      </a:lnTo>
                      <a:lnTo>
                        <a:pt x="111" y="64"/>
                      </a:lnTo>
                      <a:lnTo>
                        <a:pt x="152" y="47"/>
                      </a:lnTo>
                      <a:lnTo>
                        <a:pt x="194" y="32"/>
                      </a:lnTo>
                      <a:lnTo>
                        <a:pt x="221" y="32"/>
                      </a:lnTo>
                      <a:lnTo>
                        <a:pt x="235" y="32"/>
                      </a:lnTo>
                      <a:lnTo>
                        <a:pt x="249" y="32"/>
                      </a:lnTo>
                      <a:lnTo>
                        <a:pt x="263" y="32"/>
                      </a:lnTo>
                      <a:lnTo>
                        <a:pt x="249" y="32"/>
                      </a:lnTo>
                      <a:lnTo>
                        <a:pt x="263" y="15"/>
                      </a:lnTo>
                      <a:lnTo>
                        <a:pt x="277" y="15"/>
                      </a:lnTo>
                      <a:lnTo>
                        <a:pt x="291" y="15"/>
                      </a:lnTo>
                      <a:lnTo>
                        <a:pt x="304" y="15"/>
                      </a:lnTo>
                      <a:lnTo>
                        <a:pt x="332" y="15"/>
                      </a:lnTo>
                      <a:lnTo>
                        <a:pt x="360" y="15"/>
                      </a:lnTo>
                      <a:lnTo>
                        <a:pt x="387" y="15"/>
                      </a:lnTo>
                      <a:lnTo>
                        <a:pt x="429" y="0"/>
                      </a:lnTo>
                      <a:lnTo>
                        <a:pt x="457" y="0"/>
                      </a:lnTo>
                      <a:lnTo>
                        <a:pt x="498" y="0"/>
                      </a:lnTo>
                      <a:lnTo>
                        <a:pt x="539" y="0"/>
                      </a:lnTo>
                      <a:lnTo>
                        <a:pt x="567" y="0"/>
                      </a:lnTo>
                      <a:lnTo>
                        <a:pt x="610" y="0"/>
                      </a:lnTo>
                      <a:lnTo>
                        <a:pt x="638" y="0"/>
                      </a:lnTo>
                      <a:lnTo>
                        <a:pt x="679" y="0"/>
                      </a:lnTo>
                      <a:lnTo>
                        <a:pt x="665" y="0"/>
                      </a:lnTo>
                      <a:lnTo>
                        <a:pt x="652" y="15"/>
                      </a:lnTo>
                      <a:lnTo>
                        <a:pt x="665" y="32"/>
                      </a:lnTo>
                      <a:lnTo>
                        <a:pt x="679" y="47"/>
                      </a:lnTo>
                      <a:lnTo>
                        <a:pt x="693" y="47"/>
                      </a:lnTo>
                      <a:lnTo>
                        <a:pt x="707" y="47"/>
                      </a:lnTo>
                      <a:lnTo>
                        <a:pt x="721" y="32"/>
                      </a:lnTo>
                      <a:lnTo>
                        <a:pt x="735" y="32"/>
                      </a:lnTo>
                      <a:lnTo>
                        <a:pt x="748" y="32"/>
                      </a:lnTo>
                      <a:lnTo>
                        <a:pt x="762" y="32"/>
                      </a:lnTo>
                      <a:lnTo>
                        <a:pt x="776" y="32"/>
                      </a:lnTo>
                      <a:lnTo>
                        <a:pt x="790" y="15"/>
                      </a:lnTo>
                      <a:lnTo>
                        <a:pt x="804" y="32"/>
                      </a:lnTo>
                      <a:lnTo>
                        <a:pt x="804" y="47"/>
                      </a:lnTo>
                      <a:lnTo>
                        <a:pt x="776" y="47"/>
                      </a:lnTo>
                      <a:lnTo>
                        <a:pt x="762" y="47"/>
                      </a:lnTo>
                      <a:lnTo>
                        <a:pt x="735" y="64"/>
                      </a:lnTo>
                      <a:lnTo>
                        <a:pt x="707" y="79"/>
                      </a:lnTo>
                      <a:lnTo>
                        <a:pt x="693" y="111"/>
                      </a:lnTo>
                      <a:lnTo>
                        <a:pt x="707" y="111"/>
                      </a:lnTo>
                      <a:lnTo>
                        <a:pt x="721" y="111"/>
                      </a:lnTo>
                      <a:lnTo>
                        <a:pt x="748" y="126"/>
                      </a:lnTo>
                      <a:lnTo>
                        <a:pt x="748" y="143"/>
                      </a:lnTo>
                      <a:lnTo>
                        <a:pt x="735" y="143"/>
                      </a:lnTo>
                      <a:lnTo>
                        <a:pt x="721" y="158"/>
                      </a:lnTo>
                      <a:lnTo>
                        <a:pt x="707" y="158"/>
                      </a:lnTo>
                      <a:lnTo>
                        <a:pt x="679" y="158"/>
                      </a:lnTo>
                      <a:lnTo>
                        <a:pt x="693" y="173"/>
                      </a:lnTo>
                      <a:lnTo>
                        <a:pt x="707" y="173"/>
                      </a:lnTo>
                      <a:lnTo>
                        <a:pt x="721" y="173"/>
                      </a:lnTo>
                      <a:lnTo>
                        <a:pt x="707" y="173"/>
                      </a:lnTo>
                      <a:lnTo>
                        <a:pt x="693" y="173"/>
                      </a:lnTo>
                      <a:lnTo>
                        <a:pt x="679" y="173"/>
                      </a:lnTo>
                      <a:lnTo>
                        <a:pt x="693" y="190"/>
                      </a:lnTo>
                      <a:lnTo>
                        <a:pt x="665" y="205"/>
                      </a:lnTo>
                      <a:lnTo>
                        <a:pt x="624" y="190"/>
                      </a:lnTo>
                      <a:lnTo>
                        <a:pt x="595" y="190"/>
                      </a:lnTo>
                      <a:lnTo>
                        <a:pt x="581" y="221"/>
                      </a:lnTo>
                      <a:lnTo>
                        <a:pt x="610" y="221"/>
                      </a:lnTo>
                      <a:lnTo>
                        <a:pt x="638" y="221"/>
                      </a:lnTo>
                      <a:lnTo>
                        <a:pt x="652" y="237"/>
                      </a:lnTo>
                      <a:lnTo>
                        <a:pt x="652" y="252"/>
                      </a:lnTo>
                      <a:lnTo>
                        <a:pt x="665" y="268"/>
                      </a:lnTo>
                      <a:lnTo>
                        <a:pt x="652" y="268"/>
                      </a:lnTo>
                      <a:lnTo>
                        <a:pt x="652" y="252"/>
                      </a:lnTo>
                      <a:lnTo>
                        <a:pt x="638" y="252"/>
                      </a:lnTo>
                      <a:lnTo>
                        <a:pt x="624" y="237"/>
                      </a:lnTo>
                      <a:lnTo>
                        <a:pt x="595" y="237"/>
                      </a:lnTo>
                      <a:lnTo>
                        <a:pt x="567" y="237"/>
                      </a:lnTo>
                      <a:lnTo>
                        <a:pt x="553" y="268"/>
                      </a:lnTo>
                      <a:lnTo>
                        <a:pt x="581" y="252"/>
                      </a:lnTo>
                      <a:lnTo>
                        <a:pt x="595" y="268"/>
                      </a:lnTo>
                      <a:lnTo>
                        <a:pt x="595" y="284"/>
                      </a:lnTo>
                      <a:lnTo>
                        <a:pt x="581" y="300"/>
                      </a:lnTo>
                      <a:lnTo>
                        <a:pt x="567" y="300"/>
                      </a:lnTo>
                      <a:lnTo>
                        <a:pt x="539" y="316"/>
                      </a:lnTo>
                      <a:lnTo>
                        <a:pt x="498" y="316"/>
                      </a:lnTo>
                      <a:lnTo>
                        <a:pt x="470" y="331"/>
                      </a:lnTo>
                      <a:lnTo>
                        <a:pt x="457" y="347"/>
                      </a:lnTo>
                      <a:lnTo>
                        <a:pt x="443" y="363"/>
                      </a:lnTo>
                      <a:lnTo>
                        <a:pt x="429" y="363"/>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496200" y="1817640"/>
                  <a:ext cx="425160" cy="266760"/>
                </a:xfrm>
                <a:custGeom>
                  <a:avLst/>
                  <a:gdLst/>
                  <a:ahLst/>
                  <a:rect l="l" t="t" r="r" b="b"/>
                  <a:pathLst>
                    <a:path w="804" h="505">
                      <a:moveTo>
                        <a:pt x="429" y="363"/>
                      </a:moveTo>
                      <a:lnTo>
                        <a:pt x="387" y="363"/>
                      </a:lnTo>
                      <a:lnTo>
                        <a:pt x="360" y="379"/>
                      </a:lnTo>
                      <a:lnTo>
                        <a:pt x="332" y="394"/>
                      </a:lnTo>
                      <a:lnTo>
                        <a:pt x="332" y="410"/>
                      </a:lnTo>
                      <a:lnTo>
                        <a:pt x="318" y="426"/>
                      </a:lnTo>
                      <a:lnTo>
                        <a:pt x="304" y="426"/>
                      </a:lnTo>
                      <a:lnTo>
                        <a:pt x="277" y="441"/>
                      </a:lnTo>
                      <a:lnTo>
                        <a:pt x="277" y="458"/>
                      </a:lnTo>
                      <a:lnTo>
                        <a:pt x="291" y="458"/>
                      </a:lnTo>
                      <a:lnTo>
                        <a:pt x="291" y="473"/>
                      </a:lnTo>
                      <a:lnTo>
                        <a:pt x="277" y="488"/>
                      </a:lnTo>
                      <a:lnTo>
                        <a:pt x="249" y="505"/>
                      </a:lnTo>
                      <a:lnTo>
                        <a:pt x="235" y="505"/>
                      </a:lnTo>
                      <a:lnTo>
                        <a:pt x="235" y="488"/>
                      </a:lnTo>
                      <a:lnTo>
                        <a:pt x="221" y="488"/>
                      </a:lnTo>
                      <a:lnTo>
                        <a:pt x="194" y="488"/>
                      </a:lnTo>
                      <a:lnTo>
                        <a:pt x="180" y="488"/>
                      </a:lnTo>
                      <a:lnTo>
                        <a:pt x="166" y="473"/>
                      </a:lnTo>
                      <a:lnTo>
                        <a:pt x="166" y="458"/>
                      </a:lnTo>
                      <a:lnTo>
                        <a:pt x="166" y="426"/>
                      </a:lnTo>
                      <a:lnTo>
                        <a:pt x="180" y="410"/>
                      </a:lnTo>
                      <a:lnTo>
                        <a:pt x="194" y="410"/>
                      </a:lnTo>
                      <a:lnTo>
                        <a:pt x="194" y="394"/>
                      </a:lnTo>
                      <a:lnTo>
                        <a:pt x="180" y="394"/>
                      </a:lnTo>
                      <a:lnTo>
                        <a:pt x="152" y="410"/>
                      </a:lnTo>
                      <a:lnTo>
                        <a:pt x="152" y="394"/>
                      </a:lnTo>
                      <a:lnTo>
                        <a:pt x="180" y="379"/>
                      </a:lnTo>
                      <a:lnTo>
                        <a:pt x="180" y="363"/>
                      </a:lnTo>
                      <a:lnTo>
                        <a:pt x="152" y="379"/>
                      </a:lnTo>
                      <a:lnTo>
                        <a:pt x="138" y="363"/>
                      </a:lnTo>
                      <a:lnTo>
                        <a:pt x="152" y="347"/>
                      </a:lnTo>
                      <a:lnTo>
                        <a:pt x="166" y="347"/>
                      </a:lnTo>
                      <a:lnTo>
                        <a:pt x="180" y="347"/>
                      </a:lnTo>
                      <a:lnTo>
                        <a:pt x="194" y="347"/>
                      </a:lnTo>
                      <a:lnTo>
                        <a:pt x="208" y="347"/>
                      </a:lnTo>
                      <a:lnTo>
                        <a:pt x="180" y="347"/>
                      </a:lnTo>
                      <a:lnTo>
                        <a:pt x="166" y="363"/>
                      </a:lnTo>
                      <a:lnTo>
                        <a:pt x="138" y="363"/>
                      </a:lnTo>
                      <a:lnTo>
                        <a:pt x="138" y="347"/>
                      </a:lnTo>
                      <a:lnTo>
                        <a:pt x="152" y="331"/>
                      </a:lnTo>
                      <a:lnTo>
                        <a:pt x="166" y="331"/>
                      </a:lnTo>
                      <a:lnTo>
                        <a:pt x="180" y="331"/>
                      </a:lnTo>
                      <a:lnTo>
                        <a:pt x="166" y="331"/>
                      </a:lnTo>
                      <a:lnTo>
                        <a:pt x="166" y="316"/>
                      </a:lnTo>
                      <a:lnTo>
                        <a:pt x="180" y="316"/>
                      </a:lnTo>
                      <a:lnTo>
                        <a:pt x="208" y="331"/>
                      </a:lnTo>
                      <a:lnTo>
                        <a:pt x="208" y="316"/>
                      </a:lnTo>
                      <a:lnTo>
                        <a:pt x="194" y="316"/>
                      </a:lnTo>
                      <a:lnTo>
                        <a:pt x="180" y="316"/>
                      </a:lnTo>
                      <a:lnTo>
                        <a:pt x="166" y="316"/>
                      </a:lnTo>
                      <a:lnTo>
                        <a:pt x="166" y="300"/>
                      </a:lnTo>
                      <a:lnTo>
                        <a:pt x="194" y="300"/>
                      </a:lnTo>
                      <a:lnTo>
                        <a:pt x="208" y="300"/>
                      </a:lnTo>
                      <a:lnTo>
                        <a:pt x="221" y="300"/>
                      </a:lnTo>
                      <a:lnTo>
                        <a:pt x="221" y="284"/>
                      </a:lnTo>
                      <a:lnTo>
                        <a:pt x="235" y="268"/>
                      </a:lnTo>
                      <a:lnTo>
                        <a:pt x="221" y="268"/>
                      </a:lnTo>
                      <a:lnTo>
                        <a:pt x="208" y="268"/>
                      </a:lnTo>
                      <a:lnTo>
                        <a:pt x="194" y="268"/>
                      </a:lnTo>
                      <a:lnTo>
                        <a:pt x="194" y="252"/>
                      </a:lnTo>
                      <a:lnTo>
                        <a:pt x="208" y="237"/>
                      </a:lnTo>
                      <a:lnTo>
                        <a:pt x="208" y="221"/>
                      </a:lnTo>
                      <a:lnTo>
                        <a:pt x="194" y="221"/>
                      </a:lnTo>
                      <a:lnTo>
                        <a:pt x="180" y="221"/>
                      </a:lnTo>
                      <a:lnTo>
                        <a:pt x="166" y="237"/>
                      </a:lnTo>
                      <a:lnTo>
                        <a:pt x="180" y="237"/>
                      </a:lnTo>
                      <a:lnTo>
                        <a:pt x="194" y="221"/>
                      </a:lnTo>
                      <a:lnTo>
                        <a:pt x="180" y="221"/>
                      </a:lnTo>
                      <a:lnTo>
                        <a:pt x="166" y="221"/>
                      </a:lnTo>
                      <a:lnTo>
                        <a:pt x="180" y="221"/>
                      </a:lnTo>
                      <a:lnTo>
                        <a:pt x="166" y="221"/>
                      </a:lnTo>
                      <a:lnTo>
                        <a:pt x="166" y="190"/>
                      </a:lnTo>
                      <a:lnTo>
                        <a:pt x="166" y="158"/>
                      </a:lnTo>
                      <a:lnTo>
                        <a:pt x="152" y="143"/>
                      </a:lnTo>
                      <a:lnTo>
                        <a:pt x="138" y="143"/>
                      </a:lnTo>
                      <a:lnTo>
                        <a:pt x="125" y="126"/>
                      </a:lnTo>
                      <a:lnTo>
                        <a:pt x="111" y="126"/>
                      </a:lnTo>
                      <a:lnTo>
                        <a:pt x="69" y="126"/>
                      </a:lnTo>
                      <a:lnTo>
                        <a:pt x="42" y="126"/>
                      </a:lnTo>
                      <a:lnTo>
                        <a:pt x="0" y="126"/>
                      </a:lnTo>
                      <a:lnTo>
                        <a:pt x="14" y="126"/>
                      </a:lnTo>
                      <a:lnTo>
                        <a:pt x="28" y="111"/>
                      </a:lnTo>
                      <a:lnTo>
                        <a:pt x="14" y="94"/>
                      </a:lnTo>
                      <a:lnTo>
                        <a:pt x="14" y="79"/>
                      </a:lnTo>
                      <a:lnTo>
                        <a:pt x="28" y="94"/>
                      </a:lnTo>
                      <a:lnTo>
                        <a:pt x="42" y="94"/>
                      </a:lnTo>
                      <a:lnTo>
                        <a:pt x="83" y="79"/>
                      </a:lnTo>
                      <a:lnTo>
                        <a:pt x="111" y="79"/>
                      </a:lnTo>
                      <a:lnTo>
                        <a:pt x="152" y="64"/>
                      </a:lnTo>
                      <a:lnTo>
                        <a:pt x="125" y="64"/>
                      </a:lnTo>
                      <a:lnTo>
                        <a:pt x="111" y="64"/>
                      </a:lnTo>
                      <a:lnTo>
                        <a:pt x="152" y="47"/>
                      </a:lnTo>
                      <a:lnTo>
                        <a:pt x="194" y="32"/>
                      </a:lnTo>
                      <a:lnTo>
                        <a:pt x="221" y="32"/>
                      </a:lnTo>
                      <a:lnTo>
                        <a:pt x="235" y="32"/>
                      </a:lnTo>
                      <a:lnTo>
                        <a:pt x="249" y="32"/>
                      </a:lnTo>
                      <a:lnTo>
                        <a:pt x="263" y="32"/>
                      </a:lnTo>
                      <a:lnTo>
                        <a:pt x="249" y="32"/>
                      </a:lnTo>
                      <a:lnTo>
                        <a:pt x="263" y="15"/>
                      </a:lnTo>
                      <a:lnTo>
                        <a:pt x="277" y="15"/>
                      </a:lnTo>
                      <a:lnTo>
                        <a:pt x="291" y="15"/>
                      </a:lnTo>
                      <a:lnTo>
                        <a:pt x="304" y="15"/>
                      </a:lnTo>
                      <a:lnTo>
                        <a:pt x="332" y="15"/>
                      </a:lnTo>
                      <a:lnTo>
                        <a:pt x="360" y="15"/>
                      </a:lnTo>
                      <a:lnTo>
                        <a:pt x="387" y="15"/>
                      </a:lnTo>
                      <a:lnTo>
                        <a:pt x="429" y="0"/>
                      </a:lnTo>
                      <a:lnTo>
                        <a:pt x="457" y="0"/>
                      </a:lnTo>
                      <a:lnTo>
                        <a:pt x="498" y="0"/>
                      </a:lnTo>
                      <a:lnTo>
                        <a:pt x="539" y="0"/>
                      </a:lnTo>
                      <a:lnTo>
                        <a:pt x="567" y="0"/>
                      </a:lnTo>
                      <a:lnTo>
                        <a:pt x="610" y="0"/>
                      </a:lnTo>
                      <a:lnTo>
                        <a:pt x="638" y="0"/>
                      </a:lnTo>
                      <a:lnTo>
                        <a:pt x="679" y="0"/>
                      </a:lnTo>
                      <a:lnTo>
                        <a:pt x="665" y="0"/>
                      </a:lnTo>
                      <a:lnTo>
                        <a:pt x="652" y="15"/>
                      </a:lnTo>
                      <a:lnTo>
                        <a:pt x="665" y="32"/>
                      </a:lnTo>
                      <a:lnTo>
                        <a:pt x="679" y="47"/>
                      </a:lnTo>
                      <a:lnTo>
                        <a:pt x="693" y="47"/>
                      </a:lnTo>
                      <a:lnTo>
                        <a:pt x="707" y="47"/>
                      </a:lnTo>
                      <a:lnTo>
                        <a:pt x="721" y="32"/>
                      </a:lnTo>
                      <a:lnTo>
                        <a:pt x="735" y="32"/>
                      </a:lnTo>
                      <a:lnTo>
                        <a:pt x="748" y="32"/>
                      </a:lnTo>
                      <a:lnTo>
                        <a:pt x="762" y="32"/>
                      </a:lnTo>
                      <a:lnTo>
                        <a:pt x="776" y="32"/>
                      </a:lnTo>
                      <a:lnTo>
                        <a:pt x="790" y="15"/>
                      </a:lnTo>
                      <a:lnTo>
                        <a:pt x="804" y="32"/>
                      </a:lnTo>
                      <a:lnTo>
                        <a:pt x="804" y="47"/>
                      </a:lnTo>
                      <a:lnTo>
                        <a:pt x="776" y="47"/>
                      </a:lnTo>
                      <a:lnTo>
                        <a:pt x="762" y="47"/>
                      </a:lnTo>
                      <a:lnTo>
                        <a:pt x="735" y="64"/>
                      </a:lnTo>
                      <a:lnTo>
                        <a:pt x="707" y="79"/>
                      </a:lnTo>
                      <a:lnTo>
                        <a:pt x="693" y="111"/>
                      </a:lnTo>
                      <a:lnTo>
                        <a:pt x="707" y="111"/>
                      </a:lnTo>
                      <a:lnTo>
                        <a:pt x="721" y="111"/>
                      </a:lnTo>
                      <a:lnTo>
                        <a:pt x="748" y="126"/>
                      </a:lnTo>
                      <a:lnTo>
                        <a:pt x="748" y="143"/>
                      </a:lnTo>
                      <a:lnTo>
                        <a:pt x="735" y="143"/>
                      </a:lnTo>
                      <a:lnTo>
                        <a:pt x="721" y="158"/>
                      </a:lnTo>
                      <a:lnTo>
                        <a:pt x="707" y="158"/>
                      </a:lnTo>
                      <a:lnTo>
                        <a:pt x="679" y="158"/>
                      </a:lnTo>
                      <a:lnTo>
                        <a:pt x="693" y="173"/>
                      </a:lnTo>
                      <a:lnTo>
                        <a:pt x="707" y="173"/>
                      </a:lnTo>
                      <a:lnTo>
                        <a:pt x="721" y="173"/>
                      </a:lnTo>
                      <a:lnTo>
                        <a:pt x="707" y="173"/>
                      </a:lnTo>
                      <a:lnTo>
                        <a:pt x="693" y="173"/>
                      </a:lnTo>
                      <a:lnTo>
                        <a:pt x="679" y="173"/>
                      </a:lnTo>
                      <a:lnTo>
                        <a:pt x="693" y="190"/>
                      </a:lnTo>
                      <a:lnTo>
                        <a:pt x="665" y="205"/>
                      </a:lnTo>
                      <a:lnTo>
                        <a:pt x="624" y="190"/>
                      </a:lnTo>
                      <a:lnTo>
                        <a:pt x="595" y="190"/>
                      </a:lnTo>
                      <a:lnTo>
                        <a:pt x="581" y="221"/>
                      </a:lnTo>
                      <a:lnTo>
                        <a:pt x="610" y="221"/>
                      </a:lnTo>
                      <a:lnTo>
                        <a:pt x="638" y="221"/>
                      </a:lnTo>
                      <a:lnTo>
                        <a:pt x="652" y="237"/>
                      </a:lnTo>
                      <a:lnTo>
                        <a:pt x="652" y="252"/>
                      </a:lnTo>
                      <a:lnTo>
                        <a:pt x="665" y="268"/>
                      </a:lnTo>
                      <a:lnTo>
                        <a:pt x="652" y="268"/>
                      </a:lnTo>
                      <a:lnTo>
                        <a:pt x="652" y="252"/>
                      </a:lnTo>
                      <a:lnTo>
                        <a:pt x="638" y="252"/>
                      </a:lnTo>
                      <a:lnTo>
                        <a:pt x="624" y="237"/>
                      </a:lnTo>
                      <a:lnTo>
                        <a:pt x="595" y="237"/>
                      </a:lnTo>
                      <a:lnTo>
                        <a:pt x="567" y="237"/>
                      </a:lnTo>
                      <a:lnTo>
                        <a:pt x="553" y="268"/>
                      </a:lnTo>
                      <a:lnTo>
                        <a:pt x="581" y="252"/>
                      </a:lnTo>
                      <a:lnTo>
                        <a:pt x="595" y="268"/>
                      </a:lnTo>
                      <a:lnTo>
                        <a:pt x="595" y="284"/>
                      </a:lnTo>
                      <a:lnTo>
                        <a:pt x="581" y="300"/>
                      </a:lnTo>
                      <a:lnTo>
                        <a:pt x="567" y="300"/>
                      </a:lnTo>
                      <a:lnTo>
                        <a:pt x="539" y="316"/>
                      </a:lnTo>
                      <a:lnTo>
                        <a:pt x="498" y="316"/>
                      </a:lnTo>
                      <a:lnTo>
                        <a:pt x="470" y="331"/>
                      </a:lnTo>
                      <a:lnTo>
                        <a:pt x="457" y="347"/>
                      </a:lnTo>
                      <a:lnTo>
                        <a:pt x="443" y="363"/>
                      </a:lnTo>
                      <a:lnTo>
                        <a:pt x="429" y="3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580000" y="1943280"/>
                  <a:ext cx="7920" cy="7920"/>
                </a:xfrm>
                <a:custGeom>
                  <a:avLst/>
                  <a:gdLst/>
                  <a:ahLst/>
                  <a:rect l="l" t="t" r="r" b="b"/>
                  <a:pathLst>
                    <a:path w="14" h="15">
                      <a:moveTo>
                        <a:pt x="14" y="0"/>
                      </a:moveTo>
                      <a:lnTo>
                        <a:pt x="14" y="15"/>
                      </a:lnTo>
                      <a:lnTo>
                        <a:pt x="0" y="15"/>
                      </a:lnTo>
                      <a:lnTo>
                        <a:pt x="14"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4" name=""/>
                <p:cNvSpPr/>
                <p:nvPr/>
              </p:nvSpPr>
              <p:spPr>
                <a:xfrm>
                  <a:off x="5580000" y="1943280"/>
                  <a:ext cx="7920" cy="7920"/>
                </a:xfrm>
                <a:custGeom>
                  <a:avLst/>
                  <a:gdLst/>
                  <a:ahLst/>
                  <a:rect l="l" t="t" r="r" b="b"/>
                  <a:pathLst>
                    <a:path w="14" h="15">
                      <a:moveTo>
                        <a:pt x="14" y="0"/>
                      </a:moveTo>
                      <a:lnTo>
                        <a:pt x="14" y="15"/>
                      </a:lnTo>
                      <a:lnTo>
                        <a:pt x="0"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5" name=""/>
                <p:cNvSpPr/>
                <p:nvPr/>
              </p:nvSpPr>
              <p:spPr>
                <a:xfrm>
                  <a:off x="6078600" y="1925640"/>
                  <a:ext cx="131760" cy="50760"/>
                </a:xfrm>
                <a:custGeom>
                  <a:avLst/>
                  <a:gdLst/>
                  <a:ahLst/>
                  <a:rect l="l" t="t" r="r" b="b"/>
                  <a:pathLst>
                    <a:path w="249" h="95">
                      <a:moveTo>
                        <a:pt x="97" y="16"/>
                      </a:moveTo>
                      <a:lnTo>
                        <a:pt x="125" y="16"/>
                      </a:lnTo>
                      <a:lnTo>
                        <a:pt x="152" y="32"/>
                      </a:lnTo>
                      <a:lnTo>
                        <a:pt x="166" y="32"/>
                      </a:lnTo>
                      <a:lnTo>
                        <a:pt x="180" y="16"/>
                      </a:lnTo>
                      <a:lnTo>
                        <a:pt x="194" y="0"/>
                      </a:lnTo>
                      <a:lnTo>
                        <a:pt x="208" y="0"/>
                      </a:lnTo>
                      <a:lnTo>
                        <a:pt x="222" y="0"/>
                      </a:lnTo>
                      <a:lnTo>
                        <a:pt x="235" y="32"/>
                      </a:lnTo>
                      <a:lnTo>
                        <a:pt x="249" y="63"/>
                      </a:lnTo>
                      <a:lnTo>
                        <a:pt x="235" y="79"/>
                      </a:lnTo>
                      <a:lnTo>
                        <a:pt x="208" y="95"/>
                      </a:lnTo>
                      <a:lnTo>
                        <a:pt x="194" y="95"/>
                      </a:lnTo>
                      <a:lnTo>
                        <a:pt x="180" y="95"/>
                      </a:lnTo>
                      <a:lnTo>
                        <a:pt x="166" y="79"/>
                      </a:lnTo>
                      <a:lnTo>
                        <a:pt x="152" y="79"/>
                      </a:lnTo>
                      <a:lnTo>
                        <a:pt x="139" y="79"/>
                      </a:lnTo>
                      <a:lnTo>
                        <a:pt x="125" y="95"/>
                      </a:lnTo>
                      <a:lnTo>
                        <a:pt x="83" y="95"/>
                      </a:lnTo>
                      <a:lnTo>
                        <a:pt x="42" y="95"/>
                      </a:lnTo>
                      <a:lnTo>
                        <a:pt x="0" y="63"/>
                      </a:lnTo>
                      <a:lnTo>
                        <a:pt x="14" y="63"/>
                      </a:lnTo>
                      <a:lnTo>
                        <a:pt x="28" y="63"/>
                      </a:lnTo>
                      <a:lnTo>
                        <a:pt x="28" y="47"/>
                      </a:lnTo>
                      <a:lnTo>
                        <a:pt x="14" y="47"/>
                      </a:lnTo>
                      <a:lnTo>
                        <a:pt x="0" y="47"/>
                      </a:lnTo>
                      <a:lnTo>
                        <a:pt x="14" y="32"/>
                      </a:lnTo>
                      <a:lnTo>
                        <a:pt x="28" y="47"/>
                      </a:lnTo>
                      <a:lnTo>
                        <a:pt x="56" y="32"/>
                      </a:lnTo>
                      <a:lnTo>
                        <a:pt x="42" y="32"/>
                      </a:lnTo>
                      <a:lnTo>
                        <a:pt x="28" y="16"/>
                      </a:lnTo>
                      <a:lnTo>
                        <a:pt x="56" y="0"/>
                      </a:lnTo>
                      <a:lnTo>
                        <a:pt x="69" y="0"/>
                      </a:lnTo>
                      <a:lnTo>
                        <a:pt x="97" y="16"/>
                      </a:lnTo>
                      <a:close/>
                    </a:path>
                  </a:pathLst>
                </a:custGeom>
                <a:solidFill>
                  <a:srgbClr val="00937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6" name=""/>
                <p:cNvSpPr/>
                <p:nvPr/>
              </p:nvSpPr>
              <p:spPr>
                <a:xfrm>
                  <a:off x="6078600" y="1925640"/>
                  <a:ext cx="131760" cy="50760"/>
                </a:xfrm>
                <a:custGeom>
                  <a:avLst/>
                  <a:gdLst/>
                  <a:ahLst/>
                  <a:rect l="l" t="t" r="r" b="b"/>
                  <a:pathLst>
                    <a:path w="249" h="95">
                      <a:moveTo>
                        <a:pt x="97" y="16"/>
                      </a:moveTo>
                      <a:lnTo>
                        <a:pt x="125" y="16"/>
                      </a:lnTo>
                      <a:lnTo>
                        <a:pt x="152" y="32"/>
                      </a:lnTo>
                      <a:lnTo>
                        <a:pt x="166" y="32"/>
                      </a:lnTo>
                      <a:lnTo>
                        <a:pt x="180" y="16"/>
                      </a:lnTo>
                      <a:lnTo>
                        <a:pt x="194" y="0"/>
                      </a:lnTo>
                      <a:lnTo>
                        <a:pt x="208" y="0"/>
                      </a:lnTo>
                      <a:lnTo>
                        <a:pt x="222" y="0"/>
                      </a:lnTo>
                      <a:lnTo>
                        <a:pt x="235" y="32"/>
                      </a:lnTo>
                      <a:lnTo>
                        <a:pt x="249" y="63"/>
                      </a:lnTo>
                      <a:lnTo>
                        <a:pt x="235" y="79"/>
                      </a:lnTo>
                      <a:lnTo>
                        <a:pt x="208" y="95"/>
                      </a:lnTo>
                      <a:lnTo>
                        <a:pt x="194" y="95"/>
                      </a:lnTo>
                      <a:lnTo>
                        <a:pt x="180" y="95"/>
                      </a:lnTo>
                      <a:lnTo>
                        <a:pt x="166" y="79"/>
                      </a:lnTo>
                      <a:lnTo>
                        <a:pt x="152" y="79"/>
                      </a:lnTo>
                      <a:lnTo>
                        <a:pt x="139" y="79"/>
                      </a:lnTo>
                      <a:lnTo>
                        <a:pt x="125" y="95"/>
                      </a:lnTo>
                      <a:lnTo>
                        <a:pt x="83" y="95"/>
                      </a:lnTo>
                      <a:lnTo>
                        <a:pt x="42" y="95"/>
                      </a:lnTo>
                      <a:lnTo>
                        <a:pt x="0" y="63"/>
                      </a:lnTo>
                      <a:lnTo>
                        <a:pt x="14" y="63"/>
                      </a:lnTo>
                      <a:lnTo>
                        <a:pt x="28" y="63"/>
                      </a:lnTo>
                      <a:lnTo>
                        <a:pt x="28" y="47"/>
                      </a:lnTo>
                      <a:lnTo>
                        <a:pt x="14" y="47"/>
                      </a:lnTo>
                      <a:lnTo>
                        <a:pt x="0" y="47"/>
                      </a:lnTo>
                      <a:lnTo>
                        <a:pt x="14" y="32"/>
                      </a:lnTo>
                      <a:lnTo>
                        <a:pt x="28" y="47"/>
                      </a:lnTo>
                      <a:lnTo>
                        <a:pt x="56" y="32"/>
                      </a:lnTo>
                      <a:lnTo>
                        <a:pt x="42" y="32"/>
                      </a:lnTo>
                      <a:lnTo>
                        <a:pt x="28" y="16"/>
                      </a:lnTo>
                      <a:lnTo>
                        <a:pt x="56" y="0"/>
                      </a:lnTo>
                      <a:lnTo>
                        <a:pt x="69" y="0"/>
                      </a:lnTo>
                      <a:lnTo>
                        <a:pt x="97" y="1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7" name=""/>
                <p:cNvSpPr/>
                <p:nvPr/>
              </p:nvSpPr>
              <p:spPr>
                <a:xfrm>
                  <a:off x="6585120" y="1959120"/>
                  <a:ext cx="1440" cy="7920"/>
                </a:xfrm>
                <a:custGeom>
                  <a:avLst/>
                  <a:gdLst/>
                  <a:ahLst/>
                  <a:rect l="l" t="t" r="r" b="b"/>
                  <a:pathLst>
                    <a:path w="0" h="16">
                      <a:moveTo>
                        <a:pt x="0" y="0"/>
                      </a:moveTo>
                      <a:lnTo>
                        <a:pt x="0" y="16"/>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6585120" y="1959120"/>
                  <a:ext cx="1440" cy="7920"/>
                </a:xfrm>
                <a:custGeom>
                  <a:avLst/>
                  <a:gdLst/>
                  <a:ahLst/>
                  <a:rect l="l" t="t" r="r" b="b"/>
                  <a:pathLst>
                    <a:path w="0" h="16">
                      <a:moveTo>
                        <a:pt x="0" y="0"/>
                      </a:moveTo>
                      <a:lnTo>
                        <a:pt x="0" y="16"/>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9" name=""/>
                <p:cNvSpPr/>
                <p:nvPr/>
              </p:nvSpPr>
              <p:spPr>
                <a:xfrm>
                  <a:off x="6392880" y="1967040"/>
                  <a:ext cx="1440" cy="9360"/>
                </a:xfrm>
                <a:custGeom>
                  <a:avLst/>
                  <a:gdLst/>
                  <a:ahLst/>
                  <a:rect l="l" t="t" r="r" b="b"/>
                  <a:pathLst>
                    <a:path w="0" h="16">
                      <a:moveTo>
                        <a:pt x="0" y="0"/>
                      </a:moveTo>
                      <a:lnTo>
                        <a:pt x="0" y="16"/>
                      </a:lnTo>
                      <a:lnTo>
                        <a:pt x="0" y="0"/>
                      </a:lnTo>
                      <a:close/>
                    </a:path>
                  </a:pathLst>
                </a:custGeom>
                <a:solidFill>
                  <a:srgbClr val="00937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0" name=""/>
                <p:cNvSpPr/>
                <p:nvPr/>
              </p:nvSpPr>
              <p:spPr>
                <a:xfrm>
                  <a:off x="6392880" y="1967040"/>
                  <a:ext cx="1440" cy="9360"/>
                </a:xfrm>
                <a:custGeom>
                  <a:avLst/>
                  <a:gdLst/>
                  <a:ahLst/>
                  <a:rect l="l" t="t" r="r" b="b"/>
                  <a:pathLst>
                    <a:path w="0" h="16">
                      <a:moveTo>
                        <a:pt x="0" y="0"/>
                      </a:moveTo>
                      <a:lnTo>
                        <a:pt x="0" y="16"/>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1" name=""/>
                <p:cNvSpPr/>
                <p:nvPr/>
              </p:nvSpPr>
              <p:spPr>
                <a:xfrm>
                  <a:off x="6232680" y="1959120"/>
                  <a:ext cx="1440" cy="25200"/>
                </a:xfrm>
                <a:custGeom>
                  <a:avLst/>
                  <a:gdLst/>
                  <a:ahLst/>
                  <a:rect l="l" t="t" r="r" b="b"/>
                  <a:pathLst>
                    <a:path w="0" h="48">
                      <a:moveTo>
                        <a:pt x="0" y="0"/>
                      </a:moveTo>
                      <a:lnTo>
                        <a:pt x="0" y="16"/>
                      </a:lnTo>
                      <a:lnTo>
                        <a:pt x="0" y="32"/>
                      </a:lnTo>
                      <a:lnTo>
                        <a:pt x="0" y="48"/>
                      </a:lnTo>
                      <a:lnTo>
                        <a:pt x="0" y="32"/>
                      </a:lnTo>
                      <a:lnTo>
                        <a:pt x="0" y="16"/>
                      </a:lnTo>
                      <a:lnTo>
                        <a:pt x="0" y="0"/>
                      </a:lnTo>
                      <a:close/>
                    </a:path>
                  </a:pathLst>
                </a:custGeom>
                <a:solidFill>
                  <a:srgbClr val="00937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2" name=""/>
                <p:cNvSpPr/>
                <p:nvPr/>
              </p:nvSpPr>
              <p:spPr>
                <a:xfrm>
                  <a:off x="6232680" y="1959120"/>
                  <a:ext cx="1440" cy="25200"/>
                </a:xfrm>
                <a:custGeom>
                  <a:avLst/>
                  <a:gdLst/>
                  <a:ahLst/>
                  <a:rect l="l" t="t" r="r" b="b"/>
                  <a:pathLst>
                    <a:path w="0" h="48">
                      <a:moveTo>
                        <a:pt x="0" y="0"/>
                      </a:moveTo>
                      <a:lnTo>
                        <a:pt x="0" y="16"/>
                      </a:lnTo>
                      <a:lnTo>
                        <a:pt x="0" y="32"/>
                      </a:lnTo>
                      <a:lnTo>
                        <a:pt x="0" y="48"/>
                      </a:lnTo>
                      <a:lnTo>
                        <a:pt x="0" y="32"/>
                      </a:lnTo>
                      <a:lnTo>
                        <a:pt x="0" y="16"/>
                      </a:lnTo>
                      <a:lnTo>
                        <a:pt x="0"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3" name=""/>
                <p:cNvSpPr/>
                <p:nvPr/>
              </p:nvSpPr>
              <p:spPr>
                <a:xfrm>
                  <a:off x="6305400" y="1917720"/>
                  <a:ext cx="206640" cy="149040"/>
                </a:xfrm>
                <a:custGeom>
                  <a:avLst/>
                  <a:gdLst/>
                  <a:ahLst/>
                  <a:rect l="l" t="t" r="r" b="b"/>
                  <a:pathLst>
                    <a:path w="389" h="283">
                      <a:moveTo>
                        <a:pt x="306" y="126"/>
                      </a:moveTo>
                      <a:lnTo>
                        <a:pt x="320" y="126"/>
                      </a:lnTo>
                      <a:lnTo>
                        <a:pt x="320" y="141"/>
                      </a:lnTo>
                      <a:lnTo>
                        <a:pt x="333" y="126"/>
                      </a:lnTo>
                      <a:lnTo>
                        <a:pt x="347" y="126"/>
                      </a:lnTo>
                      <a:lnTo>
                        <a:pt x="361" y="126"/>
                      </a:lnTo>
                      <a:lnTo>
                        <a:pt x="389" y="157"/>
                      </a:lnTo>
                      <a:lnTo>
                        <a:pt x="375" y="157"/>
                      </a:lnTo>
                      <a:lnTo>
                        <a:pt x="361" y="173"/>
                      </a:lnTo>
                      <a:lnTo>
                        <a:pt x="347" y="189"/>
                      </a:lnTo>
                      <a:lnTo>
                        <a:pt x="333" y="204"/>
                      </a:lnTo>
                      <a:lnTo>
                        <a:pt x="333" y="189"/>
                      </a:lnTo>
                      <a:lnTo>
                        <a:pt x="333" y="173"/>
                      </a:lnTo>
                      <a:lnTo>
                        <a:pt x="320" y="173"/>
                      </a:lnTo>
                      <a:lnTo>
                        <a:pt x="292" y="189"/>
                      </a:lnTo>
                      <a:lnTo>
                        <a:pt x="278" y="204"/>
                      </a:lnTo>
                      <a:lnTo>
                        <a:pt x="278" y="220"/>
                      </a:lnTo>
                      <a:lnTo>
                        <a:pt x="292" y="236"/>
                      </a:lnTo>
                      <a:lnTo>
                        <a:pt x="292" y="251"/>
                      </a:lnTo>
                      <a:lnTo>
                        <a:pt x="278" y="268"/>
                      </a:lnTo>
                      <a:lnTo>
                        <a:pt x="250" y="283"/>
                      </a:lnTo>
                      <a:lnTo>
                        <a:pt x="223" y="268"/>
                      </a:lnTo>
                      <a:lnTo>
                        <a:pt x="195" y="251"/>
                      </a:lnTo>
                      <a:lnTo>
                        <a:pt x="166" y="236"/>
                      </a:lnTo>
                      <a:lnTo>
                        <a:pt x="152" y="220"/>
                      </a:lnTo>
                      <a:lnTo>
                        <a:pt x="138" y="220"/>
                      </a:lnTo>
                      <a:lnTo>
                        <a:pt x="125" y="220"/>
                      </a:lnTo>
                      <a:lnTo>
                        <a:pt x="97" y="220"/>
                      </a:lnTo>
                      <a:lnTo>
                        <a:pt x="97" y="204"/>
                      </a:lnTo>
                      <a:lnTo>
                        <a:pt x="97" y="189"/>
                      </a:lnTo>
                      <a:lnTo>
                        <a:pt x="111" y="189"/>
                      </a:lnTo>
                      <a:lnTo>
                        <a:pt x="125" y="189"/>
                      </a:lnTo>
                      <a:lnTo>
                        <a:pt x="125" y="204"/>
                      </a:lnTo>
                      <a:lnTo>
                        <a:pt x="138" y="204"/>
                      </a:lnTo>
                      <a:lnTo>
                        <a:pt x="152" y="204"/>
                      </a:lnTo>
                      <a:lnTo>
                        <a:pt x="166" y="189"/>
                      </a:lnTo>
                      <a:lnTo>
                        <a:pt x="181" y="189"/>
                      </a:lnTo>
                      <a:lnTo>
                        <a:pt x="195" y="189"/>
                      </a:lnTo>
                      <a:lnTo>
                        <a:pt x="209" y="189"/>
                      </a:lnTo>
                      <a:lnTo>
                        <a:pt x="223" y="173"/>
                      </a:lnTo>
                      <a:lnTo>
                        <a:pt x="237" y="157"/>
                      </a:lnTo>
                      <a:lnTo>
                        <a:pt x="223" y="157"/>
                      </a:lnTo>
                      <a:lnTo>
                        <a:pt x="209" y="157"/>
                      </a:lnTo>
                      <a:lnTo>
                        <a:pt x="195" y="157"/>
                      </a:lnTo>
                      <a:lnTo>
                        <a:pt x="195" y="141"/>
                      </a:lnTo>
                      <a:lnTo>
                        <a:pt x="181" y="126"/>
                      </a:lnTo>
                      <a:lnTo>
                        <a:pt x="166" y="110"/>
                      </a:lnTo>
                      <a:lnTo>
                        <a:pt x="166" y="94"/>
                      </a:lnTo>
                      <a:lnTo>
                        <a:pt x="166" y="78"/>
                      </a:lnTo>
                      <a:lnTo>
                        <a:pt x="166" y="62"/>
                      </a:lnTo>
                      <a:lnTo>
                        <a:pt x="152" y="78"/>
                      </a:lnTo>
                      <a:lnTo>
                        <a:pt x="138" y="78"/>
                      </a:lnTo>
                      <a:lnTo>
                        <a:pt x="111" y="94"/>
                      </a:lnTo>
                      <a:lnTo>
                        <a:pt x="83" y="78"/>
                      </a:lnTo>
                      <a:lnTo>
                        <a:pt x="42" y="78"/>
                      </a:lnTo>
                      <a:lnTo>
                        <a:pt x="14" y="62"/>
                      </a:lnTo>
                      <a:lnTo>
                        <a:pt x="0" y="47"/>
                      </a:lnTo>
                      <a:lnTo>
                        <a:pt x="14" y="47"/>
                      </a:lnTo>
                      <a:lnTo>
                        <a:pt x="42" y="15"/>
                      </a:lnTo>
                      <a:lnTo>
                        <a:pt x="69" y="0"/>
                      </a:lnTo>
                      <a:lnTo>
                        <a:pt x="111" y="0"/>
                      </a:lnTo>
                      <a:lnTo>
                        <a:pt x="125" y="0"/>
                      </a:lnTo>
                      <a:lnTo>
                        <a:pt x="97" y="15"/>
                      </a:lnTo>
                      <a:lnTo>
                        <a:pt x="69" y="31"/>
                      </a:lnTo>
                      <a:lnTo>
                        <a:pt x="42" y="62"/>
                      </a:lnTo>
                      <a:lnTo>
                        <a:pt x="55" y="62"/>
                      </a:lnTo>
                      <a:lnTo>
                        <a:pt x="69" y="62"/>
                      </a:lnTo>
                      <a:lnTo>
                        <a:pt x="83" y="62"/>
                      </a:lnTo>
                      <a:lnTo>
                        <a:pt x="83" y="47"/>
                      </a:lnTo>
                      <a:lnTo>
                        <a:pt x="83" y="31"/>
                      </a:lnTo>
                      <a:lnTo>
                        <a:pt x="97" y="15"/>
                      </a:lnTo>
                      <a:lnTo>
                        <a:pt x="111" y="15"/>
                      </a:lnTo>
                      <a:lnTo>
                        <a:pt x="125" y="15"/>
                      </a:lnTo>
                      <a:lnTo>
                        <a:pt x="138" y="15"/>
                      </a:lnTo>
                      <a:lnTo>
                        <a:pt x="152" y="0"/>
                      </a:lnTo>
                      <a:lnTo>
                        <a:pt x="166" y="0"/>
                      </a:lnTo>
                      <a:lnTo>
                        <a:pt x="166" y="15"/>
                      </a:lnTo>
                      <a:lnTo>
                        <a:pt x="152" y="31"/>
                      </a:lnTo>
                      <a:lnTo>
                        <a:pt x="152" y="47"/>
                      </a:lnTo>
                      <a:lnTo>
                        <a:pt x="152" y="31"/>
                      </a:lnTo>
                      <a:lnTo>
                        <a:pt x="166" y="31"/>
                      </a:lnTo>
                      <a:lnTo>
                        <a:pt x="181" y="31"/>
                      </a:lnTo>
                      <a:lnTo>
                        <a:pt x="209" y="15"/>
                      </a:lnTo>
                      <a:lnTo>
                        <a:pt x="223" y="15"/>
                      </a:lnTo>
                      <a:lnTo>
                        <a:pt x="223" y="31"/>
                      </a:lnTo>
                      <a:lnTo>
                        <a:pt x="223" y="47"/>
                      </a:lnTo>
                      <a:lnTo>
                        <a:pt x="223" y="62"/>
                      </a:lnTo>
                      <a:lnTo>
                        <a:pt x="237" y="62"/>
                      </a:lnTo>
                      <a:lnTo>
                        <a:pt x="250" y="62"/>
                      </a:lnTo>
                      <a:lnTo>
                        <a:pt x="264" y="78"/>
                      </a:lnTo>
                      <a:lnTo>
                        <a:pt x="278" y="78"/>
                      </a:lnTo>
                      <a:lnTo>
                        <a:pt x="292" y="62"/>
                      </a:lnTo>
                      <a:lnTo>
                        <a:pt x="306" y="62"/>
                      </a:lnTo>
                      <a:lnTo>
                        <a:pt x="306" y="78"/>
                      </a:lnTo>
                      <a:lnTo>
                        <a:pt x="292" y="94"/>
                      </a:lnTo>
                      <a:lnTo>
                        <a:pt x="278" y="94"/>
                      </a:lnTo>
                      <a:lnTo>
                        <a:pt x="306" y="94"/>
                      </a:lnTo>
                      <a:lnTo>
                        <a:pt x="320" y="94"/>
                      </a:lnTo>
                      <a:lnTo>
                        <a:pt x="333" y="94"/>
                      </a:lnTo>
                      <a:lnTo>
                        <a:pt x="320" y="110"/>
                      </a:lnTo>
                      <a:lnTo>
                        <a:pt x="306" y="110"/>
                      </a:lnTo>
                      <a:lnTo>
                        <a:pt x="278" y="110"/>
                      </a:lnTo>
                      <a:lnTo>
                        <a:pt x="292" y="110"/>
                      </a:lnTo>
                      <a:lnTo>
                        <a:pt x="292" y="126"/>
                      </a:lnTo>
                      <a:lnTo>
                        <a:pt x="306" y="126"/>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305400" y="1917720"/>
                  <a:ext cx="206640" cy="149040"/>
                </a:xfrm>
                <a:custGeom>
                  <a:avLst/>
                  <a:gdLst/>
                  <a:ahLst/>
                  <a:rect l="l" t="t" r="r" b="b"/>
                  <a:pathLst>
                    <a:path w="389" h="283">
                      <a:moveTo>
                        <a:pt x="306" y="126"/>
                      </a:moveTo>
                      <a:lnTo>
                        <a:pt x="320" y="126"/>
                      </a:lnTo>
                      <a:lnTo>
                        <a:pt x="320" y="141"/>
                      </a:lnTo>
                      <a:lnTo>
                        <a:pt x="333" y="126"/>
                      </a:lnTo>
                      <a:lnTo>
                        <a:pt x="347" y="126"/>
                      </a:lnTo>
                      <a:lnTo>
                        <a:pt x="361" y="126"/>
                      </a:lnTo>
                      <a:lnTo>
                        <a:pt x="389" y="157"/>
                      </a:lnTo>
                      <a:lnTo>
                        <a:pt x="375" y="157"/>
                      </a:lnTo>
                      <a:lnTo>
                        <a:pt x="361" y="173"/>
                      </a:lnTo>
                      <a:lnTo>
                        <a:pt x="347" y="189"/>
                      </a:lnTo>
                      <a:lnTo>
                        <a:pt x="333" y="204"/>
                      </a:lnTo>
                      <a:lnTo>
                        <a:pt x="333" y="189"/>
                      </a:lnTo>
                      <a:lnTo>
                        <a:pt x="333" y="173"/>
                      </a:lnTo>
                      <a:lnTo>
                        <a:pt x="320" y="173"/>
                      </a:lnTo>
                      <a:lnTo>
                        <a:pt x="292" y="189"/>
                      </a:lnTo>
                      <a:lnTo>
                        <a:pt x="278" y="204"/>
                      </a:lnTo>
                      <a:lnTo>
                        <a:pt x="278" y="220"/>
                      </a:lnTo>
                      <a:lnTo>
                        <a:pt x="292" y="236"/>
                      </a:lnTo>
                      <a:lnTo>
                        <a:pt x="292" y="251"/>
                      </a:lnTo>
                      <a:lnTo>
                        <a:pt x="278" y="268"/>
                      </a:lnTo>
                      <a:lnTo>
                        <a:pt x="250" y="283"/>
                      </a:lnTo>
                      <a:lnTo>
                        <a:pt x="223" y="268"/>
                      </a:lnTo>
                      <a:lnTo>
                        <a:pt x="195" y="251"/>
                      </a:lnTo>
                      <a:lnTo>
                        <a:pt x="166" y="236"/>
                      </a:lnTo>
                      <a:lnTo>
                        <a:pt x="152" y="220"/>
                      </a:lnTo>
                      <a:lnTo>
                        <a:pt x="138" y="220"/>
                      </a:lnTo>
                      <a:lnTo>
                        <a:pt x="125" y="220"/>
                      </a:lnTo>
                      <a:lnTo>
                        <a:pt x="97" y="220"/>
                      </a:lnTo>
                      <a:lnTo>
                        <a:pt x="97" y="204"/>
                      </a:lnTo>
                      <a:lnTo>
                        <a:pt x="97" y="189"/>
                      </a:lnTo>
                      <a:lnTo>
                        <a:pt x="111" y="189"/>
                      </a:lnTo>
                      <a:lnTo>
                        <a:pt x="125" y="189"/>
                      </a:lnTo>
                      <a:lnTo>
                        <a:pt x="125" y="204"/>
                      </a:lnTo>
                      <a:lnTo>
                        <a:pt x="138" y="204"/>
                      </a:lnTo>
                      <a:lnTo>
                        <a:pt x="152" y="204"/>
                      </a:lnTo>
                      <a:lnTo>
                        <a:pt x="166" y="189"/>
                      </a:lnTo>
                      <a:lnTo>
                        <a:pt x="181" y="189"/>
                      </a:lnTo>
                      <a:lnTo>
                        <a:pt x="195" y="189"/>
                      </a:lnTo>
                      <a:lnTo>
                        <a:pt x="209" y="189"/>
                      </a:lnTo>
                      <a:lnTo>
                        <a:pt x="223" y="173"/>
                      </a:lnTo>
                      <a:lnTo>
                        <a:pt x="237" y="157"/>
                      </a:lnTo>
                      <a:lnTo>
                        <a:pt x="223" y="157"/>
                      </a:lnTo>
                      <a:lnTo>
                        <a:pt x="209" y="157"/>
                      </a:lnTo>
                      <a:lnTo>
                        <a:pt x="195" y="157"/>
                      </a:lnTo>
                      <a:lnTo>
                        <a:pt x="195" y="141"/>
                      </a:lnTo>
                      <a:lnTo>
                        <a:pt x="181" y="126"/>
                      </a:lnTo>
                      <a:lnTo>
                        <a:pt x="166" y="110"/>
                      </a:lnTo>
                      <a:lnTo>
                        <a:pt x="166" y="94"/>
                      </a:lnTo>
                      <a:lnTo>
                        <a:pt x="166" y="78"/>
                      </a:lnTo>
                      <a:lnTo>
                        <a:pt x="166" y="62"/>
                      </a:lnTo>
                      <a:lnTo>
                        <a:pt x="152" y="78"/>
                      </a:lnTo>
                      <a:lnTo>
                        <a:pt x="138" y="78"/>
                      </a:lnTo>
                      <a:lnTo>
                        <a:pt x="111" y="94"/>
                      </a:lnTo>
                      <a:lnTo>
                        <a:pt x="83" y="78"/>
                      </a:lnTo>
                      <a:lnTo>
                        <a:pt x="42" y="78"/>
                      </a:lnTo>
                      <a:lnTo>
                        <a:pt x="14" y="62"/>
                      </a:lnTo>
                      <a:lnTo>
                        <a:pt x="0" y="47"/>
                      </a:lnTo>
                      <a:lnTo>
                        <a:pt x="14" y="47"/>
                      </a:lnTo>
                      <a:lnTo>
                        <a:pt x="42" y="15"/>
                      </a:lnTo>
                      <a:lnTo>
                        <a:pt x="69" y="0"/>
                      </a:lnTo>
                      <a:lnTo>
                        <a:pt x="111" y="0"/>
                      </a:lnTo>
                      <a:lnTo>
                        <a:pt x="125" y="0"/>
                      </a:lnTo>
                      <a:lnTo>
                        <a:pt x="97" y="15"/>
                      </a:lnTo>
                      <a:lnTo>
                        <a:pt x="69" y="31"/>
                      </a:lnTo>
                      <a:lnTo>
                        <a:pt x="42" y="62"/>
                      </a:lnTo>
                      <a:lnTo>
                        <a:pt x="55" y="62"/>
                      </a:lnTo>
                      <a:lnTo>
                        <a:pt x="69" y="62"/>
                      </a:lnTo>
                      <a:lnTo>
                        <a:pt x="83" y="62"/>
                      </a:lnTo>
                      <a:lnTo>
                        <a:pt x="83" y="47"/>
                      </a:lnTo>
                      <a:lnTo>
                        <a:pt x="83" y="31"/>
                      </a:lnTo>
                      <a:lnTo>
                        <a:pt x="97" y="15"/>
                      </a:lnTo>
                      <a:lnTo>
                        <a:pt x="111" y="15"/>
                      </a:lnTo>
                      <a:lnTo>
                        <a:pt x="125" y="15"/>
                      </a:lnTo>
                      <a:lnTo>
                        <a:pt x="138" y="15"/>
                      </a:lnTo>
                      <a:lnTo>
                        <a:pt x="152" y="0"/>
                      </a:lnTo>
                      <a:lnTo>
                        <a:pt x="166" y="0"/>
                      </a:lnTo>
                      <a:lnTo>
                        <a:pt x="166" y="15"/>
                      </a:lnTo>
                      <a:lnTo>
                        <a:pt x="152" y="31"/>
                      </a:lnTo>
                      <a:lnTo>
                        <a:pt x="152" y="47"/>
                      </a:lnTo>
                      <a:lnTo>
                        <a:pt x="152" y="31"/>
                      </a:lnTo>
                      <a:lnTo>
                        <a:pt x="166" y="31"/>
                      </a:lnTo>
                      <a:lnTo>
                        <a:pt x="181" y="31"/>
                      </a:lnTo>
                      <a:lnTo>
                        <a:pt x="209" y="15"/>
                      </a:lnTo>
                      <a:lnTo>
                        <a:pt x="223" y="15"/>
                      </a:lnTo>
                      <a:lnTo>
                        <a:pt x="223" y="31"/>
                      </a:lnTo>
                      <a:lnTo>
                        <a:pt x="223" y="47"/>
                      </a:lnTo>
                      <a:lnTo>
                        <a:pt x="223" y="62"/>
                      </a:lnTo>
                      <a:lnTo>
                        <a:pt x="237" y="62"/>
                      </a:lnTo>
                      <a:lnTo>
                        <a:pt x="250" y="62"/>
                      </a:lnTo>
                      <a:lnTo>
                        <a:pt x="264" y="78"/>
                      </a:lnTo>
                      <a:lnTo>
                        <a:pt x="278" y="78"/>
                      </a:lnTo>
                      <a:lnTo>
                        <a:pt x="292" y="62"/>
                      </a:lnTo>
                      <a:lnTo>
                        <a:pt x="306" y="62"/>
                      </a:lnTo>
                      <a:lnTo>
                        <a:pt x="306" y="78"/>
                      </a:lnTo>
                      <a:lnTo>
                        <a:pt x="292" y="94"/>
                      </a:lnTo>
                      <a:lnTo>
                        <a:pt x="278" y="94"/>
                      </a:lnTo>
                      <a:lnTo>
                        <a:pt x="306" y="94"/>
                      </a:lnTo>
                      <a:lnTo>
                        <a:pt x="320" y="94"/>
                      </a:lnTo>
                      <a:lnTo>
                        <a:pt x="333" y="94"/>
                      </a:lnTo>
                      <a:lnTo>
                        <a:pt x="320" y="110"/>
                      </a:lnTo>
                      <a:lnTo>
                        <a:pt x="306" y="110"/>
                      </a:lnTo>
                      <a:lnTo>
                        <a:pt x="278" y="110"/>
                      </a:lnTo>
                      <a:lnTo>
                        <a:pt x="292" y="110"/>
                      </a:lnTo>
                      <a:lnTo>
                        <a:pt x="292" y="126"/>
                      </a:lnTo>
                      <a:lnTo>
                        <a:pt x="306"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6811920" y="2017800"/>
                  <a:ext cx="95400" cy="25200"/>
                </a:xfrm>
                <a:custGeom>
                  <a:avLst/>
                  <a:gdLst/>
                  <a:ahLst/>
                  <a:rect l="l" t="t" r="r" b="b"/>
                  <a:pathLst>
                    <a:path w="181" h="47">
                      <a:moveTo>
                        <a:pt x="57" y="31"/>
                      </a:moveTo>
                      <a:lnTo>
                        <a:pt x="57" y="15"/>
                      </a:lnTo>
                      <a:lnTo>
                        <a:pt x="57" y="0"/>
                      </a:lnTo>
                      <a:lnTo>
                        <a:pt x="29" y="0"/>
                      </a:lnTo>
                      <a:lnTo>
                        <a:pt x="15" y="0"/>
                      </a:lnTo>
                      <a:lnTo>
                        <a:pt x="0" y="0"/>
                      </a:lnTo>
                      <a:lnTo>
                        <a:pt x="29" y="0"/>
                      </a:lnTo>
                      <a:lnTo>
                        <a:pt x="43" y="15"/>
                      </a:lnTo>
                      <a:lnTo>
                        <a:pt x="57" y="0"/>
                      </a:lnTo>
                      <a:lnTo>
                        <a:pt x="70" y="0"/>
                      </a:lnTo>
                      <a:lnTo>
                        <a:pt x="84" y="0"/>
                      </a:lnTo>
                      <a:lnTo>
                        <a:pt x="112" y="0"/>
                      </a:lnTo>
                      <a:lnTo>
                        <a:pt x="140" y="0"/>
                      </a:lnTo>
                      <a:lnTo>
                        <a:pt x="181" y="0"/>
                      </a:lnTo>
                      <a:lnTo>
                        <a:pt x="181" y="15"/>
                      </a:lnTo>
                      <a:lnTo>
                        <a:pt x="167" y="15"/>
                      </a:lnTo>
                      <a:lnTo>
                        <a:pt x="167" y="31"/>
                      </a:lnTo>
                      <a:lnTo>
                        <a:pt x="140" y="31"/>
                      </a:lnTo>
                      <a:lnTo>
                        <a:pt x="126" y="47"/>
                      </a:lnTo>
                      <a:lnTo>
                        <a:pt x="98" y="47"/>
                      </a:lnTo>
                      <a:lnTo>
                        <a:pt x="84" y="47"/>
                      </a:lnTo>
                      <a:lnTo>
                        <a:pt x="57" y="47"/>
                      </a:lnTo>
                      <a:lnTo>
                        <a:pt x="57" y="31"/>
                      </a:lnTo>
                      <a:close/>
                    </a:path>
                  </a:pathLst>
                </a:custGeom>
                <a:solidFill>
                  <a:srgbClr val="00937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6" name=""/>
                <p:cNvSpPr/>
                <p:nvPr/>
              </p:nvSpPr>
              <p:spPr>
                <a:xfrm>
                  <a:off x="6811920" y="2017800"/>
                  <a:ext cx="95400" cy="25200"/>
                </a:xfrm>
                <a:custGeom>
                  <a:avLst/>
                  <a:gdLst/>
                  <a:ahLst/>
                  <a:rect l="l" t="t" r="r" b="b"/>
                  <a:pathLst>
                    <a:path w="181" h="47">
                      <a:moveTo>
                        <a:pt x="57" y="31"/>
                      </a:moveTo>
                      <a:lnTo>
                        <a:pt x="57" y="15"/>
                      </a:lnTo>
                      <a:lnTo>
                        <a:pt x="57" y="0"/>
                      </a:lnTo>
                      <a:lnTo>
                        <a:pt x="29" y="0"/>
                      </a:lnTo>
                      <a:lnTo>
                        <a:pt x="15" y="0"/>
                      </a:lnTo>
                      <a:lnTo>
                        <a:pt x="0" y="0"/>
                      </a:lnTo>
                      <a:lnTo>
                        <a:pt x="29" y="0"/>
                      </a:lnTo>
                      <a:lnTo>
                        <a:pt x="43" y="15"/>
                      </a:lnTo>
                      <a:lnTo>
                        <a:pt x="57" y="0"/>
                      </a:lnTo>
                      <a:lnTo>
                        <a:pt x="70" y="0"/>
                      </a:lnTo>
                      <a:lnTo>
                        <a:pt x="84" y="0"/>
                      </a:lnTo>
                      <a:lnTo>
                        <a:pt x="112" y="0"/>
                      </a:lnTo>
                      <a:lnTo>
                        <a:pt x="140" y="0"/>
                      </a:lnTo>
                      <a:lnTo>
                        <a:pt x="181" y="0"/>
                      </a:lnTo>
                      <a:lnTo>
                        <a:pt x="181" y="15"/>
                      </a:lnTo>
                      <a:lnTo>
                        <a:pt x="167" y="15"/>
                      </a:lnTo>
                      <a:lnTo>
                        <a:pt x="167" y="31"/>
                      </a:lnTo>
                      <a:lnTo>
                        <a:pt x="140" y="31"/>
                      </a:lnTo>
                      <a:lnTo>
                        <a:pt x="126" y="47"/>
                      </a:lnTo>
                      <a:lnTo>
                        <a:pt x="98" y="47"/>
                      </a:lnTo>
                      <a:lnTo>
                        <a:pt x="84" y="47"/>
                      </a:lnTo>
                      <a:lnTo>
                        <a:pt x="57" y="47"/>
                      </a:lnTo>
                      <a:lnTo>
                        <a:pt x="57" y="31"/>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7" name=""/>
                <p:cNvSpPr/>
                <p:nvPr/>
              </p:nvSpPr>
              <p:spPr>
                <a:xfrm>
                  <a:off x="6283440" y="2009880"/>
                  <a:ext cx="29880" cy="33120"/>
                </a:xfrm>
                <a:custGeom>
                  <a:avLst/>
                  <a:gdLst/>
                  <a:ahLst/>
                  <a:rect l="l" t="t" r="r" b="b"/>
                  <a:pathLst>
                    <a:path w="55" h="63">
                      <a:moveTo>
                        <a:pt x="55" y="31"/>
                      </a:moveTo>
                      <a:lnTo>
                        <a:pt x="55" y="47"/>
                      </a:lnTo>
                      <a:lnTo>
                        <a:pt x="55" y="63"/>
                      </a:lnTo>
                      <a:lnTo>
                        <a:pt x="27" y="63"/>
                      </a:lnTo>
                      <a:lnTo>
                        <a:pt x="13" y="63"/>
                      </a:lnTo>
                      <a:lnTo>
                        <a:pt x="0" y="47"/>
                      </a:lnTo>
                      <a:lnTo>
                        <a:pt x="0" y="31"/>
                      </a:lnTo>
                      <a:lnTo>
                        <a:pt x="13" y="16"/>
                      </a:lnTo>
                      <a:lnTo>
                        <a:pt x="27" y="0"/>
                      </a:lnTo>
                      <a:lnTo>
                        <a:pt x="41" y="16"/>
                      </a:lnTo>
                      <a:lnTo>
                        <a:pt x="55" y="16"/>
                      </a:lnTo>
                      <a:lnTo>
                        <a:pt x="55" y="31"/>
                      </a:lnTo>
                      <a:close/>
                    </a:path>
                  </a:pathLst>
                </a:custGeom>
                <a:solidFill>
                  <a:srgbClr val="00937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78" name=""/>
                <p:cNvSpPr/>
                <p:nvPr/>
              </p:nvSpPr>
              <p:spPr>
                <a:xfrm>
                  <a:off x="6283440" y="2009880"/>
                  <a:ext cx="29880" cy="33120"/>
                </a:xfrm>
                <a:custGeom>
                  <a:avLst/>
                  <a:gdLst/>
                  <a:ahLst/>
                  <a:rect l="l" t="t" r="r" b="b"/>
                  <a:pathLst>
                    <a:path w="55" h="63">
                      <a:moveTo>
                        <a:pt x="55" y="31"/>
                      </a:moveTo>
                      <a:lnTo>
                        <a:pt x="55" y="47"/>
                      </a:lnTo>
                      <a:lnTo>
                        <a:pt x="55" y="63"/>
                      </a:lnTo>
                      <a:lnTo>
                        <a:pt x="27" y="63"/>
                      </a:lnTo>
                      <a:lnTo>
                        <a:pt x="13" y="63"/>
                      </a:lnTo>
                      <a:lnTo>
                        <a:pt x="0" y="47"/>
                      </a:lnTo>
                      <a:lnTo>
                        <a:pt x="0" y="31"/>
                      </a:lnTo>
                      <a:lnTo>
                        <a:pt x="13" y="16"/>
                      </a:lnTo>
                      <a:lnTo>
                        <a:pt x="27" y="0"/>
                      </a:lnTo>
                      <a:lnTo>
                        <a:pt x="41" y="16"/>
                      </a:lnTo>
                      <a:lnTo>
                        <a:pt x="55" y="16"/>
                      </a:lnTo>
                      <a:lnTo>
                        <a:pt x="55" y="3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79" name=""/>
                <p:cNvSpPr/>
                <p:nvPr/>
              </p:nvSpPr>
              <p:spPr>
                <a:xfrm>
                  <a:off x="5594400" y="2117880"/>
                  <a:ext cx="22320" cy="7920"/>
                </a:xfrm>
                <a:custGeom>
                  <a:avLst/>
                  <a:gdLst/>
                  <a:ahLst/>
                  <a:rect l="l" t="t" r="r" b="b"/>
                  <a:pathLst>
                    <a:path w="42" h="17">
                      <a:moveTo>
                        <a:pt x="42" y="0"/>
                      </a:moveTo>
                      <a:lnTo>
                        <a:pt x="28" y="0"/>
                      </a:lnTo>
                      <a:lnTo>
                        <a:pt x="0" y="17"/>
                      </a:lnTo>
                      <a:lnTo>
                        <a:pt x="28" y="0"/>
                      </a:lnTo>
                      <a:lnTo>
                        <a:pt x="42"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0" name=""/>
                <p:cNvSpPr/>
                <p:nvPr/>
              </p:nvSpPr>
              <p:spPr>
                <a:xfrm>
                  <a:off x="5594400" y="2117880"/>
                  <a:ext cx="22320" cy="7920"/>
                </a:xfrm>
                <a:custGeom>
                  <a:avLst/>
                  <a:gdLst/>
                  <a:ahLst/>
                  <a:rect l="l" t="t" r="r" b="b"/>
                  <a:pathLst>
                    <a:path w="42" h="17">
                      <a:moveTo>
                        <a:pt x="42" y="0"/>
                      </a:moveTo>
                      <a:lnTo>
                        <a:pt x="28" y="0"/>
                      </a:lnTo>
                      <a:lnTo>
                        <a:pt x="0" y="17"/>
                      </a:lnTo>
                      <a:lnTo>
                        <a:pt x="28" y="0"/>
                      </a:lnTo>
                      <a:lnTo>
                        <a:pt x="4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1" name=""/>
                <p:cNvSpPr/>
                <p:nvPr/>
              </p:nvSpPr>
              <p:spPr>
                <a:xfrm>
                  <a:off x="6276960" y="2133720"/>
                  <a:ext cx="6480" cy="9360"/>
                </a:xfrm>
                <a:custGeom>
                  <a:avLst/>
                  <a:gdLst/>
                  <a:ahLst/>
                  <a:rect l="l" t="t" r="r" b="b"/>
                  <a:pathLst>
                    <a:path w="14" h="17">
                      <a:moveTo>
                        <a:pt x="14" y="0"/>
                      </a:moveTo>
                      <a:lnTo>
                        <a:pt x="14" y="17"/>
                      </a:lnTo>
                      <a:lnTo>
                        <a:pt x="0" y="17"/>
                      </a:lnTo>
                      <a:lnTo>
                        <a:pt x="14" y="17"/>
                      </a:lnTo>
                      <a:lnTo>
                        <a:pt x="14" y="0"/>
                      </a:lnTo>
                      <a:close/>
                    </a:path>
                  </a:pathLst>
                </a:custGeom>
                <a:solidFill>
                  <a:srgbClr val="00937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2" name=""/>
                <p:cNvSpPr/>
                <p:nvPr/>
              </p:nvSpPr>
              <p:spPr>
                <a:xfrm>
                  <a:off x="6276960" y="2133720"/>
                  <a:ext cx="6480" cy="9360"/>
                </a:xfrm>
                <a:custGeom>
                  <a:avLst/>
                  <a:gdLst/>
                  <a:ahLst/>
                  <a:rect l="l" t="t" r="r" b="b"/>
                  <a:pathLst>
                    <a:path w="14" h="17">
                      <a:moveTo>
                        <a:pt x="14" y="0"/>
                      </a:moveTo>
                      <a:lnTo>
                        <a:pt x="14" y="17"/>
                      </a:lnTo>
                      <a:lnTo>
                        <a:pt x="0" y="17"/>
                      </a:lnTo>
                      <a:lnTo>
                        <a:pt x="14" y="17"/>
                      </a:lnTo>
                      <a:lnTo>
                        <a:pt x="14"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3" name=""/>
                <p:cNvSpPr/>
                <p:nvPr/>
              </p:nvSpPr>
              <p:spPr>
                <a:xfrm>
                  <a:off x="5792760" y="2133720"/>
                  <a:ext cx="6480" cy="9360"/>
                </a:xfrm>
                <a:custGeom>
                  <a:avLst/>
                  <a:gdLst/>
                  <a:ahLst/>
                  <a:rect l="l" t="t" r="r" b="b"/>
                  <a:pathLst>
                    <a:path w="13" h="17">
                      <a:moveTo>
                        <a:pt x="13" y="0"/>
                      </a:moveTo>
                      <a:lnTo>
                        <a:pt x="0" y="0"/>
                      </a:lnTo>
                      <a:lnTo>
                        <a:pt x="0" y="17"/>
                      </a:lnTo>
                      <a:lnTo>
                        <a:pt x="0" y="0"/>
                      </a:lnTo>
                      <a:lnTo>
                        <a:pt x="13" y="0"/>
                      </a:lnTo>
                      <a:close/>
                    </a:path>
                  </a:pathLst>
                </a:custGeom>
                <a:solidFill>
                  <a:srgbClr val="00937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4" name=""/>
                <p:cNvSpPr/>
                <p:nvPr/>
              </p:nvSpPr>
              <p:spPr>
                <a:xfrm>
                  <a:off x="5792760" y="2133720"/>
                  <a:ext cx="6480" cy="9360"/>
                </a:xfrm>
                <a:custGeom>
                  <a:avLst/>
                  <a:gdLst/>
                  <a:ahLst/>
                  <a:rect l="l" t="t" r="r" b="b"/>
                  <a:pathLst>
                    <a:path w="13" h="17">
                      <a:moveTo>
                        <a:pt x="13" y="0"/>
                      </a:moveTo>
                      <a:lnTo>
                        <a:pt x="0" y="0"/>
                      </a:lnTo>
                      <a:lnTo>
                        <a:pt x="0" y="17"/>
                      </a:lnTo>
                      <a:lnTo>
                        <a:pt x="0" y="0"/>
                      </a:lnTo>
                      <a:lnTo>
                        <a:pt x="13"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5" name=""/>
                <p:cNvSpPr/>
                <p:nvPr/>
              </p:nvSpPr>
              <p:spPr>
                <a:xfrm>
                  <a:off x="5506920" y="2151000"/>
                  <a:ext cx="6480" cy="1800"/>
                </a:xfrm>
                <a:custGeom>
                  <a:avLst/>
                  <a:gdLst/>
                  <a:ahLst/>
                  <a:rect l="l" t="t" r="r" b="b"/>
                  <a:pathLst>
                    <a:path w="14" h="0">
                      <a:moveTo>
                        <a:pt x="14" y="0"/>
                      </a:moveTo>
                      <a:lnTo>
                        <a:pt x="0" y="0"/>
                      </a:lnTo>
                      <a:lnTo>
                        <a:pt x="14"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6" name=""/>
                <p:cNvSpPr/>
                <p:nvPr/>
              </p:nvSpPr>
              <p:spPr>
                <a:xfrm>
                  <a:off x="5506920" y="2151000"/>
                  <a:ext cx="6480" cy="1800"/>
                </a:xfrm>
                <a:custGeom>
                  <a:avLst/>
                  <a:gdLst/>
                  <a:ahLst/>
                  <a:rect l="l" t="t" r="r" b="b"/>
                  <a:pathLst>
                    <a:path w="14" h="0">
                      <a:moveTo>
                        <a:pt x="14" y="0"/>
                      </a:moveTo>
                      <a:lnTo>
                        <a:pt x="0" y="0"/>
                      </a:lnTo>
                      <a:lnTo>
                        <a:pt x="1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7" name=""/>
                <p:cNvSpPr/>
                <p:nvPr/>
              </p:nvSpPr>
              <p:spPr>
                <a:xfrm>
                  <a:off x="6966000" y="2109960"/>
                  <a:ext cx="73080" cy="107640"/>
                </a:xfrm>
                <a:custGeom>
                  <a:avLst/>
                  <a:gdLst/>
                  <a:ahLst/>
                  <a:rect l="l" t="t" r="r" b="b"/>
                  <a:pathLst>
                    <a:path w="138" h="205">
                      <a:moveTo>
                        <a:pt x="27" y="0"/>
                      </a:moveTo>
                      <a:lnTo>
                        <a:pt x="27" y="15"/>
                      </a:lnTo>
                      <a:lnTo>
                        <a:pt x="55" y="15"/>
                      </a:lnTo>
                      <a:lnTo>
                        <a:pt x="69" y="15"/>
                      </a:lnTo>
                      <a:lnTo>
                        <a:pt x="69" y="32"/>
                      </a:lnTo>
                      <a:lnTo>
                        <a:pt x="55" y="47"/>
                      </a:lnTo>
                      <a:lnTo>
                        <a:pt x="41" y="64"/>
                      </a:lnTo>
                      <a:lnTo>
                        <a:pt x="55" y="64"/>
                      </a:lnTo>
                      <a:lnTo>
                        <a:pt x="69" y="64"/>
                      </a:lnTo>
                      <a:lnTo>
                        <a:pt x="83" y="79"/>
                      </a:lnTo>
                      <a:lnTo>
                        <a:pt x="83" y="94"/>
                      </a:lnTo>
                      <a:lnTo>
                        <a:pt x="96" y="111"/>
                      </a:lnTo>
                      <a:lnTo>
                        <a:pt x="110" y="126"/>
                      </a:lnTo>
                      <a:lnTo>
                        <a:pt x="124" y="126"/>
                      </a:lnTo>
                      <a:lnTo>
                        <a:pt x="138" y="143"/>
                      </a:lnTo>
                      <a:lnTo>
                        <a:pt x="138" y="158"/>
                      </a:lnTo>
                      <a:lnTo>
                        <a:pt x="124" y="173"/>
                      </a:lnTo>
                      <a:lnTo>
                        <a:pt x="110" y="173"/>
                      </a:lnTo>
                      <a:lnTo>
                        <a:pt x="110" y="190"/>
                      </a:lnTo>
                      <a:lnTo>
                        <a:pt x="110" y="205"/>
                      </a:lnTo>
                      <a:lnTo>
                        <a:pt x="96" y="190"/>
                      </a:lnTo>
                      <a:lnTo>
                        <a:pt x="83" y="173"/>
                      </a:lnTo>
                      <a:lnTo>
                        <a:pt x="69" y="173"/>
                      </a:lnTo>
                      <a:lnTo>
                        <a:pt x="55" y="173"/>
                      </a:lnTo>
                      <a:lnTo>
                        <a:pt x="41" y="173"/>
                      </a:lnTo>
                      <a:lnTo>
                        <a:pt x="27" y="173"/>
                      </a:lnTo>
                      <a:lnTo>
                        <a:pt x="27" y="158"/>
                      </a:lnTo>
                      <a:lnTo>
                        <a:pt x="13" y="158"/>
                      </a:lnTo>
                      <a:lnTo>
                        <a:pt x="27" y="143"/>
                      </a:lnTo>
                      <a:lnTo>
                        <a:pt x="41" y="143"/>
                      </a:lnTo>
                      <a:lnTo>
                        <a:pt x="69" y="126"/>
                      </a:lnTo>
                      <a:lnTo>
                        <a:pt x="55" y="94"/>
                      </a:lnTo>
                      <a:lnTo>
                        <a:pt x="41" y="94"/>
                      </a:lnTo>
                      <a:lnTo>
                        <a:pt x="27" y="94"/>
                      </a:lnTo>
                      <a:lnTo>
                        <a:pt x="13" y="94"/>
                      </a:lnTo>
                      <a:lnTo>
                        <a:pt x="13" y="79"/>
                      </a:lnTo>
                      <a:lnTo>
                        <a:pt x="27" y="64"/>
                      </a:lnTo>
                      <a:lnTo>
                        <a:pt x="27" y="47"/>
                      </a:lnTo>
                      <a:lnTo>
                        <a:pt x="13" y="64"/>
                      </a:lnTo>
                      <a:lnTo>
                        <a:pt x="13" y="79"/>
                      </a:lnTo>
                      <a:lnTo>
                        <a:pt x="0" y="79"/>
                      </a:lnTo>
                      <a:lnTo>
                        <a:pt x="0" y="64"/>
                      </a:lnTo>
                      <a:lnTo>
                        <a:pt x="13" y="64"/>
                      </a:lnTo>
                      <a:lnTo>
                        <a:pt x="13" y="47"/>
                      </a:lnTo>
                      <a:lnTo>
                        <a:pt x="27" y="32"/>
                      </a:lnTo>
                      <a:lnTo>
                        <a:pt x="27"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966000" y="2109960"/>
                  <a:ext cx="73080" cy="107640"/>
                </a:xfrm>
                <a:custGeom>
                  <a:avLst/>
                  <a:gdLst/>
                  <a:ahLst/>
                  <a:rect l="l" t="t" r="r" b="b"/>
                  <a:pathLst>
                    <a:path w="138" h="205">
                      <a:moveTo>
                        <a:pt x="27" y="0"/>
                      </a:moveTo>
                      <a:lnTo>
                        <a:pt x="27" y="15"/>
                      </a:lnTo>
                      <a:lnTo>
                        <a:pt x="55" y="15"/>
                      </a:lnTo>
                      <a:lnTo>
                        <a:pt x="69" y="15"/>
                      </a:lnTo>
                      <a:lnTo>
                        <a:pt x="69" y="32"/>
                      </a:lnTo>
                      <a:lnTo>
                        <a:pt x="55" y="47"/>
                      </a:lnTo>
                      <a:lnTo>
                        <a:pt x="41" y="64"/>
                      </a:lnTo>
                      <a:lnTo>
                        <a:pt x="55" y="64"/>
                      </a:lnTo>
                      <a:lnTo>
                        <a:pt x="69" y="64"/>
                      </a:lnTo>
                      <a:lnTo>
                        <a:pt x="83" y="79"/>
                      </a:lnTo>
                      <a:lnTo>
                        <a:pt x="83" y="94"/>
                      </a:lnTo>
                      <a:lnTo>
                        <a:pt x="96" y="111"/>
                      </a:lnTo>
                      <a:lnTo>
                        <a:pt x="110" y="126"/>
                      </a:lnTo>
                      <a:lnTo>
                        <a:pt x="124" y="126"/>
                      </a:lnTo>
                      <a:lnTo>
                        <a:pt x="138" y="143"/>
                      </a:lnTo>
                      <a:lnTo>
                        <a:pt x="138" y="158"/>
                      </a:lnTo>
                      <a:lnTo>
                        <a:pt x="124" y="173"/>
                      </a:lnTo>
                      <a:lnTo>
                        <a:pt x="110" y="173"/>
                      </a:lnTo>
                      <a:lnTo>
                        <a:pt x="110" y="190"/>
                      </a:lnTo>
                      <a:lnTo>
                        <a:pt x="110" y="205"/>
                      </a:lnTo>
                      <a:lnTo>
                        <a:pt x="96" y="190"/>
                      </a:lnTo>
                      <a:lnTo>
                        <a:pt x="83" y="173"/>
                      </a:lnTo>
                      <a:lnTo>
                        <a:pt x="69" y="173"/>
                      </a:lnTo>
                      <a:lnTo>
                        <a:pt x="55" y="173"/>
                      </a:lnTo>
                      <a:lnTo>
                        <a:pt x="41" y="173"/>
                      </a:lnTo>
                      <a:lnTo>
                        <a:pt x="27" y="173"/>
                      </a:lnTo>
                      <a:lnTo>
                        <a:pt x="27" y="158"/>
                      </a:lnTo>
                      <a:lnTo>
                        <a:pt x="13" y="158"/>
                      </a:lnTo>
                      <a:lnTo>
                        <a:pt x="27" y="143"/>
                      </a:lnTo>
                      <a:lnTo>
                        <a:pt x="41" y="143"/>
                      </a:lnTo>
                      <a:lnTo>
                        <a:pt x="69" y="126"/>
                      </a:lnTo>
                      <a:lnTo>
                        <a:pt x="55" y="94"/>
                      </a:lnTo>
                      <a:lnTo>
                        <a:pt x="41" y="94"/>
                      </a:lnTo>
                      <a:lnTo>
                        <a:pt x="27" y="94"/>
                      </a:lnTo>
                      <a:lnTo>
                        <a:pt x="13" y="94"/>
                      </a:lnTo>
                      <a:lnTo>
                        <a:pt x="13" y="79"/>
                      </a:lnTo>
                      <a:lnTo>
                        <a:pt x="27" y="64"/>
                      </a:lnTo>
                      <a:lnTo>
                        <a:pt x="27" y="47"/>
                      </a:lnTo>
                      <a:lnTo>
                        <a:pt x="13" y="64"/>
                      </a:lnTo>
                      <a:lnTo>
                        <a:pt x="13" y="79"/>
                      </a:lnTo>
                      <a:lnTo>
                        <a:pt x="0" y="79"/>
                      </a:lnTo>
                      <a:lnTo>
                        <a:pt x="0" y="64"/>
                      </a:lnTo>
                      <a:lnTo>
                        <a:pt x="13" y="64"/>
                      </a:lnTo>
                      <a:lnTo>
                        <a:pt x="13" y="47"/>
                      </a:lnTo>
                      <a:lnTo>
                        <a:pt x="27" y="32"/>
                      </a:lnTo>
                      <a:lnTo>
                        <a:pt x="2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921360" y="2168640"/>
                  <a:ext cx="44640" cy="31680"/>
                </a:xfrm>
                <a:custGeom>
                  <a:avLst/>
                  <a:gdLst/>
                  <a:ahLst/>
                  <a:rect l="l" t="t" r="r" b="b"/>
                  <a:pathLst>
                    <a:path w="83" h="62">
                      <a:moveTo>
                        <a:pt x="83" y="0"/>
                      </a:moveTo>
                      <a:lnTo>
                        <a:pt x="69" y="15"/>
                      </a:lnTo>
                      <a:lnTo>
                        <a:pt x="55" y="47"/>
                      </a:lnTo>
                      <a:lnTo>
                        <a:pt x="41" y="62"/>
                      </a:lnTo>
                      <a:lnTo>
                        <a:pt x="27" y="62"/>
                      </a:lnTo>
                      <a:lnTo>
                        <a:pt x="0" y="62"/>
                      </a:lnTo>
                      <a:lnTo>
                        <a:pt x="0" y="47"/>
                      </a:lnTo>
                      <a:lnTo>
                        <a:pt x="14" y="47"/>
                      </a:lnTo>
                      <a:lnTo>
                        <a:pt x="27" y="47"/>
                      </a:lnTo>
                      <a:lnTo>
                        <a:pt x="27" y="32"/>
                      </a:lnTo>
                      <a:lnTo>
                        <a:pt x="14" y="15"/>
                      </a:lnTo>
                      <a:lnTo>
                        <a:pt x="14" y="0"/>
                      </a:lnTo>
                      <a:lnTo>
                        <a:pt x="41" y="0"/>
                      </a:lnTo>
                      <a:lnTo>
                        <a:pt x="55" y="0"/>
                      </a:lnTo>
                      <a:lnTo>
                        <a:pt x="83" y="0"/>
                      </a:lnTo>
                      <a:close/>
                    </a:path>
                  </a:pathLst>
                </a:custGeom>
                <a:solidFill>
                  <a:srgbClr val="0093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0" name=""/>
                <p:cNvSpPr/>
                <p:nvPr/>
              </p:nvSpPr>
              <p:spPr>
                <a:xfrm>
                  <a:off x="6921360" y="2168640"/>
                  <a:ext cx="44640" cy="31680"/>
                </a:xfrm>
                <a:custGeom>
                  <a:avLst/>
                  <a:gdLst/>
                  <a:ahLst/>
                  <a:rect l="l" t="t" r="r" b="b"/>
                  <a:pathLst>
                    <a:path w="83" h="62">
                      <a:moveTo>
                        <a:pt x="83" y="0"/>
                      </a:moveTo>
                      <a:lnTo>
                        <a:pt x="69" y="15"/>
                      </a:lnTo>
                      <a:lnTo>
                        <a:pt x="55" y="47"/>
                      </a:lnTo>
                      <a:lnTo>
                        <a:pt x="41" y="62"/>
                      </a:lnTo>
                      <a:lnTo>
                        <a:pt x="27" y="62"/>
                      </a:lnTo>
                      <a:lnTo>
                        <a:pt x="0" y="62"/>
                      </a:lnTo>
                      <a:lnTo>
                        <a:pt x="0" y="47"/>
                      </a:lnTo>
                      <a:lnTo>
                        <a:pt x="14" y="47"/>
                      </a:lnTo>
                      <a:lnTo>
                        <a:pt x="27" y="47"/>
                      </a:lnTo>
                      <a:lnTo>
                        <a:pt x="27" y="32"/>
                      </a:lnTo>
                      <a:lnTo>
                        <a:pt x="14" y="15"/>
                      </a:lnTo>
                      <a:lnTo>
                        <a:pt x="14" y="0"/>
                      </a:lnTo>
                      <a:lnTo>
                        <a:pt x="41" y="0"/>
                      </a:lnTo>
                      <a:lnTo>
                        <a:pt x="55" y="0"/>
                      </a:lnTo>
                      <a:lnTo>
                        <a:pt x="8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1" name=""/>
                <p:cNvSpPr/>
                <p:nvPr/>
              </p:nvSpPr>
              <p:spPr>
                <a:xfrm>
                  <a:off x="8682120" y="2184480"/>
                  <a:ext cx="6120" cy="1440"/>
                </a:xfrm>
                <a:custGeom>
                  <a:avLst/>
                  <a:gdLst/>
                  <a:ahLst/>
                  <a:rect l="l" t="t" r="r" b="b"/>
                  <a:pathLst>
                    <a:path w="14" h="0">
                      <a:moveTo>
                        <a:pt x="0" y="0"/>
                      </a:moveTo>
                      <a:lnTo>
                        <a:pt x="14" y="0"/>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8682120" y="2184480"/>
                  <a:ext cx="6120" cy="1440"/>
                </a:xfrm>
                <a:custGeom>
                  <a:avLst/>
                  <a:gdLst/>
                  <a:ahLst/>
                  <a:rect l="l" t="t" r="r" b="b"/>
                  <a:pathLst>
                    <a:path w="14" h="0">
                      <a:moveTo>
                        <a:pt x="0" y="0"/>
                      </a:moveTo>
                      <a:lnTo>
                        <a:pt x="14"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7067520" y="2184480"/>
                  <a:ext cx="7920" cy="1440"/>
                </a:xfrm>
                <a:custGeom>
                  <a:avLst/>
                  <a:gdLst/>
                  <a:ahLst/>
                  <a:rect l="l" t="t" r="r" b="b"/>
                  <a:pathLst>
                    <a:path w="14" h="0">
                      <a:moveTo>
                        <a:pt x="14" y="0"/>
                      </a:moveTo>
                      <a:lnTo>
                        <a:pt x="0" y="0"/>
                      </a:lnTo>
                      <a:lnTo>
                        <a:pt x="14"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a:off x="7067520" y="2184480"/>
                  <a:ext cx="7920" cy="1440"/>
                </a:xfrm>
                <a:custGeom>
                  <a:avLst/>
                  <a:gdLst/>
                  <a:ahLst/>
                  <a:rect l="l" t="t" r="r" b="b"/>
                  <a:pathLst>
                    <a:path w="14" h="0">
                      <a:moveTo>
                        <a:pt x="14" y="0"/>
                      </a:moveTo>
                      <a:lnTo>
                        <a:pt x="0" y="0"/>
                      </a:lnTo>
                      <a:lnTo>
                        <a:pt x="1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
                <p:cNvSpPr/>
                <p:nvPr/>
              </p:nvSpPr>
              <p:spPr>
                <a:xfrm>
                  <a:off x="8380440" y="2184480"/>
                  <a:ext cx="81000" cy="92160"/>
                </a:xfrm>
                <a:custGeom>
                  <a:avLst/>
                  <a:gdLst/>
                  <a:ahLst/>
                  <a:rect l="l" t="t" r="r" b="b"/>
                  <a:pathLst>
                    <a:path w="152" h="173">
                      <a:moveTo>
                        <a:pt x="0" y="0"/>
                      </a:moveTo>
                      <a:lnTo>
                        <a:pt x="14" y="0"/>
                      </a:lnTo>
                      <a:lnTo>
                        <a:pt x="42" y="15"/>
                      </a:lnTo>
                      <a:lnTo>
                        <a:pt x="56" y="30"/>
                      </a:lnTo>
                      <a:lnTo>
                        <a:pt x="69" y="47"/>
                      </a:lnTo>
                      <a:lnTo>
                        <a:pt x="83" y="62"/>
                      </a:lnTo>
                      <a:lnTo>
                        <a:pt x="97" y="78"/>
                      </a:lnTo>
                      <a:lnTo>
                        <a:pt x="111" y="78"/>
                      </a:lnTo>
                      <a:lnTo>
                        <a:pt x="125" y="94"/>
                      </a:lnTo>
                      <a:lnTo>
                        <a:pt x="139" y="109"/>
                      </a:lnTo>
                      <a:lnTo>
                        <a:pt x="125" y="109"/>
                      </a:lnTo>
                      <a:lnTo>
                        <a:pt x="111" y="109"/>
                      </a:lnTo>
                      <a:lnTo>
                        <a:pt x="97" y="94"/>
                      </a:lnTo>
                      <a:lnTo>
                        <a:pt x="111" y="94"/>
                      </a:lnTo>
                      <a:lnTo>
                        <a:pt x="111" y="109"/>
                      </a:lnTo>
                      <a:lnTo>
                        <a:pt x="125" y="141"/>
                      </a:lnTo>
                      <a:lnTo>
                        <a:pt x="139" y="157"/>
                      </a:lnTo>
                      <a:lnTo>
                        <a:pt x="139" y="173"/>
                      </a:lnTo>
                      <a:lnTo>
                        <a:pt x="152" y="173"/>
                      </a:lnTo>
                      <a:lnTo>
                        <a:pt x="139" y="157"/>
                      </a:lnTo>
                      <a:lnTo>
                        <a:pt x="97" y="126"/>
                      </a:lnTo>
                      <a:lnTo>
                        <a:pt x="83" y="109"/>
                      </a:lnTo>
                      <a:lnTo>
                        <a:pt x="69" y="94"/>
                      </a:lnTo>
                      <a:lnTo>
                        <a:pt x="83" y="94"/>
                      </a:lnTo>
                      <a:lnTo>
                        <a:pt x="69" y="78"/>
                      </a:lnTo>
                      <a:lnTo>
                        <a:pt x="42" y="47"/>
                      </a:lnTo>
                      <a:lnTo>
                        <a:pt x="28" y="30"/>
                      </a:lnTo>
                      <a:lnTo>
                        <a:pt x="14" y="30"/>
                      </a:lnTo>
                      <a:lnTo>
                        <a:pt x="14" y="15"/>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6" name=""/>
                <p:cNvSpPr/>
                <p:nvPr/>
              </p:nvSpPr>
              <p:spPr>
                <a:xfrm>
                  <a:off x="8380440" y="2184480"/>
                  <a:ext cx="81000" cy="92160"/>
                </a:xfrm>
                <a:custGeom>
                  <a:avLst/>
                  <a:gdLst/>
                  <a:ahLst/>
                  <a:rect l="l" t="t" r="r" b="b"/>
                  <a:pathLst>
                    <a:path w="152" h="173">
                      <a:moveTo>
                        <a:pt x="0" y="0"/>
                      </a:moveTo>
                      <a:lnTo>
                        <a:pt x="14" y="0"/>
                      </a:lnTo>
                      <a:lnTo>
                        <a:pt x="42" y="15"/>
                      </a:lnTo>
                      <a:lnTo>
                        <a:pt x="56" y="30"/>
                      </a:lnTo>
                      <a:lnTo>
                        <a:pt x="69" y="47"/>
                      </a:lnTo>
                      <a:lnTo>
                        <a:pt x="83" y="62"/>
                      </a:lnTo>
                      <a:lnTo>
                        <a:pt x="97" y="78"/>
                      </a:lnTo>
                      <a:lnTo>
                        <a:pt x="111" y="78"/>
                      </a:lnTo>
                      <a:lnTo>
                        <a:pt x="125" y="94"/>
                      </a:lnTo>
                      <a:lnTo>
                        <a:pt x="139" y="109"/>
                      </a:lnTo>
                      <a:lnTo>
                        <a:pt x="125" y="109"/>
                      </a:lnTo>
                      <a:lnTo>
                        <a:pt x="111" y="109"/>
                      </a:lnTo>
                      <a:lnTo>
                        <a:pt x="97" y="94"/>
                      </a:lnTo>
                      <a:lnTo>
                        <a:pt x="111" y="94"/>
                      </a:lnTo>
                      <a:lnTo>
                        <a:pt x="111" y="109"/>
                      </a:lnTo>
                      <a:lnTo>
                        <a:pt x="125" y="141"/>
                      </a:lnTo>
                      <a:lnTo>
                        <a:pt x="139" y="157"/>
                      </a:lnTo>
                      <a:lnTo>
                        <a:pt x="139" y="173"/>
                      </a:lnTo>
                      <a:lnTo>
                        <a:pt x="152" y="173"/>
                      </a:lnTo>
                      <a:lnTo>
                        <a:pt x="139" y="157"/>
                      </a:lnTo>
                      <a:lnTo>
                        <a:pt x="97" y="126"/>
                      </a:lnTo>
                      <a:lnTo>
                        <a:pt x="83" y="109"/>
                      </a:lnTo>
                      <a:lnTo>
                        <a:pt x="69" y="94"/>
                      </a:lnTo>
                      <a:lnTo>
                        <a:pt x="83" y="94"/>
                      </a:lnTo>
                      <a:lnTo>
                        <a:pt x="69" y="78"/>
                      </a:lnTo>
                      <a:lnTo>
                        <a:pt x="42" y="47"/>
                      </a:lnTo>
                      <a:lnTo>
                        <a:pt x="28" y="30"/>
                      </a:lnTo>
                      <a:lnTo>
                        <a:pt x="14" y="30"/>
                      </a:lnTo>
                      <a:lnTo>
                        <a:pt x="14" y="15"/>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5784840" y="2217600"/>
                  <a:ext cx="22320" cy="33480"/>
                </a:xfrm>
                <a:custGeom>
                  <a:avLst/>
                  <a:gdLst/>
                  <a:ahLst/>
                  <a:rect l="l" t="t" r="r" b="b"/>
                  <a:pathLst>
                    <a:path w="41" h="64">
                      <a:moveTo>
                        <a:pt x="0" y="0"/>
                      </a:moveTo>
                      <a:lnTo>
                        <a:pt x="14" y="16"/>
                      </a:lnTo>
                      <a:lnTo>
                        <a:pt x="27" y="32"/>
                      </a:lnTo>
                      <a:lnTo>
                        <a:pt x="41" y="64"/>
                      </a:lnTo>
                      <a:lnTo>
                        <a:pt x="27" y="64"/>
                      </a:lnTo>
                      <a:lnTo>
                        <a:pt x="27" y="47"/>
                      </a:lnTo>
                      <a:lnTo>
                        <a:pt x="14" y="47"/>
                      </a:lnTo>
                      <a:lnTo>
                        <a:pt x="14" y="32"/>
                      </a:lnTo>
                      <a:lnTo>
                        <a:pt x="0" y="0"/>
                      </a:lnTo>
                      <a:close/>
                    </a:path>
                  </a:pathLst>
                </a:custGeom>
                <a:solidFill>
                  <a:srgbClr val="00937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8" name=""/>
                <p:cNvSpPr/>
                <p:nvPr/>
              </p:nvSpPr>
              <p:spPr>
                <a:xfrm>
                  <a:off x="5784840" y="2217600"/>
                  <a:ext cx="22320" cy="33480"/>
                </a:xfrm>
                <a:custGeom>
                  <a:avLst/>
                  <a:gdLst/>
                  <a:ahLst/>
                  <a:rect l="l" t="t" r="r" b="b"/>
                  <a:pathLst>
                    <a:path w="41" h="64">
                      <a:moveTo>
                        <a:pt x="0" y="0"/>
                      </a:moveTo>
                      <a:lnTo>
                        <a:pt x="14" y="16"/>
                      </a:lnTo>
                      <a:lnTo>
                        <a:pt x="27" y="32"/>
                      </a:lnTo>
                      <a:lnTo>
                        <a:pt x="41" y="64"/>
                      </a:lnTo>
                      <a:lnTo>
                        <a:pt x="27" y="64"/>
                      </a:lnTo>
                      <a:lnTo>
                        <a:pt x="27" y="47"/>
                      </a:lnTo>
                      <a:lnTo>
                        <a:pt x="14" y="47"/>
                      </a:lnTo>
                      <a:lnTo>
                        <a:pt x="14" y="32"/>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9" name=""/>
                <p:cNvSpPr/>
                <p:nvPr/>
              </p:nvSpPr>
              <p:spPr>
                <a:xfrm>
                  <a:off x="6453360" y="2200320"/>
                  <a:ext cx="42840" cy="68040"/>
                </a:xfrm>
                <a:custGeom>
                  <a:avLst/>
                  <a:gdLst/>
                  <a:ahLst/>
                  <a:rect l="l" t="t" r="r" b="b"/>
                  <a:pathLst>
                    <a:path w="83" h="127">
                      <a:moveTo>
                        <a:pt x="69" y="0"/>
                      </a:moveTo>
                      <a:lnTo>
                        <a:pt x="42" y="32"/>
                      </a:lnTo>
                      <a:lnTo>
                        <a:pt x="28" y="48"/>
                      </a:lnTo>
                      <a:lnTo>
                        <a:pt x="55" y="64"/>
                      </a:lnTo>
                      <a:lnTo>
                        <a:pt x="69" y="64"/>
                      </a:lnTo>
                      <a:lnTo>
                        <a:pt x="83" y="64"/>
                      </a:lnTo>
                      <a:lnTo>
                        <a:pt x="83" y="79"/>
                      </a:lnTo>
                      <a:lnTo>
                        <a:pt x="83" y="96"/>
                      </a:lnTo>
                      <a:lnTo>
                        <a:pt x="69" y="111"/>
                      </a:lnTo>
                      <a:lnTo>
                        <a:pt x="69" y="96"/>
                      </a:lnTo>
                      <a:lnTo>
                        <a:pt x="55" y="111"/>
                      </a:lnTo>
                      <a:lnTo>
                        <a:pt x="42" y="127"/>
                      </a:lnTo>
                      <a:lnTo>
                        <a:pt x="14" y="127"/>
                      </a:lnTo>
                      <a:lnTo>
                        <a:pt x="0" y="111"/>
                      </a:lnTo>
                      <a:lnTo>
                        <a:pt x="0" y="79"/>
                      </a:lnTo>
                      <a:lnTo>
                        <a:pt x="0" y="64"/>
                      </a:lnTo>
                      <a:lnTo>
                        <a:pt x="14" y="48"/>
                      </a:lnTo>
                      <a:lnTo>
                        <a:pt x="28" y="32"/>
                      </a:lnTo>
                      <a:lnTo>
                        <a:pt x="55" y="17"/>
                      </a:lnTo>
                      <a:lnTo>
                        <a:pt x="69" y="0"/>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0" name=""/>
                <p:cNvSpPr/>
                <p:nvPr/>
              </p:nvSpPr>
              <p:spPr>
                <a:xfrm>
                  <a:off x="6453360" y="2200320"/>
                  <a:ext cx="42840" cy="68040"/>
                </a:xfrm>
                <a:custGeom>
                  <a:avLst/>
                  <a:gdLst/>
                  <a:ahLst/>
                  <a:rect l="l" t="t" r="r" b="b"/>
                  <a:pathLst>
                    <a:path w="83" h="127">
                      <a:moveTo>
                        <a:pt x="69" y="0"/>
                      </a:moveTo>
                      <a:lnTo>
                        <a:pt x="42" y="32"/>
                      </a:lnTo>
                      <a:lnTo>
                        <a:pt x="28" y="48"/>
                      </a:lnTo>
                      <a:lnTo>
                        <a:pt x="55" y="64"/>
                      </a:lnTo>
                      <a:lnTo>
                        <a:pt x="69" y="64"/>
                      </a:lnTo>
                      <a:lnTo>
                        <a:pt x="83" y="64"/>
                      </a:lnTo>
                      <a:lnTo>
                        <a:pt x="83" y="79"/>
                      </a:lnTo>
                      <a:lnTo>
                        <a:pt x="83" y="96"/>
                      </a:lnTo>
                      <a:lnTo>
                        <a:pt x="69" y="111"/>
                      </a:lnTo>
                      <a:lnTo>
                        <a:pt x="69" y="96"/>
                      </a:lnTo>
                      <a:lnTo>
                        <a:pt x="55" y="111"/>
                      </a:lnTo>
                      <a:lnTo>
                        <a:pt x="42" y="127"/>
                      </a:lnTo>
                      <a:lnTo>
                        <a:pt x="14" y="127"/>
                      </a:lnTo>
                      <a:lnTo>
                        <a:pt x="0" y="111"/>
                      </a:lnTo>
                      <a:lnTo>
                        <a:pt x="0" y="79"/>
                      </a:lnTo>
                      <a:lnTo>
                        <a:pt x="0" y="64"/>
                      </a:lnTo>
                      <a:lnTo>
                        <a:pt x="14" y="48"/>
                      </a:lnTo>
                      <a:lnTo>
                        <a:pt x="28" y="32"/>
                      </a:lnTo>
                      <a:lnTo>
                        <a:pt x="55" y="17"/>
                      </a:lnTo>
                      <a:lnTo>
                        <a:pt x="69"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1" name=""/>
                <p:cNvSpPr/>
                <p:nvPr/>
              </p:nvSpPr>
              <p:spPr>
                <a:xfrm>
                  <a:off x="8453520" y="2284560"/>
                  <a:ext cx="66600" cy="58680"/>
                </a:xfrm>
                <a:custGeom>
                  <a:avLst/>
                  <a:gdLst/>
                  <a:ahLst/>
                  <a:rect l="l" t="t" r="r" b="b"/>
                  <a:pathLst>
                    <a:path w="125" h="111">
                      <a:moveTo>
                        <a:pt x="0" y="0"/>
                      </a:moveTo>
                      <a:lnTo>
                        <a:pt x="13" y="16"/>
                      </a:lnTo>
                      <a:lnTo>
                        <a:pt x="41" y="32"/>
                      </a:lnTo>
                      <a:lnTo>
                        <a:pt x="55" y="48"/>
                      </a:lnTo>
                      <a:lnTo>
                        <a:pt x="69" y="48"/>
                      </a:lnTo>
                      <a:lnTo>
                        <a:pt x="98" y="48"/>
                      </a:lnTo>
                      <a:lnTo>
                        <a:pt x="125" y="63"/>
                      </a:lnTo>
                      <a:lnTo>
                        <a:pt x="125" y="79"/>
                      </a:lnTo>
                      <a:lnTo>
                        <a:pt x="98" y="95"/>
                      </a:lnTo>
                      <a:lnTo>
                        <a:pt x="83" y="111"/>
                      </a:lnTo>
                      <a:lnTo>
                        <a:pt x="55" y="95"/>
                      </a:lnTo>
                      <a:lnTo>
                        <a:pt x="27" y="79"/>
                      </a:lnTo>
                      <a:lnTo>
                        <a:pt x="13" y="79"/>
                      </a:lnTo>
                      <a:lnTo>
                        <a:pt x="13" y="95"/>
                      </a:lnTo>
                      <a:lnTo>
                        <a:pt x="27" y="111"/>
                      </a:lnTo>
                      <a:lnTo>
                        <a:pt x="13" y="95"/>
                      </a:lnTo>
                      <a:lnTo>
                        <a:pt x="13" y="63"/>
                      </a:lnTo>
                      <a:lnTo>
                        <a:pt x="13" y="32"/>
                      </a:lnTo>
                      <a:lnTo>
                        <a:pt x="0" y="16"/>
                      </a:lnTo>
                      <a:lnTo>
                        <a:pt x="0" y="0"/>
                      </a:lnTo>
                      <a:close/>
                    </a:path>
                  </a:pathLst>
                </a:custGeom>
                <a:solidFill>
                  <a:srgbClr val="0093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2" name=""/>
                <p:cNvSpPr/>
                <p:nvPr/>
              </p:nvSpPr>
              <p:spPr>
                <a:xfrm>
                  <a:off x="8453520" y="2284560"/>
                  <a:ext cx="66600" cy="58680"/>
                </a:xfrm>
                <a:custGeom>
                  <a:avLst/>
                  <a:gdLst/>
                  <a:ahLst/>
                  <a:rect l="l" t="t" r="r" b="b"/>
                  <a:pathLst>
                    <a:path w="125" h="111">
                      <a:moveTo>
                        <a:pt x="0" y="0"/>
                      </a:moveTo>
                      <a:lnTo>
                        <a:pt x="13" y="16"/>
                      </a:lnTo>
                      <a:lnTo>
                        <a:pt x="41" y="32"/>
                      </a:lnTo>
                      <a:lnTo>
                        <a:pt x="55" y="48"/>
                      </a:lnTo>
                      <a:lnTo>
                        <a:pt x="69" y="48"/>
                      </a:lnTo>
                      <a:lnTo>
                        <a:pt x="98" y="48"/>
                      </a:lnTo>
                      <a:lnTo>
                        <a:pt x="125" y="63"/>
                      </a:lnTo>
                      <a:lnTo>
                        <a:pt x="125" y="79"/>
                      </a:lnTo>
                      <a:lnTo>
                        <a:pt x="98" y="95"/>
                      </a:lnTo>
                      <a:lnTo>
                        <a:pt x="83" y="111"/>
                      </a:lnTo>
                      <a:lnTo>
                        <a:pt x="55" y="95"/>
                      </a:lnTo>
                      <a:lnTo>
                        <a:pt x="27" y="79"/>
                      </a:lnTo>
                      <a:lnTo>
                        <a:pt x="13" y="79"/>
                      </a:lnTo>
                      <a:lnTo>
                        <a:pt x="13" y="95"/>
                      </a:lnTo>
                      <a:lnTo>
                        <a:pt x="27" y="111"/>
                      </a:lnTo>
                      <a:lnTo>
                        <a:pt x="13" y="95"/>
                      </a:lnTo>
                      <a:lnTo>
                        <a:pt x="13" y="63"/>
                      </a:lnTo>
                      <a:lnTo>
                        <a:pt x="13" y="32"/>
                      </a:lnTo>
                      <a:lnTo>
                        <a:pt x="0" y="16"/>
                      </a:lnTo>
                      <a:lnTo>
                        <a:pt x="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3" name=""/>
                <p:cNvSpPr/>
                <p:nvPr/>
              </p:nvSpPr>
              <p:spPr>
                <a:xfrm>
                  <a:off x="7112160" y="2351160"/>
                  <a:ext cx="14040" cy="33120"/>
                </a:xfrm>
                <a:custGeom>
                  <a:avLst/>
                  <a:gdLst/>
                  <a:ahLst/>
                  <a:rect l="l" t="t" r="r" b="b"/>
                  <a:pathLst>
                    <a:path w="28" h="62">
                      <a:moveTo>
                        <a:pt x="28" y="0"/>
                      </a:moveTo>
                      <a:lnTo>
                        <a:pt x="28" y="15"/>
                      </a:lnTo>
                      <a:lnTo>
                        <a:pt x="28" y="47"/>
                      </a:lnTo>
                      <a:lnTo>
                        <a:pt x="14" y="62"/>
                      </a:lnTo>
                      <a:lnTo>
                        <a:pt x="14" y="47"/>
                      </a:lnTo>
                      <a:lnTo>
                        <a:pt x="0" y="31"/>
                      </a:lnTo>
                      <a:lnTo>
                        <a:pt x="0" y="15"/>
                      </a:lnTo>
                      <a:lnTo>
                        <a:pt x="0" y="0"/>
                      </a:lnTo>
                      <a:lnTo>
                        <a:pt x="14" y="0"/>
                      </a:lnTo>
                      <a:lnTo>
                        <a:pt x="28" y="0"/>
                      </a:lnTo>
                      <a:close/>
                    </a:path>
                  </a:pathLst>
                </a:custGeom>
                <a:solidFill>
                  <a:srgbClr val="00937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4" name=""/>
                <p:cNvSpPr/>
                <p:nvPr/>
              </p:nvSpPr>
              <p:spPr>
                <a:xfrm>
                  <a:off x="7112160" y="2351160"/>
                  <a:ext cx="14040" cy="33120"/>
                </a:xfrm>
                <a:custGeom>
                  <a:avLst/>
                  <a:gdLst/>
                  <a:ahLst/>
                  <a:rect l="l" t="t" r="r" b="b"/>
                  <a:pathLst>
                    <a:path w="28" h="62">
                      <a:moveTo>
                        <a:pt x="28" y="0"/>
                      </a:moveTo>
                      <a:lnTo>
                        <a:pt x="28" y="15"/>
                      </a:lnTo>
                      <a:lnTo>
                        <a:pt x="28" y="47"/>
                      </a:lnTo>
                      <a:lnTo>
                        <a:pt x="14" y="62"/>
                      </a:lnTo>
                      <a:lnTo>
                        <a:pt x="14" y="47"/>
                      </a:lnTo>
                      <a:lnTo>
                        <a:pt x="0" y="31"/>
                      </a:lnTo>
                      <a:lnTo>
                        <a:pt x="0" y="15"/>
                      </a:lnTo>
                      <a:lnTo>
                        <a:pt x="0" y="0"/>
                      </a:lnTo>
                      <a:lnTo>
                        <a:pt x="14" y="0"/>
                      </a:lnTo>
                      <a:lnTo>
                        <a:pt x="28"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5" name=""/>
                <p:cNvSpPr/>
                <p:nvPr/>
              </p:nvSpPr>
              <p:spPr>
                <a:xfrm>
                  <a:off x="8416800" y="2343240"/>
                  <a:ext cx="103320" cy="125280"/>
                </a:xfrm>
                <a:custGeom>
                  <a:avLst/>
                  <a:gdLst/>
                  <a:ahLst/>
                  <a:rect l="l" t="t" r="r" b="b"/>
                  <a:pathLst>
                    <a:path w="195" h="236">
                      <a:moveTo>
                        <a:pt x="111" y="0"/>
                      </a:moveTo>
                      <a:lnTo>
                        <a:pt x="125" y="16"/>
                      </a:lnTo>
                      <a:lnTo>
                        <a:pt x="153" y="31"/>
                      </a:lnTo>
                      <a:lnTo>
                        <a:pt x="168" y="63"/>
                      </a:lnTo>
                      <a:lnTo>
                        <a:pt x="168" y="78"/>
                      </a:lnTo>
                      <a:lnTo>
                        <a:pt x="168" y="95"/>
                      </a:lnTo>
                      <a:lnTo>
                        <a:pt x="168" y="110"/>
                      </a:lnTo>
                      <a:lnTo>
                        <a:pt x="168" y="125"/>
                      </a:lnTo>
                      <a:lnTo>
                        <a:pt x="195" y="157"/>
                      </a:lnTo>
                      <a:lnTo>
                        <a:pt x="195" y="174"/>
                      </a:lnTo>
                      <a:lnTo>
                        <a:pt x="195" y="189"/>
                      </a:lnTo>
                      <a:lnTo>
                        <a:pt x="195" y="204"/>
                      </a:lnTo>
                      <a:lnTo>
                        <a:pt x="168" y="204"/>
                      </a:lnTo>
                      <a:lnTo>
                        <a:pt x="153" y="204"/>
                      </a:lnTo>
                      <a:lnTo>
                        <a:pt x="139" y="221"/>
                      </a:lnTo>
                      <a:lnTo>
                        <a:pt x="125" y="236"/>
                      </a:lnTo>
                      <a:lnTo>
                        <a:pt x="111" y="236"/>
                      </a:lnTo>
                      <a:lnTo>
                        <a:pt x="97" y="236"/>
                      </a:lnTo>
                      <a:lnTo>
                        <a:pt x="97" y="221"/>
                      </a:lnTo>
                      <a:lnTo>
                        <a:pt x="83" y="204"/>
                      </a:lnTo>
                      <a:lnTo>
                        <a:pt x="56" y="204"/>
                      </a:lnTo>
                      <a:lnTo>
                        <a:pt x="28" y="221"/>
                      </a:lnTo>
                      <a:lnTo>
                        <a:pt x="0" y="221"/>
                      </a:lnTo>
                      <a:lnTo>
                        <a:pt x="0" y="204"/>
                      </a:lnTo>
                      <a:lnTo>
                        <a:pt x="14" y="189"/>
                      </a:lnTo>
                      <a:lnTo>
                        <a:pt x="28" y="174"/>
                      </a:lnTo>
                      <a:lnTo>
                        <a:pt x="42" y="174"/>
                      </a:lnTo>
                      <a:lnTo>
                        <a:pt x="70" y="189"/>
                      </a:lnTo>
                      <a:lnTo>
                        <a:pt x="83" y="189"/>
                      </a:lnTo>
                      <a:lnTo>
                        <a:pt x="83" y="174"/>
                      </a:lnTo>
                      <a:lnTo>
                        <a:pt x="83" y="125"/>
                      </a:lnTo>
                      <a:lnTo>
                        <a:pt x="83" y="110"/>
                      </a:lnTo>
                      <a:lnTo>
                        <a:pt x="97" y="110"/>
                      </a:lnTo>
                      <a:lnTo>
                        <a:pt x="111" y="110"/>
                      </a:lnTo>
                      <a:lnTo>
                        <a:pt x="125" y="110"/>
                      </a:lnTo>
                      <a:lnTo>
                        <a:pt x="125" y="95"/>
                      </a:lnTo>
                      <a:lnTo>
                        <a:pt x="125" y="47"/>
                      </a:lnTo>
                      <a:lnTo>
                        <a:pt x="111"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8416800" y="2343240"/>
                  <a:ext cx="103320" cy="125280"/>
                </a:xfrm>
                <a:custGeom>
                  <a:avLst/>
                  <a:gdLst/>
                  <a:ahLst/>
                  <a:rect l="l" t="t" r="r" b="b"/>
                  <a:pathLst>
                    <a:path w="195" h="236">
                      <a:moveTo>
                        <a:pt x="111" y="0"/>
                      </a:moveTo>
                      <a:lnTo>
                        <a:pt x="125" y="16"/>
                      </a:lnTo>
                      <a:lnTo>
                        <a:pt x="153" y="31"/>
                      </a:lnTo>
                      <a:lnTo>
                        <a:pt x="168" y="63"/>
                      </a:lnTo>
                      <a:lnTo>
                        <a:pt x="168" y="78"/>
                      </a:lnTo>
                      <a:lnTo>
                        <a:pt x="168" y="95"/>
                      </a:lnTo>
                      <a:lnTo>
                        <a:pt x="168" y="110"/>
                      </a:lnTo>
                      <a:lnTo>
                        <a:pt x="168" y="125"/>
                      </a:lnTo>
                      <a:lnTo>
                        <a:pt x="195" y="157"/>
                      </a:lnTo>
                      <a:lnTo>
                        <a:pt x="195" y="174"/>
                      </a:lnTo>
                      <a:lnTo>
                        <a:pt x="195" y="189"/>
                      </a:lnTo>
                      <a:lnTo>
                        <a:pt x="195" y="204"/>
                      </a:lnTo>
                      <a:lnTo>
                        <a:pt x="168" y="204"/>
                      </a:lnTo>
                      <a:lnTo>
                        <a:pt x="153" y="204"/>
                      </a:lnTo>
                      <a:lnTo>
                        <a:pt x="139" y="221"/>
                      </a:lnTo>
                      <a:lnTo>
                        <a:pt x="125" y="236"/>
                      </a:lnTo>
                      <a:lnTo>
                        <a:pt x="111" y="236"/>
                      </a:lnTo>
                      <a:lnTo>
                        <a:pt x="97" y="236"/>
                      </a:lnTo>
                      <a:lnTo>
                        <a:pt x="97" y="221"/>
                      </a:lnTo>
                      <a:lnTo>
                        <a:pt x="83" y="204"/>
                      </a:lnTo>
                      <a:lnTo>
                        <a:pt x="56" y="204"/>
                      </a:lnTo>
                      <a:lnTo>
                        <a:pt x="28" y="221"/>
                      </a:lnTo>
                      <a:lnTo>
                        <a:pt x="0" y="221"/>
                      </a:lnTo>
                      <a:lnTo>
                        <a:pt x="0" y="204"/>
                      </a:lnTo>
                      <a:lnTo>
                        <a:pt x="14" y="189"/>
                      </a:lnTo>
                      <a:lnTo>
                        <a:pt x="28" y="174"/>
                      </a:lnTo>
                      <a:lnTo>
                        <a:pt x="42" y="174"/>
                      </a:lnTo>
                      <a:lnTo>
                        <a:pt x="70" y="189"/>
                      </a:lnTo>
                      <a:lnTo>
                        <a:pt x="83" y="189"/>
                      </a:lnTo>
                      <a:lnTo>
                        <a:pt x="83" y="174"/>
                      </a:lnTo>
                      <a:lnTo>
                        <a:pt x="83" y="125"/>
                      </a:lnTo>
                      <a:lnTo>
                        <a:pt x="83" y="110"/>
                      </a:lnTo>
                      <a:lnTo>
                        <a:pt x="97" y="110"/>
                      </a:lnTo>
                      <a:lnTo>
                        <a:pt x="111" y="110"/>
                      </a:lnTo>
                      <a:lnTo>
                        <a:pt x="125" y="110"/>
                      </a:lnTo>
                      <a:lnTo>
                        <a:pt x="125" y="95"/>
                      </a:lnTo>
                      <a:lnTo>
                        <a:pt x="125" y="47"/>
                      </a:lnTo>
                      <a:lnTo>
                        <a:pt x="1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7156440" y="2394000"/>
                  <a:ext cx="36360" cy="15840"/>
                </a:xfrm>
                <a:custGeom>
                  <a:avLst/>
                  <a:gdLst/>
                  <a:ahLst/>
                  <a:rect l="l" t="t" r="r" b="b"/>
                  <a:pathLst>
                    <a:path w="69" h="30">
                      <a:moveTo>
                        <a:pt x="69" y="0"/>
                      </a:moveTo>
                      <a:lnTo>
                        <a:pt x="69" y="15"/>
                      </a:lnTo>
                      <a:lnTo>
                        <a:pt x="56" y="30"/>
                      </a:lnTo>
                      <a:lnTo>
                        <a:pt x="28" y="30"/>
                      </a:lnTo>
                      <a:lnTo>
                        <a:pt x="14" y="15"/>
                      </a:lnTo>
                      <a:lnTo>
                        <a:pt x="0" y="15"/>
                      </a:lnTo>
                      <a:lnTo>
                        <a:pt x="0" y="0"/>
                      </a:lnTo>
                      <a:lnTo>
                        <a:pt x="14" y="0"/>
                      </a:lnTo>
                      <a:lnTo>
                        <a:pt x="28" y="0"/>
                      </a:lnTo>
                      <a:lnTo>
                        <a:pt x="56" y="0"/>
                      </a:lnTo>
                      <a:lnTo>
                        <a:pt x="69" y="0"/>
                      </a:lnTo>
                      <a:close/>
                    </a:path>
                  </a:pathLst>
                </a:custGeom>
                <a:solidFill>
                  <a:srgbClr val="00937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08" name=""/>
                <p:cNvSpPr/>
                <p:nvPr/>
              </p:nvSpPr>
              <p:spPr>
                <a:xfrm>
                  <a:off x="7156440" y="2394000"/>
                  <a:ext cx="36360" cy="15840"/>
                </a:xfrm>
                <a:custGeom>
                  <a:avLst/>
                  <a:gdLst/>
                  <a:ahLst/>
                  <a:rect l="l" t="t" r="r" b="b"/>
                  <a:pathLst>
                    <a:path w="69" h="30">
                      <a:moveTo>
                        <a:pt x="69" y="0"/>
                      </a:moveTo>
                      <a:lnTo>
                        <a:pt x="69" y="15"/>
                      </a:lnTo>
                      <a:lnTo>
                        <a:pt x="56" y="30"/>
                      </a:lnTo>
                      <a:lnTo>
                        <a:pt x="28" y="30"/>
                      </a:lnTo>
                      <a:lnTo>
                        <a:pt x="14" y="15"/>
                      </a:lnTo>
                      <a:lnTo>
                        <a:pt x="0" y="15"/>
                      </a:lnTo>
                      <a:lnTo>
                        <a:pt x="0" y="0"/>
                      </a:lnTo>
                      <a:lnTo>
                        <a:pt x="14" y="0"/>
                      </a:lnTo>
                      <a:lnTo>
                        <a:pt x="28" y="0"/>
                      </a:lnTo>
                      <a:lnTo>
                        <a:pt x="56" y="0"/>
                      </a:lnTo>
                      <a:lnTo>
                        <a:pt x="6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09" name=""/>
                <p:cNvSpPr/>
                <p:nvPr/>
              </p:nvSpPr>
              <p:spPr>
                <a:xfrm>
                  <a:off x="6224760" y="2435400"/>
                  <a:ext cx="1440" cy="7920"/>
                </a:xfrm>
                <a:custGeom>
                  <a:avLst/>
                  <a:gdLst/>
                  <a:ahLst/>
                  <a:rect l="l" t="t" r="r" b="b"/>
                  <a:pathLst>
                    <a:path w="0" h="15">
                      <a:moveTo>
                        <a:pt x="0" y="15"/>
                      </a:moveTo>
                      <a:lnTo>
                        <a:pt x="0" y="0"/>
                      </a:lnTo>
                      <a:lnTo>
                        <a:pt x="0" y="15"/>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0" name=""/>
                <p:cNvSpPr/>
                <p:nvPr/>
              </p:nvSpPr>
              <p:spPr>
                <a:xfrm>
                  <a:off x="6224760" y="2435400"/>
                  <a:ext cx="1440" cy="7920"/>
                </a:xfrm>
                <a:custGeom>
                  <a:avLst/>
                  <a:gdLst/>
                  <a:ahLst/>
                  <a:rect l="l" t="t" r="r" b="b"/>
                  <a:pathLst>
                    <a:path w="0" h="15">
                      <a:moveTo>
                        <a:pt x="0" y="15"/>
                      </a:moveTo>
                      <a:lnTo>
                        <a:pt x="0" y="0"/>
                      </a:lnTo>
                      <a:lnTo>
                        <a:pt x="0"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1" name=""/>
                <p:cNvSpPr/>
                <p:nvPr/>
              </p:nvSpPr>
              <p:spPr>
                <a:xfrm>
                  <a:off x="7369200" y="2435400"/>
                  <a:ext cx="28440" cy="7920"/>
                </a:xfrm>
                <a:custGeom>
                  <a:avLst/>
                  <a:gdLst/>
                  <a:ahLst/>
                  <a:rect l="l" t="t" r="r" b="b"/>
                  <a:pathLst>
                    <a:path w="55" h="15">
                      <a:moveTo>
                        <a:pt x="55" y="0"/>
                      </a:moveTo>
                      <a:lnTo>
                        <a:pt x="27" y="15"/>
                      </a:lnTo>
                      <a:lnTo>
                        <a:pt x="14" y="15"/>
                      </a:lnTo>
                      <a:lnTo>
                        <a:pt x="0" y="15"/>
                      </a:lnTo>
                      <a:lnTo>
                        <a:pt x="14" y="15"/>
                      </a:lnTo>
                      <a:lnTo>
                        <a:pt x="27" y="15"/>
                      </a:lnTo>
                      <a:lnTo>
                        <a:pt x="55"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2" name=""/>
                <p:cNvSpPr/>
                <p:nvPr/>
              </p:nvSpPr>
              <p:spPr>
                <a:xfrm>
                  <a:off x="7369200" y="2435400"/>
                  <a:ext cx="28440" cy="7920"/>
                </a:xfrm>
                <a:custGeom>
                  <a:avLst/>
                  <a:gdLst/>
                  <a:ahLst/>
                  <a:rect l="l" t="t" r="r" b="b"/>
                  <a:pathLst>
                    <a:path w="55" h="15">
                      <a:moveTo>
                        <a:pt x="55" y="0"/>
                      </a:moveTo>
                      <a:lnTo>
                        <a:pt x="27" y="15"/>
                      </a:lnTo>
                      <a:lnTo>
                        <a:pt x="14" y="15"/>
                      </a:lnTo>
                      <a:lnTo>
                        <a:pt x="0" y="15"/>
                      </a:lnTo>
                      <a:lnTo>
                        <a:pt x="14" y="15"/>
                      </a:lnTo>
                      <a:lnTo>
                        <a:pt x="27" y="15"/>
                      </a:lnTo>
                      <a:lnTo>
                        <a:pt x="55"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3" name=""/>
                <p:cNvSpPr/>
                <p:nvPr/>
              </p:nvSpPr>
              <p:spPr>
                <a:xfrm>
                  <a:off x="8410680" y="2460600"/>
                  <a:ext cx="28440" cy="31680"/>
                </a:xfrm>
                <a:custGeom>
                  <a:avLst/>
                  <a:gdLst/>
                  <a:ahLst/>
                  <a:rect l="l" t="t" r="r" b="b"/>
                  <a:pathLst>
                    <a:path w="55" h="62">
                      <a:moveTo>
                        <a:pt x="55" y="47"/>
                      </a:moveTo>
                      <a:lnTo>
                        <a:pt x="41" y="62"/>
                      </a:lnTo>
                      <a:lnTo>
                        <a:pt x="13" y="62"/>
                      </a:lnTo>
                      <a:lnTo>
                        <a:pt x="0" y="15"/>
                      </a:lnTo>
                      <a:lnTo>
                        <a:pt x="13" y="0"/>
                      </a:lnTo>
                      <a:lnTo>
                        <a:pt x="27" y="0"/>
                      </a:lnTo>
                      <a:lnTo>
                        <a:pt x="41" y="15"/>
                      </a:lnTo>
                      <a:lnTo>
                        <a:pt x="41" y="32"/>
                      </a:lnTo>
                      <a:lnTo>
                        <a:pt x="55" y="47"/>
                      </a:lnTo>
                      <a:close/>
                    </a:path>
                  </a:pathLst>
                </a:custGeom>
                <a:solidFill>
                  <a:srgbClr val="0093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14" name=""/>
                <p:cNvSpPr/>
                <p:nvPr/>
              </p:nvSpPr>
              <p:spPr>
                <a:xfrm>
                  <a:off x="8410680" y="2460600"/>
                  <a:ext cx="28440" cy="31680"/>
                </a:xfrm>
                <a:custGeom>
                  <a:avLst/>
                  <a:gdLst/>
                  <a:ahLst/>
                  <a:rect l="l" t="t" r="r" b="b"/>
                  <a:pathLst>
                    <a:path w="55" h="62">
                      <a:moveTo>
                        <a:pt x="55" y="47"/>
                      </a:moveTo>
                      <a:lnTo>
                        <a:pt x="41" y="62"/>
                      </a:lnTo>
                      <a:lnTo>
                        <a:pt x="13" y="62"/>
                      </a:lnTo>
                      <a:lnTo>
                        <a:pt x="0" y="15"/>
                      </a:lnTo>
                      <a:lnTo>
                        <a:pt x="13" y="0"/>
                      </a:lnTo>
                      <a:lnTo>
                        <a:pt x="27" y="0"/>
                      </a:lnTo>
                      <a:lnTo>
                        <a:pt x="41" y="15"/>
                      </a:lnTo>
                      <a:lnTo>
                        <a:pt x="41" y="32"/>
                      </a:lnTo>
                      <a:lnTo>
                        <a:pt x="55" y="47"/>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15" name=""/>
                <p:cNvSpPr/>
                <p:nvPr/>
              </p:nvSpPr>
              <p:spPr>
                <a:xfrm>
                  <a:off x="5799240" y="2527200"/>
                  <a:ext cx="1440" cy="7920"/>
                </a:xfrm>
                <a:custGeom>
                  <a:avLst/>
                  <a:gdLst/>
                  <a:ahLst/>
                  <a:rect l="l" t="t" r="r" b="b"/>
                  <a:pathLst>
                    <a:path w="0" h="15">
                      <a:moveTo>
                        <a:pt x="0" y="0"/>
                      </a:moveTo>
                      <a:lnTo>
                        <a:pt x="0" y="15"/>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5799240" y="2527200"/>
                  <a:ext cx="1440" cy="7920"/>
                </a:xfrm>
                <a:custGeom>
                  <a:avLst/>
                  <a:gdLst/>
                  <a:ahLst/>
                  <a:rect l="l" t="t" r="r" b="b"/>
                  <a:pathLst>
                    <a:path w="0" h="15">
                      <a:moveTo>
                        <a:pt x="0" y="0"/>
                      </a:moveTo>
                      <a:lnTo>
                        <a:pt x="0" y="15"/>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5799240" y="2585880"/>
                  <a:ext cx="1440" cy="7920"/>
                </a:xfrm>
                <a:custGeom>
                  <a:avLst/>
                  <a:gdLst/>
                  <a:ahLst/>
                  <a:rect l="l" t="t" r="r" b="b"/>
                  <a:pathLst>
                    <a:path w="0" h="15">
                      <a:moveTo>
                        <a:pt x="0" y="0"/>
                      </a:moveTo>
                      <a:lnTo>
                        <a:pt x="0" y="15"/>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8" name=""/>
                <p:cNvSpPr/>
                <p:nvPr/>
              </p:nvSpPr>
              <p:spPr>
                <a:xfrm>
                  <a:off x="5799240" y="2585880"/>
                  <a:ext cx="1440" cy="7920"/>
                </a:xfrm>
                <a:custGeom>
                  <a:avLst/>
                  <a:gdLst/>
                  <a:ahLst/>
                  <a:rect l="l" t="t" r="r" b="b"/>
                  <a:pathLst>
                    <a:path w="0" h="15">
                      <a:moveTo>
                        <a:pt x="0" y="0"/>
                      </a:moveTo>
                      <a:lnTo>
                        <a:pt x="0" y="15"/>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9" name=""/>
                <p:cNvSpPr/>
                <p:nvPr/>
              </p:nvSpPr>
              <p:spPr>
                <a:xfrm>
                  <a:off x="8344080" y="2593800"/>
                  <a:ext cx="21960" cy="41400"/>
                </a:xfrm>
                <a:custGeom>
                  <a:avLst/>
                  <a:gdLst/>
                  <a:ahLst/>
                  <a:rect l="l" t="t" r="r" b="b"/>
                  <a:pathLst>
                    <a:path w="42" h="79">
                      <a:moveTo>
                        <a:pt x="14" y="0"/>
                      </a:moveTo>
                      <a:lnTo>
                        <a:pt x="28" y="16"/>
                      </a:lnTo>
                      <a:lnTo>
                        <a:pt x="42" y="47"/>
                      </a:lnTo>
                      <a:lnTo>
                        <a:pt x="42" y="63"/>
                      </a:lnTo>
                      <a:lnTo>
                        <a:pt x="28" y="79"/>
                      </a:lnTo>
                      <a:lnTo>
                        <a:pt x="14" y="79"/>
                      </a:lnTo>
                      <a:lnTo>
                        <a:pt x="14" y="63"/>
                      </a:lnTo>
                      <a:lnTo>
                        <a:pt x="0" y="32"/>
                      </a:lnTo>
                      <a:lnTo>
                        <a:pt x="0" y="16"/>
                      </a:lnTo>
                      <a:lnTo>
                        <a:pt x="14" y="0"/>
                      </a:lnTo>
                      <a:close/>
                    </a:path>
                  </a:pathLst>
                </a:custGeom>
                <a:solidFill>
                  <a:srgbClr val="00937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0" name=""/>
                <p:cNvSpPr/>
                <p:nvPr/>
              </p:nvSpPr>
              <p:spPr>
                <a:xfrm>
                  <a:off x="8344080" y="2593800"/>
                  <a:ext cx="21960" cy="41400"/>
                </a:xfrm>
                <a:custGeom>
                  <a:avLst/>
                  <a:gdLst/>
                  <a:ahLst/>
                  <a:rect l="l" t="t" r="r" b="b"/>
                  <a:pathLst>
                    <a:path w="42" h="79">
                      <a:moveTo>
                        <a:pt x="14" y="0"/>
                      </a:moveTo>
                      <a:lnTo>
                        <a:pt x="28" y="16"/>
                      </a:lnTo>
                      <a:lnTo>
                        <a:pt x="42" y="47"/>
                      </a:lnTo>
                      <a:lnTo>
                        <a:pt x="42" y="63"/>
                      </a:lnTo>
                      <a:lnTo>
                        <a:pt x="28" y="79"/>
                      </a:lnTo>
                      <a:lnTo>
                        <a:pt x="14" y="79"/>
                      </a:lnTo>
                      <a:lnTo>
                        <a:pt x="14" y="63"/>
                      </a:lnTo>
                      <a:lnTo>
                        <a:pt x="0" y="32"/>
                      </a:lnTo>
                      <a:lnTo>
                        <a:pt x="0" y="16"/>
                      </a:lnTo>
                      <a:lnTo>
                        <a:pt x="14"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6093000" y="2617920"/>
                  <a:ext cx="109440" cy="50760"/>
                </a:xfrm>
                <a:custGeom>
                  <a:avLst/>
                  <a:gdLst/>
                  <a:ahLst/>
                  <a:rect l="l" t="t" r="r" b="b"/>
                  <a:pathLst>
                    <a:path w="207" h="95">
                      <a:moveTo>
                        <a:pt x="0" y="32"/>
                      </a:moveTo>
                      <a:lnTo>
                        <a:pt x="28" y="0"/>
                      </a:lnTo>
                      <a:lnTo>
                        <a:pt x="55" y="0"/>
                      </a:lnTo>
                      <a:lnTo>
                        <a:pt x="111" y="16"/>
                      </a:lnTo>
                      <a:lnTo>
                        <a:pt x="124" y="32"/>
                      </a:lnTo>
                      <a:lnTo>
                        <a:pt x="138" y="32"/>
                      </a:lnTo>
                      <a:lnTo>
                        <a:pt x="152" y="32"/>
                      </a:lnTo>
                      <a:lnTo>
                        <a:pt x="152" y="48"/>
                      </a:lnTo>
                      <a:lnTo>
                        <a:pt x="180" y="48"/>
                      </a:lnTo>
                      <a:lnTo>
                        <a:pt x="194" y="63"/>
                      </a:lnTo>
                      <a:lnTo>
                        <a:pt x="207" y="79"/>
                      </a:lnTo>
                      <a:lnTo>
                        <a:pt x="194" y="95"/>
                      </a:lnTo>
                      <a:lnTo>
                        <a:pt x="180" y="79"/>
                      </a:lnTo>
                      <a:lnTo>
                        <a:pt x="166" y="79"/>
                      </a:lnTo>
                      <a:lnTo>
                        <a:pt x="152" y="79"/>
                      </a:lnTo>
                      <a:lnTo>
                        <a:pt x="124" y="63"/>
                      </a:lnTo>
                      <a:lnTo>
                        <a:pt x="138" y="63"/>
                      </a:lnTo>
                      <a:lnTo>
                        <a:pt x="138" y="48"/>
                      </a:lnTo>
                      <a:lnTo>
                        <a:pt x="124" y="48"/>
                      </a:lnTo>
                      <a:lnTo>
                        <a:pt x="111" y="32"/>
                      </a:lnTo>
                      <a:lnTo>
                        <a:pt x="111" y="48"/>
                      </a:lnTo>
                      <a:lnTo>
                        <a:pt x="97" y="32"/>
                      </a:lnTo>
                      <a:lnTo>
                        <a:pt x="83" y="32"/>
                      </a:lnTo>
                      <a:lnTo>
                        <a:pt x="55" y="16"/>
                      </a:lnTo>
                      <a:lnTo>
                        <a:pt x="41" y="16"/>
                      </a:lnTo>
                      <a:lnTo>
                        <a:pt x="28" y="16"/>
                      </a:lnTo>
                      <a:lnTo>
                        <a:pt x="0" y="32"/>
                      </a:lnTo>
                      <a:close/>
                    </a:path>
                  </a:pathLst>
                </a:custGeom>
                <a:solidFill>
                  <a:srgbClr val="00937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2" name=""/>
                <p:cNvSpPr/>
                <p:nvPr/>
              </p:nvSpPr>
              <p:spPr>
                <a:xfrm>
                  <a:off x="6093000" y="2617920"/>
                  <a:ext cx="109440" cy="50760"/>
                </a:xfrm>
                <a:custGeom>
                  <a:avLst/>
                  <a:gdLst/>
                  <a:ahLst/>
                  <a:rect l="l" t="t" r="r" b="b"/>
                  <a:pathLst>
                    <a:path w="207" h="95">
                      <a:moveTo>
                        <a:pt x="0" y="32"/>
                      </a:moveTo>
                      <a:lnTo>
                        <a:pt x="28" y="0"/>
                      </a:lnTo>
                      <a:lnTo>
                        <a:pt x="55" y="0"/>
                      </a:lnTo>
                      <a:lnTo>
                        <a:pt x="111" y="16"/>
                      </a:lnTo>
                      <a:lnTo>
                        <a:pt x="124" y="32"/>
                      </a:lnTo>
                      <a:lnTo>
                        <a:pt x="138" y="32"/>
                      </a:lnTo>
                      <a:lnTo>
                        <a:pt x="152" y="32"/>
                      </a:lnTo>
                      <a:lnTo>
                        <a:pt x="152" y="48"/>
                      </a:lnTo>
                      <a:lnTo>
                        <a:pt x="180" y="48"/>
                      </a:lnTo>
                      <a:lnTo>
                        <a:pt x="194" y="63"/>
                      </a:lnTo>
                      <a:lnTo>
                        <a:pt x="207" y="79"/>
                      </a:lnTo>
                      <a:lnTo>
                        <a:pt x="194" y="95"/>
                      </a:lnTo>
                      <a:lnTo>
                        <a:pt x="180" y="79"/>
                      </a:lnTo>
                      <a:lnTo>
                        <a:pt x="166" y="79"/>
                      </a:lnTo>
                      <a:lnTo>
                        <a:pt x="152" y="79"/>
                      </a:lnTo>
                      <a:lnTo>
                        <a:pt x="124" y="63"/>
                      </a:lnTo>
                      <a:lnTo>
                        <a:pt x="138" y="63"/>
                      </a:lnTo>
                      <a:lnTo>
                        <a:pt x="138" y="48"/>
                      </a:lnTo>
                      <a:lnTo>
                        <a:pt x="124" y="48"/>
                      </a:lnTo>
                      <a:lnTo>
                        <a:pt x="111" y="32"/>
                      </a:lnTo>
                      <a:lnTo>
                        <a:pt x="111" y="48"/>
                      </a:lnTo>
                      <a:lnTo>
                        <a:pt x="97" y="32"/>
                      </a:lnTo>
                      <a:lnTo>
                        <a:pt x="83" y="32"/>
                      </a:lnTo>
                      <a:lnTo>
                        <a:pt x="55" y="16"/>
                      </a:lnTo>
                      <a:lnTo>
                        <a:pt x="41" y="16"/>
                      </a:lnTo>
                      <a:lnTo>
                        <a:pt x="28" y="16"/>
                      </a:lnTo>
                      <a:lnTo>
                        <a:pt x="0" y="3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3" name=""/>
                <p:cNvSpPr/>
                <p:nvPr/>
              </p:nvSpPr>
              <p:spPr>
                <a:xfrm>
                  <a:off x="5484960" y="1976400"/>
                  <a:ext cx="102960" cy="57240"/>
                </a:xfrm>
                <a:custGeom>
                  <a:avLst/>
                  <a:gdLst/>
                  <a:ahLst/>
                  <a:rect l="l" t="t" r="r" b="b"/>
                  <a:pathLst>
                    <a:path w="195" h="110">
                      <a:moveTo>
                        <a:pt x="111" y="0"/>
                      </a:moveTo>
                      <a:lnTo>
                        <a:pt x="125" y="16"/>
                      </a:lnTo>
                      <a:lnTo>
                        <a:pt x="140" y="31"/>
                      </a:lnTo>
                      <a:lnTo>
                        <a:pt x="154" y="47"/>
                      </a:lnTo>
                      <a:lnTo>
                        <a:pt x="168" y="47"/>
                      </a:lnTo>
                      <a:lnTo>
                        <a:pt x="181" y="47"/>
                      </a:lnTo>
                      <a:lnTo>
                        <a:pt x="195" y="63"/>
                      </a:lnTo>
                      <a:lnTo>
                        <a:pt x="181" y="63"/>
                      </a:lnTo>
                      <a:lnTo>
                        <a:pt x="181" y="79"/>
                      </a:lnTo>
                      <a:lnTo>
                        <a:pt x="168" y="79"/>
                      </a:lnTo>
                      <a:lnTo>
                        <a:pt x="154" y="79"/>
                      </a:lnTo>
                      <a:lnTo>
                        <a:pt x="140" y="79"/>
                      </a:lnTo>
                      <a:lnTo>
                        <a:pt x="111" y="79"/>
                      </a:lnTo>
                      <a:lnTo>
                        <a:pt x="111" y="94"/>
                      </a:lnTo>
                      <a:lnTo>
                        <a:pt x="97" y="110"/>
                      </a:lnTo>
                      <a:lnTo>
                        <a:pt x="83" y="110"/>
                      </a:lnTo>
                      <a:lnTo>
                        <a:pt x="69" y="94"/>
                      </a:lnTo>
                      <a:lnTo>
                        <a:pt x="56" y="79"/>
                      </a:lnTo>
                      <a:lnTo>
                        <a:pt x="56" y="63"/>
                      </a:lnTo>
                      <a:lnTo>
                        <a:pt x="28" y="63"/>
                      </a:lnTo>
                      <a:lnTo>
                        <a:pt x="14" y="79"/>
                      </a:lnTo>
                      <a:lnTo>
                        <a:pt x="0" y="79"/>
                      </a:lnTo>
                      <a:lnTo>
                        <a:pt x="0" y="94"/>
                      </a:lnTo>
                      <a:lnTo>
                        <a:pt x="14" y="63"/>
                      </a:lnTo>
                      <a:lnTo>
                        <a:pt x="42" y="47"/>
                      </a:lnTo>
                      <a:lnTo>
                        <a:pt x="69" y="31"/>
                      </a:lnTo>
                      <a:lnTo>
                        <a:pt x="97" y="16"/>
                      </a:lnTo>
                      <a:lnTo>
                        <a:pt x="111"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4" name=""/>
                <p:cNvSpPr/>
                <p:nvPr/>
              </p:nvSpPr>
              <p:spPr>
                <a:xfrm>
                  <a:off x="5484960" y="1976400"/>
                  <a:ext cx="102960" cy="57240"/>
                </a:xfrm>
                <a:custGeom>
                  <a:avLst/>
                  <a:gdLst/>
                  <a:ahLst/>
                  <a:rect l="l" t="t" r="r" b="b"/>
                  <a:pathLst>
                    <a:path w="195" h="110">
                      <a:moveTo>
                        <a:pt x="111" y="0"/>
                      </a:moveTo>
                      <a:lnTo>
                        <a:pt x="125" y="16"/>
                      </a:lnTo>
                      <a:lnTo>
                        <a:pt x="140" y="31"/>
                      </a:lnTo>
                      <a:lnTo>
                        <a:pt x="154" y="47"/>
                      </a:lnTo>
                      <a:lnTo>
                        <a:pt x="168" y="47"/>
                      </a:lnTo>
                      <a:lnTo>
                        <a:pt x="181" y="47"/>
                      </a:lnTo>
                      <a:lnTo>
                        <a:pt x="195" y="63"/>
                      </a:lnTo>
                      <a:lnTo>
                        <a:pt x="181" y="63"/>
                      </a:lnTo>
                      <a:lnTo>
                        <a:pt x="181" y="79"/>
                      </a:lnTo>
                      <a:lnTo>
                        <a:pt x="168" y="79"/>
                      </a:lnTo>
                      <a:lnTo>
                        <a:pt x="154" y="79"/>
                      </a:lnTo>
                      <a:lnTo>
                        <a:pt x="140" y="79"/>
                      </a:lnTo>
                      <a:lnTo>
                        <a:pt x="111" y="79"/>
                      </a:lnTo>
                      <a:lnTo>
                        <a:pt x="111" y="94"/>
                      </a:lnTo>
                      <a:lnTo>
                        <a:pt x="97" y="110"/>
                      </a:lnTo>
                      <a:lnTo>
                        <a:pt x="83" y="110"/>
                      </a:lnTo>
                      <a:lnTo>
                        <a:pt x="69" y="94"/>
                      </a:lnTo>
                      <a:lnTo>
                        <a:pt x="56" y="79"/>
                      </a:lnTo>
                      <a:lnTo>
                        <a:pt x="56" y="63"/>
                      </a:lnTo>
                      <a:lnTo>
                        <a:pt x="28" y="63"/>
                      </a:lnTo>
                      <a:lnTo>
                        <a:pt x="14" y="79"/>
                      </a:lnTo>
                      <a:lnTo>
                        <a:pt x="0" y="79"/>
                      </a:lnTo>
                      <a:lnTo>
                        <a:pt x="0" y="94"/>
                      </a:lnTo>
                      <a:lnTo>
                        <a:pt x="14" y="63"/>
                      </a:lnTo>
                      <a:lnTo>
                        <a:pt x="42" y="47"/>
                      </a:lnTo>
                      <a:lnTo>
                        <a:pt x="69" y="31"/>
                      </a:lnTo>
                      <a:lnTo>
                        <a:pt x="97" y="16"/>
                      </a:lnTo>
                      <a:lnTo>
                        <a:pt x="111"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5" name=""/>
                <p:cNvSpPr/>
                <p:nvPr/>
              </p:nvSpPr>
              <p:spPr>
                <a:xfrm>
                  <a:off x="6826320" y="2409840"/>
                  <a:ext cx="784080" cy="1044720"/>
                </a:xfrm>
                <a:custGeom>
                  <a:avLst/>
                  <a:gdLst/>
                  <a:ahLst/>
                  <a:rect l="l" t="t" r="r" b="b"/>
                  <a:pathLst>
                    <a:path w="1481" h="1974">
                      <a:moveTo>
                        <a:pt x="1039" y="222"/>
                      </a:moveTo>
                      <a:lnTo>
                        <a:pt x="1052" y="237"/>
                      </a:lnTo>
                      <a:lnTo>
                        <a:pt x="1066" y="254"/>
                      </a:lnTo>
                      <a:lnTo>
                        <a:pt x="1066" y="269"/>
                      </a:lnTo>
                      <a:lnTo>
                        <a:pt x="1080" y="269"/>
                      </a:lnTo>
                      <a:lnTo>
                        <a:pt x="1080" y="285"/>
                      </a:lnTo>
                      <a:lnTo>
                        <a:pt x="1080" y="301"/>
                      </a:lnTo>
                      <a:lnTo>
                        <a:pt x="1094" y="316"/>
                      </a:lnTo>
                      <a:lnTo>
                        <a:pt x="1094" y="333"/>
                      </a:lnTo>
                      <a:lnTo>
                        <a:pt x="1108" y="364"/>
                      </a:lnTo>
                      <a:lnTo>
                        <a:pt x="1122" y="380"/>
                      </a:lnTo>
                      <a:lnTo>
                        <a:pt x="1122" y="395"/>
                      </a:lnTo>
                      <a:lnTo>
                        <a:pt x="1135" y="411"/>
                      </a:lnTo>
                      <a:lnTo>
                        <a:pt x="1149" y="427"/>
                      </a:lnTo>
                      <a:lnTo>
                        <a:pt x="1149" y="443"/>
                      </a:lnTo>
                      <a:lnTo>
                        <a:pt x="1163" y="458"/>
                      </a:lnTo>
                      <a:lnTo>
                        <a:pt x="1177" y="490"/>
                      </a:lnTo>
                      <a:lnTo>
                        <a:pt x="1191" y="522"/>
                      </a:lnTo>
                      <a:lnTo>
                        <a:pt x="1205" y="569"/>
                      </a:lnTo>
                      <a:lnTo>
                        <a:pt x="1205" y="584"/>
                      </a:lnTo>
                      <a:lnTo>
                        <a:pt x="1205" y="601"/>
                      </a:lnTo>
                      <a:lnTo>
                        <a:pt x="1218" y="616"/>
                      </a:lnTo>
                      <a:lnTo>
                        <a:pt x="1232" y="616"/>
                      </a:lnTo>
                      <a:lnTo>
                        <a:pt x="1246" y="631"/>
                      </a:lnTo>
                      <a:lnTo>
                        <a:pt x="1260" y="631"/>
                      </a:lnTo>
                      <a:lnTo>
                        <a:pt x="1260" y="648"/>
                      </a:lnTo>
                      <a:lnTo>
                        <a:pt x="1274" y="663"/>
                      </a:lnTo>
                      <a:lnTo>
                        <a:pt x="1288" y="663"/>
                      </a:lnTo>
                      <a:lnTo>
                        <a:pt x="1288" y="680"/>
                      </a:lnTo>
                      <a:lnTo>
                        <a:pt x="1288" y="695"/>
                      </a:lnTo>
                      <a:lnTo>
                        <a:pt x="1274" y="710"/>
                      </a:lnTo>
                      <a:lnTo>
                        <a:pt x="1288" y="710"/>
                      </a:lnTo>
                      <a:lnTo>
                        <a:pt x="1301" y="710"/>
                      </a:lnTo>
                      <a:lnTo>
                        <a:pt x="1301" y="727"/>
                      </a:lnTo>
                      <a:lnTo>
                        <a:pt x="1315" y="727"/>
                      </a:lnTo>
                      <a:lnTo>
                        <a:pt x="1329" y="742"/>
                      </a:lnTo>
                      <a:lnTo>
                        <a:pt x="1343" y="742"/>
                      </a:lnTo>
                      <a:lnTo>
                        <a:pt x="1343" y="727"/>
                      </a:lnTo>
                      <a:lnTo>
                        <a:pt x="1384" y="727"/>
                      </a:lnTo>
                      <a:lnTo>
                        <a:pt x="1440" y="727"/>
                      </a:lnTo>
                      <a:lnTo>
                        <a:pt x="1467" y="742"/>
                      </a:lnTo>
                      <a:lnTo>
                        <a:pt x="1481" y="774"/>
                      </a:lnTo>
                      <a:lnTo>
                        <a:pt x="1481" y="789"/>
                      </a:lnTo>
                      <a:lnTo>
                        <a:pt x="1467" y="806"/>
                      </a:lnTo>
                      <a:lnTo>
                        <a:pt x="1454" y="806"/>
                      </a:lnTo>
                      <a:lnTo>
                        <a:pt x="1440" y="806"/>
                      </a:lnTo>
                      <a:lnTo>
                        <a:pt x="1426" y="821"/>
                      </a:lnTo>
                      <a:lnTo>
                        <a:pt x="1426" y="838"/>
                      </a:lnTo>
                      <a:lnTo>
                        <a:pt x="1426" y="853"/>
                      </a:lnTo>
                      <a:lnTo>
                        <a:pt x="1398" y="900"/>
                      </a:lnTo>
                      <a:lnTo>
                        <a:pt x="1384" y="932"/>
                      </a:lnTo>
                      <a:lnTo>
                        <a:pt x="1357" y="963"/>
                      </a:lnTo>
                      <a:lnTo>
                        <a:pt x="1343" y="979"/>
                      </a:lnTo>
                      <a:lnTo>
                        <a:pt x="1329" y="995"/>
                      </a:lnTo>
                      <a:lnTo>
                        <a:pt x="1315" y="995"/>
                      </a:lnTo>
                      <a:lnTo>
                        <a:pt x="1329" y="995"/>
                      </a:lnTo>
                      <a:lnTo>
                        <a:pt x="1329" y="979"/>
                      </a:lnTo>
                      <a:lnTo>
                        <a:pt x="1343" y="979"/>
                      </a:lnTo>
                      <a:lnTo>
                        <a:pt x="1343" y="963"/>
                      </a:lnTo>
                      <a:lnTo>
                        <a:pt x="1357" y="947"/>
                      </a:lnTo>
                      <a:lnTo>
                        <a:pt x="1343" y="963"/>
                      </a:lnTo>
                      <a:lnTo>
                        <a:pt x="1329" y="979"/>
                      </a:lnTo>
                      <a:lnTo>
                        <a:pt x="1329" y="995"/>
                      </a:lnTo>
                      <a:lnTo>
                        <a:pt x="1301" y="1011"/>
                      </a:lnTo>
                      <a:lnTo>
                        <a:pt x="1288" y="1027"/>
                      </a:lnTo>
                      <a:lnTo>
                        <a:pt x="1288" y="1042"/>
                      </a:lnTo>
                      <a:lnTo>
                        <a:pt x="1274" y="1058"/>
                      </a:lnTo>
                      <a:lnTo>
                        <a:pt x="1260" y="1074"/>
                      </a:lnTo>
                      <a:lnTo>
                        <a:pt x="1246" y="1074"/>
                      </a:lnTo>
                      <a:lnTo>
                        <a:pt x="1232" y="1106"/>
                      </a:lnTo>
                      <a:lnTo>
                        <a:pt x="1218" y="1121"/>
                      </a:lnTo>
                      <a:lnTo>
                        <a:pt x="1218" y="1153"/>
                      </a:lnTo>
                      <a:lnTo>
                        <a:pt x="1205" y="1200"/>
                      </a:lnTo>
                      <a:lnTo>
                        <a:pt x="1205" y="1232"/>
                      </a:lnTo>
                      <a:lnTo>
                        <a:pt x="1218" y="1264"/>
                      </a:lnTo>
                      <a:lnTo>
                        <a:pt x="1232" y="1311"/>
                      </a:lnTo>
                      <a:lnTo>
                        <a:pt x="1246" y="1311"/>
                      </a:lnTo>
                      <a:lnTo>
                        <a:pt x="1232" y="1373"/>
                      </a:lnTo>
                      <a:lnTo>
                        <a:pt x="1232" y="1421"/>
                      </a:lnTo>
                      <a:lnTo>
                        <a:pt x="1218" y="1469"/>
                      </a:lnTo>
                      <a:lnTo>
                        <a:pt x="1205" y="1484"/>
                      </a:lnTo>
                      <a:lnTo>
                        <a:pt x="1191" y="1484"/>
                      </a:lnTo>
                      <a:lnTo>
                        <a:pt x="1177" y="1500"/>
                      </a:lnTo>
                      <a:lnTo>
                        <a:pt x="1163" y="1500"/>
                      </a:lnTo>
                      <a:lnTo>
                        <a:pt x="1163" y="1516"/>
                      </a:lnTo>
                      <a:lnTo>
                        <a:pt x="1149" y="1531"/>
                      </a:lnTo>
                      <a:lnTo>
                        <a:pt x="1135" y="1547"/>
                      </a:lnTo>
                      <a:lnTo>
                        <a:pt x="1122" y="1547"/>
                      </a:lnTo>
                      <a:lnTo>
                        <a:pt x="1108" y="1563"/>
                      </a:lnTo>
                      <a:lnTo>
                        <a:pt x="1094" y="1626"/>
                      </a:lnTo>
                      <a:lnTo>
                        <a:pt x="1080" y="1673"/>
                      </a:lnTo>
                      <a:lnTo>
                        <a:pt x="1066" y="1720"/>
                      </a:lnTo>
                      <a:lnTo>
                        <a:pt x="1066" y="1737"/>
                      </a:lnTo>
                      <a:lnTo>
                        <a:pt x="1066" y="1752"/>
                      </a:lnTo>
                      <a:lnTo>
                        <a:pt x="1052" y="1784"/>
                      </a:lnTo>
                      <a:lnTo>
                        <a:pt x="1025" y="1816"/>
                      </a:lnTo>
                      <a:lnTo>
                        <a:pt x="1011" y="1846"/>
                      </a:lnTo>
                      <a:lnTo>
                        <a:pt x="983" y="1878"/>
                      </a:lnTo>
                      <a:lnTo>
                        <a:pt x="969" y="1910"/>
                      </a:lnTo>
                      <a:lnTo>
                        <a:pt x="942" y="1942"/>
                      </a:lnTo>
                      <a:lnTo>
                        <a:pt x="914" y="1957"/>
                      </a:lnTo>
                      <a:lnTo>
                        <a:pt x="886" y="1957"/>
                      </a:lnTo>
                      <a:lnTo>
                        <a:pt x="873" y="1957"/>
                      </a:lnTo>
                      <a:lnTo>
                        <a:pt x="859" y="1957"/>
                      </a:lnTo>
                      <a:lnTo>
                        <a:pt x="831" y="1957"/>
                      </a:lnTo>
                      <a:lnTo>
                        <a:pt x="817" y="1957"/>
                      </a:lnTo>
                      <a:lnTo>
                        <a:pt x="817" y="1974"/>
                      </a:lnTo>
                      <a:lnTo>
                        <a:pt x="790" y="1974"/>
                      </a:lnTo>
                      <a:lnTo>
                        <a:pt x="761" y="1957"/>
                      </a:lnTo>
                      <a:lnTo>
                        <a:pt x="747" y="1925"/>
                      </a:lnTo>
                      <a:lnTo>
                        <a:pt x="733" y="1878"/>
                      </a:lnTo>
                      <a:lnTo>
                        <a:pt x="733" y="1846"/>
                      </a:lnTo>
                      <a:lnTo>
                        <a:pt x="719" y="1799"/>
                      </a:lnTo>
                      <a:lnTo>
                        <a:pt x="705" y="1767"/>
                      </a:lnTo>
                      <a:lnTo>
                        <a:pt x="705" y="1752"/>
                      </a:lnTo>
                      <a:lnTo>
                        <a:pt x="691" y="1752"/>
                      </a:lnTo>
                      <a:lnTo>
                        <a:pt x="691" y="1767"/>
                      </a:lnTo>
                      <a:lnTo>
                        <a:pt x="691" y="1752"/>
                      </a:lnTo>
                      <a:lnTo>
                        <a:pt x="691" y="1705"/>
                      </a:lnTo>
                      <a:lnTo>
                        <a:pt x="678" y="1658"/>
                      </a:lnTo>
                      <a:lnTo>
                        <a:pt x="664" y="1626"/>
                      </a:lnTo>
                      <a:lnTo>
                        <a:pt x="664" y="1579"/>
                      </a:lnTo>
                      <a:lnTo>
                        <a:pt x="650" y="1563"/>
                      </a:lnTo>
                      <a:lnTo>
                        <a:pt x="650" y="1547"/>
                      </a:lnTo>
                      <a:lnTo>
                        <a:pt x="636" y="1531"/>
                      </a:lnTo>
                      <a:lnTo>
                        <a:pt x="636" y="1516"/>
                      </a:lnTo>
                      <a:lnTo>
                        <a:pt x="636" y="1484"/>
                      </a:lnTo>
                      <a:lnTo>
                        <a:pt x="636" y="1437"/>
                      </a:lnTo>
                      <a:lnTo>
                        <a:pt x="650" y="1390"/>
                      </a:lnTo>
                      <a:lnTo>
                        <a:pt x="650" y="1373"/>
                      </a:lnTo>
                      <a:lnTo>
                        <a:pt x="664" y="1358"/>
                      </a:lnTo>
                      <a:lnTo>
                        <a:pt x="678" y="1343"/>
                      </a:lnTo>
                      <a:lnTo>
                        <a:pt x="664" y="1294"/>
                      </a:lnTo>
                      <a:lnTo>
                        <a:pt x="650" y="1247"/>
                      </a:lnTo>
                      <a:lnTo>
                        <a:pt x="636" y="1200"/>
                      </a:lnTo>
                      <a:lnTo>
                        <a:pt x="650" y="1185"/>
                      </a:lnTo>
                      <a:lnTo>
                        <a:pt x="664" y="1185"/>
                      </a:lnTo>
                      <a:lnTo>
                        <a:pt x="636" y="1153"/>
                      </a:lnTo>
                      <a:lnTo>
                        <a:pt x="608" y="1121"/>
                      </a:lnTo>
                      <a:lnTo>
                        <a:pt x="581" y="1074"/>
                      </a:lnTo>
                      <a:lnTo>
                        <a:pt x="567" y="1042"/>
                      </a:lnTo>
                      <a:lnTo>
                        <a:pt x="581" y="995"/>
                      </a:lnTo>
                      <a:lnTo>
                        <a:pt x="595" y="963"/>
                      </a:lnTo>
                      <a:lnTo>
                        <a:pt x="595" y="916"/>
                      </a:lnTo>
                      <a:lnTo>
                        <a:pt x="581" y="900"/>
                      </a:lnTo>
                      <a:lnTo>
                        <a:pt x="539" y="885"/>
                      </a:lnTo>
                      <a:lnTo>
                        <a:pt x="470" y="868"/>
                      </a:lnTo>
                      <a:lnTo>
                        <a:pt x="456" y="868"/>
                      </a:lnTo>
                      <a:lnTo>
                        <a:pt x="442" y="853"/>
                      </a:lnTo>
                      <a:lnTo>
                        <a:pt x="429" y="853"/>
                      </a:lnTo>
                      <a:lnTo>
                        <a:pt x="401" y="853"/>
                      </a:lnTo>
                      <a:lnTo>
                        <a:pt x="359" y="868"/>
                      </a:lnTo>
                      <a:lnTo>
                        <a:pt x="346" y="885"/>
                      </a:lnTo>
                      <a:lnTo>
                        <a:pt x="318" y="885"/>
                      </a:lnTo>
                      <a:lnTo>
                        <a:pt x="290" y="885"/>
                      </a:lnTo>
                      <a:lnTo>
                        <a:pt x="263" y="885"/>
                      </a:lnTo>
                      <a:lnTo>
                        <a:pt x="249" y="885"/>
                      </a:lnTo>
                      <a:lnTo>
                        <a:pt x="221" y="900"/>
                      </a:lnTo>
                      <a:lnTo>
                        <a:pt x="207" y="900"/>
                      </a:lnTo>
                      <a:lnTo>
                        <a:pt x="194" y="900"/>
                      </a:lnTo>
                      <a:lnTo>
                        <a:pt x="180" y="885"/>
                      </a:lnTo>
                      <a:lnTo>
                        <a:pt x="152" y="868"/>
                      </a:lnTo>
                      <a:lnTo>
                        <a:pt x="138" y="868"/>
                      </a:lnTo>
                      <a:lnTo>
                        <a:pt x="138" y="853"/>
                      </a:lnTo>
                      <a:lnTo>
                        <a:pt x="152" y="853"/>
                      </a:lnTo>
                      <a:lnTo>
                        <a:pt x="152" y="868"/>
                      </a:lnTo>
                      <a:lnTo>
                        <a:pt x="166" y="868"/>
                      </a:lnTo>
                      <a:lnTo>
                        <a:pt x="152" y="853"/>
                      </a:lnTo>
                      <a:lnTo>
                        <a:pt x="138" y="853"/>
                      </a:lnTo>
                      <a:lnTo>
                        <a:pt x="124" y="838"/>
                      </a:lnTo>
                      <a:lnTo>
                        <a:pt x="111" y="838"/>
                      </a:lnTo>
                      <a:lnTo>
                        <a:pt x="111" y="821"/>
                      </a:lnTo>
                      <a:lnTo>
                        <a:pt x="97" y="806"/>
                      </a:lnTo>
                      <a:lnTo>
                        <a:pt x="97" y="789"/>
                      </a:lnTo>
                      <a:lnTo>
                        <a:pt x="83" y="774"/>
                      </a:lnTo>
                      <a:lnTo>
                        <a:pt x="83" y="759"/>
                      </a:lnTo>
                      <a:lnTo>
                        <a:pt x="69" y="742"/>
                      </a:lnTo>
                      <a:lnTo>
                        <a:pt x="55" y="727"/>
                      </a:lnTo>
                      <a:lnTo>
                        <a:pt x="41" y="727"/>
                      </a:lnTo>
                      <a:lnTo>
                        <a:pt x="41" y="710"/>
                      </a:lnTo>
                      <a:lnTo>
                        <a:pt x="55" y="710"/>
                      </a:lnTo>
                      <a:lnTo>
                        <a:pt x="55" y="695"/>
                      </a:lnTo>
                      <a:lnTo>
                        <a:pt x="41" y="695"/>
                      </a:lnTo>
                      <a:lnTo>
                        <a:pt x="28" y="695"/>
                      </a:lnTo>
                      <a:lnTo>
                        <a:pt x="14" y="695"/>
                      </a:lnTo>
                      <a:lnTo>
                        <a:pt x="28" y="680"/>
                      </a:lnTo>
                      <a:lnTo>
                        <a:pt x="41" y="680"/>
                      </a:lnTo>
                      <a:lnTo>
                        <a:pt x="55" y="663"/>
                      </a:lnTo>
                      <a:lnTo>
                        <a:pt x="28" y="648"/>
                      </a:lnTo>
                      <a:lnTo>
                        <a:pt x="14" y="648"/>
                      </a:lnTo>
                      <a:lnTo>
                        <a:pt x="0" y="616"/>
                      </a:lnTo>
                      <a:lnTo>
                        <a:pt x="0" y="601"/>
                      </a:lnTo>
                      <a:lnTo>
                        <a:pt x="0" y="584"/>
                      </a:lnTo>
                      <a:lnTo>
                        <a:pt x="14" y="569"/>
                      </a:lnTo>
                      <a:lnTo>
                        <a:pt x="28" y="584"/>
                      </a:lnTo>
                      <a:lnTo>
                        <a:pt x="28" y="601"/>
                      </a:lnTo>
                      <a:lnTo>
                        <a:pt x="28" y="616"/>
                      </a:lnTo>
                      <a:lnTo>
                        <a:pt x="41" y="616"/>
                      </a:lnTo>
                      <a:lnTo>
                        <a:pt x="41" y="601"/>
                      </a:lnTo>
                      <a:lnTo>
                        <a:pt x="41" y="584"/>
                      </a:lnTo>
                      <a:lnTo>
                        <a:pt x="41" y="569"/>
                      </a:lnTo>
                      <a:lnTo>
                        <a:pt x="41" y="537"/>
                      </a:lnTo>
                      <a:lnTo>
                        <a:pt x="28" y="505"/>
                      </a:lnTo>
                      <a:lnTo>
                        <a:pt x="14" y="458"/>
                      </a:lnTo>
                      <a:lnTo>
                        <a:pt x="14" y="427"/>
                      </a:lnTo>
                      <a:lnTo>
                        <a:pt x="28" y="411"/>
                      </a:lnTo>
                      <a:lnTo>
                        <a:pt x="41" y="395"/>
                      </a:lnTo>
                      <a:lnTo>
                        <a:pt x="41" y="380"/>
                      </a:lnTo>
                      <a:lnTo>
                        <a:pt x="55" y="348"/>
                      </a:lnTo>
                      <a:lnTo>
                        <a:pt x="83" y="301"/>
                      </a:lnTo>
                      <a:lnTo>
                        <a:pt x="111" y="269"/>
                      </a:lnTo>
                      <a:lnTo>
                        <a:pt x="124" y="254"/>
                      </a:lnTo>
                      <a:lnTo>
                        <a:pt x="138" y="254"/>
                      </a:lnTo>
                      <a:lnTo>
                        <a:pt x="166" y="222"/>
                      </a:lnTo>
                      <a:lnTo>
                        <a:pt x="180" y="207"/>
                      </a:lnTo>
                      <a:lnTo>
                        <a:pt x="166" y="190"/>
                      </a:lnTo>
                      <a:lnTo>
                        <a:pt x="166" y="175"/>
                      </a:lnTo>
                      <a:lnTo>
                        <a:pt x="180" y="128"/>
                      </a:lnTo>
                      <a:lnTo>
                        <a:pt x="194" y="128"/>
                      </a:lnTo>
                      <a:lnTo>
                        <a:pt x="194" y="111"/>
                      </a:lnTo>
                      <a:lnTo>
                        <a:pt x="207" y="111"/>
                      </a:lnTo>
                      <a:lnTo>
                        <a:pt x="235" y="96"/>
                      </a:lnTo>
                      <a:lnTo>
                        <a:pt x="235" y="79"/>
                      </a:lnTo>
                      <a:lnTo>
                        <a:pt x="249" y="64"/>
                      </a:lnTo>
                      <a:lnTo>
                        <a:pt x="263" y="49"/>
                      </a:lnTo>
                      <a:lnTo>
                        <a:pt x="276" y="64"/>
                      </a:lnTo>
                      <a:lnTo>
                        <a:pt x="290" y="64"/>
                      </a:lnTo>
                      <a:lnTo>
                        <a:pt x="304" y="64"/>
                      </a:lnTo>
                      <a:lnTo>
                        <a:pt x="332" y="64"/>
                      </a:lnTo>
                      <a:lnTo>
                        <a:pt x="359" y="64"/>
                      </a:lnTo>
                      <a:lnTo>
                        <a:pt x="373" y="64"/>
                      </a:lnTo>
                      <a:lnTo>
                        <a:pt x="373" y="49"/>
                      </a:lnTo>
                      <a:lnTo>
                        <a:pt x="373" y="32"/>
                      </a:lnTo>
                      <a:lnTo>
                        <a:pt x="387" y="32"/>
                      </a:lnTo>
                      <a:lnTo>
                        <a:pt x="429" y="0"/>
                      </a:lnTo>
                      <a:lnTo>
                        <a:pt x="470" y="0"/>
                      </a:lnTo>
                      <a:lnTo>
                        <a:pt x="512" y="32"/>
                      </a:lnTo>
                      <a:lnTo>
                        <a:pt x="567" y="32"/>
                      </a:lnTo>
                      <a:lnTo>
                        <a:pt x="595" y="49"/>
                      </a:lnTo>
                      <a:lnTo>
                        <a:pt x="581" y="79"/>
                      </a:lnTo>
                      <a:lnTo>
                        <a:pt x="581" y="96"/>
                      </a:lnTo>
                      <a:lnTo>
                        <a:pt x="595" y="111"/>
                      </a:lnTo>
                      <a:lnTo>
                        <a:pt x="608" y="111"/>
                      </a:lnTo>
                      <a:lnTo>
                        <a:pt x="622" y="128"/>
                      </a:lnTo>
                      <a:lnTo>
                        <a:pt x="636" y="128"/>
                      </a:lnTo>
                      <a:lnTo>
                        <a:pt x="664" y="128"/>
                      </a:lnTo>
                      <a:lnTo>
                        <a:pt x="691" y="143"/>
                      </a:lnTo>
                      <a:lnTo>
                        <a:pt x="691" y="158"/>
                      </a:lnTo>
                      <a:lnTo>
                        <a:pt x="705" y="158"/>
                      </a:lnTo>
                      <a:lnTo>
                        <a:pt x="705" y="175"/>
                      </a:lnTo>
                      <a:lnTo>
                        <a:pt x="719" y="175"/>
                      </a:lnTo>
                      <a:lnTo>
                        <a:pt x="733" y="175"/>
                      </a:lnTo>
                      <a:lnTo>
                        <a:pt x="747" y="190"/>
                      </a:lnTo>
                      <a:lnTo>
                        <a:pt x="761" y="190"/>
                      </a:lnTo>
                      <a:lnTo>
                        <a:pt x="774" y="207"/>
                      </a:lnTo>
                      <a:lnTo>
                        <a:pt x="790" y="190"/>
                      </a:lnTo>
                      <a:lnTo>
                        <a:pt x="790" y="158"/>
                      </a:lnTo>
                      <a:lnTo>
                        <a:pt x="790" y="143"/>
                      </a:lnTo>
                      <a:lnTo>
                        <a:pt x="803" y="143"/>
                      </a:lnTo>
                      <a:lnTo>
                        <a:pt x="803" y="128"/>
                      </a:lnTo>
                      <a:lnTo>
                        <a:pt x="817" y="128"/>
                      </a:lnTo>
                      <a:lnTo>
                        <a:pt x="845" y="128"/>
                      </a:lnTo>
                      <a:lnTo>
                        <a:pt x="886" y="158"/>
                      </a:lnTo>
                      <a:lnTo>
                        <a:pt x="914" y="175"/>
                      </a:lnTo>
                      <a:lnTo>
                        <a:pt x="942" y="175"/>
                      </a:lnTo>
                      <a:lnTo>
                        <a:pt x="969" y="175"/>
                      </a:lnTo>
                      <a:lnTo>
                        <a:pt x="997" y="158"/>
                      </a:lnTo>
                      <a:lnTo>
                        <a:pt x="1025" y="158"/>
                      </a:lnTo>
                      <a:lnTo>
                        <a:pt x="1025" y="175"/>
                      </a:lnTo>
                      <a:lnTo>
                        <a:pt x="1039" y="207"/>
                      </a:lnTo>
                      <a:lnTo>
                        <a:pt x="1039" y="22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6826320" y="2409840"/>
                  <a:ext cx="784080" cy="1044720"/>
                </a:xfrm>
                <a:custGeom>
                  <a:avLst/>
                  <a:gdLst/>
                  <a:ahLst/>
                  <a:rect l="l" t="t" r="r" b="b"/>
                  <a:pathLst>
                    <a:path w="1481" h="1974">
                      <a:moveTo>
                        <a:pt x="1039" y="222"/>
                      </a:moveTo>
                      <a:lnTo>
                        <a:pt x="1052" y="237"/>
                      </a:lnTo>
                      <a:lnTo>
                        <a:pt x="1066" y="254"/>
                      </a:lnTo>
                      <a:lnTo>
                        <a:pt x="1066" y="269"/>
                      </a:lnTo>
                      <a:lnTo>
                        <a:pt x="1080" y="269"/>
                      </a:lnTo>
                      <a:lnTo>
                        <a:pt x="1080" y="285"/>
                      </a:lnTo>
                      <a:lnTo>
                        <a:pt x="1080" y="301"/>
                      </a:lnTo>
                      <a:lnTo>
                        <a:pt x="1094" y="316"/>
                      </a:lnTo>
                      <a:lnTo>
                        <a:pt x="1094" y="333"/>
                      </a:lnTo>
                      <a:lnTo>
                        <a:pt x="1108" y="364"/>
                      </a:lnTo>
                      <a:lnTo>
                        <a:pt x="1122" y="380"/>
                      </a:lnTo>
                      <a:lnTo>
                        <a:pt x="1122" y="395"/>
                      </a:lnTo>
                      <a:lnTo>
                        <a:pt x="1135" y="411"/>
                      </a:lnTo>
                      <a:lnTo>
                        <a:pt x="1149" y="427"/>
                      </a:lnTo>
                      <a:lnTo>
                        <a:pt x="1149" y="443"/>
                      </a:lnTo>
                      <a:lnTo>
                        <a:pt x="1163" y="458"/>
                      </a:lnTo>
                      <a:lnTo>
                        <a:pt x="1177" y="490"/>
                      </a:lnTo>
                      <a:lnTo>
                        <a:pt x="1191" y="522"/>
                      </a:lnTo>
                      <a:lnTo>
                        <a:pt x="1205" y="569"/>
                      </a:lnTo>
                      <a:lnTo>
                        <a:pt x="1205" y="584"/>
                      </a:lnTo>
                      <a:lnTo>
                        <a:pt x="1205" y="601"/>
                      </a:lnTo>
                      <a:lnTo>
                        <a:pt x="1218" y="616"/>
                      </a:lnTo>
                      <a:lnTo>
                        <a:pt x="1232" y="616"/>
                      </a:lnTo>
                      <a:lnTo>
                        <a:pt x="1246" y="631"/>
                      </a:lnTo>
                      <a:lnTo>
                        <a:pt x="1260" y="631"/>
                      </a:lnTo>
                      <a:lnTo>
                        <a:pt x="1260" y="648"/>
                      </a:lnTo>
                      <a:lnTo>
                        <a:pt x="1274" y="663"/>
                      </a:lnTo>
                      <a:lnTo>
                        <a:pt x="1288" y="663"/>
                      </a:lnTo>
                      <a:lnTo>
                        <a:pt x="1288" y="680"/>
                      </a:lnTo>
                      <a:lnTo>
                        <a:pt x="1288" y="695"/>
                      </a:lnTo>
                      <a:lnTo>
                        <a:pt x="1274" y="710"/>
                      </a:lnTo>
                      <a:lnTo>
                        <a:pt x="1288" y="710"/>
                      </a:lnTo>
                      <a:lnTo>
                        <a:pt x="1301" y="710"/>
                      </a:lnTo>
                      <a:lnTo>
                        <a:pt x="1301" y="727"/>
                      </a:lnTo>
                      <a:lnTo>
                        <a:pt x="1315" y="727"/>
                      </a:lnTo>
                      <a:lnTo>
                        <a:pt x="1329" y="742"/>
                      </a:lnTo>
                      <a:lnTo>
                        <a:pt x="1343" y="742"/>
                      </a:lnTo>
                      <a:lnTo>
                        <a:pt x="1343" y="727"/>
                      </a:lnTo>
                      <a:lnTo>
                        <a:pt x="1384" y="727"/>
                      </a:lnTo>
                      <a:lnTo>
                        <a:pt x="1440" y="727"/>
                      </a:lnTo>
                      <a:lnTo>
                        <a:pt x="1467" y="742"/>
                      </a:lnTo>
                      <a:lnTo>
                        <a:pt x="1481" y="774"/>
                      </a:lnTo>
                      <a:lnTo>
                        <a:pt x="1481" y="789"/>
                      </a:lnTo>
                      <a:lnTo>
                        <a:pt x="1467" y="806"/>
                      </a:lnTo>
                      <a:lnTo>
                        <a:pt x="1454" y="806"/>
                      </a:lnTo>
                      <a:lnTo>
                        <a:pt x="1440" y="806"/>
                      </a:lnTo>
                      <a:lnTo>
                        <a:pt x="1426" y="821"/>
                      </a:lnTo>
                      <a:lnTo>
                        <a:pt x="1426" y="838"/>
                      </a:lnTo>
                      <a:lnTo>
                        <a:pt x="1426" y="853"/>
                      </a:lnTo>
                      <a:lnTo>
                        <a:pt x="1398" y="900"/>
                      </a:lnTo>
                      <a:lnTo>
                        <a:pt x="1384" y="932"/>
                      </a:lnTo>
                      <a:lnTo>
                        <a:pt x="1357" y="963"/>
                      </a:lnTo>
                      <a:lnTo>
                        <a:pt x="1343" y="979"/>
                      </a:lnTo>
                      <a:lnTo>
                        <a:pt x="1329" y="995"/>
                      </a:lnTo>
                      <a:lnTo>
                        <a:pt x="1315" y="995"/>
                      </a:lnTo>
                      <a:lnTo>
                        <a:pt x="1329" y="995"/>
                      </a:lnTo>
                      <a:lnTo>
                        <a:pt x="1329" y="979"/>
                      </a:lnTo>
                      <a:lnTo>
                        <a:pt x="1343" y="979"/>
                      </a:lnTo>
                      <a:lnTo>
                        <a:pt x="1343" y="963"/>
                      </a:lnTo>
                      <a:lnTo>
                        <a:pt x="1357" y="947"/>
                      </a:lnTo>
                      <a:lnTo>
                        <a:pt x="1343" y="963"/>
                      </a:lnTo>
                      <a:lnTo>
                        <a:pt x="1329" y="979"/>
                      </a:lnTo>
                      <a:lnTo>
                        <a:pt x="1329" y="995"/>
                      </a:lnTo>
                      <a:lnTo>
                        <a:pt x="1301" y="1011"/>
                      </a:lnTo>
                      <a:lnTo>
                        <a:pt x="1288" y="1027"/>
                      </a:lnTo>
                      <a:lnTo>
                        <a:pt x="1288" y="1042"/>
                      </a:lnTo>
                      <a:lnTo>
                        <a:pt x="1274" y="1058"/>
                      </a:lnTo>
                      <a:lnTo>
                        <a:pt x="1260" y="1074"/>
                      </a:lnTo>
                      <a:lnTo>
                        <a:pt x="1246" y="1074"/>
                      </a:lnTo>
                      <a:lnTo>
                        <a:pt x="1232" y="1106"/>
                      </a:lnTo>
                      <a:lnTo>
                        <a:pt x="1218" y="1121"/>
                      </a:lnTo>
                      <a:lnTo>
                        <a:pt x="1218" y="1153"/>
                      </a:lnTo>
                      <a:lnTo>
                        <a:pt x="1205" y="1200"/>
                      </a:lnTo>
                      <a:lnTo>
                        <a:pt x="1205" y="1232"/>
                      </a:lnTo>
                      <a:lnTo>
                        <a:pt x="1218" y="1264"/>
                      </a:lnTo>
                      <a:lnTo>
                        <a:pt x="1232" y="1311"/>
                      </a:lnTo>
                      <a:lnTo>
                        <a:pt x="1246" y="1311"/>
                      </a:lnTo>
                      <a:lnTo>
                        <a:pt x="1232" y="1373"/>
                      </a:lnTo>
                      <a:lnTo>
                        <a:pt x="1232" y="1421"/>
                      </a:lnTo>
                      <a:lnTo>
                        <a:pt x="1218" y="1469"/>
                      </a:lnTo>
                      <a:lnTo>
                        <a:pt x="1205" y="1484"/>
                      </a:lnTo>
                      <a:lnTo>
                        <a:pt x="1191" y="1484"/>
                      </a:lnTo>
                      <a:lnTo>
                        <a:pt x="1177" y="1500"/>
                      </a:lnTo>
                      <a:lnTo>
                        <a:pt x="1163" y="1500"/>
                      </a:lnTo>
                      <a:lnTo>
                        <a:pt x="1163" y="1516"/>
                      </a:lnTo>
                      <a:lnTo>
                        <a:pt x="1149" y="1531"/>
                      </a:lnTo>
                      <a:lnTo>
                        <a:pt x="1135" y="1547"/>
                      </a:lnTo>
                      <a:lnTo>
                        <a:pt x="1122" y="1547"/>
                      </a:lnTo>
                      <a:lnTo>
                        <a:pt x="1108" y="1563"/>
                      </a:lnTo>
                      <a:lnTo>
                        <a:pt x="1094" y="1626"/>
                      </a:lnTo>
                      <a:lnTo>
                        <a:pt x="1080" y="1673"/>
                      </a:lnTo>
                      <a:lnTo>
                        <a:pt x="1066" y="1720"/>
                      </a:lnTo>
                      <a:lnTo>
                        <a:pt x="1066" y="1737"/>
                      </a:lnTo>
                      <a:lnTo>
                        <a:pt x="1066" y="1752"/>
                      </a:lnTo>
                      <a:lnTo>
                        <a:pt x="1052" y="1784"/>
                      </a:lnTo>
                      <a:lnTo>
                        <a:pt x="1025" y="1816"/>
                      </a:lnTo>
                      <a:lnTo>
                        <a:pt x="1011" y="1846"/>
                      </a:lnTo>
                      <a:lnTo>
                        <a:pt x="983" y="1878"/>
                      </a:lnTo>
                      <a:lnTo>
                        <a:pt x="969" y="1910"/>
                      </a:lnTo>
                      <a:lnTo>
                        <a:pt x="942" y="1942"/>
                      </a:lnTo>
                      <a:lnTo>
                        <a:pt x="914" y="1957"/>
                      </a:lnTo>
                      <a:lnTo>
                        <a:pt x="886" y="1957"/>
                      </a:lnTo>
                      <a:lnTo>
                        <a:pt x="873" y="1957"/>
                      </a:lnTo>
                      <a:lnTo>
                        <a:pt x="859" y="1957"/>
                      </a:lnTo>
                      <a:lnTo>
                        <a:pt x="831" y="1957"/>
                      </a:lnTo>
                      <a:lnTo>
                        <a:pt x="817" y="1957"/>
                      </a:lnTo>
                      <a:lnTo>
                        <a:pt x="817" y="1974"/>
                      </a:lnTo>
                      <a:lnTo>
                        <a:pt x="790" y="1974"/>
                      </a:lnTo>
                      <a:lnTo>
                        <a:pt x="761" y="1957"/>
                      </a:lnTo>
                      <a:lnTo>
                        <a:pt x="747" y="1925"/>
                      </a:lnTo>
                      <a:lnTo>
                        <a:pt x="733" y="1878"/>
                      </a:lnTo>
                      <a:lnTo>
                        <a:pt x="733" y="1846"/>
                      </a:lnTo>
                      <a:lnTo>
                        <a:pt x="719" y="1799"/>
                      </a:lnTo>
                      <a:lnTo>
                        <a:pt x="705" y="1767"/>
                      </a:lnTo>
                      <a:lnTo>
                        <a:pt x="705" y="1752"/>
                      </a:lnTo>
                      <a:lnTo>
                        <a:pt x="691" y="1752"/>
                      </a:lnTo>
                      <a:lnTo>
                        <a:pt x="691" y="1767"/>
                      </a:lnTo>
                      <a:lnTo>
                        <a:pt x="691" y="1752"/>
                      </a:lnTo>
                      <a:lnTo>
                        <a:pt x="691" y="1705"/>
                      </a:lnTo>
                      <a:lnTo>
                        <a:pt x="678" y="1658"/>
                      </a:lnTo>
                      <a:lnTo>
                        <a:pt x="664" y="1626"/>
                      </a:lnTo>
                      <a:lnTo>
                        <a:pt x="664" y="1579"/>
                      </a:lnTo>
                      <a:lnTo>
                        <a:pt x="650" y="1563"/>
                      </a:lnTo>
                      <a:lnTo>
                        <a:pt x="650" y="1547"/>
                      </a:lnTo>
                      <a:lnTo>
                        <a:pt x="636" y="1531"/>
                      </a:lnTo>
                      <a:lnTo>
                        <a:pt x="636" y="1516"/>
                      </a:lnTo>
                      <a:lnTo>
                        <a:pt x="636" y="1484"/>
                      </a:lnTo>
                      <a:lnTo>
                        <a:pt x="636" y="1437"/>
                      </a:lnTo>
                      <a:lnTo>
                        <a:pt x="650" y="1390"/>
                      </a:lnTo>
                      <a:lnTo>
                        <a:pt x="650" y="1373"/>
                      </a:lnTo>
                      <a:lnTo>
                        <a:pt x="664" y="1358"/>
                      </a:lnTo>
                      <a:lnTo>
                        <a:pt x="678" y="1343"/>
                      </a:lnTo>
                      <a:lnTo>
                        <a:pt x="664" y="1294"/>
                      </a:lnTo>
                      <a:lnTo>
                        <a:pt x="650" y="1247"/>
                      </a:lnTo>
                      <a:lnTo>
                        <a:pt x="636" y="1200"/>
                      </a:lnTo>
                      <a:lnTo>
                        <a:pt x="650" y="1185"/>
                      </a:lnTo>
                      <a:lnTo>
                        <a:pt x="664" y="1185"/>
                      </a:lnTo>
                      <a:lnTo>
                        <a:pt x="636" y="1153"/>
                      </a:lnTo>
                      <a:lnTo>
                        <a:pt x="608" y="1121"/>
                      </a:lnTo>
                      <a:lnTo>
                        <a:pt x="581" y="1074"/>
                      </a:lnTo>
                      <a:lnTo>
                        <a:pt x="567" y="1042"/>
                      </a:lnTo>
                      <a:lnTo>
                        <a:pt x="581" y="995"/>
                      </a:lnTo>
                      <a:lnTo>
                        <a:pt x="595" y="963"/>
                      </a:lnTo>
                      <a:lnTo>
                        <a:pt x="595" y="916"/>
                      </a:lnTo>
                      <a:lnTo>
                        <a:pt x="581" y="900"/>
                      </a:lnTo>
                      <a:lnTo>
                        <a:pt x="539" y="885"/>
                      </a:lnTo>
                      <a:lnTo>
                        <a:pt x="470" y="868"/>
                      </a:lnTo>
                      <a:lnTo>
                        <a:pt x="456" y="868"/>
                      </a:lnTo>
                      <a:lnTo>
                        <a:pt x="442" y="853"/>
                      </a:lnTo>
                      <a:lnTo>
                        <a:pt x="429" y="853"/>
                      </a:lnTo>
                      <a:lnTo>
                        <a:pt x="401" y="853"/>
                      </a:lnTo>
                      <a:lnTo>
                        <a:pt x="359" y="868"/>
                      </a:lnTo>
                      <a:lnTo>
                        <a:pt x="346" y="885"/>
                      </a:lnTo>
                      <a:lnTo>
                        <a:pt x="318" y="885"/>
                      </a:lnTo>
                      <a:lnTo>
                        <a:pt x="290" y="885"/>
                      </a:lnTo>
                      <a:lnTo>
                        <a:pt x="263" y="885"/>
                      </a:lnTo>
                      <a:lnTo>
                        <a:pt x="249" y="885"/>
                      </a:lnTo>
                      <a:lnTo>
                        <a:pt x="221" y="900"/>
                      </a:lnTo>
                      <a:lnTo>
                        <a:pt x="207" y="900"/>
                      </a:lnTo>
                      <a:lnTo>
                        <a:pt x="194" y="900"/>
                      </a:lnTo>
                      <a:lnTo>
                        <a:pt x="180" y="885"/>
                      </a:lnTo>
                      <a:lnTo>
                        <a:pt x="152" y="868"/>
                      </a:lnTo>
                      <a:lnTo>
                        <a:pt x="138" y="868"/>
                      </a:lnTo>
                      <a:lnTo>
                        <a:pt x="138" y="853"/>
                      </a:lnTo>
                      <a:lnTo>
                        <a:pt x="152" y="853"/>
                      </a:lnTo>
                      <a:lnTo>
                        <a:pt x="152" y="868"/>
                      </a:lnTo>
                      <a:lnTo>
                        <a:pt x="166" y="868"/>
                      </a:lnTo>
                      <a:lnTo>
                        <a:pt x="152" y="853"/>
                      </a:lnTo>
                      <a:lnTo>
                        <a:pt x="138" y="853"/>
                      </a:lnTo>
                      <a:lnTo>
                        <a:pt x="124" y="838"/>
                      </a:lnTo>
                      <a:lnTo>
                        <a:pt x="111" y="838"/>
                      </a:lnTo>
                      <a:lnTo>
                        <a:pt x="111" y="821"/>
                      </a:lnTo>
                      <a:lnTo>
                        <a:pt x="97" y="806"/>
                      </a:lnTo>
                      <a:lnTo>
                        <a:pt x="97" y="789"/>
                      </a:lnTo>
                      <a:lnTo>
                        <a:pt x="83" y="774"/>
                      </a:lnTo>
                      <a:lnTo>
                        <a:pt x="83" y="759"/>
                      </a:lnTo>
                      <a:lnTo>
                        <a:pt x="69" y="742"/>
                      </a:lnTo>
                      <a:lnTo>
                        <a:pt x="55" y="727"/>
                      </a:lnTo>
                      <a:lnTo>
                        <a:pt x="41" y="727"/>
                      </a:lnTo>
                      <a:lnTo>
                        <a:pt x="41" y="710"/>
                      </a:lnTo>
                      <a:lnTo>
                        <a:pt x="55" y="710"/>
                      </a:lnTo>
                      <a:lnTo>
                        <a:pt x="55" y="695"/>
                      </a:lnTo>
                      <a:lnTo>
                        <a:pt x="41" y="695"/>
                      </a:lnTo>
                      <a:lnTo>
                        <a:pt x="28" y="695"/>
                      </a:lnTo>
                      <a:lnTo>
                        <a:pt x="14" y="695"/>
                      </a:lnTo>
                      <a:lnTo>
                        <a:pt x="28" y="680"/>
                      </a:lnTo>
                      <a:lnTo>
                        <a:pt x="41" y="680"/>
                      </a:lnTo>
                      <a:lnTo>
                        <a:pt x="55" y="663"/>
                      </a:lnTo>
                      <a:lnTo>
                        <a:pt x="28" y="648"/>
                      </a:lnTo>
                      <a:lnTo>
                        <a:pt x="14" y="648"/>
                      </a:lnTo>
                      <a:lnTo>
                        <a:pt x="0" y="616"/>
                      </a:lnTo>
                      <a:lnTo>
                        <a:pt x="0" y="601"/>
                      </a:lnTo>
                      <a:lnTo>
                        <a:pt x="0" y="584"/>
                      </a:lnTo>
                      <a:lnTo>
                        <a:pt x="14" y="569"/>
                      </a:lnTo>
                      <a:lnTo>
                        <a:pt x="28" y="584"/>
                      </a:lnTo>
                      <a:lnTo>
                        <a:pt x="28" y="601"/>
                      </a:lnTo>
                      <a:lnTo>
                        <a:pt x="28" y="616"/>
                      </a:lnTo>
                      <a:lnTo>
                        <a:pt x="41" y="616"/>
                      </a:lnTo>
                      <a:lnTo>
                        <a:pt x="41" y="601"/>
                      </a:lnTo>
                      <a:lnTo>
                        <a:pt x="41" y="584"/>
                      </a:lnTo>
                      <a:lnTo>
                        <a:pt x="41" y="569"/>
                      </a:lnTo>
                      <a:lnTo>
                        <a:pt x="41" y="537"/>
                      </a:lnTo>
                      <a:lnTo>
                        <a:pt x="28" y="505"/>
                      </a:lnTo>
                      <a:lnTo>
                        <a:pt x="14" y="458"/>
                      </a:lnTo>
                      <a:lnTo>
                        <a:pt x="14" y="427"/>
                      </a:lnTo>
                      <a:lnTo>
                        <a:pt x="28" y="411"/>
                      </a:lnTo>
                      <a:lnTo>
                        <a:pt x="41" y="395"/>
                      </a:lnTo>
                      <a:lnTo>
                        <a:pt x="41" y="380"/>
                      </a:lnTo>
                      <a:lnTo>
                        <a:pt x="55" y="348"/>
                      </a:lnTo>
                      <a:lnTo>
                        <a:pt x="83" y="301"/>
                      </a:lnTo>
                      <a:lnTo>
                        <a:pt x="111" y="269"/>
                      </a:lnTo>
                      <a:lnTo>
                        <a:pt x="124" y="254"/>
                      </a:lnTo>
                      <a:lnTo>
                        <a:pt x="138" y="254"/>
                      </a:lnTo>
                      <a:lnTo>
                        <a:pt x="166" y="222"/>
                      </a:lnTo>
                      <a:lnTo>
                        <a:pt x="180" y="207"/>
                      </a:lnTo>
                      <a:lnTo>
                        <a:pt x="166" y="190"/>
                      </a:lnTo>
                      <a:lnTo>
                        <a:pt x="166" y="175"/>
                      </a:lnTo>
                      <a:lnTo>
                        <a:pt x="180" y="128"/>
                      </a:lnTo>
                      <a:lnTo>
                        <a:pt x="194" y="128"/>
                      </a:lnTo>
                      <a:lnTo>
                        <a:pt x="194" y="111"/>
                      </a:lnTo>
                      <a:lnTo>
                        <a:pt x="207" y="111"/>
                      </a:lnTo>
                      <a:lnTo>
                        <a:pt x="235" y="96"/>
                      </a:lnTo>
                      <a:lnTo>
                        <a:pt x="235" y="79"/>
                      </a:lnTo>
                      <a:lnTo>
                        <a:pt x="249" y="64"/>
                      </a:lnTo>
                      <a:lnTo>
                        <a:pt x="263" y="49"/>
                      </a:lnTo>
                      <a:lnTo>
                        <a:pt x="276" y="64"/>
                      </a:lnTo>
                      <a:lnTo>
                        <a:pt x="290" y="64"/>
                      </a:lnTo>
                      <a:lnTo>
                        <a:pt x="304" y="64"/>
                      </a:lnTo>
                      <a:lnTo>
                        <a:pt x="332" y="64"/>
                      </a:lnTo>
                      <a:lnTo>
                        <a:pt x="359" y="64"/>
                      </a:lnTo>
                      <a:lnTo>
                        <a:pt x="373" y="64"/>
                      </a:lnTo>
                      <a:lnTo>
                        <a:pt x="373" y="49"/>
                      </a:lnTo>
                      <a:lnTo>
                        <a:pt x="373" y="32"/>
                      </a:lnTo>
                      <a:lnTo>
                        <a:pt x="387" y="32"/>
                      </a:lnTo>
                      <a:lnTo>
                        <a:pt x="429" y="0"/>
                      </a:lnTo>
                      <a:lnTo>
                        <a:pt x="470" y="0"/>
                      </a:lnTo>
                      <a:lnTo>
                        <a:pt x="512" y="32"/>
                      </a:lnTo>
                      <a:lnTo>
                        <a:pt x="567" y="32"/>
                      </a:lnTo>
                      <a:lnTo>
                        <a:pt x="595" y="49"/>
                      </a:lnTo>
                      <a:lnTo>
                        <a:pt x="581" y="79"/>
                      </a:lnTo>
                      <a:lnTo>
                        <a:pt x="581" y="96"/>
                      </a:lnTo>
                      <a:lnTo>
                        <a:pt x="595" y="111"/>
                      </a:lnTo>
                      <a:lnTo>
                        <a:pt x="608" y="111"/>
                      </a:lnTo>
                      <a:lnTo>
                        <a:pt x="622" y="128"/>
                      </a:lnTo>
                      <a:lnTo>
                        <a:pt x="636" y="128"/>
                      </a:lnTo>
                      <a:lnTo>
                        <a:pt x="664" y="128"/>
                      </a:lnTo>
                      <a:lnTo>
                        <a:pt x="691" y="143"/>
                      </a:lnTo>
                      <a:lnTo>
                        <a:pt x="691" y="158"/>
                      </a:lnTo>
                      <a:lnTo>
                        <a:pt x="705" y="158"/>
                      </a:lnTo>
                      <a:lnTo>
                        <a:pt x="705" y="175"/>
                      </a:lnTo>
                      <a:lnTo>
                        <a:pt x="719" y="175"/>
                      </a:lnTo>
                      <a:lnTo>
                        <a:pt x="733" y="175"/>
                      </a:lnTo>
                      <a:lnTo>
                        <a:pt x="747" y="190"/>
                      </a:lnTo>
                      <a:lnTo>
                        <a:pt x="761" y="190"/>
                      </a:lnTo>
                      <a:lnTo>
                        <a:pt x="774" y="207"/>
                      </a:lnTo>
                      <a:lnTo>
                        <a:pt x="790" y="190"/>
                      </a:lnTo>
                      <a:lnTo>
                        <a:pt x="790" y="158"/>
                      </a:lnTo>
                      <a:lnTo>
                        <a:pt x="790" y="143"/>
                      </a:lnTo>
                      <a:lnTo>
                        <a:pt x="803" y="143"/>
                      </a:lnTo>
                      <a:lnTo>
                        <a:pt x="803" y="128"/>
                      </a:lnTo>
                      <a:lnTo>
                        <a:pt x="817" y="128"/>
                      </a:lnTo>
                      <a:lnTo>
                        <a:pt x="845" y="128"/>
                      </a:lnTo>
                      <a:lnTo>
                        <a:pt x="886" y="158"/>
                      </a:lnTo>
                      <a:lnTo>
                        <a:pt x="914" y="175"/>
                      </a:lnTo>
                      <a:lnTo>
                        <a:pt x="942" y="175"/>
                      </a:lnTo>
                      <a:lnTo>
                        <a:pt x="969" y="175"/>
                      </a:lnTo>
                      <a:lnTo>
                        <a:pt x="997" y="158"/>
                      </a:lnTo>
                      <a:lnTo>
                        <a:pt x="1025" y="158"/>
                      </a:lnTo>
                      <a:lnTo>
                        <a:pt x="1025" y="175"/>
                      </a:lnTo>
                      <a:lnTo>
                        <a:pt x="1039" y="207"/>
                      </a:lnTo>
                      <a:lnTo>
                        <a:pt x="1039" y="2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294160" y="2660760"/>
                  <a:ext cx="6480" cy="15840"/>
                </a:xfrm>
                <a:custGeom>
                  <a:avLst/>
                  <a:gdLst/>
                  <a:ahLst/>
                  <a:rect l="l" t="t" r="r" b="b"/>
                  <a:pathLst>
                    <a:path w="13" h="31">
                      <a:moveTo>
                        <a:pt x="13" y="0"/>
                      </a:moveTo>
                      <a:lnTo>
                        <a:pt x="0" y="16"/>
                      </a:lnTo>
                      <a:lnTo>
                        <a:pt x="0" y="31"/>
                      </a:lnTo>
                      <a:lnTo>
                        <a:pt x="0" y="16"/>
                      </a:lnTo>
                      <a:lnTo>
                        <a:pt x="13" y="0"/>
                      </a:lnTo>
                      <a:close/>
                    </a:path>
                  </a:pathLst>
                </a:custGeom>
                <a:solidFill>
                  <a:srgbClr val="00937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8" name=""/>
                <p:cNvSpPr/>
                <p:nvPr/>
              </p:nvSpPr>
              <p:spPr>
                <a:xfrm>
                  <a:off x="5294160" y="2660760"/>
                  <a:ext cx="6480" cy="15840"/>
                </a:xfrm>
                <a:custGeom>
                  <a:avLst/>
                  <a:gdLst/>
                  <a:ahLst/>
                  <a:rect l="l" t="t" r="r" b="b"/>
                  <a:pathLst>
                    <a:path w="13" h="31">
                      <a:moveTo>
                        <a:pt x="13" y="0"/>
                      </a:moveTo>
                      <a:lnTo>
                        <a:pt x="0" y="16"/>
                      </a:lnTo>
                      <a:lnTo>
                        <a:pt x="0" y="31"/>
                      </a:lnTo>
                      <a:lnTo>
                        <a:pt x="0" y="16"/>
                      </a:lnTo>
                      <a:lnTo>
                        <a:pt x="13"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9" name=""/>
                <p:cNvSpPr/>
                <p:nvPr/>
              </p:nvSpPr>
              <p:spPr>
                <a:xfrm>
                  <a:off x="8234280" y="2660760"/>
                  <a:ext cx="14400" cy="25200"/>
                </a:xfrm>
                <a:custGeom>
                  <a:avLst/>
                  <a:gdLst/>
                  <a:ahLst/>
                  <a:rect l="l" t="t" r="r" b="b"/>
                  <a:pathLst>
                    <a:path w="27" h="48">
                      <a:moveTo>
                        <a:pt x="0" y="0"/>
                      </a:moveTo>
                      <a:lnTo>
                        <a:pt x="13" y="16"/>
                      </a:lnTo>
                      <a:lnTo>
                        <a:pt x="27" y="31"/>
                      </a:lnTo>
                      <a:lnTo>
                        <a:pt x="27" y="48"/>
                      </a:lnTo>
                      <a:lnTo>
                        <a:pt x="0" y="48"/>
                      </a:lnTo>
                      <a:lnTo>
                        <a:pt x="0" y="31"/>
                      </a:lnTo>
                      <a:lnTo>
                        <a:pt x="0" y="16"/>
                      </a:lnTo>
                      <a:lnTo>
                        <a:pt x="0" y="0"/>
                      </a:lnTo>
                      <a:close/>
                    </a:path>
                  </a:pathLst>
                </a:custGeom>
                <a:solidFill>
                  <a:srgbClr val="00937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0" name=""/>
                <p:cNvSpPr/>
                <p:nvPr/>
              </p:nvSpPr>
              <p:spPr>
                <a:xfrm>
                  <a:off x="8234280" y="2660760"/>
                  <a:ext cx="14400" cy="25200"/>
                </a:xfrm>
                <a:custGeom>
                  <a:avLst/>
                  <a:gdLst/>
                  <a:ahLst/>
                  <a:rect l="l" t="t" r="r" b="b"/>
                  <a:pathLst>
                    <a:path w="27" h="48">
                      <a:moveTo>
                        <a:pt x="0" y="0"/>
                      </a:moveTo>
                      <a:lnTo>
                        <a:pt x="13" y="16"/>
                      </a:lnTo>
                      <a:lnTo>
                        <a:pt x="27" y="31"/>
                      </a:lnTo>
                      <a:lnTo>
                        <a:pt x="27" y="48"/>
                      </a:lnTo>
                      <a:lnTo>
                        <a:pt x="0" y="48"/>
                      </a:lnTo>
                      <a:lnTo>
                        <a:pt x="0" y="31"/>
                      </a:lnTo>
                      <a:lnTo>
                        <a:pt x="0" y="16"/>
                      </a:lnTo>
                      <a:lnTo>
                        <a:pt x="0"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1" name=""/>
                <p:cNvSpPr/>
                <p:nvPr/>
              </p:nvSpPr>
              <p:spPr>
                <a:xfrm>
                  <a:off x="6210360" y="2668680"/>
                  <a:ext cx="58680" cy="17280"/>
                </a:xfrm>
                <a:custGeom>
                  <a:avLst/>
                  <a:gdLst/>
                  <a:ahLst/>
                  <a:rect l="l" t="t" r="r" b="b"/>
                  <a:pathLst>
                    <a:path w="111" h="32">
                      <a:moveTo>
                        <a:pt x="42" y="0"/>
                      </a:moveTo>
                      <a:lnTo>
                        <a:pt x="69" y="0"/>
                      </a:lnTo>
                      <a:lnTo>
                        <a:pt x="83" y="15"/>
                      </a:lnTo>
                      <a:lnTo>
                        <a:pt x="111" y="32"/>
                      </a:lnTo>
                      <a:lnTo>
                        <a:pt x="97" y="32"/>
                      </a:lnTo>
                      <a:lnTo>
                        <a:pt x="69" y="32"/>
                      </a:lnTo>
                      <a:lnTo>
                        <a:pt x="42" y="15"/>
                      </a:lnTo>
                      <a:lnTo>
                        <a:pt x="0" y="0"/>
                      </a:lnTo>
                      <a:lnTo>
                        <a:pt x="28" y="0"/>
                      </a:lnTo>
                      <a:lnTo>
                        <a:pt x="42" y="0"/>
                      </a:lnTo>
                      <a:close/>
                    </a:path>
                  </a:pathLst>
                </a:custGeom>
                <a:solidFill>
                  <a:srgbClr val="009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6210360" y="2668680"/>
                  <a:ext cx="58680" cy="17280"/>
                </a:xfrm>
                <a:custGeom>
                  <a:avLst/>
                  <a:gdLst/>
                  <a:ahLst/>
                  <a:rect l="l" t="t" r="r" b="b"/>
                  <a:pathLst>
                    <a:path w="111" h="32">
                      <a:moveTo>
                        <a:pt x="42" y="0"/>
                      </a:moveTo>
                      <a:lnTo>
                        <a:pt x="69" y="0"/>
                      </a:lnTo>
                      <a:lnTo>
                        <a:pt x="83" y="15"/>
                      </a:lnTo>
                      <a:lnTo>
                        <a:pt x="111" y="32"/>
                      </a:lnTo>
                      <a:lnTo>
                        <a:pt x="97" y="32"/>
                      </a:lnTo>
                      <a:lnTo>
                        <a:pt x="69" y="32"/>
                      </a:lnTo>
                      <a:lnTo>
                        <a:pt x="42" y="15"/>
                      </a:lnTo>
                      <a:lnTo>
                        <a:pt x="0" y="0"/>
                      </a:lnTo>
                      <a:lnTo>
                        <a:pt x="28" y="0"/>
                      </a:lnTo>
                      <a:lnTo>
                        <a:pt x="42"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 name=""/>
                <p:cNvSpPr/>
                <p:nvPr/>
              </p:nvSpPr>
              <p:spPr>
                <a:xfrm>
                  <a:off x="8358120" y="2685960"/>
                  <a:ext cx="58680" cy="82800"/>
                </a:xfrm>
                <a:custGeom>
                  <a:avLst/>
                  <a:gdLst/>
                  <a:ahLst/>
                  <a:rect l="l" t="t" r="r" b="b"/>
                  <a:pathLst>
                    <a:path w="110" h="158">
                      <a:moveTo>
                        <a:pt x="41" y="0"/>
                      </a:moveTo>
                      <a:lnTo>
                        <a:pt x="41" y="15"/>
                      </a:lnTo>
                      <a:lnTo>
                        <a:pt x="55" y="31"/>
                      </a:lnTo>
                      <a:lnTo>
                        <a:pt x="41" y="62"/>
                      </a:lnTo>
                      <a:lnTo>
                        <a:pt x="41" y="94"/>
                      </a:lnTo>
                      <a:lnTo>
                        <a:pt x="55" y="126"/>
                      </a:lnTo>
                      <a:lnTo>
                        <a:pt x="69" y="126"/>
                      </a:lnTo>
                      <a:lnTo>
                        <a:pt x="83" y="126"/>
                      </a:lnTo>
                      <a:lnTo>
                        <a:pt x="97" y="126"/>
                      </a:lnTo>
                      <a:lnTo>
                        <a:pt x="97" y="141"/>
                      </a:lnTo>
                      <a:lnTo>
                        <a:pt x="110" y="158"/>
                      </a:lnTo>
                      <a:lnTo>
                        <a:pt x="97" y="158"/>
                      </a:lnTo>
                      <a:lnTo>
                        <a:pt x="83" y="158"/>
                      </a:lnTo>
                      <a:lnTo>
                        <a:pt x="83" y="141"/>
                      </a:lnTo>
                      <a:lnTo>
                        <a:pt x="69" y="126"/>
                      </a:lnTo>
                      <a:lnTo>
                        <a:pt x="69" y="141"/>
                      </a:lnTo>
                      <a:lnTo>
                        <a:pt x="41" y="141"/>
                      </a:lnTo>
                      <a:lnTo>
                        <a:pt x="27" y="126"/>
                      </a:lnTo>
                      <a:lnTo>
                        <a:pt x="27" y="109"/>
                      </a:lnTo>
                      <a:lnTo>
                        <a:pt x="14" y="94"/>
                      </a:lnTo>
                      <a:lnTo>
                        <a:pt x="14" y="79"/>
                      </a:lnTo>
                      <a:lnTo>
                        <a:pt x="0" y="62"/>
                      </a:lnTo>
                      <a:lnTo>
                        <a:pt x="0" y="31"/>
                      </a:lnTo>
                      <a:lnTo>
                        <a:pt x="0" y="15"/>
                      </a:lnTo>
                      <a:lnTo>
                        <a:pt x="14" y="0"/>
                      </a:lnTo>
                      <a:lnTo>
                        <a:pt x="27" y="0"/>
                      </a:lnTo>
                      <a:lnTo>
                        <a:pt x="41" y="0"/>
                      </a:lnTo>
                      <a:close/>
                    </a:path>
                  </a:pathLst>
                </a:custGeom>
                <a:solidFill>
                  <a:srgbClr val="00937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4" name=""/>
                <p:cNvSpPr/>
                <p:nvPr/>
              </p:nvSpPr>
              <p:spPr>
                <a:xfrm>
                  <a:off x="8358120" y="2685960"/>
                  <a:ext cx="58680" cy="82800"/>
                </a:xfrm>
                <a:custGeom>
                  <a:avLst/>
                  <a:gdLst/>
                  <a:ahLst/>
                  <a:rect l="l" t="t" r="r" b="b"/>
                  <a:pathLst>
                    <a:path w="110" h="158">
                      <a:moveTo>
                        <a:pt x="41" y="0"/>
                      </a:moveTo>
                      <a:lnTo>
                        <a:pt x="41" y="15"/>
                      </a:lnTo>
                      <a:lnTo>
                        <a:pt x="55" y="31"/>
                      </a:lnTo>
                      <a:lnTo>
                        <a:pt x="41" y="62"/>
                      </a:lnTo>
                      <a:lnTo>
                        <a:pt x="41" y="94"/>
                      </a:lnTo>
                      <a:lnTo>
                        <a:pt x="55" y="126"/>
                      </a:lnTo>
                      <a:lnTo>
                        <a:pt x="69" y="126"/>
                      </a:lnTo>
                      <a:lnTo>
                        <a:pt x="83" y="126"/>
                      </a:lnTo>
                      <a:lnTo>
                        <a:pt x="97" y="126"/>
                      </a:lnTo>
                      <a:lnTo>
                        <a:pt x="97" y="141"/>
                      </a:lnTo>
                      <a:lnTo>
                        <a:pt x="110" y="158"/>
                      </a:lnTo>
                      <a:lnTo>
                        <a:pt x="97" y="158"/>
                      </a:lnTo>
                      <a:lnTo>
                        <a:pt x="83" y="158"/>
                      </a:lnTo>
                      <a:lnTo>
                        <a:pt x="83" y="141"/>
                      </a:lnTo>
                      <a:lnTo>
                        <a:pt x="69" y="126"/>
                      </a:lnTo>
                      <a:lnTo>
                        <a:pt x="69" y="141"/>
                      </a:lnTo>
                      <a:lnTo>
                        <a:pt x="41" y="141"/>
                      </a:lnTo>
                      <a:lnTo>
                        <a:pt x="27" y="126"/>
                      </a:lnTo>
                      <a:lnTo>
                        <a:pt x="27" y="109"/>
                      </a:lnTo>
                      <a:lnTo>
                        <a:pt x="14" y="94"/>
                      </a:lnTo>
                      <a:lnTo>
                        <a:pt x="14" y="79"/>
                      </a:lnTo>
                      <a:lnTo>
                        <a:pt x="0" y="62"/>
                      </a:lnTo>
                      <a:lnTo>
                        <a:pt x="0" y="31"/>
                      </a:lnTo>
                      <a:lnTo>
                        <a:pt x="0" y="15"/>
                      </a:lnTo>
                      <a:lnTo>
                        <a:pt x="14" y="0"/>
                      </a:lnTo>
                      <a:lnTo>
                        <a:pt x="27" y="0"/>
                      </a:lnTo>
                      <a:lnTo>
                        <a:pt x="41" y="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5" name=""/>
                <p:cNvSpPr/>
                <p:nvPr/>
              </p:nvSpPr>
              <p:spPr>
                <a:xfrm>
                  <a:off x="8416800" y="2768760"/>
                  <a:ext cx="7920" cy="7920"/>
                </a:xfrm>
                <a:custGeom>
                  <a:avLst/>
                  <a:gdLst/>
                  <a:ahLst/>
                  <a:rect l="l" t="t" r="r" b="b"/>
                  <a:pathLst>
                    <a:path w="14" h="15">
                      <a:moveTo>
                        <a:pt x="0" y="0"/>
                      </a:moveTo>
                      <a:lnTo>
                        <a:pt x="0" y="15"/>
                      </a:lnTo>
                      <a:lnTo>
                        <a:pt x="14" y="15"/>
                      </a:lnTo>
                      <a:lnTo>
                        <a:pt x="0" y="15"/>
                      </a:lnTo>
                      <a:lnTo>
                        <a:pt x="0"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6" name=""/>
                <p:cNvSpPr/>
                <p:nvPr/>
              </p:nvSpPr>
              <p:spPr>
                <a:xfrm>
                  <a:off x="8416800" y="2768760"/>
                  <a:ext cx="7920" cy="7920"/>
                </a:xfrm>
                <a:custGeom>
                  <a:avLst/>
                  <a:gdLst/>
                  <a:ahLst/>
                  <a:rect l="l" t="t" r="r" b="b"/>
                  <a:pathLst>
                    <a:path w="14" h="15">
                      <a:moveTo>
                        <a:pt x="0" y="0"/>
                      </a:moveTo>
                      <a:lnTo>
                        <a:pt x="0" y="15"/>
                      </a:lnTo>
                      <a:lnTo>
                        <a:pt x="14" y="15"/>
                      </a:lnTo>
                      <a:lnTo>
                        <a:pt x="0" y="15"/>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7" name=""/>
                <p:cNvSpPr/>
                <p:nvPr/>
              </p:nvSpPr>
              <p:spPr>
                <a:xfrm>
                  <a:off x="8335800" y="2784600"/>
                  <a:ext cx="30240" cy="50760"/>
                </a:xfrm>
                <a:custGeom>
                  <a:avLst/>
                  <a:gdLst/>
                  <a:ahLst/>
                  <a:rect l="l" t="t" r="r" b="b"/>
                  <a:pathLst>
                    <a:path w="56" h="96">
                      <a:moveTo>
                        <a:pt x="56" y="0"/>
                      </a:moveTo>
                      <a:lnTo>
                        <a:pt x="42" y="32"/>
                      </a:lnTo>
                      <a:lnTo>
                        <a:pt x="28" y="64"/>
                      </a:lnTo>
                      <a:lnTo>
                        <a:pt x="14" y="96"/>
                      </a:lnTo>
                      <a:lnTo>
                        <a:pt x="0" y="79"/>
                      </a:lnTo>
                      <a:lnTo>
                        <a:pt x="14" y="79"/>
                      </a:lnTo>
                      <a:lnTo>
                        <a:pt x="14" y="64"/>
                      </a:lnTo>
                      <a:lnTo>
                        <a:pt x="28" y="49"/>
                      </a:lnTo>
                      <a:lnTo>
                        <a:pt x="42" y="49"/>
                      </a:lnTo>
                      <a:lnTo>
                        <a:pt x="42" y="32"/>
                      </a:lnTo>
                      <a:lnTo>
                        <a:pt x="56" y="17"/>
                      </a:lnTo>
                      <a:lnTo>
                        <a:pt x="56" y="0"/>
                      </a:lnTo>
                      <a:close/>
                    </a:path>
                  </a:pathLst>
                </a:custGeom>
                <a:solidFill>
                  <a:srgbClr val="00937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8" name=""/>
                <p:cNvSpPr/>
                <p:nvPr/>
              </p:nvSpPr>
              <p:spPr>
                <a:xfrm>
                  <a:off x="8335800" y="2784600"/>
                  <a:ext cx="30240" cy="50760"/>
                </a:xfrm>
                <a:custGeom>
                  <a:avLst/>
                  <a:gdLst/>
                  <a:ahLst/>
                  <a:rect l="l" t="t" r="r" b="b"/>
                  <a:pathLst>
                    <a:path w="56" h="96">
                      <a:moveTo>
                        <a:pt x="56" y="0"/>
                      </a:moveTo>
                      <a:lnTo>
                        <a:pt x="42" y="32"/>
                      </a:lnTo>
                      <a:lnTo>
                        <a:pt x="28" y="64"/>
                      </a:lnTo>
                      <a:lnTo>
                        <a:pt x="14" y="96"/>
                      </a:lnTo>
                      <a:lnTo>
                        <a:pt x="0" y="79"/>
                      </a:lnTo>
                      <a:lnTo>
                        <a:pt x="14" y="79"/>
                      </a:lnTo>
                      <a:lnTo>
                        <a:pt x="14" y="64"/>
                      </a:lnTo>
                      <a:lnTo>
                        <a:pt x="28" y="49"/>
                      </a:lnTo>
                      <a:lnTo>
                        <a:pt x="42" y="49"/>
                      </a:lnTo>
                      <a:lnTo>
                        <a:pt x="42" y="32"/>
                      </a:lnTo>
                      <a:lnTo>
                        <a:pt x="56" y="17"/>
                      </a:lnTo>
                      <a:lnTo>
                        <a:pt x="5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9" name=""/>
                <p:cNvSpPr/>
                <p:nvPr/>
              </p:nvSpPr>
              <p:spPr>
                <a:xfrm>
                  <a:off x="5484960" y="1933560"/>
                  <a:ext cx="1150920" cy="1785960"/>
                </a:xfrm>
                <a:custGeom>
                  <a:avLst/>
                  <a:gdLst/>
                  <a:ahLst/>
                  <a:rect l="l" t="t" r="r" b="b"/>
                  <a:pathLst>
                    <a:path w="2176" h="3375">
                      <a:moveTo>
                        <a:pt x="1275" y="1687"/>
                      </a:moveTo>
                      <a:lnTo>
                        <a:pt x="1289" y="1687"/>
                      </a:lnTo>
                      <a:lnTo>
                        <a:pt x="1303" y="1672"/>
                      </a:lnTo>
                      <a:lnTo>
                        <a:pt x="1317" y="1657"/>
                      </a:lnTo>
                      <a:lnTo>
                        <a:pt x="1317" y="1640"/>
                      </a:lnTo>
                      <a:lnTo>
                        <a:pt x="1331" y="1625"/>
                      </a:lnTo>
                      <a:lnTo>
                        <a:pt x="1345" y="1625"/>
                      </a:lnTo>
                      <a:lnTo>
                        <a:pt x="1345" y="1608"/>
                      </a:lnTo>
                      <a:lnTo>
                        <a:pt x="1358" y="1608"/>
                      </a:lnTo>
                      <a:lnTo>
                        <a:pt x="1372" y="1625"/>
                      </a:lnTo>
                      <a:lnTo>
                        <a:pt x="1386" y="1625"/>
                      </a:lnTo>
                      <a:lnTo>
                        <a:pt x="1400" y="1625"/>
                      </a:lnTo>
                      <a:lnTo>
                        <a:pt x="1400" y="1657"/>
                      </a:lnTo>
                      <a:lnTo>
                        <a:pt x="1400" y="1672"/>
                      </a:lnTo>
                      <a:lnTo>
                        <a:pt x="1386" y="1657"/>
                      </a:lnTo>
                      <a:lnTo>
                        <a:pt x="1386" y="1640"/>
                      </a:lnTo>
                      <a:lnTo>
                        <a:pt x="1400" y="1625"/>
                      </a:lnTo>
                      <a:lnTo>
                        <a:pt x="1414" y="1625"/>
                      </a:lnTo>
                      <a:lnTo>
                        <a:pt x="1428" y="1625"/>
                      </a:lnTo>
                      <a:lnTo>
                        <a:pt x="1441" y="1608"/>
                      </a:lnTo>
                      <a:lnTo>
                        <a:pt x="1428" y="1593"/>
                      </a:lnTo>
                      <a:lnTo>
                        <a:pt x="1441" y="1608"/>
                      </a:lnTo>
                      <a:lnTo>
                        <a:pt x="1455" y="1625"/>
                      </a:lnTo>
                      <a:lnTo>
                        <a:pt x="1469" y="1625"/>
                      </a:lnTo>
                      <a:lnTo>
                        <a:pt x="1483" y="1640"/>
                      </a:lnTo>
                      <a:lnTo>
                        <a:pt x="1497" y="1640"/>
                      </a:lnTo>
                      <a:lnTo>
                        <a:pt x="1511" y="1640"/>
                      </a:lnTo>
                      <a:lnTo>
                        <a:pt x="1552" y="1640"/>
                      </a:lnTo>
                      <a:lnTo>
                        <a:pt x="1580" y="1657"/>
                      </a:lnTo>
                      <a:lnTo>
                        <a:pt x="1621" y="1672"/>
                      </a:lnTo>
                      <a:lnTo>
                        <a:pt x="1607" y="1687"/>
                      </a:lnTo>
                      <a:lnTo>
                        <a:pt x="1621" y="1687"/>
                      </a:lnTo>
                      <a:lnTo>
                        <a:pt x="1635" y="1687"/>
                      </a:lnTo>
                      <a:lnTo>
                        <a:pt x="1649" y="1704"/>
                      </a:lnTo>
                      <a:lnTo>
                        <a:pt x="1663" y="1704"/>
                      </a:lnTo>
                      <a:lnTo>
                        <a:pt x="1663" y="1719"/>
                      </a:lnTo>
                      <a:lnTo>
                        <a:pt x="1663" y="1736"/>
                      </a:lnTo>
                      <a:lnTo>
                        <a:pt x="1663" y="1751"/>
                      </a:lnTo>
                      <a:lnTo>
                        <a:pt x="1663" y="1766"/>
                      </a:lnTo>
                      <a:lnTo>
                        <a:pt x="1690" y="1766"/>
                      </a:lnTo>
                      <a:lnTo>
                        <a:pt x="1704" y="1766"/>
                      </a:lnTo>
                      <a:lnTo>
                        <a:pt x="1733" y="1783"/>
                      </a:lnTo>
                      <a:lnTo>
                        <a:pt x="1775" y="1798"/>
                      </a:lnTo>
                      <a:lnTo>
                        <a:pt x="1816" y="1814"/>
                      </a:lnTo>
                      <a:lnTo>
                        <a:pt x="1830" y="1845"/>
                      </a:lnTo>
                      <a:lnTo>
                        <a:pt x="1844" y="1861"/>
                      </a:lnTo>
                      <a:lnTo>
                        <a:pt x="1844" y="1893"/>
                      </a:lnTo>
                      <a:lnTo>
                        <a:pt x="1830" y="1909"/>
                      </a:lnTo>
                      <a:lnTo>
                        <a:pt x="1802" y="1940"/>
                      </a:lnTo>
                      <a:lnTo>
                        <a:pt x="1789" y="1972"/>
                      </a:lnTo>
                      <a:lnTo>
                        <a:pt x="1802" y="1972"/>
                      </a:lnTo>
                      <a:lnTo>
                        <a:pt x="1816" y="1956"/>
                      </a:lnTo>
                      <a:lnTo>
                        <a:pt x="1830" y="1956"/>
                      </a:lnTo>
                      <a:lnTo>
                        <a:pt x="1830" y="1972"/>
                      </a:lnTo>
                      <a:lnTo>
                        <a:pt x="1844" y="1972"/>
                      </a:lnTo>
                      <a:lnTo>
                        <a:pt x="1858" y="1972"/>
                      </a:lnTo>
                      <a:lnTo>
                        <a:pt x="1872" y="1956"/>
                      </a:lnTo>
                      <a:lnTo>
                        <a:pt x="1899" y="1956"/>
                      </a:lnTo>
                      <a:lnTo>
                        <a:pt x="1913" y="1940"/>
                      </a:lnTo>
                      <a:lnTo>
                        <a:pt x="1927" y="1940"/>
                      </a:lnTo>
                      <a:lnTo>
                        <a:pt x="1955" y="1956"/>
                      </a:lnTo>
                      <a:lnTo>
                        <a:pt x="1968" y="1972"/>
                      </a:lnTo>
                      <a:lnTo>
                        <a:pt x="1955" y="1987"/>
                      </a:lnTo>
                      <a:lnTo>
                        <a:pt x="1955" y="2004"/>
                      </a:lnTo>
                      <a:lnTo>
                        <a:pt x="1955" y="2019"/>
                      </a:lnTo>
                      <a:lnTo>
                        <a:pt x="1996" y="2019"/>
                      </a:lnTo>
                      <a:lnTo>
                        <a:pt x="2051" y="2019"/>
                      </a:lnTo>
                      <a:lnTo>
                        <a:pt x="2093" y="2019"/>
                      </a:lnTo>
                      <a:lnTo>
                        <a:pt x="2107" y="2034"/>
                      </a:lnTo>
                      <a:lnTo>
                        <a:pt x="2107" y="2051"/>
                      </a:lnTo>
                      <a:lnTo>
                        <a:pt x="2121" y="2066"/>
                      </a:lnTo>
                      <a:lnTo>
                        <a:pt x="2134" y="2066"/>
                      </a:lnTo>
                      <a:lnTo>
                        <a:pt x="2148" y="2066"/>
                      </a:lnTo>
                      <a:lnTo>
                        <a:pt x="2162" y="2066"/>
                      </a:lnTo>
                      <a:lnTo>
                        <a:pt x="2176" y="2098"/>
                      </a:lnTo>
                      <a:lnTo>
                        <a:pt x="2162" y="2145"/>
                      </a:lnTo>
                      <a:lnTo>
                        <a:pt x="2148" y="2177"/>
                      </a:lnTo>
                      <a:lnTo>
                        <a:pt x="2134" y="2209"/>
                      </a:lnTo>
                      <a:lnTo>
                        <a:pt x="2121" y="2224"/>
                      </a:lnTo>
                      <a:lnTo>
                        <a:pt x="2121" y="2241"/>
                      </a:lnTo>
                      <a:lnTo>
                        <a:pt x="2107" y="2256"/>
                      </a:lnTo>
                      <a:lnTo>
                        <a:pt x="2107" y="2271"/>
                      </a:lnTo>
                      <a:lnTo>
                        <a:pt x="2093" y="2271"/>
                      </a:lnTo>
                      <a:lnTo>
                        <a:pt x="2093" y="2303"/>
                      </a:lnTo>
                      <a:lnTo>
                        <a:pt x="2093" y="2335"/>
                      </a:lnTo>
                      <a:lnTo>
                        <a:pt x="2093" y="2350"/>
                      </a:lnTo>
                      <a:lnTo>
                        <a:pt x="2079" y="2414"/>
                      </a:lnTo>
                      <a:lnTo>
                        <a:pt x="2065" y="2445"/>
                      </a:lnTo>
                      <a:lnTo>
                        <a:pt x="2051" y="2508"/>
                      </a:lnTo>
                      <a:lnTo>
                        <a:pt x="2051" y="2524"/>
                      </a:lnTo>
                      <a:lnTo>
                        <a:pt x="2038" y="2539"/>
                      </a:lnTo>
                      <a:lnTo>
                        <a:pt x="1996" y="2556"/>
                      </a:lnTo>
                      <a:lnTo>
                        <a:pt x="1968" y="2571"/>
                      </a:lnTo>
                      <a:lnTo>
                        <a:pt x="1955" y="2571"/>
                      </a:lnTo>
                      <a:lnTo>
                        <a:pt x="1941" y="2587"/>
                      </a:lnTo>
                      <a:lnTo>
                        <a:pt x="1927" y="2603"/>
                      </a:lnTo>
                      <a:lnTo>
                        <a:pt x="1913" y="2603"/>
                      </a:lnTo>
                      <a:lnTo>
                        <a:pt x="1899" y="2618"/>
                      </a:lnTo>
                      <a:lnTo>
                        <a:pt x="1899" y="2650"/>
                      </a:lnTo>
                      <a:lnTo>
                        <a:pt x="1899" y="2682"/>
                      </a:lnTo>
                      <a:lnTo>
                        <a:pt x="1899" y="2729"/>
                      </a:lnTo>
                      <a:lnTo>
                        <a:pt x="1885" y="2744"/>
                      </a:lnTo>
                      <a:lnTo>
                        <a:pt x="1885" y="2761"/>
                      </a:lnTo>
                      <a:lnTo>
                        <a:pt x="1872" y="2776"/>
                      </a:lnTo>
                      <a:lnTo>
                        <a:pt x="1872" y="2793"/>
                      </a:lnTo>
                      <a:lnTo>
                        <a:pt x="1858" y="2808"/>
                      </a:lnTo>
                      <a:lnTo>
                        <a:pt x="1858" y="2793"/>
                      </a:lnTo>
                      <a:lnTo>
                        <a:pt x="1872" y="2776"/>
                      </a:lnTo>
                      <a:lnTo>
                        <a:pt x="1885" y="2761"/>
                      </a:lnTo>
                      <a:lnTo>
                        <a:pt x="1872" y="2744"/>
                      </a:lnTo>
                      <a:lnTo>
                        <a:pt x="1858" y="2744"/>
                      </a:lnTo>
                      <a:lnTo>
                        <a:pt x="1872" y="2761"/>
                      </a:lnTo>
                      <a:lnTo>
                        <a:pt x="1858" y="2793"/>
                      </a:lnTo>
                      <a:lnTo>
                        <a:pt x="1844" y="2823"/>
                      </a:lnTo>
                      <a:lnTo>
                        <a:pt x="1830" y="2840"/>
                      </a:lnTo>
                      <a:lnTo>
                        <a:pt x="1830" y="2855"/>
                      </a:lnTo>
                      <a:lnTo>
                        <a:pt x="1816" y="2872"/>
                      </a:lnTo>
                      <a:lnTo>
                        <a:pt x="1802" y="2872"/>
                      </a:lnTo>
                      <a:lnTo>
                        <a:pt x="1789" y="2855"/>
                      </a:lnTo>
                      <a:lnTo>
                        <a:pt x="1761" y="2823"/>
                      </a:lnTo>
                      <a:lnTo>
                        <a:pt x="1733" y="2808"/>
                      </a:lnTo>
                      <a:lnTo>
                        <a:pt x="1733" y="2823"/>
                      </a:lnTo>
                      <a:lnTo>
                        <a:pt x="1747" y="2872"/>
                      </a:lnTo>
                      <a:lnTo>
                        <a:pt x="1775" y="2902"/>
                      </a:lnTo>
                      <a:lnTo>
                        <a:pt x="1789" y="2934"/>
                      </a:lnTo>
                      <a:lnTo>
                        <a:pt x="1775" y="2950"/>
                      </a:lnTo>
                      <a:lnTo>
                        <a:pt x="1747" y="2966"/>
                      </a:lnTo>
                      <a:lnTo>
                        <a:pt x="1733" y="2981"/>
                      </a:lnTo>
                      <a:lnTo>
                        <a:pt x="1718" y="2981"/>
                      </a:lnTo>
                      <a:lnTo>
                        <a:pt x="1704" y="2981"/>
                      </a:lnTo>
                      <a:lnTo>
                        <a:pt x="1690" y="2997"/>
                      </a:lnTo>
                      <a:lnTo>
                        <a:pt x="1704" y="3029"/>
                      </a:lnTo>
                      <a:lnTo>
                        <a:pt x="1690" y="3045"/>
                      </a:lnTo>
                      <a:lnTo>
                        <a:pt x="1677" y="3045"/>
                      </a:lnTo>
                      <a:lnTo>
                        <a:pt x="1663" y="3029"/>
                      </a:lnTo>
                      <a:lnTo>
                        <a:pt x="1635" y="3045"/>
                      </a:lnTo>
                      <a:lnTo>
                        <a:pt x="1635" y="3060"/>
                      </a:lnTo>
                      <a:lnTo>
                        <a:pt x="1649" y="3076"/>
                      </a:lnTo>
                      <a:lnTo>
                        <a:pt x="1663" y="3076"/>
                      </a:lnTo>
                      <a:lnTo>
                        <a:pt x="1677" y="3076"/>
                      </a:lnTo>
                      <a:lnTo>
                        <a:pt x="1677" y="3092"/>
                      </a:lnTo>
                      <a:lnTo>
                        <a:pt x="1663" y="3092"/>
                      </a:lnTo>
                      <a:lnTo>
                        <a:pt x="1649" y="3092"/>
                      </a:lnTo>
                      <a:lnTo>
                        <a:pt x="1649" y="3108"/>
                      </a:lnTo>
                      <a:lnTo>
                        <a:pt x="1663" y="3123"/>
                      </a:lnTo>
                      <a:lnTo>
                        <a:pt x="1663" y="3155"/>
                      </a:lnTo>
                      <a:lnTo>
                        <a:pt x="1649" y="3155"/>
                      </a:lnTo>
                      <a:lnTo>
                        <a:pt x="1635" y="3170"/>
                      </a:lnTo>
                      <a:lnTo>
                        <a:pt x="1635" y="3187"/>
                      </a:lnTo>
                      <a:lnTo>
                        <a:pt x="1649" y="3202"/>
                      </a:lnTo>
                      <a:lnTo>
                        <a:pt x="1677" y="3217"/>
                      </a:lnTo>
                      <a:lnTo>
                        <a:pt x="1677" y="3234"/>
                      </a:lnTo>
                      <a:lnTo>
                        <a:pt x="1649" y="3266"/>
                      </a:lnTo>
                      <a:lnTo>
                        <a:pt x="1635" y="3281"/>
                      </a:lnTo>
                      <a:lnTo>
                        <a:pt x="1649" y="3281"/>
                      </a:lnTo>
                      <a:lnTo>
                        <a:pt x="1663" y="3313"/>
                      </a:lnTo>
                      <a:lnTo>
                        <a:pt x="1663" y="3328"/>
                      </a:lnTo>
                      <a:lnTo>
                        <a:pt x="1663" y="3345"/>
                      </a:lnTo>
                      <a:lnTo>
                        <a:pt x="1649" y="3360"/>
                      </a:lnTo>
                      <a:lnTo>
                        <a:pt x="1635" y="3360"/>
                      </a:lnTo>
                      <a:lnTo>
                        <a:pt x="1607" y="3375"/>
                      </a:lnTo>
                      <a:lnTo>
                        <a:pt x="1621" y="3360"/>
                      </a:lnTo>
                      <a:lnTo>
                        <a:pt x="1607" y="3360"/>
                      </a:lnTo>
                      <a:lnTo>
                        <a:pt x="1594" y="3360"/>
                      </a:lnTo>
                      <a:lnTo>
                        <a:pt x="1580" y="3360"/>
                      </a:lnTo>
                      <a:lnTo>
                        <a:pt x="1594" y="3345"/>
                      </a:lnTo>
                      <a:lnTo>
                        <a:pt x="1594" y="3328"/>
                      </a:lnTo>
                      <a:lnTo>
                        <a:pt x="1566" y="3313"/>
                      </a:lnTo>
                      <a:lnTo>
                        <a:pt x="1538" y="3296"/>
                      </a:lnTo>
                      <a:lnTo>
                        <a:pt x="1524" y="3266"/>
                      </a:lnTo>
                      <a:lnTo>
                        <a:pt x="1511" y="3234"/>
                      </a:lnTo>
                      <a:lnTo>
                        <a:pt x="1524" y="3234"/>
                      </a:lnTo>
                      <a:lnTo>
                        <a:pt x="1538" y="3234"/>
                      </a:lnTo>
                      <a:lnTo>
                        <a:pt x="1538" y="3217"/>
                      </a:lnTo>
                      <a:lnTo>
                        <a:pt x="1524" y="3202"/>
                      </a:lnTo>
                      <a:lnTo>
                        <a:pt x="1511" y="3202"/>
                      </a:lnTo>
                      <a:lnTo>
                        <a:pt x="1497" y="3202"/>
                      </a:lnTo>
                      <a:lnTo>
                        <a:pt x="1483" y="3202"/>
                      </a:lnTo>
                      <a:lnTo>
                        <a:pt x="1483" y="3187"/>
                      </a:lnTo>
                      <a:lnTo>
                        <a:pt x="1497" y="3170"/>
                      </a:lnTo>
                      <a:lnTo>
                        <a:pt x="1511" y="3155"/>
                      </a:lnTo>
                      <a:lnTo>
                        <a:pt x="1524" y="3139"/>
                      </a:lnTo>
                      <a:lnTo>
                        <a:pt x="1511" y="3123"/>
                      </a:lnTo>
                      <a:lnTo>
                        <a:pt x="1511" y="3108"/>
                      </a:lnTo>
                      <a:lnTo>
                        <a:pt x="1511" y="3076"/>
                      </a:lnTo>
                      <a:lnTo>
                        <a:pt x="1511" y="3060"/>
                      </a:lnTo>
                      <a:lnTo>
                        <a:pt x="1497" y="3060"/>
                      </a:lnTo>
                      <a:lnTo>
                        <a:pt x="1483" y="3060"/>
                      </a:lnTo>
                      <a:lnTo>
                        <a:pt x="1469" y="3045"/>
                      </a:lnTo>
                      <a:lnTo>
                        <a:pt x="1469" y="3029"/>
                      </a:lnTo>
                      <a:lnTo>
                        <a:pt x="1469" y="3013"/>
                      </a:lnTo>
                      <a:lnTo>
                        <a:pt x="1469" y="2997"/>
                      </a:lnTo>
                      <a:lnTo>
                        <a:pt x="1455" y="2966"/>
                      </a:lnTo>
                      <a:lnTo>
                        <a:pt x="1441" y="2950"/>
                      </a:lnTo>
                      <a:lnTo>
                        <a:pt x="1455" y="2934"/>
                      </a:lnTo>
                      <a:lnTo>
                        <a:pt x="1455" y="2919"/>
                      </a:lnTo>
                      <a:lnTo>
                        <a:pt x="1455" y="2902"/>
                      </a:lnTo>
                      <a:lnTo>
                        <a:pt x="1455" y="2855"/>
                      </a:lnTo>
                      <a:lnTo>
                        <a:pt x="1455" y="2808"/>
                      </a:lnTo>
                      <a:lnTo>
                        <a:pt x="1455" y="2761"/>
                      </a:lnTo>
                      <a:lnTo>
                        <a:pt x="1455" y="2744"/>
                      </a:lnTo>
                      <a:lnTo>
                        <a:pt x="1455" y="2729"/>
                      </a:lnTo>
                      <a:lnTo>
                        <a:pt x="1441" y="2714"/>
                      </a:lnTo>
                      <a:lnTo>
                        <a:pt x="1455" y="2697"/>
                      </a:lnTo>
                      <a:lnTo>
                        <a:pt x="1455" y="2682"/>
                      </a:lnTo>
                      <a:lnTo>
                        <a:pt x="1455" y="2650"/>
                      </a:lnTo>
                      <a:lnTo>
                        <a:pt x="1455" y="2618"/>
                      </a:lnTo>
                      <a:lnTo>
                        <a:pt x="1455" y="2571"/>
                      </a:lnTo>
                      <a:lnTo>
                        <a:pt x="1441" y="2524"/>
                      </a:lnTo>
                      <a:lnTo>
                        <a:pt x="1428" y="2477"/>
                      </a:lnTo>
                      <a:lnTo>
                        <a:pt x="1414" y="2429"/>
                      </a:lnTo>
                      <a:lnTo>
                        <a:pt x="1414" y="2414"/>
                      </a:lnTo>
                      <a:lnTo>
                        <a:pt x="1400" y="2382"/>
                      </a:lnTo>
                      <a:lnTo>
                        <a:pt x="1358" y="2367"/>
                      </a:lnTo>
                      <a:lnTo>
                        <a:pt x="1331" y="2335"/>
                      </a:lnTo>
                      <a:lnTo>
                        <a:pt x="1303" y="2303"/>
                      </a:lnTo>
                      <a:lnTo>
                        <a:pt x="1303" y="2288"/>
                      </a:lnTo>
                      <a:lnTo>
                        <a:pt x="1289" y="2271"/>
                      </a:lnTo>
                      <a:lnTo>
                        <a:pt x="1275" y="2256"/>
                      </a:lnTo>
                      <a:lnTo>
                        <a:pt x="1275" y="2241"/>
                      </a:lnTo>
                      <a:lnTo>
                        <a:pt x="1248" y="2192"/>
                      </a:lnTo>
                      <a:lnTo>
                        <a:pt x="1234" y="2145"/>
                      </a:lnTo>
                      <a:lnTo>
                        <a:pt x="1220" y="2113"/>
                      </a:lnTo>
                      <a:lnTo>
                        <a:pt x="1206" y="2098"/>
                      </a:lnTo>
                      <a:lnTo>
                        <a:pt x="1192" y="2098"/>
                      </a:lnTo>
                      <a:lnTo>
                        <a:pt x="1192" y="2083"/>
                      </a:lnTo>
                      <a:lnTo>
                        <a:pt x="1192" y="2051"/>
                      </a:lnTo>
                      <a:lnTo>
                        <a:pt x="1206" y="2034"/>
                      </a:lnTo>
                      <a:lnTo>
                        <a:pt x="1206" y="2019"/>
                      </a:lnTo>
                      <a:lnTo>
                        <a:pt x="1206" y="2004"/>
                      </a:lnTo>
                      <a:lnTo>
                        <a:pt x="1220" y="1987"/>
                      </a:lnTo>
                      <a:lnTo>
                        <a:pt x="1220" y="1972"/>
                      </a:lnTo>
                      <a:lnTo>
                        <a:pt x="1206" y="1972"/>
                      </a:lnTo>
                      <a:lnTo>
                        <a:pt x="1206" y="1987"/>
                      </a:lnTo>
                      <a:lnTo>
                        <a:pt x="1192" y="1987"/>
                      </a:lnTo>
                      <a:lnTo>
                        <a:pt x="1192" y="1972"/>
                      </a:lnTo>
                      <a:lnTo>
                        <a:pt x="1192" y="1956"/>
                      </a:lnTo>
                      <a:lnTo>
                        <a:pt x="1192" y="1940"/>
                      </a:lnTo>
                      <a:lnTo>
                        <a:pt x="1206" y="1940"/>
                      </a:lnTo>
                      <a:lnTo>
                        <a:pt x="1206" y="1909"/>
                      </a:lnTo>
                      <a:lnTo>
                        <a:pt x="1220" y="1909"/>
                      </a:lnTo>
                      <a:lnTo>
                        <a:pt x="1234" y="1893"/>
                      </a:lnTo>
                      <a:lnTo>
                        <a:pt x="1234" y="1877"/>
                      </a:lnTo>
                      <a:lnTo>
                        <a:pt x="1248" y="1861"/>
                      </a:lnTo>
                      <a:lnTo>
                        <a:pt x="1262" y="1845"/>
                      </a:lnTo>
                      <a:lnTo>
                        <a:pt x="1275" y="1814"/>
                      </a:lnTo>
                      <a:lnTo>
                        <a:pt x="1262" y="1814"/>
                      </a:lnTo>
                      <a:lnTo>
                        <a:pt x="1262" y="1766"/>
                      </a:lnTo>
                      <a:lnTo>
                        <a:pt x="1262" y="1736"/>
                      </a:lnTo>
                      <a:lnTo>
                        <a:pt x="1262" y="1687"/>
                      </a:lnTo>
                      <a:lnTo>
                        <a:pt x="1248" y="1687"/>
                      </a:lnTo>
                      <a:lnTo>
                        <a:pt x="1234" y="1687"/>
                      </a:lnTo>
                      <a:lnTo>
                        <a:pt x="1220" y="1687"/>
                      </a:lnTo>
                      <a:lnTo>
                        <a:pt x="1206" y="1687"/>
                      </a:lnTo>
                      <a:lnTo>
                        <a:pt x="1179" y="1704"/>
                      </a:lnTo>
                      <a:lnTo>
                        <a:pt x="1151" y="1704"/>
                      </a:lnTo>
                      <a:lnTo>
                        <a:pt x="1151" y="1687"/>
                      </a:lnTo>
                      <a:lnTo>
                        <a:pt x="1137" y="1687"/>
                      </a:lnTo>
                      <a:lnTo>
                        <a:pt x="1123" y="1672"/>
                      </a:lnTo>
                      <a:lnTo>
                        <a:pt x="1109" y="1672"/>
                      </a:lnTo>
                      <a:lnTo>
                        <a:pt x="1096" y="1657"/>
                      </a:lnTo>
                      <a:lnTo>
                        <a:pt x="1096" y="1640"/>
                      </a:lnTo>
                      <a:lnTo>
                        <a:pt x="1096" y="1625"/>
                      </a:lnTo>
                      <a:lnTo>
                        <a:pt x="1096" y="1608"/>
                      </a:lnTo>
                      <a:lnTo>
                        <a:pt x="1082" y="1593"/>
                      </a:lnTo>
                      <a:lnTo>
                        <a:pt x="1068" y="1578"/>
                      </a:lnTo>
                      <a:lnTo>
                        <a:pt x="1068" y="1561"/>
                      </a:lnTo>
                      <a:lnTo>
                        <a:pt x="1054" y="1561"/>
                      </a:lnTo>
                      <a:lnTo>
                        <a:pt x="1026" y="1546"/>
                      </a:lnTo>
                      <a:lnTo>
                        <a:pt x="999" y="1546"/>
                      </a:lnTo>
                      <a:lnTo>
                        <a:pt x="971" y="1529"/>
                      </a:lnTo>
                      <a:lnTo>
                        <a:pt x="957" y="1499"/>
                      </a:lnTo>
                      <a:lnTo>
                        <a:pt x="944" y="1482"/>
                      </a:lnTo>
                      <a:lnTo>
                        <a:pt x="914" y="1482"/>
                      </a:lnTo>
                      <a:lnTo>
                        <a:pt x="873" y="1467"/>
                      </a:lnTo>
                      <a:lnTo>
                        <a:pt x="845" y="1467"/>
                      </a:lnTo>
                      <a:lnTo>
                        <a:pt x="804" y="1451"/>
                      </a:lnTo>
                      <a:lnTo>
                        <a:pt x="776" y="1451"/>
                      </a:lnTo>
                      <a:lnTo>
                        <a:pt x="748" y="1420"/>
                      </a:lnTo>
                      <a:lnTo>
                        <a:pt x="721" y="1403"/>
                      </a:lnTo>
                      <a:lnTo>
                        <a:pt x="707" y="1372"/>
                      </a:lnTo>
                      <a:lnTo>
                        <a:pt x="707" y="1356"/>
                      </a:lnTo>
                      <a:lnTo>
                        <a:pt x="707" y="1325"/>
                      </a:lnTo>
                      <a:lnTo>
                        <a:pt x="707" y="1293"/>
                      </a:lnTo>
                      <a:lnTo>
                        <a:pt x="693" y="1262"/>
                      </a:lnTo>
                      <a:lnTo>
                        <a:pt x="666" y="1246"/>
                      </a:lnTo>
                      <a:lnTo>
                        <a:pt x="652" y="1231"/>
                      </a:lnTo>
                      <a:lnTo>
                        <a:pt x="652" y="1214"/>
                      </a:lnTo>
                      <a:lnTo>
                        <a:pt x="638" y="1183"/>
                      </a:lnTo>
                      <a:lnTo>
                        <a:pt x="624" y="1167"/>
                      </a:lnTo>
                      <a:lnTo>
                        <a:pt x="610" y="1135"/>
                      </a:lnTo>
                      <a:lnTo>
                        <a:pt x="610" y="1120"/>
                      </a:lnTo>
                      <a:lnTo>
                        <a:pt x="610" y="1088"/>
                      </a:lnTo>
                      <a:lnTo>
                        <a:pt x="610" y="1073"/>
                      </a:lnTo>
                      <a:lnTo>
                        <a:pt x="610" y="1056"/>
                      </a:lnTo>
                      <a:lnTo>
                        <a:pt x="596" y="1056"/>
                      </a:lnTo>
                      <a:lnTo>
                        <a:pt x="583" y="1056"/>
                      </a:lnTo>
                      <a:lnTo>
                        <a:pt x="569" y="1088"/>
                      </a:lnTo>
                      <a:lnTo>
                        <a:pt x="583" y="1120"/>
                      </a:lnTo>
                      <a:lnTo>
                        <a:pt x="596" y="1152"/>
                      </a:lnTo>
                      <a:lnTo>
                        <a:pt x="596" y="1167"/>
                      </a:lnTo>
                      <a:lnTo>
                        <a:pt x="610" y="1214"/>
                      </a:lnTo>
                      <a:lnTo>
                        <a:pt x="624" y="1246"/>
                      </a:lnTo>
                      <a:lnTo>
                        <a:pt x="638" y="1293"/>
                      </a:lnTo>
                      <a:lnTo>
                        <a:pt x="624" y="1293"/>
                      </a:lnTo>
                      <a:lnTo>
                        <a:pt x="610" y="1278"/>
                      </a:lnTo>
                      <a:lnTo>
                        <a:pt x="596" y="1262"/>
                      </a:lnTo>
                      <a:lnTo>
                        <a:pt x="596" y="1246"/>
                      </a:lnTo>
                      <a:lnTo>
                        <a:pt x="596" y="1231"/>
                      </a:lnTo>
                      <a:lnTo>
                        <a:pt x="596" y="1214"/>
                      </a:lnTo>
                      <a:lnTo>
                        <a:pt x="583" y="1199"/>
                      </a:lnTo>
                      <a:lnTo>
                        <a:pt x="555" y="1183"/>
                      </a:lnTo>
                      <a:lnTo>
                        <a:pt x="555" y="1167"/>
                      </a:lnTo>
                      <a:lnTo>
                        <a:pt x="555" y="1152"/>
                      </a:lnTo>
                      <a:lnTo>
                        <a:pt x="569" y="1152"/>
                      </a:lnTo>
                      <a:lnTo>
                        <a:pt x="569" y="1135"/>
                      </a:lnTo>
                      <a:lnTo>
                        <a:pt x="555" y="1120"/>
                      </a:lnTo>
                      <a:lnTo>
                        <a:pt x="555" y="1105"/>
                      </a:lnTo>
                      <a:lnTo>
                        <a:pt x="541" y="1056"/>
                      </a:lnTo>
                      <a:lnTo>
                        <a:pt x="541" y="1026"/>
                      </a:lnTo>
                      <a:lnTo>
                        <a:pt x="527" y="994"/>
                      </a:lnTo>
                      <a:lnTo>
                        <a:pt x="513" y="994"/>
                      </a:lnTo>
                      <a:lnTo>
                        <a:pt x="500" y="994"/>
                      </a:lnTo>
                      <a:lnTo>
                        <a:pt x="486" y="977"/>
                      </a:lnTo>
                      <a:lnTo>
                        <a:pt x="500" y="977"/>
                      </a:lnTo>
                      <a:lnTo>
                        <a:pt x="500" y="962"/>
                      </a:lnTo>
                      <a:lnTo>
                        <a:pt x="500" y="947"/>
                      </a:lnTo>
                      <a:lnTo>
                        <a:pt x="513" y="898"/>
                      </a:lnTo>
                      <a:lnTo>
                        <a:pt x="513" y="868"/>
                      </a:lnTo>
                      <a:lnTo>
                        <a:pt x="500" y="868"/>
                      </a:lnTo>
                      <a:lnTo>
                        <a:pt x="486" y="851"/>
                      </a:lnTo>
                      <a:lnTo>
                        <a:pt x="472" y="851"/>
                      </a:lnTo>
                      <a:lnTo>
                        <a:pt x="472" y="836"/>
                      </a:lnTo>
                      <a:lnTo>
                        <a:pt x="486" y="836"/>
                      </a:lnTo>
                      <a:lnTo>
                        <a:pt x="486" y="820"/>
                      </a:lnTo>
                      <a:lnTo>
                        <a:pt x="486" y="804"/>
                      </a:lnTo>
                      <a:lnTo>
                        <a:pt x="486" y="789"/>
                      </a:lnTo>
                      <a:lnTo>
                        <a:pt x="500" y="773"/>
                      </a:lnTo>
                      <a:lnTo>
                        <a:pt x="500" y="757"/>
                      </a:lnTo>
                      <a:lnTo>
                        <a:pt x="513" y="757"/>
                      </a:lnTo>
                      <a:lnTo>
                        <a:pt x="513" y="741"/>
                      </a:lnTo>
                      <a:lnTo>
                        <a:pt x="513" y="725"/>
                      </a:lnTo>
                      <a:lnTo>
                        <a:pt x="527" y="725"/>
                      </a:lnTo>
                      <a:lnTo>
                        <a:pt x="527" y="710"/>
                      </a:lnTo>
                      <a:lnTo>
                        <a:pt x="555" y="694"/>
                      </a:lnTo>
                      <a:lnTo>
                        <a:pt x="569" y="662"/>
                      </a:lnTo>
                      <a:lnTo>
                        <a:pt x="569" y="647"/>
                      </a:lnTo>
                      <a:lnTo>
                        <a:pt x="569" y="631"/>
                      </a:lnTo>
                      <a:lnTo>
                        <a:pt x="596" y="615"/>
                      </a:lnTo>
                      <a:lnTo>
                        <a:pt x="624" y="600"/>
                      </a:lnTo>
                      <a:lnTo>
                        <a:pt x="610" y="600"/>
                      </a:lnTo>
                      <a:lnTo>
                        <a:pt x="596" y="615"/>
                      </a:lnTo>
                      <a:lnTo>
                        <a:pt x="596" y="631"/>
                      </a:lnTo>
                      <a:lnTo>
                        <a:pt x="624" y="600"/>
                      </a:lnTo>
                      <a:lnTo>
                        <a:pt x="638" y="568"/>
                      </a:lnTo>
                      <a:lnTo>
                        <a:pt x="624" y="521"/>
                      </a:lnTo>
                      <a:lnTo>
                        <a:pt x="610" y="521"/>
                      </a:lnTo>
                      <a:lnTo>
                        <a:pt x="596" y="521"/>
                      </a:lnTo>
                      <a:lnTo>
                        <a:pt x="569" y="521"/>
                      </a:lnTo>
                      <a:lnTo>
                        <a:pt x="583" y="504"/>
                      </a:lnTo>
                      <a:lnTo>
                        <a:pt x="596" y="504"/>
                      </a:lnTo>
                      <a:lnTo>
                        <a:pt x="610" y="489"/>
                      </a:lnTo>
                      <a:lnTo>
                        <a:pt x="610" y="457"/>
                      </a:lnTo>
                      <a:lnTo>
                        <a:pt x="596" y="457"/>
                      </a:lnTo>
                      <a:lnTo>
                        <a:pt x="583" y="442"/>
                      </a:lnTo>
                      <a:lnTo>
                        <a:pt x="596" y="442"/>
                      </a:lnTo>
                      <a:lnTo>
                        <a:pt x="610" y="410"/>
                      </a:lnTo>
                      <a:lnTo>
                        <a:pt x="624" y="395"/>
                      </a:lnTo>
                      <a:lnTo>
                        <a:pt x="610" y="395"/>
                      </a:lnTo>
                      <a:lnTo>
                        <a:pt x="610" y="410"/>
                      </a:lnTo>
                      <a:lnTo>
                        <a:pt x="583" y="425"/>
                      </a:lnTo>
                      <a:lnTo>
                        <a:pt x="583" y="410"/>
                      </a:lnTo>
                      <a:lnTo>
                        <a:pt x="596" y="410"/>
                      </a:lnTo>
                      <a:lnTo>
                        <a:pt x="610" y="395"/>
                      </a:lnTo>
                      <a:lnTo>
                        <a:pt x="596" y="395"/>
                      </a:lnTo>
                      <a:lnTo>
                        <a:pt x="583" y="395"/>
                      </a:lnTo>
                      <a:lnTo>
                        <a:pt x="583" y="378"/>
                      </a:lnTo>
                      <a:lnTo>
                        <a:pt x="596" y="378"/>
                      </a:lnTo>
                      <a:lnTo>
                        <a:pt x="596" y="346"/>
                      </a:lnTo>
                      <a:lnTo>
                        <a:pt x="610" y="331"/>
                      </a:lnTo>
                      <a:lnTo>
                        <a:pt x="610" y="299"/>
                      </a:lnTo>
                      <a:lnTo>
                        <a:pt x="596" y="316"/>
                      </a:lnTo>
                      <a:lnTo>
                        <a:pt x="583" y="331"/>
                      </a:lnTo>
                      <a:lnTo>
                        <a:pt x="569" y="331"/>
                      </a:lnTo>
                      <a:lnTo>
                        <a:pt x="555" y="299"/>
                      </a:lnTo>
                      <a:lnTo>
                        <a:pt x="541" y="284"/>
                      </a:lnTo>
                      <a:lnTo>
                        <a:pt x="527" y="299"/>
                      </a:lnTo>
                      <a:lnTo>
                        <a:pt x="500" y="284"/>
                      </a:lnTo>
                      <a:lnTo>
                        <a:pt x="472" y="267"/>
                      </a:lnTo>
                      <a:lnTo>
                        <a:pt x="430" y="252"/>
                      </a:lnTo>
                      <a:lnTo>
                        <a:pt x="417" y="267"/>
                      </a:lnTo>
                      <a:lnTo>
                        <a:pt x="361" y="299"/>
                      </a:lnTo>
                      <a:lnTo>
                        <a:pt x="320" y="316"/>
                      </a:lnTo>
                      <a:lnTo>
                        <a:pt x="306" y="316"/>
                      </a:lnTo>
                      <a:lnTo>
                        <a:pt x="320" y="284"/>
                      </a:lnTo>
                      <a:lnTo>
                        <a:pt x="375" y="267"/>
                      </a:lnTo>
                      <a:lnTo>
                        <a:pt x="417" y="252"/>
                      </a:lnTo>
                      <a:lnTo>
                        <a:pt x="389" y="252"/>
                      </a:lnTo>
                      <a:lnTo>
                        <a:pt x="389" y="267"/>
                      </a:lnTo>
                      <a:lnTo>
                        <a:pt x="375" y="252"/>
                      </a:lnTo>
                      <a:lnTo>
                        <a:pt x="347" y="267"/>
                      </a:lnTo>
                      <a:lnTo>
                        <a:pt x="320" y="284"/>
                      </a:lnTo>
                      <a:lnTo>
                        <a:pt x="306" y="284"/>
                      </a:lnTo>
                      <a:lnTo>
                        <a:pt x="306" y="299"/>
                      </a:lnTo>
                      <a:lnTo>
                        <a:pt x="292" y="299"/>
                      </a:lnTo>
                      <a:lnTo>
                        <a:pt x="264" y="331"/>
                      </a:lnTo>
                      <a:lnTo>
                        <a:pt x="237" y="346"/>
                      </a:lnTo>
                      <a:lnTo>
                        <a:pt x="209" y="346"/>
                      </a:lnTo>
                      <a:lnTo>
                        <a:pt x="181" y="363"/>
                      </a:lnTo>
                      <a:lnTo>
                        <a:pt x="168" y="363"/>
                      </a:lnTo>
                      <a:lnTo>
                        <a:pt x="140" y="378"/>
                      </a:lnTo>
                      <a:lnTo>
                        <a:pt x="97" y="395"/>
                      </a:lnTo>
                      <a:lnTo>
                        <a:pt x="69" y="410"/>
                      </a:lnTo>
                      <a:lnTo>
                        <a:pt x="28" y="410"/>
                      </a:lnTo>
                      <a:lnTo>
                        <a:pt x="0" y="425"/>
                      </a:lnTo>
                      <a:lnTo>
                        <a:pt x="0" y="410"/>
                      </a:lnTo>
                      <a:lnTo>
                        <a:pt x="14" y="410"/>
                      </a:lnTo>
                      <a:lnTo>
                        <a:pt x="28" y="395"/>
                      </a:lnTo>
                      <a:lnTo>
                        <a:pt x="56" y="395"/>
                      </a:lnTo>
                      <a:lnTo>
                        <a:pt x="69" y="395"/>
                      </a:lnTo>
                      <a:lnTo>
                        <a:pt x="83" y="395"/>
                      </a:lnTo>
                      <a:lnTo>
                        <a:pt x="111" y="378"/>
                      </a:lnTo>
                      <a:lnTo>
                        <a:pt x="125" y="363"/>
                      </a:lnTo>
                      <a:lnTo>
                        <a:pt x="140" y="363"/>
                      </a:lnTo>
                      <a:lnTo>
                        <a:pt x="154" y="363"/>
                      </a:lnTo>
                      <a:lnTo>
                        <a:pt x="168" y="346"/>
                      </a:lnTo>
                      <a:lnTo>
                        <a:pt x="181" y="346"/>
                      </a:lnTo>
                      <a:lnTo>
                        <a:pt x="195" y="331"/>
                      </a:lnTo>
                      <a:lnTo>
                        <a:pt x="209" y="331"/>
                      </a:lnTo>
                      <a:lnTo>
                        <a:pt x="223" y="316"/>
                      </a:lnTo>
                      <a:lnTo>
                        <a:pt x="209" y="316"/>
                      </a:lnTo>
                      <a:lnTo>
                        <a:pt x="195" y="316"/>
                      </a:lnTo>
                      <a:lnTo>
                        <a:pt x="181" y="331"/>
                      </a:lnTo>
                      <a:lnTo>
                        <a:pt x="168" y="331"/>
                      </a:lnTo>
                      <a:lnTo>
                        <a:pt x="168" y="316"/>
                      </a:lnTo>
                      <a:lnTo>
                        <a:pt x="154" y="316"/>
                      </a:lnTo>
                      <a:lnTo>
                        <a:pt x="140" y="316"/>
                      </a:lnTo>
                      <a:lnTo>
                        <a:pt x="140" y="299"/>
                      </a:lnTo>
                      <a:lnTo>
                        <a:pt x="154" y="284"/>
                      </a:lnTo>
                      <a:lnTo>
                        <a:pt x="168" y="267"/>
                      </a:lnTo>
                      <a:lnTo>
                        <a:pt x="154" y="267"/>
                      </a:lnTo>
                      <a:lnTo>
                        <a:pt x="125" y="299"/>
                      </a:lnTo>
                      <a:lnTo>
                        <a:pt x="111" y="299"/>
                      </a:lnTo>
                      <a:lnTo>
                        <a:pt x="125" y="284"/>
                      </a:lnTo>
                      <a:lnTo>
                        <a:pt x="140" y="284"/>
                      </a:lnTo>
                      <a:lnTo>
                        <a:pt x="154" y="267"/>
                      </a:lnTo>
                      <a:lnTo>
                        <a:pt x="140" y="252"/>
                      </a:lnTo>
                      <a:lnTo>
                        <a:pt x="125" y="252"/>
                      </a:lnTo>
                      <a:lnTo>
                        <a:pt x="154" y="237"/>
                      </a:lnTo>
                      <a:lnTo>
                        <a:pt x="168" y="220"/>
                      </a:lnTo>
                      <a:lnTo>
                        <a:pt x="195" y="205"/>
                      </a:lnTo>
                      <a:lnTo>
                        <a:pt x="209" y="205"/>
                      </a:lnTo>
                      <a:lnTo>
                        <a:pt x="237" y="205"/>
                      </a:lnTo>
                      <a:lnTo>
                        <a:pt x="264" y="189"/>
                      </a:lnTo>
                      <a:lnTo>
                        <a:pt x="292" y="173"/>
                      </a:lnTo>
                      <a:lnTo>
                        <a:pt x="278" y="173"/>
                      </a:lnTo>
                      <a:lnTo>
                        <a:pt x="251" y="189"/>
                      </a:lnTo>
                      <a:lnTo>
                        <a:pt x="237" y="173"/>
                      </a:lnTo>
                      <a:lnTo>
                        <a:pt x="223" y="173"/>
                      </a:lnTo>
                      <a:lnTo>
                        <a:pt x="209" y="158"/>
                      </a:lnTo>
                      <a:lnTo>
                        <a:pt x="195" y="142"/>
                      </a:lnTo>
                      <a:lnTo>
                        <a:pt x="223" y="126"/>
                      </a:lnTo>
                      <a:lnTo>
                        <a:pt x="251" y="126"/>
                      </a:lnTo>
                      <a:lnTo>
                        <a:pt x="292" y="126"/>
                      </a:lnTo>
                      <a:lnTo>
                        <a:pt x="334" y="126"/>
                      </a:lnTo>
                      <a:lnTo>
                        <a:pt x="347" y="126"/>
                      </a:lnTo>
                      <a:lnTo>
                        <a:pt x="347" y="142"/>
                      </a:lnTo>
                      <a:lnTo>
                        <a:pt x="361" y="126"/>
                      </a:lnTo>
                      <a:lnTo>
                        <a:pt x="334" y="110"/>
                      </a:lnTo>
                      <a:lnTo>
                        <a:pt x="320" y="110"/>
                      </a:lnTo>
                      <a:lnTo>
                        <a:pt x="306" y="95"/>
                      </a:lnTo>
                      <a:lnTo>
                        <a:pt x="306" y="79"/>
                      </a:lnTo>
                      <a:lnTo>
                        <a:pt x="320" y="79"/>
                      </a:lnTo>
                      <a:lnTo>
                        <a:pt x="334" y="79"/>
                      </a:lnTo>
                      <a:lnTo>
                        <a:pt x="361" y="63"/>
                      </a:lnTo>
                      <a:lnTo>
                        <a:pt x="417" y="63"/>
                      </a:lnTo>
                      <a:lnTo>
                        <a:pt x="444" y="47"/>
                      </a:lnTo>
                      <a:lnTo>
                        <a:pt x="472" y="47"/>
                      </a:lnTo>
                      <a:lnTo>
                        <a:pt x="500" y="31"/>
                      </a:lnTo>
                      <a:lnTo>
                        <a:pt x="527" y="31"/>
                      </a:lnTo>
                      <a:lnTo>
                        <a:pt x="541" y="31"/>
                      </a:lnTo>
                      <a:lnTo>
                        <a:pt x="555" y="16"/>
                      </a:lnTo>
                      <a:lnTo>
                        <a:pt x="569" y="16"/>
                      </a:lnTo>
                      <a:lnTo>
                        <a:pt x="555" y="31"/>
                      </a:lnTo>
                      <a:lnTo>
                        <a:pt x="569" y="31"/>
                      </a:lnTo>
                      <a:lnTo>
                        <a:pt x="583" y="31"/>
                      </a:lnTo>
                      <a:lnTo>
                        <a:pt x="569" y="31"/>
                      </a:lnTo>
                      <a:lnTo>
                        <a:pt x="583" y="31"/>
                      </a:lnTo>
                      <a:lnTo>
                        <a:pt x="596" y="47"/>
                      </a:lnTo>
                      <a:lnTo>
                        <a:pt x="638" y="47"/>
                      </a:lnTo>
                      <a:lnTo>
                        <a:pt x="666" y="47"/>
                      </a:lnTo>
                      <a:lnTo>
                        <a:pt x="707" y="63"/>
                      </a:lnTo>
                      <a:lnTo>
                        <a:pt x="735" y="79"/>
                      </a:lnTo>
                      <a:lnTo>
                        <a:pt x="776" y="79"/>
                      </a:lnTo>
                      <a:lnTo>
                        <a:pt x="818" y="79"/>
                      </a:lnTo>
                      <a:lnTo>
                        <a:pt x="831" y="79"/>
                      </a:lnTo>
                      <a:lnTo>
                        <a:pt x="845" y="79"/>
                      </a:lnTo>
                      <a:lnTo>
                        <a:pt x="859" y="63"/>
                      </a:lnTo>
                      <a:lnTo>
                        <a:pt x="873" y="63"/>
                      </a:lnTo>
                      <a:lnTo>
                        <a:pt x="859" y="63"/>
                      </a:lnTo>
                      <a:lnTo>
                        <a:pt x="845" y="63"/>
                      </a:lnTo>
                      <a:lnTo>
                        <a:pt x="845" y="79"/>
                      </a:lnTo>
                      <a:lnTo>
                        <a:pt x="887" y="79"/>
                      </a:lnTo>
                      <a:lnTo>
                        <a:pt x="914" y="63"/>
                      </a:lnTo>
                      <a:lnTo>
                        <a:pt x="944" y="47"/>
                      </a:lnTo>
                      <a:lnTo>
                        <a:pt x="957" y="63"/>
                      </a:lnTo>
                      <a:lnTo>
                        <a:pt x="971" y="63"/>
                      </a:lnTo>
                      <a:lnTo>
                        <a:pt x="985" y="63"/>
                      </a:lnTo>
                      <a:lnTo>
                        <a:pt x="999" y="47"/>
                      </a:lnTo>
                      <a:lnTo>
                        <a:pt x="1013" y="47"/>
                      </a:lnTo>
                      <a:lnTo>
                        <a:pt x="999" y="63"/>
                      </a:lnTo>
                      <a:lnTo>
                        <a:pt x="1013" y="63"/>
                      </a:lnTo>
                      <a:lnTo>
                        <a:pt x="1026" y="63"/>
                      </a:lnTo>
                      <a:lnTo>
                        <a:pt x="1054" y="63"/>
                      </a:lnTo>
                      <a:lnTo>
                        <a:pt x="1082" y="63"/>
                      </a:lnTo>
                      <a:lnTo>
                        <a:pt x="1096" y="79"/>
                      </a:lnTo>
                      <a:lnTo>
                        <a:pt x="1109" y="79"/>
                      </a:lnTo>
                      <a:lnTo>
                        <a:pt x="1123" y="79"/>
                      </a:lnTo>
                      <a:lnTo>
                        <a:pt x="1137" y="79"/>
                      </a:lnTo>
                      <a:lnTo>
                        <a:pt x="1123" y="95"/>
                      </a:lnTo>
                      <a:lnTo>
                        <a:pt x="1109" y="95"/>
                      </a:lnTo>
                      <a:lnTo>
                        <a:pt x="1109" y="110"/>
                      </a:lnTo>
                      <a:lnTo>
                        <a:pt x="1123" y="110"/>
                      </a:lnTo>
                      <a:lnTo>
                        <a:pt x="1137" y="110"/>
                      </a:lnTo>
                      <a:lnTo>
                        <a:pt x="1165" y="110"/>
                      </a:lnTo>
                      <a:lnTo>
                        <a:pt x="1179" y="126"/>
                      </a:lnTo>
                      <a:lnTo>
                        <a:pt x="1206" y="142"/>
                      </a:lnTo>
                      <a:lnTo>
                        <a:pt x="1206" y="126"/>
                      </a:lnTo>
                      <a:lnTo>
                        <a:pt x="1234" y="110"/>
                      </a:lnTo>
                      <a:lnTo>
                        <a:pt x="1248" y="95"/>
                      </a:lnTo>
                      <a:lnTo>
                        <a:pt x="1275" y="79"/>
                      </a:lnTo>
                      <a:lnTo>
                        <a:pt x="1289" y="95"/>
                      </a:lnTo>
                      <a:lnTo>
                        <a:pt x="1303" y="110"/>
                      </a:lnTo>
                      <a:lnTo>
                        <a:pt x="1331" y="110"/>
                      </a:lnTo>
                      <a:lnTo>
                        <a:pt x="1345" y="110"/>
                      </a:lnTo>
                      <a:lnTo>
                        <a:pt x="1358" y="110"/>
                      </a:lnTo>
                      <a:lnTo>
                        <a:pt x="1372" y="95"/>
                      </a:lnTo>
                      <a:lnTo>
                        <a:pt x="1386" y="95"/>
                      </a:lnTo>
                      <a:lnTo>
                        <a:pt x="1386" y="79"/>
                      </a:lnTo>
                      <a:lnTo>
                        <a:pt x="1400" y="95"/>
                      </a:lnTo>
                      <a:lnTo>
                        <a:pt x="1400" y="110"/>
                      </a:lnTo>
                      <a:lnTo>
                        <a:pt x="1386" y="126"/>
                      </a:lnTo>
                      <a:lnTo>
                        <a:pt x="1400" y="126"/>
                      </a:lnTo>
                      <a:lnTo>
                        <a:pt x="1400" y="110"/>
                      </a:lnTo>
                      <a:lnTo>
                        <a:pt x="1414" y="110"/>
                      </a:lnTo>
                      <a:lnTo>
                        <a:pt x="1428" y="95"/>
                      </a:lnTo>
                      <a:lnTo>
                        <a:pt x="1441" y="95"/>
                      </a:lnTo>
                      <a:lnTo>
                        <a:pt x="1455" y="79"/>
                      </a:lnTo>
                      <a:lnTo>
                        <a:pt x="1441" y="63"/>
                      </a:lnTo>
                      <a:lnTo>
                        <a:pt x="1441" y="47"/>
                      </a:lnTo>
                      <a:lnTo>
                        <a:pt x="1455" y="47"/>
                      </a:lnTo>
                      <a:lnTo>
                        <a:pt x="1469" y="31"/>
                      </a:lnTo>
                      <a:lnTo>
                        <a:pt x="1483" y="16"/>
                      </a:lnTo>
                      <a:lnTo>
                        <a:pt x="1497" y="0"/>
                      </a:lnTo>
                      <a:lnTo>
                        <a:pt x="1497" y="16"/>
                      </a:lnTo>
                      <a:lnTo>
                        <a:pt x="1483" y="47"/>
                      </a:lnTo>
                      <a:lnTo>
                        <a:pt x="1483" y="63"/>
                      </a:lnTo>
                      <a:lnTo>
                        <a:pt x="1497" y="63"/>
                      </a:lnTo>
                      <a:lnTo>
                        <a:pt x="1524" y="63"/>
                      </a:lnTo>
                      <a:lnTo>
                        <a:pt x="1538" y="63"/>
                      </a:lnTo>
                      <a:lnTo>
                        <a:pt x="1538" y="79"/>
                      </a:lnTo>
                      <a:lnTo>
                        <a:pt x="1538" y="110"/>
                      </a:lnTo>
                      <a:lnTo>
                        <a:pt x="1566" y="110"/>
                      </a:lnTo>
                      <a:lnTo>
                        <a:pt x="1580" y="95"/>
                      </a:lnTo>
                      <a:lnTo>
                        <a:pt x="1580" y="79"/>
                      </a:lnTo>
                      <a:lnTo>
                        <a:pt x="1594" y="47"/>
                      </a:lnTo>
                      <a:lnTo>
                        <a:pt x="1621" y="47"/>
                      </a:lnTo>
                      <a:lnTo>
                        <a:pt x="1635" y="63"/>
                      </a:lnTo>
                      <a:lnTo>
                        <a:pt x="1649" y="63"/>
                      </a:lnTo>
                      <a:lnTo>
                        <a:pt x="1649" y="79"/>
                      </a:lnTo>
                      <a:lnTo>
                        <a:pt x="1635" y="79"/>
                      </a:lnTo>
                      <a:lnTo>
                        <a:pt x="1635" y="95"/>
                      </a:lnTo>
                      <a:lnTo>
                        <a:pt x="1635" y="110"/>
                      </a:lnTo>
                      <a:lnTo>
                        <a:pt x="1621" y="126"/>
                      </a:lnTo>
                      <a:lnTo>
                        <a:pt x="1607" y="126"/>
                      </a:lnTo>
                      <a:lnTo>
                        <a:pt x="1594" y="142"/>
                      </a:lnTo>
                      <a:lnTo>
                        <a:pt x="1580" y="142"/>
                      </a:lnTo>
                      <a:lnTo>
                        <a:pt x="1580" y="126"/>
                      </a:lnTo>
                      <a:lnTo>
                        <a:pt x="1566" y="126"/>
                      </a:lnTo>
                      <a:lnTo>
                        <a:pt x="1580" y="142"/>
                      </a:lnTo>
                      <a:lnTo>
                        <a:pt x="1566" y="142"/>
                      </a:lnTo>
                      <a:lnTo>
                        <a:pt x="1538" y="142"/>
                      </a:lnTo>
                      <a:lnTo>
                        <a:pt x="1524" y="158"/>
                      </a:lnTo>
                      <a:lnTo>
                        <a:pt x="1497" y="158"/>
                      </a:lnTo>
                      <a:lnTo>
                        <a:pt x="1483" y="158"/>
                      </a:lnTo>
                      <a:lnTo>
                        <a:pt x="1483" y="142"/>
                      </a:lnTo>
                      <a:lnTo>
                        <a:pt x="1469" y="142"/>
                      </a:lnTo>
                      <a:lnTo>
                        <a:pt x="1455" y="142"/>
                      </a:lnTo>
                      <a:lnTo>
                        <a:pt x="1441" y="142"/>
                      </a:lnTo>
                      <a:lnTo>
                        <a:pt x="1469" y="158"/>
                      </a:lnTo>
                      <a:lnTo>
                        <a:pt x="1497" y="158"/>
                      </a:lnTo>
                      <a:lnTo>
                        <a:pt x="1511" y="158"/>
                      </a:lnTo>
                      <a:lnTo>
                        <a:pt x="1497" y="173"/>
                      </a:lnTo>
                      <a:lnTo>
                        <a:pt x="1483" y="189"/>
                      </a:lnTo>
                      <a:lnTo>
                        <a:pt x="1455" y="189"/>
                      </a:lnTo>
                      <a:lnTo>
                        <a:pt x="1441" y="189"/>
                      </a:lnTo>
                      <a:lnTo>
                        <a:pt x="1441" y="205"/>
                      </a:lnTo>
                      <a:lnTo>
                        <a:pt x="1428" y="205"/>
                      </a:lnTo>
                      <a:lnTo>
                        <a:pt x="1414" y="189"/>
                      </a:lnTo>
                      <a:lnTo>
                        <a:pt x="1400" y="189"/>
                      </a:lnTo>
                      <a:lnTo>
                        <a:pt x="1386" y="189"/>
                      </a:lnTo>
                      <a:lnTo>
                        <a:pt x="1400" y="205"/>
                      </a:lnTo>
                      <a:lnTo>
                        <a:pt x="1414" y="220"/>
                      </a:lnTo>
                      <a:lnTo>
                        <a:pt x="1400" y="220"/>
                      </a:lnTo>
                      <a:lnTo>
                        <a:pt x="1386" y="220"/>
                      </a:lnTo>
                      <a:lnTo>
                        <a:pt x="1372" y="220"/>
                      </a:lnTo>
                      <a:lnTo>
                        <a:pt x="1358" y="237"/>
                      </a:lnTo>
                      <a:lnTo>
                        <a:pt x="1331" y="252"/>
                      </a:lnTo>
                      <a:lnTo>
                        <a:pt x="1303" y="284"/>
                      </a:lnTo>
                      <a:lnTo>
                        <a:pt x="1289" y="331"/>
                      </a:lnTo>
                      <a:lnTo>
                        <a:pt x="1303" y="346"/>
                      </a:lnTo>
                      <a:lnTo>
                        <a:pt x="1317" y="346"/>
                      </a:lnTo>
                      <a:lnTo>
                        <a:pt x="1331" y="363"/>
                      </a:lnTo>
                      <a:lnTo>
                        <a:pt x="1345" y="378"/>
                      </a:lnTo>
                      <a:lnTo>
                        <a:pt x="1372" y="395"/>
                      </a:lnTo>
                      <a:lnTo>
                        <a:pt x="1400" y="425"/>
                      </a:lnTo>
                      <a:lnTo>
                        <a:pt x="1400" y="410"/>
                      </a:lnTo>
                      <a:lnTo>
                        <a:pt x="1428" y="410"/>
                      </a:lnTo>
                      <a:lnTo>
                        <a:pt x="1441" y="410"/>
                      </a:lnTo>
                      <a:lnTo>
                        <a:pt x="1455" y="410"/>
                      </a:lnTo>
                      <a:lnTo>
                        <a:pt x="1455" y="425"/>
                      </a:lnTo>
                      <a:lnTo>
                        <a:pt x="1441" y="442"/>
                      </a:lnTo>
                      <a:lnTo>
                        <a:pt x="1428" y="474"/>
                      </a:lnTo>
                      <a:lnTo>
                        <a:pt x="1428" y="489"/>
                      </a:lnTo>
                      <a:lnTo>
                        <a:pt x="1428" y="504"/>
                      </a:lnTo>
                      <a:lnTo>
                        <a:pt x="1441" y="521"/>
                      </a:lnTo>
                      <a:lnTo>
                        <a:pt x="1455" y="536"/>
                      </a:lnTo>
                      <a:lnTo>
                        <a:pt x="1455" y="521"/>
                      </a:lnTo>
                      <a:lnTo>
                        <a:pt x="1455" y="504"/>
                      </a:lnTo>
                      <a:lnTo>
                        <a:pt x="1469" y="504"/>
                      </a:lnTo>
                      <a:lnTo>
                        <a:pt x="1483" y="504"/>
                      </a:lnTo>
                      <a:lnTo>
                        <a:pt x="1483" y="489"/>
                      </a:lnTo>
                      <a:lnTo>
                        <a:pt x="1483" y="474"/>
                      </a:lnTo>
                      <a:lnTo>
                        <a:pt x="1483" y="442"/>
                      </a:lnTo>
                      <a:lnTo>
                        <a:pt x="1497" y="425"/>
                      </a:lnTo>
                      <a:lnTo>
                        <a:pt x="1511" y="410"/>
                      </a:lnTo>
                      <a:lnTo>
                        <a:pt x="1552" y="395"/>
                      </a:lnTo>
                      <a:lnTo>
                        <a:pt x="1580" y="363"/>
                      </a:lnTo>
                      <a:lnTo>
                        <a:pt x="1580" y="346"/>
                      </a:lnTo>
                      <a:lnTo>
                        <a:pt x="1566" y="331"/>
                      </a:lnTo>
                      <a:lnTo>
                        <a:pt x="1552" y="331"/>
                      </a:lnTo>
                      <a:lnTo>
                        <a:pt x="1566" y="316"/>
                      </a:lnTo>
                      <a:lnTo>
                        <a:pt x="1580" y="316"/>
                      </a:lnTo>
                      <a:lnTo>
                        <a:pt x="1580" y="299"/>
                      </a:lnTo>
                      <a:lnTo>
                        <a:pt x="1594" y="284"/>
                      </a:lnTo>
                      <a:lnTo>
                        <a:pt x="1607" y="252"/>
                      </a:lnTo>
                      <a:lnTo>
                        <a:pt x="1607" y="237"/>
                      </a:lnTo>
                      <a:lnTo>
                        <a:pt x="1621" y="237"/>
                      </a:lnTo>
                      <a:lnTo>
                        <a:pt x="1621" y="220"/>
                      </a:lnTo>
                      <a:lnTo>
                        <a:pt x="1663" y="237"/>
                      </a:lnTo>
                      <a:lnTo>
                        <a:pt x="1704" y="252"/>
                      </a:lnTo>
                      <a:lnTo>
                        <a:pt x="1747" y="267"/>
                      </a:lnTo>
                      <a:lnTo>
                        <a:pt x="1733" y="267"/>
                      </a:lnTo>
                      <a:lnTo>
                        <a:pt x="1718" y="284"/>
                      </a:lnTo>
                      <a:lnTo>
                        <a:pt x="1704" y="284"/>
                      </a:lnTo>
                      <a:lnTo>
                        <a:pt x="1704" y="299"/>
                      </a:lnTo>
                      <a:lnTo>
                        <a:pt x="1733" y="316"/>
                      </a:lnTo>
                      <a:lnTo>
                        <a:pt x="1733" y="331"/>
                      </a:lnTo>
                      <a:lnTo>
                        <a:pt x="1733" y="346"/>
                      </a:lnTo>
                      <a:lnTo>
                        <a:pt x="1704" y="346"/>
                      </a:lnTo>
                      <a:lnTo>
                        <a:pt x="1733" y="346"/>
                      </a:lnTo>
                      <a:lnTo>
                        <a:pt x="1761" y="331"/>
                      </a:lnTo>
                      <a:lnTo>
                        <a:pt x="1775" y="316"/>
                      </a:lnTo>
                      <a:lnTo>
                        <a:pt x="1789" y="299"/>
                      </a:lnTo>
                      <a:lnTo>
                        <a:pt x="1802" y="299"/>
                      </a:lnTo>
                      <a:lnTo>
                        <a:pt x="1816" y="284"/>
                      </a:lnTo>
                      <a:lnTo>
                        <a:pt x="1816" y="299"/>
                      </a:lnTo>
                      <a:lnTo>
                        <a:pt x="1816" y="331"/>
                      </a:lnTo>
                      <a:lnTo>
                        <a:pt x="1830" y="378"/>
                      </a:lnTo>
                      <a:lnTo>
                        <a:pt x="1844" y="410"/>
                      </a:lnTo>
                      <a:lnTo>
                        <a:pt x="1858" y="425"/>
                      </a:lnTo>
                      <a:lnTo>
                        <a:pt x="1872" y="425"/>
                      </a:lnTo>
                      <a:lnTo>
                        <a:pt x="1885" y="425"/>
                      </a:lnTo>
                      <a:lnTo>
                        <a:pt x="1885" y="442"/>
                      </a:lnTo>
                      <a:lnTo>
                        <a:pt x="1872" y="442"/>
                      </a:lnTo>
                      <a:lnTo>
                        <a:pt x="1858" y="442"/>
                      </a:lnTo>
                      <a:lnTo>
                        <a:pt x="1844" y="457"/>
                      </a:lnTo>
                      <a:lnTo>
                        <a:pt x="1816" y="457"/>
                      </a:lnTo>
                      <a:lnTo>
                        <a:pt x="1830" y="457"/>
                      </a:lnTo>
                      <a:lnTo>
                        <a:pt x="1844" y="457"/>
                      </a:lnTo>
                      <a:lnTo>
                        <a:pt x="1858" y="457"/>
                      </a:lnTo>
                      <a:lnTo>
                        <a:pt x="1872" y="442"/>
                      </a:lnTo>
                      <a:lnTo>
                        <a:pt x="1885" y="457"/>
                      </a:lnTo>
                      <a:lnTo>
                        <a:pt x="1899" y="474"/>
                      </a:lnTo>
                      <a:lnTo>
                        <a:pt x="1899" y="489"/>
                      </a:lnTo>
                      <a:lnTo>
                        <a:pt x="1872" y="504"/>
                      </a:lnTo>
                      <a:lnTo>
                        <a:pt x="1858" y="504"/>
                      </a:lnTo>
                      <a:lnTo>
                        <a:pt x="1844" y="521"/>
                      </a:lnTo>
                      <a:lnTo>
                        <a:pt x="1830" y="521"/>
                      </a:lnTo>
                      <a:lnTo>
                        <a:pt x="1816" y="536"/>
                      </a:lnTo>
                      <a:lnTo>
                        <a:pt x="1802" y="536"/>
                      </a:lnTo>
                      <a:lnTo>
                        <a:pt x="1789" y="552"/>
                      </a:lnTo>
                      <a:lnTo>
                        <a:pt x="1775" y="552"/>
                      </a:lnTo>
                      <a:lnTo>
                        <a:pt x="1733" y="552"/>
                      </a:lnTo>
                      <a:lnTo>
                        <a:pt x="1677" y="568"/>
                      </a:lnTo>
                      <a:lnTo>
                        <a:pt x="1635" y="568"/>
                      </a:lnTo>
                      <a:lnTo>
                        <a:pt x="1621" y="583"/>
                      </a:lnTo>
                      <a:lnTo>
                        <a:pt x="1607" y="600"/>
                      </a:lnTo>
                      <a:lnTo>
                        <a:pt x="1594" y="615"/>
                      </a:lnTo>
                      <a:lnTo>
                        <a:pt x="1580" y="615"/>
                      </a:lnTo>
                      <a:lnTo>
                        <a:pt x="1566" y="631"/>
                      </a:lnTo>
                      <a:lnTo>
                        <a:pt x="1580" y="631"/>
                      </a:lnTo>
                      <a:lnTo>
                        <a:pt x="1594" y="615"/>
                      </a:lnTo>
                      <a:lnTo>
                        <a:pt x="1607" y="615"/>
                      </a:lnTo>
                      <a:lnTo>
                        <a:pt x="1607" y="600"/>
                      </a:lnTo>
                      <a:lnTo>
                        <a:pt x="1635" y="583"/>
                      </a:lnTo>
                      <a:lnTo>
                        <a:pt x="1663" y="568"/>
                      </a:lnTo>
                      <a:lnTo>
                        <a:pt x="1690" y="568"/>
                      </a:lnTo>
                      <a:lnTo>
                        <a:pt x="1704" y="568"/>
                      </a:lnTo>
                      <a:lnTo>
                        <a:pt x="1718" y="583"/>
                      </a:lnTo>
                      <a:lnTo>
                        <a:pt x="1690" y="600"/>
                      </a:lnTo>
                      <a:lnTo>
                        <a:pt x="1677" y="600"/>
                      </a:lnTo>
                      <a:lnTo>
                        <a:pt x="1663" y="600"/>
                      </a:lnTo>
                      <a:lnTo>
                        <a:pt x="1677" y="600"/>
                      </a:lnTo>
                      <a:lnTo>
                        <a:pt x="1704" y="615"/>
                      </a:lnTo>
                      <a:lnTo>
                        <a:pt x="1704" y="631"/>
                      </a:lnTo>
                      <a:lnTo>
                        <a:pt x="1704" y="647"/>
                      </a:lnTo>
                      <a:lnTo>
                        <a:pt x="1704" y="662"/>
                      </a:lnTo>
                      <a:lnTo>
                        <a:pt x="1718" y="662"/>
                      </a:lnTo>
                      <a:lnTo>
                        <a:pt x="1733" y="662"/>
                      </a:lnTo>
                      <a:lnTo>
                        <a:pt x="1747" y="662"/>
                      </a:lnTo>
                      <a:lnTo>
                        <a:pt x="1747" y="678"/>
                      </a:lnTo>
                      <a:lnTo>
                        <a:pt x="1733" y="678"/>
                      </a:lnTo>
                      <a:lnTo>
                        <a:pt x="1718" y="678"/>
                      </a:lnTo>
                      <a:lnTo>
                        <a:pt x="1704" y="694"/>
                      </a:lnTo>
                      <a:lnTo>
                        <a:pt x="1690" y="710"/>
                      </a:lnTo>
                      <a:lnTo>
                        <a:pt x="1677" y="710"/>
                      </a:lnTo>
                      <a:lnTo>
                        <a:pt x="1649" y="725"/>
                      </a:lnTo>
                      <a:lnTo>
                        <a:pt x="1649" y="710"/>
                      </a:lnTo>
                      <a:lnTo>
                        <a:pt x="1649" y="694"/>
                      </a:lnTo>
                      <a:lnTo>
                        <a:pt x="1663" y="694"/>
                      </a:lnTo>
                      <a:lnTo>
                        <a:pt x="1690" y="678"/>
                      </a:lnTo>
                      <a:lnTo>
                        <a:pt x="1704" y="678"/>
                      </a:lnTo>
                      <a:lnTo>
                        <a:pt x="1704" y="662"/>
                      </a:lnTo>
                      <a:lnTo>
                        <a:pt x="1690" y="662"/>
                      </a:lnTo>
                      <a:lnTo>
                        <a:pt x="1690" y="647"/>
                      </a:lnTo>
                      <a:lnTo>
                        <a:pt x="1677" y="662"/>
                      </a:lnTo>
                      <a:lnTo>
                        <a:pt x="1663" y="662"/>
                      </a:lnTo>
                      <a:lnTo>
                        <a:pt x="1663" y="678"/>
                      </a:lnTo>
                      <a:lnTo>
                        <a:pt x="1649" y="678"/>
                      </a:lnTo>
                      <a:lnTo>
                        <a:pt x="1635" y="678"/>
                      </a:lnTo>
                      <a:lnTo>
                        <a:pt x="1621" y="678"/>
                      </a:lnTo>
                      <a:lnTo>
                        <a:pt x="1621" y="694"/>
                      </a:lnTo>
                      <a:lnTo>
                        <a:pt x="1607" y="694"/>
                      </a:lnTo>
                      <a:lnTo>
                        <a:pt x="1580" y="710"/>
                      </a:lnTo>
                      <a:lnTo>
                        <a:pt x="1566" y="725"/>
                      </a:lnTo>
                      <a:lnTo>
                        <a:pt x="1552" y="741"/>
                      </a:lnTo>
                      <a:lnTo>
                        <a:pt x="1538" y="741"/>
                      </a:lnTo>
                      <a:lnTo>
                        <a:pt x="1538" y="757"/>
                      </a:lnTo>
                      <a:lnTo>
                        <a:pt x="1524" y="773"/>
                      </a:lnTo>
                      <a:lnTo>
                        <a:pt x="1511" y="789"/>
                      </a:lnTo>
                      <a:lnTo>
                        <a:pt x="1483" y="789"/>
                      </a:lnTo>
                      <a:lnTo>
                        <a:pt x="1455" y="804"/>
                      </a:lnTo>
                      <a:lnTo>
                        <a:pt x="1455" y="820"/>
                      </a:lnTo>
                      <a:lnTo>
                        <a:pt x="1441" y="836"/>
                      </a:lnTo>
                      <a:lnTo>
                        <a:pt x="1441" y="851"/>
                      </a:lnTo>
                      <a:lnTo>
                        <a:pt x="1441" y="836"/>
                      </a:lnTo>
                      <a:lnTo>
                        <a:pt x="1441" y="820"/>
                      </a:lnTo>
                      <a:lnTo>
                        <a:pt x="1428" y="836"/>
                      </a:lnTo>
                      <a:lnTo>
                        <a:pt x="1428" y="851"/>
                      </a:lnTo>
                      <a:lnTo>
                        <a:pt x="1414" y="868"/>
                      </a:lnTo>
                      <a:lnTo>
                        <a:pt x="1414" y="883"/>
                      </a:lnTo>
                      <a:lnTo>
                        <a:pt x="1414" y="898"/>
                      </a:lnTo>
                      <a:lnTo>
                        <a:pt x="1400" y="898"/>
                      </a:lnTo>
                      <a:lnTo>
                        <a:pt x="1400" y="883"/>
                      </a:lnTo>
                      <a:lnTo>
                        <a:pt x="1400" y="868"/>
                      </a:lnTo>
                      <a:lnTo>
                        <a:pt x="1386" y="851"/>
                      </a:lnTo>
                      <a:lnTo>
                        <a:pt x="1400" y="868"/>
                      </a:lnTo>
                      <a:lnTo>
                        <a:pt x="1400" y="883"/>
                      </a:lnTo>
                      <a:lnTo>
                        <a:pt x="1400" y="930"/>
                      </a:lnTo>
                      <a:lnTo>
                        <a:pt x="1400" y="947"/>
                      </a:lnTo>
                      <a:lnTo>
                        <a:pt x="1386" y="947"/>
                      </a:lnTo>
                      <a:lnTo>
                        <a:pt x="1372" y="947"/>
                      </a:lnTo>
                      <a:lnTo>
                        <a:pt x="1386" y="947"/>
                      </a:lnTo>
                      <a:lnTo>
                        <a:pt x="1400" y="947"/>
                      </a:lnTo>
                      <a:lnTo>
                        <a:pt x="1386" y="962"/>
                      </a:lnTo>
                      <a:lnTo>
                        <a:pt x="1358" y="994"/>
                      </a:lnTo>
                      <a:lnTo>
                        <a:pt x="1317" y="1009"/>
                      </a:lnTo>
                      <a:lnTo>
                        <a:pt x="1289" y="1041"/>
                      </a:lnTo>
                      <a:lnTo>
                        <a:pt x="1262" y="1056"/>
                      </a:lnTo>
                      <a:lnTo>
                        <a:pt x="1248" y="1088"/>
                      </a:lnTo>
                      <a:lnTo>
                        <a:pt x="1248" y="1120"/>
                      </a:lnTo>
                      <a:lnTo>
                        <a:pt x="1262" y="1152"/>
                      </a:lnTo>
                      <a:lnTo>
                        <a:pt x="1262" y="1167"/>
                      </a:lnTo>
                      <a:lnTo>
                        <a:pt x="1262" y="1183"/>
                      </a:lnTo>
                      <a:lnTo>
                        <a:pt x="1262" y="1199"/>
                      </a:lnTo>
                      <a:lnTo>
                        <a:pt x="1234" y="1246"/>
                      </a:lnTo>
                      <a:lnTo>
                        <a:pt x="1234" y="1231"/>
                      </a:lnTo>
                      <a:lnTo>
                        <a:pt x="1234" y="1214"/>
                      </a:lnTo>
                      <a:lnTo>
                        <a:pt x="1220" y="1214"/>
                      </a:lnTo>
                      <a:lnTo>
                        <a:pt x="1220" y="1199"/>
                      </a:lnTo>
                      <a:lnTo>
                        <a:pt x="1206" y="1167"/>
                      </a:lnTo>
                      <a:lnTo>
                        <a:pt x="1192" y="1135"/>
                      </a:lnTo>
                      <a:lnTo>
                        <a:pt x="1165" y="1120"/>
                      </a:lnTo>
                      <a:lnTo>
                        <a:pt x="1137" y="1120"/>
                      </a:lnTo>
                      <a:lnTo>
                        <a:pt x="1109" y="1120"/>
                      </a:lnTo>
                      <a:lnTo>
                        <a:pt x="1082" y="1135"/>
                      </a:lnTo>
                      <a:lnTo>
                        <a:pt x="1068" y="1135"/>
                      </a:lnTo>
                      <a:lnTo>
                        <a:pt x="1068" y="1120"/>
                      </a:lnTo>
                      <a:lnTo>
                        <a:pt x="1040" y="1120"/>
                      </a:lnTo>
                      <a:lnTo>
                        <a:pt x="1026" y="1105"/>
                      </a:lnTo>
                      <a:lnTo>
                        <a:pt x="999" y="1105"/>
                      </a:lnTo>
                      <a:lnTo>
                        <a:pt x="985" y="1105"/>
                      </a:lnTo>
                      <a:lnTo>
                        <a:pt x="985" y="1120"/>
                      </a:lnTo>
                      <a:lnTo>
                        <a:pt x="971" y="1120"/>
                      </a:lnTo>
                      <a:lnTo>
                        <a:pt x="985" y="1120"/>
                      </a:lnTo>
                      <a:lnTo>
                        <a:pt x="957" y="1135"/>
                      </a:lnTo>
                      <a:lnTo>
                        <a:pt x="930" y="1152"/>
                      </a:lnTo>
                      <a:lnTo>
                        <a:pt x="914" y="1167"/>
                      </a:lnTo>
                      <a:lnTo>
                        <a:pt x="901" y="1183"/>
                      </a:lnTo>
                      <a:lnTo>
                        <a:pt x="901" y="1199"/>
                      </a:lnTo>
                      <a:lnTo>
                        <a:pt x="901" y="1214"/>
                      </a:lnTo>
                      <a:lnTo>
                        <a:pt x="901" y="1231"/>
                      </a:lnTo>
                      <a:lnTo>
                        <a:pt x="887" y="1246"/>
                      </a:lnTo>
                      <a:lnTo>
                        <a:pt x="887" y="1293"/>
                      </a:lnTo>
                      <a:lnTo>
                        <a:pt x="887" y="1325"/>
                      </a:lnTo>
                      <a:lnTo>
                        <a:pt x="887" y="1356"/>
                      </a:lnTo>
                      <a:lnTo>
                        <a:pt x="901" y="1420"/>
                      </a:lnTo>
                      <a:lnTo>
                        <a:pt x="914" y="1420"/>
                      </a:lnTo>
                      <a:lnTo>
                        <a:pt x="957" y="1403"/>
                      </a:lnTo>
                      <a:lnTo>
                        <a:pt x="985" y="1403"/>
                      </a:lnTo>
                      <a:lnTo>
                        <a:pt x="1013" y="1403"/>
                      </a:lnTo>
                      <a:lnTo>
                        <a:pt x="1026" y="1388"/>
                      </a:lnTo>
                      <a:lnTo>
                        <a:pt x="1026" y="1372"/>
                      </a:lnTo>
                      <a:lnTo>
                        <a:pt x="1026" y="1356"/>
                      </a:lnTo>
                      <a:lnTo>
                        <a:pt x="1040" y="1341"/>
                      </a:lnTo>
                      <a:lnTo>
                        <a:pt x="1082" y="1341"/>
                      </a:lnTo>
                      <a:lnTo>
                        <a:pt x="1096" y="1341"/>
                      </a:lnTo>
                      <a:lnTo>
                        <a:pt x="1109" y="1341"/>
                      </a:lnTo>
                      <a:lnTo>
                        <a:pt x="1096" y="1372"/>
                      </a:lnTo>
                      <a:lnTo>
                        <a:pt x="1082" y="1388"/>
                      </a:lnTo>
                      <a:lnTo>
                        <a:pt x="1068" y="1403"/>
                      </a:lnTo>
                      <a:lnTo>
                        <a:pt x="1068" y="1420"/>
                      </a:lnTo>
                      <a:lnTo>
                        <a:pt x="1054" y="1435"/>
                      </a:lnTo>
                      <a:lnTo>
                        <a:pt x="1068" y="1451"/>
                      </a:lnTo>
                      <a:lnTo>
                        <a:pt x="1054" y="1467"/>
                      </a:lnTo>
                      <a:lnTo>
                        <a:pt x="1040" y="1482"/>
                      </a:lnTo>
                      <a:lnTo>
                        <a:pt x="1054" y="1499"/>
                      </a:lnTo>
                      <a:lnTo>
                        <a:pt x="1068" y="1482"/>
                      </a:lnTo>
                      <a:lnTo>
                        <a:pt x="1096" y="1499"/>
                      </a:lnTo>
                      <a:lnTo>
                        <a:pt x="1137" y="1499"/>
                      </a:lnTo>
                      <a:lnTo>
                        <a:pt x="1165" y="1514"/>
                      </a:lnTo>
                      <a:lnTo>
                        <a:pt x="1151" y="1514"/>
                      </a:lnTo>
                      <a:lnTo>
                        <a:pt x="1151" y="1561"/>
                      </a:lnTo>
                      <a:lnTo>
                        <a:pt x="1137" y="1593"/>
                      </a:lnTo>
                      <a:lnTo>
                        <a:pt x="1137" y="1625"/>
                      </a:lnTo>
                      <a:lnTo>
                        <a:pt x="1151" y="1657"/>
                      </a:lnTo>
                      <a:lnTo>
                        <a:pt x="1192" y="1672"/>
                      </a:lnTo>
                      <a:lnTo>
                        <a:pt x="1220" y="1672"/>
                      </a:lnTo>
                      <a:lnTo>
                        <a:pt x="1234" y="1672"/>
                      </a:lnTo>
                      <a:lnTo>
                        <a:pt x="1248" y="1687"/>
                      </a:lnTo>
                      <a:lnTo>
                        <a:pt x="1275" y="1687"/>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484960" y="1933560"/>
                  <a:ext cx="1150920" cy="1785960"/>
                </a:xfrm>
                <a:custGeom>
                  <a:avLst/>
                  <a:gdLst/>
                  <a:ahLst/>
                  <a:rect l="l" t="t" r="r" b="b"/>
                  <a:pathLst>
                    <a:path w="2176" h="3375">
                      <a:moveTo>
                        <a:pt x="1275" y="1687"/>
                      </a:moveTo>
                      <a:lnTo>
                        <a:pt x="1289" y="1687"/>
                      </a:lnTo>
                      <a:lnTo>
                        <a:pt x="1303" y="1672"/>
                      </a:lnTo>
                      <a:lnTo>
                        <a:pt x="1317" y="1657"/>
                      </a:lnTo>
                      <a:lnTo>
                        <a:pt x="1317" y="1640"/>
                      </a:lnTo>
                      <a:lnTo>
                        <a:pt x="1331" y="1625"/>
                      </a:lnTo>
                      <a:lnTo>
                        <a:pt x="1345" y="1625"/>
                      </a:lnTo>
                      <a:lnTo>
                        <a:pt x="1345" y="1608"/>
                      </a:lnTo>
                      <a:lnTo>
                        <a:pt x="1358" y="1608"/>
                      </a:lnTo>
                      <a:lnTo>
                        <a:pt x="1372" y="1625"/>
                      </a:lnTo>
                      <a:lnTo>
                        <a:pt x="1386" y="1625"/>
                      </a:lnTo>
                      <a:lnTo>
                        <a:pt x="1400" y="1625"/>
                      </a:lnTo>
                      <a:lnTo>
                        <a:pt x="1400" y="1657"/>
                      </a:lnTo>
                      <a:lnTo>
                        <a:pt x="1400" y="1672"/>
                      </a:lnTo>
                      <a:lnTo>
                        <a:pt x="1386" y="1657"/>
                      </a:lnTo>
                      <a:lnTo>
                        <a:pt x="1386" y="1640"/>
                      </a:lnTo>
                      <a:lnTo>
                        <a:pt x="1400" y="1625"/>
                      </a:lnTo>
                      <a:lnTo>
                        <a:pt x="1414" y="1625"/>
                      </a:lnTo>
                      <a:lnTo>
                        <a:pt x="1428" y="1625"/>
                      </a:lnTo>
                      <a:lnTo>
                        <a:pt x="1441" y="1608"/>
                      </a:lnTo>
                      <a:lnTo>
                        <a:pt x="1428" y="1593"/>
                      </a:lnTo>
                      <a:lnTo>
                        <a:pt x="1441" y="1608"/>
                      </a:lnTo>
                      <a:lnTo>
                        <a:pt x="1455" y="1625"/>
                      </a:lnTo>
                      <a:lnTo>
                        <a:pt x="1469" y="1625"/>
                      </a:lnTo>
                      <a:lnTo>
                        <a:pt x="1483" y="1640"/>
                      </a:lnTo>
                      <a:lnTo>
                        <a:pt x="1497" y="1640"/>
                      </a:lnTo>
                      <a:lnTo>
                        <a:pt x="1511" y="1640"/>
                      </a:lnTo>
                      <a:lnTo>
                        <a:pt x="1552" y="1640"/>
                      </a:lnTo>
                      <a:lnTo>
                        <a:pt x="1580" y="1657"/>
                      </a:lnTo>
                      <a:lnTo>
                        <a:pt x="1621" y="1672"/>
                      </a:lnTo>
                      <a:lnTo>
                        <a:pt x="1607" y="1687"/>
                      </a:lnTo>
                      <a:lnTo>
                        <a:pt x="1621" y="1687"/>
                      </a:lnTo>
                      <a:lnTo>
                        <a:pt x="1635" y="1687"/>
                      </a:lnTo>
                      <a:lnTo>
                        <a:pt x="1649" y="1704"/>
                      </a:lnTo>
                      <a:lnTo>
                        <a:pt x="1663" y="1704"/>
                      </a:lnTo>
                      <a:lnTo>
                        <a:pt x="1663" y="1719"/>
                      </a:lnTo>
                      <a:lnTo>
                        <a:pt x="1663" y="1736"/>
                      </a:lnTo>
                      <a:lnTo>
                        <a:pt x="1663" y="1751"/>
                      </a:lnTo>
                      <a:lnTo>
                        <a:pt x="1663" y="1766"/>
                      </a:lnTo>
                      <a:lnTo>
                        <a:pt x="1690" y="1766"/>
                      </a:lnTo>
                      <a:lnTo>
                        <a:pt x="1704" y="1766"/>
                      </a:lnTo>
                      <a:lnTo>
                        <a:pt x="1733" y="1783"/>
                      </a:lnTo>
                      <a:lnTo>
                        <a:pt x="1775" y="1798"/>
                      </a:lnTo>
                      <a:lnTo>
                        <a:pt x="1816" y="1814"/>
                      </a:lnTo>
                      <a:lnTo>
                        <a:pt x="1830" y="1845"/>
                      </a:lnTo>
                      <a:lnTo>
                        <a:pt x="1844" y="1861"/>
                      </a:lnTo>
                      <a:lnTo>
                        <a:pt x="1844" y="1893"/>
                      </a:lnTo>
                      <a:lnTo>
                        <a:pt x="1830" y="1909"/>
                      </a:lnTo>
                      <a:lnTo>
                        <a:pt x="1802" y="1940"/>
                      </a:lnTo>
                      <a:lnTo>
                        <a:pt x="1789" y="1972"/>
                      </a:lnTo>
                      <a:lnTo>
                        <a:pt x="1802" y="1972"/>
                      </a:lnTo>
                      <a:lnTo>
                        <a:pt x="1816" y="1956"/>
                      </a:lnTo>
                      <a:lnTo>
                        <a:pt x="1830" y="1956"/>
                      </a:lnTo>
                      <a:lnTo>
                        <a:pt x="1830" y="1972"/>
                      </a:lnTo>
                      <a:lnTo>
                        <a:pt x="1844" y="1972"/>
                      </a:lnTo>
                      <a:lnTo>
                        <a:pt x="1858" y="1972"/>
                      </a:lnTo>
                      <a:lnTo>
                        <a:pt x="1872" y="1956"/>
                      </a:lnTo>
                      <a:lnTo>
                        <a:pt x="1899" y="1956"/>
                      </a:lnTo>
                      <a:lnTo>
                        <a:pt x="1913" y="1940"/>
                      </a:lnTo>
                      <a:lnTo>
                        <a:pt x="1927" y="1940"/>
                      </a:lnTo>
                      <a:lnTo>
                        <a:pt x="1955" y="1956"/>
                      </a:lnTo>
                      <a:lnTo>
                        <a:pt x="1968" y="1972"/>
                      </a:lnTo>
                      <a:lnTo>
                        <a:pt x="1955" y="1987"/>
                      </a:lnTo>
                      <a:lnTo>
                        <a:pt x="1955" y="2004"/>
                      </a:lnTo>
                      <a:lnTo>
                        <a:pt x="1955" y="2019"/>
                      </a:lnTo>
                      <a:lnTo>
                        <a:pt x="1996" y="2019"/>
                      </a:lnTo>
                      <a:lnTo>
                        <a:pt x="2051" y="2019"/>
                      </a:lnTo>
                      <a:lnTo>
                        <a:pt x="2093" y="2019"/>
                      </a:lnTo>
                      <a:lnTo>
                        <a:pt x="2107" y="2034"/>
                      </a:lnTo>
                      <a:lnTo>
                        <a:pt x="2107" y="2051"/>
                      </a:lnTo>
                      <a:lnTo>
                        <a:pt x="2121" y="2066"/>
                      </a:lnTo>
                      <a:lnTo>
                        <a:pt x="2134" y="2066"/>
                      </a:lnTo>
                      <a:lnTo>
                        <a:pt x="2148" y="2066"/>
                      </a:lnTo>
                      <a:lnTo>
                        <a:pt x="2162" y="2066"/>
                      </a:lnTo>
                      <a:lnTo>
                        <a:pt x="2176" y="2098"/>
                      </a:lnTo>
                      <a:lnTo>
                        <a:pt x="2162" y="2145"/>
                      </a:lnTo>
                      <a:lnTo>
                        <a:pt x="2148" y="2177"/>
                      </a:lnTo>
                      <a:lnTo>
                        <a:pt x="2134" y="2209"/>
                      </a:lnTo>
                      <a:lnTo>
                        <a:pt x="2121" y="2224"/>
                      </a:lnTo>
                      <a:lnTo>
                        <a:pt x="2121" y="2241"/>
                      </a:lnTo>
                      <a:lnTo>
                        <a:pt x="2107" y="2256"/>
                      </a:lnTo>
                      <a:lnTo>
                        <a:pt x="2107" y="2271"/>
                      </a:lnTo>
                      <a:lnTo>
                        <a:pt x="2093" y="2271"/>
                      </a:lnTo>
                      <a:lnTo>
                        <a:pt x="2093" y="2303"/>
                      </a:lnTo>
                      <a:lnTo>
                        <a:pt x="2093" y="2335"/>
                      </a:lnTo>
                      <a:lnTo>
                        <a:pt x="2093" y="2350"/>
                      </a:lnTo>
                      <a:lnTo>
                        <a:pt x="2079" y="2414"/>
                      </a:lnTo>
                      <a:lnTo>
                        <a:pt x="2065" y="2445"/>
                      </a:lnTo>
                      <a:lnTo>
                        <a:pt x="2051" y="2508"/>
                      </a:lnTo>
                      <a:lnTo>
                        <a:pt x="2051" y="2524"/>
                      </a:lnTo>
                      <a:lnTo>
                        <a:pt x="2038" y="2539"/>
                      </a:lnTo>
                      <a:lnTo>
                        <a:pt x="1996" y="2556"/>
                      </a:lnTo>
                      <a:lnTo>
                        <a:pt x="1968" y="2571"/>
                      </a:lnTo>
                      <a:lnTo>
                        <a:pt x="1955" y="2571"/>
                      </a:lnTo>
                      <a:lnTo>
                        <a:pt x="1941" y="2587"/>
                      </a:lnTo>
                      <a:lnTo>
                        <a:pt x="1927" y="2603"/>
                      </a:lnTo>
                      <a:lnTo>
                        <a:pt x="1913" y="2603"/>
                      </a:lnTo>
                      <a:lnTo>
                        <a:pt x="1899" y="2618"/>
                      </a:lnTo>
                      <a:lnTo>
                        <a:pt x="1899" y="2650"/>
                      </a:lnTo>
                      <a:lnTo>
                        <a:pt x="1899" y="2682"/>
                      </a:lnTo>
                      <a:lnTo>
                        <a:pt x="1899" y="2729"/>
                      </a:lnTo>
                      <a:lnTo>
                        <a:pt x="1885" y="2744"/>
                      </a:lnTo>
                      <a:lnTo>
                        <a:pt x="1885" y="2761"/>
                      </a:lnTo>
                      <a:lnTo>
                        <a:pt x="1872" y="2776"/>
                      </a:lnTo>
                      <a:lnTo>
                        <a:pt x="1872" y="2793"/>
                      </a:lnTo>
                      <a:lnTo>
                        <a:pt x="1858" y="2808"/>
                      </a:lnTo>
                      <a:lnTo>
                        <a:pt x="1858" y="2793"/>
                      </a:lnTo>
                      <a:lnTo>
                        <a:pt x="1872" y="2776"/>
                      </a:lnTo>
                      <a:lnTo>
                        <a:pt x="1885" y="2761"/>
                      </a:lnTo>
                      <a:lnTo>
                        <a:pt x="1872" y="2744"/>
                      </a:lnTo>
                      <a:lnTo>
                        <a:pt x="1858" y="2744"/>
                      </a:lnTo>
                      <a:lnTo>
                        <a:pt x="1872" y="2761"/>
                      </a:lnTo>
                      <a:lnTo>
                        <a:pt x="1858" y="2793"/>
                      </a:lnTo>
                      <a:lnTo>
                        <a:pt x="1844" y="2823"/>
                      </a:lnTo>
                      <a:lnTo>
                        <a:pt x="1830" y="2840"/>
                      </a:lnTo>
                      <a:lnTo>
                        <a:pt x="1830" y="2855"/>
                      </a:lnTo>
                      <a:lnTo>
                        <a:pt x="1816" y="2872"/>
                      </a:lnTo>
                      <a:lnTo>
                        <a:pt x="1802" y="2872"/>
                      </a:lnTo>
                      <a:lnTo>
                        <a:pt x="1789" y="2855"/>
                      </a:lnTo>
                      <a:lnTo>
                        <a:pt x="1761" y="2823"/>
                      </a:lnTo>
                      <a:lnTo>
                        <a:pt x="1733" y="2808"/>
                      </a:lnTo>
                      <a:lnTo>
                        <a:pt x="1733" y="2823"/>
                      </a:lnTo>
                      <a:lnTo>
                        <a:pt x="1747" y="2872"/>
                      </a:lnTo>
                      <a:lnTo>
                        <a:pt x="1775" y="2902"/>
                      </a:lnTo>
                      <a:lnTo>
                        <a:pt x="1789" y="2934"/>
                      </a:lnTo>
                      <a:lnTo>
                        <a:pt x="1775" y="2950"/>
                      </a:lnTo>
                      <a:lnTo>
                        <a:pt x="1747" y="2966"/>
                      </a:lnTo>
                      <a:lnTo>
                        <a:pt x="1733" y="2981"/>
                      </a:lnTo>
                      <a:lnTo>
                        <a:pt x="1718" y="2981"/>
                      </a:lnTo>
                      <a:lnTo>
                        <a:pt x="1704" y="2981"/>
                      </a:lnTo>
                      <a:lnTo>
                        <a:pt x="1690" y="2997"/>
                      </a:lnTo>
                      <a:lnTo>
                        <a:pt x="1704" y="3029"/>
                      </a:lnTo>
                      <a:lnTo>
                        <a:pt x="1690" y="3045"/>
                      </a:lnTo>
                      <a:lnTo>
                        <a:pt x="1677" y="3045"/>
                      </a:lnTo>
                      <a:lnTo>
                        <a:pt x="1663" y="3029"/>
                      </a:lnTo>
                      <a:lnTo>
                        <a:pt x="1635" y="3045"/>
                      </a:lnTo>
                      <a:lnTo>
                        <a:pt x="1635" y="3060"/>
                      </a:lnTo>
                      <a:lnTo>
                        <a:pt x="1649" y="3076"/>
                      </a:lnTo>
                      <a:lnTo>
                        <a:pt x="1663" y="3076"/>
                      </a:lnTo>
                      <a:lnTo>
                        <a:pt x="1677" y="3076"/>
                      </a:lnTo>
                      <a:lnTo>
                        <a:pt x="1677" y="3092"/>
                      </a:lnTo>
                      <a:lnTo>
                        <a:pt x="1663" y="3092"/>
                      </a:lnTo>
                      <a:lnTo>
                        <a:pt x="1649" y="3092"/>
                      </a:lnTo>
                      <a:lnTo>
                        <a:pt x="1649" y="3108"/>
                      </a:lnTo>
                      <a:lnTo>
                        <a:pt x="1663" y="3123"/>
                      </a:lnTo>
                      <a:lnTo>
                        <a:pt x="1663" y="3155"/>
                      </a:lnTo>
                      <a:lnTo>
                        <a:pt x="1649" y="3155"/>
                      </a:lnTo>
                      <a:lnTo>
                        <a:pt x="1635" y="3170"/>
                      </a:lnTo>
                      <a:lnTo>
                        <a:pt x="1635" y="3187"/>
                      </a:lnTo>
                      <a:lnTo>
                        <a:pt x="1649" y="3202"/>
                      </a:lnTo>
                      <a:lnTo>
                        <a:pt x="1677" y="3217"/>
                      </a:lnTo>
                      <a:lnTo>
                        <a:pt x="1677" y="3234"/>
                      </a:lnTo>
                      <a:lnTo>
                        <a:pt x="1649" y="3266"/>
                      </a:lnTo>
                      <a:lnTo>
                        <a:pt x="1635" y="3281"/>
                      </a:lnTo>
                      <a:lnTo>
                        <a:pt x="1649" y="3281"/>
                      </a:lnTo>
                      <a:lnTo>
                        <a:pt x="1663" y="3313"/>
                      </a:lnTo>
                      <a:lnTo>
                        <a:pt x="1663" y="3328"/>
                      </a:lnTo>
                      <a:lnTo>
                        <a:pt x="1663" y="3345"/>
                      </a:lnTo>
                      <a:lnTo>
                        <a:pt x="1649" y="3360"/>
                      </a:lnTo>
                      <a:lnTo>
                        <a:pt x="1635" y="3360"/>
                      </a:lnTo>
                      <a:lnTo>
                        <a:pt x="1607" y="3375"/>
                      </a:lnTo>
                      <a:lnTo>
                        <a:pt x="1621" y="3360"/>
                      </a:lnTo>
                      <a:lnTo>
                        <a:pt x="1607" y="3360"/>
                      </a:lnTo>
                      <a:lnTo>
                        <a:pt x="1594" y="3360"/>
                      </a:lnTo>
                      <a:lnTo>
                        <a:pt x="1580" y="3360"/>
                      </a:lnTo>
                      <a:lnTo>
                        <a:pt x="1594" y="3345"/>
                      </a:lnTo>
                      <a:lnTo>
                        <a:pt x="1594" y="3328"/>
                      </a:lnTo>
                      <a:lnTo>
                        <a:pt x="1566" y="3313"/>
                      </a:lnTo>
                      <a:lnTo>
                        <a:pt x="1538" y="3296"/>
                      </a:lnTo>
                      <a:lnTo>
                        <a:pt x="1524" y="3266"/>
                      </a:lnTo>
                      <a:lnTo>
                        <a:pt x="1511" y="3234"/>
                      </a:lnTo>
                      <a:lnTo>
                        <a:pt x="1524" y="3234"/>
                      </a:lnTo>
                      <a:lnTo>
                        <a:pt x="1538" y="3234"/>
                      </a:lnTo>
                      <a:lnTo>
                        <a:pt x="1538" y="3217"/>
                      </a:lnTo>
                      <a:lnTo>
                        <a:pt x="1524" y="3202"/>
                      </a:lnTo>
                      <a:lnTo>
                        <a:pt x="1511" y="3202"/>
                      </a:lnTo>
                      <a:lnTo>
                        <a:pt x="1497" y="3202"/>
                      </a:lnTo>
                      <a:lnTo>
                        <a:pt x="1483" y="3202"/>
                      </a:lnTo>
                      <a:lnTo>
                        <a:pt x="1483" y="3187"/>
                      </a:lnTo>
                      <a:lnTo>
                        <a:pt x="1497" y="3170"/>
                      </a:lnTo>
                      <a:lnTo>
                        <a:pt x="1511" y="3155"/>
                      </a:lnTo>
                      <a:lnTo>
                        <a:pt x="1524" y="3139"/>
                      </a:lnTo>
                      <a:lnTo>
                        <a:pt x="1511" y="3123"/>
                      </a:lnTo>
                      <a:lnTo>
                        <a:pt x="1511" y="3108"/>
                      </a:lnTo>
                      <a:lnTo>
                        <a:pt x="1511" y="3076"/>
                      </a:lnTo>
                      <a:lnTo>
                        <a:pt x="1511" y="3060"/>
                      </a:lnTo>
                      <a:lnTo>
                        <a:pt x="1497" y="3060"/>
                      </a:lnTo>
                      <a:lnTo>
                        <a:pt x="1483" y="3060"/>
                      </a:lnTo>
                      <a:lnTo>
                        <a:pt x="1469" y="3045"/>
                      </a:lnTo>
                      <a:lnTo>
                        <a:pt x="1469" y="3029"/>
                      </a:lnTo>
                      <a:lnTo>
                        <a:pt x="1469" y="3013"/>
                      </a:lnTo>
                      <a:lnTo>
                        <a:pt x="1469" y="2997"/>
                      </a:lnTo>
                      <a:lnTo>
                        <a:pt x="1455" y="2966"/>
                      </a:lnTo>
                      <a:lnTo>
                        <a:pt x="1441" y="2950"/>
                      </a:lnTo>
                      <a:lnTo>
                        <a:pt x="1455" y="2934"/>
                      </a:lnTo>
                      <a:lnTo>
                        <a:pt x="1455" y="2919"/>
                      </a:lnTo>
                      <a:lnTo>
                        <a:pt x="1455" y="2902"/>
                      </a:lnTo>
                      <a:lnTo>
                        <a:pt x="1455" y="2855"/>
                      </a:lnTo>
                      <a:lnTo>
                        <a:pt x="1455" y="2808"/>
                      </a:lnTo>
                      <a:lnTo>
                        <a:pt x="1455" y="2761"/>
                      </a:lnTo>
                      <a:lnTo>
                        <a:pt x="1455" y="2744"/>
                      </a:lnTo>
                      <a:lnTo>
                        <a:pt x="1455" y="2729"/>
                      </a:lnTo>
                      <a:lnTo>
                        <a:pt x="1441" y="2714"/>
                      </a:lnTo>
                      <a:lnTo>
                        <a:pt x="1455" y="2697"/>
                      </a:lnTo>
                      <a:lnTo>
                        <a:pt x="1455" y="2682"/>
                      </a:lnTo>
                      <a:lnTo>
                        <a:pt x="1455" y="2650"/>
                      </a:lnTo>
                      <a:lnTo>
                        <a:pt x="1455" y="2618"/>
                      </a:lnTo>
                      <a:lnTo>
                        <a:pt x="1455" y="2571"/>
                      </a:lnTo>
                      <a:lnTo>
                        <a:pt x="1441" y="2524"/>
                      </a:lnTo>
                      <a:lnTo>
                        <a:pt x="1428" y="2477"/>
                      </a:lnTo>
                      <a:lnTo>
                        <a:pt x="1414" y="2429"/>
                      </a:lnTo>
                      <a:lnTo>
                        <a:pt x="1414" y="2414"/>
                      </a:lnTo>
                      <a:lnTo>
                        <a:pt x="1400" y="2382"/>
                      </a:lnTo>
                      <a:lnTo>
                        <a:pt x="1358" y="2367"/>
                      </a:lnTo>
                      <a:lnTo>
                        <a:pt x="1331" y="2335"/>
                      </a:lnTo>
                      <a:lnTo>
                        <a:pt x="1303" y="2303"/>
                      </a:lnTo>
                      <a:lnTo>
                        <a:pt x="1303" y="2288"/>
                      </a:lnTo>
                      <a:lnTo>
                        <a:pt x="1289" y="2271"/>
                      </a:lnTo>
                      <a:lnTo>
                        <a:pt x="1275" y="2256"/>
                      </a:lnTo>
                      <a:lnTo>
                        <a:pt x="1275" y="2241"/>
                      </a:lnTo>
                      <a:lnTo>
                        <a:pt x="1248" y="2192"/>
                      </a:lnTo>
                      <a:lnTo>
                        <a:pt x="1234" y="2145"/>
                      </a:lnTo>
                      <a:lnTo>
                        <a:pt x="1220" y="2113"/>
                      </a:lnTo>
                      <a:lnTo>
                        <a:pt x="1206" y="2098"/>
                      </a:lnTo>
                      <a:lnTo>
                        <a:pt x="1192" y="2098"/>
                      </a:lnTo>
                      <a:lnTo>
                        <a:pt x="1192" y="2083"/>
                      </a:lnTo>
                      <a:lnTo>
                        <a:pt x="1192" y="2051"/>
                      </a:lnTo>
                      <a:lnTo>
                        <a:pt x="1206" y="2034"/>
                      </a:lnTo>
                      <a:lnTo>
                        <a:pt x="1206" y="2019"/>
                      </a:lnTo>
                      <a:lnTo>
                        <a:pt x="1206" y="2004"/>
                      </a:lnTo>
                      <a:lnTo>
                        <a:pt x="1220" y="1987"/>
                      </a:lnTo>
                      <a:lnTo>
                        <a:pt x="1220" y="1972"/>
                      </a:lnTo>
                      <a:lnTo>
                        <a:pt x="1206" y="1972"/>
                      </a:lnTo>
                      <a:lnTo>
                        <a:pt x="1206" y="1987"/>
                      </a:lnTo>
                      <a:lnTo>
                        <a:pt x="1192" y="1987"/>
                      </a:lnTo>
                      <a:lnTo>
                        <a:pt x="1192" y="1972"/>
                      </a:lnTo>
                      <a:lnTo>
                        <a:pt x="1192" y="1956"/>
                      </a:lnTo>
                      <a:lnTo>
                        <a:pt x="1192" y="1940"/>
                      </a:lnTo>
                      <a:lnTo>
                        <a:pt x="1206" y="1940"/>
                      </a:lnTo>
                      <a:lnTo>
                        <a:pt x="1206" y="1909"/>
                      </a:lnTo>
                      <a:lnTo>
                        <a:pt x="1220" y="1909"/>
                      </a:lnTo>
                      <a:lnTo>
                        <a:pt x="1234" y="1893"/>
                      </a:lnTo>
                      <a:lnTo>
                        <a:pt x="1234" y="1877"/>
                      </a:lnTo>
                      <a:lnTo>
                        <a:pt x="1248" y="1861"/>
                      </a:lnTo>
                      <a:lnTo>
                        <a:pt x="1262" y="1845"/>
                      </a:lnTo>
                      <a:lnTo>
                        <a:pt x="1275" y="1814"/>
                      </a:lnTo>
                      <a:lnTo>
                        <a:pt x="1262" y="1814"/>
                      </a:lnTo>
                      <a:lnTo>
                        <a:pt x="1262" y="1766"/>
                      </a:lnTo>
                      <a:lnTo>
                        <a:pt x="1262" y="1736"/>
                      </a:lnTo>
                      <a:lnTo>
                        <a:pt x="1262" y="1687"/>
                      </a:lnTo>
                      <a:lnTo>
                        <a:pt x="1248" y="1687"/>
                      </a:lnTo>
                      <a:lnTo>
                        <a:pt x="1234" y="1687"/>
                      </a:lnTo>
                      <a:lnTo>
                        <a:pt x="1220" y="1687"/>
                      </a:lnTo>
                      <a:lnTo>
                        <a:pt x="1206" y="1687"/>
                      </a:lnTo>
                      <a:lnTo>
                        <a:pt x="1179" y="1704"/>
                      </a:lnTo>
                      <a:lnTo>
                        <a:pt x="1151" y="1704"/>
                      </a:lnTo>
                      <a:lnTo>
                        <a:pt x="1151" y="1687"/>
                      </a:lnTo>
                      <a:lnTo>
                        <a:pt x="1137" y="1687"/>
                      </a:lnTo>
                      <a:lnTo>
                        <a:pt x="1123" y="1672"/>
                      </a:lnTo>
                      <a:lnTo>
                        <a:pt x="1109" y="1672"/>
                      </a:lnTo>
                      <a:lnTo>
                        <a:pt x="1096" y="1657"/>
                      </a:lnTo>
                      <a:lnTo>
                        <a:pt x="1096" y="1640"/>
                      </a:lnTo>
                      <a:lnTo>
                        <a:pt x="1096" y="1625"/>
                      </a:lnTo>
                      <a:lnTo>
                        <a:pt x="1096" y="1608"/>
                      </a:lnTo>
                      <a:lnTo>
                        <a:pt x="1082" y="1593"/>
                      </a:lnTo>
                      <a:lnTo>
                        <a:pt x="1068" y="1578"/>
                      </a:lnTo>
                      <a:lnTo>
                        <a:pt x="1068" y="1561"/>
                      </a:lnTo>
                      <a:lnTo>
                        <a:pt x="1054" y="1561"/>
                      </a:lnTo>
                      <a:lnTo>
                        <a:pt x="1026" y="1546"/>
                      </a:lnTo>
                      <a:lnTo>
                        <a:pt x="999" y="1546"/>
                      </a:lnTo>
                      <a:lnTo>
                        <a:pt x="971" y="1529"/>
                      </a:lnTo>
                      <a:lnTo>
                        <a:pt x="957" y="1499"/>
                      </a:lnTo>
                      <a:lnTo>
                        <a:pt x="944" y="1482"/>
                      </a:lnTo>
                      <a:lnTo>
                        <a:pt x="914" y="1482"/>
                      </a:lnTo>
                      <a:lnTo>
                        <a:pt x="873" y="1467"/>
                      </a:lnTo>
                      <a:lnTo>
                        <a:pt x="845" y="1467"/>
                      </a:lnTo>
                      <a:lnTo>
                        <a:pt x="804" y="1451"/>
                      </a:lnTo>
                      <a:lnTo>
                        <a:pt x="776" y="1451"/>
                      </a:lnTo>
                      <a:lnTo>
                        <a:pt x="748" y="1420"/>
                      </a:lnTo>
                      <a:lnTo>
                        <a:pt x="721" y="1403"/>
                      </a:lnTo>
                      <a:lnTo>
                        <a:pt x="707" y="1372"/>
                      </a:lnTo>
                      <a:lnTo>
                        <a:pt x="707" y="1356"/>
                      </a:lnTo>
                      <a:lnTo>
                        <a:pt x="707" y="1325"/>
                      </a:lnTo>
                      <a:lnTo>
                        <a:pt x="707" y="1293"/>
                      </a:lnTo>
                      <a:lnTo>
                        <a:pt x="693" y="1262"/>
                      </a:lnTo>
                      <a:lnTo>
                        <a:pt x="666" y="1246"/>
                      </a:lnTo>
                      <a:lnTo>
                        <a:pt x="652" y="1231"/>
                      </a:lnTo>
                      <a:lnTo>
                        <a:pt x="652" y="1214"/>
                      </a:lnTo>
                      <a:lnTo>
                        <a:pt x="638" y="1183"/>
                      </a:lnTo>
                      <a:lnTo>
                        <a:pt x="624" y="1167"/>
                      </a:lnTo>
                      <a:lnTo>
                        <a:pt x="610" y="1135"/>
                      </a:lnTo>
                      <a:lnTo>
                        <a:pt x="610" y="1120"/>
                      </a:lnTo>
                      <a:lnTo>
                        <a:pt x="610" y="1088"/>
                      </a:lnTo>
                      <a:lnTo>
                        <a:pt x="610" y="1073"/>
                      </a:lnTo>
                      <a:lnTo>
                        <a:pt x="610" y="1056"/>
                      </a:lnTo>
                      <a:lnTo>
                        <a:pt x="596" y="1056"/>
                      </a:lnTo>
                      <a:lnTo>
                        <a:pt x="583" y="1056"/>
                      </a:lnTo>
                      <a:lnTo>
                        <a:pt x="569" y="1088"/>
                      </a:lnTo>
                      <a:lnTo>
                        <a:pt x="583" y="1120"/>
                      </a:lnTo>
                      <a:lnTo>
                        <a:pt x="596" y="1152"/>
                      </a:lnTo>
                      <a:lnTo>
                        <a:pt x="596" y="1167"/>
                      </a:lnTo>
                      <a:lnTo>
                        <a:pt x="610" y="1214"/>
                      </a:lnTo>
                      <a:lnTo>
                        <a:pt x="624" y="1246"/>
                      </a:lnTo>
                      <a:lnTo>
                        <a:pt x="638" y="1293"/>
                      </a:lnTo>
                      <a:lnTo>
                        <a:pt x="624" y="1293"/>
                      </a:lnTo>
                      <a:lnTo>
                        <a:pt x="610" y="1278"/>
                      </a:lnTo>
                      <a:lnTo>
                        <a:pt x="596" y="1262"/>
                      </a:lnTo>
                      <a:lnTo>
                        <a:pt x="596" y="1246"/>
                      </a:lnTo>
                      <a:lnTo>
                        <a:pt x="596" y="1231"/>
                      </a:lnTo>
                      <a:lnTo>
                        <a:pt x="596" y="1214"/>
                      </a:lnTo>
                      <a:lnTo>
                        <a:pt x="583" y="1199"/>
                      </a:lnTo>
                      <a:lnTo>
                        <a:pt x="555" y="1183"/>
                      </a:lnTo>
                      <a:lnTo>
                        <a:pt x="555" y="1167"/>
                      </a:lnTo>
                      <a:lnTo>
                        <a:pt x="555" y="1152"/>
                      </a:lnTo>
                      <a:lnTo>
                        <a:pt x="569" y="1152"/>
                      </a:lnTo>
                      <a:lnTo>
                        <a:pt x="569" y="1135"/>
                      </a:lnTo>
                      <a:lnTo>
                        <a:pt x="555" y="1120"/>
                      </a:lnTo>
                      <a:lnTo>
                        <a:pt x="555" y="1105"/>
                      </a:lnTo>
                      <a:lnTo>
                        <a:pt x="541" y="1056"/>
                      </a:lnTo>
                      <a:lnTo>
                        <a:pt x="541" y="1026"/>
                      </a:lnTo>
                      <a:lnTo>
                        <a:pt x="527" y="994"/>
                      </a:lnTo>
                      <a:lnTo>
                        <a:pt x="513" y="994"/>
                      </a:lnTo>
                      <a:lnTo>
                        <a:pt x="500" y="994"/>
                      </a:lnTo>
                      <a:lnTo>
                        <a:pt x="486" y="977"/>
                      </a:lnTo>
                      <a:lnTo>
                        <a:pt x="500" y="977"/>
                      </a:lnTo>
                      <a:lnTo>
                        <a:pt x="500" y="962"/>
                      </a:lnTo>
                      <a:lnTo>
                        <a:pt x="500" y="947"/>
                      </a:lnTo>
                      <a:lnTo>
                        <a:pt x="513" y="898"/>
                      </a:lnTo>
                      <a:lnTo>
                        <a:pt x="513" y="868"/>
                      </a:lnTo>
                      <a:lnTo>
                        <a:pt x="500" y="868"/>
                      </a:lnTo>
                      <a:lnTo>
                        <a:pt x="486" y="851"/>
                      </a:lnTo>
                      <a:lnTo>
                        <a:pt x="472" y="851"/>
                      </a:lnTo>
                      <a:lnTo>
                        <a:pt x="472" y="836"/>
                      </a:lnTo>
                      <a:lnTo>
                        <a:pt x="486" y="836"/>
                      </a:lnTo>
                      <a:lnTo>
                        <a:pt x="486" y="820"/>
                      </a:lnTo>
                      <a:lnTo>
                        <a:pt x="486" y="804"/>
                      </a:lnTo>
                      <a:lnTo>
                        <a:pt x="486" y="789"/>
                      </a:lnTo>
                      <a:lnTo>
                        <a:pt x="500" y="773"/>
                      </a:lnTo>
                      <a:lnTo>
                        <a:pt x="500" y="757"/>
                      </a:lnTo>
                      <a:lnTo>
                        <a:pt x="513" y="757"/>
                      </a:lnTo>
                      <a:lnTo>
                        <a:pt x="513" y="741"/>
                      </a:lnTo>
                      <a:lnTo>
                        <a:pt x="513" y="725"/>
                      </a:lnTo>
                      <a:lnTo>
                        <a:pt x="527" y="725"/>
                      </a:lnTo>
                      <a:lnTo>
                        <a:pt x="527" y="710"/>
                      </a:lnTo>
                      <a:lnTo>
                        <a:pt x="555" y="694"/>
                      </a:lnTo>
                      <a:lnTo>
                        <a:pt x="569" y="662"/>
                      </a:lnTo>
                      <a:lnTo>
                        <a:pt x="569" y="647"/>
                      </a:lnTo>
                      <a:lnTo>
                        <a:pt x="569" y="631"/>
                      </a:lnTo>
                      <a:lnTo>
                        <a:pt x="596" y="615"/>
                      </a:lnTo>
                      <a:lnTo>
                        <a:pt x="624" y="600"/>
                      </a:lnTo>
                      <a:lnTo>
                        <a:pt x="610" y="600"/>
                      </a:lnTo>
                      <a:lnTo>
                        <a:pt x="596" y="615"/>
                      </a:lnTo>
                      <a:lnTo>
                        <a:pt x="596" y="631"/>
                      </a:lnTo>
                      <a:lnTo>
                        <a:pt x="624" y="600"/>
                      </a:lnTo>
                      <a:lnTo>
                        <a:pt x="638" y="568"/>
                      </a:lnTo>
                      <a:lnTo>
                        <a:pt x="624" y="521"/>
                      </a:lnTo>
                      <a:lnTo>
                        <a:pt x="610" y="521"/>
                      </a:lnTo>
                      <a:lnTo>
                        <a:pt x="596" y="521"/>
                      </a:lnTo>
                      <a:lnTo>
                        <a:pt x="569" y="521"/>
                      </a:lnTo>
                      <a:lnTo>
                        <a:pt x="583" y="504"/>
                      </a:lnTo>
                      <a:lnTo>
                        <a:pt x="596" y="504"/>
                      </a:lnTo>
                      <a:lnTo>
                        <a:pt x="610" y="489"/>
                      </a:lnTo>
                      <a:lnTo>
                        <a:pt x="610" y="457"/>
                      </a:lnTo>
                      <a:lnTo>
                        <a:pt x="596" y="457"/>
                      </a:lnTo>
                      <a:lnTo>
                        <a:pt x="583" y="442"/>
                      </a:lnTo>
                      <a:lnTo>
                        <a:pt x="596" y="442"/>
                      </a:lnTo>
                      <a:lnTo>
                        <a:pt x="610" y="410"/>
                      </a:lnTo>
                      <a:lnTo>
                        <a:pt x="624" y="395"/>
                      </a:lnTo>
                      <a:lnTo>
                        <a:pt x="610" y="395"/>
                      </a:lnTo>
                      <a:lnTo>
                        <a:pt x="610" y="410"/>
                      </a:lnTo>
                      <a:lnTo>
                        <a:pt x="583" y="425"/>
                      </a:lnTo>
                      <a:lnTo>
                        <a:pt x="583" y="410"/>
                      </a:lnTo>
                      <a:lnTo>
                        <a:pt x="596" y="410"/>
                      </a:lnTo>
                      <a:lnTo>
                        <a:pt x="610" y="395"/>
                      </a:lnTo>
                      <a:lnTo>
                        <a:pt x="596" y="395"/>
                      </a:lnTo>
                      <a:lnTo>
                        <a:pt x="583" y="395"/>
                      </a:lnTo>
                      <a:lnTo>
                        <a:pt x="583" y="378"/>
                      </a:lnTo>
                      <a:lnTo>
                        <a:pt x="596" y="378"/>
                      </a:lnTo>
                      <a:lnTo>
                        <a:pt x="596" y="346"/>
                      </a:lnTo>
                      <a:lnTo>
                        <a:pt x="610" y="331"/>
                      </a:lnTo>
                      <a:lnTo>
                        <a:pt x="610" y="299"/>
                      </a:lnTo>
                      <a:lnTo>
                        <a:pt x="596" y="316"/>
                      </a:lnTo>
                      <a:lnTo>
                        <a:pt x="583" y="331"/>
                      </a:lnTo>
                      <a:lnTo>
                        <a:pt x="569" y="331"/>
                      </a:lnTo>
                      <a:lnTo>
                        <a:pt x="555" y="299"/>
                      </a:lnTo>
                      <a:lnTo>
                        <a:pt x="541" y="284"/>
                      </a:lnTo>
                      <a:lnTo>
                        <a:pt x="527" y="299"/>
                      </a:lnTo>
                      <a:lnTo>
                        <a:pt x="500" y="284"/>
                      </a:lnTo>
                      <a:lnTo>
                        <a:pt x="472" y="267"/>
                      </a:lnTo>
                      <a:lnTo>
                        <a:pt x="430" y="252"/>
                      </a:lnTo>
                      <a:lnTo>
                        <a:pt x="417" y="267"/>
                      </a:lnTo>
                      <a:lnTo>
                        <a:pt x="361" y="299"/>
                      </a:lnTo>
                      <a:lnTo>
                        <a:pt x="320" y="316"/>
                      </a:lnTo>
                      <a:lnTo>
                        <a:pt x="306" y="316"/>
                      </a:lnTo>
                      <a:lnTo>
                        <a:pt x="320" y="284"/>
                      </a:lnTo>
                      <a:lnTo>
                        <a:pt x="375" y="267"/>
                      </a:lnTo>
                      <a:lnTo>
                        <a:pt x="417" y="252"/>
                      </a:lnTo>
                      <a:lnTo>
                        <a:pt x="389" y="252"/>
                      </a:lnTo>
                      <a:lnTo>
                        <a:pt x="389" y="267"/>
                      </a:lnTo>
                      <a:lnTo>
                        <a:pt x="375" y="252"/>
                      </a:lnTo>
                      <a:lnTo>
                        <a:pt x="347" y="267"/>
                      </a:lnTo>
                      <a:lnTo>
                        <a:pt x="320" y="284"/>
                      </a:lnTo>
                      <a:lnTo>
                        <a:pt x="306" y="284"/>
                      </a:lnTo>
                      <a:lnTo>
                        <a:pt x="306" y="299"/>
                      </a:lnTo>
                      <a:lnTo>
                        <a:pt x="292" y="299"/>
                      </a:lnTo>
                      <a:lnTo>
                        <a:pt x="264" y="331"/>
                      </a:lnTo>
                      <a:lnTo>
                        <a:pt x="237" y="346"/>
                      </a:lnTo>
                      <a:lnTo>
                        <a:pt x="209" y="346"/>
                      </a:lnTo>
                      <a:lnTo>
                        <a:pt x="181" y="363"/>
                      </a:lnTo>
                      <a:lnTo>
                        <a:pt x="168" y="363"/>
                      </a:lnTo>
                      <a:lnTo>
                        <a:pt x="140" y="378"/>
                      </a:lnTo>
                      <a:lnTo>
                        <a:pt x="97" y="395"/>
                      </a:lnTo>
                      <a:lnTo>
                        <a:pt x="69" y="410"/>
                      </a:lnTo>
                      <a:lnTo>
                        <a:pt x="28" y="410"/>
                      </a:lnTo>
                      <a:lnTo>
                        <a:pt x="0" y="425"/>
                      </a:lnTo>
                      <a:lnTo>
                        <a:pt x="0" y="410"/>
                      </a:lnTo>
                      <a:lnTo>
                        <a:pt x="14" y="410"/>
                      </a:lnTo>
                      <a:lnTo>
                        <a:pt x="28" y="395"/>
                      </a:lnTo>
                      <a:lnTo>
                        <a:pt x="56" y="395"/>
                      </a:lnTo>
                      <a:lnTo>
                        <a:pt x="69" y="395"/>
                      </a:lnTo>
                      <a:lnTo>
                        <a:pt x="83" y="395"/>
                      </a:lnTo>
                      <a:lnTo>
                        <a:pt x="111" y="378"/>
                      </a:lnTo>
                      <a:lnTo>
                        <a:pt x="125" y="363"/>
                      </a:lnTo>
                      <a:lnTo>
                        <a:pt x="140" y="363"/>
                      </a:lnTo>
                      <a:lnTo>
                        <a:pt x="154" y="363"/>
                      </a:lnTo>
                      <a:lnTo>
                        <a:pt x="168" y="346"/>
                      </a:lnTo>
                      <a:lnTo>
                        <a:pt x="181" y="346"/>
                      </a:lnTo>
                      <a:lnTo>
                        <a:pt x="195" y="331"/>
                      </a:lnTo>
                      <a:lnTo>
                        <a:pt x="209" y="331"/>
                      </a:lnTo>
                      <a:lnTo>
                        <a:pt x="223" y="316"/>
                      </a:lnTo>
                      <a:lnTo>
                        <a:pt x="209" y="316"/>
                      </a:lnTo>
                      <a:lnTo>
                        <a:pt x="195" y="316"/>
                      </a:lnTo>
                      <a:lnTo>
                        <a:pt x="181" y="331"/>
                      </a:lnTo>
                      <a:lnTo>
                        <a:pt x="168" y="331"/>
                      </a:lnTo>
                      <a:lnTo>
                        <a:pt x="168" y="316"/>
                      </a:lnTo>
                      <a:lnTo>
                        <a:pt x="154" y="316"/>
                      </a:lnTo>
                      <a:lnTo>
                        <a:pt x="140" y="316"/>
                      </a:lnTo>
                      <a:lnTo>
                        <a:pt x="140" y="299"/>
                      </a:lnTo>
                      <a:lnTo>
                        <a:pt x="154" y="284"/>
                      </a:lnTo>
                      <a:lnTo>
                        <a:pt x="168" y="267"/>
                      </a:lnTo>
                      <a:lnTo>
                        <a:pt x="154" y="267"/>
                      </a:lnTo>
                      <a:lnTo>
                        <a:pt x="125" y="299"/>
                      </a:lnTo>
                      <a:lnTo>
                        <a:pt x="111" y="299"/>
                      </a:lnTo>
                      <a:lnTo>
                        <a:pt x="125" y="284"/>
                      </a:lnTo>
                      <a:lnTo>
                        <a:pt x="140" y="284"/>
                      </a:lnTo>
                      <a:lnTo>
                        <a:pt x="154" y="267"/>
                      </a:lnTo>
                      <a:lnTo>
                        <a:pt x="140" y="252"/>
                      </a:lnTo>
                      <a:lnTo>
                        <a:pt x="125" y="252"/>
                      </a:lnTo>
                      <a:lnTo>
                        <a:pt x="154" y="237"/>
                      </a:lnTo>
                      <a:lnTo>
                        <a:pt x="168" y="220"/>
                      </a:lnTo>
                      <a:lnTo>
                        <a:pt x="195" y="205"/>
                      </a:lnTo>
                      <a:lnTo>
                        <a:pt x="209" y="205"/>
                      </a:lnTo>
                      <a:lnTo>
                        <a:pt x="237" y="205"/>
                      </a:lnTo>
                      <a:lnTo>
                        <a:pt x="264" y="189"/>
                      </a:lnTo>
                      <a:lnTo>
                        <a:pt x="292" y="173"/>
                      </a:lnTo>
                      <a:lnTo>
                        <a:pt x="278" y="173"/>
                      </a:lnTo>
                      <a:lnTo>
                        <a:pt x="251" y="189"/>
                      </a:lnTo>
                      <a:lnTo>
                        <a:pt x="237" y="173"/>
                      </a:lnTo>
                      <a:lnTo>
                        <a:pt x="223" y="173"/>
                      </a:lnTo>
                      <a:lnTo>
                        <a:pt x="209" y="158"/>
                      </a:lnTo>
                      <a:lnTo>
                        <a:pt x="195" y="142"/>
                      </a:lnTo>
                      <a:lnTo>
                        <a:pt x="223" y="126"/>
                      </a:lnTo>
                      <a:lnTo>
                        <a:pt x="251" y="126"/>
                      </a:lnTo>
                      <a:lnTo>
                        <a:pt x="292" y="126"/>
                      </a:lnTo>
                      <a:lnTo>
                        <a:pt x="334" y="126"/>
                      </a:lnTo>
                      <a:lnTo>
                        <a:pt x="347" y="126"/>
                      </a:lnTo>
                      <a:lnTo>
                        <a:pt x="347" y="142"/>
                      </a:lnTo>
                      <a:lnTo>
                        <a:pt x="361" y="126"/>
                      </a:lnTo>
                      <a:lnTo>
                        <a:pt x="334" y="110"/>
                      </a:lnTo>
                      <a:lnTo>
                        <a:pt x="320" y="110"/>
                      </a:lnTo>
                      <a:lnTo>
                        <a:pt x="306" y="95"/>
                      </a:lnTo>
                      <a:lnTo>
                        <a:pt x="306" y="79"/>
                      </a:lnTo>
                      <a:lnTo>
                        <a:pt x="320" y="79"/>
                      </a:lnTo>
                      <a:lnTo>
                        <a:pt x="334" y="79"/>
                      </a:lnTo>
                      <a:lnTo>
                        <a:pt x="361" y="63"/>
                      </a:lnTo>
                      <a:lnTo>
                        <a:pt x="417" y="63"/>
                      </a:lnTo>
                      <a:lnTo>
                        <a:pt x="444" y="47"/>
                      </a:lnTo>
                      <a:lnTo>
                        <a:pt x="472" y="47"/>
                      </a:lnTo>
                      <a:lnTo>
                        <a:pt x="500" y="31"/>
                      </a:lnTo>
                      <a:lnTo>
                        <a:pt x="527" y="31"/>
                      </a:lnTo>
                      <a:lnTo>
                        <a:pt x="541" y="31"/>
                      </a:lnTo>
                      <a:lnTo>
                        <a:pt x="555" y="16"/>
                      </a:lnTo>
                      <a:lnTo>
                        <a:pt x="569" y="16"/>
                      </a:lnTo>
                      <a:lnTo>
                        <a:pt x="555" y="31"/>
                      </a:lnTo>
                      <a:lnTo>
                        <a:pt x="569" y="31"/>
                      </a:lnTo>
                      <a:lnTo>
                        <a:pt x="583" y="31"/>
                      </a:lnTo>
                      <a:lnTo>
                        <a:pt x="569" y="31"/>
                      </a:lnTo>
                      <a:lnTo>
                        <a:pt x="583" y="31"/>
                      </a:lnTo>
                      <a:lnTo>
                        <a:pt x="596" y="47"/>
                      </a:lnTo>
                      <a:lnTo>
                        <a:pt x="638" y="47"/>
                      </a:lnTo>
                      <a:lnTo>
                        <a:pt x="666" y="47"/>
                      </a:lnTo>
                      <a:lnTo>
                        <a:pt x="707" y="63"/>
                      </a:lnTo>
                      <a:lnTo>
                        <a:pt x="735" y="79"/>
                      </a:lnTo>
                      <a:lnTo>
                        <a:pt x="776" y="79"/>
                      </a:lnTo>
                      <a:lnTo>
                        <a:pt x="818" y="79"/>
                      </a:lnTo>
                      <a:lnTo>
                        <a:pt x="831" y="79"/>
                      </a:lnTo>
                      <a:lnTo>
                        <a:pt x="845" y="79"/>
                      </a:lnTo>
                      <a:lnTo>
                        <a:pt x="859" y="63"/>
                      </a:lnTo>
                      <a:lnTo>
                        <a:pt x="873" y="63"/>
                      </a:lnTo>
                      <a:lnTo>
                        <a:pt x="859" y="63"/>
                      </a:lnTo>
                      <a:lnTo>
                        <a:pt x="845" y="63"/>
                      </a:lnTo>
                      <a:lnTo>
                        <a:pt x="845" y="79"/>
                      </a:lnTo>
                      <a:lnTo>
                        <a:pt x="887" y="79"/>
                      </a:lnTo>
                      <a:lnTo>
                        <a:pt x="914" y="63"/>
                      </a:lnTo>
                      <a:lnTo>
                        <a:pt x="944" y="47"/>
                      </a:lnTo>
                      <a:lnTo>
                        <a:pt x="957" y="63"/>
                      </a:lnTo>
                      <a:lnTo>
                        <a:pt x="971" y="63"/>
                      </a:lnTo>
                      <a:lnTo>
                        <a:pt x="985" y="63"/>
                      </a:lnTo>
                      <a:lnTo>
                        <a:pt x="999" y="47"/>
                      </a:lnTo>
                      <a:lnTo>
                        <a:pt x="1013" y="47"/>
                      </a:lnTo>
                      <a:lnTo>
                        <a:pt x="999" y="63"/>
                      </a:lnTo>
                      <a:lnTo>
                        <a:pt x="1013" y="63"/>
                      </a:lnTo>
                      <a:lnTo>
                        <a:pt x="1026" y="63"/>
                      </a:lnTo>
                      <a:lnTo>
                        <a:pt x="1054" y="63"/>
                      </a:lnTo>
                      <a:lnTo>
                        <a:pt x="1082" y="63"/>
                      </a:lnTo>
                      <a:lnTo>
                        <a:pt x="1096" y="79"/>
                      </a:lnTo>
                      <a:lnTo>
                        <a:pt x="1109" y="79"/>
                      </a:lnTo>
                      <a:lnTo>
                        <a:pt x="1123" y="79"/>
                      </a:lnTo>
                      <a:lnTo>
                        <a:pt x="1137" y="79"/>
                      </a:lnTo>
                      <a:lnTo>
                        <a:pt x="1123" y="95"/>
                      </a:lnTo>
                      <a:lnTo>
                        <a:pt x="1109" y="95"/>
                      </a:lnTo>
                      <a:lnTo>
                        <a:pt x="1109" y="110"/>
                      </a:lnTo>
                      <a:lnTo>
                        <a:pt x="1123" y="110"/>
                      </a:lnTo>
                      <a:lnTo>
                        <a:pt x="1137" y="110"/>
                      </a:lnTo>
                      <a:lnTo>
                        <a:pt x="1165" y="110"/>
                      </a:lnTo>
                      <a:lnTo>
                        <a:pt x="1179" y="126"/>
                      </a:lnTo>
                      <a:lnTo>
                        <a:pt x="1206" y="142"/>
                      </a:lnTo>
                      <a:lnTo>
                        <a:pt x="1206" y="126"/>
                      </a:lnTo>
                      <a:lnTo>
                        <a:pt x="1234" y="110"/>
                      </a:lnTo>
                      <a:lnTo>
                        <a:pt x="1248" y="95"/>
                      </a:lnTo>
                      <a:lnTo>
                        <a:pt x="1275" y="79"/>
                      </a:lnTo>
                      <a:lnTo>
                        <a:pt x="1289" y="95"/>
                      </a:lnTo>
                      <a:lnTo>
                        <a:pt x="1303" y="110"/>
                      </a:lnTo>
                      <a:lnTo>
                        <a:pt x="1331" y="110"/>
                      </a:lnTo>
                      <a:lnTo>
                        <a:pt x="1345" y="110"/>
                      </a:lnTo>
                      <a:lnTo>
                        <a:pt x="1358" y="110"/>
                      </a:lnTo>
                      <a:lnTo>
                        <a:pt x="1372" y="95"/>
                      </a:lnTo>
                      <a:lnTo>
                        <a:pt x="1386" y="95"/>
                      </a:lnTo>
                      <a:lnTo>
                        <a:pt x="1386" y="79"/>
                      </a:lnTo>
                      <a:lnTo>
                        <a:pt x="1400" y="95"/>
                      </a:lnTo>
                      <a:lnTo>
                        <a:pt x="1400" y="110"/>
                      </a:lnTo>
                      <a:lnTo>
                        <a:pt x="1386" y="126"/>
                      </a:lnTo>
                      <a:lnTo>
                        <a:pt x="1400" y="126"/>
                      </a:lnTo>
                      <a:lnTo>
                        <a:pt x="1400" y="110"/>
                      </a:lnTo>
                      <a:lnTo>
                        <a:pt x="1414" y="110"/>
                      </a:lnTo>
                      <a:lnTo>
                        <a:pt x="1428" y="95"/>
                      </a:lnTo>
                      <a:lnTo>
                        <a:pt x="1441" y="95"/>
                      </a:lnTo>
                      <a:lnTo>
                        <a:pt x="1455" y="79"/>
                      </a:lnTo>
                      <a:lnTo>
                        <a:pt x="1441" y="63"/>
                      </a:lnTo>
                      <a:lnTo>
                        <a:pt x="1441" y="47"/>
                      </a:lnTo>
                      <a:lnTo>
                        <a:pt x="1455" y="47"/>
                      </a:lnTo>
                      <a:lnTo>
                        <a:pt x="1469" y="31"/>
                      </a:lnTo>
                      <a:lnTo>
                        <a:pt x="1483" y="16"/>
                      </a:lnTo>
                      <a:lnTo>
                        <a:pt x="1497" y="0"/>
                      </a:lnTo>
                      <a:lnTo>
                        <a:pt x="1497" y="16"/>
                      </a:lnTo>
                      <a:lnTo>
                        <a:pt x="1483" y="47"/>
                      </a:lnTo>
                      <a:lnTo>
                        <a:pt x="1483" y="63"/>
                      </a:lnTo>
                      <a:lnTo>
                        <a:pt x="1497" y="63"/>
                      </a:lnTo>
                      <a:lnTo>
                        <a:pt x="1524" y="63"/>
                      </a:lnTo>
                      <a:lnTo>
                        <a:pt x="1538" y="63"/>
                      </a:lnTo>
                      <a:lnTo>
                        <a:pt x="1538" y="79"/>
                      </a:lnTo>
                      <a:lnTo>
                        <a:pt x="1538" y="110"/>
                      </a:lnTo>
                      <a:lnTo>
                        <a:pt x="1566" y="110"/>
                      </a:lnTo>
                      <a:lnTo>
                        <a:pt x="1580" y="95"/>
                      </a:lnTo>
                      <a:lnTo>
                        <a:pt x="1580" y="79"/>
                      </a:lnTo>
                      <a:lnTo>
                        <a:pt x="1594" y="47"/>
                      </a:lnTo>
                      <a:lnTo>
                        <a:pt x="1621" y="47"/>
                      </a:lnTo>
                      <a:lnTo>
                        <a:pt x="1635" y="63"/>
                      </a:lnTo>
                      <a:lnTo>
                        <a:pt x="1649" y="63"/>
                      </a:lnTo>
                      <a:lnTo>
                        <a:pt x="1649" y="79"/>
                      </a:lnTo>
                      <a:lnTo>
                        <a:pt x="1635" y="79"/>
                      </a:lnTo>
                      <a:lnTo>
                        <a:pt x="1635" y="95"/>
                      </a:lnTo>
                      <a:lnTo>
                        <a:pt x="1635" y="110"/>
                      </a:lnTo>
                      <a:lnTo>
                        <a:pt x="1621" y="126"/>
                      </a:lnTo>
                      <a:lnTo>
                        <a:pt x="1607" y="126"/>
                      </a:lnTo>
                      <a:lnTo>
                        <a:pt x="1594" y="142"/>
                      </a:lnTo>
                      <a:lnTo>
                        <a:pt x="1580" y="142"/>
                      </a:lnTo>
                      <a:lnTo>
                        <a:pt x="1580" y="126"/>
                      </a:lnTo>
                      <a:lnTo>
                        <a:pt x="1566" y="126"/>
                      </a:lnTo>
                      <a:lnTo>
                        <a:pt x="1580" y="142"/>
                      </a:lnTo>
                      <a:lnTo>
                        <a:pt x="1566" y="142"/>
                      </a:lnTo>
                      <a:lnTo>
                        <a:pt x="1538" y="142"/>
                      </a:lnTo>
                      <a:lnTo>
                        <a:pt x="1524" y="158"/>
                      </a:lnTo>
                      <a:lnTo>
                        <a:pt x="1497" y="158"/>
                      </a:lnTo>
                      <a:lnTo>
                        <a:pt x="1483" y="158"/>
                      </a:lnTo>
                      <a:lnTo>
                        <a:pt x="1483" y="142"/>
                      </a:lnTo>
                      <a:lnTo>
                        <a:pt x="1469" y="142"/>
                      </a:lnTo>
                      <a:lnTo>
                        <a:pt x="1455" y="142"/>
                      </a:lnTo>
                      <a:lnTo>
                        <a:pt x="1441" y="142"/>
                      </a:lnTo>
                      <a:lnTo>
                        <a:pt x="1469" y="158"/>
                      </a:lnTo>
                      <a:lnTo>
                        <a:pt x="1497" y="158"/>
                      </a:lnTo>
                      <a:lnTo>
                        <a:pt x="1511" y="158"/>
                      </a:lnTo>
                      <a:lnTo>
                        <a:pt x="1497" y="173"/>
                      </a:lnTo>
                      <a:lnTo>
                        <a:pt x="1483" y="189"/>
                      </a:lnTo>
                      <a:lnTo>
                        <a:pt x="1455" y="189"/>
                      </a:lnTo>
                      <a:lnTo>
                        <a:pt x="1441" y="189"/>
                      </a:lnTo>
                      <a:lnTo>
                        <a:pt x="1441" y="205"/>
                      </a:lnTo>
                      <a:lnTo>
                        <a:pt x="1428" y="205"/>
                      </a:lnTo>
                      <a:lnTo>
                        <a:pt x="1414" y="189"/>
                      </a:lnTo>
                      <a:lnTo>
                        <a:pt x="1400" y="189"/>
                      </a:lnTo>
                      <a:lnTo>
                        <a:pt x="1386" y="189"/>
                      </a:lnTo>
                      <a:lnTo>
                        <a:pt x="1400" y="205"/>
                      </a:lnTo>
                      <a:lnTo>
                        <a:pt x="1414" y="220"/>
                      </a:lnTo>
                      <a:lnTo>
                        <a:pt x="1400" y="220"/>
                      </a:lnTo>
                      <a:lnTo>
                        <a:pt x="1386" y="220"/>
                      </a:lnTo>
                      <a:lnTo>
                        <a:pt x="1372" y="220"/>
                      </a:lnTo>
                      <a:lnTo>
                        <a:pt x="1358" y="237"/>
                      </a:lnTo>
                      <a:lnTo>
                        <a:pt x="1331" y="252"/>
                      </a:lnTo>
                      <a:lnTo>
                        <a:pt x="1303" y="284"/>
                      </a:lnTo>
                      <a:lnTo>
                        <a:pt x="1289" y="331"/>
                      </a:lnTo>
                      <a:lnTo>
                        <a:pt x="1303" y="346"/>
                      </a:lnTo>
                      <a:lnTo>
                        <a:pt x="1317" y="346"/>
                      </a:lnTo>
                      <a:lnTo>
                        <a:pt x="1331" y="363"/>
                      </a:lnTo>
                      <a:lnTo>
                        <a:pt x="1345" y="378"/>
                      </a:lnTo>
                      <a:lnTo>
                        <a:pt x="1372" y="395"/>
                      </a:lnTo>
                      <a:lnTo>
                        <a:pt x="1400" y="425"/>
                      </a:lnTo>
                      <a:lnTo>
                        <a:pt x="1400" y="410"/>
                      </a:lnTo>
                      <a:lnTo>
                        <a:pt x="1428" y="410"/>
                      </a:lnTo>
                      <a:lnTo>
                        <a:pt x="1441" y="410"/>
                      </a:lnTo>
                      <a:lnTo>
                        <a:pt x="1455" y="410"/>
                      </a:lnTo>
                      <a:lnTo>
                        <a:pt x="1455" y="425"/>
                      </a:lnTo>
                      <a:lnTo>
                        <a:pt x="1441" y="442"/>
                      </a:lnTo>
                      <a:lnTo>
                        <a:pt x="1428" y="474"/>
                      </a:lnTo>
                      <a:lnTo>
                        <a:pt x="1428" y="489"/>
                      </a:lnTo>
                      <a:lnTo>
                        <a:pt x="1428" y="504"/>
                      </a:lnTo>
                      <a:lnTo>
                        <a:pt x="1441" y="521"/>
                      </a:lnTo>
                      <a:lnTo>
                        <a:pt x="1455" y="536"/>
                      </a:lnTo>
                      <a:lnTo>
                        <a:pt x="1455" y="521"/>
                      </a:lnTo>
                      <a:lnTo>
                        <a:pt x="1455" y="504"/>
                      </a:lnTo>
                      <a:lnTo>
                        <a:pt x="1469" y="504"/>
                      </a:lnTo>
                      <a:lnTo>
                        <a:pt x="1483" y="504"/>
                      </a:lnTo>
                      <a:lnTo>
                        <a:pt x="1483" y="489"/>
                      </a:lnTo>
                      <a:lnTo>
                        <a:pt x="1483" y="474"/>
                      </a:lnTo>
                      <a:lnTo>
                        <a:pt x="1483" y="442"/>
                      </a:lnTo>
                      <a:lnTo>
                        <a:pt x="1497" y="425"/>
                      </a:lnTo>
                      <a:lnTo>
                        <a:pt x="1511" y="410"/>
                      </a:lnTo>
                      <a:lnTo>
                        <a:pt x="1552" y="395"/>
                      </a:lnTo>
                      <a:lnTo>
                        <a:pt x="1580" y="363"/>
                      </a:lnTo>
                      <a:lnTo>
                        <a:pt x="1580" y="346"/>
                      </a:lnTo>
                      <a:lnTo>
                        <a:pt x="1566" y="331"/>
                      </a:lnTo>
                      <a:lnTo>
                        <a:pt x="1552" y="331"/>
                      </a:lnTo>
                      <a:lnTo>
                        <a:pt x="1566" y="316"/>
                      </a:lnTo>
                      <a:lnTo>
                        <a:pt x="1580" y="316"/>
                      </a:lnTo>
                      <a:lnTo>
                        <a:pt x="1580" y="299"/>
                      </a:lnTo>
                      <a:lnTo>
                        <a:pt x="1594" y="284"/>
                      </a:lnTo>
                      <a:lnTo>
                        <a:pt x="1607" y="252"/>
                      </a:lnTo>
                      <a:lnTo>
                        <a:pt x="1607" y="237"/>
                      </a:lnTo>
                      <a:lnTo>
                        <a:pt x="1621" y="237"/>
                      </a:lnTo>
                      <a:lnTo>
                        <a:pt x="1621" y="220"/>
                      </a:lnTo>
                      <a:lnTo>
                        <a:pt x="1663" y="237"/>
                      </a:lnTo>
                      <a:lnTo>
                        <a:pt x="1704" y="252"/>
                      </a:lnTo>
                      <a:lnTo>
                        <a:pt x="1747" y="267"/>
                      </a:lnTo>
                      <a:lnTo>
                        <a:pt x="1733" y="267"/>
                      </a:lnTo>
                      <a:lnTo>
                        <a:pt x="1718" y="284"/>
                      </a:lnTo>
                      <a:lnTo>
                        <a:pt x="1704" y="284"/>
                      </a:lnTo>
                      <a:lnTo>
                        <a:pt x="1704" y="299"/>
                      </a:lnTo>
                      <a:lnTo>
                        <a:pt x="1733" y="316"/>
                      </a:lnTo>
                      <a:lnTo>
                        <a:pt x="1733" y="331"/>
                      </a:lnTo>
                      <a:lnTo>
                        <a:pt x="1733" y="346"/>
                      </a:lnTo>
                      <a:lnTo>
                        <a:pt x="1704" y="346"/>
                      </a:lnTo>
                      <a:lnTo>
                        <a:pt x="1733" y="346"/>
                      </a:lnTo>
                      <a:lnTo>
                        <a:pt x="1761" y="331"/>
                      </a:lnTo>
                      <a:lnTo>
                        <a:pt x="1775" y="316"/>
                      </a:lnTo>
                      <a:lnTo>
                        <a:pt x="1789" y="299"/>
                      </a:lnTo>
                      <a:lnTo>
                        <a:pt x="1802" y="299"/>
                      </a:lnTo>
                      <a:lnTo>
                        <a:pt x="1816" y="284"/>
                      </a:lnTo>
                      <a:lnTo>
                        <a:pt x="1816" y="299"/>
                      </a:lnTo>
                      <a:lnTo>
                        <a:pt x="1816" y="331"/>
                      </a:lnTo>
                      <a:lnTo>
                        <a:pt x="1830" y="378"/>
                      </a:lnTo>
                      <a:lnTo>
                        <a:pt x="1844" y="410"/>
                      </a:lnTo>
                      <a:lnTo>
                        <a:pt x="1858" y="425"/>
                      </a:lnTo>
                      <a:lnTo>
                        <a:pt x="1872" y="425"/>
                      </a:lnTo>
                      <a:lnTo>
                        <a:pt x="1885" y="425"/>
                      </a:lnTo>
                      <a:lnTo>
                        <a:pt x="1885" y="442"/>
                      </a:lnTo>
                      <a:lnTo>
                        <a:pt x="1872" y="442"/>
                      </a:lnTo>
                      <a:lnTo>
                        <a:pt x="1858" y="442"/>
                      </a:lnTo>
                      <a:lnTo>
                        <a:pt x="1844" y="457"/>
                      </a:lnTo>
                      <a:lnTo>
                        <a:pt x="1816" y="457"/>
                      </a:lnTo>
                      <a:lnTo>
                        <a:pt x="1830" y="457"/>
                      </a:lnTo>
                      <a:lnTo>
                        <a:pt x="1844" y="457"/>
                      </a:lnTo>
                      <a:lnTo>
                        <a:pt x="1858" y="457"/>
                      </a:lnTo>
                      <a:lnTo>
                        <a:pt x="1872" y="442"/>
                      </a:lnTo>
                      <a:lnTo>
                        <a:pt x="1885" y="457"/>
                      </a:lnTo>
                      <a:lnTo>
                        <a:pt x="1899" y="474"/>
                      </a:lnTo>
                      <a:lnTo>
                        <a:pt x="1899" y="489"/>
                      </a:lnTo>
                      <a:lnTo>
                        <a:pt x="1872" y="504"/>
                      </a:lnTo>
                      <a:lnTo>
                        <a:pt x="1858" y="504"/>
                      </a:lnTo>
                      <a:lnTo>
                        <a:pt x="1844" y="521"/>
                      </a:lnTo>
                      <a:lnTo>
                        <a:pt x="1830" y="521"/>
                      </a:lnTo>
                      <a:lnTo>
                        <a:pt x="1816" y="536"/>
                      </a:lnTo>
                      <a:lnTo>
                        <a:pt x="1802" y="536"/>
                      </a:lnTo>
                      <a:lnTo>
                        <a:pt x="1789" y="552"/>
                      </a:lnTo>
                      <a:lnTo>
                        <a:pt x="1775" y="552"/>
                      </a:lnTo>
                      <a:lnTo>
                        <a:pt x="1733" y="552"/>
                      </a:lnTo>
                      <a:lnTo>
                        <a:pt x="1677" y="568"/>
                      </a:lnTo>
                      <a:lnTo>
                        <a:pt x="1635" y="568"/>
                      </a:lnTo>
                      <a:lnTo>
                        <a:pt x="1621" y="583"/>
                      </a:lnTo>
                      <a:lnTo>
                        <a:pt x="1607" y="600"/>
                      </a:lnTo>
                      <a:lnTo>
                        <a:pt x="1594" y="615"/>
                      </a:lnTo>
                      <a:lnTo>
                        <a:pt x="1580" y="615"/>
                      </a:lnTo>
                      <a:lnTo>
                        <a:pt x="1566" y="631"/>
                      </a:lnTo>
                      <a:lnTo>
                        <a:pt x="1580" y="631"/>
                      </a:lnTo>
                      <a:lnTo>
                        <a:pt x="1594" y="615"/>
                      </a:lnTo>
                      <a:lnTo>
                        <a:pt x="1607" y="615"/>
                      </a:lnTo>
                      <a:lnTo>
                        <a:pt x="1607" y="600"/>
                      </a:lnTo>
                      <a:lnTo>
                        <a:pt x="1635" y="583"/>
                      </a:lnTo>
                      <a:lnTo>
                        <a:pt x="1663" y="568"/>
                      </a:lnTo>
                      <a:lnTo>
                        <a:pt x="1690" y="568"/>
                      </a:lnTo>
                      <a:lnTo>
                        <a:pt x="1704" y="568"/>
                      </a:lnTo>
                      <a:lnTo>
                        <a:pt x="1718" y="583"/>
                      </a:lnTo>
                      <a:lnTo>
                        <a:pt x="1690" y="600"/>
                      </a:lnTo>
                      <a:lnTo>
                        <a:pt x="1677" y="600"/>
                      </a:lnTo>
                      <a:lnTo>
                        <a:pt x="1663" y="600"/>
                      </a:lnTo>
                      <a:lnTo>
                        <a:pt x="1677" y="600"/>
                      </a:lnTo>
                      <a:lnTo>
                        <a:pt x="1704" y="615"/>
                      </a:lnTo>
                      <a:lnTo>
                        <a:pt x="1704" y="631"/>
                      </a:lnTo>
                      <a:lnTo>
                        <a:pt x="1704" y="647"/>
                      </a:lnTo>
                      <a:lnTo>
                        <a:pt x="1704" y="662"/>
                      </a:lnTo>
                      <a:lnTo>
                        <a:pt x="1718" y="662"/>
                      </a:lnTo>
                      <a:lnTo>
                        <a:pt x="1733" y="662"/>
                      </a:lnTo>
                      <a:lnTo>
                        <a:pt x="1747" y="662"/>
                      </a:lnTo>
                      <a:lnTo>
                        <a:pt x="1747" y="678"/>
                      </a:lnTo>
                      <a:lnTo>
                        <a:pt x="1733" y="678"/>
                      </a:lnTo>
                      <a:lnTo>
                        <a:pt x="1718" y="678"/>
                      </a:lnTo>
                      <a:lnTo>
                        <a:pt x="1704" y="694"/>
                      </a:lnTo>
                      <a:lnTo>
                        <a:pt x="1690" y="710"/>
                      </a:lnTo>
                      <a:lnTo>
                        <a:pt x="1677" y="710"/>
                      </a:lnTo>
                      <a:lnTo>
                        <a:pt x="1649" y="725"/>
                      </a:lnTo>
                      <a:lnTo>
                        <a:pt x="1649" y="710"/>
                      </a:lnTo>
                      <a:lnTo>
                        <a:pt x="1649" y="694"/>
                      </a:lnTo>
                      <a:lnTo>
                        <a:pt x="1663" y="694"/>
                      </a:lnTo>
                      <a:lnTo>
                        <a:pt x="1690" y="678"/>
                      </a:lnTo>
                      <a:lnTo>
                        <a:pt x="1704" y="678"/>
                      </a:lnTo>
                      <a:lnTo>
                        <a:pt x="1704" y="662"/>
                      </a:lnTo>
                      <a:lnTo>
                        <a:pt x="1690" y="662"/>
                      </a:lnTo>
                      <a:lnTo>
                        <a:pt x="1690" y="647"/>
                      </a:lnTo>
                      <a:lnTo>
                        <a:pt x="1677" y="662"/>
                      </a:lnTo>
                      <a:lnTo>
                        <a:pt x="1663" y="662"/>
                      </a:lnTo>
                      <a:lnTo>
                        <a:pt x="1663" y="678"/>
                      </a:lnTo>
                      <a:lnTo>
                        <a:pt x="1649" y="678"/>
                      </a:lnTo>
                      <a:lnTo>
                        <a:pt x="1635" y="678"/>
                      </a:lnTo>
                      <a:lnTo>
                        <a:pt x="1621" y="678"/>
                      </a:lnTo>
                      <a:lnTo>
                        <a:pt x="1621" y="694"/>
                      </a:lnTo>
                      <a:lnTo>
                        <a:pt x="1607" y="694"/>
                      </a:lnTo>
                      <a:lnTo>
                        <a:pt x="1580" y="710"/>
                      </a:lnTo>
                      <a:lnTo>
                        <a:pt x="1566" y="725"/>
                      </a:lnTo>
                      <a:lnTo>
                        <a:pt x="1552" y="741"/>
                      </a:lnTo>
                      <a:lnTo>
                        <a:pt x="1538" y="741"/>
                      </a:lnTo>
                      <a:lnTo>
                        <a:pt x="1538" y="757"/>
                      </a:lnTo>
                      <a:lnTo>
                        <a:pt x="1524" y="773"/>
                      </a:lnTo>
                      <a:lnTo>
                        <a:pt x="1511" y="789"/>
                      </a:lnTo>
                      <a:lnTo>
                        <a:pt x="1483" y="789"/>
                      </a:lnTo>
                      <a:lnTo>
                        <a:pt x="1455" y="804"/>
                      </a:lnTo>
                      <a:lnTo>
                        <a:pt x="1455" y="820"/>
                      </a:lnTo>
                      <a:lnTo>
                        <a:pt x="1441" y="836"/>
                      </a:lnTo>
                      <a:lnTo>
                        <a:pt x="1441" y="851"/>
                      </a:lnTo>
                      <a:lnTo>
                        <a:pt x="1441" y="836"/>
                      </a:lnTo>
                      <a:lnTo>
                        <a:pt x="1441" y="820"/>
                      </a:lnTo>
                      <a:lnTo>
                        <a:pt x="1428" y="836"/>
                      </a:lnTo>
                      <a:lnTo>
                        <a:pt x="1428" y="851"/>
                      </a:lnTo>
                      <a:lnTo>
                        <a:pt x="1414" y="868"/>
                      </a:lnTo>
                      <a:lnTo>
                        <a:pt x="1414" y="883"/>
                      </a:lnTo>
                      <a:lnTo>
                        <a:pt x="1414" y="898"/>
                      </a:lnTo>
                      <a:lnTo>
                        <a:pt x="1400" y="898"/>
                      </a:lnTo>
                      <a:lnTo>
                        <a:pt x="1400" y="883"/>
                      </a:lnTo>
                      <a:lnTo>
                        <a:pt x="1400" y="868"/>
                      </a:lnTo>
                      <a:lnTo>
                        <a:pt x="1386" y="851"/>
                      </a:lnTo>
                      <a:lnTo>
                        <a:pt x="1400" y="868"/>
                      </a:lnTo>
                      <a:lnTo>
                        <a:pt x="1400" y="883"/>
                      </a:lnTo>
                      <a:lnTo>
                        <a:pt x="1400" y="930"/>
                      </a:lnTo>
                      <a:lnTo>
                        <a:pt x="1400" y="947"/>
                      </a:lnTo>
                      <a:lnTo>
                        <a:pt x="1386" y="947"/>
                      </a:lnTo>
                      <a:lnTo>
                        <a:pt x="1372" y="947"/>
                      </a:lnTo>
                      <a:lnTo>
                        <a:pt x="1386" y="947"/>
                      </a:lnTo>
                      <a:lnTo>
                        <a:pt x="1400" y="947"/>
                      </a:lnTo>
                      <a:lnTo>
                        <a:pt x="1386" y="962"/>
                      </a:lnTo>
                      <a:lnTo>
                        <a:pt x="1358" y="994"/>
                      </a:lnTo>
                      <a:lnTo>
                        <a:pt x="1317" y="1009"/>
                      </a:lnTo>
                      <a:lnTo>
                        <a:pt x="1289" y="1041"/>
                      </a:lnTo>
                      <a:lnTo>
                        <a:pt x="1262" y="1056"/>
                      </a:lnTo>
                      <a:lnTo>
                        <a:pt x="1248" y="1088"/>
                      </a:lnTo>
                      <a:lnTo>
                        <a:pt x="1248" y="1120"/>
                      </a:lnTo>
                      <a:lnTo>
                        <a:pt x="1262" y="1152"/>
                      </a:lnTo>
                      <a:lnTo>
                        <a:pt x="1262" y="1167"/>
                      </a:lnTo>
                      <a:lnTo>
                        <a:pt x="1262" y="1183"/>
                      </a:lnTo>
                      <a:lnTo>
                        <a:pt x="1262" y="1199"/>
                      </a:lnTo>
                      <a:lnTo>
                        <a:pt x="1234" y="1246"/>
                      </a:lnTo>
                      <a:lnTo>
                        <a:pt x="1234" y="1231"/>
                      </a:lnTo>
                      <a:lnTo>
                        <a:pt x="1234" y="1214"/>
                      </a:lnTo>
                      <a:lnTo>
                        <a:pt x="1220" y="1214"/>
                      </a:lnTo>
                      <a:lnTo>
                        <a:pt x="1220" y="1199"/>
                      </a:lnTo>
                      <a:lnTo>
                        <a:pt x="1206" y="1167"/>
                      </a:lnTo>
                      <a:lnTo>
                        <a:pt x="1192" y="1135"/>
                      </a:lnTo>
                      <a:lnTo>
                        <a:pt x="1165" y="1120"/>
                      </a:lnTo>
                      <a:lnTo>
                        <a:pt x="1137" y="1120"/>
                      </a:lnTo>
                      <a:lnTo>
                        <a:pt x="1109" y="1120"/>
                      </a:lnTo>
                      <a:lnTo>
                        <a:pt x="1082" y="1135"/>
                      </a:lnTo>
                      <a:lnTo>
                        <a:pt x="1068" y="1135"/>
                      </a:lnTo>
                      <a:lnTo>
                        <a:pt x="1068" y="1120"/>
                      </a:lnTo>
                      <a:lnTo>
                        <a:pt x="1040" y="1120"/>
                      </a:lnTo>
                      <a:lnTo>
                        <a:pt x="1026" y="1105"/>
                      </a:lnTo>
                      <a:lnTo>
                        <a:pt x="999" y="1105"/>
                      </a:lnTo>
                      <a:lnTo>
                        <a:pt x="985" y="1105"/>
                      </a:lnTo>
                      <a:lnTo>
                        <a:pt x="985" y="1120"/>
                      </a:lnTo>
                      <a:lnTo>
                        <a:pt x="971" y="1120"/>
                      </a:lnTo>
                      <a:lnTo>
                        <a:pt x="985" y="1120"/>
                      </a:lnTo>
                      <a:lnTo>
                        <a:pt x="957" y="1135"/>
                      </a:lnTo>
                      <a:lnTo>
                        <a:pt x="930" y="1152"/>
                      </a:lnTo>
                      <a:lnTo>
                        <a:pt x="914" y="1167"/>
                      </a:lnTo>
                      <a:lnTo>
                        <a:pt x="901" y="1183"/>
                      </a:lnTo>
                      <a:lnTo>
                        <a:pt x="901" y="1199"/>
                      </a:lnTo>
                      <a:lnTo>
                        <a:pt x="901" y="1214"/>
                      </a:lnTo>
                      <a:lnTo>
                        <a:pt x="901" y="1231"/>
                      </a:lnTo>
                      <a:lnTo>
                        <a:pt x="887" y="1246"/>
                      </a:lnTo>
                      <a:lnTo>
                        <a:pt x="887" y="1293"/>
                      </a:lnTo>
                      <a:lnTo>
                        <a:pt x="887" y="1325"/>
                      </a:lnTo>
                      <a:lnTo>
                        <a:pt x="887" y="1356"/>
                      </a:lnTo>
                      <a:lnTo>
                        <a:pt x="901" y="1420"/>
                      </a:lnTo>
                      <a:lnTo>
                        <a:pt x="914" y="1420"/>
                      </a:lnTo>
                      <a:lnTo>
                        <a:pt x="957" y="1403"/>
                      </a:lnTo>
                      <a:lnTo>
                        <a:pt x="985" y="1403"/>
                      </a:lnTo>
                      <a:lnTo>
                        <a:pt x="1013" y="1403"/>
                      </a:lnTo>
                      <a:lnTo>
                        <a:pt x="1026" y="1388"/>
                      </a:lnTo>
                      <a:lnTo>
                        <a:pt x="1026" y="1372"/>
                      </a:lnTo>
                      <a:lnTo>
                        <a:pt x="1026" y="1356"/>
                      </a:lnTo>
                      <a:lnTo>
                        <a:pt x="1040" y="1341"/>
                      </a:lnTo>
                      <a:lnTo>
                        <a:pt x="1082" y="1341"/>
                      </a:lnTo>
                      <a:lnTo>
                        <a:pt x="1096" y="1341"/>
                      </a:lnTo>
                      <a:lnTo>
                        <a:pt x="1109" y="1341"/>
                      </a:lnTo>
                      <a:lnTo>
                        <a:pt x="1096" y="1372"/>
                      </a:lnTo>
                      <a:lnTo>
                        <a:pt x="1082" y="1388"/>
                      </a:lnTo>
                      <a:lnTo>
                        <a:pt x="1068" y="1403"/>
                      </a:lnTo>
                      <a:lnTo>
                        <a:pt x="1068" y="1420"/>
                      </a:lnTo>
                      <a:lnTo>
                        <a:pt x="1054" y="1435"/>
                      </a:lnTo>
                      <a:lnTo>
                        <a:pt x="1068" y="1451"/>
                      </a:lnTo>
                      <a:lnTo>
                        <a:pt x="1054" y="1467"/>
                      </a:lnTo>
                      <a:lnTo>
                        <a:pt x="1040" y="1482"/>
                      </a:lnTo>
                      <a:lnTo>
                        <a:pt x="1054" y="1499"/>
                      </a:lnTo>
                      <a:lnTo>
                        <a:pt x="1068" y="1482"/>
                      </a:lnTo>
                      <a:lnTo>
                        <a:pt x="1096" y="1499"/>
                      </a:lnTo>
                      <a:lnTo>
                        <a:pt x="1137" y="1499"/>
                      </a:lnTo>
                      <a:lnTo>
                        <a:pt x="1165" y="1514"/>
                      </a:lnTo>
                      <a:lnTo>
                        <a:pt x="1151" y="1514"/>
                      </a:lnTo>
                      <a:lnTo>
                        <a:pt x="1151" y="1561"/>
                      </a:lnTo>
                      <a:lnTo>
                        <a:pt x="1137" y="1593"/>
                      </a:lnTo>
                      <a:lnTo>
                        <a:pt x="1137" y="1625"/>
                      </a:lnTo>
                      <a:lnTo>
                        <a:pt x="1151" y="1657"/>
                      </a:lnTo>
                      <a:lnTo>
                        <a:pt x="1192" y="1672"/>
                      </a:lnTo>
                      <a:lnTo>
                        <a:pt x="1220" y="1672"/>
                      </a:lnTo>
                      <a:lnTo>
                        <a:pt x="1234" y="1672"/>
                      </a:lnTo>
                      <a:lnTo>
                        <a:pt x="1248" y="1687"/>
                      </a:lnTo>
                      <a:lnTo>
                        <a:pt x="1275" y="16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7926480" y="2819520"/>
                  <a:ext cx="21960" cy="48960"/>
                </a:xfrm>
                <a:custGeom>
                  <a:avLst/>
                  <a:gdLst/>
                  <a:ahLst/>
                  <a:rect l="l" t="t" r="r" b="b"/>
                  <a:pathLst>
                    <a:path w="42" h="94">
                      <a:moveTo>
                        <a:pt x="0" y="47"/>
                      </a:moveTo>
                      <a:lnTo>
                        <a:pt x="0" y="32"/>
                      </a:lnTo>
                      <a:lnTo>
                        <a:pt x="0" y="0"/>
                      </a:lnTo>
                      <a:lnTo>
                        <a:pt x="14" y="0"/>
                      </a:lnTo>
                      <a:lnTo>
                        <a:pt x="28" y="15"/>
                      </a:lnTo>
                      <a:lnTo>
                        <a:pt x="42" y="32"/>
                      </a:lnTo>
                      <a:lnTo>
                        <a:pt x="42" y="47"/>
                      </a:lnTo>
                      <a:lnTo>
                        <a:pt x="28" y="64"/>
                      </a:lnTo>
                      <a:lnTo>
                        <a:pt x="28" y="79"/>
                      </a:lnTo>
                      <a:lnTo>
                        <a:pt x="14" y="94"/>
                      </a:lnTo>
                      <a:lnTo>
                        <a:pt x="0" y="79"/>
                      </a:lnTo>
                      <a:lnTo>
                        <a:pt x="0" y="64"/>
                      </a:lnTo>
                      <a:lnTo>
                        <a:pt x="0" y="47"/>
                      </a:lnTo>
                      <a:close/>
                    </a:path>
                  </a:pathLst>
                </a:custGeom>
                <a:solidFill>
                  <a:srgbClr val="00937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2" name=""/>
                <p:cNvSpPr/>
                <p:nvPr/>
              </p:nvSpPr>
              <p:spPr>
                <a:xfrm>
                  <a:off x="7926480" y="2819520"/>
                  <a:ext cx="21960" cy="48960"/>
                </a:xfrm>
                <a:custGeom>
                  <a:avLst/>
                  <a:gdLst/>
                  <a:ahLst/>
                  <a:rect l="l" t="t" r="r" b="b"/>
                  <a:pathLst>
                    <a:path w="42" h="94">
                      <a:moveTo>
                        <a:pt x="0" y="47"/>
                      </a:moveTo>
                      <a:lnTo>
                        <a:pt x="0" y="32"/>
                      </a:lnTo>
                      <a:lnTo>
                        <a:pt x="0" y="0"/>
                      </a:lnTo>
                      <a:lnTo>
                        <a:pt x="14" y="0"/>
                      </a:lnTo>
                      <a:lnTo>
                        <a:pt x="28" y="15"/>
                      </a:lnTo>
                      <a:lnTo>
                        <a:pt x="42" y="32"/>
                      </a:lnTo>
                      <a:lnTo>
                        <a:pt x="42" y="47"/>
                      </a:lnTo>
                      <a:lnTo>
                        <a:pt x="28" y="64"/>
                      </a:lnTo>
                      <a:lnTo>
                        <a:pt x="28" y="79"/>
                      </a:lnTo>
                      <a:lnTo>
                        <a:pt x="14" y="94"/>
                      </a:lnTo>
                      <a:lnTo>
                        <a:pt x="0" y="79"/>
                      </a:lnTo>
                      <a:lnTo>
                        <a:pt x="0" y="64"/>
                      </a:lnTo>
                      <a:lnTo>
                        <a:pt x="0" y="47"/>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3" name=""/>
                <p:cNvSpPr/>
                <p:nvPr/>
              </p:nvSpPr>
              <p:spPr>
                <a:xfrm>
                  <a:off x="8394840" y="2811600"/>
                  <a:ext cx="52200" cy="48960"/>
                </a:xfrm>
                <a:custGeom>
                  <a:avLst/>
                  <a:gdLst/>
                  <a:ahLst/>
                  <a:rect l="l" t="t" r="r" b="b"/>
                  <a:pathLst>
                    <a:path w="97" h="94">
                      <a:moveTo>
                        <a:pt x="69" y="0"/>
                      </a:moveTo>
                      <a:lnTo>
                        <a:pt x="83" y="15"/>
                      </a:lnTo>
                      <a:lnTo>
                        <a:pt x="83" y="47"/>
                      </a:lnTo>
                      <a:lnTo>
                        <a:pt x="97" y="62"/>
                      </a:lnTo>
                      <a:lnTo>
                        <a:pt x="97" y="79"/>
                      </a:lnTo>
                      <a:lnTo>
                        <a:pt x="97" y="94"/>
                      </a:lnTo>
                      <a:lnTo>
                        <a:pt x="83" y="94"/>
                      </a:lnTo>
                      <a:lnTo>
                        <a:pt x="83" y="79"/>
                      </a:lnTo>
                      <a:lnTo>
                        <a:pt x="83" y="62"/>
                      </a:lnTo>
                      <a:lnTo>
                        <a:pt x="69" y="62"/>
                      </a:lnTo>
                      <a:lnTo>
                        <a:pt x="55" y="62"/>
                      </a:lnTo>
                      <a:lnTo>
                        <a:pt x="41" y="47"/>
                      </a:lnTo>
                      <a:lnTo>
                        <a:pt x="14" y="62"/>
                      </a:lnTo>
                      <a:lnTo>
                        <a:pt x="0" y="79"/>
                      </a:lnTo>
                      <a:lnTo>
                        <a:pt x="0" y="62"/>
                      </a:lnTo>
                      <a:lnTo>
                        <a:pt x="14" y="47"/>
                      </a:lnTo>
                      <a:lnTo>
                        <a:pt x="28" y="30"/>
                      </a:lnTo>
                      <a:lnTo>
                        <a:pt x="28" y="47"/>
                      </a:lnTo>
                      <a:lnTo>
                        <a:pt x="41" y="47"/>
                      </a:lnTo>
                      <a:lnTo>
                        <a:pt x="55" y="30"/>
                      </a:lnTo>
                      <a:lnTo>
                        <a:pt x="69" y="15"/>
                      </a:lnTo>
                      <a:lnTo>
                        <a:pt x="69" y="0"/>
                      </a:lnTo>
                      <a:close/>
                    </a:path>
                  </a:pathLst>
                </a:custGeom>
                <a:solidFill>
                  <a:srgbClr val="00937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4" name=""/>
                <p:cNvSpPr/>
                <p:nvPr/>
              </p:nvSpPr>
              <p:spPr>
                <a:xfrm>
                  <a:off x="8394840" y="2811600"/>
                  <a:ext cx="52200" cy="48960"/>
                </a:xfrm>
                <a:custGeom>
                  <a:avLst/>
                  <a:gdLst/>
                  <a:ahLst/>
                  <a:rect l="l" t="t" r="r" b="b"/>
                  <a:pathLst>
                    <a:path w="97" h="94">
                      <a:moveTo>
                        <a:pt x="69" y="0"/>
                      </a:moveTo>
                      <a:lnTo>
                        <a:pt x="83" y="15"/>
                      </a:lnTo>
                      <a:lnTo>
                        <a:pt x="83" y="47"/>
                      </a:lnTo>
                      <a:lnTo>
                        <a:pt x="97" y="62"/>
                      </a:lnTo>
                      <a:lnTo>
                        <a:pt x="97" y="79"/>
                      </a:lnTo>
                      <a:lnTo>
                        <a:pt x="97" y="94"/>
                      </a:lnTo>
                      <a:lnTo>
                        <a:pt x="83" y="94"/>
                      </a:lnTo>
                      <a:lnTo>
                        <a:pt x="83" y="79"/>
                      </a:lnTo>
                      <a:lnTo>
                        <a:pt x="83" y="62"/>
                      </a:lnTo>
                      <a:lnTo>
                        <a:pt x="69" y="62"/>
                      </a:lnTo>
                      <a:lnTo>
                        <a:pt x="55" y="62"/>
                      </a:lnTo>
                      <a:lnTo>
                        <a:pt x="41" y="47"/>
                      </a:lnTo>
                      <a:lnTo>
                        <a:pt x="14" y="62"/>
                      </a:lnTo>
                      <a:lnTo>
                        <a:pt x="0" y="79"/>
                      </a:lnTo>
                      <a:lnTo>
                        <a:pt x="0" y="62"/>
                      </a:lnTo>
                      <a:lnTo>
                        <a:pt x="14" y="47"/>
                      </a:lnTo>
                      <a:lnTo>
                        <a:pt x="28" y="30"/>
                      </a:lnTo>
                      <a:lnTo>
                        <a:pt x="28" y="47"/>
                      </a:lnTo>
                      <a:lnTo>
                        <a:pt x="41" y="47"/>
                      </a:lnTo>
                      <a:lnTo>
                        <a:pt x="55" y="30"/>
                      </a:lnTo>
                      <a:lnTo>
                        <a:pt x="69" y="15"/>
                      </a:lnTo>
                      <a:lnTo>
                        <a:pt x="69"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5" name=""/>
                <p:cNvSpPr/>
                <p:nvPr/>
              </p:nvSpPr>
              <p:spPr>
                <a:xfrm>
                  <a:off x="8256600" y="2852640"/>
                  <a:ext cx="109440" cy="157320"/>
                </a:xfrm>
                <a:custGeom>
                  <a:avLst/>
                  <a:gdLst/>
                  <a:ahLst/>
                  <a:rect l="l" t="t" r="r" b="b"/>
                  <a:pathLst>
                    <a:path w="208" h="298">
                      <a:moveTo>
                        <a:pt x="125" y="62"/>
                      </a:moveTo>
                      <a:lnTo>
                        <a:pt x="138" y="30"/>
                      </a:lnTo>
                      <a:lnTo>
                        <a:pt x="138" y="15"/>
                      </a:lnTo>
                      <a:lnTo>
                        <a:pt x="166" y="0"/>
                      </a:lnTo>
                      <a:lnTo>
                        <a:pt x="166" y="15"/>
                      </a:lnTo>
                      <a:lnTo>
                        <a:pt x="166" y="30"/>
                      </a:lnTo>
                      <a:lnTo>
                        <a:pt x="180" y="30"/>
                      </a:lnTo>
                      <a:lnTo>
                        <a:pt x="194" y="30"/>
                      </a:lnTo>
                      <a:lnTo>
                        <a:pt x="208" y="47"/>
                      </a:lnTo>
                      <a:lnTo>
                        <a:pt x="194" y="62"/>
                      </a:lnTo>
                      <a:lnTo>
                        <a:pt x="180" y="78"/>
                      </a:lnTo>
                      <a:lnTo>
                        <a:pt x="166" y="94"/>
                      </a:lnTo>
                      <a:lnTo>
                        <a:pt x="180" y="109"/>
                      </a:lnTo>
                      <a:lnTo>
                        <a:pt x="180" y="125"/>
                      </a:lnTo>
                      <a:lnTo>
                        <a:pt x="194" y="141"/>
                      </a:lnTo>
                      <a:lnTo>
                        <a:pt x="208" y="141"/>
                      </a:lnTo>
                      <a:lnTo>
                        <a:pt x="208" y="157"/>
                      </a:lnTo>
                      <a:lnTo>
                        <a:pt x="194" y="157"/>
                      </a:lnTo>
                      <a:lnTo>
                        <a:pt x="180" y="157"/>
                      </a:lnTo>
                      <a:lnTo>
                        <a:pt x="180" y="173"/>
                      </a:lnTo>
                      <a:lnTo>
                        <a:pt x="180" y="189"/>
                      </a:lnTo>
                      <a:lnTo>
                        <a:pt x="166" y="204"/>
                      </a:lnTo>
                      <a:lnTo>
                        <a:pt x="152" y="220"/>
                      </a:lnTo>
                      <a:lnTo>
                        <a:pt x="152" y="236"/>
                      </a:lnTo>
                      <a:lnTo>
                        <a:pt x="138" y="268"/>
                      </a:lnTo>
                      <a:lnTo>
                        <a:pt x="138" y="298"/>
                      </a:lnTo>
                      <a:lnTo>
                        <a:pt x="111" y="298"/>
                      </a:lnTo>
                      <a:lnTo>
                        <a:pt x="111" y="283"/>
                      </a:lnTo>
                      <a:lnTo>
                        <a:pt x="83" y="268"/>
                      </a:lnTo>
                      <a:lnTo>
                        <a:pt x="55" y="268"/>
                      </a:lnTo>
                      <a:lnTo>
                        <a:pt x="14" y="251"/>
                      </a:lnTo>
                      <a:lnTo>
                        <a:pt x="0" y="220"/>
                      </a:lnTo>
                      <a:lnTo>
                        <a:pt x="0" y="173"/>
                      </a:lnTo>
                      <a:lnTo>
                        <a:pt x="0" y="125"/>
                      </a:lnTo>
                      <a:lnTo>
                        <a:pt x="14" y="141"/>
                      </a:lnTo>
                      <a:lnTo>
                        <a:pt x="28" y="141"/>
                      </a:lnTo>
                      <a:lnTo>
                        <a:pt x="42" y="157"/>
                      </a:lnTo>
                      <a:lnTo>
                        <a:pt x="42" y="141"/>
                      </a:lnTo>
                      <a:lnTo>
                        <a:pt x="42" y="125"/>
                      </a:lnTo>
                      <a:lnTo>
                        <a:pt x="42" y="109"/>
                      </a:lnTo>
                      <a:lnTo>
                        <a:pt x="55" y="109"/>
                      </a:lnTo>
                      <a:lnTo>
                        <a:pt x="69" y="109"/>
                      </a:lnTo>
                      <a:lnTo>
                        <a:pt x="83" y="109"/>
                      </a:lnTo>
                      <a:lnTo>
                        <a:pt x="97" y="78"/>
                      </a:lnTo>
                      <a:lnTo>
                        <a:pt x="97" y="62"/>
                      </a:lnTo>
                      <a:lnTo>
                        <a:pt x="125" y="6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256600" y="2852640"/>
                  <a:ext cx="109440" cy="157320"/>
                </a:xfrm>
                <a:custGeom>
                  <a:avLst/>
                  <a:gdLst/>
                  <a:ahLst/>
                  <a:rect l="l" t="t" r="r" b="b"/>
                  <a:pathLst>
                    <a:path w="208" h="298">
                      <a:moveTo>
                        <a:pt x="125" y="62"/>
                      </a:moveTo>
                      <a:lnTo>
                        <a:pt x="138" y="30"/>
                      </a:lnTo>
                      <a:lnTo>
                        <a:pt x="138" y="15"/>
                      </a:lnTo>
                      <a:lnTo>
                        <a:pt x="166" y="0"/>
                      </a:lnTo>
                      <a:lnTo>
                        <a:pt x="166" y="15"/>
                      </a:lnTo>
                      <a:lnTo>
                        <a:pt x="166" y="30"/>
                      </a:lnTo>
                      <a:lnTo>
                        <a:pt x="180" y="30"/>
                      </a:lnTo>
                      <a:lnTo>
                        <a:pt x="194" y="30"/>
                      </a:lnTo>
                      <a:lnTo>
                        <a:pt x="208" y="47"/>
                      </a:lnTo>
                      <a:lnTo>
                        <a:pt x="194" y="62"/>
                      </a:lnTo>
                      <a:lnTo>
                        <a:pt x="180" y="78"/>
                      </a:lnTo>
                      <a:lnTo>
                        <a:pt x="166" y="94"/>
                      </a:lnTo>
                      <a:lnTo>
                        <a:pt x="180" y="109"/>
                      </a:lnTo>
                      <a:lnTo>
                        <a:pt x="180" y="125"/>
                      </a:lnTo>
                      <a:lnTo>
                        <a:pt x="194" y="141"/>
                      </a:lnTo>
                      <a:lnTo>
                        <a:pt x="208" y="141"/>
                      </a:lnTo>
                      <a:lnTo>
                        <a:pt x="208" y="157"/>
                      </a:lnTo>
                      <a:lnTo>
                        <a:pt x="194" y="157"/>
                      </a:lnTo>
                      <a:lnTo>
                        <a:pt x="180" y="157"/>
                      </a:lnTo>
                      <a:lnTo>
                        <a:pt x="180" y="173"/>
                      </a:lnTo>
                      <a:lnTo>
                        <a:pt x="180" y="189"/>
                      </a:lnTo>
                      <a:lnTo>
                        <a:pt x="166" y="204"/>
                      </a:lnTo>
                      <a:lnTo>
                        <a:pt x="152" y="220"/>
                      </a:lnTo>
                      <a:lnTo>
                        <a:pt x="152" y="236"/>
                      </a:lnTo>
                      <a:lnTo>
                        <a:pt x="138" y="268"/>
                      </a:lnTo>
                      <a:lnTo>
                        <a:pt x="138" y="298"/>
                      </a:lnTo>
                      <a:lnTo>
                        <a:pt x="111" y="298"/>
                      </a:lnTo>
                      <a:lnTo>
                        <a:pt x="111" y="283"/>
                      </a:lnTo>
                      <a:lnTo>
                        <a:pt x="83" y="268"/>
                      </a:lnTo>
                      <a:lnTo>
                        <a:pt x="55" y="268"/>
                      </a:lnTo>
                      <a:lnTo>
                        <a:pt x="14" y="251"/>
                      </a:lnTo>
                      <a:lnTo>
                        <a:pt x="0" y="220"/>
                      </a:lnTo>
                      <a:lnTo>
                        <a:pt x="0" y="173"/>
                      </a:lnTo>
                      <a:lnTo>
                        <a:pt x="0" y="125"/>
                      </a:lnTo>
                      <a:lnTo>
                        <a:pt x="14" y="141"/>
                      </a:lnTo>
                      <a:lnTo>
                        <a:pt x="28" y="141"/>
                      </a:lnTo>
                      <a:lnTo>
                        <a:pt x="42" y="157"/>
                      </a:lnTo>
                      <a:lnTo>
                        <a:pt x="42" y="141"/>
                      </a:lnTo>
                      <a:lnTo>
                        <a:pt x="42" y="125"/>
                      </a:lnTo>
                      <a:lnTo>
                        <a:pt x="42" y="109"/>
                      </a:lnTo>
                      <a:lnTo>
                        <a:pt x="55" y="109"/>
                      </a:lnTo>
                      <a:lnTo>
                        <a:pt x="69" y="109"/>
                      </a:lnTo>
                      <a:lnTo>
                        <a:pt x="83" y="109"/>
                      </a:lnTo>
                      <a:lnTo>
                        <a:pt x="97" y="78"/>
                      </a:lnTo>
                      <a:lnTo>
                        <a:pt x="97" y="62"/>
                      </a:lnTo>
                      <a:lnTo>
                        <a:pt x="125"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8094600" y="2868480"/>
                  <a:ext cx="125640" cy="168480"/>
                </a:xfrm>
                <a:custGeom>
                  <a:avLst/>
                  <a:gdLst/>
                  <a:ahLst/>
                  <a:rect l="l" t="t" r="r" b="b"/>
                  <a:pathLst>
                    <a:path w="235" h="317">
                      <a:moveTo>
                        <a:pt x="0" y="0"/>
                      </a:moveTo>
                      <a:lnTo>
                        <a:pt x="27" y="17"/>
                      </a:lnTo>
                      <a:lnTo>
                        <a:pt x="41" y="32"/>
                      </a:lnTo>
                      <a:lnTo>
                        <a:pt x="69" y="32"/>
                      </a:lnTo>
                      <a:lnTo>
                        <a:pt x="97" y="64"/>
                      </a:lnTo>
                      <a:lnTo>
                        <a:pt x="110" y="64"/>
                      </a:lnTo>
                      <a:lnTo>
                        <a:pt x="97" y="79"/>
                      </a:lnTo>
                      <a:lnTo>
                        <a:pt x="110" y="79"/>
                      </a:lnTo>
                      <a:lnTo>
                        <a:pt x="110" y="95"/>
                      </a:lnTo>
                      <a:lnTo>
                        <a:pt x="138" y="111"/>
                      </a:lnTo>
                      <a:lnTo>
                        <a:pt x="152" y="127"/>
                      </a:lnTo>
                      <a:lnTo>
                        <a:pt x="166" y="143"/>
                      </a:lnTo>
                      <a:lnTo>
                        <a:pt x="166" y="159"/>
                      </a:lnTo>
                      <a:lnTo>
                        <a:pt x="180" y="143"/>
                      </a:lnTo>
                      <a:lnTo>
                        <a:pt x="193" y="143"/>
                      </a:lnTo>
                      <a:lnTo>
                        <a:pt x="207" y="174"/>
                      </a:lnTo>
                      <a:lnTo>
                        <a:pt x="193" y="206"/>
                      </a:lnTo>
                      <a:lnTo>
                        <a:pt x="207" y="238"/>
                      </a:lnTo>
                      <a:lnTo>
                        <a:pt x="221" y="238"/>
                      </a:lnTo>
                      <a:lnTo>
                        <a:pt x="235" y="253"/>
                      </a:lnTo>
                      <a:lnTo>
                        <a:pt x="221" y="285"/>
                      </a:lnTo>
                      <a:lnTo>
                        <a:pt x="221" y="300"/>
                      </a:lnTo>
                      <a:lnTo>
                        <a:pt x="207" y="317"/>
                      </a:lnTo>
                      <a:lnTo>
                        <a:pt x="193" y="317"/>
                      </a:lnTo>
                      <a:lnTo>
                        <a:pt x="193" y="300"/>
                      </a:lnTo>
                      <a:lnTo>
                        <a:pt x="180" y="300"/>
                      </a:lnTo>
                      <a:lnTo>
                        <a:pt x="166" y="268"/>
                      </a:lnTo>
                      <a:lnTo>
                        <a:pt x="138" y="253"/>
                      </a:lnTo>
                      <a:lnTo>
                        <a:pt x="124" y="221"/>
                      </a:lnTo>
                      <a:lnTo>
                        <a:pt x="124" y="206"/>
                      </a:lnTo>
                      <a:lnTo>
                        <a:pt x="124" y="190"/>
                      </a:lnTo>
                      <a:lnTo>
                        <a:pt x="110" y="174"/>
                      </a:lnTo>
                      <a:lnTo>
                        <a:pt x="110" y="159"/>
                      </a:lnTo>
                      <a:lnTo>
                        <a:pt x="97" y="159"/>
                      </a:lnTo>
                      <a:lnTo>
                        <a:pt x="83" y="159"/>
                      </a:lnTo>
                      <a:lnTo>
                        <a:pt x="83" y="127"/>
                      </a:lnTo>
                      <a:lnTo>
                        <a:pt x="69" y="111"/>
                      </a:lnTo>
                      <a:lnTo>
                        <a:pt x="55" y="95"/>
                      </a:lnTo>
                      <a:lnTo>
                        <a:pt x="55" y="79"/>
                      </a:lnTo>
                      <a:lnTo>
                        <a:pt x="41" y="64"/>
                      </a:lnTo>
                      <a:lnTo>
                        <a:pt x="27" y="64"/>
                      </a:lnTo>
                      <a:lnTo>
                        <a:pt x="27" y="48"/>
                      </a:lnTo>
                      <a:lnTo>
                        <a:pt x="14" y="32"/>
                      </a:lnTo>
                      <a:lnTo>
                        <a:pt x="14" y="17"/>
                      </a:lnTo>
                      <a:lnTo>
                        <a:pt x="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094600" y="2868480"/>
                  <a:ext cx="125640" cy="168480"/>
                </a:xfrm>
                <a:custGeom>
                  <a:avLst/>
                  <a:gdLst/>
                  <a:ahLst/>
                  <a:rect l="l" t="t" r="r" b="b"/>
                  <a:pathLst>
                    <a:path w="235" h="317">
                      <a:moveTo>
                        <a:pt x="0" y="0"/>
                      </a:moveTo>
                      <a:lnTo>
                        <a:pt x="27" y="17"/>
                      </a:lnTo>
                      <a:lnTo>
                        <a:pt x="41" y="32"/>
                      </a:lnTo>
                      <a:lnTo>
                        <a:pt x="69" y="32"/>
                      </a:lnTo>
                      <a:lnTo>
                        <a:pt x="97" y="64"/>
                      </a:lnTo>
                      <a:lnTo>
                        <a:pt x="110" y="64"/>
                      </a:lnTo>
                      <a:lnTo>
                        <a:pt x="97" y="79"/>
                      </a:lnTo>
                      <a:lnTo>
                        <a:pt x="110" y="79"/>
                      </a:lnTo>
                      <a:lnTo>
                        <a:pt x="110" y="95"/>
                      </a:lnTo>
                      <a:lnTo>
                        <a:pt x="138" y="111"/>
                      </a:lnTo>
                      <a:lnTo>
                        <a:pt x="152" y="127"/>
                      </a:lnTo>
                      <a:lnTo>
                        <a:pt x="166" y="143"/>
                      </a:lnTo>
                      <a:lnTo>
                        <a:pt x="166" y="159"/>
                      </a:lnTo>
                      <a:lnTo>
                        <a:pt x="180" y="143"/>
                      </a:lnTo>
                      <a:lnTo>
                        <a:pt x="193" y="143"/>
                      </a:lnTo>
                      <a:lnTo>
                        <a:pt x="207" y="174"/>
                      </a:lnTo>
                      <a:lnTo>
                        <a:pt x="193" y="206"/>
                      </a:lnTo>
                      <a:lnTo>
                        <a:pt x="207" y="238"/>
                      </a:lnTo>
                      <a:lnTo>
                        <a:pt x="221" y="238"/>
                      </a:lnTo>
                      <a:lnTo>
                        <a:pt x="235" y="253"/>
                      </a:lnTo>
                      <a:lnTo>
                        <a:pt x="221" y="285"/>
                      </a:lnTo>
                      <a:lnTo>
                        <a:pt x="221" y="300"/>
                      </a:lnTo>
                      <a:lnTo>
                        <a:pt x="207" y="317"/>
                      </a:lnTo>
                      <a:lnTo>
                        <a:pt x="193" y="317"/>
                      </a:lnTo>
                      <a:lnTo>
                        <a:pt x="193" y="300"/>
                      </a:lnTo>
                      <a:lnTo>
                        <a:pt x="180" y="300"/>
                      </a:lnTo>
                      <a:lnTo>
                        <a:pt x="166" y="268"/>
                      </a:lnTo>
                      <a:lnTo>
                        <a:pt x="138" y="253"/>
                      </a:lnTo>
                      <a:lnTo>
                        <a:pt x="124" y="221"/>
                      </a:lnTo>
                      <a:lnTo>
                        <a:pt x="124" y="206"/>
                      </a:lnTo>
                      <a:lnTo>
                        <a:pt x="124" y="190"/>
                      </a:lnTo>
                      <a:lnTo>
                        <a:pt x="110" y="174"/>
                      </a:lnTo>
                      <a:lnTo>
                        <a:pt x="110" y="159"/>
                      </a:lnTo>
                      <a:lnTo>
                        <a:pt x="97" y="159"/>
                      </a:lnTo>
                      <a:lnTo>
                        <a:pt x="83" y="159"/>
                      </a:lnTo>
                      <a:lnTo>
                        <a:pt x="83" y="127"/>
                      </a:lnTo>
                      <a:lnTo>
                        <a:pt x="69" y="111"/>
                      </a:lnTo>
                      <a:lnTo>
                        <a:pt x="55" y="95"/>
                      </a:lnTo>
                      <a:lnTo>
                        <a:pt x="55" y="79"/>
                      </a:lnTo>
                      <a:lnTo>
                        <a:pt x="41" y="64"/>
                      </a:lnTo>
                      <a:lnTo>
                        <a:pt x="27" y="64"/>
                      </a:lnTo>
                      <a:lnTo>
                        <a:pt x="27" y="48"/>
                      </a:lnTo>
                      <a:lnTo>
                        <a:pt x="14" y="32"/>
                      </a:lnTo>
                      <a:lnTo>
                        <a:pt x="14"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6453360" y="2952720"/>
                  <a:ext cx="28440" cy="25560"/>
                </a:xfrm>
                <a:custGeom>
                  <a:avLst/>
                  <a:gdLst/>
                  <a:ahLst/>
                  <a:rect l="l" t="t" r="r" b="b"/>
                  <a:pathLst>
                    <a:path w="55" h="47">
                      <a:moveTo>
                        <a:pt x="55" y="0"/>
                      </a:moveTo>
                      <a:lnTo>
                        <a:pt x="42" y="31"/>
                      </a:lnTo>
                      <a:lnTo>
                        <a:pt x="28" y="47"/>
                      </a:lnTo>
                      <a:lnTo>
                        <a:pt x="14" y="47"/>
                      </a:lnTo>
                      <a:lnTo>
                        <a:pt x="0" y="47"/>
                      </a:lnTo>
                      <a:lnTo>
                        <a:pt x="0" y="15"/>
                      </a:lnTo>
                      <a:lnTo>
                        <a:pt x="0" y="0"/>
                      </a:lnTo>
                      <a:lnTo>
                        <a:pt x="14" y="0"/>
                      </a:lnTo>
                      <a:lnTo>
                        <a:pt x="28" y="0"/>
                      </a:lnTo>
                      <a:lnTo>
                        <a:pt x="55" y="0"/>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0" name=""/>
                <p:cNvSpPr/>
                <p:nvPr/>
              </p:nvSpPr>
              <p:spPr>
                <a:xfrm>
                  <a:off x="6453360" y="2952720"/>
                  <a:ext cx="28440" cy="25560"/>
                </a:xfrm>
                <a:custGeom>
                  <a:avLst/>
                  <a:gdLst/>
                  <a:ahLst/>
                  <a:rect l="l" t="t" r="r" b="b"/>
                  <a:pathLst>
                    <a:path w="55" h="47">
                      <a:moveTo>
                        <a:pt x="55" y="0"/>
                      </a:moveTo>
                      <a:lnTo>
                        <a:pt x="42" y="31"/>
                      </a:lnTo>
                      <a:lnTo>
                        <a:pt x="28" y="47"/>
                      </a:lnTo>
                      <a:lnTo>
                        <a:pt x="14" y="47"/>
                      </a:lnTo>
                      <a:lnTo>
                        <a:pt x="0" y="47"/>
                      </a:lnTo>
                      <a:lnTo>
                        <a:pt x="0" y="15"/>
                      </a:lnTo>
                      <a:lnTo>
                        <a:pt x="0" y="0"/>
                      </a:lnTo>
                      <a:lnTo>
                        <a:pt x="14" y="0"/>
                      </a:lnTo>
                      <a:lnTo>
                        <a:pt x="28" y="0"/>
                      </a:lnTo>
                      <a:lnTo>
                        <a:pt x="5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1" name=""/>
                <p:cNvSpPr/>
                <p:nvPr/>
              </p:nvSpPr>
              <p:spPr>
                <a:xfrm>
                  <a:off x="6437160" y="2968560"/>
                  <a:ext cx="7920" cy="9720"/>
                </a:xfrm>
                <a:custGeom>
                  <a:avLst/>
                  <a:gdLst/>
                  <a:ahLst/>
                  <a:rect l="l" t="t" r="r" b="b"/>
                  <a:pathLst>
                    <a:path w="14" h="16">
                      <a:moveTo>
                        <a:pt x="14" y="0"/>
                      </a:moveTo>
                      <a:lnTo>
                        <a:pt x="0" y="0"/>
                      </a:lnTo>
                      <a:lnTo>
                        <a:pt x="0" y="16"/>
                      </a:lnTo>
                      <a:lnTo>
                        <a:pt x="0" y="0"/>
                      </a:lnTo>
                      <a:lnTo>
                        <a:pt x="14" y="0"/>
                      </a:lnTo>
                      <a:close/>
                    </a:path>
                  </a:pathLst>
                </a:custGeom>
                <a:solidFill>
                  <a:srgbClr val="00937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2" name=""/>
                <p:cNvSpPr/>
                <p:nvPr/>
              </p:nvSpPr>
              <p:spPr>
                <a:xfrm>
                  <a:off x="6437160" y="2968560"/>
                  <a:ext cx="7920" cy="9720"/>
                </a:xfrm>
                <a:custGeom>
                  <a:avLst/>
                  <a:gdLst/>
                  <a:ahLst/>
                  <a:rect l="l" t="t" r="r" b="b"/>
                  <a:pathLst>
                    <a:path w="14" h="16">
                      <a:moveTo>
                        <a:pt x="14" y="0"/>
                      </a:moveTo>
                      <a:lnTo>
                        <a:pt x="0" y="0"/>
                      </a:lnTo>
                      <a:lnTo>
                        <a:pt x="0" y="16"/>
                      </a:lnTo>
                      <a:lnTo>
                        <a:pt x="0" y="0"/>
                      </a:lnTo>
                      <a:lnTo>
                        <a:pt x="14"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3" name=""/>
                <p:cNvSpPr/>
                <p:nvPr/>
              </p:nvSpPr>
              <p:spPr>
                <a:xfrm>
                  <a:off x="8372520" y="2935440"/>
                  <a:ext cx="52200" cy="101520"/>
                </a:xfrm>
                <a:custGeom>
                  <a:avLst/>
                  <a:gdLst/>
                  <a:ahLst/>
                  <a:rect l="l" t="t" r="r" b="b"/>
                  <a:pathLst>
                    <a:path w="97" h="190">
                      <a:moveTo>
                        <a:pt x="0" y="190"/>
                      </a:moveTo>
                      <a:lnTo>
                        <a:pt x="0" y="173"/>
                      </a:lnTo>
                      <a:lnTo>
                        <a:pt x="0" y="158"/>
                      </a:lnTo>
                      <a:lnTo>
                        <a:pt x="0" y="141"/>
                      </a:lnTo>
                      <a:lnTo>
                        <a:pt x="0" y="94"/>
                      </a:lnTo>
                      <a:lnTo>
                        <a:pt x="0" y="47"/>
                      </a:lnTo>
                      <a:lnTo>
                        <a:pt x="0" y="16"/>
                      </a:lnTo>
                      <a:lnTo>
                        <a:pt x="14" y="16"/>
                      </a:lnTo>
                      <a:lnTo>
                        <a:pt x="14" y="0"/>
                      </a:lnTo>
                      <a:lnTo>
                        <a:pt x="42" y="16"/>
                      </a:lnTo>
                      <a:lnTo>
                        <a:pt x="70" y="16"/>
                      </a:lnTo>
                      <a:lnTo>
                        <a:pt x="97" y="16"/>
                      </a:lnTo>
                      <a:lnTo>
                        <a:pt x="83" y="16"/>
                      </a:lnTo>
                      <a:lnTo>
                        <a:pt x="83" y="32"/>
                      </a:lnTo>
                      <a:lnTo>
                        <a:pt x="56" y="32"/>
                      </a:lnTo>
                      <a:lnTo>
                        <a:pt x="42" y="47"/>
                      </a:lnTo>
                      <a:lnTo>
                        <a:pt x="14" y="63"/>
                      </a:lnTo>
                      <a:lnTo>
                        <a:pt x="28" y="63"/>
                      </a:lnTo>
                      <a:lnTo>
                        <a:pt x="28" y="79"/>
                      </a:lnTo>
                      <a:lnTo>
                        <a:pt x="42" y="94"/>
                      </a:lnTo>
                      <a:lnTo>
                        <a:pt x="56" y="126"/>
                      </a:lnTo>
                      <a:lnTo>
                        <a:pt x="70" y="158"/>
                      </a:lnTo>
                      <a:lnTo>
                        <a:pt x="56" y="158"/>
                      </a:lnTo>
                      <a:lnTo>
                        <a:pt x="42" y="158"/>
                      </a:lnTo>
                      <a:lnTo>
                        <a:pt x="28" y="126"/>
                      </a:lnTo>
                      <a:lnTo>
                        <a:pt x="28" y="111"/>
                      </a:lnTo>
                      <a:lnTo>
                        <a:pt x="14" y="111"/>
                      </a:lnTo>
                      <a:lnTo>
                        <a:pt x="14" y="126"/>
                      </a:lnTo>
                      <a:lnTo>
                        <a:pt x="14" y="158"/>
                      </a:lnTo>
                      <a:lnTo>
                        <a:pt x="0" y="173"/>
                      </a:lnTo>
                      <a:lnTo>
                        <a:pt x="0" y="19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8372520" y="2935440"/>
                  <a:ext cx="52200" cy="101520"/>
                </a:xfrm>
                <a:custGeom>
                  <a:avLst/>
                  <a:gdLst/>
                  <a:ahLst/>
                  <a:rect l="l" t="t" r="r" b="b"/>
                  <a:pathLst>
                    <a:path w="97" h="190">
                      <a:moveTo>
                        <a:pt x="0" y="190"/>
                      </a:moveTo>
                      <a:lnTo>
                        <a:pt x="0" y="173"/>
                      </a:lnTo>
                      <a:lnTo>
                        <a:pt x="0" y="158"/>
                      </a:lnTo>
                      <a:lnTo>
                        <a:pt x="0" y="141"/>
                      </a:lnTo>
                      <a:lnTo>
                        <a:pt x="0" y="94"/>
                      </a:lnTo>
                      <a:lnTo>
                        <a:pt x="0" y="47"/>
                      </a:lnTo>
                      <a:lnTo>
                        <a:pt x="0" y="16"/>
                      </a:lnTo>
                      <a:lnTo>
                        <a:pt x="14" y="16"/>
                      </a:lnTo>
                      <a:lnTo>
                        <a:pt x="14" y="0"/>
                      </a:lnTo>
                      <a:lnTo>
                        <a:pt x="42" y="16"/>
                      </a:lnTo>
                      <a:lnTo>
                        <a:pt x="70" y="16"/>
                      </a:lnTo>
                      <a:lnTo>
                        <a:pt x="97" y="16"/>
                      </a:lnTo>
                      <a:lnTo>
                        <a:pt x="83" y="16"/>
                      </a:lnTo>
                      <a:lnTo>
                        <a:pt x="83" y="32"/>
                      </a:lnTo>
                      <a:lnTo>
                        <a:pt x="56" y="32"/>
                      </a:lnTo>
                      <a:lnTo>
                        <a:pt x="42" y="47"/>
                      </a:lnTo>
                      <a:lnTo>
                        <a:pt x="14" y="63"/>
                      </a:lnTo>
                      <a:lnTo>
                        <a:pt x="28" y="63"/>
                      </a:lnTo>
                      <a:lnTo>
                        <a:pt x="28" y="79"/>
                      </a:lnTo>
                      <a:lnTo>
                        <a:pt x="42" y="94"/>
                      </a:lnTo>
                      <a:lnTo>
                        <a:pt x="56" y="126"/>
                      </a:lnTo>
                      <a:lnTo>
                        <a:pt x="70" y="158"/>
                      </a:lnTo>
                      <a:lnTo>
                        <a:pt x="56" y="158"/>
                      </a:lnTo>
                      <a:lnTo>
                        <a:pt x="42" y="158"/>
                      </a:lnTo>
                      <a:lnTo>
                        <a:pt x="28" y="126"/>
                      </a:lnTo>
                      <a:lnTo>
                        <a:pt x="28" y="111"/>
                      </a:lnTo>
                      <a:lnTo>
                        <a:pt x="14" y="111"/>
                      </a:lnTo>
                      <a:lnTo>
                        <a:pt x="14" y="126"/>
                      </a:lnTo>
                      <a:lnTo>
                        <a:pt x="14" y="158"/>
                      </a:lnTo>
                      <a:lnTo>
                        <a:pt x="0" y="173"/>
                      </a:lnTo>
                      <a:lnTo>
                        <a:pt x="0" y="1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8211960" y="2978280"/>
                  <a:ext cx="8280" cy="7920"/>
                </a:xfrm>
                <a:custGeom>
                  <a:avLst/>
                  <a:gdLst/>
                  <a:ahLst/>
                  <a:rect l="l" t="t" r="r" b="b"/>
                  <a:pathLst>
                    <a:path w="14" h="15">
                      <a:moveTo>
                        <a:pt x="14" y="0"/>
                      </a:moveTo>
                      <a:lnTo>
                        <a:pt x="0" y="0"/>
                      </a:lnTo>
                      <a:lnTo>
                        <a:pt x="0" y="15"/>
                      </a:lnTo>
                      <a:lnTo>
                        <a:pt x="0" y="0"/>
                      </a:lnTo>
                      <a:lnTo>
                        <a:pt x="14" y="0"/>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6" name=""/>
                <p:cNvSpPr/>
                <p:nvPr/>
              </p:nvSpPr>
              <p:spPr>
                <a:xfrm>
                  <a:off x="8211960" y="2978280"/>
                  <a:ext cx="8280" cy="7920"/>
                </a:xfrm>
                <a:custGeom>
                  <a:avLst/>
                  <a:gdLst/>
                  <a:ahLst/>
                  <a:rect l="l" t="t" r="r" b="b"/>
                  <a:pathLst>
                    <a:path w="14" h="15">
                      <a:moveTo>
                        <a:pt x="14" y="0"/>
                      </a:moveTo>
                      <a:lnTo>
                        <a:pt x="0" y="0"/>
                      </a:lnTo>
                      <a:lnTo>
                        <a:pt x="0" y="15"/>
                      </a:lnTo>
                      <a:lnTo>
                        <a:pt x="0" y="0"/>
                      </a:lnTo>
                      <a:lnTo>
                        <a:pt x="14"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a:off x="8724960" y="2986200"/>
                  <a:ext cx="30240" cy="23760"/>
                </a:xfrm>
                <a:custGeom>
                  <a:avLst/>
                  <a:gdLst/>
                  <a:ahLst/>
                  <a:rect l="l" t="t" r="r" b="b"/>
                  <a:pathLst>
                    <a:path w="55" h="47">
                      <a:moveTo>
                        <a:pt x="0" y="0"/>
                      </a:moveTo>
                      <a:lnTo>
                        <a:pt x="27" y="17"/>
                      </a:lnTo>
                      <a:lnTo>
                        <a:pt x="41" y="32"/>
                      </a:lnTo>
                      <a:lnTo>
                        <a:pt x="55" y="47"/>
                      </a:lnTo>
                      <a:lnTo>
                        <a:pt x="27" y="32"/>
                      </a:lnTo>
                      <a:lnTo>
                        <a:pt x="14" y="17"/>
                      </a:lnTo>
                      <a:lnTo>
                        <a:pt x="0" y="0"/>
                      </a:lnTo>
                      <a:close/>
                    </a:path>
                  </a:pathLst>
                </a:custGeom>
                <a:solidFill>
                  <a:srgbClr val="00937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8" name=""/>
                <p:cNvSpPr/>
                <p:nvPr/>
              </p:nvSpPr>
              <p:spPr>
                <a:xfrm>
                  <a:off x="8724960" y="2986200"/>
                  <a:ext cx="30240" cy="23760"/>
                </a:xfrm>
                <a:custGeom>
                  <a:avLst/>
                  <a:gdLst/>
                  <a:ahLst/>
                  <a:rect l="l" t="t" r="r" b="b"/>
                  <a:pathLst>
                    <a:path w="55" h="47">
                      <a:moveTo>
                        <a:pt x="0" y="0"/>
                      </a:moveTo>
                      <a:lnTo>
                        <a:pt x="27" y="17"/>
                      </a:lnTo>
                      <a:lnTo>
                        <a:pt x="41" y="32"/>
                      </a:lnTo>
                      <a:lnTo>
                        <a:pt x="55" y="47"/>
                      </a:lnTo>
                      <a:lnTo>
                        <a:pt x="27" y="32"/>
                      </a:lnTo>
                      <a:lnTo>
                        <a:pt x="14" y="1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9" name=""/>
                <p:cNvSpPr/>
                <p:nvPr/>
              </p:nvSpPr>
              <p:spPr>
                <a:xfrm>
                  <a:off x="8497800" y="2960640"/>
                  <a:ext cx="227160" cy="142920"/>
                </a:xfrm>
                <a:custGeom>
                  <a:avLst/>
                  <a:gdLst/>
                  <a:ahLst/>
                  <a:rect l="l" t="t" r="r" b="b"/>
                  <a:pathLst>
                    <a:path w="430" h="269">
                      <a:moveTo>
                        <a:pt x="222" y="237"/>
                      </a:moveTo>
                      <a:lnTo>
                        <a:pt x="208" y="222"/>
                      </a:lnTo>
                      <a:lnTo>
                        <a:pt x="181" y="222"/>
                      </a:lnTo>
                      <a:lnTo>
                        <a:pt x="181" y="205"/>
                      </a:lnTo>
                      <a:lnTo>
                        <a:pt x="167" y="190"/>
                      </a:lnTo>
                      <a:lnTo>
                        <a:pt x="167" y="158"/>
                      </a:lnTo>
                      <a:lnTo>
                        <a:pt x="167" y="126"/>
                      </a:lnTo>
                      <a:lnTo>
                        <a:pt x="153" y="126"/>
                      </a:lnTo>
                      <a:lnTo>
                        <a:pt x="125" y="111"/>
                      </a:lnTo>
                      <a:lnTo>
                        <a:pt x="98" y="111"/>
                      </a:lnTo>
                      <a:lnTo>
                        <a:pt x="98" y="94"/>
                      </a:lnTo>
                      <a:lnTo>
                        <a:pt x="84" y="94"/>
                      </a:lnTo>
                      <a:lnTo>
                        <a:pt x="84" y="79"/>
                      </a:lnTo>
                      <a:lnTo>
                        <a:pt x="84" y="64"/>
                      </a:lnTo>
                      <a:lnTo>
                        <a:pt x="70" y="64"/>
                      </a:lnTo>
                      <a:lnTo>
                        <a:pt x="56" y="64"/>
                      </a:lnTo>
                      <a:lnTo>
                        <a:pt x="42" y="64"/>
                      </a:lnTo>
                      <a:lnTo>
                        <a:pt x="56" y="47"/>
                      </a:lnTo>
                      <a:lnTo>
                        <a:pt x="70" y="47"/>
                      </a:lnTo>
                      <a:lnTo>
                        <a:pt x="84" y="47"/>
                      </a:lnTo>
                      <a:lnTo>
                        <a:pt x="56" y="32"/>
                      </a:lnTo>
                      <a:lnTo>
                        <a:pt x="42" y="32"/>
                      </a:lnTo>
                      <a:lnTo>
                        <a:pt x="0" y="16"/>
                      </a:lnTo>
                      <a:lnTo>
                        <a:pt x="15" y="0"/>
                      </a:lnTo>
                      <a:lnTo>
                        <a:pt x="42" y="0"/>
                      </a:lnTo>
                      <a:lnTo>
                        <a:pt x="56" y="0"/>
                      </a:lnTo>
                      <a:lnTo>
                        <a:pt x="70" y="16"/>
                      </a:lnTo>
                      <a:lnTo>
                        <a:pt x="84" y="16"/>
                      </a:lnTo>
                      <a:lnTo>
                        <a:pt x="98" y="47"/>
                      </a:lnTo>
                      <a:lnTo>
                        <a:pt x="98" y="79"/>
                      </a:lnTo>
                      <a:lnTo>
                        <a:pt x="112" y="79"/>
                      </a:lnTo>
                      <a:lnTo>
                        <a:pt x="125" y="47"/>
                      </a:lnTo>
                      <a:lnTo>
                        <a:pt x="139" y="32"/>
                      </a:lnTo>
                      <a:lnTo>
                        <a:pt x="167" y="32"/>
                      </a:lnTo>
                      <a:lnTo>
                        <a:pt x="181" y="32"/>
                      </a:lnTo>
                      <a:lnTo>
                        <a:pt x="195" y="32"/>
                      </a:lnTo>
                      <a:lnTo>
                        <a:pt x="208" y="47"/>
                      </a:lnTo>
                      <a:lnTo>
                        <a:pt x="236" y="64"/>
                      </a:lnTo>
                      <a:lnTo>
                        <a:pt x="264" y="79"/>
                      </a:lnTo>
                      <a:lnTo>
                        <a:pt x="305" y="94"/>
                      </a:lnTo>
                      <a:lnTo>
                        <a:pt x="319" y="111"/>
                      </a:lnTo>
                      <a:lnTo>
                        <a:pt x="333" y="111"/>
                      </a:lnTo>
                      <a:lnTo>
                        <a:pt x="347" y="126"/>
                      </a:lnTo>
                      <a:lnTo>
                        <a:pt x="347" y="143"/>
                      </a:lnTo>
                      <a:lnTo>
                        <a:pt x="361" y="143"/>
                      </a:lnTo>
                      <a:lnTo>
                        <a:pt x="361" y="158"/>
                      </a:lnTo>
                      <a:lnTo>
                        <a:pt x="361" y="173"/>
                      </a:lnTo>
                      <a:lnTo>
                        <a:pt x="347" y="190"/>
                      </a:lnTo>
                      <a:lnTo>
                        <a:pt x="361" y="190"/>
                      </a:lnTo>
                      <a:lnTo>
                        <a:pt x="361" y="205"/>
                      </a:lnTo>
                      <a:lnTo>
                        <a:pt x="374" y="205"/>
                      </a:lnTo>
                      <a:lnTo>
                        <a:pt x="374" y="222"/>
                      </a:lnTo>
                      <a:lnTo>
                        <a:pt x="374" y="237"/>
                      </a:lnTo>
                      <a:lnTo>
                        <a:pt x="388" y="237"/>
                      </a:lnTo>
                      <a:lnTo>
                        <a:pt x="416" y="252"/>
                      </a:lnTo>
                      <a:lnTo>
                        <a:pt x="430" y="269"/>
                      </a:lnTo>
                      <a:lnTo>
                        <a:pt x="416" y="269"/>
                      </a:lnTo>
                      <a:lnTo>
                        <a:pt x="388" y="252"/>
                      </a:lnTo>
                      <a:lnTo>
                        <a:pt x="361" y="252"/>
                      </a:lnTo>
                      <a:lnTo>
                        <a:pt x="347" y="237"/>
                      </a:lnTo>
                      <a:lnTo>
                        <a:pt x="333" y="222"/>
                      </a:lnTo>
                      <a:lnTo>
                        <a:pt x="319" y="205"/>
                      </a:lnTo>
                      <a:lnTo>
                        <a:pt x="291" y="190"/>
                      </a:lnTo>
                      <a:lnTo>
                        <a:pt x="250" y="190"/>
                      </a:lnTo>
                      <a:lnTo>
                        <a:pt x="236" y="190"/>
                      </a:lnTo>
                      <a:lnTo>
                        <a:pt x="222" y="190"/>
                      </a:lnTo>
                      <a:lnTo>
                        <a:pt x="236" y="190"/>
                      </a:lnTo>
                      <a:lnTo>
                        <a:pt x="236" y="205"/>
                      </a:lnTo>
                      <a:lnTo>
                        <a:pt x="250" y="222"/>
                      </a:lnTo>
                      <a:lnTo>
                        <a:pt x="264" y="222"/>
                      </a:lnTo>
                      <a:lnTo>
                        <a:pt x="264" y="237"/>
                      </a:lnTo>
                      <a:lnTo>
                        <a:pt x="250" y="237"/>
                      </a:lnTo>
                      <a:lnTo>
                        <a:pt x="236" y="237"/>
                      </a:lnTo>
                      <a:lnTo>
                        <a:pt x="222" y="237"/>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8497800" y="2960640"/>
                  <a:ext cx="227160" cy="142920"/>
                </a:xfrm>
                <a:custGeom>
                  <a:avLst/>
                  <a:gdLst/>
                  <a:ahLst/>
                  <a:rect l="l" t="t" r="r" b="b"/>
                  <a:pathLst>
                    <a:path w="430" h="269">
                      <a:moveTo>
                        <a:pt x="222" y="237"/>
                      </a:moveTo>
                      <a:lnTo>
                        <a:pt x="208" y="222"/>
                      </a:lnTo>
                      <a:lnTo>
                        <a:pt x="181" y="222"/>
                      </a:lnTo>
                      <a:lnTo>
                        <a:pt x="181" y="205"/>
                      </a:lnTo>
                      <a:lnTo>
                        <a:pt x="167" y="190"/>
                      </a:lnTo>
                      <a:lnTo>
                        <a:pt x="167" y="158"/>
                      </a:lnTo>
                      <a:lnTo>
                        <a:pt x="167" y="126"/>
                      </a:lnTo>
                      <a:lnTo>
                        <a:pt x="153" y="126"/>
                      </a:lnTo>
                      <a:lnTo>
                        <a:pt x="125" y="111"/>
                      </a:lnTo>
                      <a:lnTo>
                        <a:pt x="98" y="111"/>
                      </a:lnTo>
                      <a:lnTo>
                        <a:pt x="98" y="94"/>
                      </a:lnTo>
                      <a:lnTo>
                        <a:pt x="84" y="94"/>
                      </a:lnTo>
                      <a:lnTo>
                        <a:pt x="84" y="79"/>
                      </a:lnTo>
                      <a:lnTo>
                        <a:pt x="84" y="64"/>
                      </a:lnTo>
                      <a:lnTo>
                        <a:pt x="70" y="64"/>
                      </a:lnTo>
                      <a:lnTo>
                        <a:pt x="56" y="64"/>
                      </a:lnTo>
                      <a:lnTo>
                        <a:pt x="42" y="64"/>
                      </a:lnTo>
                      <a:lnTo>
                        <a:pt x="56" y="47"/>
                      </a:lnTo>
                      <a:lnTo>
                        <a:pt x="70" y="47"/>
                      </a:lnTo>
                      <a:lnTo>
                        <a:pt x="84" y="47"/>
                      </a:lnTo>
                      <a:lnTo>
                        <a:pt x="56" y="32"/>
                      </a:lnTo>
                      <a:lnTo>
                        <a:pt x="42" y="32"/>
                      </a:lnTo>
                      <a:lnTo>
                        <a:pt x="0" y="16"/>
                      </a:lnTo>
                      <a:lnTo>
                        <a:pt x="15" y="0"/>
                      </a:lnTo>
                      <a:lnTo>
                        <a:pt x="42" y="0"/>
                      </a:lnTo>
                      <a:lnTo>
                        <a:pt x="56" y="0"/>
                      </a:lnTo>
                      <a:lnTo>
                        <a:pt x="70" y="16"/>
                      </a:lnTo>
                      <a:lnTo>
                        <a:pt x="84" y="16"/>
                      </a:lnTo>
                      <a:lnTo>
                        <a:pt x="98" y="47"/>
                      </a:lnTo>
                      <a:lnTo>
                        <a:pt x="98" y="79"/>
                      </a:lnTo>
                      <a:lnTo>
                        <a:pt x="112" y="79"/>
                      </a:lnTo>
                      <a:lnTo>
                        <a:pt x="125" y="47"/>
                      </a:lnTo>
                      <a:lnTo>
                        <a:pt x="139" y="32"/>
                      </a:lnTo>
                      <a:lnTo>
                        <a:pt x="167" y="32"/>
                      </a:lnTo>
                      <a:lnTo>
                        <a:pt x="181" y="32"/>
                      </a:lnTo>
                      <a:lnTo>
                        <a:pt x="195" y="32"/>
                      </a:lnTo>
                      <a:lnTo>
                        <a:pt x="208" y="47"/>
                      </a:lnTo>
                      <a:lnTo>
                        <a:pt x="236" y="64"/>
                      </a:lnTo>
                      <a:lnTo>
                        <a:pt x="264" y="79"/>
                      </a:lnTo>
                      <a:lnTo>
                        <a:pt x="305" y="94"/>
                      </a:lnTo>
                      <a:lnTo>
                        <a:pt x="319" y="111"/>
                      </a:lnTo>
                      <a:lnTo>
                        <a:pt x="333" y="111"/>
                      </a:lnTo>
                      <a:lnTo>
                        <a:pt x="347" y="126"/>
                      </a:lnTo>
                      <a:lnTo>
                        <a:pt x="347" y="143"/>
                      </a:lnTo>
                      <a:lnTo>
                        <a:pt x="361" y="143"/>
                      </a:lnTo>
                      <a:lnTo>
                        <a:pt x="361" y="158"/>
                      </a:lnTo>
                      <a:lnTo>
                        <a:pt x="361" y="173"/>
                      </a:lnTo>
                      <a:lnTo>
                        <a:pt x="347" y="190"/>
                      </a:lnTo>
                      <a:lnTo>
                        <a:pt x="361" y="190"/>
                      </a:lnTo>
                      <a:lnTo>
                        <a:pt x="361" y="205"/>
                      </a:lnTo>
                      <a:lnTo>
                        <a:pt x="374" y="205"/>
                      </a:lnTo>
                      <a:lnTo>
                        <a:pt x="374" y="222"/>
                      </a:lnTo>
                      <a:lnTo>
                        <a:pt x="374" y="237"/>
                      </a:lnTo>
                      <a:lnTo>
                        <a:pt x="388" y="237"/>
                      </a:lnTo>
                      <a:lnTo>
                        <a:pt x="416" y="252"/>
                      </a:lnTo>
                      <a:lnTo>
                        <a:pt x="430" y="269"/>
                      </a:lnTo>
                      <a:lnTo>
                        <a:pt x="416" y="269"/>
                      </a:lnTo>
                      <a:lnTo>
                        <a:pt x="388" y="252"/>
                      </a:lnTo>
                      <a:lnTo>
                        <a:pt x="361" y="252"/>
                      </a:lnTo>
                      <a:lnTo>
                        <a:pt x="347" y="237"/>
                      </a:lnTo>
                      <a:lnTo>
                        <a:pt x="333" y="222"/>
                      </a:lnTo>
                      <a:lnTo>
                        <a:pt x="319" y="205"/>
                      </a:lnTo>
                      <a:lnTo>
                        <a:pt x="291" y="190"/>
                      </a:lnTo>
                      <a:lnTo>
                        <a:pt x="250" y="190"/>
                      </a:lnTo>
                      <a:lnTo>
                        <a:pt x="236" y="190"/>
                      </a:lnTo>
                      <a:lnTo>
                        <a:pt x="222" y="190"/>
                      </a:lnTo>
                      <a:lnTo>
                        <a:pt x="236" y="190"/>
                      </a:lnTo>
                      <a:lnTo>
                        <a:pt x="236" y="205"/>
                      </a:lnTo>
                      <a:lnTo>
                        <a:pt x="250" y="222"/>
                      </a:lnTo>
                      <a:lnTo>
                        <a:pt x="264" y="222"/>
                      </a:lnTo>
                      <a:lnTo>
                        <a:pt x="264" y="237"/>
                      </a:lnTo>
                      <a:lnTo>
                        <a:pt x="250" y="237"/>
                      </a:lnTo>
                      <a:lnTo>
                        <a:pt x="236" y="237"/>
                      </a:lnTo>
                      <a:lnTo>
                        <a:pt x="222" y="2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204040" y="3036960"/>
                  <a:ext cx="111240" cy="41040"/>
                </a:xfrm>
                <a:custGeom>
                  <a:avLst/>
                  <a:gdLst/>
                  <a:ahLst/>
                  <a:rect l="l" t="t" r="r" b="b"/>
                  <a:pathLst>
                    <a:path w="208" h="79">
                      <a:moveTo>
                        <a:pt x="97" y="62"/>
                      </a:moveTo>
                      <a:lnTo>
                        <a:pt x="83" y="47"/>
                      </a:lnTo>
                      <a:lnTo>
                        <a:pt x="56" y="47"/>
                      </a:lnTo>
                      <a:lnTo>
                        <a:pt x="28" y="47"/>
                      </a:lnTo>
                      <a:lnTo>
                        <a:pt x="0" y="30"/>
                      </a:lnTo>
                      <a:lnTo>
                        <a:pt x="14" y="15"/>
                      </a:lnTo>
                      <a:lnTo>
                        <a:pt x="42" y="0"/>
                      </a:lnTo>
                      <a:lnTo>
                        <a:pt x="69" y="0"/>
                      </a:lnTo>
                      <a:lnTo>
                        <a:pt x="97" y="0"/>
                      </a:lnTo>
                      <a:lnTo>
                        <a:pt x="83" y="0"/>
                      </a:lnTo>
                      <a:lnTo>
                        <a:pt x="69" y="15"/>
                      </a:lnTo>
                      <a:lnTo>
                        <a:pt x="69" y="30"/>
                      </a:lnTo>
                      <a:lnTo>
                        <a:pt x="83" y="30"/>
                      </a:lnTo>
                      <a:lnTo>
                        <a:pt x="97" y="30"/>
                      </a:lnTo>
                      <a:lnTo>
                        <a:pt x="111" y="15"/>
                      </a:lnTo>
                      <a:lnTo>
                        <a:pt x="125" y="15"/>
                      </a:lnTo>
                      <a:lnTo>
                        <a:pt x="152" y="30"/>
                      </a:lnTo>
                      <a:lnTo>
                        <a:pt x="180" y="30"/>
                      </a:lnTo>
                      <a:lnTo>
                        <a:pt x="194" y="47"/>
                      </a:lnTo>
                      <a:lnTo>
                        <a:pt x="208" y="62"/>
                      </a:lnTo>
                      <a:lnTo>
                        <a:pt x="208" y="79"/>
                      </a:lnTo>
                      <a:lnTo>
                        <a:pt x="194" y="79"/>
                      </a:lnTo>
                      <a:lnTo>
                        <a:pt x="180" y="79"/>
                      </a:lnTo>
                      <a:lnTo>
                        <a:pt x="166" y="62"/>
                      </a:lnTo>
                      <a:lnTo>
                        <a:pt x="166" y="79"/>
                      </a:lnTo>
                      <a:lnTo>
                        <a:pt x="139" y="62"/>
                      </a:lnTo>
                      <a:lnTo>
                        <a:pt x="125" y="62"/>
                      </a:lnTo>
                      <a:lnTo>
                        <a:pt x="97" y="62"/>
                      </a:lnTo>
                      <a:close/>
                    </a:path>
                  </a:pathLst>
                </a:custGeom>
                <a:solidFill>
                  <a:srgbClr val="00937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2" name=""/>
                <p:cNvSpPr/>
                <p:nvPr/>
              </p:nvSpPr>
              <p:spPr>
                <a:xfrm>
                  <a:off x="8204040" y="3036960"/>
                  <a:ext cx="111240" cy="41040"/>
                </a:xfrm>
                <a:custGeom>
                  <a:avLst/>
                  <a:gdLst/>
                  <a:ahLst/>
                  <a:rect l="l" t="t" r="r" b="b"/>
                  <a:pathLst>
                    <a:path w="208" h="79">
                      <a:moveTo>
                        <a:pt x="97" y="62"/>
                      </a:moveTo>
                      <a:lnTo>
                        <a:pt x="83" y="47"/>
                      </a:lnTo>
                      <a:lnTo>
                        <a:pt x="56" y="47"/>
                      </a:lnTo>
                      <a:lnTo>
                        <a:pt x="28" y="47"/>
                      </a:lnTo>
                      <a:lnTo>
                        <a:pt x="0" y="30"/>
                      </a:lnTo>
                      <a:lnTo>
                        <a:pt x="14" y="15"/>
                      </a:lnTo>
                      <a:lnTo>
                        <a:pt x="42" y="0"/>
                      </a:lnTo>
                      <a:lnTo>
                        <a:pt x="69" y="0"/>
                      </a:lnTo>
                      <a:lnTo>
                        <a:pt x="97" y="0"/>
                      </a:lnTo>
                      <a:lnTo>
                        <a:pt x="83" y="0"/>
                      </a:lnTo>
                      <a:lnTo>
                        <a:pt x="69" y="15"/>
                      </a:lnTo>
                      <a:lnTo>
                        <a:pt x="69" y="30"/>
                      </a:lnTo>
                      <a:lnTo>
                        <a:pt x="83" y="30"/>
                      </a:lnTo>
                      <a:lnTo>
                        <a:pt x="97" y="30"/>
                      </a:lnTo>
                      <a:lnTo>
                        <a:pt x="111" y="15"/>
                      </a:lnTo>
                      <a:lnTo>
                        <a:pt x="125" y="15"/>
                      </a:lnTo>
                      <a:lnTo>
                        <a:pt x="152" y="30"/>
                      </a:lnTo>
                      <a:lnTo>
                        <a:pt x="180" y="30"/>
                      </a:lnTo>
                      <a:lnTo>
                        <a:pt x="194" y="47"/>
                      </a:lnTo>
                      <a:lnTo>
                        <a:pt x="208" y="62"/>
                      </a:lnTo>
                      <a:lnTo>
                        <a:pt x="208" y="79"/>
                      </a:lnTo>
                      <a:lnTo>
                        <a:pt x="194" y="79"/>
                      </a:lnTo>
                      <a:lnTo>
                        <a:pt x="180" y="79"/>
                      </a:lnTo>
                      <a:lnTo>
                        <a:pt x="166" y="62"/>
                      </a:lnTo>
                      <a:lnTo>
                        <a:pt x="166" y="79"/>
                      </a:lnTo>
                      <a:lnTo>
                        <a:pt x="139" y="62"/>
                      </a:lnTo>
                      <a:lnTo>
                        <a:pt x="125" y="62"/>
                      </a:lnTo>
                      <a:lnTo>
                        <a:pt x="97" y="6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3" name=""/>
                <p:cNvSpPr/>
                <p:nvPr/>
              </p:nvSpPr>
              <p:spPr>
                <a:xfrm>
                  <a:off x="8372520" y="3068640"/>
                  <a:ext cx="7920" cy="17640"/>
                </a:xfrm>
                <a:custGeom>
                  <a:avLst/>
                  <a:gdLst/>
                  <a:ahLst/>
                  <a:rect l="l" t="t" r="r" b="b"/>
                  <a:pathLst>
                    <a:path w="14" h="32">
                      <a:moveTo>
                        <a:pt x="0" y="0"/>
                      </a:moveTo>
                      <a:lnTo>
                        <a:pt x="14" y="17"/>
                      </a:lnTo>
                      <a:lnTo>
                        <a:pt x="14" y="32"/>
                      </a:lnTo>
                      <a:lnTo>
                        <a:pt x="0" y="32"/>
                      </a:lnTo>
                      <a:lnTo>
                        <a:pt x="0" y="17"/>
                      </a:lnTo>
                      <a:lnTo>
                        <a:pt x="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4" name=""/>
                <p:cNvSpPr/>
                <p:nvPr/>
              </p:nvSpPr>
              <p:spPr>
                <a:xfrm>
                  <a:off x="8372520" y="3068640"/>
                  <a:ext cx="7920" cy="17640"/>
                </a:xfrm>
                <a:custGeom>
                  <a:avLst/>
                  <a:gdLst/>
                  <a:ahLst/>
                  <a:rect l="l" t="t" r="r" b="b"/>
                  <a:pathLst>
                    <a:path w="14" h="32">
                      <a:moveTo>
                        <a:pt x="0" y="0"/>
                      </a:moveTo>
                      <a:lnTo>
                        <a:pt x="14" y="17"/>
                      </a:lnTo>
                      <a:lnTo>
                        <a:pt x="14" y="32"/>
                      </a:lnTo>
                      <a:lnTo>
                        <a:pt x="0" y="32"/>
                      </a:lnTo>
                      <a:lnTo>
                        <a:pt x="0" y="17"/>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5" name=""/>
                <p:cNvSpPr/>
                <p:nvPr/>
              </p:nvSpPr>
              <p:spPr>
                <a:xfrm>
                  <a:off x="8335800" y="3068640"/>
                  <a:ext cx="8280" cy="17640"/>
                </a:xfrm>
                <a:custGeom>
                  <a:avLst/>
                  <a:gdLst/>
                  <a:ahLst/>
                  <a:rect l="l" t="t" r="r" b="b"/>
                  <a:pathLst>
                    <a:path w="14" h="32">
                      <a:moveTo>
                        <a:pt x="14" y="0"/>
                      </a:moveTo>
                      <a:lnTo>
                        <a:pt x="0" y="17"/>
                      </a:lnTo>
                      <a:lnTo>
                        <a:pt x="0" y="32"/>
                      </a:lnTo>
                      <a:lnTo>
                        <a:pt x="0" y="17"/>
                      </a:lnTo>
                      <a:lnTo>
                        <a:pt x="14"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6" name=""/>
                <p:cNvSpPr/>
                <p:nvPr/>
              </p:nvSpPr>
              <p:spPr>
                <a:xfrm>
                  <a:off x="8335800" y="3068640"/>
                  <a:ext cx="8280" cy="17640"/>
                </a:xfrm>
                <a:custGeom>
                  <a:avLst/>
                  <a:gdLst/>
                  <a:ahLst/>
                  <a:rect l="l" t="t" r="r" b="b"/>
                  <a:pathLst>
                    <a:path w="14" h="32">
                      <a:moveTo>
                        <a:pt x="14" y="0"/>
                      </a:moveTo>
                      <a:lnTo>
                        <a:pt x="0" y="17"/>
                      </a:lnTo>
                      <a:lnTo>
                        <a:pt x="0" y="32"/>
                      </a:lnTo>
                      <a:lnTo>
                        <a:pt x="0" y="17"/>
                      </a:lnTo>
                      <a:lnTo>
                        <a:pt x="14"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8410680" y="3068640"/>
                  <a:ext cx="42840" cy="25560"/>
                </a:xfrm>
                <a:custGeom>
                  <a:avLst/>
                  <a:gdLst/>
                  <a:ahLst/>
                  <a:rect l="l" t="t" r="r" b="b"/>
                  <a:pathLst>
                    <a:path w="83" h="47">
                      <a:moveTo>
                        <a:pt x="27" y="32"/>
                      </a:moveTo>
                      <a:lnTo>
                        <a:pt x="13" y="47"/>
                      </a:lnTo>
                      <a:lnTo>
                        <a:pt x="0" y="47"/>
                      </a:lnTo>
                      <a:lnTo>
                        <a:pt x="13" y="32"/>
                      </a:lnTo>
                      <a:lnTo>
                        <a:pt x="27" y="32"/>
                      </a:lnTo>
                      <a:lnTo>
                        <a:pt x="41" y="17"/>
                      </a:lnTo>
                      <a:lnTo>
                        <a:pt x="55" y="0"/>
                      </a:lnTo>
                      <a:lnTo>
                        <a:pt x="69" y="0"/>
                      </a:lnTo>
                      <a:lnTo>
                        <a:pt x="83" y="0"/>
                      </a:lnTo>
                      <a:lnTo>
                        <a:pt x="83" y="17"/>
                      </a:lnTo>
                      <a:lnTo>
                        <a:pt x="69" y="32"/>
                      </a:lnTo>
                      <a:lnTo>
                        <a:pt x="41" y="32"/>
                      </a:lnTo>
                      <a:lnTo>
                        <a:pt x="27" y="32"/>
                      </a:lnTo>
                      <a:close/>
                    </a:path>
                  </a:pathLst>
                </a:custGeom>
                <a:solidFill>
                  <a:srgbClr val="00937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8" name=""/>
                <p:cNvSpPr/>
                <p:nvPr/>
              </p:nvSpPr>
              <p:spPr>
                <a:xfrm>
                  <a:off x="8410680" y="3068640"/>
                  <a:ext cx="42840" cy="25560"/>
                </a:xfrm>
                <a:custGeom>
                  <a:avLst/>
                  <a:gdLst/>
                  <a:ahLst/>
                  <a:rect l="l" t="t" r="r" b="b"/>
                  <a:pathLst>
                    <a:path w="83" h="47">
                      <a:moveTo>
                        <a:pt x="27" y="32"/>
                      </a:moveTo>
                      <a:lnTo>
                        <a:pt x="13" y="47"/>
                      </a:lnTo>
                      <a:lnTo>
                        <a:pt x="0" y="47"/>
                      </a:lnTo>
                      <a:lnTo>
                        <a:pt x="13" y="32"/>
                      </a:lnTo>
                      <a:lnTo>
                        <a:pt x="27" y="32"/>
                      </a:lnTo>
                      <a:lnTo>
                        <a:pt x="41" y="17"/>
                      </a:lnTo>
                      <a:lnTo>
                        <a:pt x="55" y="0"/>
                      </a:lnTo>
                      <a:lnTo>
                        <a:pt x="69" y="0"/>
                      </a:lnTo>
                      <a:lnTo>
                        <a:pt x="83" y="0"/>
                      </a:lnTo>
                      <a:lnTo>
                        <a:pt x="83" y="17"/>
                      </a:lnTo>
                      <a:lnTo>
                        <a:pt x="69" y="32"/>
                      </a:lnTo>
                      <a:lnTo>
                        <a:pt x="41" y="32"/>
                      </a:lnTo>
                      <a:lnTo>
                        <a:pt x="27" y="3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9" name=""/>
                <p:cNvSpPr/>
                <p:nvPr/>
              </p:nvSpPr>
              <p:spPr>
                <a:xfrm>
                  <a:off x="7508880" y="3127320"/>
                  <a:ext cx="79200" cy="192240"/>
                </a:xfrm>
                <a:custGeom>
                  <a:avLst/>
                  <a:gdLst/>
                  <a:ahLst/>
                  <a:rect l="l" t="t" r="r" b="b"/>
                  <a:pathLst>
                    <a:path w="152" h="362">
                      <a:moveTo>
                        <a:pt x="0" y="268"/>
                      </a:moveTo>
                      <a:lnTo>
                        <a:pt x="0" y="252"/>
                      </a:lnTo>
                      <a:lnTo>
                        <a:pt x="13" y="221"/>
                      </a:lnTo>
                      <a:lnTo>
                        <a:pt x="27" y="205"/>
                      </a:lnTo>
                      <a:lnTo>
                        <a:pt x="27" y="173"/>
                      </a:lnTo>
                      <a:lnTo>
                        <a:pt x="27" y="142"/>
                      </a:lnTo>
                      <a:lnTo>
                        <a:pt x="27" y="111"/>
                      </a:lnTo>
                      <a:lnTo>
                        <a:pt x="41" y="111"/>
                      </a:lnTo>
                      <a:lnTo>
                        <a:pt x="69" y="94"/>
                      </a:lnTo>
                      <a:lnTo>
                        <a:pt x="83" y="79"/>
                      </a:lnTo>
                      <a:lnTo>
                        <a:pt x="110" y="79"/>
                      </a:lnTo>
                      <a:lnTo>
                        <a:pt x="96" y="63"/>
                      </a:lnTo>
                      <a:lnTo>
                        <a:pt x="110" y="32"/>
                      </a:lnTo>
                      <a:lnTo>
                        <a:pt x="124" y="15"/>
                      </a:lnTo>
                      <a:lnTo>
                        <a:pt x="138" y="0"/>
                      </a:lnTo>
                      <a:lnTo>
                        <a:pt x="138" y="15"/>
                      </a:lnTo>
                      <a:lnTo>
                        <a:pt x="152" y="32"/>
                      </a:lnTo>
                      <a:lnTo>
                        <a:pt x="152" y="63"/>
                      </a:lnTo>
                      <a:lnTo>
                        <a:pt x="138" y="94"/>
                      </a:lnTo>
                      <a:lnTo>
                        <a:pt x="124" y="142"/>
                      </a:lnTo>
                      <a:lnTo>
                        <a:pt x="124" y="158"/>
                      </a:lnTo>
                      <a:lnTo>
                        <a:pt x="124" y="205"/>
                      </a:lnTo>
                      <a:lnTo>
                        <a:pt x="96" y="268"/>
                      </a:lnTo>
                      <a:lnTo>
                        <a:pt x="83" y="315"/>
                      </a:lnTo>
                      <a:lnTo>
                        <a:pt x="69" y="347"/>
                      </a:lnTo>
                      <a:lnTo>
                        <a:pt x="41" y="362"/>
                      </a:lnTo>
                      <a:lnTo>
                        <a:pt x="13" y="362"/>
                      </a:lnTo>
                      <a:lnTo>
                        <a:pt x="0" y="331"/>
                      </a:lnTo>
                      <a:lnTo>
                        <a:pt x="0" y="300"/>
                      </a:lnTo>
                      <a:lnTo>
                        <a:pt x="0" y="283"/>
                      </a:lnTo>
                      <a:lnTo>
                        <a:pt x="0" y="268"/>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7508880" y="3127320"/>
                  <a:ext cx="79200" cy="192240"/>
                </a:xfrm>
                <a:custGeom>
                  <a:avLst/>
                  <a:gdLst/>
                  <a:ahLst/>
                  <a:rect l="l" t="t" r="r" b="b"/>
                  <a:pathLst>
                    <a:path w="152" h="362">
                      <a:moveTo>
                        <a:pt x="0" y="268"/>
                      </a:moveTo>
                      <a:lnTo>
                        <a:pt x="0" y="252"/>
                      </a:lnTo>
                      <a:lnTo>
                        <a:pt x="13" y="221"/>
                      </a:lnTo>
                      <a:lnTo>
                        <a:pt x="27" y="205"/>
                      </a:lnTo>
                      <a:lnTo>
                        <a:pt x="27" y="173"/>
                      </a:lnTo>
                      <a:lnTo>
                        <a:pt x="27" y="142"/>
                      </a:lnTo>
                      <a:lnTo>
                        <a:pt x="27" y="111"/>
                      </a:lnTo>
                      <a:lnTo>
                        <a:pt x="41" y="111"/>
                      </a:lnTo>
                      <a:lnTo>
                        <a:pt x="69" y="94"/>
                      </a:lnTo>
                      <a:lnTo>
                        <a:pt x="83" y="79"/>
                      </a:lnTo>
                      <a:lnTo>
                        <a:pt x="110" y="79"/>
                      </a:lnTo>
                      <a:lnTo>
                        <a:pt x="96" y="63"/>
                      </a:lnTo>
                      <a:lnTo>
                        <a:pt x="110" y="32"/>
                      </a:lnTo>
                      <a:lnTo>
                        <a:pt x="124" y="15"/>
                      </a:lnTo>
                      <a:lnTo>
                        <a:pt x="138" y="0"/>
                      </a:lnTo>
                      <a:lnTo>
                        <a:pt x="138" y="15"/>
                      </a:lnTo>
                      <a:lnTo>
                        <a:pt x="152" y="32"/>
                      </a:lnTo>
                      <a:lnTo>
                        <a:pt x="152" y="63"/>
                      </a:lnTo>
                      <a:lnTo>
                        <a:pt x="138" y="94"/>
                      </a:lnTo>
                      <a:lnTo>
                        <a:pt x="124" y="142"/>
                      </a:lnTo>
                      <a:lnTo>
                        <a:pt x="124" y="158"/>
                      </a:lnTo>
                      <a:lnTo>
                        <a:pt x="124" y="205"/>
                      </a:lnTo>
                      <a:lnTo>
                        <a:pt x="96" y="268"/>
                      </a:lnTo>
                      <a:lnTo>
                        <a:pt x="83" y="315"/>
                      </a:lnTo>
                      <a:lnTo>
                        <a:pt x="69" y="347"/>
                      </a:lnTo>
                      <a:lnTo>
                        <a:pt x="41" y="362"/>
                      </a:lnTo>
                      <a:lnTo>
                        <a:pt x="13" y="362"/>
                      </a:lnTo>
                      <a:lnTo>
                        <a:pt x="0" y="331"/>
                      </a:lnTo>
                      <a:lnTo>
                        <a:pt x="0" y="300"/>
                      </a:lnTo>
                      <a:lnTo>
                        <a:pt x="0" y="283"/>
                      </a:lnTo>
                      <a:lnTo>
                        <a:pt x="0" y="2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8248680" y="3111480"/>
                  <a:ext cx="453960" cy="407880"/>
                </a:xfrm>
                <a:custGeom>
                  <a:avLst/>
                  <a:gdLst/>
                  <a:ahLst/>
                  <a:rect l="l" t="t" r="r" b="b"/>
                  <a:pathLst>
                    <a:path w="859" h="773">
                      <a:moveTo>
                        <a:pt x="555" y="742"/>
                      </a:moveTo>
                      <a:lnTo>
                        <a:pt x="527" y="742"/>
                      </a:lnTo>
                      <a:lnTo>
                        <a:pt x="486" y="742"/>
                      </a:lnTo>
                      <a:lnTo>
                        <a:pt x="471" y="742"/>
                      </a:lnTo>
                      <a:lnTo>
                        <a:pt x="471" y="726"/>
                      </a:lnTo>
                      <a:lnTo>
                        <a:pt x="471" y="695"/>
                      </a:lnTo>
                      <a:lnTo>
                        <a:pt x="471" y="678"/>
                      </a:lnTo>
                      <a:lnTo>
                        <a:pt x="457" y="678"/>
                      </a:lnTo>
                      <a:lnTo>
                        <a:pt x="443" y="663"/>
                      </a:lnTo>
                      <a:lnTo>
                        <a:pt x="429" y="663"/>
                      </a:lnTo>
                      <a:lnTo>
                        <a:pt x="429" y="648"/>
                      </a:lnTo>
                      <a:lnTo>
                        <a:pt x="443" y="631"/>
                      </a:lnTo>
                      <a:lnTo>
                        <a:pt x="457" y="616"/>
                      </a:lnTo>
                      <a:lnTo>
                        <a:pt x="471" y="584"/>
                      </a:lnTo>
                      <a:lnTo>
                        <a:pt x="471" y="599"/>
                      </a:lnTo>
                      <a:lnTo>
                        <a:pt x="457" y="616"/>
                      </a:lnTo>
                      <a:lnTo>
                        <a:pt x="429" y="631"/>
                      </a:lnTo>
                      <a:lnTo>
                        <a:pt x="415" y="648"/>
                      </a:lnTo>
                      <a:lnTo>
                        <a:pt x="401" y="648"/>
                      </a:lnTo>
                      <a:lnTo>
                        <a:pt x="388" y="616"/>
                      </a:lnTo>
                      <a:lnTo>
                        <a:pt x="374" y="584"/>
                      </a:lnTo>
                      <a:lnTo>
                        <a:pt x="360" y="552"/>
                      </a:lnTo>
                      <a:lnTo>
                        <a:pt x="346" y="552"/>
                      </a:lnTo>
                      <a:lnTo>
                        <a:pt x="332" y="552"/>
                      </a:lnTo>
                      <a:lnTo>
                        <a:pt x="305" y="569"/>
                      </a:lnTo>
                      <a:lnTo>
                        <a:pt x="291" y="569"/>
                      </a:lnTo>
                      <a:lnTo>
                        <a:pt x="277" y="584"/>
                      </a:lnTo>
                      <a:lnTo>
                        <a:pt x="263" y="584"/>
                      </a:lnTo>
                      <a:lnTo>
                        <a:pt x="249" y="584"/>
                      </a:lnTo>
                      <a:lnTo>
                        <a:pt x="235" y="584"/>
                      </a:lnTo>
                      <a:lnTo>
                        <a:pt x="222" y="584"/>
                      </a:lnTo>
                      <a:lnTo>
                        <a:pt x="194" y="599"/>
                      </a:lnTo>
                      <a:lnTo>
                        <a:pt x="194" y="616"/>
                      </a:lnTo>
                      <a:lnTo>
                        <a:pt x="180" y="616"/>
                      </a:lnTo>
                      <a:lnTo>
                        <a:pt x="180" y="631"/>
                      </a:lnTo>
                      <a:lnTo>
                        <a:pt x="139" y="631"/>
                      </a:lnTo>
                      <a:lnTo>
                        <a:pt x="111" y="631"/>
                      </a:lnTo>
                      <a:lnTo>
                        <a:pt x="83" y="648"/>
                      </a:lnTo>
                      <a:lnTo>
                        <a:pt x="56" y="648"/>
                      </a:lnTo>
                      <a:lnTo>
                        <a:pt x="42" y="663"/>
                      </a:lnTo>
                      <a:lnTo>
                        <a:pt x="28" y="663"/>
                      </a:lnTo>
                      <a:lnTo>
                        <a:pt x="0" y="616"/>
                      </a:lnTo>
                      <a:lnTo>
                        <a:pt x="14" y="599"/>
                      </a:lnTo>
                      <a:lnTo>
                        <a:pt x="28" y="584"/>
                      </a:lnTo>
                      <a:lnTo>
                        <a:pt x="42" y="569"/>
                      </a:lnTo>
                      <a:lnTo>
                        <a:pt x="42" y="552"/>
                      </a:lnTo>
                      <a:lnTo>
                        <a:pt x="28" y="537"/>
                      </a:lnTo>
                      <a:lnTo>
                        <a:pt x="42" y="520"/>
                      </a:lnTo>
                      <a:lnTo>
                        <a:pt x="42" y="505"/>
                      </a:lnTo>
                      <a:lnTo>
                        <a:pt x="42" y="490"/>
                      </a:lnTo>
                      <a:lnTo>
                        <a:pt x="28" y="473"/>
                      </a:lnTo>
                      <a:lnTo>
                        <a:pt x="28" y="441"/>
                      </a:lnTo>
                      <a:lnTo>
                        <a:pt x="28" y="411"/>
                      </a:lnTo>
                      <a:lnTo>
                        <a:pt x="42" y="411"/>
                      </a:lnTo>
                      <a:lnTo>
                        <a:pt x="42" y="394"/>
                      </a:lnTo>
                      <a:lnTo>
                        <a:pt x="42" y="379"/>
                      </a:lnTo>
                      <a:lnTo>
                        <a:pt x="42" y="363"/>
                      </a:lnTo>
                      <a:lnTo>
                        <a:pt x="56" y="315"/>
                      </a:lnTo>
                      <a:lnTo>
                        <a:pt x="97" y="284"/>
                      </a:lnTo>
                      <a:lnTo>
                        <a:pt x="125" y="253"/>
                      </a:lnTo>
                      <a:lnTo>
                        <a:pt x="125" y="268"/>
                      </a:lnTo>
                      <a:lnTo>
                        <a:pt x="139" y="268"/>
                      </a:lnTo>
                      <a:lnTo>
                        <a:pt x="152" y="253"/>
                      </a:lnTo>
                      <a:lnTo>
                        <a:pt x="166" y="253"/>
                      </a:lnTo>
                      <a:lnTo>
                        <a:pt x="180" y="237"/>
                      </a:lnTo>
                      <a:lnTo>
                        <a:pt x="194" y="237"/>
                      </a:lnTo>
                      <a:lnTo>
                        <a:pt x="208" y="237"/>
                      </a:lnTo>
                      <a:lnTo>
                        <a:pt x="222" y="237"/>
                      </a:lnTo>
                      <a:lnTo>
                        <a:pt x="222" y="221"/>
                      </a:lnTo>
                      <a:lnTo>
                        <a:pt x="235" y="205"/>
                      </a:lnTo>
                      <a:lnTo>
                        <a:pt x="249" y="205"/>
                      </a:lnTo>
                      <a:lnTo>
                        <a:pt x="249" y="190"/>
                      </a:lnTo>
                      <a:lnTo>
                        <a:pt x="263" y="174"/>
                      </a:lnTo>
                      <a:lnTo>
                        <a:pt x="263" y="158"/>
                      </a:lnTo>
                      <a:lnTo>
                        <a:pt x="277" y="143"/>
                      </a:lnTo>
                      <a:lnTo>
                        <a:pt x="277" y="158"/>
                      </a:lnTo>
                      <a:lnTo>
                        <a:pt x="277" y="174"/>
                      </a:lnTo>
                      <a:lnTo>
                        <a:pt x="277" y="190"/>
                      </a:lnTo>
                      <a:lnTo>
                        <a:pt x="291" y="174"/>
                      </a:lnTo>
                      <a:lnTo>
                        <a:pt x="291" y="158"/>
                      </a:lnTo>
                      <a:lnTo>
                        <a:pt x="291" y="143"/>
                      </a:lnTo>
                      <a:lnTo>
                        <a:pt x="305" y="126"/>
                      </a:lnTo>
                      <a:lnTo>
                        <a:pt x="318" y="126"/>
                      </a:lnTo>
                      <a:lnTo>
                        <a:pt x="332" y="111"/>
                      </a:lnTo>
                      <a:lnTo>
                        <a:pt x="332" y="95"/>
                      </a:lnTo>
                      <a:lnTo>
                        <a:pt x="346" y="79"/>
                      </a:lnTo>
                      <a:lnTo>
                        <a:pt x="360" y="79"/>
                      </a:lnTo>
                      <a:lnTo>
                        <a:pt x="374" y="79"/>
                      </a:lnTo>
                      <a:lnTo>
                        <a:pt x="374" y="95"/>
                      </a:lnTo>
                      <a:lnTo>
                        <a:pt x="374" y="111"/>
                      </a:lnTo>
                      <a:lnTo>
                        <a:pt x="374" y="126"/>
                      </a:lnTo>
                      <a:lnTo>
                        <a:pt x="415" y="143"/>
                      </a:lnTo>
                      <a:lnTo>
                        <a:pt x="429" y="143"/>
                      </a:lnTo>
                      <a:lnTo>
                        <a:pt x="429" y="111"/>
                      </a:lnTo>
                      <a:lnTo>
                        <a:pt x="429" y="95"/>
                      </a:lnTo>
                      <a:lnTo>
                        <a:pt x="429" y="79"/>
                      </a:lnTo>
                      <a:lnTo>
                        <a:pt x="429" y="64"/>
                      </a:lnTo>
                      <a:lnTo>
                        <a:pt x="443" y="47"/>
                      </a:lnTo>
                      <a:lnTo>
                        <a:pt x="457" y="32"/>
                      </a:lnTo>
                      <a:lnTo>
                        <a:pt x="471" y="32"/>
                      </a:lnTo>
                      <a:lnTo>
                        <a:pt x="486" y="32"/>
                      </a:lnTo>
                      <a:lnTo>
                        <a:pt x="513" y="32"/>
                      </a:lnTo>
                      <a:lnTo>
                        <a:pt x="486" y="17"/>
                      </a:lnTo>
                      <a:lnTo>
                        <a:pt x="486" y="0"/>
                      </a:lnTo>
                      <a:lnTo>
                        <a:pt x="486" y="17"/>
                      </a:lnTo>
                      <a:lnTo>
                        <a:pt x="527" y="17"/>
                      </a:lnTo>
                      <a:lnTo>
                        <a:pt x="541" y="32"/>
                      </a:lnTo>
                      <a:lnTo>
                        <a:pt x="569" y="32"/>
                      </a:lnTo>
                      <a:lnTo>
                        <a:pt x="583" y="32"/>
                      </a:lnTo>
                      <a:lnTo>
                        <a:pt x="596" y="32"/>
                      </a:lnTo>
                      <a:lnTo>
                        <a:pt x="583" y="64"/>
                      </a:lnTo>
                      <a:lnTo>
                        <a:pt x="569" y="79"/>
                      </a:lnTo>
                      <a:lnTo>
                        <a:pt x="555" y="111"/>
                      </a:lnTo>
                      <a:lnTo>
                        <a:pt x="555" y="126"/>
                      </a:lnTo>
                      <a:lnTo>
                        <a:pt x="569" y="143"/>
                      </a:lnTo>
                      <a:lnTo>
                        <a:pt x="583" y="143"/>
                      </a:lnTo>
                      <a:lnTo>
                        <a:pt x="596" y="143"/>
                      </a:lnTo>
                      <a:lnTo>
                        <a:pt x="610" y="158"/>
                      </a:lnTo>
                      <a:lnTo>
                        <a:pt x="624" y="158"/>
                      </a:lnTo>
                      <a:lnTo>
                        <a:pt x="624" y="174"/>
                      </a:lnTo>
                      <a:lnTo>
                        <a:pt x="638" y="174"/>
                      </a:lnTo>
                      <a:lnTo>
                        <a:pt x="638" y="190"/>
                      </a:lnTo>
                      <a:lnTo>
                        <a:pt x="652" y="174"/>
                      </a:lnTo>
                      <a:lnTo>
                        <a:pt x="679" y="143"/>
                      </a:lnTo>
                      <a:lnTo>
                        <a:pt x="679" y="111"/>
                      </a:lnTo>
                      <a:lnTo>
                        <a:pt x="693" y="95"/>
                      </a:lnTo>
                      <a:lnTo>
                        <a:pt x="693" y="79"/>
                      </a:lnTo>
                      <a:lnTo>
                        <a:pt x="693" y="64"/>
                      </a:lnTo>
                      <a:lnTo>
                        <a:pt x="693" y="47"/>
                      </a:lnTo>
                      <a:lnTo>
                        <a:pt x="707" y="47"/>
                      </a:lnTo>
                      <a:lnTo>
                        <a:pt x="707" y="32"/>
                      </a:lnTo>
                      <a:lnTo>
                        <a:pt x="721" y="32"/>
                      </a:lnTo>
                      <a:lnTo>
                        <a:pt x="735" y="47"/>
                      </a:lnTo>
                      <a:lnTo>
                        <a:pt x="735" y="79"/>
                      </a:lnTo>
                      <a:lnTo>
                        <a:pt x="735" y="95"/>
                      </a:lnTo>
                      <a:lnTo>
                        <a:pt x="749" y="95"/>
                      </a:lnTo>
                      <a:lnTo>
                        <a:pt x="762" y="111"/>
                      </a:lnTo>
                      <a:lnTo>
                        <a:pt x="762" y="126"/>
                      </a:lnTo>
                      <a:lnTo>
                        <a:pt x="762" y="143"/>
                      </a:lnTo>
                      <a:lnTo>
                        <a:pt x="762" y="174"/>
                      </a:lnTo>
                      <a:lnTo>
                        <a:pt x="762" y="205"/>
                      </a:lnTo>
                      <a:lnTo>
                        <a:pt x="776" y="237"/>
                      </a:lnTo>
                      <a:lnTo>
                        <a:pt x="790" y="237"/>
                      </a:lnTo>
                      <a:lnTo>
                        <a:pt x="804" y="253"/>
                      </a:lnTo>
                      <a:lnTo>
                        <a:pt x="804" y="268"/>
                      </a:lnTo>
                      <a:lnTo>
                        <a:pt x="818" y="284"/>
                      </a:lnTo>
                      <a:lnTo>
                        <a:pt x="832" y="300"/>
                      </a:lnTo>
                      <a:lnTo>
                        <a:pt x="832" y="315"/>
                      </a:lnTo>
                      <a:lnTo>
                        <a:pt x="845" y="315"/>
                      </a:lnTo>
                      <a:lnTo>
                        <a:pt x="845" y="332"/>
                      </a:lnTo>
                      <a:lnTo>
                        <a:pt x="859" y="363"/>
                      </a:lnTo>
                      <a:lnTo>
                        <a:pt x="859" y="394"/>
                      </a:lnTo>
                      <a:lnTo>
                        <a:pt x="859" y="411"/>
                      </a:lnTo>
                      <a:lnTo>
                        <a:pt x="859" y="426"/>
                      </a:lnTo>
                      <a:lnTo>
                        <a:pt x="845" y="441"/>
                      </a:lnTo>
                      <a:lnTo>
                        <a:pt x="845" y="458"/>
                      </a:lnTo>
                      <a:lnTo>
                        <a:pt x="845" y="473"/>
                      </a:lnTo>
                      <a:lnTo>
                        <a:pt x="845" y="490"/>
                      </a:lnTo>
                      <a:lnTo>
                        <a:pt x="845" y="505"/>
                      </a:lnTo>
                      <a:lnTo>
                        <a:pt x="832" y="520"/>
                      </a:lnTo>
                      <a:lnTo>
                        <a:pt x="818" y="537"/>
                      </a:lnTo>
                      <a:lnTo>
                        <a:pt x="804" y="552"/>
                      </a:lnTo>
                      <a:lnTo>
                        <a:pt x="804" y="569"/>
                      </a:lnTo>
                      <a:lnTo>
                        <a:pt x="790" y="584"/>
                      </a:lnTo>
                      <a:lnTo>
                        <a:pt x="776" y="584"/>
                      </a:lnTo>
                      <a:lnTo>
                        <a:pt x="776" y="599"/>
                      </a:lnTo>
                      <a:lnTo>
                        <a:pt x="762" y="599"/>
                      </a:lnTo>
                      <a:lnTo>
                        <a:pt x="749" y="616"/>
                      </a:lnTo>
                      <a:lnTo>
                        <a:pt x="721" y="648"/>
                      </a:lnTo>
                      <a:lnTo>
                        <a:pt x="707" y="678"/>
                      </a:lnTo>
                      <a:lnTo>
                        <a:pt x="679" y="726"/>
                      </a:lnTo>
                      <a:lnTo>
                        <a:pt x="666" y="726"/>
                      </a:lnTo>
                      <a:lnTo>
                        <a:pt x="652" y="726"/>
                      </a:lnTo>
                      <a:lnTo>
                        <a:pt x="624" y="726"/>
                      </a:lnTo>
                      <a:lnTo>
                        <a:pt x="610" y="742"/>
                      </a:lnTo>
                      <a:lnTo>
                        <a:pt x="596" y="757"/>
                      </a:lnTo>
                      <a:lnTo>
                        <a:pt x="583" y="773"/>
                      </a:lnTo>
                      <a:lnTo>
                        <a:pt x="569" y="757"/>
                      </a:lnTo>
                      <a:lnTo>
                        <a:pt x="555" y="74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8248680" y="3111480"/>
                  <a:ext cx="453960" cy="407880"/>
                </a:xfrm>
                <a:custGeom>
                  <a:avLst/>
                  <a:gdLst/>
                  <a:ahLst/>
                  <a:rect l="l" t="t" r="r" b="b"/>
                  <a:pathLst>
                    <a:path w="859" h="773">
                      <a:moveTo>
                        <a:pt x="555" y="742"/>
                      </a:moveTo>
                      <a:lnTo>
                        <a:pt x="527" y="742"/>
                      </a:lnTo>
                      <a:lnTo>
                        <a:pt x="486" y="742"/>
                      </a:lnTo>
                      <a:lnTo>
                        <a:pt x="471" y="742"/>
                      </a:lnTo>
                      <a:lnTo>
                        <a:pt x="471" y="726"/>
                      </a:lnTo>
                      <a:lnTo>
                        <a:pt x="471" y="695"/>
                      </a:lnTo>
                      <a:lnTo>
                        <a:pt x="471" y="678"/>
                      </a:lnTo>
                      <a:lnTo>
                        <a:pt x="457" y="678"/>
                      </a:lnTo>
                      <a:lnTo>
                        <a:pt x="443" y="663"/>
                      </a:lnTo>
                      <a:lnTo>
                        <a:pt x="429" y="663"/>
                      </a:lnTo>
                      <a:lnTo>
                        <a:pt x="429" y="648"/>
                      </a:lnTo>
                      <a:lnTo>
                        <a:pt x="443" y="631"/>
                      </a:lnTo>
                      <a:lnTo>
                        <a:pt x="457" y="616"/>
                      </a:lnTo>
                      <a:lnTo>
                        <a:pt x="471" y="584"/>
                      </a:lnTo>
                      <a:lnTo>
                        <a:pt x="471" y="599"/>
                      </a:lnTo>
                      <a:lnTo>
                        <a:pt x="457" y="616"/>
                      </a:lnTo>
                      <a:lnTo>
                        <a:pt x="429" y="631"/>
                      </a:lnTo>
                      <a:lnTo>
                        <a:pt x="415" y="648"/>
                      </a:lnTo>
                      <a:lnTo>
                        <a:pt x="401" y="648"/>
                      </a:lnTo>
                      <a:lnTo>
                        <a:pt x="388" y="616"/>
                      </a:lnTo>
                      <a:lnTo>
                        <a:pt x="374" y="584"/>
                      </a:lnTo>
                      <a:lnTo>
                        <a:pt x="360" y="552"/>
                      </a:lnTo>
                      <a:lnTo>
                        <a:pt x="346" y="552"/>
                      </a:lnTo>
                      <a:lnTo>
                        <a:pt x="332" y="552"/>
                      </a:lnTo>
                      <a:lnTo>
                        <a:pt x="305" y="569"/>
                      </a:lnTo>
                      <a:lnTo>
                        <a:pt x="291" y="569"/>
                      </a:lnTo>
                      <a:lnTo>
                        <a:pt x="277" y="584"/>
                      </a:lnTo>
                      <a:lnTo>
                        <a:pt x="263" y="584"/>
                      </a:lnTo>
                      <a:lnTo>
                        <a:pt x="249" y="584"/>
                      </a:lnTo>
                      <a:lnTo>
                        <a:pt x="235" y="584"/>
                      </a:lnTo>
                      <a:lnTo>
                        <a:pt x="222" y="584"/>
                      </a:lnTo>
                      <a:lnTo>
                        <a:pt x="194" y="599"/>
                      </a:lnTo>
                      <a:lnTo>
                        <a:pt x="194" y="616"/>
                      </a:lnTo>
                      <a:lnTo>
                        <a:pt x="180" y="616"/>
                      </a:lnTo>
                      <a:lnTo>
                        <a:pt x="180" y="631"/>
                      </a:lnTo>
                      <a:lnTo>
                        <a:pt x="139" y="631"/>
                      </a:lnTo>
                      <a:lnTo>
                        <a:pt x="111" y="631"/>
                      </a:lnTo>
                      <a:lnTo>
                        <a:pt x="83" y="648"/>
                      </a:lnTo>
                      <a:lnTo>
                        <a:pt x="56" y="648"/>
                      </a:lnTo>
                      <a:lnTo>
                        <a:pt x="42" y="663"/>
                      </a:lnTo>
                      <a:lnTo>
                        <a:pt x="28" y="663"/>
                      </a:lnTo>
                      <a:lnTo>
                        <a:pt x="0" y="616"/>
                      </a:lnTo>
                      <a:lnTo>
                        <a:pt x="14" y="599"/>
                      </a:lnTo>
                      <a:lnTo>
                        <a:pt x="28" y="584"/>
                      </a:lnTo>
                      <a:lnTo>
                        <a:pt x="42" y="569"/>
                      </a:lnTo>
                      <a:lnTo>
                        <a:pt x="42" y="552"/>
                      </a:lnTo>
                      <a:lnTo>
                        <a:pt x="28" y="537"/>
                      </a:lnTo>
                      <a:lnTo>
                        <a:pt x="42" y="520"/>
                      </a:lnTo>
                      <a:lnTo>
                        <a:pt x="42" y="505"/>
                      </a:lnTo>
                      <a:lnTo>
                        <a:pt x="42" y="490"/>
                      </a:lnTo>
                      <a:lnTo>
                        <a:pt x="28" y="473"/>
                      </a:lnTo>
                      <a:lnTo>
                        <a:pt x="28" y="441"/>
                      </a:lnTo>
                      <a:lnTo>
                        <a:pt x="28" y="411"/>
                      </a:lnTo>
                      <a:lnTo>
                        <a:pt x="42" y="411"/>
                      </a:lnTo>
                      <a:lnTo>
                        <a:pt x="42" y="394"/>
                      </a:lnTo>
                      <a:lnTo>
                        <a:pt x="42" y="379"/>
                      </a:lnTo>
                      <a:lnTo>
                        <a:pt x="42" y="363"/>
                      </a:lnTo>
                      <a:lnTo>
                        <a:pt x="56" y="315"/>
                      </a:lnTo>
                      <a:lnTo>
                        <a:pt x="97" y="284"/>
                      </a:lnTo>
                      <a:lnTo>
                        <a:pt x="125" y="253"/>
                      </a:lnTo>
                      <a:lnTo>
                        <a:pt x="125" y="268"/>
                      </a:lnTo>
                      <a:lnTo>
                        <a:pt x="139" y="268"/>
                      </a:lnTo>
                      <a:lnTo>
                        <a:pt x="152" y="253"/>
                      </a:lnTo>
                      <a:lnTo>
                        <a:pt x="166" y="253"/>
                      </a:lnTo>
                      <a:lnTo>
                        <a:pt x="180" y="237"/>
                      </a:lnTo>
                      <a:lnTo>
                        <a:pt x="194" y="237"/>
                      </a:lnTo>
                      <a:lnTo>
                        <a:pt x="208" y="237"/>
                      </a:lnTo>
                      <a:lnTo>
                        <a:pt x="222" y="237"/>
                      </a:lnTo>
                      <a:lnTo>
                        <a:pt x="222" y="221"/>
                      </a:lnTo>
                      <a:lnTo>
                        <a:pt x="235" y="205"/>
                      </a:lnTo>
                      <a:lnTo>
                        <a:pt x="249" y="205"/>
                      </a:lnTo>
                      <a:lnTo>
                        <a:pt x="249" y="190"/>
                      </a:lnTo>
                      <a:lnTo>
                        <a:pt x="263" y="174"/>
                      </a:lnTo>
                      <a:lnTo>
                        <a:pt x="263" y="158"/>
                      </a:lnTo>
                      <a:lnTo>
                        <a:pt x="277" y="143"/>
                      </a:lnTo>
                      <a:lnTo>
                        <a:pt x="277" y="158"/>
                      </a:lnTo>
                      <a:lnTo>
                        <a:pt x="277" y="174"/>
                      </a:lnTo>
                      <a:lnTo>
                        <a:pt x="277" y="190"/>
                      </a:lnTo>
                      <a:lnTo>
                        <a:pt x="291" y="174"/>
                      </a:lnTo>
                      <a:lnTo>
                        <a:pt x="291" y="158"/>
                      </a:lnTo>
                      <a:lnTo>
                        <a:pt x="291" y="143"/>
                      </a:lnTo>
                      <a:lnTo>
                        <a:pt x="305" y="126"/>
                      </a:lnTo>
                      <a:lnTo>
                        <a:pt x="318" y="126"/>
                      </a:lnTo>
                      <a:lnTo>
                        <a:pt x="332" y="111"/>
                      </a:lnTo>
                      <a:lnTo>
                        <a:pt x="332" y="95"/>
                      </a:lnTo>
                      <a:lnTo>
                        <a:pt x="346" y="79"/>
                      </a:lnTo>
                      <a:lnTo>
                        <a:pt x="360" y="79"/>
                      </a:lnTo>
                      <a:lnTo>
                        <a:pt x="374" y="79"/>
                      </a:lnTo>
                      <a:lnTo>
                        <a:pt x="374" y="95"/>
                      </a:lnTo>
                      <a:lnTo>
                        <a:pt x="374" y="111"/>
                      </a:lnTo>
                      <a:lnTo>
                        <a:pt x="374" y="126"/>
                      </a:lnTo>
                      <a:lnTo>
                        <a:pt x="415" y="143"/>
                      </a:lnTo>
                      <a:lnTo>
                        <a:pt x="429" y="143"/>
                      </a:lnTo>
                      <a:lnTo>
                        <a:pt x="429" y="111"/>
                      </a:lnTo>
                      <a:lnTo>
                        <a:pt x="429" y="95"/>
                      </a:lnTo>
                      <a:lnTo>
                        <a:pt x="429" y="79"/>
                      </a:lnTo>
                      <a:lnTo>
                        <a:pt x="429" y="64"/>
                      </a:lnTo>
                      <a:lnTo>
                        <a:pt x="443" y="47"/>
                      </a:lnTo>
                      <a:lnTo>
                        <a:pt x="457" y="32"/>
                      </a:lnTo>
                      <a:lnTo>
                        <a:pt x="471" y="32"/>
                      </a:lnTo>
                      <a:lnTo>
                        <a:pt x="486" y="32"/>
                      </a:lnTo>
                      <a:lnTo>
                        <a:pt x="513" y="32"/>
                      </a:lnTo>
                      <a:lnTo>
                        <a:pt x="486" y="17"/>
                      </a:lnTo>
                      <a:lnTo>
                        <a:pt x="486" y="0"/>
                      </a:lnTo>
                      <a:lnTo>
                        <a:pt x="486" y="17"/>
                      </a:lnTo>
                      <a:lnTo>
                        <a:pt x="527" y="17"/>
                      </a:lnTo>
                      <a:lnTo>
                        <a:pt x="541" y="32"/>
                      </a:lnTo>
                      <a:lnTo>
                        <a:pt x="569" y="32"/>
                      </a:lnTo>
                      <a:lnTo>
                        <a:pt x="583" y="32"/>
                      </a:lnTo>
                      <a:lnTo>
                        <a:pt x="596" y="32"/>
                      </a:lnTo>
                      <a:lnTo>
                        <a:pt x="583" y="64"/>
                      </a:lnTo>
                      <a:lnTo>
                        <a:pt x="569" y="79"/>
                      </a:lnTo>
                      <a:lnTo>
                        <a:pt x="555" y="111"/>
                      </a:lnTo>
                      <a:lnTo>
                        <a:pt x="555" y="126"/>
                      </a:lnTo>
                      <a:lnTo>
                        <a:pt x="569" y="143"/>
                      </a:lnTo>
                      <a:lnTo>
                        <a:pt x="583" y="143"/>
                      </a:lnTo>
                      <a:lnTo>
                        <a:pt x="596" y="143"/>
                      </a:lnTo>
                      <a:lnTo>
                        <a:pt x="610" y="158"/>
                      </a:lnTo>
                      <a:lnTo>
                        <a:pt x="624" y="158"/>
                      </a:lnTo>
                      <a:lnTo>
                        <a:pt x="624" y="174"/>
                      </a:lnTo>
                      <a:lnTo>
                        <a:pt x="638" y="174"/>
                      </a:lnTo>
                      <a:lnTo>
                        <a:pt x="638" y="190"/>
                      </a:lnTo>
                      <a:lnTo>
                        <a:pt x="652" y="174"/>
                      </a:lnTo>
                      <a:lnTo>
                        <a:pt x="679" y="143"/>
                      </a:lnTo>
                      <a:lnTo>
                        <a:pt x="679" y="111"/>
                      </a:lnTo>
                      <a:lnTo>
                        <a:pt x="693" y="95"/>
                      </a:lnTo>
                      <a:lnTo>
                        <a:pt x="693" y="79"/>
                      </a:lnTo>
                      <a:lnTo>
                        <a:pt x="693" y="64"/>
                      </a:lnTo>
                      <a:lnTo>
                        <a:pt x="693" y="47"/>
                      </a:lnTo>
                      <a:lnTo>
                        <a:pt x="707" y="47"/>
                      </a:lnTo>
                      <a:lnTo>
                        <a:pt x="707" y="32"/>
                      </a:lnTo>
                      <a:lnTo>
                        <a:pt x="721" y="32"/>
                      </a:lnTo>
                      <a:lnTo>
                        <a:pt x="735" y="47"/>
                      </a:lnTo>
                      <a:lnTo>
                        <a:pt x="735" y="79"/>
                      </a:lnTo>
                      <a:lnTo>
                        <a:pt x="735" y="95"/>
                      </a:lnTo>
                      <a:lnTo>
                        <a:pt x="749" y="95"/>
                      </a:lnTo>
                      <a:lnTo>
                        <a:pt x="762" y="111"/>
                      </a:lnTo>
                      <a:lnTo>
                        <a:pt x="762" y="126"/>
                      </a:lnTo>
                      <a:lnTo>
                        <a:pt x="762" y="143"/>
                      </a:lnTo>
                      <a:lnTo>
                        <a:pt x="762" y="174"/>
                      </a:lnTo>
                      <a:lnTo>
                        <a:pt x="762" y="205"/>
                      </a:lnTo>
                      <a:lnTo>
                        <a:pt x="776" y="237"/>
                      </a:lnTo>
                      <a:lnTo>
                        <a:pt x="790" y="237"/>
                      </a:lnTo>
                      <a:lnTo>
                        <a:pt x="804" y="253"/>
                      </a:lnTo>
                      <a:lnTo>
                        <a:pt x="804" y="268"/>
                      </a:lnTo>
                      <a:lnTo>
                        <a:pt x="818" y="284"/>
                      </a:lnTo>
                      <a:lnTo>
                        <a:pt x="832" y="300"/>
                      </a:lnTo>
                      <a:lnTo>
                        <a:pt x="832" y="315"/>
                      </a:lnTo>
                      <a:lnTo>
                        <a:pt x="845" y="315"/>
                      </a:lnTo>
                      <a:lnTo>
                        <a:pt x="845" y="332"/>
                      </a:lnTo>
                      <a:lnTo>
                        <a:pt x="859" y="363"/>
                      </a:lnTo>
                      <a:lnTo>
                        <a:pt x="859" y="394"/>
                      </a:lnTo>
                      <a:lnTo>
                        <a:pt x="859" y="411"/>
                      </a:lnTo>
                      <a:lnTo>
                        <a:pt x="859" y="426"/>
                      </a:lnTo>
                      <a:lnTo>
                        <a:pt x="845" y="441"/>
                      </a:lnTo>
                      <a:lnTo>
                        <a:pt x="845" y="458"/>
                      </a:lnTo>
                      <a:lnTo>
                        <a:pt x="845" y="473"/>
                      </a:lnTo>
                      <a:lnTo>
                        <a:pt x="845" y="490"/>
                      </a:lnTo>
                      <a:lnTo>
                        <a:pt x="845" y="505"/>
                      </a:lnTo>
                      <a:lnTo>
                        <a:pt x="832" y="520"/>
                      </a:lnTo>
                      <a:lnTo>
                        <a:pt x="818" y="537"/>
                      </a:lnTo>
                      <a:lnTo>
                        <a:pt x="804" y="552"/>
                      </a:lnTo>
                      <a:lnTo>
                        <a:pt x="804" y="569"/>
                      </a:lnTo>
                      <a:lnTo>
                        <a:pt x="790" y="584"/>
                      </a:lnTo>
                      <a:lnTo>
                        <a:pt x="776" y="584"/>
                      </a:lnTo>
                      <a:lnTo>
                        <a:pt x="776" y="599"/>
                      </a:lnTo>
                      <a:lnTo>
                        <a:pt x="762" y="599"/>
                      </a:lnTo>
                      <a:lnTo>
                        <a:pt x="749" y="616"/>
                      </a:lnTo>
                      <a:lnTo>
                        <a:pt x="721" y="648"/>
                      </a:lnTo>
                      <a:lnTo>
                        <a:pt x="707" y="678"/>
                      </a:lnTo>
                      <a:lnTo>
                        <a:pt x="679" y="726"/>
                      </a:lnTo>
                      <a:lnTo>
                        <a:pt x="666" y="726"/>
                      </a:lnTo>
                      <a:lnTo>
                        <a:pt x="652" y="726"/>
                      </a:lnTo>
                      <a:lnTo>
                        <a:pt x="624" y="726"/>
                      </a:lnTo>
                      <a:lnTo>
                        <a:pt x="610" y="742"/>
                      </a:lnTo>
                      <a:lnTo>
                        <a:pt x="596" y="757"/>
                      </a:lnTo>
                      <a:lnTo>
                        <a:pt x="583" y="773"/>
                      </a:lnTo>
                      <a:lnTo>
                        <a:pt x="569" y="757"/>
                      </a:lnTo>
                      <a:lnTo>
                        <a:pt x="555" y="7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8834400" y="3486240"/>
                  <a:ext cx="66600" cy="66600"/>
                </a:xfrm>
                <a:custGeom>
                  <a:avLst/>
                  <a:gdLst/>
                  <a:ahLst/>
                  <a:rect l="l" t="t" r="r" b="b"/>
                  <a:pathLst>
                    <a:path w="125" h="126">
                      <a:moveTo>
                        <a:pt x="69" y="79"/>
                      </a:moveTo>
                      <a:lnTo>
                        <a:pt x="55" y="79"/>
                      </a:lnTo>
                      <a:lnTo>
                        <a:pt x="42" y="95"/>
                      </a:lnTo>
                      <a:lnTo>
                        <a:pt x="28" y="111"/>
                      </a:lnTo>
                      <a:lnTo>
                        <a:pt x="14" y="126"/>
                      </a:lnTo>
                      <a:lnTo>
                        <a:pt x="0" y="126"/>
                      </a:lnTo>
                      <a:lnTo>
                        <a:pt x="0" y="111"/>
                      </a:lnTo>
                      <a:lnTo>
                        <a:pt x="14" y="95"/>
                      </a:lnTo>
                      <a:lnTo>
                        <a:pt x="28" y="79"/>
                      </a:lnTo>
                      <a:lnTo>
                        <a:pt x="14" y="79"/>
                      </a:lnTo>
                      <a:lnTo>
                        <a:pt x="14" y="63"/>
                      </a:lnTo>
                      <a:lnTo>
                        <a:pt x="28" y="47"/>
                      </a:lnTo>
                      <a:lnTo>
                        <a:pt x="55" y="16"/>
                      </a:lnTo>
                      <a:lnTo>
                        <a:pt x="69" y="0"/>
                      </a:lnTo>
                      <a:lnTo>
                        <a:pt x="55" y="0"/>
                      </a:lnTo>
                      <a:lnTo>
                        <a:pt x="69" y="0"/>
                      </a:lnTo>
                      <a:lnTo>
                        <a:pt x="69" y="16"/>
                      </a:lnTo>
                      <a:lnTo>
                        <a:pt x="83" y="16"/>
                      </a:lnTo>
                      <a:lnTo>
                        <a:pt x="97" y="16"/>
                      </a:lnTo>
                      <a:lnTo>
                        <a:pt x="125" y="16"/>
                      </a:lnTo>
                      <a:lnTo>
                        <a:pt x="111" y="47"/>
                      </a:lnTo>
                      <a:lnTo>
                        <a:pt x="83" y="63"/>
                      </a:lnTo>
                      <a:lnTo>
                        <a:pt x="69" y="79"/>
                      </a:lnTo>
                      <a:close/>
                    </a:path>
                  </a:pathLst>
                </a:custGeom>
                <a:solidFill>
                  <a:srgbClr val="0093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8834400" y="3486240"/>
                  <a:ext cx="66600" cy="66600"/>
                </a:xfrm>
                <a:custGeom>
                  <a:avLst/>
                  <a:gdLst/>
                  <a:ahLst/>
                  <a:rect l="l" t="t" r="r" b="b"/>
                  <a:pathLst>
                    <a:path w="125" h="126">
                      <a:moveTo>
                        <a:pt x="69" y="79"/>
                      </a:moveTo>
                      <a:lnTo>
                        <a:pt x="55" y="79"/>
                      </a:lnTo>
                      <a:lnTo>
                        <a:pt x="42" y="95"/>
                      </a:lnTo>
                      <a:lnTo>
                        <a:pt x="28" y="111"/>
                      </a:lnTo>
                      <a:lnTo>
                        <a:pt x="14" y="126"/>
                      </a:lnTo>
                      <a:lnTo>
                        <a:pt x="0" y="126"/>
                      </a:lnTo>
                      <a:lnTo>
                        <a:pt x="0" y="111"/>
                      </a:lnTo>
                      <a:lnTo>
                        <a:pt x="14" y="95"/>
                      </a:lnTo>
                      <a:lnTo>
                        <a:pt x="28" y="79"/>
                      </a:lnTo>
                      <a:lnTo>
                        <a:pt x="14" y="79"/>
                      </a:lnTo>
                      <a:lnTo>
                        <a:pt x="14" y="63"/>
                      </a:lnTo>
                      <a:lnTo>
                        <a:pt x="28" y="47"/>
                      </a:lnTo>
                      <a:lnTo>
                        <a:pt x="55" y="16"/>
                      </a:lnTo>
                      <a:lnTo>
                        <a:pt x="69" y="0"/>
                      </a:lnTo>
                      <a:lnTo>
                        <a:pt x="55" y="0"/>
                      </a:lnTo>
                      <a:lnTo>
                        <a:pt x="69" y="0"/>
                      </a:lnTo>
                      <a:lnTo>
                        <a:pt x="69" y="16"/>
                      </a:lnTo>
                      <a:lnTo>
                        <a:pt x="83" y="16"/>
                      </a:lnTo>
                      <a:lnTo>
                        <a:pt x="97" y="16"/>
                      </a:lnTo>
                      <a:lnTo>
                        <a:pt x="125" y="16"/>
                      </a:lnTo>
                      <a:lnTo>
                        <a:pt x="111" y="47"/>
                      </a:lnTo>
                      <a:lnTo>
                        <a:pt x="83" y="63"/>
                      </a:lnTo>
                      <a:lnTo>
                        <a:pt x="69" y="79"/>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5" name=""/>
                <p:cNvSpPr/>
                <p:nvPr/>
              </p:nvSpPr>
              <p:spPr>
                <a:xfrm>
                  <a:off x="8520120" y="3537000"/>
                  <a:ext cx="44280" cy="41400"/>
                </a:xfrm>
                <a:custGeom>
                  <a:avLst/>
                  <a:gdLst/>
                  <a:ahLst/>
                  <a:rect l="l" t="t" r="r" b="b"/>
                  <a:pathLst>
                    <a:path w="83" h="79">
                      <a:moveTo>
                        <a:pt x="0" y="79"/>
                      </a:moveTo>
                      <a:lnTo>
                        <a:pt x="0" y="47"/>
                      </a:lnTo>
                      <a:lnTo>
                        <a:pt x="0" y="31"/>
                      </a:lnTo>
                      <a:lnTo>
                        <a:pt x="14" y="0"/>
                      </a:lnTo>
                      <a:lnTo>
                        <a:pt x="28" y="0"/>
                      </a:lnTo>
                      <a:lnTo>
                        <a:pt x="28" y="16"/>
                      </a:lnTo>
                      <a:lnTo>
                        <a:pt x="42" y="16"/>
                      </a:lnTo>
                      <a:lnTo>
                        <a:pt x="56" y="16"/>
                      </a:lnTo>
                      <a:lnTo>
                        <a:pt x="70" y="16"/>
                      </a:lnTo>
                      <a:lnTo>
                        <a:pt x="83" y="16"/>
                      </a:lnTo>
                      <a:lnTo>
                        <a:pt x="70" y="31"/>
                      </a:lnTo>
                      <a:lnTo>
                        <a:pt x="70" y="47"/>
                      </a:lnTo>
                      <a:lnTo>
                        <a:pt x="42" y="63"/>
                      </a:lnTo>
                      <a:lnTo>
                        <a:pt x="28" y="79"/>
                      </a:lnTo>
                      <a:lnTo>
                        <a:pt x="0" y="79"/>
                      </a:lnTo>
                      <a:close/>
                    </a:path>
                  </a:pathLst>
                </a:custGeom>
                <a:solidFill>
                  <a:srgbClr val="00937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6" name=""/>
                <p:cNvSpPr/>
                <p:nvPr/>
              </p:nvSpPr>
              <p:spPr>
                <a:xfrm>
                  <a:off x="8520120" y="3537000"/>
                  <a:ext cx="44280" cy="41400"/>
                </a:xfrm>
                <a:custGeom>
                  <a:avLst/>
                  <a:gdLst/>
                  <a:ahLst/>
                  <a:rect l="l" t="t" r="r" b="b"/>
                  <a:pathLst>
                    <a:path w="83" h="79">
                      <a:moveTo>
                        <a:pt x="0" y="79"/>
                      </a:moveTo>
                      <a:lnTo>
                        <a:pt x="0" y="47"/>
                      </a:lnTo>
                      <a:lnTo>
                        <a:pt x="0" y="31"/>
                      </a:lnTo>
                      <a:lnTo>
                        <a:pt x="14" y="0"/>
                      </a:lnTo>
                      <a:lnTo>
                        <a:pt x="28" y="0"/>
                      </a:lnTo>
                      <a:lnTo>
                        <a:pt x="28" y="16"/>
                      </a:lnTo>
                      <a:lnTo>
                        <a:pt x="42" y="16"/>
                      </a:lnTo>
                      <a:lnTo>
                        <a:pt x="56" y="16"/>
                      </a:lnTo>
                      <a:lnTo>
                        <a:pt x="70" y="16"/>
                      </a:lnTo>
                      <a:lnTo>
                        <a:pt x="83" y="16"/>
                      </a:lnTo>
                      <a:lnTo>
                        <a:pt x="70" y="31"/>
                      </a:lnTo>
                      <a:lnTo>
                        <a:pt x="70" y="47"/>
                      </a:lnTo>
                      <a:lnTo>
                        <a:pt x="42" y="63"/>
                      </a:lnTo>
                      <a:lnTo>
                        <a:pt x="28" y="79"/>
                      </a:lnTo>
                      <a:lnTo>
                        <a:pt x="0" y="79"/>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7" name=""/>
                <p:cNvSpPr/>
                <p:nvPr/>
              </p:nvSpPr>
              <p:spPr>
                <a:xfrm>
                  <a:off x="8710560" y="3537000"/>
                  <a:ext cx="109440" cy="92160"/>
                </a:xfrm>
                <a:custGeom>
                  <a:avLst/>
                  <a:gdLst/>
                  <a:ahLst/>
                  <a:rect l="l" t="t" r="r" b="b"/>
                  <a:pathLst>
                    <a:path w="207" h="173">
                      <a:moveTo>
                        <a:pt x="207" y="31"/>
                      </a:moveTo>
                      <a:lnTo>
                        <a:pt x="194" y="47"/>
                      </a:lnTo>
                      <a:lnTo>
                        <a:pt x="180" y="63"/>
                      </a:lnTo>
                      <a:lnTo>
                        <a:pt x="152" y="79"/>
                      </a:lnTo>
                      <a:lnTo>
                        <a:pt x="138" y="79"/>
                      </a:lnTo>
                      <a:lnTo>
                        <a:pt x="124" y="79"/>
                      </a:lnTo>
                      <a:lnTo>
                        <a:pt x="138" y="94"/>
                      </a:lnTo>
                      <a:lnTo>
                        <a:pt x="111" y="94"/>
                      </a:lnTo>
                      <a:lnTo>
                        <a:pt x="97" y="110"/>
                      </a:lnTo>
                      <a:lnTo>
                        <a:pt x="83" y="110"/>
                      </a:lnTo>
                      <a:lnTo>
                        <a:pt x="83" y="126"/>
                      </a:lnTo>
                      <a:lnTo>
                        <a:pt x="69" y="141"/>
                      </a:lnTo>
                      <a:lnTo>
                        <a:pt x="42" y="158"/>
                      </a:lnTo>
                      <a:lnTo>
                        <a:pt x="14" y="173"/>
                      </a:lnTo>
                      <a:lnTo>
                        <a:pt x="0" y="141"/>
                      </a:lnTo>
                      <a:lnTo>
                        <a:pt x="14" y="126"/>
                      </a:lnTo>
                      <a:lnTo>
                        <a:pt x="28" y="110"/>
                      </a:lnTo>
                      <a:lnTo>
                        <a:pt x="55" y="94"/>
                      </a:lnTo>
                      <a:lnTo>
                        <a:pt x="69" y="94"/>
                      </a:lnTo>
                      <a:lnTo>
                        <a:pt x="111" y="79"/>
                      </a:lnTo>
                      <a:lnTo>
                        <a:pt x="138" y="47"/>
                      </a:lnTo>
                      <a:lnTo>
                        <a:pt x="180" y="16"/>
                      </a:lnTo>
                      <a:lnTo>
                        <a:pt x="207" y="0"/>
                      </a:lnTo>
                      <a:lnTo>
                        <a:pt x="207" y="16"/>
                      </a:lnTo>
                      <a:lnTo>
                        <a:pt x="207" y="31"/>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8710560" y="3537000"/>
                  <a:ext cx="109440" cy="92160"/>
                </a:xfrm>
                <a:custGeom>
                  <a:avLst/>
                  <a:gdLst/>
                  <a:ahLst/>
                  <a:rect l="l" t="t" r="r" b="b"/>
                  <a:pathLst>
                    <a:path w="207" h="173">
                      <a:moveTo>
                        <a:pt x="207" y="31"/>
                      </a:moveTo>
                      <a:lnTo>
                        <a:pt x="194" y="47"/>
                      </a:lnTo>
                      <a:lnTo>
                        <a:pt x="180" y="63"/>
                      </a:lnTo>
                      <a:lnTo>
                        <a:pt x="152" y="79"/>
                      </a:lnTo>
                      <a:lnTo>
                        <a:pt x="138" y="79"/>
                      </a:lnTo>
                      <a:lnTo>
                        <a:pt x="124" y="79"/>
                      </a:lnTo>
                      <a:lnTo>
                        <a:pt x="138" y="94"/>
                      </a:lnTo>
                      <a:lnTo>
                        <a:pt x="111" y="94"/>
                      </a:lnTo>
                      <a:lnTo>
                        <a:pt x="97" y="110"/>
                      </a:lnTo>
                      <a:lnTo>
                        <a:pt x="83" y="110"/>
                      </a:lnTo>
                      <a:lnTo>
                        <a:pt x="83" y="126"/>
                      </a:lnTo>
                      <a:lnTo>
                        <a:pt x="69" y="141"/>
                      </a:lnTo>
                      <a:lnTo>
                        <a:pt x="42" y="158"/>
                      </a:lnTo>
                      <a:lnTo>
                        <a:pt x="14" y="173"/>
                      </a:lnTo>
                      <a:lnTo>
                        <a:pt x="0" y="141"/>
                      </a:lnTo>
                      <a:lnTo>
                        <a:pt x="14" y="126"/>
                      </a:lnTo>
                      <a:lnTo>
                        <a:pt x="28" y="110"/>
                      </a:lnTo>
                      <a:lnTo>
                        <a:pt x="55" y="94"/>
                      </a:lnTo>
                      <a:lnTo>
                        <a:pt x="69" y="94"/>
                      </a:lnTo>
                      <a:lnTo>
                        <a:pt x="111" y="79"/>
                      </a:lnTo>
                      <a:lnTo>
                        <a:pt x="138" y="47"/>
                      </a:lnTo>
                      <a:lnTo>
                        <a:pt x="180" y="16"/>
                      </a:lnTo>
                      <a:lnTo>
                        <a:pt x="207" y="0"/>
                      </a:lnTo>
                      <a:lnTo>
                        <a:pt x="207" y="16"/>
                      </a:lnTo>
                      <a:lnTo>
                        <a:pt x="207" y="3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
                <p:cNvSpPr/>
                <p:nvPr/>
              </p:nvSpPr>
              <p:spPr>
                <a:xfrm>
                  <a:off x="6276960" y="3645000"/>
                  <a:ext cx="6480" cy="1440"/>
                </a:xfrm>
                <a:custGeom>
                  <a:avLst/>
                  <a:gdLst/>
                  <a:ahLst/>
                  <a:rect l="l" t="t" r="r" b="b"/>
                  <a:pathLst>
                    <a:path w="14" h="0">
                      <a:moveTo>
                        <a:pt x="0" y="0"/>
                      </a:moveTo>
                      <a:lnTo>
                        <a:pt x="14" y="0"/>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6276960" y="3645000"/>
                  <a:ext cx="6480" cy="1440"/>
                </a:xfrm>
                <a:custGeom>
                  <a:avLst/>
                  <a:gdLst/>
                  <a:ahLst/>
                  <a:rect l="l" t="t" r="r" b="b"/>
                  <a:pathLst>
                    <a:path w="14" h="0">
                      <a:moveTo>
                        <a:pt x="0" y="0"/>
                      </a:moveTo>
                      <a:lnTo>
                        <a:pt x="14"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
                <p:cNvSpPr/>
                <p:nvPr/>
              </p:nvSpPr>
              <p:spPr>
                <a:xfrm>
                  <a:off x="6350040" y="3711600"/>
                  <a:ext cx="58680" cy="25200"/>
                </a:xfrm>
                <a:custGeom>
                  <a:avLst/>
                  <a:gdLst/>
                  <a:ahLst/>
                  <a:rect l="l" t="t" r="r" b="b"/>
                  <a:pathLst>
                    <a:path w="112" h="47">
                      <a:moveTo>
                        <a:pt x="28" y="0"/>
                      </a:moveTo>
                      <a:lnTo>
                        <a:pt x="42" y="0"/>
                      </a:lnTo>
                      <a:lnTo>
                        <a:pt x="42" y="15"/>
                      </a:lnTo>
                      <a:lnTo>
                        <a:pt x="69" y="15"/>
                      </a:lnTo>
                      <a:lnTo>
                        <a:pt x="83" y="32"/>
                      </a:lnTo>
                      <a:lnTo>
                        <a:pt x="112" y="47"/>
                      </a:lnTo>
                      <a:lnTo>
                        <a:pt x="69" y="32"/>
                      </a:lnTo>
                      <a:lnTo>
                        <a:pt x="42" y="15"/>
                      </a:lnTo>
                      <a:lnTo>
                        <a:pt x="0" y="0"/>
                      </a:lnTo>
                      <a:lnTo>
                        <a:pt x="28" y="0"/>
                      </a:lnTo>
                      <a:close/>
                    </a:path>
                  </a:pathLst>
                </a:custGeom>
                <a:solidFill>
                  <a:srgbClr val="00937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2" name=""/>
                <p:cNvSpPr/>
                <p:nvPr/>
              </p:nvSpPr>
              <p:spPr>
                <a:xfrm>
                  <a:off x="6350040" y="3711600"/>
                  <a:ext cx="58680" cy="25200"/>
                </a:xfrm>
                <a:custGeom>
                  <a:avLst/>
                  <a:gdLst/>
                  <a:ahLst/>
                  <a:rect l="l" t="t" r="r" b="b"/>
                  <a:pathLst>
                    <a:path w="112" h="47">
                      <a:moveTo>
                        <a:pt x="28" y="0"/>
                      </a:moveTo>
                      <a:lnTo>
                        <a:pt x="42" y="0"/>
                      </a:lnTo>
                      <a:lnTo>
                        <a:pt x="42" y="15"/>
                      </a:lnTo>
                      <a:lnTo>
                        <a:pt x="69" y="15"/>
                      </a:lnTo>
                      <a:lnTo>
                        <a:pt x="83" y="32"/>
                      </a:lnTo>
                      <a:lnTo>
                        <a:pt x="112" y="47"/>
                      </a:lnTo>
                      <a:lnTo>
                        <a:pt x="69" y="32"/>
                      </a:lnTo>
                      <a:lnTo>
                        <a:pt x="42" y="15"/>
                      </a:lnTo>
                      <a:lnTo>
                        <a:pt x="0" y="0"/>
                      </a:lnTo>
                      <a:lnTo>
                        <a:pt x="28"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3" name=""/>
                <p:cNvSpPr/>
                <p:nvPr/>
              </p:nvSpPr>
              <p:spPr>
                <a:xfrm>
                  <a:off x="6672240" y="3728880"/>
                  <a:ext cx="14400" cy="7920"/>
                </a:xfrm>
                <a:custGeom>
                  <a:avLst/>
                  <a:gdLst/>
                  <a:ahLst/>
                  <a:rect l="l" t="t" r="r" b="b"/>
                  <a:pathLst>
                    <a:path w="28" h="15">
                      <a:moveTo>
                        <a:pt x="28" y="15"/>
                      </a:moveTo>
                      <a:lnTo>
                        <a:pt x="14" y="15"/>
                      </a:lnTo>
                      <a:lnTo>
                        <a:pt x="0" y="0"/>
                      </a:lnTo>
                      <a:lnTo>
                        <a:pt x="14" y="15"/>
                      </a:lnTo>
                      <a:lnTo>
                        <a:pt x="28" y="15"/>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4" name=""/>
                <p:cNvSpPr/>
                <p:nvPr/>
              </p:nvSpPr>
              <p:spPr>
                <a:xfrm>
                  <a:off x="6672240" y="3728880"/>
                  <a:ext cx="14400" cy="7920"/>
                </a:xfrm>
                <a:custGeom>
                  <a:avLst/>
                  <a:gdLst/>
                  <a:ahLst/>
                  <a:rect l="l" t="t" r="r" b="b"/>
                  <a:pathLst>
                    <a:path w="28" h="15">
                      <a:moveTo>
                        <a:pt x="28" y="15"/>
                      </a:moveTo>
                      <a:lnTo>
                        <a:pt x="14" y="15"/>
                      </a:lnTo>
                      <a:lnTo>
                        <a:pt x="0" y="0"/>
                      </a:lnTo>
                      <a:lnTo>
                        <a:pt x="14" y="15"/>
                      </a:lnTo>
                      <a:lnTo>
                        <a:pt x="28"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5" name=""/>
                <p:cNvSpPr/>
                <p:nvPr/>
              </p:nvSpPr>
              <p:spPr>
                <a:xfrm>
                  <a:off x="6364440" y="3736800"/>
                  <a:ext cx="14040" cy="9720"/>
                </a:xfrm>
                <a:custGeom>
                  <a:avLst/>
                  <a:gdLst/>
                  <a:ahLst/>
                  <a:rect l="l" t="t" r="r" b="b"/>
                  <a:pathLst>
                    <a:path w="27" h="17">
                      <a:moveTo>
                        <a:pt x="27" y="0"/>
                      </a:moveTo>
                      <a:lnTo>
                        <a:pt x="14" y="17"/>
                      </a:lnTo>
                      <a:lnTo>
                        <a:pt x="0" y="17"/>
                      </a:lnTo>
                      <a:lnTo>
                        <a:pt x="14" y="17"/>
                      </a:lnTo>
                      <a:lnTo>
                        <a:pt x="27" y="0"/>
                      </a:lnTo>
                      <a:close/>
                    </a:path>
                  </a:pathLst>
                </a:custGeom>
                <a:solidFill>
                  <a:srgbClr val="00937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6" name=""/>
                <p:cNvSpPr/>
                <p:nvPr/>
              </p:nvSpPr>
              <p:spPr>
                <a:xfrm>
                  <a:off x="6364440" y="3736800"/>
                  <a:ext cx="14040" cy="9720"/>
                </a:xfrm>
                <a:custGeom>
                  <a:avLst/>
                  <a:gdLst/>
                  <a:ahLst/>
                  <a:rect l="l" t="t" r="r" b="b"/>
                  <a:pathLst>
                    <a:path w="27" h="17">
                      <a:moveTo>
                        <a:pt x="27" y="0"/>
                      </a:moveTo>
                      <a:lnTo>
                        <a:pt x="14" y="17"/>
                      </a:lnTo>
                      <a:lnTo>
                        <a:pt x="0" y="17"/>
                      </a:lnTo>
                      <a:lnTo>
                        <a:pt x="14" y="17"/>
                      </a:lnTo>
                      <a:lnTo>
                        <a:pt x="27"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7" name=""/>
                <p:cNvSpPr/>
                <p:nvPr/>
              </p:nvSpPr>
              <p:spPr>
                <a:xfrm>
                  <a:off x="6437160" y="3921120"/>
                  <a:ext cx="44640" cy="41400"/>
                </a:xfrm>
                <a:custGeom>
                  <a:avLst/>
                  <a:gdLst/>
                  <a:ahLst/>
                  <a:rect l="l" t="t" r="r" b="b"/>
                  <a:pathLst>
                    <a:path w="83" h="79">
                      <a:moveTo>
                        <a:pt x="42" y="79"/>
                      </a:moveTo>
                      <a:lnTo>
                        <a:pt x="28" y="79"/>
                      </a:lnTo>
                      <a:lnTo>
                        <a:pt x="28" y="64"/>
                      </a:lnTo>
                      <a:lnTo>
                        <a:pt x="28" y="47"/>
                      </a:lnTo>
                      <a:lnTo>
                        <a:pt x="14" y="32"/>
                      </a:lnTo>
                      <a:lnTo>
                        <a:pt x="0" y="16"/>
                      </a:lnTo>
                      <a:lnTo>
                        <a:pt x="0" y="0"/>
                      </a:lnTo>
                      <a:lnTo>
                        <a:pt x="14" y="0"/>
                      </a:lnTo>
                      <a:lnTo>
                        <a:pt x="42" y="16"/>
                      </a:lnTo>
                      <a:lnTo>
                        <a:pt x="70" y="47"/>
                      </a:lnTo>
                      <a:lnTo>
                        <a:pt x="83" y="64"/>
                      </a:lnTo>
                      <a:lnTo>
                        <a:pt x="70" y="79"/>
                      </a:lnTo>
                      <a:lnTo>
                        <a:pt x="56" y="79"/>
                      </a:lnTo>
                      <a:lnTo>
                        <a:pt x="42" y="79"/>
                      </a:lnTo>
                      <a:close/>
                    </a:path>
                  </a:pathLst>
                </a:custGeom>
                <a:solidFill>
                  <a:srgbClr val="00937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6437160" y="3921120"/>
                  <a:ext cx="44640" cy="41400"/>
                </a:xfrm>
                <a:custGeom>
                  <a:avLst/>
                  <a:gdLst/>
                  <a:ahLst/>
                  <a:rect l="l" t="t" r="r" b="b"/>
                  <a:pathLst>
                    <a:path w="83" h="79">
                      <a:moveTo>
                        <a:pt x="42" y="79"/>
                      </a:moveTo>
                      <a:lnTo>
                        <a:pt x="28" y="79"/>
                      </a:lnTo>
                      <a:lnTo>
                        <a:pt x="28" y="64"/>
                      </a:lnTo>
                      <a:lnTo>
                        <a:pt x="28" y="47"/>
                      </a:lnTo>
                      <a:lnTo>
                        <a:pt x="14" y="32"/>
                      </a:lnTo>
                      <a:lnTo>
                        <a:pt x="0" y="16"/>
                      </a:lnTo>
                      <a:lnTo>
                        <a:pt x="0" y="0"/>
                      </a:lnTo>
                      <a:lnTo>
                        <a:pt x="14" y="0"/>
                      </a:lnTo>
                      <a:lnTo>
                        <a:pt x="42" y="16"/>
                      </a:lnTo>
                      <a:lnTo>
                        <a:pt x="70" y="47"/>
                      </a:lnTo>
                      <a:lnTo>
                        <a:pt x="83" y="64"/>
                      </a:lnTo>
                      <a:lnTo>
                        <a:pt x="70" y="79"/>
                      </a:lnTo>
                      <a:lnTo>
                        <a:pt x="56" y="79"/>
                      </a:lnTo>
                      <a:lnTo>
                        <a:pt x="42" y="79"/>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9" name=""/>
                <p:cNvSpPr/>
                <p:nvPr/>
              </p:nvSpPr>
              <p:spPr>
                <a:xfrm>
                  <a:off x="6218280" y="3954600"/>
                  <a:ext cx="50760" cy="7920"/>
                </a:xfrm>
                <a:custGeom>
                  <a:avLst/>
                  <a:gdLst/>
                  <a:ahLst/>
                  <a:rect l="l" t="t" r="r" b="b"/>
                  <a:pathLst>
                    <a:path w="97" h="15">
                      <a:moveTo>
                        <a:pt x="97" y="15"/>
                      </a:moveTo>
                      <a:lnTo>
                        <a:pt x="69" y="15"/>
                      </a:lnTo>
                      <a:lnTo>
                        <a:pt x="42" y="15"/>
                      </a:lnTo>
                      <a:lnTo>
                        <a:pt x="0" y="15"/>
                      </a:lnTo>
                      <a:lnTo>
                        <a:pt x="0" y="0"/>
                      </a:lnTo>
                      <a:lnTo>
                        <a:pt x="28" y="0"/>
                      </a:lnTo>
                      <a:lnTo>
                        <a:pt x="42" y="0"/>
                      </a:lnTo>
                      <a:lnTo>
                        <a:pt x="69" y="0"/>
                      </a:lnTo>
                      <a:lnTo>
                        <a:pt x="97" y="15"/>
                      </a:lnTo>
                      <a:close/>
                    </a:path>
                  </a:pathLst>
                </a:custGeom>
                <a:solidFill>
                  <a:srgbClr val="0093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0" name=""/>
                <p:cNvSpPr/>
                <p:nvPr/>
              </p:nvSpPr>
              <p:spPr>
                <a:xfrm>
                  <a:off x="6218280" y="3954600"/>
                  <a:ext cx="50760" cy="7920"/>
                </a:xfrm>
                <a:custGeom>
                  <a:avLst/>
                  <a:gdLst/>
                  <a:ahLst/>
                  <a:rect l="l" t="t" r="r" b="b"/>
                  <a:pathLst>
                    <a:path w="97" h="15">
                      <a:moveTo>
                        <a:pt x="97" y="15"/>
                      </a:moveTo>
                      <a:lnTo>
                        <a:pt x="69" y="15"/>
                      </a:lnTo>
                      <a:lnTo>
                        <a:pt x="42" y="15"/>
                      </a:lnTo>
                      <a:lnTo>
                        <a:pt x="0" y="15"/>
                      </a:lnTo>
                      <a:lnTo>
                        <a:pt x="0" y="0"/>
                      </a:lnTo>
                      <a:lnTo>
                        <a:pt x="28" y="0"/>
                      </a:lnTo>
                      <a:lnTo>
                        <a:pt x="42" y="0"/>
                      </a:lnTo>
                      <a:lnTo>
                        <a:pt x="69" y="0"/>
                      </a:lnTo>
                      <a:lnTo>
                        <a:pt x="97" y="1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1" name=""/>
                <p:cNvSpPr/>
                <p:nvPr/>
              </p:nvSpPr>
              <p:spPr>
                <a:xfrm>
                  <a:off x="5851440" y="3862440"/>
                  <a:ext cx="2529000" cy="258840"/>
                </a:xfrm>
                <a:custGeom>
                  <a:avLst/>
                  <a:gdLst/>
                  <a:ahLst/>
                  <a:rect l="l" t="t" r="r" b="b"/>
                  <a:pathLst>
                    <a:path w="4780" h="489">
                      <a:moveTo>
                        <a:pt x="0" y="426"/>
                      </a:moveTo>
                      <a:lnTo>
                        <a:pt x="42" y="426"/>
                      </a:lnTo>
                      <a:lnTo>
                        <a:pt x="83" y="426"/>
                      </a:lnTo>
                      <a:lnTo>
                        <a:pt x="125" y="426"/>
                      </a:lnTo>
                      <a:lnTo>
                        <a:pt x="166" y="426"/>
                      </a:lnTo>
                      <a:lnTo>
                        <a:pt x="208" y="426"/>
                      </a:lnTo>
                      <a:lnTo>
                        <a:pt x="237" y="411"/>
                      </a:lnTo>
                      <a:lnTo>
                        <a:pt x="264" y="411"/>
                      </a:lnTo>
                      <a:lnTo>
                        <a:pt x="292" y="394"/>
                      </a:lnTo>
                      <a:lnTo>
                        <a:pt x="292" y="379"/>
                      </a:lnTo>
                      <a:lnTo>
                        <a:pt x="264" y="379"/>
                      </a:lnTo>
                      <a:lnTo>
                        <a:pt x="251" y="379"/>
                      </a:lnTo>
                      <a:lnTo>
                        <a:pt x="221" y="379"/>
                      </a:lnTo>
                      <a:lnTo>
                        <a:pt x="208" y="379"/>
                      </a:lnTo>
                      <a:lnTo>
                        <a:pt x="194" y="362"/>
                      </a:lnTo>
                      <a:lnTo>
                        <a:pt x="208" y="362"/>
                      </a:lnTo>
                      <a:lnTo>
                        <a:pt x="221" y="347"/>
                      </a:lnTo>
                      <a:lnTo>
                        <a:pt x="237" y="347"/>
                      </a:lnTo>
                      <a:lnTo>
                        <a:pt x="221" y="332"/>
                      </a:lnTo>
                      <a:lnTo>
                        <a:pt x="208" y="332"/>
                      </a:lnTo>
                      <a:lnTo>
                        <a:pt x="180" y="332"/>
                      </a:lnTo>
                      <a:lnTo>
                        <a:pt x="138" y="315"/>
                      </a:lnTo>
                      <a:lnTo>
                        <a:pt x="111" y="315"/>
                      </a:lnTo>
                      <a:lnTo>
                        <a:pt x="83" y="315"/>
                      </a:lnTo>
                      <a:lnTo>
                        <a:pt x="69" y="315"/>
                      </a:lnTo>
                      <a:lnTo>
                        <a:pt x="55" y="315"/>
                      </a:lnTo>
                      <a:lnTo>
                        <a:pt x="97" y="300"/>
                      </a:lnTo>
                      <a:lnTo>
                        <a:pt x="125" y="283"/>
                      </a:lnTo>
                      <a:lnTo>
                        <a:pt x="166" y="283"/>
                      </a:lnTo>
                      <a:lnTo>
                        <a:pt x="152" y="268"/>
                      </a:lnTo>
                      <a:lnTo>
                        <a:pt x="138" y="268"/>
                      </a:lnTo>
                      <a:lnTo>
                        <a:pt x="125" y="268"/>
                      </a:lnTo>
                      <a:lnTo>
                        <a:pt x="166" y="253"/>
                      </a:lnTo>
                      <a:lnTo>
                        <a:pt x="194" y="253"/>
                      </a:lnTo>
                      <a:lnTo>
                        <a:pt x="221" y="236"/>
                      </a:lnTo>
                      <a:lnTo>
                        <a:pt x="251" y="236"/>
                      </a:lnTo>
                      <a:lnTo>
                        <a:pt x="292" y="236"/>
                      </a:lnTo>
                      <a:lnTo>
                        <a:pt x="320" y="236"/>
                      </a:lnTo>
                      <a:lnTo>
                        <a:pt x="347" y="236"/>
                      </a:lnTo>
                      <a:lnTo>
                        <a:pt x="389" y="236"/>
                      </a:lnTo>
                      <a:lnTo>
                        <a:pt x="416" y="236"/>
                      </a:lnTo>
                      <a:lnTo>
                        <a:pt x="458" y="236"/>
                      </a:lnTo>
                      <a:lnTo>
                        <a:pt x="486" y="236"/>
                      </a:lnTo>
                      <a:lnTo>
                        <a:pt x="513" y="236"/>
                      </a:lnTo>
                      <a:lnTo>
                        <a:pt x="555" y="236"/>
                      </a:lnTo>
                      <a:lnTo>
                        <a:pt x="582" y="236"/>
                      </a:lnTo>
                      <a:lnTo>
                        <a:pt x="610" y="236"/>
                      </a:lnTo>
                      <a:lnTo>
                        <a:pt x="638" y="253"/>
                      </a:lnTo>
                      <a:lnTo>
                        <a:pt x="665" y="253"/>
                      </a:lnTo>
                      <a:lnTo>
                        <a:pt x="693" y="253"/>
                      </a:lnTo>
                      <a:lnTo>
                        <a:pt x="721" y="253"/>
                      </a:lnTo>
                      <a:lnTo>
                        <a:pt x="762" y="253"/>
                      </a:lnTo>
                      <a:lnTo>
                        <a:pt x="790" y="253"/>
                      </a:lnTo>
                      <a:lnTo>
                        <a:pt x="776" y="253"/>
                      </a:lnTo>
                      <a:lnTo>
                        <a:pt x="762" y="253"/>
                      </a:lnTo>
                      <a:lnTo>
                        <a:pt x="735" y="236"/>
                      </a:lnTo>
                      <a:lnTo>
                        <a:pt x="721" y="236"/>
                      </a:lnTo>
                      <a:lnTo>
                        <a:pt x="707" y="221"/>
                      </a:lnTo>
                      <a:lnTo>
                        <a:pt x="721" y="221"/>
                      </a:lnTo>
                      <a:lnTo>
                        <a:pt x="735" y="221"/>
                      </a:lnTo>
                      <a:lnTo>
                        <a:pt x="748" y="221"/>
                      </a:lnTo>
                      <a:lnTo>
                        <a:pt x="762" y="221"/>
                      </a:lnTo>
                      <a:lnTo>
                        <a:pt x="776" y="221"/>
                      </a:lnTo>
                      <a:lnTo>
                        <a:pt x="762" y="204"/>
                      </a:lnTo>
                      <a:lnTo>
                        <a:pt x="748" y="204"/>
                      </a:lnTo>
                      <a:lnTo>
                        <a:pt x="776" y="221"/>
                      </a:lnTo>
                      <a:lnTo>
                        <a:pt x="818" y="221"/>
                      </a:lnTo>
                      <a:lnTo>
                        <a:pt x="845" y="221"/>
                      </a:lnTo>
                      <a:lnTo>
                        <a:pt x="887" y="221"/>
                      </a:lnTo>
                      <a:lnTo>
                        <a:pt x="928" y="221"/>
                      </a:lnTo>
                      <a:lnTo>
                        <a:pt x="956" y="221"/>
                      </a:lnTo>
                      <a:lnTo>
                        <a:pt x="997" y="221"/>
                      </a:lnTo>
                      <a:lnTo>
                        <a:pt x="1025" y="221"/>
                      </a:lnTo>
                      <a:lnTo>
                        <a:pt x="1040" y="204"/>
                      </a:lnTo>
                      <a:lnTo>
                        <a:pt x="1054" y="204"/>
                      </a:lnTo>
                      <a:lnTo>
                        <a:pt x="1068" y="221"/>
                      </a:lnTo>
                      <a:lnTo>
                        <a:pt x="1109" y="221"/>
                      </a:lnTo>
                      <a:lnTo>
                        <a:pt x="1165" y="221"/>
                      </a:lnTo>
                      <a:lnTo>
                        <a:pt x="1192" y="204"/>
                      </a:lnTo>
                      <a:lnTo>
                        <a:pt x="1206" y="174"/>
                      </a:lnTo>
                      <a:lnTo>
                        <a:pt x="1179" y="142"/>
                      </a:lnTo>
                      <a:lnTo>
                        <a:pt x="1165" y="126"/>
                      </a:lnTo>
                      <a:lnTo>
                        <a:pt x="1151" y="79"/>
                      </a:lnTo>
                      <a:lnTo>
                        <a:pt x="1165" y="63"/>
                      </a:lnTo>
                      <a:lnTo>
                        <a:pt x="1192" y="47"/>
                      </a:lnTo>
                      <a:lnTo>
                        <a:pt x="1206" y="16"/>
                      </a:lnTo>
                      <a:lnTo>
                        <a:pt x="1220" y="0"/>
                      </a:lnTo>
                      <a:lnTo>
                        <a:pt x="1248" y="0"/>
                      </a:lnTo>
                      <a:lnTo>
                        <a:pt x="1262" y="0"/>
                      </a:lnTo>
                      <a:lnTo>
                        <a:pt x="1262" y="31"/>
                      </a:lnTo>
                      <a:lnTo>
                        <a:pt x="1248" y="47"/>
                      </a:lnTo>
                      <a:lnTo>
                        <a:pt x="1234" y="47"/>
                      </a:lnTo>
                      <a:lnTo>
                        <a:pt x="1220" y="63"/>
                      </a:lnTo>
                      <a:lnTo>
                        <a:pt x="1192" y="63"/>
                      </a:lnTo>
                      <a:lnTo>
                        <a:pt x="1192" y="79"/>
                      </a:lnTo>
                      <a:lnTo>
                        <a:pt x="1179" y="95"/>
                      </a:lnTo>
                      <a:lnTo>
                        <a:pt x="1206" y="110"/>
                      </a:lnTo>
                      <a:lnTo>
                        <a:pt x="1220" y="95"/>
                      </a:lnTo>
                      <a:lnTo>
                        <a:pt x="1234" y="110"/>
                      </a:lnTo>
                      <a:lnTo>
                        <a:pt x="1248" y="110"/>
                      </a:lnTo>
                      <a:lnTo>
                        <a:pt x="1262" y="126"/>
                      </a:lnTo>
                      <a:lnTo>
                        <a:pt x="1289" y="157"/>
                      </a:lnTo>
                      <a:lnTo>
                        <a:pt x="1317" y="189"/>
                      </a:lnTo>
                      <a:lnTo>
                        <a:pt x="1345" y="236"/>
                      </a:lnTo>
                      <a:lnTo>
                        <a:pt x="1331" y="236"/>
                      </a:lnTo>
                      <a:lnTo>
                        <a:pt x="1317" y="236"/>
                      </a:lnTo>
                      <a:lnTo>
                        <a:pt x="1317" y="253"/>
                      </a:lnTo>
                      <a:lnTo>
                        <a:pt x="1303" y="253"/>
                      </a:lnTo>
                      <a:lnTo>
                        <a:pt x="1262" y="253"/>
                      </a:lnTo>
                      <a:lnTo>
                        <a:pt x="1220" y="268"/>
                      </a:lnTo>
                      <a:lnTo>
                        <a:pt x="1192" y="268"/>
                      </a:lnTo>
                      <a:lnTo>
                        <a:pt x="1151" y="268"/>
                      </a:lnTo>
                      <a:lnTo>
                        <a:pt x="1109" y="268"/>
                      </a:lnTo>
                      <a:lnTo>
                        <a:pt x="1068" y="283"/>
                      </a:lnTo>
                      <a:lnTo>
                        <a:pt x="1040" y="283"/>
                      </a:lnTo>
                      <a:lnTo>
                        <a:pt x="1040" y="300"/>
                      </a:lnTo>
                      <a:lnTo>
                        <a:pt x="1082" y="300"/>
                      </a:lnTo>
                      <a:lnTo>
                        <a:pt x="1123" y="300"/>
                      </a:lnTo>
                      <a:lnTo>
                        <a:pt x="1165" y="315"/>
                      </a:lnTo>
                      <a:lnTo>
                        <a:pt x="1179" y="332"/>
                      </a:lnTo>
                      <a:lnTo>
                        <a:pt x="1192" y="332"/>
                      </a:lnTo>
                      <a:lnTo>
                        <a:pt x="1179" y="332"/>
                      </a:lnTo>
                      <a:lnTo>
                        <a:pt x="1165" y="332"/>
                      </a:lnTo>
                      <a:lnTo>
                        <a:pt x="1151" y="332"/>
                      </a:lnTo>
                      <a:lnTo>
                        <a:pt x="1137" y="332"/>
                      </a:lnTo>
                      <a:lnTo>
                        <a:pt x="1123" y="332"/>
                      </a:lnTo>
                      <a:lnTo>
                        <a:pt x="1109" y="332"/>
                      </a:lnTo>
                      <a:lnTo>
                        <a:pt x="1096" y="332"/>
                      </a:lnTo>
                      <a:lnTo>
                        <a:pt x="1109" y="332"/>
                      </a:lnTo>
                      <a:lnTo>
                        <a:pt x="1137" y="347"/>
                      </a:lnTo>
                      <a:lnTo>
                        <a:pt x="1165" y="347"/>
                      </a:lnTo>
                      <a:lnTo>
                        <a:pt x="1179" y="347"/>
                      </a:lnTo>
                      <a:lnTo>
                        <a:pt x="1192" y="347"/>
                      </a:lnTo>
                      <a:lnTo>
                        <a:pt x="1206" y="347"/>
                      </a:lnTo>
                      <a:lnTo>
                        <a:pt x="1234" y="362"/>
                      </a:lnTo>
                      <a:lnTo>
                        <a:pt x="1275" y="362"/>
                      </a:lnTo>
                      <a:lnTo>
                        <a:pt x="1303" y="362"/>
                      </a:lnTo>
                      <a:lnTo>
                        <a:pt x="1317" y="362"/>
                      </a:lnTo>
                      <a:lnTo>
                        <a:pt x="1345" y="379"/>
                      </a:lnTo>
                      <a:lnTo>
                        <a:pt x="1358" y="379"/>
                      </a:lnTo>
                      <a:lnTo>
                        <a:pt x="1386" y="379"/>
                      </a:lnTo>
                      <a:lnTo>
                        <a:pt x="1400" y="379"/>
                      </a:lnTo>
                      <a:lnTo>
                        <a:pt x="1414" y="379"/>
                      </a:lnTo>
                      <a:lnTo>
                        <a:pt x="1428" y="379"/>
                      </a:lnTo>
                      <a:lnTo>
                        <a:pt x="1441" y="379"/>
                      </a:lnTo>
                      <a:lnTo>
                        <a:pt x="1469" y="379"/>
                      </a:lnTo>
                      <a:lnTo>
                        <a:pt x="1483" y="379"/>
                      </a:lnTo>
                      <a:lnTo>
                        <a:pt x="1511" y="379"/>
                      </a:lnTo>
                      <a:lnTo>
                        <a:pt x="1538" y="379"/>
                      </a:lnTo>
                      <a:lnTo>
                        <a:pt x="1566" y="379"/>
                      </a:lnTo>
                      <a:lnTo>
                        <a:pt x="1594" y="379"/>
                      </a:lnTo>
                      <a:lnTo>
                        <a:pt x="1635" y="379"/>
                      </a:lnTo>
                      <a:lnTo>
                        <a:pt x="1677" y="379"/>
                      </a:lnTo>
                      <a:lnTo>
                        <a:pt x="1718" y="362"/>
                      </a:lnTo>
                      <a:lnTo>
                        <a:pt x="1759" y="347"/>
                      </a:lnTo>
                      <a:lnTo>
                        <a:pt x="1801" y="332"/>
                      </a:lnTo>
                      <a:lnTo>
                        <a:pt x="1815" y="332"/>
                      </a:lnTo>
                      <a:lnTo>
                        <a:pt x="1787" y="332"/>
                      </a:lnTo>
                      <a:lnTo>
                        <a:pt x="1759" y="315"/>
                      </a:lnTo>
                      <a:lnTo>
                        <a:pt x="1732" y="300"/>
                      </a:lnTo>
                      <a:lnTo>
                        <a:pt x="1759" y="300"/>
                      </a:lnTo>
                      <a:lnTo>
                        <a:pt x="1773" y="300"/>
                      </a:lnTo>
                      <a:lnTo>
                        <a:pt x="1787" y="283"/>
                      </a:lnTo>
                      <a:lnTo>
                        <a:pt x="1801" y="283"/>
                      </a:lnTo>
                      <a:lnTo>
                        <a:pt x="1815" y="283"/>
                      </a:lnTo>
                      <a:lnTo>
                        <a:pt x="1815" y="268"/>
                      </a:lnTo>
                      <a:lnTo>
                        <a:pt x="1872" y="253"/>
                      </a:lnTo>
                      <a:lnTo>
                        <a:pt x="1913" y="253"/>
                      </a:lnTo>
                      <a:lnTo>
                        <a:pt x="1955" y="236"/>
                      </a:lnTo>
                      <a:lnTo>
                        <a:pt x="1968" y="236"/>
                      </a:lnTo>
                      <a:lnTo>
                        <a:pt x="1982" y="236"/>
                      </a:lnTo>
                      <a:lnTo>
                        <a:pt x="1982" y="221"/>
                      </a:lnTo>
                      <a:lnTo>
                        <a:pt x="1982" y="204"/>
                      </a:lnTo>
                      <a:lnTo>
                        <a:pt x="1996" y="204"/>
                      </a:lnTo>
                      <a:lnTo>
                        <a:pt x="2010" y="204"/>
                      </a:lnTo>
                      <a:lnTo>
                        <a:pt x="2024" y="189"/>
                      </a:lnTo>
                      <a:lnTo>
                        <a:pt x="2024" y="174"/>
                      </a:lnTo>
                      <a:lnTo>
                        <a:pt x="2038" y="157"/>
                      </a:lnTo>
                      <a:lnTo>
                        <a:pt x="2038" y="174"/>
                      </a:lnTo>
                      <a:lnTo>
                        <a:pt x="2051" y="174"/>
                      </a:lnTo>
                      <a:lnTo>
                        <a:pt x="2079" y="174"/>
                      </a:lnTo>
                      <a:lnTo>
                        <a:pt x="2093" y="157"/>
                      </a:lnTo>
                      <a:lnTo>
                        <a:pt x="2120" y="157"/>
                      </a:lnTo>
                      <a:lnTo>
                        <a:pt x="2120" y="174"/>
                      </a:lnTo>
                      <a:lnTo>
                        <a:pt x="2148" y="174"/>
                      </a:lnTo>
                      <a:lnTo>
                        <a:pt x="2162" y="174"/>
                      </a:lnTo>
                      <a:lnTo>
                        <a:pt x="2176" y="157"/>
                      </a:lnTo>
                      <a:lnTo>
                        <a:pt x="2231" y="157"/>
                      </a:lnTo>
                      <a:lnTo>
                        <a:pt x="2273" y="157"/>
                      </a:lnTo>
                      <a:lnTo>
                        <a:pt x="2314" y="142"/>
                      </a:lnTo>
                      <a:lnTo>
                        <a:pt x="2328" y="142"/>
                      </a:lnTo>
                      <a:lnTo>
                        <a:pt x="2342" y="142"/>
                      </a:lnTo>
                      <a:lnTo>
                        <a:pt x="2397" y="142"/>
                      </a:lnTo>
                      <a:lnTo>
                        <a:pt x="2425" y="142"/>
                      </a:lnTo>
                      <a:lnTo>
                        <a:pt x="2466" y="126"/>
                      </a:lnTo>
                      <a:lnTo>
                        <a:pt x="2494" y="126"/>
                      </a:lnTo>
                      <a:lnTo>
                        <a:pt x="2535" y="126"/>
                      </a:lnTo>
                      <a:lnTo>
                        <a:pt x="2563" y="126"/>
                      </a:lnTo>
                      <a:lnTo>
                        <a:pt x="2591" y="126"/>
                      </a:lnTo>
                      <a:lnTo>
                        <a:pt x="2634" y="126"/>
                      </a:lnTo>
                      <a:lnTo>
                        <a:pt x="2661" y="126"/>
                      </a:lnTo>
                      <a:lnTo>
                        <a:pt x="2703" y="126"/>
                      </a:lnTo>
                      <a:lnTo>
                        <a:pt x="2730" y="126"/>
                      </a:lnTo>
                      <a:lnTo>
                        <a:pt x="2744" y="110"/>
                      </a:lnTo>
                      <a:lnTo>
                        <a:pt x="2758" y="95"/>
                      </a:lnTo>
                      <a:lnTo>
                        <a:pt x="2772" y="110"/>
                      </a:lnTo>
                      <a:lnTo>
                        <a:pt x="2786" y="126"/>
                      </a:lnTo>
                      <a:lnTo>
                        <a:pt x="2786" y="142"/>
                      </a:lnTo>
                      <a:lnTo>
                        <a:pt x="2813" y="142"/>
                      </a:lnTo>
                      <a:lnTo>
                        <a:pt x="2827" y="126"/>
                      </a:lnTo>
                      <a:lnTo>
                        <a:pt x="2855" y="110"/>
                      </a:lnTo>
                      <a:lnTo>
                        <a:pt x="2869" y="95"/>
                      </a:lnTo>
                      <a:lnTo>
                        <a:pt x="2896" y="95"/>
                      </a:lnTo>
                      <a:lnTo>
                        <a:pt x="2924" y="95"/>
                      </a:lnTo>
                      <a:lnTo>
                        <a:pt x="2952" y="79"/>
                      </a:lnTo>
                      <a:lnTo>
                        <a:pt x="2979" y="63"/>
                      </a:lnTo>
                      <a:lnTo>
                        <a:pt x="3021" y="47"/>
                      </a:lnTo>
                      <a:lnTo>
                        <a:pt x="3076" y="47"/>
                      </a:lnTo>
                      <a:lnTo>
                        <a:pt x="3104" y="47"/>
                      </a:lnTo>
                      <a:lnTo>
                        <a:pt x="3118" y="47"/>
                      </a:lnTo>
                      <a:lnTo>
                        <a:pt x="3118" y="63"/>
                      </a:lnTo>
                      <a:lnTo>
                        <a:pt x="3132" y="63"/>
                      </a:lnTo>
                      <a:lnTo>
                        <a:pt x="3145" y="63"/>
                      </a:lnTo>
                      <a:lnTo>
                        <a:pt x="3187" y="79"/>
                      </a:lnTo>
                      <a:lnTo>
                        <a:pt x="3228" y="79"/>
                      </a:lnTo>
                      <a:lnTo>
                        <a:pt x="3270" y="95"/>
                      </a:lnTo>
                      <a:lnTo>
                        <a:pt x="3311" y="110"/>
                      </a:lnTo>
                      <a:lnTo>
                        <a:pt x="3298" y="110"/>
                      </a:lnTo>
                      <a:lnTo>
                        <a:pt x="3284" y="126"/>
                      </a:lnTo>
                      <a:lnTo>
                        <a:pt x="3270" y="126"/>
                      </a:lnTo>
                      <a:lnTo>
                        <a:pt x="3256" y="142"/>
                      </a:lnTo>
                      <a:lnTo>
                        <a:pt x="3270" y="157"/>
                      </a:lnTo>
                      <a:lnTo>
                        <a:pt x="3284" y="157"/>
                      </a:lnTo>
                      <a:lnTo>
                        <a:pt x="3298" y="157"/>
                      </a:lnTo>
                      <a:lnTo>
                        <a:pt x="3311" y="157"/>
                      </a:lnTo>
                      <a:lnTo>
                        <a:pt x="3339" y="142"/>
                      </a:lnTo>
                      <a:lnTo>
                        <a:pt x="3353" y="126"/>
                      </a:lnTo>
                      <a:lnTo>
                        <a:pt x="3381" y="126"/>
                      </a:lnTo>
                      <a:lnTo>
                        <a:pt x="3394" y="126"/>
                      </a:lnTo>
                      <a:lnTo>
                        <a:pt x="3423" y="110"/>
                      </a:lnTo>
                      <a:lnTo>
                        <a:pt x="3437" y="110"/>
                      </a:lnTo>
                      <a:lnTo>
                        <a:pt x="3451" y="95"/>
                      </a:lnTo>
                      <a:lnTo>
                        <a:pt x="3479" y="95"/>
                      </a:lnTo>
                      <a:lnTo>
                        <a:pt x="3493" y="79"/>
                      </a:lnTo>
                      <a:lnTo>
                        <a:pt x="3506" y="79"/>
                      </a:lnTo>
                      <a:lnTo>
                        <a:pt x="3548" y="63"/>
                      </a:lnTo>
                      <a:lnTo>
                        <a:pt x="3589" y="47"/>
                      </a:lnTo>
                      <a:lnTo>
                        <a:pt x="3631" y="47"/>
                      </a:lnTo>
                      <a:lnTo>
                        <a:pt x="3645" y="47"/>
                      </a:lnTo>
                      <a:lnTo>
                        <a:pt x="3645" y="63"/>
                      </a:lnTo>
                      <a:lnTo>
                        <a:pt x="3659" y="63"/>
                      </a:lnTo>
                      <a:lnTo>
                        <a:pt x="3672" y="63"/>
                      </a:lnTo>
                      <a:lnTo>
                        <a:pt x="3686" y="63"/>
                      </a:lnTo>
                      <a:lnTo>
                        <a:pt x="3700" y="63"/>
                      </a:lnTo>
                      <a:lnTo>
                        <a:pt x="3714" y="63"/>
                      </a:lnTo>
                      <a:lnTo>
                        <a:pt x="3755" y="63"/>
                      </a:lnTo>
                      <a:lnTo>
                        <a:pt x="3797" y="63"/>
                      </a:lnTo>
                      <a:lnTo>
                        <a:pt x="3838" y="63"/>
                      </a:lnTo>
                      <a:lnTo>
                        <a:pt x="3866" y="63"/>
                      </a:lnTo>
                      <a:lnTo>
                        <a:pt x="3907" y="63"/>
                      </a:lnTo>
                      <a:lnTo>
                        <a:pt x="3949" y="63"/>
                      </a:lnTo>
                      <a:lnTo>
                        <a:pt x="3963" y="63"/>
                      </a:lnTo>
                      <a:lnTo>
                        <a:pt x="3977" y="63"/>
                      </a:lnTo>
                      <a:lnTo>
                        <a:pt x="3990" y="47"/>
                      </a:lnTo>
                      <a:lnTo>
                        <a:pt x="4018" y="47"/>
                      </a:lnTo>
                      <a:lnTo>
                        <a:pt x="4060" y="63"/>
                      </a:lnTo>
                      <a:lnTo>
                        <a:pt x="4087" y="63"/>
                      </a:lnTo>
                      <a:lnTo>
                        <a:pt x="4101" y="63"/>
                      </a:lnTo>
                      <a:lnTo>
                        <a:pt x="4115" y="63"/>
                      </a:lnTo>
                      <a:lnTo>
                        <a:pt x="4143" y="63"/>
                      </a:lnTo>
                      <a:lnTo>
                        <a:pt x="4156" y="63"/>
                      </a:lnTo>
                      <a:lnTo>
                        <a:pt x="4170" y="63"/>
                      </a:lnTo>
                      <a:lnTo>
                        <a:pt x="4184" y="63"/>
                      </a:lnTo>
                      <a:lnTo>
                        <a:pt x="4198" y="63"/>
                      </a:lnTo>
                      <a:lnTo>
                        <a:pt x="4212" y="63"/>
                      </a:lnTo>
                      <a:lnTo>
                        <a:pt x="4227" y="47"/>
                      </a:lnTo>
                      <a:lnTo>
                        <a:pt x="4241" y="47"/>
                      </a:lnTo>
                      <a:lnTo>
                        <a:pt x="4255" y="63"/>
                      </a:lnTo>
                      <a:lnTo>
                        <a:pt x="4268" y="63"/>
                      </a:lnTo>
                      <a:lnTo>
                        <a:pt x="4282" y="63"/>
                      </a:lnTo>
                      <a:lnTo>
                        <a:pt x="4296" y="47"/>
                      </a:lnTo>
                      <a:lnTo>
                        <a:pt x="4310" y="47"/>
                      </a:lnTo>
                      <a:lnTo>
                        <a:pt x="4351" y="47"/>
                      </a:lnTo>
                      <a:lnTo>
                        <a:pt x="4379" y="47"/>
                      </a:lnTo>
                      <a:lnTo>
                        <a:pt x="4421" y="63"/>
                      </a:lnTo>
                      <a:lnTo>
                        <a:pt x="4462" y="63"/>
                      </a:lnTo>
                      <a:lnTo>
                        <a:pt x="4476" y="63"/>
                      </a:lnTo>
                      <a:lnTo>
                        <a:pt x="4490" y="79"/>
                      </a:lnTo>
                      <a:lnTo>
                        <a:pt x="4531" y="95"/>
                      </a:lnTo>
                      <a:lnTo>
                        <a:pt x="4545" y="95"/>
                      </a:lnTo>
                      <a:lnTo>
                        <a:pt x="4559" y="95"/>
                      </a:lnTo>
                      <a:lnTo>
                        <a:pt x="4573" y="95"/>
                      </a:lnTo>
                      <a:lnTo>
                        <a:pt x="4614" y="110"/>
                      </a:lnTo>
                      <a:lnTo>
                        <a:pt x="4642" y="126"/>
                      </a:lnTo>
                      <a:lnTo>
                        <a:pt x="4670" y="142"/>
                      </a:lnTo>
                      <a:lnTo>
                        <a:pt x="4697" y="142"/>
                      </a:lnTo>
                      <a:lnTo>
                        <a:pt x="4711" y="142"/>
                      </a:lnTo>
                      <a:lnTo>
                        <a:pt x="4725" y="126"/>
                      </a:lnTo>
                      <a:lnTo>
                        <a:pt x="4753" y="142"/>
                      </a:lnTo>
                      <a:lnTo>
                        <a:pt x="4780" y="174"/>
                      </a:lnTo>
                      <a:lnTo>
                        <a:pt x="4780" y="189"/>
                      </a:lnTo>
                      <a:lnTo>
                        <a:pt x="4753" y="189"/>
                      </a:lnTo>
                      <a:lnTo>
                        <a:pt x="4739" y="189"/>
                      </a:lnTo>
                      <a:lnTo>
                        <a:pt x="4711" y="204"/>
                      </a:lnTo>
                      <a:lnTo>
                        <a:pt x="4697" y="204"/>
                      </a:lnTo>
                      <a:lnTo>
                        <a:pt x="4697" y="221"/>
                      </a:lnTo>
                      <a:lnTo>
                        <a:pt x="4683" y="221"/>
                      </a:lnTo>
                      <a:lnTo>
                        <a:pt x="4670" y="221"/>
                      </a:lnTo>
                      <a:lnTo>
                        <a:pt x="4628" y="221"/>
                      </a:lnTo>
                      <a:lnTo>
                        <a:pt x="4600" y="236"/>
                      </a:lnTo>
                      <a:lnTo>
                        <a:pt x="4559" y="253"/>
                      </a:lnTo>
                      <a:lnTo>
                        <a:pt x="4504" y="268"/>
                      </a:lnTo>
                      <a:lnTo>
                        <a:pt x="4476" y="283"/>
                      </a:lnTo>
                      <a:lnTo>
                        <a:pt x="4476" y="300"/>
                      </a:lnTo>
                      <a:lnTo>
                        <a:pt x="4490" y="315"/>
                      </a:lnTo>
                      <a:lnTo>
                        <a:pt x="4476" y="332"/>
                      </a:lnTo>
                      <a:lnTo>
                        <a:pt x="4462" y="315"/>
                      </a:lnTo>
                      <a:lnTo>
                        <a:pt x="4448" y="315"/>
                      </a:lnTo>
                      <a:lnTo>
                        <a:pt x="4407" y="332"/>
                      </a:lnTo>
                      <a:lnTo>
                        <a:pt x="4365" y="332"/>
                      </a:lnTo>
                      <a:lnTo>
                        <a:pt x="4324" y="347"/>
                      </a:lnTo>
                      <a:lnTo>
                        <a:pt x="4338" y="347"/>
                      </a:lnTo>
                      <a:lnTo>
                        <a:pt x="4351" y="347"/>
                      </a:lnTo>
                      <a:lnTo>
                        <a:pt x="4324" y="362"/>
                      </a:lnTo>
                      <a:lnTo>
                        <a:pt x="4310" y="362"/>
                      </a:lnTo>
                      <a:lnTo>
                        <a:pt x="4296" y="379"/>
                      </a:lnTo>
                      <a:lnTo>
                        <a:pt x="4310" y="379"/>
                      </a:lnTo>
                      <a:lnTo>
                        <a:pt x="4351" y="411"/>
                      </a:lnTo>
                      <a:lnTo>
                        <a:pt x="4393" y="411"/>
                      </a:lnTo>
                      <a:lnTo>
                        <a:pt x="4434" y="426"/>
                      </a:lnTo>
                      <a:lnTo>
                        <a:pt x="4421" y="426"/>
                      </a:lnTo>
                      <a:lnTo>
                        <a:pt x="4407" y="426"/>
                      </a:lnTo>
                      <a:lnTo>
                        <a:pt x="4365" y="441"/>
                      </a:lnTo>
                      <a:lnTo>
                        <a:pt x="4324" y="458"/>
                      </a:lnTo>
                      <a:lnTo>
                        <a:pt x="4282" y="473"/>
                      </a:lnTo>
                      <a:lnTo>
                        <a:pt x="4255" y="489"/>
                      </a:lnTo>
                      <a:lnTo>
                        <a:pt x="180" y="473"/>
                      </a:lnTo>
                      <a:lnTo>
                        <a:pt x="152" y="473"/>
                      </a:lnTo>
                      <a:lnTo>
                        <a:pt x="125" y="458"/>
                      </a:lnTo>
                      <a:lnTo>
                        <a:pt x="97" y="458"/>
                      </a:lnTo>
                      <a:lnTo>
                        <a:pt x="69" y="441"/>
                      </a:lnTo>
                      <a:lnTo>
                        <a:pt x="28" y="426"/>
                      </a:lnTo>
                      <a:lnTo>
                        <a:pt x="0" y="426"/>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851440" y="3862440"/>
                  <a:ext cx="2529000" cy="258840"/>
                </a:xfrm>
                <a:custGeom>
                  <a:avLst/>
                  <a:gdLst/>
                  <a:ahLst/>
                  <a:rect l="l" t="t" r="r" b="b"/>
                  <a:pathLst>
                    <a:path w="4780" h="489">
                      <a:moveTo>
                        <a:pt x="0" y="426"/>
                      </a:moveTo>
                      <a:lnTo>
                        <a:pt x="42" y="426"/>
                      </a:lnTo>
                      <a:lnTo>
                        <a:pt x="83" y="426"/>
                      </a:lnTo>
                      <a:lnTo>
                        <a:pt x="125" y="426"/>
                      </a:lnTo>
                      <a:lnTo>
                        <a:pt x="166" y="426"/>
                      </a:lnTo>
                      <a:lnTo>
                        <a:pt x="208" y="426"/>
                      </a:lnTo>
                      <a:lnTo>
                        <a:pt x="237" y="411"/>
                      </a:lnTo>
                      <a:lnTo>
                        <a:pt x="264" y="411"/>
                      </a:lnTo>
                      <a:lnTo>
                        <a:pt x="292" y="394"/>
                      </a:lnTo>
                      <a:lnTo>
                        <a:pt x="292" y="379"/>
                      </a:lnTo>
                      <a:lnTo>
                        <a:pt x="264" y="379"/>
                      </a:lnTo>
                      <a:lnTo>
                        <a:pt x="251" y="379"/>
                      </a:lnTo>
                      <a:lnTo>
                        <a:pt x="221" y="379"/>
                      </a:lnTo>
                      <a:lnTo>
                        <a:pt x="208" y="379"/>
                      </a:lnTo>
                      <a:lnTo>
                        <a:pt x="194" y="362"/>
                      </a:lnTo>
                      <a:lnTo>
                        <a:pt x="208" y="362"/>
                      </a:lnTo>
                      <a:lnTo>
                        <a:pt x="221" y="347"/>
                      </a:lnTo>
                      <a:lnTo>
                        <a:pt x="237" y="347"/>
                      </a:lnTo>
                      <a:lnTo>
                        <a:pt x="221" y="332"/>
                      </a:lnTo>
                      <a:lnTo>
                        <a:pt x="208" y="332"/>
                      </a:lnTo>
                      <a:lnTo>
                        <a:pt x="180" y="332"/>
                      </a:lnTo>
                      <a:lnTo>
                        <a:pt x="138" y="315"/>
                      </a:lnTo>
                      <a:lnTo>
                        <a:pt x="111" y="315"/>
                      </a:lnTo>
                      <a:lnTo>
                        <a:pt x="83" y="315"/>
                      </a:lnTo>
                      <a:lnTo>
                        <a:pt x="69" y="315"/>
                      </a:lnTo>
                      <a:lnTo>
                        <a:pt x="55" y="315"/>
                      </a:lnTo>
                      <a:lnTo>
                        <a:pt x="97" y="300"/>
                      </a:lnTo>
                      <a:lnTo>
                        <a:pt x="125" y="283"/>
                      </a:lnTo>
                      <a:lnTo>
                        <a:pt x="166" y="283"/>
                      </a:lnTo>
                      <a:lnTo>
                        <a:pt x="152" y="268"/>
                      </a:lnTo>
                      <a:lnTo>
                        <a:pt x="138" y="268"/>
                      </a:lnTo>
                      <a:lnTo>
                        <a:pt x="125" y="268"/>
                      </a:lnTo>
                      <a:lnTo>
                        <a:pt x="166" y="253"/>
                      </a:lnTo>
                      <a:lnTo>
                        <a:pt x="194" y="253"/>
                      </a:lnTo>
                      <a:lnTo>
                        <a:pt x="221" y="236"/>
                      </a:lnTo>
                      <a:lnTo>
                        <a:pt x="251" y="236"/>
                      </a:lnTo>
                      <a:lnTo>
                        <a:pt x="292" y="236"/>
                      </a:lnTo>
                      <a:lnTo>
                        <a:pt x="320" y="236"/>
                      </a:lnTo>
                      <a:lnTo>
                        <a:pt x="347" y="236"/>
                      </a:lnTo>
                      <a:lnTo>
                        <a:pt x="389" y="236"/>
                      </a:lnTo>
                      <a:lnTo>
                        <a:pt x="416" y="236"/>
                      </a:lnTo>
                      <a:lnTo>
                        <a:pt x="458" y="236"/>
                      </a:lnTo>
                      <a:lnTo>
                        <a:pt x="486" y="236"/>
                      </a:lnTo>
                      <a:lnTo>
                        <a:pt x="513" y="236"/>
                      </a:lnTo>
                      <a:lnTo>
                        <a:pt x="555" y="236"/>
                      </a:lnTo>
                      <a:lnTo>
                        <a:pt x="582" y="236"/>
                      </a:lnTo>
                      <a:lnTo>
                        <a:pt x="610" y="236"/>
                      </a:lnTo>
                      <a:lnTo>
                        <a:pt x="638" y="253"/>
                      </a:lnTo>
                      <a:lnTo>
                        <a:pt x="665" y="253"/>
                      </a:lnTo>
                      <a:lnTo>
                        <a:pt x="693" y="253"/>
                      </a:lnTo>
                      <a:lnTo>
                        <a:pt x="721" y="253"/>
                      </a:lnTo>
                      <a:lnTo>
                        <a:pt x="762" y="253"/>
                      </a:lnTo>
                      <a:lnTo>
                        <a:pt x="790" y="253"/>
                      </a:lnTo>
                      <a:lnTo>
                        <a:pt x="776" y="253"/>
                      </a:lnTo>
                      <a:lnTo>
                        <a:pt x="762" y="253"/>
                      </a:lnTo>
                      <a:lnTo>
                        <a:pt x="735" y="236"/>
                      </a:lnTo>
                      <a:lnTo>
                        <a:pt x="721" y="236"/>
                      </a:lnTo>
                      <a:lnTo>
                        <a:pt x="707" y="221"/>
                      </a:lnTo>
                      <a:lnTo>
                        <a:pt x="721" y="221"/>
                      </a:lnTo>
                      <a:lnTo>
                        <a:pt x="735" y="221"/>
                      </a:lnTo>
                      <a:lnTo>
                        <a:pt x="748" y="221"/>
                      </a:lnTo>
                      <a:lnTo>
                        <a:pt x="762" y="221"/>
                      </a:lnTo>
                      <a:lnTo>
                        <a:pt x="776" y="221"/>
                      </a:lnTo>
                      <a:lnTo>
                        <a:pt x="762" y="204"/>
                      </a:lnTo>
                      <a:lnTo>
                        <a:pt x="748" y="204"/>
                      </a:lnTo>
                      <a:lnTo>
                        <a:pt x="776" y="221"/>
                      </a:lnTo>
                      <a:lnTo>
                        <a:pt x="818" y="221"/>
                      </a:lnTo>
                      <a:lnTo>
                        <a:pt x="845" y="221"/>
                      </a:lnTo>
                      <a:lnTo>
                        <a:pt x="887" y="221"/>
                      </a:lnTo>
                      <a:lnTo>
                        <a:pt x="928" y="221"/>
                      </a:lnTo>
                      <a:lnTo>
                        <a:pt x="956" y="221"/>
                      </a:lnTo>
                      <a:lnTo>
                        <a:pt x="997" y="221"/>
                      </a:lnTo>
                      <a:lnTo>
                        <a:pt x="1025" y="221"/>
                      </a:lnTo>
                      <a:lnTo>
                        <a:pt x="1040" y="204"/>
                      </a:lnTo>
                      <a:lnTo>
                        <a:pt x="1054" y="204"/>
                      </a:lnTo>
                      <a:lnTo>
                        <a:pt x="1068" y="221"/>
                      </a:lnTo>
                      <a:lnTo>
                        <a:pt x="1109" y="221"/>
                      </a:lnTo>
                      <a:lnTo>
                        <a:pt x="1165" y="221"/>
                      </a:lnTo>
                      <a:lnTo>
                        <a:pt x="1192" y="204"/>
                      </a:lnTo>
                      <a:lnTo>
                        <a:pt x="1206" y="174"/>
                      </a:lnTo>
                      <a:lnTo>
                        <a:pt x="1179" y="142"/>
                      </a:lnTo>
                      <a:lnTo>
                        <a:pt x="1165" y="126"/>
                      </a:lnTo>
                      <a:lnTo>
                        <a:pt x="1151" y="79"/>
                      </a:lnTo>
                      <a:lnTo>
                        <a:pt x="1165" y="63"/>
                      </a:lnTo>
                      <a:lnTo>
                        <a:pt x="1192" y="47"/>
                      </a:lnTo>
                      <a:lnTo>
                        <a:pt x="1206" y="16"/>
                      </a:lnTo>
                      <a:lnTo>
                        <a:pt x="1220" y="0"/>
                      </a:lnTo>
                      <a:lnTo>
                        <a:pt x="1248" y="0"/>
                      </a:lnTo>
                      <a:lnTo>
                        <a:pt x="1262" y="0"/>
                      </a:lnTo>
                      <a:lnTo>
                        <a:pt x="1262" y="31"/>
                      </a:lnTo>
                      <a:lnTo>
                        <a:pt x="1248" y="47"/>
                      </a:lnTo>
                      <a:lnTo>
                        <a:pt x="1234" y="47"/>
                      </a:lnTo>
                      <a:lnTo>
                        <a:pt x="1220" y="63"/>
                      </a:lnTo>
                      <a:lnTo>
                        <a:pt x="1192" y="63"/>
                      </a:lnTo>
                      <a:lnTo>
                        <a:pt x="1192" y="79"/>
                      </a:lnTo>
                      <a:lnTo>
                        <a:pt x="1179" y="95"/>
                      </a:lnTo>
                      <a:lnTo>
                        <a:pt x="1206" y="110"/>
                      </a:lnTo>
                      <a:lnTo>
                        <a:pt x="1220" y="95"/>
                      </a:lnTo>
                      <a:lnTo>
                        <a:pt x="1234" y="110"/>
                      </a:lnTo>
                      <a:lnTo>
                        <a:pt x="1248" y="110"/>
                      </a:lnTo>
                      <a:lnTo>
                        <a:pt x="1262" y="126"/>
                      </a:lnTo>
                      <a:lnTo>
                        <a:pt x="1289" y="157"/>
                      </a:lnTo>
                      <a:lnTo>
                        <a:pt x="1317" y="189"/>
                      </a:lnTo>
                      <a:lnTo>
                        <a:pt x="1345" y="236"/>
                      </a:lnTo>
                      <a:lnTo>
                        <a:pt x="1331" y="236"/>
                      </a:lnTo>
                      <a:lnTo>
                        <a:pt x="1317" y="236"/>
                      </a:lnTo>
                      <a:lnTo>
                        <a:pt x="1317" y="253"/>
                      </a:lnTo>
                      <a:lnTo>
                        <a:pt x="1303" y="253"/>
                      </a:lnTo>
                      <a:lnTo>
                        <a:pt x="1262" y="253"/>
                      </a:lnTo>
                      <a:lnTo>
                        <a:pt x="1220" y="268"/>
                      </a:lnTo>
                      <a:lnTo>
                        <a:pt x="1192" y="268"/>
                      </a:lnTo>
                      <a:lnTo>
                        <a:pt x="1151" y="268"/>
                      </a:lnTo>
                      <a:lnTo>
                        <a:pt x="1109" y="268"/>
                      </a:lnTo>
                      <a:lnTo>
                        <a:pt x="1068" y="283"/>
                      </a:lnTo>
                      <a:lnTo>
                        <a:pt x="1040" y="283"/>
                      </a:lnTo>
                      <a:lnTo>
                        <a:pt x="1040" y="300"/>
                      </a:lnTo>
                      <a:lnTo>
                        <a:pt x="1082" y="300"/>
                      </a:lnTo>
                      <a:lnTo>
                        <a:pt x="1123" y="300"/>
                      </a:lnTo>
                      <a:lnTo>
                        <a:pt x="1165" y="315"/>
                      </a:lnTo>
                      <a:lnTo>
                        <a:pt x="1179" y="332"/>
                      </a:lnTo>
                      <a:lnTo>
                        <a:pt x="1192" y="332"/>
                      </a:lnTo>
                      <a:lnTo>
                        <a:pt x="1179" y="332"/>
                      </a:lnTo>
                      <a:lnTo>
                        <a:pt x="1165" y="332"/>
                      </a:lnTo>
                      <a:lnTo>
                        <a:pt x="1151" y="332"/>
                      </a:lnTo>
                      <a:lnTo>
                        <a:pt x="1137" y="332"/>
                      </a:lnTo>
                      <a:lnTo>
                        <a:pt x="1123" y="332"/>
                      </a:lnTo>
                      <a:lnTo>
                        <a:pt x="1109" y="332"/>
                      </a:lnTo>
                      <a:lnTo>
                        <a:pt x="1096" y="332"/>
                      </a:lnTo>
                      <a:lnTo>
                        <a:pt x="1109" y="332"/>
                      </a:lnTo>
                      <a:lnTo>
                        <a:pt x="1137" y="347"/>
                      </a:lnTo>
                      <a:lnTo>
                        <a:pt x="1165" y="347"/>
                      </a:lnTo>
                      <a:lnTo>
                        <a:pt x="1179" y="347"/>
                      </a:lnTo>
                      <a:lnTo>
                        <a:pt x="1192" y="347"/>
                      </a:lnTo>
                      <a:lnTo>
                        <a:pt x="1206" y="347"/>
                      </a:lnTo>
                      <a:lnTo>
                        <a:pt x="1234" y="362"/>
                      </a:lnTo>
                      <a:lnTo>
                        <a:pt x="1275" y="362"/>
                      </a:lnTo>
                      <a:lnTo>
                        <a:pt x="1303" y="362"/>
                      </a:lnTo>
                      <a:lnTo>
                        <a:pt x="1317" y="362"/>
                      </a:lnTo>
                      <a:lnTo>
                        <a:pt x="1345" y="379"/>
                      </a:lnTo>
                      <a:lnTo>
                        <a:pt x="1358" y="379"/>
                      </a:lnTo>
                      <a:lnTo>
                        <a:pt x="1386" y="379"/>
                      </a:lnTo>
                      <a:lnTo>
                        <a:pt x="1400" y="379"/>
                      </a:lnTo>
                      <a:lnTo>
                        <a:pt x="1414" y="379"/>
                      </a:lnTo>
                      <a:lnTo>
                        <a:pt x="1428" y="379"/>
                      </a:lnTo>
                      <a:lnTo>
                        <a:pt x="1441" y="379"/>
                      </a:lnTo>
                      <a:lnTo>
                        <a:pt x="1469" y="379"/>
                      </a:lnTo>
                      <a:lnTo>
                        <a:pt x="1483" y="379"/>
                      </a:lnTo>
                      <a:lnTo>
                        <a:pt x="1511" y="379"/>
                      </a:lnTo>
                      <a:lnTo>
                        <a:pt x="1538" y="379"/>
                      </a:lnTo>
                      <a:lnTo>
                        <a:pt x="1566" y="379"/>
                      </a:lnTo>
                      <a:lnTo>
                        <a:pt x="1594" y="379"/>
                      </a:lnTo>
                      <a:lnTo>
                        <a:pt x="1635" y="379"/>
                      </a:lnTo>
                      <a:lnTo>
                        <a:pt x="1677" y="379"/>
                      </a:lnTo>
                      <a:lnTo>
                        <a:pt x="1718" y="362"/>
                      </a:lnTo>
                      <a:lnTo>
                        <a:pt x="1759" y="347"/>
                      </a:lnTo>
                      <a:lnTo>
                        <a:pt x="1801" y="332"/>
                      </a:lnTo>
                      <a:lnTo>
                        <a:pt x="1815" y="332"/>
                      </a:lnTo>
                      <a:lnTo>
                        <a:pt x="1787" y="332"/>
                      </a:lnTo>
                      <a:lnTo>
                        <a:pt x="1759" y="315"/>
                      </a:lnTo>
                      <a:lnTo>
                        <a:pt x="1732" y="300"/>
                      </a:lnTo>
                      <a:lnTo>
                        <a:pt x="1759" y="300"/>
                      </a:lnTo>
                      <a:lnTo>
                        <a:pt x="1773" y="300"/>
                      </a:lnTo>
                      <a:lnTo>
                        <a:pt x="1787" y="283"/>
                      </a:lnTo>
                      <a:lnTo>
                        <a:pt x="1801" y="283"/>
                      </a:lnTo>
                      <a:lnTo>
                        <a:pt x="1815" y="283"/>
                      </a:lnTo>
                      <a:lnTo>
                        <a:pt x="1815" y="268"/>
                      </a:lnTo>
                      <a:lnTo>
                        <a:pt x="1872" y="253"/>
                      </a:lnTo>
                      <a:lnTo>
                        <a:pt x="1913" y="253"/>
                      </a:lnTo>
                      <a:lnTo>
                        <a:pt x="1955" y="236"/>
                      </a:lnTo>
                      <a:lnTo>
                        <a:pt x="1968" y="236"/>
                      </a:lnTo>
                      <a:lnTo>
                        <a:pt x="1982" y="236"/>
                      </a:lnTo>
                      <a:lnTo>
                        <a:pt x="1982" y="221"/>
                      </a:lnTo>
                      <a:lnTo>
                        <a:pt x="1982" y="204"/>
                      </a:lnTo>
                      <a:lnTo>
                        <a:pt x="1996" y="204"/>
                      </a:lnTo>
                      <a:lnTo>
                        <a:pt x="2010" y="204"/>
                      </a:lnTo>
                      <a:lnTo>
                        <a:pt x="2024" y="189"/>
                      </a:lnTo>
                      <a:lnTo>
                        <a:pt x="2024" y="174"/>
                      </a:lnTo>
                      <a:lnTo>
                        <a:pt x="2038" y="157"/>
                      </a:lnTo>
                      <a:lnTo>
                        <a:pt x="2038" y="174"/>
                      </a:lnTo>
                      <a:lnTo>
                        <a:pt x="2051" y="174"/>
                      </a:lnTo>
                      <a:lnTo>
                        <a:pt x="2079" y="174"/>
                      </a:lnTo>
                      <a:lnTo>
                        <a:pt x="2093" y="157"/>
                      </a:lnTo>
                      <a:lnTo>
                        <a:pt x="2120" y="157"/>
                      </a:lnTo>
                      <a:lnTo>
                        <a:pt x="2120" y="174"/>
                      </a:lnTo>
                      <a:lnTo>
                        <a:pt x="2148" y="174"/>
                      </a:lnTo>
                      <a:lnTo>
                        <a:pt x="2162" y="174"/>
                      </a:lnTo>
                      <a:lnTo>
                        <a:pt x="2176" y="157"/>
                      </a:lnTo>
                      <a:lnTo>
                        <a:pt x="2231" y="157"/>
                      </a:lnTo>
                      <a:lnTo>
                        <a:pt x="2273" y="157"/>
                      </a:lnTo>
                      <a:lnTo>
                        <a:pt x="2314" y="142"/>
                      </a:lnTo>
                      <a:lnTo>
                        <a:pt x="2328" y="142"/>
                      </a:lnTo>
                      <a:lnTo>
                        <a:pt x="2342" y="142"/>
                      </a:lnTo>
                      <a:lnTo>
                        <a:pt x="2397" y="142"/>
                      </a:lnTo>
                      <a:lnTo>
                        <a:pt x="2425" y="142"/>
                      </a:lnTo>
                      <a:lnTo>
                        <a:pt x="2466" y="126"/>
                      </a:lnTo>
                      <a:lnTo>
                        <a:pt x="2494" y="126"/>
                      </a:lnTo>
                      <a:lnTo>
                        <a:pt x="2535" y="126"/>
                      </a:lnTo>
                      <a:lnTo>
                        <a:pt x="2563" y="126"/>
                      </a:lnTo>
                      <a:lnTo>
                        <a:pt x="2591" y="126"/>
                      </a:lnTo>
                      <a:lnTo>
                        <a:pt x="2634" y="126"/>
                      </a:lnTo>
                      <a:lnTo>
                        <a:pt x="2661" y="126"/>
                      </a:lnTo>
                      <a:lnTo>
                        <a:pt x="2703" y="126"/>
                      </a:lnTo>
                      <a:lnTo>
                        <a:pt x="2730" y="126"/>
                      </a:lnTo>
                      <a:lnTo>
                        <a:pt x="2744" y="110"/>
                      </a:lnTo>
                      <a:lnTo>
                        <a:pt x="2758" y="95"/>
                      </a:lnTo>
                      <a:lnTo>
                        <a:pt x="2772" y="110"/>
                      </a:lnTo>
                      <a:lnTo>
                        <a:pt x="2786" y="126"/>
                      </a:lnTo>
                      <a:lnTo>
                        <a:pt x="2786" y="142"/>
                      </a:lnTo>
                      <a:lnTo>
                        <a:pt x="2813" y="142"/>
                      </a:lnTo>
                      <a:lnTo>
                        <a:pt x="2827" y="126"/>
                      </a:lnTo>
                      <a:lnTo>
                        <a:pt x="2855" y="110"/>
                      </a:lnTo>
                      <a:lnTo>
                        <a:pt x="2869" y="95"/>
                      </a:lnTo>
                      <a:lnTo>
                        <a:pt x="2896" y="95"/>
                      </a:lnTo>
                      <a:lnTo>
                        <a:pt x="2924" y="95"/>
                      </a:lnTo>
                      <a:lnTo>
                        <a:pt x="2952" y="79"/>
                      </a:lnTo>
                      <a:lnTo>
                        <a:pt x="2979" y="63"/>
                      </a:lnTo>
                      <a:lnTo>
                        <a:pt x="3021" y="47"/>
                      </a:lnTo>
                      <a:lnTo>
                        <a:pt x="3076" y="47"/>
                      </a:lnTo>
                      <a:lnTo>
                        <a:pt x="3104" y="47"/>
                      </a:lnTo>
                      <a:lnTo>
                        <a:pt x="3118" y="47"/>
                      </a:lnTo>
                      <a:lnTo>
                        <a:pt x="3118" y="63"/>
                      </a:lnTo>
                      <a:lnTo>
                        <a:pt x="3132" y="63"/>
                      </a:lnTo>
                      <a:lnTo>
                        <a:pt x="3145" y="63"/>
                      </a:lnTo>
                      <a:lnTo>
                        <a:pt x="3187" y="79"/>
                      </a:lnTo>
                      <a:lnTo>
                        <a:pt x="3228" y="79"/>
                      </a:lnTo>
                      <a:lnTo>
                        <a:pt x="3270" y="95"/>
                      </a:lnTo>
                      <a:lnTo>
                        <a:pt x="3311" y="110"/>
                      </a:lnTo>
                      <a:lnTo>
                        <a:pt x="3298" y="110"/>
                      </a:lnTo>
                      <a:lnTo>
                        <a:pt x="3284" y="126"/>
                      </a:lnTo>
                      <a:lnTo>
                        <a:pt x="3270" y="126"/>
                      </a:lnTo>
                      <a:lnTo>
                        <a:pt x="3256" y="142"/>
                      </a:lnTo>
                      <a:lnTo>
                        <a:pt x="3270" y="157"/>
                      </a:lnTo>
                      <a:lnTo>
                        <a:pt x="3284" y="157"/>
                      </a:lnTo>
                      <a:lnTo>
                        <a:pt x="3298" y="157"/>
                      </a:lnTo>
                      <a:lnTo>
                        <a:pt x="3311" y="157"/>
                      </a:lnTo>
                      <a:lnTo>
                        <a:pt x="3339" y="142"/>
                      </a:lnTo>
                      <a:lnTo>
                        <a:pt x="3353" y="126"/>
                      </a:lnTo>
                      <a:lnTo>
                        <a:pt x="3381" y="126"/>
                      </a:lnTo>
                      <a:lnTo>
                        <a:pt x="3394" y="126"/>
                      </a:lnTo>
                      <a:lnTo>
                        <a:pt x="3423" y="110"/>
                      </a:lnTo>
                      <a:lnTo>
                        <a:pt x="3437" y="110"/>
                      </a:lnTo>
                      <a:lnTo>
                        <a:pt x="3451" y="95"/>
                      </a:lnTo>
                      <a:lnTo>
                        <a:pt x="3479" y="95"/>
                      </a:lnTo>
                      <a:lnTo>
                        <a:pt x="3493" y="79"/>
                      </a:lnTo>
                      <a:lnTo>
                        <a:pt x="3506" y="79"/>
                      </a:lnTo>
                      <a:lnTo>
                        <a:pt x="3548" y="63"/>
                      </a:lnTo>
                      <a:lnTo>
                        <a:pt x="3589" y="47"/>
                      </a:lnTo>
                      <a:lnTo>
                        <a:pt x="3631" y="47"/>
                      </a:lnTo>
                      <a:lnTo>
                        <a:pt x="3645" y="47"/>
                      </a:lnTo>
                      <a:lnTo>
                        <a:pt x="3645" y="63"/>
                      </a:lnTo>
                      <a:lnTo>
                        <a:pt x="3659" y="63"/>
                      </a:lnTo>
                      <a:lnTo>
                        <a:pt x="3672" y="63"/>
                      </a:lnTo>
                      <a:lnTo>
                        <a:pt x="3686" y="63"/>
                      </a:lnTo>
                      <a:lnTo>
                        <a:pt x="3700" y="63"/>
                      </a:lnTo>
                      <a:lnTo>
                        <a:pt x="3714" y="63"/>
                      </a:lnTo>
                      <a:lnTo>
                        <a:pt x="3755" y="63"/>
                      </a:lnTo>
                      <a:lnTo>
                        <a:pt x="3797" y="63"/>
                      </a:lnTo>
                      <a:lnTo>
                        <a:pt x="3838" y="63"/>
                      </a:lnTo>
                      <a:lnTo>
                        <a:pt x="3866" y="63"/>
                      </a:lnTo>
                      <a:lnTo>
                        <a:pt x="3907" y="63"/>
                      </a:lnTo>
                      <a:lnTo>
                        <a:pt x="3949" y="63"/>
                      </a:lnTo>
                      <a:lnTo>
                        <a:pt x="3963" y="63"/>
                      </a:lnTo>
                      <a:lnTo>
                        <a:pt x="3977" y="63"/>
                      </a:lnTo>
                      <a:lnTo>
                        <a:pt x="3990" y="47"/>
                      </a:lnTo>
                      <a:lnTo>
                        <a:pt x="4018" y="47"/>
                      </a:lnTo>
                      <a:lnTo>
                        <a:pt x="4060" y="63"/>
                      </a:lnTo>
                      <a:lnTo>
                        <a:pt x="4087" y="63"/>
                      </a:lnTo>
                      <a:lnTo>
                        <a:pt x="4101" y="63"/>
                      </a:lnTo>
                      <a:lnTo>
                        <a:pt x="4115" y="63"/>
                      </a:lnTo>
                      <a:lnTo>
                        <a:pt x="4143" y="63"/>
                      </a:lnTo>
                      <a:lnTo>
                        <a:pt x="4156" y="63"/>
                      </a:lnTo>
                      <a:lnTo>
                        <a:pt x="4170" y="63"/>
                      </a:lnTo>
                      <a:lnTo>
                        <a:pt x="4184" y="63"/>
                      </a:lnTo>
                      <a:lnTo>
                        <a:pt x="4198" y="63"/>
                      </a:lnTo>
                      <a:lnTo>
                        <a:pt x="4212" y="63"/>
                      </a:lnTo>
                      <a:lnTo>
                        <a:pt x="4227" y="47"/>
                      </a:lnTo>
                      <a:lnTo>
                        <a:pt x="4241" y="47"/>
                      </a:lnTo>
                      <a:lnTo>
                        <a:pt x="4255" y="63"/>
                      </a:lnTo>
                      <a:lnTo>
                        <a:pt x="4268" y="63"/>
                      </a:lnTo>
                      <a:lnTo>
                        <a:pt x="4282" y="63"/>
                      </a:lnTo>
                      <a:lnTo>
                        <a:pt x="4296" y="47"/>
                      </a:lnTo>
                      <a:lnTo>
                        <a:pt x="4310" y="47"/>
                      </a:lnTo>
                      <a:lnTo>
                        <a:pt x="4351" y="47"/>
                      </a:lnTo>
                      <a:lnTo>
                        <a:pt x="4379" y="47"/>
                      </a:lnTo>
                      <a:lnTo>
                        <a:pt x="4421" y="63"/>
                      </a:lnTo>
                      <a:lnTo>
                        <a:pt x="4462" y="63"/>
                      </a:lnTo>
                      <a:lnTo>
                        <a:pt x="4476" y="63"/>
                      </a:lnTo>
                      <a:lnTo>
                        <a:pt x="4490" y="79"/>
                      </a:lnTo>
                      <a:lnTo>
                        <a:pt x="4531" y="95"/>
                      </a:lnTo>
                      <a:lnTo>
                        <a:pt x="4545" y="95"/>
                      </a:lnTo>
                      <a:lnTo>
                        <a:pt x="4559" y="95"/>
                      </a:lnTo>
                      <a:lnTo>
                        <a:pt x="4573" y="95"/>
                      </a:lnTo>
                      <a:lnTo>
                        <a:pt x="4614" y="110"/>
                      </a:lnTo>
                      <a:lnTo>
                        <a:pt x="4642" y="126"/>
                      </a:lnTo>
                      <a:lnTo>
                        <a:pt x="4670" y="142"/>
                      </a:lnTo>
                      <a:lnTo>
                        <a:pt x="4697" y="142"/>
                      </a:lnTo>
                      <a:lnTo>
                        <a:pt x="4711" y="142"/>
                      </a:lnTo>
                      <a:lnTo>
                        <a:pt x="4725" y="126"/>
                      </a:lnTo>
                      <a:lnTo>
                        <a:pt x="4753" y="142"/>
                      </a:lnTo>
                      <a:lnTo>
                        <a:pt x="4780" y="174"/>
                      </a:lnTo>
                      <a:lnTo>
                        <a:pt x="4780" y="189"/>
                      </a:lnTo>
                      <a:lnTo>
                        <a:pt x="4753" y="189"/>
                      </a:lnTo>
                      <a:lnTo>
                        <a:pt x="4739" y="189"/>
                      </a:lnTo>
                      <a:lnTo>
                        <a:pt x="4711" y="204"/>
                      </a:lnTo>
                      <a:lnTo>
                        <a:pt x="4697" y="204"/>
                      </a:lnTo>
                      <a:lnTo>
                        <a:pt x="4697" y="221"/>
                      </a:lnTo>
                      <a:lnTo>
                        <a:pt x="4683" y="221"/>
                      </a:lnTo>
                      <a:lnTo>
                        <a:pt x="4670" y="221"/>
                      </a:lnTo>
                      <a:lnTo>
                        <a:pt x="4628" y="221"/>
                      </a:lnTo>
                      <a:lnTo>
                        <a:pt x="4600" y="236"/>
                      </a:lnTo>
                      <a:lnTo>
                        <a:pt x="4559" y="253"/>
                      </a:lnTo>
                      <a:lnTo>
                        <a:pt x="4504" y="268"/>
                      </a:lnTo>
                      <a:lnTo>
                        <a:pt x="4476" y="283"/>
                      </a:lnTo>
                      <a:lnTo>
                        <a:pt x="4476" y="300"/>
                      </a:lnTo>
                      <a:lnTo>
                        <a:pt x="4490" y="315"/>
                      </a:lnTo>
                      <a:lnTo>
                        <a:pt x="4476" y="332"/>
                      </a:lnTo>
                      <a:lnTo>
                        <a:pt x="4462" y="315"/>
                      </a:lnTo>
                      <a:lnTo>
                        <a:pt x="4448" y="315"/>
                      </a:lnTo>
                      <a:lnTo>
                        <a:pt x="4407" y="332"/>
                      </a:lnTo>
                      <a:lnTo>
                        <a:pt x="4365" y="332"/>
                      </a:lnTo>
                      <a:lnTo>
                        <a:pt x="4324" y="347"/>
                      </a:lnTo>
                      <a:lnTo>
                        <a:pt x="4338" y="347"/>
                      </a:lnTo>
                      <a:lnTo>
                        <a:pt x="4351" y="347"/>
                      </a:lnTo>
                      <a:lnTo>
                        <a:pt x="4324" y="362"/>
                      </a:lnTo>
                      <a:lnTo>
                        <a:pt x="4310" y="362"/>
                      </a:lnTo>
                      <a:lnTo>
                        <a:pt x="4296" y="379"/>
                      </a:lnTo>
                      <a:lnTo>
                        <a:pt x="4310" y="379"/>
                      </a:lnTo>
                      <a:lnTo>
                        <a:pt x="4351" y="411"/>
                      </a:lnTo>
                      <a:lnTo>
                        <a:pt x="4393" y="411"/>
                      </a:lnTo>
                      <a:lnTo>
                        <a:pt x="4434" y="426"/>
                      </a:lnTo>
                      <a:lnTo>
                        <a:pt x="4421" y="426"/>
                      </a:lnTo>
                      <a:lnTo>
                        <a:pt x="4407" y="426"/>
                      </a:lnTo>
                      <a:lnTo>
                        <a:pt x="4365" y="441"/>
                      </a:lnTo>
                      <a:lnTo>
                        <a:pt x="4324" y="458"/>
                      </a:lnTo>
                      <a:lnTo>
                        <a:pt x="4282" y="473"/>
                      </a:lnTo>
                      <a:lnTo>
                        <a:pt x="4255" y="489"/>
                      </a:lnTo>
                      <a:lnTo>
                        <a:pt x="180" y="473"/>
                      </a:lnTo>
                      <a:lnTo>
                        <a:pt x="152" y="473"/>
                      </a:lnTo>
                      <a:lnTo>
                        <a:pt x="125" y="458"/>
                      </a:lnTo>
                      <a:lnTo>
                        <a:pt x="97" y="458"/>
                      </a:lnTo>
                      <a:lnTo>
                        <a:pt x="69" y="441"/>
                      </a:lnTo>
                      <a:lnTo>
                        <a:pt x="28" y="426"/>
                      </a:lnTo>
                      <a:lnTo>
                        <a:pt x="0" y="4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649920" y="4029120"/>
                  <a:ext cx="66960" cy="25200"/>
                </a:xfrm>
                <a:custGeom>
                  <a:avLst/>
                  <a:gdLst/>
                  <a:ahLst/>
                  <a:rect l="l" t="t" r="r" b="b"/>
                  <a:pathLst>
                    <a:path w="124" h="47">
                      <a:moveTo>
                        <a:pt x="69" y="0"/>
                      </a:moveTo>
                      <a:lnTo>
                        <a:pt x="83" y="0"/>
                      </a:lnTo>
                      <a:lnTo>
                        <a:pt x="110" y="17"/>
                      </a:lnTo>
                      <a:lnTo>
                        <a:pt x="124" y="32"/>
                      </a:lnTo>
                      <a:lnTo>
                        <a:pt x="124" y="47"/>
                      </a:lnTo>
                      <a:lnTo>
                        <a:pt x="110" y="47"/>
                      </a:lnTo>
                      <a:lnTo>
                        <a:pt x="69" y="32"/>
                      </a:lnTo>
                      <a:lnTo>
                        <a:pt x="41" y="32"/>
                      </a:lnTo>
                      <a:lnTo>
                        <a:pt x="0" y="17"/>
                      </a:lnTo>
                      <a:lnTo>
                        <a:pt x="13" y="0"/>
                      </a:lnTo>
                      <a:lnTo>
                        <a:pt x="41" y="0"/>
                      </a:lnTo>
                      <a:lnTo>
                        <a:pt x="69" y="0"/>
                      </a:lnTo>
                      <a:close/>
                    </a:path>
                  </a:pathLst>
                </a:custGeom>
                <a:solidFill>
                  <a:srgbClr val="00937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4" name=""/>
                <p:cNvSpPr/>
                <p:nvPr/>
              </p:nvSpPr>
              <p:spPr>
                <a:xfrm>
                  <a:off x="6649920" y="4029120"/>
                  <a:ext cx="66960" cy="25200"/>
                </a:xfrm>
                <a:custGeom>
                  <a:avLst/>
                  <a:gdLst/>
                  <a:ahLst/>
                  <a:rect l="l" t="t" r="r" b="b"/>
                  <a:pathLst>
                    <a:path w="124" h="47">
                      <a:moveTo>
                        <a:pt x="69" y="0"/>
                      </a:moveTo>
                      <a:lnTo>
                        <a:pt x="83" y="0"/>
                      </a:lnTo>
                      <a:lnTo>
                        <a:pt x="110" y="17"/>
                      </a:lnTo>
                      <a:lnTo>
                        <a:pt x="124" y="32"/>
                      </a:lnTo>
                      <a:lnTo>
                        <a:pt x="124" y="47"/>
                      </a:lnTo>
                      <a:lnTo>
                        <a:pt x="110" y="47"/>
                      </a:lnTo>
                      <a:lnTo>
                        <a:pt x="69" y="32"/>
                      </a:lnTo>
                      <a:lnTo>
                        <a:pt x="41" y="32"/>
                      </a:lnTo>
                      <a:lnTo>
                        <a:pt x="0" y="17"/>
                      </a:lnTo>
                      <a:lnTo>
                        <a:pt x="13" y="0"/>
                      </a:lnTo>
                      <a:lnTo>
                        <a:pt x="41" y="0"/>
                      </a:lnTo>
                      <a:lnTo>
                        <a:pt x="69"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5" name=""/>
                <p:cNvSpPr/>
                <p:nvPr/>
              </p:nvSpPr>
              <p:spPr>
                <a:xfrm>
                  <a:off x="6921360" y="1876320"/>
                  <a:ext cx="1686240" cy="1059120"/>
                </a:xfrm>
                <a:custGeom>
                  <a:avLst/>
                  <a:gdLst/>
                  <a:ahLst/>
                  <a:rect l="l" t="t" r="r" b="b"/>
                  <a:pathLst>
                    <a:path w="3186" h="2003">
                      <a:moveTo>
                        <a:pt x="3117" y="283"/>
                      </a:moveTo>
                      <a:lnTo>
                        <a:pt x="3131" y="299"/>
                      </a:lnTo>
                      <a:lnTo>
                        <a:pt x="3145" y="315"/>
                      </a:lnTo>
                      <a:lnTo>
                        <a:pt x="3159" y="315"/>
                      </a:lnTo>
                      <a:lnTo>
                        <a:pt x="3173" y="330"/>
                      </a:lnTo>
                      <a:lnTo>
                        <a:pt x="3186" y="347"/>
                      </a:lnTo>
                      <a:lnTo>
                        <a:pt x="3173" y="347"/>
                      </a:lnTo>
                      <a:lnTo>
                        <a:pt x="3159" y="347"/>
                      </a:lnTo>
                      <a:lnTo>
                        <a:pt x="3131" y="330"/>
                      </a:lnTo>
                      <a:lnTo>
                        <a:pt x="3145" y="330"/>
                      </a:lnTo>
                      <a:lnTo>
                        <a:pt x="3131" y="347"/>
                      </a:lnTo>
                      <a:lnTo>
                        <a:pt x="3117" y="347"/>
                      </a:lnTo>
                      <a:lnTo>
                        <a:pt x="3103" y="362"/>
                      </a:lnTo>
                      <a:lnTo>
                        <a:pt x="3103" y="377"/>
                      </a:lnTo>
                      <a:lnTo>
                        <a:pt x="3103" y="394"/>
                      </a:lnTo>
                      <a:lnTo>
                        <a:pt x="3103" y="409"/>
                      </a:lnTo>
                      <a:lnTo>
                        <a:pt x="3090" y="409"/>
                      </a:lnTo>
                      <a:lnTo>
                        <a:pt x="3076" y="394"/>
                      </a:lnTo>
                      <a:lnTo>
                        <a:pt x="3062" y="394"/>
                      </a:lnTo>
                      <a:lnTo>
                        <a:pt x="3048" y="394"/>
                      </a:lnTo>
                      <a:lnTo>
                        <a:pt x="3034" y="394"/>
                      </a:lnTo>
                      <a:lnTo>
                        <a:pt x="3020" y="394"/>
                      </a:lnTo>
                      <a:lnTo>
                        <a:pt x="2993" y="394"/>
                      </a:lnTo>
                      <a:lnTo>
                        <a:pt x="2978" y="394"/>
                      </a:lnTo>
                      <a:lnTo>
                        <a:pt x="2978" y="426"/>
                      </a:lnTo>
                      <a:lnTo>
                        <a:pt x="3020" y="456"/>
                      </a:lnTo>
                      <a:lnTo>
                        <a:pt x="3062" y="488"/>
                      </a:lnTo>
                      <a:lnTo>
                        <a:pt x="3076" y="505"/>
                      </a:lnTo>
                      <a:lnTo>
                        <a:pt x="3090" y="505"/>
                      </a:lnTo>
                      <a:lnTo>
                        <a:pt x="3090" y="520"/>
                      </a:lnTo>
                      <a:lnTo>
                        <a:pt x="3090" y="535"/>
                      </a:lnTo>
                      <a:lnTo>
                        <a:pt x="3076" y="535"/>
                      </a:lnTo>
                      <a:lnTo>
                        <a:pt x="3076" y="567"/>
                      </a:lnTo>
                      <a:lnTo>
                        <a:pt x="3090" y="567"/>
                      </a:lnTo>
                      <a:lnTo>
                        <a:pt x="3090" y="584"/>
                      </a:lnTo>
                      <a:lnTo>
                        <a:pt x="3090" y="599"/>
                      </a:lnTo>
                      <a:lnTo>
                        <a:pt x="3090" y="614"/>
                      </a:lnTo>
                      <a:lnTo>
                        <a:pt x="3090" y="631"/>
                      </a:lnTo>
                      <a:lnTo>
                        <a:pt x="3076" y="631"/>
                      </a:lnTo>
                      <a:lnTo>
                        <a:pt x="3062" y="614"/>
                      </a:lnTo>
                      <a:lnTo>
                        <a:pt x="3048" y="599"/>
                      </a:lnTo>
                      <a:lnTo>
                        <a:pt x="3020" y="567"/>
                      </a:lnTo>
                      <a:lnTo>
                        <a:pt x="2978" y="552"/>
                      </a:lnTo>
                      <a:lnTo>
                        <a:pt x="2950" y="520"/>
                      </a:lnTo>
                      <a:lnTo>
                        <a:pt x="2936" y="505"/>
                      </a:lnTo>
                      <a:lnTo>
                        <a:pt x="2922" y="488"/>
                      </a:lnTo>
                      <a:lnTo>
                        <a:pt x="2922" y="473"/>
                      </a:lnTo>
                      <a:lnTo>
                        <a:pt x="2936" y="456"/>
                      </a:lnTo>
                      <a:lnTo>
                        <a:pt x="2936" y="409"/>
                      </a:lnTo>
                      <a:lnTo>
                        <a:pt x="2922" y="377"/>
                      </a:lnTo>
                      <a:lnTo>
                        <a:pt x="2895" y="330"/>
                      </a:lnTo>
                      <a:lnTo>
                        <a:pt x="2895" y="347"/>
                      </a:lnTo>
                      <a:lnTo>
                        <a:pt x="2908" y="362"/>
                      </a:lnTo>
                      <a:lnTo>
                        <a:pt x="2908" y="377"/>
                      </a:lnTo>
                      <a:lnTo>
                        <a:pt x="2895" y="394"/>
                      </a:lnTo>
                      <a:lnTo>
                        <a:pt x="2895" y="377"/>
                      </a:lnTo>
                      <a:lnTo>
                        <a:pt x="2881" y="362"/>
                      </a:lnTo>
                      <a:lnTo>
                        <a:pt x="2867" y="362"/>
                      </a:lnTo>
                      <a:lnTo>
                        <a:pt x="2839" y="347"/>
                      </a:lnTo>
                      <a:lnTo>
                        <a:pt x="2812" y="362"/>
                      </a:lnTo>
                      <a:lnTo>
                        <a:pt x="2812" y="409"/>
                      </a:lnTo>
                      <a:lnTo>
                        <a:pt x="2825" y="409"/>
                      </a:lnTo>
                      <a:lnTo>
                        <a:pt x="2839" y="409"/>
                      </a:lnTo>
                      <a:lnTo>
                        <a:pt x="2853" y="426"/>
                      </a:lnTo>
                      <a:lnTo>
                        <a:pt x="2839" y="426"/>
                      </a:lnTo>
                      <a:lnTo>
                        <a:pt x="2825" y="426"/>
                      </a:lnTo>
                      <a:lnTo>
                        <a:pt x="2812" y="426"/>
                      </a:lnTo>
                      <a:lnTo>
                        <a:pt x="2798" y="426"/>
                      </a:lnTo>
                      <a:lnTo>
                        <a:pt x="2770" y="426"/>
                      </a:lnTo>
                      <a:lnTo>
                        <a:pt x="2756" y="409"/>
                      </a:lnTo>
                      <a:lnTo>
                        <a:pt x="2742" y="409"/>
                      </a:lnTo>
                      <a:lnTo>
                        <a:pt x="2729" y="409"/>
                      </a:lnTo>
                      <a:lnTo>
                        <a:pt x="2701" y="426"/>
                      </a:lnTo>
                      <a:lnTo>
                        <a:pt x="2659" y="441"/>
                      </a:lnTo>
                      <a:lnTo>
                        <a:pt x="2632" y="456"/>
                      </a:lnTo>
                      <a:lnTo>
                        <a:pt x="2632" y="473"/>
                      </a:lnTo>
                      <a:lnTo>
                        <a:pt x="2618" y="473"/>
                      </a:lnTo>
                      <a:lnTo>
                        <a:pt x="2618" y="488"/>
                      </a:lnTo>
                      <a:lnTo>
                        <a:pt x="2604" y="520"/>
                      </a:lnTo>
                      <a:lnTo>
                        <a:pt x="2604" y="535"/>
                      </a:lnTo>
                      <a:lnTo>
                        <a:pt x="2618" y="552"/>
                      </a:lnTo>
                      <a:lnTo>
                        <a:pt x="2659" y="567"/>
                      </a:lnTo>
                      <a:lnTo>
                        <a:pt x="2673" y="567"/>
                      </a:lnTo>
                      <a:lnTo>
                        <a:pt x="2687" y="552"/>
                      </a:lnTo>
                      <a:lnTo>
                        <a:pt x="2701" y="552"/>
                      </a:lnTo>
                      <a:lnTo>
                        <a:pt x="2715" y="552"/>
                      </a:lnTo>
                      <a:lnTo>
                        <a:pt x="2729" y="567"/>
                      </a:lnTo>
                      <a:lnTo>
                        <a:pt x="2742" y="567"/>
                      </a:lnTo>
                      <a:lnTo>
                        <a:pt x="2729" y="584"/>
                      </a:lnTo>
                      <a:lnTo>
                        <a:pt x="2742" y="584"/>
                      </a:lnTo>
                      <a:lnTo>
                        <a:pt x="2756" y="599"/>
                      </a:lnTo>
                      <a:lnTo>
                        <a:pt x="2770" y="599"/>
                      </a:lnTo>
                      <a:lnTo>
                        <a:pt x="2770" y="614"/>
                      </a:lnTo>
                      <a:lnTo>
                        <a:pt x="2770" y="631"/>
                      </a:lnTo>
                      <a:lnTo>
                        <a:pt x="2770" y="646"/>
                      </a:lnTo>
                      <a:lnTo>
                        <a:pt x="2784" y="662"/>
                      </a:lnTo>
                      <a:lnTo>
                        <a:pt x="2798" y="678"/>
                      </a:lnTo>
                      <a:lnTo>
                        <a:pt x="2812" y="693"/>
                      </a:lnTo>
                      <a:lnTo>
                        <a:pt x="2812" y="710"/>
                      </a:lnTo>
                      <a:lnTo>
                        <a:pt x="2798" y="710"/>
                      </a:lnTo>
                      <a:lnTo>
                        <a:pt x="2798" y="757"/>
                      </a:lnTo>
                      <a:lnTo>
                        <a:pt x="2784" y="804"/>
                      </a:lnTo>
                      <a:lnTo>
                        <a:pt x="2770" y="851"/>
                      </a:lnTo>
                      <a:lnTo>
                        <a:pt x="2756" y="851"/>
                      </a:lnTo>
                      <a:lnTo>
                        <a:pt x="2742" y="835"/>
                      </a:lnTo>
                      <a:lnTo>
                        <a:pt x="2729" y="835"/>
                      </a:lnTo>
                      <a:lnTo>
                        <a:pt x="2729" y="851"/>
                      </a:lnTo>
                      <a:lnTo>
                        <a:pt x="2715" y="867"/>
                      </a:lnTo>
                      <a:lnTo>
                        <a:pt x="2715" y="883"/>
                      </a:lnTo>
                      <a:lnTo>
                        <a:pt x="2715" y="899"/>
                      </a:lnTo>
                      <a:lnTo>
                        <a:pt x="2701" y="914"/>
                      </a:lnTo>
                      <a:lnTo>
                        <a:pt x="2701" y="930"/>
                      </a:lnTo>
                      <a:lnTo>
                        <a:pt x="2715" y="961"/>
                      </a:lnTo>
                      <a:lnTo>
                        <a:pt x="2742" y="993"/>
                      </a:lnTo>
                      <a:lnTo>
                        <a:pt x="2784" y="1040"/>
                      </a:lnTo>
                      <a:lnTo>
                        <a:pt x="2784" y="1072"/>
                      </a:lnTo>
                      <a:lnTo>
                        <a:pt x="2770" y="1087"/>
                      </a:lnTo>
                      <a:lnTo>
                        <a:pt x="2756" y="1087"/>
                      </a:lnTo>
                      <a:lnTo>
                        <a:pt x="2742" y="1104"/>
                      </a:lnTo>
                      <a:lnTo>
                        <a:pt x="2729" y="1087"/>
                      </a:lnTo>
                      <a:lnTo>
                        <a:pt x="2729" y="1072"/>
                      </a:lnTo>
                      <a:lnTo>
                        <a:pt x="2729" y="1040"/>
                      </a:lnTo>
                      <a:lnTo>
                        <a:pt x="2715" y="1008"/>
                      </a:lnTo>
                      <a:lnTo>
                        <a:pt x="2715" y="993"/>
                      </a:lnTo>
                      <a:lnTo>
                        <a:pt x="2701" y="993"/>
                      </a:lnTo>
                      <a:lnTo>
                        <a:pt x="2687" y="978"/>
                      </a:lnTo>
                      <a:lnTo>
                        <a:pt x="2673" y="978"/>
                      </a:lnTo>
                      <a:lnTo>
                        <a:pt x="2659" y="978"/>
                      </a:lnTo>
                      <a:lnTo>
                        <a:pt x="2646" y="961"/>
                      </a:lnTo>
                      <a:lnTo>
                        <a:pt x="2646" y="946"/>
                      </a:lnTo>
                      <a:lnTo>
                        <a:pt x="2632" y="930"/>
                      </a:lnTo>
                      <a:lnTo>
                        <a:pt x="2618" y="961"/>
                      </a:lnTo>
                      <a:lnTo>
                        <a:pt x="2590" y="961"/>
                      </a:lnTo>
                      <a:lnTo>
                        <a:pt x="2590" y="946"/>
                      </a:lnTo>
                      <a:lnTo>
                        <a:pt x="2590" y="930"/>
                      </a:lnTo>
                      <a:lnTo>
                        <a:pt x="2576" y="914"/>
                      </a:lnTo>
                      <a:lnTo>
                        <a:pt x="2563" y="914"/>
                      </a:lnTo>
                      <a:lnTo>
                        <a:pt x="2549" y="930"/>
                      </a:lnTo>
                      <a:lnTo>
                        <a:pt x="2521" y="961"/>
                      </a:lnTo>
                      <a:lnTo>
                        <a:pt x="2535" y="993"/>
                      </a:lnTo>
                      <a:lnTo>
                        <a:pt x="2563" y="1008"/>
                      </a:lnTo>
                      <a:lnTo>
                        <a:pt x="2576" y="1008"/>
                      </a:lnTo>
                      <a:lnTo>
                        <a:pt x="2576" y="993"/>
                      </a:lnTo>
                      <a:lnTo>
                        <a:pt x="2590" y="993"/>
                      </a:lnTo>
                      <a:lnTo>
                        <a:pt x="2604" y="993"/>
                      </a:lnTo>
                      <a:lnTo>
                        <a:pt x="2618" y="993"/>
                      </a:lnTo>
                      <a:lnTo>
                        <a:pt x="2632" y="993"/>
                      </a:lnTo>
                      <a:lnTo>
                        <a:pt x="2632" y="1008"/>
                      </a:lnTo>
                      <a:lnTo>
                        <a:pt x="2618" y="1040"/>
                      </a:lnTo>
                      <a:lnTo>
                        <a:pt x="2604" y="1057"/>
                      </a:lnTo>
                      <a:lnTo>
                        <a:pt x="2590" y="1072"/>
                      </a:lnTo>
                      <a:lnTo>
                        <a:pt x="2590" y="1087"/>
                      </a:lnTo>
                      <a:lnTo>
                        <a:pt x="2604" y="1104"/>
                      </a:lnTo>
                      <a:lnTo>
                        <a:pt x="2618" y="1119"/>
                      </a:lnTo>
                      <a:lnTo>
                        <a:pt x="2646" y="1151"/>
                      </a:lnTo>
                      <a:lnTo>
                        <a:pt x="2659" y="1151"/>
                      </a:lnTo>
                      <a:lnTo>
                        <a:pt x="2673" y="1166"/>
                      </a:lnTo>
                      <a:lnTo>
                        <a:pt x="2659" y="1166"/>
                      </a:lnTo>
                      <a:lnTo>
                        <a:pt x="2632" y="1151"/>
                      </a:lnTo>
                      <a:lnTo>
                        <a:pt x="2618" y="1151"/>
                      </a:lnTo>
                      <a:lnTo>
                        <a:pt x="2632" y="1166"/>
                      </a:lnTo>
                      <a:lnTo>
                        <a:pt x="2646" y="1166"/>
                      </a:lnTo>
                      <a:lnTo>
                        <a:pt x="2659" y="1183"/>
                      </a:lnTo>
                      <a:lnTo>
                        <a:pt x="2673" y="1183"/>
                      </a:lnTo>
                      <a:lnTo>
                        <a:pt x="2673" y="1198"/>
                      </a:lnTo>
                      <a:lnTo>
                        <a:pt x="2659" y="1198"/>
                      </a:lnTo>
                      <a:lnTo>
                        <a:pt x="2646" y="1215"/>
                      </a:lnTo>
                      <a:lnTo>
                        <a:pt x="2659" y="1215"/>
                      </a:lnTo>
                      <a:lnTo>
                        <a:pt x="2673" y="1215"/>
                      </a:lnTo>
                      <a:lnTo>
                        <a:pt x="2687" y="1215"/>
                      </a:lnTo>
                      <a:lnTo>
                        <a:pt x="2701" y="1262"/>
                      </a:lnTo>
                      <a:lnTo>
                        <a:pt x="2687" y="1277"/>
                      </a:lnTo>
                      <a:lnTo>
                        <a:pt x="2687" y="1293"/>
                      </a:lnTo>
                      <a:lnTo>
                        <a:pt x="2659" y="1293"/>
                      </a:lnTo>
                      <a:lnTo>
                        <a:pt x="2659" y="1324"/>
                      </a:lnTo>
                      <a:lnTo>
                        <a:pt x="2673" y="1324"/>
                      </a:lnTo>
                      <a:lnTo>
                        <a:pt x="2659" y="1341"/>
                      </a:lnTo>
                      <a:lnTo>
                        <a:pt x="2659" y="1356"/>
                      </a:lnTo>
                      <a:lnTo>
                        <a:pt x="2646" y="1372"/>
                      </a:lnTo>
                      <a:lnTo>
                        <a:pt x="2632" y="1388"/>
                      </a:lnTo>
                      <a:lnTo>
                        <a:pt x="2618" y="1388"/>
                      </a:lnTo>
                      <a:lnTo>
                        <a:pt x="2590" y="1403"/>
                      </a:lnTo>
                      <a:lnTo>
                        <a:pt x="2576" y="1419"/>
                      </a:lnTo>
                      <a:lnTo>
                        <a:pt x="2563" y="1435"/>
                      </a:lnTo>
                      <a:lnTo>
                        <a:pt x="2549" y="1435"/>
                      </a:lnTo>
                      <a:lnTo>
                        <a:pt x="2535" y="1435"/>
                      </a:lnTo>
                      <a:lnTo>
                        <a:pt x="2521" y="1451"/>
                      </a:lnTo>
                      <a:lnTo>
                        <a:pt x="2507" y="1451"/>
                      </a:lnTo>
                      <a:lnTo>
                        <a:pt x="2507" y="1466"/>
                      </a:lnTo>
                      <a:lnTo>
                        <a:pt x="2493" y="1482"/>
                      </a:lnTo>
                      <a:lnTo>
                        <a:pt x="2493" y="1466"/>
                      </a:lnTo>
                      <a:lnTo>
                        <a:pt x="2493" y="1451"/>
                      </a:lnTo>
                      <a:lnTo>
                        <a:pt x="2452" y="1451"/>
                      </a:lnTo>
                      <a:lnTo>
                        <a:pt x="2424" y="1466"/>
                      </a:lnTo>
                      <a:lnTo>
                        <a:pt x="2410" y="1498"/>
                      </a:lnTo>
                      <a:lnTo>
                        <a:pt x="2424" y="1545"/>
                      </a:lnTo>
                      <a:lnTo>
                        <a:pt x="2452" y="1577"/>
                      </a:lnTo>
                      <a:lnTo>
                        <a:pt x="2493" y="1624"/>
                      </a:lnTo>
                      <a:lnTo>
                        <a:pt x="2493" y="1656"/>
                      </a:lnTo>
                      <a:lnTo>
                        <a:pt x="2493" y="1703"/>
                      </a:lnTo>
                      <a:lnTo>
                        <a:pt x="2480" y="1735"/>
                      </a:lnTo>
                      <a:lnTo>
                        <a:pt x="2480" y="1750"/>
                      </a:lnTo>
                      <a:lnTo>
                        <a:pt x="2466" y="1767"/>
                      </a:lnTo>
                      <a:lnTo>
                        <a:pt x="2452" y="1767"/>
                      </a:lnTo>
                      <a:lnTo>
                        <a:pt x="2438" y="1767"/>
                      </a:lnTo>
                      <a:lnTo>
                        <a:pt x="2424" y="1782"/>
                      </a:lnTo>
                      <a:lnTo>
                        <a:pt x="2424" y="1797"/>
                      </a:lnTo>
                      <a:lnTo>
                        <a:pt x="2410" y="1782"/>
                      </a:lnTo>
                      <a:lnTo>
                        <a:pt x="2410" y="1767"/>
                      </a:lnTo>
                      <a:lnTo>
                        <a:pt x="2410" y="1750"/>
                      </a:lnTo>
                      <a:lnTo>
                        <a:pt x="2397" y="1735"/>
                      </a:lnTo>
                      <a:lnTo>
                        <a:pt x="2383" y="1718"/>
                      </a:lnTo>
                      <a:lnTo>
                        <a:pt x="2369" y="1718"/>
                      </a:lnTo>
                      <a:lnTo>
                        <a:pt x="2355" y="1703"/>
                      </a:lnTo>
                      <a:lnTo>
                        <a:pt x="2341" y="1703"/>
                      </a:lnTo>
                      <a:lnTo>
                        <a:pt x="2327" y="1688"/>
                      </a:lnTo>
                      <a:lnTo>
                        <a:pt x="2314" y="1671"/>
                      </a:lnTo>
                      <a:lnTo>
                        <a:pt x="2314" y="1718"/>
                      </a:lnTo>
                      <a:lnTo>
                        <a:pt x="2314" y="1750"/>
                      </a:lnTo>
                      <a:lnTo>
                        <a:pt x="2314" y="1797"/>
                      </a:lnTo>
                      <a:lnTo>
                        <a:pt x="2327" y="1846"/>
                      </a:lnTo>
                      <a:lnTo>
                        <a:pt x="2341" y="1846"/>
                      </a:lnTo>
                      <a:lnTo>
                        <a:pt x="2355" y="1861"/>
                      </a:lnTo>
                      <a:lnTo>
                        <a:pt x="2369" y="1861"/>
                      </a:lnTo>
                      <a:lnTo>
                        <a:pt x="2383" y="1893"/>
                      </a:lnTo>
                      <a:lnTo>
                        <a:pt x="2397" y="1893"/>
                      </a:lnTo>
                      <a:lnTo>
                        <a:pt x="2397" y="1908"/>
                      </a:lnTo>
                      <a:lnTo>
                        <a:pt x="2397" y="1924"/>
                      </a:lnTo>
                      <a:lnTo>
                        <a:pt x="2397" y="1955"/>
                      </a:lnTo>
                      <a:lnTo>
                        <a:pt x="2397" y="1971"/>
                      </a:lnTo>
                      <a:lnTo>
                        <a:pt x="2410" y="1987"/>
                      </a:lnTo>
                      <a:lnTo>
                        <a:pt x="2410" y="2003"/>
                      </a:lnTo>
                      <a:lnTo>
                        <a:pt x="2397" y="2003"/>
                      </a:lnTo>
                      <a:lnTo>
                        <a:pt x="2383" y="1987"/>
                      </a:lnTo>
                      <a:lnTo>
                        <a:pt x="2369" y="1971"/>
                      </a:lnTo>
                      <a:lnTo>
                        <a:pt x="2355" y="1955"/>
                      </a:lnTo>
                      <a:lnTo>
                        <a:pt x="2355" y="1940"/>
                      </a:lnTo>
                      <a:lnTo>
                        <a:pt x="2341" y="1908"/>
                      </a:lnTo>
                      <a:lnTo>
                        <a:pt x="2327" y="1861"/>
                      </a:lnTo>
                      <a:lnTo>
                        <a:pt x="2314" y="1829"/>
                      </a:lnTo>
                      <a:lnTo>
                        <a:pt x="2300" y="1829"/>
                      </a:lnTo>
                      <a:lnTo>
                        <a:pt x="2286" y="1814"/>
                      </a:lnTo>
                      <a:lnTo>
                        <a:pt x="2286" y="1797"/>
                      </a:lnTo>
                      <a:lnTo>
                        <a:pt x="2286" y="1767"/>
                      </a:lnTo>
                      <a:lnTo>
                        <a:pt x="2286" y="1750"/>
                      </a:lnTo>
                      <a:lnTo>
                        <a:pt x="2286" y="1718"/>
                      </a:lnTo>
                      <a:lnTo>
                        <a:pt x="2272" y="1688"/>
                      </a:lnTo>
                      <a:lnTo>
                        <a:pt x="2272" y="1656"/>
                      </a:lnTo>
                      <a:lnTo>
                        <a:pt x="2272" y="1671"/>
                      </a:lnTo>
                      <a:lnTo>
                        <a:pt x="2258" y="1624"/>
                      </a:lnTo>
                      <a:lnTo>
                        <a:pt x="2244" y="1592"/>
                      </a:lnTo>
                      <a:lnTo>
                        <a:pt x="2231" y="1561"/>
                      </a:lnTo>
                      <a:lnTo>
                        <a:pt x="2217" y="1561"/>
                      </a:lnTo>
                      <a:lnTo>
                        <a:pt x="2217" y="1577"/>
                      </a:lnTo>
                      <a:lnTo>
                        <a:pt x="2217" y="1592"/>
                      </a:lnTo>
                      <a:lnTo>
                        <a:pt x="2203" y="1609"/>
                      </a:lnTo>
                      <a:lnTo>
                        <a:pt x="2188" y="1609"/>
                      </a:lnTo>
                      <a:lnTo>
                        <a:pt x="2174" y="1592"/>
                      </a:lnTo>
                      <a:lnTo>
                        <a:pt x="2188" y="1577"/>
                      </a:lnTo>
                      <a:lnTo>
                        <a:pt x="2188" y="1561"/>
                      </a:lnTo>
                      <a:lnTo>
                        <a:pt x="2160" y="1530"/>
                      </a:lnTo>
                      <a:lnTo>
                        <a:pt x="2132" y="1482"/>
                      </a:lnTo>
                      <a:lnTo>
                        <a:pt x="2119" y="1451"/>
                      </a:lnTo>
                      <a:lnTo>
                        <a:pt x="2119" y="1435"/>
                      </a:lnTo>
                      <a:lnTo>
                        <a:pt x="2105" y="1419"/>
                      </a:lnTo>
                      <a:lnTo>
                        <a:pt x="2105" y="1403"/>
                      </a:lnTo>
                      <a:lnTo>
                        <a:pt x="2091" y="1403"/>
                      </a:lnTo>
                      <a:lnTo>
                        <a:pt x="2077" y="1403"/>
                      </a:lnTo>
                      <a:lnTo>
                        <a:pt x="2063" y="1388"/>
                      </a:lnTo>
                      <a:lnTo>
                        <a:pt x="2049" y="1372"/>
                      </a:lnTo>
                      <a:lnTo>
                        <a:pt x="2049" y="1388"/>
                      </a:lnTo>
                      <a:lnTo>
                        <a:pt x="2063" y="1403"/>
                      </a:lnTo>
                      <a:lnTo>
                        <a:pt x="2077" y="1403"/>
                      </a:lnTo>
                      <a:lnTo>
                        <a:pt x="2077" y="1419"/>
                      </a:lnTo>
                      <a:lnTo>
                        <a:pt x="2077" y="1435"/>
                      </a:lnTo>
                      <a:lnTo>
                        <a:pt x="2063" y="1435"/>
                      </a:lnTo>
                      <a:lnTo>
                        <a:pt x="2049" y="1435"/>
                      </a:lnTo>
                      <a:lnTo>
                        <a:pt x="2036" y="1451"/>
                      </a:lnTo>
                      <a:lnTo>
                        <a:pt x="2022" y="1466"/>
                      </a:lnTo>
                      <a:lnTo>
                        <a:pt x="2008" y="1482"/>
                      </a:lnTo>
                      <a:lnTo>
                        <a:pt x="1994" y="1498"/>
                      </a:lnTo>
                      <a:lnTo>
                        <a:pt x="1980" y="1498"/>
                      </a:lnTo>
                      <a:lnTo>
                        <a:pt x="1980" y="1513"/>
                      </a:lnTo>
                      <a:lnTo>
                        <a:pt x="1966" y="1530"/>
                      </a:lnTo>
                      <a:lnTo>
                        <a:pt x="1939" y="1561"/>
                      </a:lnTo>
                      <a:lnTo>
                        <a:pt x="1911" y="1577"/>
                      </a:lnTo>
                      <a:lnTo>
                        <a:pt x="1883" y="1609"/>
                      </a:lnTo>
                      <a:lnTo>
                        <a:pt x="1883" y="1624"/>
                      </a:lnTo>
                      <a:lnTo>
                        <a:pt x="1883" y="1639"/>
                      </a:lnTo>
                      <a:lnTo>
                        <a:pt x="1870" y="1688"/>
                      </a:lnTo>
                      <a:lnTo>
                        <a:pt x="1856" y="1735"/>
                      </a:lnTo>
                      <a:lnTo>
                        <a:pt x="1842" y="1767"/>
                      </a:lnTo>
                      <a:lnTo>
                        <a:pt x="1828" y="1797"/>
                      </a:lnTo>
                      <a:lnTo>
                        <a:pt x="1814" y="1797"/>
                      </a:lnTo>
                      <a:lnTo>
                        <a:pt x="1814" y="1782"/>
                      </a:lnTo>
                      <a:lnTo>
                        <a:pt x="1814" y="1767"/>
                      </a:lnTo>
                      <a:lnTo>
                        <a:pt x="1800" y="1750"/>
                      </a:lnTo>
                      <a:lnTo>
                        <a:pt x="1800" y="1718"/>
                      </a:lnTo>
                      <a:lnTo>
                        <a:pt x="1787" y="1703"/>
                      </a:lnTo>
                      <a:lnTo>
                        <a:pt x="1773" y="1688"/>
                      </a:lnTo>
                      <a:lnTo>
                        <a:pt x="1787" y="1688"/>
                      </a:lnTo>
                      <a:lnTo>
                        <a:pt x="1773" y="1671"/>
                      </a:lnTo>
                      <a:lnTo>
                        <a:pt x="1773" y="1639"/>
                      </a:lnTo>
                      <a:lnTo>
                        <a:pt x="1759" y="1639"/>
                      </a:lnTo>
                      <a:lnTo>
                        <a:pt x="1759" y="1624"/>
                      </a:lnTo>
                      <a:lnTo>
                        <a:pt x="1745" y="1609"/>
                      </a:lnTo>
                      <a:lnTo>
                        <a:pt x="1745" y="1592"/>
                      </a:lnTo>
                      <a:lnTo>
                        <a:pt x="1745" y="1577"/>
                      </a:lnTo>
                      <a:lnTo>
                        <a:pt x="1731" y="1545"/>
                      </a:lnTo>
                      <a:lnTo>
                        <a:pt x="1718" y="1482"/>
                      </a:lnTo>
                      <a:lnTo>
                        <a:pt x="1704" y="1451"/>
                      </a:lnTo>
                      <a:lnTo>
                        <a:pt x="1690" y="1451"/>
                      </a:lnTo>
                      <a:lnTo>
                        <a:pt x="1690" y="1466"/>
                      </a:lnTo>
                      <a:lnTo>
                        <a:pt x="1676" y="1466"/>
                      </a:lnTo>
                      <a:lnTo>
                        <a:pt x="1662" y="1466"/>
                      </a:lnTo>
                      <a:lnTo>
                        <a:pt x="1648" y="1451"/>
                      </a:lnTo>
                      <a:lnTo>
                        <a:pt x="1635" y="1419"/>
                      </a:lnTo>
                      <a:lnTo>
                        <a:pt x="1648" y="1419"/>
                      </a:lnTo>
                      <a:lnTo>
                        <a:pt x="1662" y="1419"/>
                      </a:lnTo>
                      <a:lnTo>
                        <a:pt x="1662" y="1403"/>
                      </a:lnTo>
                      <a:lnTo>
                        <a:pt x="1648" y="1388"/>
                      </a:lnTo>
                      <a:lnTo>
                        <a:pt x="1635" y="1388"/>
                      </a:lnTo>
                      <a:lnTo>
                        <a:pt x="1621" y="1388"/>
                      </a:lnTo>
                      <a:lnTo>
                        <a:pt x="1607" y="1372"/>
                      </a:lnTo>
                      <a:lnTo>
                        <a:pt x="1593" y="1356"/>
                      </a:lnTo>
                      <a:lnTo>
                        <a:pt x="1579" y="1356"/>
                      </a:lnTo>
                      <a:lnTo>
                        <a:pt x="1579" y="1341"/>
                      </a:lnTo>
                      <a:lnTo>
                        <a:pt x="1565" y="1341"/>
                      </a:lnTo>
                      <a:lnTo>
                        <a:pt x="1538" y="1324"/>
                      </a:lnTo>
                      <a:lnTo>
                        <a:pt x="1496" y="1324"/>
                      </a:lnTo>
                      <a:lnTo>
                        <a:pt x="1455" y="1324"/>
                      </a:lnTo>
                      <a:lnTo>
                        <a:pt x="1413" y="1309"/>
                      </a:lnTo>
                      <a:lnTo>
                        <a:pt x="1370" y="1309"/>
                      </a:lnTo>
                      <a:lnTo>
                        <a:pt x="1370" y="1293"/>
                      </a:lnTo>
                      <a:lnTo>
                        <a:pt x="1343" y="1293"/>
                      </a:lnTo>
                      <a:lnTo>
                        <a:pt x="1329" y="1309"/>
                      </a:lnTo>
                      <a:lnTo>
                        <a:pt x="1301" y="1309"/>
                      </a:lnTo>
                      <a:lnTo>
                        <a:pt x="1301" y="1293"/>
                      </a:lnTo>
                      <a:lnTo>
                        <a:pt x="1287" y="1293"/>
                      </a:lnTo>
                      <a:lnTo>
                        <a:pt x="1274" y="1277"/>
                      </a:lnTo>
                      <a:lnTo>
                        <a:pt x="1260" y="1277"/>
                      </a:lnTo>
                      <a:lnTo>
                        <a:pt x="1260" y="1262"/>
                      </a:lnTo>
                      <a:lnTo>
                        <a:pt x="1246" y="1245"/>
                      </a:lnTo>
                      <a:lnTo>
                        <a:pt x="1232" y="1230"/>
                      </a:lnTo>
                      <a:lnTo>
                        <a:pt x="1218" y="1215"/>
                      </a:lnTo>
                      <a:lnTo>
                        <a:pt x="1204" y="1215"/>
                      </a:lnTo>
                      <a:lnTo>
                        <a:pt x="1191" y="1215"/>
                      </a:lnTo>
                      <a:lnTo>
                        <a:pt x="1191" y="1245"/>
                      </a:lnTo>
                      <a:lnTo>
                        <a:pt x="1218" y="1293"/>
                      </a:lnTo>
                      <a:lnTo>
                        <a:pt x="1232" y="1309"/>
                      </a:lnTo>
                      <a:lnTo>
                        <a:pt x="1246" y="1324"/>
                      </a:lnTo>
                      <a:lnTo>
                        <a:pt x="1246" y="1341"/>
                      </a:lnTo>
                      <a:lnTo>
                        <a:pt x="1246" y="1356"/>
                      </a:lnTo>
                      <a:lnTo>
                        <a:pt x="1260" y="1356"/>
                      </a:lnTo>
                      <a:lnTo>
                        <a:pt x="1260" y="1341"/>
                      </a:lnTo>
                      <a:lnTo>
                        <a:pt x="1260" y="1324"/>
                      </a:lnTo>
                      <a:lnTo>
                        <a:pt x="1287" y="1309"/>
                      </a:lnTo>
                      <a:lnTo>
                        <a:pt x="1329" y="1309"/>
                      </a:lnTo>
                      <a:lnTo>
                        <a:pt x="1357" y="1309"/>
                      </a:lnTo>
                      <a:lnTo>
                        <a:pt x="1370" y="1324"/>
                      </a:lnTo>
                      <a:lnTo>
                        <a:pt x="1370" y="1341"/>
                      </a:lnTo>
                      <a:lnTo>
                        <a:pt x="1370" y="1372"/>
                      </a:lnTo>
                      <a:lnTo>
                        <a:pt x="1384" y="1372"/>
                      </a:lnTo>
                      <a:lnTo>
                        <a:pt x="1384" y="1388"/>
                      </a:lnTo>
                      <a:lnTo>
                        <a:pt x="1413" y="1388"/>
                      </a:lnTo>
                      <a:lnTo>
                        <a:pt x="1427" y="1403"/>
                      </a:lnTo>
                      <a:lnTo>
                        <a:pt x="1441" y="1435"/>
                      </a:lnTo>
                      <a:lnTo>
                        <a:pt x="1441" y="1451"/>
                      </a:lnTo>
                      <a:lnTo>
                        <a:pt x="1427" y="1466"/>
                      </a:lnTo>
                      <a:lnTo>
                        <a:pt x="1427" y="1482"/>
                      </a:lnTo>
                      <a:lnTo>
                        <a:pt x="1413" y="1498"/>
                      </a:lnTo>
                      <a:lnTo>
                        <a:pt x="1413" y="1513"/>
                      </a:lnTo>
                      <a:lnTo>
                        <a:pt x="1399" y="1513"/>
                      </a:lnTo>
                      <a:lnTo>
                        <a:pt x="1384" y="1530"/>
                      </a:lnTo>
                      <a:lnTo>
                        <a:pt x="1370" y="1545"/>
                      </a:lnTo>
                      <a:lnTo>
                        <a:pt x="1357" y="1545"/>
                      </a:lnTo>
                      <a:lnTo>
                        <a:pt x="1343" y="1561"/>
                      </a:lnTo>
                      <a:lnTo>
                        <a:pt x="1315" y="1577"/>
                      </a:lnTo>
                      <a:lnTo>
                        <a:pt x="1301" y="1592"/>
                      </a:lnTo>
                      <a:lnTo>
                        <a:pt x="1287" y="1592"/>
                      </a:lnTo>
                      <a:lnTo>
                        <a:pt x="1287" y="1609"/>
                      </a:lnTo>
                      <a:lnTo>
                        <a:pt x="1287" y="1624"/>
                      </a:lnTo>
                      <a:lnTo>
                        <a:pt x="1274" y="1624"/>
                      </a:lnTo>
                      <a:lnTo>
                        <a:pt x="1260" y="1624"/>
                      </a:lnTo>
                      <a:lnTo>
                        <a:pt x="1246" y="1639"/>
                      </a:lnTo>
                      <a:lnTo>
                        <a:pt x="1232" y="1639"/>
                      </a:lnTo>
                      <a:lnTo>
                        <a:pt x="1232" y="1656"/>
                      </a:lnTo>
                      <a:lnTo>
                        <a:pt x="1218" y="1656"/>
                      </a:lnTo>
                      <a:lnTo>
                        <a:pt x="1204" y="1656"/>
                      </a:lnTo>
                      <a:lnTo>
                        <a:pt x="1191" y="1671"/>
                      </a:lnTo>
                      <a:lnTo>
                        <a:pt x="1163" y="1671"/>
                      </a:lnTo>
                      <a:lnTo>
                        <a:pt x="1149" y="1688"/>
                      </a:lnTo>
                      <a:lnTo>
                        <a:pt x="1121" y="1688"/>
                      </a:lnTo>
                      <a:lnTo>
                        <a:pt x="1108" y="1671"/>
                      </a:lnTo>
                      <a:lnTo>
                        <a:pt x="1108" y="1639"/>
                      </a:lnTo>
                      <a:lnTo>
                        <a:pt x="1108" y="1592"/>
                      </a:lnTo>
                      <a:lnTo>
                        <a:pt x="1094" y="1561"/>
                      </a:lnTo>
                      <a:lnTo>
                        <a:pt x="1080" y="1545"/>
                      </a:lnTo>
                      <a:lnTo>
                        <a:pt x="1066" y="1530"/>
                      </a:lnTo>
                      <a:lnTo>
                        <a:pt x="1066" y="1513"/>
                      </a:lnTo>
                      <a:lnTo>
                        <a:pt x="1052" y="1498"/>
                      </a:lnTo>
                      <a:lnTo>
                        <a:pt x="1038" y="1482"/>
                      </a:lnTo>
                      <a:lnTo>
                        <a:pt x="1025" y="1466"/>
                      </a:lnTo>
                      <a:lnTo>
                        <a:pt x="1025" y="1451"/>
                      </a:lnTo>
                      <a:lnTo>
                        <a:pt x="1011" y="1451"/>
                      </a:lnTo>
                      <a:lnTo>
                        <a:pt x="1011" y="1435"/>
                      </a:lnTo>
                      <a:lnTo>
                        <a:pt x="997" y="1419"/>
                      </a:lnTo>
                      <a:lnTo>
                        <a:pt x="983" y="1388"/>
                      </a:lnTo>
                      <a:lnTo>
                        <a:pt x="983" y="1372"/>
                      </a:lnTo>
                      <a:lnTo>
                        <a:pt x="969" y="1356"/>
                      </a:lnTo>
                      <a:lnTo>
                        <a:pt x="969" y="1341"/>
                      </a:lnTo>
                      <a:lnTo>
                        <a:pt x="955" y="1324"/>
                      </a:lnTo>
                      <a:lnTo>
                        <a:pt x="942" y="1293"/>
                      </a:lnTo>
                      <a:lnTo>
                        <a:pt x="928" y="1262"/>
                      </a:lnTo>
                      <a:lnTo>
                        <a:pt x="914" y="1262"/>
                      </a:lnTo>
                      <a:lnTo>
                        <a:pt x="914" y="1277"/>
                      </a:lnTo>
                      <a:lnTo>
                        <a:pt x="900" y="1277"/>
                      </a:lnTo>
                      <a:lnTo>
                        <a:pt x="886" y="1262"/>
                      </a:lnTo>
                      <a:lnTo>
                        <a:pt x="872" y="1245"/>
                      </a:lnTo>
                      <a:lnTo>
                        <a:pt x="859" y="1230"/>
                      </a:lnTo>
                      <a:lnTo>
                        <a:pt x="859" y="1215"/>
                      </a:lnTo>
                      <a:lnTo>
                        <a:pt x="845" y="1183"/>
                      </a:lnTo>
                      <a:lnTo>
                        <a:pt x="845" y="1166"/>
                      </a:lnTo>
                      <a:lnTo>
                        <a:pt x="859" y="1151"/>
                      </a:lnTo>
                      <a:lnTo>
                        <a:pt x="886" y="1151"/>
                      </a:lnTo>
                      <a:lnTo>
                        <a:pt x="914" y="1136"/>
                      </a:lnTo>
                      <a:lnTo>
                        <a:pt x="928" y="1104"/>
                      </a:lnTo>
                      <a:lnTo>
                        <a:pt x="914" y="1057"/>
                      </a:lnTo>
                      <a:lnTo>
                        <a:pt x="900" y="1040"/>
                      </a:lnTo>
                      <a:lnTo>
                        <a:pt x="886" y="1040"/>
                      </a:lnTo>
                      <a:lnTo>
                        <a:pt x="872" y="1040"/>
                      </a:lnTo>
                      <a:lnTo>
                        <a:pt x="859" y="1057"/>
                      </a:lnTo>
                      <a:lnTo>
                        <a:pt x="845" y="1040"/>
                      </a:lnTo>
                      <a:lnTo>
                        <a:pt x="831" y="1040"/>
                      </a:lnTo>
                      <a:lnTo>
                        <a:pt x="817" y="1008"/>
                      </a:lnTo>
                      <a:lnTo>
                        <a:pt x="817" y="1040"/>
                      </a:lnTo>
                      <a:lnTo>
                        <a:pt x="803" y="1040"/>
                      </a:lnTo>
                      <a:lnTo>
                        <a:pt x="789" y="1057"/>
                      </a:lnTo>
                      <a:lnTo>
                        <a:pt x="776" y="1040"/>
                      </a:lnTo>
                      <a:lnTo>
                        <a:pt x="762" y="1040"/>
                      </a:lnTo>
                      <a:lnTo>
                        <a:pt x="748" y="1040"/>
                      </a:lnTo>
                      <a:lnTo>
                        <a:pt x="748" y="1008"/>
                      </a:lnTo>
                      <a:lnTo>
                        <a:pt x="762" y="1008"/>
                      </a:lnTo>
                      <a:lnTo>
                        <a:pt x="748" y="993"/>
                      </a:lnTo>
                      <a:lnTo>
                        <a:pt x="734" y="993"/>
                      </a:lnTo>
                      <a:lnTo>
                        <a:pt x="720" y="978"/>
                      </a:lnTo>
                      <a:lnTo>
                        <a:pt x="734" y="978"/>
                      </a:lnTo>
                      <a:lnTo>
                        <a:pt x="734" y="961"/>
                      </a:lnTo>
                      <a:lnTo>
                        <a:pt x="720" y="946"/>
                      </a:lnTo>
                      <a:lnTo>
                        <a:pt x="720" y="930"/>
                      </a:lnTo>
                      <a:lnTo>
                        <a:pt x="720" y="914"/>
                      </a:lnTo>
                      <a:lnTo>
                        <a:pt x="748" y="899"/>
                      </a:lnTo>
                      <a:lnTo>
                        <a:pt x="776" y="899"/>
                      </a:lnTo>
                      <a:lnTo>
                        <a:pt x="789" y="899"/>
                      </a:lnTo>
                      <a:lnTo>
                        <a:pt x="803" y="899"/>
                      </a:lnTo>
                      <a:lnTo>
                        <a:pt x="817" y="899"/>
                      </a:lnTo>
                      <a:lnTo>
                        <a:pt x="859" y="883"/>
                      </a:lnTo>
                      <a:lnTo>
                        <a:pt x="914" y="883"/>
                      </a:lnTo>
                      <a:lnTo>
                        <a:pt x="955" y="899"/>
                      </a:lnTo>
                      <a:lnTo>
                        <a:pt x="969" y="899"/>
                      </a:lnTo>
                      <a:lnTo>
                        <a:pt x="983" y="899"/>
                      </a:lnTo>
                      <a:lnTo>
                        <a:pt x="997" y="899"/>
                      </a:lnTo>
                      <a:lnTo>
                        <a:pt x="1011" y="883"/>
                      </a:lnTo>
                      <a:lnTo>
                        <a:pt x="997" y="867"/>
                      </a:lnTo>
                      <a:lnTo>
                        <a:pt x="969" y="835"/>
                      </a:lnTo>
                      <a:lnTo>
                        <a:pt x="942" y="820"/>
                      </a:lnTo>
                      <a:lnTo>
                        <a:pt x="928" y="804"/>
                      </a:lnTo>
                      <a:lnTo>
                        <a:pt x="914" y="804"/>
                      </a:lnTo>
                      <a:lnTo>
                        <a:pt x="900" y="788"/>
                      </a:lnTo>
                      <a:lnTo>
                        <a:pt x="900" y="772"/>
                      </a:lnTo>
                      <a:lnTo>
                        <a:pt x="914" y="772"/>
                      </a:lnTo>
                      <a:lnTo>
                        <a:pt x="928" y="772"/>
                      </a:lnTo>
                      <a:lnTo>
                        <a:pt x="928" y="757"/>
                      </a:lnTo>
                      <a:lnTo>
                        <a:pt x="914" y="757"/>
                      </a:lnTo>
                      <a:lnTo>
                        <a:pt x="914" y="741"/>
                      </a:lnTo>
                      <a:lnTo>
                        <a:pt x="928" y="741"/>
                      </a:lnTo>
                      <a:lnTo>
                        <a:pt x="942" y="741"/>
                      </a:lnTo>
                      <a:lnTo>
                        <a:pt x="942" y="725"/>
                      </a:lnTo>
                      <a:lnTo>
                        <a:pt x="928" y="741"/>
                      </a:lnTo>
                      <a:lnTo>
                        <a:pt x="900" y="741"/>
                      </a:lnTo>
                      <a:lnTo>
                        <a:pt x="872" y="741"/>
                      </a:lnTo>
                      <a:lnTo>
                        <a:pt x="859" y="757"/>
                      </a:lnTo>
                      <a:lnTo>
                        <a:pt x="872" y="772"/>
                      </a:lnTo>
                      <a:lnTo>
                        <a:pt x="886" y="772"/>
                      </a:lnTo>
                      <a:lnTo>
                        <a:pt x="900" y="788"/>
                      </a:lnTo>
                      <a:lnTo>
                        <a:pt x="872" y="804"/>
                      </a:lnTo>
                      <a:lnTo>
                        <a:pt x="845" y="804"/>
                      </a:lnTo>
                      <a:lnTo>
                        <a:pt x="817" y="788"/>
                      </a:lnTo>
                      <a:lnTo>
                        <a:pt x="831" y="772"/>
                      </a:lnTo>
                      <a:lnTo>
                        <a:pt x="845" y="772"/>
                      </a:lnTo>
                      <a:lnTo>
                        <a:pt x="817" y="757"/>
                      </a:lnTo>
                      <a:lnTo>
                        <a:pt x="803" y="757"/>
                      </a:lnTo>
                      <a:lnTo>
                        <a:pt x="803" y="725"/>
                      </a:lnTo>
                      <a:lnTo>
                        <a:pt x="803" y="741"/>
                      </a:lnTo>
                      <a:lnTo>
                        <a:pt x="789" y="772"/>
                      </a:lnTo>
                      <a:lnTo>
                        <a:pt x="776" y="772"/>
                      </a:lnTo>
                      <a:lnTo>
                        <a:pt x="762" y="788"/>
                      </a:lnTo>
                      <a:lnTo>
                        <a:pt x="762" y="820"/>
                      </a:lnTo>
                      <a:lnTo>
                        <a:pt x="748" y="867"/>
                      </a:lnTo>
                      <a:lnTo>
                        <a:pt x="734" y="899"/>
                      </a:lnTo>
                      <a:lnTo>
                        <a:pt x="706" y="930"/>
                      </a:lnTo>
                      <a:lnTo>
                        <a:pt x="679" y="930"/>
                      </a:lnTo>
                      <a:lnTo>
                        <a:pt x="651" y="961"/>
                      </a:lnTo>
                      <a:lnTo>
                        <a:pt x="665" y="961"/>
                      </a:lnTo>
                      <a:lnTo>
                        <a:pt x="679" y="978"/>
                      </a:lnTo>
                      <a:lnTo>
                        <a:pt x="665" y="993"/>
                      </a:lnTo>
                      <a:lnTo>
                        <a:pt x="651" y="993"/>
                      </a:lnTo>
                      <a:lnTo>
                        <a:pt x="651" y="1008"/>
                      </a:lnTo>
                      <a:lnTo>
                        <a:pt x="665" y="1008"/>
                      </a:lnTo>
                      <a:lnTo>
                        <a:pt x="665" y="1040"/>
                      </a:lnTo>
                      <a:lnTo>
                        <a:pt x="651" y="1008"/>
                      </a:lnTo>
                      <a:lnTo>
                        <a:pt x="637" y="1008"/>
                      </a:lnTo>
                      <a:lnTo>
                        <a:pt x="623" y="993"/>
                      </a:lnTo>
                      <a:lnTo>
                        <a:pt x="623" y="978"/>
                      </a:lnTo>
                      <a:lnTo>
                        <a:pt x="637" y="978"/>
                      </a:lnTo>
                      <a:lnTo>
                        <a:pt x="623" y="961"/>
                      </a:lnTo>
                      <a:lnTo>
                        <a:pt x="610" y="946"/>
                      </a:lnTo>
                      <a:lnTo>
                        <a:pt x="594" y="930"/>
                      </a:lnTo>
                      <a:lnTo>
                        <a:pt x="581" y="914"/>
                      </a:lnTo>
                      <a:lnTo>
                        <a:pt x="581" y="883"/>
                      </a:lnTo>
                      <a:lnTo>
                        <a:pt x="567" y="867"/>
                      </a:lnTo>
                      <a:lnTo>
                        <a:pt x="553" y="851"/>
                      </a:lnTo>
                      <a:lnTo>
                        <a:pt x="539" y="851"/>
                      </a:lnTo>
                      <a:lnTo>
                        <a:pt x="525" y="851"/>
                      </a:lnTo>
                      <a:lnTo>
                        <a:pt x="525" y="835"/>
                      </a:lnTo>
                      <a:lnTo>
                        <a:pt x="511" y="835"/>
                      </a:lnTo>
                      <a:lnTo>
                        <a:pt x="484" y="804"/>
                      </a:lnTo>
                      <a:lnTo>
                        <a:pt x="470" y="772"/>
                      </a:lnTo>
                      <a:lnTo>
                        <a:pt x="456" y="772"/>
                      </a:lnTo>
                      <a:lnTo>
                        <a:pt x="442" y="804"/>
                      </a:lnTo>
                      <a:lnTo>
                        <a:pt x="442" y="820"/>
                      </a:lnTo>
                      <a:lnTo>
                        <a:pt x="470" y="835"/>
                      </a:lnTo>
                      <a:lnTo>
                        <a:pt x="470" y="851"/>
                      </a:lnTo>
                      <a:lnTo>
                        <a:pt x="470" y="867"/>
                      </a:lnTo>
                      <a:lnTo>
                        <a:pt x="484" y="867"/>
                      </a:lnTo>
                      <a:lnTo>
                        <a:pt x="498" y="867"/>
                      </a:lnTo>
                      <a:lnTo>
                        <a:pt x="511" y="867"/>
                      </a:lnTo>
                      <a:lnTo>
                        <a:pt x="511" y="883"/>
                      </a:lnTo>
                      <a:lnTo>
                        <a:pt x="525" y="883"/>
                      </a:lnTo>
                      <a:lnTo>
                        <a:pt x="539" y="899"/>
                      </a:lnTo>
                      <a:lnTo>
                        <a:pt x="553" y="914"/>
                      </a:lnTo>
                      <a:lnTo>
                        <a:pt x="567" y="930"/>
                      </a:lnTo>
                      <a:lnTo>
                        <a:pt x="567" y="946"/>
                      </a:lnTo>
                      <a:lnTo>
                        <a:pt x="553" y="978"/>
                      </a:lnTo>
                      <a:lnTo>
                        <a:pt x="525" y="978"/>
                      </a:lnTo>
                      <a:lnTo>
                        <a:pt x="511" y="978"/>
                      </a:lnTo>
                      <a:lnTo>
                        <a:pt x="511" y="946"/>
                      </a:lnTo>
                      <a:lnTo>
                        <a:pt x="511" y="930"/>
                      </a:lnTo>
                      <a:lnTo>
                        <a:pt x="498" y="914"/>
                      </a:lnTo>
                      <a:lnTo>
                        <a:pt x="484" y="899"/>
                      </a:lnTo>
                      <a:lnTo>
                        <a:pt x="470" y="899"/>
                      </a:lnTo>
                      <a:lnTo>
                        <a:pt x="456" y="899"/>
                      </a:lnTo>
                      <a:lnTo>
                        <a:pt x="442" y="883"/>
                      </a:lnTo>
                      <a:lnTo>
                        <a:pt x="428" y="867"/>
                      </a:lnTo>
                      <a:lnTo>
                        <a:pt x="415" y="867"/>
                      </a:lnTo>
                      <a:lnTo>
                        <a:pt x="415" y="851"/>
                      </a:lnTo>
                      <a:lnTo>
                        <a:pt x="401" y="835"/>
                      </a:lnTo>
                      <a:lnTo>
                        <a:pt x="401" y="820"/>
                      </a:lnTo>
                      <a:lnTo>
                        <a:pt x="359" y="804"/>
                      </a:lnTo>
                      <a:lnTo>
                        <a:pt x="332" y="820"/>
                      </a:lnTo>
                      <a:lnTo>
                        <a:pt x="332" y="835"/>
                      </a:lnTo>
                      <a:lnTo>
                        <a:pt x="304" y="851"/>
                      </a:lnTo>
                      <a:lnTo>
                        <a:pt x="290" y="835"/>
                      </a:lnTo>
                      <a:lnTo>
                        <a:pt x="276" y="835"/>
                      </a:lnTo>
                      <a:lnTo>
                        <a:pt x="262" y="835"/>
                      </a:lnTo>
                      <a:lnTo>
                        <a:pt x="249" y="851"/>
                      </a:lnTo>
                      <a:lnTo>
                        <a:pt x="249" y="867"/>
                      </a:lnTo>
                      <a:lnTo>
                        <a:pt x="249" y="883"/>
                      </a:lnTo>
                      <a:lnTo>
                        <a:pt x="235" y="883"/>
                      </a:lnTo>
                      <a:lnTo>
                        <a:pt x="235" y="899"/>
                      </a:lnTo>
                      <a:lnTo>
                        <a:pt x="221" y="899"/>
                      </a:lnTo>
                      <a:lnTo>
                        <a:pt x="207" y="914"/>
                      </a:lnTo>
                      <a:lnTo>
                        <a:pt x="193" y="930"/>
                      </a:lnTo>
                      <a:lnTo>
                        <a:pt x="193" y="946"/>
                      </a:lnTo>
                      <a:lnTo>
                        <a:pt x="193" y="961"/>
                      </a:lnTo>
                      <a:lnTo>
                        <a:pt x="179" y="978"/>
                      </a:lnTo>
                      <a:lnTo>
                        <a:pt x="166" y="993"/>
                      </a:lnTo>
                      <a:lnTo>
                        <a:pt x="152" y="1008"/>
                      </a:lnTo>
                      <a:lnTo>
                        <a:pt x="138" y="1040"/>
                      </a:lnTo>
                      <a:lnTo>
                        <a:pt x="124" y="1008"/>
                      </a:lnTo>
                      <a:lnTo>
                        <a:pt x="96" y="1008"/>
                      </a:lnTo>
                      <a:lnTo>
                        <a:pt x="96" y="1040"/>
                      </a:lnTo>
                      <a:lnTo>
                        <a:pt x="83" y="1040"/>
                      </a:lnTo>
                      <a:lnTo>
                        <a:pt x="55" y="1057"/>
                      </a:lnTo>
                      <a:lnTo>
                        <a:pt x="41" y="1040"/>
                      </a:lnTo>
                      <a:lnTo>
                        <a:pt x="14" y="1008"/>
                      </a:lnTo>
                      <a:lnTo>
                        <a:pt x="0" y="993"/>
                      </a:lnTo>
                      <a:lnTo>
                        <a:pt x="0" y="978"/>
                      </a:lnTo>
                      <a:lnTo>
                        <a:pt x="0" y="961"/>
                      </a:lnTo>
                      <a:lnTo>
                        <a:pt x="14" y="946"/>
                      </a:lnTo>
                      <a:lnTo>
                        <a:pt x="14" y="930"/>
                      </a:lnTo>
                      <a:lnTo>
                        <a:pt x="27" y="914"/>
                      </a:lnTo>
                      <a:lnTo>
                        <a:pt x="27" y="883"/>
                      </a:lnTo>
                      <a:lnTo>
                        <a:pt x="14" y="851"/>
                      </a:lnTo>
                      <a:lnTo>
                        <a:pt x="41" y="820"/>
                      </a:lnTo>
                      <a:lnTo>
                        <a:pt x="55" y="835"/>
                      </a:lnTo>
                      <a:lnTo>
                        <a:pt x="96" y="835"/>
                      </a:lnTo>
                      <a:lnTo>
                        <a:pt x="138" y="820"/>
                      </a:lnTo>
                      <a:lnTo>
                        <a:pt x="166" y="804"/>
                      </a:lnTo>
                      <a:lnTo>
                        <a:pt x="179" y="772"/>
                      </a:lnTo>
                      <a:lnTo>
                        <a:pt x="166" y="757"/>
                      </a:lnTo>
                      <a:lnTo>
                        <a:pt x="138" y="725"/>
                      </a:lnTo>
                      <a:lnTo>
                        <a:pt x="110" y="710"/>
                      </a:lnTo>
                      <a:lnTo>
                        <a:pt x="96" y="693"/>
                      </a:lnTo>
                      <a:lnTo>
                        <a:pt x="110" y="693"/>
                      </a:lnTo>
                      <a:lnTo>
                        <a:pt x="124" y="693"/>
                      </a:lnTo>
                      <a:lnTo>
                        <a:pt x="138" y="678"/>
                      </a:lnTo>
                      <a:lnTo>
                        <a:pt x="152" y="678"/>
                      </a:lnTo>
                      <a:lnTo>
                        <a:pt x="152" y="662"/>
                      </a:lnTo>
                      <a:lnTo>
                        <a:pt x="166" y="662"/>
                      </a:lnTo>
                      <a:lnTo>
                        <a:pt x="179" y="678"/>
                      </a:lnTo>
                      <a:lnTo>
                        <a:pt x="193" y="678"/>
                      </a:lnTo>
                      <a:lnTo>
                        <a:pt x="207" y="662"/>
                      </a:lnTo>
                      <a:lnTo>
                        <a:pt x="221" y="646"/>
                      </a:lnTo>
                      <a:lnTo>
                        <a:pt x="235" y="631"/>
                      </a:lnTo>
                      <a:lnTo>
                        <a:pt x="249" y="631"/>
                      </a:lnTo>
                      <a:lnTo>
                        <a:pt x="262" y="614"/>
                      </a:lnTo>
                      <a:lnTo>
                        <a:pt x="262" y="599"/>
                      </a:lnTo>
                      <a:lnTo>
                        <a:pt x="276" y="584"/>
                      </a:lnTo>
                      <a:lnTo>
                        <a:pt x="290" y="584"/>
                      </a:lnTo>
                      <a:lnTo>
                        <a:pt x="304" y="584"/>
                      </a:lnTo>
                      <a:lnTo>
                        <a:pt x="318" y="567"/>
                      </a:lnTo>
                      <a:lnTo>
                        <a:pt x="359" y="552"/>
                      </a:lnTo>
                      <a:lnTo>
                        <a:pt x="359" y="535"/>
                      </a:lnTo>
                      <a:lnTo>
                        <a:pt x="332" y="520"/>
                      </a:lnTo>
                      <a:lnTo>
                        <a:pt x="332" y="505"/>
                      </a:lnTo>
                      <a:lnTo>
                        <a:pt x="332" y="488"/>
                      </a:lnTo>
                      <a:lnTo>
                        <a:pt x="359" y="488"/>
                      </a:lnTo>
                      <a:lnTo>
                        <a:pt x="359" y="473"/>
                      </a:lnTo>
                      <a:lnTo>
                        <a:pt x="373" y="473"/>
                      </a:lnTo>
                      <a:lnTo>
                        <a:pt x="387" y="456"/>
                      </a:lnTo>
                      <a:lnTo>
                        <a:pt x="387" y="473"/>
                      </a:lnTo>
                      <a:lnTo>
                        <a:pt x="373" y="473"/>
                      </a:lnTo>
                      <a:lnTo>
                        <a:pt x="373" y="505"/>
                      </a:lnTo>
                      <a:lnTo>
                        <a:pt x="373" y="535"/>
                      </a:lnTo>
                      <a:lnTo>
                        <a:pt x="401" y="552"/>
                      </a:lnTo>
                      <a:lnTo>
                        <a:pt x="415" y="552"/>
                      </a:lnTo>
                      <a:lnTo>
                        <a:pt x="428" y="552"/>
                      </a:lnTo>
                      <a:lnTo>
                        <a:pt x="442" y="552"/>
                      </a:lnTo>
                      <a:lnTo>
                        <a:pt x="456" y="567"/>
                      </a:lnTo>
                      <a:lnTo>
                        <a:pt x="456" y="552"/>
                      </a:lnTo>
                      <a:lnTo>
                        <a:pt x="470" y="552"/>
                      </a:lnTo>
                      <a:lnTo>
                        <a:pt x="484" y="552"/>
                      </a:lnTo>
                      <a:lnTo>
                        <a:pt x="498" y="552"/>
                      </a:lnTo>
                      <a:lnTo>
                        <a:pt x="511" y="535"/>
                      </a:lnTo>
                      <a:lnTo>
                        <a:pt x="525" y="535"/>
                      </a:lnTo>
                      <a:lnTo>
                        <a:pt x="539" y="520"/>
                      </a:lnTo>
                      <a:lnTo>
                        <a:pt x="553" y="488"/>
                      </a:lnTo>
                      <a:lnTo>
                        <a:pt x="581" y="473"/>
                      </a:lnTo>
                      <a:lnTo>
                        <a:pt x="594" y="473"/>
                      </a:lnTo>
                      <a:lnTo>
                        <a:pt x="610" y="473"/>
                      </a:lnTo>
                      <a:lnTo>
                        <a:pt x="623" y="473"/>
                      </a:lnTo>
                      <a:lnTo>
                        <a:pt x="623" y="456"/>
                      </a:lnTo>
                      <a:lnTo>
                        <a:pt x="610" y="441"/>
                      </a:lnTo>
                      <a:lnTo>
                        <a:pt x="610" y="426"/>
                      </a:lnTo>
                      <a:lnTo>
                        <a:pt x="610" y="409"/>
                      </a:lnTo>
                      <a:lnTo>
                        <a:pt x="623" y="409"/>
                      </a:lnTo>
                      <a:lnTo>
                        <a:pt x="637" y="409"/>
                      </a:lnTo>
                      <a:lnTo>
                        <a:pt x="651" y="409"/>
                      </a:lnTo>
                      <a:lnTo>
                        <a:pt x="665" y="394"/>
                      </a:lnTo>
                      <a:lnTo>
                        <a:pt x="679" y="394"/>
                      </a:lnTo>
                      <a:lnTo>
                        <a:pt x="665" y="377"/>
                      </a:lnTo>
                      <a:lnTo>
                        <a:pt x="665" y="394"/>
                      </a:lnTo>
                      <a:lnTo>
                        <a:pt x="651" y="394"/>
                      </a:lnTo>
                      <a:lnTo>
                        <a:pt x="623" y="394"/>
                      </a:lnTo>
                      <a:lnTo>
                        <a:pt x="594" y="409"/>
                      </a:lnTo>
                      <a:lnTo>
                        <a:pt x="567" y="394"/>
                      </a:lnTo>
                      <a:lnTo>
                        <a:pt x="553" y="362"/>
                      </a:lnTo>
                      <a:lnTo>
                        <a:pt x="553" y="330"/>
                      </a:lnTo>
                      <a:lnTo>
                        <a:pt x="581" y="315"/>
                      </a:lnTo>
                      <a:lnTo>
                        <a:pt x="594" y="299"/>
                      </a:lnTo>
                      <a:lnTo>
                        <a:pt x="610" y="283"/>
                      </a:lnTo>
                      <a:lnTo>
                        <a:pt x="610" y="268"/>
                      </a:lnTo>
                      <a:lnTo>
                        <a:pt x="581" y="252"/>
                      </a:lnTo>
                      <a:lnTo>
                        <a:pt x="567" y="252"/>
                      </a:lnTo>
                      <a:lnTo>
                        <a:pt x="553" y="268"/>
                      </a:lnTo>
                      <a:lnTo>
                        <a:pt x="553" y="283"/>
                      </a:lnTo>
                      <a:lnTo>
                        <a:pt x="539" y="315"/>
                      </a:lnTo>
                      <a:lnTo>
                        <a:pt x="525" y="315"/>
                      </a:lnTo>
                      <a:lnTo>
                        <a:pt x="511" y="330"/>
                      </a:lnTo>
                      <a:lnTo>
                        <a:pt x="498" y="330"/>
                      </a:lnTo>
                      <a:lnTo>
                        <a:pt x="484" y="347"/>
                      </a:lnTo>
                      <a:lnTo>
                        <a:pt x="498" y="362"/>
                      </a:lnTo>
                      <a:lnTo>
                        <a:pt x="511" y="377"/>
                      </a:lnTo>
                      <a:lnTo>
                        <a:pt x="525" y="394"/>
                      </a:lnTo>
                      <a:lnTo>
                        <a:pt x="525" y="409"/>
                      </a:lnTo>
                      <a:lnTo>
                        <a:pt x="511" y="409"/>
                      </a:lnTo>
                      <a:lnTo>
                        <a:pt x="498" y="409"/>
                      </a:lnTo>
                      <a:lnTo>
                        <a:pt x="470" y="409"/>
                      </a:lnTo>
                      <a:lnTo>
                        <a:pt x="470" y="426"/>
                      </a:lnTo>
                      <a:lnTo>
                        <a:pt x="484" y="441"/>
                      </a:lnTo>
                      <a:lnTo>
                        <a:pt x="498" y="441"/>
                      </a:lnTo>
                      <a:lnTo>
                        <a:pt x="484" y="473"/>
                      </a:lnTo>
                      <a:lnTo>
                        <a:pt x="456" y="505"/>
                      </a:lnTo>
                      <a:lnTo>
                        <a:pt x="442" y="520"/>
                      </a:lnTo>
                      <a:lnTo>
                        <a:pt x="428" y="520"/>
                      </a:lnTo>
                      <a:lnTo>
                        <a:pt x="428" y="505"/>
                      </a:lnTo>
                      <a:lnTo>
                        <a:pt x="428" y="488"/>
                      </a:lnTo>
                      <a:lnTo>
                        <a:pt x="415" y="473"/>
                      </a:lnTo>
                      <a:lnTo>
                        <a:pt x="401" y="456"/>
                      </a:lnTo>
                      <a:lnTo>
                        <a:pt x="401" y="441"/>
                      </a:lnTo>
                      <a:lnTo>
                        <a:pt x="401" y="409"/>
                      </a:lnTo>
                      <a:lnTo>
                        <a:pt x="387" y="409"/>
                      </a:lnTo>
                      <a:lnTo>
                        <a:pt x="359" y="426"/>
                      </a:lnTo>
                      <a:lnTo>
                        <a:pt x="332" y="441"/>
                      </a:lnTo>
                      <a:lnTo>
                        <a:pt x="304" y="456"/>
                      </a:lnTo>
                      <a:lnTo>
                        <a:pt x="290" y="441"/>
                      </a:lnTo>
                      <a:lnTo>
                        <a:pt x="276" y="426"/>
                      </a:lnTo>
                      <a:lnTo>
                        <a:pt x="276" y="409"/>
                      </a:lnTo>
                      <a:lnTo>
                        <a:pt x="290" y="409"/>
                      </a:lnTo>
                      <a:lnTo>
                        <a:pt x="304" y="394"/>
                      </a:lnTo>
                      <a:lnTo>
                        <a:pt x="304" y="377"/>
                      </a:lnTo>
                      <a:lnTo>
                        <a:pt x="290" y="394"/>
                      </a:lnTo>
                      <a:lnTo>
                        <a:pt x="276" y="377"/>
                      </a:lnTo>
                      <a:lnTo>
                        <a:pt x="290" y="362"/>
                      </a:lnTo>
                      <a:lnTo>
                        <a:pt x="304" y="362"/>
                      </a:lnTo>
                      <a:lnTo>
                        <a:pt x="290" y="347"/>
                      </a:lnTo>
                      <a:lnTo>
                        <a:pt x="276" y="347"/>
                      </a:lnTo>
                      <a:lnTo>
                        <a:pt x="276" y="330"/>
                      </a:lnTo>
                      <a:lnTo>
                        <a:pt x="290" y="330"/>
                      </a:lnTo>
                      <a:lnTo>
                        <a:pt x="304" y="330"/>
                      </a:lnTo>
                      <a:lnTo>
                        <a:pt x="318" y="330"/>
                      </a:lnTo>
                      <a:lnTo>
                        <a:pt x="332" y="347"/>
                      </a:lnTo>
                      <a:lnTo>
                        <a:pt x="373" y="347"/>
                      </a:lnTo>
                      <a:lnTo>
                        <a:pt x="387" y="315"/>
                      </a:lnTo>
                      <a:lnTo>
                        <a:pt x="387" y="299"/>
                      </a:lnTo>
                      <a:lnTo>
                        <a:pt x="373" y="315"/>
                      </a:lnTo>
                      <a:lnTo>
                        <a:pt x="359" y="315"/>
                      </a:lnTo>
                      <a:lnTo>
                        <a:pt x="359" y="299"/>
                      </a:lnTo>
                      <a:lnTo>
                        <a:pt x="373" y="299"/>
                      </a:lnTo>
                      <a:lnTo>
                        <a:pt x="387" y="283"/>
                      </a:lnTo>
                      <a:lnTo>
                        <a:pt x="401" y="268"/>
                      </a:lnTo>
                      <a:lnTo>
                        <a:pt x="415" y="252"/>
                      </a:lnTo>
                      <a:lnTo>
                        <a:pt x="415" y="236"/>
                      </a:lnTo>
                      <a:lnTo>
                        <a:pt x="428" y="220"/>
                      </a:lnTo>
                      <a:lnTo>
                        <a:pt x="442" y="220"/>
                      </a:lnTo>
                      <a:lnTo>
                        <a:pt x="456" y="205"/>
                      </a:lnTo>
                      <a:lnTo>
                        <a:pt x="470" y="189"/>
                      </a:lnTo>
                      <a:lnTo>
                        <a:pt x="470" y="173"/>
                      </a:lnTo>
                      <a:lnTo>
                        <a:pt x="484" y="173"/>
                      </a:lnTo>
                      <a:lnTo>
                        <a:pt x="498" y="173"/>
                      </a:lnTo>
                      <a:lnTo>
                        <a:pt x="511" y="173"/>
                      </a:lnTo>
                      <a:lnTo>
                        <a:pt x="498" y="173"/>
                      </a:lnTo>
                      <a:lnTo>
                        <a:pt x="511" y="173"/>
                      </a:lnTo>
                      <a:lnTo>
                        <a:pt x="525" y="173"/>
                      </a:lnTo>
                      <a:lnTo>
                        <a:pt x="525" y="157"/>
                      </a:lnTo>
                      <a:lnTo>
                        <a:pt x="553" y="157"/>
                      </a:lnTo>
                      <a:lnTo>
                        <a:pt x="581" y="141"/>
                      </a:lnTo>
                      <a:lnTo>
                        <a:pt x="623" y="141"/>
                      </a:lnTo>
                      <a:lnTo>
                        <a:pt x="637" y="141"/>
                      </a:lnTo>
                      <a:lnTo>
                        <a:pt x="665" y="141"/>
                      </a:lnTo>
                      <a:lnTo>
                        <a:pt x="679" y="157"/>
                      </a:lnTo>
                      <a:lnTo>
                        <a:pt x="679" y="173"/>
                      </a:lnTo>
                      <a:lnTo>
                        <a:pt x="720" y="189"/>
                      </a:lnTo>
                      <a:lnTo>
                        <a:pt x="762" y="189"/>
                      </a:lnTo>
                      <a:lnTo>
                        <a:pt x="817" y="205"/>
                      </a:lnTo>
                      <a:lnTo>
                        <a:pt x="845" y="220"/>
                      </a:lnTo>
                      <a:lnTo>
                        <a:pt x="859" y="220"/>
                      </a:lnTo>
                      <a:lnTo>
                        <a:pt x="831" y="252"/>
                      </a:lnTo>
                      <a:lnTo>
                        <a:pt x="803" y="252"/>
                      </a:lnTo>
                      <a:lnTo>
                        <a:pt x="776" y="252"/>
                      </a:lnTo>
                      <a:lnTo>
                        <a:pt x="748" y="236"/>
                      </a:lnTo>
                      <a:lnTo>
                        <a:pt x="706" y="220"/>
                      </a:lnTo>
                      <a:lnTo>
                        <a:pt x="706" y="236"/>
                      </a:lnTo>
                      <a:lnTo>
                        <a:pt x="734" y="236"/>
                      </a:lnTo>
                      <a:lnTo>
                        <a:pt x="748" y="252"/>
                      </a:lnTo>
                      <a:lnTo>
                        <a:pt x="762" y="268"/>
                      </a:lnTo>
                      <a:lnTo>
                        <a:pt x="789" y="315"/>
                      </a:lnTo>
                      <a:lnTo>
                        <a:pt x="817" y="315"/>
                      </a:lnTo>
                      <a:lnTo>
                        <a:pt x="817" y="299"/>
                      </a:lnTo>
                      <a:lnTo>
                        <a:pt x="803" y="283"/>
                      </a:lnTo>
                      <a:lnTo>
                        <a:pt x="803" y="268"/>
                      </a:lnTo>
                      <a:lnTo>
                        <a:pt x="817" y="283"/>
                      </a:lnTo>
                      <a:lnTo>
                        <a:pt x="831" y="283"/>
                      </a:lnTo>
                      <a:lnTo>
                        <a:pt x="831" y="268"/>
                      </a:lnTo>
                      <a:lnTo>
                        <a:pt x="845" y="268"/>
                      </a:lnTo>
                      <a:lnTo>
                        <a:pt x="859" y="252"/>
                      </a:lnTo>
                      <a:lnTo>
                        <a:pt x="872" y="236"/>
                      </a:lnTo>
                      <a:lnTo>
                        <a:pt x="886" y="236"/>
                      </a:lnTo>
                      <a:lnTo>
                        <a:pt x="886" y="220"/>
                      </a:lnTo>
                      <a:lnTo>
                        <a:pt x="886" y="205"/>
                      </a:lnTo>
                      <a:lnTo>
                        <a:pt x="914" y="189"/>
                      </a:lnTo>
                      <a:lnTo>
                        <a:pt x="914" y="205"/>
                      </a:lnTo>
                      <a:lnTo>
                        <a:pt x="914" y="220"/>
                      </a:lnTo>
                      <a:lnTo>
                        <a:pt x="914" y="236"/>
                      </a:lnTo>
                      <a:lnTo>
                        <a:pt x="928" y="236"/>
                      </a:lnTo>
                      <a:lnTo>
                        <a:pt x="955" y="236"/>
                      </a:lnTo>
                      <a:lnTo>
                        <a:pt x="983" y="220"/>
                      </a:lnTo>
                      <a:lnTo>
                        <a:pt x="997" y="205"/>
                      </a:lnTo>
                      <a:lnTo>
                        <a:pt x="1025" y="189"/>
                      </a:lnTo>
                      <a:lnTo>
                        <a:pt x="1052" y="189"/>
                      </a:lnTo>
                      <a:lnTo>
                        <a:pt x="1094" y="173"/>
                      </a:lnTo>
                      <a:lnTo>
                        <a:pt x="1121" y="173"/>
                      </a:lnTo>
                      <a:lnTo>
                        <a:pt x="1135" y="173"/>
                      </a:lnTo>
                      <a:lnTo>
                        <a:pt x="1135" y="157"/>
                      </a:lnTo>
                      <a:lnTo>
                        <a:pt x="1163" y="173"/>
                      </a:lnTo>
                      <a:lnTo>
                        <a:pt x="1177" y="173"/>
                      </a:lnTo>
                      <a:lnTo>
                        <a:pt x="1204" y="173"/>
                      </a:lnTo>
                      <a:lnTo>
                        <a:pt x="1218" y="189"/>
                      </a:lnTo>
                      <a:lnTo>
                        <a:pt x="1232" y="189"/>
                      </a:lnTo>
                      <a:lnTo>
                        <a:pt x="1246" y="189"/>
                      </a:lnTo>
                      <a:lnTo>
                        <a:pt x="1246" y="173"/>
                      </a:lnTo>
                      <a:lnTo>
                        <a:pt x="1232" y="157"/>
                      </a:lnTo>
                      <a:lnTo>
                        <a:pt x="1204" y="141"/>
                      </a:lnTo>
                      <a:lnTo>
                        <a:pt x="1204" y="126"/>
                      </a:lnTo>
                      <a:lnTo>
                        <a:pt x="1218" y="110"/>
                      </a:lnTo>
                      <a:lnTo>
                        <a:pt x="1218" y="94"/>
                      </a:lnTo>
                      <a:lnTo>
                        <a:pt x="1246" y="110"/>
                      </a:lnTo>
                      <a:lnTo>
                        <a:pt x="1260" y="110"/>
                      </a:lnTo>
                      <a:lnTo>
                        <a:pt x="1274" y="126"/>
                      </a:lnTo>
                      <a:lnTo>
                        <a:pt x="1287" y="126"/>
                      </a:lnTo>
                      <a:lnTo>
                        <a:pt x="1301" y="141"/>
                      </a:lnTo>
                      <a:lnTo>
                        <a:pt x="1315" y="157"/>
                      </a:lnTo>
                      <a:lnTo>
                        <a:pt x="1315" y="173"/>
                      </a:lnTo>
                      <a:lnTo>
                        <a:pt x="1315" y="189"/>
                      </a:lnTo>
                      <a:lnTo>
                        <a:pt x="1329" y="189"/>
                      </a:lnTo>
                      <a:lnTo>
                        <a:pt x="1343" y="205"/>
                      </a:lnTo>
                      <a:lnTo>
                        <a:pt x="1343" y="220"/>
                      </a:lnTo>
                      <a:lnTo>
                        <a:pt x="1329" y="236"/>
                      </a:lnTo>
                      <a:lnTo>
                        <a:pt x="1315" y="236"/>
                      </a:lnTo>
                      <a:lnTo>
                        <a:pt x="1301" y="236"/>
                      </a:lnTo>
                      <a:lnTo>
                        <a:pt x="1343" y="252"/>
                      </a:lnTo>
                      <a:lnTo>
                        <a:pt x="1357" y="236"/>
                      </a:lnTo>
                      <a:lnTo>
                        <a:pt x="1370" y="205"/>
                      </a:lnTo>
                      <a:lnTo>
                        <a:pt x="1384" y="189"/>
                      </a:lnTo>
                      <a:lnTo>
                        <a:pt x="1399" y="205"/>
                      </a:lnTo>
                      <a:lnTo>
                        <a:pt x="1427" y="220"/>
                      </a:lnTo>
                      <a:lnTo>
                        <a:pt x="1441" y="220"/>
                      </a:lnTo>
                      <a:lnTo>
                        <a:pt x="1441" y="205"/>
                      </a:lnTo>
                      <a:lnTo>
                        <a:pt x="1413" y="189"/>
                      </a:lnTo>
                      <a:lnTo>
                        <a:pt x="1399" y="189"/>
                      </a:lnTo>
                      <a:lnTo>
                        <a:pt x="1370" y="173"/>
                      </a:lnTo>
                      <a:lnTo>
                        <a:pt x="1343" y="157"/>
                      </a:lnTo>
                      <a:lnTo>
                        <a:pt x="1315" y="141"/>
                      </a:lnTo>
                      <a:lnTo>
                        <a:pt x="1301" y="94"/>
                      </a:lnTo>
                      <a:lnTo>
                        <a:pt x="1315" y="94"/>
                      </a:lnTo>
                      <a:lnTo>
                        <a:pt x="1315" y="110"/>
                      </a:lnTo>
                      <a:lnTo>
                        <a:pt x="1329" y="126"/>
                      </a:lnTo>
                      <a:lnTo>
                        <a:pt x="1343" y="126"/>
                      </a:lnTo>
                      <a:lnTo>
                        <a:pt x="1357" y="110"/>
                      </a:lnTo>
                      <a:lnTo>
                        <a:pt x="1370" y="110"/>
                      </a:lnTo>
                      <a:lnTo>
                        <a:pt x="1384" y="110"/>
                      </a:lnTo>
                      <a:lnTo>
                        <a:pt x="1399" y="110"/>
                      </a:lnTo>
                      <a:lnTo>
                        <a:pt x="1427" y="126"/>
                      </a:lnTo>
                      <a:lnTo>
                        <a:pt x="1441" y="126"/>
                      </a:lnTo>
                      <a:lnTo>
                        <a:pt x="1455" y="141"/>
                      </a:lnTo>
                      <a:lnTo>
                        <a:pt x="1469" y="141"/>
                      </a:lnTo>
                      <a:lnTo>
                        <a:pt x="1469" y="157"/>
                      </a:lnTo>
                      <a:lnTo>
                        <a:pt x="1455" y="141"/>
                      </a:lnTo>
                      <a:lnTo>
                        <a:pt x="1455" y="126"/>
                      </a:lnTo>
                      <a:lnTo>
                        <a:pt x="1441" y="126"/>
                      </a:lnTo>
                      <a:lnTo>
                        <a:pt x="1427" y="110"/>
                      </a:lnTo>
                      <a:lnTo>
                        <a:pt x="1413" y="110"/>
                      </a:lnTo>
                      <a:lnTo>
                        <a:pt x="1399" y="110"/>
                      </a:lnTo>
                      <a:lnTo>
                        <a:pt x="1384" y="94"/>
                      </a:lnTo>
                      <a:lnTo>
                        <a:pt x="1370" y="94"/>
                      </a:lnTo>
                      <a:lnTo>
                        <a:pt x="1370" y="79"/>
                      </a:lnTo>
                      <a:lnTo>
                        <a:pt x="1399" y="79"/>
                      </a:lnTo>
                      <a:lnTo>
                        <a:pt x="1427" y="79"/>
                      </a:lnTo>
                      <a:lnTo>
                        <a:pt x="1441" y="79"/>
                      </a:lnTo>
                      <a:lnTo>
                        <a:pt x="1455" y="94"/>
                      </a:lnTo>
                      <a:lnTo>
                        <a:pt x="1469" y="94"/>
                      </a:lnTo>
                      <a:lnTo>
                        <a:pt x="1482" y="94"/>
                      </a:lnTo>
                      <a:lnTo>
                        <a:pt x="1469" y="79"/>
                      </a:lnTo>
                      <a:lnTo>
                        <a:pt x="1455" y="62"/>
                      </a:lnTo>
                      <a:lnTo>
                        <a:pt x="1441" y="62"/>
                      </a:lnTo>
                      <a:lnTo>
                        <a:pt x="1455" y="62"/>
                      </a:lnTo>
                      <a:lnTo>
                        <a:pt x="1441" y="47"/>
                      </a:lnTo>
                      <a:lnTo>
                        <a:pt x="1455" y="47"/>
                      </a:lnTo>
                      <a:lnTo>
                        <a:pt x="1469" y="47"/>
                      </a:lnTo>
                      <a:lnTo>
                        <a:pt x="1510" y="32"/>
                      </a:lnTo>
                      <a:lnTo>
                        <a:pt x="1552" y="15"/>
                      </a:lnTo>
                      <a:lnTo>
                        <a:pt x="1579" y="15"/>
                      </a:lnTo>
                      <a:lnTo>
                        <a:pt x="1593" y="0"/>
                      </a:lnTo>
                      <a:lnTo>
                        <a:pt x="1621" y="0"/>
                      </a:lnTo>
                      <a:lnTo>
                        <a:pt x="1635" y="0"/>
                      </a:lnTo>
                      <a:lnTo>
                        <a:pt x="1648" y="0"/>
                      </a:lnTo>
                      <a:lnTo>
                        <a:pt x="1676" y="0"/>
                      </a:lnTo>
                      <a:lnTo>
                        <a:pt x="1704" y="0"/>
                      </a:lnTo>
                      <a:lnTo>
                        <a:pt x="1731" y="15"/>
                      </a:lnTo>
                      <a:lnTo>
                        <a:pt x="1773" y="32"/>
                      </a:lnTo>
                      <a:lnTo>
                        <a:pt x="1787" y="32"/>
                      </a:lnTo>
                      <a:lnTo>
                        <a:pt x="1800" y="32"/>
                      </a:lnTo>
                      <a:lnTo>
                        <a:pt x="1814" y="47"/>
                      </a:lnTo>
                      <a:lnTo>
                        <a:pt x="1814" y="62"/>
                      </a:lnTo>
                      <a:lnTo>
                        <a:pt x="1800" y="62"/>
                      </a:lnTo>
                      <a:lnTo>
                        <a:pt x="1787" y="62"/>
                      </a:lnTo>
                      <a:lnTo>
                        <a:pt x="1773" y="79"/>
                      </a:lnTo>
                      <a:lnTo>
                        <a:pt x="1759" y="94"/>
                      </a:lnTo>
                      <a:lnTo>
                        <a:pt x="1745" y="94"/>
                      </a:lnTo>
                      <a:lnTo>
                        <a:pt x="1759" y="94"/>
                      </a:lnTo>
                      <a:lnTo>
                        <a:pt x="1787" y="79"/>
                      </a:lnTo>
                      <a:lnTo>
                        <a:pt x="1814" y="79"/>
                      </a:lnTo>
                      <a:lnTo>
                        <a:pt x="1842" y="79"/>
                      </a:lnTo>
                      <a:lnTo>
                        <a:pt x="1856" y="79"/>
                      </a:lnTo>
                      <a:lnTo>
                        <a:pt x="1870" y="94"/>
                      </a:lnTo>
                      <a:lnTo>
                        <a:pt x="1883" y="110"/>
                      </a:lnTo>
                      <a:lnTo>
                        <a:pt x="1870" y="94"/>
                      </a:lnTo>
                      <a:lnTo>
                        <a:pt x="1856" y="79"/>
                      </a:lnTo>
                      <a:lnTo>
                        <a:pt x="1870" y="79"/>
                      </a:lnTo>
                      <a:lnTo>
                        <a:pt x="1883" y="79"/>
                      </a:lnTo>
                      <a:lnTo>
                        <a:pt x="1897" y="79"/>
                      </a:lnTo>
                      <a:lnTo>
                        <a:pt x="1911" y="79"/>
                      </a:lnTo>
                      <a:lnTo>
                        <a:pt x="1925" y="79"/>
                      </a:lnTo>
                      <a:lnTo>
                        <a:pt x="1939" y="79"/>
                      </a:lnTo>
                      <a:lnTo>
                        <a:pt x="1939" y="94"/>
                      </a:lnTo>
                      <a:lnTo>
                        <a:pt x="1966" y="94"/>
                      </a:lnTo>
                      <a:lnTo>
                        <a:pt x="2008" y="110"/>
                      </a:lnTo>
                      <a:lnTo>
                        <a:pt x="2036" y="110"/>
                      </a:lnTo>
                      <a:lnTo>
                        <a:pt x="2077" y="126"/>
                      </a:lnTo>
                      <a:lnTo>
                        <a:pt x="2105" y="126"/>
                      </a:lnTo>
                      <a:lnTo>
                        <a:pt x="2091" y="110"/>
                      </a:lnTo>
                      <a:lnTo>
                        <a:pt x="2077" y="110"/>
                      </a:lnTo>
                      <a:lnTo>
                        <a:pt x="2091" y="110"/>
                      </a:lnTo>
                      <a:lnTo>
                        <a:pt x="2119" y="126"/>
                      </a:lnTo>
                      <a:lnTo>
                        <a:pt x="2132" y="126"/>
                      </a:lnTo>
                      <a:lnTo>
                        <a:pt x="2119" y="126"/>
                      </a:lnTo>
                      <a:lnTo>
                        <a:pt x="2119" y="110"/>
                      </a:lnTo>
                      <a:lnTo>
                        <a:pt x="2146" y="126"/>
                      </a:lnTo>
                      <a:lnTo>
                        <a:pt x="2160" y="141"/>
                      </a:lnTo>
                      <a:lnTo>
                        <a:pt x="2188" y="141"/>
                      </a:lnTo>
                      <a:lnTo>
                        <a:pt x="2188" y="126"/>
                      </a:lnTo>
                      <a:lnTo>
                        <a:pt x="2203" y="126"/>
                      </a:lnTo>
                      <a:lnTo>
                        <a:pt x="2217" y="126"/>
                      </a:lnTo>
                      <a:lnTo>
                        <a:pt x="2231" y="126"/>
                      </a:lnTo>
                      <a:lnTo>
                        <a:pt x="2258" y="110"/>
                      </a:lnTo>
                      <a:lnTo>
                        <a:pt x="2272" y="94"/>
                      </a:lnTo>
                      <a:lnTo>
                        <a:pt x="2286" y="94"/>
                      </a:lnTo>
                      <a:lnTo>
                        <a:pt x="2314" y="110"/>
                      </a:lnTo>
                      <a:lnTo>
                        <a:pt x="2341" y="126"/>
                      </a:lnTo>
                      <a:lnTo>
                        <a:pt x="2369" y="126"/>
                      </a:lnTo>
                      <a:lnTo>
                        <a:pt x="2397" y="126"/>
                      </a:lnTo>
                      <a:lnTo>
                        <a:pt x="2397" y="110"/>
                      </a:lnTo>
                      <a:lnTo>
                        <a:pt x="2410" y="110"/>
                      </a:lnTo>
                      <a:lnTo>
                        <a:pt x="2438" y="126"/>
                      </a:lnTo>
                      <a:lnTo>
                        <a:pt x="2424" y="126"/>
                      </a:lnTo>
                      <a:lnTo>
                        <a:pt x="2466" y="141"/>
                      </a:lnTo>
                      <a:lnTo>
                        <a:pt x="2493" y="141"/>
                      </a:lnTo>
                      <a:lnTo>
                        <a:pt x="2521" y="141"/>
                      </a:lnTo>
                      <a:lnTo>
                        <a:pt x="2535" y="141"/>
                      </a:lnTo>
                      <a:lnTo>
                        <a:pt x="2549" y="141"/>
                      </a:lnTo>
                      <a:lnTo>
                        <a:pt x="2576" y="141"/>
                      </a:lnTo>
                      <a:lnTo>
                        <a:pt x="2604" y="141"/>
                      </a:lnTo>
                      <a:lnTo>
                        <a:pt x="2618" y="141"/>
                      </a:lnTo>
                      <a:lnTo>
                        <a:pt x="2632" y="157"/>
                      </a:lnTo>
                      <a:lnTo>
                        <a:pt x="2646" y="157"/>
                      </a:lnTo>
                      <a:lnTo>
                        <a:pt x="2646" y="173"/>
                      </a:lnTo>
                      <a:lnTo>
                        <a:pt x="2632" y="173"/>
                      </a:lnTo>
                      <a:lnTo>
                        <a:pt x="2618" y="189"/>
                      </a:lnTo>
                      <a:lnTo>
                        <a:pt x="2632" y="189"/>
                      </a:lnTo>
                      <a:lnTo>
                        <a:pt x="2646" y="189"/>
                      </a:lnTo>
                      <a:lnTo>
                        <a:pt x="2659" y="189"/>
                      </a:lnTo>
                      <a:lnTo>
                        <a:pt x="2701" y="189"/>
                      </a:lnTo>
                      <a:lnTo>
                        <a:pt x="2687" y="173"/>
                      </a:lnTo>
                      <a:lnTo>
                        <a:pt x="2715" y="173"/>
                      </a:lnTo>
                      <a:lnTo>
                        <a:pt x="2756" y="173"/>
                      </a:lnTo>
                      <a:lnTo>
                        <a:pt x="2798" y="173"/>
                      </a:lnTo>
                      <a:lnTo>
                        <a:pt x="2812" y="189"/>
                      </a:lnTo>
                      <a:lnTo>
                        <a:pt x="2825" y="189"/>
                      </a:lnTo>
                      <a:lnTo>
                        <a:pt x="2839" y="189"/>
                      </a:lnTo>
                      <a:lnTo>
                        <a:pt x="2825" y="173"/>
                      </a:lnTo>
                      <a:lnTo>
                        <a:pt x="2812" y="173"/>
                      </a:lnTo>
                      <a:lnTo>
                        <a:pt x="2798" y="157"/>
                      </a:lnTo>
                      <a:lnTo>
                        <a:pt x="2839" y="157"/>
                      </a:lnTo>
                      <a:lnTo>
                        <a:pt x="2881" y="173"/>
                      </a:lnTo>
                      <a:lnTo>
                        <a:pt x="2908" y="173"/>
                      </a:lnTo>
                      <a:lnTo>
                        <a:pt x="2950" y="173"/>
                      </a:lnTo>
                      <a:lnTo>
                        <a:pt x="2964" y="173"/>
                      </a:lnTo>
                      <a:lnTo>
                        <a:pt x="2964" y="189"/>
                      </a:lnTo>
                      <a:lnTo>
                        <a:pt x="2978" y="189"/>
                      </a:lnTo>
                      <a:lnTo>
                        <a:pt x="2993" y="189"/>
                      </a:lnTo>
                      <a:lnTo>
                        <a:pt x="2993" y="205"/>
                      </a:lnTo>
                      <a:lnTo>
                        <a:pt x="3020" y="205"/>
                      </a:lnTo>
                      <a:lnTo>
                        <a:pt x="3048" y="220"/>
                      </a:lnTo>
                      <a:lnTo>
                        <a:pt x="3062" y="236"/>
                      </a:lnTo>
                      <a:lnTo>
                        <a:pt x="3090" y="252"/>
                      </a:lnTo>
                      <a:lnTo>
                        <a:pt x="3117" y="283"/>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6921360" y="1876320"/>
                  <a:ext cx="1686240" cy="1059120"/>
                </a:xfrm>
                <a:custGeom>
                  <a:avLst/>
                  <a:gdLst/>
                  <a:ahLst/>
                  <a:rect l="l" t="t" r="r" b="b"/>
                  <a:pathLst>
                    <a:path w="3186" h="2003">
                      <a:moveTo>
                        <a:pt x="3117" y="283"/>
                      </a:moveTo>
                      <a:lnTo>
                        <a:pt x="3131" y="299"/>
                      </a:lnTo>
                      <a:lnTo>
                        <a:pt x="3145" y="315"/>
                      </a:lnTo>
                      <a:lnTo>
                        <a:pt x="3159" y="315"/>
                      </a:lnTo>
                      <a:lnTo>
                        <a:pt x="3173" y="330"/>
                      </a:lnTo>
                      <a:lnTo>
                        <a:pt x="3186" y="347"/>
                      </a:lnTo>
                      <a:lnTo>
                        <a:pt x="3173" y="347"/>
                      </a:lnTo>
                      <a:lnTo>
                        <a:pt x="3159" y="347"/>
                      </a:lnTo>
                      <a:lnTo>
                        <a:pt x="3131" y="330"/>
                      </a:lnTo>
                      <a:lnTo>
                        <a:pt x="3145" y="330"/>
                      </a:lnTo>
                      <a:lnTo>
                        <a:pt x="3131" y="347"/>
                      </a:lnTo>
                      <a:lnTo>
                        <a:pt x="3117" y="347"/>
                      </a:lnTo>
                      <a:lnTo>
                        <a:pt x="3103" y="362"/>
                      </a:lnTo>
                      <a:lnTo>
                        <a:pt x="3103" y="377"/>
                      </a:lnTo>
                      <a:lnTo>
                        <a:pt x="3103" y="394"/>
                      </a:lnTo>
                      <a:lnTo>
                        <a:pt x="3103" y="409"/>
                      </a:lnTo>
                      <a:lnTo>
                        <a:pt x="3090" y="409"/>
                      </a:lnTo>
                      <a:lnTo>
                        <a:pt x="3076" y="394"/>
                      </a:lnTo>
                      <a:lnTo>
                        <a:pt x="3062" y="394"/>
                      </a:lnTo>
                      <a:lnTo>
                        <a:pt x="3048" y="394"/>
                      </a:lnTo>
                      <a:lnTo>
                        <a:pt x="3034" y="394"/>
                      </a:lnTo>
                      <a:lnTo>
                        <a:pt x="3020" y="394"/>
                      </a:lnTo>
                      <a:lnTo>
                        <a:pt x="2993" y="394"/>
                      </a:lnTo>
                      <a:lnTo>
                        <a:pt x="2978" y="394"/>
                      </a:lnTo>
                      <a:lnTo>
                        <a:pt x="2978" y="426"/>
                      </a:lnTo>
                      <a:lnTo>
                        <a:pt x="3020" y="456"/>
                      </a:lnTo>
                      <a:lnTo>
                        <a:pt x="3062" y="488"/>
                      </a:lnTo>
                      <a:lnTo>
                        <a:pt x="3076" y="505"/>
                      </a:lnTo>
                      <a:lnTo>
                        <a:pt x="3090" y="505"/>
                      </a:lnTo>
                      <a:lnTo>
                        <a:pt x="3090" y="520"/>
                      </a:lnTo>
                      <a:lnTo>
                        <a:pt x="3090" y="535"/>
                      </a:lnTo>
                      <a:lnTo>
                        <a:pt x="3076" y="535"/>
                      </a:lnTo>
                      <a:lnTo>
                        <a:pt x="3076" y="567"/>
                      </a:lnTo>
                      <a:lnTo>
                        <a:pt x="3090" y="567"/>
                      </a:lnTo>
                      <a:lnTo>
                        <a:pt x="3090" y="584"/>
                      </a:lnTo>
                      <a:lnTo>
                        <a:pt x="3090" y="599"/>
                      </a:lnTo>
                      <a:lnTo>
                        <a:pt x="3090" y="614"/>
                      </a:lnTo>
                      <a:lnTo>
                        <a:pt x="3090" y="631"/>
                      </a:lnTo>
                      <a:lnTo>
                        <a:pt x="3076" y="631"/>
                      </a:lnTo>
                      <a:lnTo>
                        <a:pt x="3062" y="614"/>
                      </a:lnTo>
                      <a:lnTo>
                        <a:pt x="3048" y="599"/>
                      </a:lnTo>
                      <a:lnTo>
                        <a:pt x="3020" y="567"/>
                      </a:lnTo>
                      <a:lnTo>
                        <a:pt x="2978" y="552"/>
                      </a:lnTo>
                      <a:lnTo>
                        <a:pt x="2950" y="520"/>
                      </a:lnTo>
                      <a:lnTo>
                        <a:pt x="2936" y="505"/>
                      </a:lnTo>
                      <a:lnTo>
                        <a:pt x="2922" y="488"/>
                      </a:lnTo>
                      <a:lnTo>
                        <a:pt x="2922" y="473"/>
                      </a:lnTo>
                      <a:lnTo>
                        <a:pt x="2936" y="456"/>
                      </a:lnTo>
                      <a:lnTo>
                        <a:pt x="2936" y="409"/>
                      </a:lnTo>
                      <a:lnTo>
                        <a:pt x="2922" y="377"/>
                      </a:lnTo>
                      <a:lnTo>
                        <a:pt x="2895" y="330"/>
                      </a:lnTo>
                      <a:lnTo>
                        <a:pt x="2895" y="347"/>
                      </a:lnTo>
                      <a:lnTo>
                        <a:pt x="2908" y="362"/>
                      </a:lnTo>
                      <a:lnTo>
                        <a:pt x="2908" y="377"/>
                      </a:lnTo>
                      <a:lnTo>
                        <a:pt x="2895" y="394"/>
                      </a:lnTo>
                      <a:lnTo>
                        <a:pt x="2895" y="377"/>
                      </a:lnTo>
                      <a:lnTo>
                        <a:pt x="2881" y="362"/>
                      </a:lnTo>
                      <a:lnTo>
                        <a:pt x="2867" y="362"/>
                      </a:lnTo>
                      <a:lnTo>
                        <a:pt x="2839" y="347"/>
                      </a:lnTo>
                      <a:lnTo>
                        <a:pt x="2812" y="362"/>
                      </a:lnTo>
                      <a:lnTo>
                        <a:pt x="2812" y="409"/>
                      </a:lnTo>
                      <a:lnTo>
                        <a:pt x="2825" y="409"/>
                      </a:lnTo>
                      <a:lnTo>
                        <a:pt x="2839" y="409"/>
                      </a:lnTo>
                      <a:lnTo>
                        <a:pt x="2853" y="426"/>
                      </a:lnTo>
                      <a:lnTo>
                        <a:pt x="2839" y="426"/>
                      </a:lnTo>
                      <a:lnTo>
                        <a:pt x="2825" y="426"/>
                      </a:lnTo>
                      <a:lnTo>
                        <a:pt x="2812" y="426"/>
                      </a:lnTo>
                      <a:lnTo>
                        <a:pt x="2798" y="426"/>
                      </a:lnTo>
                      <a:lnTo>
                        <a:pt x="2770" y="426"/>
                      </a:lnTo>
                      <a:lnTo>
                        <a:pt x="2756" y="409"/>
                      </a:lnTo>
                      <a:lnTo>
                        <a:pt x="2742" y="409"/>
                      </a:lnTo>
                      <a:lnTo>
                        <a:pt x="2729" y="409"/>
                      </a:lnTo>
                      <a:lnTo>
                        <a:pt x="2701" y="426"/>
                      </a:lnTo>
                      <a:lnTo>
                        <a:pt x="2659" y="441"/>
                      </a:lnTo>
                      <a:lnTo>
                        <a:pt x="2632" y="456"/>
                      </a:lnTo>
                      <a:lnTo>
                        <a:pt x="2632" y="473"/>
                      </a:lnTo>
                      <a:lnTo>
                        <a:pt x="2618" y="473"/>
                      </a:lnTo>
                      <a:lnTo>
                        <a:pt x="2618" y="488"/>
                      </a:lnTo>
                      <a:lnTo>
                        <a:pt x="2604" y="520"/>
                      </a:lnTo>
                      <a:lnTo>
                        <a:pt x="2604" y="535"/>
                      </a:lnTo>
                      <a:lnTo>
                        <a:pt x="2618" y="552"/>
                      </a:lnTo>
                      <a:lnTo>
                        <a:pt x="2659" y="567"/>
                      </a:lnTo>
                      <a:lnTo>
                        <a:pt x="2673" y="567"/>
                      </a:lnTo>
                      <a:lnTo>
                        <a:pt x="2687" y="552"/>
                      </a:lnTo>
                      <a:lnTo>
                        <a:pt x="2701" y="552"/>
                      </a:lnTo>
                      <a:lnTo>
                        <a:pt x="2715" y="552"/>
                      </a:lnTo>
                      <a:lnTo>
                        <a:pt x="2729" y="567"/>
                      </a:lnTo>
                      <a:lnTo>
                        <a:pt x="2742" y="567"/>
                      </a:lnTo>
                      <a:lnTo>
                        <a:pt x="2729" y="584"/>
                      </a:lnTo>
                      <a:lnTo>
                        <a:pt x="2742" y="584"/>
                      </a:lnTo>
                      <a:lnTo>
                        <a:pt x="2756" y="599"/>
                      </a:lnTo>
                      <a:lnTo>
                        <a:pt x="2770" y="599"/>
                      </a:lnTo>
                      <a:lnTo>
                        <a:pt x="2770" y="614"/>
                      </a:lnTo>
                      <a:lnTo>
                        <a:pt x="2770" y="631"/>
                      </a:lnTo>
                      <a:lnTo>
                        <a:pt x="2770" y="646"/>
                      </a:lnTo>
                      <a:lnTo>
                        <a:pt x="2784" y="662"/>
                      </a:lnTo>
                      <a:lnTo>
                        <a:pt x="2798" y="678"/>
                      </a:lnTo>
                      <a:lnTo>
                        <a:pt x="2812" y="693"/>
                      </a:lnTo>
                      <a:lnTo>
                        <a:pt x="2812" y="710"/>
                      </a:lnTo>
                      <a:lnTo>
                        <a:pt x="2798" y="710"/>
                      </a:lnTo>
                      <a:lnTo>
                        <a:pt x="2798" y="757"/>
                      </a:lnTo>
                      <a:lnTo>
                        <a:pt x="2784" y="804"/>
                      </a:lnTo>
                      <a:lnTo>
                        <a:pt x="2770" y="851"/>
                      </a:lnTo>
                      <a:lnTo>
                        <a:pt x="2756" y="851"/>
                      </a:lnTo>
                      <a:lnTo>
                        <a:pt x="2742" y="835"/>
                      </a:lnTo>
                      <a:lnTo>
                        <a:pt x="2729" y="835"/>
                      </a:lnTo>
                      <a:lnTo>
                        <a:pt x="2729" y="851"/>
                      </a:lnTo>
                      <a:lnTo>
                        <a:pt x="2715" y="867"/>
                      </a:lnTo>
                      <a:lnTo>
                        <a:pt x="2715" y="883"/>
                      </a:lnTo>
                      <a:lnTo>
                        <a:pt x="2715" y="899"/>
                      </a:lnTo>
                      <a:lnTo>
                        <a:pt x="2701" y="914"/>
                      </a:lnTo>
                      <a:lnTo>
                        <a:pt x="2701" y="930"/>
                      </a:lnTo>
                      <a:lnTo>
                        <a:pt x="2715" y="961"/>
                      </a:lnTo>
                      <a:lnTo>
                        <a:pt x="2742" y="993"/>
                      </a:lnTo>
                      <a:lnTo>
                        <a:pt x="2784" y="1040"/>
                      </a:lnTo>
                      <a:lnTo>
                        <a:pt x="2784" y="1072"/>
                      </a:lnTo>
                      <a:lnTo>
                        <a:pt x="2770" y="1087"/>
                      </a:lnTo>
                      <a:lnTo>
                        <a:pt x="2756" y="1087"/>
                      </a:lnTo>
                      <a:lnTo>
                        <a:pt x="2742" y="1104"/>
                      </a:lnTo>
                      <a:lnTo>
                        <a:pt x="2729" y="1087"/>
                      </a:lnTo>
                      <a:lnTo>
                        <a:pt x="2729" y="1072"/>
                      </a:lnTo>
                      <a:lnTo>
                        <a:pt x="2729" y="1040"/>
                      </a:lnTo>
                      <a:lnTo>
                        <a:pt x="2715" y="1008"/>
                      </a:lnTo>
                      <a:lnTo>
                        <a:pt x="2715" y="993"/>
                      </a:lnTo>
                      <a:lnTo>
                        <a:pt x="2701" y="993"/>
                      </a:lnTo>
                      <a:lnTo>
                        <a:pt x="2687" y="978"/>
                      </a:lnTo>
                      <a:lnTo>
                        <a:pt x="2673" y="978"/>
                      </a:lnTo>
                      <a:lnTo>
                        <a:pt x="2659" y="978"/>
                      </a:lnTo>
                      <a:lnTo>
                        <a:pt x="2646" y="961"/>
                      </a:lnTo>
                      <a:lnTo>
                        <a:pt x="2646" y="946"/>
                      </a:lnTo>
                      <a:lnTo>
                        <a:pt x="2632" y="930"/>
                      </a:lnTo>
                      <a:lnTo>
                        <a:pt x="2618" y="961"/>
                      </a:lnTo>
                      <a:lnTo>
                        <a:pt x="2590" y="961"/>
                      </a:lnTo>
                      <a:lnTo>
                        <a:pt x="2590" y="946"/>
                      </a:lnTo>
                      <a:lnTo>
                        <a:pt x="2590" y="930"/>
                      </a:lnTo>
                      <a:lnTo>
                        <a:pt x="2576" y="914"/>
                      </a:lnTo>
                      <a:lnTo>
                        <a:pt x="2563" y="914"/>
                      </a:lnTo>
                      <a:lnTo>
                        <a:pt x="2549" y="930"/>
                      </a:lnTo>
                      <a:lnTo>
                        <a:pt x="2521" y="961"/>
                      </a:lnTo>
                      <a:lnTo>
                        <a:pt x="2535" y="993"/>
                      </a:lnTo>
                      <a:lnTo>
                        <a:pt x="2563" y="1008"/>
                      </a:lnTo>
                      <a:lnTo>
                        <a:pt x="2576" y="1008"/>
                      </a:lnTo>
                      <a:lnTo>
                        <a:pt x="2576" y="993"/>
                      </a:lnTo>
                      <a:lnTo>
                        <a:pt x="2590" y="993"/>
                      </a:lnTo>
                      <a:lnTo>
                        <a:pt x="2604" y="993"/>
                      </a:lnTo>
                      <a:lnTo>
                        <a:pt x="2618" y="993"/>
                      </a:lnTo>
                      <a:lnTo>
                        <a:pt x="2632" y="993"/>
                      </a:lnTo>
                      <a:lnTo>
                        <a:pt x="2632" y="1008"/>
                      </a:lnTo>
                      <a:lnTo>
                        <a:pt x="2618" y="1040"/>
                      </a:lnTo>
                      <a:lnTo>
                        <a:pt x="2604" y="1057"/>
                      </a:lnTo>
                      <a:lnTo>
                        <a:pt x="2590" y="1072"/>
                      </a:lnTo>
                      <a:lnTo>
                        <a:pt x="2590" y="1087"/>
                      </a:lnTo>
                      <a:lnTo>
                        <a:pt x="2604" y="1104"/>
                      </a:lnTo>
                      <a:lnTo>
                        <a:pt x="2618" y="1119"/>
                      </a:lnTo>
                      <a:lnTo>
                        <a:pt x="2646" y="1151"/>
                      </a:lnTo>
                      <a:lnTo>
                        <a:pt x="2659" y="1151"/>
                      </a:lnTo>
                      <a:lnTo>
                        <a:pt x="2673" y="1166"/>
                      </a:lnTo>
                      <a:lnTo>
                        <a:pt x="2659" y="1166"/>
                      </a:lnTo>
                      <a:lnTo>
                        <a:pt x="2632" y="1151"/>
                      </a:lnTo>
                      <a:lnTo>
                        <a:pt x="2618" y="1151"/>
                      </a:lnTo>
                      <a:lnTo>
                        <a:pt x="2632" y="1166"/>
                      </a:lnTo>
                      <a:lnTo>
                        <a:pt x="2646" y="1166"/>
                      </a:lnTo>
                      <a:lnTo>
                        <a:pt x="2659" y="1183"/>
                      </a:lnTo>
                      <a:lnTo>
                        <a:pt x="2673" y="1183"/>
                      </a:lnTo>
                      <a:lnTo>
                        <a:pt x="2673" y="1198"/>
                      </a:lnTo>
                      <a:lnTo>
                        <a:pt x="2659" y="1198"/>
                      </a:lnTo>
                      <a:lnTo>
                        <a:pt x="2646" y="1215"/>
                      </a:lnTo>
                      <a:lnTo>
                        <a:pt x="2659" y="1215"/>
                      </a:lnTo>
                      <a:lnTo>
                        <a:pt x="2673" y="1215"/>
                      </a:lnTo>
                      <a:lnTo>
                        <a:pt x="2687" y="1215"/>
                      </a:lnTo>
                      <a:lnTo>
                        <a:pt x="2701" y="1262"/>
                      </a:lnTo>
                      <a:lnTo>
                        <a:pt x="2687" y="1277"/>
                      </a:lnTo>
                      <a:lnTo>
                        <a:pt x="2687" y="1293"/>
                      </a:lnTo>
                      <a:lnTo>
                        <a:pt x="2659" y="1293"/>
                      </a:lnTo>
                      <a:lnTo>
                        <a:pt x="2659" y="1324"/>
                      </a:lnTo>
                      <a:lnTo>
                        <a:pt x="2673" y="1324"/>
                      </a:lnTo>
                      <a:lnTo>
                        <a:pt x="2659" y="1341"/>
                      </a:lnTo>
                      <a:lnTo>
                        <a:pt x="2659" y="1356"/>
                      </a:lnTo>
                      <a:lnTo>
                        <a:pt x="2646" y="1372"/>
                      </a:lnTo>
                      <a:lnTo>
                        <a:pt x="2632" y="1388"/>
                      </a:lnTo>
                      <a:lnTo>
                        <a:pt x="2618" y="1388"/>
                      </a:lnTo>
                      <a:lnTo>
                        <a:pt x="2590" y="1403"/>
                      </a:lnTo>
                      <a:lnTo>
                        <a:pt x="2576" y="1419"/>
                      </a:lnTo>
                      <a:lnTo>
                        <a:pt x="2563" y="1435"/>
                      </a:lnTo>
                      <a:lnTo>
                        <a:pt x="2549" y="1435"/>
                      </a:lnTo>
                      <a:lnTo>
                        <a:pt x="2535" y="1435"/>
                      </a:lnTo>
                      <a:lnTo>
                        <a:pt x="2521" y="1451"/>
                      </a:lnTo>
                      <a:lnTo>
                        <a:pt x="2507" y="1451"/>
                      </a:lnTo>
                      <a:lnTo>
                        <a:pt x="2507" y="1466"/>
                      </a:lnTo>
                      <a:lnTo>
                        <a:pt x="2493" y="1482"/>
                      </a:lnTo>
                      <a:lnTo>
                        <a:pt x="2493" y="1466"/>
                      </a:lnTo>
                      <a:lnTo>
                        <a:pt x="2493" y="1451"/>
                      </a:lnTo>
                      <a:lnTo>
                        <a:pt x="2452" y="1451"/>
                      </a:lnTo>
                      <a:lnTo>
                        <a:pt x="2424" y="1466"/>
                      </a:lnTo>
                      <a:lnTo>
                        <a:pt x="2410" y="1498"/>
                      </a:lnTo>
                      <a:lnTo>
                        <a:pt x="2424" y="1545"/>
                      </a:lnTo>
                      <a:lnTo>
                        <a:pt x="2452" y="1577"/>
                      </a:lnTo>
                      <a:lnTo>
                        <a:pt x="2493" y="1624"/>
                      </a:lnTo>
                      <a:lnTo>
                        <a:pt x="2493" y="1656"/>
                      </a:lnTo>
                      <a:lnTo>
                        <a:pt x="2493" y="1703"/>
                      </a:lnTo>
                      <a:lnTo>
                        <a:pt x="2480" y="1735"/>
                      </a:lnTo>
                      <a:lnTo>
                        <a:pt x="2480" y="1750"/>
                      </a:lnTo>
                      <a:lnTo>
                        <a:pt x="2466" y="1767"/>
                      </a:lnTo>
                      <a:lnTo>
                        <a:pt x="2452" y="1767"/>
                      </a:lnTo>
                      <a:lnTo>
                        <a:pt x="2438" y="1767"/>
                      </a:lnTo>
                      <a:lnTo>
                        <a:pt x="2424" y="1782"/>
                      </a:lnTo>
                      <a:lnTo>
                        <a:pt x="2424" y="1797"/>
                      </a:lnTo>
                      <a:lnTo>
                        <a:pt x="2410" y="1782"/>
                      </a:lnTo>
                      <a:lnTo>
                        <a:pt x="2410" y="1767"/>
                      </a:lnTo>
                      <a:lnTo>
                        <a:pt x="2410" y="1750"/>
                      </a:lnTo>
                      <a:lnTo>
                        <a:pt x="2397" y="1735"/>
                      </a:lnTo>
                      <a:lnTo>
                        <a:pt x="2383" y="1718"/>
                      </a:lnTo>
                      <a:lnTo>
                        <a:pt x="2369" y="1718"/>
                      </a:lnTo>
                      <a:lnTo>
                        <a:pt x="2355" y="1703"/>
                      </a:lnTo>
                      <a:lnTo>
                        <a:pt x="2341" y="1703"/>
                      </a:lnTo>
                      <a:lnTo>
                        <a:pt x="2327" y="1688"/>
                      </a:lnTo>
                      <a:lnTo>
                        <a:pt x="2314" y="1671"/>
                      </a:lnTo>
                      <a:lnTo>
                        <a:pt x="2314" y="1718"/>
                      </a:lnTo>
                      <a:lnTo>
                        <a:pt x="2314" y="1750"/>
                      </a:lnTo>
                      <a:lnTo>
                        <a:pt x="2314" y="1797"/>
                      </a:lnTo>
                      <a:lnTo>
                        <a:pt x="2327" y="1846"/>
                      </a:lnTo>
                      <a:lnTo>
                        <a:pt x="2341" y="1846"/>
                      </a:lnTo>
                      <a:lnTo>
                        <a:pt x="2355" y="1861"/>
                      </a:lnTo>
                      <a:lnTo>
                        <a:pt x="2369" y="1861"/>
                      </a:lnTo>
                      <a:lnTo>
                        <a:pt x="2383" y="1893"/>
                      </a:lnTo>
                      <a:lnTo>
                        <a:pt x="2397" y="1893"/>
                      </a:lnTo>
                      <a:lnTo>
                        <a:pt x="2397" y="1908"/>
                      </a:lnTo>
                      <a:lnTo>
                        <a:pt x="2397" y="1924"/>
                      </a:lnTo>
                      <a:lnTo>
                        <a:pt x="2397" y="1955"/>
                      </a:lnTo>
                      <a:lnTo>
                        <a:pt x="2397" y="1971"/>
                      </a:lnTo>
                      <a:lnTo>
                        <a:pt x="2410" y="1987"/>
                      </a:lnTo>
                      <a:lnTo>
                        <a:pt x="2410" y="2003"/>
                      </a:lnTo>
                      <a:lnTo>
                        <a:pt x="2397" y="2003"/>
                      </a:lnTo>
                      <a:lnTo>
                        <a:pt x="2383" y="1987"/>
                      </a:lnTo>
                      <a:lnTo>
                        <a:pt x="2369" y="1971"/>
                      </a:lnTo>
                      <a:lnTo>
                        <a:pt x="2355" y="1955"/>
                      </a:lnTo>
                      <a:lnTo>
                        <a:pt x="2355" y="1940"/>
                      </a:lnTo>
                      <a:lnTo>
                        <a:pt x="2341" y="1908"/>
                      </a:lnTo>
                      <a:lnTo>
                        <a:pt x="2327" y="1861"/>
                      </a:lnTo>
                      <a:lnTo>
                        <a:pt x="2314" y="1829"/>
                      </a:lnTo>
                      <a:lnTo>
                        <a:pt x="2300" y="1829"/>
                      </a:lnTo>
                      <a:lnTo>
                        <a:pt x="2286" y="1814"/>
                      </a:lnTo>
                      <a:lnTo>
                        <a:pt x="2286" y="1797"/>
                      </a:lnTo>
                      <a:lnTo>
                        <a:pt x="2286" y="1767"/>
                      </a:lnTo>
                      <a:lnTo>
                        <a:pt x="2286" y="1750"/>
                      </a:lnTo>
                      <a:lnTo>
                        <a:pt x="2286" y="1718"/>
                      </a:lnTo>
                      <a:lnTo>
                        <a:pt x="2272" y="1688"/>
                      </a:lnTo>
                      <a:lnTo>
                        <a:pt x="2272" y="1656"/>
                      </a:lnTo>
                      <a:lnTo>
                        <a:pt x="2272" y="1671"/>
                      </a:lnTo>
                      <a:lnTo>
                        <a:pt x="2258" y="1624"/>
                      </a:lnTo>
                      <a:lnTo>
                        <a:pt x="2244" y="1592"/>
                      </a:lnTo>
                      <a:lnTo>
                        <a:pt x="2231" y="1561"/>
                      </a:lnTo>
                      <a:lnTo>
                        <a:pt x="2217" y="1561"/>
                      </a:lnTo>
                      <a:lnTo>
                        <a:pt x="2217" y="1577"/>
                      </a:lnTo>
                      <a:lnTo>
                        <a:pt x="2217" y="1592"/>
                      </a:lnTo>
                      <a:lnTo>
                        <a:pt x="2203" y="1609"/>
                      </a:lnTo>
                      <a:lnTo>
                        <a:pt x="2188" y="1609"/>
                      </a:lnTo>
                      <a:lnTo>
                        <a:pt x="2174" y="1592"/>
                      </a:lnTo>
                      <a:lnTo>
                        <a:pt x="2188" y="1577"/>
                      </a:lnTo>
                      <a:lnTo>
                        <a:pt x="2188" y="1561"/>
                      </a:lnTo>
                      <a:lnTo>
                        <a:pt x="2160" y="1530"/>
                      </a:lnTo>
                      <a:lnTo>
                        <a:pt x="2132" y="1482"/>
                      </a:lnTo>
                      <a:lnTo>
                        <a:pt x="2119" y="1451"/>
                      </a:lnTo>
                      <a:lnTo>
                        <a:pt x="2119" y="1435"/>
                      </a:lnTo>
                      <a:lnTo>
                        <a:pt x="2105" y="1419"/>
                      </a:lnTo>
                      <a:lnTo>
                        <a:pt x="2105" y="1403"/>
                      </a:lnTo>
                      <a:lnTo>
                        <a:pt x="2091" y="1403"/>
                      </a:lnTo>
                      <a:lnTo>
                        <a:pt x="2077" y="1403"/>
                      </a:lnTo>
                      <a:lnTo>
                        <a:pt x="2063" y="1388"/>
                      </a:lnTo>
                      <a:lnTo>
                        <a:pt x="2049" y="1372"/>
                      </a:lnTo>
                      <a:lnTo>
                        <a:pt x="2049" y="1388"/>
                      </a:lnTo>
                      <a:lnTo>
                        <a:pt x="2063" y="1403"/>
                      </a:lnTo>
                      <a:lnTo>
                        <a:pt x="2077" y="1403"/>
                      </a:lnTo>
                      <a:lnTo>
                        <a:pt x="2077" y="1419"/>
                      </a:lnTo>
                      <a:lnTo>
                        <a:pt x="2077" y="1435"/>
                      </a:lnTo>
                      <a:lnTo>
                        <a:pt x="2063" y="1435"/>
                      </a:lnTo>
                      <a:lnTo>
                        <a:pt x="2049" y="1435"/>
                      </a:lnTo>
                      <a:lnTo>
                        <a:pt x="2036" y="1451"/>
                      </a:lnTo>
                      <a:lnTo>
                        <a:pt x="2022" y="1466"/>
                      </a:lnTo>
                      <a:lnTo>
                        <a:pt x="2008" y="1482"/>
                      </a:lnTo>
                      <a:lnTo>
                        <a:pt x="1994" y="1498"/>
                      </a:lnTo>
                      <a:lnTo>
                        <a:pt x="1980" y="1498"/>
                      </a:lnTo>
                      <a:lnTo>
                        <a:pt x="1980" y="1513"/>
                      </a:lnTo>
                      <a:lnTo>
                        <a:pt x="1966" y="1530"/>
                      </a:lnTo>
                      <a:lnTo>
                        <a:pt x="1939" y="1561"/>
                      </a:lnTo>
                      <a:lnTo>
                        <a:pt x="1911" y="1577"/>
                      </a:lnTo>
                      <a:lnTo>
                        <a:pt x="1883" y="1609"/>
                      </a:lnTo>
                      <a:lnTo>
                        <a:pt x="1883" y="1624"/>
                      </a:lnTo>
                      <a:lnTo>
                        <a:pt x="1883" y="1639"/>
                      </a:lnTo>
                      <a:lnTo>
                        <a:pt x="1870" y="1688"/>
                      </a:lnTo>
                      <a:lnTo>
                        <a:pt x="1856" y="1735"/>
                      </a:lnTo>
                      <a:lnTo>
                        <a:pt x="1842" y="1767"/>
                      </a:lnTo>
                      <a:lnTo>
                        <a:pt x="1828" y="1797"/>
                      </a:lnTo>
                      <a:lnTo>
                        <a:pt x="1814" y="1797"/>
                      </a:lnTo>
                      <a:lnTo>
                        <a:pt x="1814" y="1782"/>
                      </a:lnTo>
                      <a:lnTo>
                        <a:pt x="1814" y="1767"/>
                      </a:lnTo>
                      <a:lnTo>
                        <a:pt x="1800" y="1750"/>
                      </a:lnTo>
                      <a:lnTo>
                        <a:pt x="1800" y="1718"/>
                      </a:lnTo>
                      <a:lnTo>
                        <a:pt x="1787" y="1703"/>
                      </a:lnTo>
                      <a:lnTo>
                        <a:pt x="1773" y="1688"/>
                      </a:lnTo>
                      <a:lnTo>
                        <a:pt x="1787" y="1688"/>
                      </a:lnTo>
                      <a:lnTo>
                        <a:pt x="1773" y="1671"/>
                      </a:lnTo>
                      <a:lnTo>
                        <a:pt x="1773" y="1639"/>
                      </a:lnTo>
                      <a:lnTo>
                        <a:pt x="1759" y="1639"/>
                      </a:lnTo>
                      <a:lnTo>
                        <a:pt x="1759" y="1624"/>
                      </a:lnTo>
                      <a:lnTo>
                        <a:pt x="1745" y="1609"/>
                      </a:lnTo>
                      <a:lnTo>
                        <a:pt x="1745" y="1592"/>
                      </a:lnTo>
                      <a:lnTo>
                        <a:pt x="1745" y="1577"/>
                      </a:lnTo>
                      <a:lnTo>
                        <a:pt x="1731" y="1545"/>
                      </a:lnTo>
                      <a:lnTo>
                        <a:pt x="1718" y="1482"/>
                      </a:lnTo>
                      <a:lnTo>
                        <a:pt x="1704" y="1451"/>
                      </a:lnTo>
                      <a:lnTo>
                        <a:pt x="1690" y="1451"/>
                      </a:lnTo>
                      <a:lnTo>
                        <a:pt x="1690" y="1466"/>
                      </a:lnTo>
                      <a:lnTo>
                        <a:pt x="1676" y="1466"/>
                      </a:lnTo>
                      <a:lnTo>
                        <a:pt x="1662" y="1466"/>
                      </a:lnTo>
                      <a:lnTo>
                        <a:pt x="1648" y="1451"/>
                      </a:lnTo>
                      <a:lnTo>
                        <a:pt x="1635" y="1419"/>
                      </a:lnTo>
                      <a:lnTo>
                        <a:pt x="1648" y="1419"/>
                      </a:lnTo>
                      <a:lnTo>
                        <a:pt x="1662" y="1419"/>
                      </a:lnTo>
                      <a:lnTo>
                        <a:pt x="1662" y="1403"/>
                      </a:lnTo>
                      <a:lnTo>
                        <a:pt x="1648" y="1388"/>
                      </a:lnTo>
                      <a:lnTo>
                        <a:pt x="1635" y="1388"/>
                      </a:lnTo>
                      <a:lnTo>
                        <a:pt x="1621" y="1388"/>
                      </a:lnTo>
                      <a:lnTo>
                        <a:pt x="1607" y="1372"/>
                      </a:lnTo>
                      <a:lnTo>
                        <a:pt x="1593" y="1356"/>
                      </a:lnTo>
                      <a:lnTo>
                        <a:pt x="1579" y="1356"/>
                      </a:lnTo>
                      <a:lnTo>
                        <a:pt x="1579" y="1341"/>
                      </a:lnTo>
                      <a:lnTo>
                        <a:pt x="1565" y="1341"/>
                      </a:lnTo>
                      <a:lnTo>
                        <a:pt x="1538" y="1324"/>
                      </a:lnTo>
                      <a:lnTo>
                        <a:pt x="1496" y="1324"/>
                      </a:lnTo>
                      <a:lnTo>
                        <a:pt x="1455" y="1324"/>
                      </a:lnTo>
                      <a:lnTo>
                        <a:pt x="1413" y="1309"/>
                      </a:lnTo>
                      <a:lnTo>
                        <a:pt x="1370" y="1309"/>
                      </a:lnTo>
                      <a:lnTo>
                        <a:pt x="1370" y="1293"/>
                      </a:lnTo>
                      <a:lnTo>
                        <a:pt x="1343" y="1293"/>
                      </a:lnTo>
                      <a:lnTo>
                        <a:pt x="1329" y="1309"/>
                      </a:lnTo>
                      <a:lnTo>
                        <a:pt x="1301" y="1309"/>
                      </a:lnTo>
                      <a:lnTo>
                        <a:pt x="1301" y="1293"/>
                      </a:lnTo>
                      <a:lnTo>
                        <a:pt x="1287" y="1293"/>
                      </a:lnTo>
                      <a:lnTo>
                        <a:pt x="1274" y="1277"/>
                      </a:lnTo>
                      <a:lnTo>
                        <a:pt x="1260" y="1277"/>
                      </a:lnTo>
                      <a:lnTo>
                        <a:pt x="1260" y="1262"/>
                      </a:lnTo>
                      <a:lnTo>
                        <a:pt x="1246" y="1245"/>
                      </a:lnTo>
                      <a:lnTo>
                        <a:pt x="1232" y="1230"/>
                      </a:lnTo>
                      <a:lnTo>
                        <a:pt x="1218" y="1215"/>
                      </a:lnTo>
                      <a:lnTo>
                        <a:pt x="1204" y="1215"/>
                      </a:lnTo>
                      <a:lnTo>
                        <a:pt x="1191" y="1215"/>
                      </a:lnTo>
                      <a:lnTo>
                        <a:pt x="1191" y="1245"/>
                      </a:lnTo>
                      <a:lnTo>
                        <a:pt x="1218" y="1293"/>
                      </a:lnTo>
                      <a:lnTo>
                        <a:pt x="1232" y="1309"/>
                      </a:lnTo>
                      <a:lnTo>
                        <a:pt x="1246" y="1324"/>
                      </a:lnTo>
                      <a:lnTo>
                        <a:pt x="1246" y="1341"/>
                      </a:lnTo>
                      <a:lnTo>
                        <a:pt x="1246" y="1356"/>
                      </a:lnTo>
                      <a:lnTo>
                        <a:pt x="1260" y="1356"/>
                      </a:lnTo>
                      <a:lnTo>
                        <a:pt x="1260" y="1341"/>
                      </a:lnTo>
                      <a:lnTo>
                        <a:pt x="1260" y="1324"/>
                      </a:lnTo>
                      <a:lnTo>
                        <a:pt x="1287" y="1309"/>
                      </a:lnTo>
                      <a:lnTo>
                        <a:pt x="1329" y="1309"/>
                      </a:lnTo>
                      <a:lnTo>
                        <a:pt x="1357" y="1309"/>
                      </a:lnTo>
                      <a:lnTo>
                        <a:pt x="1370" y="1324"/>
                      </a:lnTo>
                      <a:lnTo>
                        <a:pt x="1370" y="1341"/>
                      </a:lnTo>
                      <a:lnTo>
                        <a:pt x="1370" y="1372"/>
                      </a:lnTo>
                      <a:lnTo>
                        <a:pt x="1384" y="1372"/>
                      </a:lnTo>
                      <a:lnTo>
                        <a:pt x="1384" y="1388"/>
                      </a:lnTo>
                      <a:lnTo>
                        <a:pt x="1413" y="1388"/>
                      </a:lnTo>
                      <a:lnTo>
                        <a:pt x="1427" y="1403"/>
                      </a:lnTo>
                      <a:lnTo>
                        <a:pt x="1441" y="1435"/>
                      </a:lnTo>
                      <a:lnTo>
                        <a:pt x="1441" y="1451"/>
                      </a:lnTo>
                      <a:lnTo>
                        <a:pt x="1427" y="1466"/>
                      </a:lnTo>
                      <a:lnTo>
                        <a:pt x="1427" y="1482"/>
                      </a:lnTo>
                      <a:lnTo>
                        <a:pt x="1413" y="1498"/>
                      </a:lnTo>
                      <a:lnTo>
                        <a:pt x="1413" y="1513"/>
                      </a:lnTo>
                      <a:lnTo>
                        <a:pt x="1399" y="1513"/>
                      </a:lnTo>
                      <a:lnTo>
                        <a:pt x="1384" y="1530"/>
                      </a:lnTo>
                      <a:lnTo>
                        <a:pt x="1370" y="1545"/>
                      </a:lnTo>
                      <a:lnTo>
                        <a:pt x="1357" y="1545"/>
                      </a:lnTo>
                      <a:lnTo>
                        <a:pt x="1343" y="1561"/>
                      </a:lnTo>
                      <a:lnTo>
                        <a:pt x="1315" y="1577"/>
                      </a:lnTo>
                      <a:lnTo>
                        <a:pt x="1301" y="1592"/>
                      </a:lnTo>
                      <a:lnTo>
                        <a:pt x="1287" y="1592"/>
                      </a:lnTo>
                      <a:lnTo>
                        <a:pt x="1287" y="1609"/>
                      </a:lnTo>
                      <a:lnTo>
                        <a:pt x="1287" y="1624"/>
                      </a:lnTo>
                      <a:lnTo>
                        <a:pt x="1274" y="1624"/>
                      </a:lnTo>
                      <a:lnTo>
                        <a:pt x="1260" y="1624"/>
                      </a:lnTo>
                      <a:lnTo>
                        <a:pt x="1246" y="1639"/>
                      </a:lnTo>
                      <a:lnTo>
                        <a:pt x="1232" y="1639"/>
                      </a:lnTo>
                      <a:lnTo>
                        <a:pt x="1232" y="1656"/>
                      </a:lnTo>
                      <a:lnTo>
                        <a:pt x="1218" y="1656"/>
                      </a:lnTo>
                      <a:lnTo>
                        <a:pt x="1204" y="1656"/>
                      </a:lnTo>
                      <a:lnTo>
                        <a:pt x="1191" y="1671"/>
                      </a:lnTo>
                      <a:lnTo>
                        <a:pt x="1163" y="1671"/>
                      </a:lnTo>
                      <a:lnTo>
                        <a:pt x="1149" y="1688"/>
                      </a:lnTo>
                      <a:lnTo>
                        <a:pt x="1121" y="1688"/>
                      </a:lnTo>
                      <a:lnTo>
                        <a:pt x="1108" y="1671"/>
                      </a:lnTo>
                      <a:lnTo>
                        <a:pt x="1108" y="1639"/>
                      </a:lnTo>
                      <a:lnTo>
                        <a:pt x="1108" y="1592"/>
                      </a:lnTo>
                      <a:lnTo>
                        <a:pt x="1094" y="1561"/>
                      </a:lnTo>
                      <a:lnTo>
                        <a:pt x="1080" y="1545"/>
                      </a:lnTo>
                      <a:lnTo>
                        <a:pt x="1066" y="1530"/>
                      </a:lnTo>
                      <a:lnTo>
                        <a:pt x="1066" y="1513"/>
                      </a:lnTo>
                      <a:lnTo>
                        <a:pt x="1052" y="1498"/>
                      </a:lnTo>
                      <a:lnTo>
                        <a:pt x="1038" y="1482"/>
                      </a:lnTo>
                      <a:lnTo>
                        <a:pt x="1025" y="1466"/>
                      </a:lnTo>
                      <a:lnTo>
                        <a:pt x="1025" y="1451"/>
                      </a:lnTo>
                      <a:lnTo>
                        <a:pt x="1011" y="1451"/>
                      </a:lnTo>
                      <a:lnTo>
                        <a:pt x="1011" y="1435"/>
                      </a:lnTo>
                      <a:lnTo>
                        <a:pt x="997" y="1419"/>
                      </a:lnTo>
                      <a:lnTo>
                        <a:pt x="983" y="1388"/>
                      </a:lnTo>
                      <a:lnTo>
                        <a:pt x="983" y="1372"/>
                      </a:lnTo>
                      <a:lnTo>
                        <a:pt x="969" y="1356"/>
                      </a:lnTo>
                      <a:lnTo>
                        <a:pt x="969" y="1341"/>
                      </a:lnTo>
                      <a:lnTo>
                        <a:pt x="955" y="1324"/>
                      </a:lnTo>
                      <a:lnTo>
                        <a:pt x="942" y="1293"/>
                      </a:lnTo>
                      <a:lnTo>
                        <a:pt x="928" y="1262"/>
                      </a:lnTo>
                      <a:lnTo>
                        <a:pt x="914" y="1262"/>
                      </a:lnTo>
                      <a:lnTo>
                        <a:pt x="914" y="1277"/>
                      </a:lnTo>
                      <a:lnTo>
                        <a:pt x="900" y="1277"/>
                      </a:lnTo>
                      <a:lnTo>
                        <a:pt x="886" y="1262"/>
                      </a:lnTo>
                      <a:lnTo>
                        <a:pt x="872" y="1245"/>
                      </a:lnTo>
                      <a:lnTo>
                        <a:pt x="859" y="1230"/>
                      </a:lnTo>
                      <a:lnTo>
                        <a:pt x="859" y="1215"/>
                      </a:lnTo>
                      <a:lnTo>
                        <a:pt x="845" y="1183"/>
                      </a:lnTo>
                      <a:lnTo>
                        <a:pt x="845" y="1166"/>
                      </a:lnTo>
                      <a:lnTo>
                        <a:pt x="859" y="1151"/>
                      </a:lnTo>
                      <a:lnTo>
                        <a:pt x="886" y="1151"/>
                      </a:lnTo>
                      <a:lnTo>
                        <a:pt x="914" y="1136"/>
                      </a:lnTo>
                      <a:lnTo>
                        <a:pt x="928" y="1104"/>
                      </a:lnTo>
                      <a:lnTo>
                        <a:pt x="914" y="1057"/>
                      </a:lnTo>
                      <a:lnTo>
                        <a:pt x="900" y="1040"/>
                      </a:lnTo>
                      <a:lnTo>
                        <a:pt x="886" y="1040"/>
                      </a:lnTo>
                      <a:lnTo>
                        <a:pt x="872" y="1040"/>
                      </a:lnTo>
                      <a:lnTo>
                        <a:pt x="859" y="1057"/>
                      </a:lnTo>
                      <a:lnTo>
                        <a:pt x="845" y="1040"/>
                      </a:lnTo>
                      <a:lnTo>
                        <a:pt x="831" y="1040"/>
                      </a:lnTo>
                      <a:lnTo>
                        <a:pt x="817" y="1008"/>
                      </a:lnTo>
                      <a:lnTo>
                        <a:pt x="817" y="1040"/>
                      </a:lnTo>
                      <a:lnTo>
                        <a:pt x="803" y="1040"/>
                      </a:lnTo>
                      <a:lnTo>
                        <a:pt x="789" y="1057"/>
                      </a:lnTo>
                      <a:lnTo>
                        <a:pt x="776" y="1040"/>
                      </a:lnTo>
                      <a:lnTo>
                        <a:pt x="762" y="1040"/>
                      </a:lnTo>
                      <a:lnTo>
                        <a:pt x="748" y="1040"/>
                      </a:lnTo>
                      <a:lnTo>
                        <a:pt x="748" y="1008"/>
                      </a:lnTo>
                      <a:lnTo>
                        <a:pt x="762" y="1008"/>
                      </a:lnTo>
                      <a:lnTo>
                        <a:pt x="748" y="993"/>
                      </a:lnTo>
                      <a:lnTo>
                        <a:pt x="734" y="993"/>
                      </a:lnTo>
                      <a:lnTo>
                        <a:pt x="720" y="978"/>
                      </a:lnTo>
                      <a:lnTo>
                        <a:pt x="734" y="978"/>
                      </a:lnTo>
                      <a:lnTo>
                        <a:pt x="734" y="961"/>
                      </a:lnTo>
                      <a:lnTo>
                        <a:pt x="720" y="946"/>
                      </a:lnTo>
                      <a:lnTo>
                        <a:pt x="720" y="930"/>
                      </a:lnTo>
                      <a:lnTo>
                        <a:pt x="720" y="914"/>
                      </a:lnTo>
                      <a:lnTo>
                        <a:pt x="748" y="899"/>
                      </a:lnTo>
                      <a:lnTo>
                        <a:pt x="776" y="899"/>
                      </a:lnTo>
                      <a:lnTo>
                        <a:pt x="789" y="899"/>
                      </a:lnTo>
                      <a:lnTo>
                        <a:pt x="803" y="899"/>
                      </a:lnTo>
                      <a:lnTo>
                        <a:pt x="817" y="899"/>
                      </a:lnTo>
                      <a:lnTo>
                        <a:pt x="859" y="883"/>
                      </a:lnTo>
                      <a:lnTo>
                        <a:pt x="914" y="883"/>
                      </a:lnTo>
                      <a:lnTo>
                        <a:pt x="955" y="899"/>
                      </a:lnTo>
                      <a:lnTo>
                        <a:pt x="969" y="899"/>
                      </a:lnTo>
                      <a:lnTo>
                        <a:pt x="983" y="899"/>
                      </a:lnTo>
                      <a:lnTo>
                        <a:pt x="997" y="899"/>
                      </a:lnTo>
                      <a:lnTo>
                        <a:pt x="1011" y="883"/>
                      </a:lnTo>
                      <a:lnTo>
                        <a:pt x="997" y="867"/>
                      </a:lnTo>
                      <a:lnTo>
                        <a:pt x="969" y="835"/>
                      </a:lnTo>
                      <a:lnTo>
                        <a:pt x="942" y="820"/>
                      </a:lnTo>
                      <a:lnTo>
                        <a:pt x="928" y="804"/>
                      </a:lnTo>
                      <a:lnTo>
                        <a:pt x="914" y="804"/>
                      </a:lnTo>
                      <a:lnTo>
                        <a:pt x="900" y="788"/>
                      </a:lnTo>
                      <a:lnTo>
                        <a:pt x="900" y="772"/>
                      </a:lnTo>
                      <a:lnTo>
                        <a:pt x="914" y="772"/>
                      </a:lnTo>
                      <a:lnTo>
                        <a:pt x="928" y="772"/>
                      </a:lnTo>
                      <a:lnTo>
                        <a:pt x="928" y="757"/>
                      </a:lnTo>
                      <a:lnTo>
                        <a:pt x="914" y="757"/>
                      </a:lnTo>
                      <a:lnTo>
                        <a:pt x="914" y="741"/>
                      </a:lnTo>
                      <a:lnTo>
                        <a:pt x="928" y="741"/>
                      </a:lnTo>
                      <a:lnTo>
                        <a:pt x="942" y="741"/>
                      </a:lnTo>
                      <a:lnTo>
                        <a:pt x="942" y="725"/>
                      </a:lnTo>
                      <a:lnTo>
                        <a:pt x="928" y="741"/>
                      </a:lnTo>
                      <a:lnTo>
                        <a:pt x="900" y="741"/>
                      </a:lnTo>
                      <a:lnTo>
                        <a:pt x="872" y="741"/>
                      </a:lnTo>
                      <a:lnTo>
                        <a:pt x="859" y="757"/>
                      </a:lnTo>
                      <a:lnTo>
                        <a:pt x="872" y="772"/>
                      </a:lnTo>
                      <a:lnTo>
                        <a:pt x="886" y="772"/>
                      </a:lnTo>
                      <a:lnTo>
                        <a:pt x="900" y="788"/>
                      </a:lnTo>
                      <a:lnTo>
                        <a:pt x="872" y="804"/>
                      </a:lnTo>
                      <a:lnTo>
                        <a:pt x="845" y="804"/>
                      </a:lnTo>
                      <a:lnTo>
                        <a:pt x="817" y="788"/>
                      </a:lnTo>
                      <a:lnTo>
                        <a:pt x="831" y="772"/>
                      </a:lnTo>
                      <a:lnTo>
                        <a:pt x="845" y="772"/>
                      </a:lnTo>
                      <a:lnTo>
                        <a:pt x="817" y="757"/>
                      </a:lnTo>
                      <a:lnTo>
                        <a:pt x="803" y="757"/>
                      </a:lnTo>
                      <a:lnTo>
                        <a:pt x="803" y="725"/>
                      </a:lnTo>
                      <a:lnTo>
                        <a:pt x="803" y="741"/>
                      </a:lnTo>
                      <a:lnTo>
                        <a:pt x="789" y="772"/>
                      </a:lnTo>
                      <a:lnTo>
                        <a:pt x="776" y="772"/>
                      </a:lnTo>
                      <a:lnTo>
                        <a:pt x="762" y="788"/>
                      </a:lnTo>
                      <a:lnTo>
                        <a:pt x="762" y="820"/>
                      </a:lnTo>
                      <a:lnTo>
                        <a:pt x="748" y="867"/>
                      </a:lnTo>
                      <a:lnTo>
                        <a:pt x="734" y="899"/>
                      </a:lnTo>
                      <a:lnTo>
                        <a:pt x="706" y="930"/>
                      </a:lnTo>
                      <a:lnTo>
                        <a:pt x="679" y="930"/>
                      </a:lnTo>
                      <a:lnTo>
                        <a:pt x="651" y="961"/>
                      </a:lnTo>
                      <a:lnTo>
                        <a:pt x="665" y="961"/>
                      </a:lnTo>
                      <a:lnTo>
                        <a:pt x="679" y="978"/>
                      </a:lnTo>
                      <a:lnTo>
                        <a:pt x="665" y="993"/>
                      </a:lnTo>
                      <a:lnTo>
                        <a:pt x="651" y="993"/>
                      </a:lnTo>
                      <a:lnTo>
                        <a:pt x="651" y="1008"/>
                      </a:lnTo>
                      <a:lnTo>
                        <a:pt x="665" y="1008"/>
                      </a:lnTo>
                      <a:lnTo>
                        <a:pt x="665" y="1040"/>
                      </a:lnTo>
                      <a:lnTo>
                        <a:pt x="651" y="1008"/>
                      </a:lnTo>
                      <a:lnTo>
                        <a:pt x="637" y="1008"/>
                      </a:lnTo>
                      <a:lnTo>
                        <a:pt x="623" y="993"/>
                      </a:lnTo>
                      <a:lnTo>
                        <a:pt x="623" y="978"/>
                      </a:lnTo>
                      <a:lnTo>
                        <a:pt x="637" y="978"/>
                      </a:lnTo>
                      <a:lnTo>
                        <a:pt x="623" y="961"/>
                      </a:lnTo>
                      <a:lnTo>
                        <a:pt x="610" y="946"/>
                      </a:lnTo>
                      <a:lnTo>
                        <a:pt x="594" y="930"/>
                      </a:lnTo>
                      <a:lnTo>
                        <a:pt x="581" y="914"/>
                      </a:lnTo>
                      <a:lnTo>
                        <a:pt x="581" y="883"/>
                      </a:lnTo>
                      <a:lnTo>
                        <a:pt x="567" y="867"/>
                      </a:lnTo>
                      <a:lnTo>
                        <a:pt x="553" y="851"/>
                      </a:lnTo>
                      <a:lnTo>
                        <a:pt x="539" y="851"/>
                      </a:lnTo>
                      <a:lnTo>
                        <a:pt x="525" y="851"/>
                      </a:lnTo>
                      <a:lnTo>
                        <a:pt x="525" y="835"/>
                      </a:lnTo>
                      <a:lnTo>
                        <a:pt x="511" y="835"/>
                      </a:lnTo>
                      <a:lnTo>
                        <a:pt x="484" y="804"/>
                      </a:lnTo>
                      <a:lnTo>
                        <a:pt x="470" y="772"/>
                      </a:lnTo>
                      <a:lnTo>
                        <a:pt x="456" y="772"/>
                      </a:lnTo>
                      <a:lnTo>
                        <a:pt x="442" y="804"/>
                      </a:lnTo>
                      <a:lnTo>
                        <a:pt x="442" y="820"/>
                      </a:lnTo>
                      <a:lnTo>
                        <a:pt x="470" y="835"/>
                      </a:lnTo>
                      <a:lnTo>
                        <a:pt x="470" y="851"/>
                      </a:lnTo>
                      <a:lnTo>
                        <a:pt x="470" y="867"/>
                      </a:lnTo>
                      <a:lnTo>
                        <a:pt x="484" y="867"/>
                      </a:lnTo>
                      <a:lnTo>
                        <a:pt x="498" y="867"/>
                      </a:lnTo>
                      <a:lnTo>
                        <a:pt x="511" y="867"/>
                      </a:lnTo>
                      <a:lnTo>
                        <a:pt x="511" y="883"/>
                      </a:lnTo>
                      <a:lnTo>
                        <a:pt x="525" y="883"/>
                      </a:lnTo>
                      <a:lnTo>
                        <a:pt x="539" y="899"/>
                      </a:lnTo>
                      <a:lnTo>
                        <a:pt x="553" y="914"/>
                      </a:lnTo>
                      <a:lnTo>
                        <a:pt x="567" y="930"/>
                      </a:lnTo>
                      <a:lnTo>
                        <a:pt x="567" y="946"/>
                      </a:lnTo>
                      <a:lnTo>
                        <a:pt x="553" y="978"/>
                      </a:lnTo>
                      <a:lnTo>
                        <a:pt x="525" y="978"/>
                      </a:lnTo>
                      <a:lnTo>
                        <a:pt x="511" y="978"/>
                      </a:lnTo>
                      <a:lnTo>
                        <a:pt x="511" y="946"/>
                      </a:lnTo>
                      <a:lnTo>
                        <a:pt x="511" y="930"/>
                      </a:lnTo>
                      <a:lnTo>
                        <a:pt x="498" y="914"/>
                      </a:lnTo>
                      <a:lnTo>
                        <a:pt x="484" y="899"/>
                      </a:lnTo>
                      <a:lnTo>
                        <a:pt x="470" y="899"/>
                      </a:lnTo>
                      <a:lnTo>
                        <a:pt x="456" y="899"/>
                      </a:lnTo>
                      <a:lnTo>
                        <a:pt x="442" y="883"/>
                      </a:lnTo>
                      <a:lnTo>
                        <a:pt x="428" y="867"/>
                      </a:lnTo>
                      <a:lnTo>
                        <a:pt x="415" y="867"/>
                      </a:lnTo>
                      <a:lnTo>
                        <a:pt x="415" y="851"/>
                      </a:lnTo>
                      <a:lnTo>
                        <a:pt x="401" y="835"/>
                      </a:lnTo>
                      <a:lnTo>
                        <a:pt x="401" y="820"/>
                      </a:lnTo>
                      <a:lnTo>
                        <a:pt x="359" y="804"/>
                      </a:lnTo>
                      <a:lnTo>
                        <a:pt x="332" y="820"/>
                      </a:lnTo>
                      <a:lnTo>
                        <a:pt x="332" y="835"/>
                      </a:lnTo>
                      <a:lnTo>
                        <a:pt x="304" y="851"/>
                      </a:lnTo>
                      <a:lnTo>
                        <a:pt x="290" y="835"/>
                      </a:lnTo>
                      <a:lnTo>
                        <a:pt x="276" y="835"/>
                      </a:lnTo>
                      <a:lnTo>
                        <a:pt x="262" y="835"/>
                      </a:lnTo>
                      <a:lnTo>
                        <a:pt x="249" y="851"/>
                      </a:lnTo>
                      <a:lnTo>
                        <a:pt x="249" y="867"/>
                      </a:lnTo>
                      <a:lnTo>
                        <a:pt x="249" y="883"/>
                      </a:lnTo>
                      <a:lnTo>
                        <a:pt x="235" y="883"/>
                      </a:lnTo>
                      <a:lnTo>
                        <a:pt x="235" y="899"/>
                      </a:lnTo>
                      <a:lnTo>
                        <a:pt x="221" y="899"/>
                      </a:lnTo>
                      <a:lnTo>
                        <a:pt x="207" y="914"/>
                      </a:lnTo>
                      <a:lnTo>
                        <a:pt x="193" y="930"/>
                      </a:lnTo>
                      <a:lnTo>
                        <a:pt x="193" y="946"/>
                      </a:lnTo>
                      <a:lnTo>
                        <a:pt x="193" y="961"/>
                      </a:lnTo>
                      <a:lnTo>
                        <a:pt x="179" y="978"/>
                      </a:lnTo>
                      <a:lnTo>
                        <a:pt x="166" y="993"/>
                      </a:lnTo>
                      <a:lnTo>
                        <a:pt x="152" y="1008"/>
                      </a:lnTo>
                      <a:lnTo>
                        <a:pt x="138" y="1040"/>
                      </a:lnTo>
                      <a:lnTo>
                        <a:pt x="124" y="1008"/>
                      </a:lnTo>
                      <a:lnTo>
                        <a:pt x="96" y="1008"/>
                      </a:lnTo>
                      <a:lnTo>
                        <a:pt x="96" y="1040"/>
                      </a:lnTo>
                      <a:lnTo>
                        <a:pt x="83" y="1040"/>
                      </a:lnTo>
                      <a:lnTo>
                        <a:pt x="55" y="1057"/>
                      </a:lnTo>
                      <a:lnTo>
                        <a:pt x="41" y="1040"/>
                      </a:lnTo>
                      <a:lnTo>
                        <a:pt x="14" y="1008"/>
                      </a:lnTo>
                      <a:lnTo>
                        <a:pt x="0" y="993"/>
                      </a:lnTo>
                      <a:lnTo>
                        <a:pt x="0" y="978"/>
                      </a:lnTo>
                      <a:lnTo>
                        <a:pt x="0" y="961"/>
                      </a:lnTo>
                      <a:lnTo>
                        <a:pt x="14" y="946"/>
                      </a:lnTo>
                      <a:lnTo>
                        <a:pt x="14" y="930"/>
                      </a:lnTo>
                      <a:lnTo>
                        <a:pt x="27" y="914"/>
                      </a:lnTo>
                      <a:lnTo>
                        <a:pt x="27" y="883"/>
                      </a:lnTo>
                      <a:lnTo>
                        <a:pt x="14" y="851"/>
                      </a:lnTo>
                      <a:lnTo>
                        <a:pt x="41" y="820"/>
                      </a:lnTo>
                      <a:lnTo>
                        <a:pt x="55" y="835"/>
                      </a:lnTo>
                      <a:lnTo>
                        <a:pt x="96" y="835"/>
                      </a:lnTo>
                      <a:lnTo>
                        <a:pt x="138" y="820"/>
                      </a:lnTo>
                      <a:lnTo>
                        <a:pt x="166" y="804"/>
                      </a:lnTo>
                      <a:lnTo>
                        <a:pt x="179" y="772"/>
                      </a:lnTo>
                      <a:lnTo>
                        <a:pt x="166" y="757"/>
                      </a:lnTo>
                      <a:lnTo>
                        <a:pt x="138" y="725"/>
                      </a:lnTo>
                      <a:lnTo>
                        <a:pt x="110" y="710"/>
                      </a:lnTo>
                      <a:lnTo>
                        <a:pt x="96" y="693"/>
                      </a:lnTo>
                      <a:lnTo>
                        <a:pt x="110" y="693"/>
                      </a:lnTo>
                      <a:lnTo>
                        <a:pt x="124" y="693"/>
                      </a:lnTo>
                      <a:lnTo>
                        <a:pt x="138" y="678"/>
                      </a:lnTo>
                      <a:lnTo>
                        <a:pt x="152" y="678"/>
                      </a:lnTo>
                      <a:lnTo>
                        <a:pt x="152" y="662"/>
                      </a:lnTo>
                      <a:lnTo>
                        <a:pt x="166" y="662"/>
                      </a:lnTo>
                      <a:lnTo>
                        <a:pt x="179" y="678"/>
                      </a:lnTo>
                      <a:lnTo>
                        <a:pt x="193" y="678"/>
                      </a:lnTo>
                      <a:lnTo>
                        <a:pt x="207" y="662"/>
                      </a:lnTo>
                      <a:lnTo>
                        <a:pt x="221" y="646"/>
                      </a:lnTo>
                      <a:lnTo>
                        <a:pt x="235" y="631"/>
                      </a:lnTo>
                      <a:lnTo>
                        <a:pt x="249" y="631"/>
                      </a:lnTo>
                      <a:lnTo>
                        <a:pt x="262" y="614"/>
                      </a:lnTo>
                      <a:lnTo>
                        <a:pt x="262" y="599"/>
                      </a:lnTo>
                      <a:lnTo>
                        <a:pt x="276" y="584"/>
                      </a:lnTo>
                      <a:lnTo>
                        <a:pt x="290" y="584"/>
                      </a:lnTo>
                      <a:lnTo>
                        <a:pt x="304" y="584"/>
                      </a:lnTo>
                      <a:lnTo>
                        <a:pt x="318" y="567"/>
                      </a:lnTo>
                      <a:lnTo>
                        <a:pt x="359" y="552"/>
                      </a:lnTo>
                      <a:lnTo>
                        <a:pt x="359" y="535"/>
                      </a:lnTo>
                      <a:lnTo>
                        <a:pt x="332" y="520"/>
                      </a:lnTo>
                      <a:lnTo>
                        <a:pt x="332" y="505"/>
                      </a:lnTo>
                      <a:lnTo>
                        <a:pt x="332" y="488"/>
                      </a:lnTo>
                      <a:lnTo>
                        <a:pt x="359" y="488"/>
                      </a:lnTo>
                      <a:lnTo>
                        <a:pt x="359" y="473"/>
                      </a:lnTo>
                      <a:lnTo>
                        <a:pt x="373" y="473"/>
                      </a:lnTo>
                      <a:lnTo>
                        <a:pt x="387" y="456"/>
                      </a:lnTo>
                      <a:lnTo>
                        <a:pt x="387" y="473"/>
                      </a:lnTo>
                      <a:lnTo>
                        <a:pt x="373" y="473"/>
                      </a:lnTo>
                      <a:lnTo>
                        <a:pt x="373" y="505"/>
                      </a:lnTo>
                      <a:lnTo>
                        <a:pt x="373" y="535"/>
                      </a:lnTo>
                      <a:lnTo>
                        <a:pt x="401" y="552"/>
                      </a:lnTo>
                      <a:lnTo>
                        <a:pt x="415" y="552"/>
                      </a:lnTo>
                      <a:lnTo>
                        <a:pt x="428" y="552"/>
                      </a:lnTo>
                      <a:lnTo>
                        <a:pt x="442" y="552"/>
                      </a:lnTo>
                      <a:lnTo>
                        <a:pt x="456" y="567"/>
                      </a:lnTo>
                      <a:lnTo>
                        <a:pt x="456" y="552"/>
                      </a:lnTo>
                      <a:lnTo>
                        <a:pt x="470" y="552"/>
                      </a:lnTo>
                      <a:lnTo>
                        <a:pt x="484" y="552"/>
                      </a:lnTo>
                      <a:lnTo>
                        <a:pt x="498" y="552"/>
                      </a:lnTo>
                      <a:lnTo>
                        <a:pt x="511" y="535"/>
                      </a:lnTo>
                      <a:lnTo>
                        <a:pt x="525" y="535"/>
                      </a:lnTo>
                      <a:lnTo>
                        <a:pt x="539" y="520"/>
                      </a:lnTo>
                      <a:lnTo>
                        <a:pt x="553" y="488"/>
                      </a:lnTo>
                      <a:lnTo>
                        <a:pt x="581" y="473"/>
                      </a:lnTo>
                      <a:lnTo>
                        <a:pt x="594" y="473"/>
                      </a:lnTo>
                      <a:lnTo>
                        <a:pt x="610" y="473"/>
                      </a:lnTo>
                      <a:lnTo>
                        <a:pt x="623" y="473"/>
                      </a:lnTo>
                      <a:lnTo>
                        <a:pt x="623" y="456"/>
                      </a:lnTo>
                      <a:lnTo>
                        <a:pt x="610" y="441"/>
                      </a:lnTo>
                      <a:lnTo>
                        <a:pt x="610" y="426"/>
                      </a:lnTo>
                      <a:lnTo>
                        <a:pt x="610" y="409"/>
                      </a:lnTo>
                      <a:lnTo>
                        <a:pt x="623" y="409"/>
                      </a:lnTo>
                      <a:lnTo>
                        <a:pt x="637" y="409"/>
                      </a:lnTo>
                      <a:lnTo>
                        <a:pt x="651" y="409"/>
                      </a:lnTo>
                      <a:lnTo>
                        <a:pt x="665" y="394"/>
                      </a:lnTo>
                      <a:lnTo>
                        <a:pt x="679" y="394"/>
                      </a:lnTo>
                      <a:lnTo>
                        <a:pt x="665" y="377"/>
                      </a:lnTo>
                      <a:lnTo>
                        <a:pt x="665" y="394"/>
                      </a:lnTo>
                      <a:lnTo>
                        <a:pt x="651" y="394"/>
                      </a:lnTo>
                      <a:lnTo>
                        <a:pt x="623" y="394"/>
                      </a:lnTo>
                      <a:lnTo>
                        <a:pt x="594" y="409"/>
                      </a:lnTo>
                      <a:lnTo>
                        <a:pt x="567" y="394"/>
                      </a:lnTo>
                      <a:lnTo>
                        <a:pt x="553" y="362"/>
                      </a:lnTo>
                      <a:lnTo>
                        <a:pt x="553" y="330"/>
                      </a:lnTo>
                      <a:lnTo>
                        <a:pt x="581" y="315"/>
                      </a:lnTo>
                      <a:lnTo>
                        <a:pt x="594" y="299"/>
                      </a:lnTo>
                      <a:lnTo>
                        <a:pt x="610" y="283"/>
                      </a:lnTo>
                      <a:lnTo>
                        <a:pt x="610" y="268"/>
                      </a:lnTo>
                      <a:lnTo>
                        <a:pt x="581" y="252"/>
                      </a:lnTo>
                      <a:lnTo>
                        <a:pt x="567" y="252"/>
                      </a:lnTo>
                      <a:lnTo>
                        <a:pt x="553" y="268"/>
                      </a:lnTo>
                      <a:lnTo>
                        <a:pt x="553" y="283"/>
                      </a:lnTo>
                      <a:lnTo>
                        <a:pt x="539" y="315"/>
                      </a:lnTo>
                      <a:lnTo>
                        <a:pt x="525" y="315"/>
                      </a:lnTo>
                      <a:lnTo>
                        <a:pt x="511" y="330"/>
                      </a:lnTo>
                      <a:lnTo>
                        <a:pt x="498" y="330"/>
                      </a:lnTo>
                      <a:lnTo>
                        <a:pt x="484" y="347"/>
                      </a:lnTo>
                      <a:lnTo>
                        <a:pt x="498" y="362"/>
                      </a:lnTo>
                      <a:lnTo>
                        <a:pt x="511" y="377"/>
                      </a:lnTo>
                      <a:lnTo>
                        <a:pt x="525" y="394"/>
                      </a:lnTo>
                      <a:lnTo>
                        <a:pt x="525" y="409"/>
                      </a:lnTo>
                      <a:lnTo>
                        <a:pt x="511" y="409"/>
                      </a:lnTo>
                      <a:lnTo>
                        <a:pt x="498" y="409"/>
                      </a:lnTo>
                      <a:lnTo>
                        <a:pt x="470" y="409"/>
                      </a:lnTo>
                      <a:lnTo>
                        <a:pt x="470" y="426"/>
                      </a:lnTo>
                      <a:lnTo>
                        <a:pt x="484" y="441"/>
                      </a:lnTo>
                      <a:lnTo>
                        <a:pt x="498" y="441"/>
                      </a:lnTo>
                      <a:lnTo>
                        <a:pt x="484" y="473"/>
                      </a:lnTo>
                      <a:lnTo>
                        <a:pt x="456" y="505"/>
                      </a:lnTo>
                      <a:lnTo>
                        <a:pt x="442" y="520"/>
                      </a:lnTo>
                      <a:lnTo>
                        <a:pt x="428" y="520"/>
                      </a:lnTo>
                      <a:lnTo>
                        <a:pt x="428" y="505"/>
                      </a:lnTo>
                      <a:lnTo>
                        <a:pt x="428" y="488"/>
                      </a:lnTo>
                      <a:lnTo>
                        <a:pt x="415" y="473"/>
                      </a:lnTo>
                      <a:lnTo>
                        <a:pt x="401" y="456"/>
                      </a:lnTo>
                      <a:lnTo>
                        <a:pt x="401" y="441"/>
                      </a:lnTo>
                      <a:lnTo>
                        <a:pt x="401" y="409"/>
                      </a:lnTo>
                      <a:lnTo>
                        <a:pt x="387" y="409"/>
                      </a:lnTo>
                      <a:lnTo>
                        <a:pt x="359" y="426"/>
                      </a:lnTo>
                      <a:lnTo>
                        <a:pt x="332" y="441"/>
                      </a:lnTo>
                      <a:lnTo>
                        <a:pt x="304" y="456"/>
                      </a:lnTo>
                      <a:lnTo>
                        <a:pt x="290" y="441"/>
                      </a:lnTo>
                      <a:lnTo>
                        <a:pt x="276" y="426"/>
                      </a:lnTo>
                      <a:lnTo>
                        <a:pt x="276" y="409"/>
                      </a:lnTo>
                      <a:lnTo>
                        <a:pt x="290" y="409"/>
                      </a:lnTo>
                      <a:lnTo>
                        <a:pt x="304" y="394"/>
                      </a:lnTo>
                      <a:lnTo>
                        <a:pt x="304" y="377"/>
                      </a:lnTo>
                      <a:lnTo>
                        <a:pt x="290" y="394"/>
                      </a:lnTo>
                      <a:lnTo>
                        <a:pt x="276" y="377"/>
                      </a:lnTo>
                      <a:lnTo>
                        <a:pt x="290" y="362"/>
                      </a:lnTo>
                      <a:lnTo>
                        <a:pt x="304" y="362"/>
                      </a:lnTo>
                      <a:lnTo>
                        <a:pt x="290" y="347"/>
                      </a:lnTo>
                      <a:lnTo>
                        <a:pt x="276" y="347"/>
                      </a:lnTo>
                      <a:lnTo>
                        <a:pt x="276" y="330"/>
                      </a:lnTo>
                      <a:lnTo>
                        <a:pt x="290" y="330"/>
                      </a:lnTo>
                      <a:lnTo>
                        <a:pt x="304" y="330"/>
                      </a:lnTo>
                      <a:lnTo>
                        <a:pt x="318" y="330"/>
                      </a:lnTo>
                      <a:lnTo>
                        <a:pt x="332" y="347"/>
                      </a:lnTo>
                      <a:lnTo>
                        <a:pt x="373" y="347"/>
                      </a:lnTo>
                      <a:lnTo>
                        <a:pt x="387" y="315"/>
                      </a:lnTo>
                      <a:lnTo>
                        <a:pt x="387" y="299"/>
                      </a:lnTo>
                      <a:lnTo>
                        <a:pt x="373" y="315"/>
                      </a:lnTo>
                      <a:lnTo>
                        <a:pt x="359" y="315"/>
                      </a:lnTo>
                      <a:lnTo>
                        <a:pt x="359" y="299"/>
                      </a:lnTo>
                      <a:lnTo>
                        <a:pt x="373" y="299"/>
                      </a:lnTo>
                      <a:lnTo>
                        <a:pt x="387" y="283"/>
                      </a:lnTo>
                      <a:lnTo>
                        <a:pt x="401" y="268"/>
                      </a:lnTo>
                      <a:lnTo>
                        <a:pt x="415" y="252"/>
                      </a:lnTo>
                      <a:lnTo>
                        <a:pt x="415" y="236"/>
                      </a:lnTo>
                      <a:lnTo>
                        <a:pt x="428" y="220"/>
                      </a:lnTo>
                      <a:lnTo>
                        <a:pt x="442" y="220"/>
                      </a:lnTo>
                      <a:lnTo>
                        <a:pt x="456" y="205"/>
                      </a:lnTo>
                      <a:lnTo>
                        <a:pt x="470" y="189"/>
                      </a:lnTo>
                      <a:lnTo>
                        <a:pt x="470" y="173"/>
                      </a:lnTo>
                      <a:lnTo>
                        <a:pt x="484" y="173"/>
                      </a:lnTo>
                      <a:lnTo>
                        <a:pt x="498" y="173"/>
                      </a:lnTo>
                      <a:lnTo>
                        <a:pt x="511" y="173"/>
                      </a:lnTo>
                      <a:lnTo>
                        <a:pt x="498" y="173"/>
                      </a:lnTo>
                      <a:lnTo>
                        <a:pt x="511" y="173"/>
                      </a:lnTo>
                      <a:lnTo>
                        <a:pt x="525" y="173"/>
                      </a:lnTo>
                      <a:lnTo>
                        <a:pt x="525" y="157"/>
                      </a:lnTo>
                      <a:lnTo>
                        <a:pt x="553" y="157"/>
                      </a:lnTo>
                      <a:lnTo>
                        <a:pt x="581" y="141"/>
                      </a:lnTo>
                      <a:lnTo>
                        <a:pt x="623" y="141"/>
                      </a:lnTo>
                      <a:lnTo>
                        <a:pt x="637" y="141"/>
                      </a:lnTo>
                      <a:lnTo>
                        <a:pt x="665" y="141"/>
                      </a:lnTo>
                      <a:lnTo>
                        <a:pt x="679" y="157"/>
                      </a:lnTo>
                      <a:lnTo>
                        <a:pt x="679" y="173"/>
                      </a:lnTo>
                      <a:lnTo>
                        <a:pt x="720" y="189"/>
                      </a:lnTo>
                      <a:lnTo>
                        <a:pt x="762" y="189"/>
                      </a:lnTo>
                      <a:lnTo>
                        <a:pt x="817" y="205"/>
                      </a:lnTo>
                      <a:lnTo>
                        <a:pt x="845" y="220"/>
                      </a:lnTo>
                      <a:lnTo>
                        <a:pt x="859" y="220"/>
                      </a:lnTo>
                      <a:lnTo>
                        <a:pt x="831" y="252"/>
                      </a:lnTo>
                      <a:lnTo>
                        <a:pt x="803" y="252"/>
                      </a:lnTo>
                      <a:lnTo>
                        <a:pt x="776" y="252"/>
                      </a:lnTo>
                      <a:lnTo>
                        <a:pt x="748" y="236"/>
                      </a:lnTo>
                      <a:lnTo>
                        <a:pt x="706" y="220"/>
                      </a:lnTo>
                      <a:lnTo>
                        <a:pt x="706" y="236"/>
                      </a:lnTo>
                      <a:lnTo>
                        <a:pt x="734" y="236"/>
                      </a:lnTo>
                      <a:lnTo>
                        <a:pt x="748" y="252"/>
                      </a:lnTo>
                      <a:lnTo>
                        <a:pt x="762" y="268"/>
                      </a:lnTo>
                      <a:lnTo>
                        <a:pt x="789" y="315"/>
                      </a:lnTo>
                      <a:lnTo>
                        <a:pt x="817" y="315"/>
                      </a:lnTo>
                      <a:lnTo>
                        <a:pt x="817" y="299"/>
                      </a:lnTo>
                      <a:lnTo>
                        <a:pt x="803" y="283"/>
                      </a:lnTo>
                      <a:lnTo>
                        <a:pt x="803" y="268"/>
                      </a:lnTo>
                      <a:lnTo>
                        <a:pt x="817" y="283"/>
                      </a:lnTo>
                      <a:lnTo>
                        <a:pt x="831" y="283"/>
                      </a:lnTo>
                      <a:lnTo>
                        <a:pt x="831" y="268"/>
                      </a:lnTo>
                      <a:lnTo>
                        <a:pt x="845" y="268"/>
                      </a:lnTo>
                      <a:lnTo>
                        <a:pt x="859" y="252"/>
                      </a:lnTo>
                      <a:lnTo>
                        <a:pt x="872" y="236"/>
                      </a:lnTo>
                      <a:lnTo>
                        <a:pt x="886" y="236"/>
                      </a:lnTo>
                      <a:lnTo>
                        <a:pt x="886" y="220"/>
                      </a:lnTo>
                      <a:lnTo>
                        <a:pt x="886" y="205"/>
                      </a:lnTo>
                      <a:lnTo>
                        <a:pt x="914" y="189"/>
                      </a:lnTo>
                      <a:lnTo>
                        <a:pt x="914" y="205"/>
                      </a:lnTo>
                      <a:lnTo>
                        <a:pt x="914" y="220"/>
                      </a:lnTo>
                      <a:lnTo>
                        <a:pt x="914" y="236"/>
                      </a:lnTo>
                      <a:lnTo>
                        <a:pt x="928" y="236"/>
                      </a:lnTo>
                      <a:lnTo>
                        <a:pt x="955" y="236"/>
                      </a:lnTo>
                      <a:lnTo>
                        <a:pt x="983" y="220"/>
                      </a:lnTo>
                      <a:lnTo>
                        <a:pt x="997" y="205"/>
                      </a:lnTo>
                      <a:lnTo>
                        <a:pt x="1025" y="189"/>
                      </a:lnTo>
                      <a:lnTo>
                        <a:pt x="1052" y="189"/>
                      </a:lnTo>
                      <a:lnTo>
                        <a:pt x="1094" y="173"/>
                      </a:lnTo>
                      <a:lnTo>
                        <a:pt x="1121" y="173"/>
                      </a:lnTo>
                      <a:lnTo>
                        <a:pt x="1135" y="173"/>
                      </a:lnTo>
                      <a:lnTo>
                        <a:pt x="1135" y="157"/>
                      </a:lnTo>
                      <a:lnTo>
                        <a:pt x="1163" y="173"/>
                      </a:lnTo>
                      <a:lnTo>
                        <a:pt x="1177" y="173"/>
                      </a:lnTo>
                      <a:lnTo>
                        <a:pt x="1204" y="173"/>
                      </a:lnTo>
                      <a:lnTo>
                        <a:pt x="1218" y="189"/>
                      </a:lnTo>
                      <a:lnTo>
                        <a:pt x="1232" y="189"/>
                      </a:lnTo>
                      <a:lnTo>
                        <a:pt x="1246" y="189"/>
                      </a:lnTo>
                      <a:lnTo>
                        <a:pt x="1246" y="173"/>
                      </a:lnTo>
                      <a:lnTo>
                        <a:pt x="1232" y="157"/>
                      </a:lnTo>
                      <a:lnTo>
                        <a:pt x="1204" y="141"/>
                      </a:lnTo>
                      <a:lnTo>
                        <a:pt x="1204" y="126"/>
                      </a:lnTo>
                      <a:lnTo>
                        <a:pt x="1218" y="110"/>
                      </a:lnTo>
                      <a:lnTo>
                        <a:pt x="1218" y="94"/>
                      </a:lnTo>
                      <a:lnTo>
                        <a:pt x="1246" y="110"/>
                      </a:lnTo>
                      <a:lnTo>
                        <a:pt x="1260" y="110"/>
                      </a:lnTo>
                      <a:lnTo>
                        <a:pt x="1274" y="126"/>
                      </a:lnTo>
                      <a:lnTo>
                        <a:pt x="1287" y="126"/>
                      </a:lnTo>
                      <a:lnTo>
                        <a:pt x="1301" y="141"/>
                      </a:lnTo>
                      <a:lnTo>
                        <a:pt x="1315" y="157"/>
                      </a:lnTo>
                      <a:lnTo>
                        <a:pt x="1315" y="173"/>
                      </a:lnTo>
                      <a:lnTo>
                        <a:pt x="1315" y="189"/>
                      </a:lnTo>
                      <a:lnTo>
                        <a:pt x="1329" y="189"/>
                      </a:lnTo>
                      <a:lnTo>
                        <a:pt x="1343" y="205"/>
                      </a:lnTo>
                      <a:lnTo>
                        <a:pt x="1343" y="220"/>
                      </a:lnTo>
                      <a:lnTo>
                        <a:pt x="1329" y="236"/>
                      </a:lnTo>
                      <a:lnTo>
                        <a:pt x="1315" y="236"/>
                      </a:lnTo>
                      <a:lnTo>
                        <a:pt x="1301" y="236"/>
                      </a:lnTo>
                      <a:lnTo>
                        <a:pt x="1343" y="252"/>
                      </a:lnTo>
                      <a:lnTo>
                        <a:pt x="1357" y="236"/>
                      </a:lnTo>
                      <a:lnTo>
                        <a:pt x="1370" y="205"/>
                      </a:lnTo>
                      <a:lnTo>
                        <a:pt x="1384" y="189"/>
                      </a:lnTo>
                      <a:lnTo>
                        <a:pt x="1399" y="205"/>
                      </a:lnTo>
                      <a:lnTo>
                        <a:pt x="1427" y="220"/>
                      </a:lnTo>
                      <a:lnTo>
                        <a:pt x="1441" y="220"/>
                      </a:lnTo>
                      <a:lnTo>
                        <a:pt x="1441" y="205"/>
                      </a:lnTo>
                      <a:lnTo>
                        <a:pt x="1413" y="189"/>
                      </a:lnTo>
                      <a:lnTo>
                        <a:pt x="1399" y="189"/>
                      </a:lnTo>
                      <a:lnTo>
                        <a:pt x="1370" y="173"/>
                      </a:lnTo>
                      <a:lnTo>
                        <a:pt x="1343" y="157"/>
                      </a:lnTo>
                      <a:lnTo>
                        <a:pt x="1315" y="141"/>
                      </a:lnTo>
                      <a:lnTo>
                        <a:pt x="1301" y="94"/>
                      </a:lnTo>
                      <a:lnTo>
                        <a:pt x="1315" y="94"/>
                      </a:lnTo>
                      <a:lnTo>
                        <a:pt x="1315" y="110"/>
                      </a:lnTo>
                      <a:lnTo>
                        <a:pt x="1329" y="126"/>
                      </a:lnTo>
                      <a:lnTo>
                        <a:pt x="1343" y="126"/>
                      </a:lnTo>
                      <a:lnTo>
                        <a:pt x="1357" y="110"/>
                      </a:lnTo>
                      <a:lnTo>
                        <a:pt x="1370" y="110"/>
                      </a:lnTo>
                      <a:lnTo>
                        <a:pt x="1384" y="110"/>
                      </a:lnTo>
                      <a:lnTo>
                        <a:pt x="1399" y="110"/>
                      </a:lnTo>
                      <a:lnTo>
                        <a:pt x="1427" y="126"/>
                      </a:lnTo>
                      <a:lnTo>
                        <a:pt x="1441" y="126"/>
                      </a:lnTo>
                      <a:lnTo>
                        <a:pt x="1455" y="141"/>
                      </a:lnTo>
                      <a:lnTo>
                        <a:pt x="1469" y="141"/>
                      </a:lnTo>
                      <a:lnTo>
                        <a:pt x="1469" y="157"/>
                      </a:lnTo>
                      <a:lnTo>
                        <a:pt x="1455" y="141"/>
                      </a:lnTo>
                      <a:lnTo>
                        <a:pt x="1455" y="126"/>
                      </a:lnTo>
                      <a:lnTo>
                        <a:pt x="1441" y="126"/>
                      </a:lnTo>
                      <a:lnTo>
                        <a:pt x="1427" y="110"/>
                      </a:lnTo>
                      <a:lnTo>
                        <a:pt x="1413" y="110"/>
                      </a:lnTo>
                      <a:lnTo>
                        <a:pt x="1399" y="110"/>
                      </a:lnTo>
                      <a:lnTo>
                        <a:pt x="1384" y="94"/>
                      </a:lnTo>
                      <a:lnTo>
                        <a:pt x="1370" y="94"/>
                      </a:lnTo>
                      <a:lnTo>
                        <a:pt x="1370" y="79"/>
                      </a:lnTo>
                      <a:lnTo>
                        <a:pt x="1399" y="79"/>
                      </a:lnTo>
                      <a:lnTo>
                        <a:pt x="1427" y="79"/>
                      </a:lnTo>
                      <a:lnTo>
                        <a:pt x="1441" y="79"/>
                      </a:lnTo>
                      <a:lnTo>
                        <a:pt x="1455" y="94"/>
                      </a:lnTo>
                      <a:lnTo>
                        <a:pt x="1469" y="94"/>
                      </a:lnTo>
                      <a:lnTo>
                        <a:pt x="1482" y="94"/>
                      </a:lnTo>
                      <a:lnTo>
                        <a:pt x="1469" y="79"/>
                      </a:lnTo>
                      <a:lnTo>
                        <a:pt x="1455" y="62"/>
                      </a:lnTo>
                      <a:lnTo>
                        <a:pt x="1441" y="62"/>
                      </a:lnTo>
                      <a:lnTo>
                        <a:pt x="1455" y="62"/>
                      </a:lnTo>
                      <a:lnTo>
                        <a:pt x="1441" y="47"/>
                      </a:lnTo>
                      <a:lnTo>
                        <a:pt x="1455" y="47"/>
                      </a:lnTo>
                      <a:lnTo>
                        <a:pt x="1469" y="47"/>
                      </a:lnTo>
                      <a:lnTo>
                        <a:pt x="1510" y="32"/>
                      </a:lnTo>
                      <a:lnTo>
                        <a:pt x="1552" y="15"/>
                      </a:lnTo>
                      <a:lnTo>
                        <a:pt x="1579" y="15"/>
                      </a:lnTo>
                      <a:lnTo>
                        <a:pt x="1593" y="0"/>
                      </a:lnTo>
                      <a:lnTo>
                        <a:pt x="1621" y="0"/>
                      </a:lnTo>
                      <a:lnTo>
                        <a:pt x="1635" y="0"/>
                      </a:lnTo>
                      <a:lnTo>
                        <a:pt x="1648" y="0"/>
                      </a:lnTo>
                      <a:lnTo>
                        <a:pt x="1676" y="0"/>
                      </a:lnTo>
                      <a:lnTo>
                        <a:pt x="1704" y="0"/>
                      </a:lnTo>
                      <a:lnTo>
                        <a:pt x="1731" y="15"/>
                      </a:lnTo>
                      <a:lnTo>
                        <a:pt x="1773" y="32"/>
                      </a:lnTo>
                      <a:lnTo>
                        <a:pt x="1787" y="32"/>
                      </a:lnTo>
                      <a:lnTo>
                        <a:pt x="1800" y="32"/>
                      </a:lnTo>
                      <a:lnTo>
                        <a:pt x="1814" y="47"/>
                      </a:lnTo>
                      <a:lnTo>
                        <a:pt x="1814" y="62"/>
                      </a:lnTo>
                      <a:lnTo>
                        <a:pt x="1800" y="62"/>
                      </a:lnTo>
                      <a:lnTo>
                        <a:pt x="1787" y="62"/>
                      </a:lnTo>
                      <a:lnTo>
                        <a:pt x="1773" y="79"/>
                      </a:lnTo>
                      <a:lnTo>
                        <a:pt x="1759" y="94"/>
                      </a:lnTo>
                      <a:lnTo>
                        <a:pt x="1745" y="94"/>
                      </a:lnTo>
                      <a:lnTo>
                        <a:pt x="1759" y="94"/>
                      </a:lnTo>
                      <a:lnTo>
                        <a:pt x="1787" y="79"/>
                      </a:lnTo>
                      <a:lnTo>
                        <a:pt x="1814" y="79"/>
                      </a:lnTo>
                      <a:lnTo>
                        <a:pt x="1842" y="79"/>
                      </a:lnTo>
                      <a:lnTo>
                        <a:pt x="1856" y="79"/>
                      </a:lnTo>
                      <a:lnTo>
                        <a:pt x="1870" y="94"/>
                      </a:lnTo>
                      <a:lnTo>
                        <a:pt x="1883" y="110"/>
                      </a:lnTo>
                      <a:lnTo>
                        <a:pt x="1870" y="94"/>
                      </a:lnTo>
                      <a:lnTo>
                        <a:pt x="1856" y="79"/>
                      </a:lnTo>
                      <a:lnTo>
                        <a:pt x="1870" y="79"/>
                      </a:lnTo>
                      <a:lnTo>
                        <a:pt x="1883" y="79"/>
                      </a:lnTo>
                      <a:lnTo>
                        <a:pt x="1897" y="79"/>
                      </a:lnTo>
                      <a:lnTo>
                        <a:pt x="1911" y="79"/>
                      </a:lnTo>
                      <a:lnTo>
                        <a:pt x="1925" y="79"/>
                      </a:lnTo>
                      <a:lnTo>
                        <a:pt x="1939" y="79"/>
                      </a:lnTo>
                      <a:lnTo>
                        <a:pt x="1939" y="94"/>
                      </a:lnTo>
                      <a:lnTo>
                        <a:pt x="1966" y="94"/>
                      </a:lnTo>
                      <a:lnTo>
                        <a:pt x="2008" y="110"/>
                      </a:lnTo>
                      <a:lnTo>
                        <a:pt x="2036" y="110"/>
                      </a:lnTo>
                      <a:lnTo>
                        <a:pt x="2077" y="126"/>
                      </a:lnTo>
                      <a:lnTo>
                        <a:pt x="2105" y="126"/>
                      </a:lnTo>
                      <a:lnTo>
                        <a:pt x="2091" y="110"/>
                      </a:lnTo>
                      <a:lnTo>
                        <a:pt x="2077" y="110"/>
                      </a:lnTo>
                      <a:lnTo>
                        <a:pt x="2091" y="110"/>
                      </a:lnTo>
                      <a:lnTo>
                        <a:pt x="2119" y="126"/>
                      </a:lnTo>
                      <a:lnTo>
                        <a:pt x="2132" y="126"/>
                      </a:lnTo>
                      <a:lnTo>
                        <a:pt x="2119" y="126"/>
                      </a:lnTo>
                      <a:lnTo>
                        <a:pt x="2119" y="110"/>
                      </a:lnTo>
                      <a:lnTo>
                        <a:pt x="2146" y="126"/>
                      </a:lnTo>
                      <a:lnTo>
                        <a:pt x="2160" y="141"/>
                      </a:lnTo>
                      <a:lnTo>
                        <a:pt x="2188" y="141"/>
                      </a:lnTo>
                      <a:lnTo>
                        <a:pt x="2188" y="126"/>
                      </a:lnTo>
                      <a:lnTo>
                        <a:pt x="2203" y="126"/>
                      </a:lnTo>
                      <a:lnTo>
                        <a:pt x="2217" y="126"/>
                      </a:lnTo>
                      <a:lnTo>
                        <a:pt x="2231" y="126"/>
                      </a:lnTo>
                      <a:lnTo>
                        <a:pt x="2258" y="110"/>
                      </a:lnTo>
                      <a:lnTo>
                        <a:pt x="2272" y="94"/>
                      </a:lnTo>
                      <a:lnTo>
                        <a:pt x="2286" y="94"/>
                      </a:lnTo>
                      <a:lnTo>
                        <a:pt x="2314" y="110"/>
                      </a:lnTo>
                      <a:lnTo>
                        <a:pt x="2341" y="126"/>
                      </a:lnTo>
                      <a:lnTo>
                        <a:pt x="2369" y="126"/>
                      </a:lnTo>
                      <a:lnTo>
                        <a:pt x="2397" y="126"/>
                      </a:lnTo>
                      <a:lnTo>
                        <a:pt x="2397" y="110"/>
                      </a:lnTo>
                      <a:lnTo>
                        <a:pt x="2410" y="110"/>
                      </a:lnTo>
                      <a:lnTo>
                        <a:pt x="2438" y="126"/>
                      </a:lnTo>
                      <a:lnTo>
                        <a:pt x="2424" y="126"/>
                      </a:lnTo>
                      <a:lnTo>
                        <a:pt x="2466" y="141"/>
                      </a:lnTo>
                      <a:lnTo>
                        <a:pt x="2493" y="141"/>
                      </a:lnTo>
                      <a:lnTo>
                        <a:pt x="2521" y="141"/>
                      </a:lnTo>
                      <a:lnTo>
                        <a:pt x="2535" y="141"/>
                      </a:lnTo>
                      <a:lnTo>
                        <a:pt x="2549" y="141"/>
                      </a:lnTo>
                      <a:lnTo>
                        <a:pt x="2576" y="141"/>
                      </a:lnTo>
                      <a:lnTo>
                        <a:pt x="2604" y="141"/>
                      </a:lnTo>
                      <a:lnTo>
                        <a:pt x="2618" y="141"/>
                      </a:lnTo>
                      <a:lnTo>
                        <a:pt x="2632" y="157"/>
                      </a:lnTo>
                      <a:lnTo>
                        <a:pt x="2646" y="157"/>
                      </a:lnTo>
                      <a:lnTo>
                        <a:pt x="2646" y="173"/>
                      </a:lnTo>
                      <a:lnTo>
                        <a:pt x="2632" y="173"/>
                      </a:lnTo>
                      <a:lnTo>
                        <a:pt x="2618" y="189"/>
                      </a:lnTo>
                      <a:lnTo>
                        <a:pt x="2632" y="189"/>
                      </a:lnTo>
                      <a:lnTo>
                        <a:pt x="2646" y="189"/>
                      </a:lnTo>
                      <a:lnTo>
                        <a:pt x="2659" y="189"/>
                      </a:lnTo>
                      <a:lnTo>
                        <a:pt x="2701" y="189"/>
                      </a:lnTo>
                      <a:lnTo>
                        <a:pt x="2687" y="173"/>
                      </a:lnTo>
                      <a:lnTo>
                        <a:pt x="2715" y="173"/>
                      </a:lnTo>
                      <a:lnTo>
                        <a:pt x="2756" y="173"/>
                      </a:lnTo>
                      <a:lnTo>
                        <a:pt x="2798" y="173"/>
                      </a:lnTo>
                      <a:lnTo>
                        <a:pt x="2812" y="189"/>
                      </a:lnTo>
                      <a:lnTo>
                        <a:pt x="2825" y="189"/>
                      </a:lnTo>
                      <a:lnTo>
                        <a:pt x="2839" y="189"/>
                      </a:lnTo>
                      <a:lnTo>
                        <a:pt x="2825" y="173"/>
                      </a:lnTo>
                      <a:lnTo>
                        <a:pt x="2812" y="173"/>
                      </a:lnTo>
                      <a:lnTo>
                        <a:pt x="2798" y="157"/>
                      </a:lnTo>
                      <a:lnTo>
                        <a:pt x="2839" y="157"/>
                      </a:lnTo>
                      <a:lnTo>
                        <a:pt x="2881" y="173"/>
                      </a:lnTo>
                      <a:lnTo>
                        <a:pt x="2908" y="173"/>
                      </a:lnTo>
                      <a:lnTo>
                        <a:pt x="2950" y="173"/>
                      </a:lnTo>
                      <a:lnTo>
                        <a:pt x="2964" y="173"/>
                      </a:lnTo>
                      <a:lnTo>
                        <a:pt x="2964" y="189"/>
                      </a:lnTo>
                      <a:lnTo>
                        <a:pt x="2978" y="189"/>
                      </a:lnTo>
                      <a:lnTo>
                        <a:pt x="2993" y="189"/>
                      </a:lnTo>
                      <a:lnTo>
                        <a:pt x="2993" y="205"/>
                      </a:lnTo>
                      <a:lnTo>
                        <a:pt x="3020" y="205"/>
                      </a:lnTo>
                      <a:lnTo>
                        <a:pt x="3048" y="220"/>
                      </a:lnTo>
                      <a:lnTo>
                        <a:pt x="3062" y="236"/>
                      </a:lnTo>
                      <a:lnTo>
                        <a:pt x="3090" y="252"/>
                      </a:lnTo>
                      <a:lnTo>
                        <a:pt x="3117" y="2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7786800" y="1900080"/>
                  <a:ext cx="21960" cy="17640"/>
                </a:xfrm>
                <a:custGeom>
                  <a:avLst/>
                  <a:gdLst/>
                  <a:ahLst/>
                  <a:rect l="l" t="t" r="r" b="b"/>
                  <a:pathLst>
                    <a:path w="41" h="32">
                      <a:moveTo>
                        <a:pt x="41" y="15"/>
                      </a:moveTo>
                      <a:lnTo>
                        <a:pt x="27" y="15"/>
                      </a:lnTo>
                      <a:lnTo>
                        <a:pt x="13" y="0"/>
                      </a:lnTo>
                      <a:lnTo>
                        <a:pt x="0" y="0"/>
                      </a:lnTo>
                      <a:lnTo>
                        <a:pt x="0" y="15"/>
                      </a:lnTo>
                      <a:lnTo>
                        <a:pt x="13" y="15"/>
                      </a:lnTo>
                      <a:lnTo>
                        <a:pt x="13" y="32"/>
                      </a:lnTo>
                      <a:lnTo>
                        <a:pt x="27" y="32"/>
                      </a:lnTo>
                      <a:lnTo>
                        <a:pt x="41" y="32"/>
                      </a:lnTo>
                      <a:lnTo>
                        <a:pt x="41" y="15"/>
                      </a:lnTo>
                      <a:close/>
                    </a:path>
                  </a:pathLst>
                </a:custGeom>
                <a:solidFill>
                  <a:srgbClr val="bb74b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7786800" y="1900080"/>
                  <a:ext cx="21960" cy="17640"/>
                </a:xfrm>
                <a:custGeom>
                  <a:avLst/>
                  <a:gdLst/>
                  <a:ahLst/>
                  <a:rect l="l" t="t" r="r" b="b"/>
                  <a:pathLst>
                    <a:path w="41" h="32">
                      <a:moveTo>
                        <a:pt x="41" y="15"/>
                      </a:moveTo>
                      <a:lnTo>
                        <a:pt x="27" y="15"/>
                      </a:lnTo>
                      <a:lnTo>
                        <a:pt x="13" y="0"/>
                      </a:lnTo>
                      <a:lnTo>
                        <a:pt x="0" y="0"/>
                      </a:lnTo>
                      <a:lnTo>
                        <a:pt x="0" y="15"/>
                      </a:lnTo>
                      <a:lnTo>
                        <a:pt x="13" y="15"/>
                      </a:lnTo>
                      <a:lnTo>
                        <a:pt x="13" y="32"/>
                      </a:lnTo>
                      <a:lnTo>
                        <a:pt x="27" y="32"/>
                      </a:lnTo>
                      <a:lnTo>
                        <a:pt x="41" y="32"/>
                      </a:lnTo>
                      <a:lnTo>
                        <a:pt x="41" y="1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9" name=""/>
                <p:cNvSpPr/>
                <p:nvPr/>
              </p:nvSpPr>
              <p:spPr>
                <a:xfrm>
                  <a:off x="5967360" y="2000160"/>
                  <a:ext cx="60480" cy="17640"/>
                </a:xfrm>
                <a:custGeom>
                  <a:avLst/>
                  <a:gdLst/>
                  <a:ahLst/>
                  <a:rect l="l" t="t" r="r" b="b"/>
                  <a:pathLst>
                    <a:path w="112" h="32">
                      <a:moveTo>
                        <a:pt x="0" y="32"/>
                      </a:moveTo>
                      <a:lnTo>
                        <a:pt x="30" y="32"/>
                      </a:lnTo>
                      <a:lnTo>
                        <a:pt x="43" y="32"/>
                      </a:lnTo>
                      <a:lnTo>
                        <a:pt x="57" y="16"/>
                      </a:lnTo>
                      <a:lnTo>
                        <a:pt x="71" y="16"/>
                      </a:lnTo>
                      <a:lnTo>
                        <a:pt x="85" y="0"/>
                      </a:lnTo>
                      <a:lnTo>
                        <a:pt x="112" y="0"/>
                      </a:lnTo>
                      <a:lnTo>
                        <a:pt x="99" y="0"/>
                      </a:lnTo>
                      <a:lnTo>
                        <a:pt x="99" y="16"/>
                      </a:lnTo>
                      <a:lnTo>
                        <a:pt x="85" y="16"/>
                      </a:lnTo>
                      <a:lnTo>
                        <a:pt x="71" y="32"/>
                      </a:lnTo>
                      <a:lnTo>
                        <a:pt x="57" y="32"/>
                      </a:lnTo>
                      <a:lnTo>
                        <a:pt x="43" y="32"/>
                      </a:lnTo>
                      <a:lnTo>
                        <a:pt x="16" y="32"/>
                      </a:lnTo>
                      <a:lnTo>
                        <a:pt x="0" y="32"/>
                      </a:lnTo>
                      <a:close/>
                    </a:path>
                  </a:pathLst>
                </a:custGeom>
                <a:solidFill>
                  <a:srgbClr val="bb74b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0" name=""/>
                <p:cNvSpPr/>
                <p:nvPr/>
              </p:nvSpPr>
              <p:spPr>
                <a:xfrm>
                  <a:off x="5967360" y="2000160"/>
                  <a:ext cx="60480" cy="17640"/>
                </a:xfrm>
                <a:custGeom>
                  <a:avLst/>
                  <a:gdLst/>
                  <a:ahLst/>
                  <a:rect l="l" t="t" r="r" b="b"/>
                  <a:pathLst>
                    <a:path w="112" h="32">
                      <a:moveTo>
                        <a:pt x="0" y="32"/>
                      </a:moveTo>
                      <a:lnTo>
                        <a:pt x="30" y="32"/>
                      </a:lnTo>
                      <a:lnTo>
                        <a:pt x="43" y="32"/>
                      </a:lnTo>
                      <a:lnTo>
                        <a:pt x="57" y="16"/>
                      </a:lnTo>
                      <a:lnTo>
                        <a:pt x="71" y="16"/>
                      </a:lnTo>
                      <a:lnTo>
                        <a:pt x="85" y="0"/>
                      </a:lnTo>
                      <a:lnTo>
                        <a:pt x="112" y="0"/>
                      </a:lnTo>
                      <a:lnTo>
                        <a:pt x="99" y="0"/>
                      </a:lnTo>
                      <a:lnTo>
                        <a:pt x="99" y="16"/>
                      </a:lnTo>
                      <a:lnTo>
                        <a:pt x="85" y="16"/>
                      </a:lnTo>
                      <a:lnTo>
                        <a:pt x="71" y="32"/>
                      </a:lnTo>
                      <a:lnTo>
                        <a:pt x="57" y="32"/>
                      </a:lnTo>
                      <a:lnTo>
                        <a:pt x="43" y="32"/>
                      </a:lnTo>
                      <a:lnTo>
                        <a:pt x="16" y="32"/>
                      </a:lnTo>
                      <a:lnTo>
                        <a:pt x="0" y="32"/>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1" name=""/>
                <p:cNvSpPr/>
                <p:nvPr/>
              </p:nvSpPr>
              <p:spPr>
                <a:xfrm>
                  <a:off x="7273800" y="2050920"/>
                  <a:ext cx="7920" cy="24120"/>
                </a:xfrm>
                <a:custGeom>
                  <a:avLst/>
                  <a:gdLst/>
                  <a:ahLst/>
                  <a:rect l="l" t="t" r="r" b="b"/>
                  <a:pathLst>
                    <a:path w="14" h="47">
                      <a:moveTo>
                        <a:pt x="0" y="47"/>
                      </a:moveTo>
                      <a:lnTo>
                        <a:pt x="14" y="32"/>
                      </a:lnTo>
                      <a:lnTo>
                        <a:pt x="14" y="17"/>
                      </a:lnTo>
                      <a:lnTo>
                        <a:pt x="0" y="0"/>
                      </a:lnTo>
                      <a:lnTo>
                        <a:pt x="0" y="17"/>
                      </a:lnTo>
                      <a:lnTo>
                        <a:pt x="0" y="32"/>
                      </a:lnTo>
                      <a:lnTo>
                        <a:pt x="0" y="47"/>
                      </a:lnTo>
                      <a:close/>
                    </a:path>
                  </a:pathLst>
                </a:custGeom>
                <a:solidFill>
                  <a:srgbClr val="bb74b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2" name=""/>
                <p:cNvSpPr/>
                <p:nvPr/>
              </p:nvSpPr>
              <p:spPr>
                <a:xfrm>
                  <a:off x="7273800" y="2050920"/>
                  <a:ext cx="7920" cy="24120"/>
                </a:xfrm>
                <a:custGeom>
                  <a:avLst/>
                  <a:gdLst/>
                  <a:ahLst/>
                  <a:rect l="l" t="t" r="r" b="b"/>
                  <a:pathLst>
                    <a:path w="14" h="47">
                      <a:moveTo>
                        <a:pt x="0" y="47"/>
                      </a:moveTo>
                      <a:lnTo>
                        <a:pt x="14" y="32"/>
                      </a:lnTo>
                      <a:lnTo>
                        <a:pt x="14" y="17"/>
                      </a:lnTo>
                      <a:lnTo>
                        <a:pt x="0" y="0"/>
                      </a:lnTo>
                      <a:lnTo>
                        <a:pt x="0" y="17"/>
                      </a:lnTo>
                      <a:lnTo>
                        <a:pt x="0" y="32"/>
                      </a:lnTo>
                      <a:lnTo>
                        <a:pt x="0" y="47"/>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3" name=""/>
                <p:cNvSpPr/>
                <p:nvPr/>
              </p:nvSpPr>
              <p:spPr>
                <a:xfrm>
                  <a:off x="7251840" y="2050920"/>
                  <a:ext cx="7920" cy="24120"/>
                </a:xfrm>
                <a:custGeom>
                  <a:avLst/>
                  <a:gdLst/>
                  <a:ahLst/>
                  <a:rect l="l" t="t" r="r" b="b"/>
                  <a:pathLst>
                    <a:path w="14" h="47">
                      <a:moveTo>
                        <a:pt x="0" y="0"/>
                      </a:moveTo>
                      <a:lnTo>
                        <a:pt x="14" y="0"/>
                      </a:lnTo>
                      <a:lnTo>
                        <a:pt x="14" y="17"/>
                      </a:lnTo>
                      <a:lnTo>
                        <a:pt x="14" y="32"/>
                      </a:lnTo>
                      <a:lnTo>
                        <a:pt x="14" y="47"/>
                      </a:lnTo>
                      <a:lnTo>
                        <a:pt x="14" y="32"/>
                      </a:lnTo>
                      <a:lnTo>
                        <a:pt x="14" y="17"/>
                      </a:lnTo>
                      <a:lnTo>
                        <a:pt x="0" y="0"/>
                      </a:lnTo>
                      <a:close/>
                    </a:path>
                  </a:pathLst>
                </a:custGeom>
                <a:solidFill>
                  <a:srgbClr val="bb74b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4" name=""/>
                <p:cNvSpPr/>
                <p:nvPr/>
              </p:nvSpPr>
              <p:spPr>
                <a:xfrm>
                  <a:off x="7251840" y="2050920"/>
                  <a:ext cx="7920" cy="24120"/>
                </a:xfrm>
                <a:custGeom>
                  <a:avLst/>
                  <a:gdLst/>
                  <a:ahLst/>
                  <a:rect l="l" t="t" r="r" b="b"/>
                  <a:pathLst>
                    <a:path w="14" h="47">
                      <a:moveTo>
                        <a:pt x="0" y="0"/>
                      </a:moveTo>
                      <a:lnTo>
                        <a:pt x="14" y="0"/>
                      </a:lnTo>
                      <a:lnTo>
                        <a:pt x="14" y="17"/>
                      </a:lnTo>
                      <a:lnTo>
                        <a:pt x="14" y="32"/>
                      </a:lnTo>
                      <a:lnTo>
                        <a:pt x="14" y="47"/>
                      </a:lnTo>
                      <a:lnTo>
                        <a:pt x="14" y="32"/>
                      </a:lnTo>
                      <a:lnTo>
                        <a:pt x="14" y="17"/>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5" name=""/>
                <p:cNvSpPr/>
                <p:nvPr/>
              </p:nvSpPr>
              <p:spPr>
                <a:xfrm>
                  <a:off x="5997600" y="2050920"/>
                  <a:ext cx="66600" cy="24120"/>
                </a:xfrm>
                <a:custGeom>
                  <a:avLst/>
                  <a:gdLst/>
                  <a:ahLst/>
                  <a:rect l="l" t="t" r="r" b="b"/>
                  <a:pathLst>
                    <a:path w="125" h="47">
                      <a:moveTo>
                        <a:pt x="0" y="47"/>
                      </a:moveTo>
                      <a:lnTo>
                        <a:pt x="14" y="47"/>
                      </a:lnTo>
                      <a:lnTo>
                        <a:pt x="28" y="32"/>
                      </a:lnTo>
                      <a:lnTo>
                        <a:pt x="28" y="17"/>
                      </a:lnTo>
                      <a:lnTo>
                        <a:pt x="55" y="0"/>
                      </a:lnTo>
                      <a:lnTo>
                        <a:pt x="83" y="0"/>
                      </a:lnTo>
                      <a:lnTo>
                        <a:pt x="111" y="0"/>
                      </a:lnTo>
                      <a:lnTo>
                        <a:pt x="125" y="0"/>
                      </a:lnTo>
                      <a:lnTo>
                        <a:pt x="111" y="17"/>
                      </a:lnTo>
                      <a:lnTo>
                        <a:pt x="97" y="17"/>
                      </a:lnTo>
                      <a:lnTo>
                        <a:pt x="83" y="17"/>
                      </a:lnTo>
                      <a:lnTo>
                        <a:pt x="69" y="32"/>
                      </a:lnTo>
                      <a:lnTo>
                        <a:pt x="55" y="32"/>
                      </a:lnTo>
                      <a:lnTo>
                        <a:pt x="28" y="47"/>
                      </a:lnTo>
                      <a:lnTo>
                        <a:pt x="14" y="47"/>
                      </a:lnTo>
                      <a:lnTo>
                        <a:pt x="0" y="47"/>
                      </a:lnTo>
                      <a:close/>
                    </a:path>
                  </a:pathLst>
                </a:custGeom>
                <a:solidFill>
                  <a:srgbClr val="bb74b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6" name=""/>
                <p:cNvSpPr/>
                <p:nvPr/>
              </p:nvSpPr>
              <p:spPr>
                <a:xfrm>
                  <a:off x="5997600" y="2050920"/>
                  <a:ext cx="66600" cy="24120"/>
                </a:xfrm>
                <a:custGeom>
                  <a:avLst/>
                  <a:gdLst/>
                  <a:ahLst/>
                  <a:rect l="l" t="t" r="r" b="b"/>
                  <a:pathLst>
                    <a:path w="125" h="47">
                      <a:moveTo>
                        <a:pt x="0" y="47"/>
                      </a:moveTo>
                      <a:lnTo>
                        <a:pt x="14" y="47"/>
                      </a:lnTo>
                      <a:lnTo>
                        <a:pt x="28" y="32"/>
                      </a:lnTo>
                      <a:lnTo>
                        <a:pt x="28" y="17"/>
                      </a:lnTo>
                      <a:lnTo>
                        <a:pt x="55" y="0"/>
                      </a:lnTo>
                      <a:lnTo>
                        <a:pt x="83" y="0"/>
                      </a:lnTo>
                      <a:lnTo>
                        <a:pt x="111" y="0"/>
                      </a:lnTo>
                      <a:lnTo>
                        <a:pt x="125" y="0"/>
                      </a:lnTo>
                      <a:lnTo>
                        <a:pt x="111" y="17"/>
                      </a:lnTo>
                      <a:lnTo>
                        <a:pt x="97" y="17"/>
                      </a:lnTo>
                      <a:lnTo>
                        <a:pt x="83" y="17"/>
                      </a:lnTo>
                      <a:lnTo>
                        <a:pt x="69" y="32"/>
                      </a:lnTo>
                      <a:lnTo>
                        <a:pt x="55" y="32"/>
                      </a:lnTo>
                      <a:lnTo>
                        <a:pt x="28" y="47"/>
                      </a:lnTo>
                      <a:lnTo>
                        <a:pt x="14" y="47"/>
                      </a:lnTo>
                      <a:lnTo>
                        <a:pt x="0" y="47"/>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7" name=""/>
                <p:cNvSpPr/>
                <p:nvPr/>
              </p:nvSpPr>
              <p:spPr>
                <a:xfrm>
                  <a:off x="7332840" y="2050920"/>
                  <a:ext cx="21960" cy="24120"/>
                </a:xfrm>
                <a:custGeom>
                  <a:avLst/>
                  <a:gdLst/>
                  <a:ahLst/>
                  <a:rect l="l" t="t" r="r" b="b"/>
                  <a:pathLst>
                    <a:path w="41" h="47">
                      <a:moveTo>
                        <a:pt x="0" y="0"/>
                      </a:moveTo>
                      <a:lnTo>
                        <a:pt x="13" y="17"/>
                      </a:lnTo>
                      <a:lnTo>
                        <a:pt x="27" y="32"/>
                      </a:lnTo>
                      <a:lnTo>
                        <a:pt x="41" y="47"/>
                      </a:lnTo>
                      <a:lnTo>
                        <a:pt x="27" y="47"/>
                      </a:lnTo>
                      <a:lnTo>
                        <a:pt x="13" y="47"/>
                      </a:lnTo>
                      <a:lnTo>
                        <a:pt x="0" y="17"/>
                      </a:lnTo>
                      <a:lnTo>
                        <a:pt x="13" y="17"/>
                      </a:lnTo>
                      <a:lnTo>
                        <a:pt x="13" y="0"/>
                      </a:lnTo>
                      <a:lnTo>
                        <a:pt x="0" y="0"/>
                      </a:lnTo>
                      <a:close/>
                    </a:path>
                  </a:pathLst>
                </a:custGeom>
                <a:solidFill>
                  <a:srgbClr val="bb74b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8" name=""/>
                <p:cNvSpPr/>
                <p:nvPr/>
              </p:nvSpPr>
              <p:spPr>
                <a:xfrm>
                  <a:off x="7332840" y="2050920"/>
                  <a:ext cx="21960" cy="24120"/>
                </a:xfrm>
                <a:custGeom>
                  <a:avLst/>
                  <a:gdLst/>
                  <a:ahLst/>
                  <a:rect l="l" t="t" r="r" b="b"/>
                  <a:pathLst>
                    <a:path w="41" h="47">
                      <a:moveTo>
                        <a:pt x="0" y="0"/>
                      </a:moveTo>
                      <a:lnTo>
                        <a:pt x="13" y="17"/>
                      </a:lnTo>
                      <a:lnTo>
                        <a:pt x="27" y="32"/>
                      </a:lnTo>
                      <a:lnTo>
                        <a:pt x="41" y="47"/>
                      </a:lnTo>
                      <a:lnTo>
                        <a:pt x="27" y="47"/>
                      </a:lnTo>
                      <a:lnTo>
                        <a:pt x="13" y="47"/>
                      </a:lnTo>
                      <a:lnTo>
                        <a:pt x="0" y="17"/>
                      </a:lnTo>
                      <a:lnTo>
                        <a:pt x="13" y="17"/>
                      </a:lnTo>
                      <a:lnTo>
                        <a:pt x="13" y="0"/>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9" name=""/>
                <p:cNvSpPr/>
                <p:nvPr/>
              </p:nvSpPr>
              <p:spPr>
                <a:xfrm>
                  <a:off x="7296120" y="2066760"/>
                  <a:ext cx="14400" cy="25560"/>
                </a:xfrm>
                <a:custGeom>
                  <a:avLst/>
                  <a:gdLst/>
                  <a:ahLst/>
                  <a:rect l="l" t="t" r="r" b="b"/>
                  <a:pathLst>
                    <a:path w="28" h="47">
                      <a:moveTo>
                        <a:pt x="14" y="0"/>
                      </a:moveTo>
                      <a:lnTo>
                        <a:pt x="14" y="15"/>
                      </a:lnTo>
                      <a:lnTo>
                        <a:pt x="28" y="32"/>
                      </a:lnTo>
                      <a:lnTo>
                        <a:pt x="28" y="47"/>
                      </a:lnTo>
                      <a:lnTo>
                        <a:pt x="28" y="32"/>
                      </a:lnTo>
                      <a:lnTo>
                        <a:pt x="14" y="32"/>
                      </a:lnTo>
                      <a:lnTo>
                        <a:pt x="0" y="15"/>
                      </a:lnTo>
                      <a:lnTo>
                        <a:pt x="0" y="0"/>
                      </a:lnTo>
                      <a:lnTo>
                        <a:pt x="14" y="0"/>
                      </a:lnTo>
                      <a:close/>
                    </a:path>
                  </a:pathLst>
                </a:custGeom>
                <a:solidFill>
                  <a:srgbClr val="bb74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0" name=""/>
                <p:cNvSpPr/>
                <p:nvPr/>
              </p:nvSpPr>
              <p:spPr>
                <a:xfrm>
                  <a:off x="7296120" y="2066760"/>
                  <a:ext cx="14400" cy="25560"/>
                </a:xfrm>
                <a:custGeom>
                  <a:avLst/>
                  <a:gdLst/>
                  <a:ahLst/>
                  <a:rect l="l" t="t" r="r" b="b"/>
                  <a:pathLst>
                    <a:path w="28" h="47">
                      <a:moveTo>
                        <a:pt x="14" y="0"/>
                      </a:moveTo>
                      <a:lnTo>
                        <a:pt x="14" y="15"/>
                      </a:lnTo>
                      <a:lnTo>
                        <a:pt x="28" y="32"/>
                      </a:lnTo>
                      <a:lnTo>
                        <a:pt x="28" y="47"/>
                      </a:lnTo>
                      <a:lnTo>
                        <a:pt x="28" y="32"/>
                      </a:lnTo>
                      <a:lnTo>
                        <a:pt x="14" y="32"/>
                      </a:lnTo>
                      <a:lnTo>
                        <a:pt x="0" y="15"/>
                      </a:lnTo>
                      <a:lnTo>
                        <a:pt x="0" y="0"/>
                      </a:lnTo>
                      <a:lnTo>
                        <a:pt x="14"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1" name=""/>
                <p:cNvSpPr/>
                <p:nvPr/>
              </p:nvSpPr>
              <p:spPr>
                <a:xfrm>
                  <a:off x="6013440" y="2101680"/>
                  <a:ext cx="50760" cy="8280"/>
                </a:xfrm>
                <a:custGeom>
                  <a:avLst/>
                  <a:gdLst/>
                  <a:ahLst/>
                  <a:rect l="l" t="t" r="r" b="b"/>
                  <a:pathLst>
                    <a:path w="97" h="15">
                      <a:moveTo>
                        <a:pt x="0" y="15"/>
                      </a:moveTo>
                      <a:lnTo>
                        <a:pt x="41" y="0"/>
                      </a:lnTo>
                      <a:lnTo>
                        <a:pt x="69" y="0"/>
                      </a:lnTo>
                      <a:lnTo>
                        <a:pt x="97" y="0"/>
                      </a:lnTo>
                      <a:lnTo>
                        <a:pt x="69" y="0"/>
                      </a:lnTo>
                      <a:lnTo>
                        <a:pt x="41" y="0"/>
                      </a:lnTo>
                      <a:lnTo>
                        <a:pt x="0" y="15"/>
                      </a:lnTo>
                      <a:close/>
                    </a:path>
                  </a:pathLst>
                </a:custGeom>
                <a:solidFill>
                  <a:srgbClr val="bb74b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 name=""/>
                <p:cNvSpPr/>
                <p:nvPr/>
              </p:nvSpPr>
              <p:spPr>
                <a:xfrm>
                  <a:off x="6013440" y="2101680"/>
                  <a:ext cx="50760" cy="8280"/>
                </a:xfrm>
                <a:custGeom>
                  <a:avLst/>
                  <a:gdLst/>
                  <a:ahLst/>
                  <a:rect l="l" t="t" r="r" b="b"/>
                  <a:pathLst>
                    <a:path w="97" h="15">
                      <a:moveTo>
                        <a:pt x="0" y="15"/>
                      </a:moveTo>
                      <a:lnTo>
                        <a:pt x="41" y="0"/>
                      </a:lnTo>
                      <a:lnTo>
                        <a:pt x="69" y="0"/>
                      </a:lnTo>
                      <a:lnTo>
                        <a:pt x="97" y="0"/>
                      </a:lnTo>
                      <a:lnTo>
                        <a:pt x="69" y="0"/>
                      </a:lnTo>
                      <a:lnTo>
                        <a:pt x="41" y="0"/>
                      </a:lnTo>
                      <a:lnTo>
                        <a:pt x="0" y="15"/>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 name=""/>
                <p:cNvSpPr/>
                <p:nvPr/>
              </p:nvSpPr>
              <p:spPr>
                <a:xfrm>
                  <a:off x="7142040" y="2101680"/>
                  <a:ext cx="14400" cy="8280"/>
                </a:xfrm>
                <a:custGeom>
                  <a:avLst/>
                  <a:gdLst/>
                  <a:ahLst/>
                  <a:rect l="l" t="t" r="r" b="b"/>
                  <a:pathLst>
                    <a:path w="27" h="15">
                      <a:moveTo>
                        <a:pt x="27" y="0"/>
                      </a:moveTo>
                      <a:lnTo>
                        <a:pt x="13" y="0"/>
                      </a:lnTo>
                      <a:lnTo>
                        <a:pt x="13" y="15"/>
                      </a:lnTo>
                      <a:lnTo>
                        <a:pt x="0" y="15"/>
                      </a:lnTo>
                      <a:lnTo>
                        <a:pt x="13" y="15"/>
                      </a:lnTo>
                      <a:lnTo>
                        <a:pt x="13" y="0"/>
                      </a:lnTo>
                      <a:lnTo>
                        <a:pt x="27" y="0"/>
                      </a:lnTo>
                      <a:close/>
                    </a:path>
                  </a:pathLst>
                </a:custGeom>
                <a:solidFill>
                  <a:srgbClr val="bb74b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714" name=""/>
              <p:cNvGrpSpPr/>
              <p:nvPr/>
            </p:nvGrpSpPr>
            <p:grpSpPr>
              <a:xfrm>
                <a:off x="7142040" y="2101680"/>
                <a:ext cx="14400" cy="8280"/>
                <a:chOff x="7142040" y="2101680"/>
                <a:chExt cx="14400" cy="8280"/>
              </a:xfrm>
            </p:grpSpPr>
            <p:sp>
              <p:nvSpPr>
                <p:cNvPr id="1715" name=""/>
                <p:cNvSpPr/>
                <p:nvPr/>
              </p:nvSpPr>
              <p:spPr>
                <a:xfrm>
                  <a:off x="7142040" y="2101680"/>
                  <a:ext cx="14400" cy="8280"/>
                </a:xfrm>
                <a:custGeom>
                  <a:avLst/>
                  <a:gdLst/>
                  <a:ahLst/>
                  <a:rect l="l" t="t" r="r" b="b"/>
                  <a:pathLst>
                    <a:path w="27" h="15">
                      <a:moveTo>
                        <a:pt x="27" y="0"/>
                      </a:moveTo>
                      <a:lnTo>
                        <a:pt x="13" y="0"/>
                      </a:lnTo>
                      <a:lnTo>
                        <a:pt x="13" y="15"/>
                      </a:lnTo>
                      <a:lnTo>
                        <a:pt x="0" y="15"/>
                      </a:lnTo>
                      <a:lnTo>
                        <a:pt x="13" y="15"/>
                      </a:lnTo>
                      <a:lnTo>
                        <a:pt x="13" y="0"/>
                      </a:lnTo>
                      <a:lnTo>
                        <a:pt x="27" y="0"/>
                      </a:lnTo>
                      <a:close/>
                    </a:path>
                  </a:pathLst>
                </a:custGeom>
                <a:solidFill>
                  <a:srgbClr val="179c8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6" name=""/>
                <p:cNvSpPr/>
                <p:nvPr/>
              </p:nvSpPr>
              <p:spPr>
                <a:xfrm>
                  <a:off x="7142040" y="2101680"/>
                  <a:ext cx="14400" cy="8280"/>
                </a:xfrm>
                <a:custGeom>
                  <a:avLst/>
                  <a:gdLst/>
                  <a:ahLst/>
                  <a:rect l="l" t="t" r="r" b="b"/>
                  <a:pathLst>
                    <a:path w="27" h="15">
                      <a:moveTo>
                        <a:pt x="27" y="0"/>
                      </a:moveTo>
                      <a:lnTo>
                        <a:pt x="13" y="0"/>
                      </a:lnTo>
                      <a:lnTo>
                        <a:pt x="13" y="15"/>
                      </a:lnTo>
                      <a:lnTo>
                        <a:pt x="0" y="15"/>
                      </a:lnTo>
                      <a:lnTo>
                        <a:pt x="13" y="15"/>
                      </a:lnTo>
                      <a:lnTo>
                        <a:pt x="13" y="0"/>
                      </a:lnTo>
                      <a:lnTo>
                        <a:pt x="27"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717" name=""/>
              <p:cNvSpPr/>
              <p:nvPr/>
            </p:nvSpPr>
            <p:spPr>
              <a:xfrm>
                <a:off x="7529400" y="2101680"/>
                <a:ext cx="22320" cy="16200"/>
              </a:xfrm>
              <a:custGeom>
                <a:avLst/>
                <a:gdLst/>
                <a:ahLst/>
                <a:rect l="l" t="t" r="r" b="b"/>
                <a:pathLst>
                  <a:path w="42" h="30">
                    <a:moveTo>
                      <a:pt x="14" y="0"/>
                    </a:moveTo>
                    <a:lnTo>
                      <a:pt x="28" y="15"/>
                    </a:lnTo>
                    <a:lnTo>
                      <a:pt x="28" y="30"/>
                    </a:lnTo>
                    <a:lnTo>
                      <a:pt x="42" y="30"/>
                    </a:lnTo>
                    <a:lnTo>
                      <a:pt x="28" y="30"/>
                    </a:lnTo>
                    <a:lnTo>
                      <a:pt x="14" y="15"/>
                    </a:lnTo>
                    <a:lnTo>
                      <a:pt x="0" y="15"/>
                    </a:lnTo>
                    <a:lnTo>
                      <a:pt x="0" y="0"/>
                    </a:lnTo>
                    <a:lnTo>
                      <a:pt x="14" y="0"/>
                    </a:lnTo>
                    <a:close/>
                  </a:path>
                </a:pathLst>
              </a:custGeom>
              <a:solidFill>
                <a:srgbClr val="179c8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718" name=""/>
              <p:cNvGrpSpPr/>
              <p:nvPr/>
            </p:nvGrpSpPr>
            <p:grpSpPr>
              <a:xfrm>
                <a:off x="7529400" y="2101680"/>
                <a:ext cx="22320" cy="16200"/>
                <a:chOff x="7529400" y="2101680"/>
                <a:chExt cx="22320" cy="16200"/>
              </a:xfrm>
            </p:grpSpPr>
            <p:sp>
              <p:nvSpPr>
                <p:cNvPr id="1719" name=""/>
                <p:cNvSpPr/>
                <p:nvPr/>
              </p:nvSpPr>
              <p:spPr>
                <a:xfrm>
                  <a:off x="7529400" y="2101680"/>
                  <a:ext cx="22320" cy="16200"/>
                </a:xfrm>
                <a:custGeom>
                  <a:avLst/>
                  <a:gdLst/>
                  <a:ahLst/>
                  <a:rect l="l" t="t" r="r" b="b"/>
                  <a:pathLst>
                    <a:path w="42" h="30">
                      <a:moveTo>
                        <a:pt x="14" y="0"/>
                      </a:moveTo>
                      <a:lnTo>
                        <a:pt x="28" y="15"/>
                      </a:lnTo>
                      <a:lnTo>
                        <a:pt x="28" y="30"/>
                      </a:lnTo>
                      <a:lnTo>
                        <a:pt x="42" y="30"/>
                      </a:lnTo>
                      <a:lnTo>
                        <a:pt x="28" y="30"/>
                      </a:lnTo>
                      <a:lnTo>
                        <a:pt x="14" y="15"/>
                      </a:lnTo>
                      <a:lnTo>
                        <a:pt x="0" y="15"/>
                      </a:lnTo>
                      <a:lnTo>
                        <a:pt x="0" y="0"/>
                      </a:lnTo>
                      <a:lnTo>
                        <a:pt x="14" y="0"/>
                      </a:lnTo>
                      <a:close/>
                    </a:path>
                  </a:pathLst>
                </a:custGeom>
                <a:solidFill>
                  <a:srgbClr val="179c8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20" name=""/>
                <p:cNvSpPr/>
                <p:nvPr/>
              </p:nvSpPr>
              <p:spPr>
                <a:xfrm>
                  <a:off x="7529400" y="2101680"/>
                  <a:ext cx="22320" cy="16200"/>
                </a:xfrm>
                <a:custGeom>
                  <a:avLst/>
                  <a:gdLst/>
                  <a:ahLst/>
                  <a:rect l="l" t="t" r="r" b="b"/>
                  <a:pathLst>
                    <a:path w="42" h="30">
                      <a:moveTo>
                        <a:pt x="14" y="0"/>
                      </a:moveTo>
                      <a:lnTo>
                        <a:pt x="28" y="15"/>
                      </a:lnTo>
                      <a:lnTo>
                        <a:pt x="28" y="30"/>
                      </a:lnTo>
                      <a:lnTo>
                        <a:pt x="42" y="30"/>
                      </a:lnTo>
                      <a:lnTo>
                        <a:pt x="28" y="30"/>
                      </a:lnTo>
                      <a:lnTo>
                        <a:pt x="14" y="15"/>
                      </a:lnTo>
                      <a:lnTo>
                        <a:pt x="0" y="15"/>
                      </a:lnTo>
                      <a:lnTo>
                        <a:pt x="0" y="0"/>
                      </a:lnTo>
                      <a:lnTo>
                        <a:pt x="14"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721" name=""/>
              <p:cNvSpPr/>
              <p:nvPr/>
            </p:nvSpPr>
            <p:spPr>
              <a:xfrm>
                <a:off x="7369200" y="2101680"/>
                <a:ext cx="7920" cy="1800"/>
              </a:xfrm>
              <a:custGeom>
                <a:avLst/>
                <a:gdLst/>
                <a:ahLst/>
                <a:rect l="l" t="t" r="r" b="b"/>
                <a:pathLst>
                  <a:path w="14" h="0">
                    <a:moveTo>
                      <a:pt x="14" y="0"/>
                    </a:moveTo>
                    <a:lnTo>
                      <a:pt x="0" y="0"/>
                    </a:lnTo>
                    <a:lnTo>
                      <a:pt x="14" y="0"/>
                    </a:lnTo>
                    <a:close/>
                  </a:path>
                </a:pathLst>
              </a:custGeom>
              <a:solidFill>
                <a:srgbClr val="179c8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22" name=""/>
              <p:cNvGrpSpPr/>
              <p:nvPr/>
            </p:nvGrpSpPr>
            <p:grpSpPr>
              <a:xfrm>
                <a:off x="7369200" y="2101680"/>
                <a:ext cx="7920" cy="1800"/>
                <a:chOff x="7369200" y="2101680"/>
                <a:chExt cx="7920" cy="1800"/>
              </a:xfrm>
            </p:grpSpPr>
            <p:sp>
              <p:nvSpPr>
                <p:cNvPr id="1723" name=""/>
                <p:cNvSpPr/>
                <p:nvPr/>
              </p:nvSpPr>
              <p:spPr>
                <a:xfrm>
                  <a:off x="7369200" y="2101680"/>
                  <a:ext cx="7920" cy="1800"/>
                </a:xfrm>
                <a:custGeom>
                  <a:avLst/>
                  <a:gdLst/>
                  <a:ahLst/>
                  <a:rect l="l" t="t" r="r" b="b"/>
                  <a:pathLst>
                    <a:path w="14" h="0">
                      <a:moveTo>
                        <a:pt x="14" y="0"/>
                      </a:moveTo>
                      <a:lnTo>
                        <a:pt x="0" y="0"/>
                      </a:lnTo>
                      <a:lnTo>
                        <a:pt x="14" y="0"/>
                      </a:lnTo>
                      <a:close/>
                    </a:path>
                  </a:pathLst>
                </a:custGeom>
                <a:solidFill>
                  <a:srgbClr val="179c8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a:off x="7369200" y="2101680"/>
                  <a:ext cx="7920" cy="1800"/>
                </a:xfrm>
                <a:custGeom>
                  <a:avLst/>
                  <a:gdLst/>
                  <a:ahLst/>
                  <a:rect l="l" t="t" r="r" b="b"/>
                  <a:pathLst>
                    <a:path w="14" h="0">
                      <a:moveTo>
                        <a:pt x="14" y="0"/>
                      </a:moveTo>
                      <a:lnTo>
                        <a:pt x="0" y="0"/>
                      </a:lnTo>
                      <a:lnTo>
                        <a:pt x="14"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25" name=""/>
              <p:cNvSpPr/>
              <p:nvPr/>
            </p:nvSpPr>
            <p:spPr>
              <a:xfrm>
                <a:off x="6064200" y="2109960"/>
                <a:ext cx="28800" cy="23760"/>
              </a:xfrm>
              <a:custGeom>
                <a:avLst/>
                <a:gdLst/>
                <a:ahLst/>
                <a:rect l="l" t="t" r="r" b="b"/>
                <a:pathLst>
                  <a:path w="55" h="47">
                    <a:moveTo>
                      <a:pt x="0" y="47"/>
                    </a:moveTo>
                    <a:lnTo>
                      <a:pt x="13" y="32"/>
                    </a:lnTo>
                    <a:lnTo>
                      <a:pt x="41" y="15"/>
                    </a:lnTo>
                    <a:lnTo>
                      <a:pt x="55" y="0"/>
                    </a:lnTo>
                    <a:lnTo>
                      <a:pt x="55" y="15"/>
                    </a:lnTo>
                    <a:lnTo>
                      <a:pt x="41" y="32"/>
                    </a:lnTo>
                    <a:lnTo>
                      <a:pt x="27" y="47"/>
                    </a:lnTo>
                    <a:lnTo>
                      <a:pt x="13" y="47"/>
                    </a:lnTo>
                    <a:lnTo>
                      <a:pt x="0" y="47"/>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726" name=""/>
              <p:cNvGrpSpPr/>
              <p:nvPr/>
            </p:nvGrpSpPr>
            <p:grpSpPr>
              <a:xfrm>
                <a:off x="6064200" y="2109960"/>
                <a:ext cx="28800" cy="23760"/>
                <a:chOff x="6064200" y="2109960"/>
                <a:chExt cx="28800" cy="23760"/>
              </a:xfrm>
            </p:grpSpPr>
            <p:sp>
              <p:nvSpPr>
                <p:cNvPr id="1727" name=""/>
                <p:cNvSpPr/>
                <p:nvPr/>
              </p:nvSpPr>
              <p:spPr>
                <a:xfrm>
                  <a:off x="6064200" y="2109960"/>
                  <a:ext cx="28800" cy="23760"/>
                </a:xfrm>
                <a:custGeom>
                  <a:avLst/>
                  <a:gdLst/>
                  <a:ahLst/>
                  <a:rect l="l" t="t" r="r" b="b"/>
                  <a:pathLst>
                    <a:path w="55" h="47">
                      <a:moveTo>
                        <a:pt x="0" y="47"/>
                      </a:moveTo>
                      <a:lnTo>
                        <a:pt x="13" y="32"/>
                      </a:lnTo>
                      <a:lnTo>
                        <a:pt x="41" y="15"/>
                      </a:lnTo>
                      <a:lnTo>
                        <a:pt x="55" y="0"/>
                      </a:lnTo>
                      <a:lnTo>
                        <a:pt x="55" y="15"/>
                      </a:lnTo>
                      <a:lnTo>
                        <a:pt x="41" y="32"/>
                      </a:lnTo>
                      <a:lnTo>
                        <a:pt x="27" y="47"/>
                      </a:lnTo>
                      <a:lnTo>
                        <a:pt x="13" y="47"/>
                      </a:lnTo>
                      <a:lnTo>
                        <a:pt x="0" y="47"/>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8" name=""/>
                <p:cNvSpPr/>
                <p:nvPr/>
              </p:nvSpPr>
              <p:spPr>
                <a:xfrm>
                  <a:off x="6064200" y="2109960"/>
                  <a:ext cx="28800" cy="23760"/>
                </a:xfrm>
                <a:custGeom>
                  <a:avLst/>
                  <a:gdLst/>
                  <a:ahLst/>
                  <a:rect l="l" t="t" r="r" b="b"/>
                  <a:pathLst>
                    <a:path w="55" h="47">
                      <a:moveTo>
                        <a:pt x="0" y="47"/>
                      </a:moveTo>
                      <a:lnTo>
                        <a:pt x="13" y="32"/>
                      </a:lnTo>
                      <a:lnTo>
                        <a:pt x="41" y="15"/>
                      </a:lnTo>
                      <a:lnTo>
                        <a:pt x="55" y="0"/>
                      </a:lnTo>
                      <a:lnTo>
                        <a:pt x="55" y="15"/>
                      </a:lnTo>
                      <a:lnTo>
                        <a:pt x="41" y="32"/>
                      </a:lnTo>
                      <a:lnTo>
                        <a:pt x="27" y="47"/>
                      </a:lnTo>
                      <a:lnTo>
                        <a:pt x="13" y="47"/>
                      </a:lnTo>
                      <a:lnTo>
                        <a:pt x="0" y="47"/>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729" name=""/>
              <p:cNvSpPr/>
              <p:nvPr/>
            </p:nvSpPr>
            <p:spPr>
              <a:xfrm>
                <a:off x="7969320" y="2143080"/>
                <a:ext cx="44280" cy="41400"/>
              </a:xfrm>
              <a:custGeom>
                <a:avLst/>
                <a:gdLst/>
                <a:ahLst/>
                <a:rect l="l" t="t" r="r" b="b"/>
                <a:pathLst>
                  <a:path w="83" h="79">
                    <a:moveTo>
                      <a:pt x="14" y="0"/>
                    </a:moveTo>
                    <a:lnTo>
                      <a:pt x="28" y="15"/>
                    </a:lnTo>
                    <a:lnTo>
                      <a:pt x="56" y="30"/>
                    </a:lnTo>
                    <a:lnTo>
                      <a:pt x="69" y="47"/>
                    </a:lnTo>
                    <a:lnTo>
                      <a:pt x="69" y="62"/>
                    </a:lnTo>
                    <a:lnTo>
                      <a:pt x="83" y="62"/>
                    </a:lnTo>
                    <a:lnTo>
                      <a:pt x="83" y="79"/>
                    </a:lnTo>
                    <a:lnTo>
                      <a:pt x="69" y="47"/>
                    </a:lnTo>
                    <a:lnTo>
                      <a:pt x="56" y="30"/>
                    </a:lnTo>
                    <a:lnTo>
                      <a:pt x="42" y="0"/>
                    </a:lnTo>
                    <a:lnTo>
                      <a:pt x="28" y="0"/>
                    </a:lnTo>
                    <a:lnTo>
                      <a:pt x="14" y="0"/>
                    </a:lnTo>
                    <a:lnTo>
                      <a:pt x="28" y="0"/>
                    </a:lnTo>
                    <a:lnTo>
                      <a:pt x="28" y="15"/>
                    </a:lnTo>
                    <a:lnTo>
                      <a:pt x="14" y="15"/>
                    </a:lnTo>
                    <a:lnTo>
                      <a:pt x="0" y="0"/>
                    </a:lnTo>
                    <a:lnTo>
                      <a:pt x="14" y="0"/>
                    </a:lnTo>
                    <a:close/>
                  </a:path>
                </a:pathLst>
              </a:custGeom>
              <a:solidFill>
                <a:srgbClr val="179c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730" name=""/>
              <p:cNvGrpSpPr/>
              <p:nvPr/>
            </p:nvGrpSpPr>
            <p:grpSpPr>
              <a:xfrm>
                <a:off x="7969320" y="2143080"/>
                <a:ext cx="44280" cy="41400"/>
                <a:chOff x="7969320" y="2143080"/>
                <a:chExt cx="44280" cy="41400"/>
              </a:xfrm>
            </p:grpSpPr>
            <p:sp>
              <p:nvSpPr>
                <p:cNvPr id="1731" name=""/>
                <p:cNvSpPr/>
                <p:nvPr/>
              </p:nvSpPr>
              <p:spPr>
                <a:xfrm>
                  <a:off x="7969320" y="2143080"/>
                  <a:ext cx="44280" cy="41400"/>
                </a:xfrm>
                <a:custGeom>
                  <a:avLst/>
                  <a:gdLst/>
                  <a:ahLst/>
                  <a:rect l="l" t="t" r="r" b="b"/>
                  <a:pathLst>
                    <a:path w="83" h="79">
                      <a:moveTo>
                        <a:pt x="14" y="0"/>
                      </a:moveTo>
                      <a:lnTo>
                        <a:pt x="28" y="15"/>
                      </a:lnTo>
                      <a:lnTo>
                        <a:pt x="56" y="30"/>
                      </a:lnTo>
                      <a:lnTo>
                        <a:pt x="69" y="47"/>
                      </a:lnTo>
                      <a:lnTo>
                        <a:pt x="69" y="62"/>
                      </a:lnTo>
                      <a:lnTo>
                        <a:pt x="83" y="62"/>
                      </a:lnTo>
                      <a:lnTo>
                        <a:pt x="83" y="79"/>
                      </a:lnTo>
                      <a:lnTo>
                        <a:pt x="69" y="47"/>
                      </a:lnTo>
                      <a:lnTo>
                        <a:pt x="56" y="30"/>
                      </a:lnTo>
                      <a:lnTo>
                        <a:pt x="42" y="0"/>
                      </a:lnTo>
                      <a:lnTo>
                        <a:pt x="28" y="0"/>
                      </a:lnTo>
                      <a:lnTo>
                        <a:pt x="14" y="0"/>
                      </a:lnTo>
                      <a:lnTo>
                        <a:pt x="28" y="0"/>
                      </a:lnTo>
                      <a:lnTo>
                        <a:pt x="28" y="15"/>
                      </a:lnTo>
                      <a:lnTo>
                        <a:pt x="14" y="15"/>
                      </a:lnTo>
                      <a:lnTo>
                        <a:pt x="0" y="0"/>
                      </a:lnTo>
                      <a:lnTo>
                        <a:pt x="14" y="0"/>
                      </a:lnTo>
                      <a:close/>
                    </a:path>
                  </a:pathLst>
                </a:custGeom>
                <a:solidFill>
                  <a:srgbClr val="179c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2" name=""/>
                <p:cNvSpPr/>
                <p:nvPr/>
              </p:nvSpPr>
              <p:spPr>
                <a:xfrm>
                  <a:off x="7969320" y="2143080"/>
                  <a:ext cx="44280" cy="41400"/>
                </a:xfrm>
                <a:custGeom>
                  <a:avLst/>
                  <a:gdLst/>
                  <a:ahLst/>
                  <a:rect l="l" t="t" r="r" b="b"/>
                  <a:pathLst>
                    <a:path w="83" h="79">
                      <a:moveTo>
                        <a:pt x="14" y="0"/>
                      </a:moveTo>
                      <a:lnTo>
                        <a:pt x="28" y="15"/>
                      </a:lnTo>
                      <a:lnTo>
                        <a:pt x="56" y="30"/>
                      </a:lnTo>
                      <a:lnTo>
                        <a:pt x="69" y="47"/>
                      </a:lnTo>
                      <a:lnTo>
                        <a:pt x="69" y="62"/>
                      </a:lnTo>
                      <a:lnTo>
                        <a:pt x="83" y="62"/>
                      </a:lnTo>
                      <a:lnTo>
                        <a:pt x="83" y="79"/>
                      </a:lnTo>
                      <a:lnTo>
                        <a:pt x="69" y="47"/>
                      </a:lnTo>
                      <a:lnTo>
                        <a:pt x="56" y="30"/>
                      </a:lnTo>
                      <a:lnTo>
                        <a:pt x="42" y="0"/>
                      </a:lnTo>
                      <a:lnTo>
                        <a:pt x="28" y="0"/>
                      </a:lnTo>
                      <a:lnTo>
                        <a:pt x="14" y="0"/>
                      </a:lnTo>
                      <a:lnTo>
                        <a:pt x="28" y="0"/>
                      </a:lnTo>
                      <a:lnTo>
                        <a:pt x="28" y="15"/>
                      </a:lnTo>
                      <a:lnTo>
                        <a:pt x="14" y="15"/>
                      </a:lnTo>
                      <a:lnTo>
                        <a:pt x="0" y="0"/>
                      </a:lnTo>
                      <a:lnTo>
                        <a:pt x="14"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733" name=""/>
              <p:cNvSpPr/>
              <p:nvPr/>
            </p:nvSpPr>
            <p:spPr>
              <a:xfrm>
                <a:off x="7881840" y="2158920"/>
                <a:ext cx="14400" cy="17640"/>
              </a:xfrm>
              <a:custGeom>
                <a:avLst/>
                <a:gdLst/>
                <a:ahLst/>
                <a:rect l="l" t="t" r="r" b="b"/>
                <a:pathLst>
                  <a:path w="28" h="32">
                    <a:moveTo>
                      <a:pt x="0" y="0"/>
                    </a:moveTo>
                    <a:lnTo>
                      <a:pt x="14" y="0"/>
                    </a:lnTo>
                    <a:lnTo>
                      <a:pt x="28" y="17"/>
                    </a:lnTo>
                    <a:lnTo>
                      <a:pt x="28" y="32"/>
                    </a:lnTo>
                    <a:lnTo>
                      <a:pt x="0" y="0"/>
                    </a:lnTo>
                    <a:close/>
                  </a:path>
                </a:pathLst>
              </a:custGeom>
              <a:solidFill>
                <a:srgbClr val="179c8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734" name=""/>
              <p:cNvGrpSpPr/>
              <p:nvPr/>
            </p:nvGrpSpPr>
            <p:grpSpPr>
              <a:xfrm>
                <a:off x="7881840" y="2158920"/>
                <a:ext cx="14400" cy="17640"/>
                <a:chOff x="7881840" y="2158920"/>
                <a:chExt cx="14400" cy="17640"/>
              </a:xfrm>
            </p:grpSpPr>
            <p:sp>
              <p:nvSpPr>
                <p:cNvPr id="1735" name=""/>
                <p:cNvSpPr/>
                <p:nvPr/>
              </p:nvSpPr>
              <p:spPr>
                <a:xfrm>
                  <a:off x="7881840" y="2158920"/>
                  <a:ext cx="14400" cy="17640"/>
                </a:xfrm>
                <a:custGeom>
                  <a:avLst/>
                  <a:gdLst/>
                  <a:ahLst/>
                  <a:rect l="l" t="t" r="r" b="b"/>
                  <a:pathLst>
                    <a:path w="28" h="32">
                      <a:moveTo>
                        <a:pt x="0" y="0"/>
                      </a:moveTo>
                      <a:lnTo>
                        <a:pt x="14" y="0"/>
                      </a:lnTo>
                      <a:lnTo>
                        <a:pt x="28" y="17"/>
                      </a:lnTo>
                      <a:lnTo>
                        <a:pt x="28" y="32"/>
                      </a:lnTo>
                      <a:lnTo>
                        <a:pt x="0" y="0"/>
                      </a:lnTo>
                      <a:close/>
                    </a:path>
                  </a:pathLst>
                </a:custGeom>
                <a:solidFill>
                  <a:srgbClr val="179c8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6" name=""/>
                <p:cNvSpPr/>
                <p:nvPr/>
              </p:nvSpPr>
              <p:spPr>
                <a:xfrm>
                  <a:off x="7881840" y="2158920"/>
                  <a:ext cx="14400" cy="17640"/>
                </a:xfrm>
                <a:custGeom>
                  <a:avLst/>
                  <a:gdLst/>
                  <a:ahLst/>
                  <a:rect l="l" t="t" r="r" b="b"/>
                  <a:pathLst>
                    <a:path w="28" h="32">
                      <a:moveTo>
                        <a:pt x="0" y="0"/>
                      </a:moveTo>
                      <a:lnTo>
                        <a:pt x="14" y="0"/>
                      </a:lnTo>
                      <a:lnTo>
                        <a:pt x="28" y="17"/>
                      </a:lnTo>
                      <a:lnTo>
                        <a:pt x="28" y="32"/>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737" name=""/>
              <p:cNvSpPr/>
              <p:nvPr/>
            </p:nvSpPr>
            <p:spPr>
              <a:xfrm>
                <a:off x="7486560" y="2143080"/>
                <a:ext cx="28800" cy="33480"/>
              </a:xfrm>
              <a:custGeom>
                <a:avLst/>
                <a:gdLst/>
                <a:ahLst/>
                <a:rect l="l" t="t" r="r" b="b"/>
                <a:pathLst>
                  <a:path w="55" h="62">
                    <a:moveTo>
                      <a:pt x="14" y="30"/>
                    </a:moveTo>
                    <a:lnTo>
                      <a:pt x="14" y="62"/>
                    </a:lnTo>
                    <a:lnTo>
                      <a:pt x="0" y="30"/>
                    </a:lnTo>
                    <a:lnTo>
                      <a:pt x="0" y="15"/>
                    </a:lnTo>
                    <a:lnTo>
                      <a:pt x="28" y="0"/>
                    </a:lnTo>
                    <a:lnTo>
                      <a:pt x="42" y="0"/>
                    </a:lnTo>
                    <a:lnTo>
                      <a:pt x="55" y="0"/>
                    </a:lnTo>
                    <a:lnTo>
                      <a:pt x="42" y="15"/>
                    </a:lnTo>
                    <a:lnTo>
                      <a:pt x="14" y="30"/>
                    </a:lnTo>
                    <a:close/>
                  </a:path>
                </a:pathLst>
              </a:custGeom>
              <a:solidFill>
                <a:srgbClr val="179c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738" name=""/>
              <p:cNvGrpSpPr/>
              <p:nvPr/>
            </p:nvGrpSpPr>
            <p:grpSpPr>
              <a:xfrm>
                <a:off x="7486560" y="2143080"/>
                <a:ext cx="28800" cy="33480"/>
                <a:chOff x="7486560" y="2143080"/>
                <a:chExt cx="28800" cy="33480"/>
              </a:xfrm>
            </p:grpSpPr>
            <p:sp>
              <p:nvSpPr>
                <p:cNvPr id="1739" name=""/>
                <p:cNvSpPr/>
                <p:nvPr/>
              </p:nvSpPr>
              <p:spPr>
                <a:xfrm>
                  <a:off x="7486560" y="2143080"/>
                  <a:ext cx="28800" cy="33480"/>
                </a:xfrm>
                <a:custGeom>
                  <a:avLst/>
                  <a:gdLst/>
                  <a:ahLst/>
                  <a:rect l="l" t="t" r="r" b="b"/>
                  <a:pathLst>
                    <a:path w="55" h="62">
                      <a:moveTo>
                        <a:pt x="14" y="30"/>
                      </a:moveTo>
                      <a:lnTo>
                        <a:pt x="14" y="62"/>
                      </a:lnTo>
                      <a:lnTo>
                        <a:pt x="0" y="30"/>
                      </a:lnTo>
                      <a:lnTo>
                        <a:pt x="0" y="15"/>
                      </a:lnTo>
                      <a:lnTo>
                        <a:pt x="28" y="0"/>
                      </a:lnTo>
                      <a:lnTo>
                        <a:pt x="42" y="0"/>
                      </a:lnTo>
                      <a:lnTo>
                        <a:pt x="55" y="0"/>
                      </a:lnTo>
                      <a:lnTo>
                        <a:pt x="42" y="15"/>
                      </a:lnTo>
                      <a:lnTo>
                        <a:pt x="14" y="30"/>
                      </a:lnTo>
                      <a:close/>
                    </a:path>
                  </a:pathLst>
                </a:custGeom>
                <a:solidFill>
                  <a:srgbClr val="179c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0" name=""/>
                <p:cNvSpPr/>
                <p:nvPr/>
              </p:nvSpPr>
              <p:spPr>
                <a:xfrm>
                  <a:off x="7486560" y="2143080"/>
                  <a:ext cx="28800" cy="33480"/>
                </a:xfrm>
                <a:custGeom>
                  <a:avLst/>
                  <a:gdLst/>
                  <a:ahLst/>
                  <a:rect l="l" t="t" r="r" b="b"/>
                  <a:pathLst>
                    <a:path w="55" h="62">
                      <a:moveTo>
                        <a:pt x="14" y="30"/>
                      </a:moveTo>
                      <a:lnTo>
                        <a:pt x="14" y="62"/>
                      </a:lnTo>
                      <a:lnTo>
                        <a:pt x="0" y="30"/>
                      </a:lnTo>
                      <a:lnTo>
                        <a:pt x="0" y="15"/>
                      </a:lnTo>
                      <a:lnTo>
                        <a:pt x="28" y="0"/>
                      </a:lnTo>
                      <a:lnTo>
                        <a:pt x="42" y="0"/>
                      </a:lnTo>
                      <a:lnTo>
                        <a:pt x="55" y="0"/>
                      </a:lnTo>
                      <a:lnTo>
                        <a:pt x="42" y="15"/>
                      </a:lnTo>
                      <a:lnTo>
                        <a:pt x="14" y="3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741" name=""/>
              <p:cNvSpPr/>
              <p:nvPr/>
            </p:nvSpPr>
            <p:spPr>
              <a:xfrm>
                <a:off x="7794720" y="2158920"/>
                <a:ext cx="14040" cy="9720"/>
              </a:xfrm>
              <a:custGeom>
                <a:avLst/>
                <a:gdLst/>
                <a:ahLst/>
                <a:rect l="l" t="t" r="r" b="b"/>
                <a:pathLst>
                  <a:path w="28" h="17">
                    <a:moveTo>
                      <a:pt x="0" y="17"/>
                    </a:moveTo>
                    <a:lnTo>
                      <a:pt x="14" y="17"/>
                    </a:lnTo>
                    <a:lnTo>
                      <a:pt x="28" y="0"/>
                    </a:lnTo>
                    <a:lnTo>
                      <a:pt x="14" y="17"/>
                    </a:lnTo>
                    <a:lnTo>
                      <a:pt x="0" y="17"/>
                    </a:lnTo>
                    <a:close/>
                  </a:path>
                </a:pathLst>
              </a:custGeom>
              <a:solidFill>
                <a:srgbClr val="179c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1742" name=""/>
              <p:cNvGrpSpPr/>
              <p:nvPr/>
            </p:nvGrpSpPr>
            <p:grpSpPr>
              <a:xfrm>
                <a:off x="7794720" y="2158920"/>
                <a:ext cx="14040" cy="9720"/>
                <a:chOff x="7794720" y="2158920"/>
                <a:chExt cx="14040" cy="9720"/>
              </a:xfrm>
            </p:grpSpPr>
            <p:sp>
              <p:nvSpPr>
                <p:cNvPr id="1743" name=""/>
                <p:cNvSpPr/>
                <p:nvPr/>
              </p:nvSpPr>
              <p:spPr>
                <a:xfrm>
                  <a:off x="7794720" y="2158920"/>
                  <a:ext cx="14040" cy="9720"/>
                </a:xfrm>
                <a:custGeom>
                  <a:avLst/>
                  <a:gdLst/>
                  <a:ahLst/>
                  <a:rect l="l" t="t" r="r" b="b"/>
                  <a:pathLst>
                    <a:path w="28" h="17">
                      <a:moveTo>
                        <a:pt x="0" y="17"/>
                      </a:moveTo>
                      <a:lnTo>
                        <a:pt x="14" y="17"/>
                      </a:lnTo>
                      <a:lnTo>
                        <a:pt x="28" y="0"/>
                      </a:lnTo>
                      <a:lnTo>
                        <a:pt x="14" y="17"/>
                      </a:lnTo>
                      <a:lnTo>
                        <a:pt x="0" y="17"/>
                      </a:lnTo>
                      <a:close/>
                    </a:path>
                  </a:pathLst>
                </a:custGeom>
                <a:solidFill>
                  <a:srgbClr val="179c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4" name=""/>
                <p:cNvSpPr/>
                <p:nvPr/>
              </p:nvSpPr>
              <p:spPr>
                <a:xfrm>
                  <a:off x="7794720" y="2158920"/>
                  <a:ext cx="14040" cy="9720"/>
                </a:xfrm>
                <a:custGeom>
                  <a:avLst/>
                  <a:gdLst/>
                  <a:ahLst/>
                  <a:rect l="l" t="t" r="r" b="b"/>
                  <a:pathLst>
                    <a:path w="28" h="17">
                      <a:moveTo>
                        <a:pt x="0" y="17"/>
                      </a:moveTo>
                      <a:lnTo>
                        <a:pt x="14" y="17"/>
                      </a:lnTo>
                      <a:lnTo>
                        <a:pt x="28" y="0"/>
                      </a:lnTo>
                      <a:lnTo>
                        <a:pt x="14" y="17"/>
                      </a:lnTo>
                      <a:lnTo>
                        <a:pt x="0" y="17"/>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745" name=""/>
              <p:cNvSpPr/>
              <p:nvPr/>
            </p:nvSpPr>
            <p:spPr>
              <a:xfrm>
                <a:off x="6400800" y="2151000"/>
                <a:ext cx="15840" cy="25560"/>
              </a:xfrm>
              <a:custGeom>
                <a:avLst/>
                <a:gdLst/>
                <a:ahLst/>
                <a:rect l="l" t="t" r="r" b="b"/>
                <a:pathLst>
                  <a:path w="28" h="47">
                    <a:moveTo>
                      <a:pt x="28" y="15"/>
                    </a:moveTo>
                    <a:lnTo>
                      <a:pt x="28" y="32"/>
                    </a:lnTo>
                    <a:lnTo>
                      <a:pt x="14" y="47"/>
                    </a:lnTo>
                    <a:lnTo>
                      <a:pt x="0" y="47"/>
                    </a:lnTo>
                    <a:lnTo>
                      <a:pt x="0" y="32"/>
                    </a:lnTo>
                    <a:lnTo>
                      <a:pt x="0" y="15"/>
                    </a:lnTo>
                    <a:lnTo>
                      <a:pt x="0" y="0"/>
                    </a:lnTo>
                    <a:lnTo>
                      <a:pt x="0" y="15"/>
                    </a:lnTo>
                    <a:lnTo>
                      <a:pt x="0" y="32"/>
                    </a:lnTo>
                    <a:lnTo>
                      <a:pt x="14" y="32"/>
                    </a:lnTo>
                    <a:lnTo>
                      <a:pt x="28" y="15"/>
                    </a:lnTo>
                    <a:close/>
                  </a:path>
                </a:pathLst>
              </a:custGeom>
              <a:solidFill>
                <a:srgbClr val="179c8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746" name=""/>
              <p:cNvGrpSpPr/>
              <p:nvPr/>
            </p:nvGrpSpPr>
            <p:grpSpPr>
              <a:xfrm>
                <a:off x="6400800" y="2151000"/>
                <a:ext cx="15840" cy="25560"/>
                <a:chOff x="6400800" y="2151000"/>
                <a:chExt cx="15840" cy="25560"/>
              </a:xfrm>
            </p:grpSpPr>
            <p:sp>
              <p:nvSpPr>
                <p:cNvPr id="1747" name=""/>
                <p:cNvSpPr/>
                <p:nvPr/>
              </p:nvSpPr>
              <p:spPr>
                <a:xfrm>
                  <a:off x="6400800" y="2151000"/>
                  <a:ext cx="15840" cy="25560"/>
                </a:xfrm>
                <a:custGeom>
                  <a:avLst/>
                  <a:gdLst/>
                  <a:ahLst/>
                  <a:rect l="l" t="t" r="r" b="b"/>
                  <a:pathLst>
                    <a:path w="28" h="47">
                      <a:moveTo>
                        <a:pt x="28" y="15"/>
                      </a:moveTo>
                      <a:lnTo>
                        <a:pt x="28" y="32"/>
                      </a:lnTo>
                      <a:lnTo>
                        <a:pt x="14" y="47"/>
                      </a:lnTo>
                      <a:lnTo>
                        <a:pt x="0" y="47"/>
                      </a:lnTo>
                      <a:lnTo>
                        <a:pt x="0" y="32"/>
                      </a:lnTo>
                      <a:lnTo>
                        <a:pt x="0" y="15"/>
                      </a:lnTo>
                      <a:lnTo>
                        <a:pt x="0" y="0"/>
                      </a:lnTo>
                      <a:lnTo>
                        <a:pt x="0" y="15"/>
                      </a:lnTo>
                      <a:lnTo>
                        <a:pt x="0" y="32"/>
                      </a:lnTo>
                      <a:lnTo>
                        <a:pt x="14" y="32"/>
                      </a:lnTo>
                      <a:lnTo>
                        <a:pt x="28" y="15"/>
                      </a:lnTo>
                      <a:close/>
                    </a:path>
                  </a:pathLst>
                </a:custGeom>
                <a:solidFill>
                  <a:srgbClr val="179c8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8" name=""/>
                <p:cNvSpPr/>
                <p:nvPr/>
              </p:nvSpPr>
              <p:spPr>
                <a:xfrm>
                  <a:off x="6400800" y="2151000"/>
                  <a:ext cx="15840" cy="25560"/>
                </a:xfrm>
                <a:custGeom>
                  <a:avLst/>
                  <a:gdLst/>
                  <a:ahLst/>
                  <a:rect l="l" t="t" r="r" b="b"/>
                  <a:pathLst>
                    <a:path w="28" h="47">
                      <a:moveTo>
                        <a:pt x="28" y="15"/>
                      </a:moveTo>
                      <a:lnTo>
                        <a:pt x="28" y="32"/>
                      </a:lnTo>
                      <a:lnTo>
                        <a:pt x="14" y="47"/>
                      </a:lnTo>
                      <a:lnTo>
                        <a:pt x="0" y="47"/>
                      </a:lnTo>
                      <a:lnTo>
                        <a:pt x="0" y="32"/>
                      </a:lnTo>
                      <a:lnTo>
                        <a:pt x="0" y="15"/>
                      </a:lnTo>
                      <a:lnTo>
                        <a:pt x="0" y="0"/>
                      </a:lnTo>
                      <a:lnTo>
                        <a:pt x="0" y="15"/>
                      </a:lnTo>
                      <a:lnTo>
                        <a:pt x="0" y="32"/>
                      </a:lnTo>
                      <a:lnTo>
                        <a:pt x="14" y="32"/>
                      </a:lnTo>
                      <a:lnTo>
                        <a:pt x="28"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749" name=""/>
              <p:cNvSpPr/>
              <p:nvPr/>
            </p:nvSpPr>
            <p:spPr>
              <a:xfrm>
                <a:off x="6064200" y="2168640"/>
                <a:ext cx="14400" cy="7920"/>
              </a:xfrm>
              <a:custGeom>
                <a:avLst/>
                <a:gdLst/>
                <a:ahLst/>
                <a:rect l="l" t="t" r="r" b="b"/>
                <a:pathLst>
                  <a:path w="27" h="15">
                    <a:moveTo>
                      <a:pt x="27" y="0"/>
                    </a:moveTo>
                    <a:lnTo>
                      <a:pt x="13" y="0"/>
                    </a:lnTo>
                    <a:lnTo>
                      <a:pt x="13" y="15"/>
                    </a:lnTo>
                    <a:lnTo>
                      <a:pt x="0" y="15"/>
                    </a:lnTo>
                    <a:lnTo>
                      <a:pt x="13" y="15"/>
                    </a:lnTo>
                    <a:lnTo>
                      <a:pt x="13" y="0"/>
                    </a:lnTo>
                    <a:lnTo>
                      <a:pt x="27"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750" name=""/>
              <p:cNvGrpSpPr/>
              <p:nvPr/>
            </p:nvGrpSpPr>
            <p:grpSpPr>
              <a:xfrm>
                <a:off x="6064200" y="2168640"/>
                <a:ext cx="14400" cy="7920"/>
                <a:chOff x="6064200" y="2168640"/>
                <a:chExt cx="14400" cy="7920"/>
              </a:xfrm>
            </p:grpSpPr>
            <p:sp>
              <p:nvSpPr>
                <p:cNvPr id="1751" name=""/>
                <p:cNvSpPr/>
                <p:nvPr/>
              </p:nvSpPr>
              <p:spPr>
                <a:xfrm>
                  <a:off x="6064200" y="2168640"/>
                  <a:ext cx="14400" cy="7920"/>
                </a:xfrm>
                <a:custGeom>
                  <a:avLst/>
                  <a:gdLst/>
                  <a:ahLst/>
                  <a:rect l="l" t="t" r="r" b="b"/>
                  <a:pathLst>
                    <a:path w="27" h="15">
                      <a:moveTo>
                        <a:pt x="27" y="0"/>
                      </a:moveTo>
                      <a:lnTo>
                        <a:pt x="13" y="0"/>
                      </a:lnTo>
                      <a:lnTo>
                        <a:pt x="13" y="15"/>
                      </a:lnTo>
                      <a:lnTo>
                        <a:pt x="0" y="15"/>
                      </a:lnTo>
                      <a:lnTo>
                        <a:pt x="13" y="15"/>
                      </a:lnTo>
                      <a:lnTo>
                        <a:pt x="13" y="0"/>
                      </a:lnTo>
                      <a:lnTo>
                        <a:pt x="27"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2" name=""/>
                <p:cNvSpPr/>
                <p:nvPr/>
              </p:nvSpPr>
              <p:spPr>
                <a:xfrm>
                  <a:off x="6064200" y="2168640"/>
                  <a:ext cx="14400" cy="7920"/>
                </a:xfrm>
                <a:custGeom>
                  <a:avLst/>
                  <a:gdLst/>
                  <a:ahLst/>
                  <a:rect l="l" t="t" r="r" b="b"/>
                  <a:pathLst>
                    <a:path w="27" h="15">
                      <a:moveTo>
                        <a:pt x="27" y="0"/>
                      </a:moveTo>
                      <a:lnTo>
                        <a:pt x="13" y="0"/>
                      </a:lnTo>
                      <a:lnTo>
                        <a:pt x="13" y="15"/>
                      </a:lnTo>
                      <a:lnTo>
                        <a:pt x="0" y="15"/>
                      </a:lnTo>
                      <a:lnTo>
                        <a:pt x="13" y="15"/>
                      </a:lnTo>
                      <a:lnTo>
                        <a:pt x="13" y="0"/>
                      </a:lnTo>
                      <a:lnTo>
                        <a:pt x="27"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53" name=""/>
              <p:cNvSpPr/>
              <p:nvPr/>
            </p:nvSpPr>
            <p:spPr>
              <a:xfrm>
                <a:off x="8028000" y="2143080"/>
                <a:ext cx="36360" cy="57240"/>
              </a:xfrm>
              <a:custGeom>
                <a:avLst/>
                <a:gdLst/>
                <a:ahLst/>
                <a:rect l="l" t="t" r="r" b="b"/>
                <a:pathLst>
                  <a:path w="69" h="109">
                    <a:moveTo>
                      <a:pt x="41" y="0"/>
                    </a:moveTo>
                    <a:lnTo>
                      <a:pt x="55" y="30"/>
                    </a:lnTo>
                    <a:lnTo>
                      <a:pt x="55" y="47"/>
                    </a:lnTo>
                    <a:lnTo>
                      <a:pt x="69" y="62"/>
                    </a:lnTo>
                    <a:lnTo>
                      <a:pt x="55" y="79"/>
                    </a:lnTo>
                    <a:lnTo>
                      <a:pt x="55" y="94"/>
                    </a:lnTo>
                    <a:lnTo>
                      <a:pt x="41" y="109"/>
                    </a:lnTo>
                    <a:lnTo>
                      <a:pt x="28" y="109"/>
                    </a:lnTo>
                    <a:lnTo>
                      <a:pt x="14" y="109"/>
                    </a:lnTo>
                    <a:lnTo>
                      <a:pt x="0" y="109"/>
                    </a:lnTo>
                    <a:lnTo>
                      <a:pt x="14" y="94"/>
                    </a:lnTo>
                    <a:lnTo>
                      <a:pt x="28" y="94"/>
                    </a:lnTo>
                    <a:lnTo>
                      <a:pt x="41" y="94"/>
                    </a:lnTo>
                    <a:lnTo>
                      <a:pt x="41" y="47"/>
                    </a:lnTo>
                    <a:lnTo>
                      <a:pt x="41" y="30"/>
                    </a:lnTo>
                    <a:lnTo>
                      <a:pt x="41" y="15"/>
                    </a:lnTo>
                    <a:lnTo>
                      <a:pt x="41" y="0"/>
                    </a:lnTo>
                    <a:close/>
                  </a:path>
                </a:pathLst>
              </a:custGeom>
              <a:solidFill>
                <a:srgbClr val="179c8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754" name=""/>
              <p:cNvGrpSpPr/>
              <p:nvPr/>
            </p:nvGrpSpPr>
            <p:grpSpPr>
              <a:xfrm>
                <a:off x="8028000" y="2143080"/>
                <a:ext cx="36360" cy="57240"/>
                <a:chOff x="8028000" y="2143080"/>
                <a:chExt cx="36360" cy="57240"/>
              </a:xfrm>
            </p:grpSpPr>
            <p:sp>
              <p:nvSpPr>
                <p:cNvPr id="1755" name=""/>
                <p:cNvSpPr/>
                <p:nvPr/>
              </p:nvSpPr>
              <p:spPr>
                <a:xfrm>
                  <a:off x="8028000" y="2143080"/>
                  <a:ext cx="36360" cy="57240"/>
                </a:xfrm>
                <a:custGeom>
                  <a:avLst/>
                  <a:gdLst/>
                  <a:ahLst/>
                  <a:rect l="l" t="t" r="r" b="b"/>
                  <a:pathLst>
                    <a:path w="69" h="109">
                      <a:moveTo>
                        <a:pt x="41" y="0"/>
                      </a:moveTo>
                      <a:lnTo>
                        <a:pt x="55" y="30"/>
                      </a:lnTo>
                      <a:lnTo>
                        <a:pt x="55" y="47"/>
                      </a:lnTo>
                      <a:lnTo>
                        <a:pt x="69" y="62"/>
                      </a:lnTo>
                      <a:lnTo>
                        <a:pt x="55" y="79"/>
                      </a:lnTo>
                      <a:lnTo>
                        <a:pt x="55" y="94"/>
                      </a:lnTo>
                      <a:lnTo>
                        <a:pt x="41" y="109"/>
                      </a:lnTo>
                      <a:lnTo>
                        <a:pt x="28" y="109"/>
                      </a:lnTo>
                      <a:lnTo>
                        <a:pt x="14" y="109"/>
                      </a:lnTo>
                      <a:lnTo>
                        <a:pt x="0" y="109"/>
                      </a:lnTo>
                      <a:lnTo>
                        <a:pt x="14" y="94"/>
                      </a:lnTo>
                      <a:lnTo>
                        <a:pt x="28" y="94"/>
                      </a:lnTo>
                      <a:lnTo>
                        <a:pt x="41" y="94"/>
                      </a:lnTo>
                      <a:lnTo>
                        <a:pt x="41" y="47"/>
                      </a:lnTo>
                      <a:lnTo>
                        <a:pt x="41" y="30"/>
                      </a:lnTo>
                      <a:lnTo>
                        <a:pt x="41" y="15"/>
                      </a:lnTo>
                      <a:lnTo>
                        <a:pt x="41" y="0"/>
                      </a:lnTo>
                      <a:close/>
                    </a:path>
                  </a:pathLst>
                </a:custGeom>
                <a:solidFill>
                  <a:srgbClr val="179c8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6" name=""/>
                <p:cNvSpPr/>
                <p:nvPr/>
              </p:nvSpPr>
              <p:spPr>
                <a:xfrm>
                  <a:off x="8028000" y="2143080"/>
                  <a:ext cx="36360" cy="57240"/>
                </a:xfrm>
                <a:custGeom>
                  <a:avLst/>
                  <a:gdLst/>
                  <a:ahLst/>
                  <a:rect l="l" t="t" r="r" b="b"/>
                  <a:pathLst>
                    <a:path w="69" h="109">
                      <a:moveTo>
                        <a:pt x="41" y="0"/>
                      </a:moveTo>
                      <a:lnTo>
                        <a:pt x="55" y="30"/>
                      </a:lnTo>
                      <a:lnTo>
                        <a:pt x="55" y="47"/>
                      </a:lnTo>
                      <a:lnTo>
                        <a:pt x="69" y="62"/>
                      </a:lnTo>
                      <a:lnTo>
                        <a:pt x="55" y="79"/>
                      </a:lnTo>
                      <a:lnTo>
                        <a:pt x="55" y="94"/>
                      </a:lnTo>
                      <a:lnTo>
                        <a:pt x="41" y="109"/>
                      </a:lnTo>
                      <a:lnTo>
                        <a:pt x="28" y="109"/>
                      </a:lnTo>
                      <a:lnTo>
                        <a:pt x="14" y="109"/>
                      </a:lnTo>
                      <a:lnTo>
                        <a:pt x="0" y="109"/>
                      </a:lnTo>
                      <a:lnTo>
                        <a:pt x="14" y="94"/>
                      </a:lnTo>
                      <a:lnTo>
                        <a:pt x="28" y="94"/>
                      </a:lnTo>
                      <a:lnTo>
                        <a:pt x="41" y="94"/>
                      </a:lnTo>
                      <a:lnTo>
                        <a:pt x="41" y="47"/>
                      </a:lnTo>
                      <a:lnTo>
                        <a:pt x="41" y="30"/>
                      </a:lnTo>
                      <a:lnTo>
                        <a:pt x="41" y="15"/>
                      </a:lnTo>
                      <a:lnTo>
                        <a:pt x="41"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757" name=""/>
              <p:cNvSpPr/>
              <p:nvPr/>
            </p:nvSpPr>
            <p:spPr>
              <a:xfrm>
                <a:off x="6056280" y="2184480"/>
                <a:ext cx="7920" cy="1440"/>
              </a:xfrm>
              <a:custGeom>
                <a:avLst/>
                <a:gdLst/>
                <a:ahLst/>
                <a:rect l="l" t="t" r="r" b="b"/>
                <a:pathLst>
                  <a:path w="14" h="0">
                    <a:moveTo>
                      <a:pt x="14" y="0"/>
                    </a:moveTo>
                    <a:lnTo>
                      <a:pt x="0" y="0"/>
                    </a:lnTo>
                    <a:lnTo>
                      <a:pt x="14"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58" name=""/>
              <p:cNvGrpSpPr/>
              <p:nvPr/>
            </p:nvGrpSpPr>
            <p:grpSpPr>
              <a:xfrm>
                <a:off x="6056280" y="2184480"/>
                <a:ext cx="7920" cy="1440"/>
                <a:chOff x="6056280" y="2184480"/>
                <a:chExt cx="7920" cy="1440"/>
              </a:xfrm>
            </p:grpSpPr>
            <p:sp>
              <p:nvSpPr>
                <p:cNvPr id="1759" name=""/>
                <p:cNvSpPr/>
                <p:nvPr/>
              </p:nvSpPr>
              <p:spPr>
                <a:xfrm>
                  <a:off x="6056280" y="2184480"/>
                  <a:ext cx="7920" cy="1440"/>
                </a:xfrm>
                <a:custGeom>
                  <a:avLst/>
                  <a:gdLst/>
                  <a:ahLst/>
                  <a:rect l="l" t="t" r="r" b="b"/>
                  <a:pathLst>
                    <a:path w="14" h="0">
                      <a:moveTo>
                        <a:pt x="14" y="0"/>
                      </a:moveTo>
                      <a:lnTo>
                        <a:pt x="0" y="0"/>
                      </a:lnTo>
                      <a:lnTo>
                        <a:pt x="14"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6056280" y="2184480"/>
                  <a:ext cx="7920" cy="1440"/>
                </a:xfrm>
                <a:custGeom>
                  <a:avLst/>
                  <a:gdLst/>
                  <a:ahLst/>
                  <a:rect l="l" t="t" r="r" b="b"/>
                  <a:pathLst>
                    <a:path w="14" h="0">
                      <a:moveTo>
                        <a:pt x="14" y="0"/>
                      </a:moveTo>
                      <a:lnTo>
                        <a:pt x="0" y="0"/>
                      </a:lnTo>
                      <a:lnTo>
                        <a:pt x="1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761" name=""/>
              <p:cNvSpPr/>
              <p:nvPr/>
            </p:nvSpPr>
            <p:spPr>
              <a:xfrm>
                <a:off x="6078600" y="2168640"/>
                <a:ext cx="22320" cy="48960"/>
              </a:xfrm>
              <a:custGeom>
                <a:avLst/>
                <a:gdLst/>
                <a:ahLst/>
                <a:rect l="l" t="t" r="r" b="b"/>
                <a:pathLst>
                  <a:path w="42" h="94">
                    <a:moveTo>
                      <a:pt x="14" y="32"/>
                    </a:moveTo>
                    <a:lnTo>
                      <a:pt x="42" y="0"/>
                    </a:lnTo>
                    <a:lnTo>
                      <a:pt x="42" y="32"/>
                    </a:lnTo>
                    <a:lnTo>
                      <a:pt x="14" y="94"/>
                    </a:lnTo>
                    <a:lnTo>
                      <a:pt x="0" y="94"/>
                    </a:lnTo>
                    <a:lnTo>
                      <a:pt x="0" y="62"/>
                    </a:lnTo>
                    <a:lnTo>
                      <a:pt x="14" y="47"/>
                    </a:lnTo>
                    <a:lnTo>
                      <a:pt x="14" y="32"/>
                    </a:lnTo>
                    <a:close/>
                  </a:path>
                </a:pathLst>
              </a:custGeom>
              <a:solidFill>
                <a:srgbClr val="179c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762" name=""/>
              <p:cNvGrpSpPr/>
              <p:nvPr/>
            </p:nvGrpSpPr>
            <p:grpSpPr>
              <a:xfrm>
                <a:off x="6078600" y="2168640"/>
                <a:ext cx="22320" cy="48960"/>
                <a:chOff x="6078600" y="2168640"/>
                <a:chExt cx="22320" cy="48960"/>
              </a:xfrm>
            </p:grpSpPr>
            <p:sp>
              <p:nvSpPr>
                <p:cNvPr id="1763" name=""/>
                <p:cNvSpPr/>
                <p:nvPr/>
              </p:nvSpPr>
              <p:spPr>
                <a:xfrm>
                  <a:off x="6078600" y="2168640"/>
                  <a:ext cx="22320" cy="48960"/>
                </a:xfrm>
                <a:custGeom>
                  <a:avLst/>
                  <a:gdLst/>
                  <a:ahLst/>
                  <a:rect l="l" t="t" r="r" b="b"/>
                  <a:pathLst>
                    <a:path w="42" h="94">
                      <a:moveTo>
                        <a:pt x="14" y="32"/>
                      </a:moveTo>
                      <a:lnTo>
                        <a:pt x="42" y="0"/>
                      </a:lnTo>
                      <a:lnTo>
                        <a:pt x="42" y="32"/>
                      </a:lnTo>
                      <a:lnTo>
                        <a:pt x="14" y="94"/>
                      </a:lnTo>
                      <a:lnTo>
                        <a:pt x="0" y="94"/>
                      </a:lnTo>
                      <a:lnTo>
                        <a:pt x="0" y="62"/>
                      </a:lnTo>
                      <a:lnTo>
                        <a:pt x="14" y="47"/>
                      </a:lnTo>
                      <a:lnTo>
                        <a:pt x="14" y="32"/>
                      </a:lnTo>
                      <a:close/>
                    </a:path>
                  </a:pathLst>
                </a:custGeom>
                <a:solidFill>
                  <a:srgbClr val="179c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4" name=""/>
                <p:cNvSpPr/>
                <p:nvPr/>
              </p:nvSpPr>
              <p:spPr>
                <a:xfrm>
                  <a:off x="6078600" y="2168640"/>
                  <a:ext cx="22320" cy="48960"/>
                </a:xfrm>
                <a:custGeom>
                  <a:avLst/>
                  <a:gdLst/>
                  <a:ahLst/>
                  <a:rect l="l" t="t" r="r" b="b"/>
                  <a:pathLst>
                    <a:path w="42" h="94">
                      <a:moveTo>
                        <a:pt x="14" y="32"/>
                      </a:moveTo>
                      <a:lnTo>
                        <a:pt x="42" y="0"/>
                      </a:lnTo>
                      <a:lnTo>
                        <a:pt x="42" y="32"/>
                      </a:lnTo>
                      <a:lnTo>
                        <a:pt x="14" y="94"/>
                      </a:lnTo>
                      <a:lnTo>
                        <a:pt x="0" y="94"/>
                      </a:lnTo>
                      <a:lnTo>
                        <a:pt x="0" y="62"/>
                      </a:lnTo>
                      <a:lnTo>
                        <a:pt x="14" y="47"/>
                      </a:lnTo>
                      <a:lnTo>
                        <a:pt x="14" y="32"/>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765" name=""/>
              <p:cNvSpPr/>
              <p:nvPr/>
            </p:nvSpPr>
            <p:spPr>
              <a:xfrm>
                <a:off x="6305400" y="2209680"/>
                <a:ext cx="14400" cy="7920"/>
              </a:xfrm>
              <a:custGeom>
                <a:avLst/>
                <a:gdLst/>
                <a:ahLst/>
                <a:rect l="l" t="t" r="r" b="b"/>
                <a:pathLst>
                  <a:path w="28" h="15">
                    <a:moveTo>
                      <a:pt x="28" y="0"/>
                    </a:moveTo>
                    <a:lnTo>
                      <a:pt x="14" y="0"/>
                    </a:lnTo>
                    <a:lnTo>
                      <a:pt x="0" y="15"/>
                    </a:lnTo>
                    <a:lnTo>
                      <a:pt x="14" y="0"/>
                    </a:lnTo>
                    <a:lnTo>
                      <a:pt x="28"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766" name=""/>
              <p:cNvGrpSpPr/>
              <p:nvPr/>
            </p:nvGrpSpPr>
            <p:grpSpPr>
              <a:xfrm>
                <a:off x="6305400" y="2209680"/>
                <a:ext cx="14400" cy="7920"/>
                <a:chOff x="6305400" y="2209680"/>
                <a:chExt cx="14400" cy="7920"/>
              </a:xfrm>
            </p:grpSpPr>
            <p:sp>
              <p:nvSpPr>
                <p:cNvPr id="1767" name=""/>
                <p:cNvSpPr/>
                <p:nvPr/>
              </p:nvSpPr>
              <p:spPr>
                <a:xfrm>
                  <a:off x="6305400" y="2209680"/>
                  <a:ext cx="14400" cy="7920"/>
                </a:xfrm>
                <a:custGeom>
                  <a:avLst/>
                  <a:gdLst/>
                  <a:ahLst/>
                  <a:rect l="l" t="t" r="r" b="b"/>
                  <a:pathLst>
                    <a:path w="28" h="15">
                      <a:moveTo>
                        <a:pt x="28" y="0"/>
                      </a:moveTo>
                      <a:lnTo>
                        <a:pt x="14" y="0"/>
                      </a:lnTo>
                      <a:lnTo>
                        <a:pt x="0" y="15"/>
                      </a:lnTo>
                      <a:lnTo>
                        <a:pt x="14" y="0"/>
                      </a:lnTo>
                      <a:lnTo>
                        <a:pt x="28"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8" name=""/>
                <p:cNvSpPr/>
                <p:nvPr/>
              </p:nvSpPr>
              <p:spPr>
                <a:xfrm>
                  <a:off x="6305400" y="2209680"/>
                  <a:ext cx="14400" cy="7920"/>
                </a:xfrm>
                <a:custGeom>
                  <a:avLst/>
                  <a:gdLst/>
                  <a:ahLst/>
                  <a:rect l="l" t="t" r="r" b="b"/>
                  <a:pathLst>
                    <a:path w="28" h="15">
                      <a:moveTo>
                        <a:pt x="28" y="0"/>
                      </a:moveTo>
                      <a:lnTo>
                        <a:pt x="14" y="0"/>
                      </a:lnTo>
                      <a:lnTo>
                        <a:pt x="0" y="15"/>
                      </a:lnTo>
                      <a:lnTo>
                        <a:pt x="14" y="0"/>
                      </a:lnTo>
                      <a:lnTo>
                        <a:pt x="2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69" name=""/>
              <p:cNvSpPr/>
              <p:nvPr/>
            </p:nvSpPr>
            <p:spPr>
              <a:xfrm>
                <a:off x="7932600" y="2217600"/>
                <a:ext cx="1800" cy="7920"/>
              </a:xfrm>
              <a:custGeom>
                <a:avLst/>
                <a:gdLst/>
                <a:ahLst/>
                <a:rect l="l" t="t" r="r" b="b"/>
                <a:pathLst>
                  <a:path w="0" h="16">
                    <a:moveTo>
                      <a:pt x="0" y="0"/>
                    </a:moveTo>
                    <a:lnTo>
                      <a:pt x="0" y="16"/>
                    </a:lnTo>
                    <a:lnTo>
                      <a:pt x="0"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770" name=""/>
              <p:cNvGrpSpPr/>
              <p:nvPr/>
            </p:nvGrpSpPr>
            <p:grpSpPr>
              <a:xfrm>
                <a:off x="7932600" y="2217600"/>
                <a:ext cx="1800" cy="7920"/>
                <a:chOff x="7932600" y="2217600"/>
                <a:chExt cx="1800" cy="7920"/>
              </a:xfrm>
            </p:grpSpPr>
            <p:sp>
              <p:nvSpPr>
                <p:cNvPr id="1771" name=""/>
                <p:cNvSpPr/>
                <p:nvPr/>
              </p:nvSpPr>
              <p:spPr>
                <a:xfrm>
                  <a:off x="7932600" y="2217600"/>
                  <a:ext cx="1800" cy="7920"/>
                </a:xfrm>
                <a:custGeom>
                  <a:avLst/>
                  <a:gdLst/>
                  <a:ahLst/>
                  <a:rect l="l" t="t" r="r" b="b"/>
                  <a:pathLst>
                    <a:path w="0" h="16">
                      <a:moveTo>
                        <a:pt x="0" y="0"/>
                      </a:moveTo>
                      <a:lnTo>
                        <a:pt x="0" y="16"/>
                      </a:lnTo>
                      <a:lnTo>
                        <a:pt x="0" y="0"/>
                      </a:lnTo>
                      <a:close/>
                    </a:path>
                  </a:pathLst>
                </a:custGeom>
                <a:solidFill>
                  <a:srgbClr val="179c8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2" name=""/>
                <p:cNvSpPr/>
                <p:nvPr/>
              </p:nvSpPr>
              <p:spPr>
                <a:xfrm>
                  <a:off x="7932600" y="2217600"/>
                  <a:ext cx="1800" cy="7920"/>
                </a:xfrm>
                <a:custGeom>
                  <a:avLst/>
                  <a:gdLst/>
                  <a:ahLst/>
                  <a:rect l="l" t="t" r="r" b="b"/>
                  <a:pathLst>
                    <a:path w="0" h="16">
                      <a:moveTo>
                        <a:pt x="0" y="0"/>
                      </a:moveTo>
                      <a:lnTo>
                        <a:pt x="0" y="16"/>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73" name=""/>
              <p:cNvSpPr/>
              <p:nvPr/>
            </p:nvSpPr>
            <p:spPr>
              <a:xfrm>
                <a:off x="7470720" y="2200320"/>
                <a:ext cx="7920" cy="42840"/>
              </a:xfrm>
              <a:custGeom>
                <a:avLst/>
                <a:gdLst/>
                <a:ahLst/>
                <a:rect l="l" t="t" r="r" b="b"/>
                <a:pathLst>
                  <a:path w="14" h="79">
                    <a:moveTo>
                      <a:pt x="0" y="79"/>
                    </a:moveTo>
                    <a:lnTo>
                      <a:pt x="0" y="48"/>
                    </a:lnTo>
                    <a:lnTo>
                      <a:pt x="14" y="32"/>
                    </a:lnTo>
                    <a:lnTo>
                      <a:pt x="14" y="0"/>
                    </a:lnTo>
                    <a:lnTo>
                      <a:pt x="0" y="17"/>
                    </a:lnTo>
                    <a:lnTo>
                      <a:pt x="14" y="32"/>
                    </a:lnTo>
                    <a:lnTo>
                      <a:pt x="14" y="48"/>
                    </a:lnTo>
                    <a:lnTo>
                      <a:pt x="0" y="48"/>
                    </a:lnTo>
                    <a:lnTo>
                      <a:pt x="0" y="64"/>
                    </a:lnTo>
                    <a:lnTo>
                      <a:pt x="0" y="79"/>
                    </a:lnTo>
                    <a:close/>
                  </a:path>
                </a:pathLst>
              </a:custGeom>
              <a:solidFill>
                <a:srgbClr val="179c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774" name=""/>
              <p:cNvGrpSpPr/>
              <p:nvPr/>
            </p:nvGrpSpPr>
            <p:grpSpPr>
              <a:xfrm>
                <a:off x="7470720" y="2200320"/>
                <a:ext cx="7920" cy="42840"/>
                <a:chOff x="7470720" y="2200320"/>
                <a:chExt cx="7920" cy="42840"/>
              </a:xfrm>
            </p:grpSpPr>
            <p:sp>
              <p:nvSpPr>
                <p:cNvPr id="1775" name=""/>
                <p:cNvSpPr/>
                <p:nvPr/>
              </p:nvSpPr>
              <p:spPr>
                <a:xfrm>
                  <a:off x="7470720" y="2200320"/>
                  <a:ext cx="7920" cy="42840"/>
                </a:xfrm>
                <a:custGeom>
                  <a:avLst/>
                  <a:gdLst/>
                  <a:ahLst/>
                  <a:rect l="l" t="t" r="r" b="b"/>
                  <a:pathLst>
                    <a:path w="14" h="79">
                      <a:moveTo>
                        <a:pt x="0" y="79"/>
                      </a:moveTo>
                      <a:lnTo>
                        <a:pt x="0" y="48"/>
                      </a:lnTo>
                      <a:lnTo>
                        <a:pt x="14" y="32"/>
                      </a:lnTo>
                      <a:lnTo>
                        <a:pt x="14" y="0"/>
                      </a:lnTo>
                      <a:lnTo>
                        <a:pt x="0" y="17"/>
                      </a:lnTo>
                      <a:lnTo>
                        <a:pt x="14" y="32"/>
                      </a:lnTo>
                      <a:lnTo>
                        <a:pt x="14" y="48"/>
                      </a:lnTo>
                      <a:lnTo>
                        <a:pt x="0" y="48"/>
                      </a:lnTo>
                      <a:lnTo>
                        <a:pt x="0" y="64"/>
                      </a:lnTo>
                      <a:lnTo>
                        <a:pt x="0" y="79"/>
                      </a:lnTo>
                      <a:close/>
                    </a:path>
                  </a:pathLst>
                </a:custGeom>
                <a:solidFill>
                  <a:srgbClr val="179c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6" name=""/>
                <p:cNvSpPr/>
                <p:nvPr/>
              </p:nvSpPr>
              <p:spPr>
                <a:xfrm>
                  <a:off x="7470720" y="2200320"/>
                  <a:ext cx="7920" cy="42840"/>
                </a:xfrm>
                <a:custGeom>
                  <a:avLst/>
                  <a:gdLst/>
                  <a:ahLst/>
                  <a:rect l="l" t="t" r="r" b="b"/>
                  <a:pathLst>
                    <a:path w="14" h="79">
                      <a:moveTo>
                        <a:pt x="0" y="79"/>
                      </a:moveTo>
                      <a:lnTo>
                        <a:pt x="0" y="48"/>
                      </a:lnTo>
                      <a:lnTo>
                        <a:pt x="14" y="32"/>
                      </a:lnTo>
                      <a:lnTo>
                        <a:pt x="14" y="0"/>
                      </a:lnTo>
                      <a:lnTo>
                        <a:pt x="0" y="17"/>
                      </a:lnTo>
                      <a:lnTo>
                        <a:pt x="14" y="32"/>
                      </a:lnTo>
                      <a:lnTo>
                        <a:pt x="14" y="48"/>
                      </a:lnTo>
                      <a:lnTo>
                        <a:pt x="0" y="48"/>
                      </a:lnTo>
                      <a:lnTo>
                        <a:pt x="0" y="64"/>
                      </a:lnTo>
                      <a:lnTo>
                        <a:pt x="0" y="79"/>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777" name=""/>
              <p:cNvSpPr/>
              <p:nvPr/>
            </p:nvSpPr>
            <p:spPr>
              <a:xfrm>
                <a:off x="6086520" y="2225520"/>
                <a:ext cx="14400" cy="17640"/>
              </a:xfrm>
              <a:custGeom>
                <a:avLst/>
                <a:gdLst/>
                <a:ahLst/>
                <a:rect l="l" t="t" r="r" b="b"/>
                <a:pathLst>
                  <a:path w="28" h="31">
                    <a:moveTo>
                      <a:pt x="28" y="0"/>
                    </a:moveTo>
                    <a:lnTo>
                      <a:pt x="14" y="16"/>
                    </a:lnTo>
                    <a:lnTo>
                      <a:pt x="0" y="31"/>
                    </a:lnTo>
                    <a:lnTo>
                      <a:pt x="14" y="16"/>
                    </a:lnTo>
                    <a:lnTo>
                      <a:pt x="28" y="0"/>
                    </a:lnTo>
                    <a:close/>
                  </a:path>
                </a:pathLst>
              </a:custGeom>
              <a:solidFill>
                <a:srgbClr val="179c8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778" name=""/>
              <p:cNvGrpSpPr/>
              <p:nvPr/>
            </p:nvGrpSpPr>
            <p:grpSpPr>
              <a:xfrm>
                <a:off x="6086520" y="2225520"/>
                <a:ext cx="14400" cy="17640"/>
                <a:chOff x="6086520" y="2225520"/>
                <a:chExt cx="14400" cy="17640"/>
              </a:xfrm>
            </p:grpSpPr>
            <p:sp>
              <p:nvSpPr>
                <p:cNvPr id="1779" name=""/>
                <p:cNvSpPr/>
                <p:nvPr/>
              </p:nvSpPr>
              <p:spPr>
                <a:xfrm>
                  <a:off x="6086520" y="2225520"/>
                  <a:ext cx="14400" cy="17640"/>
                </a:xfrm>
                <a:custGeom>
                  <a:avLst/>
                  <a:gdLst/>
                  <a:ahLst/>
                  <a:rect l="l" t="t" r="r" b="b"/>
                  <a:pathLst>
                    <a:path w="28" h="31">
                      <a:moveTo>
                        <a:pt x="28" y="0"/>
                      </a:moveTo>
                      <a:lnTo>
                        <a:pt x="14" y="16"/>
                      </a:lnTo>
                      <a:lnTo>
                        <a:pt x="0" y="31"/>
                      </a:lnTo>
                      <a:lnTo>
                        <a:pt x="14" y="16"/>
                      </a:lnTo>
                      <a:lnTo>
                        <a:pt x="28" y="0"/>
                      </a:lnTo>
                      <a:close/>
                    </a:path>
                  </a:pathLst>
                </a:custGeom>
                <a:solidFill>
                  <a:srgbClr val="179c8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0" name=""/>
                <p:cNvSpPr/>
                <p:nvPr/>
              </p:nvSpPr>
              <p:spPr>
                <a:xfrm>
                  <a:off x="6086520" y="2225520"/>
                  <a:ext cx="14400" cy="17640"/>
                </a:xfrm>
                <a:custGeom>
                  <a:avLst/>
                  <a:gdLst/>
                  <a:ahLst/>
                  <a:rect l="l" t="t" r="r" b="b"/>
                  <a:pathLst>
                    <a:path w="28" h="31">
                      <a:moveTo>
                        <a:pt x="28" y="0"/>
                      </a:moveTo>
                      <a:lnTo>
                        <a:pt x="14" y="16"/>
                      </a:lnTo>
                      <a:lnTo>
                        <a:pt x="0" y="31"/>
                      </a:lnTo>
                      <a:lnTo>
                        <a:pt x="14" y="16"/>
                      </a:lnTo>
                      <a:lnTo>
                        <a:pt x="28"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781" name=""/>
              <p:cNvSpPr/>
              <p:nvPr/>
            </p:nvSpPr>
            <p:spPr>
              <a:xfrm>
                <a:off x="7853400" y="2235240"/>
                <a:ext cx="6480" cy="23760"/>
              </a:xfrm>
              <a:custGeom>
                <a:avLst/>
                <a:gdLst/>
                <a:ahLst/>
                <a:rect l="l" t="t" r="r" b="b"/>
                <a:pathLst>
                  <a:path w="14" h="47">
                    <a:moveTo>
                      <a:pt x="14" y="47"/>
                    </a:moveTo>
                    <a:lnTo>
                      <a:pt x="14" y="32"/>
                    </a:lnTo>
                    <a:lnTo>
                      <a:pt x="14" y="15"/>
                    </a:lnTo>
                    <a:lnTo>
                      <a:pt x="0" y="0"/>
                    </a:lnTo>
                    <a:lnTo>
                      <a:pt x="0" y="15"/>
                    </a:lnTo>
                    <a:lnTo>
                      <a:pt x="14" y="32"/>
                    </a:lnTo>
                    <a:lnTo>
                      <a:pt x="14" y="47"/>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782" name=""/>
              <p:cNvGrpSpPr/>
              <p:nvPr/>
            </p:nvGrpSpPr>
            <p:grpSpPr>
              <a:xfrm>
                <a:off x="7853400" y="2235240"/>
                <a:ext cx="6480" cy="23760"/>
                <a:chOff x="7853400" y="2235240"/>
                <a:chExt cx="6480" cy="23760"/>
              </a:xfrm>
            </p:grpSpPr>
            <p:sp>
              <p:nvSpPr>
                <p:cNvPr id="1783" name=""/>
                <p:cNvSpPr/>
                <p:nvPr/>
              </p:nvSpPr>
              <p:spPr>
                <a:xfrm>
                  <a:off x="7853400" y="2235240"/>
                  <a:ext cx="6480" cy="23760"/>
                </a:xfrm>
                <a:custGeom>
                  <a:avLst/>
                  <a:gdLst/>
                  <a:ahLst/>
                  <a:rect l="l" t="t" r="r" b="b"/>
                  <a:pathLst>
                    <a:path w="14" h="47">
                      <a:moveTo>
                        <a:pt x="14" y="47"/>
                      </a:moveTo>
                      <a:lnTo>
                        <a:pt x="14" y="32"/>
                      </a:lnTo>
                      <a:lnTo>
                        <a:pt x="14" y="15"/>
                      </a:lnTo>
                      <a:lnTo>
                        <a:pt x="0" y="0"/>
                      </a:lnTo>
                      <a:lnTo>
                        <a:pt x="0" y="15"/>
                      </a:lnTo>
                      <a:lnTo>
                        <a:pt x="14" y="32"/>
                      </a:lnTo>
                      <a:lnTo>
                        <a:pt x="14" y="47"/>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4" name=""/>
                <p:cNvSpPr/>
                <p:nvPr/>
              </p:nvSpPr>
              <p:spPr>
                <a:xfrm>
                  <a:off x="7853400" y="2235240"/>
                  <a:ext cx="6480" cy="23760"/>
                </a:xfrm>
                <a:custGeom>
                  <a:avLst/>
                  <a:gdLst/>
                  <a:ahLst/>
                  <a:rect l="l" t="t" r="r" b="b"/>
                  <a:pathLst>
                    <a:path w="14" h="47">
                      <a:moveTo>
                        <a:pt x="14" y="47"/>
                      </a:moveTo>
                      <a:lnTo>
                        <a:pt x="14" y="32"/>
                      </a:lnTo>
                      <a:lnTo>
                        <a:pt x="14" y="15"/>
                      </a:lnTo>
                      <a:lnTo>
                        <a:pt x="0" y="0"/>
                      </a:lnTo>
                      <a:lnTo>
                        <a:pt x="0" y="15"/>
                      </a:lnTo>
                      <a:lnTo>
                        <a:pt x="14" y="32"/>
                      </a:lnTo>
                      <a:lnTo>
                        <a:pt x="14" y="47"/>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785" name=""/>
              <p:cNvSpPr/>
              <p:nvPr/>
            </p:nvSpPr>
            <p:spPr>
              <a:xfrm>
                <a:off x="7450200" y="2235240"/>
                <a:ext cx="6120" cy="23760"/>
              </a:xfrm>
              <a:custGeom>
                <a:avLst/>
                <a:gdLst/>
                <a:ahLst/>
                <a:rect l="l" t="t" r="r" b="b"/>
                <a:pathLst>
                  <a:path w="14" h="47">
                    <a:moveTo>
                      <a:pt x="14" y="0"/>
                    </a:moveTo>
                    <a:lnTo>
                      <a:pt x="0" y="15"/>
                    </a:lnTo>
                    <a:lnTo>
                      <a:pt x="0" y="32"/>
                    </a:lnTo>
                    <a:lnTo>
                      <a:pt x="0" y="47"/>
                    </a:lnTo>
                    <a:lnTo>
                      <a:pt x="14" y="32"/>
                    </a:lnTo>
                    <a:lnTo>
                      <a:pt x="14" y="0"/>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786" name=""/>
              <p:cNvGrpSpPr/>
              <p:nvPr/>
            </p:nvGrpSpPr>
            <p:grpSpPr>
              <a:xfrm>
                <a:off x="7450200" y="2235240"/>
                <a:ext cx="6120" cy="23760"/>
                <a:chOff x="7450200" y="2235240"/>
                <a:chExt cx="6120" cy="23760"/>
              </a:xfrm>
            </p:grpSpPr>
            <p:sp>
              <p:nvSpPr>
                <p:cNvPr id="1787" name=""/>
                <p:cNvSpPr/>
                <p:nvPr/>
              </p:nvSpPr>
              <p:spPr>
                <a:xfrm>
                  <a:off x="7450200" y="2235240"/>
                  <a:ext cx="6120" cy="23760"/>
                </a:xfrm>
                <a:custGeom>
                  <a:avLst/>
                  <a:gdLst/>
                  <a:ahLst/>
                  <a:rect l="l" t="t" r="r" b="b"/>
                  <a:pathLst>
                    <a:path w="14" h="47">
                      <a:moveTo>
                        <a:pt x="14" y="0"/>
                      </a:moveTo>
                      <a:lnTo>
                        <a:pt x="0" y="15"/>
                      </a:lnTo>
                      <a:lnTo>
                        <a:pt x="0" y="32"/>
                      </a:lnTo>
                      <a:lnTo>
                        <a:pt x="0" y="47"/>
                      </a:lnTo>
                      <a:lnTo>
                        <a:pt x="14" y="32"/>
                      </a:lnTo>
                      <a:lnTo>
                        <a:pt x="14" y="0"/>
                      </a:lnTo>
                      <a:close/>
                    </a:path>
                  </a:pathLst>
                </a:custGeom>
                <a:solidFill>
                  <a:srgbClr val="179c8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8" name=""/>
                <p:cNvSpPr/>
                <p:nvPr/>
              </p:nvSpPr>
              <p:spPr>
                <a:xfrm>
                  <a:off x="7450200" y="2235240"/>
                  <a:ext cx="6120" cy="23760"/>
                </a:xfrm>
                <a:custGeom>
                  <a:avLst/>
                  <a:gdLst/>
                  <a:ahLst/>
                  <a:rect l="l" t="t" r="r" b="b"/>
                  <a:pathLst>
                    <a:path w="14" h="47">
                      <a:moveTo>
                        <a:pt x="14" y="0"/>
                      </a:moveTo>
                      <a:lnTo>
                        <a:pt x="0" y="15"/>
                      </a:lnTo>
                      <a:lnTo>
                        <a:pt x="0" y="32"/>
                      </a:lnTo>
                      <a:lnTo>
                        <a:pt x="0" y="47"/>
                      </a:lnTo>
                      <a:lnTo>
                        <a:pt x="14" y="32"/>
                      </a:lnTo>
                      <a:lnTo>
                        <a:pt x="14"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789" name=""/>
              <p:cNvSpPr/>
              <p:nvPr/>
            </p:nvSpPr>
            <p:spPr>
              <a:xfrm>
                <a:off x="7338960" y="2225520"/>
                <a:ext cx="38160" cy="42840"/>
              </a:xfrm>
              <a:custGeom>
                <a:avLst/>
                <a:gdLst/>
                <a:ahLst/>
                <a:rect l="l" t="t" r="r" b="b"/>
                <a:pathLst>
                  <a:path w="70" h="79">
                    <a:moveTo>
                      <a:pt x="0" y="0"/>
                    </a:moveTo>
                    <a:lnTo>
                      <a:pt x="14" y="16"/>
                    </a:lnTo>
                    <a:lnTo>
                      <a:pt x="42" y="31"/>
                    </a:lnTo>
                    <a:lnTo>
                      <a:pt x="56" y="31"/>
                    </a:lnTo>
                    <a:lnTo>
                      <a:pt x="70" y="48"/>
                    </a:lnTo>
                    <a:lnTo>
                      <a:pt x="70" y="63"/>
                    </a:lnTo>
                    <a:lnTo>
                      <a:pt x="56" y="79"/>
                    </a:lnTo>
                    <a:lnTo>
                      <a:pt x="42" y="79"/>
                    </a:lnTo>
                    <a:lnTo>
                      <a:pt x="28" y="79"/>
                    </a:lnTo>
                    <a:lnTo>
                      <a:pt x="56" y="79"/>
                    </a:lnTo>
                    <a:lnTo>
                      <a:pt x="70" y="63"/>
                    </a:lnTo>
                    <a:lnTo>
                      <a:pt x="70" y="48"/>
                    </a:lnTo>
                    <a:lnTo>
                      <a:pt x="56" y="16"/>
                    </a:lnTo>
                    <a:lnTo>
                      <a:pt x="14" y="0"/>
                    </a:lnTo>
                    <a:lnTo>
                      <a:pt x="0" y="0"/>
                    </a:lnTo>
                    <a:close/>
                  </a:path>
                </a:pathLst>
              </a:custGeom>
              <a:solidFill>
                <a:srgbClr val="179c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790" name=""/>
              <p:cNvGrpSpPr/>
              <p:nvPr/>
            </p:nvGrpSpPr>
            <p:grpSpPr>
              <a:xfrm>
                <a:off x="7338960" y="2225520"/>
                <a:ext cx="38160" cy="42840"/>
                <a:chOff x="7338960" y="2225520"/>
                <a:chExt cx="38160" cy="42840"/>
              </a:xfrm>
            </p:grpSpPr>
            <p:sp>
              <p:nvSpPr>
                <p:cNvPr id="1791" name=""/>
                <p:cNvSpPr/>
                <p:nvPr/>
              </p:nvSpPr>
              <p:spPr>
                <a:xfrm>
                  <a:off x="7338960" y="2225520"/>
                  <a:ext cx="38160" cy="42840"/>
                </a:xfrm>
                <a:custGeom>
                  <a:avLst/>
                  <a:gdLst/>
                  <a:ahLst/>
                  <a:rect l="l" t="t" r="r" b="b"/>
                  <a:pathLst>
                    <a:path w="70" h="79">
                      <a:moveTo>
                        <a:pt x="0" y="0"/>
                      </a:moveTo>
                      <a:lnTo>
                        <a:pt x="14" y="16"/>
                      </a:lnTo>
                      <a:lnTo>
                        <a:pt x="42" y="31"/>
                      </a:lnTo>
                      <a:lnTo>
                        <a:pt x="56" y="31"/>
                      </a:lnTo>
                      <a:lnTo>
                        <a:pt x="70" y="48"/>
                      </a:lnTo>
                      <a:lnTo>
                        <a:pt x="70" y="63"/>
                      </a:lnTo>
                      <a:lnTo>
                        <a:pt x="56" y="79"/>
                      </a:lnTo>
                      <a:lnTo>
                        <a:pt x="42" y="79"/>
                      </a:lnTo>
                      <a:lnTo>
                        <a:pt x="28" y="79"/>
                      </a:lnTo>
                      <a:lnTo>
                        <a:pt x="56" y="79"/>
                      </a:lnTo>
                      <a:lnTo>
                        <a:pt x="70" y="63"/>
                      </a:lnTo>
                      <a:lnTo>
                        <a:pt x="70" y="48"/>
                      </a:lnTo>
                      <a:lnTo>
                        <a:pt x="56" y="16"/>
                      </a:lnTo>
                      <a:lnTo>
                        <a:pt x="14" y="0"/>
                      </a:lnTo>
                      <a:lnTo>
                        <a:pt x="0" y="0"/>
                      </a:lnTo>
                      <a:close/>
                    </a:path>
                  </a:pathLst>
                </a:custGeom>
                <a:solidFill>
                  <a:srgbClr val="179c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2" name=""/>
                <p:cNvSpPr/>
                <p:nvPr/>
              </p:nvSpPr>
              <p:spPr>
                <a:xfrm>
                  <a:off x="7338960" y="2225520"/>
                  <a:ext cx="38160" cy="42840"/>
                </a:xfrm>
                <a:custGeom>
                  <a:avLst/>
                  <a:gdLst/>
                  <a:ahLst/>
                  <a:rect l="l" t="t" r="r" b="b"/>
                  <a:pathLst>
                    <a:path w="70" h="79">
                      <a:moveTo>
                        <a:pt x="0" y="0"/>
                      </a:moveTo>
                      <a:lnTo>
                        <a:pt x="14" y="16"/>
                      </a:lnTo>
                      <a:lnTo>
                        <a:pt x="42" y="31"/>
                      </a:lnTo>
                      <a:lnTo>
                        <a:pt x="56" y="31"/>
                      </a:lnTo>
                      <a:lnTo>
                        <a:pt x="70" y="48"/>
                      </a:lnTo>
                      <a:lnTo>
                        <a:pt x="70" y="63"/>
                      </a:lnTo>
                      <a:lnTo>
                        <a:pt x="56" y="79"/>
                      </a:lnTo>
                      <a:lnTo>
                        <a:pt x="42" y="79"/>
                      </a:lnTo>
                      <a:lnTo>
                        <a:pt x="28" y="79"/>
                      </a:lnTo>
                      <a:lnTo>
                        <a:pt x="56" y="79"/>
                      </a:lnTo>
                      <a:lnTo>
                        <a:pt x="70" y="63"/>
                      </a:lnTo>
                      <a:lnTo>
                        <a:pt x="70" y="48"/>
                      </a:lnTo>
                      <a:lnTo>
                        <a:pt x="56" y="16"/>
                      </a:lnTo>
                      <a:lnTo>
                        <a:pt x="14"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793" name=""/>
              <p:cNvSpPr/>
              <p:nvPr/>
            </p:nvSpPr>
            <p:spPr>
              <a:xfrm>
                <a:off x="7772400" y="2276640"/>
                <a:ext cx="1440" cy="15840"/>
              </a:xfrm>
              <a:custGeom>
                <a:avLst/>
                <a:gdLst/>
                <a:ahLst/>
                <a:rect l="l" t="t" r="r" b="b"/>
                <a:pathLst>
                  <a:path w="0" h="31">
                    <a:moveTo>
                      <a:pt x="0" y="0"/>
                    </a:moveTo>
                    <a:lnTo>
                      <a:pt x="0" y="15"/>
                    </a:lnTo>
                    <a:lnTo>
                      <a:pt x="0" y="31"/>
                    </a:lnTo>
                    <a:lnTo>
                      <a:pt x="0" y="15"/>
                    </a:lnTo>
                    <a:lnTo>
                      <a:pt x="0"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794" name=""/>
              <p:cNvGrpSpPr/>
              <p:nvPr/>
            </p:nvGrpSpPr>
            <p:grpSpPr>
              <a:xfrm>
                <a:off x="7772400" y="2276640"/>
                <a:ext cx="1440" cy="15840"/>
                <a:chOff x="7772400" y="2276640"/>
                <a:chExt cx="1440" cy="15840"/>
              </a:xfrm>
            </p:grpSpPr>
            <p:sp>
              <p:nvSpPr>
                <p:cNvPr id="1795" name=""/>
                <p:cNvSpPr/>
                <p:nvPr/>
              </p:nvSpPr>
              <p:spPr>
                <a:xfrm>
                  <a:off x="7772400" y="2276640"/>
                  <a:ext cx="1440" cy="15840"/>
                </a:xfrm>
                <a:custGeom>
                  <a:avLst/>
                  <a:gdLst/>
                  <a:ahLst/>
                  <a:rect l="l" t="t" r="r" b="b"/>
                  <a:pathLst>
                    <a:path w="0" h="31">
                      <a:moveTo>
                        <a:pt x="0" y="0"/>
                      </a:moveTo>
                      <a:lnTo>
                        <a:pt x="0" y="15"/>
                      </a:lnTo>
                      <a:lnTo>
                        <a:pt x="0" y="31"/>
                      </a:lnTo>
                      <a:lnTo>
                        <a:pt x="0" y="15"/>
                      </a:lnTo>
                      <a:lnTo>
                        <a:pt x="0"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6" name=""/>
                <p:cNvSpPr/>
                <p:nvPr/>
              </p:nvSpPr>
              <p:spPr>
                <a:xfrm>
                  <a:off x="7772400" y="2276640"/>
                  <a:ext cx="1440" cy="15840"/>
                </a:xfrm>
                <a:custGeom>
                  <a:avLst/>
                  <a:gdLst/>
                  <a:ahLst/>
                  <a:rect l="l" t="t" r="r" b="b"/>
                  <a:pathLst>
                    <a:path w="0" h="31">
                      <a:moveTo>
                        <a:pt x="0" y="0"/>
                      </a:moveTo>
                      <a:lnTo>
                        <a:pt x="0" y="15"/>
                      </a:lnTo>
                      <a:lnTo>
                        <a:pt x="0" y="31"/>
                      </a:lnTo>
                      <a:lnTo>
                        <a:pt x="0" y="15"/>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797" name=""/>
              <p:cNvSpPr/>
              <p:nvPr/>
            </p:nvSpPr>
            <p:spPr>
              <a:xfrm>
                <a:off x="6108840" y="2235240"/>
                <a:ext cx="109440" cy="108000"/>
              </a:xfrm>
              <a:custGeom>
                <a:avLst/>
                <a:gdLst/>
                <a:ahLst/>
                <a:rect l="l" t="t" r="r" b="b"/>
                <a:pathLst>
                  <a:path w="207" h="205">
                    <a:moveTo>
                      <a:pt x="138" y="173"/>
                    </a:moveTo>
                    <a:lnTo>
                      <a:pt x="138" y="157"/>
                    </a:lnTo>
                    <a:lnTo>
                      <a:pt x="124" y="157"/>
                    </a:lnTo>
                    <a:lnTo>
                      <a:pt x="124" y="142"/>
                    </a:lnTo>
                    <a:lnTo>
                      <a:pt x="138" y="126"/>
                    </a:lnTo>
                    <a:lnTo>
                      <a:pt x="138" y="110"/>
                    </a:lnTo>
                    <a:lnTo>
                      <a:pt x="138" y="94"/>
                    </a:lnTo>
                    <a:lnTo>
                      <a:pt x="124" y="94"/>
                    </a:lnTo>
                    <a:lnTo>
                      <a:pt x="96" y="110"/>
                    </a:lnTo>
                    <a:lnTo>
                      <a:pt x="83" y="142"/>
                    </a:lnTo>
                    <a:lnTo>
                      <a:pt x="69" y="173"/>
                    </a:lnTo>
                    <a:lnTo>
                      <a:pt x="55" y="189"/>
                    </a:lnTo>
                    <a:lnTo>
                      <a:pt x="55" y="205"/>
                    </a:lnTo>
                    <a:lnTo>
                      <a:pt x="41" y="205"/>
                    </a:lnTo>
                    <a:lnTo>
                      <a:pt x="41" y="173"/>
                    </a:lnTo>
                    <a:lnTo>
                      <a:pt x="55" y="142"/>
                    </a:lnTo>
                    <a:lnTo>
                      <a:pt x="69" y="126"/>
                    </a:lnTo>
                    <a:lnTo>
                      <a:pt x="55" y="126"/>
                    </a:lnTo>
                    <a:lnTo>
                      <a:pt x="55" y="110"/>
                    </a:lnTo>
                    <a:lnTo>
                      <a:pt x="69" y="94"/>
                    </a:lnTo>
                    <a:lnTo>
                      <a:pt x="83" y="94"/>
                    </a:lnTo>
                    <a:lnTo>
                      <a:pt x="96" y="94"/>
                    </a:lnTo>
                    <a:lnTo>
                      <a:pt x="124" y="94"/>
                    </a:lnTo>
                    <a:lnTo>
                      <a:pt x="124" y="79"/>
                    </a:lnTo>
                    <a:lnTo>
                      <a:pt x="110" y="63"/>
                    </a:lnTo>
                    <a:lnTo>
                      <a:pt x="83" y="47"/>
                    </a:lnTo>
                    <a:lnTo>
                      <a:pt x="55" y="63"/>
                    </a:lnTo>
                    <a:lnTo>
                      <a:pt x="27" y="79"/>
                    </a:lnTo>
                    <a:lnTo>
                      <a:pt x="13" y="79"/>
                    </a:lnTo>
                    <a:lnTo>
                      <a:pt x="0" y="79"/>
                    </a:lnTo>
                    <a:lnTo>
                      <a:pt x="0" y="63"/>
                    </a:lnTo>
                    <a:lnTo>
                      <a:pt x="13" y="47"/>
                    </a:lnTo>
                    <a:lnTo>
                      <a:pt x="41" y="47"/>
                    </a:lnTo>
                    <a:lnTo>
                      <a:pt x="55" y="32"/>
                    </a:lnTo>
                    <a:lnTo>
                      <a:pt x="83" y="15"/>
                    </a:lnTo>
                    <a:lnTo>
                      <a:pt x="110" y="0"/>
                    </a:lnTo>
                    <a:lnTo>
                      <a:pt x="138" y="32"/>
                    </a:lnTo>
                    <a:lnTo>
                      <a:pt x="138" y="47"/>
                    </a:lnTo>
                    <a:lnTo>
                      <a:pt x="138" y="63"/>
                    </a:lnTo>
                    <a:lnTo>
                      <a:pt x="179" y="79"/>
                    </a:lnTo>
                    <a:lnTo>
                      <a:pt x="207" y="94"/>
                    </a:lnTo>
                    <a:lnTo>
                      <a:pt x="207" y="110"/>
                    </a:lnTo>
                    <a:lnTo>
                      <a:pt x="193" y="126"/>
                    </a:lnTo>
                    <a:lnTo>
                      <a:pt x="179" y="126"/>
                    </a:lnTo>
                    <a:lnTo>
                      <a:pt x="179" y="142"/>
                    </a:lnTo>
                    <a:lnTo>
                      <a:pt x="166" y="142"/>
                    </a:lnTo>
                    <a:lnTo>
                      <a:pt x="166" y="157"/>
                    </a:lnTo>
                    <a:lnTo>
                      <a:pt x="152" y="157"/>
                    </a:lnTo>
                    <a:lnTo>
                      <a:pt x="152" y="173"/>
                    </a:lnTo>
                    <a:lnTo>
                      <a:pt x="138" y="173"/>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8" name=""/>
              <p:cNvGrpSpPr/>
              <p:nvPr/>
            </p:nvGrpSpPr>
            <p:grpSpPr>
              <a:xfrm>
                <a:off x="6108840" y="2235240"/>
                <a:ext cx="109440" cy="108000"/>
                <a:chOff x="6108840" y="2235240"/>
                <a:chExt cx="109440" cy="108000"/>
              </a:xfrm>
            </p:grpSpPr>
            <p:sp>
              <p:nvSpPr>
                <p:cNvPr id="1799" name=""/>
                <p:cNvSpPr/>
                <p:nvPr/>
              </p:nvSpPr>
              <p:spPr>
                <a:xfrm>
                  <a:off x="6108840" y="2235240"/>
                  <a:ext cx="109440" cy="108000"/>
                </a:xfrm>
                <a:custGeom>
                  <a:avLst/>
                  <a:gdLst/>
                  <a:ahLst/>
                  <a:rect l="l" t="t" r="r" b="b"/>
                  <a:pathLst>
                    <a:path w="207" h="205">
                      <a:moveTo>
                        <a:pt x="138" y="173"/>
                      </a:moveTo>
                      <a:lnTo>
                        <a:pt x="138" y="157"/>
                      </a:lnTo>
                      <a:lnTo>
                        <a:pt x="124" y="157"/>
                      </a:lnTo>
                      <a:lnTo>
                        <a:pt x="124" y="142"/>
                      </a:lnTo>
                      <a:lnTo>
                        <a:pt x="138" y="126"/>
                      </a:lnTo>
                      <a:lnTo>
                        <a:pt x="138" y="110"/>
                      </a:lnTo>
                      <a:lnTo>
                        <a:pt x="138" y="94"/>
                      </a:lnTo>
                      <a:lnTo>
                        <a:pt x="124" y="94"/>
                      </a:lnTo>
                      <a:lnTo>
                        <a:pt x="96" y="110"/>
                      </a:lnTo>
                      <a:lnTo>
                        <a:pt x="83" y="142"/>
                      </a:lnTo>
                      <a:lnTo>
                        <a:pt x="69" y="173"/>
                      </a:lnTo>
                      <a:lnTo>
                        <a:pt x="55" y="189"/>
                      </a:lnTo>
                      <a:lnTo>
                        <a:pt x="55" y="205"/>
                      </a:lnTo>
                      <a:lnTo>
                        <a:pt x="41" y="205"/>
                      </a:lnTo>
                      <a:lnTo>
                        <a:pt x="41" y="173"/>
                      </a:lnTo>
                      <a:lnTo>
                        <a:pt x="55" y="142"/>
                      </a:lnTo>
                      <a:lnTo>
                        <a:pt x="69" y="126"/>
                      </a:lnTo>
                      <a:lnTo>
                        <a:pt x="55" y="126"/>
                      </a:lnTo>
                      <a:lnTo>
                        <a:pt x="55" y="110"/>
                      </a:lnTo>
                      <a:lnTo>
                        <a:pt x="69" y="94"/>
                      </a:lnTo>
                      <a:lnTo>
                        <a:pt x="83" y="94"/>
                      </a:lnTo>
                      <a:lnTo>
                        <a:pt x="96" y="94"/>
                      </a:lnTo>
                      <a:lnTo>
                        <a:pt x="124" y="94"/>
                      </a:lnTo>
                      <a:lnTo>
                        <a:pt x="124" y="79"/>
                      </a:lnTo>
                      <a:lnTo>
                        <a:pt x="110" y="63"/>
                      </a:lnTo>
                      <a:lnTo>
                        <a:pt x="83" y="47"/>
                      </a:lnTo>
                      <a:lnTo>
                        <a:pt x="55" y="63"/>
                      </a:lnTo>
                      <a:lnTo>
                        <a:pt x="27" y="79"/>
                      </a:lnTo>
                      <a:lnTo>
                        <a:pt x="13" y="79"/>
                      </a:lnTo>
                      <a:lnTo>
                        <a:pt x="0" y="79"/>
                      </a:lnTo>
                      <a:lnTo>
                        <a:pt x="0" y="63"/>
                      </a:lnTo>
                      <a:lnTo>
                        <a:pt x="13" y="47"/>
                      </a:lnTo>
                      <a:lnTo>
                        <a:pt x="41" y="47"/>
                      </a:lnTo>
                      <a:lnTo>
                        <a:pt x="55" y="32"/>
                      </a:lnTo>
                      <a:lnTo>
                        <a:pt x="83" y="15"/>
                      </a:lnTo>
                      <a:lnTo>
                        <a:pt x="110" y="0"/>
                      </a:lnTo>
                      <a:lnTo>
                        <a:pt x="138" y="32"/>
                      </a:lnTo>
                      <a:lnTo>
                        <a:pt x="138" y="47"/>
                      </a:lnTo>
                      <a:lnTo>
                        <a:pt x="138" y="63"/>
                      </a:lnTo>
                      <a:lnTo>
                        <a:pt x="179" y="79"/>
                      </a:lnTo>
                      <a:lnTo>
                        <a:pt x="207" y="94"/>
                      </a:lnTo>
                      <a:lnTo>
                        <a:pt x="207" y="110"/>
                      </a:lnTo>
                      <a:lnTo>
                        <a:pt x="193" y="126"/>
                      </a:lnTo>
                      <a:lnTo>
                        <a:pt x="179" y="126"/>
                      </a:lnTo>
                      <a:lnTo>
                        <a:pt x="179" y="142"/>
                      </a:lnTo>
                      <a:lnTo>
                        <a:pt x="166" y="142"/>
                      </a:lnTo>
                      <a:lnTo>
                        <a:pt x="166" y="157"/>
                      </a:lnTo>
                      <a:lnTo>
                        <a:pt x="152" y="157"/>
                      </a:lnTo>
                      <a:lnTo>
                        <a:pt x="152" y="173"/>
                      </a:lnTo>
                      <a:lnTo>
                        <a:pt x="138" y="173"/>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108840" y="2235240"/>
                  <a:ext cx="109440" cy="108000"/>
                </a:xfrm>
                <a:custGeom>
                  <a:avLst/>
                  <a:gdLst/>
                  <a:ahLst/>
                  <a:rect l="l" t="t" r="r" b="b"/>
                  <a:pathLst>
                    <a:path w="207" h="205">
                      <a:moveTo>
                        <a:pt x="138" y="173"/>
                      </a:moveTo>
                      <a:lnTo>
                        <a:pt x="138" y="157"/>
                      </a:lnTo>
                      <a:lnTo>
                        <a:pt x="124" y="157"/>
                      </a:lnTo>
                      <a:lnTo>
                        <a:pt x="124" y="142"/>
                      </a:lnTo>
                      <a:lnTo>
                        <a:pt x="138" y="126"/>
                      </a:lnTo>
                      <a:lnTo>
                        <a:pt x="138" y="110"/>
                      </a:lnTo>
                      <a:lnTo>
                        <a:pt x="138" y="94"/>
                      </a:lnTo>
                      <a:lnTo>
                        <a:pt x="124" y="94"/>
                      </a:lnTo>
                      <a:lnTo>
                        <a:pt x="96" y="110"/>
                      </a:lnTo>
                      <a:lnTo>
                        <a:pt x="83" y="142"/>
                      </a:lnTo>
                      <a:lnTo>
                        <a:pt x="69" y="173"/>
                      </a:lnTo>
                      <a:lnTo>
                        <a:pt x="55" y="189"/>
                      </a:lnTo>
                      <a:lnTo>
                        <a:pt x="55" y="205"/>
                      </a:lnTo>
                      <a:lnTo>
                        <a:pt x="41" y="205"/>
                      </a:lnTo>
                      <a:lnTo>
                        <a:pt x="41" y="173"/>
                      </a:lnTo>
                      <a:lnTo>
                        <a:pt x="55" y="142"/>
                      </a:lnTo>
                      <a:lnTo>
                        <a:pt x="69" y="126"/>
                      </a:lnTo>
                      <a:lnTo>
                        <a:pt x="55" y="126"/>
                      </a:lnTo>
                      <a:lnTo>
                        <a:pt x="55" y="110"/>
                      </a:lnTo>
                      <a:lnTo>
                        <a:pt x="69" y="94"/>
                      </a:lnTo>
                      <a:lnTo>
                        <a:pt x="83" y="94"/>
                      </a:lnTo>
                      <a:lnTo>
                        <a:pt x="96" y="94"/>
                      </a:lnTo>
                      <a:lnTo>
                        <a:pt x="124" y="94"/>
                      </a:lnTo>
                      <a:lnTo>
                        <a:pt x="124" y="79"/>
                      </a:lnTo>
                      <a:lnTo>
                        <a:pt x="110" y="63"/>
                      </a:lnTo>
                      <a:lnTo>
                        <a:pt x="83" y="47"/>
                      </a:lnTo>
                      <a:lnTo>
                        <a:pt x="55" y="63"/>
                      </a:lnTo>
                      <a:lnTo>
                        <a:pt x="27" y="79"/>
                      </a:lnTo>
                      <a:lnTo>
                        <a:pt x="13" y="79"/>
                      </a:lnTo>
                      <a:lnTo>
                        <a:pt x="0" y="79"/>
                      </a:lnTo>
                      <a:lnTo>
                        <a:pt x="0" y="63"/>
                      </a:lnTo>
                      <a:lnTo>
                        <a:pt x="13" y="47"/>
                      </a:lnTo>
                      <a:lnTo>
                        <a:pt x="41" y="47"/>
                      </a:lnTo>
                      <a:lnTo>
                        <a:pt x="55" y="32"/>
                      </a:lnTo>
                      <a:lnTo>
                        <a:pt x="83" y="15"/>
                      </a:lnTo>
                      <a:lnTo>
                        <a:pt x="110" y="0"/>
                      </a:lnTo>
                      <a:lnTo>
                        <a:pt x="138" y="32"/>
                      </a:lnTo>
                      <a:lnTo>
                        <a:pt x="138" y="47"/>
                      </a:lnTo>
                      <a:lnTo>
                        <a:pt x="138" y="63"/>
                      </a:lnTo>
                      <a:lnTo>
                        <a:pt x="179" y="79"/>
                      </a:lnTo>
                      <a:lnTo>
                        <a:pt x="207" y="94"/>
                      </a:lnTo>
                      <a:lnTo>
                        <a:pt x="207" y="110"/>
                      </a:lnTo>
                      <a:lnTo>
                        <a:pt x="193" y="126"/>
                      </a:lnTo>
                      <a:lnTo>
                        <a:pt x="179" y="126"/>
                      </a:lnTo>
                      <a:lnTo>
                        <a:pt x="179" y="142"/>
                      </a:lnTo>
                      <a:lnTo>
                        <a:pt x="166" y="142"/>
                      </a:lnTo>
                      <a:lnTo>
                        <a:pt x="166" y="157"/>
                      </a:lnTo>
                      <a:lnTo>
                        <a:pt x="152" y="157"/>
                      </a:lnTo>
                      <a:lnTo>
                        <a:pt x="152" y="173"/>
                      </a:lnTo>
                      <a:lnTo>
                        <a:pt x="138"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1" name=""/>
              <p:cNvSpPr/>
              <p:nvPr/>
            </p:nvSpPr>
            <p:spPr>
              <a:xfrm>
                <a:off x="7618320" y="2276640"/>
                <a:ext cx="28800" cy="33120"/>
              </a:xfrm>
              <a:custGeom>
                <a:avLst/>
                <a:gdLst/>
                <a:ahLst/>
                <a:rect l="l" t="t" r="r" b="b"/>
                <a:pathLst>
                  <a:path w="55" h="63">
                    <a:moveTo>
                      <a:pt x="55" y="47"/>
                    </a:moveTo>
                    <a:lnTo>
                      <a:pt x="42" y="63"/>
                    </a:lnTo>
                    <a:lnTo>
                      <a:pt x="0" y="63"/>
                    </a:lnTo>
                    <a:lnTo>
                      <a:pt x="0" y="31"/>
                    </a:lnTo>
                    <a:lnTo>
                      <a:pt x="0" y="15"/>
                    </a:lnTo>
                    <a:lnTo>
                      <a:pt x="14" y="0"/>
                    </a:lnTo>
                    <a:lnTo>
                      <a:pt x="28" y="15"/>
                    </a:lnTo>
                    <a:lnTo>
                      <a:pt x="55" y="31"/>
                    </a:lnTo>
                    <a:lnTo>
                      <a:pt x="55" y="47"/>
                    </a:lnTo>
                    <a:close/>
                  </a:path>
                </a:pathLst>
              </a:custGeom>
              <a:solidFill>
                <a:srgbClr val="179c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802" name=""/>
              <p:cNvGrpSpPr/>
              <p:nvPr/>
            </p:nvGrpSpPr>
            <p:grpSpPr>
              <a:xfrm>
                <a:off x="7618320" y="2276640"/>
                <a:ext cx="28800" cy="33120"/>
                <a:chOff x="7618320" y="2276640"/>
                <a:chExt cx="28800" cy="33120"/>
              </a:xfrm>
            </p:grpSpPr>
            <p:sp>
              <p:nvSpPr>
                <p:cNvPr id="1803" name=""/>
                <p:cNvSpPr/>
                <p:nvPr/>
              </p:nvSpPr>
              <p:spPr>
                <a:xfrm>
                  <a:off x="7618320" y="2276640"/>
                  <a:ext cx="28800" cy="33120"/>
                </a:xfrm>
                <a:custGeom>
                  <a:avLst/>
                  <a:gdLst/>
                  <a:ahLst/>
                  <a:rect l="l" t="t" r="r" b="b"/>
                  <a:pathLst>
                    <a:path w="55" h="63">
                      <a:moveTo>
                        <a:pt x="55" y="47"/>
                      </a:moveTo>
                      <a:lnTo>
                        <a:pt x="42" y="63"/>
                      </a:lnTo>
                      <a:lnTo>
                        <a:pt x="0" y="63"/>
                      </a:lnTo>
                      <a:lnTo>
                        <a:pt x="0" y="31"/>
                      </a:lnTo>
                      <a:lnTo>
                        <a:pt x="0" y="15"/>
                      </a:lnTo>
                      <a:lnTo>
                        <a:pt x="14" y="0"/>
                      </a:lnTo>
                      <a:lnTo>
                        <a:pt x="28" y="15"/>
                      </a:lnTo>
                      <a:lnTo>
                        <a:pt x="55" y="31"/>
                      </a:lnTo>
                      <a:lnTo>
                        <a:pt x="55" y="47"/>
                      </a:lnTo>
                      <a:close/>
                    </a:path>
                  </a:pathLst>
                </a:custGeom>
                <a:solidFill>
                  <a:srgbClr val="179c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04" name=""/>
                <p:cNvSpPr/>
                <p:nvPr/>
              </p:nvSpPr>
              <p:spPr>
                <a:xfrm>
                  <a:off x="7618320" y="2276640"/>
                  <a:ext cx="28800" cy="33120"/>
                </a:xfrm>
                <a:custGeom>
                  <a:avLst/>
                  <a:gdLst/>
                  <a:ahLst/>
                  <a:rect l="l" t="t" r="r" b="b"/>
                  <a:pathLst>
                    <a:path w="55" h="63">
                      <a:moveTo>
                        <a:pt x="55" y="47"/>
                      </a:moveTo>
                      <a:lnTo>
                        <a:pt x="42" y="63"/>
                      </a:lnTo>
                      <a:lnTo>
                        <a:pt x="0" y="63"/>
                      </a:lnTo>
                      <a:lnTo>
                        <a:pt x="0" y="31"/>
                      </a:lnTo>
                      <a:lnTo>
                        <a:pt x="0" y="15"/>
                      </a:lnTo>
                      <a:lnTo>
                        <a:pt x="14" y="0"/>
                      </a:lnTo>
                      <a:lnTo>
                        <a:pt x="28" y="15"/>
                      </a:lnTo>
                      <a:lnTo>
                        <a:pt x="55" y="31"/>
                      </a:lnTo>
                      <a:lnTo>
                        <a:pt x="55" y="47"/>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805" name=""/>
              <p:cNvSpPr/>
              <p:nvPr/>
            </p:nvSpPr>
            <p:spPr>
              <a:xfrm>
                <a:off x="6218280" y="2301840"/>
                <a:ext cx="36360" cy="15840"/>
              </a:xfrm>
              <a:custGeom>
                <a:avLst/>
                <a:gdLst/>
                <a:ahLst/>
                <a:rect l="l" t="t" r="r" b="b"/>
                <a:pathLst>
                  <a:path w="69" h="31">
                    <a:moveTo>
                      <a:pt x="69" y="0"/>
                    </a:moveTo>
                    <a:lnTo>
                      <a:pt x="69" y="16"/>
                    </a:lnTo>
                    <a:lnTo>
                      <a:pt x="55" y="31"/>
                    </a:lnTo>
                    <a:lnTo>
                      <a:pt x="42" y="31"/>
                    </a:lnTo>
                    <a:lnTo>
                      <a:pt x="28" y="31"/>
                    </a:lnTo>
                    <a:lnTo>
                      <a:pt x="14" y="31"/>
                    </a:lnTo>
                    <a:lnTo>
                      <a:pt x="0" y="31"/>
                    </a:lnTo>
                    <a:lnTo>
                      <a:pt x="0" y="16"/>
                    </a:lnTo>
                    <a:lnTo>
                      <a:pt x="14" y="16"/>
                    </a:lnTo>
                    <a:lnTo>
                      <a:pt x="28" y="16"/>
                    </a:lnTo>
                    <a:lnTo>
                      <a:pt x="42" y="16"/>
                    </a:lnTo>
                    <a:lnTo>
                      <a:pt x="55" y="16"/>
                    </a:lnTo>
                    <a:lnTo>
                      <a:pt x="69"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806" name=""/>
              <p:cNvGrpSpPr/>
              <p:nvPr/>
            </p:nvGrpSpPr>
            <p:grpSpPr>
              <a:xfrm>
                <a:off x="6218280" y="2301840"/>
                <a:ext cx="36360" cy="15840"/>
                <a:chOff x="6218280" y="2301840"/>
                <a:chExt cx="36360" cy="15840"/>
              </a:xfrm>
            </p:grpSpPr>
            <p:sp>
              <p:nvSpPr>
                <p:cNvPr id="1807" name=""/>
                <p:cNvSpPr/>
                <p:nvPr/>
              </p:nvSpPr>
              <p:spPr>
                <a:xfrm>
                  <a:off x="6218280" y="2301840"/>
                  <a:ext cx="36360" cy="15840"/>
                </a:xfrm>
                <a:custGeom>
                  <a:avLst/>
                  <a:gdLst/>
                  <a:ahLst/>
                  <a:rect l="l" t="t" r="r" b="b"/>
                  <a:pathLst>
                    <a:path w="69" h="31">
                      <a:moveTo>
                        <a:pt x="69" y="0"/>
                      </a:moveTo>
                      <a:lnTo>
                        <a:pt x="69" y="16"/>
                      </a:lnTo>
                      <a:lnTo>
                        <a:pt x="55" y="31"/>
                      </a:lnTo>
                      <a:lnTo>
                        <a:pt x="42" y="31"/>
                      </a:lnTo>
                      <a:lnTo>
                        <a:pt x="28" y="31"/>
                      </a:lnTo>
                      <a:lnTo>
                        <a:pt x="14" y="31"/>
                      </a:lnTo>
                      <a:lnTo>
                        <a:pt x="0" y="31"/>
                      </a:lnTo>
                      <a:lnTo>
                        <a:pt x="0" y="16"/>
                      </a:lnTo>
                      <a:lnTo>
                        <a:pt x="14" y="16"/>
                      </a:lnTo>
                      <a:lnTo>
                        <a:pt x="28" y="16"/>
                      </a:lnTo>
                      <a:lnTo>
                        <a:pt x="42" y="16"/>
                      </a:lnTo>
                      <a:lnTo>
                        <a:pt x="55" y="16"/>
                      </a:lnTo>
                      <a:lnTo>
                        <a:pt x="69"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8" name=""/>
                <p:cNvSpPr/>
                <p:nvPr/>
              </p:nvSpPr>
              <p:spPr>
                <a:xfrm>
                  <a:off x="6218280" y="2301840"/>
                  <a:ext cx="36360" cy="15840"/>
                </a:xfrm>
                <a:custGeom>
                  <a:avLst/>
                  <a:gdLst/>
                  <a:ahLst/>
                  <a:rect l="l" t="t" r="r" b="b"/>
                  <a:pathLst>
                    <a:path w="69" h="31">
                      <a:moveTo>
                        <a:pt x="69" y="0"/>
                      </a:moveTo>
                      <a:lnTo>
                        <a:pt x="69" y="16"/>
                      </a:lnTo>
                      <a:lnTo>
                        <a:pt x="55" y="31"/>
                      </a:lnTo>
                      <a:lnTo>
                        <a:pt x="42" y="31"/>
                      </a:lnTo>
                      <a:lnTo>
                        <a:pt x="28" y="31"/>
                      </a:lnTo>
                      <a:lnTo>
                        <a:pt x="14" y="31"/>
                      </a:lnTo>
                      <a:lnTo>
                        <a:pt x="0" y="31"/>
                      </a:lnTo>
                      <a:lnTo>
                        <a:pt x="0" y="16"/>
                      </a:lnTo>
                      <a:lnTo>
                        <a:pt x="14" y="16"/>
                      </a:lnTo>
                      <a:lnTo>
                        <a:pt x="28" y="16"/>
                      </a:lnTo>
                      <a:lnTo>
                        <a:pt x="42" y="16"/>
                      </a:lnTo>
                      <a:lnTo>
                        <a:pt x="55" y="16"/>
                      </a:lnTo>
                      <a:lnTo>
                        <a:pt x="6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809" name=""/>
              <p:cNvSpPr/>
              <p:nvPr/>
            </p:nvSpPr>
            <p:spPr>
              <a:xfrm>
                <a:off x="6173640" y="2325600"/>
                <a:ext cx="14400" cy="25560"/>
              </a:xfrm>
              <a:custGeom>
                <a:avLst/>
                <a:gdLst/>
                <a:ahLst/>
                <a:rect l="l" t="t" r="r" b="b"/>
                <a:pathLst>
                  <a:path w="28" h="48">
                    <a:moveTo>
                      <a:pt x="28" y="16"/>
                    </a:moveTo>
                    <a:lnTo>
                      <a:pt x="28" y="32"/>
                    </a:lnTo>
                    <a:lnTo>
                      <a:pt x="14" y="32"/>
                    </a:lnTo>
                    <a:lnTo>
                      <a:pt x="0" y="48"/>
                    </a:lnTo>
                    <a:lnTo>
                      <a:pt x="0" y="32"/>
                    </a:lnTo>
                    <a:lnTo>
                      <a:pt x="14" y="16"/>
                    </a:lnTo>
                    <a:lnTo>
                      <a:pt x="14" y="0"/>
                    </a:lnTo>
                    <a:lnTo>
                      <a:pt x="0" y="16"/>
                    </a:lnTo>
                    <a:lnTo>
                      <a:pt x="14" y="16"/>
                    </a:lnTo>
                    <a:lnTo>
                      <a:pt x="28" y="16"/>
                    </a:lnTo>
                    <a:close/>
                  </a:path>
                </a:pathLst>
              </a:custGeom>
              <a:solidFill>
                <a:srgbClr val="179c8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810" name=""/>
              <p:cNvGrpSpPr/>
              <p:nvPr/>
            </p:nvGrpSpPr>
            <p:grpSpPr>
              <a:xfrm>
                <a:off x="6173640" y="2325600"/>
                <a:ext cx="14400" cy="25560"/>
                <a:chOff x="6173640" y="2325600"/>
                <a:chExt cx="14400" cy="25560"/>
              </a:xfrm>
            </p:grpSpPr>
            <p:sp>
              <p:nvSpPr>
                <p:cNvPr id="1811" name=""/>
                <p:cNvSpPr/>
                <p:nvPr/>
              </p:nvSpPr>
              <p:spPr>
                <a:xfrm>
                  <a:off x="6173640" y="2325600"/>
                  <a:ext cx="14400" cy="25560"/>
                </a:xfrm>
                <a:custGeom>
                  <a:avLst/>
                  <a:gdLst/>
                  <a:ahLst/>
                  <a:rect l="l" t="t" r="r" b="b"/>
                  <a:pathLst>
                    <a:path w="28" h="48">
                      <a:moveTo>
                        <a:pt x="28" y="16"/>
                      </a:moveTo>
                      <a:lnTo>
                        <a:pt x="28" y="32"/>
                      </a:lnTo>
                      <a:lnTo>
                        <a:pt x="14" y="32"/>
                      </a:lnTo>
                      <a:lnTo>
                        <a:pt x="0" y="48"/>
                      </a:lnTo>
                      <a:lnTo>
                        <a:pt x="0" y="32"/>
                      </a:lnTo>
                      <a:lnTo>
                        <a:pt x="14" y="16"/>
                      </a:lnTo>
                      <a:lnTo>
                        <a:pt x="14" y="0"/>
                      </a:lnTo>
                      <a:lnTo>
                        <a:pt x="0" y="16"/>
                      </a:lnTo>
                      <a:lnTo>
                        <a:pt x="14" y="16"/>
                      </a:lnTo>
                      <a:lnTo>
                        <a:pt x="28" y="16"/>
                      </a:lnTo>
                      <a:close/>
                    </a:path>
                  </a:pathLst>
                </a:custGeom>
                <a:solidFill>
                  <a:srgbClr val="179c8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2" name=""/>
                <p:cNvSpPr/>
                <p:nvPr/>
              </p:nvSpPr>
              <p:spPr>
                <a:xfrm>
                  <a:off x="6173640" y="2325600"/>
                  <a:ext cx="14400" cy="25560"/>
                </a:xfrm>
                <a:custGeom>
                  <a:avLst/>
                  <a:gdLst/>
                  <a:ahLst/>
                  <a:rect l="l" t="t" r="r" b="b"/>
                  <a:pathLst>
                    <a:path w="28" h="48">
                      <a:moveTo>
                        <a:pt x="28" y="16"/>
                      </a:moveTo>
                      <a:lnTo>
                        <a:pt x="28" y="32"/>
                      </a:lnTo>
                      <a:lnTo>
                        <a:pt x="14" y="32"/>
                      </a:lnTo>
                      <a:lnTo>
                        <a:pt x="0" y="48"/>
                      </a:lnTo>
                      <a:lnTo>
                        <a:pt x="0" y="32"/>
                      </a:lnTo>
                      <a:lnTo>
                        <a:pt x="14" y="16"/>
                      </a:lnTo>
                      <a:lnTo>
                        <a:pt x="14" y="0"/>
                      </a:lnTo>
                      <a:lnTo>
                        <a:pt x="0" y="16"/>
                      </a:lnTo>
                      <a:lnTo>
                        <a:pt x="14" y="16"/>
                      </a:lnTo>
                      <a:lnTo>
                        <a:pt x="28"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813" name=""/>
              <p:cNvSpPr/>
              <p:nvPr/>
            </p:nvSpPr>
            <p:spPr>
              <a:xfrm>
                <a:off x="6027840" y="2727360"/>
                <a:ext cx="6120" cy="1440"/>
              </a:xfrm>
              <a:custGeom>
                <a:avLst/>
                <a:gdLst/>
                <a:ahLst/>
                <a:rect l="l" t="t" r="r" b="b"/>
                <a:pathLst>
                  <a:path w="14" h="0">
                    <a:moveTo>
                      <a:pt x="0" y="0"/>
                    </a:moveTo>
                    <a:lnTo>
                      <a:pt x="14" y="0"/>
                    </a:lnTo>
                    <a:lnTo>
                      <a:pt x="0"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14" name=""/>
              <p:cNvGrpSpPr/>
              <p:nvPr/>
            </p:nvGrpSpPr>
            <p:grpSpPr>
              <a:xfrm>
                <a:off x="6027840" y="2727360"/>
                <a:ext cx="6120" cy="1440"/>
                <a:chOff x="6027840" y="2727360"/>
                <a:chExt cx="6120" cy="1440"/>
              </a:xfrm>
            </p:grpSpPr>
            <p:sp>
              <p:nvSpPr>
                <p:cNvPr id="1815" name=""/>
                <p:cNvSpPr/>
                <p:nvPr/>
              </p:nvSpPr>
              <p:spPr>
                <a:xfrm>
                  <a:off x="6027840" y="2727360"/>
                  <a:ext cx="6120" cy="1440"/>
                </a:xfrm>
                <a:custGeom>
                  <a:avLst/>
                  <a:gdLst/>
                  <a:ahLst/>
                  <a:rect l="l" t="t" r="r" b="b"/>
                  <a:pathLst>
                    <a:path w="14" h="0">
                      <a:moveTo>
                        <a:pt x="0" y="0"/>
                      </a:moveTo>
                      <a:lnTo>
                        <a:pt x="14" y="0"/>
                      </a:lnTo>
                      <a:lnTo>
                        <a:pt x="0"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6" name=""/>
                <p:cNvSpPr/>
                <p:nvPr/>
              </p:nvSpPr>
              <p:spPr>
                <a:xfrm>
                  <a:off x="6027840" y="2727360"/>
                  <a:ext cx="6120" cy="1440"/>
                </a:xfrm>
                <a:custGeom>
                  <a:avLst/>
                  <a:gdLst/>
                  <a:ahLst/>
                  <a:rect l="l" t="t" r="r" b="b"/>
                  <a:pathLst>
                    <a:path w="14" h="0">
                      <a:moveTo>
                        <a:pt x="0" y="0"/>
                      </a:moveTo>
                      <a:lnTo>
                        <a:pt x="14"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817" name=""/>
              <p:cNvSpPr/>
              <p:nvPr/>
            </p:nvSpPr>
            <p:spPr>
              <a:xfrm>
                <a:off x="7010280" y="2819520"/>
                <a:ext cx="14400" cy="33120"/>
              </a:xfrm>
              <a:custGeom>
                <a:avLst/>
                <a:gdLst/>
                <a:ahLst/>
                <a:rect l="l" t="t" r="r" b="b"/>
                <a:pathLst>
                  <a:path w="27" h="64">
                    <a:moveTo>
                      <a:pt x="27" y="0"/>
                    </a:moveTo>
                    <a:lnTo>
                      <a:pt x="27" y="32"/>
                    </a:lnTo>
                    <a:lnTo>
                      <a:pt x="27" y="47"/>
                    </a:lnTo>
                    <a:lnTo>
                      <a:pt x="13" y="64"/>
                    </a:lnTo>
                    <a:lnTo>
                      <a:pt x="0" y="64"/>
                    </a:lnTo>
                    <a:lnTo>
                      <a:pt x="0" y="32"/>
                    </a:lnTo>
                    <a:lnTo>
                      <a:pt x="0" y="15"/>
                    </a:lnTo>
                    <a:lnTo>
                      <a:pt x="0" y="0"/>
                    </a:lnTo>
                    <a:lnTo>
                      <a:pt x="13" y="15"/>
                    </a:lnTo>
                    <a:lnTo>
                      <a:pt x="13" y="32"/>
                    </a:lnTo>
                    <a:lnTo>
                      <a:pt x="27" y="47"/>
                    </a:lnTo>
                    <a:lnTo>
                      <a:pt x="27" y="32"/>
                    </a:lnTo>
                    <a:lnTo>
                      <a:pt x="27" y="15"/>
                    </a:lnTo>
                    <a:lnTo>
                      <a:pt x="27" y="0"/>
                    </a:lnTo>
                    <a:close/>
                  </a:path>
                </a:pathLst>
              </a:custGeom>
              <a:solidFill>
                <a:srgbClr val="179c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818" name=""/>
              <p:cNvGrpSpPr/>
              <p:nvPr/>
            </p:nvGrpSpPr>
            <p:grpSpPr>
              <a:xfrm>
                <a:off x="7010280" y="2819520"/>
                <a:ext cx="14400" cy="33120"/>
                <a:chOff x="7010280" y="2819520"/>
                <a:chExt cx="14400" cy="33120"/>
              </a:xfrm>
            </p:grpSpPr>
            <p:sp>
              <p:nvSpPr>
                <p:cNvPr id="1819" name=""/>
                <p:cNvSpPr/>
                <p:nvPr/>
              </p:nvSpPr>
              <p:spPr>
                <a:xfrm>
                  <a:off x="7010280" y="2819520"/>
                  <a:ext cx="14400" cy="33120"/>
                </a:xfrm>
                <a:custGeom>
                  <a:avLst/>
                  <a:gdLst/>
                  <a:ahLst/>
                  <a:rect l="l" t="t" r="r" b="b"/>
                  <a:pathLst>
                    <a:path w="27" h="64">
                      <a:moveTo>
                        <a:pt x="27" y="0"/>
                      </a:moveTo>
                      <a:lnTo>
                        <a:pt x="27" y="32"/>
                      </a:lnTo>
                      <a:lnTo>
                        <a:pt x="27" y="47"/>
                      </a:lnTo>
                      <a:lnTo>
                        <a:pt x="13" y="64"/>
                      </a:lnTo>
                      <a:lnTo>
                        <a:pt x="0" y="64"/>
                      </a:lnTo>
                      <a:lnTo>
                        <a:pt x="0" y="32"/>
                      </a:lnTo>
                      <a:lnTo>
                        <a:pt x="0" y="15"/>
                      </a:lnTo>
                      <a:lnTo>
                        <a:pt x="0" y="0"/>
                      </a:lnTo>
                      <a:lnTo>
                        <a:pt x="13" y="15"/>
                      </a:lnTo>
                      <a:lnTo>
                        <a:pt x="13" y="32"/>
                      </a:lnTo>
                      <a:lnTo>
                        <a:pt x="27" y="47"/>
                      </a:lnTo>
                      <a:lnTo>
                        <a:pt x="27" y="32"/>
                      </a:lnTo>
                      <a:lnTo>
                        <a:pt x="27" y="15"/>
                      </a:lnTo>
                      <a:lnTo>
                        <a:pt x="27" y="0"/>
                      </a:lnTo>
                      <a:close/>
                    </a:path>
                  </a:pathLst>
                </a:custGeom>
                <a:solidFill>
                  <a:srgbClr val="179c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0" name=""/>
                <p:cNvSpPr/>
                <p:nvPr/>
              </p:nvSpPr>
              <p:spPr>
                <a:xfrm>
                  <a:off x="7010280" y="2819520"/>
                  <a:ext cx="14400" cy="33120"/>
                </a:xfrm>
                <a:custGeom>
                  <a:avLst/>
                  <a:gdLst/>
                  <a:ahLst/>
                  <a:rect l="l" t="t" r="r" b="b"/>
                  <a:pathLst>
                    <a:path w="27" h="64">
                      <a:moveTo>
                        <a:pt x="27" y="0"/>
                      </a:moveTo>
                      <a:lnTo>
                        <a:pt x="27" y="32"/>
                      </a:lnTo>
                      <a:lnTo>
                        <a:pt x="27" y="47"/>
                      </a:lnTo>
                      <a:lnTo>
                        <a:pt x="13" y="64"/>
                      </a:lnTo>
                      <a:lnTo>
                        <a:pt x="0" y="64"/>
                      </a:lnTo>
                      <a:lnTo>
                        <a:pt x="0" y="32"/>
                      </a:lnTo>
                      <a:lnTo>
                        <a:pt x="0" y="15"/>
                      </a:lnTo>
                      <a:lnTo>
                        <a:pt x="0" y="0"/>
                      </a:lnTo>
                      <a:lnTo>
                        <a:pt x="13" y="15"/>
                      </a:lnTo>
                      <a:lnTo>
                        <a:pt x="13" y="32"/>
                      </a:lnTo>
                      <a:lnTo>
                        <a:pt x="27" y="47"/>
                      </a:lnTo>
                      <a:lnTo>
                        <a:pt x="27" y="32"/>
                      </a:lnTo>
                      <a:lnTo>
                        <a:pt x="27" y="15"/>
                      </a:lnTo>
                      <a:lnTo>
                        <a:pt x="27"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821" name=""/>
              <p:cNvSpPr/>
              <p:nvPr/>
            </p:nvSpPr>
            <p:spPr>
              <a:xfrm>
                <a:off x="7434360" y="2886120"/>
                <a:ext cx="1440" cy="15840"/>
              </a:xfrm>
              <a:custGeom>
                <a:avLst/>
                <a:gdLst/>
                <a:ahLst/>
                <a:rect l="l" t="t" r="r" b="b"/>
                <a:pathLst>
                  <a:path w="0" h="32">
                    <a:moveTo>
                      <a:pt x="0" y="0"/>
                    </a:moveTo>
                    <a:lnTo>
                      <a:pt x="0" y="16"/>
                    </a:lnTo>
                    <a:lnTo>
                      <a:pt x="0" y="32"/>
                    </a:lnTo>
                    <a:lnTo>
                      <a:pt x="0" y="16"/>
                    </a:lnTo>
                    <a:lnTo>
                      <a:pt x="0"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822" name=""/>
              <p:cNvGrpSpPr/>
              <p:nvPr/>
            </p:nvGrpSpPr>
            <p:grpSpPr>
              <a:xfrm>
                <a:off x="7434360" y="2886120"/>
                <a:ext cx="1440" cy="15840"/>
                <a:chOff x="7434360" y="2886120"/>
                <a:chExt cx="1440" cy="15840"/>
              </a:xfrm>
            </p:grpSpPr>
            <p:sp>
              <p:nvSpPr>
                <p:cNvPr id="1823" name=""/>
                <p:cNvSpPr/>
                <p:nvPr/>
              </p:nvSpPr>
              <p:spPr>
                <a:xfrm>
                  <a:off x="7434360" y="2886120"/>
                  <a:ext cx="1440" cy="15840"/>
                </a:xfrm>
                <a:custGeom>
                  <a:avLst/>
                  <a:gdLst/>
                  <a:ahLst/>
                  <a:rect l="l" t="t" r="r" b="b"/>
                  <a:pathLst>
                    <a:path w="0" h="32">
                      <a:moveTo>
                        <a:pt x="0" y="0"/>
                      </a:moveTo>
                      <a:lnTo>
                        <a:pt x="0" y="16"/>
                      </a:lnTo>
                      <a:lnTo>
                        <a:pt x="0" y="32"/>
                      </a:lnTo>
                      <a:lnTo>
                        <a:pt x="0" y="16"/>
                      </a:lnTo>
                      <a:lnTo>
                        <a:pt x="0" y="0"/>
                      </a:lnTo>
                      <a:close/>
                    </a:path>
                  </a:pathLst>
                </a:custGeom>
                <a:solidFill>
                  <a:srgbClr val="179c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4" name=""/>
                <p:cNvSpPr/>
                <p:nvPr/>
              </p:nvSpPr>
              <p:spPr>
                <a:xfrm>
                  <a:off x="7434360" y="2886120"/>
                  <a:ext cx="1440" cy="15840"/>
                </a:xfrm>
                <a:custGeom>
                  <a:avLst/>
                  <a:gdLst/>
                  <a:ahLst/>
                  <a:rect l="l" t="t" r="r" b="b"/>
                  <a:pathLst>
                    <a:path w="0" h="32">
                      <a:moveTo>
                        <a:pt x="0" y="0"/>
                      </a:moveTo>
                      <a:lnTo>
                        <a:pt x="0" y="16"/>
                      </a:lnTo>
                      <a:lnTo>
                        <a:pt x="0" y="32"/>
                      </a:lnTo>
                      <a:lnTo>
                        <a:pt x="0" y="16"/>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825" name=""/>
              <p:cNvSpPr/>
              <p:nvPr/>
            </p:nvSpPr>
            <p:spPr>
              <a:xfrm>
                <a:off x="7383600" y="2952720"/>
                <a:ext cx="29880" cy="41400"/>
              </a:xfrm>
              <a:custGeom>
                <a:avLst/>
                <a:gdLst/>
                <a:ahLst/>
                <a:rect l="l" t="t" r="r" b="b"/>
                <a:pathLst>
                  <a:path w="56" h="79">
                    <a:moveTo>
                      <a:pt x="0" y="62"/>
                    </a:moveTo>
                    <a:lnTo>
                      <a:pt x="14" y="31"/>
                    </a:lnTo>
                    <a:lnTo>
                      <a:pt x="28" y="15"/>
                    </a:lnTo>
                    <a:lnTo>
                      <a:pt x="56" y="0"/>
                    </a:lnTo>
                    <a:lnTo>
                      <a:pt x="56" y="15"/>
                    </a:lnTo>
                    <a:lnTo>
                      <a:pt x="42" y="31"/>
                    </a:lnTo>
                    <a:lnTo>
                      <a:pt x="42" y="47"/>
                    </a:lnTo>
                    <a:lnTo>
                      <a:pt x="42" y="62"/>
                    </a:lnTo>
                    <a:lnTo>
                      <a:pt x="28" y="79"/>
                    </a:lnTo>
                    <a:lnTo>
                      <a:pt x="28" y="62"/>
                    </a:lnTo>
                    <a:lnTo>
                      <a:pt x="14" y="62"/>
                    </a:lnTo>
                    <a:lnTo>
                      <a:pt x="0" y="62"/>
                    </a:lnTo>
                    <a:close/>
                  </a:path>
                </a:pathLst>
              </a:custGeom>
              <a:solidFill>
                <a:srgbClr val="179c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826" name=""/>
              <p:cNvGrpSpPr/>
              <p:nvPr/>
            </p:nvGrpSpPr>
            <p:grpSpPr>
              <a:xfrm>
                <a:off x="7383600" y="2952720"/>
                <a:ext cx="29880" cy="41400"/>
                <a:chOff x="7383600" y="2952720"/>
                <a:chExt cx="29880" cy="41400"/>
              </a:xfrm>
            </p:grpSpPr>
            <p:sp>
              <p:nvSpPr>
                <p:cNvPr id="1827" name=""/>
                <p:cNvSpPr/>
                <p:nvPr/>
              </p:nvSpPr>
              <p:spPr>
                <a:xfrm>
                  <a:off x="7383600" y="2952720"/>
                  <a:ext cx="29880" cy="41400"/>
                </a:xfrm>
                <a:custGeom>
                  <a:avLst/>
                  <a:gdLst/>
                  <a:ahLst/>
                  <a:rect l="l" t="t" r="r" b="b"/>
                  <a:pathLst>
                    <a:path w="56" h="79">
                      <a:moveTo>
                        <a:pt x="0" y="62"/>
                      </a:moveTo>
                      <a:lnTo>
                        <a:pt x="14" y="31"/>
                      </a:lnTo>
                      <a:lnTo>
                        <a:pt x="28" y="15"/>
                      </a:lnTo>
                      <a:lnTo>
                        <a:pt x="56" y="0"/>
                      </a:lnTo>
                      <a:lnTo>
                        <a:pt x="56" y="15"/>
                      </a:lnTo>
                      <a:lnTo>
                        <a:pt x="42" y="31"/>
                      </a:lnTo>
                      <a:lnTo>
                        <a:pt x="42" y="47"/>
                      </a:lnTo>
                      <a:lnTo>
                        <a:pt x="42" y="62"/>
                      </a:lnTo>
                      <a:lnTo>
                        <a:pt x="28" y="79"/>
                      </a:lnTo>
                      <a:lnTo>
                        <a:pt x="28" y="62"/>
                      </a:lnTo>
                      <a:lnTo>
                        <a:pt x="14" y="62"/>
                      </a:lnTo>
                      <a:lnTo>
                        <a:pt x="0" y="62"/>
                      </a:lnTo>
                      <a:close/>
                    </a:path>
                  </a:pathLst>
                </a:custGeom>
                <a:solidFill>
                  <a:srgbClr val="179c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8" name=""/>
                <p:cNvSpPr/>
                <p:nvPr/>
              </p:nvSpPr>
              <p:spPr>
                <a:xfrm>
                  <a:off x="7383600" y="2952720"/>
                  <a:ext cx="29880" cy="41400"/>
                </a:xfrm>
                <a:custGeom>
                  <a:avLst/>
                  <a:gdLst/>
                  <a:ahLst/>
                  <a:rect l="l" t="t" r="r" b="b"/>
                  <a:pathLst>
                    <a:path w="56" h="79">
                      <a:moveTo>
                        <a:pt x="0" y="62"/>
                      </a:moveTo>
                      <a:lnTo>
                        <a:pt x="14" y="31"/>
                      </a:lnTo>
                      <a:lnTo>
                        <a:pt x="28" y="15"/>
                      </a:lnTo>
                      <a:lnTo>
                        <a:pt x="56" y="0"/>
                      </a:lnTo>
                      <a:lnTo>
                        <a:pt x="56" y="15"/>
                      </a:lnTo>
                      <a:lnTo>
                        <a:pt x="42" y="31"/>
                      </a:lnTo>
                      <a:lnTo>
                        <a:pt x="42" y="47"/>
                      </a:lnTo>
                      <a:lnTo>
                        <a:pt x="42" y="62"/>
                      </a:lnTo>
                      <a:lnTo>
                        <a:pt x="28" y="79"/>
                      </a:lnTo>
                      <a:lnTo>
                        <a:pt x="28" y="62"/>
                      </a:lnTo>
                      <a:lnTo>
                        <a:pt x="14" y="62"/>
                      </a:lnTo>
                      <a:lnTo>
                        <a:pt x="0" y="6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829" name=""/>
              <p:cNvSpPr/>
              <p:nvPr/>
            </p:nvSpPr>
            <p:spPr>
              <a:xfrm>
                <a:off x="7405560" y="3094200"/>
                <a:ext cx="14400" cy="66600"/>
              </a:xfrm>
              <a:custGeom>
                <a:avLst/>
                <a:gdLst/>
                <a:ahLst/>
                <a:rect l="l" t="t" r="r" b="b"/>
                <a:pathLst>
                  <a:path w="28" h="127">
                    <a:moveTo>
                      <a:pt x="0" y="0"/>
                    </a:moveTo>
                    <a:lnTo>
                      <a:pt x="14" y="32"/>
                    </a:lnTo>
                    <a:lnTo>
                      <a:pt x="28" y="79"/>
                    </a:lnTo>
                    <a:lnTo>
                      <a:pt x="28" y="127"/>
                    </a:lnTo>
                    <a:lnTo>
                      <a:pt x="14" y="127"/>
                    </a:lnTo>
                    <a:lnTo>
                      <a:pt x="14" y="111"/>
                    </a:lnTo>
                    <a:lnTo>
                      <a:pt x="14" y="96"/>
                    </a:lnTo>
                    <a:lnTo>
                      <a:pt x="14" y="79"/>
                    </a:lnTo>
                    <a:lnTo>
                      <a:pt x="14" y="49"/>
                    </a:lnTo>
                    <a:lnTo>
                      <a:pt x="14" y="32"/>
                    </a:lnTo>
                    <a:lnTo>
                      <a:pt x="0" y="0"/>
                    </a:lnTo>
                    <a:close/>
                  </a:path>
                </a:pathLst>
              </a:custGeom>
              <a:solidFill>
                <a:srgbClr val="179c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830" name=""/>
              <p:cNvGrpSpPr/>
              <p:nvPr/>
            </p:nvGrpSpPr>
            <p:grpSpPr>
              <a:xfrm>
                <a:off x="7405560" y="3094200"/>
                <a:ext cx="14400" cy="66600"/>
                <a:chOff x="7405560" y="3094200"/>
                <a:chExt cx="14400" cy="66600"/>
              </a:xfrm>
            </p:grpSpPr>
            <p:sp>
              <p:nvSpPr>
                <p:cNvPr id="1831" name=""/>
                <p:cNvSpPr/>
                <p:nvPr/>
              </p:nvSpPr>
              <p:spPr>
                <a:xfrm>
                  <a:off x="7405560" y="3094200"/>
                  <a:ext cx="14400" cy="66600"/>
                </a:xfrm>
                <a:custGeom>
                  <a:avLst/>
                  <a:gdLst/>
                  <a:ahLst/>
                  <a:rect l="l" t="t" r="r" b="b"/>
                  <a:pathLst>
                    <a:path w="28" h="127">
                      <a:moveTo>
                        <a:pt x="0" y="0"/>
                      </a:moveTo>
                      <a:lnTo>
                        <a:pt x="14" y="32"/>
                      </a:lnTo>
                      <a:lnTo>
                        <a:pt x="28" y="79"/>
                      </a:lnTo>
                      <a:lnTo>
                        <a:pt x="28" y="127"/>
                      </a:lnTo>
                      <a:lnTo>
                        <a:pt x="14" y="127"/>
                      </a:lnTo>
                      <a:lnTo>
                        <a:pt x="14" y="111"/>
                      </a:lnTo>
                      <a:lnTo>
                        <a:pt x="14" y="96"/>
                      </a:lnTo>
                      <a:lnTo>
                        <a:pt x="14" y="79"/>
                      </a:lnTo>
                      <a:lnTo>
                        <a:pt x="14" y="49"/>
                      </a:lnTo>
                      <a:lnTo>
                        <a:pt x="14" y="32"/>
                      </a:lnTo>
                      <a:lnTo>
                        <a:pt x="0" y="0"/>
                      </a:lnTo>
                      <a:close/>
                    </a:path>
                  </a:pathLst>
                </a:custGeom>
                <a:solidFill>
                  <a:srgbClr val="179c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7405560" y="3094200"/>
                  <a:ext cx="14400" cy="66600"/>
                </a:xfrm>
                <a:custGeom>
                  <a:avLst/>
                  <a:gdLst/>
                  <a:ahLst/>
                  <a:rect l="l" t="t" r="r" b="b"/>
                  <a:pathLst>
                    <a:path w="28" h="127">
                      <a:moveTo>
                        <a:pt x="0" y="0"/>
                      </a:moveTo>
                      <a:lnTo>
                        <a:pt x="14" y="32"/>
                      </a:lnTo>
                      <a:lnTo>
                        <a:pt x="28" y="79"/>
                      </a:lnTo>
                      <a:lnTo>
                        <a:pt x="28" y="127"/>
                      </a:lnTo>
                      <a:lnTo>
                        <a:pt x="14" y="127"/>
                      </a:lnTo>
                      <a:lnTo>
                        <a:pt x="14" y="111"/>
                      </a:lnTo>
                      <a:lnTo>
                        <a:pt x="14" y="96"/>
                      </a:lnTo>
                      <a:lnTo>
                        <a:pt x="14" y="79"/>
                      </a:lnTo>
                      <a:lnTo>
                        <a:pt x="14" y="49"/>
                      </a:lnTo>
                      <a:lnTo>
                        <a:pt x="14" y="32"/>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33" name=""/>
              <p:cNvSpPr/>
              <p:nvPr/>
            </p:nvSpPr>
            <p:spPr>
              <a:xfrm>
                <a:off x="7500960" y="2268360"/>
                <a:ext cx="95400" cy="133560"/>
              </a:xfrm>
              <a:custGeom>
                <a:avLst/>
                <a:gdLst/>
                <a:ahLst/>
                <a:rect l="l" t="t" r="r" b="b"/>
                <a:pathLst>
                  <a:path w="180" h="252">
                    <a:moveTo>
                      <a:pt x="180" y="252"/>
                    </a:moveTo>
                    <a:lnTo>
                      <a:pt x="138" y="252"/>
                    </a:lnTo>
                    <a:lnTo>
                      <a:pt x="110" y="252"/>
                    </a:lnTo>
                    <a:lnTo>
                      <a:pt x="69" y="237"/>
                    </a:lnTo>
                    <a:lnTo>
                      <a:pt x="69" y="220"/>
                    </a:lnTo>
                    <a:lnTo>
                      <a:pt x="83" y="205"/>
                    </a:lnTo>
                    <a:lnTo>
                      <a:pt x="97" y="173"/>
                    </a:lnTo>
                    <a:lnTo>
                      <a:pt x="83" y="173"/>
                    </a:lnTo>
                    <a:lnTo>
                      <a:pt x="69" y="173"/>
                    </a:lnTo>
                    <a:lnTo>
                      <a:pt x="55" y="142"/>
                    </a:lnTo>
                    <a:lnTo>
                      <a:pt x="41" y="126"/>
                    </a:lnTo>
                    <a:lnTo>
                      <a:pt x="27" y="110"/>
                    </a:lnTo>
                    <a:lnTo>
                      <a:pt x="0" y="63"/>
                    </a:lnTo>
                    <a:lnTo>
                      <a:pt x="14" y="47"/>
                    </a:lnTo>
                    <a:lnTo>
                      <a:pt x="41" y="16"/>
                    </a:lnTo>
                    <a:lnTo>
                      <a:pt x="41" y="0"/>
                    </a:lnTo>
                    <a:lnTo>
                      <a:pt x="55" y="0"/>
                    </a:lnTo>
                    <a:lnTo>
                      <a:pt x="69" y="0"/>
                    </a:lnTo>
                    <a:lnTo>
                      <a:pt x="83" y="0"/>
                    </a:lnTo>
                    <a:lnTo>
                      <a:pt x="110" y="16"/>
                    </a:lnTo>
                    <a:lnTo>
                      <a:pt x="124" y="47"/>
                    </a:lnTo>
                    <a:lnTo>
                      <a:pt x="110" y="63"/>
                    </a:lnTo>
                    <a:lnTo>
                      <a:pt x="83" y="63"/>
                    </a:lnTo>
                    <a:lnTo>
                      <a:pt x="83" y="79"/>
                    </a:lnTo>
                    <a:lnTo>
                      <a:pt x="97" y="94"/>
                    </a:lnTo>
                    <a:lnTo>
                      <a:pt x="110" y="126"/>
                    </a:lnTo>
                    <a:lnTo>
                      <a:pt x="138" y="142"/>
                    </a:lnTo>
                    <a:lnTo>
                      <a:pt x="152" y="142"/>
                    </a:lnTo>
                    <a:lnTo>
                      <a:pt x="166" y="142"/>
                    </a:lnTo>
                    <a:lnTo>
                      <a:pt x="180" y="158"/>
                    </a:lnTo>
                    <a:lnTo>
                      <a:pt x="166" y="173"/>
                    </a:lnTo>
                    <a:lnTo>
                      <a:pt x="152" y="173"/>
                    </a:lnTo>
                    <a:lnTo>
                      <a:pt x="138" y="173"/>
                    </a:lnTo>
                    <a:lnTo>
                      <a:pt x="138" y="189"/>
                    </a:lnTo>
                    <a:lnTo>
                      <a:pt x="152" y="189"/>
                    </a:lnTo>
                    <a:lnTo>
                      <a:pt x="166" y="220"/>
                    </a:lnTo>
                    <a:lnTo>
                      <a:pt x="166" y="237"/>
                    </a:lnTo>
                    <a:lnTo>
                      <a:pt x="180" y="252"/>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7500960" y="2268360"/>
                <a:ext cx="95400" cy="133560"/>
                <a:chOff x="7500960" y="2268360"/>
                <a:chExt cx="95400" cy="133560"/>
              </a:xfrm>
            </p:grpSpPr>
            <p:sp>
              <p:nvSpPr>
                <p:cNvPr id="1835" name=""/>
                <p:cNvSpPr/>
                <p:nvPr/>
              </p:nvSpPr>
              <p:spPr>
                <a:xfrm>
                  <a:off x="7500960" y="2268360"/>
                  <a:ext cx="95400" cy="133560"/>
                </a:xfrm>
                <a:custGeom>
                  <a:avLst/>
                  <a:gdLst/>
                  <a:ahLst/>
                  <a:rect l="l" t="t" r="r" b="b"/>
                  <a:pathLst>
                    <a:path w="180" h="252">
                      <a:moveTo>
                        <a:pt x="180" y="252"/>
                      </a:moveTo>
                      <a:lnTo>
                        <a:pt x="138" y="252"/>
                      </a:lnTo>
                      <a:lnTo>
                        <a:pt x="110" y="252"/>
                      </a:lnTo>
                      <a:lnTo>
                        <a:pt x="69" y="237"/>
                      </a:lnTo>
                      <a:lnTo>
                        <a:pt x="69" y="220"/>
                      </a:lnTo>
                      <a:lnTo>
                        <a:pt x="83" y="205"/>
                      </a:lnTo>
                      <a:lnTo>
                        <a:pt x="97" y="173"/>
                      </a:lnTo>
                      <a:lnTo>
                        <a:pt x="83" y="173"/>
                      </a:lnTo>
                      <a:lnTo>
                        <a:pt x="69" y="173"/>
                      </a:lnTo>
                      <a:lnTo>
                        <a:pt x="55" y="142"/>
                      </a:lnTo>
                      <a:lnTo>
                        <a:pt x="41" y="126"/>
                      </a:lnTo>
                      <a:lnTo>
                        <a:pt x="27" y="110"/>
                      </a:lnTo>
                      <a:lnTo>
                        <a:pt x="0" y="63"/>
                      </a:lnTo>
                      <a:lnTo>
                        <a:pt x="14" y="47"/>
                      </a:lnTo>
                      <a:lnTo>
                        <a:pt x="41" y="16"/>
                      </a:lnTo>
                      <a:lnTo>
                        <a:pt x="41" y="0"/>
                      </a:lnTo>
                      <a:lnTo>
                        <a:pt x="55" y="0"/>
                      </a:lnTo>
                      <a:lnTo>
                        <a:pt x="69" y="0"/>
                      </a:lnTo>
                      <a:lnTo>
                        <a:pt x="83" y="0"/>
                      </a:lnTo>
                      <a:lnTo>
                        <a:pt x="110" y="16"/>
                      </a:lnTo>
                      <a:lnTo>
                        <a:pt x="124" y="47"/>
                      </a:lnTo>
                      <a:lnTo>
                        <a:pt x="110" y="63"/>
                      </a:lnTo>
                      <a:lnTo>
                        <a:pt x="83" y="63"/>
                      </a:lnTo>
                      <a:lnTo>
                        <a:pt x="83" y="79"/>
                      </a:lnTo>
                      <a:lnTo>
                        <a:pt x="97" y="94"/>
                      </a:lnTo>
                      <a:lnTo>
                        <a:pt x="110" y="126"/>
                      </a:lnTo>
                      <a:lnTo>
                        <a:pt x="138" y="142"/>
                      </a:lnTo>
                      <a:lnTo>
                        <a:pt x="152" y="142"/>
                      </a:lnTo>
                      <a:lnTo>
                        <a:pt x="166" y="142"/>
                      </a:lnTo>
                      <a:lnTo>
                        <a:pt x="180" y="158"/>
                      </a:lnTo>
                      <a:lnTo>
                        <a:pt x="166" y="173"/>
                      </a:lnTo>
                      <a:lnTo>
                        <a:pt x="152" y="173"/>
                      </a:lnTo>
                      <a:lnTo>
                        <a:pt x="138" y="173"/>
                      </a:lnTo>
                      <a:lnTo>
                        <a:pt x="138" y="189"/>
                      </a:lnTo>
                      <a:lnTo>
                        <a:pt x="152" y="189"/>
                      </a:lnTo>
                      <a:lnTo>
                        <a:pt x="166" y="220"/>
                      </a:lnTo>
                      <a:lnTo>
                        <a:pt x="166" y="237"/>
                      </a:lnTo>
                      <a:lnTo>
                        <a:pt x="180" y="252"/>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500960" y="2268360"/>
                  <a:ext cx="95400" cy="133560"/>
                </a:xfrm>
                <a:custGeom>
                  <a:avLst/>
                  <a:gdLst/>
                  <a:ahLst/>
                  <a:rect l="l" t="t" r="r" b="b"/>
                  <a:pathLst>
                    <a:path w="180" h="252">
                      <a:moveTo>
                        <a:pt x="180" y="252"/>
                      </a:moveTo>
                      <a:lnTo>
                        <a:pt x="138" y="252"/>
                      </a:lnTo>
                      <a:lnTo>
                        <a:pt x="110" y="252"/>
                      </a:lnTo>
                      <a:lnTo>
                        <a:pt x="69" y="237"/>
                      </a:lnTo>
                      <a:lnTo>
                        <a:pt x="69" y="220"/>
                      </a:lnTo>
                      <a:lnTo>
                        <a:pt x="83" y="205"/>
                      </a:lnTo>
                      <a:lnTo>
                        <a:pt x="97" y="173"/>
                      </a:lnTo>
                      <a:lnTo>
                        <a:pt x="83" y="173"/>
                      </a:lnTo>
                      <a:lnTo>
                        <a:pt x="69" y="173"/>
                      </a:lnTo>
                      <a:lnTo>
                        <a:pt x="55" y="142"/>
                      </a:lnTo>
                      <a:lnTo>
                        <a:pt x="41" y="126"/>
                      </a:lnTo>
                      <a:lnTo>
                        <a:pt x="27" y="110"/>
                      </a:lnTo>
                      <a:lnTo>
                        <a:pt x="0" y="63"/>
                      </a:lnTo>
                      <a:lnTo>
                        <a:pt x="14" y="47"/>
                      </a:lnTo>
                      <a:lnTo>
                        <a:pt x="41" y="16"/>
                      </a:lnTo>
                      <a:lnTo>
                        <a:pt x="41" y="0"/>
                      </a:lnTo>
                      <a:lnTo>
                        <a:pt x="55" y="0"/>
                      </a:lnTo>
                      <a:lnTo>
                        <a:pt x="69" y="0"/>
                      </a:lnTo>
                      <a:lnTo>
                        <a:pt x="83" y="0"/>
                      </a:lnTo>
                      <a:lnTo>
                        <a:pt x="110" y="16"/>
                      </a:lnTo>
                      <a:lnTo>
                        <a:pt x="124" y="47"/>
                      </a:lnTo>
                      <a:lnTo>
                        <a:pt x="110" y="63"/>
                      </a:lnTo>
                      <a:lnTo>
                        <a:pt x="83" y="63"/>
                      </a:lnTo>
                      <a:lnTo>
                        <a:pt x="83" y="79"/>
                      </a:lnTo>
                      <a:lnTo>
                        <a:pt x="97" y="94"/>
                      </a:lnTo>
                      <a:lnTo>
                        <a:pt x="110" y="126"/>
                      </a:lnTo>
                      <a:lnTo>
                        <a:pt x="138" y="142"/>
                      </a:lnTo>
                      <a:lnTo>
                        <a:pt x="152" y="142"/>
                      </a:lnTo>
                      <a:lnTo>
                        <a:pt x="166" y="142"/>
                      </a:lnTo>
                      <a:lnTo>
                        <a:pt x="180" y="158"/>
                      </a:lnTo>
                      <a:lnTo>
                        <a:pt x="166" y="173"/>
                      </a:lnTo>
                      <a:lnTo>
                        <a:pt x="152" y="173"/>
                      </a:lnTo>
                      <a:lnTo>
                        <a:pt x="138" y="173"/>
                      </a:lnTo>
                      <a:lnTo>
                        <a:pt x="138" y="189"/>
                      </a:lnTo>
                      <a:lnTo>
                        <a:pt x="152" y="189"/>
                      </a:lnTo>
                      <a:lnTo>
                        <a:pt x="166" y="220"/>
                      </a:lnTo>
                      <a:lnTo>
                        <a:pt x="166" y="237"/>
                      </a:lnTo>
                      <a:lnTo>
                        <a:pt x="180" y="25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7" name=""/>
            <p:cNvGrpSpPr/>
            <p:nvPr/>
          </p:nvGrpSpPr>
          <p:grpSpPr>
            <a:xfrm>
              <a:off x="5645160" y="2406600"/>
              <a:ext cx="704880" cy="141480"/>
              <a:chOff x="5645160" y="2406600"/>
              <a:chExt cx="704880" cy="141480"/>
            </a:xfrm>
          </p:grpSpPr>
          <p:sp>
            <p:nvSpPr>
              <p:cNvPr id="1838" name=""/>
              <p:cNvSpPr/>
              <p:nvPr/>
            </p:nvSpPr>
            <p:spPr>
              <a:xfrm>
                <a:off x="5645160" y="2406600"/>
                <a:ext cx="70308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645160" y="2406600"/>
                <a:ext cx="703080" cy="141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645160" y="2406600"/>
                <a:ext cx="704880" cy="1414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5645160" y="2406600"/>
                <a:ext cx="70308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2" name=""/>
            <p:cNvSpPr/>
            <p:nvPr/>
          </p:nvSpPr>
          <p:spPr>
            <a:xfrm>
              <a:off x="5705640" y="2432160"/>
              <a:ext cx="669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Get Weather Info</a:t>
              </a:r>
              <a:endParaRPr b="0" lang="en-US" sz="700" spc="-1" strike="noStrike">
                <a:solidFill>
                  <a:srgbClr val="000000"/>
                </a:solidFill>
                <a:latin typeface="Times New Roman"/>
              </a:endParaRPr>
            </a:p>
          </p:txBody>
        </p:sp>
        <p:grpSp>
          <p:nvGrpSpPr>
            <p:cNvPr id="1843" name=""/>
            <p:cNvGrpSpPr/>
            <p:nvPr/>
          </p:nvGrpSpPr>
          <p:grpSpPr>
            <a:xfrm>
              <a:off x="7027920" y="2168640"/>
              <a:ext cx="836640" cy="141120"/>
              <a:chOff x="7027920" y="2168640"/>
              <a:chExt cx="836640" cy="141120"/>
            </a:xfrm>
          </p:grpSpPr>
          <p:sp>
            <p:nvSpPr>
              <p:cNvPr id="1844" name=""/>
              <p:cNvSpPr/>
              <p:nvPr/>
            </p:nvSpPr>
            <p:spPr>
              <a:xfrm>
                <a:off x="7027920" y="2168640"/>
                <a:ext cx="836640" cy="141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027920" y="2168640"/>
                <a:ext cx="836640" cy="1411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027920" y="2168640"/>
                <a:ext cx="836640" cy="1411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027920" y="2168640"/>
                <a:ext cx="836640" cy="141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8" name=""/>
            <p:cNvSpPr/>
            <p:nvPr/>
          </p:nvSpPr>
          <p:spPr>
            <a:xfrm>
              <a:off x="7088040" y="2192400"/>
              <a:ext cx="812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Determine Force Mix</a:t>
              </a:r>
              <a:endParaRPr b="0" lang="en-US" sz="700" spc="-1" strike="noStrike">
                <a:solidFill>
                  <a:srgbClr val="000000"/>
                </a:solidFill>
                <a:latin typeface="Times New Roman"/>
              </a:endParaRPr>
            </a:p>
          </p:txBody>
        </p:sp>
        <p:grpSp>
          <p:nvGrpSpPr>
            <p:cNvPr id="1849" name=""/>
            <p:cNvGrpSpPr/>
            <p:nvPr/>
          </p:nvGrpSpPr>
          <p:grpSpPr>
            <a:xfrm>
              <a:off x="7418520" y="2523960"/>
              <a:ext cx="1065240" cy="169920"/>
              <a:chOff x="7418520" y="2523960"/>
              <a:chExt cx="1065240" cy="169920"/>
            </a:xfrm>
          </p:grpSpPr>
          <p:sp>
            <p:nvSpPr>
              <p:cNvPr id="1850" name=""/>
              <p:cNvSpPr/>
              <p:nvPr/>
            </p:nvSpPr>
            <p:spPr>
              <a:xfrm>
                <a:off x="7418520" y="2523960"/>
                <a:ext cx="106524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418520" y="2523960"/>
                <a:ext cx="1065240" cy="168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418520" y="2523960"/>
                <a:ext cx="1065240" cy="1699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418520" y="2523960"/>
                <a:ext cx="106524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4" name=""/>
            <p:cNvSpPr/>
            <p:nvPr/>
          </p:nvSpPr>
          <p:spPr>
            <a:xfrm>
              <a:off x="7481160" y="2570040"/>
              <a:ext cx="294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Provide</a:t>
              </a:r>
              <a:endParaRPr b="0" lang="en-US" sz="700" spc="-1" strike="noStrike">
                <a:solidFill>
                  <a:srgbClr val="000000"/>
                </a:solidFill>
                <a:latin typeface="Times New Roman"/>
              </a:endParaRPr>
            </a:p>
          </p:txBody>
        </p:sp>
        <p:sp>
          <p:nvSpPr>
            <p:cNvPr id="1855" name=""/>
            <p:cNvSpPr/>
            <p:nvPr/>
          </p:nvSpPr>
          <p:spPr>
            <a:xfrm>
              <a:off x="7759800" y="25495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a0f33"/>
                  </a:solidFill>
                  <a:latin typeface="Times New Roman"/>
                </a:rPr>
                <a:t> </a:t>
              </a:r>
              <a:endParaRPr b="0" lang="en-US" sz="800" spc="-1" strike="noStrike">
                <a:solidFill>
                  <a:srgbClr val="000000"/>
                </a:solidFill>
                <a:latin typeface="Times New Roman"/>
              </a:endParaRPr>
            </a:p>
          </p:txBody>
        </p:sp>
        <p:sp>
          <p:nvSpPr>
            <p:cNvPr id="1856" name=""/>
            <p:cNvSpPr/>
            <p:nvPr/>
          </p:nvSpPr>
          <p:spPr>
            <a:xfrm>
              <a:off x="7779600" y="2570040"/>
              <a:ext cx="735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Intelligence Update</a:t>
              </a:r>
              <a:endParaRPr b="0" lang="en-US" sz="700" spc="-1" strike="noStrike">
                <a:solidFill>
                  <a:srgbClr val="000000"/>
                </a:solidFill>
                <a:latin typeface="Times New Roman"/>
              </a:endParaRPr>
            </a:p>
          </p:txBody>
        </p:sp>
        <p:grpSp>
          <p:nvGrpSpPr>
            <p:cNvPr id="1857" name=""/>
            <p:cNvGrpSpPr/>
            <p:nvPr/>
          </p:nvGrpSpPr>
          <p:grpSpPr>
            <a:xfrm>
              <a:off x="6762600" y="2844720"/>
              <a:ext cx="1040040" cy="141480"/>
              <a:chOff x="6762600" y="2844720"/>
              <a:chExt cx="1040040" cy="141480"/>
            </a:xfrm>
          </p:grpSpPr>
          <p:sp>
            <p:nvSpPr>
              <p:cNvPr id="1858" name=""/>
              <p:cNvSpPr/>
              <p:nvPr/>
            </p:nvSpPr>
            <p:spPr>
              <a:xfrm>
                <a:off x="6762600" y="2844720"/>
                <a:ext cx="103824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6762600" y="2844720"/>
                <a:ext cx="1038240" cy="141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6762600" y="2844720"/>
                <a:ext cx="1040040" cy="141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6762600" y="2844720"/>
                <a:ext cx="103824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2" name=""/>
            <p:cNvSpPr/>
            <p:nvPr/>
          </p:nvSpPr>
          <p:spPr>
            <a:xfrm>
              <a:off x="6826320" y="2868480"/>
              <a:ext cx="1029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Coordinate Transportation</a:t>
              </a:r>
              <a:endParaRPr b="0" lang="en-US" sz="700" spc="-1" strike="noStrike">
                <a:solidFill>
                  <a:srgbClr val="000000"/>
                </a:solidFill>
                <a:latin typeface="Times New Roman"/>
              </a:endParaRPr>
            </a:p>
          </p:txBody>
        </p:sp>
        <p:grpSp>
          <p:nvGrpSpPr>
            <p:cNvPr id="1863" name=""/>
            <p:cNvGrpSpPr/>
            <p:nvPr/>
          </p:nvGrpSpPr>
          <p:grpSpPr>
            <a:xfrm>
              <a:off x="8197920" y="3284640"/>
              <a:ext cx="581040" cy="141120"/>
              <a:chOff x="8197920" y="3284640"/>
              <a:chExt cx="581040" cy="141120"/>
            </a:xfrm>
          </p:grpSpPr>
          <p:sp>
            <p:nvSpPr>
              <p:cNvPr id="1864" name=""/>
              <p:cNvSpPr/>
              <p:nvPr/>
            </p:nvSpPr>
            <p:spPr>
              <a:xfrm>
                <a:off x="8197920" y="3284640"/>
                <a:ext cx="57924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197920" y="3284640"/>
                <a:ext cx="579240" cy="139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8197920" y="3284640"/>
                <a:ext cx="581040" cy="1411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97920" y="3284640"/>
                <a:ext cx="57924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8" name=""/>
            <p:cNvSpPr/>
            <p:nvPr/>
          </p:nvSpPr>
          <p:spPr>
            <a:xfrm>
              <a:off x="8259480" y="3308400"/>
              <a:ext cx="535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Select Targets</a:t>
              </a:r>
              <a:endParaRPr b="0" lang="en-US" sz="700" spc="-1" strike="noStrike">
                <a:solidFill>
                  <a:srgbClr val="000000"/>
                </a:solidFill>
                <a:latin typeface="Times New Roman"/>
              </a:endParaRPr>
            </a:p>
          </p:txBody>
        </p:sp>
        <p:grpSp>
          <p:nvGrpSpPr>
            <p:cNvPr id="1869" name=""/>
            <p:cNvGrpSpPr/>
            <p:nvPr/>
          </p:nvGrpSpPr>
          <p:grpSpPr>
            <a:xfrm>
              <a:off x="6146640" y="3105000"/>
              <a:ext cx="619200" cy="141480"/>
              <a:chOff x="6146640" y="3105000"/>
              <a:chExt cx="619200" cy="141480"/>
            </a:xfrm>
          </p:grpSpPr>
          <p:sp>
            <p:nvSpPr>
              <p:cNvPr id="1870" name=""/>
              <p:cNvSpPr/>
              <p:nvPr/>
            </p:nvSpPr>
            <p:spPr>
              <a:xfrm>
                <a:off x="6146640" y="3105000"/>
                <a:ext cx="61920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146640" y="3105000"/>
                <a:ext cx="619200" cy="141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146640" y="3105000"/>
                <a:ext cx="619200" cy="1414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146640" y="3105000"/>
                <a:ext cx="619200" cy="14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4" name=""/>
            <p:cNvSpPr/>
            <p:nvPr/>
          </p:nvSpPr>
          <p:spPr>
            <a:xfrm>
              <a:off x="6206760" y="3129120"/>
              <a:ext cx="578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0f33"/>
                  </a:solidFill>
                  <a:latin typeface="Times New Roman"/>
                </a:rPr>
                <a:t>Order Supplies</a:t>
              </a:r>
              <a:endParaRPr b="0" lang="en-US" sz="700" spc="-1" strike="noStrike">
                <a:solidFill>
                  <a:srgbClr val="000000"/>
                </a:solidFill>
                <a:latin typeface="Times New Roman"/>
              </a:endParaRPr>
            </a:p>
          </p:txBody>
        </p:sp>
        <p:grpSp>
          <p:nvGrpSpPr>
            <p:cNvPr id="1875" name=""/>
            <p:cNvGrpSpPr/>
            <p:nvPr/>
          </p:nvGrpSpPr>
          <p:grpSpPr>
            <a:xfrm>
              <a:off x="5846760" y="2266920"/>
              <a:ext cx="168120" cy="165240"/>
              <a:chOff x="5846760" y="2266920"/>
              <a:chExt cx="168120" cy="165240"/>
            </a:xfrm>
          </p:grpSpPr>
          <p:sp>
            <p:nvSpPr>
              <p:cNvPr id="1876" name=""/>
              <p:cNvSpPr/>
              <p:nvPr/>
            </p:nvSpPr>
            <p:spPr>
              <a:xfrm>
                <a:off x="5846760" y="2266920"/>
                <a:ext cx="168120" cy="16344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7" name=""/>
              <p:cNvGrpSpPr/>
              <p:nvPr/>
            </p:nvGrpSpPr>
            <p:grpSpPr>
              <a:xfrm>
                <a:off x="5846760" y="2268360"/>
                <a:ext cx="168120" cy="163800"/>
                <a:chOff x="5846760" y="2268360"/>
                <a:chExt cx="168120" cy="163800"/>
              </a:xfrm>
            </p:grpSpPr>
            <p:sp>
              <p:nvSpPr>
                <p:cNvPr id="1878" name=""/>
                <p:cNvSpPr/>
                <p:nvPr/>
              </p:nvSpPr>
              <p:spPr>
                <a:xfrm>
                  <a:off x="5929200" y="2292480"/>
                  <a:ext cx="44640" cy="34920"/>
                </a:xfrm>
                <a:custGeom>
                  <a:avLst/>
                  <a:gdLst/>
                  <a:ahLst/>
                  <a:rect l="l" t="t" r="r" b="b"/>
                  <a:pathLst>
                    <a:path w="570" h="572">
                      <a:moveTo>
                        <a:pt x="369" y="272"/>
                      </a:moveTo>
                      <a:lnTo>
                        <a:pt x="354" y="167"/>
                      </a:lnTo>
                      <a:lnTo>
                        <a:pt x="325" y="73"/>
                      </a:lnTo>
                      <a:lnTo>
                        <a:pt x="270" y="22"/>
                      </a:lnTo>
                      <a:lnTo>
                        <a:pt x="176" y="0"/>
                      </a:lnTo>
                      <a:lnTo>
                        <a:pt x="95" y="22"/>
                      </a:lnTo>
                      <a:lnTo>
                        <a:pt x="18" y="116"/>
                      </a:lnTo>
                      <a:lnTo>
                        <a:pt x="0" y="228"/>
                      </a:lnTo>
                      <a:lnTo>
                        <a:pt x="18" y="348"/>
                      </a:lnTo>
                      <a:lnTo>
                        <a:pt x="48" y="420"/>
                      </a:lnTo>
                      <a:lnTo>
                        <a:pt x="84" y="496"/>
                      </a:lnTo>
                      <a:lnTo>
                        <a:pt x="124" y="547"/>
                      </a:lnTo>
                      <a:lnTo>
                        <a:pt x="168" y="572"/>
                      </a:lnTo>
                      <a:lnTo>
                        <a:pt x="230" y="550"/>
                      </a:lnTo>
                      <a:lnTo>
                        <a:pt x="292" y="499"/>
                      </a:lnTo>
                      <a:lnTo>
                        <a:pt x="332" y="428"/>
                      </a:lnTo>
                      <a:lnTo>
                        <a:pt x="369" y="366"/>
                      </a:lnTo>
                      <a:lnTo>
                        <a:pt x="380" y="330"/>
                      </a:lnTo>
                      <a:lnTo>
                        <a:pt x="537" y="276"/>
                      </a:lnTo>
                      <a:lnTo>
                        <a:pt x="570" y="254"/>
                      </a:lnTo>
                      <a:lnTo>
                        <a:pt x="551" y="221"/>
                      </a:lnTo>
                      <a:lnTo>
                        <a:pt x="369" y="27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9" name=""/>
                <p:cNvSpPr/>
                <p:nvPr/>
              </p:nvSpPr>
              <p:spPr>
                <a:xfrm>
                  <a:off x="5907240" y="2330280"/>
                  <a:ext cx="45720" cy="65160"/>
                </a:xfrm>
                <a:custGeom>
                  <a:avLst/>
                  <a:gdLst/>
                  <a:ahLst/>
                  <a:rect l="l" t="t" r="r" b="b"/>
                  <a:pathLst>
                    <a:path w="588" h="1022">
                      <a:moveTo>
                        <a:pt x="197" y="152"/>
                      </a:moveTo>
                      <a:lnTo>
                        <a:pt x="270" y="76"/>
                      </a:lnTo>
                      <a:lnTo>
                        <a:pt x="391" y="3"/>
                      </a:lnTo>
                      <a:lnTo>
                        <a:pt x="445" y="0"/>
                      </a:lnTo>
                      <a:lnTo>
                        <a:pt x="544" y="32"/>
                      </a:lnTo>
                      <a:lnTo>
                        <a:pt x="588" y="80"/>
                      </a:lnTo>
                      <a:lnTo>
                        <a:pt x="588" y="152"/>
                      </a:lnTo>
                      <a:lnTo>
                        <a:pt x="514" y="286"/>
                      </a:lnTo>
                      <a:lnTo>
                        <a:pt x="435" y="391"/>
                      </a:lnTo>
                      <a:lnTo>
                        <a:pt x="401" y="479"/>
                      </a:lnTo>
                      <a:lnTo>
                        <a:pt x="379" y="579"/>
                      </a:lnTo>
                      <a:lnTo>
                        <a:pt x="401" y="677"/>
                      </a:lnTo>
                      <a:lnTo>
                        <a:pt x="423" y="772"/>
                      </a:lnTo>
                      <a:lnTo>
                        <a:pt x="423" y="880"/>
                      </a:lnTo>
                      <a:lnTo>
                        <a:pt x="391" y="946"/>
                      </a:lnTo>
                      <a:lnTo>
                        <a:pt x="317" y="982"/>
                      </a:lnTo>
                      <a:lnTo>
                        <a:pt x="230" y="1022"/>
                      </a:lnTo>
                      <a:lnTo>
                        <a:pt x="149" y="1022"/>
                      </a:lnTo>
                      <a:lnTo>
                        <a:pt x="95" y="992"/>
                      </a:lnTo>
                      <a:lnTo>
                        <a:pt x="22" y="873"/>
                      </a:lnTo>
                      <a:lnTo>
                        <a:pt x="0" y="750"/>
                      </a:lnTo>
                      <a:lnTo>
                        <a:pt x="8" y="591"/>
                      </a:lnTo>
                      <a:lnTo>
                        <a:pt x="62" y="391"/>
                      </a:lnTo>
                      <a:lnTo>
                        <a:pt x="117" y="261"/>
                      </a:lnTo>
                      <a:lnTo>
                        <a:pt x="197" y="15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0" name=""/>
                <p:cNvSpPr/>
                <p:nvPr/>
              </p:nvSpPr>
              <p:spPr>
                <a:xfrm>
                  <a:off x="5910120" y="2382840"/>
                  <a:ext cx="59040" cy="49320"/>
                </a:xfrm>
                <a:custGeom>
                  <a:avLst/>
                  <a:gdLst/>
                  <a:ahLst/>
                  <a:rect l="l" t="t" r="r" b="b"/>
                  <a:pathLst>
                    <a:path w="742" h="761">
                      <a:moveTo>
                        <a:pt x="0" y="72"/>
                      </a:moveTo>
                      <a:lnTo>
                        <a:pt x="62" y="0"/>
                      </a:lnTo>
                      <a:lnTo>
                        <a:pt x="154" y="0"/>
                      </a:lnTo>
                      <a:lnTo>
                        <a:pt x="325" y="18"/>
                      </a:lnTo>
                      <a:lnTo>
                        <a:pt x="527" y="28"/>
                      </a:lnTo>
                      <a:lnTo>
                        <a:pt x="604" y="62"/>
                      </a:lnTo>
                      <a:lnTo>
                        <a:pt x="636" y="104"/>
                      </a:lnTo>
                      <a:lnTo>
                        <a:pt x="643" y="170"/>
                      </a:lnTo>
                      <a:lnTo>
                        <a:pt x="621" y="238"/>
                      </a:lnTo>
                      <a:lnTo>
                        <a:pt x="560" y="343"/>
                      </a:lnTo>
                      <a:lnTo>
                        <a:pt x="479" y="431"/>
                      </a:lnTo>
                      <a:lnTo>
                        <a:pt x="417" y="510"/>
                      </a:lnTo>
                      <a:lnTo>
                        <a:pt x="392" y="571"/>
                      </a:lnTo>
                      <a:lnTo>
                        <a:pt x="373" y="615"/>
                      </a:lnTo>
                      <a:lnTo>
                        <a:pt x="380" y="648"/>
                      </a:lnTo>
                      <a:lnTo>
                        <a:pt x="384" y="669"/>
                      </a:lnTo>
                      <a:lnTo>
                        <a:pt x="458" y="669"/>
                      </a:lnTo>
                      <a:lnTo>
                        <a:pt x="571" y="651"/>
                      </a:lnTo>
                      <a:lnTo>
                        <a:pt x="643" y="651"/>
                      </a:lnTo>
                      <a:lnTo>
                        <a:pt x="720" y="681"/>
                      </a:lnTo>
                      <a:lnTo>
                        <a:pt x="742" y="717"/>
                      </a:lnTo>
                      <a:lnTo>
                        <a:pt x="720" y="749"/>
                      </a:lnTo>
                      <a:lnTo>
                        <a:pt x="688" y="761"/>
                      </a:lnTo>
                      <a:lnTo>
                        <a:pt x="636" y="746"/>
                      </a:lnTo>
                      <a:lnTo>
                        <a:pt x="567" y="706"/>
                      </a:lnTo>
                      <a:lnTo>
                        <a:pt x="493" y="713"/>
                      </a:lnTo>
                      <a:lnTo>
                        <a:pt x="373" y="735"/>
                      </a:lnTo>
                      <a:lnTo>
                        <a:pt x="337" y="727"/>
                      </a:lnTo>
                      <a:lnTo>
                        <a:pt x="318" y="702"/>
                      </a:lnTo>
                      <a:lnTo>
                        <a:pt x="318" y="641"/>
                      </a:lnTo>
                      <a:lnTo>
                        <a:pt x="318" y="554"/>
                      </a:lnTo>
                      <a:lnTo>
                        <a:pt x="370" y="488"/>
                      </a:lnTo>
                      <a:lnTo>
                        <a:pt x="446" y="390"/>
                      </a:lnTo>
                      <a:lnTo>
                        <a:pt x="512" y="304"/>
                      </a:lnTo>
                      <a:lnTo>
                        <a:pt x="556" y="238"/>
                      </a:lnTo>
                      <a:lnTo>
                        <a:pt x="578" y="181"/>
                      </a:lnTo>
                      <a:lnTo>
                        <a:pt x="567" y="148"/>
                      </a:lnTo>
                      <a:lnTo>
                        <a:pt x="537" y="108"/>
                      </a:lnTo>
                      <a:lnTo>
                        <a:pt x="493" y="97"/>
                      </a:lnTo>
                      <a:lnTo>
                        <a:pt x="446" y="97"/>
                      </a:lnTo>
                      <a:lnTo>
                        <a:pt x="340" y="97"/>
                      </a:lnTo>
                      <a:lnTo>
                        <a:pt x="183" y="126"/>
                      </a:lnTo>
                      <a:lnTo>
                        <a:pt x="66" y="137"/>
                      </a:lnTo>
                      <a:lnTo>
                        <a:pt x="19" y="126"/>
                      </a:lnTo>
                      <a:lnTo>
                        <a:pt x="0" y="108"/>
                      </a:lnTo>
                      <a:lnTo>
                        <a:pt x="0" y="72"/>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81" name=""/>
                <p:cNvSpPr/>
                <p:nvPr/>
              </p:nvSpPr>
              <p:spPr>
                <a:xfrm>
                  <a:off x="5846760" y="2371680"/>
                  <a:ext cx="74520" cy="46080"/>
                </a:xfrm>
                <a:custGeom>
                  <a:avLst/>
                  <a:gdLst/>
                  <a:ahLst/>
                  <a:rect l="l" t="t" r="r" b="b"/>
                  <a:pathLst>
                    <a:path w="942" h="725">
                      <a:moveTo>
                        <a:pt x="767" y="301"/>
                      </a:moveTo>
                      <a:lnTo>
                        <a:pt x="782" y="206"/>
                      </a:lnTo>
                      <a:lnTo>
                        <a:pt x="836" y="171"/>
                      </a:lnTo>
                      <a:lnTo>
                        <a:pt x="902" y="164"/>
                      </a:lnTo>
                      <a:lnTo>
                        <a:pt x="942" y="206"/>
                      </a:lnTo>
                      <a:lnTo>
                        <a:pt x="924" y="290"/>
                      </a:lnTo>
                      <a:lnTo>
                        <a:pt x="888" y="402"/>
                      </a:lnTo>
                      <a:lnTo>
                        <a:pt x="814" y="529"/>
                      </a:lnTo>
                      <a:lnTo>
                        <a:pt x="723" y="637"/>
                      </a:lnTo>
                      <a:lnTo>
                        <a:pt x="646" y="695"/>
                      </a:lnTo>
                      <a:lnTo>
                        <a:pt x="562" y="725"/>
                      </a:lnTo>
                      <a:lnTo>
                        <a:pt x="481" y="714"/>
                      </a:lnTo>
                      <a:lnTo>
                        <a:pt x="420" y="681"/>
                      </a:lnTo>
                      <a:lnTo>
                        <a:pt x="397" y="627"/>
                      </a:lnTo>
                      <a:lnTo>
                        <a:pt x="372" y="533"/>
                      </a:lnTo>
                      <a:lnTo>
                        <a:pt x="343" y="359"/>
                      </a:lnTo>
                      <a:lnTo>
                        <a:pt x="321" y="240"/>
                      </a:lnTo>
                      <a:lnTo>
                        <a:pt x="321" y="98"/>
                      </a:lnTo>
                      <a:lnTo>
                        <a:pt x="306" y="73"/>
                      </a:lnTo>
                      <a:lnTo>
                        <a:pt x="263" y="66"/>
                      </a:lnTo>
                      <a:lnTo>
                        <a:pt x="212" y="105"/>
                      </a:lnTo>
                      <a:lnTo>
                        <a:pt x="164" y="171"/>
                      </a:lnTo>
                      <a:lnTo>
                        <a:pt x="109" y="206"/>
                      </a:lnTo>
                      <a:lnTo>
                        <a:pt x="25" y="206"/>
                      </a:lnTo>
                      <a:lnTo>
                        <a:pt x="0" y="185"/>
                      </a:lnTo>
                      <a:lnTo>
                        <a:pt x="0" y="149"/>
                      </a:lnTo>
                      <a:lnTo>
                        <a:pt x="36" y="116"/>
                      </a:lnTo>
                      <a:lnTo>
                        <a:pt x="76" y="127"/>
                      </a:lnTo>
                      <a:lnTo>
                        <a:pt x="113" y="120"/>
                      </a:lnTo>
                      <a:lnTo>
                        <a:pt x="179" y="73"/>
                      </a:lnTo>
                      <a:lnTo>
                        <a:pt x="244" y="22"/>
                      </a:lnTo>
                      <a:lnTo>
                        <a:pt x="306" y="8"/>
                      </a:lnTo>
                      <a:lnTo>
                        <a:pt x="394" y="0"/>
                      </a:lnTo>
                      <a:lnTo>
                        <a:pt x="397" y="40"/>
                      </a:lnTo>
                      <a:lnTo>
                        <a:pt x="376" y="84"/>
                      </a:lnTo>
                      <a:lnTo>
                        <a:pt x="372" y="196"/>
                      </a:lnTo>
                      <a:lnTo>
                        <a:pt x="397" y="345"/>
                      </a:lnTo>
                      <a:lnTo>
                        <a:pt x="438" y="489"/>
                      </a:lnTo>
                      <a:lnTo>
                        <a:pt x="474" y="576"/>
                      </a:lnTo>
                      <a:lnTo>
                        <a:pt x="530" y="616"/>
                      </a:lnTo>
                      <a:lnTo>
                        <a:pt x="584" y="616"/>
                      </a:lnTo>
                      <a:lnTo>
                        <a:pt x="639" y="576"/>
                      </a:lnTo>
                      <a:lnTo>
                        <a:pt x="712" y="485"/>
                      </a:lnTo>
                      <a:lnTo>
                        <a:pt x="760" y="355"/>
                      </a:lnTo>
                      <a:lnTo>
                        <a:pt x="767" y="30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2" name=""/>
                <p:cNvSpPr/>
                <p:nvPr/>
              </p:nvSpPr>
              <p:spPr>
                <a:xfrm>
                  <a:off x="5883120" y="2268360"/>
                  <a:ext cx="52560" cy="73080"/>
                </a:xfrm>
                <a:custGeom>
                  <a:avLst/>
                  <a:gdLst/>
                  <a:ahLst/>
                  <a:rect l="l" t="t" r="r" b="b"/>
                  <a:pathLst>
                    <a:path w="664" h="1144">
                      <a:moveTo>
                        <a:pt x="423" y="868"/>
                      </a:moveTo>
                      <a:lnTo>
                        <a:pt x="532" y="978"/>
                      </a:lnTo>
                      <a:lnTo>
                        <a:pt x="576" y="978"/>
                      </a:lnTo>
                      <a:lnTo>
                        <a:pt x="649" y="1021"/>
                      </a:lnTo>
                      <a:lnTo>
                        <a:pt x="664" y="1071"/>
                      </a:lnTo>
                      <a:lnTo>
                        <a:pt x="642" y="1137"/>
                      </a:lnTo>
                      <a:lnTo>
                        <a:pt x="583" y="1144"/>
                      </a:lnTo>
                      <a:lnTo>
                        <a:pt x="510" y="1093"/>
                      </a:lnTo>
                      <a:lnTo>
                        <a:pt x="364" y="956"/>
                      </a:lnTo>
                      <a:lnTo>
                        <a:pt x="269" y="826"/>
                      </a:lnTo>
                      <a:lnTo>
                        <a:pt x="225" y="724"/>
                      </a:lnTo>
                      <a:lnTo>
                        <a:pt x="196" y="550"/>
                      </a:lnTo>
                      <a:lnTo>
                        <a:pt x="196" y="325"/>
                      </a:lnTo>
                      <a:lnTo>
                        <a:pt x="189" y="268"/>
                      </a:lnTo>
                      <a:lnTo>
                        <a:pt x="146" y="224"/>
                      </a:lnTo>
                      <a:lnTo>
                        <a:pt x="21" y="232"/>
                      </a:lnTo>
                      <a:lnTo>
                        <a:pt x="0" y="210"/>
                      </a:lnTo>
                      <a:lnTo>
                        <a:pt x="28" y="195"/>
                      </a:lnTo>
                      <a:lnTo>
                        <a:pt x="116" y="188"/>
                      </a:lnTo>
                      <a:lnTo>
                        <a:pt x="131" y="173"/>
                      </a:lnTo>
                      <a:lnTo>
                        <a:pt x="6" y="101"/>
                      </a:lnTo>
                      <a:lnTo>
                        <a:pt x="6" y="73"/>
                      </a:lnTo>
                      <a:lnTo>
                        <a:pt x="28" y="65"/>
                      </a:lnTo>
                      <a:lnTo>
                        <a:pt x="131" y="122"/>
                      </a:lnTo>
                      <a:lnTo>
                        <a:pt x="153" y="115"/>
                      </a:lnTo>
                      <a:lnTo>
                        <a:pt x="131" y="7"/>
                      </a:lnTo>
                      <a:lnTo>
                        <a:pt x="146" y="0"/>
                      </a:lnTo>
                      <a:lnTo>
                        <a:pt x="160" y="7"/>
                      </a:lnTo>
                      <a:lnTo>
                        <a:pt x="189" y="115"/>
                      </a:lnTo>
                      <a:lnTo>
                        <a:pt x="211" y="122"/>
                      </a:lnTo>
                      <a:lnTo>
                        <a:pt x="269" y="7"/>
                      </a:lnTo>
                      <a:lnTo>
                        <a:pt x="284" y="7"/>
                      </a:lnTo>
                      <a:lnTo>
                        <a:pt x="284" y="43"/>
                      </a:lnTo>
                      <a:lnTo>
                        <a:pt x="247" y="137"/>
                      </a:lnTo>
                      <a:lnTo>
                        <a:pt x="247" y="188"/>
                      </a:lnTo>
                      <a:lnTo>
                        <a:pt x="262" y="254"/>
                      </a:lnTo>
                      <a:lnTo>
                        <a:pt x="255" y="340"/>
                      </a:lnTo>
                      <a:lnTo>
                        <a:pt x="262" y="499"/>
                      </a:lnTo>
                      <a:lnTo>
                        <a:pt x="277" y="601"/>
                      </a:lnTo>
                      <a:lnTo>
                        <a:pt x="314" y="717"/>
                      </a:lnTo>
                      <a:lnTo>
                        <a:pt x="364" y="804"/>
                      </a:lnTo>
                      <a:lnTo>
                        <a:pt x="423" y="86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3" name=""/>
                <p:cNvSpPr/>
                <p:nvPr/>
              </p:nvSpPr>
              <p:spPr>
                <a:xfrm>
                  <a:off x="5946840" y="2274840"/>
                  <a:ext cx="68040" cy="68400"/>
                </a:xfrm>
                <a:custGeom>
                  <a:avLst/>
                  <a:gdLst/>
                  <a:ahLst/>
                  <a:rect l="l" t="t" r="r" b="b"/>
                  <a:pathLst>
                    <a:path w="869" h="1071">
                      <a:moveTo>
                        <a:pt x="14" y="948"/>
                      </a:moveTo>
                      <a:lnTo>
                        <a:pt x="0" y="998"/>
                      </a:lnTo>
                      <a:lnTo>
                        <a:pt x="14" y="1071"/>
                      </a:lnTo>
                      <a:lnTo>
                        <a:pt x="66" y="1071"/>
                      </a:lnTo>
                      <a:lnTo>
                        <a:pt x="219" y="1042"/>
                      </a:lnTo>
                      <a:lnTo>
                        <a:pt x="387" y="984"/>
                      </a:lnTo>
                      <a:lnTo>
                        <a:pt x="525" y="890"/>
                      </a:lnTo>
                      <a:lnTo>
                        <a:pt x="606" y="767"/>
                      </a:lnTo>
                      <a:lnTo>
                        <a:pt x="679" y="557"/>
                      </a:lnTo>
                      <a:lnTo>
                        <a:pt x="701" y="362"/>
                      </a:lnTo>
                      <a:lnTo>
                        <a:pt x="701" y="268"/>
                      </a:lnTo>
                      <a:lnTo>
                        <a:pt x="737" y="210"/>
                      </a:lnTo>
                      <a:lnTo>
                        <a:pt x="803" y="188"/>
                      </a:lnTo>
                      <a:lnTo>
                        <a:pt x="861" y="188"/>
                      </a:lnTo>
                      <a:lnTo>
                        <a:pt x="869" y="159"/>
                      </a:lnTo>
                      <a:lnTo>
                        <a:pt x="782" y="166"/>
                      </a:lnTo>
                      <a:lnTo>
                        <a:pt x="767" y="144"/>
                      </a:lnTo>
                      <a:lnTo>
                        <a:pt x="839" y="65"/>
                      </a:lnTo>
                      <a:lnTo>
                        <a:pt x="825" y="43"/>
                      </a:lnTo>
                      <a:lnTo>
                        <a:pt x="810" y="58"/>
                      </a:lnTo>
                      <a:lnTo>
                        <a:pt x="752" y="115"/>
                      </a:lnTo>
                      <a:lnTo>
                        <a:pt x="737" y="115"/>
                      </a:lnTo>
                      <a:lnTo>
                        <a:pt x="737" y="14"/>
                      </a:lnTo>
                      <a:lnTo>
                        <a:pt x="723" y="0"/>
                      </a:lnTo>
                      <a:lnTo>
                        <a:pt x="701" y="7"/>
                      </a:lnTo>
                      <a:lnTo>
                        <a:pt x="708" y="115"/>
                      </a:lnTo>
                      <a:lnTo>
                        <a:pt x="693" y="122"/>
                      </a:lnTo>
                      <a:lnTo>
                        <a:pt x="635" y="65"/>
                      </a:lnTo>
                      <a:lnTo>
                        <a:pt x="592" y="58"/>
                      </a:lnTo>
                      <a:lnTo>
                        <a:pt x="599" y="87"/>
                      </a:lnTo>
                      <a:lnTo>
                        <a:pt x="664" y="152"/>
                      </a:lnTo>
                      <a:lnTo>
                        <a:pt x="664" y="188"/>
                      </a:lnTo>
                      <a:lnTo>
                        <a:pt x="642" y="261"/>
                      </a:lnTo>
                      <a:lnTo>
                        <a:pt x="642" y="325"/>
                      </a:lnTo>
                      <a:lnTo>
                        <a:pt x="642" y="435"/>
                      </a:lnTo>
                      <a:lnTo>
                        <a:pt x="613" y="572"/>
                      </a:lnTo>
                      <a:lnTo>
                        <a:pt x="584" y="658"/>
                      </a:lnTo>
                      <a:lnTo>
                        <a:pt x="533" y="767"/>
                      </a:lnTo>
                      <a:lnTo>
                        <a:pt x="474" y="854"/>
                      </a:lnTo>
                      <a:lnTo>
                        <a:pt x="431" y="897"/>
                      </a:lnTo>
                      <a:lnTo>
                        <a:pt x="313" y="934"/>
                      </a:lnTo>
                      <a:lnTo>
                        <a:pt x="204" y="948"/>
                      </a:lnTo>
                      <a:lnTo>
                        <a:pt x="94" y="963"/>
                      </a:lnTo>
                      <a:lnTo>
                        <a:pt x="14" y="94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1884" name=""/>
            <p:cNvGrpSpPr/>
            <p:nvPr/>
          </p:nvGrpSpPr>
          <p:grpSpPr>
            <a:xfrm>
              <a:off x="7126200" y="2709720"/>
              <a:ext cx="169920" cy="165240"/>
              <a:chOff x="7126200" y="2709720"/>
              <a:chExt cx="169920" cy="165240"/>
            </a:xfrm>
          </p:grpSpPr>
          <p:sp>
            <p:nvSpPr>
              <p:cNvPr id="1885" name=""/>
              <p:cNvSpPr/>
              <p:nvPr/>
            </p:nvSpPr>
            <p:spPr>
              <a:xfrm>
                <a:off x="7128000" y="2709720"/>
                <a:ext cx="168120" cy="16380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6" name=""/>
              <p:cNvGrpSpPr/>
              <p:nvPr/>
            </p:nvGrpSpPr>
            <p:grpSpPr>
              <a:xfrm>
                <a:off x="7126200" y="2711520"/>
                <a:ext cx="168480" cy="163440"/>
                <a:chOff x="7126200" y="2711520"/>
                <a:chExt cx="168480" cy="163440"/>
              </a:xfrm>
            </p:grpSpPr>
            <p:sp>
              <p:nvSpPr>
                <p:cNvPr id="1887" name=""/>
                <p:cNvSpPr/>
                <p:nvPr/>
              </p:nvSpPr>
              <p:spPr>
                <a:xfrm>
                  <a:off x="7209000" y="2735280"/>
                  <a:ext cx="44280" cy="36360"/>
                </a:xfrm>
                <a:custGeom>
                  <a:avLst/>
                  <a:gdLst/>
                  <a:ahLst/>
                  <a:rect l="l" t="t" r="r" b="b"/>
                  <a:pathLst>
                    <a:path w="570" h="573">
                      <a:moveTo>
                        <a:pt x="368" y="272"/>
                      </a:moveTo>
                      <a:lnTo>
                        <a:pt x="353" y="167"/>
                      </a:lnTo>
                      <a:lnTo>
                        <a:pt x="324" y="73"/>
                      </a:lnTo>
                      <a:lnTo>
                        <a:pt x="269" y="22"/>
                      </a:lnTo>
                      <a:lnTo>
                        <a:pt x="175" y="0"/>
                      </a:lnTo>
                      <a:lnTo>
                        <a:pt x="94" y="22"/>
                      </a:lnTo>
                      <a:lnTo>
                        <a:pt x="18" y="116"/>
                      </a:lnTo>
                      <a:lnTo>
                        <a:pt x="0" y="228"/>
                      </a:lnTo>
                      <a:lnTo>
                        <a:pt x="18" y="348"/>
                      </a:lnTo>
                      <a:lnTo>
                        <a:pt x="47" y="421"/>
                      </a:lnTo>
                      <a:lnTo>
                        <a:pt x="84" y="497"/>
                      </a:lnTo>
                      <a:lnTo>
                        <a:pt x="124" y="548"/>
                      </a:lnTo>
                      <a:lnTo>
                        <a:pt x="168" y="573"/>
                      </a:lnTo>
                      <a:lnTo>
                        <a:pt x="230" y="551"/>
                      </a:lnTo>
                      <a:lnTo>
                        <a:pt x="291" y="500"/>
                      </a:lnTo>
                      <a:lnTo>
                        <a:pt x="331" y="428"/>
                      </a:lnTo>
                      <a:lnTo>
                        <a:pt x="368" y="367"/>
                      </a:lnTo>
                      <a:lnTo>
                        <a:pt x="380" y="330"/>
                      </a:lnTo>
                      <a:lnTo>
                        <a:pt x="536" y="276"/>
                      </a:lnTo>
                      <a:lnTo>
                        <a:pt x="570" y="254"/>
                      </a:lnTo>
                      <a:lnTo>
                        <a:pt x="551" y="221"/>
                      </a:lnTo>
                      <a:lnTo>
                        <a:pt x="368" y="27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8" name=""/>
                <p:cNvSpPr/>
                <p:nvPr/>
              </p:nvSpPr>
              <p:spPr>
                <a:xfrm>
                  <a:off x="7186680" y="2774880"/>
                  <a:ext cx="46080" cy="63720"/>
                </a:xfrm>
                <a:custGeom>
                  <a:avLst/>
                  <a:gdLst/>
                  <a:ahLst/>
                  <a:rect l="l" t="t" r="r" b="b"/>
                  <a:pathLst>
                    <a:path w="587" h="1022">
                      <a:moveTo>
                        <a:pt x="197" y="152"/>
                      </a:moveTo>
                      <a:lnTo>
                        <a:pt x="269" y="76"/>
                      </a:lnTo>
                      <a:lnTo>
                        <a:pt x="390" y="3"/>
                      </a:lnTo>
                      <a:lnTo>
                        <a:pt x="445" y="0"/>
                      </a:lnTo>
                      <a:lnTo>
                        <a:pt x="543" y="32"/>
                      </a:lnTo>
                      <a:lnTo>
                        <a:pt x="587" y="80"/>
                      </a:lnTo>
                      <a:lnTo>
                        <a:pt x="587" y="152"/>
                      </a:lnTo>
                      <a:lnTo>
                        <a:pt x="514" y="286"/>
                      </a:lnTo>
                      <a:lnTo>
                        <a:pt x="434" y="391"/>
                      </a:lnTo>
                      <a:lnTo>
                        <a:pt x="400" y="479"/>
                      </a:lnTo>
                      <a:lnTo>
                        <a:pt x="378" y="580"/>
                      </a:lnTo>
                      <a:lnTo>
                        <a:pt x="400" y="678"/>
                      </a:lnTo>
                      <a:lnTo>
                        <a:pt x="423" y="772"/>
                      </a:lnTo>
                      <a:lnTo>
                        <a:pt x="423" y="880"/>
                      </a:lnTo>
                      <a:lnTo>
                        <a:pt x="390" y="946"/>
                      </a:lnTo>
                      <a:lnTo>
                        <a:pt x="317" y="982"/>
                      </a:lnTo>
                      <a:lnTo>
                        <a:pt x="229" y="1022"/>
                      </a:lnTo>
                      <a:lnTo>
                        <a:pt x="149" y="1022"/>
                      </a:lnTo>
                      <a:lnTo>
                        <a:pt x="94" y="993"/>
                      </a:lnTo>
                      <a:lnTo>
                        <a:pt x="22" y="873"/>
                      </a:lnTo>
                      <a:lnTo>
                        <a:pt x="0" y="750"/>
                      </a:lnTo>
                      <a:lnTo>
                        <a:pt x="7" y="591"/>
                      </a:lnTo>
                      <a:lnTo>
                        <a:pt x="61" y="391"/>
                      </a:lnTo>
                      <a:lnTo>
                        <a:pt x="116" y="261"/>
                      </a:lnTo>
                      <a:lnTo>
                        <a:pt x="197" y="15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9" name=""/>
                <p:cNvSpPr/>
                <p:nvPr/>
              </p:nvSpPr>
              <p:spPr>
                <a:xfrm>
                  <a:off x="7189920" y="2827440"/>
                  <a:ext cx="58680" cy="47520"/>
                </a:xfrm>
                <a:custGeom>
                  <a:avLst/>
                  <a:gdLst/>
                  <a:ahLst/>
                  <a:rect l="l" t="t" r="r" b="b"/>
                  <a:pathLst>
                    <a:path w="742" h="761">
                      <a:moveTo>
                        <a:pt x="0" y="72"/>
                      </a:moveTo>
                      <a:lnTo>
                        <a:pt x="61" y="0"/>
                      </a:lnTo>
                      <a:lnTo>
                        <a:pt x="154" y="0"/>
                      </a:lnTo>
                      <a:lnTo>
                        <a:pt x="325" y="18"/>
                      </a:lnTo>
                      <a:lnTo>
                        <a:pt x="526" y="28"/>
                      </a:lnTo>
                      <a:lnTo>
                        <a:pt x="603" y="62"/>
                      </a:lnTo>
                      <a:lnTo>
                        <a:pt x="636" y="104"/>
                      </a:lnTo>
                      <a:lnTo>
                        <a:pt x="643" y="170"/>
                      </a:lnTo>
                      <a:lnTo>
                        <a:pt x="621" y="239"/>
                      </a:lnTo>
                      <a:lnTo>
                        <a:pt x="559" y="344"/>
                      </a:lnTo>
                      <a:lnTo>
                        <a:pt x="478" y="431"/>
                      </a:lnTo>
                      <a:lnTo>
                        <a:pt x="416" y="510"/>
                      </a:lnTo>
                      <a:lnTo>
                        <a:pt x="391" y="572"/>
                      </a:lnTo>
                      <a:lnTo>
                        <a:pt x="372" y="615"/>
                      </a:lnTo>
                      <a:lnTo>
                        <a:pt x="379" y="649"/>
                      </a:lnTo>
                      <a:lnTo>
                        <a:pt x="384" y="669"/>
                      </a:lnTo>
                      <a:lnTo>
                        <a:pt x="457" y="669"/>
                      </a:lnTo>
                      <a:lnTo>
                        <a:pt x="570" y="652"/>
                      </a:lnTo>
                      <a:lnTo>
                        <a:pt x="643" y="652"/>
                      </a:lnTo>
                      <a:lnTo>
                        <a:pt x="719" y="681"/>
                      </a:lnTo>
                      <a:lnTo>
                        <a:pt x="742" y="717"/>
                      </a:lnTo>
                      <a:lnTo>
                        <a:pt x="719" y="749"/>
                      </a:lnTo>
                      <a:lnTo>
                        <a:pt x="687" y="761"/>
                      </a:lnTo>
                      <a:lnTo>
                        <a:pt x="636" y="746"/>
                      </a:lnTo>
                      <a:lnTo>
                        <a:pt x="566" y="706"/>
                      </a:lnTo>
                      <a:lnTo>
                        <a:pt x="493" y="713"/>
                      </a:lnTo>
                      <a:lnTo>
                        <a:pt x="372" y="735"/>
                      </a:lnTo>
                      <a:lnTo>
                        <a:pt x="336" y="728"/>
                      </a:lnTo>
                      <a:lnTo>
                        <a:pt x="318" y="703"/>
                      </a:lnTo>
                      <a:lnTo>
                        <a:pt x="318" y="641"/>
                      </a:lnTo>
                      <a:lnTo>
                        <a:pt x="318" y="554"/>
                      </a:lnTo>
                      <a:lnTo>
                        <a:pt x="369" y="488"/>
                      </a:lnTo>
                      <a:lnTo>
                        <a:pt x="446" y="391"/>
                      </a:lnTo>
                      <a:lnTo>
                        <a:pt x="512" y="304"/>
                      </a:lnTo>
                      <a:lnTo>
                        <a:pt x="556" y="239"/>
                      </a:lnTo>
                      <a:lnTo>
                        <a:pt x="578" y="181"/>
                      </a:lnTo>
                      <a:lnTo>
                        <a:pt x="566" y="148"/>
                      </a:lnTo>
                      <a:lnTo>
                        <a:pt x="537" y="109"/>
                      </a:lnTo>
                      <a:lnTo>
                        <a:pt x="493" y="97"/>
                      </a:lnTo>
                      <a:lnTo>
                        <a:pt x="446" y="97"/>
                      </a:lnTo>
                      <a:lnTo>
                        <a:pt x="340" y="97"/>
                      </a:lnTo>
                      <a:lnTo>
                        <a:pt x="182" y="126"/>
                      </a:lnTo>
                      <a:lnTo>
                        <a:pt x="66" y="138"/>
                      </a:lnTo>
                      <a:lnTo>
                        <a:pt x="18" y="126"/>
                      </a:lnTo>
                      <a:lnTo>
                        <a:pt x="0" y="109"/>
                      </a:lnTo>
                      <a:lnTo>
                        <a:pt x="0" y="7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0" name=""/>
                <p:cNvSpPr/>
                <p:nvPr/>
              </p:nvSpPr>
              <p:spPr>
                <a:xfrm>
                  <a:off x="7126200" y="2816280"/>
                  <a:ext cx="74880" cy="46080"/>
                </a:xfrm>
                <a:custGeom>
                  <a:avLst/>
                  <a:gdLst/>
                  <a:ahLst/>
                  <a:rect l="l" t="t" r="r" b="b"/>
                  <a:pathLst>
                    <a:path w="943" h="724">
                      <a:moveTo>
                        <a:pt x="767" y="300"/>
                      </a:moveTo>
                      <a:lnTo>
                        <a:pt x="782" y="206"/>
                      </a:lnTo>
                      <a:lnTo>
                        <a:pt x="837" y="170"/>
                      </a:lnTo>
                      <a:lnTo>
                        <a:pt x="903" y="163"/>
                      </a:lnTo>
                      <a:lnTo>
                        <a:pt x="943" y="206"/>
                      </a:lnTo>
                      <a:lnTo>
                        <a:pt x="925" y="289"/>
                      </a:lnTo>
                      <a:lnTo>
                        <a:pt x="888" y="401"/>
                      </a:lnTo>
                      <a:lnTo>
                        <a:pt x="815" y="528"/>
                      </a:lnTo>
                      <a:lnTo>
                        <a:pt x="723" y="636"/>
                      </a:lnTo>
                      <a:lnTo>
                        <a:pt x="647" y="695"/>
                      </a:lnTo>
                      <a:lnTo>
                        <a:pt x="563" y="724"/>
                      </a:lnTo>
                      <a:lnTo>
                        <a:pt x="482" y="713"/>
                      </a:lnTo>
                      <a:lnTo>
                        <a:pt x="420" y="680"/>
                      </a:lnTo>
                      <a:lnTo>
                        <a:pt x="398" y="626"/>
                      </a:lnTo>
                      <a:lnTo>
                        <a:pt x="373" y="532"/>
                      </a:lnTo>
                      <a:lnTo>
                        <a:pt x="343" y="359"/>
                      </a:lnTo>
                      <a:lnTo>
                        <a:pt x="321" y="239"/>
                      </a:lnTo>
                      <a:lnTo>
                        <a:pt x="321" y="97"/>
                      </a:lnTo>
                      <a:lnTo>
                        <a:pt x="307" y="72"/>
                      </a:lnTo>
                      <a:lnTo>
                        <a:pt x="264" y="65"/>
                      </a:lnTo>
                      <a:lnTo>
                        <a:pt x="212" y="105"/>
                      </a:lnTo>
                      <a:lnTo>
                        <a:pt x="165" y="170"/>
                      </a:lnTo>
                      <a:lnTo>
                        <a:pt x="109" y="206"/>
                      </a:lnTo>
                      <a:lnTo>
                        <a:pt x="25" y="206"/>
                      </a:lnTo>
                      <a:lnTo>
                        <a:pt x="0" y="184"/>
                      </a:lnTo>
                      <a:lnTo>
                        <a:pt x="0" y="148"/>
                      </a:lnTo>
                      <a:lnTo>
                        <a:pt x="37" y="115"/>
                      </a:lnTo>
                      <a:lnTo>
                        <a:pt x="77" y="127"/>
                      </a:lnTo>
                      <a:lnTo>
                        <a:pt x="113" y="119"/>
                      </a:lnTo>
                      <a:lnTo>
                        <a:pt x="180" y="72"/>
                      </a:lnTo>
                      <a:lnTo>
                        <a:pt x="245" y="22"/>
                      </a:lnTo>
                      <a:lnTo>
                        <a:pt x="307" y="7"/>
                      </a:lnTo>
                      <a:lnTo>
                        <a:pt x="395" y="0"/>
                      </a:lnTo>
                      <a:lnTo>
                        <a:pt x="398" y="39"/>
                      </a:lnTo>
                      <a:lnTo>
                        <a:pt x="377" y="83"/>
                      </a:lnTo>
                      <a:lnTo>
                        <a:pt x="373" y="195"/>
                      </a:lnTo>
                      <a:lnTo>
                        <a:pt x="398" y="344"/>
                      </a:lnTo>
                      <a:lnTo>
                        <a:pt x="439" y="489"/>
                      </a:lnTo>
                      <a:lnTo>
                        <a:pt x="474" y="575"/>
                      </a:lnTo>
                      <a:lnTo>
                        <a:pt x="530" y="616"/>
                      </a:lnTo>
                      <a:lnTo>
                        <a:pt x="585" y="616"/>
                      </a:lnTo>
                      <a:lnTo>
                        <a:pt x="639" y="575"/>
                      </a:lnTo>
                      <a:lnTo>
                        <a:pt x="713" y="484"/>
                      </a:lnTo>
                      <a:lnTo>
                        <a:pt x="760" y="354"/>
                      </a:lnTo>
                      <a:lnTo>
                        <a:pt x="767" y="30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1" name=""/>
                <p:cNvSpPr/>
                <p:nvPr/>
              </p:nvSpPr>
              <p:spPr>
                <a:xfrm>
                  <a:off x="7162920" y="2711520"/>
                  <a:ext cx="52200" cy="73080"/>
                </a:xfrm>
                <a:custGeom>
                  <a:avLst/>
                  <a:gdLst/>
                  <a:ahLst/>
                  <a:rect l="l" t="t" r="r" b="b"/>
                  <a:pathLst>
                    <a:path w="664" h="1144">
                      <a:moveTo>
                        <a:pt x="423" y="869"/>
                      </a:moveTo>
                      <a:lnTo>
                        <a:pt x="532" y="978"/>
                      </a:lnTo>
                      <a:lnTo>
                        <a:pt x="576" y="978"/>
                      </a:lnTo>
                      <a:lnTo>
                        <a:pt x="650" y="1022"/>
                      </a:lnTo>
                      <a:lnTo>
                        <a:pt x="664" y="1072"/>
                      </a:lnTo>
                      <a:lnTo>
                        <a:pt x="642" y="1137"/>
                      </a:lnTo>
                      <a:lnTo>
                        <a:pt x="584" y="1144"/>
                      </a:lnTo>
                      <a:lnTo>
                        <a:pt x="510" y="1093"/>
                      </a:lnTo>
                      <a:lnTo>
                        <a:pt x="364" y="956"/>
                      </a:lnTo>
                      <a:lnTo>
                        <a:pt x="270" y="826"/>
                      </a:lnTo>
                      <a:lnTo>
                        <a:pt x="226" y="724"/>
                      </a:lnTo>
                      <a:lnTo>
                        <a:pt x="196" y="550"/>
                      </a:lnTo>
                      <a:lnTo>
                        <a:pt x="196" y="326"/>
                      </a:lnTo>
                      <a:lnTo>
                        <a:pt x="189" y="268"/>
                      </a:lnTo>
                      <a:lnTo>
                        <a:pt x="146" y="225"/>
                      </a:lnTo>
                      <a:lnTo>
                        <a:pt x="21" y="232"/>
                      </a:lnTo>
                      <a:lnTo>
                        <a:pt x="0" y="210"/>
                      </a:lnTo>
                      <a:lnTo>
                        <a:pt x="28" y="196"/>
                      </a:lnTo>
                      <a:lnTo>
                        <a:pt x="117" y="188"/>
                      </a:lnTo>
                      <a:lnTo>
                        <a:pt x="131" y="174"/>
                      </a:lnTo>
                      <a:lnTo>
                        <a:pt x="6" y="101"/>
                      </a:lnTo>
                      <a:lnTo>
                        <a:pt x="6" y="73"/>
                      </a:lnTo>
                      <a:lnTo>
                        <a:pt x="28" y="66"/>
                      </a:lnTo>
                      <a:lnTo>
                        <a:pt x="131" y="123"/>
                      </a:lnTo>
                      <a:lnTo>
                        <a:pt x="153" y="115"/>
                      </a:lnTo>
                      <a:lnTo>
                        <a:pt x="131" y="7"/>
                      </a:lnTo>
                      <a:lnTo>
                        <a:pt x="146" y="0"/>
                      </a:lnTo>
                      <a:lnTo>
                        <a:pt x="161" y="7"/>
                      </a:lnTo>
                      <a:lnTo>
                        <a:pt x="189" y="115"/>
                      </a:lnTo>
                      <a:lnTo>
                        <a:pt x="211" y="123"/>
                      </a:lnTo>
                      <a:lnTo>
                        <a:pt x="270" y="7"/>
                      </a:lnTo>
                      <a:lnTo>
                        <a:pt x="285" y="7"/>
                      </a:lnTo>
                      <a:lnTo>
                        <a:pt x="285" y="44"/>
                      </a:lnTo>
                      <a:lnTo>
                        <a:pt x="248" y="137"/>
                      </a:lnTo>
                      <a:lnTo>
                        <a:pt x="248" y="188"/>
                      </a:lnTo>
                      <a:lnTo>
                        <a:pt x="263" y="254"/>
                      </a:lnTo>
                      <a:lnTo>
                        <a:pt x="255" y="340"/>
                      </a:lnTo>
                      <a:lnTo>
                        <a:pt x="263" y="499"/>
                      </a:lnTo>
                      <a:lnTo>
                        <a:pt x="277" y="601"/>
                      </a:lnTo>
                      <a:lnTo>
                        <a:pt x="314" y="717"/>
                      </a:lnTo>
                      <a:lnTo>
                        <a:pt x="364" y="804"/>
                      </a:lnTo>
                      <a:lnTo>
                        <a:pt x="423" y="86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2" name=""/>
                <p:cNvSpPr/>
                <p:nvPr/>
              </p:nvSpPr>
              <p:spPr>
                <a:xfrm>
                  <a:off x="7226280" y="2717640"/>
                  <a:ext cx="68400" cy="68400"/>
                </a:xfrm>
                <a:custGeom>
                  <a:avLst/>
                  <a:gdLst/>
                  <a:ahLst/>
                  <a:rect l="l" t="t" r="r" b="b"/>
                  <a:pathLst>
                    <a:path w="869" h="1072">
                      <a:moveTo>
                        <a:pt x="15" y="949"/>
                      </a:moveTo>
                      <a:lnTo>
                        <a:pt x="0" y="999"/>
                      </a:lnTo>
                      <a:lnTo>
                        <a:pt x="15" y="1072"/>
                      </a:lnTo>
                      <a:lnTo>
                        <a:pt x="66" y="1072"/>
                      </a:lnTo>
                      <a:lnTo>
                        <a:pt x="219" y="1042"/>
                      </a:lnTo>
                      <a:lnTo>
                        <a:pt x="387" y="984"/>
                      </a:lnTo>
                      <a:lnTo>
                        <a:pt x="526" y="890"/>
                      </a:lnTo>
                      <a:lnTo>
                        <a:pt x="607" y="768"/>
                      </a:lnTo>
                      <a:lnTo>
                        <a:pt x="679" y="558"/>
                      </a:lnTo>
                      <a:lnTo>
                        <a:pt x="701" y="362"/>
                      </a:lnTo>
                      <a:lnTo>
                        <a:pt x="701" y="268"/>
                      </a:lnTo>
                      <a:lnTo>
                        <a:pt x="738" y="210"/>
                      </a:lnTo>
                      <a:lnTo>
                        <a:pt x="803" y="188"/>
                      </a:lnTo>
                      <a:lnTo>
                        <a:pt x="862" y="188"/>
                      </a:lnTo>
                      <a:lnTo>
                        <a:pt x="869" y="159"/>
                      </a:lnTo>
                      <a:lnTo>
                        <a:pt x="782" y="166"/>
                      </a:lnTo>
                      <a:lnTo>
                        <a:pt x="767" y="145"/>
                      </a:lnTo>
                      <a:lnTo>
                        <a:pt x="840" y="65"/>
                      </a:lnTo>
                      <a:lnTo>
                        <a:pt x="825" y="44"/>
                      </a:lnTo>
                      <a:lnTo>
                        <a:pt x="810" y="58"/>
                      </a:lnTo>
                      <a:lnTo>
                        <a:pt x="753" y="115"/>
                      </a:lnTo>
                      <a:lnTo>
                        <a:pt x="738" y="115"/>
                      </a:lnTo>
                      <a:lnTo>
                        <a:pt x="738" y="14"/>
                      </a:lnTo>
                      <a:lnTo>
                        <a:pt x="723" y="0"/>
                      </a:lnTo>
                      <a:lnTo>
                        <a:pt x="701" y="7"/>
                      </a:lnTo>
                      <a:lnTo>
                        <a:pt x="708" y="115"/>
                      </a:lnTo>
                      <a:lnTo>
                        <a:pt x="694" y="123"/>
                      </a:lnTo>
                      <a:lnTo>
                        <a:pt x="635" y="65"/>
                      </a:lnTo>
                      <a:lnTo>
                        <a:pt x="592" y="58"/>
                      </a:lnTo>
                      <a:lnTo>
                        <a:pt x="599" y="87"/>
                      </a:lnTo>
                      <a:lnTo>
                        <a:pt x="664" y="152"/>
                      </a:lnTo>
                      <a:lnTo>
                        <a:pt x="664" y="188"/>
                      </a:lnTo>
                      <a:lnTo>
                        <a:pt x="642" y="261"/>
                      </a:lnTo>
                      <a:lnTo>
                        <a:pt x="642" y="326"/>
                      </a:lnTo>
                      <a:lnTo>
                        <a:pt x="642" y="435"/>
                      </a:lnTo>
                      <a:lnTo>
                        <a:pt x="613" y="572"/>
                      </a:lnTo>
                      <a:lnTo>
                        <a:pt x="585" y="658"/>
                      </a:lnTo>
                      <a:lnTo>
                        <a:pt x="533" y="768"/>
                      </a:lnTo>
                      <a:lnTo>
                        <a:pt x="474" y="854"/>
                      </a:lnTo>
                      <a:lnTo>
                        <a:pt x="431" y="898"/>
                      </a:lnTo>
                      <a:lnTo>
                        <a:pt x="314" y="934"/>
                      </a:lnTo>
                      <a:lnTo>
                        <a:pt x="205" y="949"/>
                      </a:lnTo>
                      <a:lnTo>
                        <a:pt x="95" y="963"/>
                      </a:lnTo>
                      <a:lnTo>
                        <a:pt x="15" y="94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1893" name=""/>
            <p:cNvSpPr/>
            <p:nvPr/>
          </p:nvSpPr>
          <p:spPr>
            <a:xfrm>
              <a:off x="8380440" y="3157560"/>
              <a:ext cx="168120" cy="16344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4" name=""/>
            <p:cNvGrpSpPr/>
            <p:nvPr/>
          </p:nvGrpSpPr>
          <p:grpSpPr>
            <a:xfrm>
              <a:off x="8375760" y="3168720"/>
              <a:ext cx="167760" cy="163080"/>
              <a:chOff x="8375760" y="3168720"/>
              <a:chExt cx="167760" cy="163080"/>
            </a:xfrm>
          </p:grpSpPr>
          <p:sp>
            <p:nvSpPr>
              <p:cNvPr id="1895" name=""/>
              <p:cNvSpPr/>
              <p:nvPr/>
            </p:nvSpPr>
            <p:spPr>
              <a:xfrm>
                <a:off x="8458200" y="3192120"/>
                <a:ext cx="43920" cy="36360"/>
              </a:xfrm>
              <a:custGeom>
                <a:avLst/>
                <a:gdLst/>
                <a:ahLst/>
                <a:rect l="l" t="t" r="r" b="b"/>
                <a:pathLst>
                  <a:path w="570" h="572">
                    <a:moveTo>
                      <a:pt x="368" y="271"/>
                    </a:moveTo>
                    <a:lnTo>
                      <a:pt x="353" y="166"/>
                    </a:lnTo>
                    <a:lnTo>
                      <a:pt x="324" y="73"/>
                    </a:lnTo>
                    <a:lnTo>
                      <a:pt x="269" y="22"/>
                    </a:lnTo>
                    <a:lnTo>
                      <a:pt x="175" y="0"/>
                    </a:lnTo>
                    <a:lnTo>
                      <a:pt x="94" y="22"/>
                    </a:lnTo>
                    <a:lnTo>
                      <a:pt x="18" y="115"/>
                    </a:lnTo>
                    <a:lnTo>
                      <a:pt x="0" y="228"/>
                    </a:lnTo>
                    <a:lnTo>
                      <a:pt x="18" y="347"/>
                    </a:lnTo>
                    <a:lnTo>
                      <a:pt x="47" y="420"/>
                    </a:lnTo>
                    <a:lnTo>
                      <a:pt x="84" y="496"/>
                    </a:lnTo>
                    <a:lnTo>
                      <a:pt x="124" y="547"/>
                    </a:lnTo>
                    <a:lnTo>
                      <a:pt x="168" y="572"/>
                    </a:lnTo>
                    <a:lnTo>
                      <a:pt x="230" y="550"/>
                    </a:lnTo>
                    <a:lnTo>
                      <a:pt x="291" y="499"/>
                    </a:lnTo>
                    <a:lnTo>
                      <a:pt x="331" y="427"/>
                    </a:lnTo>
                    <a:lnTo>
                      <a:pt x="368" y="366"/>
                    </a:lnTo>
                    <a:lnTo>
                      <a:pt x="380" y="330"/>
                    </a:lnTo>
                    <a:lnTo>
                      <a:pt x="536" y="276"/>
                    </a:lnTo>
                    <a:lnTo>
                      <a:pt x="570" y="254"/>
                    </a:lnTo>
                    <a:lnTo>
                      <a:pt x="551" y="220"/>
                    </a:lnTo>
                    <a:lnTo>
                      <a:pt x="368" y="27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6" name=""/>
              <p:cNvSpPr/>
              <p:nvPr/>
            </p:nvSpPr>
            <p:spPr>
              <a:xfrm>
                <a:off x="8435880" y="3230280"/>
                <a:ext cx="45720" cy="64800"/>
              </a:xfrm>
              <a:custGeom>
                <a:avLst/>
                <a:gdLst/>
                <a:ahLst/>
                <a:rect l="l" t="t" r="r" b="b"/>
                <a:pathLst>
                  <a:path w="587" h="1021">
                    <a:moveTo>
                      <a:pt x="197" y="152"/>
                    </a:moveTo>
                    <a:lnTo>
                      <a:pt x="269" y="76"/>
                    </a:lnTo>
                    <a:lnTo>
                      <a:pt x="390" y="3"/>
                    </a:lnTo>
                    <a:lnTo>
                      <a:pt x="445" y="0"/>
                    </a:lnTo>
                    <a:lnTo>
                      <a:pt x="543" y="32"/>
                    </a:lnTo>
                    <a:lnTo>
                      <a:pt x="587" y="80"/>
                    </a:lnTo>
                    <a:lnTo>
                      <a:pt x="587" y="152"/>
                    </a:lnTo>
                    <a:lnTo>
                      <a:pt x="514" y="286"/>
                    </a:lnTo>
                    <a:lnTo>
                      <a:pt x="434" y="391"/>
                    </a:lnTo>
                    <a:lnTo>
                      <a:pt x="400" y="478"/>
                    </a:lnTo>
                    <a:lnTo>
                      <a:pt x="378" y="579"/>
                    </a:lnTo>
                    <a:lnTo>
                      <a:pt x="400" y="677"/>
                    </a:lnTo>
                    <a:lnTo>
                      <a:pt x="423" y="772"/>
                    </a:lnTo>
                    <a:lnTo>
                      <a:pt x="423" y="880"/>
                    </a:lnTo>
                    <a:lnTo>
                      <a:pt x="390" y="945"/>
                    </a:lnTo>
                    <a:lnTo>
                      <a:pt x="317" y="982"/>
                    </a:lnTo>
                    <a:lnTo>
                      <a:pt x="229" y="1021"/>
                    </a:lnTo>
                    <a:lnTo>
                      <a:pt x="149" y="1021"/>
                    </a:lnTo>
                    <a:lnTo>
                      <a:pt x="94" y="992"/>
                    </a:lnTo>
                    <a:lnTo>
                      <a:pt x="22" y="873"/>
                    </a:lnTo>
                    <a:lnTo>
                      <a:pt x="0" y="750"/>
                    </a:lnTo>
                    <a:lnTo>
                      <a:pt x="7" y="591"/>
                    </a:lnTo>
                    <a:lnTo>
                      <a:pt x="61" y="391"/>
                    </a:lnTo>
                    <a:lnTo>
                      <a:pt x="116" y="261"/>
                    </a:lnTo>
                    <a:lnTo>
                      <a:pt x="197" y="15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7" name=""/>
              <p:cNvSpPr/>
              <p:nvPr/>
            </p:nvSpPr>
            <p:spPr>
              <a:xfrm>
                <a:off x="8439120" y="3282840"/>
                <a:ext cx="58320" cy="48960"/>
              </a:xfrm>
              <a:custGeom>
                <a:avLst/>
                <a:gdLst/>
                <a:ahLst/>
                <a:rect l="l" t="t" r="r" b="b"/>
                <a:pathLst>
                  <a:path w="742" h="760">
                    <a:moveTo>
                      <a:pt x="0" y="72"/>
                    </a:moveTo>
                    <a:lnTo>
                      <a:pt x="61" y="0"/>
                    </a:lnTo>
                    <a:lnTo>
                      <a:pt x="154" y="0"/>
                    </a:lnTo>
                    <a:lnTo>
                      <a:pt x="325" y="18"/>
                    </a:lnTo>
                    <a:lnTo>
                      <a:pt x="526" y="28"/>
                    </a:lnTo>
                    <a:lnTo>
                      <a:pt x="603" y="61"/>
                    </a:lnTo>
                    <a:lnTo>
                      <a:pt x="636" y="104"/>
                    </a:lnTo>
                    <a:lnTo>
                      <a:pt x="643" y="170"/>
                    </a:lnTo>
                    <a:lnTo>
                      <a:pt x="621" y="238"/>
                    </a:lnTo>
                    <a:lnTo>
                      <a:pt x="559" y="343"/>
                    </a:lnTo>
                    <a:lnTo>
                      <a:pt x="478" y="431"/>
                    </a:lnTo>
                    <a:lnTo>
                      <a:pt x="416" y="510"/>
                    </a:lnTo>
                    <a:lnTo>
                      <a:pt x="391" y="571"/>
                    </a:lnTo>
                    <a:lnTo>
                      <a:pt x="372" y="615"/>
                    </a:lnTo>
                    <a:lnTo>
                      <a:pt x="379" y="648"/>
                    </a:lnTo>
                    <a:lnTo>
                      <a:pt x="384" y="669"/>
                    </a:lnTo>
                    <a:lnTo>
                      <a:pt x="457" y="669"/>
                    </a:lnTo>
                    <a:lnTo>
                      <a:pt x="570" y="651"/>
                    </a:lnTo>
                    <a:lnTo>
                      <a:pt x="643" y="651"/>
                    </a:lnTo>
                    <a:lnTo>
                      <a:pt x="719" y="680"/>
                    </a:lnTo>
                    <a:lnTo>
                      <a:pt x="742" y="717"/>
                    </a:lnTo>
                    <a:lnTo>
                      <a:pt x="719" y="749"/>
                    </a:lnTo>
                    <a:lnTo>
                      <a:pt x="687" y="760"/>
                    </a:lnTo>
                    <a:lnTo>
                      <a:pt x="636" y="746"/>
                    </a:lnTo>
                    <a:lnTo>
                      <a:pt x="566" y="705"/>
                    </a:lnTo>
                    <a:lnTo>
                      <a:pt x="493" y="713"/>
                    </a:lnTo>
                    <a:lnTo>
                      <a:pt x="372" y="734"/>
                    </a:lnTo>
                    <a:lnTo>
                      <a:pt x="336" y="727"/>
                    </a:lnTo>
                    <a:lnTo>
                      <a:pt x="318" y="702"/>
                    </a:lnTo>
                    <a:lnTo>
                      <a:pt x="318" y="641"/>
                    </a:lnTo>
                    <a:lnTo>
                      <a:pt x="318" y="553"/>
                    </a:lnTo>
                    <a:lnTo>
                      <a:pt x="369" y="488"/>
                    </a:lnTo>
                    <a:lnTo>
                      <a:pt x="446" y="390"/>
                    </a:lnTo>
                    <a:lnTo>
                      <a:pt x="512" y="304"/>
                    </a:lnTo>
                    <a:lnTo>
                      <a:pt x="556" y="238"/>
                    </a:lnTo>
                    <a:lnTo>
                      <a:pt x="578" y="181"/>
                    </a:lnTo>
                    <a:lnTo>
                      <a:pt x="566" y="148"/>
                    </a:lnTo>
                    <a:lnTo>
                      <a:pt x="537" y="108"/>
                    </a:lnTo>
                    <a:lnTo>
                      <a:pt x="493" y="97"/>
                    </a:lnTo>
                    <a:lnTo>
                      <a:pt x="446" y="97"/>
                    </a:lnTo>
                    <a:lnTo>
                      <a:pt x="340" y="97"/>
                    </a:lnTo>
                    <a:lnTo>
                      <a:pt x="182" y="126"/>
                    </a:lnTo>
                    <a:lnTo>
                      <a:pt x="66" y="137"/>
                    </a:lnTo>
                    <a:lnTo>
                      <a:pt x="18" y="126"/>
                    </a:lnTo>
                    <a:lnTo>
                      <a:pt x="0" y="108"/>
                    </a:lnTo>
                    <a:lnTo>
                      <a:pt x="0" y="72"/>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8" name=""/>
              <p:cNvSpPr/>
              <p:nvPr/>
            </p:nvSpPr>
            <p:spPr>
              <a:xfrm>
                <a:off x="8375760" y="3273120"/>
                <a:ext cx="74520" cy="44280"/>
              </a:xfrm>
              <a:custGeom>
                <a:avLst/>
                <a:gdLst/>
                <a:ahLst/>
                <a:rect l="l" t="t" r="r" b="b"/>
                <a:pathLst>
                  <a:path w="943" h="724">
                    <a:moveTo>
                      <a:pt x="767" y="301"/>
                    </a:moveTo>
                    <a:lnTo>
                      <a:pt x="782" y="206"/>
                    </a:lnTo>
                    <a:lnTo>
                      <a:pt x="837" y="171"/>
                    </a:lnTo>
                    <a:lnTo>
                      <a:pt x="903" y="164"/>
                    </a:lnTo>
                    <a:lnTo>
                      <a:pt x="943" y="206"/>
                    </a:lnTo>
                    <a:lnTo>
                      <a:pt x="925" y="289"/>
                    </a:lnTo>
                    <a:lnTo>
                      <a:pt x="888" y="402"/>
                    </a:lnTo>
                    <a:lnTo>
                      <a:pt x="815" y="529"/>
                    </a:lnTo>
                    <a:lnTo>
                      <a:pt x="723" y="637"/>
                    </a:lnTo>
                    <a:lnTo>
                      <a:pt x="647" y="695"/>
                    </a:lnTo>
                    <a:lnTo>
                      <a:pt x="563" y="724"/>
                    </a:lnTo>
                    <a:lnTo>
                      <a:pt x="482" y="714"/>
                    </a:lnTo>
                    <a:lnTo>
                      <a:pt x="420" y="681"/>
                    </a:lnTo>
                    <a:lnTo>
                      <a:pt x="398" y="627"/>
                    </a:lnTo>
                    <a:lnTo>
                      <a:pt x="373" y="533"/>
                    </a:lnTo>
                    <a:lnTo>
                      <a:pt x="343" y="359"/>
                    </a:lnTo>
                    <a:lnTo>
                      <a:pt x="321" y="239"/>
                    </a:lnTo>
                    <a:lnTo>
                      <a:pt x="321" y="98"/>
                    </a:lnTo>
                    <a:lnTo>
                      <a:pt x="307" y="73"/>
                    </a:lnTo>
                    <a:lnTo>
                      <a:pt x="264" y="66"/>
                    </a:lnTo>
                    <a:lnTo>
                      <a:pt x="212" y="105"/>
                    </a:lnTo>
                    <a:lnTo>
                      <a:pt x="165" y="171"/>
                    </a:lnTo>
                    <a:lnTo>
                      <a:pt x="109" y="206"/>
                    </a:lnTo>
                    <a:lnTo>
                      <a:pt x="25" y="206"/>
                    </a:lnTo>
                    <a:lnTo>
                      <a:pt x="0" y="184"/>
                    </a:lnTo>
                    <a:lnTo>
                      <a:pt x="0" y="149"/>
                    </a:lnTo>
                    <a:lnTo>
                      <a:pt x="37" y="116"/>
                    </a:lnTo>
                    <a:lnTo>
                      <a:pt x="77" y="127"/>
                    </a:lnTo>
                    <a:lnTo>
                      <a:pt x="113" y="120"/>
                    </a:lnTo>
                    <a:lnTo>
                      <a:pt x="180" y="73"/>
                    </a:lnTo>
                    <a:lnTo>
                      <a:pt x="245" y="22"/>
                    </a:lnTo>
                    <a:lnTo>
                      <a:pt x="307" y="7"/>
                    </a:lnTo>
                    <a:lnTo>
                      <a:pt x="395" y="0"/>
                    </a:lnTo>
                    <a:lnTo>
                      <a:pt x="398" y="40"/>
                    </a:lnTo>
                    <a:lnTo>
                      <a:pt x="377" y="83"/>
                    </a:lnTo>
                    <a:lnTo>
                      <a:pt x="373" y="196"/>
                    </a:lnTo>
                    <a:lnTo>
                      <a:pt x="398" y="345"/>
                    </a:lnTo>
                    <a:lnTo>
                      <a:pt x="439" y="489"/>
                    </a:lnTo>
                    <a:lnTo>
                      <a:pt x="474" y="576"/>
                    </a:lnTo>
                    <a:lnTo>
                      <a:pt x="530" y="616"/>
                    </a:lnTo>
                    <a:lnTo>
                      <a:pt x="585" y="616"/>
                    </a:lnTo>
                    <a:lnTo>
                      <a:pt x="639" y="576"/>
                    </a:lnTo>
                    <a:lnTo>
                      <a:pt x="713" y="485"/>
                    </a:lnTo>
                    <a:lnTo>
                      <a:pt x="760" y="355"/>
                    </a:lnTo>
                    <a:lnTo>
                      <a:pt x="767" y="30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9" name=""/>
              <p:cNvSpPr/>
              <p:nvPr/>
            </p:nvSpPr>
            <p:spPr>
              <a:xfrm>
                <a:off x="8412120" y="3168720"/>
                <a:ext cx="51840" cy="72720"/>
              </a:xfrm>
              <a:custGeom>
                <a:avLst/>
                <a:gdLst/>
                <a:ahLst/>
                <a:rect l="l" t="t" r="r" b="b"/>
                <a:pathLst>
                  <a:path w="664" h="1144">
                    <a:moveTo>
                      <a:pt x="423" y="868"/>
                    </a:moveTo>
                    <a:lnTo>
                      <a:pt x="532" y="977"/>
                    </a:lnTo>
                    <a:lnTo>
                      <a:pt x="576" y="977"/>
                    </a:lnTo>
                    <a:lnTo>
                      <a:pt x="650" y="1021"/>
                    </a:lnTo>
                    <a:lnTo>
                      <a:pt x="664" y="1071"/>
                    </a:lnTo>
                    <a:lnTo>
                      <a:pt x="642" y="1137"/>
                    </a:lnTo>
                    <a:lnTo>
                      <a:pt x="584" y="1144"/>
                    </a:lnTo>
                    <a:lnTo>
                      <a:pt x="510" y="1093"/>
                    </a:lnTo>
                    <a:lnTo>
                      <a:pt x="364" y="956"/>
                    </a:lnTo>
                    <a:lnTo>
                      <a:pt x="270" y="826"/>
                    </a:lnTo>
                    <a:lnTo>
                      <a:pt x="226" y="724"/>
                    </a:lnTo>
                    <a:lnTo>
                      <a:pt x="196" y="550"/>
                    </a:lnTo>
                    <a:lnTo>
                      <a:pt x="196" y="325"/>
                    </a:lnTo>
                    <a:lnTo>
                      <a:pt x="189" y="268"/>
                    </a:lnTo>
                    <a:lnTo>
                      <a:pt x="146" y="224"/>
                    </a:lnTo>
                    <a:lnTo>
                      <a:pt x="21" y="232"/>
                    </a:lnTo>
                    <a:lnTo>
                      <a:pt x="0" y="210"/>
                    </a:lnTo>
                    <a:lnTo>
                      <a:pt x="28" y="195"/>
                    </a:lnTo>
                    <a:lnTo>
                      <a:pt x="117" y="188"/>
                    </a:lnTo>
                    <a:lnTo>
                      <a:pt x="131" y="173"/>
                    </a:lnTo>
                    <a:lnTo>
                      <a:pt x="6" y="100"/>
                    </a:lnTo>
                    <a:lnTo>
                      <a:pt x="6" y="72"/>
                    </a:lnTo>
                    <a:lnTo>
                      <a:pt x="28" y="65"/>
                    </a:lnTo>
                    <a:lnTo>
                      <a:pt x="131" y="122"/>
                    </a:lnTo>
                    <a:lnTo>
                      <a:pt x="153" y="115"/>
                    </a:lnTo>
                    <a:lnTo>
                      <a:pt x="131" y="7"/>
                    </a:lnTo>
                    <a:lnTo>
                      <a:pt x="146" y="0"/>
                    </a:lnTo>
                    <a:lnTo>
                      <a:pt x="161" y="7"/>
                    </a:lnTo>
                    <a:lnTo>
                      <a:pt x="189" y="115"/>
                    </a:lnTo>
                    <a:lnTo>
                      <a:pt x="211" y="122"/>
                    </a:lnTo>
                    <a:lnTo>
                      <a:pt x="270" y="7"/>
                    </a:lnTo>
                    <a:lnTo>
                      <a:pt x="285" y="7"/>
                    </a:lnTo>
                    <a:lnTo>
                      <a:pt x="285" y="43"/>
                    </a:lnTo>
                    <a:lnTo>
                      <a:pt x="248" y="137"/>
                    </a:lnTo>
                    <a:lnTo>
                      <a:pt x="248" y="188"/>
                    </a:lnTo>
                    <a:lnTo>
                      <a:pt x="263" y="253"/>
                    </a:lnTo>
                    <a:lnTo>
                      <a:pt x="255" y="340"/>
                    </a:lnTo>
                    <a:lnTo>
                      <a:pt x="263" y="499"/>
                    </a:lnTo>
                    <a:lnTo>
                      <a:pt x="277" y="601"/>
                    </a:lnTo>
                    <a:lnTo>
                      <a:pt x="314" y="716"/>
                    </a:lnTo>
                    <a:lnTo>
                      <a:pt x="364" y="804"/>
                    </a:lnTo>
                    <a:lnTo>
                      <a:pt x="423" y="868"/>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0" name=""/>
              <p:cNvSpPr/>
              <p:nvPr/>
            </p:nvSpPr>
            <p:spPr>
              <a:xfrm>
                <a:off x="8475480" y="3174840"/>
                <a:ext cx="68040" cy="68040"/>
              </a:xfrm>
              <a:custGeom>
                <a:avLst/>
                <a:gdLst/>
                <a:ahLst/>
                <a:rect l="l" t="t" r="r" b="b"/>
                <a:pathLst>
                  <a:path w="869" h="1072">
                    <a:moveTo>
                      <a:pt x="15" y="949"/>
                    </a:moveTo>
                    <a:lnTo>
                      <a:pt x="0" y="999"/>
                    </a:lnTo>
                    <a:lnTo>
                      <a:pt x="15" y="1072"/>
                    </a:lnTo>
                    <a:lnTo>
                      <a:pt x="66" y="1072"/>
                    </a:lnTo>
                    <a:lnTo>
                      <a:pt x="219" y="1043"/>
                    </a:lnTo>
                    <a:lnTo>
                      <a:pt x="387" y="985"/>
                    </a:lnTo>
                    <a:lnTo>
                      <a:pt x="526" y="891"/>
                    </a:lnTo>
                    <a:lnTo>
                      <a:pt x="607" y="768"/>
                    </a:lnTo>
                    <a:lnTo>
                      <a:pt x="679" y="558"/>
                    </a:lnTo>
                    <a:lnTo>
                      <a:pt x="701" y="362"/>
                    </a:lnTo>
                    <a:lnTo>
                      <a:pt x="701" y="269"/>
                    </a:lnTo>
                    <a:lnTo>
                      <a:pt x="738" y="211"/>
                    </a:lnTo>
                    <a:lnTo>
                      <a:pt x="803" y="189"/>
                    </a:lnTo>
                    <a:lnTo>
                      <a:pt x="862" y="189"/>
                    </a:lnTo>
                    <a:lnTo>
                      <a:pt x="869" y="160"/>
                    </a:lnTo>
                    <a:lnTo>
                      <a:pt x="782" y="167"/>
                    </a:lnTo>
                    <a:lnTo>
                      <a:pt x="767" y="145"/>
                    </a:lnTo>
                    <a:lnTo>
                      <a:pt x="840" y="66"/>
                    </a:lnTo>
                    <a:lnTo>
                      <a:pt x="825" y="44"/>
                    </a:lnTo>
                    <a:lnTo>
                      <a:pt x="810" y="59"/>
                    </a:lnTo>
                    <a:lnTo>
                      <a:pt x="753" y="116"/>
                    </a:lnTo>
                    <a:lnTo>
                      <a:pt x="738" y="116"/>
                    </a:lnTo>
                    <a:lnTo>
                      <a:pt x="738" y="15"/>
                    </a:lnTo>
                    <a:lnTo>
                      <a:pt x="723" y="0"/>
                    </a:lnTo>
                    <a:lnTo>
                      <a:pt x="701" y="8"/>
                    </a:lnTo>
                    <a:lnTo>
                      <a:pt x="708" y="116"/>
                    </a:lnTo>
                    <a:lnTo>
                      <a:pt x="694" y="123"/>
                    </a:lnTo>
                    <a:lnTo>
                      <a:pt x="635" y="66"/>
                    </a:lnTo>
                    <a:lnTo>
                      <a:pt x="592" y="59"/>
                    </a:lnTo>
                    <a:lnTo>
                      <a:pt x="599" y="88"/>
                    </a:lnTo>
                    <a:lnTo>
                      <a:pt x="664" y="152"/>
                    </a:lnTo>
                    <a:lnTo>
                      <a:pt x="664" y="189"/>
                    </a:lnTo>
                    <a:lnTo>
                      <a:pt x="642" y="262"/>
                    </a:lnTo>
                    <a:lnTo>
                      <a:pt x="642" y="326"/>
                    </a:lnTo>
                    <a:lnTo>
                      <a:pt x="642" y="435"/>
                    </a:lnTo>
                    <a:lnTo>
                      <a:pt x="613" y="573"/>
                    </a:lnTo>
                    <a:lnTo>
                      <a:pt x="585" y="659"/>
                    </a:lnTo>
                    <a:lnTo>
                      <a:pt x="533" y="768"/>
                    </a:lnTo>
                    <a:lnTo>
                      <a:pt x="474" y="855"/>
                    </a:lnTo>
                    <a:lnTo>
                      <a:pt x="431" y="898"/>
                    </a:lnTo>
                    <a:lnTo>
                      <a:pt x="314" y="935"/>
                    </a:lnTo>
                    <a:lnTo>
                      <a:pt x="205" y="949"/>
                    </a:lnTo>
                    <a:lnTo>
                      <a:pt x="95" y="964"/>
                    </a:lnTo>
                    <a:lnTo>
                      <a:pt x="15" y="94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01" name=""/>
            <p:cNvSpPr/>
            <p:nvPr/>
          </p:nvSpPr>
          <p:spPr>
            <a:xfrm>
              <a:off x="7856640" y="2403360"/>
              <a:ext cx="168120" cy="16380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2" name=""/>
            <p:cNvGrpSpPr/>
            <p:nvPr/>
          </p:nvGrpSpPr>
          <p:grpSpPr>
            <a:xfrm>
              <a:off x="7851600" y="2414520"/>
              <a:ext cx="168480" cy="163440"/>
              <a:chOff x="7851600" y="2414520"/>
              <a:chExt cx="168480" cy="163440"/>
            </a:xfrm>
          </p:grpSpPr>
          <p:sp>
            <p:nvSpPr>
              <p:cNvPr id="1903" name=""/>
              <p:cNvSpPr/>
              <p:nvPr/>
            </p:nvSpPr>
            <p:spPr>
              <a:xfrm>
                <a:off x="7932600" y="2436480"/>
                <a:ext cx="46080" cy="36720"/>
              </a:xfrm>
              <a:custGeom>
                <a:avLst/>
                <a:gdLst/>
                <a:ahLst/>
                <a:rect l="l" t="t" r="r" b="b"/>
                <a:pathLst>
                  <a:path w="570" h="573">
                    <a:moveTo>
                      <a:pt x="368" y="272"/>
                    </a:moveTo>
                    <a:lnTo>
                      <a:pt x="354" y="167"/>
                    </a:lnTo>
                    <a:lnTo>
                      <a:pt x="324" y="73"/>
                    </a:lnTo>
                    <a:lnTo>
                      <a:pt x="270" y="22"/>
                    </a:lnTo>
                    <a:lnTo>
                      <a:pt x="175" y="0"/>
                    </a:lnTo>
                    <a:lnTo>
                      <a:pt x="94" y="22"/>
                    </a:lnTo>
                    <a:lnTo>
                      <a:pt x="18" y="116"/>
                    </a:lnTo>
                    <a:lnTo>
                      <a:pt x="0" y="228"/>
                    </a:lnTo>
                    <a:lnTo>
                      <a:pt x="18" y="348"/>
                    </a:lnTo>
                    <a:lnTo>
                      <a:pt x="47" y="421"/>
                    </a:lnTo>
                    <a:lnTo>
                      <a:pt x="84" y="497"/>
                    </a:lnTo>
                    <a:lnTo>
                      <a:pt x="124" y="548"/>
                    </a:lnTo>
                    <a:lnTo>
                      <a:pt x="168" y="573"/>
                    </a:lnTo>
                    <a:lnTo>
                      <a:pt x="230" y="551"/>
                    </a:lnTo>
                    <a:lnTo>
                      <a:pt x="292" y="500"/>
                    </a:lnTo>
                    <a:lnTo>
                      <a:pt x="332" y="428"/>
                    </a:lnTo>
                    <a:lnTo>
                      <a:pt x="368" y="367"/>
                    </a:lnTo>
                    <a:lnTo>
                      <a:pt x="380" y="330"/>
                    </a:lnTo>
                    <a:lnTo>
                      <a:pt x="536" y="276"/>
                    </a:lnTo>
                    <a:lnTo>
                      <a:pt x="570" y="254"/>
                    </a:lnTo>
                    <a:lnTo>
                      <a:pt x="551" y="221"/>
                    </a:lnTo>
                    <a:lnTo>
                      <a:pt x="368" y="27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4" name=""/>
              <p:cNvSpPr/>
              <p:nvPr/>
            </p:nvSpPr>
            <p:spPr>
              <a:xfrm>
                <a:off x="7910280" y="2476440"/>
                <a:ext cx="47880" cy="65160"/>
              </a:xfrm>
              <a:custGeom>
                <a:avLst/>
                <a:gdLst/>
                <a:ahLst/>
                <a:rect l="l" t="t" r="r" b="b"/>
                <a:pathLst>
                  <a:path w="588" h="1022">
                    <a:moveTo>
                      <a:pt x="197" y="152"/>
                    </a:moveTo>
                    <a:lnTo>
                      <a:pt x="270" y="76"/>
                    </a:lnTo>
                    <a:lnTo>
                      <a:pt x="390" y="3"/>
                    </a:lnTo>
                    <a:lnTo>
                      <a:pt x="445" y="0"/>
                    </a:lnTo>
                    <a:lnTo>
                      <a:pt x="543" y="33"/>
                    </a:lnTo>
                    <a:lnTo>
                      <a:pt x="588" y="80"/>
                    </a:lnTo>
                    <a:lnTo>
                      <a:pt x="588" y="152"/>
                    </a:lnTo>
                    <a:lnTo>
                      <a:pt x="514" y="286"/>
                    </a:lnTo>
                    <a:lnTo>
                      <a:pt x="434" y="392"/>
                    </a:lnTo>
                    <a:lnTo>
                      <a:pt x="401" y="479"/>
                    </a:lnTo>
                    <a:lnTo>
                      <a:pt x="379" y="580"/>
                    </a:lnTo>
                    <a:lnTo>
                      <a:pt x="401" y="678"/>
                    </a:lnTo>
                    <a:lnTo>
                      <a:pt x="423" y="772"/>
                    </a:lnTo>
                    <a:lnTo>
                      <a:pt x="423" y="881"/>
                    </a:lnTo>
                    <a:lnTo>
                      <a:pt x="390" y="946"/>
                    </a:lnTo>
                    <a:lnTo>
                      <a:pt x="317" y="982"/>
                    </a:lnTo>
                    <a:lnTo>
                      <a:pt x="230" y="1022"/>
                    </a:lnTo>
                    <a:lnTo>
                      <a:pt x="149" y="1022"/>
                    </a:lnTo>
                    <a:lnTo>
                      <a:pt x="94" y="993"/>
                    </a:lnTo>
                    <a:lnTo>
                      <a:pt x="22" y="873"/>
                    </a:lnTo>
                    <a:lnTo>
                      <a:pt x="0" y="750"/>
                    </a:lnTo>
                    <a:lnTo>
                      <a:pt x="7" y="591"/>
                    </a:lnTo>
                    <a:lnTo>
                      <a:pt x="62" y="392"/>
                    </a:lnTo>
                    <a:lnTo>
                      <a:pt x="116" y="261"/>
                    </a:lnTo>
                    <a:lnTo>
                      <a:pt x="197" y="15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05" name=""/>
              <p:cNvSpPr/>
              <p:nvPr/>
            </p:nvSpPr>
            <p:spPr>
              <a:xfrm>
                <a:off x="7913520" y="2528640"/>
                <a:ext cx="60480" cy="49320"/>
              </a:xfrm>
              <a:custGeom>
                <a:avLst/>
                <a:gdLst/>
                <a:ahLst/>
                <a:rect l="l" t="t" r="r" b="b"/>
                <a:pathLst>
                  <a:path w="742" h="760">
                    <a:moveTo>
                      <a:pt x="0" y="71"/>
                    </a:moveTo>
                    <a:lnTo>
                      <a:pt x="62" y="0"/>
                    </a:lnTo>
                    <a:lnTo>
                      <a:pt x="154" y="0"/>
                    </a:lnTo>
                    <a:lnTo>
                      <a:pt x="325" y="17"/>
                    </a:lnTo>
                    <a:lnTo>
                      <a:pt x="527" y="28"/>
                    </a:lnTo>
                    <a:lnTo>
                      <a:pt x="603" y="61"/>
                    </a:lnTo>
                    <a:lnTo>
                      <a:pt x="636" y="104"/>
                    </a:lnTo>
                    <a:lnTo>
                      <a:pt x="643" y="169"/>
                    </a:lnTo>
                    <a:lnTo>
                      <a:pt x="621" y="238"/>
                    </a:lnTo>
                    <a:lnTo>
                      <a:pt x="559" y="343"/>
                    </a:lnTo>
                    <a:lnTo>
                      <a:pt x="478" y="430"/>
                    </a:lnTo>
                    <a:lnTo>
                      <a:pt x="416" y="509"/>
                    </a:lnTo>
                    <a:lnTo>
                      <a:pt x="391" y="571"/>
                    </a:lnTo>
                    <a:lnTo>
                      <a:pt x="372" y="614"/>
                    </a:lnTo>
                    <a:lnTo>
                      <a:pt x="380" y="648"/>
                    </a:lnTo>
                    <a:lnTo>
                      <a:pt x="384" y="669"/>
                    </a:lnTo>
                    <a:lnTo>
                      <a:pt x="457" y="669"/>
                    </a:lnTo>
                    <a:lnTo>
                      <a:pt x="571" y="651"/>
                    </a:lnTo>
                    <a:lnTo>
                      <a:pt x="643" y="651"/>
                    </a:lnTo>
                    <a:lnTo>
                      <a:pt x="720" y="680"/>
                    </a:lnTo>
                    <a:lnTo>
                      <a:pt x="742" y="716"/>
                    </a:lnTo>
                    <a:lnTo>
                      <a:pt x="720" y="749"/>
                    </a:lnTo>
                    <a:lnTo>
                      <a:pt x="687" y="760"/>
                    </a:lnTo>
                    <a:lnTo>
                      <a:pt x="636" y="745"/>
                    </a:lnTo>
                    <a:lnTo>
                      <a:pt x="567" y="705"/>
                    </a:lnTo>
                    <a:lnTo>
                      <a:pt x="493" y="712"/>
                    </a:lnTo>
                    <a:lnTo>
                      <a:pt x="372" y="734"/>
                    </a:lnTo>
                    <a:lnTo>
                      <a:pt x="337" y="727"/>
                    </a:lnTo>
                    <a:lnTo>
                      <a:pt x="318" y="702"/>
                    </a:lnTo>
                    <a:lnTo>
                      <a:pt x="318" y="640"/>
                    </a:lnTo>
                    <a:lnTo>
                      <a:pt x="318" y="553"/>
                    </a:lnTo>
                    <a:lnTo>
                      <a:pt x="369" y="487"/>
                    </a:lnTo>
                    <a:lnTo>
                      <a:pt x="446" y="390"/>
                    </a:lnTo>
                    <a:lnTo>
                      <a:pt x="512" y="303"/>
                    </a:lnTo>
                    <a:lnTo>
                      <a:pt x="556" y="238"/>
                    </a:lnTo>
                    <a:lnTo>
                      <a:pt x="578" y="181"/>
                    </a:lnTo>
                    <a:lnTo>
                      <a:pt x="567" y="147"/>
                    </a:lnTo>
                    <a:lnTo>
                      <a:pt x="537" y="108"/>
                    </a:lnTo>
                    <a:lnTo>
                      <a:pt x="493" y="96"/>
                    </a:lnTo>
                    <a:lnTo>
                      <a:pt x="446" y="96"/>
                    </a:lnTo>
                    <a:lnTo>
                      <a:pt x="340" y="96"/>
                    </a:lnTo>
                    <a:lnTo>
                      <a:pt x="182" y="125"/>
                    </a:lnTo>
                    <a:lnTo>
                      <a:pt x="66" y="137"/>
                    </a:lnTo>
                    <a:lnTo>
                      <a:pt x="19" y="125"/>
                    </a:lnTo>
                    <a:lnTo>
                      <a:pt x="0" y="108"/>
                    </a:lnTo>
                    <a:lnTo>
                      <a:pt x="0" y="7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06" name=""/>
              <p:cNvSpPr/>
              <p:nvPr/>
            </p:nvSpPr>
            <p:spPr>
              <a:xfrm>
                <a:off x="7851600" y="2517480"/>
                <a:ext cx="74880" cy="46080"/>
              </a:xfrm>
              <a:custGeom>
                <a:avLst/>
                <a:gdLst/>
                <a:ahLst/>
                <a:rect l="l" t="t" r="r" b="b"/>
                <a:pathLst>
                  <a:path w="943" h="724">
                    <a:moveTo>
                      <a:pt x="768" y="300"/>
                    </a:moveTo>
                    <a:lnTo>
                      <a:pt x="782" y="206"/>
                    </a:lnTo>
                    <a:lnTo>
                      <a:pt x="837" y="170"/>
                    </a:lnTo>
                    <a:lnTo>
                      <a:pt x="903" y="163"/>
                    </a:lnTo>
                    <a:lnTo>
                      <a:pt x="943" y="206"/>
                    </a:lnTo>
                    <a:lnTo>
                      <a:pt x="925" y="289"/>
                    </a:lnTo>
                    <a:lnTo>
                      <a:pt x="888" y="401"/>
                    </a:lnTo>
                    <a:lnTo>
                      <a:pt x="815" y="528"/>
                    </a:lnTo>
                    <a:lnTo>
                      <a:pt x="723" y="637"/>
                    </a:lnTo>
                    <a:lnTo>
                      <a:pt x="647" y="695"/>
                    </a:lnTo>
                    <a:lnTo>
                      <a:pt x="563" y="724"/>
                    </a:lnTo>
                    <a:lnTo>
                      <a:pt x="482" y="713"/>
                    </a:lnTo>
                    <a:lnTo>
                      <a:pt x="420" y="680"/>
                    </a:lnTo>
                    <a:lnTo>
                      <a:pt x="398" y="626"/>
                    </a:lnTo>
                    <a:lnTo>
                      <a:pt x="373" y="532"/>
                    </a:lnTo>
                    <a:lnTo>
                      <a:pt x="344" y="359"/>
                    </a:lnTo>
                    <a:lnTo>
                      <a:pt x="322" y="239"/>
                    </a:lnTo>
                    <a:lnTo>
                      <a:pt x="322" y="98"/>
                    </a:lnTo>
                    <a:lnTo>
                      <a:pt x="307" y="73"/>
                    </a:lnTo>
                    <a:lnTo>
                      <a:pt x="264" y="65"/>
                    </a:lnTo>
                    <a:lnTo>
                      <a:pt x="212" y="105"/>
                    </a:lnTo>
                    <a:lnTo>
                      <a:pt x="165" y="170"/>
                    </a:lnTo>
                    <a:lnTo>
                      <a:pt x="110" y="206"/>
                    </a:lnTo>
                    <a:lnTo>
                      <a:pt x="26" y="206"/>
                    </a:lnTo>
                    <a:lnTo>
                      <a:pt x="0" y="184"/>
                    </a:lnTo>
                    <a:lnTo>
                      <a:pt x="0" y="149"/>
                    </a:lnTo>
                    <a:lnTo>
                      <a:pt x="37" y="115"/>
                    </a:lnTo>
                    <a:lnTo>
                      <a:pt x="77" y="127"/>
                    </a:lnTo>
                    <a:lnTo>
                      <a:pt x="114" y="119"/>
                    </a:lnTo>
                    <a:lnTo>
                      <a:pt x="180" y="73"/>
                    </a:lnTo>
                    <a:lnTo>
                      <a:pt x="245" y="22"/>
                    </a:lnTo>
                    <a:lnTo>
                      <a:pt x="307" y="7"/>
                    </a:lnTo>
                    <a:lnTo>
                      <a:pt x="395" y="0"/>
                    </a:lnTo>
                    <a:lnTo>
                      <a:pt x="398" y="39"/>
                    </a:lnTo>
                    <a:lnTo>
                      <a:pt x="377" y="83"/>
                    </a:lnTo>
                    <a:lnTo>
                      <a:pt x="373" y="195"/>
                    </a:lnTo>
                    <a:lnTo>
                      <a:pt x="398" y="344"/>
                    </a:lnTo>
                    <a:lnTo>
                      <a:pt x="439" y="489"/>
                    </a:lnTo>
                    <a:lnTo>
                      <a:pt x="475" y="575"/>
                    </a:lnTo>
                    <a:lnTo>
                      <a:pt x="530" y="616"/>
                    </a:lnTo>
                    <a:lnTo>
                      <a:pt x="585" y="616"/>
                    </a:lnTo>
                    <a:lnTo>
                      <a:pt x="640" y="575"/>
                    </a:lnTo>
                    <a:lnTo>
                      <a:pt x="713" y="485"/>
                    </a:lnTo>
                    <a:lnTo>
                      <a:pt x="760" y="355"/>
                    </a:lnTo>
                    <a:lnTo>
                      <a:pt x="768" y="30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7" name=""/>
              <p:cNvSpPr/>
              <p:nvPr/>
            </p:nvSpPr>
            <p:spPr>
              <a:xfrm>
                <a:off x="7886520" y="2414520"/>
                <a:ext cx="52560" cy="71280"/>
              </a:xfrm>
              <a:custGeom>
                <a:avLst/>
                <a:gdLst/>
                <a:ahLst/>
                <a:rect l="l" t="t" r="r" b="b"/>
                <a:pathLst>
                  <a:path w="665" h="1145">
                    <a:moveTo>
                      <a:pt x="423" y="869"/>
                    </a:moveTo>
                    <a:lnTo>
                      <a:pt x="533" y="978"/>
                    </a:lnTo>
                    <a:lnTo>
                      <a:pt x="577" y="978"/>
                    </a:lnTo>
                    <a:lnTo>
                      <a:pt x="650" y="1022"/>
                    </a:lnTo>
                    <a:lnTo>
                      <a:pt x="665" y="1072"/>
                    </a:lnTo>
                    <a:lnTo>
                      <a:pt x="643" y="1137"/>
                    </a:lnTo>
                    <a:lnTo>
                      <a:pt x="584" y="1145"/>
                    </a:lnTo>
                    <a:lnTo>
                      <a:pt x="510" y="1094"/>
                    </a:lnTo>
                    <a:lnTo>
                      <a:pt x="365" y="956"/>
                    </a:lnTo>
                    <a:lnTo>
                      <a:pt x="270" y="826"/>
                    </a:lnTo>
                    <a:lnTo>
                      <a:pt x="226" y="724"/>
                    </a:lnTo>
                    <a:lnTo>
                      <a:pt x="197" y="550"/>
                    </a:lnTo>
                    <a:lnTo>
                      <a:pt x="197" y="326"/>
                    </a:lnTo>
                    <a:lnTo>
                      <a:pt x="189" y="269"/>
                    </a:lnTo>
                    <a:lnTo>
                      <a:pt x="146" y="225"/>
                    </a:lnTo>
                    <a:lnTo>
                      <a:pt x="21" y="232"/>
                    </a:lnTo>
                    <a:lnTo>
                      <a:pt x="0" y="210"/>
                    </a:lnTo>
                    <a:lnTo>
                      <a:pt x="29" y="196"/>
                    </a:lnTo>
                    <a:lnTo>
                      <a:pt x="117" y="188"/>
                    </a:lnTo>
                    <a:lnTo>
                      <a:pt x="132" y="174"/>
                    </a:lnTo>
                    <a:lnTo>
                      <a:pt x="7" y="101"/>
                    </a:lnTo>
                    <a:lnTo>
                      <a:pt x="7" y="73"/>
                    </a:lnTo>
                    <a:lnTo>
                      <a:pt x="29" y="66"/>
                    </a:lnTo>
                    <a:lnTo>
                      <a:pt x="132" y="123"/>
                    </a:lnTo>
                    <a:lnTo>
                      <a:pt x="154" y="116"/>
                    </a:lnTo>
                    <a:lnTo>
                      <a:pt x="132" y="7"/>
                    </a:lnTo>
                    <a:lnTo>
                      <a:pt x="146" y="0"/>
                    </a:lnTo>
                    <a:lnTo>
                      <a:pt x="161" y="7"/>
                    </a:lnTo>
                    <a:lnTo>
                      <a:pt x="189" y="116"/>
                    </a:lnTo>
                    <a:lnTo>
                      <a:pt x="211" y="123"/>
                    </a:lnTo>
                    <a:lnTo>
                      <a:pt x="270" y="7"/>
                    </a:lnTo>
                    <a:lnTo>
                      <a:pt x="285" y="7"/>
                    </a:lnTo>
                    <a:lnTo>
                      <a:pt x="285" y="44"/>
                    </a:lnTo>
                    <a:lnTo>
                      <a:pt x="248" y="137"/>
                    </a:lnTo>
                    <a:lnTo>
                      <a:pt x="248" y="188"/>
                    </a:lnTo>
                    <a:lnTo>
                      <a:pt x="263" y="254"/>
                    </a:lnTo>
                    <a:lnTo>
                      <a:pt x="255" y="340"/>
                    </a:lnTo>
                    <a:lnTo>
                      <a:pt x="263" y="499"/>
                    </a:lnTo>
                    <a:lnTo>
                      <a:pt x="277" y="601"/>
                    </a:lnTo>
                    <a:lnTo>
                      <a:pt x="314" y="717"/>
                    </a:lnTo>
                    <a:lnTo>
                      <a:pt x="365" y="804"/>
                    </a:lnTo>
                    <a:lnTo>
                      <a:pt x="423" y="869"/>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8" name=""/>
              <p:cNvSpPr/>
              <p:nvPr/>
            </p:nvSpPr>
            <p:spPr>
              <a:xfrm>
                <a:off x="7950240" y="2420640"/>
                <a:ext cx="69840" cy="68400"/>
              </a:xfrm>
              <a:custGeom>
                <a:avLst/>
                <a:gdLst/>
                <a:ahLst/>
                <a:rect l="l" t="t" r="r" b="b"/>
                <a:pathLst>
                  <a:path w="869" h="1072">
                    <a:moveTo>
                      <a:pt x="15" y="949"/>
                    </a:moveTo>
                    <a:lnTo>
                      <a:pt x="0" y="999"/>
                    </a:lnTo>
                    <a:lnTo>
                      <a:pt x="15" y="1072"/>
                    </a:lnTo>
                    <a:lnTo>
                      <a:pt x="66" y="1072"/>
                    </a:lnTo>
                    <a:lnTo>
                      <a:pt x="220" y="1043"/>
                    </a:lnTo>
                    <a:lnTo>
                      <a:pt x="388" y="984"/>
                    </a:lnTo>
                    <a:lnTo>
                      <a:pt x="526" y="891"/>
                    </a:lnTo>
                    <a:lnTo>
                      <a:pt x="607" y="768"/>
                    </a:lnTo>
                    <a:lnTo>
                      <a:pt x="679" y="558"/>
                    </a:lnTo>
                    <a:lnTo>
                      <a:pt x="701" y="362"/>
                    </a:lnTo>
                    <a:lnTo>
                      <a:pt x="701" y="268"/>
                    </a:lnTo>
                    <a:lnTo>
                      <a:pt x="738" y="210"/>
                    </a:lnTo>
                    <a:lnTo>
                      <a:pt x="803" y="188"/>
                    </a:lnTo>
                    <a:lnTo>
                      <a:pt x="862" y="188"/>
                    </a:lnTo>
                    <a:lnTo>
                      <a:pt x="869" y="159"/>
                    </a:lnTo>
                    <a:lnTo>
                      <a:pt x="782" y="166"/>
                    </a:lnTo>
                    <a:lnTo>
                      <a:pt x="768" y="145"/>
                    </a:lnTo>
                    <a:lnTo>
                      <a:pt x="840" y="66"/>
                    </a:lnTo>
                    <a:lnTo>
                      <a:pt x="825" y="44"/>
                    </a:lnTo>
                    <a:lnTo>
                      <a:pt x="811" y="58"/>
                    </a:lnTo>
                    <a:lnTo>
                      <a:pt x="753" y="116"/>
                    </a:lnTo>
                    <a:lnTo>
                      <a:pt x="738" y="116"/>
                    </a:lnTo>
                    <a:lnTo>
                      <a:pt x="738" y="15"/>
                    </a:lnTo>
                    <a:lnTo>
                      <a:pt x="723" y="0"/>
                    </a:lnTo>
                    <a:lnTo>
                      <a:pt x="701" y="7"/>
                    </a:lnTo>
                    <a:lnTo>
                      <a:pt x="709" y="116"/>
                    </a:lnTo>
                    <a:lnTo>
                      <a:pt x="694" y="123"/>
                    </a:lnTo>
                    <a:lnTo>
                      <a:pt x="635" y="66"/>
                    </a:lnTo>
                    <a:lnTo>
                      <a:pt x="592" y="58"/>
                    </a:lnTo>
                    <a:lnTo>
                      <a:pt x="600" y="87"/>
                    </a:lnTo>
                    <a:lnTo>
                      <a:pt x="665" y="152"/>
                    </a:lnTo>
                    <a:lnTo>
                      <a:pt x="665" y="188"/>
                    </a:lnTo>
                    <a:lnTo>
                      <a:pt x="643" y="261"/>
                    </a:lnTo>
                    <a:lnTo>
                      <a:pt x="643" y="326"/>
                    </a:lnTo>
                    <a:lnTo>
                      <a:pt x="643" y="435"/>
                    </a:lnTo>
                    <a:lnTo>
                      <a:pt x="613" y="572"/>
                    </a:lnTo>
                    <a:lnTo>
                      <a:pt x="585" y="659"/>
                    </a:lnTo>
                    <a:lnTo>
                      <a:pt x="533" y="768"/>
                    </a:lnTo>
                    <a:lnTo>
                      <a:pt x="475" y="854"/>
                    </a:lnTo>
                    <a:lnTo>
                      <a:pt x="432" y="898"/>
                    </a:lnTo>
                    <a:lnTo>
                      <a:pt x="314" y="934"/>
                    </a:lnTo>
                    <a:lnTo>
                      <a:pt x="205" y="949"/>
                    </a:lnTo>
                    <a:lnTo>
                      <a:pt x="95" y="963"/>
                    </a:lnTo>
                    <a:lnTo>
                      <a:pt x="15" y="94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909" name=""/>
            <p:cNvGrpSpPr/>
            <p:nvPr/>
          </p:nvGrpSpPr>
          <p:grpSpPr>
            <a:xfrm>
              <a:off x="7308720" y="2041560"/>
              <a:ext cx="169920" cy="163440"/>
              <a:chOff x="7308720" y="2041560"/>
              <a:chExt cx="169920" cy="163440"/>
            </a:xfrm>
          </p:grpSpPr>
          <p:sp>
            <p:nvSpPr>
              <p:cNvPr id="1910" name=""/>
              <p:cNvSpPr/>
              <p:nvPr/>
            </p:nvSpPr>
            <p:spPr>
              <a:xfrm>
                <a:off x="7310520" y="2041560"/>
                <a:ext cx="168120" cy="16344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1" name=""/>
              <p:cNvGrpSpPr/>
              <p:nvPr/>
            </p:nvGrpSpPr>
            <p:grpSpPr>
              <a:xfrm>
                <a:off x="7308720" y="2043000"/>
                <a:ext cx="168480" cy="162000"/>
                <a:chOff x="7308720" y="2043000"/>
                <a:chExt cx="168480" cy="162000"/>
              </a:xfrm>
            </p:grpSpPr>
            <p:sp>
              <p:nvSpPr>
                <p:cNvPr id="1912" name=""/>
                <p:cNvSpPr/>
                <p:nvPr/>
              </p:nvSpPr>
              <p:spPr>
                <a:xfrm>
                  <a:off x="7391520" y="2065320"/>
                  <a:ext cx="44280" cy="36360"/>
                </a:xfrm>
                <a:custGeom>
                  <a:avLst/>
                  <a:gdLst/>
                  <a:ahLst/>
                  <a:rect l="l" t="t" r="r" b="b"/>
                  <a:pathLst>
                    <a:path w="570" h="572">
                      <a:moveTo>
                        <a:pt x="368" y="271"/>
                      </a:moveTo>
                      <a:lnTo>
                        <a:pt x="354" y="166"/>
                      </a:lnTo>
                      <a:lnTo>
                        <a:pt x="324" y="73"/>
                      </a:lnTo>
                      <a:lnTo>
                        <a:pt x="270" y="22"/>
                      </a:lnTo>
                      <a:lnTo>
                        <a:pt x="175" y="0"/>
                      </a:lnTo>
                      <a:lnTo>
                        <a:pt x="94" y="22"/>
                      </a:lnTo>
                      <a:lnTo>
                        <a:pt x="18" y="115"/>
                      </a:lnTo>
                      <a:lnTo>
                        <a:pt x="0" y="228"/>
                      </a:lnTo>
                      <a:lnTo>
                        <a:pt x="18" y="347"/>
                      </a:lnTo>
                      <a:lnTo>
                        <a:pt x="47" y="420"/>
                      </a:lnTo>
                      <a:lnTo>
                        <a:pt x="84" y="496"/>
                      </a:lnTo>
                      <a:lnTo>
                        <a:pt x="124" y="547"/>
                      </a:lnTo>
                      <a:lnTo>
                        <a:pt x="168" y="572"/>
                      </a:lnTo>
                      <a:lnTo>
                        <a:pt x="230" y="550"/>
                      </a:lnTo>
                      <a:lnTo>
                        <a:pt x="292" y="499"/>
                      </a:lnTo>
                      <a:lnTo>
                        <a:pt x="332" y="428"/>
                      </a:lnTo>
                      <a:lnTo>
                        <a:pt x="368" y="366"/>
                      </a:lnTo>
                      <a:lnTo>
                        <a:pt x="380" y="330"/>
                      </a:lnTo>
                      <a:lnTo>
                        <a:pt x="536" y="276"/>
                      </a:lnTo>
                      <a:lnTo>
                        <a:pt x="570" y="254"/>
                      </a:lnTo>
                      <a:lnTo>
                        <a:pt x="551" y="220"/>
                      </a:lnTo>
                      <a:lnTo>
                        <a:pt x="368" y="27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3" name=""/>
                <p:cNvSpPr/>
                <p:nvPr/>
              </p:nvSpPr>
              <p:spPr>
                <a:xfrm>
                  <a:off x="7369200" y="2104920"/>
                  <a:ext cx="46080" cy="65160"/>
                </a:xfrm>
                <a:custGeom>
                  <a:avLst/>
                  <a:gdLst/>
                  <a:ahLst/>
                  <a:rect l="l" t="t" r="r" b="b"/>
                  <a:pathLst>
                    <a:path w="588" h="1021">
                      <a:moveTo>
                        <a:pt x="197" y="152"/>
                      </a:moveTo>
                      <a:lnTo>
                        <a:pt x="270" y="76"/>
                      </a:lnTo>
                      <a:lnTo>
                        <a:pt x="390" y="3"/>
                      </a:lnTo>
                      <a:lnTo>
                        <a:pt x="445" y="0"/>
                      </a:lnTo>
                      <a:lnTo>
                        <a:pt x="543" y="32"/>
                      </a:lnTo>
                      <a:lnTo>
                        <a:pt x="588" y="80"/>
                      </a:lnTo>
                      <a:lnTo>
                        <a:pt x="588" y="152"/>
                      </a:lnTo>
                      <a:lnTo>
                        <a:pt x="514" y="286"/>
                      </a:lnTo>
                      <a:lnTo>
                        <a:pt x="434" y="391"/>
                      </a:lnTo>
                      <a:lnTo>
                        <a:pt x="401" y="478"/>
                      </a:lnTo>
                      <a:lnTo>
                        <a:pt x="379" y="579"/>
                      </a:lnTo>
                      <a:lnTo>
                        <a:pt x="401" y="677"/>
                      </a:lnTo>
                      <a:lnTo>
                        <a:pt x="423" y="772"/>
                      </a:lnTo>
                      <a:lnTo>
                        <a:pt x="423" y="880"/>
                      </a:lnTo>
                      <a:lnTo>
                        <a:pt x="390" y="946"/>
                      </a:lnTo>
                      <a:lnTo>
                        <a:pt x="317" y="982"/>
                      </a:lnTo>
                      <a:lnTo>
                        <a:pt x="230" y="1021"/>
                      </a:lnTo>
                      <a:lnTo>
                        <a:pt x="149" y="1021"/>
                      </a:lnTo>
                      <a:lnTo>
                        <a:pt x="94" y="992"/>
                      </a:lnTo>
                      <a:lnTo>
                        <a:pt x="22" y="873"/>
                      </a:lnTo>
                      <a:lnTo>
                        <a:pt x="0" y="750"/>
                      </a:lnTo>
                      <a:lnTo>
                        <a:pt x="7" y="591"/>
                      </a:lnTo>
                      <a:lnTo>
                        <a:pt x="62" y="391"/>
                      </a:lnTo>
                      <a:lnTo>
                        <a:pt x="116" y="261"/>
                      </a:lnTo>
                      <a:lnTo>
                        <a:pt x="197" y="15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4" name=""/>
                <p:cNvSpPr/>
                <p:nvPr/>
              </p:nvSpPr>
              <p:spPr>
                <a:xfrm>
                  <a:off x="7372440" y="2157480"/>
                  <a:ext cx="58680" cy="47520"/>
                </a:xfrm>
                <a:custGeom>
                  <a:avLst/>
                  <a:gdLst/>
                  <a:ahLst/>
                  <a:rect l="l" t="t" r="r" b="b"/>
                  <a:pathLst>
                    <a:path w="742" h="761">
                      <a:moveTo>
                        <a:pt x="0" y="72"/>
                      </a:moveTo>
                      <a:lnTo>
                        <a:pt x="62" y="0"/>
                      </a:lnTo>
                      <a:lnTo>
                        <a:pt x="154" y="0"/>
                      </a:lnTo>
                      <a:lnTo>
                        <a:pt x="325" y="18"/>
                      </a:lnTo>
                      <a:lnTo>
                        <a:pt x="527" y="28"/>
                      </a:lnTo>
                      <a:lnTo>
                        <a:pt x="603" y="61"/>
                      </a:lnTo>
                      <a:lnTo>
                        <a:pt x="636" y="104"/>
                      </a:lnTo>
                      <a:lnTo>
                        <a:pt x="643" y="170"/>
                      </a:lnTo>
                      <a:lnTo>
                        <a:pt x="621" y="238"/>
                      </a:lnTo>
                      <a:lnTo>
                        <a:pt x="559" y="343"/>
                      </a:lnTo>
                      <a:lnTo>
                        <a:pt x="478" y="431"/>
                      </a:lnTo>
                      <a:lnTo>
                        <a:pt x="416" y="510"/>
                      </a:lnTo>
                      <a:lnTo>
                        <a:pt x="391" y="571"/>
                      </a:lnTo>
                      <a:lnTo>
                        <a:pt x="372" y="615"/>
                      </a:lnTo>
                      <a:lnTo>
                        <a:pt x="380" y="648"/>
                      </a:lnTo>
                      <a:lnTo>
                        <a:pt x="384" y="669"/>
                      </a:lnTo>
                      <a:lnTo>
                        <a:pt x="457" y="669"/>
                      </a:lnTo>
                      <a:lnTo>
                        <a:pt x="571" y="651"/>
                      </a:lnTo>
                      <a:lnTo>
                        <a:pt x="643" y="651"/>
                      </a:lnTo>
                      <a:lnTo>
                        <a:pt x="720" y="680"/>
                      </a:lnTo>
                      <a:lnTo>
                        <a:pt x="742" y="717"/>
                      </a:lnTo>
                      <a:lnTo>
                        <a:pt x="720" y="749"/>
                      </a:lnTo>
                      <a:lnTo>
                        <a:pt x="687" y="761"/>
                      </a:lnTo>
                      <a:lnTo>
                        <a:pt x="636" y="746"/>
                      </a:lnTo>
                      <a:lnTo>
                        <a:pt x="567" y="705"/>
                      </a:lnTo>
                      <a:lnTo>
                        <a:pt x="493" y="713"/>
                      </a:lnTo>
                      <a:lnTo>
                        <a:pt x="372" y="735"/>
                      </a:lnTo>
                      <a:lnTo>
                        <a:pt x="337" y="727"/>
                      </a:lnTo>
                      <a:lnTo>
                        <a:pt x="318" y="702"/>
                      </a:lnTo>
                      <a:lnTo>
                        <a:pt x="318" y="641"/>
                      </a:lnTo>
                      <a:lnTo>
                        <a:pt x="318" y="553"/>
                      </a:lnTo>
                      <a:lnTo>
                        <a:pt x="369" y="488"/>
                      </a:lnTo>
                      <a:lnTo>
                        <a:pt x="446" y="390"/>
                      </a:lnTo>
                      <a:lnTo>
                        <a:pt x="512" y="304"/>
                      </a:lnTo>
                      <a:lnTo>
                        <a:pt x="556" y="238"/>
                      </a:lnTo>
                      <a:lnTo>
                        <a:pt x="578" y="181"/>
                      </a:lnTo>
                      <a:lnTo>
                        <a:pt x="567" y="148"/>
                      </a:lnTo>
                      <a:lnTo>
                        <a:pt x="537" y="108"/>
                      </a:lnTo>
                      <a:lnTo>
                        <a:pt x="493" y="97"/>
                      </a:lnTo>
                      <a:lnTo>
                        <a:pt x="446" y="97"/>
                      </a:lnTo>
                      <a:lnTo>
                        <a:pt x="340" y="97"/>
                      </a:lnTo>
                      <a:lnTo>
                        <a:pt x="182" y="126"/>
                      </a:lnTo>
                      <a:lnTo>
                        <a:pt x="66" y="137"/>
                      </a:lnTo>
                      <a:lnTo>
                        <a:pt x="19" y="126"/>
                      </a:lnTo>
                      <a:lnTo>
                        <a:pt x="0" y="108"/>
                      </a:lnTo>
                      <a:lnTo>
                        <a:pt x="0" y="7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5" name=""/>
                <p:cNvSpPr/>
                <p:nvPr/>
              </p:nvSpPr>
              <p:spPr>
                <a:xfrm>
                  <a:off x="7308720" y="2146320"/>
                  <a:ext cx="74880" cy="46080"/>
                </a:xfrm>
                <a:custGeom>
                  <a:avLst/>
                  <a:gdLst/>
                  <a:ahLst/>
                  <a:rect l="l" t="t" r="r" b="b"/>
                  <a:pathLst>
                    <a:path w="943" h="724">
                      <a:moveTo>
                        <a:pt x="768" y="301"/>
                      </a:moveTo>
                      <a:lnTo>
                        <a:pt x="782" y="206"/>
                      </a:lnTo>
                      <a:lnTo>
                        <a:pt x="837" y="171"/>
                      </a:lnTo>
                      <a:lnTo>
                        <a:pt x="903" y="164"/>
                      </a:lnTo>
                      <a:lnTo>
                        <a:pt x="943" y="206"/>
                      </a:lnTo>
                      <a:lnTo>
                        <a:pt x="925" y="289"/>
                      </a:lnTo>
                      <a:lnTo>
                        <a:pt x="888" y="402"/>
                      </a:lnTo>
                      <a:lnTo>
                        <a:pt x="815" y="529"/>
                      </a:lnTo>
                      <a:lnTo>
                        <a:pt x="723" y="637"/>
                      </a:lnTo>
                      <a:lnTo>
                        <a:pt x="647" y="695"/>
                      </a:lnTo>
                      <a:lnTo>
                        <a:pt x="563" y="724"/>
                      </a:lnTo>
                      <a:lnTo>
                        <a:pt x="482" y="714"/>
                      </a:lnTo>
                      <a:lnTo>
                        <a:pt x="420" y="681"/>
                      </a:lnTo>
                      <a:lnTo>
                        <a:pt x="398" y="627"/>
                      </a:lnTo>
                      <a:lnTo>
                        <a:pt x="373" y="533"/>
                      </a:lnTo>
                      <a:lnTo>
                        <a:pt x="344" y="359"/>
                      </a:lnTo>
                      <a:lnTo>
                        <a:pt x="322" y="240"/>
                      </a:lnTo>
                      <a:lnTo>
                        <a:pt x="322" y="98"/>
                      </a:lnTo>
                      <a:lnTo>
                        <a:pt x="307" y="73"/>
                      </a:lnTo>
                      <a:lnTo>
                        <a:pt x="264" y="66"/>
                      </a:lnTo>
                      <a:lnTo>
                        <a:pt x="212" y="105"/>
                      </a:lnTo>
                      <a:lnTo>
                        <a:pt x="165" y="171"/>
                      </a:lnTo>
                      <a:lnTo>
                        <a:pt x="110" y="206"/>
                      </a:lnTo>
                      <a:lnTo>
                        <a:pt x="26" y="206"/>
                      </a:lnTo>
                      <a:lnTo>
                        <a:pt x="0" y="184"/>
                      </a:lnTo>
                      <a:lnTo>
                        <a:pt x="0" y="149"/>
                      </a:lnTo>
                      <a:lnTo>
                        <a:pt x="37" y="116"/>
                      </a:lnTo>
                      <a:lnTo>
                        <a:pt x="77" y="127"/>
                      </a:lnTo>
                      <a:lnTo>
                        <a:pt x="114" y="120"/>
                      </a:lnTo>
                      <a:lnTo>
                        <a:pt x="180" y="73"/>
                      </a:lnTo>
                      <a:lnTo>
                        <a:pt x="245" y="22"/>
                      </a:lnTo>
                      <a:lnTo>
                        <a:pt x="307" y="8"/>
                      </a:lnTo>
                      <a:lnTo>
                        <a:pt x="395" y="0"/>
                      </a:lnTo>
                      <a:lnTo>
                        <a:pt x="398" y="40"/>
                      </a:lnTo>
                      <a:lnTo>
                        <a:pt x="377" y="83"/>
                      </a:lnTo>
                      <a:lnTo>
                        <a:pt x="373" y="196"/>
                      </a:lnTo>
                      <a:lnTo>
                        <a:pt x="398" y="345"/>
                      </a:lnTo>
                      <a:lnTo>
                        <a:pt x="439" y="489"/>
                      </a:lnTo>
                      <a:lnTo>
                        <a:pt x="475" y="576"/>
                      </a:lnTo>
                      <a:lnTo>
                        <a:pt x="530" y="616"/>
                      </a:lnTo>
                      <a:lnTo>
                        <a:pt x="585" y="616"/>
                      </a:lnTo>
                      <a:lnTo>
                        <a:pt x="640" y="576"/>
                      </a:lnTo>
                      <a:lnTo>
                        <a:pt x="713" y="485"/>
                      </a:lnTo>
                      <a:lnTo>
                        <a:pt x="760" y="355"/>
                      </a:lnTo>
                      <a:lnTo>
                        <a:pt x="768" y="30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6" name=""/>
                <p:cNvSpPr/>
                <p:nvPr/>
              </p:nvSpPr>
              <p:spPr>
                <a:xfrm>
                  <a:off x="7343640" y="2043000"/>
                  <a:ext cx="54000" cy="71640"/>
                </a:xfrm>
                <a:custGeom>
                  <a:avLst/>
                  <a:gdLst/>
                  <a:ahLst/>
                  <a:rect l="l" t="t" r="r" b="b"/>
                  <a:pathLst>
                    <a:path w="665" h="1144">
                      <a:moveTo>
                        <a:pt x="423" y="868"/>
                      </a:moveTo>
                      <a:lnTo>
                        <a:pt x="533" y="978"/>
                      </a:lnTo>
                      <a:lnTo>
                        <a:pt x="577" y="978"/>
                      </a:lnTo>
                      <a:lnTo>
                        <a:pt x="650" y="1021"/>
                      </a:lnTo>
                      <a:lnTo>
                        <a:pt x="665" y="1071"/>
                      </a:lnTo>
                      <a:lnTo>
                        <a:pt x="643" y="1137"/>
                      </a:lnTo>
                      <a:lnTo>
                        <a:pt x="584" y="1144"/>
                      </a:lnTo>
                      <a:lnTo>
                        <a:pt x="510" y="1093"/>
                      </a:lnTo>
                      <a:lnTo>
                        <a:pt x="365" y="956"/>
                      </a:lnTo>
                      <a:lnTo>
                        <a:pt x="270" y="826"/>
                      </a:lnTo>
                      <a:lnTo>
                        <a:pt x="226" y="724"/>
                      </a:lnTo>
                      <a:lnTo>
                        <a:pt x="197" y="550"/>
                      </a:lnTo>
                      <a:lnTo>
                        <a:pt x="197" y="325"/>
                      </a:lnTo>
                      <a:lnTo>
                        <a:pt x="189" y="268"/>
                      </a:lnTo>
                      <a:lnTo>
                        <a:pt x="146" y="224"/>
                      </a:lnTo>
                      <a:lnTo>
                        <a:pt x="21" y="232"/>
                      </a:lnTo>
                      <a:lnTo>
                        <a:pt x="0" y="210"/>
                      </a:lnTo>
                      <a:lnTo>
                        <a:pt x="29" y="195"/>
                      </a:lnTo>
                      <a:lnTo>
                        <a:pt x="117" y="188"/>
                      </a:lnTo>
                      <a:lnTo>
                        <a:pt x="132" y="173"/>
                      </a:lnTo>
                      <a:lnTo>
                        <a:pt x="7" y="100"/>
                      </a:lnTo>
                      <a:lnTo>
                        <a:pt x="7" y="72"/>
                      </a:lnTo>
                      <a:lnTo>
                        <a:pt x="29" y="65"/>
                      </a:lnTo>
                      <a:lnTo>
                        <a:pt x="132" y="122"/>
                      </a:lnTo>
                      <a:lnTo>
                        <a:pt x="154" y="115"/>
                      </a:lnTo>
                      <a:lnTo>
                        <a:pt x="132" y="7"/>
                      </a:lnTo>
                      <a:lnTo>
                        <a:pt x="146" y="0"/>
                      </a:lnTo>
                      <a:lnTo>
                        <a:pt x="161" y="7"/>
                      </a:lnTo>
                      <a:lnTo>
                        <a:pt x="189" y="115"/>
                      </a:lnTo>
                      <a:lnTo>
                        <a:pt x="211" y="122"/>
                      </a:lnTo>
                      <a:lnTo>
                        <a:pt x="270" y="7"/>
                      </a:lnTo>
                      <a:lnTo>
                        <a:pt x="285" y="7"/>
                      </a:lnTo>
                      <a:lnTo>
                        <a:pt x="285" y="43"/>
                      </a:lnTo>
                      <a:lnTo>
                        <a:pt x="248" y="137"/>
                      </a:lnTo>
                      <a:lnTo>
                        <a:pt x="248" y="188"/>
                      </a:lnTo>
                      <a:lnTo>
                        <a:pt x="263" y="253"/>
                      </a:lnTo>
                      <a:lnTo>
                        <a:pt x="255" y="340"/>
                      </a:lnTo>
                      <a:lnTo>
                        <a:pt x="263" y="499"/>
                      </a:lnTo>
                      <a:lnTo>
                        <a:pt x="277" y="601"/>
                      </a:lnTo>
                      <a:lnTo>
                        <a:pt x="314" y="716"/>
                      </a:lnTo>
                      <a:lnTo>
                        <a:pt x="365" y="804"/>
                      </a:lnTo>
                      <a:lnTo>
                        <a:pt x="423" y="86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7" name=""/>
                <p:cNvSpPr/>
                <p:nvPr/>
              </p:nvSpPr>
              <p:spPr>
                <a:xfrm>
                  <a:off x="7408800" y="2049480"/>
                  <a:ext cx="68400" cy="66600"/>
                </a:xfrm>
                <a:custGeom>
                  <a:avLst/>
                  <a:gdLst/>
                  <a:ahLst/>
                  <a:rect l="l" t="t" r="r" b="b"/>
                  <a:pathLst>
                    <a:path w="869" h="1072">
                      <a:moveTo>
                        <a:pt x="15" y="949"/>
                      </a:moveTo>
                      <a:lnTo>
                        <a:pt x="0" y="999"/>
                      </a:lnTo>
                      <a:lnTo>
                        <a:pt x="15" y="1072"/>
                      </a:lnTo>
                      <a:lnTo>
                        <a:pt x="66" y="1072"/>
                      </a:lnTo>
                      <a:lnTo>
                        <a:pt x="220" y="1043"/>
                      </a:lnTo>
                      <a:lnTo>
                        <a:pt x="388" y="985"/>
                      </a:lnTo>
                      <a:lnTo>
                        <a:pt x="526" y="891"/>
                      </a:lnTo>
                      <a:lnTo>
                        <a:pt x="607" y="768"/>
                      </a:lnTo>
                      <a:lnTo>
                        <a:pt x="679" y="558"/>
                      </a:lnTo>
                      <a:lnTo>
                        <a:pt x="701" y="363"/>
                      </a:lnTo>
                      <a:lnTo>
                        <a:pt x="701" y="269"/>
                      </a:lnTo>
                      <a:lnTo>
                        <a:pt x="738" y="211"/>
                      </a:lnTo>
                      <a:lnTo>
                        <a:pt x="803" y="189"/>
                      </a:lnTo>
                      <a:lnTo>
                        <a:pt x="862" y="189"/>
                      </a:lnTo>
                      <a:lnTo>
                        <a:pt x="869" y="160"/>
                      </a:lnTo>
                      <a:lnTo>
                        <a:pt x="782" y="167"/>
                      </a:lnTo>
                      <a:lnTo>
                        <a:pt x="768" y="145"/>
                      </a:lnTo>
                      <a:lnTo>
                        <a:pt x="840" y="66"/>
                      </a:lnTo>
                      <a:lnTo>
                        <a:pt x="825" y="44"/>
                      </a:lnTo>
                      <a:lnTo>
                        <a:pt x="811" y="59"/>
                      </a:lnTo>
                      <a:lnTo>
                        <a:pt x="753" y="116"/>
                      </a:lnTo>
                      <a:lnTo>
                        <a:pt x="738" y="116"/>
                      </a:lnTo>
                      <a:lnTo>
                        <a:pt x="738" y="15"/>
                      </a:lnTo>
                      <a:lnTo>
                        <a:pt x="723" y="0"/>
                      </a:lnTo>
                      <a:lnTo>
                        <a:pt x="701" y="8"/>
                      </a:lnTo>
                      <a:lnTo>
                        <a:pt x="709" y="116"/>
                      </a:lnTo>
                      <a:lnTo>
                        <a:pt x="694" y="123"/>
                      </a:lnTo>
                      <a:lnTo>
                        <a:pt x="635" y="66"/>
                      </a:lnTo>
                      <a:lnTo>
                        <a:pt x="592" y="59"/>
                      </a:lnTo>
                      <a:lnTo>
                        <a:pt x="600" y="88"/>
                      </a:lnTo>
                      <a:lnTo>
                        <a:pt x="665" y="152"/>
                      </a:lnTo>
                      <a:lnTo>
                        <a:pt x="665" y="189"/>
                      </a:lnTo>
                      <a:lnTo>
                        <a:pt x="643" y="262"/>
                      </a:lnTo>
                      <a:lnTo>
                        <a:pt x="643" y="326"/>
                      </a:lnTo>
                      <a:lnTo>
                        <a:pt x="643" y="435"/>
                      </a:lnTo>
                      <a:lnTo>
                        <a:pt x="613" y="573"/>
                      </a:lnTo>
                      <a:lnTo>
                        <a:pt x="585" y="659"/>
                      </a:lnTo>
                      <a:lnTo>
                        <a:pt x="533" y="768"/>
                      </a:lnTo>
                      <a:lnTo>
                        <a:pt x="475" y="855"/>
                      </a:lnTo>
                      <a:lnTo>
                        <a:pt x="432" y="898"/>
                      </a:lnTo>
                      <a:lnTo>
                        <a:pt x="314" y="935"/>
                      </a:lnTo>
                      <a:lnTo>
                        <a:pt x="205" y="949"/>
                      </a:lnTo>
                      <a:lnTo>
                        <a:pt x="95" y="964"/>
                      </a:lnTo>
                      <a:lnTo>
                        <a:pt x="15" y="94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1918" name=""/>
            <p:cNvGrpSpPr/>
            <p:nvPr/>
          </p:nvGrpSpPr>
          <p:grpSpPr>
            <a:xfrm>
              <a:off x="6227640" y="2973240"/>
              <a:ext cx="168480" cy="165240"/>
              <a:chOff x="6227640" y="2973240"/>
              <a:chExt cx="168480" cy="165240"/>
            </a:xfrm>
          </p:grpSpPr>
          <p:sp>
            <p:nvSpPr>
              <p:cNvPr id="1919" name=""/>
              <p:cNvSpPr/>
              <p:nvPr/>
            </p:nvSpPr>
            <p:spPr>
              <a:xfrm>
                <a:off x="6227640" y="2973240"/>
                <a:ext cx="168480" cy="163800"/>
              </a:xfrm>
              <a:prstGeom prst="rect">
                <a:avLst/>
              </a:prstGeom>
              <a:solidFill>
                <a:srgbClr val="216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0" name=""/>
              <p:cNvGrpSpPr/>
              <p:nvPr/>
            </p:nvGrpSpPr>
            <p:grpSpPr>
              <a:xfrm>
                <a:off x="6227640" y="2975040"/>
                <a:ext cx="168480" cy="163440"/>
                <a:chOff x="6227640" y="2975040"/>
                <a:chExt cx="168480" cy="163440"/>
              </a:xfrm>
            </p:grpSpPr>
            <p:sp>
              <p:nvSpPr>
                <p:cNvPr id="1921" name=""/>
                <p:cNvSpPr/>
                <p:nvPr/>
              </p:nvSpPr>
              <p:spPr>
                <a:xfrm>
                  <a:off x="6308640" y="2998800"/>
                  <a:ext cx="46080" cy="36360"/>
                </a:xfrm>
                <a:custGeom>
                  <a:avLst/>
                  <a:gdLst/>
                  <a:ahLst/>
                  <a:rect l="l" t="t" r="r" b="b"/>
                  <a:pathLst>
                    <a:path w="570" h="572">
                      <a:moveTo>
                        <a:pt x="369" y="271"/>
                      </a:moveTo>
                      <a:lnTo>
                        <a:pt x="354" y="166"/>
                      </a:lnTo>
                      <a:lnTo>
                        <a:pt x="325" y="73"/>
                      </a:lnTo>
                      <a:lnTo>
                        <a:pt x="270" y="22"/>
                      </a:lnTo>
                      <a:lnTo>
                        <a:pt x="176" y="0"/>
                      </a:lnTo>
                      <a:lnTo>
                        <a:pt x="95" y="22"/>
                      </a:lnTo>
                      <a:lnTo>
                        <a:pt x="18" y="115"/>
                      </a:lnTo>
                      <a:lnTo>
                        <a:pt x="0" y="228"/>
                      </a:lnTo>
                      <a:lnTo>
                        <a:pt x="18" y="347"/>
                      </a:lnTo>
                      <a:lnTo>
                        <a:pt x="48" y="420"/>
                      </a:lnTo>
                      <a:lnTo>
                        <a:pt x="84" y="496"/>
                      </a:lnTo>
                      <a:lnTo>
                        <a:pt x="124" y="547"/>
                      </a:lnTo>
                      <a:lnTo>
                        <a:pt x="168" y="572"/>
                      </a:lnTo>
                      <a:lnTo>
                        <a:pt x="230" y="550"/>
                      </a:lnTo>
                      <a:lnTo>
                        <a:pt x="292" y="499"/>
                      </a:lnTo>
                      <a:lnTo>
                        <a:pt x="332" y="427"/>
                      </a:lnTo>
                      <a:lnTo>
                        <a:pt x="369" y="366"/>
                      </a:lnTo>
                      <a:lnTo>
                        <a:pt x="380" y="330"/>
                      </a:lnTo>
                      <a:lnTo>
                        <a:pt x="537" y="275"/>
                      </a:lnTo>
                      <a:lnTo>
                        <a:pt x="570" y="254"/>
                      </a:lnTo>
                      <a:lnTo>
                        <a:pt x="551" y="220"/>
                      </a:lnTo>
                      <a:lnTo>
                        <a:pt x="369" y="27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2" name=""/>
                <p:cNvSpPr/>
                <p:nvPr/>
              </p:nvSpPr>
              <p:spPr>
                <a:xfrm>
                  <a:off x="6286680" y="3038400"/>
                  <a:ext cx="47520" cy="65160"/>
                </a:xfrm>
                <a:custGeom>
                  <a:avLst/>
                  <a:gdLst/>
                  <a:ahLst/>
                  <a:rect l="l" t="t" r="r" b="b"/>
                  <a:pathLst>
                    <a:path w="588" h="1021">
                      <a:moveTo>
                        <a:pt x="198" y="152"/>
                      </a:moveTo>
                      <a:lnTo>
                        <a:pt x="270" y="76"/>
                      </a:lnTo>
                      <a:lnTo>
                        <a:pt x="391" y="3"/>
                      </a:lnTo>
                      <a:lnTo>
                        <a:pt x="445" y="0"/>
                      </a:lnTo>
                      <a:lnTo>
                        <a:pt x="544" y="32"/>
                      </a:lnTo>
                      <a:lnTo>
                        <a:pt x="588" y="80"/>
                      </a:lnTo>
                      <a:lnTo>
                        <a:pt x="588" y="152"/>
                      </a:lnTo>
                      <a:lnTo>
                        <a:pt x="515" y="286"/>
                      </a:lnTo>
                      <a:lnTo>
                        <a:pt x="435" y="391"/>
                      </a:lnTo>
                      <a:lnTo>
                        <a:pt x="401" y="478"/>
                      </a:lnTo>
                      <a:lnTo>
                        <a:pt x="379" y="579"/>
                      </a:lnTo>
                      <a:lnTo>
                        <a:pt x="401" y="677"/>
                      </a:lnTo>
                      <a:lnTo>
                        <a:pt x="423" y="772"/>
                      </a:lnTo>
                      <a:lnTo>
                        <a:pt x="423" y="880"/>
                      </a:lnTo>
                      <a:lnTo>
                        <a:pt x="391" y="945"/>
                      </a:lnTo>
                      <a:lnTo>
                        <a:pt x="317" y="982"/>
                      </a:lnTo>
                      <a:lnTo>
                        <a:pt x="230" y="1021"/>
                      </a:lnTo>
                      <a:lnTo>
                        <a:pt x="149" y="1021"/>
                      </a:lnTo>
                      <a:lnTo>
                        <a:pt x="95" y="992"/>
                      </a:lnTo>
                      <a:lnTo>
                        <a:pt x="22" y="873"/>
                      </a:lnTo>
                      <a:lnTo>
                        <a:pt x="0" y="750"/>
                      </a:lnTo>
                      <a:lnTo>
                        <a:pt x="8" y="591"/>
                      </a:lnTo>
                      <a:lnTo>
                        <a:pt x="62" y="391"/>
                      </a:lnTo>
                      <a:lnTo>
                        <a:pt x="117" y="261"/>
                      </a:lnTo>
                      <a:lnTo>
                        <a:pt x="198" y="15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3" name=""/>
                <p:cNvSpPr/>
                <p:nvPr/>
              </p:nvSpPr>
              <p:spPr>
                <a:xfrm>
                  <a:off x="6291360" y="3090960"/>
                  <a:ext cx="58680" cy="47520"/>
                </a:xfrm>
                <a:custGeom>
                  <a:avLst/>
                  <a:gdLst/>
                  <a:ahLst/>
                  <a:rect l="l" t="t" r="r" b="b"/>
                  <a:pathLst>
                    <a:path w="742" h="760">
                      <a:moveTo>
                        <a:pt x="0" y="72"/>
                      </a:moveTo>
                      <a:lnTo>
                        <a:pt x="62" y="0"/>
                      </a:lnTo>
                      <a:lnTo>
                        <a:pt x="155" y="0"/>
                      </a:lnTo>
                      <a:lnTo>
                        <a:pt x="326" y="18"/>
                      </a:lnTo>
                      <a:lnTo>
                        <a:pt x="527" y="28"/>
                      </a:lnTo>
                      <a:lnTo>
                        <a:pt x="604" y="61"/>
                      </a:lnTo>
                      <a:lnTo>
                        <a:pt x="636" y="104"/>
                      </a:lnTo>
                      <a:lnTo>
                        <a:pt x="644" y="169"/>
                      </a:lnTo>
                      <a:lnTo>
                        <a:pt x="622" y="238"/>
                      </a:lnTo>
                      <a:lnTo>
                        <a:pt x="560" y="343"/>
                      </a:lnTo>
                      <a:lnTo>
                        <a:pt x="479" y="431"/>
                      </a:lnTo>
                      <a:lnTo>
                        <a:pt x="417" y="510"/>
                      </a:lnTo>
                      <a:lnTo>
                        <a:pt x="392" y="571"/>
                      </a:lnTo>
                      <a:lnTo>
                        <a:pt x="373" y="615"/>
                      </a:lnTo>
                      <a:lnTo>
                        <a:pt x="380" y="648"/>
                      </a:lnTo>
                      <a:lnTo>
                        <a:pt x="384" y="669"/>
                      </a:lnTo>
                      <a:lnTo>
                        <a:pt x="458" y="669"/>
                      </a:lnTo>
                      <a:lnTo>
                        <a:pt x="571" y="651"/>
                      </a:lnTo>
                      <a:lnTo>
                        <a:pt x="644" y="651"/>
                      </a:lnTo>
                      <a:lnTo>
                        <a:pt x="720" y="680"/>
                      </a:lnTo>
                      <a:lnTo>
                        <a:pt x="742" y="717"/>
                      </a:lnTo>
                      <a:lnTo>
                        <a:pt x="720" y="749"/>
                      </a:lnTo>
                      <a:lnTo>
                        <a:pt x="688" y="760"/>
                      </a:lnTo>
                      <a:lnTo>
                        <a:pt x="636" y="746"/>
                      </a:lnTo>
                      <a:lnTo>
                        <a:pt x="567" y="705"/>
                      </a:lnTo>
                      <a:lnTo>
                        <a:pt x="493" y="713"/>
                      </a:lnTo>
                      <a:lnTo>
                        <a:pt x="373" y="734"/>
                      </a:lnTo>
                      <a:lnTo>
                        <a:pt x="337" y="727"/>
                      </a:lnTo>
                      <a:lnTo>
                        <a:pt x="318" y="702"/>
                      </a:lnTo>
                      <a:lnTo>
                        <a:pt x="318" y="641"/>
                      </a:lnTo>
                      <a:lnTo>
                        <a:pt x="318" y="553"/>
                      </a:lnTo>
                      <a:lnTo>
                        <a:pt x="370" y="488"/>
                      </a:lnTo>
                      <a:lnTo>
                        <a:pt x="446" y="390"/>
                      </a:lnTo>
                      <a:lnTo>
                        <a:pt x="512" y="304"/>
                      </a:lnTo>
                      <a:lnTo>
                        <a:pt x="556" y="238"/>
                      </a:lnTo>
                      <a:lnTo>
                        <a:pt x="579" y="181"/>
                      </a:lnTo>
                      <a:lnTo>
                        <a:pt x="567" y="148"/>
                      </a:lnTo>
                      <a:lnTo>
                        <a:pt x="538" y="108"/>
                      </a:lnTo>
                      <a:lnTo>
                        <a:pt x="493" y="97"/>
                      </a:lnTo>
                      <a:lnTo>
                        <a:pt x="446" y="97"/>
                      </a:lnTo>
                      <a:lnTo>
                        <a:pt x="340" y="97"/>
                      </a:lnTo>
                      <a:lnTo>
                        <a:pt x="183" y="126"/>
                      </a:lnTo>
                      <a:lnTo>
                        <a:pt x="66" y="137"/>
                      </a:lnTo>
                      <a:lnTo>
                        <a:pt x="19" y="126"/>
                      </a:lnTo>
                      <a:lnTo>
                        <a:pt x="0" y="108"/>
                      </a:lnTo>
                      <a:lnTo>
                        <a:pt x="0" y="7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4" name=""/>
                <p:cNvSpPr/>
                <p:nvPr/>
              </p:nvSpPr>
              <p:spPr>
                <a:xfrm>
                  <a:off x="6227640" y="3079800"/>
                  <a:ext cx="74880" cy="46080"/>
                </a:xfrm>
                <a:custGeom>
                  <a:avLst/>
                  <a:gdLst/>
                  <a:ahLst/>
                  <a:rect l="l" t="t" r="r" b="b"/>
                  <a:pathLst>
                    <a:path w="942" h="724">
                      <a:moveTo>
                        <a:pt x="767" y="301"/>
                      </a:moveTo>
                      <a:lnTo>
                        <a:pt x="782" y="206"/>
                      </a:lnTo>
                      <a:lnTo>
                        <a:pt x="836" y="171"/>
                      </a:lnTo>
                      <a:lnTo>
                        <a:pt x="902" y="163"/>
                      </a:lnTo>
                      <a:lnTo>
                        <a:pt x="942" y="206"/>
                      </a:lnTo>
                      <a:lnTo>
                        <a:pt x="924" y="289"/>
                      </a:lnTo>
                      <a:lnTo>
                        <a:pt x="888" y="402"/>
                      </a:lnTo>
                      <a:lnTo>
                        <a:pt x="814" y="529"/>
                      </a:lnTo>
                      <a:lnTo>
                        <a:pt x="723" y="637"/>
                      </a:lnTo>
                      <a:lnTo>
                        <a:pt x="646" y="695"/>
                      </a:lnTo>
                      <a:lnTo>
                        <a:pt x="562" y="724"/>
                      </a:lnTo>
                      <a:lnTo>
                        <a:pt x="482" y="714"/>
                      </a:lnTo>
                      <a:lnTo>
                        <a:pt x="420" y="681"/>
                      </a:lnTo>
                      <a:lnTo>
                        <a:pt x="398" y="626"/>
                      </a:lnTo>
                      <a:lnTo>
                        <a:pt x="372" y="533"/>
                      </a:lnTo>
                      <a:lnTo>
                        <a:pt x="343" y="359"/>
                      </a:lnTo>
                      <a:lnTo>
                        <a:pt x="321" y="239"/>
                      </a:lnTo>
                      <a:lnTo>
                        <a:pt x="321" y="98"/>
                      </a:lnTo>
                      <a:lnTo>
                        <a:pt x="306" y="73"/>
                      </a:lnTo>
                      <a:lnTo>
                        <a:pt x="263" y="66"/>
                      </a:lnTo>
                      <a:lnTo>
                        <a:pt x="212" y="105"/>
                      </a:lnTo>
                      <a:lnTo>
                        <a:pt x="165" y="171"/>
                      </a:lnTo>
                      <a:lnTo>
                        <a:pt x="109" y="206"/>
                      </a:lnTo>
                      <a:lnTo>
                        <a:pt x="25" y="206"/>
                      </a:lnTo>
                      <a:lnTo>
                        <a:pt x="0" y="184"/>
                      </a:lnTo>
                      <a:lnTo>
                        <a:pt x="0" y="149"/>
                      </a:lnTo>
                      <a:lnTo>
                        <a:pt x="37" y="116"/>
                      </a:lnTo>
                      <a:lnTo>
                        <a:pt x="76" y="127"/>
                      </a:lnTo>
                      <a:lnTo>
                        <a:pt x="113" y="120"/>
                      </a:lnTo>
                      <a:lnTo>
                        <a:pt x="179" y="73"/>
                      </a:lnTo>
                      <a:lnTo>
                        <a:pt x="244" y="22"/>
                      </a:lnTo>
                      <a:lnTo>
                        <a:pt x="306" y="7"/>
                      </a:lnTo>
                      <a:lnTo>
                        <a:pt x="394" y="0"/>
                      </a:lnTo>
                      <a:lnTo>
                        <a:pt x="398" y="40"/>
                      </a:lnTo>
                      <a:lnTo>
                        <a:pt x="377" y="83"/>
                      </a:lnTo>
                      <a:lnTo>
                        <a:pt x="372" y="196"/>
                      </a:lnTo>
                      <a:lnTo>
                        <a:pt x="398" y="344"/>
                      </a:lnTo>
                      <a:lnTo>
                        <a:pt x="438" y="489"/>
                      </a:lnTo>
                      <a:lnTo>
                        <a:pt x="474" y="575"/>
                      </a:lnTo>
                      <a:lnTo>
                        <a:pt x="530" y="616"/>
                      </a:lnTo>
                      <a:lnTo>
                        <a:pt x="584" y="616"/>
                      </a:lnTo>
                      <a:lnTo>
                        <a:pt x="639" y="575"/>
                      </a:lnTo>
                      <a:lnTo>
                        <a:pt x="712" y="485"/>
                      </a:lnTo>
                      <a:lnTo>
                        <a:pt x="760" y="355"/>
                      </a:lnTo>
                      <a:lnTo>
                        <a:pt x="767" y="30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5" name=""/>
                <p:cNvSpPr/>
                <p:nvPr/>
              </p:nvSpPr>
              <p:spPr>
                <a:xfrm>
                  <a:off x="6262560" y="2975040"/>
                  <a:ext cx="52560" cy="73080"/>
                </a:xfrm>
                <a:custGeom>
                  <a:avLst/>
                  <a:gdLst/>
                  <a:ahLst/>
                  <a:rect l="l" t="t" r="r" b="b"/>
                  <a:pathLst>
                    <a:path w="664" h="1145">
                      <a:moveTo>
                        <a:pt x="423" y="869"/>
                      </a:moveTo>
                      <a:lnTo>
                        <a:pt x="532" y="978"/>
                      </a:lnTo>
                      <a:lnTo>
                        <a:pt x="576" y="978"/>
                      </a:lnTo>
                      <a:lnTo>
                        <a:pt x="649" y="1022"/>
                      </a:lnTo>
                      <a:lnTo>
                        <a:pt x="664" y="1072"/>
                      </a:lnTo>
                      <a:lnTo>
                        <a:pt x="642" y="1138"/>
                      </a:lnTo>
                      <a:lnTo>
                        <a:pt x="583" y="1145"/>
                      </a:lnTo>
                      <a:lnTo>
                        <a:pt x="510" y="1094"/>
                      </a:lnTo>
                      <a:lnTo>
                        <a:pt x="364" y="957"/>
                      </a:lnTo>
                      <a:lnTo>
                        <a:pt x="270" y="827"/>
                      </a:lnTo>
                      <a:lnTo>
                        <a:pt x="225" y="725"/>
                      </a:lnTo>
                      <a:lnTo>
                        <a:pt x="196" y="551"/>
                      </a:lnTo>
                      <a:lnTo>
                        <a:pt x="196" y="326"/>
                      </a:lnTo>
                      <a:lnTo>
                        <a:pt x="189" y="269"/>
                      </a:lnTo>
                      <a:lnTo>
                        <a:pt x="146" y="225"/>
                      </a:lnTo>
                      <a:lnTo>
                        <a:pt x="21" y="232"/>
                      </a:lnTo>
                      <a:lnTo>
                        <a:pt x="0" y="211"/>
                      </a:lnTo>
                      <a:lnTo>
                        <a:pt x="28" y="196"/>
                      </a:lnTo>
                      <a:lnTo>
                        <a:pt x="116" y="189"/>
                      </a:lnTo>
                      <a:lnTo>
                        <a:pt x="131" y="174"/>
                      </a:lnTo>
                      <a:lnTo>
                        <a:pt x="6" y="101"/>
                      </a:lnTo>
                      <a:lnTo>
                        <a:pt x="6" y="73"/>
                      </a:lnTo>
                      <a:lnTo>
                        <a:pt x="28" y="66"/>
                      </a:lnTo>
                      <a:lnTo>
                        <a:pt x="131" y="123"/>
                      </a:lnTo>
                      <a:lnTo>
                        <a:pt x="153" y="116"/>
                      </a:lnTo>
                      <a:lnTo>
                        <a:pt x="131" y="8"/>
                      </a:lnTo>
                      <a:lnTo>
                        <a:pt x="146" y="0"/>
                      </a:lnTo>
                      <a:lnTo>
                        <a:pt x="160" y="8"/>
                      </a:lnTo>
                      <a:lnTo>
                        <a:pt x="189" y="116"/>
                      </a:lnTo>
                      <a:lnTo>
                        <a:pt x="211" y="123"/>
                      </a:lnTo>
                      <a:lnTo>
                        <a:pt x="270" y="8"/>
                      </a:lnTo>
                      <a:lnTo>
                        <a:pt x="284" y="8"/>
                      </a:lnTo>
                      <a:lnTo>
                        <a:pt x="284" y="44"/>
                      </a:lnTo>
                      <a:lnTo>
                        <a:pt x="248" y="138"/>
                      </a:lnTo>
                      <a:lnTo>
                        <a:pt x="248" y="189"/>
                      </a:lnTo>
                      <a:lnTo>
                        <a:pt x="262" y="254"/>
                      </a:lnTo>
                      <a:lnTo>
                        <a:pt x="255" y="341"/>
                      </a:lnTo>
                      <a:lnTo>
                        <a:pt x="262" y="500"/>
                      </a:lnTo>
                      <a:lnTo>
                        <a:pt x="277" y="602"/>
                      </a:lnTo>
                      <a:lnTo>
                        <a:pt x="314" y="717"/>
                      </a:lnTo>
                      <a:lnTo>
                        <a:pt x="364" y="805"/>
                      </a:lnTo>
                      <a:lnTo>
                        <a:pt x="423" y="86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6" name=""/>
                <p:cNvSpPr/>
                <p:nvPr/>
              </p:nvSpPr>
              <p:spPr>
                <a:xfrm>
                  <a:off x="6326280" y="2982960"/>
                  <a:ext cx="69840" cy="66600"/>
                </a:xfrm>
                <a:custGeom>
                  <a:avLst/>
                  <a:gdLst/>
                  <a:ahLst/>
                  <a:rect l="l" t="t" r="r" b="b"/>
                  <a:pathLst>
                    <a:path w="869" h="1072">
                      <a:moveTo>
                        <a:pt x="14" y="949"/>
                      </a:moveTo>
                      <a:lnTo>
                        <a:pt x="0" y="999"/>
                      </a:lnTo>
                      <a:lnTo>
                        <a:pt x="14" y="1072"/>
                      </a:lnTo>
                      <a:lnTo>
                        <a:pt x="66" y="1072"/>
                      </a:lnTo>
                      <a:lnTo>
                        <a:pt x="219" y="1043"/>
                      </a:lnTo>
                      <a:lnTo>
                        <a:pt x="387" y="985"/>
                      </a:lnTo>
                      <a:lnTo>
                        <a:pt x="526" y="891"/>
                      </a:lnTo>
                      <a:lnTo>
                        <a:pt x="606" y="768"/>
                      </a:lnTo>
                      <a:lnTo>
                        <a:pt x="679" y="558"/>
                      </a:lnTo>
                      <a:lnTo>
                        <a:pt x="701" y="362"/>
                      </a:lnTo>
                      <a:lnTo>
                        <a:pt x="701" y="269"/>
                      </a:lnTo>
                      <a:lnTo>
                        <a:pt x="738" y="211"/>
                      </a:lnTo>
                      <a:lnTo>
                        <a:pt x="803" y="189"/>
                      </a:lnTo>
                      <a:lnTo>
                        <a:pt x="861" y="189"/>
                      </a:lnTo>
                      <a:lnTo>
                        <a:pt x="869" y="160"/>
                      </a:lnTo>
                      <a:lnTo>
                        <a:pt x="782" y="167"/>
                      </a:lnTo>
                      <a:lnTo>
                        <a:pt x="767" y="145"/>
                      </a:lnTo>
                      <a:lnTo>
                        <a:pt x="839" y="66"/>
                      </a:lnTo>
                      <a:lnTo>
                        <a:pt x="825" y="44"/>
                      </a:lnTo>
                      <a:lnTo>
                        <a:pt x="810" y="59"/>
                      </a:lnTo>
                      <a:lnTo>
                        <a:pt x="752" y="116"/>
                      </a:lnTo>
                      <a:lnTo>
                        <a:pt x="738" y="116"/>
                      </a:lnTo>
                      <a:lnTo>
                        <a:pt x="738" y="15"/>
                      </a:lnTo>
                      <a:lnTo>
                        <a:pt x="723" y="0"/>
                      </a:lnTo>
                      <a:lnTo>
                        <a:pt x="701" y="8"/>
                      </a:lnTo>
                      <a:lnTo>
                        <a:pt x="708" y="116"/>
                      </a:lnTo>
                      <a:lnTo>
                        <a:pt x="693" y="123"/>
                      </a:lnTo>
                      <a:lnTo>
                        <a:pt x="635" y="66"/>
                      </a:lnTo>
                      <a:lnTo>
                        <a:pt x="592" y="59"/>
                      </a:lnTo>
                      <a:lnTo>
                        <a:pt x="599" y="88"/>
                      </a:lnTo>
                      <a:lnTo>
                        <a:pt x="664" y="152"/>
                      </a:lnTo>
                      <a:lnTo>
                        <a:pt x="664" y="189"/>
                      </a:lnTo>
                      <a:lnTo>
                        <a:pt x="642" y="261"/>
                      </a:lnTo>
                      <a:lnTo>
                        <a:pt x="642" y="326"/>
                      </a:lnTo>
                      <a:lnTo>
                        <a:pt x="642" y="435"/>
                      </a:lnTo>
                      <a:lnTo>
                        <a:pt x="613" y="573"/>
                      </a:lnTo>
                      <a:lnTo>
                        <a:pt x="584" y="659"/>
                      </a:lnTo>
                      <a:lnTo>
                        <a:pt x="533" y="768"/>
                      </a:lnTo>
                      <a:lnTo>
                        <a:pt x="474" y="855"/>
                      </a:lnTo>
                      <a:lnTo>
                        <a:pt x="431" y="898"/>
                      </a:lnTo>
                      <a:lnTo>
                        <a:pt x="314" y="935"/>
                      </a:lnTo>
                      <a:lnTo>
                        <a:pt x="204" y="949"/>
                      </a:lnTo>
                      <a:lnTo>
                        <a:pt x="94" y="964"/>
                      </a:lnTo>
                      <a:lnTo>
                        <a:pt x="14" y="94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1927" name=""/>
          <p:cNvGrpSpPr/>
          <p:nvPr/>
        </p:nvGrpSpPr>
        <p:grpSpPr>
          <a:xfrm>
            <a:off x="3112920" y="4314960"/>
            <a:ext cx="4352760" cy="1527120"/>
            <a:chOff x="3112920" y="4314960"/>
            <a:chExt cx="4352760" cy="1527120"/>
          </a:xfrm>
        </p:grpSpPr>
        <p:sp>
          <p:nvSpPr>
            <p:cNvPr id="1928" name=""/>
            <p:cNvSpPr/>
            <p:nvPr/>
          </p:nvSpPr>
          <p:spPr>
            <a:xfrm>
              <a:off x="3112920" y="5382000"/>
              <a:ext cx="865440" cy="460080"/>
            </a:xfrm>
            <a:prstGeom prst="leftArrow">
              <a:avLst>
                <a:gd name="adj1" fmla="val 50000"/>
                <a:gd name="adj2" fmla="val 4702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rot="5400000">
              <a:off x="6802920" y="4517280"/>
              <a:ext cx="865080" cy="460440"/>
            </a:xfrm>
            <a:prstGeom prst="leftArrow">
              <a:avLst>
                <a:gd name="adj1" fmla="val 50000"/>
                <a:gd name="adj2" fmla="val 4697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978360" y="5494680"/>
              <a:ext cx="3368520" cy="234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121520" y="5183280"/>
              <a:ext cx="225360" cy="339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2" name=""/>
          <p:cNvSpPr/>
          <p:nvPr/>
        </p:nvSpPr>
        <p:spPr>
          <a:xfrm>
            <a:off x="2370240" y="5324400"/>
            <a:ext cx="498240" cy="376200"/>
          </a:xfrm>
          <a:prstGeom prst="rect">
            <a:avLst/>
          </a:prstGeom>
          <a:solidFill>
            <a:srgbClr val="dddddd"/>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2389320" y="4498920"/>
            <a:ext cx="433080" cy="704880"/>
          </a:xfrm>
          <a:prstGeom prst="upDownArrow">
            <a:avLst>
              <a:gd name="adj1" fmla="val 50185"/>
              <a:gd name="adj2" fmla="val 3965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a:hlinkClick r:id="rId17" action="ppaction://hlinksldjump"/>
          </p:cNvPr>
          <p:cNvSpPr/>
          <p:nvPr/>
        </p:nvSpPr>
        <p:spPr>
          <a:xfrm>
            <a:off x="620640" y="3137040"/>
            <a:ext cx="1473120" cy="55548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e/</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
          <p:cNvSpPr/>
          <p:nvPr/>
        </p:nvSpPr>
        <p:spPr>
          <a:xfrm rot="5400000">
            <a:off x="5335560" y="2120760"/>
            <a:ext cx="1532160" cy="1090800"/>
          </a:xfrm>
          <a:prstGeom prst="rightArrow">
            <a:avLst>
              <a:gd name="adj1" fmla="val 49926"/>
              <a:gd name="adj2" fmla="val 42841"/>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rot="5400000">
            <a:off x="6287040" y="3940560"/>
            <a:ext cx="1476360" cy="1090800"/>
          </a:xfrm>
          <a:prstGeom prst="rightArrow">
            <a:avLst>
              <a:gd name="adj1" fmla="val 49926"/>
              <a:gd name="adj2" fmla="val 41281"/>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PlaceHolder 1"/>
          <p:cNvSpPr>
            <a:spLocks noGrp="1"/>
          </p:cNvSpPr>
          <p:nvPr>
            <p:ph type="title"/>
          </p:nvPr>
        </p:nvSpPr>
        <p:spPr>
          <a:xfrm>
            <a:off x="773280" y="466560"/>
            <a:ext cx="777240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Language &amp; Tools Transition</a:t>
            </a:r>
            <a:endParaRPr b="1" lang="en-US" sz="2800" spc="-1" strike="noStrike">
              <a:solidFill>
                <a:srgbClr val="2163ab"/>
              </a:solidFill>
              <a:latin typeface="Arial Black"/>
            </a:endParaRPr>
          </a:p>
        </p:txBody>
      </p:sp>
      <p:sp>
        <p:nvSpPr>
          <p:cNvPr id="1938" name=""/>
          <p:cNvSpPr/>
          <p:nvPr/>
        </p:nvSpPr>
        <p:spPr>
          <a:xfrm>
            <a:off x="1227240" y="1692360"/>
            <a:ext cx="1735200" cy="1101600"/>
          </a:xfrm>
          <a:prstGeom prst="roundRect">
            <a:avLst>
              <a:gd name="adj" fmla="val 16667"/>
            </a:avLst>
          </a:prstGeom>
          <a:solidFill>
            <a:srgbClr val="ffba00"/>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L</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a:t>
            </a:r>
            <a:endParaRPr b="0" lang="en-US" sz="1800" spc="-1" strike="noStrike">
              <a:solidFill>
                <a:srgbClr val="000000"/>
              </a:solidFill>
              <a:latin typeface="Times New Roman"/>
            </a:endParaRPr>
          </a:p>
        </p:txBody>
      </p:sp>
      <p:sp>
        <p:nvSpPr>
          <p:cNvPr id="1939" name=""/>
          <p:cNvSpPr/>
          <p:nvPr/>
        </p:nvSpPr>
        <p:spPr>
          <a:xfrm>
            <a:off x="4633920" y="1693800"/>
            <a:ext cx="1739880" cy="1087560"/>
          </a:xfrm>
          <a:prstGeom prst="roundRect">
            <a:avLst>
              <a:gd name="adj" fmla="val 16667"/>
            </a:avLst>
          </a:prstGeom>
          <a:solidFill>
            <a:srgbClr val="2163ab"/>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3C</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bOnt</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a:t>
            </a:r>
            <a:endParaRPr b="0" lang="en-US" sz="1800" spc="-1" strike="noStrike">
              <a:solidFill>
                <a:srgbClr val="000000"/>
              </a:solidFill>
              <a:latin typeface="Times New Roman"/>
            </a:endParaRPr>
          </a:p>
        </p:txBody>
      </p:sp>
      <p:sp>
        <p:nvSpPr>
          <p:cNvPr id="1940" name=""/>
          <p:cNvSpPr/>
          <p:nvPr/>
        </p:nvSpPr>
        <p:spPr>
          <a:xfrm>
            <a:off x="2108160" y="3475080"/>
            <a:ext cx="1762200" cy="1090440"/>
          </a:xfrm>
          <a:prstGeom prst="roundRect">
            <a:avLst>
              <a:gd name="adj" fmla="val 16667"/>
            </a:avLst>
          </a:prstGeom>
          <a:solidFill>
            <a:srgbClr val="ffba00"/>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L</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Times New Roman"/>
            </a:endParaRPr>
          </a:p>
        </p:txBody>
      </p:sp>
      <p:sp>
        <p:nvSpPr>
          <p:cNvPr id="1941" name=""/>
          <p:cNvSpPr/>
          <p:nvPr/>
        </p:nvSpPr>
        <p:spPr>
          <a:xfrm>
            <a:off x="4029120" y="5241960"/>
            <a:ext cx="1760400" cy="1089000"/>
          </a:xfrm>
          <a:prstGeom prst="roundRect">
            <a:avLst>
              <a:gd name="adj" fmla="val 16667"/>
            </a:avLst>
          </a:prstGeom>
          <a:solidFill>
            <a:srgbClr val="ffba00"/>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term</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I</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Times New Roman"/>
            </a:endParaRPr>
          </a:p>
        </p:txBody>
      </p:sp>
      <p:sp>
        <p:nvSpPr>
          <p:cNvPr id="1942" name=""/>
          <p:cNvSpPr/>
          <p:nvPr/>
        </p:nvSpPr>
        <p:spPr>
          <a:xfrm>
            <a:off x="5537160" y="3467160"/>
            <a:ext cx="1765440" cy="1082520"/>
          </a:xfrm>
          <a:prstGeom prst="roundRect">
            <a:avLst>
              <a:gd name="adj" fmla="val 16667"/>
            </a:avLst>
          </a:prstGeom>
          <a:solidFill>
            <a:srgbClr val="2163ab"/>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rcial</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a:t>
            </a:r>
            <a:endParaRPr b="0" lang="en-US" sz="1800" spc="-1" strike="noStrike">
              <a:solidFill>
                <a:srgbClr val="000000"/>
              </a:solidFill>
              <a:latin typeface="Times New Roman"/>
            </a:endParaRPr>
          </a:p>
        </p:txBody>
      </p:sp>
      <p:sp>
        <p:nvSpPr>
          <p:cNvPr id="1943" name=""/>
          <p:cNvSpPr/>
          <p:nvPr/>
        </p:nvSpPr>
        <p:spPr>
          <a:xfrm>
            <a:off x="5807160" y="5241960"/>
            <a:ext cx="2687400" cy="1062000"/>
          </a:xfrm>
          <a:prstGeom prst="roundRect">
            <a:avLst>
              <a:gd name="adj" fmla="val 16667"/>
            </a:avLst>
          </a:prstGeom>
          <a:solidFill>
            <a:srgbClr val="2163ab"/>
          </a:solidFill>
          <a:ln w="0">
            <a:noFill/>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er-term</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itary &amp; Commercial</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a:t>
            </a:r>
            <a:endParaRPr b="0" lang="en-US" sz="1800" spc="-1" strike="noStrike">
              <a:solidFill>
                <a:srgbClr val="000000"/>
              </a:solidFill>
              <a:latin typeface="Times New Roman"/>
            </a:endParaRPr>
          </a:p>
        </p:txBody>
      </p:sp>
      <p:sp>
        <p:nvSpPr>
          <p:cNvPr id="1944" name=""/>
          <p:cNvSpPr/>
          <p:nvPr/>
        </p:nvSpPr>
        <p:spPr>
          <a:xfrm>
            <a:off x="2963880" y="1712880"/>
            <a:ext cx="1663560" cy="1090800"/>
          </a:xfrm>
          <a:prstGeom prst="rightArrow">
            <a:avLst>
              <a:gd name="adj1" fmla="val 49926"/>
              <a:gd name="adj2" fmla="val 46515"/>
            </a:avLst>
          </a:pr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868560" y="3456000"/>
            <a:ext cx="1663920" cy="1090440"/>
          </a:xfrm>
          <a:prstGeom prst="rightArrow">
            <a:avLst>
              <a:gd name="adj1" fmla="val 49926"/>
              <a:gd name="adj2" fmla="val 46540"/>
            </a:avLst>
          </a:pr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5400000">
            <a:off x="2818440" y="2180160"/>
            <a:ext cx="1428840" cy="1090800"/>
          </a:xfrm>
          <a:prstGeom prst="rightArrow">
            <a:avLst>
              <a:gd name="adj1" fmla="val 49926"/>
              <a:gd name="adj2" fmla="val 39952"/>
            </a:avLst>
          </a:pr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rot="5400000">
            <a:off x="3718440" y="3939120"/>
            <a:ext cx="1457640" cy="1090800"/>
          </a:xfrm>
          <a:prstGeom prst="rightArrow">
            <a:avLst>
              <a:gd name="adj1" fmla="val 49926"/>
              <a:gd name="adj2" fmla="val 40757"/>
            </a:avLst>
          </a:pr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rot="16200000">
            <a:off x="2648160" y="4759920"/>
            <a:ext cx="1457280" cy="1090440"/>
          </a:xfrm>
          <a:prstGeom prst="rightArrow">
            <a:avLst>
              <a:gd name="adj1" fmla="val 49926"/>
              <a:gd name="adj2" fmla="val 40761"/>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rot="16200000">
            <a:off x="800640" y="3005280"/>
            <a:ext cx="1523880" cy="1090440"/>
          </a:xfrm>
          <a:prstGeom prst="rightArrow">
            <a:avLst>
              <a:gd name="adj1" fmla="val 49926"/>
              <a:gd name="adj2" fmla="val 42623"/>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rot="16200000">
            <a:off x="1626120" y="3819960"/>
            <a:ext cx="546120" cy="442800"/>
          </a:xfrm>
          <a:prstGeom prst="rect">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rot="16200000">
            <a:off x="3529800" y="5534280"/>
            <a:ext cx="546120" cy="443160"/>
          </a:xfrm>
          <a:prstGeom prst="rect">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rot="16200000">
            <a:off x="2762280" y="5115240"/>
            <a:ext cx="12337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a:t>
            </a:r>
            <a:endParaRPr b="0" lang="en-US" sz="1800" spc="-1" strike="noStrike">
              <a:solidFill>
                <a:srgbClr val="000000"/>
              </a:solidFill>
              <a:latin typeface="Times New Roman"/>
            </a:endParaRPr>
          </a:p>
        </p:txBody>
      </p:sp>
      <p:sp>
        <p:nvSpPr>
          <p:cNvPr id="1953" name=""/>
          <p:cNvSpPr/>
          <p:nvPr/>
        </p:nvSpPr>
        <p:spPr>
          <a:xfrm rot="16200000">
            <a:off x="938160" y="3386880"/>
            <a:ext cx="123372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
          <p:cNvSpPr/>
          <p:nvPr/>
        </p:nvSpPr>
        <p:spPr>
          <a:xfrm flipV="1" rot="16200000">
            <a:off x="3115440" y="5158440"/>
            <a:ext cx="1162080" cy="1090800"/>
          </a:xfrm>
          <a:prstGeom prst="rightArrow">
            <a:avLst>
              <a:gd name="adj1" fmla="val 49926"/>
              <a:gd name="adj2" fmla="val 32493"/>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PlaceHolder 1"/>
          <p:cNvSpPr>
            <a:spLocks noGrp="1"/>
          </p:cNvSpPr>
          <p:nvPr>
            <p:ph type="title"/>
          </p:nvPr>
        </p:nvSpPr>
        <p:spPr>
          <a:xfrm>
            <a:off x="773280" y="466560"/>
            <a:ext cx="777240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AML Language Strategy</a:t>
            </a:r>
            <a:endParaRPr b="1" lang="en-US" sz="2800" spc="-1" strike="noStrike">
              <a:solidFill>
                <a:srgbClr val="2163ab"/>
              </a:solidFill>
              <a:latin typeface="Arial Black"/>
            </a:endParaRPr>
          </a:p>
        </p:txBody>
      </p:sp>
      <p:sp>
        <p:nvSpPr>
          <p:cNvPr id="1956" name=""/>
          <p:cNvSpPr/>
          <p:nvPr/>
        </p:nvSpPr>
        <p:spPr>
          <a:xfrm>
            <a:off x="1227240" y="879480"/>
            <a:ext cx="1735200" cy="1101600"/>
          </a:xfrm>
          <a:prstGeom prst="roundRect">
            <a:avLst>
              <a:gd name="adj" fmla="val 16667"/>
            </a:avLst>
          </a:prstGeom>
          <a:solidFill>
            <a:srgbClr val="ffba00"/>
          </a:solidFill>
          <a:ln w="9360">
            <a:solidFill>
              <a:srgbClr val="00005e"/>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a:t>
            </a:r>
            <a:endParaRPr b="0" lang="en-US" sz="1800" spc="-1" strike="noStrike">
              <a:solidFill>
                <a:srgbClr val="000000"/>
              </a:solidFill>
              <a:latin typeface="Times New Roman"/>
            </a:endParaRPr>
          </a:p>
        </p:txBody>
      </p:sp>
      <p:sp>
        <p:nvSpPr>
          <p:cNvPr id="1957" name=""/>
          <p:cNvSpPr/>
          <p:nvPr/>
        </p:nvSpPr>
        <p:spPr>
          <a:xfrm>
            <a:off x="2108160" y="2662200"/>
            <a:ext cx="1762200" cy="1090800"/>
          </a:xfrm>
          <a:prstGeom prst="roundRect">
            <a:avLst>
              <a:gd name="adj" fmla="val 16667"/>
            </a:avLst>
          </a:prstGeom>
          <a:solidFill>
            <a:srgbClr val="ffba00"/>
          </a:solidFill>
          <a:ln w="9360">
            <a:solidFill>
              <a:srgbClr val="00005e"/>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t>
            </a:r>
            <a:endParaRPr b="0" lang="en-US" sz="1800" spc="-1" strike="noStrike">
              <a:solidFill>
                <a:srgbClr val="000000"/>
              </a:solidFill>
              <a:latin typeface="Times New Roman"/>
            </a:endParaRPr>
          </a:p>
        </p:txBody>
      </p:sp>
      <p:sp>
        <p:nvSpPr>
          <p:cNvPr id="1958" name=""/>
          <p:cNvSpPr/>
          <p:nvPr/>
        </p:nvSpPr>
        <p:spPr>
          <a:xfrm>
            <a:off x="3076560" y="4429080"/>
            <a:ext cx="1760400" cy="1089000"/>
          </a:xfrm>
          <a:prstGeom prst="roundRect">
            <a:avLst>
              <a:gd name="adj" fmla="val 16667"/>
            </a:avLst>
          </a:prstGeom>
          <a:solidFill>
            <a:srgbClr val="ffba00"/>
          </a:solidFill>
          <a:ln w="9360">
            <a:solidFill>
              <a:srgbClr val="00005e"/>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of</a:t>
            </a:r>
            <a:endParaRPr b="0" lang="en-US" sz="1800" spc="-1" strike="noStrike">
              <a:solidFill>
                <a:srgbClr val="000000"/>
              </a:solidFill>
              <a:latin typeface="Times New Roman"/>
            </a:endParaRPr>
          </a:p>
        </p:txBody>
      </p:sp>
      <p:sp>
        <p:nvSpPr>
          <p:cNvPr id="1959" name=""/>
          <p:cNvSpPr/>
          <p:nvPr/>
        </p:nvSpPr>
        <p:spPr>
          <a:xfrm rot="5400000">
            <a:off x="2264760" y="1763640"/>
            <a:ext cx="665280" cy="1090440"/>
          </a:xfrm>
          <a:prstGeom prst="rightArrow">
            <a:avLst>
              <a:gd name="adj1" fmla="val 49926"/>
              <a:gd name="adj2" fmla="val 30500"/>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rot="5400000">
            <a:off x="3090240" y="3543120"/>
            <a:ext cx="665280" cy="1090440"/>
          </a:xfrm>
          <a:prstGeom prst="rightArrow">
            <a:avLst>
              <a:gd name="adj1" fmla="val 49926"/>
              <a:gd name="adj2" fmla="val 30500"/>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35560" y="5592600"/>
            <a:ext cx="1760400" cy="1089360"/>
          </a:xfrm>
          <a:prstGeom prst="roundRect">
            <a:avLst>
              <a:gd name="adj" fmla="val 16667"/>
            </a:avLst>
          </a:prstGeom>
          <a:solidFill>
            <a:srgbClr val="ffba00"/>
          </a:solidFill>
          <a:ln w="9360">
            <a:solidFill>
              <a:srgbClr val="00005e"/>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962" name=""/>
          <p:cNvSpPr/>
          <p:nvPr/>
        </p:nvSpPr>
        <p:spPr>
          <a:xfrm>
            <a:off x="3886200" y="5468760"/>
            <a:ext cx="541440" cy="1090800"/>
          </a:xfrm>
          <a:prstGeom prst="rightArrow">
            <a:avLst>
              <a:gd name="adj1" fmla="val 49926"/>
              <a:gd name="adj2" fmla="val 30500"/>
            </a:avLst>
          </a:prstGeom>
          <a:solidFill>
            <a:srgbClr val="fa0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454800" y="3630600"/>
            <a:ext cx="2286000" cy="1652760"/>
          </a:xfrm>
          <a:prstGeom prst="ellipse">
            <a:avLst/>
          </a:prstGeom>
          <a:solidFill>
            <a:srgbClr val="00005e"/>
          </a:solidFill>
          <a:ln w="12600">
            <a:solidFill>
              <a:srgbClr val="0000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W3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Standardization</a:t>
            </a:r>
            <a:endParaRPr b="0" lang="en-US" sz="2400" spc="-1" strike="noStrike">
              <a:solidFill>
                <a:srgbClr val="000000"/>
              </a:solidFill>
              <a:latin typeface="Times New Roman"/>
            </a:endParaRPr>
          </a:p>
        </p:txBody>
      </p:sp>
      <p:cxnSp>
        <p:nvCxnSpPr>
          <p:cNvPr id="1964" name=""/>
          <p:cNvCxnSpPr>
            <a:stCxn id="1956" idx="3"/>
            <a:endCxn id="1963" idx="0"/>
          </p:cNvCxnSpPr>
          <p:nvPr/>
        </p:nvCxnSpPr>
        <p:spPr>
          <a:xfrm>
            <a:off x="2962440" y="1430280"/>
            <a:ext cx="4636080" cy="2201040"/>
          </a:xfrm>
          <a:prstGeom prst="bentConnector2">
            <a:avLst/>
          </a:prstGeom>
          <a:ln w="76320">
            <a:solidFill>
              <a:srgbClr val="179c82"/>
            </a:solidFill>
            <a:miter/>
            <a:tailEnd len="sm" type="triangle" w="sm"/>
          </a:ln>
        </p:spPr>
      </p:cxnSp>
      <p:cxnSp>
        <p:nvCxnSpPr>
          <p:cNvPr id="1965" name=""/>
          <p:cNvCxnSpPr>
            <a:stCxn id="1957" idx="3"/>
            <a:endCxn id="1963" idx="1"/>
          </p:cNvCxnSpPr>
          <p:nvPr/>
        </p:nvCxnSpPr>
        <p:spPr>
          <a:xfrm>
            <a:off x="3870000" y="3207960"/>
            <a:ext cx="2919960" cy="664200"/>
          </a:xfrm>
          <a:prstGeom prst="bentConnector2">
            <a:avLst/>
          </a:prstGeom>
          <a:ln w="76320">
            <a:solidFill>
              <a:srgbClr val="179c82"/>
            </a:solidFill>
            <a:miter/>
            <a:tailEnd len="sm" type="triangle" w="sm"/>
          </a:ln>
        </p:spPr>
      </p:cxnSp>
      <p:cxnSp>
        <p:nvCxnSpPr>
          <p:cNvPr id="1966" name=""/>
          <p:cNvCxnSpPr>
            <a:stCxn id="1958" idx="3"/>
            <a:endCxn id="1963" idx="2"/>
          </p:cNvCxnSpPr>
          <p:nvPr/>
        </p:nvCxnSpPr>
        <p:spPr>
          <a:xfrm flipV="1">
            <a:off x="4836960" y="4457160"/>
            <a:ext cx="1618560" cy="516600"/>
          </a:xfrm>
          <a:prstGeom prst="bentConnector3">
            <a:avLst>
              <a:gd name="adj1" fmla="val 49944"/>
            </a:avLst>
          </a:prstGeom>
          <a:ln w="76320">
            <a:solidFill>
              <a:srgbClr val="179c82"/>
            </a:solidFill>
            <a:miter/>
            <a:tailEnd len="sm" type="triangle" w="sm"/>
          </a:ln>
        </p:spPr>
      </p:cxnSp>
      <p:cxnSp>
        <p:nvCxnSpPr>
          <p:cNvPr id="1967" name=""/>
          <p:cNvCxnSpPr>
            <a:stCxn id="1961" idx="3"/>
            <a:endCxn id="1963" idx="4"/>
          </p:cNvCxnSpPr>
          <p:nvPr/>
        </p:nvCxnSpPr>
        <p:spPr>
          <a:xfrm flipV="1">
            <a:off x="6195960" y="5283000"/>
            <a:ext cx="1402560" cy="854640"/>
          </a:xfrm>
          <a:prstGeom prst="bentConnector2">
            <a:avLst/>
          </a:prstGeom>
          <a:ln w="76320">
            <a:solidFill>
              <a:srgbClr val="179c82"/>
            </a:solidFill>
            <a:miter/>
            <a:tailEnd len="sm" type="triangle" w="sm"/>
          </a:ln>
        </p:spPr>
      </p:cxnSp>
      <p:sp>
        <p:nvSpPr>
          <p:cNvPr id="1968" name=""/>
          <p:cNvSpPr/>
          <p:nvPr/>
        </p:nvSpPr>
        <p:spPr>
          <a:xfrm>
            <a:off x="281160" y="4595760"/>
            <a:ext cx="3360600" cy="175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Semantic Underpinnings</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Base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om-B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89880" y="2286000"/>
            <a:ext cx="2683080" cy="137268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Command Support System</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OPES 2000</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dvanced Course Of Action ACTD</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INC21</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oint Center for Lessons Learned</a:t>
            </a:r>
            <a:endParaRPr b="0" lang="en-US" sz="1400" spc="-1" strike="noStrike">
              <a:solidFill>
                <a:srgbClr val="000000"/>
              </a:solidFill>
              <a:latin typeface="Times New Roman"/>
            </a:endParaRPr>
          </a:p>
        </p:txBody>
      </p:sp>
      <p:sp>
        <p:nvSpPr>
          <p:cNvPr id="93" name=""/>
          <p:cNvSpPr/>
          <p:nvPr/>
        </p:nvSpPr>
        <p:spPr>
          <a:xfrm>
            <a:off x="138600" y="2271600"/>
            <a:ext cx="2648160" cy="97668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enter for Army Lessons Learned</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arrior Knowledge Network</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 Mapping Testbed</a:t>
            </a:r>
            <a:endParaRPr b="0" lang="en-US" sz="1400" spc="-1" strike="noStrike">
              <a:solidFill>
                <a:srgbClr val="000000"/>
              </a:solidFill>
              <a:latin typeface="Times New Roman"/>
            </a:endParaRPr>
          </a:p>
        </p:txBody>
      </p:sp>
      <p:sp>
        <p:nvSpPr>
          <p:cNvPr id="94" name=""/>
          <p:cNvSpPr/>
          <p:nvPr/>
        </p:nvSpPr>
        <p:spPr>
          <a:xfrm>
            <a:off x="146520" y="5135400"/>
            <a:ext cx="2443680" cy="118980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peditionary Sensor Grid</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sk Force Web</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avy Lessons Learned System</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avy Warfare On-Line Library</a:t>
            </a:r>
            <a:endParaRPr b="0" lang="en-US" sz="1400" spc="-1" strike="noStrike">
              <a:solidFill>
                <a:srgbClr val="000000"/>
              </a:solidFill>
              <a:latin typeface="Times New Roman"/>
            </a:endParaRPr>
          </a:p>
        </p:txBody>
      </p:sp>
      <p:sp>
        <p:nvSpPr>
          <p:cNvPr id="95" name=""/>
          <p:cNvSpPr/>
          <p:nvPr/>
        </p:nvSpPr>
        <p:spPr>
          <a:xfrm>
            <a:off x="6216480" y="2270160"/>
            <a:ext cx="2665440" cy="140292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oint Battlespace Infosphere</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ater Battle Management Core System</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roadSword</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ir Mobility Command GDSS</a:t>
            </a:r>
            <a:endParaRPr b="0" lang="en-US" sz="1400" spc="-1" strike="noStrike">
              <a:solidFill>
                <a:srgbClr val="000000"/>
              </a:solidFill>
              <a:latin typeface="Times New Roman"/>
            </a:endParaRPr>
          </a:p>
        </p:txBody>
      </p:sp>
      <p:sp>
        <p:nvSpPr>
          <p:cNvPr id="96" name=""/>
          <p:cNvSpPr/>
          <p:nvPr/>
        </p:nvSpPr>
        <p:spPr>
          <a:xfrm>
            <a:off x="3083400" y="5137200"/>
            <a:ext cx="2750040" cy="140292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ir – Ground Combat System</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istance Learning Network</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ogistics Bases Inventory Visibility</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tems Applications On-Line</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ster Header Information On-Line</a:t>
            </a:r>
            <a:endParaRPr b="0" lang="en-US" sz="1400" spc="-1" strike="noStrike">
              <a:solidFill>
                <a:srgbClr val="000000"/>
              </a:solidFill>
              <a:latin typeface="Times New Roman"/>
            </a:endParaRPr>
          </a:p>
        </p:txBody>
      </p:sp>
      <p:pic>
        <p:nvPicPr>
          <p:cNvPr id="97" name="af_clr" descr=""/>
          <p:cNvPicPr/>
          <p:nvPr/>
        </p:nvPicPr>
        <p:blipFill>
          <a:blip r:embed="rId1"/>
          <a:stretch/>
        </p:blipFill>
        <p:spPr>
          <a:xfrm>
            <a:off x="6759720" y="963720"/>
            <a:ext cx="1261800" cy="1261800"/>
          </a:xfrm>
          <a:prstGeom prst="rect">
            <a:avLst/>
          </a:prstGeom>
          <a:ln w="0">
            <a:noFill/>
          </a:ln>
        </p:spPr>
      </p:pic>
      <p:pic>
        <p:nvPicPr>
          <p:cNvPr id="98" name="army_clr" descr=""/>
          <p:cNvPicPr/>
          <p:nvPr/>
        </p:nvPicPr>
        <p:blipFill>
          <a:blip r:embed="rId2"/>
          <a:stretch/>
        </p:blipFill>
        <p:spPr>
          <a:xfrm>
            <a:off x="747720" y="973080"/>
            <a:ext cx="1262160" cy="1262160"/>
          </a:xfrm>
          <a:prstGeom prst="rect">
            <a:avLst/>
          </a:prstGeom>
          <a:ln w="0">
            <a:noFill/>
          </a:ln>
        </p:spPr>
      </p:pic>
      <p:pic>
        <p:nvPicPr>
          <p:cNvPr id="99" name="jcs_clr" descr=""/>
          <p:cNvPicPr/>
          <p:nvPr/>
        </p:nvPicPr>
        <p:blipFill>
          <a:blip r:embed="rId3"/>
          <a:stretch/>
        </p:blipFill>
        <p:spPr>
          <a:xfrm>
            <a:off x="3844800" y="998640"/>
            <a:ext cx="1233720" cy="1261800"/>
          </a:xfrm>
          <a:prstGeom prst="rect">
            <a:avLst/>
          </a:prstGeom>
          <a:ln w="0">
            <a:noFill/>
          </a:ln>
        </p:spPr>
      </p:pic>
      <p:pic>
        <p:nvPicPr>
          <p:cNvPr id="100" name="mc_clr" descr=""/>
          <p:cNvPicPr/>
          <p:nvPr/>
        </p:nvPicPr>
        <p:blipFill>
          <a:blip r:embed="rId4"/>
          <a:stretch/>
        </p:blipFill>
        <p:spPr>
          <a:xfrm>
            <a:off x="3841920" y="3886200"/>
            <a:ext cx="1261800" cy="1262160"/>
          </a:xfrm>
          <a:prstGeom prst="rect">
            <a:avLst/>
          </a:prstGeom>
          <a:ln w="0">
            <a:noFill/>
          </a:ln>
        </p:spPr>
      </p:pic>
      <p:pic>
        <p:nvPicPr>
          <p:cNvPr id="101" name="navy_clr" descr=""/>
          <p:cNvPicPr/>
          <p:nvPr/>
        </p:nvPicPr>
        <p:blipFill>
          <a:blip r:embed="rId5"/>
          <a:stretch/>
        </p:blipFill>
        <p:spPr>
          <a:xfrm>
            <a:off x="712800" y="3873600"/>
            <a:ext cx="1262160" cy="1261800"/>
          </a:xfrm>
          <a:prstGeom prst="rect">
            <a:avLst/>
          </a:prstGeom>
          <a:ln w="0">
            <a:noFill/>
          </a:ln>
        </p:spPr>
      </p:pic>
      <p:sp>
        <p:nvSpPr>
          <p:cNvPr id="102" name=""/>
          <p:cNvSpPr/>
          <p:nvPr/>
        </p:nvSpPr>
        <p:spPr>
          <a:xfrm>
            <a:off x="6209640" y="5154480"/>
            <a:ext cx="2888640" cy="137268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telink</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oint Intelligence Virtual Architecture</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orus</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rypto Analysis Web</a:t>
            </a:r>
            <a:endParaRPr b="0" lang="en-US" sz="1400" spc="-1" strike="noStrike">
              <a:solidFill>
                <a:srgbClr val="000000"/>
              </a:solidFill>
              <a:latin typeface="Times New Roman"/>
            </a:endParaRPr>
          </a:p>
          <a:p>
            <a:pPr marL="112680" indent="-11268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MA Geospatial Engine</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22200" y="75960"/>
            <a:ext cx="8259840" cy="80316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Military Systems are</a:t>
            </a:r>
            <a:br>
              <a:rPr sz="2800"/>
            </a:br>
            <a:r>
              <a:rPr b="1" lang="en-US" sz="2800" spc="-1" strike="noStrike">
                <a:solidFill>
                  <a:srgbClr val="2163ab"/>
                </a:solidFill>
                <a:latin typeface="Arial Black"/>
              </a:rPr>
              <a:t> Moving to the Web</a:t>
            </a:r>
            <a:endParaRPr b="1" lang="en-US" sz="2800" spc="-1" strike="noStrike">
              <a:solidFill>
                <a:srgbClr val="2163ab"/>
              </a:solidFill>
              <a:latin typeface="Arial Black"/>
            </a:endParaRPr>
          </a:p>
        </p:txBody>
      </p:sp>
      <p:pic>
        <p:nvPicPr>
          <p:cNvPr id="104" name="" descr=""/>
          <p:cNvPicPr/>
          <p:nvPr/>
        </p:nvPicPr>
        <p:blipFill>
          <a:blip r:embed="rId6"/>
          <a:stretch/>
        </p:blipFill>
        <p:spPr>
          <a:xfrm>
            <a:off x="6815160" y="3886200"/>
            <a:ext cx="1268280" cy="1268280"/>
          </a:xfrm>
          <a:prstGeom prst="rect">
            <a:avLst/>
          </a:prstGeom>
          <a:ln w="0">
            <a:noFill/>
          </a:ln>
        </p:spPr>
      </p:pic>
      <p:sp>
        <p:nvSpPr>
          <p:cNvPr id="105" name=""/>
          <p:cNvSpPr/>
          <p:nvPr/>
        </p:nvSpPr>
        <p:spPr>
          <a:xfrm>
            <a:off x="2855880" y="2279520"/>
            <a:ext cx="344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Joint</a:t>
            </a:r>
            <a:r>
              <a:rPr b="1" lang="en-US" sz="1600" spc="-1" strike="noStrike">
                <a:solidFill>
                  <a:srgbClr val="000000"/>
                </a:solidFill>
                <a:latin typeface="Arial Narrow"/>
              </a:rPr>
              <a:t> </a:t>
            </a:r>
            <a:r>
              <a:rPr b="1" lang="en-US" sz="1600" spc="-1" strike="noStrike">
                <a:solidFill>
                  <a:srgbClr val="fa0f33"/>
                </a:solidFill>
                <a:latin typeface="Arial Narrow"/>
              </a:rPr>
              <a:t>Global Command &amp; Control System</a:t>
            </a:r>
            <a:endParaRPr b="0" lang="en-US" sz="1600" spc="-1" strike="noStrike">
              <a:solidFill>
                <a:srgbClr val="000000"/>
              </a:solidFill>
              <a:latin typeface="Times New Roman"/>
            </a:endParaRPr>
          </a:p>
        </p:txBody>
      </p:sp>
      <p:sp>
        <p:nvSpPr>
          <p:cNvPr id="106" name=""/>
          <p:cNvSpPr/>
          <p:nvPr/>
        </p:nvSpPr>
        <p:spPr>
          <a:xfrm>
            <a:off x="3994560" y="515772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Marines</a:t>
            </a:r>
            <a:endParaRPr b="0" lang="en-US" sz="1600" spc="-1" strike="noStrike">
              <a:solidFill>
                <a:srgbClr val="000000"/>
              </a:solidFill>
              <a:latin typeface="Times New Roman"/>
            </a:endParaRPr>
          </a:p>
        </p:txBody>
      </p:sp>
      <p:sp>
        <p:nvSpPr>
          <p:cNvPr id="107" name=""/>
          <p:cNvSpPr/>
          <p:nvPr/>
        </p:nvSpPr>
        <p:spPr>
          <a:xfrm>
            <a:off x="6476760" y="514980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Intelligence Community</a:t>
            </a:r>
            <a:endParaRPr b="0" lang="en-US" sz="1600" spc="-1" strike="noStrike">
              <a:solidFill>
                <a:srgbClr val="000000"/>
              </a:solidFill>
              <a:latin typeface="Times New Roman"/>
            </a:endParaRPr>
          </a:p>
        </p:txBody>
      </p:sp>
      <p:sp>
        <p:nvSpPr>
          <p:cNvPr id="108" name=""/>
          <p:cNvSpPr/>
          <p:nvPr/>
        </p:nvSpPr>
        <p:spPr>
          <a:xfrm>
            <a:off x="992520" y="5157720"/>
            <a:ext cx="5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Navy</a:t>
            </a:r>
            <a:endParaRPr b="0" lang="en-US" sz="1600" spc="-1" strike="noStrike">
              <a:solidFill>
                <a:srgbClr val="000000"/>
              </a:solidFill>
              <a:latin typeface="Times New Roman"/>
            </a:endParaRPr>
          </a:p>
        </p:txBody>
      </p:sp>
      <p:sp>
        <p:nvSpPr>
          <p:cNvPr id="109" name=""/>
          <p:cNvSpPr/>
          <p:nvPr/>
        </p:nvSpPr>
        <p:spPr>
          <a:xfrm>
            <a:off x="993960" y="2279520"/>
            <a:ext cx="6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Army</a:t>
            </a:r>
            <a:endParaRPr b="0" lang="en-US" sz="1600" spc="-1" strike="noStrike">
              <a:solidFill>
                <a:srgbClr val="000000"/>
              </a:solidFill>
              <a:latin typeface="Times New Roman"/>
            </a:endParaRPr>
          </a:p>
        </p:txBody>
      </p:sp>
      <p:sp>
        <p:nvSpPr>
          <p:cNvPr id="110" name=""/>
          <p:cNvSpPr/>
          <p:nvPr/>
        </p:nvSpPr>
        <p:spPr>
          <a:xfrm>
            <a:off x="6948720" y="2289240"/>
            <a:ext cx="91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0f33"/>
                </a:solidFill>
                <a:latin typeface="Arial Narrow"/>
              </a:rPr>
              <a:t>Air For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304560"/>
            <a:ext cx="777240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Transition Process</a:t>
            </a:r>
            <a:endParaRPr b="1" lang="en-US" sz="2800" spc="-1" strike="noStrike">
              <a:solidFill>
                <a:srgbClr val="2163ab"/>
              </a:solidFill>
              <a:latin typeface="Arial Black"/>
            </a:endParaRPr>
          </a:p>
        </p:txBody>
      </p:sp>
      <p:sp>
        <p:nvSpPr>
          <p:cNvPr id="1970" name=""/>
          <p:cNvSpPr/>
          <p:nvPr/>
        </p:nvSpPr>
        <p:spPr>
          <a:xfrm>
            <a:off x="522360" y="1606680"/>
            <a:ext cx="1676160" cy="1066680"/>
          </a:xfrm>
          <a:prstGeom prst="rect">
            <a:avLst/>
          </a:prstGeom>
          <a:solidFill>
            <a:srgbClr val="2163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ML</a:t>
            </a:r>
            <a:endParaRPr b="0" lang="en-US" sz="2000" spc="-1" strike="noStrike">
              <a:solidFill>
                <a:srgbClr val="000000"/>
              </a:solidFill>
              <a:latin typeface="Times New Roman"/>
            </a:endParaRPr>
          </a:p>
        </p:txBody>
      </p:sp>
      <p:sp>
        <p:nvSpPr>
          <p:cNvPr id="1971" name=""/>
          <p:cNvSpPr/>
          <p:nvPr/>
        </p:nvSpPr>
        <p:spPr>
          <a:xfrm>
            <a:off x="417600" y="3581280"/>
            <a:ext cx="2552760" cy="1793880"/>
          </a:xfrm>
          <a:prstGeom prst="rect">
            <a:avLst/>
          </a:prstGeom>
          <a:solidFill>
            <a:srgbClr val="94bde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Requirements)</a:t>
            </a:r>
            <a:endParaRPr b="0" lang="en-US" sz="1800" spc="-1" strike="noStrike">
              <a:solidFill>
                <a:srgbClr val="000000"/>
              </a:solidFill>
              <a:latin typeface="Times New Roman"/>
            </a:endParaRPr>
          </a:p>
        </p:txBody>
      </p:sp>
      <p:sp>
        <p:nvSpPr>
          <p:cNvPr id="1972" name=""/>
          <p:cNvSpPr/>
          <p:nvPr/>
        </p:nvSpPr>
        <p:spPr>
          <a:xfrm>
            <a:off x="3746520" y="2768760"/>
            <a:ext cx="4937040" cy="2643120"/>
          </a:xfrm>
          <a:prstGeom prst="rect">
            <a:avLst/>
          </a:prstGeom>
          <a:solidFill>
            <a:srgbClr val="e8f1fa"/>
          </a:solidFill>
          <a:ln w="0">
            <a:noFill/>
          </a:ln>
        </p:spPr>
        <p:style>
          <a:lnRef idx="0"/>
          <a:fillRef idx="0"/>
          <a:effectRef idx="0"/>
          <a:fontRef idx="minor"/>
        </p:style>
        <p:txBody>
          <a:bodyPr wrap="none" lIns="90000" rIns="90000" tIns="46800" bIns="46800" anchor="ctr">
            <a:noAutofit/>
          </a:bodyPr>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ink Management Office: Horus</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y: Expeditionary Sensor Grid</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Force: Foreign Clearance Guide</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y: Center for Lessons Learned</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y: Warrior Knowledge Network</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OM: Global Transportation Network</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Force: Joint Battlespace Infosphere</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y: Task Force Web</a:t>
            </a:r>
            <a:endParaRPr b="0" lang="en-US" sz="1800" spc="-1" strike="noStrike">
              <a:solidFill>
                <a:srgbClr val="000000"/>
              </a:solidFill>
              <a:latin typeface="Times New Roman"/>
            </a:endParaRPr>
          </a:p>
        </p:txBody>
      </p:sp>
      <p:sp>
        <p:nvSpPr>
          <p:cNvPr id="1973" name=""/>
          <p:cNvSpPr/>
          <p:nvPr/>
        </p:nvSpPr>
        <p:spPr>
          <a:xfrm>
            <a:off x="5359320" y="2717640"/>
            <a:ext cx="17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D Projects</a:t>
            </a:r>
            <a:endParaRPr b="0" lang="en-US" sz="2000" spc="-1" strike="noStrike">
              <a:solidFill>
                <a:srgbClr val="000000"/>
              </a:solidFill>
              <a:latin typeface="Times New Roman"/>
            </a:endParaRPr>
          </a:p>
        </p:txBody>
      </p:sp>
      <p:sp>
        <p:nvSpPr>
          <p:cNvPr id="1974" name=""/>
          <p:cNvSpPr/>
          <p:nvPr/>
        </p:nvSpPr>
        <p:spPr>
          <a:xfrm rot="5400000">
            <a:off x="874800" y="2681280"/>
            <a:ext cx="884160" cy="912960"/>
          </a:xfrm>
          <a:custGeom>
            <a:avLst/>
            <a:gdLst>
              <a:gd name="textAreaLeft" fmla="*/ 137880 w 884160"/>
              <a:gd name="textAreaRight" fmla="*/ 773640 w 884160"/>
              <a:gd name="textAreaTop" fmla="*/ 228240 h 912960"/>
              <a:gd name="textAreaBottom" fmla="*/ 684720 h 912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163ab"/>
              </a:gs>
              <a:gs pos="100000">
                <a:srgbClr val="94bdeb"/>
              </a:gs>
            </a:gsLst>
            <a:lin ang="54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2981160" y="4327560"/>
            <a:ext cx="827280" cy="743040"/>
          </a:xfrm>
          <a:custGeom>
            <a:avLst/>
            <a:gdLst>
              <a:gd name="textAreaLeft" fmla="*/ 129240 w 827280"/>
              <a:gd name="textAreaRight" fmla="*/ 723960 w 827280"/>
              <a:gd name="textAreaTop" fmla="*/ 185760 h 743040"/>
              <a:gd name="textAreaBottom" fmla="*/ 557280 h 743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8f1fa"/>
              </a:gs>
              <a:gs pos="100000">
                <a:srgbClr val="94bdeb"/>
              </a:gs>
            </a:gsLst>
            <a:lin ang="10800000"/>
          </a:gra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37120" y="3648240"/>
            <a:ext cx="2329560" cy="1109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L</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antic Web for</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litary Users</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erences</a:t>
            </a:r>
            <a:endParaRPr b="0" lang="en-US" sz="2000" spc="-1" strike="noStrike">
              <a:solidFill>
                <a:srgbClr val="000000"/>
              </a:solidFill>
              <a:latin typeface="Times New Roman"/>
            </a:endParaRPr>
          </a:p>
        </p:txBody>
      </p:sp>
      <p:sp>
        <p:nvSpPr>
          <p:cNvPr id="1977" name=""/>
          <p:cNvSpPr/>
          <p:nvPr/>
        </p:nvSpPr>
        <p:spPr>
          <a:xfrm>
            <a:off x="2764080" y="1095480"/>
            <a:ext cx="4978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3ab"/>
                </a:solidFill>
                <a:latin typeface="Times New Roman"/>
              </a:rPr>
              <a:t>Focal Point for Military Early Adopters</a:t>
            </a:r>
            <a:endParaRPr b="0" lang="en-US" sz="2000" spc="-1" strike="noStrike">
              <a:solidFill>
                <a:srgbClr val="000000"/>
              </a:solidFill>
              <a:latin typeface="Times New Roman"/>
            </a:endParaRPr>
          </a:p>
          <a:p>
            <a:pPr>
              <a:buClr>
                <a:srgbClr val="2163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3ab"/>
                </a:solidFill>
                <a:latin typeface="Times New Roman"/>
              </a:rPr>
              <a:t>60 Attendees at First Conference</a:t>
            </a:r>
            <a:endParaRPr b="0" lang="en-US" sz="2000" spc="-1" strike="noStrike">
              <a:solidFill>
                <a:srgbClr val="000000"/>
              </a:solidFill>
              <a:latin typeface="Times New Roman"/>
            </a:endParaRPr>
          </a:p>
          <a:p>
            <a:pPr>
              <a:buClr>
                <a:srgbClr val="2163a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63ab"/>
                </a:solidFill>
                <a:latin typeface="Times New Roman"/>
              </a:rPr>
              <a:t>100 Expected at 2</a:t>
            </a:r>
            <a:r>
              <a:rPr b="0" lang="en-US" sz="2000" spc="-1" strike="noStrike" baseline="30000">
                <a:solidFill>
                  <a:srgbClr val="2163ab"/>
                </a:solidFill>
                <a:latin typeface="Times New Roman"/>
              </a:rPr>
              <a:t>nd</a:t>
            </a:r>
            <a:r>
              <a:rPr b="0" lang="en-US" sz="2000" spc="-1" strike="noStrike">
                <a:solidFill>
                  <a:srgbClr val="2163ab"/>
                </a:solidFill>
                <a:latin typeface="Times New Roman"/>
              </a:rPr>
              <a:t> Conference on 13-14 No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657360" y="290520"/>
            <a:ext cx="777240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Horus</a:t>
            </a:r>
            <a:endParaRPr b="1" lang="en-US" sz="2800" spc="-1" strike="noStrike">
              <a:solidFill>
                <a:srgbClr val="2163ab"/>
              </a:solidFill>
              <a:latin typeface="Arial Black"/>
            </a:endParaRPr>
          </a:p>
        </p:txBody>
      </p:sp>
      <p:pic>
        <p:nvPicPr>
          <p:cNvPr id="1979" name="" descr=""/>
          <p:cNvPicPr/>
          <p:nvPr/>
        </p:nvPicPr>
        <p:blipFill>
          <a:blip r:embed="rId1"/>
          <a:stretch/>
        </p:blipFill>
        <p:spPr>
          <a:xfrm>
            <a:off x="452520" y="1006560"/>
            <a:ext cx="8181720" cy="5175000"/>
          </a:xfrm>
          <a:prstGeom prst="rect">
            <a:avLst/>
          </a:prstGeom>
          <a:ln w="0">
            <a:noFill/>
          </a:ln>
        </p:spPr>
      </p:pic>
      <p:sp>
        <p:nvSpPr>
          <p:cNvPr id="1980" name=""/>
          <p:cNvSpPr/>
          <p:nvPr/>
        </p:nvSpPr>
        <p:spPr>
          <a:xfrm>
            <a:off x="449280" y="5931000"/>
            <a:ext cx="4876920" cy="63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272880" y="5475240"/>
            <a:ext cx="5107320" cy="55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68440" y="5678640"/>
            <a:ext cx="4551120" cy="711720"/>
          </a:xfrm>
          <a:prstGeom prst="roundRect">
            <a:avLst>
              <a:gd name="adj" fmla="val 16667"/>
            </a:avLst>
          </a:prstGeom>
          <a:gradFill rotWithShape="0">
            <a:gsLst>
              <a:gs pos="0">
                <a:srgbClr val="94bdeb"/>
              </a:gs>
              <a:gs pos="100000">
                <a:srgbClr val="e3edf9"/>
              </a:gs>
            </a:gsLst>
            <a:lin ang="135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O paid half in FY 00, FY 01 and FY02 ~ $1.5M each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233280" y="1658880"/>
            <a:ext cx="8678880" cy="47181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Intelink Transition</a:t>
            </a:r>
            <a:endParaRPr b="1" lang="en-US" sz="2800" spc="-1" strike="noStrike">
              <a:solidFill>
                <a:srgbClr val="2163ab"/>
              </a:solidFill>
              <a:latin typeface="Arial Black"/>
            </a:endParaRPr>
          </a:p>
        </p:txBody>
      </p:sp>
      <p:sp>
        <p:nvSpPr>
          <p:cNvPr id="1985" name="PlaceHolder 2"/>
          <p:cNvSpPr>
            <a:spLocks noGrp="1"/>
          </p:cNvSpPr>
          <p:nvPr>
            <p:ph/>
          </p:nvPr>
        </p:nvSpPr>
        <p:spPr>
          <a:xfrm>
            <a:off x="281160" y="1459080"/>
            <a:ext cx="8308800" cy="3851280"/>
          </a:xfrm>
          <a:prstGeom prst="rect">
            <a:avLst/>
          </a:prstGeom>
          <a:noFill/>
          <a:ln w="0">
            <a:noFill/>
          </a:ln>
        </p:spPr>
        <p:txBody>
          <a:bodyPr lIns="46080" rIns="46080" tIns="46080" bIns="46080" anchor="t">
            <a:normAutofit/>
          </a:bodyPr>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ink has 150K users and expects 400K users by end of 2002</a:t>
            </a:r>
            <a:endParaRPr b="1" lang="en-US" sz="20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rolled testbed, effectively a microcosm of the WWW</a:t>
            </a:r>
            <a:endParaRPr b="1" lang="en-US" sz="18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quick military transition of emerging DAML technologies</a:t>
            </a:r>
            <a:endParaRPr b="1" lang="en-US" sz="18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otes from Intelink Management Office (IMO) Conference</a:t>
            </a:r>
            <a:endParaRPr b="1" lang="en-US" sz="20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errific New Alliance With DARPA”</a:t>
            </a:r>
            <a:endParaRPr b="1" lang="en-US" sz="18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O Has Linked to DARPA’s DAML Program</a:t>
            </a:r>
            <a:endParaRPr b="1" lang="en-US" sz="1800" spc="-1" strike="noStrike">
              <a:solidFill>
                <a:srgbClr val="000000"/>
              </a:solidFill>
              <a:latin typeface="Arial"/>
            </a:endParaRPr>
          </a:p>
          <a:p>
            <a:pPr lvl="2" marL="907920" indent="-222120">
              <a:lnSpc>
                <a:spcPts val="1800"/>
              </a:lnSpc>
              <a:spcBef>
                <a:spcPts val="300"/>
              </a:spcBef>
              <a:spcAft>
                <a:spcPts val="300"/>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 Berners-Lee, Ralph Swick etc (The “A” team)”</a:t>
            </a:r>
            <a:endParaRPr b="1" lang="en-US" sz="16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Large Opportunity For Web Technologies</a:t>
            </a:r>
            <a:endParaRPr b="1" lang="en-US" sz="1800" spc="-1" strike="noStrike">
              <a:solidFill>
                <a:srgbClr val="000000"/>
              </a:solidFill>
              <a:latin typeface="Arial"/>
            </a:endParaRPr>
          </a:p>
          <a:p>
            <a:pPr lvl="2" marL="907920" indent="-222120">
              <a:lnSpc>
                <a:spcPts val="1800"/>
              </a:lnSpc>
              <a:spcBef>
                <a:spcPts val="300"/>
              </a:spcBef>
              <a:spcAft>
                <a:spcPts val="300"/>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Models On Internet</a:t>
            </a:r>
            <a:endParaRPr b="1" lang="en-US" sz="1600" spc="-1" strike="noStrike">
              <a:solidFill>
                <a:srgbClr val="000000"/>
              </a:solidFill>
              <a:latin typeface="Arial"/>
            </a:endParaRPr>
          </a:p>
          <a:p>
            <a:pPr lvl="2" marL="907920" indent="-222120">
              <a:lnSpc>
                <a:spcPts val="1800"/>
              </a:lnSpc>
              <a:spcBef>
                <a:spcPts val="300"/>
              </a:spcBef>
              <a:spcAft>
                <a:spcPts val="300"/>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We Can Develop With DARP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Cloud"/>
          <p:cNvSpPr/>
          <p:nvPr/>
        </p:nvSpPr>
        <p:spPr>
          <a:xfrm rot="16526400">
            <a:off x="6291000" y="2822040"/>
            <a:ext cx="2381400" cy="2502000"/>
          </a:xfrm>
          <a:prstGeom prst="pie">
            <a:avLst/>
          </a:prstGeom>
          <a:gradFill rotWithShape="0">
            <a:gsLst>
              <a:gs pos="0">
                <a:srgbClr val="fefefe"/>
              </a:gs>
              <a:gs pos="100000">
                <a:srgbClr val="94bdeb"/>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Cloud"/>
          <p:cNvSpPr/>
          <p:nvPr/>
        </p:nvSpPr>
        <p:spPr>
          <a:xfrm rot="326400">
            <a:off x="4316400" y="2448000"/>
            <a:ext cx="3941640" cy="2857320"/>
          </a:xfrm>
          <a:prstGeom prst="pie">
            <a:avLst/>
          </a:prstGeom>
          <a:gradFill rotWithShape="0">
            <a:gsLst>
              <a:gs pos="0">
                <a:srgbClr val="fefefe"/>
              </a:gs>
              <a:gs pos="100000">
                <a:srgbClr val="94bdeb"/>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312840" y="1665360"/>
            <a:ext cx="3463920" cy="3757680"/>
          </a:xfrm>
          <a:prstGeom prst="rect">
            <a:avLst/>
          </a:prstGeom>
          <a:gradFill rotWithShape="0">
            <a:gsLst>
              <a:gs pos="0">
                <a:srgbClr val="a7c1dd"/>
              </a:gs>
              <a:gs pos="100000">
                <a:srgbClr val="2163a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06080" y="1228680"/>
            <a:ext cx="328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L LAB @ DARPA TIC</a:t>
            </a:r>
            <a:endParaRPr b="0" lang="en-US" sz="2000" spc="-1" strike="noStrike">
              <a:solidFill>
                <a:srgbClr val="000000"/>
              </a:solidFill>
              <a:latin typeface="Times New Roman"/>
            </a:endParaRPr>
          </a:p>
        </p:txBody>
      </p:sp>
      <p:sp>
        <p:nvSpPr>
          <p:cNvPr id="1990" name=""/>
          <p:cNvSpPr/>
          <p:nvPr/>
        </p:nvSpPr>
        <p:spPr>
          <a:xfrm>
            <a:off x="5565960" y="346860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a:t>
            </a:r>
            <a:endParaRPr b="0" lang="en-US" sz="3200" spc="-1" strike="noStrike">
              <a:solidFill>
                <a:srgbClr val="000000"/>
              </a:solidFill>
              <a:latin typeface="Times New Roman"/>
            </a:endParaRPr>
          </a:p>
        </p:txBody>
      </p:sp>
      <p:pic>
        <p:nvPicPr>
          <p:cNvPr id="1991" name="4345" descr=""/>
          <p:cNvPicPr/>
          <p:nvPr/>
        </p:nvPicPr>
        <p:blipFill>
          <a:blip r:embed="rId1"/>
          <a:stretch/>
        </p:blipFill>
        <p:spPr>
          <a:xfrm>
            <a:off x="422280" y="1862280"/>
            <a:ext cx="669960" cy="1376280"/>
          </a:xfrm>
          <a:prstGeom prst="rect">
            <a:avLst/>
          </a:prstGeom>
          <a:ln w="0">
            <a:noFill/>
          </a:ln>
        </p:spPr>
      </p:pic>
      <p:sp>
        <p:nvSpPr>
          <p:cNvPr id="1992" name=""/>
          <p:cNvSpPr/>
          <p:nvPr/>
        </p:nvSpPr>
        <p:spPr>
          <a:xfrm>
            <a:off x="1598400" y="1833480"/>
            <a:ext cx="1794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0f33"/>
                </a:solidFill>
                <a:uFillTx/>
                <a:latin typeface="Arial"/>
                <a:hlinkClick r:id="rId2"/>
              </a:rPr>
              <a:t>www.daml.o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aml.net</a:t>
            </a:r>
            <a:endParaRPr b="0" lang="en-US" sz="2000" spc="-1" strike="noStrike">
              <a:solidFill>
                <a:srgbClr val="000000"/>
              </a:solidFill>
              <a:latin typeface="Times New Roman"/>
            </a:endParaRPr>
          </a:p>
        </p:txBody>
      </p:sp>
      <p:sp>
        <p:nvSpPr>
          <p:cNvPr id="1993" name=""/>
          <p:cNvSpPr/>
          <p:nvPr/>
        </p:nvSpPr>
        <p:spPr>
          <a:xfrm>
            <a:off x="2126160" y="256212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KI</a:t>
            </a:r>
            <a:endParaRPr b="0" lang="en-US" sz="2000" spc="-1" strike="noStrike">
              <a:solidFill>
                <a:srgbClr val="000000"/>
              </a:solidFill>
              <a:latin typeface="Times New Roman"/>
            </a:endParaRPr>
          </a:p>
        </p:txBody>
      </p:sp>
      <p:sp>
        <p:nvSpPr>
          <p:cNvPr id="1994" name=""/>
          <p:cNvSpPr/>
          <p:nvPr/>
        </p:nvSpPr>
        <p:spPr>
          <a:xfrm>
            <a:off x="3271680" y="3251160"/>
            <a:ext cx="1335240" cy="1120680"/>
          </a:xfrm>
          <a:prstGeom prst="leftRightArrow">
            <a:avLst>
              <a:gd name="adj1" fmla="val 48157"/>
              <a:gd name="adj2" fmla="val 35561"/>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20760" y="3395520"/>
            <a:ext cx="3433680" cy="192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 Lists</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er</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Repository</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tology Library</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DAML Newsletters</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tific American Article</a:t>
            </a:r>
            <a:endParaRPr b="0" lang="en-US" sz="2000" spc="-1" strike="noStrike">
              <a:solidFill>
                <a:srgbClr val="000000"/>
              </a:solidFill>
              <a:latin typeface="Times New Roman"/>
            </a:endParaRPr>
          </a:p>
        </p:txBody>
      </p:sp>
      <p:sp>
        <p:nvSpPr>
          <p:cNvPr id="1996" name=""/>
          <p:cNvSpPr/>
          <p:nvPr/>
        </p:nvSpPr>
        <p:spPr>
          <a:xfrm>
            <a:off x="5321160" y="1657440"/>
            <a:ext cx="3256200" cy="398880"/>
          </a:xfrm>
          <a:prstGeom prst="rect">
            <a:avLst/>
          </a:prstGeom>
          <a:solidFill>
            <a:srgbClr val="2163a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 DAML Research Teams</a:t>
            </a:r>
            <a:endParaRPr b="0" lang="en-US" sz="2000" spc="-1" strike="noStrike">
              <a:solidFill>
                <a:srgbClr val="000000"/>
              </a:solidFill>
              <a:latin typeface="Times New Roman"/>
            </a:endParaRPr>
          </a:p>
        </p:txBody>
      </p:sp>
      <p:sp>
        <p:nvSpPr>
          <p:cNvPr id="1997" name=""/>
          <p:cNvSpPr/>
          <p:nvPr/>
        </p:nvSpPr>
        <p:spPr>
          <a:xfrm>
            <a:off x="3795120" y="5454720"/>
            <a:ext cx="535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0f33"/>
                </a:solidFill>
                <a:latin typeface="Arial"/>
              </a:rPr>
              <a:t>Lots of Interest From the Rest of the Worl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0f33"/>
                </a:solidFill>
                <a:latin typeface="Arial"/>
              </a:rPr>
              <a:t>(Almost Two Million Hits)</a:t>
            </a:r>
            <a:endParaRPr b="0" lang="en-US" sz="2000" spc="-1" strike="noStrike">
              <a:solidFill>
                <a:srgbClr val="000000"/>
              </a:solidFill>
              <a:latin typeface="Times New Roman"/>
            </a:endParaRPr>
          </a:p>
        </p:txBody>
      </p:sp>
      <p:sp>
        <p:nvSpPr>
          <p:cNvPr id="199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Getting the Word Out</a:t>
            </a:r>
            <a:endParaRPr b="1" lang="en-US" sz="2800" spc="-1" strike="noStrike">
              <a:solidFill>
                <a:srgbClr val="2163ab"/>
              </a:solidFill>
              <a:latin typeface="Arial Black"/>
            </a:endParaRPr>
          </a:p>
        </p:txBody>
      </p:sp>
      <p:sp>
        <p:nvSpPr>
          <p:cNvPr id="1999" name=""/>
          <p:cNvSpPr/>
          <p:nvPr/>
        </p:nvSpPr>
        <p:spPr>
          <a:xfrm rot="5400000">
            <a:off x="6566040" y="2010240"/>
            <a:ext cx="1006560" cy="979560"/>
          </a:xfrm>
          <a:prstGeom prst="leftRightArrow">
            <a:avLst>
              <a:gd name="adj1" fmla="val 48157"/>
              <a:gd name="adj2" fmla="val 30670"/>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
          <p:cNvSpPr/>
          <p:nvPr/>
        </p:nvSpPr>
        <p:spPr>
          <a:xfrm>
            <a:off x="681120" y="1371600"/>
            <a:ext cx="2266920" cy="4614840"/>
          </a:xfrm>
          <a:custGeom>
            <a:avLst/>
            <a:gdLst>
              <a:gd name="textAreaLeft" fmla="*/ 110520 w 2266920"/>
              <a:gd name="textAreaRight" fmla="*/ 2156400 w 2266920"/>
              <a:gd name="textAreaTop" fmla="*/ 110520 h 4614840"/>
              <a:gd name="textAreaBottom" fmla="*/ 4504320 h 4614840"/>
            </a:gdLst>
            <a:ahLst/>
            <a:rect l="textAreaLeft" t="textAreaTop" r="textAreaRight" b="textAreaBottom"/>
            <a:pathLst>
              <a:path w="21600" h="43968">
                <a:moveTo>
                  <a:pt x="3600" y="0"/>
                </a:moveTo>
                <a:arcTo wR="3600" hR="3600" stAng="16200000" swAng="-5400000"/>
                <a:lnTo>
                  <a:pt x="0" y="40368"/>
                </a:lnTo>
                <a:arcTo wR="3600" hR="3600" stAng="10800000" swAng="-5400000"/>
                <a:lnTo>
                  <a:pt x="18000" y="43968"/>
                </a:lnTo>
                <a:arcTo wR="3600" hR="3600" stAng="5400000" swAng="-5400000"/>
                <a:lnTo>
                  <a:pt x="21600" y="3600"/>
                </a:lnTo>
                <a:arcTo wR="3600" hR="3600" stAng="0" swAng="-5400000"/>
                <a:close/>
              </a:path>
            </a:pathLst>
          </a:cu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023840" y="1636560"/>
            <a:ext cx="1474920" cy="15494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L</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a:t>
            </a:r>
            <a:endParaRPr b="0" lang="en-US" sz="2000" spc="-1" strike="noStrike">
              <a:solidFill>
                <a:srgbClr val="000000"/>
              </a:solidFill>
              <a:latin typeface="Times New Roman"/>
            </a:endParaRPr>
          </a:p>
        </p:txBody>
      </p:sp>
      <p:sp>
        <p:nvSpPr>
          <p:cNvPr id="2002" name=""/>
          <p:cNvSpPr/>
          <p:nvPr/>
        </p:nvSpPr>
        <p:spPr>
          <a:xfrm>
            <a:off x="1001880" y="3443400"/>
            <a:ext cx="1504800" cy="1536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L</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a:t>
            </a:r>
            <a:endParaRPr b="0" lang="en-US" sz="2000" spc="-1" strike="noStrike">
              <a:solidFill>
                <a:srgbClr val="000000"/>
              </a:solidFill>
              <a:latin typeface="Times New Roman"/>
            </a:endParaRPr>
          </a:p>
        </p:txBody>
      </p:sp>
      <p:sp>
        <p:nvSpPr>
          <p:cNvPr id="2003" name=""/>
          <p:cNvSpPr/>
          <p:nvPr/>
        </p:nvSpPr>
        <p:spPr>
          <a:xfrm>
            <a:off x="725400" y="5235480"/>
            <a:ext cx="2167200" cy="6015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L Research Team</a:t>
            </a:r>
            <a:endParaRPr b="0" lang="en-US" sz="2000" spc="-1" strike="noStrike">
              <a:solidFill>
                <a:srgbClr val="000000"/>
              </a:solidFill>
              <a:latin typeface="Times New Roman"/>
            </a:endParaRPr>
          </a:p>
        </p:txBody>
      </p:sp>
      <p:sp>
        <p:nvSpPr>
          <p:cNvPr id="2004" name=""/>
          <p:cNvSpPr/>
          <p:nvPr/>
        </p:nvSpPr>
        <p:spPr>
          <a:xfrm>
            <a:off x="3852720" y="2266920"/>
            <a:ext cx="2089440" cy="3021120"/>
          </a:xfrm>
          <a:prstGeom prst="rect">
            <a:avLst/>
          </a:prstGeom>
          <a:solidFill>
            <a:srgbClr val="2163ab"/>
          </a:solidFill>
          <a:ln w="9360">
            <a:solidFill>
              <a:srgbClr val="c0c0c0"/>
            </a:solidFill>
            <a:miter/>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ML</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d</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monstration</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 </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t>
            </a:r>
            <a:endParaRPr b="0" lang="en-US" sz="2000" spc="-1" strike="noStrike">
              <a:solidFill>
                <a:srgbClr val="000000"/>
              </a:solidFill>
              <a:latin typeface="Times New Roman"/>
            </a:endParaRPr>
          </a:p>
        </p:txBody>
      </p:sp>
      <p:sp>
        <p:nvSpPr>
          <p:cNvPr id="2005" name=""/>
          <p:cNvSpPr/>
          <p:nvPr/>
        </p:nvSpPr>
        <p:spPr>
          <a:xfrm>
            <a:off x="2938320" y="3083040"/>
            <a:ext cx="914400" cy="738000"/>
          </a:xfrm>
          <a:prstGeom prst="rightArrow">
            <a:avLst>
              <a:gd name="adj1" fmla="val 50000"/>
              <a:gd name="adj2" fmla="val 30976"/>
            </a:avLst>
          </a:prstGeom>
          <a:gradFill rotWithShape="0">
            <a:gsLst>
              <a:gs pos="0">
                <a:srgbClr val="2163ab"/>
              </a:gs>
              <a:gs pos="100000">
                <a:srgbClr val="ffba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759840" y="1665360"/>
            <a:ext cx="2338560" cy="601560"/>
          </a:xfrm>
          <a:prstGeom prst="rect">
            <a:avLst/>
          </a:prstGeom>
          <a:noFill/>
          <a:ln w="0">
            <a:noFill/>
          </a:ln>
        </p:spPr>
        <p:style>
          <a:lnRef idx="0"/>
          <a:fillRef idx="0"/>
          <a:effectRef idx="0"/>
          <a:fontRef idx="minor"/>
        </p:style>
        <p:txBody>
          <a:bodyPr wrap="none"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s in</a:t>
            </a:r>
            <a:endParaRPr b="0" lang="en-US" sz="18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nd September</a:t>
            </a:r>
            <a:endParaRPr b="0" lang="en-US" sz="1800" spc="-1" strike="noStrike">
              <a:solidFill>
                <a:srgbClr val="000000"/>
              </a:solidFill>
              <a:latin typeface="Times New Roman"/>
            </a:endParaRPr>
          </a:p>
        </p:txBody>
      </p:sp>
      <p:sp>
        <p:nvSpPr>
          <p:cNvPr id="2007" name=""/>
          <p:cNvSpPr/>
          <p:nvPr/>
        </p:nvSpPr>
        <p:spPr>
          <a:xfrm>
            <a:off x="6783480" y="2398680"/>
            <a:ext cx="1552320" cy="717480"/>
          </a:xfrm>
          <a:prstGeom prst="roundRect">
            <a:avLst>
              <a:gd name="adj" fmla="val 16667"/>
            </a:avLst>
          </a:prstGeom>
          <a:gradFill rotWithShape="0">
            <a:gsLst>
              <a:gs pos="0">
                <a:srgbClr val="ccecff"/>
              </a:gs>
              <a:gs pos="100000">
                <a:srgbClr val="2163ab"/>
              </a:gs>
            </a:gsLst>
            <a:lin ang="108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us</a:t>
            </a:r>
            <a:endParaRPr b="0" lang="en-US" sz="1800" spc="-1" strike="noStrike">
              <a:solidFill>
                <a:srgbClr val="000000"/>
              </a:solidFill>
              <a:latin typeface="Times New Roman"/>
            </a:endParaRPr>
          </a:p>
        </p:txBody>
      </p:sp>
      <p:sp>
        <p:nvSpPr>
          <p:cNvPr id="2008" name=""/>
          <p:cNvSpPr/>
          <p:nvPr/>
        </p:nvSpPr>
        <p:spPr>
          <a:xfrm>
            <a:off x="6783480" y="3295800"/>
            <a:ext cx="1552320" cy="703080"/>
          </a:xfrm>
          <a:prstGeom prst="roundRect">
            <a:avLst>
              <a:gd name="adj" fmla="val 16667"/>
            </a:avLst>
          </a:prstGeom>
          <a:gradFill rotWithShape="0">
            <a:gsLst>
              <a:gs pos="0">
                <a:srgbClr val="ccecff"/>
              </a:gs>
              <a:gs pos="100000">
                <a:srgbClr val="2163ab"/>
              </a:gs>
            </a:gsLst>
            <a:lin ang="108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G</a:t>
            </a:r>
            <a:endParaRPr b="0" lang="en-US" sz="1800" spc="-1" strike="noStrike">
              <a:solidFill>
                <a:srgbClr val="000000"/>
              </a:solidFill>
              <a:latin typeface="Times New Roman"/>
            </a:endParaRPr>
          </a:p>
        </p:txBody>
      </p:sp>
      <p:sp>
        <p:nvSpPr>
          <p:cNvPr id="2009" name=""/>
          <p:cNvSpPr/>
          <p:nvPr/>
        </p:nvSpPr>
        <p:spPr>
          <a:xfrm>
            <a:off x="6802560" y="4162320"/>
            <a:ext cx="1552320" cy="723960"/>
          </a:xfrm>
          <a:prstGeom prst="roundRect">
            <a:avLst>
              <a:gd name="adj" fmla="val 16667"/>
            </a:avLst>
          </a:prstGeom>
          <a:gradFill rotWithShape="0">
            <a:gsLst>
              <a:gs pos="0">
                <a:srgbClr val="ccecff"/>
              </a:gs>
              <a:gs pos="100000">
                <a:srgbClr val="2163ab"/>
              </a:gs>
            </a:gsLst>
            <a:lin ang="10800000"/>
          </a:gradFill>
          <a:ln w="9360">
            <a:solidFill>
              <a:srgbClr val="000000"/>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2010" name=""/>
          <p:cNvSpPr/>
          <p:nvPr/>
        </p:nvSpPr>
        <p:spPr>
          <a:xfrm>
            <a:off x="6062760" y="2274840"/>
            <a:ext cx="792000" cy="2789280"/>
          </a:xfrm>
          <a:custGeom>
            <a:avLst/>
            <a:gdLst>
              <a:gd name="textAreaLeft" fmla="*/ 506160 w 792000"/>
              <a:gd name="textAreaRight" fmla="*/ 792360 w 792000"/>
              <a:gd name="textAreaTop" fmla="*/ 72720 h 2789280"/>
              <a:gd name="textAreaBottom" fmla="*/ 2716560 h 278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4947480" y="523548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a:t>
            </a:r>
            <a:endParaRPr b="0" lang="en-US" sz="1800" spc="-1" strike="noStrike">
              <a:solidFill>
                <a:srgbClr val="000000"/>
              </a:solidFill>
              <a:latin typeface="Times New Roman"/>
            </a:endParaRPr>
          </a:p>
        </p:txBody>
      </p:sp>
      <p:sp>
        <p:nvSpPr>
          <p:cNvPr id="2012"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DAML in 2002</a:t>
            </a:r>
            <a:endParaRPr b="1" lang="en-US" sz="2800" spc="-1" strike="noStrike">
              <a:solidFill>
                <a:srgbClr val="2163ab"/>
              </a:solidFill>
              <a:latin typeface="Arial Black"/>
            </a:endParaRPr>
          </a:p>
        </p:txBody>
      </p:sp>
      <p:sp>
        <p:nvSpPr>
          <p:cNvPr id="2013" name=""/>
          <p:cNvSpPr/>
          <p:nvPr/>
        </p:nvSpPr>
        <p:spPr>
          <a:xfrm flipH="1">
            <a:off x="2941560" y="5286240"/>
            <a:ext cx="914400" cy="719280"/>
          </a:xfrm>
          <a:prstGeom prst="rightArrow">
            <a:avLst>
              <a:gd name="adj1" fmla="val 50000"/>
              <a:gd name="adj2" fmla="val 31782"/>
            </a:avLst>
          </a:prstGeom>
          <a:solidFill>
            <a:srgbClr val="ffb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244680" y="5456160"/>
            <a:ext cx="1570320" cy="366840"/>
          </a:xfrm>
          <a:prstGeom prst="rect">
            <a:avLst/>
          </a:prstGeom>
          <a:gradFill rotWithShape="0">
            <a:gsLst>
              <a:gs pos="0">
                <a:srgbClr val="2163ab"/>
              </a:gs>
              <a:gs pos="100000">
                <a:srgbClr val="ffba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21160" y="5284800"/>
            <a:ext cx="395280" cy="179280"/>
          </a:xfrm>
          <a:prstGeom prst="rect">
            <a:avLst/>
          </a:prstGeom>
          <a:solidFill>
            <a:srgbClr val="2163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029400" y="547380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Cloud"/>
          <p:cNvSpPr/>
          <p:nvPr/>
        </p:nvSpPr>
        <p:spPr>
          <a:xfrm rot="326400">
            <a:off x="3200040" y="2209320"/>
            <a:ext cx="2971800" cy="15242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3604680" y="2535120"/>
            <a:ext cx="2091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for de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could be SIPRN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eal application</a:t>
            </a:r>
            <a:endParaRPr b="0" lang="en-US" sz="1600" spc="-1" strike="noStrike">
              <a:solidFill>
                <a:srgbClr val="000000"/>
              </a:solidFill>
              <a:latin typeface="Times New Roman"/>
            </a:endParaRPr>
          </a:p>
        </p:txBody>
      </p:sp>
      <p:sp>
        <p:nvSpPr>
          <p:cNvPr id="2019" name=""/>
          <p:cNvSpPr/>
          <p:nvPr/>
        </p:nvSpPr>
        <p:spPr>
          <a:xfrm>
            <a:off x="4267080" y="609480"/>
            <a:ext cx="106704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ner</a:t>
            </a:r>
            <a:endParaRPr b="0" lang="en-US" sz="1400" spc="-1" strike="noStrike">
              <a:solidFill>
                <a:srgbClr val="000000"/>
              </a:solidFill>
              <a:latin typeface="Times New Roman"/>
            </a:endParaRPr>
          </a:p>
        </p:txBody>
      </p:sp>
      <p:sp>
        <p:nvSpPr>
          <p:cNvPr id="2020" name=""/>
          <p:cNvSpPr/>
          <p:nvPr/>
        </p:nvSpPr>
        <p:spPr>
          <a:xfrm>
            <a:off x="1981080" y="4800600"/>
            <a:ext cx="9907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i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s)</a:t>
            </a:r>
            <a:endParaRPr b="0" lang="en-US" sz="1400" spc="-1" strike="noStrike">
              <a:solidFill>
                <a:srgbClr val="000000"/>
              </a:solidFill>
              <a:latin typeface="Times New Roman"/>
            </a:endParaRPr>
          </a:p>
        </p:txBody>
      </p:sp>
      <p:sp>
        <p:nvSpPr>
          <p:cNvPr id="2021" name=""/>
          <p:cNvSpPr/>
          <p:nvPr/>
        </p:nvSpPr>
        <p:spPr>
          <a:xfrm>
            <a:off x="3048120" y="447840"/>
            <a:ext cx="1066680" cy="115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r Fo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ss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rn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a:t>
            </a:r>
            <a:endParaRPr b="0" lang="en-US" sz="1400" spc="-1" strike="noStrike">
              <a:solidFill>
                <a:srgbClr val="000000"/>
              </a:solidFill>
              <a:latin typeface="Times New Roman"/>
            </a:endParaRPr>
          </a:p>
        </p:txBody>
      </p:sp>
      <p:sp>
        <p:nvSpPr>
          <p:cNvPr id="2022" name=""/>
          <p:cNvSpPr/>
          <p:nvPr/>
        </p:nvSpPr>
        <p:spPr>
          <a:xfrm>
            <a:off x="3581280" y="1600200"/>
            <a:ext cx="7632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24280" y="16002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2514240" y="3505320"/>
            <a:ext cx="1219320" cy="1295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143000" y="2209680"/>
            <a:ext cx="1600200" cy="76212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r Fo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ssons Learn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rkup</a:t>
            </a:r>
            <a:endParaRPr b="0" lang="en-US" sz="1400" spc="-1" strike="noStrike">
              <a:solidFill>
                <a:srgbClr val="000000"/>
              </a:solidFill>
              <a:latin typeface="Times New Roman"/>
            </a:endParaRPr>
          </a:p>
        </p:txBody>
      </p:sp>
      <p:sp>
        <p:nvSpPr>
          <p:cNvPr id="2026" name=""/>
          <p:cNvSpPr/>
          <p:nvPr/>
        </p:nvSpPr>
        <p:spPr>
          <a:xfrm>
            <a:off x="6705720" y="2133720"/>
            <a:ext cx="1371600" cy="91440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r Fo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 Markup</a:t>
            </a:r>
            <a:endParaRPr b="0" lang="en-US" sz="1400" spc="-1" strike="noStrike">
              <a:solidFill>
                <a:srgbClr val="000000"/>
              </a:solidFill>
              <a:latin typeface="Times New Roman"/>
            </a:endParaRPr>
          </a:p>
        </p:txBody>
      </p:sp>
      <p:sp>
        <p:nvSpPr>
          <p:cNvPr id="2027" name=""/>
          <p:cNvSpPr/>
          <p:nvPr/>
        </p:nvSpPr>
        <p:spPr>
          <a:xfrm>
            <a:off x="2700360" y="2638440"/>
            <a:ext cx="533520" cy="152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flipV="1">
            <a:off x="2743200" y="3352680"/>
            <a:ext cx="685800" cy="76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flipV="1">
            <a:off x="6172200" y="2666880"/>
            <a:ext cx="609480" cy="76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0" name=""/>
          <p:cNvSpPr/>
          <p:nvPr/>
        </p:nvSpPr>
        <p:spPr>
          <a:xfrm>
            <a:off x="4724280" y="3733920"/>
            <a:ext cx="0" cy="533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5407200" y="4098960"/>
            <a:ext cx="1371600" cy="106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 &amp; 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ry &amp; Infere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gine</a:t>
            </a:r>
            <a:endParaRPr b="0" lang="en-US" sz="1400" spc="-1" strike="noStrike">
              <a:solidFill>
                <a:srgbClr val="000000"/>
              </a:solidFill>
              <a:latin typeface="Times New Roman"/>
            </a:endParaRPr>
          </a:p>
        </p:txBody>
      </p:sp>
      <p:sp>
        <p:nvSpPr>
          <p:cNvPr id="2032" name=""/>
          <p:cNvSpPr/>
          <p:nvPr/>
        </p:nvSpPr>
        <p:spPr>
          <a:xfrm>
            <a:off x="5659560" y="3576600"/>
            <a:ext cx="309600" cy="507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28600" y="5445000"/>
            <a:ext cx="1685880" cy="946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 Access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ies &amp; content</a:t>
            </a:r>
            <a:endParaRPr b="0" lang="en-US" sz="1400" spc="-1" strike="noStrike">
              <a:solidFill>
                <a:srgbClr val="000000"/>
              </a:solidFill>
              <a:latin typeface="Times New Roman"/>
            </a:endParaRPr>
          </a:p>
        </p:txBody>
      </p:sp>
      <p:sp>
        <p:nvSpPr>
          <p:cNvPr id="2034" name=""/>
          <p:cNvSpPr/>
          <p:nvPr/>
        </p:nvSpPr>
        <p:spPr>
          <a:xfrm>
            <a:off x="3880080" y="5715000"/>
            <a:ext cx="1825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x query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ferenc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plan information</a:t>
            </a:r>
            <a:endParaRPr b="0" lang="en-US" sz="1400" spc="-1" strike="noStrike">
              <a:solidFill>
                <a:srgbClr val="000000"/>
              </a:solidFill>
              <a:latin typeface="Times New Roman"/>
            </a:endParaRPr>
          </a:p>
        </p:txBody>
      </p:sp>
      <p:sp>
        <p:nvSpPr>
          <p:cNvPr id="2035" name=""/>
          <p:cNvSpPr/>
          <p:nvPr/>
        </p:nvSpPr>
        <p:spPr>
          <a:xfrm flipV="1">
            <a:off x="4724280" y="5181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2971800" y="4495680"/>
            <a:ext cx="6858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037" name=""/>
          <p:cNvSpPr/>
          <p:nvPr/>
        </p:nvSpPr>
        <p:spPr>
          <a:xfrm>
            <a:off x="4087800" y="4267080"/>
            <a:ext cx="1219320" cy="61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4185720" y="4305240"/>
            <a:ext cx="11012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itar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DoD User</a:t>
            </a:r>
            <a:endParaRPr b="0" lang="en-US" sz="1400" spc="-1" strike="noStrike">
              <a:solidFill>
                <a:srgbClr val="000000"/>
              </a:solidFill>
              <a:latin typeface="Times New Roman"/>
            </a:endParaRPr>
          </a:p>
        </p:txBody>
      </p:sp>
      <p:sp>
        <p:nvSpPr>
          <p:cNvPr id="2039" name=""/>
          <p:cNvSpPr/>
          <p:nvPr/>
        </p:nvSpPr>
        <p:spPr>
          <a:xfrm>
            <a:off x="4095000" y="4881600"/>
            <a:ext cx="1166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er</a:t>
            </a:r>
            <a:endParaRPr b="0" lang="en-US" sz="1400" spc="-1" strike="noStrike">
              <a:solidFill>
                <a:srgbClr val="000000"/>
              </a:solidFill>
              <a:latin typeface="Times New Roman"/>
            </a:endParaRPr>
          </a:p>
        </p:txBody>
      </p:sp>
      <p:sp>
        <p:nvSpPr>
          <p:cNvPr id="2040" name=""/>
          <p:cNvSpPr/>
          <p:nvPr/>
        </p:nvSpPr>
        <p:spPr>
          <a:xfrm>
            <a:off x="6629400" y="3124080"/>
            <a:ext cx="1371600" cy="83844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fy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LOC)</a:t>
            </a:r>
            <a:endParaRPr b="0" lang="en-US" sz="1400" spc="-1" strike="noStrike">
              <a:solidFill>
                <a:srgbClr val="000000"/>
              </a:solidFill>
              <a:latin typeface="Times New Roman"/>
            </a:endParaRPr>
          </a:p>
        </p:txBody>
      </p:sp>
      <p:sp>
        <p:nvSpPr>
          <p:cNvPr id="2041" name=""/>
          <p:cNvSpPr/>
          <p:nvPr/>
        </p:nvSpPr>
        <p:spPr>
          <a:xfrm>
            <a:off x="6172200" y="3200400"/>
            <a:ext cx="53352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flipV="1">
            <a:off x="3352680" y="3581280"/>
            <a:ext cx="533520" cy="914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3" name=""/>
          <p:cNvGrpSpPr/>
          <p:nvPr/>
        </p:nvGrpSpPr>
        <p:grpSpPr>
          <a:xfrm>
            <a:off x="8001000" y="2895480"/>
            <a:ext cx="685800" cy="1294920"/>
            <a:chOff x="8001000" y="2895480"/>
            <a:chExt cx="685800" cy="1294920"/>
          </a:xfrm>
        </p:grpSpPr>
        <p:grpSp>
          <p:nvGrpSpPr>
            <p:cNvPr id="2044" name=""/>
            <p:cNvGrpSpPr/>
            <p:nvPr/>
          </p:nvGrpSpPr>
          <p:grpSpPr>
            <a:xfrm>
              <a:off x="8381880" y="2895480"/>
              <a:ext cx="304920" cy="380520"/>
              <a:chOff x="8381880" y="2895480"/>
              <a:chExt cx="304920" cy="380520"/>
            </a:xfrm>
          </p:grpSpPr>
          <p:sp>
            <p:nvSpPr>
              <p:cNvPr id="2045" name=""/>
              <p:cNvSpPr/>
              <p:nvPr/>
            </p:nvSpPr>
            <p:spPr>
              <a:xfrm>
                <a:off x="8381880" y="289548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8381880" y="31237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8686800" y="2971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381880" y="2971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8381880" y="3809880"/>
              <a:ext cx="304920" cy="380520"/>
              <a:chOff x="8381880" y="3809880"/>
              <a:chExt cx="304920" cy="380520"/>
            </a:xfrm>
          </p:grpSpPr>
          <p:sp>
            <p:nvSpPr>
              <p:cNvPr id="2050" name=""/>
              <p:cNvSpPr/>
              <p:nvPr/>
            </p:nvSpPr>
            <p:spPr>
              <a:xfrm>
                <a:off x="8381880" y="380988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8381880" y="40381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8686800" y="38858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8381880" y="38858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8381880" y="3352680"/>
              <a:ext cx="304920" cy="380520"/>
              <a:chOff x="8381880" y="3352680"/>
              <a:chExt cx="304920" cy="380520"/>
            </a:xfrm>
          </p:grpSpPr>
          <p:sp>
            <p:nvSpPr>
              <p:cNvPr id="2055" name=""/>
              <p:cNvSpPr/>
              <p:nvPr/>
            </p:nvSpPr>
            <p:spPr>
              <a:xfrm>
                <a:off x="8381880" y="335268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381880" y="35809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686800" y="34286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8381880" y="34286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9" name=""/>
            <p:cNvSpPr/>
            <p:nvPr/>
          </p:nvSpPr>
          <p:spPr>
            <a:xfrm>
              <a:off x="8153280" y="31240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815328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8001000" y="3581280"/>
              <a:ext cx="38088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815328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3" name=""/>
          <p:cNvSpPr/>
          <p:nvPr/>
        </p:nvSpPr>
        <p:spPr>
          <a:xfrm>
            <a:off x="8154000" y="4191120"/>
            <a:ext cx="70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s</a:t>
            </a:r>
            <a:endParaRPr b="0" lang="en-US" sz="1400" spc="-1" strike="noStrike">
              <a:solidFill>
                <a:srgbClr val="000000"/>
              </a:solidFill>
              <a:latin typeface="Times New Roman"/>
            </a:endParaRPr>
          </a:p>
        </p:txBody>
      </p:sp>
      <p:sp>
        <p:nvSpPr>
          <p:cNvPr id="2064" name=""/>
          <p:cNvSpPr/>
          <p:nvPr/>
        </p:nvSpPr>
        <p:spPr>
          <a:xfrm>
            <a:off x="3657600" y="464832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5" name=""/>
          <p:cNvGrpSpPr/>
          <p:nvPr/>
        </p:nvGrpSpPr>
        <p:grpSpPr>
          <a:xfrm>
            <a:off x="152280" y="2362320"/>
            <a:ext cx="2590920" cy="2133000"/>
            <a:chOff x="152280" y="2362320"/>
            <a:chExt cx="2590920" cy="2133000"/>
          </a:xfrm>
        </p:grpSpPr>
        <p:sp>
          <p:nvSpPr>
            <p:cNvPr id="2066" name=""/>
            <p:cNvSpPr/>
            <p:nvPr/>
          </p:nvSpPr>
          <p:spPr>
            <a:xfrm flipH="1">
              <a:off x="76176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7" name=""/>
            <p:cNvGrpSpPr/>
            <p:nvPr/>
          </p:nvGrpSpPr>
          <p:grpSpPr>
            <a:xfrm>
              <a:off x="152280" y="2362320"/>
              <a:ext cx="2590920" cy="2133000"/>
              <a:chOff x="152280" y="2362320"/>
              <a:chExt cx="2590920" cy="2133000"/>
            </a:xfrm>
          </p:grpSpPr>
          <p:sp>
            <p:nvSpPr>
              <p:cNvPr id="2068" name=""/>
              <p:cNvSpPr/>
              <p:nvPr/>
            </p:nvSpPr>
            <p:spPr>
              <a:xfrm>
                <a:off x="1371600" y="3047760"/>
                <a:ext cx="1371600" cy="76176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a:t>
                </a:r>
                <a:endParaRPr b="0" lang="en-US" sz="1400" spc="-1" strike="noStrike">
                  <a:solidFill>
                    <a:srgbClr val="000000"/>
                  </a:solidFill>
                  <a:latin typeface="Times New Roman"/>
                </a:endParaRPr>
              </a:p>
            </p:txBody>
          </p:sp>
          <p:sp>
            <p:nvSpPr>
              <p:cNvPr id="2069" name=""/>
              <p:cNvSpPr/>
              <p:nvPr/>
            </p:nvSpPr>
            <p:spPr>
              <a:xfrm>
                <a:off x="152280" y="2362320"/>
                <a:ext cx="609480" cy="609120"/>
              </a:xfrm>
              <a:prstGeom prst="rect">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a:t>
                </a:r>
                <a:endParaRPr b="0" lang="en-US" sz="1400" spc="-1" strike="noStrike">
                  <a:solidFill>
                    <a:srgbClr val="000000"/>
                  </a:solidFill>
                  <a:latin typeface="Times New Roman"/>
                </a:endParaRPr>
              </a:p>
            </p:txBody>
          </p:sp>
          <p:sp>
            <p:nvSpPr>
              <p:cNvPr id="2070" name=""/>
              <p:cNvSpPr/>
              <p:nvPr/>
            </p:nvSpPr>
            <p:spPr>
              <a:xfrm>
                <a:off x="152280" y="3124080"/>
                <a:ext cx="609480" cy="609120"/>
              </a:xfrm>
              <a:prstGeom prst="rect">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a:t>
                </a:r>
                <a:endParaRPr b="0" lang="en-US" sz="1400" spc="-1" strike="noStrike">
                  <a:solidFill>
                    <a:srgbClr val="000000"/>
                  </a:solidFill>
                  <a:latin typeface="Times New Roman"/>
                </a:endParaRPr>
              </a:p>
            </p:txBody>
          </p:sp>
          <p:sp>
            <p:nvSpPr>
              <p:cNvPr id="2071" name=""/>
              <p:cNvSpPr/>
              <p:nvPr/>
            </p:nvSpPr>
            <p:spPr>
              <a:xfrm>
                <a:off x="152280" y="3885840"/>
                <a:ext cx="609480" cy="609480"/>
              </a:xfrm>
              <a:prstGeom prst="rect">
                <a:avLst/>
              </a:prstGeom>
              <a:solidFill>
                <a:srgbClr val="ffba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a:t>
                </a:r>
                <a:endParaRPr b="0" lang="en-US" sz="1400" spc="-1" strike="noStrike">
                  <a:solidFill>
                    <a:srgbClr val="000000"/>
                  </a:solidFill>
                  <a:latin typeface="Times New Roman"/>
                </a:endParaRPr>
              </a:p>
            </p:txBody>
          </p:sp>
          <p:sp>
            <p:nvSpPr>
              <p:cNvPr id="2072" name=""/>
              <p:cNvSpPr/>
              <p:nvPr/>
            </p:nvSpPr>
            <p:spPr>
              <a:xfrm>
                <a:off x="990360" y="2666880"/>
                <a:ext cx="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H="1">
                <a:off x="761760" y="3428640"/>
                <a:ext cx="60984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4" name=""/>
            <p:cNvSpPr/>
            <p:nvPr/>
          </p:nvSpPr>
          <p:spPr>
            <a:xfrm flipH="1">
              <a:off x="761760" y="4267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5" name=""/>
          <p:cNvSpPr/>
          <p:nvPr/>
        </p:nvSpPr>
        <p:spPr>
          <a:xfrm>
            <a:off x="228600" y="6172200"/>
            <a:ext cx="1685880" cy="733320"/>
          </a:xfrm>
          <a:prstGeom prst="rect">
            <a:avLst/>
          </a:prstGeom>
          <a:solidFill>
            <a:srgbClr val="2163ab"/>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ual 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ies &amp; content</a:t>
            </a:r>
            <a:endParaRPr b="0" lang="en-US" sz="1400" spc="-1" strike="noStrike">
              <a:solidFill>
                <a:srgbClr val="000000"/>
              </a:solidFill>
              <a:latin typeface="Times New Roman"/>
            </a:endParaRPr>
          </a:p>
        </p:txBody>
      </p:sp>
      <p:sp>
        <p:nvSpPr>
          <p:cNvPr id="2076" name=""/>
          <p:cNvSpPr/>
          <p:nvPr/>
        </p:nvSpPr>
        <p:spPr>
          <a:xfrm>
            <a:off x="5741280" y="5670720"/>
            <a:ext cx="13924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sup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ilita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via his/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Browser</a:t>
            </a:r>
            <a:endParaRPr b="0" lang="en-US" sz="1400" spc="-1" strike="noStrike">
              <a:solidFill>
                <a:srgbClr val="000000"/>
              </a:solidFill>
              <a:latin typeface="Times New Roman"/>
            </a:endParaRPr>
          </a:p>
        </p:txBody>
      </p:sp>
      <p:sp>
        <p:nvSpPr>
          <p:cNvPr id="2077" name=""/>
          <p:cNvSpPr/>
          <p:nvPr/>
        </p:nvSpPr>
        <p:spPr>
          <a:xfrm flipV="1">
            <a:off x="6319800" y="517032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2510280" y="5715000"/>
            <a:ext cx="1485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s as proxi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senior milita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s to d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ground tasks</a:t>
            </a:r>
            <a:endParaRPr b="0" lang="en-US" sz="1400" spc="-1" strike="noStrike">
              <a:solidFill>
                <a:srgbClr val="000000"/>
              </a:solidFill>
              <a:latin typeface="Times New Roman"/>
            </a:endParaRPr>
          </a:p>
        </p:txBody>
      </p:sp>
      <p:sp>
        <p:nvSpPr>
          <p:cNvPr id="2079" name=""/>
          <p:cNvSpPr/>
          <p:nvPr/>
        </p:nvSpPr>
        <p:spPr>
          <a:xfrm flipV="1">
            <a:off x="3276720" y="4952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133640" y="87480"/>
            <a:ext cx="648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ML DEMONSTRATION AND EXPERIMENT CONCEPT OF OPERATIONS</a:t>
            </a:r>
            <a:endParaRPr b="0" lang="en-US" sz="1400" spc="-1" strike="noStrike">
              <a:solidFill>
                <a:srgbClr val="000000"/>
              </a:solidFill>
              <a:latin typeface="Times New Roman"/>
            </a:endParaRPr>
          </a:p>
        </p:txBody>
      </p:sp>
      <p:sp>
        <p:nvSpPr>
          <p:cNvPr id="2081" name=""/>
          <p:cNvSpPr/>
          <p:nvPr/>
        </p:nvSpPr>
        <p:spPr>
          <a:xfrm>
            <a:off x="5410080" y="914400"/>
            <a:ext cx="1371600" cy="91440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earance Gui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rkup</a:t>
            </a:r>
            <a:endParaRPr b="0" lang="en-US" sz="1400" spc="-1" strike="noStrike">
              <a:solidFill>
                <a:srgbClr val="000000"/>
              </a:solidFill>
              <a:latin typeface="Times New Roman"/>
            </a:endParaRPr>
          </a:p>
        </p:txBody>
      </p:sp>
      <p:sp>
        <p:nvSpPr>
          <p:cNvPr id="2082" name=""/>
          <p:cNvSpPr/>
          <p:nvPr/>
        </p:nvSpPr>
        <p:spPr>
          <a:xfrm flipV="1">
            <a:off x="5715000" y="1828800"/>
            <a:ext cx="2286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447920" y="457200"/>
            <a:ext cx="144756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oi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tlespa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sp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BI)</a:t>
            </a:r>
            <a:endParaRPr b="0" lang="en-US" sz="1400" spc="-1" strike="noStrike">
              <a:solidFill>
                <a:srgbClr val="000000"/>
              </a:solidFill>
              <a:latin typeface="Times New Roman"/>
            </a:endParaRPr>
          </a:p>
        </p:txBody>
      </p:sp>
      <p:sp>
        <p:nvSpPr>
          <p:cNvPr id="2084" name=""/>
          <p:cNvSpPr/>
          <p:nvPr/>
        </p:nvSpPr>
        <p:spPr>
          <a:xfrm>
            <a:off x="2639880" y="1371600"/>
            <a:ext cx="86544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929280" y="4255920"/>
            <a:ext cx="1219320" cy="762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2000</a:t>
            </a:r>
            <a:endParaRPr b="0" lang="en-US" sz="1400" spc="-1" strike="noStrike">
              <a:solidFill>
                <a:srgbClr val="000000"/>
              </a:solidFill>
              <a:latin typeface="Times New Roman"/>
            </a:endParaRPr>
          </a:p>
        </p:txBody>
      </p:sp>
      <p:sp>
        <p:nvSpPr>
          <p:cNvPr id="2086" name=""/>
          <p:cNvSpPr/>
          <p:nvPr/>
        </p:nvSpPr>
        <p:spPr>
          <a:xfrm>
            <a:off x="5819760" y="3416400"/>
            <a:ext cx="1625760" cy="820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7229520" y="954000"/>
            <a:ext cx="1371600" cy="838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v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iona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id</a:t>
            </a:r>
            <a:endParaRPr b="0" lang="en-US" sz="1400" spc="-1" strike="noStrike">
              <a:solidFill>
                <a:srgbClr val="000000"/>
              </a:solidFill>
              <a:latin typeface="Times New Roman"/>
            </a:endParaRPr>
          </a:p>
        </p:txBody>
      </p:sp>
      <p:sp>
        <p:nvSpPr>
          <p:cNvPr id="2088" name=""/>
          <p:cNvSpPr/>
          <p:nvPr/>
        </p:nvSpPr>
        <p:spPr>
          <a:xfrm flipV="1">
            <a:off x="6019920" y="1782720"/>
            <a:ext cx="1195200" cy="884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708200" y="1951200"/>
            <a:ext cx="1797120" cy="639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467480" y="56386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i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s</a:t>
            </a:r>
            <a:endParaRPr b="0" lang="en-US" sz="1400" spc="-1" strike="noStrike">
              <a:solidFill>
                <a:srgbClr val="000000"/>
              </a:solidFill>
              <a:latin typeface="Times New Roman"/>
            </a:endParaRPr>
          </a:p>
        </p:txBody>
      </p:sp>
      <p:sp>
        <p:nvSpPr>
          <p:cNvPr id="2091" name=""/>
          <p:cNvSpPr/>
          <p:nvPr/>
        </p:nvSpPr>
        <p:spPr>
          <a:xfrm>
            <a:off x="228600" y="1371600"/>
            <a:ext cx="1523880" cy="91440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pi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owled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ion)</a:t>
            </a:r>
            <a:endParaRPr b="0" lang="en-US" sz="1400" spc="-1" strike="noStrike">
              <a:solidFill>
                <a:srgbClr val="000000"/>
              </a:solidFill>
              <a:latin typeface="Times New Roman"/>
            </a:endParaRPr>
          </a:p>
        </p:txBody>
      </p:sp>
      <p:sp>
        <p:nvSpPr>
          <p:cNvPr id="2092" name=""/>
          <p:cNvSpPr/>
          <p:nvPr/>
        </p:nvSpPr>
        <p:spPr>
          <a:xfrm>
            <a:off x="990720" y="3962520"/>
            <a:ext cx="1371600" cy="914400"/>
          </a:xfrm>
          <a:prstGeom prst="ellipse">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 Fact Boo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rkup</a:t>
            </a:r>
            <a:endParaRPr b="0" lang="en-US" sz="1400" spc="-1" strike="noStrike">
              <a:solidFill>
                <a:srgbClr val="000000"/>
              </a:solidFill>
              <a:latin typeface="Times New Roman"/>
            </a:endParaRPr>
          </a:p>
        </p:txBody>
      </p:sp>
      <p:sp>
        <p:nvSpPr>
          <p:cNvPr id="2093" name=""/>
          <p:cNvSpPr/>
          <p:nvPr/>
        </p:nvSpPr>
        <p:spPr>
          <a:xfrm flipH="1">
            <a:off x="2286000" y="3429000"/>
            <a:ext cx="1295280" cy="914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435400" y="1163520"/>
            <a:ext cx="442800" cy="192240"/>
          </a:xfrm>
          <a:prstGeom prst="rect">
            <a:avLst/>
          </a:prstGeom>
          <a:solidFill>
            <a:srgbClr val="ffff99"/>
          </a:solidFill>
          <a:ln w="12600">
            <a:solidFill>
              <a:srgbClr val="0000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L</a:t>
            </a:r>
            <a:endParaRPr b="0" lang="en-US" sz="1200" spc="-1" strike="noStrike">
              <a:solidFill>
                <a:srgbClr val="000000"/>
              </a:solidFill>
              <a:latin typeface="Times New Roman"/>
            </a:endParaRPr>
          </a:p>
        </p:txBody>
      </p:sp>
      <p:sp>
        <p:nvSpPr>
          <p:cNvPr id="2095" name=""/>
          <p:cNvSpPr/>
          <p:nvPr/>
        </p:nvSpPr>
        <p:spPr>
          <a:xfrm>
            <a:off x="7277040" y="4251240"/>
            <a:ext cx="442800" cy="192240"/>
          </a:xfrm>
          <a:prstGeom prst="rect">
            <a:avLst/>
          </a:prstGeom>
          <a:solidFill>
            <a:srgbClr val="ffff99"/>
          </a:solidFill>
          <a:ln w="12600">
            <a:solidFill>
              <a:srgbClr val="0000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L</a:t>
            </a:r>
            <a:endParaRPr b="0" lang="en-US" sz="1200" spc="-1" strike="noStrike">
              <a:solidFill>
                <a:srgbClr val="000000"/>
              </a:solidFill>
              <a:latin typeface="Times New Roman"/>
            </a:endParaRPr>
          </a:p>
        </p:txBody>
      </p:sp>
      <p:sp>
        <p:nvSpPr>
          <p:cNvPr id="2096" name=""/>
          <p:cNvSpPr/>
          <p:nvPr/>
        </p:nvSpPr>
        <p:spPr>
          <a:xfrm>
            <a:off x="3314880" y="1409760"/>
            <a:ext cx="442800" cy="191880"/>
          </a:xfrm>
          <a:prstGeom prst="rect">
            <a:avLst/>
          </a:prstGeom>
          <a:solidFill>
            <a:srgbClr val="ffff99"/>
          </a:solidFill>
          <a:ln w="12600">
            <a:solidFill>
              <a:srgbClr val="0000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L</a:t>
            </a:r>
            <a:endParaRPr b="0" lang="en-US" sz="1200" spc="-1" strike="noStrike">
              <a:solidFill>
                <a:srgbClr val="000000"/>
              </a:solidFill>
              <a:latin typeface="Times New Roman"/>
            </a:endParaRPr>
          </a:p>
        </p:txBody>
      </p:sp>
      <p:sp>
        <p:nvSpPr>
          <p:cNvPr id="2097" name=""/>
          <p:cNvSpPr/>
          <p:nvPr/>
        </p:nvSpPr>
        <p:spPr>
          <a:xfrm>
            <a:off x="7227720" y="1619280"/>
            <a:ext cx="443160" cy="191880"/>
          </a:xfrm>
          <a:prstGeom prst="rect">
            <a:avLst/>
          </a:prstGeom>
          <a:solidFill>
            <a:srgbClr val="ffff99"/>
          </a:solidFill>
          <a:ln w="12600">
            <a:solidFill>
              <a:srgbClr val="0000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a:off x="5460840" y="3781440"/>
            <a:ext cx="3249720" cy="2100240"/>
          </a:xfrm>
          <a:prstGeom prst="flowChartPunchedCar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No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Ontolog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DB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Agents</a:t>
            </a:r>
            <a:endParaRPr b="0" lang="en-US" sz="2400" spc="-1" strike="noStrike">
              <a:solidFill>
                <a:srgbClr val="000000"/>
              </a:solidFill>
              <a:latin typeface="Times New Roman"/>
            </a:endParaRPr>
          </a:p>
        </p:txBody>
      </p:sp>
      <p:sp>
        <p:nvSpPr>
          <p:cNvPr id="2099" name=""/>
          <p:cNvSpPr/>
          <p:nvPr/>
        </p:nvSpPr>
        <p:spPr>
          <a:xfrm>
            <a:off x="5407200" y="3903840"/>
            <a:ext cx="3305160" cy="2100240"/>
          </a:xfrm>
          <a:prstGeom prst="flowChartPunchedCard">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No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Ontolog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DB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Agents</a:t>
            </a:r>
            <a:endParaRPr b="0" lang="en-US" sz="2400" spc="-1" strike="noStrike">
              <a:solidFill>
                <a:srgbClr val="000000"/>
              </a:solidFill>
              <a:latin typeface="Times New Roman"/>
            </a:endParaRPr>
          </a:p>
        </p:txBody>
      </p:sp>
      <p:sp>
        <p:nvSpPr>
          <p:cNvPr id="2100" name=""/>
          <p:cNvSpPr/>
          <p:nvPr/>
        </p:nvSpPr>
        <p:spPr>
          <a:xfrm>
            <a:off x="5365800" y="4024440"/>
            <a:ext cx="3354480" cy="2100240"/>
          </a:xfrm>
          <a:prstGeom prst="flowChartPunchedCard">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No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Ontolog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DB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Agents</a:t>
            </a:r>
            <a:endParaRPr b="0" lang="en-US" sz="2400" spc="-1" strike="noStrike">
              <a:solidFill>
                <a:srgbClr val="000000"/>
              </a:solidFill>
              <a:latin typeface="Times New Roman"/>
            </a:endParaRPr>
          </a:p>
        </p:txBody>
      </p:sp>
      <p:sp>
        <p:nvSpPr>
          <p:cNvPr id="2101" name=""/>
          <p:cNvSpPr/>
          <p:nvPr/>
        </p:nvSpPr>
        <p:spPr>
          <a:xfrm>
            <a:off x="5291280" y="4151160"/>
            <a:ext cx="3417840" cy="2213280"/>
          </a:xfrm>
          <a:prstGeom prst="flowChartPunchedCard">
            <a:avLst/>
          </a:prstGeom>
          <a:solidFill>
            <a:srgbClr val="2163ab"/>
          </a:solidFill>
          <a:ln w="9360">
            <a:solidFill>
              <a:srgbClr val="000000"/>
            </a:solidFill>
            <a:miter/>
          </a:ln>
        </p:spPr>
        <p:style>
          <a:lnRef idx="0"/>
          <a:fillRef idx="0"/>
          <a:effectRef idx="0"/>
          <a:fontRef idx="minor"/>
        </p:style>
        <p:txBody>
          <a:bodyPr wrap="none" lIns="90000" rIns="90000" tIns="46800" bIns="46800" anchor="ctr">
            <a:noAutofit/>
          </a:bodyPr>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ions of Nodes</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ions of Ontologies</a:t>
            </a:r>
            <a:endParaRPr b="0" lang="en-US" sz="2000" spc="-1" strike="noStrike">
              <a:solidFill>
                <a:srgbClr val="000000"/>
              </a:solidFill>
              <a:latin typeface="Times New Roman"/>
            </a:endParaRPr>
          </a:p>
          <a:p>
            <a:pPr marL="225360" indent="-225360">
              <a:lnSpc>
                <a:spcPct val="100000"/>
              </a:lnSpc>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ions of Data Bases </a:t>
            </a:r>
            <a:endParaRPr b="0" lang="en-US" sz="2000" spc="-1" strike="noStrike">
              <a:solidFill>
                <a:srgbClr val="000000"/>
              </a:solidFill>
              <a:latin typeface="Times New Roman"/>
            </a:endParaRPr>
          </a:p>
          <a:p>
            <a:pPr marL="225360" indent="-225360">
              <a:lnSpc>
                <a:spcPct val="100000"/>
              </a:lnSpc>
              <a:spcAft>
                <a:spcPts val="601"/>
              </a:spcAft>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ions of Agents</a:t>
            </a:r>
            <a:endParaRPr b="0" lang="en-US" sz="2000" spc="-1" strike="noStrike">
              <a:solidFill>
                <a:srgbClr val="000000"/>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on the Semanic Web</a:t>
            </a:r>
            <a:endParaRPr b="0" lang="en-US" sz="2000" spc="-1" strike="noStrike">
              <a:solidFill>
                <a:srgbClr val="000000"/>
              </a:solidFill>
              <a:latin typeface="Times New Roman"/>
            </a:endParaRPr>
          </a:p>
        </p:txBody>
      </p:sp>
      <p:sp>
        <p:nvSpPr>
          <p:cNvPr id="2102" name=""/>
          <p:cNvSpPr/>
          <p:nvPr/>
        </p:nvSpPr>
        <p:spPr>
          <a:xfrm>
            <a:off x="6606360" y="4103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on</a:t>
            </a:r>
            <a:endParaRPr b="0" lang="en-US" sz="2400" spc="-1" strike="noStrike">
              <a:solidFill>
                <a:srgbClr val="000000"/>
              </a:solidFill>
              <a:latin typeface="Times New Roman"/>
            </a:endParaRPr>
          </a:p>
        </p:txBody>
      </p:sp>
      <p:grpSp>
        <p:nvGrpSpPr>
          <p:cNvPr id="2103" name=""/>
          <p:cNvGrpSpPr/>
          <p:nvPr/>
        </p:nvGrpSpPr>
        <p:grpSpPr>
          <a:xfrm>
            <a:off x="480960" y="1096920"/>
            <a:ext cx="1725480" cy="1638360"/>
            <a:chOff x="480960" y="1096920"/>
            <a:chExt cx="1725480" cy="1638360"/>
          </a:xfrm>
        </p:grpSpPr>
        <p:sp>
          <p:nvSpPr>
            <p:cNvPr id="2104" name=""/>
            <p:cNvSpPr/>
            <p:nvPr/>
          </p:nvSpPr>
          <p:spPr>
            <a:xfrm>
              <a:off x="480960" y="1162080"/>
              <a:ext cx="1725480" cy="1573200"/>
            </a:xfrm>
            <a:prstGeom prst="flowChartPunchedCar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nt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ata 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Agents</a:t>
              </a:r>
              <a:endParaRPr b="0" lang="en-US" sz="1800" spc="-1" strike="noStrike">
                <a:solidFill>
                  <a:srgbClr val="000000"/>
                </a:solidFill>
                <a:latin typeface="Times New Roman"/>
              </a:endParaRPr>
            </a:p>
          </p:txBody>
        </p:sp>
        <p:sp>
          <p:nvSpPr>
            <p:cNvPr id="2105" name=""/>
            <p:cNvSpPr/>
            <p:nvPr/>
          </p:nvSpPr>
          <p:spPr>
            <a:xfrm>
              <a:off x="1064520" y="109692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a:t>
              </a:r>
              <a:endParaRPr b="0" lang="en-US" sz="2000" spc="-1" strike="noStrike">
                <a:solidFill>
                  <a:srgbClr val="000000"/>
                </a:solidFill>
                <a:latin typeface="Times New Roman"/>
              </a:endParaRPr>
            </a:p>
          </p:txBody>
        </p:sp>
      </p:grpSp>
      <p:sp>
        <p:nvSpPr>
          <p:cNvPr id="2106" name=""/>
          <p:cNvSpPr/>
          <p:nvPr/>
        </p:nvSpPr>
        <p:spPr>
          <a:xfrm>
            <a:off x="2141640" y="3990960"/>
            <a:ext cx="1255680" cy="551160"/>
          </a:xfrm>
          <a:prstGeom prst="rect">
            <a:avLst/>
          </a:prstGeom>
          <a:noFill/>
          <a:ln w="0">
            <a:noFill/>
          </a:ln>
        </p:spPr>
        <p:style>
          <a:lnRef idx="0"/>
          <a:fillRef idx="0"/>
          <a:effectRef idx="0"/>
          <a:fontRef idx="minor"/>
        </p:style>
        <p:txBody>
          <a:bodyPr lIns="90000" rIns="90000" tIns="46800" bIns="4680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0f33"/>
                </a:solidFill>
                <a:latin typeface="Arial Narrow"/>
              </a:rPr>
              <a:t>2002 </a:t>
            </a:r>
            <a:endParaRPr b="0" lang="en-US" sz="2000" spc="-1" strike="noStrike">
              <a:solidFill>
                <a:srgbClr val="000000"/>
              </a:solidFill>
              <a:latin typeface="Times New Roman"/>
            </a:endParaRPr>
          </a:p>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0f33"/>
                </a:solidFill>
                <a:latin typeface="Arial Narrow"/>
              </a:rPr>
              <a:t>Experiment</a:t>
            </a:r>
            <a:endParaRPr b="0" lang="en-US" sz="2000" spc="-1" strike="noStrike">
              <a:solidFill>
                <a:srgbClr val="000000"/>
              </a:solidFill>
              <a:latin typeface="Times New Roman"/>
            </a:endParaRPr>
          </a:p>
        </p:txBody>
      </p:sp>
      <p:grpSp>
        <p:nvGrpSpPr>
          <p:cNvPr id="2107" name=""/>
          <p:cNvGrpSpPr/>
          <p:nvPr/>
        </p:nvGrpSpPr>
        <p:grpSpPr>
          <a:xfrm>
            <a:off x="1951200" y="1959120"/>
            <a:ext cx="1725480" cy="1623960"/>
            <a:chOff x="1951200" y="1959120"/>
            <a:chExt cx="1725480" cy="1623960"/>
          </a:xfrm>
        </p:grpSpPr>
        <p:sp>
          <p:nvSpPr>
            <p:cNvPr id="2108" name=""/>
            <p:cNvSpPr/>
            <p:nvPr/>
          </p:nvSpPr>
          <p:spPr>
            <a:xfrm>
              <a:off x="1951200" y="2009880"/>
              <a:ext cx="1725480" cy="1573200"/>
            </a:xfrm>
            <a:prstGeom prst="flowChartPunchedCard">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3-4 N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4 Ontolog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3-5 Data Ba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1 Agents</a:t>
              </a:r>
              <a:endParaRPr b="0" lang="en-US" sz="1800" spc="-1" strike="noStrike">
                <a:solidFill>
                  <a:srgbClr val="000000"/>
                </a:solidFill>
                <a:latin typeface="Times New Roman"/>
              </a:endParaRPr>
            </a:p>
          </p:txBody>
        </p:sp>
        <p:sp>
          <p:nvSpPr>
            <p:cNvPr id="2109" name=""/>
            <p:cNvSpPr/>
            <p:nvPr/>
          </p:nvSpPr>
          <p:spPr>
            <a:xfrm>
              <a:off x="2269080" y="195912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0f33"/>
                  </a:solidFill>
                  <a:latin typeface="Arial"/>
                </a:rPr>
                <a:t>6 Months</a:t>
              </a:r>
              <a:endParaRPr b="0" lang="en-US" sz="2000" spc="-1" strike="noStrike">
                <a:solidFill>
                  <a:srgbClr val="000000"/>
                </a:solidFill>
                <a:latin typeface="Times New Roman"/>
              </a:endParaRPr>
            </a:p>
          </p:txBody>
        </p:sp>
      </p:grpSp>
      <p:grpSp>
        <p:nvGrpSpPr>
          <p:cNvPr id="2110" name=""/>
          <p:cNvGrpSpPr/>
          <p:nvPr/>
        </p:nvGrpSpPr>
        <p:grpSpPr>
          <a:xfrm>
            <a:off x="3427560" y="2838600"/>
            <a:ext cx="1746000" cy="1625040"/>
            <a:chOff x="3427560" y="2838600"/>
            <a:chExt cx="1746000" cy="1625040"/>
          </a:xfrm>
        </p:grpSpPr>
        <p:sp>
          <p:nvSpPr>
            <p:cNvPr id="2111" name=""/>
            <p:cNvSpPr/>
            <p:nvPr/>
          </p:nvSpPr>
          <p:spPr>
            <a:xfrm>
              <a:off x="3427560" y="2890800"/>
              <a:ext cx="1725480" cy="1572840"/>
            </a:xfrm>
            <a:prstGeom prst="flowChartPunchedCard">
              <a:avLst/>
            </a:prstGeom>
            <a:solidFill>
              <a:srgbClr val="94bde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4-5 N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6-8 Ontolog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5-7 Data Ba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f33"/>
                  </a:solidFill>
                  <a:latin typeface="Arial"/>
                </a:rPr>
                <a:t>3-5 Agents</a:t>
              </a:r>
              <a:endParaRPr b="0" lang="en-US" sz="1800" spc="-1" strike="noStrike">
                <a:solidFill>
                  <a:srgbClr val="000000"/>
                </a:solidFill>
                <a:latin typeface="Times New Roman"/>
              </a:endParaRPr>
            </a:p>
          </p:txBody>
        </p:sp>
        <p:sp>
          <p:nvSpPr>
            <p:cNvPr id="2112" name=""/>
            <p:cNvSpPr/>
            <p:nvPr/>
          </p:nvSpPr>
          <p:spPr>
            <a:xfrm>
              <a:off x="3733920" y="28386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0f33"/>
                  </a:solidFill>
                  <a:latin typeface="Arial"/>
                </a:rPr>
                <a:t>12 Months</a:t>
              </a:r>
              <a:endParaRPr b="0" lang="en-US" sz="2000" spc="-1" strike="noStrike">
                <a:solidFill>
                  <a:srgbClr val="000000"/>
                </a:solidFill>
                <a:latin typeface="Times New Roman"/>
              </a:endParaRPr>
            </a:p>
          </p:txBody>
        </p:sp>
      </p:grpSp>
      <p:sp>
        <p:nvSpPr>
          <p:cNvPr id="2113"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Metrics</a:t>
            </a:r>
            <a:endParaRPr b="1" lang="en-US" sz="2800" spc="-1" strike="noStrike">
              <a:solidFill>
                <a:srgbClr val="2163a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759280" y="1216080"/>
            <a:ext cx="2379960" cy="922320"/>
          </a:xfrm>
          <a:prstGeom prst="wedgeEllipseCallout">
            <a:avLst>
              <a:gd name="adj1" fmla="val -84625"/>
              <a:gd name="adj2" fmla="val 96300"/>
            </a:avLst>
          </a:prstGeom>
          <a:gradFill rotWithShape="0">
            <a:gsLst>
              <a:gs pos="0">
                <a:srgbClr val="94bdeb"/>
              </a:gs>
              <a:gs pos="50000">
                <a:srgbClr val="eff4fb"/>
              </a:gs>
              <a:gs pos="100000">
                <a:srgbClr val="94bdeb"/>
              </a:gs>
            </a:gsLst>
            <a:lin ang="13500000"/>
          </a:gradFill>
          <a:ln w="12600">
            <a:solidFill>
              <a:srgbClr val="fa0f33"/>
            </a:solidFill>
            <a:miter/>
          </a:ln>
          <a:effectLst>
            <a:outerShdw dist="71785" dir="189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676840" y="3156120"/>
            <a:ext cx="3254400" cy="922320"/>
          </a:xfrm>
          <a:prstGeom prst="wedgeEllipseCallout">
            <a:avLst>
              <a:gd name="adj1" fmla="val -72097"/>
              <a:gd name="adj2" fmla="val -31240"/>
            </a:avLst>
          </a:prstGeom>
          <a:gradFill rotWithShape="0">
            <a:gsLst>
              <a:gs pos="0">
                <a:srgbClr val="94bdeb"/>
              </a:gs>
              <a:gs pos="100000">
                <a:srgbClr val="e0ebf8"/>
              </a:gs>
            </a:gsLst>
            <a:lin ang="13500000"/>
          </a:gradFill>
          <a:ln w="12600">
            <a:solidFill>
              <a:srgbClr val="fa0f33"/>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6280" y="1246320"/>
            <a:ext cx="3254400" cy="1241280"/>
          </a:xfrm>
          <a:prstGeom prst="wedgeEllipseCallout">
            <a:avLst>
              <a:gd name="adj1" fmla="val 47851"/>
              <a:gd name="adj2" fmla="val 78259"/>
            </a:avLst>
          </a:prstGeom>
          <a:gradFill rotWithShape="0">
            <a:gsLst>
              <a:gs pos="0">
                <a:srgbClr val="d5e4f6"/>
              </a:gs>
              <a:gs pos="100000">
                <a:srgbClr val="94bdeb"/>
              </a:gs>
            </a:gsLst>
            <a:lin ang="13500000"/>
          </a:gradFill>
          <a:ln w="12600">
            <a:solidFill>
              <a:srgbClr val="fa0f33"/>
            </a:solidFill>
            <a:miter/>
          </a:ln>
          <a:effectLst>
            <a:outerShdw dist="63504" dir="13016092"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47760" y="5410080"/>
            <a:ext cx="3254400" cy="922320"/>
          </a:xfrm>
          <a:prstGeom prst="wedgeEllipseCallout">
            <a:avLst>
              <a:gd name="adj1" fmla="val 41217"/>
              <a:gd name="adj2" fmla="val -153444"/>
            </a:avLst>
          </a:prstGeom>
          <a:gradFill rotWithShape="0">
            <a:gsLst>
              <a:gs pos="0">
                <a:srgbClr val="94bdeb"/>
              </a:gs>
              <a:gs pos="50000">
                <a:srgbClr val="cfe1f5"/>
              </a:gs>
              <a:gs pos="100000">
                <a:srgbClr val="94bdeb"/>
              </a:gs>
            </a:gsLst>
            <a:lin ang="13500000"/>
          </a:gradFill>
          <a:ln w="12600">
            <a:solidFill>
              <a:srgbClr val="fa0f33"/>
            </a:solidFill>
            <a:miter/>
          </a:ln>
          <a:effectLst>
            <a:outerShdw dist="63504" dir="761609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622760" y="4905360"/>
            <a:ext cx="3695760" cy="979560"/>
          </a:xfrm>
          <a:prstGeom prst="wedgeEllipseCallout">
            <a:avLst>
              <a:gd name="adj1" fmla="val -47120"/>
              <a:gd name="adj2" fmla="val -113694"/>
            </a:avLst>
          </a:prstGeom>
          <a:gradFill rotWithShape="0">
            <a:gsLst>
              <a:gs pos="0">
                <a:srgbClr val="94bdeb"/>
              </a:gs>
              <a:gs pos="50000">
                <a:srgbClr val="ddeaf7"/>
              </a:gs>
              <a:gs pos="100000">
                <a:srgbClr val="94bdeb"/>
              </a:gs>
            </a:gsLst>
            <a:lin ang="8100000"/>
          </a:gradFill>
          <a:ln w="12600">
            <a:solidFill>
              <a:srgbClr val="fa0f33"/>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700200" y="245880"/>
            <a:ext cx="777240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Web Limitations</a:t>
            </a:r>
            <a:endParaRPr b="1" lang="en-US" sz="2800" spc="-1" strike="noStrike">
              <a:solidFill>
                <a:srgbClr val="2163ab"/>
              </a:solidFill>
              <a:latin typeface="Arial Black"/>
            </a:endParaRPr>
          </a:p>
        </p:txBody>
      </p:sp>
      <p:sp>
        <p:nvSpPr>
          <p:cNvPr id="117" name=""/>
          <p:cNvSpPr/>
          <p:nvPr/>
        </p:nvSpPr>
        <p:spPr>
          <a:xfrm>
            <a:off x="5990400" y="136224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s in 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ix months</a:t>
            </a:r>
            <a:endParaRPr b="0" lang="en-US" sz="1800" spc="-1" strike="noStrike">
              <a:solidFill>
                <a:srgbClr val="000000"/>
              </a:solidFill>
              <a:latin typeface="Times New Roman"/>
            </a:endParaRPr>
          </a:p>
        </p:txBody>
      </p:sp>
      <p:sp>
        <p:nvSpPr>
          <p:cNvPr id="118" name=""/>
          <p:cNvSpPr/>
          <p:nvPr/>
        </p:nvSpPr>
        <p:spPr>
          <a:xfrm>
            <a:off x="758880" y="1390680"/>
            <a:ext cx="3395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WW searches examine only about 25% of potentially relevant sites</a:t>
            </a:r>
            <a:endParaRPr b="0" lang="en-US" sz="1800" spc="-1" strike="noStrike">
              <a:solidFill>
                <a:srgbClr val="000000"/>
              </a:solidFill>
              <a:latin typeface="Times New Roman"/>
            </a:endParaRPr>
          </a:p>
        </p:txBody>
      </p:sp>
      <p:sp>
        <p:nvSpPr>
          <p:cNvPr id="119" name=""/>
          <p:cNvSpPr/>
          <p:nvPr/>
        </p:nvSpPr>
        <p:spPr>
          <a:xfrm>
            <a:off x="420840" y="5553000"/>
            <a:ext cx="320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arches return a lot of unwanted information</a:t>
            </a:r>
            <a:endParaRPr b="0" lang="en-US" sz="1800" spc="-1" strike="noStrike">
              <a:solidFill>
                <a:srgbClr val="000000"/>
              </a:solidFill>
              <a:latin typeface="Times New Roman"/>
            </a:endParaRPr>
          </a:p>
        </p:txBody>
      </p:sp>
      <p:sp>
        <p:nvSpPr>
          <p:cNvPr id="120" name=""/>
          <p:cNvSpPr/>
          <p:nvPr/>
        </p:nvSpPr>
        <p:spPr>
          <a:xfrm>
            <a:off x="4664160" y="5127480"/>
            <a:ext cx="368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on web is not suitable for software agents</a:t>
            </a:r>
            <a:endParaRPr b="0" lang="en-US" sz="1800" spc="-1" strike="noStrike">
              <a:solidFill>
                <a:srgbClr val="000000"/>
              </a:solidFill>
              <a:latin typeface="Times New Roman"/>
            </a:endParaRPr>
          </a:p>
        </p:txBody>
      </p:sp>
      <p:sp>
        <p:nvSpPr>
          <p:cNvPr id="121" name=""/>
          <p:cNvSpPr/>
          <p:nvPr/>
        </p:nvSpPr>
        <p:spPr>
          <a:xfrm>
            <a:off x="5979960" y="3289320"/>
            <a:ext cx="269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grow worse as Web continues to grow</a:t>
            </a:r>
            <a:endParaRPr b="0" lang="en-US" sz="1800" spc="-1" strike="noStrike">
              <a:solidFill>
                <a:srgbClr val="000000"/>
              </a:solidFill>
              <a:latin typeface="Times New Roman"/>
            </a:endParaRPr>
          </a:p>
        </p:txBody>
      </p:sp>
      <p:grpSp>
        <p:nvGrpSpPr>
          <p:cNvPr id="122" name=""/>
          <p:cNvGrpSpPr/>
          <p:nvPr/>
        </p:nvGrpSpPr>
        <p:grpSpPr>
          <a:xfrm>
            <a:off x="2617920" y="2738520"/>
            <a:ext cx="2349000" cy="1682280"/>
            <a:chOff x="2617920" y="2738520"/>
            <a:chExt cx="2349000" cy="1682280"/>
          </a:xfrm>
        </p:grpSpPr>
        <p:sp>
          <p:nvSpPr>
            <p:cNvPr id="123" name=""/>
            <p:cNvSpPr/>
            <p:nvPr/>
          </p:nvSpPr>
          <p:spPr>
            <a:xfrm>
              <a:off x="2964240" y="3049200"/>
              <a:ext cx="1990440" cy="10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3304440" y="2878920"/>
              <a:ext cx="1468800" cy="10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660040" y="2891160"/>
              <a:ext cx="146880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3315960" y="2891160"/>
              <a:ext cx="812520" cy="9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648520" y="2878560"/>
              <a:ext cx="211284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648520" y="3049200"/>
              <a:ext cx="31572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89400" y="2768760"/>
              <a:ext cx="510120" cy="160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899520" y="4128480"/>
              <a:ext cx="105552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28200" y="3873960"/>
              <a:ext cx="1638720" cy="25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2733480" y="2780280"/>
              <a:ext cx="667800" cy="150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2745360" y="4128840"/>
              <a:ext cx="2173680" cy="15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64240" y="304920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5" name=""/>
            <p:cNvSpPr/>
            <p:nvPr/>
          </p:nvSpPr>
          <p:spPr>
            <a:xfrm>
              <a:off x="2630880" y="328572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6" name=""/>
            <p:cNvSpPr/>
            <p:nvPr/>
          </p:nvSpPr>
          <p:spPr>
            <a:xfrm>
              <a:off x="2721240" y="421380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7" name=""/>
            <p:cNvSpPr/>
            <p:nvPr/>
          </p:nvSpPr>
          <p:spPr>
            <a:xfrm>
              <a:off x="3358800" y="273852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8" name=""/>
            <p:cNvSpPr/>
            <p:nvPr/>
          </p:nvSpPr>
          <p:spPr>
            <a:xfrm>
              <a:off x="4701600" y="285516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9" name=""/>
            <p:cNvSpPr/>
            <p:nvPr/>
          </p:nvSpPr>
          <p:spPr>
            <a:xfrm>
              <a:off x="4062600" y="287244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0" name=""/>
            <p:cNvSpPr/>
            <p:nvPr/>
          </p:nvSpPr>
          <p:spPr>
            <a:xfrm>
              <a:off x="3304440" y="386316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1" name=""/>
            <p:cNvSpPr/>
            <p:nvPr/>
          </p:nvSpPr>
          <p:spPr>
            <a:xfrm>
              <a:off x="4888800" y="4098240"/>
              <a:ext cx="74160" cy="84960"/>
            </a:xfrm>
            <a:prstGeom prst="rect">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2" name=""/>
            <p:cNvSpPr/>
            <p:nvPr/>
          </p:nvSpPr>
          <p:spPr>
            <a:xfrm>
              <a:off x="3887640" y="4336200"/>
              <a:ext cx="74160" cy="84600"/>
            </a:xfrm>
            <a:prstGeom prst="rect">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3" name=""/>
            <p:cNvSpPr/>
            <p:nvPr/>
          </p:nvSpPr>
          <p:spPr>
            <a:xfrm flipV="1">
              <a:off x="2660040" y="2891160"/>
              <a:ext cx="2076840" cy="80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17920" y="3661200"/>
              <a:ext cx="74160" cy="84960"/>
            </a:xfrm>
            <a:prstGeom prst="rect">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5" name=""/>
            <p:cNvSpPr/>
            <p:nvPr/>
          </p:nvSpPr>
          <p:spPr>
            <a:xfrm>
              <a:off x="2660040" y="3691800"/>
              <a:ext cx="1286640" cy="69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24280" y="2891160"/>
              <a:ext cx="219240" cy="123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476280" y="3292560"/>
            <a:ext cx="23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orld Wide We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telin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telin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The Evolution of the Web</a:t>
            </a:r>
            <a:endParaRPr b="1" lang="en-US" sz="2800" spc="-1" strike="noStrike">
              <a:solidFill>
                <a:srgbClr val="2163ab"/>
              </a:solidFill>
              <a:latin typeface="Arial Black"/>
            </a:endParaRPr>
          </a:p>
        </p:txBody>
      </p:sp>
      <p:sp>
        <p:nvSpPr>
          <p:cNvPr id="149" name="Cloud"/>
          <p:cNvSpPr/>
          <p:nvPr/>
        </p:nvSpPr>
        <p:spPr>
          <a:xfrm rot="37800">
            <a:off x="2607840" y="1141200"/>
            <a:ext cx="3667320" cy="275904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
          <p:cNvSpPr/>
          <p:nvPr/>
        </p:nvSpPr>
        <p:spPr>
          <a:xfrm>
            <a:off x="3173400" y="1855800"/>
            <a:ext cx="2982960" cy="1503720"/>
          </a:xfrm>
          <a:prstGeom prst="rect">
            <a:avLst/>
          </a:prstGeom>
          <a:noFill/>
          <a:ln w="0">
            <a:noFill/>
          </a:ln>
        </p:spPr>
        <p:style>
          <a:lnRef idx="0"/>
          <a:fillRef idx="0"/>
          <a:effectRef idx="0"/>
          <a:fontRef idx="minor"/>
        </p:style>
        <p:txBody>
          <a:bodyPr lIns="90000" rIns="90000" tIns="46800" bIns="46800" anchor="t">
            <a:spAutoFit/>
          </a:bodyPr>
          <a:p>
            <a:pPr marL="169920" indent="-169920">
              <a:lnSpc>
                <a:spcPts val="1800"/>
              </a:lnSpc>
              <a:spcBef>
                <a:spcPts val="300"/>
              </a:spcBef>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ted for humans to read via web browsers</a:t>
            </a:r>
            <a:endParaRPr b="0" lang="en-US" sz="1800" spc="-1" strike="noStrike">
              <a:solidFill>
                <a:srgbClr val="000000"/>
              </a:solidFill>
              <a:latin typeface="Times New Roman"/>
            </a:endParaRPr>
          </a:p>
          <a:p>
            <a:pPr marL="169920" indent="-169920">
              <a:lnSpc>
                <a:spcPts val="1800"/>
              </a:lnSpc>
              <a:spcBef>
                <a:spcPts val="300"/>
              </a:spcBef>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ted for machine readability but with very limited semantics</a:t>
            </a:r>
            <a:endParaRPr b="0" lang="en-US" sz="1800" spc="-1" strike="noStrike">
              <a:solidFill>
                <a:srgbClr val="000000"/>
              </a:solidFill>
              <a:latin typeface="Times New Roman"/>
            </a:endParaRPr>
          </a:p>
        </p:txBody>
      </p:sp>
      <p:sp>
        <p:nvSpPr>
          <p:cNvPr id="151" name=""/>
          <p:cNvSpPr/>
          <p:nvPr/>
        </p:nvSpPr>
        <p:spPr>
          <a:xfrm>
            <a:off x="3630240" y="1486080"/>
            <a:ext cx="22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ld Wide Web</a:t>
            </a:r>
            <a:endParaRPr b="0" lang="en-US" sz="2000" spc="-1" strike="noStrike">
              <a:solidFill>
                <a:srgbClr val="000000"/>
              </a:solidFill>
              <a:latin typeface="Times New Roman"/>
            </a:endParaRPr>
          </a:p>
        </p:txBody>
      </p:sp>
      <p:sp>
        <p:nvSpPr>
          <p:cNvPr id="152" name="Cloud"/>
          <p:cNvSpPr/>
          <p:nvPr/>
        </p:nvSpPr>
        <p:spPr>
          <a:xfrm rot="326400">
            <a:off x="3308400" y="3075120"/>
            <a:ext cx="5316480" cy="3292200"/>
          </a:xfrm>
          <a:prstGeom prst="pie">
            <a:avLst/>
          </a:prstGeom>
          <a:gradFill rotWithShape="0">
            <a:gsLst>
              <a:gs pos="0">
                <a:srgbClr val="fefefe"/>
              </a:gs>
              <a:gs pos="100000">
                <a:srgbClr val="94bdeb"/>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16520" y="4548240"/>
            <a:ext cx="4574880" cy="11912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ce Analysis and Production</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itary Planning and Operations</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4ISR Agents</a:t>
            </a:r>
            <a:endParaRPr b="0" lang="en-US" sz="18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or Fusion</a:t>
            </a:r>
            <a:endParaRPr b="0" lang="en-US" sz="1800" spc="-1" strike="noStrike">
              <a:solidFill>
                <a:srgbClr val="000000"/>
              </a:solidFill>
              <a:latin typeface="Times New Roman"/>
            </a:endParaRPr>
          </a:p>
        </p:txBody>
      </p:sp>
      <p:sp>
        <p:nvSpPr>
          <p:cNvPr id="154" name=""/>
          <p:cNvSpPr/>
          <p:nvPr/>
        </p:nvSpPr>
        <p:spPr>
          <a:xfrm>
            <a:off x="5063760" y="3522600"/>
            <a:ext cx="23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emantic Web</a:t>
            </a:r>
            <a:endParaRPr b="0" lang="en-US" sz="2400" spc="-1" strike="noStrike">
              <a:solidFill>
                <a:srgbClr val="000000"/>
              </a:solidFill>
              <a:latin typeface="Times New Roman"/>
            </a:endParaRPr>
          </a:p>
        </p:txBody>
      </p:sp>
      <p:sp>
        <p:nvSpPr>
          <p:cNvPr id="155" name=""/>
          <p:cNvSpPr/>
          <p:nvPr/>
        </p:nvSpPr>
        <p:spPr>
          <a:xfrm>
            <a:off x="3997440" y="3943440"/>
            <a:ext cx="387036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readability with very rich semantics to support agents for:</a:t>
            </a:r>
            <a:endParaRPr b="0" lang="en-US" sz="1800" spc="-1" strike="noStrike">
              <a:solidFill>
                <a:srgbClr val="000000"/>
              </a:solidFill>
              <a:latin typeface="Times New Roman"/>
            </a:endParaRPr>
          </a:p>
        </p:txBody>
      </p:sp>
      <p:sp>
        <p:nvSpPr>
          <p:cNvPr id="156" name=""/>
          <p:cNvSpPr/>
          <p:nvPr/>
        </p:nvSpPr>
        <p:spPr>
          <a:xfrm>
            <a:off x="417600" y="2523960"/>
            <a:ext cx="233280" cy="1795680"/>
          </a:xfrm>
          <a:prstGeom prst="rect">
            <a:avLst/>
          </a:prstGeom>
          <a:gradFill rotWithShape="0">
            <a:gsLst>
              <a:gs pos="0">
                <a:srgbClr val="fa0f33"/>
              </a:gs>
              <a:gs pos="100000">
                <a:srgbClr val="216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393840" y="1828800"/>
            <a:ext cx="209520" cy="457200"/>
          </a:xfrm>
          <a:prstGeom prst="rect">
            <a:avLst/>
          </a:prstGeom>
          <a:gradFill rotWithShape="0">
            <a:gsLst>
              <a:gs pos="0">
                <a:srgbClr val="ffba00"/>
              </a:gs>
              <a:gs pos="100000">
                <a:srgbClr val="fa0f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0800000">
            <a:off x="289080" y="2255760"/>
            <a:ext cx="412560" cy="216000"/>
          </a:xfrm>
          <a:prstGeom prst="triangle">
            <a:avLst>
              <a:gd name="adj" fmla="val 50000"/>
            </a:avLst>
          </a:prstGeom>
          <a:solidFill>
            <a:srgbClr val="fa0f33"/>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9" name=""/>
          <p:cNvSpPr/>
          <p:nvPr/>
        </p:nvSpPr>
        <p:spPr>
          <a:xfrm flipV="1">
            <a:off x="347760" y="4300560"/>
            <a:ext cx="385560" cy="216000"/>
          </a:xfrm>
          <a:prstGeom prst="triangle">
            <a:avLst>
              <a:gd name="adj" fmla="val 50000"/>
            </a:avLst>
          </a:prstGeom>
          <a:solidFill>
            <a:srgbClr val="2163ab"/>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60" name=""/>
          <p:cNvGrpSpPr/>
          <p:nvPr/>
        </p:nvGrpSpPr>
        <p:grpSpPr>
          <a:xfrm>
            <a:off x="704880" y="4317840"/>
            <a:ext cx="3063600" cy="960480"/>
            <a:chOff x="704880" y="4317840"/>
            <a:chExt cx="3063600" cy="960480"/>
          </a:xfrm>
        </p:grpSpPr>
        <p:grpSp>
          <p:nvGrpSpPr>
            <p:cNvPr id="161" name=""/>
            <p:cNvGrpSpPr/>
            <p:nvPr/>
          </p:nvGrpSpPr>
          <p:grpSpPr>
            <a:xfrm>
              <a:off x="996840" y="4317840"/>
              <a:ext cx="2771640" cy="960480"/>
              <a:chOff x="996840" y="4317840"/>
              <a:chExt cx="2771640" cy="960480"/>
            </a:xfrm>
          </p:grpSpPr>
          <p:sp>
            <p:nvSpPr>
              <p:cNvPr id="162" name=""/>
              <p:cNvSpPr/>
              <p:nvPr/>
            </p:nvSpPr>
            <p:spPr>
              <a:xfrm>
                <a:off x="996840" y="4317840"/>
                <a:ext cx="2771640" cy="960480"/>
              </a:xfrm>
              <a:custGeom>
                <a:avLst/>
                <a:gdLst>
                  <a:gd name="textAreaLeft" fmla="*/ 433080 w 2771640"/>
                  <a:gd name="textAreaRight" fmla="*/ 2425320 w 2771640"/>
                  <a:gd name="textAreaTop" fmla="*/ 240120 h 960480"/>
                  <a:gd name="textAreaBottom" fmla="*/ 720360 h 960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2163ab"/>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54280" y="4568400"/>
                <a:ext cx="106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ML</a:t>
                </a:r>
                <a:endParaRPr b="0" lang="en-US" sz="2400" spc="-1" strike="noStrike">
                  <a:solidFill>
                    <a:srgbClr val="000000"/>
                  </a:solidFill>
                  <a:latin typeface="Times New Roman"/>
                </a:endParaRPr>
              </a:p>
            </p:txBody>
          </p:sp>
        </p:grpSp>
        <p:sp>
          <p:nvSpPr>
            <p:cNvPr id="164" name=""/>
            <p:cNvSpPr/>
            <p:nvPr/>
          </p:nvSpPr>
          <p:spPr>
            <a:xfrm>
              <a:off x="704880" y="4557600"/>
              <a:ext cx="221040" cy="488880"/>
            </a:xfrm>
            <a:prstGeom prst="rect">
              <a:avLst/>
            </a:prstGeom>
            <a:solidFill>
              <a:srgbClr val="2163a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1001880" y="2314440"/>
            <a:ext cx="1906560" cy="797040"/>
          </a:xfrm>
          <a:custGeom>
            <a:avLst/>
            <a:gdLst>
              <a:gd name="textAreaLeft" fmla="*/ 297720 w 1906560"/>
              <a:gd name="textAreaRight" fmla="*/ 1668240 w 1906560"/>
              <a:gd name="textAreaTop" fmla="*/ 199080 h 797040"/>
              <a:gd name="textAreaBottom" fmla="*/ 597960 h 79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a0f33"/>
          </a:solidFill>
          <a:ln w="12600">
            <a:solidFill>
              <a:srgbClr val="00005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2523960"/>
            <a:ext cx="245880" cy="385920"/>
          </a:xfrm>
          <a:prstGeom prst="rect">
            <a:avLst/>
          </a:prstGeom>
          <a:solidFill>
            <a:srgbClr val="fa0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69880" y="248616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ML</a:t>
            </a:r>
            <a:endParaRPr b="0" lang="en-US" sz="2400" spc="-1" strike="noStrike">
              <a:solidFill>
                <a:srgbClr val="000000"/>
              </a:solidFill>
              <a:latin typeface="Times New Roman"/>
            </a:endParaRPr>
          </a:p>
        </p:txBody>
      </p:sp>
      <p:sp>
        <p:nvSpPr>
          <p:cNvPr id="168" name=""/>
          <p:cNvSpPr/>
          <p:nvPr/>
        </p:nvSpPr>
        <p:spPr>
          <a:xfrm>
            <a:off x="1528920" y="1623960"/>
            <a:ext cx="1685880" cy="797040"/>
          </a:xfrm>
          <a:custGeom>
            <a:avLst/>
            <a:gdLst>
              <a:gd name="textAreaLeft" fmla="*/ 263160 w 1685880"/>
              <a:gd name="textAreaRight" fmla="*/ 1475280 w 1685880"/>
              <a:gd name="textAreaTop" fmla="*/ 199080 h 797040"/>
              <a:gd name="textAreaBottom" fmla="*/ 597960 h 79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ba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2040" y="1830240"/>
            <a:ext cx="788760" cy="385920"/>
          </a:xfrm>
          <a:prstGeom prst="rect">
            <a:avLst/>
          </a:prstGeom>
          <a:solidFill>
            <a:srgbClr val="ffba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47880" y="18064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a:t>
            </a:r>
            <a:endParaRPr b="0" lang="en-US" sz="2400" spc="-1" strike="noStrike">
              <a:solidFill>
                <a:srgbClr val="000000"/>
              </a:solidFill>
              <a:latin typeface="Times New Roman"/>
            </a:endParaRPr>
          </a:p>
        </p:txBody>
      </p:sp>
      <p:sp>
        <p:nvSpPr>
          <p:cNvPr id="171" name=""/>
          <p:cNvSpPr/>
          <p:nvPr/>
        </p:nvSpPr>
        <p:spPr>
          <a:xfrm>
            <a:off x="236520" y="5738760"/>
            <a:ext cx="3743280" cy="817560"/>
          </a:xfrm>
          <a:prstGeom prst="roundRect">
            <a:avLst>
              <a:gd name="adj" fmla="val 16667"/>
            </a:avLst>
          </a:prstGeom>
          <a:solidFill>
            <a:srgbClr val="ffffff"/>
          </a:solidFill>
          <a:ln w="12600">
            <a:solidFill>
              <a:srgbClr val="00005e"/>
            </a:solidFill>
            <a:miter/>
          </a:ln>
          <a:effectLst>
            <a:outerShdw dist="17819" dir="2700000" blurRad="0" rotWithShape="0">
              <a:srgbClr val="00005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20" y="5765760"/>
            <a:ext cx="3625920" cy="7797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ML is building the language and tools to realize the bold vision of the Semantic We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41320" y="2027160"/>
            <a:ext cx="0" cy="418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1320" y="6197760"/>
            <a:ext cx="724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70760" y="257508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Arial Narrow"/>
              </a:rPr>
              <a:t>HTML</a:t>
            </a:r>
            <a:endParaRPr b="0" lang="en-US" sz="2400" spc="-1" strike="noStrike">
              <a:solidFill>
                <a:srgbClr val="000000"/>
              </a:solidFill>
              <a:latin typeface="Times New Roman"/>
            </a:endParaRPr>
          </a:p>
        </p:txBody>
      </p:sp>
      <p:sp>
        <p:nvSpPr>
          <p:cNvPr id="176" name=""/>
          <p:cNvSpPr/>
          <p:nvPr/>
        </p:nvSpPr>
        <p:spPr>
          <a:xfrm>
            <a:off x="203760" y="1968480"/>
            <a:ext cx="65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00%</a:t>
            </a:r>
            <a:endParaRPr b="0" lang="en-US" sz="1800" spc="-1" strike="noStrike">
              <a:solidFill>
                <a:srgbClr val="000000"/>
              </a:solidFill>
              <a:latin typeface="Times New Roman"/>
            </a:endParaRPr>
          </a:p>
        </p:txBody>
      </p:sp>
      <p:sp>
        <p:nvSpPr>
          <p:cNvPr id="177" name=""/>
          <p:cNvSpPr/>
          <p:nvPr/>
        </p:nvSpPr>
        <p:spPr>
          <a:xfrm>
            <a:off x="318960" y="376560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50%</a:t>
            </a:r>
            <a:endParaRPr b="0" lang="en-US" sz="1800" spc="-1" strike="noStrike">
              <a:solidFill>
                <a:srgbClr val="000000"/>
              </a:solidFill>
              <a:latin typeface="Times New Roman"/>
            </a:endParaRPr>
          </a:p>
        </p:txBody>
      </p:sp>
      <p:sp>
        <p:nvSpPr>
          <p:cNvPr id="178" name=""/>
          <p:cNvSpPr/>
          <p:nvPr/>
        </p:nvSpPr>
        <p:spPr>
          <a:xfrm>
            <a:off x="418320" y="591336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179" name=""/>
          <p:cNvSpPr/>
          <p:nvPr/>
        </p:nvSpPr>
        <p:spPr>
          <a:xfrm>
            <a:off x="7094880" y="390204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0f33"/>
                </a:solidFill>
                <a:latin typeface="Arial Narrow"/>
              </a:rPr>
              <a:t>XML</a:t>
            </a:r>
            <a:endParaRPr b="0" lang="en-US" sz="2400" spc="-1" strike="noStrike">
              <a:solidFill>
                <a:srgbClr val="000000"/>
              </a:solidFill>
              <a:latin typeface="Times New Roman"/>
            </a:endParaRPr>
          </a:p>
        </p:txBody>
      </p:sp>
      <p:sp>
        <p:nvSpPr>
          <p:cNvPr id="180" name=""/>
          <p:cNvSpPr/>
          <p:nvPr/>
        </p:nvSpPr>
        <p:spPr>
          <a:xfrm>
            <a:off x="6900120" y="32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63ab"/>
                </a:solidFill>
                <a:latin typeface="Arial Narrow"/>
              </a:rPr>
              <a:t>DAML</a:t>
            </a:r>
            <a:endParaRPr b="0" lang="en-US" sz="2400" spc="-1" strike="noStrike">
              <a:solidFill>
                <a:srgbClr val="000000"/>
              </a:solidFill>
              <a:latin typeface="Times New Roman"/>
            </a:endParaRPr>
          </a:p>
        </p:txBody>
      </p:sp>
      <p:sp>
        <p:nvSpPr>
          <p:cNvPr id="181" name=""/>
          <p:cNvSpPr/>
          <p:nvPr/>
        </p:nvSpPr>
        <p:spPr>
          <a:xfrm>
            <a:off x="535680" y="6157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0</a:t>
            </a:r>
            <a:endParaRPr b="0" lang="en-US" sz="1800" spc="-1" strike="noStrike">
              <a:solidFill>
                <a:srgbClr val="000000"/>
              </a:solidFill>
              <a:latin typeface="Times New Roman"/>
            </a:endParaRPr>
          </a:p>
        </p:txBody>
      </p:sp>
      <p:sp>
        <p:nvSpPr>
          <p:cNvPr id="182" name=""/>
          <p:cNvSpPr/>
          <p:nvPr/>
        </p:nvSpPr>
        <p:spPr>
          <a:xfrm>
            <a:off x="4164840" y="616428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5</a:t>
            </a:r>
            <a:endParaRPr b="0" lang="en-US" sz="1800" spc="-1" strike="noStrike">
              <a:solidFill>
                <a:srgbClr val="000000"/>
              </a:solidFill>
              <a:latin typeface="Times New Roman"/>
            </a:endParaRPr>
          </a:p>
        </p:txBody>
      </p:sp>
      <p:sp>
        <p:nvSpPr>
          <p:cNvPr id="183" name=""/>
          <p:cNvSpPr/>
          <p:nvPr/>
        </p:nvSpPr>
        <p:spPr>
          <a:xfrm>
            <a:off x="7590600" y="614376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10</a:t>
            </a:r>
            <a:endParaRPr b="0" lang="en-US" sz="1800" spc="-1" strike="noStrike">
              <a:solidFill>
                <a:srgbClr val="000000"/>
              </a:solidFill>
              <a:latin typeface="Times New Roman"/>
            </a:endParaRPr>
          </a:p>
        </p:txBody>
      </p:sp>
      <p:sp>
        <p:nvSpPr>
          <p:cNvPr id="184" name=""/>
          <p:cNvSpPr/>
          <p:nvPr/>
        </p:nvSpPr>
        <p:spPr>
          <a:xfrm>
            <a:off x="861840" y="3848040"/>
            <a:ext cx="7393320" cy="2262240"/>
          </a:xfrm>
          <a:custGeom>
            <a:avLst/>
            <a:gdLst/>
            <a:ahLst/>
            <a:rect l="l" t="t" r="r" b="b"/>
            <a:pathLst>
              <a:path w="4547" h="1416">
                <a:moveTo>
                  <a:pt x="0" y="1416"/>
                </a:moveTo>
                <a:cubicBezTo>
                  <a:pt x="35" y="1399"/>
                  <a:pt x="132" y="1348"/>
                  <a:pt x="210" y="1312"/>
                </a:cubicBezTo>
                <a:cubicBezTo>
                  <a:pt x="288" y="1276"/>
                  <a:pt x="390" y="1243"/>
                  <a:pt x="470" y="1200"/>
                </a:cubicBezTo>
                <a:cubicBezTo>
                  <a:pt x="550" y="1157"/>
                  <a:pt x="629" y="1096"/>
                  <a:pt x="689" y="1052"/>
                </a:cubicBezTo>
                <a:cubicBezTo>
                  <a:pt x="749" y="1008"/>
                  <a:pt x="781" y="995"/>
                  <a:pt x="828" y="938"/>
                </a:cubicBezTo>
                <a:cubicBezTo>
                  <a:pt x="875" y="881"/>
                  <a:pt x="924" y="788"/>
                  <a:pt x="968" y="713"/>
                </a:cubicBezTo>
                <a:cubicBezTo>
                  <a:pt x="1012" y="638"/>
                  <a:pt x="1056" y="554"/>
                  <a:pt x="1092" y="488"/>
                </a:cubicBezTo>
                <a:cubicBezTo>
                  <a:pt x="1128" y="422"/>
                  <a:pt x="1154" y="363"/>
                  <a:pt x="1185" y="316"/>
                </a:cubicBezTo>
                <a:cubicBezTo>
                  <a:pt x="1216" y="269"/>
                  <a:pt x="1244" y="245"/>
                  <a:pt x="1276" y="204"/>
                </a:cubicBezTo>
                <a:cubicBezTo>
                  <a:pt x="1308" y="163"/>
                  <a:pt x="1333" y="100"/>
                  <a:pt x="1377" y="68"/>
                </a:cubicBezTo>
                <a:cubicBezTo>
                  <a:pt x="1421" y="36"/>
                  <a:pt x="1505" y="18"/>
                  <a:pt x="1543" y="9"/>
                </a:cubicBezTo>
                <a:cubicBezTo>
                  <a:pt x="1581" y="0"/>
                  <a:pt x="1579" y="14"/>
                  <a:pt x="1608" y="15"/>
                </a:cubicBezTo>
                <a:cubicBezTo>
                  <a:pt x="1637" y="16"/>
                  <a:pt x="1663" y="12"/>
                  <a:pt x="1715" y="14"/>
                </a:cubicBezTo>
                <a:cubicBezTo>
                  <a:pt x="1767" y="16"/>
                  <a:pt x="1861" y="23"/>
                  <a:pt x="1922" y="26"/>
                </a:cubicBezTo>
                <a:cubicBezTo>
                  <a:pt x="1983" y="29"/>
                  <a:pt x="2030" y="29"/>
                  <a:pt x="2082" y="32"/>
                </a:cubicBezTo>
                <a:cubicBezTo>
                  <a:pt x="2134" y="35"/>
                  <a:pt x="2187" y="38"/>
                  <a:pt x="2236" y="44"/>
                </a:cubicBezTo>
                <a:cubicBezTo>
                  <a:pt x="2285" y="50"/>
                  <a:pt x="2323" y="62"/>
                  <a:pt x="2378" y="68"/>
                </a:cubicBezTo>
                <a:cubicBezTo>
                  <a:pt x="2433" y="74"/>
                  <a:pt x="2510" y="76"/>
                  <a:pt x="2568" y="80"/>
                </a:cubicBezTo>
                <a:cubicBezTo>
                  <a:pt x="2626" y="84"/>
                  <a:pt x="2676" y="86"/>
                  <a:pt x="2728" y="92"/>
                </a:cubicBezTo>
                <a:cubicBezTo>
                  <a:pt x="2780" y="98"/>
                  <a:pt x="2825" y="106"/>
                  <a:pt x="2882" y="115"/>
                </a:cubicBezTo>
                <a:cubicBezTo>
                  <a:pt x="2939" y="124"/>
                  <a:pt x="3002" y="135"/>
                  <a:pt x="3072" y="145"/>
                </a:cubicBezTo>
                <a:cubicBezTo>
                  <a:pt x="3142" y="155"/>
                  <a:pt x="3207" y="162"/>
                  <a:pt x="3303" y="174"/>
                </a:cubicBezTo>
                <a:cubicBezTo>
                  <a:pt x="3399" y="186"/>
                  <a:pt x="3439" y="177"/>
                  <a:pt x="3646" y="215"/>
                </a:cubicBezTo>
                <a:cubicBezTo>
                  <a:pt x="3853" y="253"/>
                  <a:pt x="4359" y="362"/>
                  <a:pt x="4547" y="400"/>
                </a:cubicBezTo>
              </a:path>
            </a:pathLst>
          </a:custGeom>
          <a:noFill/>
          <a:ln w="28440">
            <a:solidFill>
              <a:srgbClr val="fa0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61840" y="2139840"/>
            <a:ext cx="7169400" cy="2698920"/>
          </a:xfrm>
          <a:custGeom>
            <a:avLst/>
            <a:gdLst/>
            <a:ahLst/>
            <a:rect l="l" t="t" r="r" b="b"/>
            <a:pathLst>
              <a:path w="4516" h="2554">
                <a:moveTo>
                  <a:pt x="0" y="0"/>
                </a:moveTo>
                <a:cubicBezTo>
                  <a:pt x="90" y="5"/>
                  <a:pt x="181" y="10"/>
                  <a:pt x="283" y="37"/>
                </a:cubicBezTo>
                <a:cubicBezTo>
                  <a:pt x="385" y="64"/>
                  <a:pt x="525" y="118"/>
                  <a:pt x="612" y="165"/>
                </a:cubicBezTo>
                <a:cubicBezTo>
                  <a:pt x="699" y="212"/>
                  <a:pt x="751" y="270"/>
                  <a:pt x="804" y="320"/>
                </a:cubicBezTo>
                <a:cubicBezTo>
                  <a:pt x="857" y="370"/>
                  <a:pt x="889" y="414"/>
                  <a:pt x="932" y="467"/>
                </a:cubicBezTo>
                <a:cubicBezTo>
                  <a:pt x="975" y="520"/>
                  <a:pt x="1010" y="541"/>
                  <a:pt x="1060" y="640"/>
                </a:cubicBezTo>
                <a:cubicBezTo>
                  <a:pt x="1110" y="739"/>
                  <a:pt x="1179" y="927"/>
                  <a:pt x="1234" y="1061"/>
                </a:cubicBezTo>
                <a:cubicBezTo>
                  <a:pt x="1289" y="1195"/>
                  <a:pt x="1350" y="1346"/>
                  <a:pt x="1390" y="1445"/>
                </a:cubicBezTo>
                <a:cubicBezTo>
                  <a:pt x="1430" y="1544"/>
                  <a:pt x="1452" y="1606"/>
                  <a:pt x="1472" y="1655"/>
                </a:cubicBezTo>
                <a:cubicBezTo>
                  <a:pt x="1492" y="1704"/>
                  <a:pt x="1493" y="1706"/>
                  <a:pt x="1508" y="1738"/>
                </a:cubicBezTo>
                <a:cubicBezTo>
                  <a:pt x="1523" y="1770"/>
                  <a:pt x="1514" y="1772"/>
                  <a:pt x="1563" y="1847"/>
                </a:cubicBezTo>
                <a:cubicBezTo>
                  <a:pt x="1612" y="1922"/>
                  <a:pt x="1734" y="2101"/>
                  <a:pt x="1801" y="2186"/>
                </a:cubicBezTo>
                <a:cubicBezTo>
                  <a:pt x="1868" y="2271"/>
                  <a:pt x="1891" y="2307"/>
                  <a:pt x="1966" y="2359"/>
                </a:cubicBezTo>
                <a:cubicBezTo>
                  <a:pt x="2041" y="2411"/>
                  <a:pt x="2110" y="2467"/>
                  <a:pt x="2249" y="2496"/>
                </a:cubicBezTo>
                <a:cubicBezTo>
                  <a:pt x="2388" y="2525"/>
                  <a:pt x="2608" y="2524"/>
                  <a:pt x="2798" y="2533"/>
                </a:cubicBezTo>
                <a:cubicBezTo>
                  <a:pt x="2988" y="2542"/>
                  <a:pt x="3106" y="2548"/>
                  <a:pt x="3392" y="2551"/>
                </a:cubicBezTo>
                <a:cubicBezTo>
                  <a:pt x="3678" y="2554"/>
                  <a:pt x="4097" y="2552"/>
                  <a:pt x="4516" y="2551"/>
                </a:cubicBezTo>
              </a:path>
            </a:pathLst>
          </a:custGeom>
          <a:noFill/>
          <a:ln w="28440">
            <a:solidFill>
              <a:srgbClr val="ffba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63ab"/>
                </a:solidFill>
                <a:latin typeface="Arial Black"/>
              </a:rPr>
              <a:t>Web Migration to New Technology</a:t>
            </a:r>
            <a:endParaRPr b="1" lang="en-US" sz="2400" spc="-1" strike="noStrike">
              <a:solidFill>
                <a:srgbClr val="2163ab"/>
              </a:solidFill>
              <a:latin typeface="Arial Black"/>
            </a:endParaRPr>
          </a:p>
        </p:txBody>
      </p:sp>
      <p:sp>
        <p:nvSpPr>
          <p:cNvPr id="187" name=""/>
          <p:cNvSpPr/>
          <p:nvPr/>
        </p:nvSpPr>
        <p:spPr>
          <a:xfrm>
            <a:off x="865080" y="3943440"/>
            <a:ext cx="723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78040" y="437832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66880" y="481968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70120" y="525456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63640" y="570852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51040" y="2141640"/>
            <a:ext cx="723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39880" y="258300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43120" y="301788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36640" y="3471840"/>
            <a:ext cx="72342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68840" y="5083200"/>
            <a:ext cx="349236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chnical"/>
              </a:rPr>
              <a:t>“</a:t>
            </a:r>
            <a:r>
              <a:rPr b="1" lang="en-US" sz="1600" spc="-1" strike="noStrike">
                <a:solidFill>
                  <a:srgbClr val="000000"/>
                </a:solidFill>
                <a:latin typeface="Technical"/>
              </a:rPr>
              <a:t>Fifty percent of the content on the Web will be in XML format by the end of 2003” ……….Gartner Group</a:t>
            </a:r>
            <a:endParaRPr b="0" lang="en-US" sz="1600" spc="-1" strike="noStrike">
              <a:solidFill>
                <a:srgbClr val="000000"/>
              </a:solidFill>
              <a:latin typeface="Times New Roman"/>
            </a:endParaRPr>
          </a:p>
        </p:txBody>
      </p:sp>
      <p:sp>
        <p:nvSpPr>
          <p:cNvPr id="197" name=""/>
          <p:cNvSpPr/>
          <p:nvPr/>
        </p:nvSpPr>
        <p:spPr>
          <a:xfrm>
            <a:off x="2852640" y="961920"/>
            <a:ext cx="482436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chnical"/>
              </a:rPr>
              <a:t>“</a:t>
            </a:r>
            <a:r>
              <a:rPr b="1" lang="en-US" sz="1600" spc="-1" strike="noStrike">
                <a:solidFill>
                  <a:srgbClr val="000000"/>
                </a:solidFill>
                <a:latin typeface="Technical"/>
              </a:rPr>
              <a:t>In 30 years e-commerce will have become second nature. </a:t>
            </a:r>
            <a:r>
              <a:rPr b="1" lang="en-US" sz="1600" spc="-1" strike="noStrike" u="sng">
                <a:solidFill>
                  <a:srgbClr val="000000"/>
                </a:solidFill>
                <a:uFillTx/>
                <a:latin typeface="Technical"/>
              </a:rPr>
              <a:t>Lifelike, intelligent virtual assistants will be performing most routine transactions and simple negotiations</a:t>
            </a:r>
            <a:r>
              <a:rPr b="1" lang="en-US" sz="1600" spc="-1" strike="noStrike">
                <a:solidFill>
                  <a:srgbClr val="000000"/>
                </a:solidFill>
                <a:latin typeface="Technical"/>
              </a:rPr>
              <a:t> </a:t>
            </a:r>
            <a:r>
              <a:rPr b="1" lang="en-US" sz="1600" spc="-1" strike="noStrike" u="sng">
                <a:solidFill>
                  <a:srgbClr val="000000"/>
                </a:solidFill>
                <a:uFillTx/>
                <a:latin typeface="Technical"/>
              </a:rPr>
              <a:t>electronically on our behalf</a:t>
            </a:r>
            <a:r>
              <a:rPr b="1" lang="en-US" sz="1600" spc="-1" strike="noStrike">
                <a:solidFill>
                  <a:srgbClr val="000000"/>
                </a:solidFill>
                <a:latin typeface="Technical"/>
              </a:rPr>
              <a:t>. More technological change will have taken place in that period than during the entire twentieth century, and the curve will continue to steepen exponentially into the foreseeable future.” Ray Kurzweil</a:t>
            </a:r>
            <a:endParaRPr b="0" lang="en-US" sz="1600" spc="-1" strike="noStrike">
              <a:solidFill>
                <a:srgbClr val="000000"/>
              </a:solidFill>
              <a:latin typeface="Times New Roman"/>
            </a:endParaRPr>
          </a:p>
        </p:txBody>
      </p:sp>
      <p:sp>
        <p:nvSpPr>
          <p:cNvPr id="198" name=""/>
          <p:cNvSpPr/>
          <p:nvPr/>
        </p:nvSpPr>
        <p:spPr>
          <a:xfrm>
            <a:off x="835200" y="2935440"/>
            <a:ext cx="7188120" cy="3217680"/>
          </a:xfrm>
          <a:custGeom>
            <a:avLst/>
            <a:gdLst/>
            <a:ahLst/>
            <a:rect l="l" t="t" r="r" b="b"/>
            <a:pathLst>
              <a:path w="4528" h="2027">
                <a:moveTo>
                  <a:pt x="0" y="2027"/>
                </a:moveTo>
                <a:cubicBezTo>
                  <a:pt x="108" y="2018"/>
                  <a:pt x="216" y="2008"/>
                  <a:pt x="338" y="1989"/>
                </a:cubicBezTo>
                <a:cubicBezTo>
                  <a:pt x="460" y="1969"/>
                  <a:pt x="621" y="1937"/>
                  <a:pt x="732" y="1910"/>
                </a:cubicBezTo>
                <a:cubicBezTo>
                  <a:pt x="843" y="1883"/>
                  <a:pt x="941" y="1845"/>
                  <a:pt x="1006" y="1825"/>
                </a:cubicBezTo>
                <a:cubicBezTo>
                  <a:pt x="1071" y="1805"/>
                  <a:pt x="1056" y="1823"/>
                  <a:pt x="1125" y="1793"/>
                </a:cubicBezTo>
                <a:cubicBezTo>
                  <a:pt x="1194" y="1764"/>
                  <a:pt x="1318" y="1695"/>
                  <a:pt x="1417" y="1645"/>
                </a:cubicBezTo>
                <a:cubicBezTo>
                  <a:pt x="1516" y="1596"/>
                  <a:pt x="1612" y="1560"/>
                  <a:pt x="1719" y="1498"/>
                </a:cubicBezTo>
                <a:cubicBezTo>
                  <a:pt x="1826" y="1435"/>
                  <a:pt x="1944" y="1350"/>
                  <a:pt x="2057" y="1271"/>
                </a:cubicBezTo>
                <a:cubicBezTo>
                  <a:pt x="2170" y="1192"/>
                  <a:pt x="2285" y="1105"/>
                  <a:pt x="2396" y="1022"/>
                </a:cubicBezTo>
                <a:cubicBezTo>
                  <a:pt x="2507" y="939"/>
                  <a:pt x="2621" y="852"/>
                  <a:pt x="2725" y="772"/>
                </a:cubicBezTo>
                <a:cubicBezTo>
                  <a:pt x="2829" y="693"/>
                  <a:pt x="2921" y="621"/>
                  <a:pt x="3017" y="546"/>
                </a:cubicBezTo>
                <a:cubicBezTo>
                  <a:pt x="3113" y="472"/>
                  <a:pt x="3216" y="381"/>
                  <a:pt x="3301" y="328"/>
                </a:cubicBezTo>
                <a:cubicBezTo>
                  <a:pt x="3386" y="275"/>
                  <a:pt x="3436" y="257"/>
                  <a:pt x="3529" y="227"/>
                </a:cubicBezTo>
                <a:cubicBezTo>
                  <a:pt x="3622" y="197"/>
                  <a:pt x="3738" y="172"/>
                  <a:pt x="3858" y="149"/>
                </a:cubicBezTo>
                <a:cubicBezTo>
                  <a:pt x="3978" y="126"/>
                  <a:pt x="4140" y="112"/>
                  <a:pt x="4252" y="87"/>
                </a:cubicBezTo>
                <a:cubicBezTo>
                  <a:pt x="4364" y="62"/>
                  <a:pt x="4471" y="18"/>
                  <a:pt x="4528" y="0"/>
                </a:cubicBezTo>
              </a:path>
            </a:pathLst>
          </a:custGeom>
          <a:noFill/>
          <a:ln w="28440">
            <a:solidFill>
              <a:srgbClr val="2163a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846080" y="6273720"/>
            <a:ext cx="549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ke preparations to capture Bagram air base.”</a:t>
            </a:r>
            <a:endParaRPr b="0" lang="en-US" sz="1800" spc="-1" strike="noStrike">
              <a:solidFill>
                <a:srgbClr val="000000"/>
              </a:solidFill>
              <a:latin typeface="Times New Roman"/>
            </a:endParaRPr>
          </a:p>
        </p:txBody>
      </p:sp>
      <p:sp>
        <p:nvSpPr>
          <p:cNvPr id="200" name="PlaceHolder 1"/>
          <p:cNvSpPr>
            <a:spLocks noGrp="1"/>
          </p:cNvSpPr>
          <p:nvPr>
            <p:ph type="title"/>
          </p:nvPr>
        </p:nvSpPr>
        <p:spPr>
          <a:xfrm>
            <a:off x="322200" y="196560"/>
            <a:ext cx="8259840" cy="701640"/>
          </a:xfrm>
          <a:prstGeom prst="rect">
            <a:avLst/>
          </a:prstGeom>
          <a:noFill/>
          <a:ln w="0">
            <a:noFill/>
          </a:ln>
        </p:spPr>
        <p:txBody>
          <a:bodyPr lIns="46080" rIns="46080" tIns="46080" bIns="46080" anchor="t">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63ab"/>
                </a:solidFill>
                <a:latin typeface="Arial Black"/>
              </a:rPr>
              <a:t>The Bold Vision – Distributed</a:t>
            </a:r>
            <a:br>
              <a:rPr sz="2400"/>
            </a:br>
            <a:r>
              <a:rPr b="1" lang="en-US" sz="2400" spc="-1" strike="noStrike">
                <a:solidFill>
                  <a:srgbClr val="2163ab"/>
                </a:solidFill>
                <a:latin typeface="Arial Black"/>
              </a:rPr>
              <a:t>Agents on the Semantic Web</a:t>
            </a:r>
            <a:endParaRPr b="1" lang="en-US" sz="2400" spc="-1" strike="noStrike">
              <a:solidFill>
                <a:srgbClr val="2163ab"/>
              </a:solidFill>
              <a:latin typeface="Arial Black"/>
            </a:endParaRPr>
          </a:p>
        </p:txBody>
      </p:sp>
      <p:grpSp>
        <p:nvGrpSpPr>
          <p:cNvPr id="201" name=""/>
          <p:cNvGrpSpPr/>
          <p:nvPr/>
        </p:nvGrpSpPr>
        <p:grpSpPr>
          <a:xfrm>
            <a:off x="158760" y="1143000"/>
            <a:ext cx="8810640" cy="5086440"/>
            <a:chOff x="158760" y="1143000"/>
            <a:chExt cx="8810640" cy="5086440"/>
          </a:xfrm>
        </p:grpSpPr>
        <p:grpSp>
          <p:nvGrpSpPr>
            <p:cNvPr id="202" name=""/>
            <p:cNvGrpSpPr/>
            <p:nvPr/>
          </p:nvGrpSpPr>
          <p:grpSpPr>
            <a:xfrm>
              <a:off x="158760" y="1143000"/>
              <a:ext cx="8810640" cy="5086440"/>
              <a:chOff x="158760" y="1143000"/>
              <a:chExt cx="8810640" cy="5086440"/>
            </a:xfrm>
          </p:grpSpPr>
          <p:grpSp>
            <p:nvGrpSpPr>
              <p:cNvPr id="203" name=""/>
              <p:cNvGrpSpPr/>
              <p:nvPr/>
            </p:nvGrpSpPr>
            <p:grpSpPr>
              <a:xfrm>
                <a:off x="158760" y="1143000"/>
                <a:ext cx="8810640" cy="5067360"/>
                <a:chOff x="158760" y="1143000"/>
                <a:chExt cx="8810640" cy="5067360"/>
              </a:xfrm>
            </p:grpSpPr>
            <p:sp>
              <p:nvSpPr>
                <p:cNvPr id="204" name=""/>
                <p:cNvSpPr/>
                <p:nvPr/>
              </p:nvSpPr>
              <p:spPr>
                <a:xfrm>
                  <a:off x="174600" y="1143000"/>
                  <a:ext cx="8794800" cy="5067360"/>
                </a:xfrm>
                <a:custGeom>
                  <a:avLst/>
                  <a:gdLst/>
                  <a:ahLst/>
                  <a:rect l="l" t="t" r="r" b="b"/>
                  <a:pathLst>
                    <a:path w="5540" h="3192">
                      <a:moveTo>
                        <a:pt x="1292" y="3192"/>
                      </a:moveTo>
                      <a:lnTo>
                        <a:pt x="1272" y="3192"/>
                      </a:lnTo>
                      <a:lnTo>
                        <a:pt x="1252" y="3181"/>
                      </a:lnTo>
                      <a:lnTo>
                        <a:pt x="1232" y="3181"/>
                      </a:lnTo>
                      <a:lnTo>
                        <a:pt x="1212" y="3169"/>
                      </a:lnTo>
                      <a:lnTo>
                        <a:pt x="1182" y="3158"/>
                      </a:lnTo>
                      <a:lnTo>
                        <a:pt x="1162" y="3158"/>
                      </a:lnTo>
                      <a:lnTo>
                        <a:pt x="1142" y="3147"/>
                      </a:lnTo>
                      <a:lnTo>
                        <a:pt x="1122" y="3135"/>
                      </a:lnTo>
                      <a:lnTo>
                        <a:pt x="1102" y="3124"/>
                      </a:lnTo>
                      <a:lnTo>
                        <a:pt x="1082" y="3112"/>
                      </a:lnTo>
                      <a:lnTo>
                        <a:pt x="1062" y="3112"/>
                      </a:lnTo>
                      <a:lnTo>
                        <a:pt x="1042" y="3101"/>
                      </a:lnTo>
                      <a:lnTo>
                        <a:pt x="1022" y="3090"/>
                      </a:lnTo>
                      <a:lnTo>
                        <a:pt x="1002" y="3078"/>
                      </a:lnTo>
                      <a:lnTo>
                        <a:pt x="982" y="3067"/>
                      </a:lnTo>
                      <a:lnTo>
                        <a:pt x="962" y="3055"/>
                      </a:lnTo>
                      <a:lnTo>
                        <a:pt x="932" y="3044"/>
                      </a:lnTo>
                      <a:lnTo>
                        <a:pt x="912" y="3033"/>
                      </a:lnTo>
                      <a:lnTo>
                        <a:pt x="892" y="3021"/>
                      </a:lnTo>
                      <a:lnTo>
                        <a:pt x="872" y="3010"/>
                      </a:lnTo>
                      <a:lnTo>
                        <a:pt x="852" y="2998"/>
                      </a:lnTo>
                      <a:lnTo>
                        <a:pt x="832" y="2987"/>
                      </a:lnTo>
                      <a:lnTo>
                        <a:pt x="822" y="2976"/>
                      </a:lnTo>
                      <a:lnTo>
                        <a:pt x="802" y="2964"/>
                      </a:lnTo>
                      <a:lnTo>
                        <a:pt x="782" y="2953"/>
                      </a:lnTo>
                      <a:lnTo>
                        <a:pt x="762" y="2941"/>
                      </a:lnTo>
                      <a:lnTo>
                        <a:pt x="741" y="2930"/>
                      </a:lnTo>
                      <a:lnTo>
                        <a:pt x="721" y="2919"/>
                      </a:lnTo>
                      <a:lnTo>
                        <a:pt x="701" y="2896"/>
                      </a:lnTo>
                      <a:lnTo>
                        <a:pt x="681" y="2884"/>
                      </a:lnTo>
                      <a:lnTo>
                        <a:pt x="671" y="2873"/>
                      </a:lnTo>
                      <a:lnTo>
                        <a:pt x="651" y="2862"/>
                      </a:lnTo>
                      <a:lnTo>
                        <a:pt x="631" y="2850"/>
                      </a:lnTo>
                      <a:lnTo>
                        <a:pt x="611" y="2827"/>
                      </a:lnTo>
                      <a:lnTo>
                        <a:pt x="591" y="2816"/>
                      </a:lnTo>
                      <a:lnTo>
                        <a:pt x="581" y="2805"/>
                      </a:lnTo>
                      <a:lnTo>
                        <a:pt x="561" y="2782"/>
                      </a:lnTo>
                      <a:lnTo>
                        <a:pt x="541" y="2770"/>
                      </a:lnTo>
                      <a:lnTo>
                        <a:pt x="521" y="2759"/>
                      </a:lnTo>
                      <a:lnTo>
                        <a:pt x="511" y="2736"/>
                      </a:lnTo>
                      <a:lnTo>
                        <a:pt x="491" y="2725"/>
                      </a:lnTo>
                      <a:lnTo>
                        <a:pt x="471" y="2702"/>
                      </a:lnTo>
                      <a:lnTo>
                        <a:pt x="451" y="2691"/>
                      </a:lnTo>
                      <a:lnTo>
                        <a:pt x="441" y="2679"/>
                      </a:lnTo>
                      <a:lnTo>
                        <a:pt x="421" y="2656"/>
                      </a:lnTo>
                      <a:lnTo>
                        <a:pt x="401" y="2645"/>
                      </a:lnTo>
                      <a:lnTo>
                        <a:pt x="391" y="2622"/>
                      </a:lnTo>
                      <a:lnTo>
                        <a:pt x="371" y="2611"/>
                      </a:lnTo>
                      <a:lnTo>
                        <a:pt x="361" y="2588"/>
                      </a:lnTo>
                      <a:lnTo>
                        <a:pt x="341" y="2577"/>
                      </a:lnTo>
                      <a:lnTo>
                        <a:pt x="321" y="2554"/>
                      </a:lnTo>
                      <a:lnTo>
                        <a:pt x="311" y="2531"/>
                      </a:lnTo>
                      <a:lnTo>
                        <a:pt x="291" y="2520"/>
                      </a:lnTo>
                      <a:lnTo>
                        <a:pt x="281" y="2497"/>
                      </a:lnTo>
                      <a:lnTo>
                        <a:pt x="261" y="2474"/>
                      </a:lnTo>
                      <a:lnTo>
                        <a:pt x="251" y="2463"/>
                      </a:lnTo>
                      <a:lnTo>
                        <a:pt x="241" y="2440"/>
                      </a:lnTo>
                      <a:lnTo>
                        <a:pt x="221" y="2417"/>
                      </a:lnTo>
                      <a:lnTo>
                        <a:pt x="211" y="2394"/>
                      </a:lnTo>
                      <a:lnTo>
                        <a:pt x="201" y="2383"/>
                      </a:lnTo>
                      <a:lnTo>
                        <a:pt x="181" y="2360"/>
                      </a:lnTo>
                      <a:lnTo>
                        <a:pt x="170" y="2337"/>
                      </a:lnTo>
                      <a:lnTo>
                        <a:pt x="160" y="2314"/>
                      </a:lnTo>
                      <a:lnTo>
                        <a:pt x="150" y="2292"/>
                      </a:lnTo>
                      <a:lnTo>
                        <a:pt x="140" y="2269"/>
                      </a:lnTo>
                      <a:lnTo>
                        <a:pt x="120" y="2246"/>
                      </a:lnTo>
                      <a:lnTo>
                        <a:pt x="110" y="2223"/>
                      </a:lnTo>
                      <a:lnTo>
                        <a:pt x="100" y="2200"/>
                      </a:lnTo>
                      <a:lnTo>
                        <a:pt x="90" y="2178"/>
                      </a:lnTo>
                      <a:lnTo>
                        <a:pt x="90" y="2155"/>
                      </a:lnTo>
                      <a:lnTo>
                        <a:pt x="80" y="2132"/>
                      </a:lnTo>
                      <a:lnTo>
                        <a:pt x="70" y="2109"/>
                      </a:lnTo>
                      <a:lnTo>
                        <a:pt x="60" y="2086"/>
                      </a:lnTo>
                      <a:lnTo>
                        <a:pt x="60" y="2064"/>
                      </a:lnTo>
                      <a:lnTo>
                        <a:pt x="50" y="2041"/>
                      </a:lnTo>
                      <a:lnTo>
                        <a:pt x="40" y="2007"/>
                      </a:lnTo>
                      <a:lnTo>
                        <a:pt x="40" y="1984"/>
                      </a:lnTo>
                      <a:lnTo>
                        <a:pt x="30" y="1961"/>
                      </a:lnTo>
                      <a:lnTo>
                        <a:pt x="20" y="1927"/>
                      </a:lnTo>
                      <a:lnTo>
                        <a:pt x="20" y="1904"/>
                      </a:lnTo>
                      <a:lnTo>
                        <a:pt x="10" y="1870"/>
                      </a:lnTo>
                      <a:lnTo>
                        <a:pt x="10" y="1847"/>
                      </a:lnTo>
                      <a:lnTo>
                        <a:pt x="0" y="1813"/>
                      </a:lnTo>
                      <a:lnTo>
                        <a:pt x="0" y="1790"/>
                      </a:lnTo>
                      <a:lnTo>
                        <a:pt x="0" y="1767"/>
                      </a:lnTo>
                      <a:lnTo>
                        <a:pt x="0" y="1733"/>
                      </a:lnTo>
                      <a:lnTo>
                        <a:pt x="0" y="1710"/>
                      </a:lnTo>
                      <a:lnTo>
                        <a:pt x="0" y="1687"/>
                      </a:lnTo>
                      <a:lnTo>
                        <a:pt x="0" y="1665"/>
                      </a:lnTo>
                      <a:lnTo>
                        <a:pt x="0" y="1630"/>
                      </a:lnTo>
                      <a:lnTo>
                        <a:pt x="0" y="1608"/>
                      </a:lnTo>
                      <a:lnTo>
                        <a:pt x="0" y="1585"/>
                      </a:lnTo>
                      <a:lnTo>
                        <a:pt x="0" y="1550"/>
                      </a:lnTo>
                      <a:lnTo>
                        <a:pt x="0" y="1528"/>
                      </a:lnTo>
                      <a:lnTo>
                        <a:pt x="0" y="1493"/>
                      </a:lnTo>
                      <a:lnTo>
                        <a:pt x="0" y="1471"/>
                      </a:lnTo>
                      <a:lnTo>
                        <a:pt x="0" y="1436"/>
                      </a:lnTo>
                      <a:lnTo>
                        <a:pt x="10" y="1402"/>
                      </a:lnTo>
                      <a:lnTo>
                        <a:pt x="10" y="1368"/>
                      </a:lnTo>
                      <a:lnTo>
                        <a:pt x="20" y="1334"/>
                      </a:lnTo>
                      <a:lnTo>
                        <a:pt x="20" y="1300"/>
                      </a:lnTo>
                      <a:lnTo>
                        <a:pt x="30" y="1277"/>
                      </a:lnTo>
                      <a:lnTo>
                        <a:pt x="30" y="1254"/>
                      </a:lnTo>
                      <a:lnTo>
                        <a:pt x="40" y="1231"/>
                      </a:lnTo>
                      <a:lnTo>
                        <a:pt x="40" y="1208"/>
                      </a:lnTo>
                      <a:lnTo>
                        <a:pt x="50" y="1186"/>
                      </a:lnTo>
                      <a:lnTo>
                        <a:pt x="50" y="1163"/>
                      </a:lnTo>
                      <a:lnTo>
                        <a:pt x="60" y="1140"/>
                      </a:lnTo>
                      <a:lnTo>
                        <a:pt x="70" y="1117"/>
                      </a:lnTo>
                      <a:lnTo>
                        <a:pt x="80" y="1094"/>
                      </a:lnTo>
                      <a:lnTo>
                        <a:pt x="80" y="1072"/>
                      </a:lnTo>
                      <a:lnTo>
                        <a:pt x="90" y="1049"/>
                      </a:lnTo>
                      <a:lnTo>
                        <a:pt x="100" y="1026"/>
                      </a:lnTo>
                      <a:lnTo>
                        <a:pt x="110" y="1003"/>
                      </a:lnTo>
                      <a:lnTo>
                        <a:pt x="120" y="980"/>
                      </a:lnTo>
                      <a:lnTo>
                        <a:pt x="130" y="958"/>
                      </a:lnTo>
                      <a:lnTo>
                        <a:pt x="140" y="935"/>
                      </a:lnTo>
                      <a:lnTo>
                        <a:pt x="150" y="912"/>
                      </a:lnTo>
                      <a:lnTo>
                        <a:pt x="160" y="901"/>
                      </a:lnTo>
                      <a:lnTo>
                        <a:pt x="170" y="866"/>
                      </a:lnTo>
                      <a:lnTo>
                        <a:pt x="191" y="844"/>
                      </a:lnTo>
                      <a:lnTo>
                        <a:pt x="201" y="821"/>
                      </a:lnTo>
                      <a:lnTo>
                        <a:pt x="211" y="809"/>
                      </a:lnTo>
                      <a:lnTo>
                        <a:pt x="221" y="787"/>
                      </a:lnTo>
                      <a:lnTo>
                        <a:pt x="241" y="764"/>
                      </a:lnTo>
                      <a:lnTo>
                        <a:pt x="251" y="752"/>
                      </a:lnTo>
                      <a:lnTo>
                        <a:pt x="261" y="730"/>
                      </a:lnTo>
                      <a:lnTo>
                        <a:pt x="281" y="707"/>
                      </a:lnTo>
                      <a:lnTo>
                        <a:pt x="291" y="695"/>
                      </a:lnTo>
                      <a:lnTo>
                        <a:pt x="311" y="673"/>
                      </a:lnTo>
                      <a:lnTo>
                        <a:pt x="321" y="661"/>
                      </a:lnTo>
                      <a:lnTo>
                        <a:pt x="341" y="638"/>
                      </a:lnTo>
                      <a:lnTo>
                        <a:pt x="351" y="616"/>
                      </a:lnTo>
                      <a:lnTo>
                        <a:pt x="371" y="604"/>
                      </a:lnTo>
                      <a:lnTo>
                        <a:pt x="381" y="581"/>
                      </a:lnTo>
                      <a:lnTo>
                        <a:pt x="401" y="570"/>
                      </a:lnTo>
                      <a:lnTo>
                        <a:pt x="411" y="547"/>
                      </a:lnTo>
                      <a:lnTo>
                        <a:pt x="431" y="536"/>
                      </a:lnTo>
                      <a:lnTo>
                        <a:pt x="451" y="524"/>
                      </a:lnTo>
                      <a:lnTo>
                        <a:pt x="461" y="502"/>
                      </a:lnTo>
                      <a:lnTo>
                        <a:pt x="481" y="490"/>
                      </a:lnTo>
                      <a:lnTo>
                        <a:pt x="491" y="467"/>
                      </a:lnTo>
                      <a:lnTo>
                        <a:pt x="511" y="456"/>
                      </a:lnTo>
                      <a:lnTo>
                        <a:pt x="531" y="445"/>
                      </a:lnTo>
                      <a:lnTo>
                        <a:pt x="551" y="422"/>
                      </a:lnTo>
                      <a:lnTo>
                        <a:pt x="561" y="410"/>
                      </a:lnTo>
                      <a:lnTo>
                        <a:pt x="581" y="399"/>
                      </a:lnTo>
                      <a:lnTo>
                        <a:pt x="601" y="388"/>
                      </a:lnTo>
                      <a:lnTo>
                        <a:pt x="621" y="365"/>
                      </a:lnTo>
                      <a:lnTo>
                        <a:pt x="631" y="353"/>
                      </a:lnTo>
                      <a:lnTo>
                        <a:pt x="651" y="342"/>
                      </a:lnTo>
                      <a:lnTo>
                        <a:pt x="671" y="331"/>
                      </a:lnTo>
                      <a:lnTo>
                        <a:pt x="691" y="308"/>
                      </a:lnTo>
                      <a:lnTo>
                        <a:pt x="701" y="296"/>
                      </a:lnTo>
                      <a:lnTo>
                        <a:pt x="721" y="285"/>
                      </a:lnTo>
                      <a:lnTo>
                        <a:pt x="741" y="274"/>
                      </a:lnTo>
                      <a:lnTo>
                        <a:pt x="762" y="262"/>
                      </a:lnTo>
                      <a:lnTo>
                        <a:pt x="782" y="251"/>
                      </a:lnTo>
                      <a:lnTo>
                        <a:pt x="802" y="239"/>
                      </a:lnTo>
                      <a:lnTo>
                        <a:pt x="822" y="217"/>
                      </a:lnTo>
                      <a:lnTo>
                        <a:pt x="842" y="205"/>
                      </a:lnTo>
                      <a:lnTo>
                        <a:pt x="862" y="194"/>
                      </a:lnTo>
                      <a:lnTo>
                        <a:pt x="882" y="182"/>
                      </a:lnTo>
                      <a:lnTo>
                        <a:pt x="902" y="171"/>
                      </a:lnTo>
                      <a:lnTo>
                        <a:pt x="922" y="160"/>
                      </a:lnTo>
                      <a:lnTo>
                        <a:pt x="942" y="148"/>
                      </a:lnTo>
                      <a:lnTo>
                        <a:pt x="972" y="137"/>
                      </a:lnTo>
                      <a:lnTo>
                        <a:pt x="992" y="125"/>
                      </a:lnTo>
                      <a:lnTo>
                        <a:pt x="1022" y="114"/>
                      </a:lnTo>
                      <a:lnTo>
                        <a:pt x="1042" y="103"/>
                      </a:lnTo>
                      <a:lnTo>
                        <a:pt x="1062" y="91"/>
                      </a:lnTo>
                      <a:lnTo>
                        <a:pt x="1082" y="91"/>
                      </a:lnTo>
                      <a:lnTo>
                        <a:pt x="1102" y="80"/>
                      </a:lnTo>
                      <a:lnTo>
                        <a:pt x="1132" y="68"/>
                      </a:lnTo>
                      <a:lnTo>
                        <a:pt x="1152" y="57"/>
                      </a:lnTo>
                      <a:lnTo>
                        <a:pt x="1182" y="46"/>
                      </a:lnTo>
                      <a:lnTo>
                        <a:pt x="1212" y="34"/>
                      </a:lnTo>
                      <a:lnTo>
                        <a:pt x="1232" y="23"/>
                      </a:lnTo>
                      <a:lnTo>
                        <a:pt x="1262" y="11"/>
                      </a:lnTo>
                      <a:lnTo>
                        <a:pt x="1282" y="11"/>
                      </a:lnTo>
                      <a:lnTo>
                        <a:pt x="1292" y="0"/>
                      </a:lnTo>
                      <a:lnTo>
                        <a:pt x="1312" y="0"/>
                      </a:lnTo>
                      <a:lnTo>
                        <a:pt x="1333" y="0"/>
                      </a:lnTo>
                      <a:lnTo>
                        <a:pt x="1363" y="0"/>
                      </a:lnTo>
                      <a:lnTo>
                        <a:pt x="1383" y="0"/>
                      </a:lnTo>
                      <a:lnTo>
                        <a:pt x="1403" y="0"/>
                      </a:lnTo>
                      <a:lnTo>
                        <a:pt x="1423" y="0"/>
                      </a:lnTo>
                      <a:lnTo>
                        <a:pt x="1443" y="0"/>
                      </a:lnTo>
                      <a:lnTo>
                        <a:pt x="1473" y="0"/>
                      </a:lnTo>
                      <a:lnTo>
                        <a:pt x="1493" y="0"/>
                      </a:lnTo>
                      <a:lnTo>
                        <a:pt x="1513" y="0"/>
                      </a:lnTo>
                      <a:lnTo>
                        <a:pt x="1533" y="0"/>
                      </a:lnTo>
                      <a:lnTo>
                        <a:pt x="1553" y="0"/>
                      </a:lnTo>
                      <a:lnTo>
                        <a:pt x="1573" y="0"/>
                      </a:lnTo>
                      <a:lnTo>
                        <a:pt x="1603" y="0"/>
                      </a:lnTo>
                      <a:lnTo>
                        <a:pt x="1623" y="0"/>
                      </a:lnTo>
                      <a:lnTo>
                        <a:pt x="1643" y="0"/>
                      </a:lnTo>
                      <a:lnTo>
                        <a:pt x="1663" y="0"/>
                      </a:lnTo>
                      <a:lnTo>
                        <a:pt x="1683" y="0"/>
                      </a:lnTo>
                      <a:lnTo>
                        <a:pt x="1703" y="0"/>
                      </a:lnTo>
                      <a:lnTo>
                        <a:pt x="1733" y="0"/>
                      </a:lnTo>
                      <a:lnTo>
                        <a:pt x="1753" y="0"/>
                      </a:lnTo>
                      <a:lnTo>
                        <a:pt x="1773" y="0"/>
                      </a:lnTo>
                      <a:lnTo>
                        <a:pt x="1793" y="0"/>
                      </a:lnTo>
                      <a:lnTo>
                        <a:pt x="1813" y="0"/>
                      </a:lnTo>
                      <a:lnTo>
                        <a:pt x="1833" y="0"/>
                      </a:lnTo>
                      <a:lnTo>
                        <a:pt x="1863" y="0"/>
                      </a:lnTo>
                      <a:lnTo>
                        <a:pt x="1883" y="0"/>
                      </a:lnTo>
                      <a:lnTo>
                        <a:pt x="1903" y="0"/>
                      </a:lnTo>
                      <a:lnTo>
                        <a:pt x="1924" y="0"/>
                      </a:lnTo>
                      <a:lnTo>
                        <a:pt x="1944" y="0"/>
                      </a:lnTo>
                      <a:lnTo>
                        <a:pt x="1964" y="0"/>
                      </a:lnTo>
                      <a:lnTo>
                        <a:pt x="1994" y="0"/>
                      </a:lnTo>
                      <a:lnTo>
                        <a:pt x="2014" y="0"/>
                      </a:lnTo>
                      <a:lnTo>
                        <a:pt x="2034" y="0"/>
                      </a:lnTo>
                      <a:lnTo>
                        <a:pt x="2054" y="0"/>
                      </a:lnTo>
                      <a:lnTo>
                        <a:pt x="2074" y="0"/>
                      </a:lnTo>
                      <a:lnTo>
                        <a:pt x="2094" y="0"/>
                      </a:lnTo>
                      <a:lnTo>
                        <a:pt x="2124" y="0"/>
                      </a:lnTo>
                      <a:lnTo>
                        <a:pt x="2144" y="0"/>
                      </a:lnTo>
                      <a:lnTo>
                        <a:pt x="2164" y="0"/>
                      </a:lnTo>
                      <a:lnTo>
                        <a:pt x="2184" y="0"/>
                      </a:lnTo>
                      <a:lnTo>
                        <a:pt x="2204" y="0"/>
                      </a:lnTo>
                      <a:lnTo>
                        <a:pt x="2234" y="0"/>
                      </a:lnTo>
                      <a:lnTo>
                        <a:pt x="2254" y="0"/>
                      </a:lnTo>
                      <a:lnTo>
                        <a:pt x="2274" y="0"/>
                      </a:lnTo>
                      <a:lnTo>
                        <a:pt x="2294" y="0"/>
                      </a:lnTo>
                      <a:lnTo>
                        <a:pt x="2314" y="0"/>
                      </a:lnTo>
                      <a:lnTo>
                        <a:pt x="2334" y="0"/>
                      </a:lnTo>
                      <a:lnTo>
                        <a:pt x="2364" y="0"/>
                      </a:lnTo>
                      <a:lnTo>
                        <a:pt x="2384" y="0"/>
                      </a:lnTo>
                      <a:lnTo>
                        <a:pt x="2404" y="0"/>
                      </a:lnTo>
                      <a:lnTo>
                        <a:pt x="2424" y="0"/>
                      </a:lnTo>
                      <a:lnTo>
                        <a:pt x="2444" y="0"/>
                      </a:lnTo>
                      <a:lnTo>
                        <a:pt x="2464" y="0"/>
                      </a:lnTo>
                      <a:lnTo>
                        <a:pt x="2495" y="0"/>
                      </a:lnTo>
                      <a:lnTo>
                        <a:pt x="2515" y="0"/>
                      </a:lnTo>
                      <a:lnTo>
                        <a:pt x="2535" y="0"/>
                      </a:lnTo>
                      <a:lnTo>
                        <a:pt x="2555" y="0"/>
                      </a:lnTo>
                      <a:lnTo>
                        <a:pt x="2575" y="0"/>
                      </a:lnTo>
                      <a:lnTo>
                        <a:pt x="2595" y="0"/>
                      </a:lnTo>
                      <a:lnTo>
                        <a:pt x="2625" y="0"/>
                      </a:lnTo>
                      <a:lnTo>
                        <a:pt x="2645" y="0"/>
                      </a:lnTo>
                      <a:lnTo>
                        <a:pt x="2665" y="0"/>
                      </a:lnTo>
                      <a:lnTo>
                        <a:pt x="2685" y="0"/>
                      </a:lnTo>
                      <a:lnTo>
                        <a:pt x="2705" y="0"/>
                      </a:lnTo>
                      <a:lnTo>
                        <a:pt x="2725" y="0"/>
                      </a:lnTo>
                      <a:lnTo>
                        <a:pt x="2755" y="0"/>
                      </a:lnTo>
                      <a:lnTo>
                        <a:pt x="2775" y="0"/>
                      </a:lnTo>
                      <a:lnTo>
                        <a:pt x="2795" y="0"/>
                      </a:lnTo>
                      <a:lnTo>
                        <a:pt x="2815" y="0"/>
                      </a:lnTo>
                      <a:lnTo>
                        <a:pt x="2835" y="0"/>
                      </a:lnTo>
                      <a:lnTo>
                        <a:pt x="2865" y="0"/>
                      </a:lnTo>
                      <a:lnTo>
                        <a:pt x="2895" y="0"/>
                      </a:lnTo>
                      <a:lnTo>
                        <a:pt x="2915" y="0"/>
                      </a:lnTo>
                      <a:lnTo>
                        <a:pt x="2935" y="0"/>
                      </a:lnTo>
                      <a:lnTo>
                        <a:pt x="2955" y="0"/>
                      </a:lnTo>
                      <a:lnTo>
                        <a:pt x="2975" y="0"/>
                      </a:lnTo>
                      <a:lnTo>
                        <a:pt x="3005" y="0"/>
                      </a:lnTo>
                      <a:lnTo>
                        <a:pt x="3025" y="0"/>
                      </a:lnTo>
                      <a:lnTo>
                        <a:pt x="3045" y="0"/>
                      </a:lnTo>
                      <a:lnTo>
                        <a:pt x="3066" y="0"/>
                      </a:lnTo>
                      <a:lnTo>
                        <a:pt x="3086" y="0"/>
                      </a:lnTo>
                      <a:lnTo>
                        <a:pt x="3106" y="0"/>
                      </a:lnTo>
                      <a:lnTo>
                        <a:pt x="3136" y="0"/>
                      </a:lnTo>
                      <a:lnTo>
                        <a:pt x="3156" y="0"/>
                      </a:lnTo>
                      <a:lnTo>
                        <a:pt x="3176" y="0"/>
                      </a:lnTo>
                      <a:lnTo>
                        <a:pt x="3196" y="0"/>
                      </a:lnTo>
                      <a:lnTo>
                        <a:pt x="3216" y="0"/>
                      </a:lnTo>
                      <a:lnTo>
                        <a:pt x="3236" y="0"/>
                      </a:lnTo>
                      <a:lnTo>
                        <a:pt x="3266" y="0"/>
                      </a:lnTo>
                      <a:lnTo>
                        <a:pt x="3286" y="0"/>
                      </a:lnTo>
                      <a:lnTo>
                        <a:pt x="3306" y="0"/>
                      </a:lnTo>
                      <a:lnTo>
                        <a:pt x="3326" y="0"/>
                      </a:lnTo>
                      <a:lnTo>
                        <a:pt x="3346" y="0"/>
                      </a:lnTo>
                      <a:lnTo>
                        <a:pt x="3366" y="0"/>
                      </a:lnTo>
                      <a:lnTo>
                        <a:pt x="3396" y="0"/>
                      </a:lnTo>
                      <a:lnTo>
                        <a:pt x="3416" y="0"/>
                      </a:lnTo>
                      <a:lnTo>
                        <a:pt x="3436" y="0"/>
                      </a:lnTo>
                      <a:lnTo>
                        <a:pt x="3456" y="0"/>
                      </a:lnTo>
                      <a:lnTo>
                        <a:pt x="3476" y="0"/>
                      </a:lnTo>
                      <a:lnTo>
                        <a:pt x="3506" y="0"/>
                      </a:lnTo>
                      <a:lnTo>
                        <a:pt x="3526" y="0"/>
                      </a:lnTo>
                      <a:lnTo>
                        <a:pt x="3546" y="0"/>
                      </a:lnTo>
                      <a:lnTo>
                        <a:pt x="3566" y="0"/>
                      </a:lnTo>
                      <a:lnTo>
                        <a:pt x="3586" y="0"/>
                      </a:lnTo>
                      <a:lnTo>
                        <a:pt x="3606" y="0"/>
                      </a:lnTo>
                      <a:lnTo>
                        <a:pt x="3637" y="0"/>
                      </a:lnTo>
                      <a:lnTo>
                        <a:pt x="3657" y="0"/>
                      </a:lnTo>
                      <a:lnTo>
                        <a:pt x="3677" y="0"/>
                      </a:lnTo>
                      <a:lnTo>
                        <a:pt x="3697" y="0"/>
                      </a:lnTo>
                      <a:lnTo>
                        <a:pt x="3717" y="0"/>
                      </a:lnTo>
                      <a:lnTo>
                        <a:pt x="3737" y="0"/>
                      </a:lnTo>
                      <a:lnTo>
                        <a:pt x="3767" y="0"/>
                      </a:lnTo>
                      <a:lnTo>
                        <a:pt x="3787" y="0"/>
                      </a:lnTo>
                      <a:lnTo>
                        <a:pt x="3807" y="0"/>
                      </a:lnTo>
                      <a:lnTo>
                        <a:pt x="3827" y="0"/>
                      </a:lnTo>
                      <a:lnTo>
                        <a:pt x="3847" y="0"/>
                      </a:lnTo>
                      <a:lnTo>
                        <a:pt x="3867" y="0"/>
                      </a:lnTo>
                      <a:lnTo>
                        <a:pt x="3897" y="0"/>
                      </a:lnTo>
                      <a:lnTo>
                        <a:pt x="3917" y="0"/>
                      </a:lnTo>
                      <a:lnTo>
                        <a:pt x="3937" y="0"/>
                      </a:lnTo>
                      <a:lnTo>
                        <a:pt x="3957" y="0"/>
                      </a:lnTo>
                      <a:lnTo>
                        <a:pt x="3977" y="0"/>
                      </a:lnTo>
                      <a:lnTo>
                        <a:pt x="3997" y="0"/>
                      </a:lnTo>
                      <a:lnTo>
                        <a:pt x="4027" y="0"/>
                      </a:lnTo>
                      <a:lnTo>
                        <a:pt x="4047" y="0"/>
                      </a:lnTo>
                      <a:lnTo>
                        <a:pt x="4067" y="0"/>
                      </a:lnTo>
                      <a:lnTo>
                        <a:pt x="4087" y="0"/>
                      </a:lnTo>
                      <a:lnTo>
                        <a:pt x="4107" y="0"/>
                      </a:lnTo>
                      <a:lnTo>
                        <a:pt x="4137" y="0"/>
                      </a:lnTo>
                      <a:lnTo>
                        <a:pt x="4157" y="0"/>
                      </a:lnTo>
                      <a:lnTo>
                        <a:pt x="4177" y="0"/>
                      </a:lnTo>
                      <a:lnTo>
                        <a:pt x="4197" y="0"/>
                      </a:lnTo>
                      <a:lnTo>
                        <a:pt x="4218" y="0"/>
                      </a:lnTo>
                      <a:lnTo>
                        <a:pt x="4238" y="0"/>
                      </a:lnTo>
                      <a:lnTo>
                        <a:pt x="4248" y="11"/>
                      </a:lnTo>
                      <a:lnTo>
                        <a:pt x="4278" y="11"/>
                      </a:lnTo>
                      <a:lnTo>
                        <a:pt x="4298" y="23"/>
                      </a:lnTo>
                      <a:lnTo>
                        <a:pt x="4328" y="34"/>
                      </a:lnTo>
                      <a:lnTo>
                        <a:pt x="4358" y="46"/>
                      </a:lnTo>
                      <a:lnTo>
                        <a:pt x="4378" y="57"/>
                      </a:lnTo>
                      <a:lnTo>
                        <a:pt x="4408" y="68"/>
                      </a:lnTo>
                      <a:lnTo>
                        <a:pt x="4428" y="80"/>
                      </a:lnTo>
                      <a:lnTo>
                        <a:pt x="4448" y="91"/>
                      </a:lnTo>
                      <a:lnTo>
                        <a:pt x="4468" y="91"/>
                      </a:lnTo>
                      <a:lnTo>
                        <a:pt x="4498" y="103"/>
                      </a:lnTo>
                      <a:lnTo>
                        <a:pt x="4518" y="114"/>
                      </a:lnTo>
                      <a:lnTo>
                        <a:pt x="4538" y="125"/>
                      </a:lnTo>
                      <a:lnTo>
                        <a:pt x="4558" y="137"/>
                      </a:lnTo>
                      <a:lnTo>
                        <a:pt x="4578" y="148"/>
                      </a:lnTo>
                      <a:lnTo>
                        <a:pt x="4598" y="160"/>
                      </a:lnTo>
                      <a:lnTo>
                        <a:pt x="4628" y="171"/>
                      </a:lnTo>
                      <a:lnTo>
                        <a:pt x="4648" y="182"/>
                      </a:lnTo>
                      <a:lnTo>
                        <a:pt x="4668" y="194"/>
                      </a:lnTo>
                      <a:lnTo>
                        <a:pt x="4688" y="205"/>
                      </a:lnTo>
                      <a:lnTo>
                        <a:pt x="4708" y="217"/>
                      </a:lnTo>
                      <a:lnTo>
                        <a:pt x="4728" y="239"/>
                      </a:lnTo>
                      <a:lnTo>
                        <a:pt x="4748" y="251"/>
                      </a:lnTo>
                      <a:lnTo>
                        <a:pt x="4768" y="262"/>
                      </a:lnTo>
                      <a:lnTo>
                        <a:pt x="4789" y="274"/>
                      </a:lnTo>
                      <a:lnTo>
                        <a:pt x="4809" y="285"/>
                      </a:lnTo>
                      <a:lnTo>
                        <a:pt x="4829" y="296"/>
                      </a:lnTo>
                      <a:lnTo>
                        <a:pt x="4849" y="308"/>
                      </a:lnTo>
                      <a:lnTo>
                        <a:pt x="4869" y="331"/>
                      </a:lnTo>
                      <a:lnTo>
                        <a:pt x="4879" y="342"/>
                      </a:lnTo>
                      <a:lnTo>
                        <a:pt x="4899" y="353"/>
                      </a:lnTo>
                      <a:lnTo>
                        <a:pt x="4919" y="365"/>
                      </a:lnTo>
                      <a:lnTo>
                        <a:pt x="4939" y="388"/>
                      </a:lnTo>
                      <a:lnTo>
                        <a:pt x="4949" y="399"/>
                      </a:lnTo>
                      <a:lnTo>
                        <a:pt x="4969" y="410"/>
                      </a:lnTo>
                      <a:lnTo>
                        <a:pt x="4989" y="422"/>
                      </a:lnTo>
                      <a:lnTo>
                        <a:pt x="5009" y="445"/>
                      </a:lnTo>
                      <a:lnTo>
                        <a:pt x="5019" y="456"/>
                      </a:lnTo>
                      <a:lnTo>
                        <a:pt x="5039" y="467"/>
                      </a:lnTo>
                      <a:lnTo>
                        <a:pt x="5059" y="490"/>
                      </a:lnTo>
                      <a:lnTo>
                        <a:pt x="5069" y="502"/>
                      </a:lnTo>
                      <a:lnTo>
                        <a:pt x="5089" y="524"/>
                      </a:lnTo>
                      <a:lnTo>
                        <a:pt x="5109" y="536"/>
                      </a:lnTo>
                      <a:lnTo>
                        <a:pt x="5119" y="547"/>
                      </a:lnTo>
                      <a:lnTo>
                        <a:pt x="5139" y="570"/>
                      </a:lnTo>
                      <a:lnTo>
                        <a:pt x="5149" y="581"/>
                      </a:lnTo>
                      <a:lnTo>
                        <a:pt x="5169" y="604"/>
                      </a:lnTo>
                      <a:lnTo>
                        <a:pt x="5179" y="616"/>
                      </a:lnTo>
                      <a:lnTo>
                        <a:pt x="5199" y="638"/>
                      </a:lnTo>
                      <a:lnTo>
                        <a:pt x="5209" y="661"/>
                      </a:lnTo>
                      <a:lnTo>
                        <a:pt x="5229" y="673"/>
                      </a:lnTo>
                      <a:lnTo>
                        <a:pt x="5239" y="695"/>
                      </a:lnTo>
                      <a:lnTo>
                        <a:pt x="5259" y="707"/>
                      </a:lnTo>
                      <a:lnTo>
                        <a:pt x="5269" y="730"/>
                      </a:lnTo>
                      <a:lnTo>
                        <a:pt x="5289" y="752"/>
                      </a:lnTo>
                      <a:lnTo>
                        <a:pt x="5299" y="764"/>
                      </a:lnTo>
                      <a:lnTo>
                        <a:pt x="5309" y="787"/>
                      </a:lnTo>
                      <a:lnTo>
                        <a:pt x="5319" y="809"/>
                      </a:lnTo>
                      <a:lnTo>
                        <a:pt x="5339" y="821"/>
                      </a:lnTo>
                      <a:lnTo>
                        <a:pt x="5349" y="844"/>
                      </a:lnTo>
                      <a:lnTo>
                        <a:pt x="5359" y="866"/>
                      </a:lnTo>
                      <a:lnTo>
                        <a:pt x="5370" y="901"/>
                      </a:lnTo>
                      <a:lnTo>
                        <a:pt x="5380" y="912"/>
                      </a:lnTo>
                      <a:lnTo>
                        <a:pt x="5390" y="935"/>
                      </a:lnTo>
                      <a:lnTo>
                        <a:pt x="5410" y="958"/>
                      </a:lnTo>
                      <a:lnTo>
                        <a:pt x="5420" y="980"/>
                      </a:lnTo>
                      <a:lnTo>
                        <a:pt x="5420" y="1003"/>
                      </a:lnTo>
                      <a:lnTo>
                        <a:pt x="5430" y="1026"/>
                      </a:lnTo>
                      <a:lnTo>
                        <a:pt x="5440" y="1049"/>
                      </a:lnTo>
                      <a:lnTo>
                        <a:pt x="5450" y="1072"/>
                      </a:lnTo>
                      <a:lnTo>
                        <a:pt x="5460" y="1094"/>
                      </a:lnTo>
                      <a:lnTo>
                        <a:pt x="5470" y="1117"/>
                      </a:lnTo>
                      <a:lnTo>
                        <a:pt x="5470" y="1140"/>
                      </a:lnTo>
                      <a:lnTo>
                        <a:pt x="5480" y="1163"/>
                      </a:lnTo>
                      <a:lnTo>
                        <a:pt x="5490" y="1186"/>
                      </a:lnTo>
                      <a:lnTo>
                        <a:pt x="5490" y="1208"/>
                      </a:lnTo>
                      <a:lnTo>
                        <a:pt x="5500" y="1231"/>
                      </a:lnTo>
                      <a:lnTo>
                        <a:pt x="5500" y="1254"/>
                      </a:lnTo>
                      <a:lnTo>
                        <a:pt x="5510" y="1277"/>
                      </a:lnTo>
                      <a:lnTo>
                        <a:pt x="5510" y="1300"/>
                      </a:lnTo>
                      <a:lnTo>
                        <a:pt x="5520" y="1334"/>
                      </a:lnTo>
                      <a:lnTo>
                        <a:pt x="5520" y="1368"/>
                      </a:lnTo>
                      <a:lnTo>
                        <a:pt x="5530" y="1402"/>
                      </a:lnTo>
                      <a:lnTo>
                        <a:pt x="5530" y="1436"/>
                      </a:lnTo>
                      <a:lnTo>
                        <a:pt x="5540" y="1471"/>
                      </a:lnTo>
                      <a:lnTo>
                        <a:pt x="5540" y="1493"/>
                      </a:lnTo>
                      <a:lnTo>
                        <a:pt x="5540" y="1528"/>
                      </a:lnTo>
                      <a:lnTo>
                        <a:pt x="5540" y="1550"/>
                      </a:lnTo>
                      <a:lnTo>
                        <a:pt x="5540" y="1585"/>
                      </a:lnTo>
                      <a:lnTo>
                        <a:pt x="5540" y="1608"/>
                      </a:lnTo>
                      <a:lnTo>
                        <a:pt x="5540" y="1630"/>
                      </a:lnTo>
                      <a:lnTo>
                        <a:pt x="5540" y="1665"/>
                      </a:lnTo>
                      <a:lnTo>
                        <a:pt x="5540" y="1687"/>
                      </a:lnTo>
                      <a:lnTo>
                        <a:pt x="5540" y="1710"/>
                      </a:lnTo>
                      <a:lnTo>
                        <a:pt x="5540" y="1733"/>
                      </a:lnTo>
                      <a:lnTo>
                        <a:pt x="5540" y="1767"/>
                      </a:lnTo>
                      <a:lnTo>
                        <a:pt x="5530" y="1790"/>
                      </a:lnTo>
                      <a:lnTo>
                        <a:pt x="5530" y="1813"/>
                      </a:lnTo>
                      <a:lnTo>
                        <a:pt x="5530" y="1847"/>
                      </a:lnTo>
                      <a:lnTo>
                        <a:pt x="5520" y="1870"/>
                      </a:lnTo>
                      <a:lnTo>
                        <a:pt x="5520" y="1904"/>
                      </a:lnTo>
                      <a:lnTo>
                        <a:pt x="5510" y="1927"/>
                      </a:lnTo>
                      <a:lnTo>
                        <a:pt x="5510" y="1961"/>
                      </a:lnTo>
                      <a:lnTo>
                        <a:pt x="5500" y="1984"/>
                      </a:lnTo>
                      <a:lnTo>
                        <a:pt x="5490" y="2007"/>
                      </a:lnTo>
                      <a:lnTo>
                        <a:pt x="5490" y="2041"/>
                      </a:lnTo>
                      <a:lnTo>
                        <a:pt x="5480" y="2064"/>
                      </a:lnTo>
                      <a:lnTo>
                        <a:pt x="5470" y="2086"/>
                      </a:lnTo>
                      <a:lnTo>
                        <a:pt x="5460" y="2109"/>
                      </a:lnTo>
                      <a:lnTo>
                        <a:pt x="5460" y="2132"/>
                      </a:lnTo>
                      <a:lnTo>
                        <a:pt x="5450" y="2155"/>
                      </a:lnTo>
                      <a:lnTo>
                        <a:pt x="5440" y="2178"/>
                      </a:lnTo>
                      <a:lnTo>
                        <a:pt x="5430" y="2200"/>
                      </a:lnTo>
                      <a:lnTo>
                        <a:pt x="5420" y="2223"/>
                      </a:lnTo>
                      <a:lnTo>
                        <a:pt x="5410" y="2246"/>
                      </a:lnTo>
                      <a:lnTo>
                        <a:pt x="5400" y="2269"/>
                      </a:lnTo>
                      <a:lnTo>
                        <a:pt x="5390" y="2292"/>
                      </a:lnTo>
                      <a:lnTo>
                        <a:pt x="5380" y="2314"/>
                      </a:lnTo>
                      <a:lnTo>
                        <a:pt x="5359" y="2337"/>
                      </a:lnTo>
                      <a:lnTo>
                        <a:pt x="5349" y="2360"/>
                      </a:lnTo>
                      <a:lnTo>
                        <a:pt x="5339" y="2383"/>
                      </a:lnTo>
                      <a:lnTo>
                        <a:pt x="5329" y="2394"/>
                      </a:lnTo>
                      <a:lnTo>
                        <a:pt x="5309" y="2417"/>
                      </a:lnTo>
                      <a:lnTo>
                        <a:pt x="5299" y="2440"/>
                      </a:lnTo>
                      <a:lnTo>
                        <a:pt x="5289" y="2463"/>
                      </a:lnTo>
                      <a:lnTo>
                        <a:pt x="5269" y="2474"/>
                      </a:lnTo>
                      <a:lnTo>
                        <a:pt x="5259" y="2497"/>
                      </a:lnTo>
                      <a:lnTo>
                        <a:pt x="5239" y="2520"/>
                      </a:lnTo>
                      <a:lnTo>
                        <a:pt x="5229" y="2531"/>
                      </a:lnTo>
                      <a:lnTo>
                        <a:pt x="5209" y="2554"/>
                      </a:lnTo>
                      <a:lnTo>
                        <a:pt x="5189" y="2577"/>
                      </a:lnTo>
                      <a:lnTo>
                        <a:pt x="5179" y="2588"/>
                      </a:lnTo>
                      <a:lnTo>
                        <a:pt x="5159" y="2611"/>
                      </a:lnTo>
                      <a:lnTo>
                        <a:pt x="5149" y="2622"/>
                      </a:lnTo>
                      <a:lnTo>
                        <a:pt x="5129" y="2645"/>
                      </a:lnTo>
                      <a:lnTo>
                        <a:pt x="5109" y="2656"/>
                      </a:lnTo>
                      <a:lnTo>
                        <a:pt x="5099" y="2679"/>
                      </a:lnTo>
                      <a:lnTo>
                        <a:pt x="5079" y="2691"/>
                      </a:lnTo>
                      <a:lnTo>
                        <a:pt x="5059" y="2702"/>
                      </a:lnTo>
                      <a:lnTo>
                        <a:pt x="5049" y="2725"/>
                      </a:lnTo>
                      <a:lnTo>
                        <a:pt x="5029" y="2736"/>
                      </a:lnTo>
                      <a:lnTo>
                        <a:pt x="5009" y="2759"/>
                      </a:lnTo>
                      <a:lnTo>
                        <a:pt x="4989" y="2770"/>
                      </a:lnTo>
                      <a:lnTo>
                        <a:pt x="4979" y="2782"/>
                      </a:lnTo>
                      <a:lnTo>
                        <a:pt x="4959" y="2805"/>
                      </a:lnTo>
                      <a:lnTo>
                        <a:pt x="4939" y="2816"/>
                      </a:lnTo>
                      <a:lnTo>
                        <a:pt x="4919" y="2827"/>
                      </a:lnTo>
                      <a:lnTo>
                        <a:pt x="4899" y="2850"/>
                      </a:lnTo>
                      <a:lnTo>
                        <a:pt x="4889" y="2862"/>
                      </a:lnTo>
                      <a:lnTo>
                        <a:pt x="4869" y="2873"/>
                      </a:lnTo>
                      <a:lnTo>
                        <a:pt x="4849" y="2884"/>
                      </a:lnTo>
                      <a:lnTo>
                        <a:pt x="4829" y="2896"/>
                      </a:lnTo>
                      <a:lnTo>
                        <a:pt x="4809" y="2919"/>
                      </a:lnTo>
                      <a:lnTo>
                        <a:pt x="4778" y="2930"/>
                      </a:lnTo>
                      <a:lnTo>
                        <a:pt x="4768" y="2941"/>
                      </a:lnTo>
                      <a:lnTo>
                        <a:pt x="4748" y="2953"/>
                      </a:lnTo>
                      <a:lnTo>
                        <a:pt x="4728" y="2964"/>
                      </a:lnTo>
                      <a:lnTo>
                        <a:pt x="4708" y="2976"/>
                      </a:lnTo>
                      <a:lnTo>
                        <a:pt x="4688" y="2987"/>
                      </a:lnTo>
                      <a:lnTo>
                        <a:pt x="4668" y="2998"/>
                      </a:lnTo>
                      <a:lnTo>
                        <a:pt x="4648" y="3010"/>
                      </a:lnTo>
                      <a:lnTo>
                        <a:pt x="4628" y="3021"/>
                      </a:lnTo>
                      <a:lnTo>
                        <a:pt x="4608" y="3033"/>
                      </a:lnTo>
                      <a:lnTo>
                        <a:pt x="4588" y="3044"/>
                      </a:lnTo>
                      <a:lnTo>
                        <a:pt x="4568" y="3055"/>
                      </a:lnTo>
                      <a:lnTo>
                        <a:pt x="4548" y="3067"/>
                      </a:lnTo>
                      <a:lnTo>
                        <a:pt x="4528" y="3078"/>
                      </a:lnTo>
                      <a:lnTo>
                        <a:pt x="4508" y="3090"/>
                      </a:lnTo>
                      <a:lnTo>
                        <a:pt x="4488" y="3101"/>
                      </a:lnTo>
                      <a:lnTo>
                        <a:pt x="4468" y="3112"/>
                      </a:lnTo>
                      <a:lnTo>
                        <a:pt x="4448" y="3112"/>
                      </a:lnTo>
                      <a:lnTo>
                        <a:pt x="4428" y="3124"/>
                      </a:lnTo>
                      <a:lnTo>
                        <a:pt x="4408" y="3135"/>
                      </a:lnTo>
                      <a:lnTo>
                        <a:pt x="4388" y="3147"/>
                      </a:lnTo>
                      <a:lnTo>
                        <a:pt x="4368" y="3158"/>
                      </a:lnTo>
                      <a:lnTo>
                        <a:pt x="4348" y="3158"/>
                      </a:lnTo>
                      <a:lnTo>
                        <a:pt x="4328" y="3169"/>
                      </a:lnTo>
                      <a:lnTo>
                        <a:pt x="4308" y="3181"/>
                      </a:lnTo>
                      <a:lnTo>
                        <a:pt x="4288" y="3181"/>
                      </a:lnTo>
                      <a:lnTo>
                        <a:pt x="4268" y="3192"/>
                      </a:lnTo>
                      <a:lnTo>
                        <a:pt x="4238" y="3192"/>
                      </a:lnTo>
                      <a:lnTo>
                        <a:pt x="4218" y="3192"/>
                      </a:lnTo>
                      <a:lnTo>
                        <a:pt x="4197" y="3192"/>
                      </a:lnTo>
                      <a:lnTo>
                        <a:pt x="4177" y="3192"/>
                      </a:lnTo>
                      <a:lnTo>
                        <a:pt x="4157" y="3192"/>
                      </a:lnTo>
                      <a:lnTo>
                        <a:pt x="4137" y="3192"/>
                      </a:lnTo>
                      <a:lnTo>
                        <a:pt x="4107" y="3192"/>
                      </a:lnTo>
                      <a:lnTo>
                        <a:pt x="4087" y="3192"/>
                      </a:lnTo>
                      <a:lnTo>
                        <a:pt x="4067" y="3192"/>
                      </a:lnTo>
                      <a:lnTo>
                        <a:pt x="4047" y="3192"/>
                      </a:lnTo>
                      <a:lnTo>
                        <a:pt x="4027" y="3192"/>
                      </a:lnTo>
                      <a:lnTo>
                        <a:pt x="3997" y="3192"/>
                      </a:lnTo>
                      <a:lnTo>
                        <a:pt x="3977" y="3192"/>
                      </a:lnTo>
                      <a:lnTo>
                        <a:pt x="3957" y="3192"/>
                      </a:lnTo>
                      <a:lnTo>
                        <a:pt x="3937" y="3192"/>
                      </a:lnTo>
                      <a:lnTo>
                        <a:pt x="3917" y="3192"/>
                      </a:lnTo>
                      <a:lnTo>
                        <a:pt x="3897" y="3192"/>
                      </a:lnTo>
                      <a:lnTo>
                        <a:pt x="3867" y="3192"/>
                      </a:lnTo>
                      <a:lnTo>
                        <a:pt x="3847" y="3192"/>
                      </a:lnTo>
                      <a:lnTo>
                        <a:pt x="3827" y="3192"/>
                      </a:lnTo>
                      <a:lnTo>
                        <a:pt x="3807" y="3192"/>
                      </a:lnTo>
                      <a:lnTo>
                        <a:pt x="3787" y="3192"/>
                      </a:lnTo>
                      <a:lnTo>
                        <a:pt x="3767" y="3192"/>
                      </a:lnTo>
                      <a:lnTo>
                        <a:pt x="3737" y="3192"/>
                      </a:lnTo>
                      <a:lnTo>
                        <a:pt x="3717" y="3192"/>
                      </a:lnTo>
                      <a:lnTo>
                        <a:pt x="3697" y="3192"/>
                      </a:lnTo>
                      <a:lnTo>
                        <a:pt x="3677" y="3192"/>
                      </a:lnTo>
                      <a:lnTo>
                        <a:pt x="3657" y="3192"/>
                      </a:lnTo>
                      <a:lnTo>
                        <a:pt x="3637" y="3192"/>
                      </a:lnTo>
                      <a:lnTo>
                        <a:pt x="3606" y="3192"/>
                      </a:lnTo>
                      <a:lnTo>
                        <a:pt x="3586" y="3192"/>
                      </a:lnTo>
                      <a:lnTo>
                        <a:pt x="3566" y="3192"/>
                      </a:lnTo>
                      <a:lnTo>
                        <a:pt x="3546" y="3192"/>
                      </a:lnTo>
                      <a:lnTo>
                        <a:pt x="3526" y="3192"/>
                      </a:lnTo>
                      <a:lnTo>
                        <a:pt x="3506" y="3192"/>
                      </a:lnTo>
                      <a:lnTo>
                        <a:pt x="3476" y="3192"/>
                      </a:lnTo>
                      <a:lnTo>
                        <a:pt x="3456" y="3192"/>
                      </a:lnTo>
                      <a:lnTo>
                        <a:pt x="3436" y="3192"/>
                      </a:lnTo>
                      <a:lnTo>
                        <a:pt x="3416" y="3192"/>
                      </a:lnTo>
                      <a:lnTo>
                        <a:pt x="3396" y="3192"/>
                      </a:lnTo>
                      <a:lnTo>
                        <a:pt x="3366" y="3192"/>
                      </a:lnTo>
                      <a:lnTo>
                        <a:pt x="3346" y="3192"/>
                      </a:lnTo>
                      <a:lnTo>
                        <a:pt x="3326" y="3192"/>
                      </a:lnTo>
                      <a:lnTo>
                        <a:pt x="3306" y="3192"/>
                      </a:lnTo>
                      <a:lnTo>
                        <a:pt x="3286" y="3192"/>
                      </a:lnTo>
                      <a:lnTo>
                        <a:pt x="3266" y="3192"/>
                      </a:lnTo>
                      <a:lnTo>
                        <a:pt x="3236" y="3192"/>
                      </a:lnTo>
                      <a:lnTo>
                        <a:pt x="3216" y="3192"/>
                      </a:lnTo>
                      <a:lnTo>
                        <a:pt x="3196" y="3192"/>
                      </a:lnTo>
                      <a:lnTo>
                        <a:pt x="3176" y="3192"/>
                      </a:lnTo>
                      <a:lnTo>
                        <a:pt x="3156" y="3192"/>
                      </a:lnTo>
                      <a:lnTo>
                        <a:pt x="3136" y="3192"/>
                      </a:lnTo>
                      <a:lnTo>
                        <a:pt x="3106" y="3192"/>
                      </a:lnTo>
                      <a:lnTo>
                        <a:pt x="3086" y="3192"/>
                      </a:lnTo>
                      <a:lnTo>
                        <a:pt x="3066" y="3192"/>
                      </a:lnTo>
                      <a:lnTo>
                        <a:pt x="3045" y="3192"/>
                      </a:lnTo>
                      <a:lnTo>
                        <a:pt x="3025" y="3192"/>
                      </a:lnTo>
                      <a:lnTo>
                        <a:pt x="3005" y="3192"/>
                      </a:lnTo>
                      <a:lnTo>
                        <a:pt x="2975" y="3192"/>
                      </a:lnTo>
                      <a:lnTo>
                        <a:pt x="2955" y="3192"/>
                      </a:lnTo>
                      <a:lnTo>
                        <a:pt x="2935" y="3192"/>
                      </a:lnTo>
                      <a:lnTo>
                        <a:pt x="2915" y="3192"/>
                      </a:lnTo>
                      <a:lnTo>
                        <a:pt x="2895" y="3192"/>
                      </a:lnTo>
                      <a:lnTo>
                        <a:pt x="2865" y="3192"/>
                      </a:lnTo>
                      <a:lnTo>
                        <a:pt x="2835" y="3192"/>
                      </a:lnTo>
                      <a:lnTo>
                        <a:pt x="2815" y="3192"/>
                      </a:lnTo>
                      <a:lnTo>
                        <a:pt x="2795" y="3192"/>
                      </a:lnTo>
                      <a:lnTo>
                        <a:pt x="2775" y="3192"/>
                      </a:lnTo>
                      <a:lnTo>
                        <a:pt x="2755" y="3192"/>
                      </a:lnTo>
                      <a:lnTo>
                        <a:pt x="2725" y="3192"/>
                      </a:lnTo>
                      <a:lnTo>
                        <a:pt x="2705" y="3192"/>
                      </a:lnTo>
                      <a:lnTo>
                        <a:pt x="2685" y="3192"/>
                      </a:lnTo>
                      <a:lnTo>
                        <a:pt x="2665" y="3192"/>
                      </a:lnTo>
                      <a:lnTo>
                        <a:pt x="2645" y="3192"/>
                      </a:lnTo>
                      <a:lnTo>
                        <a:pt x="2625" y="3192"/>
                      </a:lnTo>
                      <a:lnTo>
                        <a:pt x="2595" y="3192"/>
                      </a:lnTo>
                      <a:lnTo>
                        <a:pt x="2575" y="3192"/>
                      </a:lnTo>
                      <a:lnTo>
                        <a:pt x="2555" y="3192"/>
                      </a:lnTo>
                      <a:lnTo>
                        <a:pt x="2535" y="3192"/>
                      </a:lnTo>
                      <a:lnTo>
                        <a:pt x="2515" y="3192"/>
                      </a:lnTo>
                      <a:lnTo>
                        <a:pt x="2495" y="3192"/>
                      </a:lnTo>
                      <a:lnTo>
                        <a:pt x="2464" y="3192"/>
                      </a:lnTo>
                      <a:lnTo>
                        <a:pt x="2444" y="3192"/>
                      </a:lnTo>
                      <a:lnTo>
                        <a:pt x="2424" y="3192"/>
                      </a:lnTo>
                      <a:lnTo>
                        <a:pt x="2404" y="3192"/>
                      </a:lnTo>
                      <a:lnTo>
                        <a:pt x="2384" y="3192"/>
                      </a:lnTo>
                      <a:lnTo>
                        <a:pt x="2364" y="3192"/>
                      </a:lnTo>
                      <a:lnTo>
                        <a:pt x="2334" y="3192"/>
                      </a:lnTo>
                      <a:lnTo>
                        <a:pt x="2314" y="3192"/>
                      </a:lnTo>
                      <a:lnTo>
                        <a:pt x="2294" y="3192"/>
                      </a:lnTo>
                      <a:lnTo>
                        <a:pt x="2274" y="3192"/>
                      </a:lnTo>
                      <a:lnTo>
                        <a:pt x="2254" y="3192"/>
                      </a:lnTo>
                      <a:lnTo>
                        <a:pt x="2234" y="3192"/>
                      </a:lnTo>
                      <a:lnTo>
                        <a:pt x="2204" y="3192"/>
                      </a:lnTo>
                      <a:lnTo>
                        <a:pt x="2184" y="3192"/>
                      </a:lnTo>
                      <a:lnTo>
                        <a:pt x="2164" y="3192"/>
                      </a:lnTo>
                      <a:lnTo>
                        <a:pt x="2144" y="3192"/>
                      </a:lnTo>
                      <a:lnTo>
                        <a:pt x="2124" y="3192"/>
                      </a:lnTo>
                      <a:lnTo>
                        <a:pt x="2094" y="3192"/>
                      </a:lnTo>
                      <a:lnTo>
                        <a:pt x="2074" y="3192"/>
                      </a:lnTo>
                      <a:lnTo>
                        <a:pt x="2054" y="3192"/>
                      </a:lnTo>
                      <a:lnTo>
                        <a:pt x="2034" y="3192"/>
                      </a:lnTo>
                      <a:lnTo>
                        <a:pt x="2014" y="3192"/>
                      </a:lnTo>
                      <a:lnTo>
                        <a:pt x="1994" y="3192"/>
                      </a:lnTo>
                      <a:lnTo>
                        <a:pt x="1964" y="3192"/>
                      </a:lnTo>
                      <a:lnTo>
                        <a:pt x="1944" y="3192"/>
                      </a:lnTo>
                      <a:lnTo>
                        <a:pt x="1924" y="3192"/>
                      </a:lnTo>
                      <a:lnTo>
                        <a:pt x="1903" y="3192"/>
                      </a:lnTo>
                      <a:lnTo>
                        <a:pt x="1883" y="3192"/>
                      </a:lnTo>
                      <a:lnTo>
                        <a:pt x="1863" y="3192"/>
                      </a:lnTo>
                      <a:lnTo>
                        <a:pt x="1833" y="3192"/>
                      </a:lnTo>
                      <a:lnTo>
                        <a:pt x="1813" y="3192"/>
                      </a:lnTo>
                      <a:lnTo>
                        <a:pt x="1793" y="3192"/>
                      </a:lnTo>
                      <a:lnTo>
                        <a:pt x="1773" y="3192"/>
                      </a:lnTo>
                      <a:lnTo>
                        <a:pt x="1753" y="3192"/>
                      </a:lnTo>
                      <a:lnTo>
                        <a:pt x="1733" y="3192"/>
                      </a:lnTo>
                      <a:lnTo>
                        <a:pt x="1703" y="3192"/>
                      </a:lnTo>
                      <a:lnTo>
                        <a:pt x="1683" y="3192"/>
                      </a:lnTo>
                      <a:lnTo>
                        <a:pt x="1663" y="3192"/>
                      </a:lnTo>
                      <a:lnTo>
                        <a:pt x="1643" y="3192"/>
                      </a:lnTo>
                      <a:lnTo>
                        <a:pt x="1623" y="3192"/>
                      </a:lnTo>
                      <a:lnTo>
                        <a:pt x="1603" y="3192"/>
                      </a:lnTo>
                      <a:lnTo>
                        <a:pt x="1573" y="3192"/>
                      </a:lnTo>
                      <a:lnTo>
                        <a:pt x="1553" y="3192"/>
                      </a:lnTo>
                      <a:lnTo>
                        <a:pt x="1533" y="3192"/>
                      </a:lnTo>
                      <a:lnTo>
                        <a:pt x="1513" y="3192"/>
                      </a:lnTo>
                      <a:lnTo>
                        <a:pt x="1493" y="3192"/>
                      </a:lnTo>
                      <a:lnTo>
                        <a:pt x="1473" y="3192"/>
                      </a:lnTo>
                      <a:lnTo>
                        <a:pt x="1443" y="3192"/>
                      </a:lnTo>
                      <a:lnTo>
                        <a:pt x="1423" y="3192"/>
                      </a:lnTo>
                      <a:lnTo>
                        <a:pt x="1403" y="3192"/>
                      </a:lnTo>
                      <a:lnTo>
                        <a:pt x="1383" y="3192"/>
                      </a:lnTo>
                      <a:lnTo>
                        <a:pt x="1363" y="3192"/>
                      </a:lnTo>
                      <a:lnTo>
                        <a:pt x="1333" y="3192"/>
                      </a:lnTo>
                      <a:lnTo>
                        <a:pt x="1312" y="3192"/>
                      </a:lnTo>
                      <a:lnTo>
                        <a:pt x="1292" y="3192"/>
                      </a:lnTo>
                      <a:lnTo>
                        <a:pt x="1292" y="31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74600" y="1143000"/>
                  <a:ext cx="8794800" cy="5067360"/>
                </a:xfrm>
                <a:custGeom>
                  <a:avLst/>
                  <a:gdLst/>
                  <a:ahLst/>
                  <a:rect l="l" t="t" r="r" b="b"/>
                  <a:pathLst>
                    <a:path w="5540" h="3192">
                      <a:moveTo>
                        <a:pt x="1292" y="3192"/>
                      </a:moveTo>
                      <a:lnTo>
                        <a:pt x="1272" y="3192"/>
                      </a:lnTo>
                      <a:lnTo>
                        <a:pt x="1252" y="3181"/>
                      </a:lnTo>
                      <a:lnTo>
                        <a:pt x="1232" y="3181"/>
                      </a:lnTo>
                      <a:lnTo>
                        <a:pt x="1212" y="3169"/>
                      </a:lnTo>
                      <a:lnTo>
                        <a:pt x="1182" y="3158"/>
                      </a:lnTo>
                      <a:lnTo>
                        <a:pt x="1162" y="3158"/>
                      </a:lnTo>
                      <a:lnTo>
                        <a:pt x="1142" y="3147"/>
                      </a:lnTo>
                      <a:lnTo>
                        <a:pt x="1122" y="3135"/>
                      </a:lnTo>
                      <a:lnTo>
                        <a:pt x="1102" y="3124"/>
                      </a:lnTo>
                      <a:lnTo>
                        <a:pt x="1082" y="3112"/>
                      </a:lnTo>
                      <a:lnTo>
                        <a:pt x="1062" y="3112"/>
                      </a:lnTo>
                      <a:lnTo>
                        <a:pt x="1042" y="3101"/>
                      </a:lnTo>
                      <a:lnTo>
                        <a:pt x="1022" y="3090"/>
                      </a:lnTo>
                      <a:lnTo>
                        <a:pt x="1002" y="3078"/>
                      </a:lnTo>
                      <a:lnTo>
                        <a:pt x="982" y="3067"/>
                      </a:lnTo>
                      <a:lnTo>
                        <a:pt x="962" y="3055"/>
                      </a:lnTo>
                      <a:lnTo>
                        <a:pt x="932" y="3044"/>
                      </a:lnTo>
                      <a:lnTo>
                        <a:pt x="912" y="3033"/>
                      </a:lnTo>
                      <a:lnTo>
                        <a:pt x="892" y="3021"/>
                      </a:lnTo>
                      <a:lnTo>
                        <a:pt x="872" y="3010"/>
                      </a:lnTo>
                      <a:lnTo>
                        <a:pt x="852" y="2998"/>
                      </a:lnTo>
                      <a:lnTo>
                        <a:pt x="832" y="2987"/>
                      </a:lnTo>
                      <a:lnTo>
                        <a:pt x="822" y="2976"/>
                      </a:lnTo>
                      <a:lnTo>
                        <a:pt x="802" y="2964"/>
                      </a:lnTo>
                      <a:lnTo>
                        <a:pt x="782" y="2953"/>
                      </a:lnTo>
                      <a:lnTo>
                        <a:pt x="762" y="2941"/>
                      </a:lnTo>
                      <a:lnTo>
                        <a:pt x="741" y="2930"/>
                      </a:lnTo>
                      <a:lnTo>
                        <a:pt x="721" y="2919"/>
                      </a:lnTo>
                      <a:lnTo>
                        <a:pt x="701" y="2896"/>
                      </a:lnTo>
                      <a:lnTo>
                        <a:pt x="681" y="2884"/>
                      </a:lnTo>
                      <a:lnTo>
                        <a:pt x="671" y="2873"/>
                      </a:lnTo>
                      <a:lnTo>
                        <a:pt x="651" y="2862"/>
                      </a:lnTo>
                      <a:lnTo>
                        <a:pt x="631" y="2850"/>
                      </a:lnTo>
                      <a:lnTo>
                        <a:pt x="611" y="2827"/>
                      </a:lnTo>
                      <a:lnTo>
                        <a:pt x="591" y="2816"/>
                      </a:lnTo>
                      <a:lnTo>
                        <a:pt x="581" y="2805"/>
                      </a:lnTo>
                      <a:lnTo>
                        <a:pt x="561" y="2782"/>
                      </a:lnTo>
                      <a:lnTo>
                        <a:pt x="541" y="2770"/>
                      </a:lnTo>
                      <a:lnTo>
                        <a:pt x="521" y="2759"/>
                      </a:lnTo>
                      <a:lnTo>
                        <a:pt x="511" y="2736"/>
                      </a:lnTo>
                      <a:lnTo>
                        <a:pt x="491" y="2725"/>
                      </a:lnTo>
                      <a:lnTo>
                        <a:pt x="471" y="2702"/>
                      </a:lnTo>
                      <a:lnTo>
                        <a:pt x="451" y="2691"/>
                      </a:lnTo>
                      <a:lnTo>
                        <a:pt x="441" y="2679"/>
                      </a:lnTo>
                      <a:lnTo>
                        <a:pt x="421" y="2656"/>
                      </a:lnTo>
                      <a:lnTo>
                        <a:pt x="401" y="2645"/>
                      </a:lnTo>
                      <a:lnTo>
                        <a:pt x="391" y="2622"/>
                      </a:lnTo>
                      <a:lnTo>
                        <a:pt x="371" y="2611"/>
                      </a:lnTo>
                      <a:lnTo>
                        <a:pt x="361" y="2588"/>
                      </a:lnTo>
                      <a:lnTo>
                        <a:pt x="341" y="2577"/>
                      </a:lnTo>
                      <a:lnTo>
                        <a:pt x="321" y="2554"/>
                      </a:lnTo>
                      <a:lnTo>
                        <a:pt x="311" y="2531"/>
                      </a:lnTo>
                      <a:lnTo>
                        <a:pt x="291" y="2520"/>
                      </a:lnTo>
                      <a:lnTo>
                        <a:pt x="281" y="2497"/>
                      </a:lnTo>
                      <a:lnTo>
                        <a:pt x="261" y="2474"/>
                      </a:lnTo>
                      <a:lnTo>
                        <a:pt x="251" y="2463"/>
                      </a:lnTo>
                      <a:lnTo>
                        <a:pt x="241" y="2440"/>
                      </a:lnTo>
                      <a:lnTo>
                        <a:pt x="221" y="2417"/>
                      </a:lnTo>
                      <a:lnTo>
                        <a:pt x="211" y="2394"/>
                      </a:lnTo>
                      <a:lnTo>
                        <a:pt x="201" y="2383"/>
                      </a:lnTo>
                      <a:lnTo>
                        <a:pt x="181" y="2360"/>
                      </a:lnTo>
                      <a:lnTo>
                        <a:pt x="170" y="2337"/>
                      </a:lnTo>
                      <a:lnTo>
                        <a:pt x="160" y="2314"/>
                      </a:lnTo>
                      <a:lnTo>
                        <a:pt x="150" y="2292"/>
                      </a:lnTo>
                      <a:lnTo>
                        <a:pt x="140" y="2269"/>
                      </a:lnTo>
                      <a:lnTo>
                        <a:pt x="120" y="2246"/>
                      </a:lnTo>
                      <a:lnTo>
                        <a:pt x="110" y="2223"/>
                      </a:lnTo>
                      <a:lnTo>
                        <a:pt x="100" y="2200"/>
                      </a:lnTo>
                      <a:lnTo>
                        <a:pt x="90" y="2178"/>
                      </a:lnTo>
                      <a:lnTo>
                        <a:pt x="90" y="2155"/>
                      </a:lnTo>
                      <a:lnTo>
                        <a:pt x="80" y="2132"/>
                      </a:lnTo>
                      <a:lnTo>
                        <a:pt x="70" y="2109"/>
                      </a:lnTo>
                      <a:lnTo>
                        <a:pt x="60" y="2086"/>
                      </a:lnTo>
                      <a:lnTo>
                        <a:pt x="60" y="2064"/>
                      </a:lnTo>
                      <a:lnTo>
                        <a:pt x="50" y="2041"/>
                      </a:lnTo>
                      <a:lnTo>
                        <a:pt x="40" y="2007"/>
                      </a:lnTo>
                      <a:lnTo>
                        <a:pt x="40" y="1984"/>
                      </a:lnTo>
                      <a:lnTo>
                        <a:pt x="30" y="1961"/>
                      </a:lnTo>
                      <a:lnTo>
                        <a:pt x="20" y="1927"/>
                      </a:lnTo>
                      <a:lnTo>
                        <a:pt x="20" y="1904"/>
                      </a:lnTo>
                      <a:lnTo>
                        <a:pt x="10" y="1870"/>
                      </a:lnTo>
                      <a:lnTo>
                        <a:pt x="10" y="1847"/>
                      </a:lnTo>
                      <a:lnTo>
                        <a:pt x="0" y="1813"/>
                      </a:lnTo>
                      <a:lnTo>
                        <a:pt x="0" y="1790"/>
                      </a:lnTo>
                      <a:lnTo>
                        <a:pt x="0" y="1767"/>
                      </a:lnTo>
                      <a:lnTo>
                        <a:pt x="0" y="1733"/>
                      </a:lnTo>
                      <a:lnTo>
                        <a:pt x="0" y="1710"/>
                      </a:lnTo>
                      <a:lnTo>
                        <a:pt x="0" y="1687"/>
                      </a:lnTo>
                      <a:lnTo>
                        <a:pt x="0" y="1665"/>
                      </a:lnTo>
                      <a:lnTo>
                        <a:pt x="0" y="1630"/>
                      </a:lnTo>
                      <a:lnTo>
                        <a:pt x="0" y="1608"/>
                      </a:lnTo>
                      <a:lnTo>
                        <a:pt x="0" y="1585"/>
                      </a:lnTo>
                      <a:lnTo>
                        <a:pt x="0" y="1550"/>
                      </a:lnTo>
                      <a:lnTo>
                        <a:pt x="0" y="1528"/>
                      </a:lnTo>
                      <a:lnTo>
                        <a:pt x="0" y="1493"/>
                      </a:lnTo>
                      <a:lnTo>
                        <a:pt x="0" y="1471"/>
                      </a:lnTo>
                      <a:lnTo>
                        <a:pt x="0" y="1436"/>
                      </a:lnTo>
                      <a:lnTo>
                        <a:pt x="10" y="1402"/>
                      </a:lnTo>
                      <a:lnTo>
                        <a:pt x="10" y="1368"/>
                      </a:lnTo>
                      <a:lnTo>
                        <a:pt x="20" y="1334"/>
                      </a:lnTo>
                      <a:lnTo>
                        <a:pt x="20" y="1300"/>
                      </a:lnTo>
                      <a:lnTo>
                        <a:pt x="30" y="1277"/>
                      </a:lnTo>
                      <a:lnTo>
                        <a:pt x="30" y="1254"/>
                      </a:lnTo>
                      <a:lnTo>
                        <a:pt x="40" y="1231"/>
                      </a:lnTo>
                      <a:lnTo>
                        <a:pt x="40" y="1208"/>
                      </a:lnTo>
                      <a:lnTo>
                        <a:pt x="50" y="1186"/>
                      </a:lnTo>
                      <a:lnTo>
                        <a:pt x="50" y="1163"/>
                      </a:lnTo>
                      <a:lnTo>
                        <a:pt x="60" y="1140"/>
                      </a:lnTo>
                      <a:lnTo>
                        <a:pt x="70" y="1117"/>
                      </a:lnTo>
                      <a:lnTo>
                        <a:pt x="80" y="1094"/>
                      </a:lnTo>
                      <a:lnTo>
                        <a:pt x="80" y="1072"/>
                      </a:lnTo>
                      <a:lnTo>
                        <a:pt x="90" y="1049"/>
                      </a:lnTo>
                      <a:lnTo>
                        <a:pt x="100" y="1026"/>
                      </a:lnTo>
                      <a:lnTo>
                        <a:pt x="110" y="1003"/>
                      </a:lnTo>
                      <a:lnTo>
                        <a:pt x="120" y="980"/>
                      </a:lnTo>
                      <a:lnTo>
                        <a:pt x="130" y="958"/>
                      </a:lnTo>
                      <a:lnTo>
                        <a:pt x="140" y="935"/>
                      </a:lnTo>
                      <a:lnTo>
                        <a:pt x="150" y="912"/>
                      </a:lnTo>
                      <a:lnTo>
                        <a:pt x="160" y="901"/>
                      </a:lnTo>
                      <a:lnTo>
                        <a:pt x="170" y="866"/>
                      </a:lnTo>
                      <a:lnTo>
                        <a:pt x="191" y="844"/>
                      </a:lnTo>
                      <a:lnTo>
                        <a:pt x="201" y="821"/>
                      </a:lnTo>
                      <a:lnTo>
                        <a:pt x="211" y="809"/>
                      </a:lnTo>
                      <a:lnTo>
                        <a:pt x="221" y="787"/>
                      </a:lnTo>
                      <a:lnTo>
                        <a:pt x="241" y="764"/>
                      </a:lnTo>
                      <a:lnTo>
                        <a:pt x="251" y="752"/>
                      </a:lnTo>
                      <a:lnTo>
                        <a:pt x="261" y="730"/>
                      </a:lnTo>
                      <a:lnTo>
                        <a:pt x="281" y="707"/>
                      </a:lnTo>
                      <a:lnTo>
                        <a:pt x="291" y="695"/>
                      </a:lnTo>
                      <a:lnTo>
                        <a:pt x="311" y="673"/>
                      </a:lnTo>
                      <a:lnTo>
                        <a:pt x="321" y="661"/>
                      </a:lnTo>
                      <a:lnTo>
                        <a:pt x="341" y="638"/>
                      </a:lnTo>
                      <a:lnTo>
                        <a:pt x="351" y="616"/>
                      </a:lnTo>
                      <a:lnTo>
                        <a:pt x="371" y="604"/>
                      </a:lnTo>
                      <a:lnTo>
                        <a:pt x="381" y="581"/>
                      </a:lnTo>
                      <a:lnTo>
                        <a:pt x="401" y="570"/>
                      </a:lnTo>
                      <a:lnTo>
                        <a:pt x="411" y="547"/>
                      </a:lnTo>
                      <a:lnTo>
                        <a:pt x="431" y="536"/>
                      </a:lnTo>
                      <a:lnTo>
                        <a:pt x="451" y="524"/>
                      </a:lnTo>
                      <a:lnTo>
                        <a:pt x="461" y="502"/>
                      </a:lnTo>
                      <a:lnTo>
                        <a:pt x="481" y="490"/>
                      </a:lnTo>
                      <a:lnTo>
                        <a:pt x="491" y="467"/>
                      </a:lnTo>
                      <a:lnTo>
                        <a:pt x="511" y="456"/>
                      </a:lnTo>
                      <a:lnTo>
                        <a:pt x="531" y="445"/>
                      </a:lnTo>
                      <a:lnTo>
                        <a:pt x="551" y="422"/>
                      </a:lnTo>
                      <a:lnTo>
                        <a:pt x="561" y="410"/>
                      </a:lnTo>
                      <a:lnTo>
                        <a:pt x="581" y="399"/>
                      </a:lnTo>
                      <a:lnTo>
                        <a:pt x="601" y="388"/>
                      </a:lnTo>
                      <a:lnTo>
                        <a:pt x="621" y="365"/>
                      </a:lnTo>
                      <a:lnTo>
                        <a:pt x="631" y="353"/>
                      </a:lnTo>
                      <a:lnTo>
                        <a:pt x="651" y="342"/>
                      </a:lnTo>
                      <a:lnTo>
                        <a:pt x="671" y="331"/>
                      </a:lnTo>
                      <a:lnTo>
                        <a:pt x="691" y="308"/>
                      </a:lnTo>
                      <a:lnTo>
                        <a:pt x="701" y="296"/>
                      </a:lnTo>
                      <a:lnTo>
                        <a:pt x="721" y="285"/>
                      </a:lnTo>
                      <a:lnTo>
                        <a:pt x="741" y="274"/>
                      </a:lnTo>
                      <a:lnTo>
                        <a:pt x="762" y="262"/>
                      </a:lnTo>
                      <a:lnTo>
                        <a:pt x="782" y="251"/>
                      </a:lnTo>
                      <a:lnTo>
                        <a:pt x="802" y="239"/>
                      </a:lnTo>
                      <a:lnTo>
                        <a:pt x="822" y="217"/>
                      </a:lnTo>
                      <a:lnTo>
                        <a:pt x="842" y="205"/>
                      </a:lnTo>
                      <a:lnTo>
                        <a:pt x="862" y="194"/>
                      </a:lnTo>
                      <a:lnTo>
                        <a:pt x="882" y="182"/>
                      </a:lnTo>
                      <a:lnTo>
                        <a:pt x="902" y="171"/>
                      </a:lnTo>
                      <a:lnTo>
                        <a:pt x="922" y="160"/>
                      </a:lnTo>
                      <a:lnTo>
                        <a:pt x="942" y="148"/>
                      </a:lnTo>
                      <a:lnTo>
                        <a:pt x="972" y="137"/>
                      </a:lnTo>
                      <a:lnTo>
                        <a:pt x="992" y="125"/>
                      </a:lnTo>
                      <a:lnTo>
                        <a:pt x="1022" y="114"/>
                      </a:lnTo>
                      <a:lnTo>
                        <a:pt x="1042" y="103"/>
                      </a:lnTo>
                      <a:lnTo>
                        <a:pt x="1062" y="91"/>
                      </a:lnTo>
                      <a:lnTo>
                        <a:pt x="1082" y="91"/>
                      </a:lnTo>
                      <a:lnTo>
                        <a:pt x="1102" y="80"/>
                      </a:lnTo>
                      <a:lnTo>
                        <a:pt x="1132" y="68"/>
                      </a:lnTo>
                      <a:lnTo>
                        <a:pt x="1152" y="57"/>
                      </a:lnTo>
                      <a:lnTo>
                        <a:pt x="1182" y="46"/>
                      </a:lnTo>
                      <a:lnTo>
                        <a:pt x="1212" y="34"/>
                      </a:lnTo>
                      <a:lnTo>
                        <a:pt x="1232" y="23"/>
                      </a:lnTo>
                      <a:lnTo>
                        <a:pt x="1262" y="11"/>
                      </a:lnTo>
                      <a:lnTo>
                        <a:pt x="1282" y="11"/>
                      </a:lnTo>
                      <a:lnTo>
                        <a:pt x="1292" y="0"/>
                      </a:lnTo>
                      <a:lnTo>
                        <a:pt x="1312" y="0"/>
                      </a:lnTo>
                      <a:lnTo>
                        <a:pt x="1333" y="0"/>
                      </a:lnTo>
                      <a:lnTo>
                        <a:pt x="1363" y="0"/>
                      </a:lnTo>
                      <a:lnTo>
                        <a:pt x="1383" y="0"/>
                      </a:lnTo>
                      <a:lnTo>
                        <a:pt x="1403" y="0"/>
                      </a:lnTo>
                      <a:lnTo>
                        <a:pt x="1423" y="0"/>
                      </a:lnTo>
                      <a:lnTo>
                        <a:pt x="1443" y="0"/>
                      </a:lnTo>
                      <a:lnTo>
                        <a:pt x="1473" y="0"/>
                      </a:lnTo>
                      <a:lnTo>
                        <a:pt x="1493" y="0"/>
                      </a:lnTo>
                      <a:lnTo>
                        <a:pt x="1513" y="0"/>
                      </a:lnTo>
                      <a:lnTo>
                        <a:pt x="1533" y="0"/>
                      </a:lnTo>
                      <a:lnTo>
                        <a:pt x="1553" y="0"/>
                      </a:lnTo>
                      <a:lnTo>
                        <a:pt x="1573" y="0"/>
                      </a:lnTo>
                      <a:lnTo>
                        <a:pt x="1603" y="0"/>
                      </a:lnTo>
                      <a:lnTo>
                        <a:pt x="1623" y="0"/>
                      </a:lnTo>
                      <a:lnTo>
                        <a:pt x="1643" y="0"/>
                      </a:lnTo>
                      <a:lnTo>
                        <a:pt x="1663" y="0"/>
                      </a:lnTo>
                      <a:lnTo>
                        <a:pt x="1683" y="0"/>
                      </a:lnTo>
                      <a:lnTo>
                        <a:pt x="1703" y="0"/>
                      </a:lnTo>
                      <a:lnTo>
                        <a:pt x="1733" y="0"/>
                      </a:lnTo>
                      <a:lnTo>
                        <a:pt x="1753" y="0"/>
                      </a:lnTo>
                      <a:lnTo>
                        <a:pt x="1773" y="0"/>
                      </a:lnTo>
                      <a:lnTo>
                        <a:pt x="1793" y="0"/>
                      </a:lnTo>
                      <a:lnTo>
                        <a:pt x="1813" y="0"/>
                      </a:lnTo>
                      <a:lnTo>
                        <a:pt x="1833" y="0"/>
                      </a:lnTo>
                      <a:lnTo>
                        <a:pt x="1863" y="0"/>
                      </a:lnTo>
                      <a:lnTo>
                        <a:pt x="1883" y="0"/>
                      </a:lnTo>
                      <a:lnTo>
                        <a:pt x="1903" y="0"/>
                      </a:lnTo>
                      <a:lnTo>
                        <a:pt x="1924" y="0"/>
                      </a:lnTo>
                      <a:lnTo>
                        <a:pt x="1944" y="0"/>
                      </a:lnTo>
                      <a:lnTo>
                        <a:pt x="1964" y="0"/>
                      </a:lnTo>
                      <a:lnTo>
                        <a:pt x="1994" y="0"/>
                      </a:lnTo>
                      <a:lnTo>
                        <a:pt x="2014" y="0"/>
                      </a:lnTo>
                      <a:lnTo>
                        <a:pt x="2034" y="0"/>
                      </a:lnTo>
                      <a:lnTo>
                        <a:pt x="2054" y="0"/>
                      </a:lnTo>
                      <a:lnTo>
                        <a:pt x="2074" y="0"/>
                      </a:lnTo>
                      <a:lnTo>
                        <a:pt x="2094" y="0"/>
                      </a:lnTo>
                      <a:lnTo>
                        <a:pt x="2124" y="0"/>
                      </a:lnTo>
                      <a:lnTo>
                        <a:pt x="2144" y="0"/>
                      </a:lnTo>
                      <a:lnTo>
                        <a:pt x="2164" y="0"/>
                      </a:lnTo>
                      <a:lnTo>
                        <a:pt x="2184" y="0"/>
                      </a:lnTo>
                      <a:lnTo>
                        <a:pt x="2204" y="0"/>
                      </a:lnTo>
                      <a:lnTo>
                        <a:pt x="2234" y="0"/>
                      </a:lnTo>
                      <a:lnTo>
                        <a:pt x="2254" y="0"/>
                      </a:lnTo>
                      <a:lnTo>
                        <a:pt x="2274" y="0"/>
                      </a:lnTo>
                      <a:lnTo>
                        <a:pt x="2294" y="0"/>
                      </a:lnTo>
                      <a:lnTo>
                        <a:pt x="2314" y="0"/>
                      </a:lnTo>
                      <a:lnTo>
                        <a:pt x="2334" y="0"/>
                      </a:lnTo>
                      <a:lnTo>
                        <a:pt x="2364" y="0"/>
                      </a:lnTo>
                      <a:lnTo>
                        <a:pt x="2384" y="0"/>
                      </a:lnTo>
                      <a:lnTo>
                        <a:pt x="2404" y="0"/>
                      </a:lnTo>
                      <a:lnTo>
                        <a:pt x="2424" y="0"/>
                      </a:lnTo>
                      <a:lnTo>
                        <a:pt x="2444" y="0"/>
                      </a:lnTo>
                      <a:lnTo>
                        <a:pt x="2464" y="0"/>
                      </a:lnTo>
                      <a:lnTo>
                        <a:pt x="2495" y="0"/>
                      </a:lnTo>
                      <a:lnTo>
                        <a:pt x="2515" y="0"/>
                      </a:lnTo>
                      <a:lnTo>
                        <a:pt x="2535" y="0"/>
                      </a:lnTo>
                      <a:lnTo>
                        <a:pt x="2555" y="0"/>
                      </a:lnTo>
                      <a:lnTo>
                        <a:pt x="2575" y="0"/>
                      </a:lnTo>
                      <a:lnTo>
                        <a:pt x="2595" y="0"/>
                      </a:lnTo>
                      <a:lnTo>
                        <a:pt x="2625" y="0"/>
                      </a:lnTo>
                      <a:lnTo>
                        <a:pt x="2645" y="0"/>
                      </a:lnTo>
                      <a:lnTo>
                        <a:pt x="2665" y="0"/>
                      </a:lnTo>
                      <a:lnTo>
                        <a:pt x="2685" y="0"/>
                      </a:lnTo>
                      <a:lnTo>
                        <a:pt x="2705" y="0"/>
                      </a:lnTo>
                      <a:lnTo>
                        <a:pt x="2725" y="0"/>
                      </a:lnTo>
                      <a:lnTo>
                        <a:pt x="2755" y="0"/>
                      </a:lnTo>
                      <a:lnTo>
                        <a:pt x="2775" y="0"/>
                      </a:lnTo>
                      <a:lnTo>
                        <a:pt x="2795" y="0"/>
                      </a:lnTo>
                      <a:lnTo>
                        <a:pt x="2815" y="0"/>
                      </a:lnTo>
                      <a:lnTo>
                        <a:pt x="2835" y="0"/>
                      </a:lnTo>
                      <a:lnTo>
                        <a:pt x="2865" y="0"/>
                      </a:lnTo>
                      <a:lnTo>
                        <a:pt x="2895" y="0"/>
                      </a:lnTo>
                      <a:lnTo>
                        <a:pt x="2915" y="0"/>
                      </a:lnTo>
                      <a:lnTo>
                        <a:pt x="2935" y="0"/>
                      </a:lnTo>
                      <a:lnTo>
                        <a:pt x="2955" y="0"/>
                      </a:lnTo>
                      <a:lnTo>
                        <a:pt x="2975" y="0"/>
                      </a:lnTo>
                      <a:lnTo>
                        <a:pt x="3005" y="0"/>
                      </a:lnTo>
                      <a:lnTo>
                        <a:pt x="3025" y="0"/>
                      </a:lnTo>
                      <a:lnTo>
                        <a:pt x="3045" y="0"/>
                      </a:lnTo>
                      <a:lnTo>
                        <a:pt x="3066" y="0"/>
                      </a:lnTo>
                      <a:lnTo>
                        <a:pt x="3086" y="0"/>
                      </a:lnTo>
                      <a:lnTo>
                        <a:pt x="3106" y="0"/>
                      </a:lnTo>
                      <a:lnTo>
                        <a:pt x="3136" y="0"/>
                      </a:lnTo>
                      <a:lnTo>
                        <a:pt x="3156" y="0"/>
                      </a:lnTo>
                      <a:lnTo>
                        <a:pt x="3176" y="0"/>
                      </a:lnTo>
                      <a:lnTo>
                        <a:pt x="3196" y="0"/>
                      </a:lnTo>
                      <a:lnTo>
                        <a:pt x="3216" y="0"/>
                      </a:lnTo>
                      <a:lnTo>
                        <a:pt x="3236" y="0"/>
                      </a:lnTo>
                      <a:lnTo>
                        <a:pt x="3266" y="0"/>
                      </a:lnTo>
                      <a:lnTo>
                        <a:pt x="3286" y="0"/>
                      </a:lnTo>
                      <a:lnTo>
                        <a:pt x="3306" y="0"/>
                      </a:lnTo>
                      <a:lnTo>
                        <a:pt x="3326" y="0"/>
                      </a:lnTo>
                      <a:lnTo>
                        <a:pt x="3346" y="0"/>
                      </a:lnTo>
                      <a:lnTo>
                        <a:pt x="3366" y="0"/>
                      </a:lnTo>
                      <a:lnTo>
                        <a:pt x="3396" y="0"/>
                      </a:lnTo>
                      <a:lnTo>
                        <a:pt x="3416" y="0"/>
                      </a:lnTo>
                      <a:lnTo>
                        <a:pt x="3436" y="0"/>
                      </a:lnTo>
                      <a:lnTo>
                        <a:pt x="3456" y="0"/>
                      </a:lnTo>
                      <a:lnTo>
                        <a:pt x="3476" y="0"/>
                      </a:lnTo>
                      <a:lnTo>
                        <a:pt x="3506" y="0"/>
                      </a:lnTo>
                      <a:lnTo>
                        <a:pt x="3526" y="0"/>
                      </a:lnTo>
                      <a:lnTo>
                        <a:pt x="3546" y="0"/>
                      </a:lnTo>
                      <a:lnTo>
                        <a:pt x="3566" y="0"/>
                      </a:lnTo>
                      <a:lnTo>
                        <a:pt x="3586" y="0"/>
                      </a:lnTo>
                      <a:lnTo>
                        <a:pt x="3606" y="0"/>
                      </a:lnTo>
                      <a:lnTo>
                        <a:pt x="3637" y="0"/>
                      </a:lnTo>
                      <a:lnTo>
                        <a:pt x="3657" y="0"/>
                      </a:lnTo>
                      <a:lnTo>
                        <a:pt x="3677" y="0"/>
                      </a:lnTo>
                      <a:lnTo>
                        <a:pt x="3697" y="0"/>
                      </a:lnTo>
                      <a:lnTo>
                        <a:pt x="3717" y="0"/>
                      </a:lnTo>
                      <a:lnTo>
                        <a:pt x="3737" y="0"/>
                      </a:lnTo>
                      <a:lnTo>
                        <a:pt x="3767" y="0"/>
                      </a:lnTo>
                      <a:lnTo>
                        <a:pt x="3787" y="0"/>
                      </a:lnTo>
                      <a:lnTo>
                        <a:pt x="3807" y="0"/>
                      </a:lnTo>
                      <a:lnTo>
                        <a:pt x="3827" y="0"/>
                      </a:lnTo>
                      <a:lnTo>
                        <a:pt x="3847" y="0"/>
                      </a:lnTo>
                      <a:lnTo>
                        <a:pt x="3867" y="0"/>
                      </a:lnTo>
                      <a:lnTo>
                        <a:pt x="3897" y="0"/>
                      </a:lnTo>
                      <a:lnTo>
                        <a:pt x="3917" y="0"/>
                      </a:lnTo>
                      <a:lnTo>
                        <a:pt x="3937" y="0"/>
                      </a:lnTo>
                      <a:lnTo>
                        <a:pt x="3957" y="0"/>
                      </a:lnTo>
                      <a:lnTo>
                        <a:pt x="3977" y="0"/>
                      </a:lnTo>
                      <a:lnTo>
                        <a:pt x="3997" y="0"/>
                      </a:lnTo>
                      <a:lnTo>
                        <a:pt x="4027" y="0"/>
                      </a:lnTo>
                      <a:lnTo>
                        <a:pt x="4047" y="0"/>
                      </a:lnTo>
                      <a:lnTo>
                        <a:pt x="4067" y="0"/>
                      </a:lnTo>
                      <a:lnTo>
                        <a:pt x="4087" y="0"/>
                      </a:lnTo>
                      <a:lnTo>
                        <a:pt x="4107" y="0"/>
                      </a:lnTo>
                      <a:lnTo>
                        <a:pt x="4137" y="0"/>
                      </a:lnTo>
                      <a:lnTo>
                        <a:pt x="4157" y="0"/>
                      </a:lnTo>
                      <a:lnTo>
                        <a:pt x="4177" y="0"/>
                      </a:lnTo>
                      <a:lnTo>
                        <a:pt x="4197" y="0"/>
                      </a:lnTo>
                      <a:lnTo>
                        <a:pt x="4218" y="0"/>
                      </a:lnTo>
                      <a:lnTo>
                        <a:pt x="4238" y="0"/>
                      </a:lnTo>
                      <a:lnTo>
                        <a:pt x="4248" y="11"/>
                      </a:lnTo>
                      <a:lnTo>
                        <a:pt x="4278" y="11"/>
                      </a:lnTo>
                      <a:lnTo>
                        <a:pt x="4298" y="23"/>
                      </a:lnTo>
                      <a:lnTo>
                        <a:pt x="4328" y="34"/>
                      </a:lnTo>
                      <a:lnTo>
                        <a:pt x="4358" y="46"/>
                      </a:lnTo>
                      <a:lnTo>
                        <a:pt x="4378" y="57"/>
                      </a:lnTo>
                      <a:lnTo>
                        <a:pt x="4408" y="68"/>
                      </a:lnTo>
                      <a:lnTo>
                        <a:pt x="4428" y="80"/>
                      </a:lnTo>
                      <a:lnTo>
                        <a:pt x="4448" y="91"/>
                      </a:lnTo>
                      <a:lnTo>
                        <a:pt x="4468" y="91"/>
                      </a:lnTo>
                      <a:lnTo>
                        <a:pt x="4498" y="103"/>
                      </a:lnTo>
                      <a:lnTo>
                        <a:pt x="4518" y="114"/>
                      </a:lnTo>
                      <a:lnTo>
                        <a:pt x="4538" y="125"/>
                      </a:lnTo>
                      <a:lnTo>
                        <a:pt x="4558" y="137"/>
                      </a:lnTo>
                      <a:lnTo>
                        <a:pt x="4578" y="148"/>
                      </a:lnTo>
                      <a:lnTo>
                        <a:pt x="4598" y="160"/>
                      </a:lnTo>
                      <a:lnTo>
                        <a:pt x="4628" y="171"/>
                      </a:lnTo>
                      <a:lnTo>
                        <a:pt x="4648" y="182"/>
                      </a:lnTo>
                      <a:lnTo>
                        <a:pt x="4668" y="194"/>
                      </a:lnTo>
                      <a:lnTo>
                        <a:pt x="4688" y="205"/>
                      </a:lnTo>
                      <a:lnTo>
                        <a:pt x="4708" y="217"/>
                      </a:lnTo>
                      <a:lnTo>
                        <a:pt x="4728" y="239"/>
                      </a:lnTo>
                      <a:lnTo>
                        <a:pt x="4748" y="251"/>
                      </a:lnTo>
                      <a:lnTo>
                        <a:pt x="4768" y="262"/>
                      </a:lnTo>
                      <a:lnTo>
                        <a:pt x="4789" y="274"/>
                      </a:lnTo>
                      <a:lnTo>
                        <a:pt x="4809" y="285"/>
                      </a:lnTo>
                      <a:lnTo>
                        <a:pt x="4829" y="296"/>
                      </a:lnTo>
                      <a:lnTo>
                        <a:pt x="4849" y="308"/>
                      </a:lnTo>
                      <a:lnTo>
                        <a:pt x="4869" y="331"/>
                      </a:lnTo>
                      <a:lnTo>
                        <a:pt x="4879" y="342"/>
                      </a:lnTo>
                      <a:lnTo>
                        <a:pt x="4899" y="353"/>
                      </a:lnTo>
                      <a:lnTo>
                        <a:pt x="4919" y="365"/>
                      </a:lnTo>
                      <a:lnTo>
                        <a:pt x="4939" y="388"/>
                      </a:lnTo>
                      <a:lnTo>
                        <a:pt x="4949" y="399"/>
                      </a:lnTo>
                      <a:lnTo>
                        <a:pt x="4969" y="410"/>
                      </a:lnTo>
                      <a:lnTo>
                        <a:pt x="4989" y="422"/>
                      </a:lnTo>
                      <a:lnTo>
                        <a:pt x="5009" y="445"/>
                      </a:lnTo>
                      <a:lnTo>
                        <a:pt x="5019" y="456"/>
                      </a:lnTo>
                      <a:lnTo>
                        <a:pt x="5039" y="467"/>
                      </a:lnTo>
                      <a:lnTo>
                        <a:pt x="5059" y="490"/>
                      </a:lnTo>
                      <a:lnTo>
                        <a:pt x="5069" y="502"/>
                      </a:lnTo>
                      <a:lnTo>
                        <a:pt x="5089" y="524"/>
                      </a:lnTo>
                      <a:lnTo>
                        <a:pt x="5109" y="536"/>
                      </a:lnTo>
                      <a:lnTo>
                        <a:pt x="5119" y="547"/>
                      </a:lnTo>
                      <a:lnTo>
                        <a:pt x="5139" y="570"/>
                      </a:lnTo>
                      <a:lnTo>
                        <a:pt x="5149" y="581"/>
                      </a:lnTo>
                      <a:lnTo>
                        <a:pt x="5169" y="604"/>
                      </a:lnTo>
                      <a:lnTo>
                        <a:pt x="5179" y="616"/>
                      </a:lnTo>
                      <a:lnTo>
                        <a:pt x="5199" y="638"/>
                      </a:lnTo>
                      <a:lnTo>
                        <a:pt x="5209" y="661"/>
                      </a:lnTo>
                      <a:lnTo>
                        <a:pt x="5229" y="673"/>
                      </a:lnTo>
                      <a:lnTo>
                        <a:pt x="5239" y="695"/>
                      </a:lnTo>
                      <a:lnTo>
                        <a:pt x="5259" y="707"/>
                      </a:lnTo>
                      <a:lnTo>
                        <a:pt x="5269" y="730"/>
                      </a:lnTo>
                      <a:lnTo>
                        <a:pt x="5289" y="752"/>
                      </a:lnTo>
                      <a:lnTo>
                        <a:pt x="5299" y="764"/>
                      </a:lnTo>
                      <a:lnTo>
                        <a:pt x="5309" y="787"/>
                      </a:lnTo>
                      <a:lnTo>
                        <a:pt x="5319" y="809"/>
                      </a:lnTo>
                      <a:lnTo>
                        <a:pt x="5339" y="821"/>
                      </a:lnTo>
                      <a:lnTo>
                        <a:pt x="5349" y="844"/>
                      </a:lnTo>
                      <a:lnTo>
                        <a:pt x="5359" y="866"/>
                      </a:lnTo>
                      <a:lnTo>
                        <a:pt x="5370" y="901"/>
                      </a:lnTo>
                      <a:lnTo>
                        <a:pt x="5380" y="912"/>
                      </a:lnTo>
                      <a:lnTo>
                        <a:pt x="5390" y="935"/>
                      </a:lnTo>
                      <a:lnTo>
                        <a:pt x="5410" y="958"/>
                      </a:lnTo>
                      <a:lnTo>
                        <a:pt x="5420" y="980"/>
                      </a:lnTo>
                      <a:lnTo>
                        <a:pt x="5420" y="1003"/>
                      </a:lnTo>
                      <a:lnTo>
                        <a:pt x="5430" y="1026"/>
                      </a:lnTo>
                      <a:lnTo>
                        <a:pt x="5440" y="1049"/>
                      </a:lnTo>
                      <a:lnTo>
                        <a:pt x="5450" y="1072"/>
                      </a:lnTo>
                      <a:lnTo>
                        <a:pt x="5460" y="1094"/>
                      </a:lnTo>
                      <a:lnTo>
                        <a:pt x="5470" y="1117"/>
                      </a:lnTo>
                      <a:lnTo>
                        <a:pt x="5470" y="1140"/>
                      </a:lnTo>
                      <a:lnTo>
                        <a:pt x="5480" y="1163"/>
                      </a:lnTo>
                      <a:lnTo>
                        <a:pt x="5490" y="1186"/>
                      </a:lnTo>
                      <a:lnTo>
                        <a:pt x="5490" y="1208"/>
                      </a:lnTo>
                      <a:lnTo>
                        <a:pt x="5500" y="1231"/>
                      </a:lnTo>
                      <a:lnTo>
                        <a:pt x="5500" y="1254"/>
                      </a:lnTo>
                      <a:lnTo>
                        <a:pt x="5510" y="1277"/>
                      </a:lnTo>
                      <a:lnTo>
                        <a:pt x="5510" y="1300"/>
                      </a:lnTo>
                      <a:lnTo>
                        <a:pt x="5520" y="1334"/>
                      </a:lnTo>
                      <a:lnTo>
                        <a:pt x="5520" y="1368"/>
                      </a:lnTo>
                      <a:lnTo>
                        <a:pt x="5530" y="1402"/>
                      </a:lnTo>
                      <a:lnTo>
                        <a:pt x="5530" y="1436"/>
                      </a:lnTo>
                      <a:lnTo>
                        <a:pt x="5540" y="1471"/>
                      </a:lnTo>
                      <a:lnTo>
                        <a:pt x="5540" y="1493"/>
                      </a:lnTo>
                      <a:lnTo>
                        <a:pt x="5540" y="1528"/>
                      </a:lnTo>
                      <a:lnTo>
                        <a:pt x="5540" y="1550"/>
                      </a:lnTo>
                      <a:lnTo>
                        <a:pt x="5540" y="1585"/>
                      </a:lnTo>
                      <a:lnTo>
                        <a:pt x="5540" y="1608"/>
                      </a:lnTo>
                      <a:lnTo>
                        <a:pt x="5540" y="1630"/>
                      </a:lnTo>
                      <a:lnTo>
                        <a:pt x="5540" y="1665"/>
                      </a:lnTo>
                      <a:lnTo>
                        <a:pt x="5540" y="1687"/>
                      </a:lnTo>
                      <a:lnTo>
                        <a:pt x="5540" y="1710"/>
                      </a:lnTo>
                      <a:lnTo>
                        <a:pt x="5540" y="1733"/>
                      </a:lnTo>
                      <a:lnTo>
                        <a:pt x="5540" y="1767"/>
                      </a:lnTo>
                      <a:lnTo>
                        <a:pt x="5530" y="1790"/>
                      </a:lnTo>
                      <a:lnTo>
                        <a:pt x="5530" y="1813"/>
                      </a:lnTo>
                      <a:lnTo>
                        <a:pt x="5530" y="1847"/>
                      </a:lnTo>
                      <a:lnTo>
                        <a:pt x="5520" y="1870"/>
                      </a:lnTo>
                      <a:lnTo>
                        <a:pt x="5520" y="1904"/>
                      </a:lnTo>
                      <a:lnTo>
                        <a:pt x="5510" y="1927"/>
                      </a:lnTo>
                      <a:lnTo>
                        <a:pt x="5510" y="1961"/>
                      </a:lnTo>
                      <a:lnTo>
                        <a:pt x="5500" y="1984"/>
                      </a:lnTo>
                      <a:lnTo>
                        <a:pt x="5490" y="2007"/>
                      </a:lnTo>
                      <a:lnTo>
                        <a:pt x="5490" y="2041"/>
                      </a:lnTo>
                      <a:lnTo>
                        <a:pt x="5480" y="2064"/>
                      </a:lnTo>
                      <a:lnTo>
                        <a:pt x="5470" y="2086"/>
                      </a:lnTo>
                      <a:lnTo>
                        <a:pt x="5460" y="2109"/>
                      </a:lnTo>
                      <a:lnTo>
                        <a:pt x="5460" y="2132"/>
                      </a:lnTo>
                      <a:lnTo>
                        <a:pt x="5450" y="2155"/>
                      </a:lnTo>
                      <a:lnTo>
                        <a:pt x="5440" y="2178"/>
                      </a:lnTo>
                      <a:lnTo>
                        <a:pt x="5430" y="2200"/>
                      </a:lnTo>
                      <a:lnTo>
                        <a:pt x="5420" y="2223"/>
                      </a:lnTo>
                      <a:lnTo>
                        <a:pt x="5410" y="2246"/>
                      </a:lnTo>
                      <a:lnTo>
                        <a:pt x="5400" y="2269"/>
                      </a:lnTo>
                      <a:lnTo>
                        <a:pt x="5390" y="2292"/>
                      </a:lnTo>
                      <a:lnTo>
                        <a:pt x="5380" y="2314"/>
                      </a:lnTo>
                      <a:lnTo>
                        <a:pt x="5359" y="2337"/>
                      </a:lnTo>
                      <a:lnTo>
                        <a:pt x="5349" y="2360"/>
                      </a:lnTo>
                      <a:lnTo>
                        <a:pt x="5339" y="2383"/>
                      </a:lnTo>
                      <a:lnTo>
                        <a:pt x="5329" y="2394"/>
                      </a:lnTo>
                      <a:lnTo>
                        <a:pt x="5309" y="2417"/>
                      </a:lnTo>
                      <a:lnTo>
                        <a:pt x="5299" y="2440"/>
                      </a:lnTo>
                      <a:lnTo>
                        <a:pt x="5289" y="2463"/>
                      </a:lnTo>
                      <a:lnTo>
                        <a:pt x="5269" y="2474"/>
                      </a:lnTo>
                      <a:lnTo>
                        <a:pt x="5259" y="2497"/>
                      </a:lnTo>
                      <a:lnTo>
                        <a:pt x="5239" y="2520"/>
                      </a:lnTo>
                      <a:lnTo>
                        <a:pt x="5229" y="2531"/>
                      </a:lnTo>
                      <a:lnTo>
                        <a:pt x="5209" y="2554"/>
                      </a:lnTo>
                      <a:lnTo>
                        <a:pt x="5189" y="2577"/>
                      </a:lnTo>
                      <a:lnTo>
                        <a:pt x="5179" y="2588"/>
                      </a:lnTo>
                      <a:lnTo>
                        <a:pt x="5159" y="2611"/>
                      </a:lnTo>
                      <a:lnTo>
                        <a:pt x="5149" y="2622"/>
                      </a:lnTo>
                      <a:lnTo>
                        <a:pt x="5129" y="2645"/>
                      </a:lnTo>
                      <a:lnTo>
                        <a:pt x="5109" y="2656"/>
                      </a:lnTo>
                      <a:lnTo>
                        <a:pt x="5099" y="2679"/>
                      </a:lnTo>
                      <a:lnTo>
                        <a:pt x="5079" y="2691"/>
                      </a:lnTo>
                      <a:lnTo>
                        <a:pt x="5059" y="2702"/>
                      </a:lnTo>
                      <a:lnTo>
                        <a:pt x="5049" y="2725"/>
                      </a:lnTo>
                      <a:lnTo>
                        <a:pt x="5029" y="2736"/>
                      </a:lnTo>
                      <a:lnTo>
                        <a:pt x="5009" y="2759"/>
                      </a:lnTo>
                      <a:lnTo>
                        <a:pt x="4989" y="2770"/>
                      </a:lnTo>
                      <a:lnTo>
                        <a:pt x="4979" y="2782"/>
                      </a:lnTo>
                      <a:lnTo>
                        <a:pt x="4959" y="2805"/>
                      </a:lnTo>
                      <a:lnTo>
                        <a:pt x="4939" y="2816"/>
                      </a:lnTo>
                      <a:lnTo>
                        <a:pt x="4919" y="2827"/>
                      </a:lnTo>
                      <a:lnTo>
                        <a:pt x="4899" y="2850"/>
                      </a:lnTo>
                      <a:lnTo>
                        <a:pt x="4889" y="2862"/>
                      </a:lnTo>
                      <a:lnTo>
                        <a:pt x="4869" y="2873"/>
                      </a:lnTo>
                      <a:lnTo>
                        <a:pt x="4849" y="2884"/>
                      </a:lnTo>
                      <a:lnTo>
                        <a:pt x="4829" y="2896"/>
                      </a:lnTo>
                      <a:lnTo>
                        <a:pt x="4809" y="2919"/>
                      </a:lnTo>
                      <a:lnTo>
                        <a:pt x="4778" y="2930"/>
                      </a:lnTo>
                      <a:lnTo>
                        <a:pt x="4768" y="2941"/>
                      </a:lnTo>
                      <a:lnTo>
                        <a:pt x="4748" y="2953"/>
                      </a:lnTo>
                      <a:lnTo>
                        <a:pt x="4728" y="2964"/>
                      </a:lnTo>
                      <a:lnTo>
                        <a:pt x="4708" y="2976"/>
                      </a:lnTo>
                      <a:lnTo>
                        <a:pt x="4688" y="2987"/>
                      </a:lnTo>
                      <a:lnTo>
                        <a:pt x="4668" y="2998"/>
                      </a:lnTo>
                      <a:lnTo>
                        <a:pt x="4648" y="3010"/>
                      </a:lnTo>
                      <a:lnTo>
                        <a:pt x="4628" y="3021"/>
                      </a:lnTo>
                      <a:lnTo>
                        <a:pt x="4608" y="3033"/>
                      </a:lnTo>
                      <a:lnTo>
                        <a:pt x="4588" y="3044"/>
                      </a:lnTo>
                      <a:lnTo>
                        <a:pt x="4568" y="3055"/>
                      </a:lnTo>
                      <a:lnTo>
                        <a:pt x="4548" y="3067"/>
                      </a:lnTo>
                      <a:lnTo>
                        <a:pt x="4528" y="3078"/>
                      </a:lnTo>
                      <a:lnTo>
                        <a:pt x="4508" y="3090"/>
                      </a:lnTo>
                      <a:lnTo>
                        <a:pt x="4488" y="3101"/>
                      </a:lnTo>
                      <a:lnTo>
                        <a:pt x="4468" y="3112"/>
                      </a:lnTo>
                      <a:lnTo>
                        <a:pt x="4448" y="3112"/>
                      </a:lnTo>
                      <a:lnTo>
                        <a:pt x="4428" y="3124"/>
                      </a:lnTo>
                      <a:lnTo>
                        <a:pt x="4408" y="3135"/>
                      </a:lnTo>
                      <a:lnTo>
                        <a:pt x="4388" y="3147"/>
                      </a:lnTo>
                      <a:lnTo>
                        <a:pt x="4368" y="3158"/>
                      </a:lnTo>
                      <a:lnTo>
                        <a:pt x="4348" y="3158"/>
                      </a:lnTo>
                      <a:lnTo>
                        <a:pt x="4328" y="3169"/>
                      </a:lnTo>
                      <a:lnTo>
                        <a:pt x="4308" y="3181"/>
                      </a:lnTo>
                      <a:lnTo>
                        <a:pt x="4288" y="3181"/>
                      </a:lnTo>
                      <a:lnTo>
                        <a:pt x="4268" y="3192"/>
                      </a:lnTo>
                      <a:lnTo>
                        <a:pt x="4238" y="3192"/>
                      </a:lnTo>
                      <a:lnTo>
                        <a:pt x="4218" y="3192"/>
                      </a:lnTo>
                      <a:lnTo>
                        <a:pt x="4197" y="3192"/>
                      </a:lnTo>
                      <a:lnTo>
                        <a:pt x="4177" y="3192"/>
                      </a:lnTo>
                      <a:lnTo>
                        <a:pt x="4157" y="3192"/>
                      </a:lnTo>
                      <a:lnTo>
                        <a:pt x="4137" y="3192"/>
                      </a:lnTo>
                      <a:lnTo>
                        <a:pt x="4107" y="3192"/>
                      </a:lnTo>
                      <a:lnTo>
                        <a:pt x="4087" y="3192"/>
                      </a:lnTo>
                      <a:lnTo>
                        <a:pt x="4067" y="3192"/>
                      </a:lnTo>
                      <a:lnTo>
                        <a:pt x="4047" y="3192"/>
                      </a:lnTo>
                      <a:lnTo>
                        <a:pt x="4027" y="3192"/>
                      </a:lnTo>
                      <a:lnTo>
                        <a:pt x="3997" y="3192"/>
                      </a:lnTo>
                      <a:lnTo>
                        <a:pt x="3977" y="3192"/>
                      </a:lnTo>
                      <a:lnTo>
                        <a:pt x="3957" y="3192"/>
                      </a:lnTo>
                      <a:lnTo>
                        <a:pt x="3937" y="3192"/>
                      </a:lnTo>
                      <a:lnTo>
                        <a:pt x="3917" y="3192"/>
                      </a:lnTo>
                      <a:lnTo>
                        <a:pt x="3897" y="3192"/>
                      </a:lnTo>
                      <a:lnTo>
                        <a:pt x="3867" y="3192"/>
                      </a:lnTo>
                      <a:lnTo>
                        <a:pt x="3847" y="3192"/>
                      </a:lnTo>
                      <a:lnTo>
                        <a:pt x="3827" y="3192"/>
                      </a:lnTo>
                      <a:lnTo>
                        <a:pt x="3807" y="3192"/>
                      </a:lnTo>
                      <a:lnTo>
                        <a:pt x="3787" y="3192"/>
                      </a:lnTo>
                      <a:lnTo>
                        <a:pt x="3767" y="3192"/>
                      </a:lnTo>
                      <a:lnTo>
                        <a:pt x="3737" y="3192"/>
                      </a:lnTo>
                      <a:lnTo>
                        <a:pt x="3717" y="3192"/>
                      </a:lnTo>
                      <a:lnTo>
                        <a:pt x="3697" y="3192"/>
                      </a:lnTo>
                      <a:lnTo>
                        <a:pt x="3677" y="3192"/>
                      </a:lnTo>
                      <a:lnTo>
                        <a:pt x="3657" y="3192"/>
                      </a:lnTo>
                      <a:lnTo>
                        <a:pt x="3637" y="3192"/>
                      </a:lnTo>
                      <a:lnTo>
                        <a:pt x="3606" y="3192"/>
                      </a:lnTo>
                      <a:lnTo>
                        <a:pt x="3586" y="3192"/>
                      </a:lnTo>
                      <a:lnTo>
                        <a:pt x="3566" y="3192"/>
                      </a:lnTo>
                      <a:lnTo>
                        <a:pt x="3546" y="3192"/>
                      </a:lnTo>
                      <a:lnTo>
                        <a:pt x="3526" y="3192"/>
                      </a:lnTo>
                      <a:lnTo>
                        <a:pt x="3506" y="3192"/>
                      </a:lnTo>
                      <a:lnTo>
                        <a:pt x="3476" y="3192"/>
                      </a:lnTo>
                      <a:lnTo>
                        <a:pt x="3456" y="3192"/>
                      </a:lnTo>
                      <a:lnTo>
                        <a:pt x="3436" y="3192"/>
                      </a:lnTo>
                      <a:lnTo>
                        <a:pt x="3416" y="3192"/>
                      </a:lnTo>
                      <a:lnTo>
                        <a:pt x="3396" y="3192"/>
                      </a:lnTo>
                      <a:lnTo>
                        <a:pt x="3366" y="3192"/>
                      </a:lnTo>
                      <a:lnTo>
                        <a:pt x="3346" y="3192"/>
                      </a:lnTo>
                      <a:lnTo>
                        <a:pt x="3326" y="3192"/>
                      </a:lnTo>
                      <a:lnTo>
                        <a:pt x="3306" y="3192"/>
                      </a:lnTo>
                      <a:lnTo>
                        <a:pt x="3286" y="3192"/>
                      </a:lnTo>
                      <a:lnTo>
                        <a:pt x="3266" y="3192"/>
                      </a:lnTo>
                      <a:lnTo>
                        <a:pt x="3236" y="3192"/>
                      </a:lnTo>
                      <a:lnTo>
                        <a:pt x="3216" y="3192"/>
                      </a:lnTo>
                      <a:lnTo>
                        <a:pt x="3196" y="3192"/>
                      </a:lnTo>
                      <a:lnTo>
                        <a:pt x="3176" y="3192"/>
                      </a:lnTo>
                      <a:lnTo>
                        <a:pt x="3156" y="3192"/>
                      </a:lnTo>
                      <a:lnTo>
                        <a:pt x="3136" y="3192"/>
                      </a:lnTo>
                      <a:lnTo>
                        <a:pt x="3106" y="3192"/>
                      </a:lnTo>
                      <a:lnTo>
                        <a:pt x="3086" y="3192"/>
                      </a:lnTo>
                      <a:lnTo>
                        <a:pt x="3066" y="3192"/>
                      </a:lnTo>
                      <a:lnTo>
                        <a:pt x="3045" y="3192"/>
                      </a:lnTo>
                      <a:lnTo>
                        <a:pt x="3025" y="3192"/>
                      </a:lnTo>
                      <a:lnTo>
                        <a:pt x="3005" y="3192"/>
                      </a:lnTo>
                      <a:lnTo>
                        <a:pt x="2975" y="3192"/>
                      </a:lnTo>
                      <a:lnTo>
                        <a:pt x="2955" y="3192"/>
                      </a:lnTo>
                      <a:lnTo>
                        <a:pt x="2935" y="3192"/>
                      </a:lnTo>
                      <a:lnTo>
                        <a:pt x="2915" y="3192"/>
                      </a:lnTo>
                      <a:lnTo>
                        <a:pt x="2895" y="3192"/>
                      </a:lnTo>
                      <a:lnTo>
                        <a:pt x="2865" y="3192"/>
                      </a:lnTo>
                      <a:lnTo>
                        <a:pt x="2835" y="3192"/>
                      </a:lnTo>
                      <a:lnTo>
                        <a:pt x="2815" y="3192"/>
                      </a:lnTo>
                      <a:lnTo>
                        <a:pt x="2795" y="3192"/>
                      </a:lnTo>
                      <a:lnTo>
                        <a:pt x="2775" y="3192"/>
                      </a:lnTo>
                      <a:lnTo>
                        <a:pt x="2755" y="3192"/>
                      </a:lnTo>
                      <a:lnTo>
                        <a:pt x="2725" y="3192"/>
                      </a:lnTo>
                      <a:lnTo>
                        <a:pt x="2705" y="3192"/>
                      </a:lnTo>
                      <a:lnTo>
                        <a:pt x="2685" y="3192"/>
                      </a:lnTo>
                      <a:lnTo>
                        <a:pt x="2665" y="3192"/>
                      </a:lnTo>
                      <a:lnTo>
                        <a:pt x="2645" y="3192"/>
                      </a:lnTo>
                      <a:lnTo>
                        <a:pt x="2625" y="3192"/>
                      </a:lnTo>
                      <a:lnTo>
                        <a:pt x="2595" y="3192"/>
                      </a:lnTo>
                      <a:lnTo>
                        <a:pt x="2575" y="3192"/>
                      </a:lnTo>
                      <a:lnTo>
                        <a:pt x="2555" y="3192"/>
                      </a:lnTo>
                      <a:lnTo>
                        <a:pt x="2535" y="3192"/>
                      </a:lnTo>
                      <a:lnTo>
                        <a:pt x="2515" y="3192"/>
                      </a:lnTo>
                      <a:lnTo>
                        <a:pt x="2495" y="3192"/>
                      </a:lnTo>
                      <a:lnTo>
                        <a:pt x="2464" y="3192"/>
                      </a:lnTo>
                      <a:lnTo>
                        <a:pt x="2444" y="3192"/>
                      </a:lnTo>
                      <a:lnTo>
                        <a:pt x="2424" y="3192"/>
                      </a:lnTo>
                      <a:lnTo>
                        <a:pt x="2404" y="3192"/>
                      </a:lnTo>
                      <a:lnTo>
                        <a:pt x="2384" y="3192"/>
                      </a:lnTo>
                      <a:lnTo>
                        <a:pt x="2364" y="3192"/>
                      </a:lnTo>
                      <a:lnTo>
                        <a:pt x="2334" y="3192"/>
                      </a:lnTo>
                      <a:lnTo>
                        <a:pt x="2314" y="3192"/>
                      </a:lnTo>
                      <a:lnTo>
                        <a:pt x="2294" y="3192"/>
                      </a:lnTo>
                      <a:lnTo>
                        <a:pt x="2274" y="3192"/>
                      </a:lnTo>
                      <a:lnTo>
                        <a:pt x="2254" y="3192"/>
                      </a:lnTo>
                      <a:lnTo>
                        <a:pt x="2234" y="3192"/>
                      </a:lnTo>
                      <a:lnTo>
                        <a:pt x="2204" y="3192"/>
                      </a:lnTo>
                      <a:lnTo>
                        <a:pt x="2184" y="3192"/>
                      </a:lnTo>
                      <a:lnTo>
                        <a:pt x="2164" y="3192"/>
                      </a:lnTo>
                      <a:lnTo>
                        <a:pt x="2144" y="3192"/>
                      </a:lnTo>
                      <a:lnTo>
                        <a:pt x="2124" y="3192"/>
                      </a:lnTo>
                      <a:lnTo>
                        <a:pt x="2094" y="3192"/>
                      </a:lnTo>
                      <a:lnTo>
                        <a:pt x="2074" y="3192"/>
                      </a:lnTo>
                      <a:lnTo>
                        <a:pt x="2054" y="3192"/>
                      </a:lnTo>
                      <a:lnTo>
                        <a:pt x="2034" y="3192"/>
                      </a:lnTo>
                      <a:lnTo>
                        <a:pt x="2014" y="3192"/>
                      </a:lnTo>
                      <a:lnTo>
                        <a:pt x="1994" y="3192"/>
                      </a:lnTo>
                      <a:lnTo>
                        <a:pt x="1964" y="3192"/>
                      </a:lnTo>
                      <a:lnTo>
                        <a:pt x="1944" y="3192"/>
                      </a:lnTo>
                      <a:lnTo>
                        <a:pt x="1924" y="3192"/>
                      </a:lnTo>
                      <a:lnTo>
                        <a:pt x="1903" y="3192"/>
                      </a:lnTo>
                      <a:lnTo>
                        <a:pt x="1883" y="3192"/>
                      </a:lnTo>
                      <a:lnTo>
                        <a:pt x="1863" y="3192"/>
                      </a:lnTo>
                      <a:lnTo>
                        <a:pt x="1833" y="3192"/>
                      </a:lnTo>
                      <a:lnTo>
                        <a:pt x="1813" y="3192"/>
                      </a:lnTo>
                      <a:lnTo>
                        <a:pt x="1793" y="3192"/>
                      </a:lnTo>
                      <a:lnTo>
                        <a:pt x="1773" y="3192"/>
                      </a:lnTo>
                      <a:lnTo>
                        <a:pt x="1753" y="3192"/>
                      </a:lnTo>
                      <a:lnTo>
                        <a:pt x="1733" y="3192"/>
                      </a:lnTo>
                      <a:lnTo>
                        <a:pt x="1703" y="3192"/>
                      </a:lnTo>
                      <a:lnTo>
                        <a:pt x="1683" y="3192"/>
                      </a:lnTo>
                      <a:lnTo>
                        <a:pt x="1663" y="3192"/>
                      </a:lnTo>
                      <a:lnTo>
                        <a:pt x="1643" y="3192"/>
                      </a:lnTo>
                      <a:lnTo>
                        <a:pt x="1623" y="3192"/>
                      </a:lnTo>
                      <a:lnTo>
                        <a:pt x="1603" y="3192"/>
                      </a:lnTo>
                      <a:lnTo>
                        <a:pt x="1573" y="3192"/>
                      </a:lnTo>
                      <a:lnTo>
                        <a:pt x="1553" y="3192"/>
                      </a:lnTo>
                      <a:lnTo>
                        <a:pt x="1533" y="3192"/>
                      </a:lnTo>
                      <a:lnTo>
                        <a:pt x="1513" y="3192"/>
                      </a:lnTo>
                      <a:lnTo>
                        <a:pt x="1493" y="3192"/>
                      </a:lnTo>
                      <a:lnTo>
                        <a:pt x="1473" y="3192"/>
                      </a:lnTo>
                      <a:lnTo>
                        <a:pt x="1443" y="3192"/>
                      </a:lnTo>
                      <a:lnTo>
                        <a:pt x="1423" y="3192"/>
                      </a:lnTo>
                      <a:lnTo>
                        <a:pt x="1403" y="3192"/>
                      </a:lnTo>
                      <a:lnTo>
                        <a:pt x="1383" y="3192"/>
                      </a:lnTo>
                      <a:lnTo>
                        <a:pt x="1363" y="3192"/>
                      </a:lnTo>
                      <a:lnTo>
                        <a:pt x="1333" y="3192"/>
                      </a:lnTo>
                      <a:lnTo>
                        <a:pt x="1312" y="3192"/>
                      </a:lnTo>
                      <a:lnTo>
                        <a:pt x="1292" y="3192"/>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22320" y="5432400"/>
                  <a:ext cx="1303200" cy="777960"/>
                </a:xfrm>
                <a:custGeom>
                  <a:avLst/>
                  <a:gdLst/>
                  <a:ahLst/>
                  <a:rect l="l" t="t" r="r" b="b"/>
                  <a:pathLst>
                    <a:path w="821" h="490">
                      <a:moveTo>
                        <a:pt x="821" y="490"/>
                      </a:moveTo>
                      <a:lnTo>
                        <a:pt x="801" y="490"/>
                      </a:lnTo>
                      <a:lnTo>
                        <a:pt x="781" y="479"/>
                      </a:lnTo>
                      <a:lnTo>
                        <a:pt x="761" y="479"/>
                      </a:lnTo>
                      <a:lnTo>
                        <a:pt x="741" y="467"/>
                      </a:lnTo>
                      <a:lnTo>
                        <a:pt x="711" y="456"/>
                      </a:lnTo>
                      <a:lnTo>
                        <a:pt x="691" y="456"/>
                      </a:lnTo>
                      <a:lnTo>
                        <a:pt x="671" y="445"/>
                      </a:lnTo>
                      <a:lnTo>
                        <a:pt x="651" y="433"/>
                      </a:lnTo>
                      <a:lnTo>
                        <a:pt x="631" y="422"/>
                      </a:lnTo>
                      <a:lnTo>
                        <a:pt x="611" y="410"/>
                      </a:lnTo>
                      <a:lnTo>
                        <a:pt x="591" y="410"/>
                      </a:lnTo>
                      <a:lnTo>
                        <a:pt x="571" y="399"/>
                      </a:lnTo>
                      <a:lnTo>
                        <a:pt x="551" y="388"/>
                      </a:lnTo>
                      <a:lnTo>
                        <a:pt x="531" y="376"/>
                      </a:lnTo>
                      <a:lnTo>
                        <a:pt x="511" y="365"/>
                      </a:lnTo>
                      <a:lnTo>
                        <a:pt x="491" y="353"/>
                      </a:lnTo>
                      <a:lnTo>
                        <a:pt x="461" y="342"/>
                      </a:lnTo>
                      <a:lnTo>
                        <a:pt x="441" y="331"/>
                      </a:lnTo>
                      <a:lnTo>
                        <a:pt x="421" y="319"/>
                      </a:lnTo>
                      <a:lnTo>
                        <a:pt x="401" y="308"/>
                      </a:lnTo>
                      <a:lnTo>
                        <a:pt x="381" y="296"/>
                      </a:lnTo>
                      <a:lnTo>
                        <a:pt x="361" y="285"/>
                      </a:lnTo>
                      <a:lnTo>
                        <a:pt x="351" y="274"/>
                      </a:lnTo>
                      <a:lnTo>
                        <a:pt x="331" y="262"/>
                      </a:lnTo>
                      <a:lnTo>
                        <a:pt x="311" y="251"/>
                      </a:lnTo>
                      <a:lnTo>
                        <a:pt x="291" y="239"/>
                      </a:lnTo>
                      <a:lnTo>
                        <a:pt x="270" y="228"/>
                      </a:lnTo>
                      <a:lnTo>
                        <a:pt x="250" y="217"/>
                      </a:lnTo>
                      <a:lnTo>
                        <a:pt x="230" y="194"/>
                      </a:lnTo>
                      <a:lnTo>
                        <a:pt x="210" y="182"/>
                      </a:lnTo>
                      <a:lnTo>
                        <a:pt x="200" y="171"/>
                      </a:lnTo>
                      <a:lnTo>
                        <a:pt x="180" y="160"/>
                      </a:lnTo>
                      <a:lnTo>
                        <a:pt x="160" y="148"/>
                      </a:lnTo>
                      <a:lnTo>
                        <a:pt x="140" y="125"/>
                      </a:lnTo>
                      <a:lnTo>
                        <a:pt x="120" y="114"/>
                      </a:lnTo>
                      <a:lnTo>
                        <a:pt x="110" y="103"/>
                      </a:lnTo>
                      <a:lnTo>
                        <a:pt x="90" y="80"/>
                      </a:lnTo>
                      <a:lnTo>
                        <a:pt x="70" y="68"/>
                      </a:lnTo>
                      <a:lnTo>
                        <a:pt x="50" y="57"/>
                      </a:lnTo>
                      <a:lnTo>
                        <a:pt x="40"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1680" y="4527720"/>
                  <a:ext cx="620640" cy="904680"/>
                </a:xfrm>
                <a:custGeom>
                  <a:avLst/>
                  <a:gdLst/>
                  <a:ahLst/>
                  <a:rect l="l" t="t" r="r" b="b"/>
                  <a:pathLst>
                    <a:path w="391" h="570">
                      <a:moveTo>
                        <a:pt x="391" y="570"/>
                      </a:moveTo>
                      <a:lnTo>
                        <a:pt x="371" y="559"/>
                      </a:lnTo>
                      <a:lnTo>
                        <a:pt x="361" y="547"/>
                      </a:lnTo>
                      <a:lnTo>
                        <a:pt x="341" y="524"/>
                      </a:lnTo>
                      <a:lnTo>
                        <a:pt x="321" y="513"/>
                      </a:lnTo>
                      <a:lnTo>
                        <a:pt x="311" y="490"/>
                      </a:lnTo>
                      <a:lnTo>
                        <a:pt x="291" y="479"/>
                      </a:lnTo>
                      <a:lnTo>
                        <a:pt x="281" y="456"/>
                      </a:lnTo>
                      <a:lnTo>
                        <a:pt x="261" y="445"/>
                      </a:lnTo>
                      <a:lnTo>
                        <a:pt x="241" y="422"/>
                      </a:lnTo>
                      <a:lnTo>
                        <a:pt x="231" y="399"/>
                      </a:lnTo>
                      <a:lnTo>
                        <a:pt x="211" y="388"/>
                      </a:lnTo>
                      <a:lnTo>
                        <a:pt x="201" y="365"/>
                      </a:lnTo>
                      <a:lnTo>
                        <a:pt x="181" y="342"/>
                      </a:lnTo>
                      <a:lnTo>
                        <a:pt x="171" y="331"/>
                      </a:lnTo>
                      <a:lnTo>
                        <a:pt x="161" y="308"/>
                      </a:lnTo>
                      <a:lnTo>
                        <a:pt x="141" y="285"/>
                      </a:lnTo>
                      <a:lnTo>
                        <a:pt x="131" y="262"/>
                      </a:lnTo>
                      <a:lnTo>
                        <a:pt x="121" y="251"/>
                      </a:lnTo>
                      <a:lnTo>
                        <a:pt x="101" y="228"/>
                      </a:lnTo>
                      <a:lnTo>
                        <a:pt x="90" y="205"/>
                      </a:lnTo>
                      <a:lnTo>
                        <a:pt x="80" y="182"/>
                      </a:lnTo>
                      <a:lnTo>
                        <a:pt x="70" y="160"/>
                      </a:lnTo>
                      <a:lnTo>
                        <a:pt x="60" y="137"/>
                      </a:lnTo>
                      <a:lnTo>
                        <a:pt x="40" y="114"/>
                      </a:lnTo>
                      <a:lnTo>
                        <a:pt x="30" y="91"/>
                      </a:lnTo>
                      <a:lnTo>
                        <a:pt x="20" y="68"/>
                      </a:lnTo>
                      <a:lnTo>
                        <a:pt x="1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74600" y="3821040"/>
                  <a:ext cx="127080" cy="706680"/>
                </a:xfrm>
                <a:custGeom>
                  <a:avLst/>
                  <a:gdLst/>
                  <a:ahLst/>
                  <a:rect l="l" t="t" r="r" b="b"/>
                  <a:pathLst>
                    <a:path w="80" h="445">
                      <a:moveTo>
                        <a:pt x="80" y="445"/>
                      </a:moveTo>
                      <a:lnTo>
                        <a:pt x="70" y="422"/>
                      </a:lnTo>
                      <a:lnTo>
                        <a:pt x="60" y="399"/>
                      </a:lnTo>
                      <a:lnTo>
                        <a:pt x="60" y="377"/>
                      </a:lnTo>
                      <a:lnTo>
                        <a:pt x="50" y="354"/>
                      </a:lnTo>
                      <a:lnTo>
                        <a:pt x="40" y="320"/>
                      </a:lnTo>
                      <a:lnTo>
                        <a:pt x="40" y="297"/>
                      </a:lnTo>
                      <a:lnTo>
                        <a:pt x="30" y="274"/>
                      </a:lnTo>
                      <a:lnTo>
                        <a:pt x="20" y="240"/>
                      </a:lnTo>
                      <a:lnTo>
                        <a:pt x="20" y="217"/>
                      </a:lnTo>
                      <a:lnTo>
                        <a:pt x="10" y="183"/>
                      </a:lnTo>
                      <a:lnTo>
                        <a:pt x="10" y="160"/>
                      </a:lnTo>
                      <a:lnTo>
                        <a:pt x="0" y="126"/>
                      </a:lnTo>
                      <a:lnTo>
                        <a:pt x="0" y="103"/>
                      </a:lnTo>
                      <a:lnTo>
                        <a:pt x="0" y="80"/>
                      </a:lnTo>
                      <a:lnTo>
                        <a:pt x="0" y="46"/>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74600" y="3478320"/>
                  <a:ext cx="1440" cy="342720"/>
                </a:xfrm>
                <a:custGeom>
                  <a:avLst/>
                  <a:gdLst/>
                  <a:ahLst/>
                  <a:rect l="l" t="t" r="r" b="b"/>
                  <a:pathLst>
                    <a:path w="0" h="216">
                      <a:moveTo>
                        <a:pt x="0" y="216"/>
                      </a:moveTo>
                      <a:lnTo>
                        <a:pt x="0" y="194"/>
                      </a:lnTo>
                      <a:lnTo>
                        <a:pt x="0" y="159"/>
                      </a:lnTo>
                      <a:lnTo>
                        <a:pt x="0" y="137"/>
                      </a:lnTo>
                      <a:lnTo>
                        <a:pt x="0" y="114"/>
                      </a:lnTo>
                      <a:lnTo>
                        <a:pt x="0" y="79"/>
                      </a:lnTo>
                      <a:lnTo>
                        <a:pt x="0" y="57"/>
                      </a:lnTo>
                      <a:lnTo>
                        <a:pt x="0" y="2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4600" y="3206880"/>
                  <a:ext cx="31680" cy="271440"/>
                </a:xfrm>
                <a:custGeom>
                  <a:avLst/>
                  <a:gdLst/>
                  <a:ahLst/>
                  <a:rect l="l" t="t" r="r" b="b"/>
                  <a:pathLst>
                    <a:path w="20" h="171">
                      <a:moveTo>
                        <a:pt x="0" y="171"/>
                      </a:moveTo>
                      <a:lnTo>
                        <a:pt x="0" y="136"/>
                      </a:lnTo>
                      <a:lnTo>
                        <a:pt x="10" y="102"/>
                      </a:lnTo>
                      <a:lnTo>
                        <a:pt x="10" y="68"/>
                      </a:lnTo>
                      <a:lnTo>
                        <a:pt x="20" y="34"/>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06280" y="1541520"/>
                  <a:ext cx="1209600" cy="1665360"/>
                </a:xfrm>
                <a:custGeom>
                  <a:avLst/>
                  <a:gdLst/>
                  <a:ahLst/>
                  <a:rect l="l" t="t" r="r" b="b"/>
                  <a:pathLst>
                    <a:path w="762" h="1049">
                      <a:moveTo>
                        <a:pt x="0" y="1049"/>
                      </a:moveTo>
                      <a:lnTo>
                        <a:pt x="10" y="1026"/>
                      </a:lnTo>
                      <a:lnTo>
                        <a:pt x="10" y="1003"/>
                      </a:lnTo>
                      <a:lnTo>
                        <a:pt x="20" y="980"/>
                      </a:lnTo>
                      <a:lnTo>
                        <a:pt x="20" y="957"/>
                      </a:lnTo>
                      <a:lnTo>
                        <a:pt x="30" y="935"/>
                      </a:lnTo>
                      <a:lnTo>
                        <a:pt x="30" y="912"/>
                      </a:lnTo>
                      <a:lnTo>
                        <a:pt x="40" y="889"/>
                      </a:lnTo>
                      <a:lnTo>
                        <a:pt x="50" y="866"/>
                      </a:lnTo>
                      <a:lnTo>
                        <a:pt x="60" y="843"/>
                      </a:lnTo>
                      <a:lnTo>
                        <a:pt x="60" y="821"/>
                      </a:lnTo>
                      <a:lnTo>
                        <a:pt x="70" y="798"/>
                      </a:lnTo>
                      <a:lnTo>
                        <a:pt x="80" y="775"/>
                      </a:lnTo>
                      <a:lnTo>
                        <a:pt x="90" y="752"/>
                      </a:lnTo>
                      <a:lnTo>
                        <a:pt x="100" y="729"/>
                      </a:lnTo>
                      <a:lnTo>
                        <a:pt x="110" y="707"/>
                      </a:lnTo>
                      <a:lnTo>
                        <a:pt x="120" y="684"/>
                      </a:lnTo>
                      <a:lnTo>
                        <a:pt x="130" y="661"/>
                      </a:lnTo>
                      <a:lnTo>
                        <a:pt x="140" y="650"/>
                      </a:lnTo>
                      <a:lnTo>
                        <a:pt x="150" y="615"/>
                      </a:lnTo>
                      <a:lnTo>
                        <a:pt x="171" y="593"/>
                      </a:lnTo>
                      <a:lnTo>
                        <a:pt x="181" y="570"/>
                      </a:lnTo>
                      <a:lnTo>
                        <a:pt x="191" y="558"/>
                      </a:lnTo>
                      <a:lnTo>
                        <a:pt x="201" y="536"/>
                      </a:lnTo>
                      <a:lnTo>
                        <a:pt x="221" y="513"/>
                      </a:lnTo>
                      <a:lnTo>
                        <a:pt x="231" y="501"/>
                      </a:lnTo>
                      <a:lnTo>
                        <a:pt x="241" y="479"/>
                      </a:lnTo>
                      <a:lnTo>
                        <a:pt x="261" y="456"/>
                      </a:lnTo>
                      <a:lnTo>
                        <a:pt x="271" y="444"/>
                      </a:lnTo>
                      <a:lnTo>
                        <a:pt x="291" y="422"/>
                      </a:lnTo>
                      <a:lnTo>
                        <a:pt x="301" y="410"/>
                      </a:lnTo>
                      <a:lnTo>
                        <a:pt x="321" y="387"/>
                      </a:lnTo>
                      <a:lnTo>
                        <a:pt x="331" y="365"/>
                      </a:lnTo>
                      <a:lnTo>
                        <a:pt x="351" y="353"/>
                      </a:lnTo>
                      <a:lnTo>
                        <a:pt x="361" y="330"/>
                      </a:lnTo>
                      <a:lnTo>
                        <a:pt x="381" y="319"/>
                      </a:lnTo>
                      <a:lnTo>
                        <a:pt x="391" y="296"/>
                      </a:lnTo>
                      <a:lnTo>
                        <a:pt x="411" y="285"/>
                      </a:lnTo>
                      <a:lnTo>
                        <a:pt x="431" y="273"/>
                      </a:lnTo>
                      <a:lnTo>
                        <a:pt x="441" y="251"/>
                      </a:lnTo>
                      <a:lnTo>
                        <a:pt x="461" y="239"/>
                      </a:lnTo>
                      <a:lnTo>
                        <a:pt x="471" y="216"/>
                      </a:lnTo>
                      <a:lnTo>
                        <a:pt x="491" y="205"/>
                      </a:lnTo>
                      <a:lnTo>
                        <a:pt x="511" y="194"/>
                      </a:lnTo>
                      <a:lnTo>
                        <a:pt x="531" y="171"/>
                      </a:lnTo>
                      <a:lnTo>
                        <a:pt x="541" y="159"/>
                      </a:lnTo>
                      <a:lnTo>
                        <a:pt x="561" y="148"/>
                      </a:lnTo>
                      <a:lnTo>
                        <a:pt x="581" y="137"/>
                      </a:lnTo>
                      <a:lnTo>
                        <a:pt x="601" y="114"/>
                      </a:lnTo>
                      <a:lnTo>
                        <a:pt x="611" y="102"/>
                      </a:lnTo>
                      <a:lnTo>
                        <a:pt x="631" y="91"/>
                      </a:lnTo>
                      <a:lnTo>
                        <a:pt x="651" y="80"/>
                      </a:lnTo>
                      <a:lnTo>
                        <a:pt x="671" y="57"/>
                      </a:lnTo>
                      <a:lnTo>
                        <a:pt x="681" y="45"/>
                      </a:lnTo>
                      <a:lnTo>
                        <a:pt x="701" y="34"/>
                      </a:lnTo>
                      <a:lnTo>
                        <a:pt x="721" y="23"/>
                      </a:lnTo>
                      <a:lnTo>
                        <a:pt x="742" y="11"/>
                      </a:lnTo>
                      <a:lnTo>
                        <a:pt x="762"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15880" y="1251000"/>
                  <a:ext cx="555840" cy="290520"/>
                </a:xfrm>
                <a:custGeom>
                  <a:avLst/>
                  <a:gdLst/>
                  <a:ahLst/>
                  <a:rect l="l" t="t" r="r" b="b"/>
                  <a:pathLst>
                    <a:path w="350" h="183">
                      <a:moveTo>
                        <a:pt x="0" y="183"/>
                      </a:moveTo>
                      <a:lnTo>
                        <a:pt x="20" y="171"/>
                      </a:lnTo>
                      <a:lnTo>
                        <a:pt x="40" y="149"/>
                      </a:lnTo>
                      <a:lnTo>
                        <a:pt x="60" y="137"/>
                      </a:lnTo>
                      <a:lnTo>
                        <a:pt x="80" y="126"/>
                      </a:lnTo>
                      <a:lnTo>
                        <a:pt x="100" y="114"/>
                      </a:lnTo>
                      <a:lnTo>
                        <a:pt x="120" y="103"/>
                      </a:lnTo>
                      <a:lnTo>
                        <a:pt x="140" y="92"/>
                      </a:lnTo>
                      <a:lnTo>
                        <a:pt x="160" y="80"/>
                      </a:lnTo>
                      <a:lnTo>
                        <a:pt x="190" y="69"/>
                      </a:lnTo>
                      <a:lnTo>
                        <a:pt x="210" y="57"/>
                      </a:lnTo>
                      <a:lnTo>
                        <a:pt x="240" y="46"/>
                      </a:lnTo>
                      <a:lnTo>
                        <a:pt x="260" y="35"/>
                      </a:lnTo>
                      <a:lnTo>
                        <a:pt x="280" y="23"/>
                      </a:lnTo>
                      <a:lnTo>
                        <a:pt x="300" y="23"/>
                      </a:lnTo>
                      <a:lnTo>
                        <a:pt x="320" y="12"/>
                      </a:lnTo>
                      <a:lnTo>
                        <a:pt x="3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971720" y="1179360"/>
                  <a:ext cx="158760" cy="71640"/>
                </a:xfrm>
                <a:custGeom>
                  <a:avLst/>
                  <a:gdLst/>
                  <a:ahLst/>
                  <a:rect l="l" t="t" r="r" b="b"/>
                  <a:pathLst>
                    <a:path w="100" h="45">
                      <a:moveTo>
                        <a:pt x="0" y="45"/>
                      </a:moveTo>
                      <a:lnTo>
                        <a:pt x="20" y="34"/>
                      </a:lnTo>
                      <a:lnTo>
                        <a:pt x="50" y="23"/>
                      </a:lnTo>
                      <a:lnTo>
                        <a:pt x="80" y="11"/>
                      </a:lnTo>
                      <a:lnTo>
                        <a:pt x="10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2130480" y="1143000"/>
                  <a:ext cx="95040" cy="36360"/>
                </a:xfrm>
                <a:custGeom>
                  <a:avLst/>
                  <a:gdLst/>
                  <a:ahLst/>
                  <a:rect l="l" t="t" r="r" b="b"/>
                  <a:pathLst>
                    <a:path w="60" h="23">
                      <a:moveTo>
                        <a:pt x="0" y="23"/>
                      </a:moveTo>
                      <a:lnTo>
                        <a:pt x="30" y="11"/>
                      </a:lnTo>
                      <a:lnTo>
                        <a:pt x="50" y="11"/>
                      </a:lnTo>
                      <a:lnTo>
                        <a:pt x="6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1271520" y="5486400"/>
                  <a:ext cx="1146240" cy="723960"/>
                </a:xfrm>
                <a:custGeom>
                  <a:avLst/>
                  <a:gdLst/>
                  <a:ahLst/>
                  <a:rect l="l" t="t" r="r" b="b"/>
                  <a:pathLst>
                    <a:path w="722" h="456">
                      <a:moveTo>
                        <a:pt x="722" y="456"/>
                      </a:moveTo>
                      <a:lnTo>
                        <a:pt x="702" y="456"/>
                      </a:lnTo>
                      <a:lnTo>
                        <a:pt x="682" y="445"/>
                      </a:lnTo>
                      <a:lnTo>
                        <a:pt x="662" y="433"/>
                      </a:lnTo>
                      <a:lnTo>
                        <a:pt x="642" y="433"/>
                      </a:lnTo>
                      <a:lnTo>
                        <a:pt x="621" y="422"/>
                      </a:lnTo>
                      <a:lnTo>
                        <a:pt x="591" y="411"/>
                      </a:lnTo>
                      <a:lnTo>
                        <a:pt x="571" y="399"/>
                      </a:lnTo>
                      <a:lnTo>
                        <a:pt x="551" y="388"/>
                      </a:lnTo>
                      <a:lnTo>
                        <a:pt x="531" y="388"/>
                      </a:lnTo>
                      <a:lnTo>
                        <a:pt x="511" y="376"/>
                      </a:lnTo>
                      <a:lnTo>
                        <a:pt x="491" y="365"/>
                      </a:lnTo>
                      <a:lnTo>
                        <a:pt x="471" y="354"/>
                      </a:lnTo>
                      <a:lnTo>
                        <a:pt x="451" y="342"/>
                      </a:lnTo>
                      <a:lnTo>
                        <a:pt x="431" y="331"/>
                      </a:lnTo>
                      <a:lnTo>
                        <a:pt x="411" y="319"/>
                      </a:lnTo>
                      <a:lnTo>
                        <a:pt x="391" y="308"/>
                      </a:lnTo>
                      <a:lnTo>
                        <a:pt x="371" y="297"/>
                      </a:lnTo>
                      <a:lnTo>
                        <a:pt x="351" y="285"/>
                      </a:lnTo>
                      <a:lnTo>
                        <a:pt x="331" y="262"/>
                      </a:lnTo>
                      <a:lnTo>
                        <a:pt x="311" y="251"/>
                      </a:lnTo>
                      <a:lnTo>
                        <a:pt x="301" y="240"/>
                      </a:lnTo>
                      <a:lnTo>
                        <a:pt x="281" y="228"/>
                      </a:lnTo>
                      <a:lnTo>
                        <a:pt x="251" y="217"/>
                      </a:lnTo>
                      <a:lnTo>
                        <a:pt x="231" y="205"/>
                      </a:lnTo>
                      <a:lnTo>
                        <a:pt x="211" y="183"/>
                      </a:lnTo>
                      <a:lnTo>
                        <a:pt x="191" y="171"/>
                      </a:lnTo>
                      <a:lnTo>
                        <a:pt x="171" y="160"/>
                      </a:lnTo>
                      <a:lnTo>
                        <a:pt x="161" y="137"/>
                      </a:lnTo>
                      <a:lnTo>
                        <a:pt x="141" y="126"/>
                      </a:lnTo>
                      <a:lnTo>
                        <a:pt x="121" y="114"/>
                      </a:lnTo>
                      <a:lnTo>
                        <a:pt x="101" y="91"/>
                      </a:lnTo>
                      <a:lnTo>
                        <a:pt x="81" y="80"/>
                      </a:lnTo>
                      <a:lnTo>
                        <a:pt x="71" y="69"/>
                      </a:lnTo>
                      <a:lnTo>
                        <a:pt x="50" y="46"/>
                      </a:lnTo>
                      <a:lnTo>
                        <a:pt x="30" y="34"/>
                      </a:lnTo>
                      <a:lnTo>
                        <a:pt x="1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8160" y="4581720"/>
                  <a:ext cx="603360" cy="904680"/>
                </a:xfrm>
                <a:custGeom>
                  <a:avLst/>
                  <a:gdLst/>
                  <a:ahLst/>
                  <a:rect l="l" t="t" r="r" b="b"/>
                  <a:pathLst>
                    <a:path w="380" h="570">
                      <a:moveTo>
                        <a:pt x="380" y="570"/>
                      </a:moveTo>
                      <a:lnTo>
                        <a:pt x="360" y="547"/>
                      </a:lnTo>
                      <a:lnTo>
                        <a:pt x="340" y="536"/>
                      </a:lnTo>
                      <a:lnTo>
                        <a:pt x="330" y="513"/>
                      </a:lnTo>
                      <a:lnTo>
                        <a:pt x="310" y="502"/>
                      </a:lnTo>
                      <a:lnTo>
                        <a:pt x="290" y="479"/>
                      </a:lnTo>
                      <a:lnTo>
                        <a:pt x="280" y="456"/>
                      </a:lnTo>
                      <a:lnTo>
                        <a:pt x="260" y="445"/>
                      </a:lnTo>
                      <a:lnTo>
                        <a:pt x="250" y="422"/>
                      </a:lnTo>
                      <a:lnTo>
                        <a:pt x="230" y="411"/>
                      </a:lnTo>
                      <a:lnTo>
                        <a:pt x="220" y="388"/>
                      </a:lnTo>
                      <a:lnTo>
                        <a:pt x="200" y="365"/>
                      </a:lnTo>
                      <a:lnTo>
                        <a:pt x="190" y="342"/>
                      </a:lnTo>
                      <a:lnTo>
                        <a:pt x="170" y="331"/>
                      </a:lnTo>
                      <a:lnTo>
                        <a:pt x="160" y="308"/>
                      </a:lnTo>
                      <a:lnTo>
                        <a:pt x="140" y="285"/>
                      </a:lnTo>
                      <a:lnTo>
                        <a:pt x="130" y="262"/>
                      </a:lnTo>
                      <a:lnTo>
                        <a:pt x="120" y="240"/>
                      </a:lnTo>
                      <a:lnTo>
                        <a:pt x="110" y="228"/>
                      </a:lnTo>
                      <a:lnTo>
                        <a:pt x="90" y="205"/>
                      </a:lnTo>
                      <a:lnTo>
                        <a:pt x="80" y="183"/>
                      </a:lnTo>
                      <a:lnTo>
                        <a:pt x="70" y="160"/>
                      </a:lnTo>
                      <a:lnTo>
                        <a:pt x="60" y="137"/>
                      </a:lnTo>
                      <a:lnTo>
                        <a:pt x="50" y="114"/>
                      </a:lnTo>
                      <a:lnTo>
                        <a:pt x="40" y="91"/>
                      </a:lnTo>
                      <a:lnTo>
                        <a:pt x="30" y="69"/>
                      </a:lnTo>
                      <a:lnTo>
                        <a:pt x="2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5600" y="3116160"/>
                  <a:ext cx="142560" cy="1465560"/>
                </a:xfrm>
                <a:custGeom>
                  <a:avLst/>
                  <a:gdLst/>
                  <a:ahLst/>
                  <a:rect l="l" t="t" r="r" b="b"/>
                  <a:pathLst>
                    <a:path w="90" h="923">
                      <a:moveTo>
                        <a:pt x="90" y="923"/>
                      </a:moveTo>
                      <a:lnTo>
                        <a:pt x="80" y="900"/>
                      </a:lnTo>
                      <a:lnTo>
                        <a:pt x="70" y="878"/>
                      </a:lnTo>
                      <a:lnTo>
                        <a:pt x="70" y="855"/>
                      </a:lnTo>
                      <a:lnTo>
                        <a:pt x="60" y="821"/>
                      </a:lnTo>
                      <a:lnTo>
                        <a:pt x="50" y="798"/>
                      </a:lnTo>
                      <a:lnTo>
                        <a:pt x="50" y="775"/>
                      </a:lnTo>
                      <a:lnTo>
                        <a:pt x="40" y="752"/>
                      </a:lnTo>
                      <a:lnTo>
                        <a:pt x="40" y="729"/>
                      </a:lnTo>
                      <a:lnTo>
                        <a:pt x="30" y="707"/>
                      </a:lnTo>
                      <a:lnTo>
                        <a:pt x="30" y="684"/>
                      </a:lnTo>
                      <a:lnTo>
                        <a:pt x="30" y="650"/>
                      </a:lnTo>
                      <a:lnTo>
                        <a:pt x="20" y="627"/>
                      </a:lnTo>
                      <a:lnTo>
                        <a:pt x="20" y="604"/>
                      </a:lnTo>
                      <a:lnTo>
                        <a:pt x="20" y="581"/>
                      </a:lnTo>
                      <a:lnTo>
                        <a:pt x="10" y="558"/>
                      </a:lnTo>
                      <a:lnTo>
                        <a:pt x="10" y="524"/>
                      </a:lnTo>
                      <a:lnTo>
                        <a:pt x="10" y="501"/>
                      </a:lnTo>
                      <a:lnTo>
                        <a:pt x="10" y="479"/>
                      </a:lnTo>
                      <a:lnTo>
                        <a:pt x="10" y="456"/>
                      </a:lnTo>
                      <a:lnTo>
                        <a:pt x="10" y="422"/>
                      </a:lnTo>
                      <a:lnTo>
                        <a:pt x="10" y="399"/>
                      </a:lnTo>
                      <a:lnTo>
                        <a:pt x="0" y="376"/>
                      </a:lnTo>
                      <a:lnTo>
                        <a:pt x="10" y="353"/>
                      </a:lnTo>
                      <a:lnTo>
                        <a:pt x="10" y="319"/>
                      </a:lnTo>
                      <a:lnTo>
                        <a:pt x="10" y="296"/>
                      </a:lnTo>
                      <a:lnTo>
                        <a:pt x="10" y="273"/>
                      </a:lnTo>
                      <a:lnTo>
                        <a:pt x="10" y="250"/>
                      </a:lnTo>
                      <a:lnTo>
                        <a:pt x="10" y="228"/>
                      </a:lnTo>
                      <a:lnTo>
                        <a:pt x="10" y="193"/>
                      </a:lnTo>
                      <a:lnTo>
                        <a:pt x="20" y="171"/>
                      </a:lnTo>
                      <a:lnTo>
                        <a:pt x="20" y="148"/>
                      </a:lnTo>
                      <a:lnTo>
                        <a:pt x="20" y="125"/>
                      </a:lnTo>
                      <a:lnTo>
                        <a:pt x="20" y="102"/>
                      </a:lnTo>
                      <a:lnTo>
                        <a:pt x="30" y="79"/>
                      </a:lnTo>
                      <a:lnTo>
                        <a:pt x="30" y="45"/>
                      </a:lnTo>
                      <a:lnTo>
                        <a:pt x="40" y="22"/>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88960" y="2771640"/>
                  <a:ext cx="95400" cy="344520"/>
                </a:xfrm>
                <a:custGeom>
                  <a:avLst/>
                  <a:gdLst/>
                  <a:ahLst/>
                  <a:rect l="l" t="t" r="r" b="b"/>
                  <a:pathLst>
                    <a:path w="60" h="217">
                      <a:moveTo>
                        <a:pt x="0" y="217"/>
                      </a:moveTo>
                      <a:lnTo>
                        <a:pt x="10" y="194"/>
                      </a:lnTo>
                      <a:lnTo>
                        <a:pt x="10" y="160"/>
                      </a:lnTo>
                      <a:lnTo>
                        <a:pt x="20" y="137"/>
                      </a:lnTo>
                      <a:lnTo>
                        <a:pt x="20" y="103"/>
                      </a:lnTo>
                      <a:lnTo>
                        <a:pt x="30" y="80"/>
                      </a:lnTo>
                      <a:lnTo>
                        <a:pt x="40" y="57"/>
                      </a:lnTo>
                      <a:lnTo>
                        <a:pt x="50" y="23"/>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4360" y="1541520"/>
                  <a:ext cx="985680" cy="1230120"/>
                </a:xfrm>
                <a:custGeom>
                  <a:avLst/>
                  <a:gdLst/>
                  <a:ahLst/>
                  <a:rect l="l" t="t" r="r" b="b"/>
                  <a:pathLst>
                    <a:path w="621" h="775">
                      <a:moveTo>
                        <a:pt x="0" y="775"/>
                      </a:moveTo>
                      <a:lnTo>
                        <a:pt x="10" y="752"/>
                      </a:lnTo>
                      <a:lnTo>
                        <a:pt x="20" y="729"/>
                      </a:lnTo>
                      <a:lnTo>
                        <a:pt x="30" y="707"/>
                      </a:lnTo>
                      <a:lnTo>
                        <a:pt x="40" y="684"/>
                      </a:lnTo>
                      <a:lnTo>
                        <a:pt x="50" y="661"/>
                      </a:lnTo>
                      <a:lnTo>
                        <a:pt x="60" y="638"/>
                      </a:lnTo>
                      <a:lnTo>
                        <a:pt x="70" y="604"/>
                      </a:lnTo>
                      <a:lnTo>
                        <a:pt x="80" y="581"/>
                      </a:lnTo>
                      <a:lnTo>
                        <a:pt x="90" y="570"/>
                      </a:lnTo>
                      <a:lnTo>
                        <a:pt x="110" y="547"/>
                      </a:lnTo>
                      <a:lnTo>
                        <a:pt x="120" y="524"/>
                      </a:lnTo>
                      <a:lnTo>
                        <a:pt x="130" y="501"/>
                      </a:lnTo>
                      <a:lnTo>
                        <a:pt x="150" y="479"/>
                      </a:lnTo>
                      <a:lnTo>
                        <a:pt x="160" y="467"/>
                      </a:lnTo>
                      <a:lnTo>
                        <a:pt x="170" y="444"/>
                      </a:lnTo>
                      <a:lnTo>
                        <a:pt x="190" y="422"/>
                      </a:lnTo>
                      <a:lnTo>
                        <a:pt x="200" y="410"/>
                      </a:lnTo>
                      <a:lnTo>
                        <a:pt x="220" y="387"/>
                      </a:lnTo>
                      <a:lnTo>
                        <a:pt x="230" y="365"/>
                      </a:lnTo>
                      <a:lnTo>
                        <a:pt x="250" y="353"/>
                      </a:lnTo>
                      <a:lnTo>
                        <a:pt x="260" y="330"/>
                      </a:lnTo>
                      <a:lnTo>
                        <a:pt x="280" y="308"/>
                      </a:lnTo>
                      <a:lnTo>
                        <a:pt x="290" y="296"/>
                      </a:lnTo>
                      <a:lnTo>
                        <a:pt x="310" y="273"/>
                      </a:lnTo>
                      <a:lnTo>
                        <a:pt x="320" y="262"/>
                      </a:lnTo>
                      <a:lnTo>
                        <a:pt x="340" y="239"/>
                      </a:lnTo>
                      <a:lnTo>
                        <a:pt x="360" y="228"/>
                      </a:lnTo>
                      <a:lnTo>
                        <a:pt x="370" y="205"/>
                      </a:lnTo>
                      <a:lnTo>
                        <a:pt x="390" y="194"/>
                      </a:lnTo>
                      <a:lnTo>
                        <a:pt x="410" y="182"/>
                      </a:lnTo>
                      <a:lnTo>
                        <a:pt x="420" y="159"/>
                      </a:lnTo>
                      <a:lnTo>
                        <a:pt x="441" y="148"/>
                      </a:lnTo>
                      <a:lnTo>
                        <a:pt x="461" y="125"/>
                      </a:lnTo>
                      <a:lnTo>
                        <a:pt x="481" y="114"/>
                      </a:lnTo>
                      <a:lnTo>
                        <a:pt x="491" y="102"/>
                      </a:lnTo>
                      <a:lnTo>
                        <a:pt x="511" y="80"/>
                      </a:lnTo>
                      <a:lnTo>
                        <a:pt x="531" y="68"/>
                      </a:lnTo>
                      <a:lnTo>
                        <a:pt x="551" y="57"/>
                      </a:lnTo>
                      <a:lnTo>
                        <a:pt x="571" y="45"/>
                      </a:lnTo>
                      <a:lnTo>
                        <a:pt x="581" y="23"/>
                      </a:lnTo>
                      <a:lnTo>
                        <a:pt x="601" y="11"/>
                      </a:lnTo>
                      <a:lnTo>
                        <a:pt x="62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670040" y="1251000"/>
                  <a:ext cx="507960" cy="290520"/>
                </a:xfrm>
                <a:custGeom>
                  <a:avLst/>
                  <a:gdLst/>
                  <a:ahLst/>
                  <a:rect l="l" t="t" r="r" b="b"/>
                  <a:pathLst>
                    <a:path w="320" h="183">
                      <a:moveTo>
                        <a:pt x="0" y="183"/>
                      </a:moveTo>
                      <a:lnTo>
                        <a:pt x="30" y="171"/>
                      </a:lnTo>
                      <a:lnTo>
                        <a:pt x="50" y="149"/>
                      </a:lnTo>
                      <a:lnTo>
                        <a:pt x="70" y="137"/>
                      </a:lnTo>
                      <a:lnTo>
                        <a:pt x="90" y="126"/>
                      </a:lnTo>
                      <a:lnTo>
                        <a:pt x="110" y="114"/>
                      </a:lnTo>
                      <a:lnTo>
                        <a:pt x="130" y="103"/>
                      </a:lnTo>
                      <a:lnTo>
                        <a:pt x="150" y="92"/>
                      </a:lnTo>
                      <a:lnTo>
                        <a:pt x="170" y="80"/>
                      </a:lnTo>
                      <a:lnTo>
                        <a:pt x="190" y="69"/>
                      </a:lnTo>
                      <a:lnTo>
                        <a:pt x="210" y="46"/>
                      </a:lnTo>
                      <a:lnTo>
                        <a:pt x="240" y="46"/>
                      </a:lnTo>
                      <a:lnTo>
                        <a:pt x="260" y="35"/>
                      </a:lnTo>
                      <a:lnTo>
                        <a:pt x="280" y="23"/>
                      </a:lnTo>
                      <a:lnTo>
                        <a:pt x="300" y="12"/>
                      </a:lnTo>
                      <a:lnTo>
                        <a:pt x="3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178000" y="1179360"/>
                  <a:ext cx="160560" cy="71640"/>
                </a:xfrm>
                <a:custGeom>
                  <a:avLst/>
                  <a:gdLst/>
                  <a:ahLst/>
                  <a:rect l="l" t="t" r="r" b="b"/>
                  <a:pathLst>
                    <a:path w="101" h="45">
                      <a:moveTo>
                        <a:pt x="0" y="45"/>
                      </a:moveTo>
                      <a:lnTo>
                        <a:pt x="30" y="34"/>
                      </a:lnTo>
                      <a:lnTo>
                        <a:pt x="71" y="11"/>
                      </a:lnTo>
                      <a:lnTo>
                        <a:pt x="101"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 name=""/>
                <p:cNvSpPr/>
                <p:nvPr/>
              </p:nvSpPr>
              <p:spPr>
                <a:xfrm>
                  <a:off x="2338560" y="1143000"/>
                  <a:ext cx="79200" cy="36360"/>
                </a:xfrm>
                <a:custGeom>
                  <a:avLst/>
                  <a:gdLst/>
                  <a:ahLst/>
                  <a:rect l="l" t="t" r="r" b="b"/>
                  <a:pathLst>
                    <a:path w="50" h="23">
                      <a:moveTo>
                        <a:pt x="0" y="23"/>
                      </a:moveTo>
                      <a:lnTo>
                        <a:pt x="20" y="11"/>
                      </a:lnTo>
                      <a:lnTo>
                        <a:pt x="40" y="11"/>
                      </a:lnTo>
                      <a:lnTo>
                        <a:pt x="5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1558800" y="5486400"/>
                  <a:ext cx="1065240" cy="723960"/>
                </a:xfrm>
                <a:custGeom>
                  <a:avLst/>
                  <a:gdLst/>
                  <a:ahLst/>
                  <a:rect l="l" t="t" r="r" b="b"/>
                  <a:pathLst>
                    <a:path w="671" h="456">
                      <a:moveTo>
                        <a:pt x="671" y="456"/>
                      </a:moveTo>
                      <a:lnTo>
                        <a:pt x="641" y="456"/>
                      </a:lnTo>
                      <a:lnTo>
                        <a:pt x="621" y="445"/>
                      </a:lnTo>
                      <a:lnTo>
                        <a:pt x="601" y="433"/>
                      </a:lnTo>
                      <a:lnTo>
                        <a:pt x="581" y="422"/>
                      </a:lnTo>
                      <a:lnTo>
                        <a:pt x="561" y="422"/>
                      </a:lnTo>
                      <a:lnTo>
                        <a:pt x="541" y="411"/>
                      </a:lnTo>
                      <a:lnTo>
                        <a:pt x="521" y="399"/>
                      </a:lnTo>
                      <a:lnTo>
                        <a:pt x="501" y="388"/>
                      </a:lnTo>
                      <a:lnTo>
                        <a:pt x="481" y="376"/>
                      </a:lnTo>
                      <a:lnTo>
                        <a:pt x="461" y="365"/>
                      </a:lnTo>
                      <a:lnTo>
                        <a:pt x="440" y="354"/>
                      </a:lnTo>
                      <a:lnTo>
                        <a:pt x="420" y="342"/>
                      </a:lnTo>
                      <a:lnTo>
                        <a:pt x="400" y="331"/>
                      </a:lnTo>
                      <a:lnTo>
                        <a:pt x="380" y="319"/>
                      </a:lnTo>
                      <a:lnTo>
                        <a:pt x="360" y="308"/>
                      </a:lnTo>
                      <a:lnTo>
                        <a:pt x="340" y="297"/>
                      </a:lnTo>
                      <a:lnTo>
                        <a:pt x="330" y="274"/>
                      </a:lnTo>
                      <a:lnTo>
                        <a:pt x="310" y="262"/>
                      </a:lnTo>
                      <a:lnTo>
                        <a:pt x="290" y="251"/>
                      </a:lnTo>
                      <a:lnTo>
                        <a:pt x="270" y="240"/>
                      </a:lnTo>
                      <a:lnTo>
                        <a:pt x="250" y="228"/>
                      </a:lnTo>
                      <a:lnTo>
                        <a:pt x="240" y="205"/>
                      </a:lnTo>
                      <a:lnTo>
                        <a:pt x="220" y="194"/>
                      </a:lnTo>
                      <a:lnTo>
                        <a:pt x="200" y="183"/>
                      </a:lnTo>
                      <a:lnTo>
                        <a:pt x="180" y="160"/>
                      </a:lnTo>
                      <a:lnTo>
                        <a:pt x="160" y="148"/>
                      </a:lnTo>
                      <a:lnTo>
                        <a:pt x="150" y="137"/>
                      </a:lnTo>
                      <a:lnTo>
                        <a:pt x="130" y="114"/>
                      </a:lnTo>
                      <a:lnTo>
                        <a:pt x="110" y="103"/>
                      </a:lnTo>
                      <a:lnTo>
                        <a:pt x="100" y="80"/>
                      </a:lnTo>
                      <a:lnTo>
                        <a:pt x="70" y="69"/>
                      </a:lnTo>
                      <a:lnTo>
                        <a:pt x="50" y="46"/>
                      </a:lnTo>
                      <a:lnTo>
                        <a:pt x="40" y="34"/>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01880" y="4527720"/>
                  <a:ext cx="556920" cy="958680"/>
                </a:xfrm>
                <a:custGeom>
                  <a:avLst/>
                  <a:gdLst/>
                  <a:ahLst/>
                  <a:rect l="l" t="t" r="r" b="b"/>
                  <a:pathLst>
                    <a:path w="351" h="604">
                      <a:moveTo>
                        <a:pt x="351" y="604"/>
                      </a:moveTo>
                      <a:lnTo>
                        <a:pt x="341" y="581"/>
                      </a:lnTo>
                      <a:lnTo>
                        <a:pt x="321" y="570"/>
                      </a:lnTo>
                      <a:lnTo>
                        <a:pt x="311" y="547"/>
                      </a:lnTo>
                      <a:lnTo>
                        <a:pt x="291" y="536"/>
                      </a:lnTo>
                      <a:lnTo>
                        <a:pt x="281" y="513"/>
                      </a:lnTo>
                      <a:lnTo>
                        <a:pt x="261" y="490"/>
                      </a:lnTo>
                      <a:lnTo>
                        <a:pt x="251" y="479"/>
                      </a:lnTo>
                      <a:lnTo>
                        <a:pt x="230" y="456"/>
                      </a:lnTo>
                      <a:lnTo>
                        <a:pt x="220" y="433"/>
                      </a:lnTo>
                      <a:lnTo>
                        <a:pt x="210" y="422"/>
                      </a:lnTo>
                      <a:lnTo>
                        <a:pt x="190" y="399"/>
                      </a:lnTo>
                      <a:lnTo>
                        <a:pt x="180" y="376"/>
                      </a:lnTo>
                      <a:lnTo>
                        <a:pt x="170" y="353"/>
                      </a:lnTo>
                      <a:lnTo>
                        <a:pt x="150" y="331"/>
                      </a:lnTo>
                      <a:lnTo>
                        <a:pt x="140" y="319"/>
                      </a:lnTo>
                      <a:lnTo>
                        <a:pt x="130" y="296"/>
                      </a:lnTo>
                      <a:lnTo>
                        <a:pt x="120" y="274"/>
                      </a:lnTo>
                      <a:lnTo>
                        <a:pt x="100" y="251"/>
                      </a:lnTo>
                      <a:lnTo>
                        <a:pt x="90" y="228"/>
                      </a:lnTo>
                      <a:lnTo>
                        <a:pt x="80" y="205"/>
                      </a:lnTo>
                      <a:lnTo>
                        <a:pt x="70" y="182"/>
                      </a:lnTo>
                      <a:lnTo>
                        <a:pt x="60" y="160"/>
                      </a:lnTo>
                      <a:lnTo>
                        <a:pt x="50" y="137"/>
                      </a:lnTo>
                      <a:lnTo>
                        <a:pt x="40" y="114"/>
                      </a:lnTo>
                      <a:lnTo>
                        <a:pt x="30" y="91"/>
                      </a:lnTo>
                      <a:lnTo>
                        <a:pt x="30" y="68"/>
                      </a:lnTo>
                      <a:lnTo>
                        <a:pt x="2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90640" y="3387600"/>
                  <a:ext cx="111240" cy="1140120"/>
                </a:xfrm>
                <a:custGeom>
                  <a:avLst/>
                  <a:gdLst/>
                  <a:ahLst/>
                  <a:rect l="l" t="t" r="r" b="b"/>
                  <a:pathLst>
                    <a:path w="70" h="718">
                      <a:moveTo>
                        <a:pt x="70" y="718"/>
                      </a:moveTo>
                      <a:lnTo>
                        <a:pt x="70" y="695"/>
                      </a:lnTo>
                      <a:lnTo>
                        <a:pt x="60" y="672"/>
                      </a:lnTo>
                      <a:lnTo>
                        <a:pt x="50" y="650"/>
                      </a:lnTo>
                      <a:lnTo>
                        <a:pt x="50" y="627"/>
                      </a:lnTo>
                      <a:lnTo>
                        <a:pt x="40" y="604"/>
                      </a:lnTo>
                      <a:lnTo>
                        <a:pt x="40" y="581"/>
                      </a:lnTo>
                      <a:lnTo>
                        <a:pt x="30" y="547"/>
                      </a:lnTo>
                      <a:lnTo>
                        <a:pt x="30" y="524"/>
                      </a:lnTo>
                      <a:lnTo>
                        <a:pt x="30" y="501"/>
                      </a:lnTo>
                      <a:lnTo>
                        <a:pt x="20" y="479"/>
                      </a:lnTo>
                      <a:lnTo>
                        <a:pt x="20" y="456"/>
                      </a:lnTo>
                      <a:lnTo>
                        <a:pt x="10" y="422"/>
                      </a:lnTo>
                      <a:lnTo>
                        <a:pt x="10" y="399"/>
                      </a:lnTo>
                      <a:lnTo>
                        <a:pt x="10" y="376"/>
                      </a:lnTo>
                      <a:lnTo>
                        <a:pt x="10" y="353"/>
                      </a:lnTo>
                      <a:lnTo>
                        <a:pt x="0" y="319"/>
                      </a:lnTo>
                      <a:lnTo>
                        <a:pt x="0" y="296"/>
                      </a:lnTo>
                      <a:lnTo>
                        <a:pt x="0" y="273"/>
                      </a:lnTo>
                      <a:lnTo>
                        <a:pt x="0" y="251"/>
                      </a:lnTo>
                      <a:lnTo>
                        <a:pt x="0" y="216"/>
                      </a:lnTo>
                      <a:lnTo>
                        <a:pt x="0" y="194"/>
                      </a:lnTo>
                      <a:lnTo>
                        <a:pt x="0" y="171"/>
                      </a:lnTo>
                      <a:lnTo>
                        <a:pt x="0" y="148"/>
                      </a:lnTo>
                      <a:lnTo>
                        <a:pt x="0" y="125"/>
                      </a:lnTo>
                      <a:lnTo>
                        <a:pt x="0" y="91"/>
                      </a:lnTo>
                      <a:lnTo>
                        <a:pt x="0" y="68"/>
                      </a:lnTo>
                      <a:lnTo>
                        <a:pt x="10" y="45"/>
                      </a:lnTo>
                      <a:lnTo>
                        <a:pt x="10" y="22"/>
                      </a:lnTo>
                      <a:lnTo>
                        <a:pt x="1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06480" y="2989440"/>
                  <a:ext cx="63360" cy="398160"/>
                </a:xfrm>
                <a:custGeom>
                  <a:avLst/>
                  <a:gdLst/>
                  <a:ahLst/>
                  <a:rect l="l" t="t" r="r" b="b"/>
                  <a:pathLst>
                    <a:path w="40" h="251">
                      <a:moveTo>
                        <a:pt x="0" y="251"/>
                      </a:moveTo>
                      <a:lnTo>
                        <a:pt x="10" y="216"/>
                      </a:lnTo>
                      <a:lnTo>
                        <a:pt x="10" y="194"/>
                      </a:lnTo>
                      <a:lnTo>
                        <a:pt x="10" y="159"/>
                      </a:lnTo>
                      <a:lnTo>
                        <a:pt x="20" y="137"/>
                      </a:lnTo>
                      <a:lnTo>
                        <a:pt x="20" y="114"/>
                      </a:lnTo>
                      <a:lnTo>
                        <a:pt x="30" y="80"/>
                      </a:lnTo>
                      <a:lnTo>
                        <a:pt x="30" y="57"/>
                      </a:lnTo>
                      <a:lnTo>
                        <a:pt x="40" y="34"/>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969840" y="1541520"/>
                  <a:ext cx="970200" cy="1447920"/>
                </a:xfrm>
                <a:custGeom>
                  <a:avLst/>
                  <a:gdLst/>
                  <a:ahLst/>
                  <a:rect l="l" t="t" r="r" b="b"/>
                  <a:pathLst>
                    <a:path w="611" h="912">
                      <a:moveTo>
                        <a:pt x="0" y="912"/>
                      </a:moveTo>
                      <a:lnTo>
                        <a:pt x="10" y="889"/>
                      </a:lnTo>
                      <a:lnTo>
                        <a:pt x="10" y="866"/>
                      </a:lnTo>
                      <a:lnTo>
                        <a:pt x="20" y="843"/>
                      </a:lnTo>
                      <a:lnTo>
                        <a:pt x="30" y="821"/>
                      </a:lnTo>
                      <a:lnTo>
                        <a:pt x="30" y="798"/>
                      </a:lnTo>
                      <a:lnTo>
                        <a:pt x="40" y="775"/>
                      </a:lnTo>
                      <a:lnTo>
                        <a:pt x="50" y="752"/>
                      </a:lnTo>
                      <a:lnTo>
                        <a:pt x="60" y="729"/>
                      </a:lnTo>
                      <a:lnTo>
                        <a:pt x="70" y="707"/>
                      </a:lnTo>
                      <a:lnTo>
                        <a:pt x="70" y="684"/>
                      </a:lnTo>
                      <a:lnTo>
                        <a:pt x="80" y="661"/>
                      </a:lnTo>
                      <a:lnTo>
                        <a:pt x="90" y="638"/>
                      </a:lnTo>
                      <a:lnTo>
                        <a:pt x="100" y="604"/>
                      </a:lnTo>
                      <a:lnTo>
                        <a:pt x="110" y="581"/>
                      </a:lnTo>
                      <a:lnTo>
                        <a:pt x="130" y="570"/>
                      </a:lnTo>
                      <a:lnTo>
                        <a:pt x="140" y="547"/>
                      </a:lnTo>
                      <a:lnTo>
                        <a:pt x="150" y="524"/>
                      </a:lnTo>
                      <a:lnTo>
                        <a:pt x="160" y="501"/>
                      </a:lnTo>
                      <a:lnTo>
                        <a:pt x="170" y="479"/>
                      </a:lnTo>
                      <a:lnTo>
                        <a:pt x="190" y="456"/>
                      </a:lnTo>
                      <a:lnTo>
                        <a:pt x="200" y="444"/>
                      </a:lnTo>
                      <a:lnTo>
                        <a:pt x="210" y="422"/>
                      </a:lnTo>
                      <a:lnTo>
                        <a:pt x="230" y="399"/>
                      </a:lnTo>
                      <a:lnTo>
                        <a:pt x="240" y="387"/>
                      </a:lnTo>
                      <a:lnTo>
                        <a:pt x="250" y="365"/>
                      </a:lnTo>
                      <a:lnTo>
                        <a:pt x="271" y="342"/>
                      </a:lnTo>
                      <a:lnTo>
                        <a:pt x="281" y="330"/>
                      </a:lnTo>
                      <a:lnTo>
                        <a:pt x="301" y="308"/>
                      </a:lnTo>
                      <a:lnTo>
                        <a:pt x="311" y="285"/>
                      </a:lnTo>
                      <a:lnTo>
                        <a:pt x="331" y="273"/>
                      </a:lnTo>
                      <a:lnTo>
                        <a:pt x="341" y="251"/>
                      </a:lnTo>
                      <a:lnTo>
                        <a:pt x="361" y="239"/>
                      </a:lnTo>
                      <a:lnTo>
                        <a:pt x="371" y="216"/>
                      </a:lnTo>
                      <a:lnTo>
                        <a:pt x="391" y="205"/>
                      </a:lnTo>
                      <a:lnTo>
                        <a:pt x="411" y="182"/>
                      </a:lnTo>
                      <a:lnTo>
                        <a:pt x="421" y="171"/>
                      </a:lnTo>
                      <a:lnTo>
                        <a:pt x="441" y="148"/>
                      </a:lnTo>
                      <a:lnTo>
                        <a:pt x="461" y="137"/>
                      </a:lnTo>
                      <a:lnTo>
                        <a:pt x="481" y="114"/>
                      </a:lnTo>
                      <a:lnTo>
                        <a:pt x="501" y="102"/>
                      </a:lnTo>
                      <a:lnTo>
                        <a:pt x="511" y="91"/>
                      </a:lnTo>
                      <a:lnTo>
                        <a:pt x="531" y="68"/>
                      </a:lnTo>
                      <a:lnTo>
                        <a:pt x="551" y="57"/>
                      </a:lnTo>
                      <a:lnTo>
                        <a:pt x="561" y="45"/>
                      </a:lnTo>
                      <a:lnTo>
                        <a:pt x="581" y="23"/>
                      </a:lnTo>
                      <a:lnTo>
                        <a:pt x="601" y="11"/>
                      </a:lnTo>
                      <a:lnTo>
                        <a:pt x="61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40040" y="1251000"/>
                  <a:ext cx="461880" cy="290520"/>
                </a:xfrm>
                <a:custGeom>
                  <a:avLst/>
                  <a:gdLst/>
                  <a:ahLst/>
                  <a:rect l="l" t="t" r="r" b="b"/>
                  <a:pathLst>
                    <a:path w="291" h="183">
                      <a:moveTo>
                        <a:pt x="0" y="183"/>
                      </a:moveTo>
                      <a:lnTo>
                        <a:pt x="20" y="160"/>
                      </a:lnTo>
                      <a:lnTo>
                        <a:pt x="40" y="149"/>
                      </a:lnTo>
                      <a:lnTo>
                        <a:pt x="60" y="137"/>
                      </a:lnTo>
                      <a:lnTo>
                        <a:pt x="80" y="126"/>
                      </a:lnTo>
                      <a:lnTo>
                        <a:pt x="100" y="103"/>
                      </a:lnTo>
                      <a:lnTo>
                        <a:pt x="120" y="92"/>
                      </a:lnTo>
                      <a:lnTo>
                        <a:pt x="140" y="80"/>
                      </a:lnTo>
                      <a:lnTo>
                        <a:pt x="160" y="69"/>
                      </a:lnTo>
                      <a:lnTo>
                        <a:pt x="180" y="57"/>
                      </a:lnTo>
                      <a:lnTo>
                        <a:pt x="200" y="46"/>
                      </a:lnTo>
                      <a:lnTo>
                        <a:pt x="221" y="35"/>
                      </a:lnTo>
                      <a:lnTo>
                        <a:pt x="251" y="23"/>
                      </a:lnTo>
                      <a:lnTo>
                        <a:pt x="271" y="12"/>
                      </a:lnTo>
                      <a:lnTo>
                        <a:pt x="29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01920" y="1179360"/>
                  <a:ext cx="142920" cy="71640"/>
                </a:xfrm>
                <a:custGeom>
                  <a:avLst/>
                  <a:gdLst/>
                  <a:ahLst/>
                  <a:rect l="l" t="t" r="r" b="b"/>
                  <a:pathLst>
                    <a:path w="90" h="45">
                      <a:moveTo>
                        <a:pt x="0" y="45"/>
                      </a:moveTo>
                      <a:lnTo>
                        <a:pt x="30" y="34"/>
                      </a:lnTo>
                      <a:lnTo>
                        <a:pt x="60" y="11"/>
                      </a:lnTo>
                      <a:lnTo>
                        <a:pt x="9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 name=""/>
                <p:cNvSpPr/>
                <p:nvPr/>
              </p:nvSpPr>
              <p:spPr>
                <a:xfrm>
                  <a:off x="2544840" y="1143000"/>
                  <a:ext cx="79200" cy="36360"/>
                </a:xfrm>
                <a:custGeom>
                  <a:avLst/>
                  <a:gdLst/>
                  <a:ahLst/>
                  <a:rect l="l" t="t" r="r" b="b"/>
                  <a:pathLst>
                    <a:path w="50" h="23">
                      <a:moveTo>
                        <a:pt x="0" y="23"/>
                      </a:moveTo>
                      <a:lnTo>
                        <a:pt x="20" y="11"/>
                      </a:lnTo>
                      <a:lnTo>
                        <a:pt x="40" y="11"/>
                      </a:lnTo>
                      <a:lnTo>
                        <a:pt x="5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 name=""/>
                <p:cNvSpPr/>
                <p:nvPr/>
              </p:nvSpPr>
              <p:spPr>
                <a:xfrm>
                  <a:off x="2338560" y="5938920"/>
                  <a:ext cx="475920" cy="271440"/>
                </a:xfrm>
                <a:custGeom>
                  <a:avLst/>
                  <a:gdLst/>
                  <a:ahLst/>
                  <a:rect l="l" t="t" r="r" b="b"/>
                  <a:pathLst>
                    <a:path w="300" h="171">
                      <a:moveTo>
                        <a:pt x="300" y="171"/>
                      </a:moveTo>
                      <a:lnTo>
                        <a:pt x="280" y="171"/>
                      </a:lnTo>
                      <a:lnTo>
                        <a:pt x="250" y="160"/>
                      </a:lnTo>
                      <a:lnTo>
                        <a:pt x="230" y="148"/>
                      </a:lnTo>
                      <a:lnTo>
                        <a:pt x="210" y="137"/>
                      </a:lnTo>
                      <a:lnTo>
                        <a:pt x="190" y="126"/>
                      </a:lnTo>
                      <a:lnTo>
                        <a:pt x="160" y="114"/>
                      </a:lnTo>
                      <a:lnTo>
                        <a:pt x="140" y="103"/>
                      </a:lnTo>
                      <a:lnTo>
                        <a:pt x="120" y="91"/>
                      </a:lnTo>
                      <a:lnTo>
                        <a:pt x="100" y="69"/>
                      </a:lnTo>
                      <a:lnTo>
                        <a:pt x="80" y="57"/>
                      </a:lnTo>
                      <a:lnTo>
                        <a:pt x="60" y="46"/>
                      </a:lnTo>
                      <a:lnTo>
                        <a:pt x="40" y="34"/>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19240" y="5649840"/>
                  <a:ext cx="319320" cy="289080"/>
                </a:xfrm>
                <a:custGeom>
                  <a:avLst/>
                  <a:gdLst/>
                  <a:ahLst/>
                  <a:rect l="l" t="t" r="r" b="b"/>
                  <a:pathLst>
                    <a:path w="201" h="182">
                      <a:moveTo>
                        <a:pt x="201" y="182"/>
                      </a:moveTo>
                      <a:lnTo>
                        <a:pt x="181" y="171"/>
                      </a:lnTo>
                      <a:lnTo>
                        <a:pt x="160" y="148"/>
                      </a:lnTo>
                      <a:lnTo>
                        <a:pt x="130" y="125"/>
                      </a:lnTo>
                      <a:lnTo>
                        <a:pt x="110" y="114"/>
                      </a:lnTo>
                      <a:lnTo>
                        <a:pt x="100" y="91"/>
                      </a:lnTo>
                      <a:lnTo>
                        <a:pt x="80" y="80"/>
                      </a:lnTo>
                      <a:lnTo>
                        <a:pt x="60" y="57"/>
                      </a:lnTo>
                      <a:lnTo>
                        <a:pt x="40" y="34"/>
                      </a:lnTo>
                      <a:lnTo>
                        <a:pt x="2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66920" y="4581720"/>
                  <a:ext cx="652320" cy="1068120"/>
                </a:xfrm>
                <a:custGeom>
                  <a:avLst/>
                  <a:gdLst/>
                  <a:ahLst/>
                  <a:rect l="l" t="t" r="r" b="b"/>
                  <a:pathLst>
                    <a:path w="411" h="673">
                      <a:moveTo>
                        <a:pt x="411" y="673"/>
                      </a:moveTo>
                      <a:lnTo>
                        <a:pt x="391" y="650"/>
                      </a:lnTo>
                      <a:lnTo>
                        <a:pt x="381" y="627"/>
                      </a:lnTo>
                      <a:lnTo>
                        <a:pt x="361" y="616"/>
                      </a:lnTo>
                      <a:lnTo>
                        <a:pt x="351" y="593"/>
                      </a:lnTo>
                      <a:lnTo>
                        <a:pt x="331" y="582"/>
                      </a:lnTo>
                      <a:lnTo>
                        <a:pt x="321" y="559"/>
                      </a:lnTo>
                      <a:lnTo>
                        <a:pt x="301" y="536"/>
                      </a:lnTo>
                      <a:lnTo>
                        <a:pt x="291" y="525"/>
                      </a:lnTo>
                      <a:lnTo>
                        <a:pt x="271" y="502"/>
                      </a:lnTo>
                      <a:lnTo>
                        <a:pt x="261" y="479"/>
                      </a:lnTo>
                      <a:lnTo>
                        <a:pt x="241" y="468"/>
                      </a:lnTo>
                      <a:lnTo>
                        <a:pt x="231" y="445"/>
                      </a:lnTo>
                      <a:lnTo>
                        <a:pt x="211" y="422"/>
                      </a:lnTo>
                      <a:lnTo>
                        <a:pt x="191" y="399"/>
                      </a:lnTo>
                      <a:lnTo>
                        <a:pt x="181" y="376"/>
                      </a:lnTo>
                      <a:lnTo>
                        <a:pt x="161" y="365"/>
                      </a:lnTo>
                      <a:lnTo>
                        <a:pt x="151" y="342"/>
                      </a:lnTo>
                      <a:lnTo>
                        <a:pt x="141" y="319"/>
                      </a:lnTo>
                      <a:lnTo>
                        <a:pt x="131" y="297"/>
                      </a:lnTo>
                      <a:lnTo>
                        <a:pt x="121" y="274"/>
                      </a:lnTo>
                      <a:lnTo>
                        <a:pt x="101" y="251"/>
                      </a:lnTo>
                      <a:lnTo>
                        <a:pt x="91" y="228"/>
                      </a:lnTo>
                      <a:lnTo>
                        <a:pt x="81" y="205"/>
                      </a:lnTo>
                      <a:lnTo>
                        <a:pt x="71" y="183"/>
                      </a:lnTo>
                      <a:lnTo>
                        <a:pt x="61" y="160"/>
                      </a:lnTo>
                      <a:lnTo>
                        <a:pt x="51" y="137"/>
                      </a:lnTo>
                      <a:lnTo>
                        <a:pt x="41" y="114"/>
                      </a:lnTo>
                      <a:lnTo>
                        <a:pt x="31" y="91"/>
                      </a:lnTo>
                      <a:lnTo>
                        <a:pt x="31" y="69"/>
                      </a:lnTo>
                      <a:lnTo>
                        <a:pt x="21" y="46"/>
                      </a:lnTo>
                      <a:lnTo>
                        <a:pt x="11"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55680" y="2898720"/>
                  <a:ext cx="111240" cy="1683000"/>
                </a:xfrm>
                <a:custGeom>
                  <a:avLst/>
                  <a:gdLst/>
                  <a:ahLst/>
                  <a:rect l="l" t="t" r="r" b="b"/>
                  <a:pathLst>
                    <a:path w="70" h="1060">
                      <a:moveTo>
                        <a:pt x="70" y="1060"/>
                      </a:moveTo>
                      <a:lnTo>
                        <a:pt x="70" y="1037"/>
                      </a:lnTo>
                      <a:lnTo>
                        <a:pt x="60" y="1015"/>
                      </a:lnTo>
                      <a:lnTo>
                        <a:pt x="50" y="980"/>
                      </a:lnTo>
                      <a:lnTo>
                        <a:pt x="50" y="958"/>
                      </a:lnTo>
                      <a:lnTo>
                        <a:pt x="40" y="935"/>
                      </a:lnTo>
                      <a:lnTo>
                        <a:pt x="40" y="912"/>
                      </a:lnTo>
                      <a:lnTo>
                        <a:pt x="30" y="889"/>
                      </a:lnTo>
                      <a:lnTo>
                        <a:pt x="30" y="866"/>
                      </a:lnTo>
                      <a:lnTo>
                        <a:pt x="30" y="844"/>
                      </a:lnTo>
                      <a:lnTo>
                        <a:pt x="20" y="821"/>
                      </a:lnTo>
                      <a:lnTo>
                        <a:pt x="20" y="787"/>
                      </a:lnTo>
                      <a:lnTo>
                        <a:pt x="20" y="764"/>
                      </a:lnTo>
                      <a:lnTo>
                        <a:pt x="10" y="741"/>
                      </a:lnTo>
                      <a:lnTo>
                        <a:pt x="10" y="718"/>
                      </a:lnTo>
                      <a:lnTo>
                        <a:pt x="10" y="695"/>
                      </a:lnTo>
                      <a:lnTo>
                        <a:pt x="10" y="673"/>
                      </a:lnTo>
                      <a:lnTo>
                        <a:pt x="10" y="638"/>
                      </a:lnTo>
                      <a:lnTo>
                        <a:pt x="0" y="616"/>
                      </a:lnTo>
                      <a:lnTo>
                        <a:pt x="0" y="593"/>
                      </a:lnTo>
                      <a:lnTo>
                        <a:pt x="0" y="570"/>
                      </a:lnTo>
                      <a:lnTo>
                        <a:pt x="0" y="547"/>
                      </a:lnTo>
                      <a:lnTo>
                        <a:pt x="0" y="513"/>
                      </a:lnTo>
                      <a:lnTo>
                        <a:pt x="0" y="490"/>
                      </a:lnTo>
                      <a:lnTo>
                        <a:pt x="0" y="467"/>
                      </a:lnTo>
                      <a:lnTo>
                        <a:pt x="0" y="444"/>
                      </a:lnTo>
                      <a:lnTo>
                        <a:pt x="0" y="422"/>
                      </a:lnTo>
                      <a:lnTo>
                        <a:pt x="10" y="387"/>
                      </a:lnTo>
                      <a:lnTo>
                        <a:pt x="10" y="365"/>
                      </a:lnTo>
                      <a:lnTo>
                        <a:pt x="10" y="342"/>
                      </a:lnTo>
                      <a:lnTo>
                        <a:pt x="10" y="319"/>
                      </a:lnTo>
                      <a:lnTo>
                        <a:pt x="10" y="296"/>
                      </a:lnTo>
                      <a:lnTo>
                        <a:pt x="20" y="262"/>
                      </a:lnTo>
                      <a:lnTo>
                        <a:pt x="20" y="239"/>
                      </a:lnTo>
                      <a:lnTo>
                        <a:pt x="20" y="216"/>
                      </a:lnTo>
                      <a:lnTo>
                        <a:pt x="20" y="194"/>
                      </a:lnTo>
                      <a:lnTo>
                        <a:pt x="30" y="171"/>
                      </a:lnTo>
                      <a:lnTo>
                        <a:pt x="30" y="148"/>
                      </a:lnTo>
                      <a:lnTo>
                        <a:pt x="40" y="125"/>
                      </a:lnTo>
                      <a:lnTo>
                        <a:pt x="40" y="91"/>
                      </a:lnTo>
                      <a:lnTo>
                        <a:pt x="40" y="68"/>
                      </a:lnTo>
                      <a:lnTo>
                        <a:pt x="50" y="45"/>
                      </a:lnTo>
                      <a:lnTo>
                        <a:pt x="50" y="23"/>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51080" y="1541520"/>
                  <a:ext cx="858600" cy="1357200"/>
                </a:xfrm>
                <a:custGeom>
                  <a:avLst/>
                  <a:gdLst/>
                  <a:ahLst/>
                  <a:rect l="l" t="t" r="r" b="b"/>
                  <a:pathLst>
                    <a:path w="541" h="855">
                      <a:moveTo>
                        <a:pt x="0" y="855"/>
                      </a:moveTo>
                      <a:lnTo>
                        <a:pt x="0" y="832"/>
                      </a:lnTo>
                      <a:lnTo>
                        <a:pt x="10" y="809"/>
                      </a:lnTo>
                      <a:lnTo>
                        <a:pt x="21" y="786"/>
                      </a:lnTo>
                      <a:lnTo>
                        <a:pt x="21" y="764"/>
                      </a:lnTo>
                      <a:lnTo>
                        <a:pt x="31" y="741"/>
                      </a:lnTo>
                      <a:lnTo>
                        <a:pt x="41" y="718"/>
                      </a:lnTo>
                      <a:lnTo>
                        <a:pt x="51" y="695"/>
                      </a:lnTo>
                      <a:lnTo>
                        <a:pt x="51" y="672"/>
                      </a:lnTo>
                      <a:lnTo>
                        <a:pt x="61" y="650"/>
                      </a:lnTo>
                      <a:lnTo>
                        <a:pt x="71" y="615"/>
                      </a:lnTo>
                      <a:lnTo>
                        <a:pt x="81" y="593"/>
                      </a:lnTo>
                      <a:lnTo>
                        <a:pt x="91" y="570"/>
                      </a:lnTo>
                      <a:lnTo>
                        <a:pt x="101" y="558"/>
                      </a:lnTo>
                      <a:lnTo>
                        <a:pt x="111" y="536"/>
                      </a:lnTo>
                      <a:lnTo>
                        <a:pt x="121" y="513"/>
                      </a:lnTo>
                      <a:lnTo>
                        <a:pt x="141" y="490"/>
                      </a:lnTo>
                      <a:lnTo>
                        <a:pt x="151" y="467"/>
                      </a:lnTo>
                      <a:lnTo>
                        <a:pt x="161" y="444"/>
                      </a:lnTo>
                      <a:lnTo>
                        <a:pt x="171" y="422"/>
                      </a:lnTo>
                      <a:lnTo>
                        <a:pt x="191" y="410"/>
                      </a:lnTo>
                      <a:lnTo>
                        <a:pt x="201" y="387"/>
                      </a:lnTo>
                      <a:lnTo>
                        <a:pt x="221" y="365"/>
                      </a:lnTo>
                      <a:lnTo>
                        <a:pt x="231" y="342"/>
                      </a:lnTo>
                      <a:lnTo>
                        <a:pt x="251" y="330"/>
                      </a:lnTo>
                      <a:lnTo>
                        <a:pt x="261" y="308"/>
                      </a:lnTo>
                      <a:lnTo>
                        <a:pt x="281" y="285"/>
                      </a:lnTo>
                      <a:lnTo>
                        <a:pt x="291" y="273"/>
                      </a:lnTo>
                      <a:lnTo>
                        <a:pt x="301" y="251"/>
                      </a:lnTo>
                      <a:lnTo>
                        <a:pt x="321" y="228"/>
                      </a:lnTo>
                      <a:lnTo>
                        <a:pt x="331" y="216"/>
                      </a:lnTo>
                      <a:lnTo>
                        <a:pt x="351" y="194"/>
                      </a:lnTo>
                      <a:lnTo>
                        <a:pt x="361" y="182"/>
                      </a:lnTo>
                      <a:lnTo>
                        <a:pt x="381" y="159"/>
                      </a:lnTo>
                      <a:lnTo>
                        <a:pt x="401" y="148"/>
                      </a:lnTo>
                      <a:lnTo>
                        <a:pt x="411" y="125"/>
                      </a:lnTo>
                      <a:lnTo>
                        <a:pt x="431" y="114"/>
                      </a:lnTo>
                      <a:lnTo>
                        <a:pt x="441" y="91"/>
                      </a:lnTo>
                      <a:lnTo>
                        <a:pt x="461" y="80"/>
                      </a:lnTo>
                      <a:lnTo>
                        <a:pt x="471" y="57"/>
                      </a:lnTo>
                      <a:lnTo>
                        <a:pt x="491" y="45"/>
                      </a:lnTo>
                      <a:lnTo>
                        <a:pt x="511" y="34"/>
                      </a:lnTo>
                      <a:lnTo>
                        <a:pt x="521" y="11"/>
                      </a:lnTo>
                      <a:lnTo>
                        <a:pt x="54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1251000"/>
                  <a:ext cx="398520" cy="290520"/>
                </a:xfrm>
                <a:custGeom>
                  <a:avLst/>
                  <a:gdLst/>
                  <a:ahLst/>
                  <a:rect l="l" t="t" r="r" b="b"/>
                  <a:pathLst>
                    <a:path w="251" h="183">
                      <a:moveTo>
                        <a:pt x="0" y="183"/>
                      </a:moveTo>
                      <a:lnTo>
                        <a:pt x="20" y="160"/>
                      </a:lnTo>
                      <a:lnTo>
                        <a:pt x="40" y="149"/>
                      </a:lnTo>
                      <a:lnTo>
                        <a:pt x="51" y="137"/>
                      </a:lnTo>
                      <a:lnTo>
                        <a:pt x="71" y="114"/>
                      </a:lnTo>
                      <a:lnTo>
                        <a:pt x="91" y="103"/>
                      </a:lnTo>
                      <a:lnTo>
                        <a:pt x="111" y="92"/>
                      </a:lnTo>
                      <a:lnTo>
                        <a:pt x="131" y="80"/>
                      </a:lnTo>
                      <a:lnTo>
                        <a:pt x="151" y="57"/>
                      </a:lnTo>
                      <a:lnTo>
                        <a:pt x="171" y="46"/>
                      </a:lnTo>
                      <a:lnTo>
                        <a:pt x="191" y="35"/>
                      </a:lnTo>
                      <a:lnTo>
                        <a:pt x="211" y="23"/>
                      </a:lnTo>
                      <a:lnTo>
                        <a:pt x="231" y="12"/>
                      </a:lnTo>
                      <a:lnTo>
                        <a:pt x="25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08200" y="1179360"/>
                  <a:ext cx="127080" cy="71640"/>
                </a:xfrm>
                <a:custGeom>
                  <a:avLst/>
                  <a:gdLst/>
                  <a:ahLst/>
                  <a:rect l="l" t="t" r="r" b="b"/>
                  <a:pathLst>
                    <a:path w="80" h="45">
                      <a:moveTo>
                        <a:pt x="0" y="45"/>
                      </a:moveTo>
                      <a:lnTo>
                        <a:pt x="30" y="34"/>
                      </a:lnTo>
                      <a:lnTo>
                        <a:pt x="60" y="11"/>
                      </a:lnTo>
                      <a:lnTo>
                        <a:pt x="8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8" name=""/>
                <p:cNvSpPr/>
                <p:nvPr/>
              </p:nvSpPr>
              <p:spPr>
                <a:xfrm>
                  <a:off x="2735280" y="1143000"/>
                  <a:ext cx="79200" cy="36360"/>
                </a:xfrm>
                <a:custGeom>
                  <a:avLst/>
                  <a:gdLst/>
                  <a:ahLst/>
                  <a:rect l="l" t="t" r="r" b="b"/>
                  <a:pathLst>
                    <a:path w="50" h="23">
                      <a:moveTo>
                        <a:pt x="0" y="23"/>
                      </a:moveTo>
                      <a:lnTo>
                        <a:pt x="20" y="11"/>
                      </a:lnTo>
                      <a:lnTo>
                        <a:pt x="40" y="11"/>
                      </a:lnTo>
                      <a:lnTo>
                        <a:pt x="5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1765440" y="4672080"/>
                  <a:ext cx="1239840" cy="1538280"/>
                </a:xfrm>
                <a:custGeom>
                  <a:avLst/>
                  <a:gdLst/>
                  <a:ahLst/>
                  <a:rect l="l" t="t" r="r" b="b"/>
                  <a:pathLst>
                    <a:path w="781" h="969">
                      <a:moveTo>
                        <a:pt x="781" y="969"/>
                      </a:moveTo>
                      <a:lnTo>
                        <a:pt x="761" y="969"/>
                      </a:lnTo>
                      <a:lnTo>
                        <a:pt x="741" y="958"/>
                      </a:lnTo>
                      <a:lnTo>
                        <a:pt x="721" y="946"/>
                      </a:lnTo>
                      <a:lnTo>
                        <a:pt x="711" y="935"/>
                      </a:lnTo>
                      <a:lnTo>
                        <a:pt x="691" y="924"/>
                      </a:lnTo>
                      <a:lnTo>
                        <a:pt x="671" y="912"/>
                      </a:lnTo>
                      <a:lnTo>
                        <a:pt x="651" y="901"/>
                      </a:lnTo>
                      <a:lnTo>
                        <a:pt x="631" y="889"/>
                      </a:lnTo>
                      <a:lnTo>
                        <a:pt x="611" y="878"/>
                      </a:lnTo>
                      <a:lnTo>
                        <a:pt x="601" y="867"/>
                      </a:lnTo>
                      <a:lnTo>
                        <a:pt x="581" y="855"/>
                      </a:lnTo>
                      <a:lnTo>
                        <a:pt x="561" y="832"/>
                      </a:lnTo>
                      <a:lnTo>
                        <a:pt x="541" y="821"/>
                      </a:lnTo>
                      <a:lnTo>
                        <a:pt x="531" y="810"/>
                      </a:lnTo>
                      <a:lnTo>
                        <a:pt x="511" y="798"/>
                      </a:lnTo>
                      <a:lnTo>
                        <a:pt x="491" y="775"/>
                      </a:lnTo>
                      <a:lnTo>
                        <a:pt x="481" y="764"/>
                      </a:lnTo>
                      <a:lnTo>
                        <a:pt x="461" y="753"/>
                      </a:lnTo>
                      <a:lnTo>
                        <a:pt x="441" y="730"/>
                      </a:lnTo>
                      <a:lnTo>
                        <a:pt x="431" y="718"/>
                      </a:lnTo>
                      <a:lnTo>
                        <a:pt x="411" y="696"/>
                      </a:lnTo>
                      <a:lnTo>
                        <a:pt x="401" y="684"/>
                      </a:lnTo>
                      <a:lnTo>
                        <a:pt x="381" y="661"/>
                      </a:lnTo>
                      <a:lnTo>
                        <a:pt x="361" y="650"/>
                      </a:lnTo>
                      <a:lnTo>
                        <a:pt x="351" y="627"/>
                      </a:lnTo>
                      <a:lnTo>
                        <a:pt x="331" y="616"/>
                      </a:lnTo>
                      <a:lnTo>
                        <a:pt x="320" y="593"/>
                      </a:lnTo>
                      <a:lnTo>
                        <a:pt x="300" y="570"/>
                      </a:lnTo>
                      <a:lnTo>
                        <a:pt x="290" y="559"/>
                      </a:lnTo>
                      <a:lnTo>
                        <a:pt x="280" y="536"/>
                      </a:lnTo>
                      <a:lnTo>
                        <a:pt x="260" y="513"/>
                      </a:lnTo>
                      <a:lnTo>
                        <a:pt x="250" y="502"/>
                      </a:lnTo>
                      <a:lnTo>
                        <a:pt x="240" y="479"/>
                      </a:lnTo>
                      <a:lnTo>
                        <a:pt x="220" y="456"/>
                      </a:lnTo>
                      <a:lnTo>
                        <a:pt x="210" y="445"/>
                      </a:lnTo>
                      <a:lnTo>
                        <a:pt x="200" y="422"/>
                      </a:lnTo>
                      <a:lnTo>
                        <a:pt x="180" y="399"/>
                      </a:lnTo>
                      <a:lnTo>
                        <a:pt x="170" y="376"/>
                      </a:lnTo>
                      <a:lnTo>
                        <a:pt x="160" y="354"/>
                      </a:lnTo>
                      <a:lnTo>
                        <a:pt x="150" y="342"/>
                      </a:lnTo>
                      <a:lnTo>
                        <a:pt x="140" y="319"/>
                      </a:lnTo>
                      <a:lnTo>
                        <a:pt x="120" y="297"/>
                      </a:lnTo>
                      <a:lnTo>
                        <a:pt x="110" y="274"/>
                      </a:lnTo>
                      <a:lnTo>
                        <a:pt x="100" y="251"/>
                      </a:lnTo>
                      <a:lnTo>
                        <a:pt x="90" y="228"/>
                      </a:lnTo>
                      <a:lnTo>
                        <a:pt x="80" y="205"/>
                      </a:lnTo>
                      <a:lnTo>
                        <a:pt x="70" y="194"/>
                      </a:lnTo>
                      <a:lnTo>
                        <a:pt x="60" y="171"/>
                      </a:lnTo>
                      <a:lnTo>
                        <a:pt x="50" y="148"/>
                      </a:lnTo>
                      <a:lnTo>
                        <a:pt x="50" y="126"/>
                      </a:lnTo>
                      <a:lnTo>
                        <a:pt x="40" y="103"/>
                      </a:lnTo>
                      <a:lnTo>
                        <a:pt x="30" y="80"/>
                      </a:lnTo>
                      <a:lnTo>
                        <a:pt x="20" y="57"/>
                      </a:lnTo>
                      <a:lnTo>
                        <a:pt x="10" y="34"/>
                      </a:lnTo>
                      <a:lnTo>
                        <a:pt x="1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654200" y="4219560"/>
                  <a:ext cx="111240" cy="452520"/>
                </a:xfrm>
                <a:custGeom>
                  <a:avLst/>
                  <a:gdLst/>
                  <a:ahLst/>
                  <a:rect l="l" t="t" r="r" b="b"/>
                  <a:pathLst>
                    <a:path w="70" h="285">
                      <a:moveTo>
                        <a:pt x="70" y="285"/>
                      </a:moveTo>
                      <a:lnTo>
                        <a:pt x="60" y="251"/>
                      </a:lnTo>
                      <a:lnTo>
                        <a:pt x="50" y="228"/>
                      </a:lnTo>
                      <a:lnTo>
                        <a:pt x="50" y="194"/>
                      </a:lnTo>
                      <a:lnTo>
                        <a:pt x="40" y="171"/>
                      </a:lnTo>
                      <a:lnTo>
                        <a:pt x="40" y="137"/>
                      </a:lnTo>
                      <a:lnTo>
                        <a:pt x="30" y="114"/>
                      </a:lnTo>
                      <a:lnTo>
                        <a:pt x="30" y="91"/>
                      </a:lnTo>
                      <a:lnTo>
                        <a:pt x="10" y="57"/>
                      </a:lnTo>
                      <a:lnTo>
                        <a:pt x="1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22520" y="2862360"/>
                  <a:ext cx="110880" cy="1357200"/>
                </a:xfrm>
                <a:custGeom>
                  <a:avLst/>
                  <a:gdLst/>
                  <a:ahLst/>
                  <a:rect l="l" t="t" r="r" b="b"/>
                  <a:pathLst>
                    <a:path w="70" h="855">
                      <a:moveTo>
                        <a:pt x="20" y="855"/>
                      </a:moveTo>
                      <a:lnTo>
                        <a:pt x="20" y="832"/>
                      </a:lnTo>
                      <a:lnTo>
                        <a:pt x="20" y="810"/>
                      </a:lnTo>
                      <a:lnTo>
                        <a:pt x="10" y="787"/>
                      </a:lnTo>
                      <a:lnTo>
                        <a:pt x="10" y="764"/>
                      </a:lnTo>
                      <a:lnTo>
                        <a:pt x="10" y="741"/>
                      </a:lnTo>
                      <a:lnTo>
                        <a:pt x="10" y="707"/>
                      </a:lnTo>
                      <a:lnTo>
                        <a:pt x="10" y="684"/>
                      </a:lnTo>
                      <a:lnTo>
                        <a:pt x="0" y="661"/>
                      </a:lnTo>
                      <a:lnTo>
                        <a:pt x="0" y="639"/>
                      </a:lnTo>
                      <a:lnTo>
                        <a:pt x="0" y="616"/>
                      </a:lnTo>
                      <a:lnTo>
                        <a:pt x="0" y="582"/>
                      </a:lnTo>
                      <a:lnTo>
                        <a:pt x="0" y="559"/>
                      </a:lnTo>
                      <a:lnTo>
                        <a:pt x="0" y="536"/>
                      </a:lnTo>
                      <a:lnTo>
                        <a:pt x="0" y="513"/>
                      </a:lnTo>
                      <a:lnTo>
                        <a:pt x="0" y="479"/>
                      </a:lnTo>
                      <a:lnTo>
                        <a:pt x="0" y="456"/>
                      </a:lnTo>
                      <a:lnTo>
                        <a:pt x="0" y="433"/>
                      </a:lnTo>
                      <a:lnTo>
                        <a:pt x="0" y="399"/>
                      </a:lnTo>
                      <a:lnTo>
                        <a:pt x="0" y="376"/>
                      </a:lnTo>
                      <a:lnTo>
                        <a:pt x="0" y="353"/>
                      </a:lnTo>
                      <a:lnTo>
                        <a:pt x="10" y="331"/>
                      </a:lnTo>
                      <a:lnTo>
                        <a:pt x="10" y="296"/>
                      </a:lnTo>
                      <a:lnTo>
                        <a:pt x="10" y="274"/>
                      </a:lnTo>
                      <a:lnTo>
                        <a:pt x="10" y="251"/>
                      </a:lnTo>
                      <a:lnTo>
                        <a:pt x="20" y="217"/>
                      </a:lnTo>
                      <a:lnTo>
                        <a:pt x="20" y="194"/>
                      </a:lnTo>
                      <a:lnTo>
                        <a:pt x="20" y="171"/>
                      </a:lnTo>
                      <a:lnTo>
                        <a:pt x="30" y="148"/>
                      </a:lnTo>
                      <a:lnTo>
                        <a:pt x="30" y="125"/>
                      </a:lnTo>
                      <a:lnTo>
                        <a:pt x="50" y="91"/>
                      </a:lnTo>
                      <a:lnTo>
                        <a:pt x="50" y="68"/>
                      </a:lnTo>
                      <a:lnTo>
                        <a:pt x="60" y="46"/>
                      </a:lnTo>
                      <a:lnTo>
                        <a:pt x="60" y="23"/>
                      </a:lnTo>
                      <a:lnTo>
                        <a:pt x="7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33400" y="1541520"/>
                  <a:ext cx="731880" cy="1320840"/>
                </a:xfrm>
                <a:custGeom>
                  <a:avLst/>
                  <a:gdLst/>
                  <a:ahLst/>
                  <a:rect l="l" t="t" r="r" b="b"/>
                  <a:pathLst>
                    <a:path w="461" h="832">
                      <a:moveTo>
                        <a:pt x="0" y="832"/>
                      </a:moveTo>
                      <a:lnTo>
                        <a:pt x="0" y="809"/>
                      </a:lnTo>
                      <a:lnTo>
                        <a:pt x="10" y="775"/>
                      </a:lnTo>
                      <a:lnTo>
                        <a:pt x="20" y="752"/>
                      </a:lnTo>
                      <a:lnTo>
                        <a:pt x="30" y="729"/>
                      </a:lnTo>
                      <a:lnTo>
                        <a:pt x="30" y="707"/>
                      </a:lnTo>
                      <a:lnTo>
                        <a:pt x="40" y="684"/>
                      </a:lnTo>
                      <a:lnTo>
                        <a:pt x="50" y="661"/>
                      </a:lnTo>
                      <a:lnTo>
                        <a:pt x="60" y="638"/>
                      </a:lnTo>
                      <a:lnTo>
                        <a:pt x="70" y="604"/>
                      </a:lnTo>
                      <a:lnTo>
                        <a:pt x="80" y="581"/>
                      </a:lnTo>
                      <a:lnTo>
                        <a:pt x="90" y="558"/>
                      </a:lnTo>
                      <a:lnTo>
                        <a:pt x="100" y="536"/>
                      </a:lnTo>
                      <a:lnTo>
                        <a:pt x="110" y="513"/>
                      </a:lnTo>
                      <a:lnTo>
                        <a:pt x="120" y="490"/>
                      </a:lnTo>
                      <a:lnTo>
                        <a:pt x="130" y="467"/>
                      </a:lnTo>
                      <a:lnTo>
                        <a:pt x="140" y="444"/>
                      </a:lnTo>
                      <a:lnTo>
                        <a:pt x="150" y="422"/>
                      </a:lnTo>
                      <a:lnTo>
                        <a:pt x="160" y="399"/>
                      </a:lnTo>
                      <a:lnTo>
                        <a:pt x="170" y="387"/>
                      </a:lnTo>
                      <a:lnTo>
                        <a:pt x="190" y="365"/>
                      </a:lnTo>
                      <a:lnTo>
                        <a:pt x="200" y="342"/>
                      </a:lnTo>
                      <a:lnTo>
                        <a:pt x="210" y="319"/>
                      </a:lnTo>
                      <a:lnTo>
                        <a:pt x="230" y="296"/>
                      </a:lnTo>
                      <a:lnTo>
                        <a:pt x="240" y="273"/>
                      </a:lnTo>
                      <a:lnTo>
                        <a:pt x="250" y="262"/>
                      </a:lnTo>
                      <a:lnTo>
                        <a:pt x="270" y="239"/>
                      </a:lnTo>
                      <a:lnTo>
                        <a:pt x="280" y="216"/>
                      </a:lnTo>
                      <a:lnTo>
                        <a:pt x="290" y="194"/>
                      </a:lnTo>
                      <a:lnTo>
                        <a:pt x="310" y="182"/>
                      </a:lnTo>
                      <a:lnTo>
                        <a:pt x="320" y="159"/>
                      </a:lnTo>
                      <a:lnTo>
                        <a:pt x="340" y="137"/>
                      </a:lnTo>
                      <a:lnTo>
                        <a:pt x="351" y="125"/>
                      </a:lnTo>
                      <a:lnTo>
                        <a:pt x="371" y="102"/>
                      </a:lnTo>
                      <a:lnTo>
                        <a:pt x="381" y="91"/>
                      </a:lnTo>
                      <a:lnTo>
                        <a:pt x="401" y="68"/>
                      </a:lnTo>
                      <a:lnTo>
                        <a:pt x="411" y="45"/>
                      </a:lnTo>
                      <a:lnTo>
                        <a:pt x="431" y="34"/>
                      </a:lnTo>
                      <a:lnTo>
                        <a:pt x="451" y="11"/>
                      </a:lnTo>
                      <a:lnTo>
                        <a:pt x="46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465280" y="1251000"/>
                  <a:ext cx="365400" cy="290520"/>
                </a:xfrm>
                <a:custGeom>
                  <a:avLst/>
                  <a:gdLst/>
                  <a:ahLst/>
                  <a:rect l="l" t="t" r="r" b="b"/>
                  <a:pathLst>
                    <a:path w="230" h="183">
                      <a:moveTo>
                        <a:pt x="0" y="183"/>
                      </a:moveTo>
                      <a:lnTo>
                        <a:pt x="20" y="160"/>
                      </a:lnTo>
                      <a:lnTo>
                        <a:pt x="40" y="149"/>
                      </a:lnTo>
                      <a:lnTo>
                        <a:pt x="60" y="126"/>
                      </a:lnTo>
                      <a:lnTo>
                        <a:pt x="80" y="103"/>
                      </a:lnTo>
                      <a:lnTo>
                        <a:pt x="100" y="92"/>
                      </a:lnTo>
                      <a:lnTo>
                        <a:pt x="120" y="69"/>
                      </a:lnTo>
                      <a:lnTo>
                        <a:pt x="140" y="57"/>
                      </a:lnTo>
                      <a:lnTo>
                        <a:pt x="160" y="46"/>
                      </a:lnTo>
                      <a:lnTo>
                        <a:pt x="190" y="23"/>
                      </a:lnTo>
                      <a:lnTo>
                        <a:pt x="210" y="12"/>
                      </a:lnTo>
                      <a:lnTo>
                        <a:pt x="23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30680" y="1179360"/>
                  <a:ext cx="110880" cy="71640"/>
                </a:xfrm>
                <a:custGeom>
                  <a:avLst/>
                  <a:gdLst/>
                  <a:ahLst/>
                  <a:rect l="l" t="t" r="r" b="b"/>
                  <a:pathLst>
                    <a:path w="70" h="45">
                      <a:moveTo>
                        <a:pt x="0" y="45"/>
                      </a:moveTo>
                      <a:lnTo>
                        <a:pt x="20" y="34"/>
                      </a:lnTo>
                      <a:lnTo>
                        <a:pt x="50" y="11"/>
                      </a:lnTo>
                      <a:lnTo>
                        <a:pt x="7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 name=""/>
                <p:cNvSpPr/>
                <p:nvPr/>
              </p:nvSpPr>
              <p:spPr>
                <a:xfrm>
                  <a:off x="2941560" y="1143000"/>
                  <a:ext cx="63720" cy="36360"/>
                </a:xfrm>
                <a:custGeom>
                  <a:avLst/>
                  <a:gdLst/>
                  <a:ahLst/>
                  <a:rect l="l" t="t" r="r" b="b"/>
                  <a:pathLst>
                    <a:path w="40" h="23">
                      <a:moveTo>
                        <a:pt x="0" y="23"/>
                      </a:moveTo>
                      <a:lnTo>
                        <a:pt x="20" y="11"/>
                      </a:lnTo>
                      <a:lnTo>
                        <a:pt x="30" y="11"/>
                      </a:lnTo>
                      <a:lnTo>
                        <a:pt x="4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2830680" y="5938920"/>
                  <a:ext cx="365040" cy="271440"/>
                </a:xfrm>
                <a:custGeom>
                  <a:avLst/>
                  <a:gdLst/>
                  <a:ahLst/>
                  <a:rect l="l" t="t" r="r" b="b"/>
                  <a:pathLst>
                    <a:path w="230" h="171">
                      <a:moveTo>
                        <a:pt x="230" y="171"/>
                      </a:moveTo>
                      <a:lnTo>
                        <a:pt x="210" y="160"/>
                      </a:lnTo>
                      <a:lnTo>
                        <a:pt x="190" y="148"/>
                      </a:lnTo>
                      <a:lnTo>
                        <a:pt x="170" y="137"/>
                      </a:lnTo>
                      <a:lnTo>
                        <a:pt x="150" y="126"/>
                      </a:lnTo>
                      <a:lnTo>
                        <a:pt x="130" y="114"/>
                      </a:lnTo>
                      <a:lnTo>
                        <a:pt x="110" y="91"/>
                      </a:lnTo>
                      <a:lnTo>
                        <a:pt x="90" y="80"/>
                      </a:lnTo>
                      <a:lnTo>
                        <a:pt x="70" y="69"/>
                      </a:lnTo>
                      <a:lnTo>
                        <a:pt x="50" y="46"/>
                      </a:lnTo>
                      <a:lnTo>
                        <a:pt x="30"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114640" y="4672080"/>
                  <a:ext cx="716040" cy="1266840"/>
                </a:xfrm>
                <a:custGeom>
                  <a:avLst/>
                  <a:gdLst/>
                  <a:ahLst/>
                  <a:rect l="l" t="t" r="r" b="b"/>
                  <a:pathLst>
                    <a:path w="451" h="798">
                      <a:moveTo>
                        <a:pt x="451" y="798"/>
                      </a:moveTo>
                      <a:lnTo>
                        <a:pt x="431" y="787"/>
                      </a:lnTo>
                      <a:lnTo>
                        <a:pt x="421" y="764"/>
                      </a:lnTo>
                      <a:lnTo>
                        <a:pt x="401" y="753"/>
                      </a:lnTo>
                      <a:lnTo>
                        <a:pt x="391" y="730"/>
                      </a:lnTo>
                      <a:lnTo>
                        <a:pt x="371" y="718"/>
                      </a:lnTo>
                      <a:lnTo>
                        <a:pt x="361" y="696"/>
                      </a:lnTo>
                      <a:lnTo>
                        <a:pt x="341" y="673"/>
                      </a:lnTo>
                      <a:lnTo>
                        <a:pt x="331" y="661"/>
                      </a:lnTo>
                      <a:lnTo>
                        <a:pt x="311" y="639"/>
                      </a:lnTo>
                      <a:lnTo>
                        <a:pt x="301" y="616"/>
                      </a:lnTo>
                      <a:lnTo>
                        <a:pt x="281" y="604"/>
                      </a:lnTo>
                      <a:lnTo>
                        <a:pt x="271" y="582"/>
                      </a:lnTo>
                      <a:lnTo>
                        <a:pt x="261" y="559"/>
                      </a:lnTo>
                      <a:lnTo>
                        <a:pt x="241" y="536"/>
                      </a:lnTo>
                      <a:lnTo>
                        <a:pt x="231" y="513"/>
                      </a:lnTo>
                      <a:lnTo>
                        <a:pt x="221" y="490"/>
                      </a:lnTo>
                      <a:lnTo>
                        <a:pt x="201" y="479"/>
                      </a:lnTo>
                      <a:lnTo>
                        <a:pt x="191" y="456"/>
                      </a:lnTo>
                      <a:lnTo>
                        <a:pt x="181" y="433"/>
                      </a:lnTo>
                      <a:lnTo>
                        <a:pt x="161" y="411"/>
                      </a:lnTo>
                      <a:lnTo>
                        <a:pt x="151" y="388"/>
                      </a:lnTo>
                      <a:lnTo>
                        <a:pt x="141" y="365"/>
                      </a:lnTo>
                      <a:lnTo>
                        <a:pt x="131" y="342"/>
                      </a:lnTo>
                      <a:lnTo>
                        <a:pt x="121" y="319"/>
                      </a:lnTo>
                      <a:lnTo>
                        <a:pt x="111" y="297"/>
                      </a:lnTo>
                      <a:lnTo>
                        <a:pt x="100" y="274"/>
                      </a:lnTo>
                      <a:lnTo>
                        <a:pt x="90" y="251"/>
                      </a:lnTo>
                      <a:lnTo>
                        <a:pt x="80" y="228"/>
                      </a:lnTo>
                      <a:lnTo>
                        <a:pt x="70" y="205"/>
                      </a:lnTo>
                      <a:lnTo>
                        <a:pt x="60" y="183"/>
                      </a:lnTo>
                      <a:lnTo>
                        <a:pt x="50" y="160"/>
                      </a:lnTo>
                      <a:lnTo>
                        <a:pt x="40" y="137"/>
                      </a:lnTo>
                      <a:lnTo>
                        <a:pt x="30" y="114"/>
                      </a:lnTo>
                      <a:lnTo>
                        <a:pt x="30" y="91"/>
                      </a:lnTo>
                      <a:lnTo>
                        <a:pt x="20" y="57"/>
                      </a:lnTo>
                      <a:lnTo>
                        <a:pt x="10" y="34"/>
                      </a:lnTo>
                      <a:lnTo>
                        <a:pt x="1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03400" y="2771640"/>
                  <a:ext cx="111240" cy="1900440"/>
                </a:xfrm>
                <a:custGeom>
                  <a:avLst/>
                  <a:gdLst/>
                  <a:ahLst/>
                  <a:rect l="l" t="t" r="r" b="b"/>
                  <a:pathLst>
                    <a:path w="70" h="1197">
                      <a:moveTo>
                        <a:pt x="70" y="1197"/>
                      </a:moveTo>
                      <a:lnTo>
                        <a:pt x="60" y="1163"/>
                      </a:lnTo>
                      <a:lnTo>
                        <a:pt x="60" y="1140"/>
                      </a:lnTo>
                      <a:lnTo>
                        <a:pt x="50" y="1117"/>
                      </a:lnTo>
                      <a:lnTo>
                        <a:pt x="50" y="1095"/>
                      </a:lnTo>
                      <a:lnTo>
                        <a:pt x="40" y="1072"/>
                      </a:lnTo>
                      <a:lnTo>
                        <a:pt x="40" y="1049"/>
                      </a:lnTo>
                      <a:lnTo>
                        <a:pt x="30" y="1026"/>
                      </a:lnTo>
                      <a:lnTo>
                        <a:pt x="30" y="1003"/>
                      </a:lnTo>
                      <a:lnTo>
                        <a:pt x="30" y="969"/>
                      </a:lnTo>
                      <a:lnTo>
                        <a:pt x="20" y="946"/>
                      </a:lnTo>
                      <a:lnTo>
                        <a:pt x="20" y="924"/>
                      </a:lnTo>
                      <a:lnTo>
                        <a:pt x="20" y="901"/>
                      </a:lnTo>
                      <a:lnTo>
                        <a:pt x="10" y="878"/>
                      </a:lnTo>
                      <a:lnTo>
                        <a:pt x="10" y="844"/>
                      </a:lnTo>
                      <a:lnTo>
                        <a:pt x="10" y="821"/>
                      </a:lnTo>
                      <a:lnTo>
                        <a:pt x="10" y="798"/>
                      </a:lnTo>
                      <a:lnTo>
                        <a:pt x="10" y="775"/>
                      </a:lnTo>
                      <a:lnTo>
                        <a:pt x="0" y="753"/>
                      </a:lnTo>
                      <a:lnTo>
                        <a:pt x="0" y="718"/>
                      </a:lnTo>
                      <a:lnTo>
                        <a:pt x="0" y="696"/>
                      </a:lnTo>
                      <a:lnTo>
                        <a:pt x="0" y="673"/>
                      </a:lnTo>
                      <a:lnTo>
                        <a:pt x="0" y="650"/>
                      </a:lnTo>
                      <a:lnTo>
                        <a:pt x="0" y="616"/>
                      </a:lnTo>
                      <a:lnTo>
                        <a:pt x="0" y="593"/>
                      </a:lnTo>
                      <a:lnTo>
                        <a:pt x="0" y="570"/>
                      </a:lnTo>
                      <a:lnTo>
                        <a:pt x="0" y="547"/>
                      </a:lnTo>
                      <a:lnTo>
                        <a:pt x="0" y="524"/>
                      </a:lnTo>
                      <a:lnTo>
                        <a:pt x="0" y="490"/>
                      </a:lnTo>
                      <a:lnTo>
                        <a:pt x="0" y="467"/>
                      </a:lnTo>
                      <a:lnTo>
                        <a:pt x="0" y="445"/>
                      </a:lnTo>
                      <a:lnTo>
                        <a:pt x="0" y="422"/>
                      </a:lnTo>
                      <a:lnTo>
                        <a:pt x="10" y="388"/>
                      </a:lnTo>
                      <a:lnTo>
                        <a:pt x="10" y="365"/>
                      </a:lnTo>
                      <a:lnTo>
                        <a:pt x="10" y="342"/>
                      </a:lnTo>
                      <a:lnTo>
                        <a:pt x="10" y="319"/>
                      </a:lnTo>
                      <a:lnTo>
                        <a:pt x="10" y="296"/>
                      </a:lnTo>
                      <a:lnTo>
                        <a:pt x="20" y="262"/>
                      </a:lnTo>
                      <a:lnTo>
                        <a:pt x="20" y="239"/>
                      </a:lnTo>
                      <a:lnTo>
                        <a:pt x="20" y="217"/>
                      </a:lnTo>
                      <a:lnTo>
                        <a:pt x="30" y="194"/>
                      </a:lnTo>
                      <a:lnTo>
                        <a:pt x="30" y="171"/>
                      </a:lnTo>
                      <a:lnTo>
                        <a:pt x="30" y="148"/>
                      </a:lnTo>
                      <a:lnTo>
                        <a:pt x="40" y="114"/>
                      </a:lnTo>
                      <a:lnTo>
                        <a:pt x="40" y="91"/>
                      </a:lnTo>
                      <a:lnTo>
                        <a:pt x="50" y="68"/>
                      </a:lnTo>
                      <a:lnTo>
                        <a:pt x="50" y="46"/>
                      </a:lnTo>
                      <a:lnTo>
                        <a:pt x="60" y="23"/>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098800" y="1541520"/>
                  <a:ext cx="636480" cy="1230120"/>
                </a:xfrm>
                <a:custGeom>
                  <a:avLst/>
                  <a:gdLst/>
                  <a:ahLst/>
                  <a:rect l="l" t="t" r="r" b="b"/>
                  <a:pathLst>
                    <a:path w="401" h="775">
                      <a:moveTo>
                        <a:pt x="0" y="775"/>
                      </a:moveTo>
                      <a:lnTo>
                        <a:pt x="10" y="752"/>
                      </a:lnTo>
                      <a:lnTo>
                        <a:pt x="10" y="729"/>
                      </a:lnTo>
                      <a:lnTo>
                        <a:pt x="20" y="707"/>
                      </a:lnTo>
                      <a:lnTo>
                        <a:pt x="30" y="684"/>
                      </a:lnTo>
                      <a:lnTo>
                        <a:pt x="30" y="661"/>
                      </a:lnTo>
                      <a:lnTo>
                        <a:pt x="40" y="638"/>
                      </a:lnTo>
                      <a:lnTo>
                        <a:pt x="50" y="604"/>
                      </a:lnTo>
                      <a:lnTo>
                        <a:pt x="60" y="581"/>
                      </a:lnTo>
                      <a:lnTo>
                        <a:pt x="70" y="558"/>
                      </a:lnTo>
                      <a:lnTo>
                        <a:pt x="70" y="536"/>
                      </a:lnTo>
                      <a:lnTo>
                        <a:pt x="80" y="513"/>
                      </a:lnTo>
                      <a:lnTo>
                        <a:pt x="90" y="490"/>
                      </a:lnTo>
                      <a:lnTo>
                        <a:pt x="100" y="467"/>
                      </a:lnTo>
                      <a:lnTo>
                        <a:pt x="110" y="444"/>
                      </a:lnTo>
                      <a:lnTo>
                        <a:pt x="121" y="422"/>
                      </a:lnTo>
                      <a:lnTo>
                        <a:pt x="131" y="399"/>
                      </a:lnTo>
                      <a:lnTo>
                        <a:pt x="151" y="376"/>
                      </a:lnTo>
                      <a:lnTo>
                        <a:pt x="161" y="353"/>
                      </a:lnTo>
                      <a:lnTo>
                        <a:pt x="171" y="330"/>
                      </a:lnTo>
                      <a:lnTo>
                        <a:pt x="181" y="308"/>
                      </a:lnTo>
                      <a:lnTo>
                        <a:pt x="191" y="285"/>
                      </a:lnTo>
                      <a:lnTo>
                        <a:pt x="211" y="262"/>
                      </a:lnTo>
                      <a:lnTo>
                        <a:pt x="221" y="251"/>
                      </a:lnTo>
                      <a:lnTo>
                        <a:pt x="231" y="228"/>
                      </a:lnTo>
                      <a:lnTo>
                        <a:pt x="241" y="205"/>
                      </a:lnTo>
                      <a:lnTo>
                        <a:pt x="261" y="182"/>
                      </a:lnTo>
                      <a:lnTo>
                        <a:pt x="271" y="171"/>
                      </a:lnTo>
                      <a:lnTo>
                        <a:pt x="281" y="148"/>
                      </a:lnTo>
                      <a:lnTo>
                        <a:pt x="301" y="125"/>
                      </a:lnTo>
                      <a:lnTo>
                        <a:pt x="311" y="102"/>
                      </a:lnTo>
                      <a:lnTo>
                        <a:pt x="321" y="91"/>
                      </a:lnTo>
                      <a:lnTo>
                        <a:pt x="341" y="68"/>
                      </a:lnTo>
                      <a:lnTo>
                        <a:pt x="351" y="57"/>
                      </a:lnTo>
                      <a:lnTo>
                        <a:pt x="371" y="34"/>
                      </a:lnTo>
                      <a:lnTo>
                        <a:pt x="381" y="11"/>
                      </a:lnTo>
                      <a:lnTo>
                        <a:pt x="40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35280" y="1251000"/>
                  <a:ext cx="317520" cy="290520"/>
                </a:xfrm>
                <a:custGeom>
                  <a:avLst/>
                  <a:gdLst/>
                  <a:ahLst/>
                  <a:rect l="l" t="t" r="r" b="b"/>
                  <a:pathLst>
                    <a:path w="200" h="183">
                      <a:moveTo>
                        <a:pt x="0" y="183"/>
                      </a:moveTo>
                      <a:lnTo>
                        <a:pt x="10" y="160"/>
                      </a:lnTo>
                      <a:lnTo>
                        <a:pt x="30" y="137"/>
                      </a:lnTo>
                      <a:lnTo>
                        <a:pt x="50" y="126"/>
                      </a:lnTo>
                      <a:lnTo>
                        <a:pt x="70" y="103"/>
                      </a:lnTo>
                      <a:lnTo>
                        <a:pt x="90" y="80"/>
                      </a:lnTo>
                      <a:lnTo>
                        <a:pt x="110" y="69"/>
                      </a:lnTo>
                      <a:lnTo>
                        <a:pt x="130" y="46"/>
                      </a:lnTo>
                      <a:lnTo>
                        <a:pt x="150" y="35"/>
                      </a:lnTo>
                      <a:lnTo>
                        <a:pt x="170" y="12"/>
                      </a:lnTo>
                      <a:lnTo>
                        <a:pt x="20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52800" y="1179360"/>
                  <a:ext cx="95040" cy="71640"/>
                </a:xfrm>
                <a:custGeom>
                  <a:avLst/>
                  <a:gdLst/>
                  <a:ahLst/>
                  <a:rect l="l" t="t" r="r" b="b"/>
                  <a:pathLst>
                    <a:path w="60" h="45">
                      <a:moveTo>
                        <a:pt x="0" y="45"/>
                      </a:moveTo>
                      <a:lnTo>
                        <a:pt x="20" y="34"/>
                      </a:lnTo>
                      <a:lnTo>
                        <a:pt x="40" y="11"/>
                      </a:lnTo>
                      <a:lnTo>
                        <a:pt x="6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 name=""/>
                <p:cNvSpPr/>
                <p:nvPr/>
              </p:nvSpPr>
              <p:spPr>
                <a:xfrm>
                  <a:off x="3147840" y="1143000"/>
                  <a:ext cx="47880" cy="36360"/>
                </a:xfrm>
                <a:custGeom>
                  <a:avLst/>
                  <a:gdLst/>
                  <a:ahLst/>
                  <a:rect l="l" t="t" r="r" b="b"/>
                  <a:pathLst>
                    <a:path w="30" h="23">
                      <a:moveTo>
                        <a:pt x="0" y="23"/>
                      </a:moveTo>
                      <a:lnTo>
                        <a:pt x="10" y="11"/>
                      </a:lnTo>
                      <a:lnTo>
                        <a:pt x="30" y="11"/>
                      </a:lnTo>
                      <a:lnTo>
                        <a:pt x="3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2433600" y="4527720"/>
                  <a:ext cx="954000" cy="1682640"/>
                </a:xfrm>
                <a:custGeom>
                  <a:avLst/>
                  <a:gdLst/>
                  <a:ahLst/>
                  <a:rect l="l" t="t" r="r" b="b"/>
                  <a:pathLst>
                    <a:path w="601" h="1060">
                      <a:moveTo>
                        <a:pt x="601" y="1060"/>
                      </a:moveTo>
                      <a:lnTo>
                        <a:pt x="591" y="1049"/>
                      </a:lnTo>
                      <a:lnTo>
                        <a:pt x="571" y="1037"/>
                      </a:lnTo>
                      <a:lnTo>
                        <a:pt x="551" y="1026"/>
                      </a:lnTo>
                      <a:lnTo>
                        <a:pt x="531" y="1015"/>
                      </a:lnTo>
                      <a:lnTo>
                        <a:pt x="521" y="1003"/>
                      </a:lnTo>
                      <a:lnTo>
                        <a:pt x="501" y="980"/>
                      </a:lnTo>
                      <a:lnTo>
                        <a:pt x="480" y="969"/>
                      </a:lnTo>
                      <a:lnTo>
                        <a:pt x="470" y="958"/>
                      </a:lnTo>
                      <a:lnTo>
                        <a:pt x="450" y="935"/>
                      </a:lnTo>
                      <a:lnTo>
                        <a:pt x="440" y="923"/>
                      </a:lnTo>
                      <a:lnTo>
                        <a:pt x="420" y="901"/>
                      </a:lnTo>
                      <a:lnTo>
                        <a:pt x="410" y="889"/>
                      </a:lnTo>
                      <a:lnTo>
                        <a:pt x="390" y="866"/>
                      </a:lnTo>
                      <a:lnTo>
                        <a:pt x="380" y="855"/>
                      </a:lnTo>
                      <a:lnTo>
                        <a:pt x="360" y="832"/>
                      </a:lnTo>
                      <a:lnTo>
                        <a:pt x="350" y="821"/>
                      </a:lnTo>
                      <a:lnTo>
                        <a:pt x="330" y="798"/>
                      </a:lnTo>
                      <a:lnTo>
                        <a:pt x="320" y="775"/>
                      </a:lnTo>
                      <a:lnTo>
                        <a:pt x="310" y="764"/>
                      </a:lnTo>
                      <a:lnTo>
                        <a:pt x="290" y="741"/>
                      </a:lnTo>
                      <a:lnTo>
                        <a:pt x="280" y="718"/>
                      </a:lnTo>
                      <a:lnTo>
                        <a:pt x="270" y="695"/>
                      </a:lnTo>
                      <a:lnTo>
                        <a:pt x="250" y="673"/>
                      </a:lnTo>
                      <a:lnTo>
                        <a:pt x="240" y="661"/>
                      </a:lnTo>
                      <a:lnTo>
                        <a:pt x="230" y="638"/>
                      </a:lnTo>
                      <a:lnTo>
                        <a:pt x="220" y="616"/>
                      </a:lnTo>
                      <a:lnTo>
                        <a:pt x="210" y="593"/>
                      </a:lnTo>
                      <a:lnTo>
                        <a:pt x="200" y="570"/>
                      </a:lnTo>
                      <a:lnTo>
                        <a:pt x="180" y="547"/>
                      </a:lnTo>
                      <a:lnTo>
                        <a:pt x="170" y="524"/>
                      </a:lnTo>
                      <a:lnTo>
                        <a:pt x="160" y="502"/>
                      </a:lnTo>
                      <a:lnTo>
                        <a:pt x="150" y="479"/>
                      </a:lnTo>
                      <a:lnTo>
                        <a:pt x="140" y="456"/>
                      </a:lnTo>
                      <a:lnTo>
                        <a:pt x="130" y="433"/>
                      </a:lnTo>
                      <a:lnTo>
                        <a:pt x="120" y="410"/>
                      </a:lnTo>
                      <a:lnTo>
                        <a:pt x="120" y="388"/>
                      </a:lnTo>
                      <a:lnTo>
                        <a:pt x="110" y="365"/>
                      </a:lnTo>
                      <a:lnTo>
                        <a:pt x="100" y="342"/>
                      </a:lnTo>
                      <a:lnTo>
                        <a:pt x="90" y="319"/>
                      </a:lnTo>
                      <a:lnTo>
                        <a:pt x="80" y="296"/>
                      </a:lnTo>
                      <a:lnTo>
                        <a:pt x="70" y="274"/>
                      </a:lnTo>
                      <a:lnTo>
                        <a:pt x="70" y="251"/>
                      </a:lnTo>
                      <a:lnTo>
                        <a:pt x="60" y="228"/>
                      </a:lnTo>
                      <a:lnTo>
                        <a:pt x="50" y="205"/>
                      </a:lnTo>
                      <a:lnTo>
                        <a:pt x="50" y="182"/>
                      </a:lnTo>
                      <a:lnTo>
                        <a:pt x="40" y="160"/>
                      </a:lnTo>
                      <a:lnTo>
                        <a:pt x="30" y="137"/>
                      </a:lnTo>
                      <a:lnTo>
                        <a:pt x="30" y="114"/>
                      </a:lnTo>
                      <a:lnTo>
                        <a:pt x="20" y="91"/>
                      </a:lnTo>
                      <a:lnTo>
                        <a:pt x="20" y="68"/>
                      </a:lnTo>
                      <a:lnTo>
                        <a:pt x="1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386080" y="3351240"/>
                  <a:ext cx="47520" cy="1176480"/>
                </a:xfrm>
                <a:custGeom>
                  <a:avLst/>
                  <a:gdLst/>
                  <a:ahLst/>
                  <a:rect l="l" t="t" r="r" b="b"/>
                  <a:pathLst>
                    <a:path w="30" h="741">
                      <a:moveTo>
                        <a:pt x="30" y="741"/>
                      </a:moveTo>
                      <a:lnTo>
                        <a:pt x="30" y="718"/>
                      </a:lnTo>
                      <a:lnTo>
                        <a:pt x="20" y="695"/>
                      </a:lnTo>
                      <a:lnTo>
                        <a:pt x="20" y="661"/>
                      </a:lnTo>
                      <a:lnTo>
                        <a:pt x="20" y="638"/>
                      </a:lnTo>
                      <a:lnTo>
                        <a:pt x="10" y="616"/>
                      </a:lnTo>
                      <a:lnTo>
                        <a:pt x="10" y="593"/>
                      </a:lnTo>
                      <a:lnTo>
                        <a:pt x="10" y="559"/>
                      </a:lnTo>
                      <a:lnTo>
                        <a:pt x="10" y="536"/>
                      </a:lnTo>
                      <a:lnTo>
                        <a:pt x="0" y="513"/>
                      </a:lnTo>
                      <a:lnTo>
                        <a:pt x="0" y="490"/>
                      </a:lnTo>
                      <a:lnTo>
                        <a:pt x="0" y="456"/>
                      </a:lnTo>
                      <a:lnTo>
                        <a:pt x="0" y="433"/>
                      </a:lnTo>
                      <a:lnTo>
                        <a:pt x="0" y="410"/>
                      </a:lnTo>
                      <a:lnTo>
                        <a:pt x="0" y="388"/>
                      </a:lnTo>
                      <a:lnTo>
                        <a:pt x="0" y="353"/>
                      </a:lnTo>
                      <a:lnTo>
                        <a:pt x="0" y="331"/>
                      </a:lnTo>
                      <a:lnTo>
                        <a:pt x="0" y="308"/>
                      </a:lnTo>
                      <a:lnTo>
                        <a:pt x="0" y="285"/>
                      </a:lnTo>
                      <a:lnTo>
                        <a:pt x="0" y="251"/>
                      </a:lnTo>
                      <a:lnTo>
                        <a:pt x="0" y="228"/>
                      </a:lnTo>
                      <a:lnTo>
                        <a:pt x="0" y="205"/>
                      </a:lnTo>
                      <a:lnTo>
                        <a:pt x="0" y="171"/>
                      </a:lnTo>
                      <a:lnTo>
                        <a:pt x="0" y="148"/>
                      </a:lnTo>
                      <a:lnTo>
                        <a:pt x="0" y="125"/>
                      </a:lnTo>
                      <a:lnTo>
                        <a:pt x="0" y="102"/>
                      </a:lnTo>
                      <a:lnTo>
                        <a:pt x="0" y="68"/>
                      </a:lnTo>
                      <a:lnTo>
                        <a:pt x="0" y="45"/>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386080" y="2644920"/>
                  <a:ext cx="95040" cy="706320"/>
                </a:xfrm>
                <a:custGeom>
                  <a:avLst/>
                  <a:gdLst/>
                  <a:ahLst/>
                  <a:rect l="l" t="t" r="r" b="b"/>
                  <a:pathLst>
                    <a:path w="60" h="445">
                      <a:moveTo>
                        <a:pt x="0" y="445"/>
                      </a:moveTo>
                      <a:lnTo>
                        <a:pt x="0" y="411"/>
                      </a:lnTo>
                      <a:lnTo>
                        <a:pt x="0" y="388"/>
                      </a:lnTo>
                      <a:lnTo>
                        <a:pt x="0" y="365"/>
                      </a:lnTo>
                      <a:lnTo>
                        <a:pt x="0" y="331"/>
                      </a:lnTo>
                      <a:lnTo>
                        <a:pt x="10" y="308"/>
                      </a:lnTo>
                      <a:lnTo>
                        <a:pt x="10" y="285"/>
                      </a:lnTo>
                      <a:lnTo>
                        <a:pt x="10" y="251"/>
                      </a:lnTo>
                      <a:lnTo>
                        <a:pt x="20" y="228"/>
                      </a:lnTo>
                      <a:lnTo>
                        <a:pt x="20" y="205"/>
                      </a:lnTo>
                      <a:lnTo>
                        <a:pt x="20" y="171"/>
                      </a:lnTo>
                      <a:lnTo>
                        <a:pt x="30" y="148"/>
                      </a:lnTo>
                      <a:lnTo>
                        <a:pt x="30" y="126"/>
                      </a:lnTo>
                      <a:lnTo>
                        <a:pt x="40" y="103"/>
                      </a:lnTo>
                      <a:lnTo>
                        <a:pt x="50" y="69"/>
                      </a:lnTo>
                      <a:lnTo>
                        <a:pt x="50" y="46"/>
                      </a:lnTo>
                      <a:lnTo>
                        <a:pt x="60" y="23"/>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81120" y="1541520"/>
                  <a:ext cx="508320" cy="1103400"/>
                </a:xfrm>
                <a:custGeom>
                  <a:avLst/>
                  <a:gdLst/>
                  <a:ahLst/>
                  <a:rect l="l" t="t" r="r" b="b"/>
                  <a:pathLst>
                    <a:path w="320" h="695">
                      <a:moveTo>
                        <a:pt x="0" y="695"/>
                      </a:moveTo>
                      <a:lnTo>
                        <a:pt x="10" y="661"/>
                      </a:lnTo>
                      <a:lnTo>
                        <a:pt x="20" y="638"/>
                      </a:lnTo>
                      <a:lnTo>
                        <a:pt x="20" y="604"/>
                      </a:lnTo>
                      <a:lnTo>
                        <a:pt x="30" y="581"/>
                      </a:lnTo>
                      <a:lnTo>
                        <a:pt x="40" y="558"/>
                      </a:lnTo>
                      <a:lnTo>
                        <a:pt x="40" y="536"/>
                      </a:lnTo>
                      <a:lnTo>
                        <a:pt x="50" y="513"/>
                      </a:lnTo>
                      <a:lnTo>
                        <a:pt x="60" y="479"/>
                      </a:lnTo>
                      <a:lnTo>
                        <a:pt x="70" y="456"/>
                      </a:lnTo>
                      <a:lnTo>
                        <a:pt x="80" y="433"/>
                      </a:lnTo>
                      <a:lnTo>
                        <a:pt x="90" y="410"/>
                      </a:lnTo>
                      <a:lnTo>
                        <a:pt x="100" y="387"/>
                      </a:lnTo>
                      <a:lnTo>
                        <a:pt x="110" y="365"/>
                      </a:lnTo>
                      <a:lnTo>
                        <a:pt x="120" y="342"/>
                      </a:lnTo>
                      <a:lnTo>
                        <a:pt x="130" y="319"/>
                      </a:lnTo>
                      <a:lnTo>
                        <a:pt x="140" y="296"/>
                      </a:lnTo>
                      <a:lnTo>
                        <a:pt x="150" y="273"/>
                      </a:lnTo>
                      <a:lnTo>
                        <a:pt x="160" y="251"/>
                      </a:lnTo>
                      <a:lnTo>
                        <a:pt x="180" y="228"/>
                      </a:lnTo>
                      <a:lnTo>
                        <a:pt x="190" y="205"/>
                      </a:lnTo>
                      <a:lnTo>
                        <a:pt x="200" y="182"/>
                      </a:lnTo>
                      <a:lnTo>
                        <a:pt x="210" y="159"/>
                      </a:lnTo>
                      <a:lnTo>
                        <a:pt x="230" y="148"/>
                      </a:lnTo>
                      <a:lnTo>
                        <a:pt x="240" y="125"/>
                      </a:lnTo>
                      <a:lnTo>
                        <a:pt x="250" y="102"/>
                      </a:lnTo>
                      <a:lnTo>
                        <a:pt x="270" y="80"/>
                      </a:lnTo>
                      <a:lnTo>
                        <a:pt x="280" y="57"/>
                      </a:lnTo>
                      <a:lnTo>
                        <a:pt x="290" y="34"/>
                      </a:lnTo>
                      <a:lnTo>
                        <a:pt x="310" y="23"/>
                      </a:lnTo>
                      <a:lnTo>
                        <a:pt x="3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989440" y="1270080"/>
                  <a:ext cx="239400" cy="271440"/>
                </a:xfrm>
                <a:custGeom>
                  <a:avLst/>
                  <a:gdLst/>
                  <a:ahLst/>
                  <a:rect l="l" t="t" r="r" b="b"/>
                  <a:pathLst>
                    <a:path w="151" h="171">
                      <a:moveTo>
                        <a:pt x="0" y="171"/>
                      </a:moveTo>
                      <a:lnTo>
                        <a:pt x="20" y="148"/>
                      </a:lnTo>
                      <a:lnTo>
                        <a:pt x="40" y="125"/>
                      </a:lnTo>
                      <a:lnTo>
                        <a:pt x="50" y="102"/>
                      </a:lnTo>
                      <a:lnTo>
                        <a:pt x="70" y="80"/>
                      </a:lnTo>
                      <a:lnTo>
                        <a:pt x="90" y="57"/>
                      </a:lnTo>
                      <a:lnTo>
                        <a:pt x="110" y="34"/>
                      </a:lnTo>
                      <a:lnTo>
                        <a:pt x="130" y="23"/>
                      </a:lnTo>
                      <a:lnTo>
                        <a:pt x="15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228840" y="1179360"/>
                  <a:ext cx="127080" cy="90720"/>
                </a:xfrm>
                <a:custGeom>
                  <a:avLst/>
                  <a:gdLst/>
                  <a:ahLst/>
                  <a:rect l="l" t="t" r="r" b="b"/>
                  <a:pathLst>
                    <a:path w="80" h="57">
                      <a:moveTo>
                        <a:pt x="0" y="57"/>
                      </a:moveTo>
                      <a:lnTo>
                        <a:pt x="30" y="34"/>
                      </a:lnTo>
                      <a:lnTo>
                        <a:pt x="50" y="23"/>
                      </a:lnTo>
                      <a:lnTo>
                        <a:pt x="8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9" name=""/>
                <p:cNvSpPr/>
                <p:nvPr/>
              </p:nvSpPr>
              <p:spPr>
                <a:xfrm>
                  <a:off x="3355920" y="1143000"/>
                  <a:ext cx="31680" cy="36360"/>
                </a:xfrm>
                <a:custGeom>
                  <a:avLst/>
                  <a:gdLst/>
                  <a:ahLst/>
                  <a:rect l="l" t="t" r="r" b="b"/>
                  <a:pathLst>
                    <a:path w="20" h="23">
                      <a:moveTo>
                        <a:pt x="0" y="23"/>
                      </a:moveTo>
                      <a:lnTo>
                        <a:pt x="10" y="11"/>
                      </a:lnTo>
                      <a:lnTo>
                        <a:pt x="20" y="11"/>
                      </a:lnTo>
                      <a:lnTo>
                        <a:pt x="2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 name=""/>
                <p:cNvSpPr/>
                <p:nvPr/>
              </p:nvSpPr>
              <p:spPr>
                <a:xfrm>
                  <a:off x="3355920" y="5975280"/>
                  <a:ext cx="238320" cy="235080"/>
                </a:xfrm>
                <a:custGeom>
                  <a:avLst/>
                  <a:gdLst/>
                  <a:ahLst/>
                  <a:rect l="l" t="t" r="r" b="b"/>
                  <a:pathLst>
                    <a:path w="150" h="148">
                      <a:moveTo>
                        <a:pt x="150" y="148"/>
                      </a:moveTo>
                      <a:lnTo>
                        <a:pt x="130" y="137"/>
                      </a:lnTo>
                      <a:lnTo>
                        <a:pt x="110" y="114"/>
                      </a:lnTo>
                      <a:lnTo>
                        <a:pt x="90" y="103"/>
                      </a:lnTo>
                      <a:lnTo>
                        <a:pt x="70" y="80"/>
                      </a:lnTo>
                      <a:lnTo>
                        <a:pt x="50" y="57"/>
                      </a:lnTo>
                      <a:lnTo>
                        <a:pt x="3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846520" y="4799160"/>
                  <a:ext cx="509400" cy="1176120"/>
                </a:xfrm>
                <a:custGeom>
                  <a:avLst/>
                  <a:gdLst/>
                  <a:ahLst/>
                  <a:rect l="l" t="t" r="r" b="b"/>
                  <a:pathLst>
                    <a:path w="321" h="741">
                      <a:moveTo>
                        <a:pt x="321" y="741"/>
                      </a:moveTo>
                      <a:lnTo>
                        <a:pt x="301" y="718"/>
                      </a:lnTo>
                      <a:lnTo>
                        <a:pt x="291" y="707"/>
                      </a:lnTo>
                      <a:lnTo>
                        <a:pt x="281" y="684"/>
                      </a:lnTo>
                      <a:lnTo>
                        <a:pt x="261" y="661"/>
                      </a:lnTo>
                      <a:lnTo>
                        <a:pt x="251" y="650"/>
                      </a:lnTo>
                      <a:lnTo>
                        <a:pt x="241" y="627"/>
                      </a:lnTo>
                      <a:lnTo>
                        <a:pt x="231" y="604"/>
                      </a:lnTo>
                      <a:lnTo>
                        <a:pt x="210" y="581"/>
                      </a:lnTo>
                      <a:lnTo>
                        <a:pt x="200" y="559"/>
                      </a:lnTo>
                      <a:lnTo>
                        <a:pt x="190" y="536"/>
                      </a:lnTo>
                      <a:lnTo>
                        <a:pt x="180" y="513"/>
                      </a:lnTo>
                      <a:lnTo>
                        <a:pt x="170" y="490"/>
                      </a:lnTo>
                      <a:lnTo>
                        <a:pt x="160" y="467"/>
                      </a:lnTo>
                      <a:lnTo>
                        <a:pt x="150" y="445"/>
                      </a:lnTo>
                      <a:lnTo>
                        <a:pt x="140" y="422"/>
                      </a:lnTo>
                      <a:lnTo>
                        <a:pt x="130" y="399"/>
                      </a:lnTo>
                      <a:lnTo>
                        <a:pt x="120" y="376"/>
                      </a:lnTo>
                      <a:lnTo>
                        <a:pt x="110" y="353"/>
                      </a:lnTo>
                      <a:lnTo>
                        <a:pt x="100" y="331"/>
                      </a:lnTo>
                      <a:lnTo>
                        <a:pt x="90" y="308"/>
                      </a:lnTo>
                      <a:lnTo>
                        <a:pt x="80" y="285"/>
                      </a:lnTo>
                      <a:lnTo>
                        <a:pt x="70" y="251"/>
                      </a:lnTo>
                      <a:lnTo>
                        <a:pt x="60" y="228"/>
                      </a:lnTo>
                      <a:lnTo>
                        <a:pt x="50" y="205"/>
                      </a:lnTo>
                      <a:lnTo>
                        <a:pt x="50" y="182"/>
                      </a:lnTo>
                      <a:lnTo>
                        <a:pt x="40" y="160"/>
                      </a:lnTo>
                      <a:lnTo>
                        <a:pt x="30" y="137"/>
                      </a:lnTo>
                      <a:lnTo>
                        <a:pt x="20" y="114"/>
                      </a:lnTo>
                      <a:lnTo>
                        <a:pt x="20" y="91"/>
                      </a:lnTo>
                      <a:lnTo>
                        <a:pt x="10" y="68"/>
                      </a:lnTo>
                      <a:lnTo>
                        <a:pt x="10" y="46"/>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751120" y="4219560"/>
                  <a:ext cx="95400" cy="579600"/>
                </a:xfrm>
                <a:custGeom>
                  <a:avLst/>
                  <a:gdLst/>
                  <a:ahLst/>
                  <a:rect l="l" t="t" r="r" b="b"/>
                  <a:pathLst>
                    <a:path w="60" h="365">
                      <a:moveTo>
                        <a:pt x="60" y="365"/>
                      </a:moveTo>
                      <a:lnTo>
                        <a:pt x="50" y="342"/>
                      </a:lnTo>
                      <a:lnTo>
                        <a:pt x="50" y="308"/>
                      </a:lnTo>
                      <a:lnTo>
                        <a:pt x="40" y="285"/>
                      </a:lnTo>
                      <a:lnTo>
                        <a:pt x="40" y="251"/>
                      </a:lnTo>
                      <a:lnTo>
                        <a:pt x="30" y="228"/>
                      </a:lnTo>
                      <a:lnTo>
                        <a:pt x="30" y="194"/>
                      </a:lnTo>
                      <a:lnTo>
                        <a:pt x="20" y="171"/>
                      </a:lnTo>
                      <a:lnTo>
                        <a:pt x="20" y="137"/>
                      </a:lnTo>
                      <a:lnTo>
                        <a:pt x="10" y="114"/>
                      </a:lnTo>
                      <a:lnTo>
                        <a:pt x="10" y="80"/>
                      </a:lnTo>
                      <a:lnTo>
                        <a:pt x="10" y="57"/>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35280" y="3079800"/>
                  <a:ext cx="31680" cy="1139760"/>
                </a:xfrm>
                <a:custGeom>
                  <a:avLst/>
                  <a:gdLst/>
                  <a:ahLst/>
                  <a:rect l="l" t="t" r="r" b="b"/>
                  <a:pathLst>
                    <a:path w="20" h="718">
                      <a:moveTo>
                        <a:pt x="10" y="718"/>
                      </a:moveTo>
                      <a:lnTo>
                        <a:pt x="10" y="695"/>
                      </a:lnTo>
                      <a:lnTo>
                        <a:pt x="10" y="673"/>
                      </a:lnTo>
                      <a:lnTo>
                        <a:pt x="10" y="638"/>
                      </a:lnTo>
                      <a:lnTo>
                        <a:pt x="10" y="616"/>
                      </a:lnTo>
                      <a:lnTo>
                        <a:pt x="10" y="593"/>
                      </a:lnTo>
                      <a:lnTo>
                        <a:pt x="0" y="559"/>
                      </a:lnTo>
                      <a:lnTo>
                        <a:pt x="0" y="536"/>
                      </a:lnTo>
                      <a:lnTo>
                        <a:pt x="0" y="513"/>
                      </a:lnTo>
                      <a:lnTo>
                        <a:pt x="0" y="490"/>
                      </a:lnTo>
                      <a:lnTo>
                        <a:pt x="0" y="456"/>
                      </a:lnTo>
                      <a:lnTo>
                        <a:pt x="0" y="433"/>
                      </a:lnTo>
                      <a:lnTo>
                        <a:pt x="0" y="410"/>
                      </a:lnTo>
                      <a:lnTo>
                        <a:pt x="0" y="388"/>
                      </a:lnTo>
                      <a:lnTo>
                        <a:pt x="0" y="353"/>
                      </a:lnTo>
                      <a:lnTo>
                        <a:pt x="0" y="330"/>
                      </a:lnTo>
                      <a:lnTo>
                        <a:pt x="0" y="308"/>
                      </a:lnTo>
                      <a:lnTo>
                        <a:pt x="0" y="285"/>
                      </a:lnTo>
                      <a:lnTo>
                        <a:pt x="0" y="251"/>
                      </a:lnTo>
                      <a:lnTo>
                        <a:pt x="0" y="228"/>
                      </a:lnTo>
                      <a:lnTo>
                        <a:pt x="0" y="205"/>
                      </a:lnTo>
                      <a:lnTo>
                        <a:pt x="0" y="182"/>
                      </a:lnTo>
                      <a:lnTo>
                        <a:pt x="10" y="148"/>
                      </a:lnTo>
                      <a:lnTo>
                        <a:pt x="10" y="125"/>
                      </a:lnTo>
                      <a:lnTo>
                        <a:pt x="10" y="102"/>
                      </a:lnTo>
                      <a:lnTo>
                        <a:pt x="10" y="80"/>
                      </a:lnTo>
                      <a:lnTo>
                        <a:pt x="10" y="45"/>
                      </a:lnTo>
                      <a:lnTo>
                        <a:pt x="20" y="23"/>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66960" y="2644920"/>
                  <a:ext cx="63720" cy="434880"/>
                </a:xfrm>
                <a:custGeom>
                  <a:avLst/>
                  <a:gdLst/>
                  <a:ahLst/>
                  <a:rect l="l" t="t" r="r" b="b"/>
                  <a:pathLst>
                    <a:path w="40" h="274">
                      <a:moveTo>
                        <a:pt x="0" y="274"/>
                      </a:moveTo>
                      <a:lnTo>
                        <a:pt x="0" y="251"/>
                      </a:lnTo>
                      <a:lnTo>
                        <a:pt x="10" y="217"/>
                      </a:lnTo>
                      <a:lnTo>
                        <a:pt x="10" y="194"/>
                      </a:lnTo>
                      <a:lnTo>
                        <a:pt x="10" y="160"/>
                      </a:lnTo>
                      <a:lnTo>
                        <a:pt x="20" y="137"/>
                      </a:lnTo>
                      <a:lnTo>
                        <a:pt x="20" y="103"/>
                      </a:lnTo>
                      <a:lnTo>
                        <a:pt x="30" y="80"/>
                      </a:lnTo>
                      <a:lnTo>
                        <a:pt x="30" y="46"/>
                      </a:lnTo>
                      <a:lnTo>
                        <a:pt x="3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30680" y="1541520"/>
                  <a:ext cx="430200" cy="1103400"/>
                </a:xfrm>
                <a:custGeom>
                  <a:avLst/>
                  <a:gdLst/>
                  <a:ahLst/>
                  <a:rect l="l" t="t" r="r" b="b"/>
                  <a:pathLst>
                    <a:path w="271" h="695">
                      <a:moveTo>
                        <a:pt x="0" y="695"/>
                      </a:moveTo>
                      <a:lnTo>
                        <a:pt x="10" y="661"/>
                      </a:lnTo>
                      <a:lnTo>
                        <a:pt x="10" y="638"/>
                      </a:lnTo>
                      <a:lnTo>
                        <a:pt x="20" y="604"/>
                      </a:lnTo>
                      <a:lnTo>
                        <a:pt x="20" y="581"/>
                      </a:lnTo>
                      <a:lnTo>
                        <a:pt x="30" y="558"/>
                      </a:lnTo>
                      <a:lnTo>
                        <a:pt x="40" y="536"/>
                      </a:lnTo>
                      <a:lnTo>
                        <a:pt x="40" y="501"/>
                      </a:lnTo>
                      <a:lnTo>
                        <a:pt x="50" y="479"/>
                      </a:lnTo>
                      <a:lnTo>
                        <a:pt x="60" y="456"/>
                      </a:lnTo>
                      <a:lnTo>
                        <a:pt x="70" y="433"/>
                      </a:lnTo>
                      <a:lnTo>
                        <a:pt x="70" y="410"/>
                      </a:lnTo>
                      <a:lnTo>
                        <a:pt x="80" y="387"/>
                      </a:lnTo>
                      <a:lnTo>
                        <a:pt x="90" y="365"/>
                      </a:lnTo>
                      <a:lnTo>
                        <a:pt x="100" y="342"/>
                      </a:lnTo>
                      <a:lnTo>
                        <a:pt x="110" y="308"/>
                      </a:lnTo>
                      <a:lnTo>
                        <a:pt x="120" y="285"/>
                      </a:lnTo>
                      <a:lnTo>
                        <a:pt x="130" y="262"/>
                      </a:lnTo>
                      <a:lnTo>
                        <a:pt x="140" y="239"/>
                      </a:lnTo>
                      <a:lnTo>
                        <a:pt x="150" y="216"/>
                      </a:lnTo>
                      <a:lnTo>
                        <a:pt x="160" y="194"/>
                      </a:lnTo>
                      <a:lnTo>
                        <a:pt x="170" y="171"/>
                      </a:lnTo>
                      <a:lnTo>
                        <a:pt x="180" y="148"/>
                      </a:lnTo>
                      <a:lnTo>
                        <a:pt x="190" y="125"/>
                      </a:lnTo>
                      <a:lnTo>
                        <a:pt x="200" y="102"/>
                      </a:lnTo>
                      <a:lnTo>
                        <a:pt x="220" y="80"/>
                      </a:lnTo>
                      <a:lnTo>
                        <a:pt x="230" y="68"/>
                      </a:lnTo>
                      <a:lnTo>
                        <a:pt x="241" y="45"/>
                      </a:lnTo>
                      <a:lnTo>
                        <a:pt x="251" y="23"/>
                      </a:lnTo>
                      <a:lnTo>
                        <a:pt x="27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60880" y="1270080"/>
                  <a:ext cx="190440" cy="271440"/>
                </a:xfrm>
                <a:custGeom>
                  <a:avLst/>
                  <a:gdLst/>
                  <a:ahLst/>
                  <a:rect l="l" t="t" r="r" b="b"/>
                  <a:pathLst>
                    <a:path w="120" h="171">
                      <a:moveTo>
                        <a:pt x="0" y="171"/>
                      </a:moveTo>
                      <a:lnTo>
                        <a:pt x="10" y="148"/>
                      </a:lnTo>
                      <a:lnTo>
                        <a:pt x="20" y="125"/>
                      </a:lnTo>
                      <a:lnTo>
                        <a:pt x="40" y="102"/>
                      </a:lnTo>
                      <a:lnTo>
                        <a:pt x="60" y="80"/>
                      </a:lnTo>
                      <a:lnTo>
                        <a:pt x="70" y="57"/>
                      </a:lnTo>
                      <a:lnTo>
                        <a:pt x="90" y="45"/>
                      </a:lnTo>
                      <a:lnTo>
                        <a:pt x="110" y="23"/>
                      </a:lnTo>
                      <a:lnTo>
                        <a:pt x="1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1320" y="1179360"/>
                  <a:ext cx="95040" cy="90720"/>
                </a:xfrm>
                <a:custGeom>
                  <a:avLst/>
                  <a:gdLst/>
                  <a:ahLst/>
                  <a:rect l="l" t="t" r="r" b="b"/>
                  <a:pathLst>
                    <a:path w="60" h="57">
                      <a:moveTo>
                        <a:pt x="0" y="57"/>
                      </a:moveTo>
                      <a:lnTo>
                        <a:pt x="20" y="34"/>
                      </a:lnTo>
                      <a:lnTo>
                        <a:pt x="40" y="23"/>
                      </a:lnTo>
                      <a:lnTo>
                        <a:pt x="6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8" name=""/>
                <p:cNvSpPr/>
                <p:nvPr/>
              </p:nvSpPr>
              <p:spPr>
                <a:xfrm>
                  <a:off x="3546360" y="1143000"/>
                  <a:ext cx="47880" cy="36360"/>
                </a:xfrm>
                <a:custGeom>
                  <a:avLst/>
                  <a:gdLst/>
                  <a:ahLst/>
                  <a:rect l="l" t="t" r="r" b="b"/>
                  <a:pathLst>
                    <a:path w="30" h="23">
                      <a:moveTo>
                        <a:pt x="0" y="23"/>
                      </a:moveTo>
                      <a:lnTo>
                        <a:pt x="10" y="11"/>
                      </a:lnTo>
                      <a:lnTo>
                        <a:pt x="20" y="11"/>
                      </a:lnTo>
                      <a:lnTo>
                        <a:pt x="3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3594240" y="5975280"/>
                  <a:ext cx="190440" cy="235080"/>
                </a:xfrm>
                <a:custGeom>
                  <a:avLst/>
                  <a:gdLst/>
                  <a:ahLst/>
                  <a:rect l="l" t="t" r="r" b="b"/>
                  <a:pathLst>
                    <a:path w="120" h="148">
                      <a:moveTo>
                        <a:pt x="120" y="148"/>
                      </a:moveTo>
                      <a:lnTo>
                        <a:pt x="100" y="137"/>
                      </a:lnTo>
                      <a:lnTo>
                        <a:pt x="80" y="114"/>
                      </a:lnTo>
                      <a:lnTo>
                        <a:pt x="60" y="91"/>
                      </a:lnTo>
                      <a:lnTo>
                        <a:pt x="50" y="68"/>
                      </a:lnTo>
                      <a:lnTo>
                        <a:pt x="3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35480" y="5649840"/>
                  <a:ext cx="158760" cy="325440"/>
                </a:xfrm>
                <a:custGeom>
                  <a:avLst/>
                  <a:gdLst/>
                  <a:ahLst/>
                  <a:rect l="l" t="t" r="r" b="b"/>
                  <a:pathLst>
                    <a:path w="100" h="205">
                      <a:moveTo>
                        <a:pt x="100" y="205"/>
                      </a:moveTo>
                      <a:lnTo>
                        <a:pt x="80" y="182"/>
                      </a:lnTo>
                      <a:lnTo>
                        <a:pt x="70" y="159"/>
                      </a:lnTo>
                      <a:lnTo>
                        <a:pt x="60" y="125"/>
                      </a:lnTo>
                      <a:lnTo>
                        <a:pt x="40" y="102"/>
                      </a:lnTo>
                      <a:lnTo>
                        <a:pt x="30" y="80"/>
                      </a:lnTo>
                      <a:lnTo>
                        <a:pt x="20" y="45"/>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4040" y="4708440"/>
                  <a:ext cx="271440" cy="941400"/>
                </a:xfrm>
                <a:custGeom>
                  <a:avLst/>
                  <a:gdLst/>
                  <a:ahLst/>
                  <a:rect l="l" t="t" r="r" b="b"/>
                  <a:pathLst>
                    <a:path w="171" h="593">
                      <a:moveTo>
                        <a:pt x="171" y="593"/>
                      </a:moveTo>
                      <a:lnTo>
                        <a:pt x="161" y="570"/>
                      </a:lnTo>
                      <a:lnTo>
                        <a:pt x="151" y="536"/>
                      </a:lnTo>
                      <a:lnTo>
                        <a:pt x="141" y="513"/>
                      </a:lnTo>
                      <a:lnTo>
                        <a:pt x="131" y="490"/>
                      </a:lnTo>
                      <a:lnTo>
                        <a:pt x="121" y="467"/>
                      </a:lnTo>
                      <a:lnTo>
                        <a:pt x="111" y="445"/>
                      </a:lnTo>
                      <a:lnTo>
                        <a:pt x="111" y="422"/>
                      </a:lnTo>
                      <a:lnTo>
                        <a:pt x="101" y="399"/>
                      </a:lnTo>
                      <a:lnTo>
                        <a:pt x="91" y="376"/>
                      </a:lnTo>
                      <a:lnTo>
                        <a:pt x="81" y="353"/>
                      </a:lnTo>
                      <a:lnTo>
                        <a:pt x="71" y="319"/>
                      </a:lnTo>
                      <a:lnTo>
                        <a:pt x="71" y="296"/>
                      </a:lnTo>
                      <a:lnTo>
                        <a:pt x="61" y="274"/>
                      </a:lnTo>
                      <a:lnTo>
                        <a:pt x="51" y="251"/>
                      </a:lnTo>
                      <a:lnTo>
                        <a:pt x="51" y="228"/>
                      </a:lnTo>
                      <a:lnTo>
                        <a:pt x="41" y="205"/>
                      </a:lnTo>
                      <a:lnTo>
                        <a:pt x="41" y="171"/>
                      </a:lnTo>
                      <a:lnTo>
                        <a:pt x="31" y="148"/>
                      </a:lnTo>
                      <a:lnTo>
                        <a:pt x="20" y="125"/>
                      </a:lnTo>
                      <a:lnTo>
                        <a:pt x="20" y="103"/>
                      </a:lnTo>
                      <a:lnTo>
                        <a:pt x="10" y="80"/>
                      </a:lnTo>
                      <a:lnTo>
                        <a:pt x="1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116160" y="4092480"/>
                  <a:ext cx="47880" cy="615960"/>
                </a:xfrm>
                <a:custGeom>
                  <a:avLst/>
                  <a:gdLst/>
                  <a:ahLst/>
                  <a:rect l="l" t="t" r="r" b="b"/>
                  <a:pathLst>
                    <a:path w="30" h="388">
                      <a:moveTo>
                        <a:pt x="30" y="388"/>
                      </a:moveTo>
                      <a:lnTo>
                        <a:pt x="30" y="365"/>
                      </a:lnTo>
                      <a:lnTo>
                        <a:pt x="30" y="331"/>
                      </a:lnTo>
                      <a:lnTo>
                        <a:pt x="20" y="308"/>
                      </a:lnTo>
                      <a:lnTo>
                        <a:pt x="20" y="274"/>
                      </a:lnTo>
                      <a:lnTo>
                        <a:pt x="10" y="251"/>
                      </a:lnTo>
                      <a:lnTo>
                        <a:pt x="10" y="217"/>
                      </a:lnTo>
                      <a:lnTo>
                        <a:pt x="10" y="194"/>
                      </a:lnTo>
                      <a:lnTo>
                        <a:pt x="0" y="160"/>
                      </a:lnTo>
                      <a:lnTo>
                        <a:pt x="0" y="137"/>
                      </a:lnTo>
                      <a:lnTo>
                        <a:pt x="0" y="114"/>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100320" y="3206880"/>
                  <a:ext cx="15840" cy="885600"/>
                </a:xfrm>
                <a:custGeom>
                  <a:avLst/>
                  <a:gdLst/>
                  <a:ahLst/>
                  <a:rect l="l" t="t" r="r" b="b"/>
                  <a:pathLst>
                    <a:path w="10" h="558">
                      <a:moveTo>
                        <a:pt x="10" y="558"/>
                      </a:moveTo>
                      <a:lnTo>
                        <a:pt x="10" y="536"/>
                      </a:lnTo>
                      <a:lnTo>
                        <a:pt x="10" y="501"/>
                      </a:lnTo>
                      <a:lnTo>
                        <a:pt x="0" y="479"/>
                      </a:lnTo>
                      <a:lnTo>
                        <a:pt x="0" y="456"/>
                      </a:lnTo>
                      <a:lnTo>
                        <a:pt x="0" y="422"/>
                      </a:lnTo>
                      <a:lnTo>
                        <a:pt x="0" y="399"/>
                      </a:lnTo>
                      <a:lnTo>
                        <a:pt x="0" y="376"/>
                      </a:lnTo>
                      <a:lnTo>
                        <a:pt x="0" y="342"/>
                      </a:lnTo>
                      <a:lnTo>
                        <a:pt x="0" y="319"/>
                      </a:lnTo>
                      <a:lnTo>
                        <a:pt x="0" y="296"/>
                      </a:lnTo>
                      <a:lnTo>
                        <a:pt x="0" y="262"/>
                      </a:lnTo>
                      <a:lnTo>
                        <a:pt x="0" y="239"/>
                      </a:lnTo>
                      <a:lnTo>
                        <a:pt x="0" y="216"/>
                      </a:lnTo>
                      <a:lnTo>
                        <a:pt x="0" y="182"/>
                      </a:lnTo>
                      <a:lnTo>
                        <a:pt x="0" y="159"/>
                      </a:lnTo>
                      <a:lnTo>
                        <a:pt x="0" y="136"/>
                      </a:lnTo>
                      <a:lnTo>
                        <a:pt x="0" y="102"/>
                      </a:lnTo>
                      <a:lnTo>
                        <a:pt x="0" y="79"/>
                      </a:lnTo>
                      <a:lnTo>
                        <a:pt x="0" y="57"/>
                      </a:lnTo>
                      <a:lnTo>
                        <a:pt x="10" y="34"/>
                      </a:lnTo>
                      <a:lnTo>
                        <a:pt x="1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116160" y="2590920"/>
                  <a:ext cx="63720" cy="615960"/>
                </a:xfrm>
                <a:custGeom>
                  <a:avLst/>
                  <a:gdLst/>
                  <a:ahLst/>
                  <a:rect l="l" t="t" r="r" b="b"/>
                  <a:pathLst>
                    <a:path w="40" h="388">
                      <a:moveTo>
                        <a:pt x="0" y="388"/>
                      </a:moveTo>
                      <a:lnTo>
                        <a:pt x="0" y="365"/>
                      </a:lnTo>
                      <a:lnTo>
                        <a:pt x="10" y="342"/>
                      </a:lnTo>
                      <a:lnTo>
                        <a:pt x="10" y="308"/>
                      </a:lnTo>
                      <a:lnTo>
                        <a:pt x="10" y="285"/>
                      </a:lnTo>
                      <a:lnTo>
                        <a:pt x="10" y="262"/>
                      </a:lnTo>
                      <a:lnTo>
                        <a:pt x="20" y="239"/>
                      </a:lnTo>
                      <a:lnTo>
                        <a:pt x="20" y="205"/>
                      </a:lnTo>
                      <a:lnTo>
                        <a:pt x="20" y="182"/>
                      </a:lnTo>
                      <a:lnTo>
                        <a:pt x="20" y="160"/>
                      </a:lnTo>
                      <a:lnTo>
                        <a:pt x="30" y="125"/>
                      </a:lnTo>
                      <a:lnTo>
                        <a:pt x="30" y="103"/>
                      </a:lnTo>
                      <a:lnTo>
                        <a:pt x="30" y="80"/>
                      </a:lnTo>
                      <a:lnTo>
                        <a:pt x="40" y="57"/>
                      </a:lnTo>
                      <a:lnTo>
                        <a:pt x="4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179880" y="1577880"/>
                  <a:ext cx="318960" cy="1013040"/>
                </a:xfrm>
                <a:custGeom>
                  <a:avLst/>
                  <a:gdLst/>
                  <a:ahLst/>
                  <a:rect l="l" t="t" r="r" b="b"/>
                  <a:pathLst>
                    <a:path w="201" h="638">
                      <a:moveTo>
                        <a:pt x="0" y="638"/>
                      </a:moveTo>
                      <a:lnTo>
                        <a:pt x="10" y="615"/>
                      </a:lnTo>
                      <a:lnTo>
                        <a:pt x="10" y="581"/>
                      </a:lnTo>
                      <a:lnTo>
                        <a:pt x="21" y="558"/>
                      </a:lnTo>
                      <a:lnTo>
                        <a:pt x="21" y="524"/>
                      </a:lnTo>
                      <a:lnTo>
                        <a:pt x="31" y="501"/>
                      </a:lnTo>
                      <a:lnTo>
                        <a:pt x="31" y="478"/>
                      </a:lnTo>
                      <a:lnTo>
                        <a:pt x="41" y="456"/>
                      </a:lnTo>
                      <a:lnTo>
                        <a:pt x="41" y="433"/>
                      </a:lnTo>
                      <a:lnTo>
                        <a:pt x="51" y="399"/>
                      </a:lnTo>
                      <a:lnTo>
                        <a:pt x="61" y="376"/>
                      </a:lnTo>
                      <a:lnTo>
                        <a:pt x="61" y="353"/>
                      </a:lnTo>
                      <a:lnTo>
                        <a:pt x="71" y="330"/>
                      </a:lnTo>
                      <a:lnTo>
                        <a:pt x="81" y="307"/>
                      </a:lnTo>
                      <a:lnTo>
                        <a:pt x="91" y="285"/>
                      </a:lnTo>
                      <a:lnTo>
                        <a:pt x="101" y="262"/>
                      </a:lnTo>
                      <a:lnTo>
                        <a:pt x="101" y="228"/>
                      </a:lnTo>
                      <a:lnTo>
                        <a:pt x="111" y="205"/>
                      </a:lnTo>
                      <a:lnTo>
                        <a:pt x="121" y="182"/>
                      </a:lnTo>
                      <a:lnTo>
                        <a:pt x="131" y="159"/>
                      </a:lnTo>
                      <a:lnTo>
                        <a:pt x="141" y="136"/>
                      </a:lnTo>
                      <a:lnTo>
                        <a:pt x="151" y="114"/>
                      </a:lnTo>
                      <a:lnTo>
                        <a:pt x="161" y="91"/>
                      </a:lnTo>
                      <a:lnTo>
                        <a:pt x="171" y="68"/>
                      </a:lnTo>
                      <a:lnTo>
                        <a:pt x="181" y="45"/>
                      </a:lnTo>
                      <a:lnTo>
                        <a:pt x="191" y="22"/>
                      </a:lnTo>
                      <a:lnTo>
                        <a:pt x="20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98840" y="1270080"/>
                  <a:ext cx="174600" cy="307800"/>
                </a:xfrm>
                <a:custGeom>
                  <a:avLst/>
                  <a:gdLst/>
                  <a:ahLst/>
                  <a:rect l="l" t="t" r="r" b="b"/>
                  <a:pathLst>
                    <a:path w="110" h="194">
                      <a:moveTo>
                        <a:pt x="0" y="194"/>
                      </a:moveTo>
                      <a:lnTo>
                        <a:pt x="10" y="171"/>
                      </a:lnTo>
                      <a:lnTo>
                        <a:pt x="20" y="137"/>
                      </a:lnTo>
                      <a:lnTo>
                        <a:pt x="40" y="114"/>
                      </a:lnTo>
                      <a:lnTo>
                        <a:pt x="50" y="91"/>
                      </a:lnTo>
                      <a:lnTo>
                        <a:pt x="60" y="68"/>
                      </a:lnTo>
                      <a:lnTo>
                        <a:pt x="80" y="45"/>
                      </a:lnTo>
                      <a:lnTo>
                        <a:pt x="100" y="23"/>
                      </a:lnTo>
                      <a:lnTo>
                        <a:pt x="11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673440" y="1179360"/>
                  <a:ext cx="79560" cy="90720"/>
                </a:xfrm>
                <a:custGeom>
                  <a:avLst/>
                  <a:gdLst/>
                  <a:ahLst/>
                  <a:rect l="l" t="t" r="r" b="b"/>
                  <a:pathLst>
                    <a:path w="50" h="57">
                      <a:moveTo>
                        <a:pt x="0" y="57"/>
                      </a:moveTo>
                      <a:lnTo>
                        <a:pt x="20" y="34"/>
                      </a:lnTo>
                      <a:lnTo>
                        <a:pt x="30" y="23"/>
                      </a:lnTo>
                      <a:lnTo>
                        <a:pt x="5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8" name=""/>
                <p:cNvSpPr/>
                <p:nvPr/>
              </p:nvSpPr>
              <p:spPr>
                <a:xfrm>
                  <a:off x="3753000" y="1143000"/>
                  <a:ext cx="31680" cy="36360"/>
                </a:xfrm>
                <a:custGeom>
                  <a:avLst/>
                  <a:gdLst/>
                  <a:ahLst/>
                  <a:rect l="l" t="t" r="r" b="b"/>
                  <a:pathLst>
                    <a:path w="20" h="23">
                      <a:moveTo>
                        <a:pt x="0" y="23"/>
                      </a:moveTo>
                      <a:lnTo>
                        <a:pt x="10" y="11"/>
                      </a:lnTo>
                      <a:lnTo>
                        <a:pt x="20" y="11"/>
                      </a:lnTo>
                      <a:lnTo>
                        <a:pt x="2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3562200" y="4962600"/>
                  <a:ext cx="412920" cy="1247760"/>
                </a:xfrm>
                <a:custGeom>
                  <a:avLst/>
                  <a:gdLst/>
                  <a:ahLst/>
                  <a:rect l="l" t="t" r="r" b="b"/>
                  <a:pathLst>
                    <a:path w="260" h="786">
                      <a:moveTo>
                        <a:pt x="260" y="786"/>
                      </a:moveTo>
                      <a:lnTo>
                        <a:pt x="250" y="775"/>
                      </a:lnTo>
                      <a:lnTo>
                        <a:pt x="240" y="752"/>
                      </a:lnTo>
                      <a:lnTo>
                        <a:pt x="220" y="729"/>
                      </a:lnTo>
                      <a:lnTo>
                        <a:pt x="210" y="718"/>
                      </a:lnTo>
                      <a:lnTo>
                        <a:pt x="200" y="695"/>
                      </a:lnTo>
                      <a:lnTo>
                        <a:pt x="190" y="672"/>
                      </a:lnTo>
                      <a:lnTo>
                        <a:pt x="180" y="649"/>
                      </a:lnTo>
                      <a:lnTo>
                        <a:pt x="170" y="627"/>
                      </a:lnTo>
                      <a:lnTo>
                        <a:pt x="160" y="604"/>
                      </a:lnTo>
                      <a:lnTo>
                        <a:pt x="150" y="581"/>
                      </a:lnTo>
                      <a:lnTo>
                        <a:pt x="140" y="558"/>
                      </a:lnTo>
                      <a:lnTo>
                        <a:pt x="130" y="535"/>
                      </a:lnTo>
                      <a:lnTo>
                        <a:pt x="120" y="513"/>
                      </a:lnTo>
                      <a:lnTo>
                        <a:pt x="110" y="490"/>
                      </a:lnTo>
                      <a:lnTo>
                        <a:pt x="100" y="467"/>
                      </a:lnTo>
                      <a:lnTo>
                        <a:pt x="100" y="444"/>
                      </a:lnTo>
                      <a:lnTo>
                        <a:pt x="90" y="421"/>
                      </a:lnTo>
                      <a:lnTo>
                        <a:pt x="80" y="399"/>
                      </a:lnTo>
                      <a:lnTo>
                        <a:pt x="70" y="364"/>
                      </a:lnTo>
                      <a:lnTo>
                        <a:pt x="70" y="342"/>
                      </a:lnTo>
                      <a:lnTo>
                        <a:pt x="60" y="319"/>
                      </a:lnTo>
                      <a:lnTo>
                        <a:pt x="60" y="296"/>
                      </a:lnTo>
                      <a:lnTo>
                        <a:pt x="50" y="273"/>
                      </a:lnTo>
                      <a:lnTo>
                        <a:pt x="40" y="250"/>
                      </a:lnTo>
                      <a:lnTo>
                        <a:pt x="40" y="216"/>
                      </a:lnTo>
                      <a:lnTo>
                        <a:pt x="30" y="193"/>
                      </a:lnTo>
                      <a:lnTo>
                        <a:pt x="30" y="171"/>
                      </a:lnTo>
                      <a:lnTo>
                        <a:pt x="20" y="148"/>
                      </a:lnTo>
                      <a:lnTo>
                        <a:pt x="20" y="125"/>
                      </a:lnTo>
                      <a:lnTo>
                        <a:pt x="10" y="102"/>
                      </a:lnTo>
                      <a:lnTo>
                        <a:pt x="10" y="79"/>
                      </a:lnTo>
                      <a:lnTo>
                        <a:pt x="0" y="57"/>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483000" y="4400640"/>
                  <a:ext cx="79200" cy="561960"/>
                </a:xfrm>
                <a:custGeom>
                  <a:avLst/>
                  <a:gdLst/>
                  <a:ahLst/>
                  <a:rect l="l" t="t" r="r" b="b"/>
                  <a:pathLst>
                    <a:path w="50" h="354">
                      <a:moveTo>
                        <a:pt x="50" y="354"/>
                      </a:moveTo>
                      <a:lnTo>
                        <a:pt x="40" y="331"/>
                      </a:lnTo>
                      <a:lnTo>
                        <a:pt x="40" y="308"/>
                      </a:lnTo>
                      <a:lnTo>
                        <a:pt x="30" y="274"/>
                      </a:lnTo>
                      <a:lnTo>
                        <a:pt x="30" y="251"/>
                      </a:lnTo>
                      <a:lnTo>
                        <a:pt x="20" y="217"/>
                      </a:lnTo>
                      <a:lnTo>
                        <a:pt x="20" y="194"/>
                      </a:lnTo>
                      <a:lnTo>
                        <a:pt x="20" y="160"/>
                      </a:lnTo>
                      <a:lnTo>
                        <a:pt x="10" y="137"/>
                      </a:lnTo>
                      <a:lnTo>
                        <a:pt x="10" y="103"/>
                      </a:lnTo>
                      <a:lnTo>
                        <a:pt x="10" y="80"/>
                      </a:lnTo>
                      <a:lnTo>
                        <a:pt x="10" y="46"/>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67160" y="2898720"/>
                  <a:ext cx="31680" cy="1501920"/>
                </a:xfrm>
                <a:custGeom>
                  <a:avLst/>
                  <a:gdLst/>
                  <a:ahLst/>
                  <a:rect l="l" t="t" r="r" b="b"/>
                  <a:pathLst>
                    <a:path w="20" h="946">
                      <a:moveTo>
                        <a:pt x="10" y="946"/>
                      </a:moveTo>
                      <a:lnTo>
                        <a:pt x="10" y="923"/>
                      </a:lnTo>
                      <a:lnTo>
                        <a:pt x="10" y="889"/>
                      </a:lnTo>
                      <a:lnTo>
                        <a:pt x="10" y="866"/>
                      </a:lnTo>
                      <a:lnTo>
                        <a:pt x="10" y="844"/>
                      </a:lnTo>
                      <a:lnTo>
                        <a:pt x="10" y="821"/>
                      </a:lnTo>
                      <a:lnTo>
                        <a:pt x="10" y="798"/>
                      </a:lnTo>
                      <a:lnTo>
                        <a:pt x="10" y="764"/>
                      </a:lnTo>
                      <a:lnTo>
                        <a:pt x="10" y="741"/>
                      </a:lnTo>
                      <a:lnTo>
                        <a:pt x="10" y="718"/>
                      </a:lnTo>
                      <a:lnTo>
                        <a:pt x="10" y="695"/>
                      </a:lnTo>
                      <a:lnTo>
                        <a:pt x="10" y="661"/>
                      </a:lnTo>
                      <a:lnTo>
                        <a:pt x="10" y="638"/>
                      </a:lnTo>
                      <a:lnTo>
                        <a:pt x="10" y="616"/>
                      </a:lnTo>
                      <a:lnTo>
                        <a:pt x="10" y="593"/>
                      </a:lnTo>
                      <a:lnTo>
                        <a:pt x="10" y="570"/>
                      </a:lnTo>
                      <a:lnTo>
                        <a:pt x="10" y="536"/>
                      </a:lnTo>
                      <a:lnTo>
                        <a:pt x="10" y="513"/>
                      </a:lnTo>
                      <a:lnTo>
                        <a:pt x="10" y="490"/>
                      </a:lnTo>
                      <a:lnTo>
                        <a:pt x="10" y="467"/>
                      </a:lnTo>
                      <a:lnTo>
                        <a:pt x="0" y="433"/>
                      </a:lnTo>
                      <a:lnTo>
                        <a:pt x="0" y="410"/>
                      </a:lnTo>
                      <a:lnTo>
                        <a:pt x="0" y="387"/>
                      </a:lnTo>
                      <a:lnTo>
                        <a:pt x="0" y="365"/>
                      </a:lnTo>
                      <a:lnTo>
                        <a:pt x="0" y="342"/>
                      </a:lnTo>
                      <a:lnTo>
                        <a:pt x="0" y="308"/>
                      </a:lnTo>
                      <a:lnTo>
                        <a:pt x="0" y="285"/>
                      </a:lnTo>
                      <a:lnTo>
                        <a:pt x="0" y="262"/>
                      </a:lnTo>
                      <a:lnTo>
                        <a:pt x="10" y="239"/>
                      </a:lnTo>
                      <a:lnTo>
                        <a:pt x="10" y="205"/>
                      </a:lnTo>
                      <a:lnTo>
                        <a:pt x="10" y="182"/>
                      </a:lnTo>
                      <a:lnTo>
                        <a:pt x="10" y="159"/>
                      </a:lnTo>
                      <a:lnTo>
                        <a:pt x="10" y="137"/>
                      </a:lnTo>
                      <a:lnTo>
                        <a:pt x="10" y="102"/>
                      </a:lnTo>
                      <a:lnTo>
                        <a:pt x="10" y="80"/>
                      </a:lnTo>
                      <a:lnTo>
                        <a:pt x="10" y="57"/>
                      </a:lnTo>
                      <a:lnTo>
                        <a:pt x="20" y="23"/>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98840" y="2590920"/>
                  <a:ext cx="31680" cy="307800"/>
                </a:xfrm>
                <a:custGeom>
                  <a:avLst/>
                  <a:gdLst/>
                  <a:ahLst/>
                  <a:rect l="l" t="t" r="r" b="b"/>
                  <a:pathLst>
                    <a:path w="20" h="194">
                      <a:moveTo>
                        <a:pt x="0" y="194"/>
                      </a:moveTo>
                      <a:lnTo>
                        <a:pt x="0" y="160"/>
                      </a:lnTo>
                      <a:lnTo>
                        <a:pt x="0" y="137"/>
                      </a:lnTo>
                      <a:lnTo>
                        <a:pt x="10" y="103"/>
                      </a:lnTo>
                      <a:lnTo>
                        <a:pt x="10" y="68"/>
                      </a:lnTo>
                      <a:lnTo>
                        <a:pt x="10" y="34"/>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530520" y="1577880"/>
                  <a:ext cx="238320" cy="1013040"/>
                </a:xfrm>
                <a:custGeom>
                  <a:avLst/>
                  <a:gdLst/>
                  <a:ahLst/>
                  <a:rect l="l" t="t" r="r" b="b"/>
                  <a:pathLst>
                    <a:path w="150" h="638">
                      <a:moveTo>
                        <a:pt x="0" y="638"/>
                      </a:moveTo>
                      <a:lnTo>
                        <a:pt x="0" y="615"/>
                      </a:lnTo>
                      <a:lnTo>
                        <a:pt x="10" y="581"/>
                      </a:lnTo>
                      <a:lnTo>
                        <a:pt x="10" y="547"/>
                      </a:lnTo>
                      <a:lnTo>
                        <a:pt x="10" y="524"/>
                      </a:lnTo>
                      <a:lnTo>
                        <a:pt x="20" y="501"/>
                      </a:lnTo>
                      <a:lnTo>
                        <a:pt x="20" y="478"/>
                      </a:lnTo>
                      <a:lnTo>
                        <a:pt x="30" y="444"/>
                      </a:lnTo>
                      <a:lnTo>
                        <a:pt x="30" y="421"/>
                      </a:lnTo>
                      <a:lnTo>
                        <a:pt x="40" y="399"/>
                      </a:lnTo>
                      <a:lnTo>
                        <a:pt x="40" y="376"/>
                      </a:lnTo>
                      <a:lnTo>
                        <a:pt x="50" y="342"/>
                      </a:lnTo>
                      <a:lnTo>
                        <a:pt x="50" y="319"/>
                      </a:lnTo>
                      <a:lnTo>
                        <a:pt x="60" y="296"/>
                      </a:lnTo>
                      <a:lnTo>
                        <a:pt x="60" y="273"/>
                      </a:lnTo>
                      <a:lnTo>
                        <a:pt x="70" y="250"/>
                      </a:lnTo>
                      <a:lnTo>
                        <a:pt x="80" y="216"/>
                      </a:lnTo>
                      <a:lnTo>
                        <a:pt x="80" y="193"/>
                      </a:lnTo>
                      <a:lnTo>
                        <a:pt x="90" y="171"/>
                      </a:lnTo>
                      <a:lnTo>
                        <a:pt x="100" y="148"/>
                      </a:lnTo>
                      <a:lnTo>
                        <a:pt x="110" y="125"/>
                      </a:lnTo>
                      <a:lnTo>
                        <a:pt x="110" y="91"/>
                      </a:lnTo>
                      <a:lnTo>
                        <a:pt x="120" y="68"/>
                      </a:lnTo>
                      <a:lnTo>
                        <a:pt x="130" y="45"/>
                      </a:lnTo>
                      <a:lnTo>
                        <a:pt x="140" y="22"/>
                      </a:lnTo>
                      <a:lnTo>
                        <a:pt x="1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68840" y="1270080"/>
                  <a:ext cx="126720" cy="307800"/>
                </a:xfrm>
                <a:custGeom>
                  <a:avLst/>
                  <a:gdLst/>
                  <a:ahLst/>
                  <a:rect l="l" t="t" r="r" b="b"/>
                  <a:pathLst>
                    <a:path w="80" h="194">
                      <a:moveTo>
                        <a:pt x="0" y="194"/>
                      </a:moveTo>
                      <a:lnTo>
                        <a:pt x="10" y="159"/>
                      </a:lnTo>
                      <a:lnTo>
                        <a:pt x="20" y="137"/>
                      </a:lnTo>
                      <a:lnTo>
                        <a:pt x="30" y="114"/>
                      </a:lnTo>
                      <a:lnTo>
                        <a:pt x="40" y="80"/>
                      </a:lnTo>
                      <a:lnTo>
                        <a:pt x="50" y="57"/>
                      </a:lnTo>
                      <a:lnTo>
                        <a:pt x="70" y="23"/>
                      </a:lnTo>
                      <a:lnTo>
                        <a:pt x="8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895560" y="1179360"/>
                  <a:ext cx="63720" cy="90720"/>
                </a:xfrm>
                <a:custGeom>
                  <a:avLst/>
                  <a:gdLst/>
                  <a:ahLst/>
                  <a:rect l="l" t="t" r="r" b="b"/>
                  <a:pathLst>
                    <a:path w="40" h="57">
                      <a:moveTo>
                        <a:pt x="0" y="57"/>
                      </a:moveTo>
                      <a:lnTo>
                        <a:pt x="10" y="45"/>
                      </a:lnTo>
                      <a:lnTo>
                        <a:pt x="20" y="23"/>
                      </a:lnTo>
                      <a:lnTo>
                        <a:pt x="4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6" name=""/>
                <p:cNvSpPr/>
                <p:nvPr/>
              </p:nvSpPr>
              <p:spPr>
                <a:xfrm>
                  <a:off x="3959280" y="1143000"/>
                  <a:ext cx="15840" cy="36360"/>
                </a:xfrm>
                <a:custGeom>
                  <a:avLst/>
                  <a:gdLst/>
                  <a:ahLst/>
                  <a:rect l="l" t="t" r="r" b="b"/>
                  <a:pathLst>
                    <a:path w="10" h="23">
                      <a:moveTo>
                        <a:pt x="0" y="23"/>
                      </a:moveTo>
                      <a:lnTo>
                        <a:pt x="0" y="11"/>
                      </a:lnTo>
                      <a:lnTo>
                        <a:pt x="10" y="11"/>
                      </a:lnTo>
                      <a:lnTo>
                        <a:pt x="1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3990960" y="5595840"/>
                  <a:ext cx="176400" cy="614520"/>
                </a:xfrm>
                <a:custGeom>
                  <a:avLst/>
                  <a:gdLst/>
                  <a:ahLst/>
                  <a:rect l="l" t="t" r="r" b="b"/>
                  <a:pathLst>
                    <a:path w="111" h="387">
                      <a:moveTo>
                        <a:pt x="111" y="387"/>
                      </a:moveTo>
                      <a:lnTo>
                        <a:pt x="101" y="364"/>
                      </a:lnTo>
                      <a:lnTo>
                        <a:pt x="91" y="342"/>
                      </a:lnTo>
                      <a:lnTo>
                        <a:pt x="81" y="319"/>
                      </a:lnTo>
                      <a:lnTo>
                        <a:pt x="70" y="296"/>
                      </a:lnTo>
                      <a:lnTo>
                        <a:pt x="60" y="273"/>
                      </a:lnTo>
                      <a:lnTo>
                        <a:pt x="60" y="239"/>
                      </a:lnTo>
                      <a:lnTo>
                        <a:pt x="50" y="216"/>
                      </a:lnTo>
                      <a:lnTo>
                        <a:pt x="40" y="193"/>
                      </a:lnTo>
                      <a:lnTo>
                        <a:pt x="30" y="159"/>
                      </a:lnTo>
                      <a:lnTo>
                        <a:pt x="30" y="136"/>
                      </a:lnTo>
                      <a:lnTo>
                        <a:pt x="20" y="114"/>
                      </a:lnTo>
                      <a:lnTo>
                        <a:pt x="10" y="79"/>
                      </a:lnTo>
                      <a:lnTo>
                        <a:pt x="10" y="57"/>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95560" y="5052960"/>
                  <a:ext cx="95400" cy="542880"/>
                </a:xfrm>
                <a:custGeom>
                  <a:avLst/>
                  <a:gdLst/>
                  <a:ahLst/>
                  <a:rect l="l" t="t" r="r" b="b"/>
                  <a:pathLst>
                    <a:path w="60" h="342">
                      <a:moveTo>
                        <a:pt x="60" y="342"/>
                      </a:moveTo>
                      <a:lnTo>
                        <a:pt x="50" y="319"/>
                      </a:lnTo>
                      <a:lnTo>
                        <a:pt x="50" y="296"/>
                      </a:lnTo>
                      <a:lnTo>
                        <a:pt x="40" y="273"/>
                      </a:lnTo>
                      <a:lnTo>
                        <a:pt x="40" y="239"/>
                      </a:lnTo>
                      <a:lnTo>
                        <a:pt x="30" y="216"/>
                      </a:lnTo>
                      <a:lnTo>
                        <a:pt x="30" y="193"/>
                      </a:lnTo>
                      <a:lnTo>
                        <a:pt x="20" y="159"/>
                      </a:lnTo>
                      <a:lnTo>
                        <a:pt x="20" y="136"/>
                      </a:lnTo>
                      <a:lnTo>
                        <a:pt x="20" y="114"/>
                      </a:lnTo>
                      <a:lnTo>
                        <a:pt x="10" y="79"/>
                      </a:lnTo>
                      <a:lnTo>
                        <a:pt x="10" y="57"/>
                      </a:lnTo>
                      <a:lnTo>
                        <a:pt x="1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48040" y="4309920"/>
                  <a:ext cx="47520" cy="743040"/>
                </a:xfrm>
                <a:custGeom>
                  <a:avLst/>
                  <a:gdLst/>
                  <a:ahLst/>
                  <a:rect l="l" t="t" r="r" b="b"/>
                  <a:pathLst>
                    <a:path w="30" h="468">
                      <a:moveTo>
                        <a:pt x="30" y="468"/>
                      </a:moveTo>
                      <a:lnTo>
                        <a:pt x="30" y="445"/>
                      </a:lnTo>
                      <a:lnTo>
                        <a:pt x="30" y="422"/>
                      </a:lnTo>
                      <a:lnTo>
                        <a:pt x="20" y="388"/>
                      </a:lnTo>
                      <a:lnTo>
                        <a:pt x="20" y="365"/>
                      </a:lnTo>
                      <a:lnTo>
                        <a:pt x="20" y="342"/>
                      </a:lnTo>
                      <a:lnTo>
                        <a:pt x="20" y="319"/>
                      </a:lnTo>
                      <a:lnTo>
                        <a:pt x="10" y="285"/>
                      </a:lnTo>
                      <a:lnTo>
                        <a:pt x="10" y="262"/>
                      </a:lnTo>
                      <a:lnTo>
                        <a:pt x="10" y="240"/>
                      </a:lnTo>
                      <a:lnTo>
                        <a:pt x="10" y="205"/>
                      </a:lnTo>
                      <a:lnTo>
                        <a:pt x="0" y="183"/>
                      </a:lnTo>
                      <a:lnTo>
                        <a:pt x="0" y="160"/>
                      </a:lnTo>
                      <a:lnTo>
                        <a:pt x="0" y="137"/>
                      </a:lnTo>
                      <a:lnTo>
                        <a:pt x="0" y="103"/>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32200" y="2989440"/>
                  <a:ext cx="15840" cy="1320480"/>
                </a:xfrm>
                <a:custGeom>
                  <a:avLst/>
                  <a:gdLst/>
                  <a:ahLst/>
                  <a:rect l="l" t="t" r="r" b="b"/>
                  <a:pathLst>
                    <a:path w="10" h="832">
                      <a:moveTo>
                        <a:pt x="10" y="832"/>
                      </a:moveTo>
                      <a:lnTo>
                        <a:pt x="10" y="809"/>
                      </a:lnTo>
                      <a:lnTo>
                        <a:pt x="10" y="787"/>
                      </a:lnTo>
                      <a:lnTo>
                        <a:pt x="10" y="752"/>
                      </a:lnTo>
                      <a:lnTo>
                        <a:pt x="10" y="730"/>
                      </a:lnTo>
                      <a:lnTo>
                        <a:pt x="10" y="707"/>
                      </a:lnTo>
                      <a:lnTo>
                        <a:pt x="0" y="684"/>
                      </a:lnTo>
                      <a:lnTo>
                        <a:pt x="0" y="661"/>
                      </a:lnTo>
                      <a:lnTo>
                        <a:pt x="0" y="627"/>
                      </a:lnTo>
                      <a:lnTo>
                        <a:pt x="0" y="604"/>
                      </a:lnTo>
                      <a:lnTo>
                        <a:pt x="0" y="581"/>
                      </a:lnTo>
                      <a:lnTo>
                        <a:pt x="0" y="559"/>
                      </a:lnTo>
                      <a:lnTo>
                        <a:pt x="0" y="524"/>
                      </a:lnTo>
                      <a:lnTo>
                        <a:pt x="0" y="502"/>
                      </a:lnTo>
                      <a:lnTo>
                        <a:pt x="0" y="479"/>
                      </a:lnTo>
                      <a:lnTo>
                        <a:pt x="0" y="456"/>
                      </a:lnTo>
                      <a:lnTo>
                        <a:pt x="0" y="433"/>
                      </a:lnTo>
                      <a:lnTo>
                        <a:pt x="0" y="399"/>
                      </a:lnTo>
                      <a:lnTo>
                        <a:pt x="0" y="376"/>
                      </a:lnTo>
                      <a:lnTo>
                        <a:pt x="0" y="353"/>
                      </a:lnTo>
                      <a:lnTo>
                        <a:pt x="0" y="330"/>
                      </a:lnTo>
                      <a:lnTo>
                        <a:pt x="0" y="308"/>
                      </a:lnTo>
                      <a:lnTo>
                        <a:pt x="0" y="273"/>
                      </a:lnTo>
                      <a:lnTo>
                        <a:pt x="0" y="251"/>
                      </a:lnTo>
                      <a:lnTo>
                        <a:pt x="0" y="228"/>
                      </a:lnTo>
                      <a:lnTo>
                        <a:pt x="0" y="205"/>
                      </a:lnTo>
                      <a:lnTo>
                        <a:pt x="0" y="182"/>
                      </a:lnTo>
                      <a:lnTo>
                        <a:pt x="0" y="148"/>
                      </a:lnTo>
                      <a:lnTo>
                        <a:pt x="0" y="125"/>
                      </a:lnTo>
                      <a:lnTo>
                        <a:pt x="0" y="102"/>
                      </a:lnTo>
                      <a:lnTo>
                        <a:pt x="0" y="80"/>
                      </a:lnTo>
                      <a:lnTo>
                        <a:pt x="10" y="45"/>
                      </a:lnTo>
                      <a:lnTo>
                        <a:pt x="10" y="23"/>
                      </a:lnTo>
                      <a:lnTo>
                        <a:pt x="1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848040" y="2952720"/>
                  <a:ext cx="1800" cy="36720"/>
                </a:xfrm>
                <a:custGeom>
                  <a:avLst/>
                  <a:gdLst/>
                  <a:ahLst/>
                  <a:rect l="l" t="t" r="r" b="b"/>
                  <a:pathLst>
                    <a:path w="0" h="23">
                      <a:moveTo>
                        <a:pt x="0" y="23"/>
                      </a:moveTo>
                      <a:lnTo>
                        <a:pt x="0" y="11"/>
                      </a:lnTo>
                      <a:lnTo>
                        <a:pt x="0" y="0"/>
                      </a:lnTo>
                    </a:path>
                  </a:pathLst>
                </a:custGeom>
                <a:solidFill>
                  <a:srgbClr val="ccec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3848040" y="2482920"/>
                  <a:ext cx="31680" cy="469800"/>
                </a:xfrm>
                <a:custGeom>
                  <a:avLst/>
                  <a:gdLst/>
                  <a:ahLst/>
                  <a:rect l="l" t="t" r="r" b="b"/>
                  <a:pathLst>
                    <a:path w="20" h="296">
                      <a:moveTo>
                        <a:pt x="0" y="296"/>
                      </a:moveTo>
                      <a:lnTo>
                        <a:pt x="0" y="262"/>
                      </a:lnTo>
                      <a:lnTo>
                        <a:pt x="0" y="239"/>
                      </a:lnTo>
                      <a:lnTo>
                        <a:pt x="10" y="205"/>
                      </a:lnTo>
                      <a:lnTo>
                        <a:pt x="10" y="182"/>
                      </a:lnTo>
                      <a:lnTo>
                        <a:pt x="10" y="148"/>
                      </a:lnTo>
                      <a:lnTo>
                        <a:pt x="10" y="125"/>
                      </a:lnTo>
                      <a:lnTo>
                        <a:pt x="10" y="102"/>
                      </a:lnTo>
                      <a:lnTo>
                        <a:pt x="20" y="68"/>
                      </a:lnTo>
                      <a:lnTo>
                        <a:pt x="20" y="45"/>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79720" y="1685880"/>
                  <a:ext cx="127080" cy="797040"/>
                </a:xfrm>
                <a:custGeom>
                  <a:avLst/>
                  <a:gdLst/>
                  <a:ahLst/>
                  <a:rect l="l" t="t" r="r" b="b"/>
                  <a:pathLst>
                    <a:path w="80" h="502">
                      <a:moveTo>
                        <a:pt x="0" y="502"/>
                      </a:moveTo>
                      <a:lnTo>
                        <a:pt x="0" y="479"/>
                      </a:lnTo>
                      <a:lnTo>
                        <a:pt x="0" y="456"/>
                      </a:lnTo>
                      <a:lnTo>
                        <a:pt x="10" y="422"/>
                      </a:lnTo>
                      <a:lnTo>
                        <a:pt x="10" y="399"/>
                      </a:lnTo>
                      <a:lnTo>
                        <a:pt x="10" y="376"/>
                      </a:lnTo>
                      <a:lnTo>
                        <a:pt x="20" y="342"/>
                      </a:lnTo>
                      <a:lnTo>
                        <a:pt x="20" y="319"/>
                      </a:lnTo>
                      <a:lnTo>
                        <a:pt x="20" y="296"/>
                      </a:lnTo>
                      <a:lnTo>
                        <a:pt x="30" y="262"/>
                      </a:lnTo>
                      <a:lnTo>
                        <a:pt x="30" y="239"/>
                      </a:lnTo>
                      <a:lnTo>
                        <a:pt x="40" y="217"/>
                      </a:lnTo>
                      <a:lnTo>
                        <a:pt x="40" y="182"/>
                      </a:lnTo>
                      <a:lnTo>
                        <a:pt x="50" y="160"/>
                      </a:lnTo>
                      <a:lnTo>
                        <a:pt x="50" y="137"/>
                      </a:lnTo>
                      <a:lnTo>
                        <a:pt x="60" y="103"/>
                      </a:lnTo>
                      <a:lnTo>
                        <a:pt x="60" y="80"/>
                      </a:lnTo>
                      <a:lnTo>
                        <a:pt x="70" y="57"/>
                      </a:lnTo>
                      <a:lnTo>
                        <a:pt x="70" y="23"/>
                      </a:lnTo>
                      <a:lnTo>
                        <a:pt x="8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06800" y="1324080"/>
                  <a:ext cx="95400" cy="361800"/>
                </a:xfrm>
                <a:custGeom>
                  <a:avLst/>
                  <a:gdLst/>
                  <a:ahLst/>
                  <a:rect l="l" t="t" r="r" b="b"/>
                  <a:pathLst>
                    <a:path w="60" h="228">
                      <a:moveTo>
                        <a:pt x="0" y="228"/>
                      </a:moveTo>
                      <a:lnTo>
                        <a:pt x="0" y="205"/>
                      </a:lnTo>
                      <a:lnTo>
                        <a:pt x="10" y="171"/>
                      </a:lnTo>
                      <a:lnTo>
                        <a:pt x="20" y="148"/>
                      </a:lnTo>
                      <a:lnTo>
                        <a:pt x="20" y="114"/>
                      </a:lnTo>
                      <a:lnTo>
                        <a:pt x="30" y="91"/>
                      </a:lnTo>
                      <a:lnTo>
                        <a:pt x="40" y="57"/>
                      </a:lnTo>
                      <a:lnTo>
                        <a:pt x="50" y="34"/>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102200" y="1216080"/>
                  <a:ext cx="33120" cy="108000"/>
                </a:xfrm>
                <a:custGeom>
                  <a:avLst/>
                  <a:gdLst/>
                  <a:ahLst/>
                  <a:rect l="l" t="t" r="r" b="b"/>
                  <a:pathLst>
                    <a:path w="21" h="68">
                      <a:moveTo>
                        <a:pt x="0" y="68"/>
                      </a:moveTo>
                      <a:lnTo>
                        <a:pt x="0" y="45"/>
                      </a:lnTo>
                      <a:lnTo>
                        <a:pt x="11" y="22"/>
                      </a:lnTo>
                      <a:lnTo>
                        <a:pt x="2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35320" y="1143000"/>
                  <a:ext cx="32040" cy="73080"/>
                </a:xfrm>
                <a:custGeom>
                  <a:avLst/>
                  <a:gdLst/>
                  <a:ahLst/>
                  <a:rect l="l" t="t" r="r" b="b"/>
                  <a:pathLst>
                    <a:path w="20" h="46">
                      <a:moveTo>
                        <a:pt x="0" y="46"/>
                      </a:moveTo>
                      <a:lnTo>
                        <a:pt x="10" y="34"/>
                      </a:lnTo>
                      <a:lnTo>
                        <a:pt x="20" y="11"/>
                      </a:lnTo>
                      <a:lnTo>
                        <a:pt x="20" y="0"/>
                      </a:lnTo>
                    </a:path>
                  </a:pathLst>
                </a:custGeom>
                <a:solidFill>
                  <a:srgbClr val="ccec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4262400" y="5396040"/>
                  <a:ext cx="111240" cy="814320"/>
                </a:xfrm>
                <a:custGeom>
                  <a:avLst/>
                  <a:gdLst/>
                  <a:ahLst/>
                  <a:rect l="l" t="t" r="r" b="b"/>
                  <a:pathLst>
                    <a:path w="70" h="513">
                      <a:moveTo>
                        <a:pt x="70" y="513"/>
                      </a:moveTo>
                      <a:lnTo>
                        <a:pt x="60" y="490"/>
                      </a:lnTo>
                      <a:lnTo>
                        <a:pt x="50" y="468"/>
                      </a:lnTo>
                      <a:lnTo>
                        <a:pt x="50" y="445"/>
                      </a:lnTo>
                      <a:lnTo>
                        <a:pt x="40" y="422"/>
                      </a:lnTo>
                      <a:lnTo>
                        <a:pt x="40" y="388"/>
                      </a:lnTo>
                      <a:lnTo>
                        <a:pt x="40" y="365"/>
                      </a:lnTo>
                      <a:lnTo>
                        <a:pt x="30" y="342"/>
                      </a:lnTo>
                      <a:lnTo>
                        <a:pt x="30" y="319"/>
                      </a:lnTo>
                      <a:lnTo>
                        <a:pt x="20" y="285"/>
                      </a:lnTo>
                      <a:lnTo>
                        <a:pt x="20" y="262"/>
                      </a:lnTo>
                      <a:lnTo>
                        <a:pt x="20" y="240"/>
                      </a:lnTo>
                      <a:lnTo>
                        <a:pt x="20" y="205"/>
                      </a:lnTo>
                      <a:lnTo>
                        <a:pt x="10" y="183"/>
                      </a:lnTo>
                      <a:lnTo>
                        <a:pt x="10" y="160"/>
                      </a:lnTo>
                      <a:lnTo>
                        <a:pt x="10" y="137"/>
                      </a:lnTo>
                      <a:lnTo>
                        <a:pt x="10" y="103"/>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230720" y="4925880"/>
                  <a:ext cx="31680" cy="470160"/>
                </a:xfrm>
                <a:custGeom>
                  <a:avLst/>
                  <a:gdLst/>
                  <a:ahLst/>
                  <a:rect l="l" t="t" r="r" b="b"/>
                  <a:pathLst>
                    <a:path w="20" h="296">
                      <a:moveTo>
                        <a:pt x="20" y="296"/>
                      </a:moveTo>
                      <a:lnTo>
                        <a:pt x="10" y="273"/>
                      </a:lnTo>
                      <a:lnTo>
                        <a:pt x="10" y="239"/>
                      </a:lnTo>
                      <a:lnTo>
                        <a:pt x="10" y="216"/>
                      </a:lnTo>
                      <a:lnTo>
                        <a:pt x="10" y="194"/>
                      </a:lnTo>
                      <a:lnTo>
                        <a:pt x="10" y="159"/>
                      </a:lnTo>
                      <a:lnTo>
                        <a:pt x="0" y="137"/>
                      </a:lnTo>
                      <a:lnTo>
                        <a:pt x="0" y="114"/>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83200" y="2355840"/>
                  <a:ext cx="47520" cy="2570040"/>
                </a:xfrm>
                <a:custGeom>
                  <a:avLst/>
                  <a:gdLst/>
                  <a:ahLst/>
                  <a:rect l="l" t="t" r="r" b="b"/>
                  <a:pathLst>
                    <a:path w="30" h="1619">
                      <a:moveTo>
                        <a:pt x="30" y="1619"/>
                      </a:moveTo>
                      <a:lnTo>
                        <a:pt x="20" y="1596"/>
                      </a:lnTo>
                      <a:lnTo>
                        <a:pt x="20" y="1573"/>
                      </a:lnTo>
                      <a:lnTo>
                        <a:pt x="20" y="1539"/>
                      </a:lnTo>
                      <a:lnTo>
                        <a:pt x="20" y="1516"/>
                      </a:lnTo>
                      <a:lnTo>
                        <a:pt x="20" y="1493"/>
                      </a:lnTo>
                      <a:lnTo>
                        <a:pt x="20" y="1471"/>
                      </a:lnTo>
                      <a:lnTo>
                        <a:pt x="10" y="1448"/>
                      </a:lnTo>
                      <a:lnTo>
                        <a:pt x="10" y="1414"/>
                      </a:lnTo>
                      <a:lnTo>
                        <a:pt x="10" y="1391"/>
                      </a:lnTo>
                      <a:lnTo>
                        <a:pt x="10" y="1368"/>
                      </a:lnTo>
                      <a:lnTo>
                        <a:pt x="10" y="1345"/>
                      </a:lnTo>
                      <a:lnTo>
                        <a:pt x="10" y="1322"/>
                      </a:lnTo>
                      <a:lnTo>
                        <a:pt x="10" y="1288"/>
                      </a:lnTo>
                      <a:lnTo>
                        <a:pt x="10" y="1265"/>
                      </a:lnTo>
                      <a:lnTo>
                        <a:pt x="0" y="1243"/>
                      </a:lnTo>
                      <a:lnTo>
                        <a:pt x="0" y="1220"/>
                      </a:lnTo>
                      <a:lnTo>
                        <a:pt x="0" y="1197"/>
                      </a:lnTo>
                      <a:lnTo>
                        <a:pt x="0" y="1163"/>
                      </a:lnTo>
                      <a:lnTo>
                        <a:pt x="0" y="1140"/>
                      </a:lnTo>
                      <a:lnTo>
                        <a:pt x="0" y="1117"/>
                      </a:lnTo>
                      <a:lnTo>
                        <a:pt x="0" y="1094"/>
                      </a:lnTo>
                      <a:lnTo>
                        <a:pt x="0" y="1072"/>
                      </a:lnTo>
                      <a:lnTo>
                        <a:pt x="0" y="1037"/>
                      </a:lnTo>
                      <a:lnTo>
                        <a:pt x="0" y="1015"/>
                      </a:lnTo>
                      <a:lnTo>
                        <a:pt x="0" y="992"/>
                      </a:lnTo>
                      <a:lnTo>
                        <a:pt x="0" y="969"/>
                      </a:lnTo>
                      <a:lnTo>
                        <a:pt x="0" y="946"/>
                      </a:lnTo>
                      <a:lnTo>
                        <a:pt x="0" y="912"/>
                      </a:lnTo>
                      <a:lnTo>
                        <a:pt x="0" y="889"/>
                      </a:lnTo>
                      <a:lnTo>
                        <a:pt x="0" y="866"/>
                      </a:lnTo>
                      <a:lnTo>
                        <a:pt x="0" y="844"/>
                      </a:lnTo>
                      <a:lnTo>
                        <a:pt x="0" y="821"/>
                      </a:lnTo>
                      <a:lnTo>
                        <a:pt x="0" y="786"/>
                      </a:lnTo>
                      <a:lnTo>
                        <a:pt x="0" y="764"/>
                      </a:lnTo>
                      <a:lnTo>
                        <a:pt x="0" y="741"/>
                      </a:lnTo>
                      <a:lnTo>
                        <a:pt x="0" y="718"/>
                      </a:lnTo>
                      <a:lnTo>
                        <a:pt x="0" y="695"/>
                      </a:lnTo>
                      <a:lnTo>
                        <a:pt x="0" y="661"/>
                      </a:lnTo>
                      <a:lnTo>
                        <a:pt x="0" y="638"/>
                      </a:lnTo>
                      <a:lnTo>
                        <a:pt x="0" y="615"/>
                      </a:lnTo>
                      <a:lnTo>
                        <a:pt x="0" y="593"/>
                      </a:lnTo>
                      <a:lnTo>
                        <a:pt x="0" y="570"/>
                      </a:lnTo>
                      <a:lnTo>
                        <a:pt x="0" y="536"/>
                      </a:lnTo>
                      <a:lnTo>
                        <a:pt x="0" y="513"/>
                      </a:lnTo>
                      <a:lnTo>
                        <a:pt x="0" y="490"/>
                      </a:lnTo>
                      <a:lnTo>
                        <a:pt x="0" y="467"/>
                      </a:lnTo>
                      <a:lnTo>
                        <a:pt x="0" y="444"/>
                      </a:lnTo>
                      <a:lnTo>
                        <a:pt x="0" y="410"/>
                      </a:lnTo>
                      <a:lnTo>
                        <a:pt x="10" y="387"/>
                      </a:lnTo>
                      <a:lnTo>
                        <a:pt x="10" y="365"/>
                      </a:lnTo>
                      <a:lnTo>
                        <a:pt x="10" y="342"/>
                      </a:lnTo>
                      <a:lnTo>
                        <a:pt x="10" y="308"/>
                      </a:lnTo>
                      <a:lnTo>
                        <a:pt x="10" y="285"/>
                      </a:lnTo>
                      <a:lnTo>
                        <a:pt x="10" y="262"/>
                      </a:lnTo>
                      <a:lnTo>
                        <a:pt x="10" y="239"/>
                      </a:lnTo>
                      <a:lnTo>
                        <a:pt x="10" y="216"/>
                      </a:lnTo>
                      <a:lnTo>
                        <a:pt x="20" y="182"/>
                      </a:lnTo>
                      <a:lnTo>
                        <a:pt x="20" y="159"/>
                      </a:lnTo>
                      <a:lnTo>
                        <a:pt x="20" y="137"/>
                      </a:lnTo>
                      <a:lnTo>
                        <a:pt x="20" y="102"/>
                      </a:lnTo>
                      <a:lnTo>
                        <a:pt x="20" y="80"/>
                      </a:lnTo>
                      <a:lnTo>
                        <a:pt x="20" y="45"/>
                      </a:lnTo>
                      <a:lnTo>
                        <a:pt x="30" y="23"/>
                      </a:lnTo>
                      <a:lnTo>
                        <a:pt x="3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230720" y="1577880"/>
                  <a:ext cx="63360" cy="777960"/>
                </a:xfrm>
                <a:custGeom>
                  <a:avLst/>
                  <a:gdLst/>
                  <a:ahLst/>
                  <a:rect l="l" t="t" r="r" b="b"/>
                  <a:pathLst>
                    <a:path w="40" h="490">
                      <a:moveTo>
                        <a:pt x="0" y="490"/>
                      </a:moveTo>
                      <a:lnTo>
                        <a:pt x="0" y="467"/>
                      </a:lnTo>
                      <a:lnTo>
                        <a:pt x="0" y="444"/>
                      </a:lnTo>
                      <a:lnTo>
                        <a:pt x="0" y="421"/>
                      </a:lnTo>
                      <a:lnTo>
                        <a:pt x="0" y="399"/>
                      </a:lnTo>
                      <a:lnTo>
                        <a:pt x="10" y="376"/>
                      </a:lnTo>
                      <a:lnTo>
                        <a:pt x="10" y="353"/>
                      </a:lnTo>
                      <a:lnTo>
                        <a:pt x="10" y="319"/>
                      </a:lnTo>
                      <a:lnTo>
                        <a:pt x="10" y="296"/>
                      </a:lnTo>
                      <a:lnTo>
                        <a:pt x="20" y="262"/>
                      </a:lnTo>
                      <a:lnTo>
                        <a:pt x="20" y="239"/>
                      </a:lnTo>
                      <a:lnTo>
                        <a:pt x="20" y="205"/>
                      </a:lnTo>
                      <a:lnTo>
                        <a:pt x="20" y="171"/>
                      </a:lnTo>
                      <a:lnTo>
                        <a:pt x="20" y="148"/>
                      </a:lnTo>
                      <a:lnTo>
                        <a:pt x="30" y="125"/>
                      </a:lnTo>
                      <a:lnTo>
                        <a:pt x="30" y="91"/>
                      </a:lnTo>
                      <a:lnTo>
                        <a:pt x="30" y="68"/>
                      </a:lnTo>
                      <a:lnTo>
                        <a:pt x="30" y="45"/>
                      </a:lnTo>
                      <a:lnTo>
                        <a:pt x="40" y="22"/>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94080" y="1270080"/>
                  <a:ext cx="47880" cy="307800"/>
                </a:xfrm>
                <a:custGeom>
                  <a:avLst/>
                  <a:gdLst/>
                  <a:ahLst/>
                  <a:rect l="l" t="t" r="r" b="b"/>
                  <a:pathLst>
                    <a:path w="30" h="194">
                      <a:moveTo>
                        <a:pt x="0" y="194"/>
                      </a:moveTo>
                      <a:lnTo>
                        <a:pt x="0" y="159"/>
                      </a:lnTo>
                      <a:lnTo>
                        <a:pt x="10" y="125"/>
                      </a:lnTo>
                      <a:lnTo>
                        <a:pt x="10" y="102"/>
                      </a:lnTo>
                      <a:lnTo>
                        <a:pt x="20" y="68"/>
                      </a:lnTo>
                      <a:lnTo>
                        <a:pt x="20" y="34"/>
                      </a:lnTo>
                      <a:lnTo>
                        <a:pt x="3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1960" y="1179360"/>
                  <a:ext cx="15840" cy="90720"/>
                </a:xfrm>
                <a:custGeom>
                  <a:avLst/>
                  <a:gdLst/>
                  <a:ahLst/>
                  <a:rect l="l" t="t" r="r" b="b"/>
                  <a:pathLst>
                    <a:path w="10" h="57">
                      <a:moveTo>
                        <a:pt x="0" y="57"/>
                      </a:moveTo>
                      <a:lnTo>
                        <a:pt x="0" y="34"/>
                      </a:lnTo>
                      <a:lnTo>
                        <a:pt x="10" y="23"/>
                      </a:lnTo>
                      <a:lnTo>
                        <a:pt x="1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4357800" y="1143000"/>
                  <a:ext cx="15840" cy="36360"/>
                </a:xfrm>
                <a:custGeom>
                  <a:avLst/>
                  <a:gdLst/>
                  <a:ahLst/>
                  <a:rect l="l" t="t" r="r" b="b"/>
                  <a:pathLst>
                    <a:path w="10" h="23">
                      <a:moveTo>
                        <a:pt x="0" y="23"/>
                      </a:moveTo>
                      <a:lnTo>
                        <a:pt x="0" y="11"/>
                      </a:lnTo>
                      <a:lnTo>
                        <a:pt x="1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4564080" y="1143000"/>
                  <a:ext cx="1440" cy="5067360"/>
                </a:xfrm>
                <a:custGeom>
                  <a:avLst/>
                  <a:gdLst/>
                  <a:ahLst/>
                  <a:rect l="l" t="t" r="r" b="b"/>
                  <a:pathLst>
                    <a:path w="0" h="3192">
                      <a:moveTo>
                        <a:pt x="0" y="3192"/>
                      </a:moveTo>
                      <a:lnTo>
                        <a:pt x="0" y="3169"/>
                      </a:lnTo>
                      <a:lnTo>
                        <a:pt x="0" y="3147"/>
                      </a:lnTo>
                      <a:lnTo>
                        <a:pt x="0" y="3124"/>
                      </a:lnTo>
                      <a:lnTo>
                        <a:pt x="0" y="3101"/>
                      </a:lnTo>
                      <a:lnTo>
                        <a:pt x="0" y="3078"/>
                      </a:lnTo>
                      <a:lnTo>
                        <a:pt x="0" y="3044"/>
                      </a:lnTo>
                      <a:lnTo>
                        <a:pt x="0" y="3021"/>
                      </a:lnTo>
                      <a:lnTo>
                        <a:pt x="0" y="2998"/>
                      </a:lnTo>
                      <a:lnTo>
                        <a:pt x="0" y="2976"/>
                      </a:lnTo>
                      <a:lnTo>
                        <a:pt x="0" y="2953"/>
                      </a:lnTo>
                      <a:lnTo>
                        <a:pt x="0" y="2930"/>
                      </a:lnTo>
                      <a:lnTo>
                        <a:pt x="0" y="2896"/>
                      </a:lnTo>
                      <a:lnTo>
                        <a:pt x="0" y="2873"/>
                      </a:lnTo>
                      <a:lnTo>
                        <a:pt x="0" y="2850"/>
                      </a:lnTo>
                      <a:lnTo>
                        <a:pt x="0" y="2827"/>
                      </a:lnTo>
                      <a:lnTo>
                        <a:pt x="0" y="2805"/>
                      </a:lnTo>
                      <a:lnTo>
                        <a:pt x="0" y="2770"/>
                      </a:lnTo>
                      <a:lnTo>
                        <a:pt x="0" y="2748"/>
                      </a:lnTo>
                      <a:lnTo>
                        <a:pt x="0" y="2725"/>
                      </a:lnTo>
                      <a:lnTo>
                        <a:pt x="0" y="2702"/>
                      </a:lnTo>
                      <a:lnTo>
                        <a:pt x="0" y="2679"/>
                      </a:lnTo>
                      <a:lnTo>
                        <a:pt x="0" y="2656"/>
                      </a:lnTo>
                      <a:lnTo>
                        <a:pt x="0" y="2622"/>
                      </a:lnTo>
                      <a:lnTo>
                        <a:pt x="0" y="2599"/>
                      </a:lnTo>
                      <a:lnTo>
                        <a:pt x="0" y="2577"/>
                      </a:lnTo>
                      <a:lnTo>
                        <a:pt x="0" y="2554"/>
                      </a:lnTo>
                      <a:lnTo>
                        <a:pt x="0" y="2531"/>
                      </a:lnTo>
                      <a:lnTo>
                        <a:pt x="0" y="2497"/>
                      </a:lnTo>
                      <a:lnTo>
                        <a:pt x="0" y="2474"/>
                      </a:lnTo>
                      <a:lnTo>
                        <a:pt x="0" y="2451"/>
                      </a:lnTo>
                      <a:lnTo>
                        <a:pt x="0" y="2428"/>
                      </a:lnTo>
                      <a:lnTo>
                        <a:pt x="0" y="2406"/>
                      </a:lnTo>
                      <a:lnTo>
                        <a:pt x="0" y="2383"/>
                      </a:lnTo>
                      <a:lnTo>
                        <a:pt x="0" y="2349"/>
                      </a:lnTo>
                      <a:lnTo>
                        <a:pt x="0" y="2326"/>
                      </a:lnTo>
                      <a:lnTo>
                        <a:pt x="0" y="2303"/>
                      </a:lnTo>
                      <a:lnTo>
                        <a:pt x="0" y="2280"/>
                      </a:lnTo>
                      <a:lnTo>
                        <a:pt x="0" y="2257"/>
                      </a:lnTo>
                      <a:lnTo>
                        <a:pt x="0" y="2223"/>
                      </a:lnTo>
                      <a:lnTo>
                        <a:pt x="0" y="2200"/>
                      </a:lnTo>
                      <a:lnTo>
                        <a:pt x="0" y="2178"/>
                      </a:lnTo>
                      <a:lnTo>
                        <a:pt x="0" y="2155"/>
                      </a:lnTo>
                      <a:lnTo>
                        <a:pt x="0" y="2132"/>
                      </a:lnTo>
                      <a:lnTo>
                        <a:pt x="0" y="2109"/>
                      </a:lnTo>
                      <a:lnTo>
                        <a:pt x="0" y="2075"/>
                      </a:lnTo>
                      <a:lnTo>
                        <a:pt x="0" y="2052"/>
                      </a:lnTo>
                      <a:lnTo>
                        <a:pt x="0" y="2029"/>
                      </a:lnTo>
                      <a:lnTo>
                        <a:pt x="0" y="2007"/>
                      </a:lnTo>
                      <a:lnTo>
                        <a:pt x="0" y="1984"/>
                      </a:lnTo>
                      <a:lnTo>
                        <a:pt x="0" y="1950"/>
                      </a:lnTo>
                      <a:lnTo>
                        <a:pt x="0" y="1927"/>
                      </a:lnTo>
                      <a:lnTo>
                        <a:pt x="0" y="1904"/>
                      </a:lnTo>
                      <a:lnTo>
                        <a:pt x="0" y="1881"/>
                      </a:lnTo>
                      <a:lnTo>
                        <a:pt x="0" y="1858"/>
                      </a:lnTo>
                      <a:lnTo>
                        <a:pt x="0" y="1836"/>
                      </a:lnTo>
                      <a:lnTo>
                        <a:pt x="0" y="1801"/>
                      </a:lnTo>
                      <a:lnTo>
                        <a:pt x="0" y="1779"/>
                      </a:lnTo>
                      <a:lnTo>
                        <a:pt x="0" y="1756"/>
                      </a:lnTo>
                      <a:lnTo>
                        <a:pt x="0" y="1733"/>
                      </a:lnTo>
                      <a:lnTo>
                        <a:pt x="0" y="1710"/>
                      </a:lnTo>
                      <a:lnTo>
                        <a:pt x="0" y="1687"/>
                      </a:lnTo>
                      <a:lnTo>
                        <a:pt x="0" y="1653"/>
                      </a:lnTo>
                      <a:lnTo>
                        <a:pt x="0" y="1630"/>
                      </a:lnTo>
                      <a:lnTo>
                        <a:pt x="0" y="1608"/>
                      </a:lnTo>
                      <a:lnTo>
                        <a:pt x="0" y="1585"/>
                      </a:lnTo>
                      <a:lnTo>
                        <a:pt x="0" y="1562"/>
                      </a:lnTo>
                      <a:lnTo>
                        <a:pt x="0" y="1528"/>
                      </a:lnTo>
                      <a:lnTo>
                        <a:pt x="0" y="1505"/>
                      </a:lnTo>
                      <a:lnTo>
                        <a:pt x="0" y="1482"/>
                      </a:lnTo>
                      <a:lnTo>
                        <a:pt x="0" y="1459"/>
                      </a:lnTo>
                      <a:lnTo>
                        <a:pt x="0" y="1436"/>
                      </a:lnTo>
                      <a:lnTo>
                        <a:pt x="0" y="1414"/>
                      </a:lnTo>
                      <a:lnTo>
                        <a:pt x="0" y="1379"/>
                      </a:lnTo>
                      <a:lnTo>
                        <a:pt x="0" y="1357"/>
                      </a:lnTo>
                      <a:lnTo>
                        <a:pt x="0" y="1334"/>
                      </a:lnTo>
                      <a:lnTo>
                        <a:pt x="0" y="1311"/>
                      </a:lnTo>
                      <a:lnTo>
                        <a:pt x="0" y="1288"/>
                      </a:lnTo>
                      <a:lnTo>
                        <a:pt x="0" y="1254"/>
                      </a:lnTo>
                      <a:lnTo>
                        <a:pt x="0" y="1231"/>
                      </a:lnTo>
                      <a:lnTo>
                        <a:pt x="0" y="1208"/>
                      </a:lnTo>
                      <a:lnTo>
                        <a:pt x="0" y="1186"/>
                      </a:lnTo>
                      <a:lnTo>
                        <a:pt x="0" y="1163"/>
                      </a:lnTo>
                      <a:lnTo>
                        <a:pt x="0" y="1140"/>
                      </a:lnTo>
                      <a:lnTo>
                        <a:pt x="0" y="1106"/>
                      </a:lnTo>
                      <a:lnTo>
                        <a:pt x="0" y="1083"/>
                      </a:lnTo>
                      <a:lnTo>
                        <a:pt x="0" y="1060"/>
                      </a:lnTo>
                      <a:lnTo>
                        <a:pt x="0" y="1037"/>
                      </a:lnTo>
                      <a:lnTo>
                        <a:pt x="0" y="1015"/>
                      </a:lnTo>
                      <a:lnTo>
                        <a:pt x="0" y="980"/>
                      </a:lnTo>
                      <a:lnTo>
                        <a:pt x="0" y="958"/>
                      </a:lnTo>
                      <a:lnTo>
                        <a:pt x="0" y="935"/>
                      </a:lnTo>
                      <a:lnTo>
                        <a:pt x="0" y="912"/>
                      </a:lnTo>
                      <a:lnTo>
                        <a:pt x="0" y="889"/>
                      </a:lnTo>
                      <a:lnTo>
                        <a:pt x="0" y="855"/>
                      </a:lnTo>
                      <a:lnTo>
                        <a:pt x="0" y="821"/>
                      </a:lnTo>
                      <a:lnTo>
                        <a:pt x="0" y="798"/>
                      </a:lnTo>
                      <a:lnTo>
                        <a:pt x="0" y="775"/>
                      </a:lnTo>
                      <a:lnTo>
                        <a:pt x="0" y="752"/>
                      </a:lnTo>
                      <a:lnTo>
                        <a:pt x="0" y="730"/>
                      </a:lnTo>
                      <a:lnTo>
                        <a:pt x="0" y="707"/>
                      </a:lnTo>
                      <a:lnTo>
                        <a:pt x="0" y="673"/>
                      </a:lnTo>
                      <a:lnTo>
                        <a:pt x="0" y="650"/>
                      </a:lnTo>
                      <a:lnTo>
                        <a:pt x="0" y="627"/>
                      </a:lnTo>
                      <a:lnTo>
                        <a:pt x="0" y="604"/>
                      </a:lnTo>
                      <a:lnTo>
                        <a:pt x="0" y="581"/>
                      </a:lnTo>
                      <a:lnTo>
                        <a:pt x="0" y="547"/>
                      </a:lnTo>
                      <a:lnTo>
                        <a:pt x="0" y="524"/>
                      </a:lnTo>
                      <a:lnTo>
                        <a:pt x="0" y="502"/>
                      </a:lnTo>
                      <a:lnTo>
                        <a:pt x="0" y="479"/>
                      </a:lnTo>
                      <a:lnTo>
                        <a:pt x="0" y="456"/>
                      </a:lnTo>
                      <a:lnTo>
                        <a:pt x="0" y="433"/>
                      </a:lnTo>
                      <a:lnTo>
                        <a:pt x="0" y="399"/>
                      </a:lnTo>
                      <a:lnTo>
                        <a:pt x="0" y="376"/>
                      </a:lnTo>
                      <a:lnTo>
                        <a:pt x="0" y="353"/>
                      </a:lnTo>
                      <a:lnTo>
                        <a:pt x="0" y="331"/>
                      </a:lnTo>
                      <a:lnTo>
                        <a:pt x="0" y="308"/>
                      </a:lnTo>
                      <a:lnTo>
                        <a:pt x="0" y="274"/>
                      </a:lnTo>
                      <a:lnTo>
                        <a:pt x="0" y="251"/>
                      </a:lnTo>
                      <a:lnTo>
                        <a:pt x="0" y="228"/>
                      </a:lnTo>
                      <a:lnTo>
                        <a:pt x="0" y="205"/>
                      </a:lnTo>
                      <a:lnTo>
                        <a:pt x="0" y="182"/>
                      </a:lnTo>
                      <a:lnTo>
                        <a:pt x="0" y="160"/>
                      </a:lnTo>
                      <a:lnTo>
                        <a:pt x="0" y="125"/>
                      </a:lnTo>
                      <a:lnTo>
                        <a:pt x="0" y="103"/>
                      </a:lnTo>
                      <a:lnTo>
                        <a:pt x="0" y="80"/>
                      </a:lnTo>
                      <a:lnTo>
                        <a:pt x="0" y="57"/>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770360" y="5396040"/>
                  <a:ext cx="111240" cy="814320"/>
                </a:xfrm>
                <a:custGeom>
                  <a:avLst/>
                  <a:gdLst/>
                  <a:ahLst/>
                  <a:rect l="l" t="t" r="r" b="b"/>
                  <a:pathLst>
                    <a:path w="70" h="513">
                      <a:moveTo>
                        <a:pt x="0" y="513"/>
                      </a:moveTo>
                      <a:lnTo>
                        <a:pt x="10" y="490"/>
                      </a:lnTo>
                      <a:lnTo>
                        <a:pt x="10" y="468"/>
                      </a:lnTo>
                      <a:lnTo>
                        <a:pt x="20" y="445"/>
                      </a:lnTo>
                      <a:lnTo>
                        <a:pt x="20" y="422"/>
                      </a:lnTo>
                      <a:lnTo>
                        <a:pt x="30" y="388"/>
                      </a:lnTo>
                      <a:lnTo>
                        <a:pt x="30" y="365"/>
                      </a:lnTo>
                      <a:lnTo>
                        <a:pt x="30" y="342"/>
                      </a:lnTo>
                      <a:lnTo>
                        <a:pt x="40" y="319"/>
                      </a:lnTo>
                      <a:lnTo>
                        <a:pt x="40" y="285"/>
                      </a:lnTo>
                      <a:lnTo>
                        <a:pt x="40" y="262"/>
                      </a:lnTo>
                      <a:lnTo>
                        <a:pt x="50" y="240"/>
                      </a:lnTo>
                      <a:lnTo>
                        <a:pt x="50" y="205"/>
                      </a:lnTo>
                      <a:lnTo>
                        <a:pt x="50" y="183"/>
                      </a:lnTo>
                      <a:lnTo>
                        <a:pt x="50" y="160"/>
                      </a:lnTo>
                      <a:lnTo>
                        <a:pt x="60" y="137"/>
                      </a:lnTo>
                      <a:lnTo>
                        <a:pt x="60" y="103"/>
                      </a:lnTo>
                      <a:lnTo>
                        <a:pt x="60" y="80"/>
                      </a:lnTo>
                      <a:lnTo>
                        <a:pt x="60" y="57"/>
                      </a:lnTo>
                      <a:lnTo>
                        <a:pt x="70" y="23"/>
                      </a:lnTo>
                      <a:lnTo>
                        <a:pt x="7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881600" y="4925880"/>
                  <a:ext cx="31680" cy="470160"/>
                </a:xfrm>
                <a:custGeom>
                  <a:avLst/>
                  <a:gdLst/>
                  <a:ahLst/>
                  <a:rect l="l" t="t" r="r" b="b"/>
                  <a:pathLst>
                    <a:path w="20" h="296">
                      <a:moveTo>
                        <a:pt x="0" y="296"/>
                      </a:moveTo>
                      <a:lnTo>
                        <a:pt x="0" y="273"/>
                      </a:lnTo>
                      <a:lnTo>
                        <a:pt x="0" y="239"/>
                      </a:lnTo>
                      <a:lnTo>
                        <a:pt x="10" y="216"/>
                      </a:lnTo>
                      <a:lnTo>
                        <a:pt x="10" y="194"/>
                      </a:lnTo>
                      <a:lnTo>
                        <a:pt x="10" y="159"/>
                      </a:lnTo>
                      <a:lnTo>
                        <a:pt x="10" y="137"/>
                      </a:lnTo>
                      <a:lnTo>
                        <a:pt x="20" y="114"/>
                      </a:lnTo>
                      <a:lnTo>
                        <a:pt x="20" y="80"/>
                      </a:lnTo>
                      <a:lnTo>
                        <a:pt x="20" y="57"/>
                      </a:lnTo>
                      <a:lnTo>
                        <a:pt x="20" y="23"/>
                      </a:lnTo>
                      <a:lnTo>
                        <a:pt x="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913280" y="2355840"/>
                  <a:ext cx="1800" cy="2570040"/>
                </a:xfrm>
                <a:custGeom>
                  <a:avLst/>
                  <a:gdLst/>
                  <a:ahLst/>
                  <a:rect l="l" t="t" r="r" b="b"/>
                  <a:pathLst>
                    <a:path w="0" h="1619">
                      <a:moveTo>
                        <a:pt x="0" y="1619"/>
                      </a:moveTo>
                      <a:lnTo>
                        <a:pt x="0" y="1596"/>
                      </a:lnTo>
                      <a:lnTo>
                        <a:pt x="0" y="1573"/>
                      </a:lnTo>
                      <a:lnTo>
                        <a:pt x="0" y="1539"/>
                      </a:lnTo>
                      <a:lnTo>
                        <a:pt x="0" y="1516"/>
                      </a:lnTo>
                      <a:lnTo>
                        <a:pt x="0" y="1493"/>
                      </a:lnTo>
                      <a:lnTo>
                        <a:pt x="0" y="1471"/>
                      </a:lnTo>
                      <a:lnTo>
                        <a:pt x="0" y="1448"/>
                      </a:lnTo>
                      <a:lnTo>
                        <a:pt x="0" y="1414"/>
                      </a:lnTo>
                      <a:lnTo>
                        <a:pt x="0" y="1391"/>
                      </a:lnTo>
                      <a:lnTo>
                        <a:pt x="0" y="1368"/>
                      </a:lnTo>
                      <a:lnTo>
                        <a:pt x="0" y="1345"/>
                      </a:lnTo>
                      <a:lnTo>
                        <a:pt x="0" y="1322"/>
                      </a:lnTo>
                      <a:lnTo>
                        <a:pt x="0" y="1288"/>
                      </a:lnTo>
                      <a:lnTo>
                        <a:pt x="0" y="1265"/>
                      </a:lnTo>
                      <a:lnTo>
                        <a:pt x="0" y="1243"/>
                      </a:lnTo>
                      <a:lnTo>
                        <a:pt x="0" y="1220"/>
                      </a:lnTo>
                      <a:lnTo>
                        <a:pt x="0" y="1197"/>
                      </a:lnTo>
                      <a:lnTo>
                        <a:pt x="0" y="1163"/>
                      </a:lnTo>
                      <a:lnTo>
                        <a:pt x="0" y="1140"/>
                      </a:lnTo>
                      <a:lnTo>
                        <a:pt x="0" y="1117"/>
                      </a:lnTo>
                      <a:lnTo>
                        <a:pt x="0" y="1094"/>
                      </a:lnTo>
                      <a:lnTo>
                        <a:pt x="0" y="1072"/>
                      </a:lnTo>
                      <a:lnTo>
                        <a:pt x="0" y="1037"/>
                      </a:lnTo>
                      <a:lnTo>
                        <a:pt x="0" y="1015"/>
                      </a:lnTo>
                      <a:lnTo>
                        <a:pt x="0" y="992"/>
                      </a:lnTo>
                      <a:lnTo>
                        <a:pt x="0" y="969"/>
                      </a:lnTo>
                      <a:lnTo>
                        <a:pt x="0" y="946"/>
                      </a:lnTo>
                      <a:lnTo>
                        <a:pt x="0" y="912"/>
                      </a:lnTo>
                      <a:lnTo>
                        <a:pt x="0" y="889"/>
                      </a:lnTo>
                      <a:lnTo>
                        <a:pt x="0" y="866"/>
                      </a:lnTo>
                      <a:lnTo>
                        <a:pt x="0" y="844"/>
                      </a:lnTo>
                      <a:lnTo>
                        <a:pt x="0" y="821"/>
                      </a:lnTo>
                      <a:lnTo>
                        <a:pt x="0" y="786"/>
                      </a:lnTo>
                      <a:lnTo>
                        <a:pt x="0" y="764"/>
                      </a:lnTo>
                      <a:lnTo>
                        <a:pt x="0" y="741"/>
                      </a:lnTo>
                      <a:lnTo>
                        <a:pt x="0" y="718"/>
                      </a:lnTo>
                      <a:lnTo>
                        <a:pt x="0" y="695"/>
                      </a:lnTo>
                      <a:lnTo>
                        <a:pt x="0" y="661"/>
                      </a:lnTo>
                      <a:lnTo>
                        <a:pt x="0" y="638"/>
                      </a:lnTo>
                      <a:lnTo>
                        <a:pt x="0" y="615"/>
                      </a:lnTo>
                      <a:lnTo>
                        <a:pt x="0" y="593"/>
                      </a:lnTo>
                      <a:lnTo>
                        <a:pt x="0" y="570"/>
                      </a:lnTo>
                      <a:lnTo>
                        <a:pt x="0" y="536"/>
                      </a:lnTo>
                      <a:lnTo>
                        <a:pt x="0" y="513"/>
                      </a:lnTo>
                      <a:lnTo>
                        <a:pt x="0" y="490"/>
                      </a:lnTo>
                      <a:lnTo>
                        <a:pt x="0" y="467"/>
                      </a:lnTo>
                      <a:lnTo>
                        <a:pt x="0" y="444"/>
                      </a:lnTo>
                      <a:lnTo>
                        <a:pt x="0" y="410"/>
                      </a:lnTo>
                      <a:lnTo>
                        <a:pt x="0" y="387"/>
                      </a:lnTo>
                      <a:lnTo>
                        <a:pt x="0" y="365"/>
                      </a:lnTo>
                      <a:lnTo>
                        <a:pt x="0" y="342"/>
                      </a:lnTo>
                      <a:lnTo>
                        <a:pt x="0" y="308"/>
                      </a:lnTo>
                      <a:lnTo>
                        <a:pt x="0" y="285"/>
                      </a:lnTo>
                      <a:lnTo>
                        <a:pt x="0" y="262"/>
                      </a:lnTo>
                      <a:lnTo>
                        <a:pt x="0" y="239"/>
                      </a:lnTo>
                      <a:lnTo>
                        <a:pt x="0" y="216"/>
                      </a:lnTo>
                      <a:lnTo>
                        <a:pt x="0" y="182"/>
                      </a:lnTo>
                      <a:lnTo>
                        <a:pt x="0" y="159"/>
                      </a:lnTo>
                      <a:lnTo>
                        <a:pt x="0" y="137"/>
                      </a:lnTo>
                      <a:lnTo>
                        <a:pt x="0" y="102"/>
                      </a:lnTo>
                      <a:lnTo>
                        <a:pt x="0" y="80"/>
                      </a:lnTo>
                      <a:lnTo>
                        <a:pt x="0" y="45"/>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834080" y="1577880"/>
                  <a:ext cx="79200" cy="777960"/>
                </a:xfrm>
                <a:custGeom>
                  <a:avLst/>
                  <a:gdLst/>
                  <a:ahLst/>
                  <a:rect l="l" t="t" r="r" b="b"/>
                  <a:pathLst>
                    <a:path w="50" h="490">
                      <a:moveTo>
                        <a:pt x="50" y="490"/>
                      </a:moveTo>
                      <a:lnTo>
                        <a:pt x="50" y="467"/>
                      </a:lnTo>
                      <a:lnTo>
                        <a:pt x="50" y="444"/>
                      </a:lnTo>
                      <a:lnTo>
                        <a:pt x="40" y="421"/>
                      </a:lnTo>
                      <a:lnTo>
                        <a:pt x="40" y="399"/>
                      </a:lnTo>
                      <a:lnTo>
                        <a:pt x="40" y="376"/>
                      </a:lnTo>
                      <a:lnTo>
                        <a:pt x="40" y="353"/>
                      </a:lnTo>
                      <a:lnTo>
                        <a:pt x="40" y="319"/>
                      </a:lnTo>
                      <a:lnTo>
                        <a:pt x="40" y="296"/>
                      </a:lnTo>
                      <a:lnTo>
                        <a:pt x="30" y="262"/>
                      </a:lnTo>
                      <a:lnTo>
                        <a:pt x="30" y="239"/>
                      </a:lnTo>
                      <a:lnTo>
                        <a:pt x="30" y="205"/>
                      </a:lnTo>
                      <a:lnTo>
                        <a:pt x="30" y="171"/>
                      </a:lnTo>
                      <a:lnTo>
                        <a:pt x="20" y="148"/>
                      </a:lnTo>
                      <a:lnTo>
                        <a:pt x="20" y="125"/>
                      </a:lnTo>
                      <a:lnTo>
                        <a:pt x="20" y="91"/>
                      </a:lnTo>
                      <a:lnTo>
                        <a:pt x="10" y="68"/>
                      </a:lnTo>
                      <a:lnTo>
                        <a:pt x="10" y="45"/>
                      </a:lnTo>
                      <a:lnTo>
                        <a:pt x="10" y="2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802040" y="1270080"/>
                  <a:ext cx="32040" cy="307800"/>
                </a:xfrm>
                <a:custGeom>
                  <a:avLst/>
                  <a:gdLst/>
                  <a:ahLst/>
                  <a:rect l="l" t="t" r="r" b="b"/>
                  <a:pathLst>
                    <a:path w="20" h="194">
                      <a:moveTo>
                        <a:pt x="20" y="194"/>
                      </a:moveTo>
                      <a:lnTo>
                        <a:pt x="20" y="159"/>
                      </a:lnTo>
                      <a:lnTo>
                        <a:pt x="20" y="125"/>
                      </a:lnTo>
                      <a:lnTo>
                        <a:pt x="10" y="102"/>
                      </a:lnTo>
                      <a:lnTo>
                        <a:pt x="10" y="68"/>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70360" y="1179360"/>
                  <a:ext cx="31680" cy="90720"/>
                </a:xfrm>
                <a:custGeom>
                  <a:avLst/>
                  <a:gdLst/>
                  <a:ahLst/>
                  <a:rect l="l" t="t" r="r" b="b"/>
                  <a:pathLst>
                    <a:path w="20" h="57">
                      <a:moveTo>
                        <a:pt x="20" y="57"/>
                      </a:moveTo>
                      <a:lnTo>
                        <a:pt x="10" y="34"/>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1" name=""/>
                <p:cNvSpPr/>
                <p:nvPr/>
              </p:nvSpPr>
              <p:spPr>
                <a:xfrm>
                  <a:off x="4770360" y="1143000"/>
                  <a:ext cx="1800" cy="36360"/>
                </a:xfrm>
                <a:custGeom>
                  <a:avLst/>
                  <a:gdLst/>
                  <a:ahLst/>
                  <a:rect l="l" t="t" r="r" b="b"/>
                  <a:pathLst>
                    <a:path w="0" h="23">
                      <a:moveTo>
                        <a:pt x="0" y="23"/>
                      </a:moveTo>
                      <a:lnTo>
                        <a:pt x="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4960800" y="5595840"/>
                  <a:ext cx="192240" cy="614520"/>
                </a:xfrm>
                <a:custGeom>
                  <a:avLst/>
                  <a:gdLst/>
                  <a:ahLst/>
                  <a:rect l="l" t="t" r="r" b="b"/>
                  <a:pathLst>
                    <a:path w="121" h="387">
                      <a:moveTo>
                        <a:pt x="0" y="387"/>
                      </a:moveTo>
                      <a:lnTo>
                        <a:pt x="10" y="364"/>
                      </a:lnTo>
                      <a:lnTo>
                        <a:pt x="20" y="342"/>
                      </a:lnTo>
                      <a:lnTo>
                        <a:pt x="30" y="319"/>
                      </a:lnTo>
                      <a:lnTo>
                        <a:pt x="40" y="296"/>
                      </a:lnTo>
                      <a:lnTo>
                        <a:pt x="51" y="273"/>
                      </a:lnTo>
                      <a:lnTo>
                        <a:pt x="61" y="239"/>
                      </a:lnTo>
                      <a:lnTo>
                        <a:pt x="71" y="216"/>
                      </a:lnTo>
                      <a:lnTo>
                        <a:pt x="81" y="193"/>
                      </a:lnTo>
                      <a:lnTo>
                        <a:pt x="81" y="159"/>
                      </a:lnTo>
                      <a:lnTo>
                        <a:pt x="91" y="136"/>
                      </a:lnTo>
                      <a:lnTo>
                        <a:pt x="101" y="114"/>
                      </a:lnTo>
                      <a:lnTo>
                        <a:pt x="101" y="79"/>
                      </a:lnTo>
                      <a:lnTo>
                        <a:pt x="111" y="57"/>
                      </a:lnTo>
                      <a:lnTo>
                        <a:pt x="111" y="34"/>
                      </a:lnTo>
                      <a:lnTo>
                        <a:pt x="12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153040" y="5052960"/>
                  <a:ext cx="79200" cy="542880"/>
                </a:xfrm>
                <a:custGeom>
                  <a:avLst/>
                  <a:gdLst/>
                  <a:ahLst/>
                  <a:rect l="l" t="t" r="r" b="b"/>
                  <a:pathLst>
                    <a:path w="50" h="342">
                      <a:moveTo>
                        <a:pt x="0" y="342"/>
                      </a:moveTo>
                      <a:lnTo>
                        <a:pt x="0" y="319"/>
                      </a:lnTo>
                      <a:lnTo>
                        <a:pt x="10" y="296"/>
                      </a:lnTo>
                      <a:lnTo>
                        <a:pt x="10" y="273"/>
                      </a:lnTo>
                      <a:lnTo>
                        <a:pt x="20" y="239"/>
                      </a:lnTo>
                      <a:lnTo>
                        <a:pt x="20" y="216"/>
                      </a:lnTo>
                      <a:lnTo>
                        <a:pt x="30" y="193"/>
                      </a:lnTo>
                      <a:lnTo>
                        <a:pt x="30" y="159"/>
                      </a:lnTo>
                      <a:lnTo>
                        <a:pt x="30" y="136"/>
                      </a:lnTo>
                      <a:lnTo>
                        <a:pt x="40" y="114"/>
                      </a:lnTo>
                      <a:lnTo>
                        <a:pt x="40" y="79"/>
                      </a:lnTo>
                      <a:lnTo>
                        <a:pt x="50" y="57"/>
                      </a:lnTo>
                      <a:lnTo>
                        <a:pt x="50" y="34"/>
                      </a:lnTo>
                      <a:lnTo>
                        <a:pt x="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32240" y="4309920"/>
                  <a:ext cx="63720" cy="743040"/>
                </a:xfrm>
                <a:custGeom>
                  <a:avLst/>
                  <a:gdLst/>
                  <a:ahLst/>
                  <a:rect l="l" t="t" r="r" b="b"/>
                  <a:pathLst>
                    <a:path w="40" h="468">
                      <a:moveTo>
                        <a:pt x="0" y="468"/>
                      </a:moveTo>
                      <a:lnTo>
                        <a:pt x="10" y="445"/>
                      </a:lnTo>
                      <a:lnTo>
                        <a:pt x="10" y="422"/>
                      </a:lnTo>
                      <a:lnTo>
                        <a:pt x="10" y="388"/>
                      </a:lnTo>
                      <a:lnTo>
                        <a:pt x="10" y="365"/>
                      </a:lnTo>
                      <a:lnTo>
                        <a:pt x="20" y="342"/>
                      </a:lnTo>
                      <a:lnTo>
                        <a:pt x="20" y="319"/>
                      </a:lnTo>
                      <a:lnTo>
                        <a:pt x="20" y="285"/>
                      </a:lnTo>
                      <a:lnTo>
                        <a:pt x="20" y="262"/>
                      </a:lnTo>
                      <a:lnTo>
                        <a:pt x="30" y="240"/>
                      </a:lnTo>
                      <a:lnTo>
                        <a:pt x="30" y="205"/>
                      </a:lnTo>
                      <a:lnTo>
                        <a:pt x="30" y="183"/>
                      </a:lnTo>
                      <a:lnTo>
                        <a:pt x="30" y="160"/>
                      </a:lnTo>
                      <a:lnTo>
                        <a:pt x="30" y="137"/>
                      </a:lnTo>
                      <a:lnTo>
                        <a:pt x="40" y="103"/>
                      </a:lnTo>
                      <a:lnTo>
                        <a:pt x="40" y="80"/>
                      </a:lnTo>
                      <a:lnTo>
                        <a:pt x="40" y="57"/>
                      </a:lnTo>
                      <a:lnTo>
                        <a:pt x="4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95960" y="2989440"/>
                  <a:ext cx="1440" cy="1320480"/>
                </a:xfrm>
                <a:custGeom>
                  <a:avLst/>
                  <a:gdLst/>
                  <a:ahLst/>
                  <a:rect l="l" t="t" r="r" b="b"/>
                  <a:pathLst>
                    <a:path w="0" h="832">
                      <a:moveTo>
                        <a:pt x="0" y="832"/>
                      </a:moveTo>
                      <a:lnTo>
                        <a:pt x="0" y="809"/>
                      </a:lnTo>
                      <a:lnTo>
                        <a:pt x="0" y="787"/>
                      </a:lnTo>
                      <a:lnTo>
                        <a:pt x="0" y="764"/>
                      </a:lnTo>
                      <a:lnTo>
                        <a:pt x="0" y="730"/>
                      </a:lnTo>
                      <a:lnTo>
                        <a:pt x="0" y="707"/>
                      </a:lnTo>
                      <a:lnTo>
                        <a:pt x="0" y="684"/>
                      </a:lnTo>
                      <a:lnTo>
                        <a:pt x="0" y="661"/>
                      </a:lnTo>
                      <a:lnTo>
                        <a:pt x="0" y="638"/>
                      </a:lnTo>
                      <a:lnTo>
                        <a:pt x="0" y="616"/>
                      </a:lnTo>
                      <a:lnTo>
                        <a:pt x="0" y="581"/>
                      </a:lnTo>
                      <a:lnTo>
                        <a:pt x="0" y="559"/>
                      </a:lnTo>
                      <a:lnTo>
                        <a:pt x="0" y="536"/>
                      </a:lnTo>
                      <a:lnTo>
                        <a:pt x="0" y="513"/>
                      </a:lnTo>
                      <a:lnTo>
                        <a:pt x="0" y="490"/>
                      </a:lnTo>
                      <a:lnTo>
                        <a:pt x="0" y="467"/>
                      </a:lnTo>
                      <a:lnTo>
                        <a:pt x="0" y="433"/>
                      </a:lnTo>
                      <a:lnTo>
                        <a:pt x="0" y="410"/>
                      </a:lnTo>
                      <a:lnTo>
                        <a:pt x="0" y="387"/>
                      </a:lnTo>
                      <a:lnTo>
                        <a:pt x="0" y="365"/>
                      </a:lnTo>
                      <a:lnTo>
                        <a:pt x="0" y="342"/>
                      </a:lnTo>
                      <a:lnTo>
                        <a:pt x="0" y="308"/>
                      </a:lnTo>
                      <a:lnTo>
                        <a:pt x="0" y="285"/>
                      </a:lnTo>
                      <a:lnTo>
                        <a:pt x="0" y="262"/>
                      </a:lnTo>
                      <a:lnTo>
                        <a:pt x="0" y="239"/>
                      </a:lnTo>
                      <a:lnTo>
                        <a:pt x="0" y="205"/>
                      </a:lnTo>
                      <a:lnTo>
                        <a:pt x="0" y="182"/>
                      </a:lnTo>
                      <a:lnTo>
                        <a:pt x="0" y="159"/>
                      </a:lnTo>
                      <a:lnTo>
                        <a:pt x="0" y="137"/>
                      </a:lnTo>
                      <a:lnTo>
                        <a:pt x="0" y="102"/>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295960" y="2952720"/>
                  <a:ext cx="1440" cy="36720"/>
                </a:xfrm>
                <a:custGeom>
                  <a:avLst/>
                  <a:gdLst/>
                  <a:ahLst/>
                  <a:rect l="l" t="t" r="r" b="b"/>
                  <a:pathLst>
                    <a:path w="0" h="23">
                      <a:moveTo>
                        <a:pt x="0" y="23"/>
                      </a:moveTo>
                      <a:lnTo>
                        <a:pt x="0" y="11"/>
                      </a:lnTo>
                      <a:lnTo>
                        <a:pt x="0" y="0"/>
                      </a:lnTo>
                    </a:path>
                  </a:pathLst>
                </a:custGeom>
                <a:solidFill>
                  <a:srgbClr val="ccec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7" name=""/>
                <p:cNvSpPr/>
                <p:nvPr/>
              </p:nvSpPr>
              <p:spPr>
                <a:xfrm>
                  <a:off x="5248440" y="2482920"/>
                  <a:ext cx="47520" cy="469800"/>
                </a:xfrm>
                <a:custGeom>
                  <a:avLst/>
                  <a:gdLst/>
                  <a:ahLst/>
                  <a:rect l="l" t="t" r="r" b="b"/>
                  <a:pathLst>
                    <a:path w="30" h="296">
                      <a:moveTo>
                        <a:pt x="30" y="296"/>
                      </a:moveTo>
                      <a:lnTo>
                        <a:pt x="20" y="262"/>
                      </a:lnTo>
                      <a:lnTo>
                        <a:pt x="20" y="239"/>
                      </a:lnTo>
                      <a:lnTo>
                        <a:pt x="20" y="205"/>
                      </a:lnTo>
                      <a:lnTo>
                        <a:pt x="20" y="182"/>
                      </a:lnTo>
                      <a:lnTo>
                        <a:pt x="20" y="148"/>
                      </a:lnTo>
                      <a:lnTo>
                        <a:pt x="10" y="125"/>
                      </a:lnTo>
                      <a:lnTo>
                        <a:pt x="10" y="102"/>
                      </a:lnTo>
                      <a:lnTo>
                        <a:pt x="10" y="68"/>
                      </a:lnTo>
                      <a:lnTo>
                        <a:pt x="10" y="45"/>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137200" y="1685880"/>
                  <a:ext cx="111240" cy="797040"/>
                </a:xfrm>
                <a:custGeom>
                  <a:avLst/>
                  <a:gdLst/>
                  <a:ahLst/>
                  <a:rect l="l" t="t" r="r" b="b"/>
                  <a:pathLst>
                    <a:path w="70" h="502">
                      <a:moveTo>
                        <a:pt x="70" y="502"/>
                      </a:moveTo>
                      <a:lnTo>
                        <a:pt x="70" y="479"/>
                      </a:lnTo>
                      <a:lnTo>
                        <a:pt x="70" y="456"/>
                      </a:lnTo>
                      <a:lnTo>
                        <a:pt x="70" y="422"/>
                      </a:lnTo>
                      <a:lnTo>
                        <a:pt x="60" y="399"/>
                      </a:lnTo>
                      <a:lnTo>
                        <a:pt x="60" y="376"/>
                      </a:lnTo>
                      <a:lnTo>
                        <a:pt x="60" y="342"/>
                      </a:lnTo>
                      <a:lnTo>
                        <a:pt x="50" y="319"/>
                      </a:lnTo>
                      <a:lnTo>
                        <a:pt x="50" y="296"/>
                      </a:lnTo>
                      <a:lnTo>
                        <a:pt x="50" y="262"/>
                      </a:lnTo>
                      <a:lnTo>
                        <a:pt x="40" y="239"/>
                      </a:lnTo>
                      <a:lnTo>
                        <a:pt x="40" y="217"/>
                      </a:lnTo>
                      <a:lnTo>
                        <a:pt x="30" y="182"/>
                      </a:lnTo>
                      <a:lnTo>
                        <a:pt x="30" y="160"/>
                      </a:lnTo>
                      <a:lnTo>
                        <a:pt x="20" y="137"/>
                      </a:lnTo>
                      <a:lnTo>
                        <a:pt x="20" y="103"/>
                      </a:lnTo>
                      <a:lnTo>
                        <a:pt x="10" y="80"/>
                      </a:lnTo>
                      <a:lnTo>
                        <a:pt x="1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041800" y="1324080"/>
                  <a:ext cx="95400" cy="361800"/>
                </a:xfrm>
                <a:custGeom>
                  <a:avLst/>
                  <a:gdLst/>
                  <a:ahLst/>
                  <a:rect l="l" t="t" r="r" b="b"/>
                  <a:pathLst>
                    <a:path w="60" h="228">
                      <a:moveTo>
                        <a:pt x="60" y="228"/>
                      </a:moveTo>
                      <a:lnTo>
                        <a:pt x="50" y="205"/>
                      </a:lnTo>
                      <a:lnTo>
                        <a:pt x="50" y="171"/>
                      </a:lnTo>
                      <a:lnTo>
                        <a:pt x="40" y="148"/>
                      </a:lnTo>
                      <a:lnTo>
                        <a:pt x="30" y="114"/>
                      </a:lnTo>
                      <a:lnTo>
                        <a:pt x="20" y="91"/>
                      </a:lnTo>
                      <a:lnTo>
                        <a:pt x="20" y="57"/>
                      </a:lnTo>
                      <a:lnTo>
                        <a:pt x="1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992840" y="1216080"/>
                  <a:ext cx="48960" cy="108000"/>
                </a:xfrm>
                <a:custGeom>
                  <a:avLst/>
                  <a:gdLst/>
                  <a:ahLst/>
                  <a:rect l="l" t="t" r="r" b="b"/>
                  <a:pathLst>
                    <a:path w="31" h="68">
                      <a:moveTo>
                        <a:pt x="31" y="68"/>
                      </a:moveTo>
                      <a:lnTo>
                        <a:pt x="20" y="45"/>
                      </a:lnTo>
                      <a:lnTo>
                        <a:pt x="10" y="2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960800" y="1143000"/>
                  <a:ext cx="32040" cy="73080"/>
                </a:xfrm>
                <a:custGeom>
                  <a:avLst/>
                  <a:gdLst/>
                  <a:ahLst/>
                  <a:rect l="l" t="t" r="r" b="b"/>
                  <a:pathLst>
                    <a:path w="20" h="46">
                      <a:moveTo>
                        <a:pt x="20" y="46"/>
                      </a:moveTo>
                      <a:lnTo>
                        <a:pt x="10" y="34"/>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 name=""/>
                <p:cNvSpPr/>
                <p:nvPr/>
              </p:nvSpPr>
              <p:spPr>
                <a:xfrm>
                  <a:off x="5153040" y="4962600"/>
                  <a:ext cx="428760" cy="1247760"/>
                </a:xfrm>
                <a:custGeom>
                  <a:avLst/>
                  <a:gdLst/>
                  <a:ahLst/>
                  <a:rect l="l" t="t" r="r" b="b"/>
                  <a:pathLst>
                    <a:path w="270" h="786">
                      <a:moveTo>
                        <a:pt x="0" y="786"/>
                      </a:moveTo>
                      <a:lnTo>
                        <a:pt x="20" y="775"/>
                      </a:lnTo>
                      <a:lnTo>
                        <a:pt x="30" y="752"/>
                      </a:lnTo>
                      <a:lnTo>
                        <a:pt x="40" y="729"/>
                      </a:lnTo>
                      <a:lnTo>
                        <a:pt x="50" y="718"/>
                      </a:lnTo>
                      <a:lnTo>
                        <a:pt x="70" y="695"/>
                      </a:lnTo>
                      <a:lnTo>
                        <a:pt x="80" y="672"/>
                      </a:lnTo>
                      <a:lnTo>
                        <a:pt x="90" y="649"/>
                      </a:lnTo>
                      <a:lnTo>
                        <a:pt x="100" y="627"/>
                      </a:lnTo>
                      <a:lnTo>
                        <a:pt x="110" y="604"/>
                      </a:lnTo>
                      <a:lnTo>
                        <a:pt x="120" y="581"/>
                      </a:lnTo>
                      <a:lnTo>
                        <a:pt x="130" y="558"/>
                      </a:lnTo>
                      <a:lnTo>
                        <a:pt x="140" y="535"/>
                      </a:lnTo>
                      <a:lnTo>
                        <a:pt x="140" y="513"/>
                      </a:lnTo>
                      <a:lnTo>
                        <a:pt x="150" y="490"/>
                      </a:lnTo>
                      <a:lnTo>
                        <a:pt x="160" y="467"/>
                      </a:lnTo>
                      <a:lnTo>
                        <a:pt x="170" y="444"/>
                      </a:lnTo>
                      <a:lnTo>
                        <a:pt x="180" y="421"/>
                      </a:lnTo>
                      <a:lnTo>
                        <a:pt x="180" y="399"/>
                      </a:lnTo>
                      <a:lnTo>
                        <a:pt x="190" y="364"/>
                      </a:lnTo>
                      <a:lnTo>
                        <a:pt x="200" y="342"/>
                      </a:lnTo>
                      <a:lnTo>
                        <a:pt x="200" y="319"/>
                      </a:lnTo>
                      <a:lnTo>
                        <a:pt x="210" y="296"/>
                      </a:lnTo>
                      <a:lnTo>
                        <a:pt x="220" y="273"/>
                      </a:lnTo>
                      <a:lnTo>
                        <a:pt x="220" y="250"/>
                      </a:lnTo>
                      <a:lnTo>
                        <a:pt x="230" y="216"/>
                      </a:lnTo>
                      <a:lnTo>
                        <a:pt x="230" y="193"/>
                      </a:lnTo>
                      <a:lnTo>
                        <a:pt x="240" y="171"/>
                      </a:lnTo>
                      <a:lnTo>
                        <a:pt x="240" y="148"/>
                      </a:lnTo>
                      <a:lnTo>
                        <a:pt x="250" y="125"/>
                      </a:lnTo>
                      <a:lnTo>
                        <a:pt x="250" y="102"/>
                      </a:lnTo>
                      <a:lnTo>
                        <a:pt x="260" y="79"/>
                      </a:lnTo>
                      <a:lnTo>
                        <a:pt x="260" y="57"/>
                      </a:lnTo>
                      <a:lnTo>
                        <a:pt x="270" y="34"/>
                      </a:lnTo>
                      <a:lnTo>
                        <a:pt x="27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581800" y="4400640"/>
                  <a:ext cx="63360" cy="561960"/>
                </a:xfrm>
                <a:custGeom>
                  <a:avLst/>
                  <a:gdLst/>
                  <a:ahLst/>
                  <a:rect l="l" t="t" r="r" b="b"/>
                  <a:pathLst>
                    <a:path w="40" h="354">
                      <a:moveTo>
                        <a:pt x="0" y="354"/>
                      </a:moveTo>
                      <a:lnTo>
                        <a:pt x="0" y="331"/>
                      </a:lnTo>
                      <a:lnTo>
                        <a:pt x="10" y="308"/>
                      </a:lnTo>
                      <a:lnTo>
                        <a:pt x="10" y="274"/>
                      </a:lnTo>
                      <a:lnTo>
                        <a:pt x="20" y="251"/>
                      </a:lnTo>
                      <a:lnTo>
                        <a:pt x="20" y="217"/>
                      </a:lnTo>
                      <a:lnTo>
                        <a:pt x="20" y="194"/>
                      </a:lnTo>
                      <a:lnTo>
                        <a:pt x="30" y="160"/>
                      </a:lnTo>
                      <a:lnTo>
                        <a:pt x="30" y="137"/>
                      </a:lnTo>
                      <a:lnTo>
                        <a:pt x="30" y="103"/>
                      </a:lnTo>
                      <a:lnTo>
                        <a:pt x="30" y="80"/>
                      </a:lnTo>
                      <a:lnTo>
                        <a:pt x="40" y="46"/>
                      </a:lnTo>
                      <a:lnTo>
                        <a:pt x="4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645160" y="2898720"/>
                  <a:ext cx="31680" cy="1501920"/>
                </a:xfrm>
                <a:custGeom>
                  <a:avLst/>
                  <a:gdLst/>
                  <a:ahLst/>
                  <a:rect l="l" t="t" r="r" b="b"/>
                  <a:pathLst>
                    <a:path w="20" h="946">
                      <a:moveTo>
                        <a:pt x="0" y="946"/>
                      </a:moveTo>
                      <a:lnTo>
                        <a:pt x="0" y="923"/>
                      </a:lnTo>
                      <a:lnTo>
                        <a:pt x="0" y="889"/>
                      </a:lnTo>
                      <a:lnTo>
                        <a:pt x="10" y="866"/>
                      </a:lnTo>
                      <a:lnTo>
                        <a:pt x="10" y="844"/>
                      </a:lnTo>
                      <a:lnTo>
                        <a:pt x="10" y="821"/>
                      </a:lnTo>
                      <a:lnTo>
                        <a:pt x="10" y="798"/>
                      </a:lnTo>
                      <a:lnTo>
                        <a:pt x="10" y="764"/>
                      </a:lnTo>
                      <a:lnTo>
                        <a:pt x="10" y="741"/>
                      </a:lnTo>
                      <a:lnTo>
                        <a:pt x="10" y="718"/>
                      </a:lnTo>
                      <a:lnTo>
                        <a:pt x="20" y="695"/>
                      </a:lnTo>
                      <a:lnTo>
                        <a:pt x="20" y="661"/>
                      </a:lnTo>
                      <a:lnTo>
                        <a:pt x="20" y="638"/>
                      </a:lnTo>
                      <a:lnTo>
                        <a:pt x="20" y="616"/>
                      </a:lnTo>
                      <a:lnTo>
                        <a:pt x="20" y="593"/>
                      </a:lnTo>
                      <a:lnTo>
                        <a:pt x="20" y="570"/>
                      </a:lnTo>
                      <a:lnTo>
                        <a:pt x="20" y="536"/>
                      </a:lnTo>
                      <a:lnTo>
                        <a:pt x="20" y="513"/>
                      </a:lnTo>
                      <a:lnTo>
                        <a:pt x="20" y="490"/>
                      </a:lnTo>
                      <a:lnTo>
                        <a:pt x="20" y="467"/>
                      </a:lnTo>
                      <a:lnTo>
                        <a:pt x="20" y="433"/>
                      </a:lnTo>
                      <a:lnTo>
                        <a:pt x="20" y="410"/>
                      </a:lnTo>
                      <a:lnTo>
                        <a:pt x="20" y="387"/>
                      </a:lnTo>
                      <a:lnTo>
                        <a:pt x="20" y="365"/>
                      </a:lnTo>
                      <a:lnTo>
                        <a:pt x="10" y="342"/>
                      </a:lnTo>
                      <a:lnTo>
                        <a:pt x="10" y="308"/>
                      </a:lnTo>
                      <a:lnTo>
                        <a:pt x="10" y="285"/>
                      </a:lnTo>
                      <a:lnTo>
                        <a:pt x="10" y="262"/>
                      </a:lnTo>
                      <a:lnTo>
                        <a:pt x="10" y="239"/>
                      </a:lnTo>
                      <a:lnTo>
                        <a:pt x="10" y="205"/>
                      </a:lnTo>
                      <a:lnTo>
                        <a:pt x="10" y="182"/>
                      </a:lnTo>
                      <a:lnTo>
                        <a:pt x="10" y="159"/>
                      </a:lnTo>
                      <a:lnTo>
                        <a:pt x="10" y="137"/>
                      </a:lnTo>
                      <a:lnTo>
                        <a:pt x="0" y="102"/>
                      </a:lnTo>
                      <a:lnTo>
                        <a:pt x="0" y="80"/>
                      </a:lnTo>
                      <a:lnTo>
                        <a:pt x="0" y="57"/>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613480" y="2590920"/>
                  <a:ext cx="31680" cy="307800"/>
                </a:xfrm>
                <a:custGeom>
                  <a:avLst/>
                  <a:gdLst/>
                  <a:ahLst/>
                  <a:rect l="l" t="t" r="r" b="b"/>
                  <a:pathLst>
                    <a:path w="20" h="194">
                      <a:moveTo>
                        <a:pt x="20" y="194"/>
                      </a:moveTo>
                      <a:lnTo>
                        <a:pt x="10" y="160"/>
                      </a:lnTo>
                      <a:lnTo>
                        <a:pt x="10" y="137"/>
                      </a:lnTo>
                      <a:lnTo>
                        <a:pt x="10" y="103"/>
                      </a:lnTo>
                      <a:lnTo>
                        <a:pt x="0" y="68"/>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75160" y="1577880"/>
                  <a:ext cx="238320" cy="1013040"/>
                </a:xfrm>
                <a:custGeom>
                  <a:avLst/>
                  <a:gdLst/>
                  <a:ahLst/>
                  <a:rect l="l" t="t" r="r" b="b"/>
                  <a:pathLst>
                    <a:path w="150" h="638">
                      <a:moveTo>
                        <a:pt x="150" y="638"/>
                      </a:moveTo>
                      <a:lnTo>
                        <a:pt x="140" y="615"/>
                      </a:lnTo>
                      <a:lnTo>
                        <a:pt x="140" y="581"/>
                      </a:lnTo>
                      <a:lnTo>
                        <a:pt x="140" y="547"/>
                      </a:lnTo>
                      <a:lnTo>
                        <a:pt x="130" y="524"/>
                      </a:lnTo>
                      <a:lnTo>
                        <a:pt x="130" y="501"/>
                      </a:lnTo>
                      <a:lnTo>
                        <a:pt x="120" y="478"/>
                      </a:lnTo>
                      <a:lnTo>
                        <a:pt x="120" y="444"/>
                      </a:lnTo>
                      <a:lnTo>
                        <a:pt x="110" y="421"/>
                      </a:lnTo>
                      <a:lnTo>
                        <a:pt x="110" y="399"/>
                      </a:lnTo>
                      <a:lnTo>
                        <a:pt x="100" y="376"/>
                      </a:lnTo>
                      <a:lnTo>
                        <a:pt x="100" y="342"/>
                      </a:lnTo>
                      <a:lnTo>
                        <a:pt x="90" y="319"/>
                      </a:lnTo>
                      <a:lnTo>
                        <a:pt x="90" y="296"/>
                      </a:lnTo>
                      <a:lnTo>
                        <a:pt x="80" y="273"/>
                      </a:lnTo>
                      <a:lnTo>
                        <a:pt x="70" y="250"/>
                      </a:lnTo>
                      <a:lnTo>
                        <a:pt x="70" y="216"/>
                      </a:lnTo>
                      <a:lnTo>
                        <a:pt x="60" y="193"/>
                      </a:lnTo>
                      <a:lnTo>
                        <a:pt x="50" y="171"/>
                      </a:lnTo>
                      <a:lnTo>
                        <a:pt x="50" y="148"/>
                      </a:lnTo>
                      <a:lnTo>
                        <a:pt x="40" y="125"/>
                      </a:lnTo>
                      <a:lnTo>
                        <a:pt x="30" y="91"/>
                      </a:lnTo>
                      <a:lnTo>
                        <a:pt x="20" y="68"/>
                      </a:lnTo>
                      <a:lnTo>
                        <a:pt x="20" y="45"/>
                      </a:lnTo>
                      <a:lnTo>
                        <a:pt x="10" y="2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232240" y="1270080"/>
                  <a:ext cx="142920" cy="307800"/>
                </a:xfrm>
                <a:custGeom>
                  <a:avLst/>
                  <a:gdLst/>
                  <a:ahLst/>
                  <a:rect l="l" t="t" r="r" b="b"/>
                  <a:pathLst>
                    <a:path w="90" h="194">
                      <a:moveTo>
                        <a:pt x="90" y="194"/>
                      </a:moveTo>
                      <a:lnTo>
                        <a:pt x="80" y="159"/>
                      </a:lnTo>
                      <a:lnTo>
                        <a:pt x="70" y="137"/>
                      </a:lnTo>
                      <a:lnTo>
                        <a:pt x="60" y="114"/>
                      </a:lnTo>
                      <a:lnTo>
                        <a:pt x="40" y="80"/>
                      </a:lnTo>
                      <a:lnTo>
                        <a:pt x="30" y="57"/>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84720" y="1179360"/>
                  <a:ext cx="47520" cy="90720"/>
                </a:xfrm>
                <a:custGeom>
                  <a:avLst/>
                  <a:gdLst/>
                  <a:ahLst/>
                  <a:rect l="l" t="t" r="r" b="b"/>
                  <a:pathLst>
                    <a:path w="30" h="57">
                      <a:moveTo>
                        <a:pt x="30" y="57"/>
                      </a:moveTo>
                      <a:lnTo>
                        <a:pt x="20" y="45"/>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 name=""/>
                <p:cNvSpPr/>
                <p:nvPr/>
              </p:nvSpPr>
              <p:spPr>
                <a:xfrm>
                  <a:off x="5153040" y="1143000"/>
                  <a:ext cx="31680" cy="36360"/>
                </a:xfrm>
                <a:custGeom>
                  <a:avLst/>
                  <a:gdLst/>
                  <a:ahLst/>
                  <a:rect l="l" t="t" r="r" b="b"/>
                  <a:pathLst>
                    <a:path w="20" h="23">
                      <a:moveTo>
                        <a:pt x="20" y="23"/>
                      </a:move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5359320" y="5975280"/>
                  <a:ext cx="190440" cy="235080"/>
                </a:xfrm>
                <a:custGeom>
                  <a:avLst/>
                  <a:gdLst/>
                  <a:ahLst/>
                  <a:rect l="l" t="t" r="r" b="b"/>
                  <a:pathLst>
                    <a:path w="120" h="148">
                      <a:moveTo>
                        <a:pt x="0" y="148"/>
                      </a:moveTo>
                      <a:lnTo>
                        <a:pt x="20" y="137"/>
                      </a:lnTo>
                      <a:lnTo>
                        <a:pt x="30" y="114"/>
                      </a:lnTo>
                      <a:lnTo>
                        <a:pt x="50" y="91"/>
                      </a:lnTo>
                      <a:lnTo>
                        <a:pt x="70" y="68"/>
                      </a:lnTo>
                      <a:lnTo>
                        <a:pt x="90" y="46"/>
                      </a:lnTo>
                      <a:lnTo>
                        <a:pt x="100" y="23"/>
                      </a:lnTo>
                      <a:lnTo>
                        <a:pt x="12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49760" y="5649840"/>
                  <a:ext cx="158760" cy="325440"/>
                </a:xfrm>
                <a:custGeom>
                  <a:avLst/>
                  <a:gdLst/>
                  <a:ahLst/>
                  <a:rect l="l" t="t" r="r" b="b"/>
                  <a:pathLst>
                    <a:path w="100" h="205">
                      <a:moveTo>
                        <a:pt x="0" y="205"/>
                      </a:moveTo>
                      <a:lnTo>
                        <a:pt x="10" y="182"/>
                      </a:lnTo>
                      <a:lnTo>
                        <a:pt x="30" y="159"/>
                      </a:lnTo>
                      <a:lnTo>
                        <a:pt x="40" y="125"/>
                      </a:lnTo>
                      <a:lnTo>
                        <a:pt x="50" y="102"/>
                      </a:lnTo>
                      <a:lnTo>
                        <a:pt x="60" y="80"/>
                      </a:lnTo>
                      <a:lnTo>
                        <a:pt x="80" y="45"/>
                      </a:lnTo>
                      <a:lnTo>
                        <a:pt x="90" y="23"/>
                      </a:lnTo>
                      <a:lnTo>
                        <a:pt x="10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708520" y="4708440"/>
                  <a:ext cx="255600" cy="941400"/>
                </a:xfrm>
                <a:custGeom>
                  <a:avLst/>
                  <a:gdLst/>
                  <a:ahLst/>
                  <a:rect l="l" t="t" r="r" b="b"/>
                  <a:pathLst>
                    <a:path w="161" h="593">
                      <a:moveTo>
                        <a:pt x="0" y="593"/>
                      </a:moveTo>
                      <a:lnTo>
                        <a:pt x="10" y="570"/>
                      </a:lnTo>
                      <a:lnTo>
                        <a:pt x="20" y="536"/>
                      </a:lnTo>
                      <a:lnTo>
                        <a:pt x="30" y="513"/>
                      </a:lnTo>
                      <a:lnTo>
                        <a:pt x="30" y="490"/>
                      </a:lnTo>
                      <a:lnTo>
                        <a:pt x="40" y="467"/>
                      </a:lnTo>
                      <a:lnTo>
                        <a:pt x="50" y="445"/>
                      </a:lnTo>
                      <a:lnTo>
                        <a:pt x="60" y="422"/>
                      </a:lnTo>
                      <a:lnTo>
                        <a:pt x="70" y="399"/>
                      </a:lnTo>
                      <a:lnTo>
                        <a:pt x="80" y="376"/>
                      </a:lnTo>
                      <a:lnTo>
                        <a:pt x="80" y="353"/>
                      </a:lnTo>
                      <a:lnTo>
                        <a:pt x="90" y="319"/>
                      </a:lnTo>
                      <a:lnTo>
                        <a:pt x="100" y="296"/>
                      </a:lnTo>
                      <a:lnTo>
                        <a:pt x="100" y="274"/>
                      </a:lnTo>
                      <a:lnTo>
                        <a:pt x="110" y="251"/>
                      </a:lnTo>
                      <a:lnTo>
                        <a:pt x="120" y="228"/>
                      </a:lnTo>
                      <a:lnTo>
                        <a:pt x="120" y="205"/>
                      </a:lnTo>
                      <a:lnTo>
                        <a:pt x="130" y="171"/>
                      </a:lnTo>
                      <a:lnTo>
                        <a:pt x="140" y="148"/>
                      </a:lnTo>
                      <a:lnTo>
                        <a:pt x="140" y="125"/>
                      </a:lnTo>
                      <a:lnTo>
                        <a:pt x="151" y="103"/>
                      </a:lnTo>
                      <a:lnTo>
                        <a:pt x="151" y="80"/>
                      </a:lnTo>
                      <a:lnTo>
                        <a:pt x="151" y="46"/>
                      </a:lnTo>
                      <a:lnTo>
                        <a:pt x="161" y="23"/>
                      </a:lnTo>
                      <a:lnTo>
                        <a:pt x="16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964120" y="4092480"/>
                  <a:ext cx="63720" cy="615960"/>
                </a:xfrm>
                <a:custGeom>
                  <a:avLst/>
                  <a:gdLst/>
                  <a:ahLst/>
                  <a:rect l="l" t="t" r="r" b="b"/>
                  <a:pathLst>
                    <a:path w="40" h="388">
                      <a:moveTo>
                        <a:pt x="0" y="388"/>
                      </a:moveTo>
                      <a:lnTo>
                        <a:pt x="10" y="365"/>
                      </a:lnTo>
                      <a:lnTo>
                        <a:pt x="10" y="331"/>
                      </a:lnTo>
                      <a:lnTo>
                        <a:pt x="10" y="308"/>
                      </a:lnTo>
                      <a:lnTo>
                        <a:pt x="20" y="274"/>
                      </a:lnTo>
                      <a:lnTo>
                        <a:pt x="20" y="251"/>
                      </a:lnTo>
                      <a:lnTo>
                        <a:pt x="20" y="217"/>
                      </a:lnTo>
                      <a:lnTo>
                        <a:pt x="30" y="194"/>
                      </a:lnTo>
                      <a:lnTo>
                        <a:pt x="30" y="160"/>
                      </a:lnTo>
                      <a:lnTo>
                        <a:pt x="30" y="137"/>
                      </a:lnTo>
                      <a:lnTo>
                        <a:pt x="40" y="114"/>
                      </a:lnTo>
                      <a:lnTo>
                        <a:pt x="40" y="80"/>
                      </a:lnTo>
                      <a:lnTo>
                        <a:pt x="40" y="57"/>
                      </a:lnTo>
                      <a:lnTo>
                        <a:pt x="4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027840" y="3206880"/>
                  <a:ext cx="1440" cy="885600"/>
                </a:xfrm>
                <a:custGeom>
                  <a:avLst/>
                  <a:gdLst/>
                  <a:ahLst/>
                  <a:rect l="l" t="t" r="r" b="b"/>
                  <a:pathLst>
                    <a:path w="0" h="558">
                      <a:moveTo>
                        <a:pt x="0" y="558"/>
                      </a:moveTo>
                      <a:lnTo>
                        <a:pt x="0" y="536"/>
                      </a:lnTo>
                      <a:lnTo>
                        <a:pt x="0" y="501"/>
                      </a:lnTo>
                      <a:lnTo>
                        <a:pt x="0" y="479"/>
                      </a:lnTo>
                      <a:lnTo>
                        <a:pt x="0" y="456"/>
                      </a:lnTo>
                      <a:lnTo>
                        <a:pt x="0" y="422"/>
                      </a:lnTo>
                      <a:lnTo>
                        <a:pt x="0" y="399"/>
                      </a:lnTo>
                      <a:lnTo>
                        <a:pt x="0" y="376"/>
                      </a:lnTo>
                      <a:lnTo>
                        <a:pt x="0" y="342"/>
                      </a:lnTo>
                      <a:lnTo>
                        <a:pt x="0" y="319"/>
                      </a:lnTo>
                      <a:lnTo>
                        <a:pt x="0" y="296"/>
                      </a:lnTo>
                      <a:lnTo>
                        <a:pt x="0" y="262"/>
                      </a:lnTo>
                      <a:lnTo>
                        <a:pt x="0" y="239"/>
                      </a:lnTo>
                      <a:lnTo>
                        <a:pt x="0" y="216"/>
                      </a:lnTo>
                      <a:lnTo>
                        <a:pt x="0" y="182"/>
                      </a:lnTo>
                      <a:lnTo>
                        <a:pt x="0" y="159"/>
                      </a:lnTo>
                      <a:lnTo>
                        <a:pt x="0" y="136"/>
                      </a:lnTo>
                      <a:lnTo>
                        <a:pt x="0" y="102"/>
                      </a:lnTo>
                      <a:lnTo>
                        <a:pt x="0" y="79"/>
                      </a:lnTo>
                      <a:lnTo>
                        <a:pt x="0" y="57"/>
                      </a:lnTo>
                      <a:lnTo>
                        <a:pt x="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48280" y="2590920"/>
                  <a:ext cx="79560" cy="615960"/>
                </a:xfrm>
                <a:custGeom>
                  <a:avLst/>
                  <a:gdLst/>
                  <a:ahLst/>
                  <a:rect l="l" t="t" r="r" b="b"/>
                  <a:pathLst>
                    <a:path w="50" h="388">
                      <a:moveTo>
                        <a:pt x="50" y="388"/>
                      </a:moveTo>
                      <a:lnTo>
                        <a:pt x="40" y="365"/>
                      </a:lnTo>
                      <a:lnTo>
                        <a:pt x="40" y="331"/>
                      </a:lnTo>
                      <a:lnTo>
                        <a:pt x="40" y="308"/>
                      </a:lnTo>
                      <a:lnTo>
                        <a:pt x="40" y="274"/>
                      </a:lnTo>
                      <a:lnTo>
                        <a:pt x="30" y="251"/>
                      </a:lnTo>
                      <a:lnTo>
                        <a:pt x="30" y="228"/>
                      </a:lnTo>
                      <a:lnTo>
                        <a:pt x="30" y="194"/>
                      </a:lnTo>
                      <a:lnTo>
                        <a:pt x="20" y="171"/>
                      </a:lnTo>
                      <a:lnTo>
                        <a:pt x="20" y="137"/>
                      </a:lnTo>
                      <a:lnTo>
                        <a:pt x="20" y="114"/>
                      </a:lnTo>
                      <a:lnTo>
                        <a:pt x="10" y="80"/>
                      </a:lnTo>
                      <a:lnTo>
                        <a:pt x="10" y="57"/>
                      </a:lnTo>
                      <a:lnTo>
                        <a:pt x="1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645160" y="1577880"/>
                  <a:ext cx="303120" cy="1013040"/>
                </a:xfrm>
                <a:custGeom>
                  <a:avLst/>
                  <a:gdLst/>
                  <a:ahLst/>
                  <a:rect l="l" t="t" r="r" b="b"/>
                  <a:pathLst>
                    <a:path w="191" h="638">
                      <a:moveTo>
                        <a:pt x="191" y="638"/>
                      </a:moveTo>
                      <a:lnTo>
                        <a:pt x="191" y="615"/>
                      </a:lnTo>
                      <a:lnTo>
                        <a:pt x="180" y="581"/>
                      </a:lnTo>
                      <a:lnTo>
                        <a:pt x="180" y="558"/>
                      </a:lnTo>
                      <a:lnTo>
                        <a:pt x="170" y="524"/>
                      </a:lnTo>
                      <a:lnTo>
                        <a:pt x="170" y="501"/>
                      </a:lnTo>
                      <a:lnTo>
                        <a:pt x="160" y="478"/>
                      </a:lnTo>
                      <a:lnTo>
                        <a:pt x="160" y="456"/>
                      </a:lnTo>
                      <a:lnTo>
                        <a:pt x="150" y="433"/>
                      </a:lnTo>
                      <a:lnTo>
                        <a:pt x="140" y="399"/>
                      </a:lnTo>
                      <a:lnTo>
                        <a:pt x="140" y="376"/>
                      </a:lnTo>
                      <a:lnTo>
                        <a:pt x="130" y="353"/>
                      </a:lnTo>
                      <a:lnTo>
                        <a:pt x="120" y="330"/>
                      </a:lnTo>
                      <a:lnTo>
                        <a:pt x="120" y="307"/>
                      </a:lnTo>
                      <a:lnTo>
                        <a:pt x="110" y="285"/>
                      </a:lnTo>
                      <a:lnTo>
                        <a:pt x="100" y="262"/>
                      </a:lnTo>
                      <a:lnTo>
                        <a:pt x="90" y="228"/>
                      </a:lnTo>
                      <a:lnTo>
                        <a:pt x="80" y="205"/>
                      </a:lnTo>
                      <a:lnTo>
                        <a:pt x="70" y="182"/>
                      </a:lnTo>
                      <a:lnTo>
                        <a:pt x="60" y="159"/>
                      </a:lnTo>
                      <a:lnTo>
                        <a:pt x="60" y="136"/>
                      </a:lnTo>
                      <a:lnTo>
                        <a:pt x="50" y="114"/>
                      </a:lnTo>
                      <a:lnTo>
                        <a:pt x="40" y="91"/>
                      </a:lnTo>
                      <a:lnTo>
                        <a:pt x="30" y="68"/>
                      </a:lnTo>
                      <a:lnTo>
                        <a:pt x="20" y="45"/>
                      </a:lnTo>
                      <a:lnTo>
                        <a:pt x="10" y="2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454720" y="1270080"/>
                  <a:ext cx="190440" cy="307800"/>
                </a:xfrm>
                <a:custGeom>
                  <a:avLst/>
                  <a:gdLst/>
                  <a:ahLst/>
                  <a:rect l="l" t="t" r="r" b="b"/>
                  <a:pathLst>
                    <a:path w="120" h="194">
                      <a:moveTo>
                        <a:pt x="120" y="194"/>
                      </a:moveTo>
                      <a:lnTo>
                        <a:pt x="100" y="171"/>
                      </a:lnTo>
                      <a:lnTo>
                        <a:pt x="90" y="137"/>
                      </a:lnTo>
                      <a:lnTo>
                        <a:pt x="80" y="114"/>
                      </a:lnTo>
                      <a:lnTo>
                        <a:pt x="60" y="91"/>
                      </a:lnTo>
                      <a:lnTo>
                        <a:pt x="50" y="68"/>
                      </a:lnTo>
                      <a:lnTo>
                        <a:pt x="40" y="45"/>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91000" y="1179360"/>
                  <a:ext cx="63720" cy="90720"/>
                </a:xfrm>
                <a:custGeom>
                  <a:avLst/>
                  <a:gdLst/>
                  <a:ahLst/>
                  <a:rect l="l" t="t" r="r" b="b"/>
                  <a:pathLst>
                    <a:path w="40" h="57">
                      <a:moveTo>
                        <a:pt x="40" y="57"/>
                      </a:moveTo>
                      <a:lnTo>
                        <a:pt x="30" y="34"/>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9" name=""/>
                <p:cNvSpPr/>
                <p:nvPr/>
              </p:nvSpPr>
              <p:spPr>
                <a:xfrm>
                  <a:off x="5359320" y="1143000"/>
                  <a:ext cx="31680" cy="36360"/>
                </a:xfrm>
                <a:custGeom>
                  <a:avLst/>
                  <a:gdLst/>
                  <a:ahLst/>
                  <a:rect l="l" t="t" r="r" b="b"/>
                  <a:pathLst>
                    <a:path w="20" h="23">
                      <a:moveTo>
                        <a:pt x="20" y="23"/>
                      </a:moveTo>
                      <a:lnTo>
                        <a:pt x="10" y="11"/>
                      </a:lnTo>
                      <a:lnTo>
                        <a:pt x="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a:off x="5549760" y="5975280"/>
                  <a:ext cx="238320" cy="235080"/>
                </a:xfrm>
                <a:custGeom>
                  <a:avLst/>
                  <a:gdLst/>
                  <a:ahLst/>
                  <a:rect l="l" t="t" r="r" b="b"/>
                  <a:pathLst>
                    <a:path w="150" h="148">
                      <a:moveTo>
                        <a:pt x="0" y="148"/>
                      </a:moveTo>
                      <a:lnTo>
                        <a:pt x="20" y="137"/>
                      </a:lnTo>
                      <a:lnTo>
                        <a:pt x="40" y="114"/>
                      </a:lnTo>
                      <a:lnTo>
                        <a:pt x="60" y="103"/>
                      </a:lnTo>
                      <a:lnTo>
                        <a:pt x="80" y="80"/>
                      </a:lnTo>
                      <a:lnTo>
                        <a:pt x="100" y="57"/>
                      </a:lnTo>
                      <a:lnTo>
                        <a:pt x="110" y="46"/>
                      </a:lnTo>
                      <a:lnTo>
                        <a:pt x="130" y="23"/>
                      </a:lnTo>
                      <a:lnTo>
                        <a:pt x="1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88080" y="4799160"/>
                  <a:ext cx="509400" cy="1176120"/>
                </a:xfrm>
                <a:custGeom>
                  <a:avLst/>
                  <a:gdLst/>
                  <a:ahLst/>
                  <a:rect l="l" t="t" r="r" b="b"/>
                  <a:pathLst>
                    <a:path w="321" h="741">
                      <a:moveTo>
                        <a:pt x="0" y="741"/>
                      </a:moveTo>
                      <a:lnTo>
                        <a:pt x="10" y="718"/>
                      </a:lnTo>
                      <a:lnTo>
                        <a:pt x="30" y="707"/>
                      </a:lnTo>
                      <a:lnTo>
                        <a:pt x="40" y="684"/>
                      </a:lnTo>
                      <a:lnTo>
                        <a:pt x="50" y="661"/>
                      </a:lnTo>
                      <a:lnTo>
                        <a:pt x="60" y="650"/>
                      </a:lnTo>
                      <a:lnTo>
                        <a:pt x="80" y="627"/>
                      </a:lnTo>
                      <a:lnTo>
                        <a:pt x="90" y="604"/>
                      </a:lnTo>
                      <a:lnTo>
                        <a:pt x="101" y="581"/>
                      </a:lnTo>
                      <a:lnTo>
                        <a:pt x="111" y="559"/>
                      </a:lnTo>
                      <a:lnTo>
                        <a:pt x="121" y="536"/>
                      </a:lnTo>
                      <a:lnTo>
                        <a:pt x="141" y="513"/>
                      </a:lnTo>
                      <a:lnTo>
                        <a:pt x="151" y="490"/>
                      </a:lnTo>
                      <a:lnTo>
                        <a:pt x="161" y="467"/>
                      </a:lnTo>
                      <a:lnTo>
                        <a:pt x="171" y="445"/>
                      </a:lnTo>
                      <a:lnTo>
                        <a:pt x="181" y="422"/>
                      </a:lnTo>
                      <a:lnTo>
                        <a:pt x="191" y="399"/>
                      </a:lnTo>
                      <a:lnTo>
                        <a:pt x="201" y="376"/>
                      </a:lnTo>
                      <a:lnTo>
                        <a:pt x="211" y="353"/>
                      </a:lnTo>
                      <a:lnTo>
                        <a:pt x="221" y="331"/>
                      </a:lnTo>
                      <a:lnTo>
                        <a:pt x="231" y="308"/>
                      </a:lnTo>
                      <a:lnTo>
                        <a:pt x="241" y="285"/>
                      </a:lnTo>
                      <a:lnTo>
                        <a:pt x="241" y="251"/>
                      </a:lnTo>
                      <a:lnTo>
                        <a:pt x="251" y="228"/>
                      </a:lnTo>
                      <a:lnTo>
                        <a:pt x="261" y="205"/>
                      </a:lnTo>
                      <a:lnTo>
                        <a:pt x="271" y="182"/>
                      </a:lnTo>
                      <a:lnTo>
                        <a:pt x="281" y="160"/>
                      </a:lnTo>
                      <a:lnTo>
                        <a:pt x="281" y="137"/>
                      </a:lnTo>
                      <a:lnTo>
                        <a:pt x="291" y="114"/>
                      </a:lnTo>
                      <a:lnTo>
                        <a:pt x="301" y="91"/>
                      </a:lnTo>
                      <a:lnTo>
                        <a:pt x="301" y="68"/>
                      </a:lnTo>
                      <a:lnTo>
                        <a:pt x="311" y="46"/>
                      </a:lnTo>
                      <a:lnTo>
                        <a:pt x="311" y="23"/>
                      </a:lnTo>
                      <a:lnTo>
                        <a:pt x="32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97480" y="4219560"/>
                  <a:ext cx="79560" cy="579600"/>
                </a:xfrm>
                <a:custGeom>
                  <a:avLst/>
                  <a:gdLst/>
                  <a:ahLst/>
                  <a:rect l="l" t="t" r="r" b="b"/>
                  <a:pathLst>
                    <a:path w="50" h="365">
                      <a:moveTo>
                        <a:pt x="0" y="365"/>
                      </a:moveTo>
                      <a:lnTo>
                        <a:pt x="0" y="342"/>
                      </a:lnTo>
                      <a:lnTo>
                        <a:pt x="10" y="308"/>
                      </a:lnTo>
                      <a:lnTo>
                        <a:pt x="10" y="285"/>
                      </a:lnTo>
                      <a:lnTo>
                        <a:pt x="20" y="251"/>
                      </a:lnTo>
                      <a:lnTo>
                        <a:pt x="20" y="228"/>
                      </a:lnTo>
                      <a:lnTo>
                        <a:pt x="30" y="194"/>
                      </a:lnTo>
                      <a:lnTo>
                        <a:pt x="30" y="171"/>
                      </a:lnTo>
                      <a:lnTo>
                        <a:pt x="40" y="137"/>
                      </a:lnTo>
                      <a:lnTo>
                        <a:pt x="40" y="114"/>
                      </a:lnTo>
                      <a:lnTo>
                        <a:pt x="40" y="80"/>
                      </a:lnTo>
                      <a:lnTo>
                        <a:pt x="50" y="57"/>
                      </a:lnTo>
                      <a:lnTo>
                        <a:pt x="50" y="23"/>
                      </a:lnTo>
                      <a:lnTo>
                        <a:pt x="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77040" y="3079800"/>
                  <a:ext cx="15840" cy="1139760"/>
                </a:xfrm>
                <a:custGeom>
                  <a:avLst/>
                  <a:gdLst/>
                  <a:ahLst/>
                  <a:rect l="l" t="t" r="r" b="b"/>
                  <a:pathLst>
                    <a:path w="10" h="718">
                      <a:moveTo>
                        <a:pt x="0" y="718"/>
                      </a:moveTo>
                      <a:lnTo>
                        <a:pt x="0" y="695"/>
                      </a:lnTo>
                      <a:lnTo>
                        <a:pt x="0" y="673"/>
                      </a:lnTo>
                      <a:lnTo>
                        <a:pt x="10" y="638"/>
                      </a:lnTo>
                      <a:lnTo>
                        <a:pt x="10" y="616"/>
                      </a:lnTo>
                      <a:lnTo>
                        <a:pt x="10" y="593"/>
                      </a:lnTo>
                      <a:lnTo>
                        <a:pt x="10" y="570"/>
                      </a:lnTo>
                      <a:lnTo>
                        <a:pt x="10" y="536"/>
                      </a:lnTo>
                      <a:lnTo>
                        <a:pt x="10" y="513"/>
                      </a:lnTo>
                      <a:lnTo>
                        <a:pt x="10" y="490"/>
                      </a:lnTo>
                      <a:lnTo>
                        <a:pt x="10" y="467"/>
                      </a:lnTo>
                      <a:lnTo>
                        <a:pt x="10" y="433"/>
                      </a:lnTo>
                      <a:lnTo>
                        <a:pt x="10" y="410"/>
                      </a:lnTo>
                      <a:lnTo>
                        <a:pt x="10" y="388"/>
                      </a:lnTo>
                      <a:lnTo>
                        <a:pt x="10" y="365"/>
                      </a:lnTo>
                      <a:lnTo>
                        <a:pt x="10" y="330"/>
                      </a:lnTo>
                      <a:lnTo>
                        <a:pt x="10" y="308"/>
                      </a:lnTo>
                      <a:lnTo>
                        <a:pt x="10" y="285"/>
                      </a:lnTo>
                      <a:lnTo>
                        <a:pt x="10" y="262"/>
                      </a:lnTo>
                      <a:lnTo>
                        <a:pt x="10" y="228"/>
                      </a:lnTo>
                      <a:lnTo>
                        <a:pt x="10" y="205"/>
                      </a:lnTo>
                      <a:lnTo>
                        <a:pt x="10" y="182"/>
                      </a:lnTo>
                      <a:lnTo>
                        <a:pt x="0" y="148"/>
                      </a:lnTo>
                      <a:lnTo>
                        <a:pt x="0" y="125"/>
                      </a:lnTo>
                      <a:lnTo>
                        <a:pt x="0" y="102"/>
                      </a:lnTo>
                      <a:lnTo>
                        <a:pt x="0" y="80"/>
                      </a:lnTo>
                      <a:lnTo>
                        <a:pt x="0" y="45"/>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313320" y="2644920"/>
                  <a:ext cx="63720" cy="434880"/>
                </a:xfrm>
                <a:custGeom>
                  <a:avLst/>
                  <a:gdLst/>
                  <a:ahLst/>
                  <a:rect l="l" t="t" r="r" b="b"/>
                  <a:pathLst>
                    <a:path w="40" h="274">
                      <a:moveTo>
                        <a:pt x="40" y="274"/>
                      </a:moveTo>
                      <a:lnTo>
                        <a:pt x="30" y="251"/>
                      </a:lnTo>
                      <a:lnTo>
                        <a:pt x="30" y="217"/>
                      </a:lnTo>
                      <a:lnTo>
                        <a:pt x="30" y="194"/>
                      </a:lnTo>
                      <a:lnTo>
                        <a:pt x="20" y="160"/>
                      </a:lnTo>
                      <a:lnTo>
                        <a:pt x="20" y="137"/>
                      </a:lnTo>
                      <a:lnTo>
                        <a:pt x="20" y="103"/>
                      </a:lnTo>
                      <a:lnTo>
                        <a:pt x="10" y="80"/>
                      </a:lnTo>
                      <a:lnTo>
                        <a:pt x="10" y="46"/>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883120" y="1541520"/>
                  <a:ext cx="430200" cy="1103400"/>
                </a:xfrm>
                <a:custGeom>
                  <a:avLst/>
                  <a:gdLst/>
                  <a:ahLst/>
                  <a:rect l="l" t="t" r="r" b="b"/>
                  <a:pathLst>
                    <a:path w="271" h="695">
                      <a:moveTo>
                        <a:pt x="271" y="695"/>
                      </a:moveTo>
                      <a:lnTo>
                        <a:pt x="261" y="661"/>
                      </a:lnTo>
                      <a:lnTo>
                        <a:pt x="251" y="638"/>
                      </a:lnTo>
                      <a:lnTo>
                        <a:pt x="251" y="604"/>
                      </a:lnTo>
                      <a:lnTo>
                        <a:pt x="241" y="581"/>
                      </a:lnTo>
                      <a:lnTo>
                        <a:pt x="241" y="558"/>
                      </a:lnTo>
                      <a:lnTo>
                        <a:pt x="231" y="536"/>
                      </a:lnTo>
                      <a:lnTo>
                        <a:pt x="221" y="501"/>
                      </a:lnTo>
                      <a:lnTo>
                        <a:pt x="211" y="479"/>
                      </a:lnTo>
                      <a:lnTo>
                        <a:pt x="211" y="456"/>
                      </a:lnTo>
                      <a:lnTo>
                        <a:pt x="201" y="433"/>
                      </a:lnTo>
                      <a:lnTo>
                        <a:pt x="191" y="410"/>
                      </a:lnTo>
                      <a:lnTo>
                        <a:pt x="181" y="387"/>
                      </a:lnTo>
                      <a:lnTo>
                        <a:pt x="171" y="365"/>
                      </a:lnTo>
                      <a:lnTo>
                        <a:pt x="161" y="342"/>
                      </a:lnTo>
                      <a:lnTo>
                        <a:pt x="161" y="308"/>
                      </a:lnTo>
                      <a:lnTo>
                        <a:pt x="151" y="285"/>
                      </a:lnTo>
                      <a:lnTo>
                        <a:pt x="141" y="262"/>
                      </a:lnTo>
                      <a:lnTo>
                        <a:pt x="131" y="239"/>
                      </a:lnTo>
                      <a:lnTo>
                        <a:pt x="121" y="216"/>
                      </a:lnTo>
                      <a:lnTo>
                        <a:pt x="101" y="194"/>
                      </a:lnTo>
                      <a:lnTo>
                        <a:pt x="91" y="171"/>
                      </a:lnTo>
                      <a:lnTo>
                        <a:pt x="81" y="148"/>
                      </a:lnTo>
                      <a:lnTo>
                        <a:pt x="71" y="125"/>
                      </a:lnTo>
                      <a:lnTo>
                        <a:pt x="61" y="102"/>
                      </a:lnTo>
                      <a:lnTo>
                        <a:pt x="51" y="80"/>
                      </a:lnTo>
                      <a:lnTo>
                        <a:pt x="41" y="68"/>
                      </a:lnTo>
                      <a:lnTo>
                        <a:pt x="20" y="45"/>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676840" y="1270080"/>
                  <a:ext cx="206280" cy="271440"/>
                </a:xfrm>
                <a:custGeom>
                  <a:avLst/>
                  <a:gdLst/>
                  <a:ahLst/>
                  <a:rect l="l" t="t" r="r" b="b"/>
                  <a:pathLst>
                    <a:path w="130" h="171">
                      <a:moveTo>
                        <a:pt x="130" y="171"/>
                      </a:moveTo>
                      <a:lnTo>
                        <a:pt x="120" y="148"/>
                      </a:lnTo>
                      <a:lnTo>
                        <a:pt x="100" y="125"/>
                      </a:lnTo>
                      <a:lnTo>
                        <a:pt x="90" y="102"/>
                      </a:lnTo>
                      <a:lnTo>
                        <a:pt x="70" y="80"/>
                      </a:lnTo>
                      <a:lnTo>
                        <a:pt x="50" y="57"/>
                      </a:lnTo>
                      <a:lnTo>
                        <a:pt x="40" y="45"/>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581800" y="1179360"/>
                  <a:ext cx="95040" cy="90720"/>
                </a:xfrm>
                <a:custGeom>
                  <a:avLst/>
                  <a:gdLst/>
                  <a:ahLst/>
                  <a:rect l="l" t="t" r="r" b="b"/>
                  <a:pathLst>
                    <a:path w="60" h="57">
                      <a:moveTo>
                        <a:pt x="60" y="57"/>
                      </a:moveTo>
                      <a:lnTo>
                        <a:pt x="40"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 name=""/>
                <p:cNvSpPr/>
                <p:nvPr/>
              </p:nvSpPr>
              <p:spPr>
                <a:xfrm>
                  <a:off x="5549760" y="1143000"/>
                  <a:ext cx="32040" cy="36360"/>
                </a:xfrm>
                <a:custGeom>
                  <a:avLst/>
                  <a:gdLst/>
                  <a:ahLst/>
                  <a:rect l="l" t="t" r="r" b="b"/>
                  <a:pathLst>
                    <a:path w="20" h="23">
                      <a:moveTo>
                        <a:pt x="20" y="23"/>
                      </a:moveTo>
                      <a:lnTo>
                        <a:pt x="10" y="11"/>
                      </a:lnTo>
                      <a:lnTo>
                        <a:pt x="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5740560" y="4527720"/>
                  <a:ext cx="954000" cy="1682640"/>
                </a:xfrm>
                <a:custGeom>
                  <a:avLst/>
                  <a:gdLst/>
                  <a:ahLst/>
                  <a:rect l="l" t="t" r="r" b="b"/>
                  <a:pathLst>
                    <a:path w="601" h="1060">
                      <a:moveTo>
                        <a:pt x="0" y="1060"/>
                      </a:moveTo>
                      <a:lnTo>
                        <a:pt x="20" y="1049"/>
                      </a:lnTo>
                      <a:lnTo>
                        <a:pt x="40" y="1037"/>
                      </a:lnTo>
                      <a:lnTo>
                        <a:pt x="50" y="1026"/>
                      </a:lnTo>
                      <a:lnTo>
                        <a:pt x="70" y="1015"/>
                      </a:lnTo>
                      <a:lnTo>
                        <a:pt x="90" y="1003"/>
                      </a:lnTo>
                      <a:lnTo>
                        <a:pt x="100" y="980"/>
                      </a:lnTo>
                      <a:lnTo>
                        <a:pt x="120" y="969"/>
                      </a:lnTo>
                      <a:lnTo>
                        <a:pt x="141" y="958"/>
                      </a:lnTo>
                      <a:lnTo>
                        <a:pt x="151" y="935"/>
                      </a:lnTo>
                      <a:lnTo>
                        <a:pt x="171" y="923"/>
                      </a:lnTo>
                      <a:lnTo>
                        <a:pt x="181" y="901"/>
                      </a:lnTo>
                      <a:lnTo>
                        <a:pt x="201" y="889"/>
                      </a:lnTo>
                      <a:lnTo>
                        <a:pt x="211" y="866"/>
                      </a:lnTo>
                      <a:lnTo>
                        <a:pt x="231" y="855"/>
                      </a:lnTo>
                      <a:lnTo>
                        <a:pt x="241" y="832"/>
                      </a:lnTo>
                      <a:lnTo>
                        <a:pt x="261" y="821"/>
                      </a:lnTo>
                      <a:lnTo>
                        <a:pt x="271" y="798"/>
                      </a:lnTo>
                      <a:lnTo>
                        <a:pt x="291" y="775"/>
                      </a:lnTo>
                      <a:lnTo>
                        <a:pt x="301" y="764"/>
                      </a:lnTo>
                      <a:lnTo>
                        <a:pt x="311" y="741"/>
                      </a:lnTo>
                      <a:lnTo>
                        <a:pt x="331" y="718"/>
                      </a:lnTo>
                      <a:lnTo>
                        <a:pt x="341" y="695"/>
                      </a:lnTo>
                      <a:lnTo>
                        <a:pt x="351" y="673"/>
                      </a:lnTo>
                      <a:lnTo>
                        <a:pt x="361" y="661"/>
                      </a:lnTo>
                      <a:lnTo>
                        <a:pt x="371" y="638"/>
                      </a:lnTo>
                      <a:lnTo>
                        <a:pt x="391" y="616"/>
                      </a:lnTo>
                      <a:lnTo>
                        <a:pt x="401" y="593"/>
                      </a:lnTo>
                      <a:lnTo>
                        <a:pt x="411" y="570"/>
                      </a:lnTo>
                      <a:lnTo>
                        <a:pt x="421" y="547"/>
                      </a:lnTo>
                      <a:lnTo>
                        <a:pt x="431" y="524"/>
                      </a:lnTo>
                      <a:lnTo>
                        <a:pt x="441" y="502"/>
                      </a:lnTo>
                      <a:lnTo>
                        <a:pt x="451" y="479"/>
                      </a:lnTo>
                      <a:lnTo>
                        <a:pt x="461" y="456"/>
                      </a:lnTo>
                      <a:lnTo>
                        <a:pt x="471" y="433"/>
                      </a:lnTo>
                      <a:lnTo>
                        <a:pt x="481" y="410"/>
                      </a:lnTo>
                      <a:lnTo>
                        <a:pt x="491" y="388"/>
                      </a:lnTo>
                      <a:lnTo>
                        <a:pt x="501" y="365"/>
                      </a:lnTo>
                      <a:lnTo>
                        <a:pt x="511" y="342"/>
                      </a:lnTo>
                      <a:lnTo>
                        <a:pt x="521" y="319"/>
                      </a:lnTo>
                      <a:lnTo>
                        <a:pt x="521" y="296"/>
                      </a:lnTo>
                      <a:lnTo>
                        <a:pt x="531" y="274"/>
                      </a:lnTo>
                      <a:lnTo>
                        <a:pt x="541" y="251"/>
                      </a:lnTo>
                      <a:lnTo>
                        <a:pt x="551" y="228"/>
                      </a:lnTo>
                      <a:lnTo>
                        <a:pt x="551" y="205"/>
                      </a:lnTo>
                      <a:lnTo>
                        <a:pt x="561" y="182"/>
                      </a:lnTo>
                      <a:lnTo>
                        <a:pt x="571" y="160"/>
                      </a:lnTo>
                      <a:lnTo>
                        <a:pt x="571" y="137"/>
                      </a:lnTo>
                      <a:lnTo>
                        <a:pt x="581" y="114"/>
                      </a:lnTo>
                      <a:lnTo>
                        <a:pt x="581" y="91"/>
                      </a:lnTo>
                      <a:lnTo>
                        <a:pt x="591" y="68"/>
                      </a:lnTo>
                      <a:lnTo>
                        <a:pt x="591" y="46"/>
                      </a:lnTo>
                      <a:lnTo>
                        <a:pt x="601" y="23"/>
                      </a:lnTo>
                      <a:lnTo>
                        <a:pt x="60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694560" y="3351240"/>
                  <a:ext cx="63360" cy="1176480"/>
                </a:xfrm>
                <a:custGeom>
                  <a:avLst/>
                  <a:gdLst/>
                  <a:ahLst/>
                  <a:rect l="l" t="t" r="r" b="b"/>
                  <a:pathLst>
                    <a:path w="40" h="741">
                      <a:moveTo>
                        <a:pt x="0" y="741"/>
                      </a:moveTo>
                      <a:lnTo>
                        <a:pt x="10" y="718"/>
                      </a:lnTo>
                      <a:lnTo>
                        <a:pt x="10" y="695"/>
                      </a:lnTo>
                      <a:lnTo>
                        <a:pt x="20" y="661"/>
                      </a:lnTo>
                      <a:lnTo>
                        <a:pt x="20" y="638"/>
                      </a:lnTo>
                      <a:lnTo>
                        <a:pt x="20" y="616"/>
                      </a:lnTo>
                      <a:lnTo>
                        <a:pt x="20" y="593"/>
                      </a:lnTo>
                      <a:lnTo>
                        <a:pt x="30" y="559"/>
                      </a:lnTo>
                      <a:lnTo>
                        <a:pt x="30" y="536"/>
                      </a:lnTo>
                      <a:lnTo>
                        <a:pt x="30" y="513"/>
                      </a:lnTo>
                      <a:lnTo>
                        <a:pt x="30" y="490"/>
                      </a:lnTo>
                      <a:lnTo>
                        <a:pt x="30" y="456"/>
                      </a:lnTo>
                      <a:lnTo>
                        <a:pt x="40" y="433"/>
                      </a:lnTo>
                      <a:lnTo>
                        <a:pt x="40" y="410"/>
                      </a:lnTo>
                      <a:lnTo>
                        <a:pt x="40" y="388"/>
                      </a:lnTo>
                      <a:lnTo>
                        <a:pt x="40" y="353"/>
                      </a:lnTo>
                      <a:lnTo>
                        <a:pt x="40" y="331"/>
                      </a:lnTo>
                      <a:lnTo>
                        <a:pt x="40" y="308"/>
                      </a:lnTo>
                      <a:lnTo>
                        <a:pt x="40" y="285"/>
                      </a:lnTo>
                      <a:lnTo>
                        <a:pt x="40" y="251"/>
                      </a:lnTo>
                      <a:lnTo>
                        <a:pt x="40" y="228"/>
                      </a:lnTo>
                      <a:lnTo>
                        <a:pt x="40" y="205"/>
                      </a:lnTo>
                      <a:lnTo>
                        <a:pt x="40" y="171"/>
                      </a:lnTo>
                      <a:lnTo>
                        <a:pt x="40" y="148"/>
                      </a:lnTo>
                      <a:lnTo>
                        <a:pt x="40" y="125"/>
                      </a:lnTo>
                      <a:lnTo>
                        <a:pt x="40" y="102"/>
                      </a:lnTo>
                      <a:lnTo>
                        <a:pt x="40" y="68"/>
                      </a:lnTo>
                      <a:lnTo>
                        <a:pt x="40" y="45"/>
                      </a:lnTo>
                      <a:lnTo>
                        <a:pt x="40" y="23"/>
                      </a:lnTo>
                      <a:lnTo>
                        <a:pt x="4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647040" y="2644920"/>
                  <a:ext cx="110880" cy="706320"/>
                </a:xfrm>
                <a:custGeom>
                  <a:avLst/>
                  <a:gdLst/>
                  <a:ahLst/>
                  <a:rect l="l" t="t" r="r" b="b"/>
                  <a:pathLst>
                    <a:path w="70" h="445">
                      <a:moveTo>
                        <a:pt x="70" y="445"/>
                      </a:moveTo>
                      <a:lnTo>
                        <a:pt x="70" y="411"/>
                      </a:lnTo>
                      <a:lnTo>
                        <a:pt x="70" y="388"/>
                      </a:lnTo>
                      <a:lnTo>
                        <a:pt x="60" y="365"/>
                      </a:lnTo>
                      <a:lnTo>
                        <a:pt x="60" y="331"/>
                      </a:lnTo>
                      <a:lnTo>
                        <a:pt x="60" y="308"/>
                      </a:lnTo>
                      <a:lnTo>
                        <a:pt x="60" y="285"/>
                      </a:lnTo>
                      <a:lnTo>
                        <a:pt x="50" y="251"/>
                      </a:lnTo>
                      <a:lnTo>
                        <a:pt x="50" y="228"/>
                      </a:lnTo>
                      <a:lnTo>
                        <a:pt x="40" y="205"/>
                      </a:lnTo>
                      <a:lnTo>
                        <a:pt x="40" y="171"/>
                      </a:lnTo>
                      <a:lnTo>
                        <a:pt x="40" y="148"/>
                      </a:lnTo>
                      <a:lnTo>
                        <a:pt x="30" y="126"/>
                      </a:lnTo>
                      <a:lnTo>
                        <a:pt x="30" y="103"/>
                      </a:lnTo>
                      <a:lnTo>
                        <a:pt x="20" y="69"/>
                      </a:lnTo>
                      <a:lnTo>
                        <a:pt x="1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138720" y="1541520"/>
                  <a:ext cx="508320" cy="1103400"/>
                </a:xfrm>
                <a:custGeom>
                  <a:avLst/>
                  <a:gdLst/>
                  <a:ahLst/>
                  <a:rect l="l" t="t" r="r" b="b"/>
                  <a:pathLst>
                    <a:path w="320" h="695">
                      <a:moveTo>
                        <a:pt x="320" y="695"/>
                      </a:moveTo>
                      <a:lnTo>
                        <a:pt x="320" y="661"/>
                      </a:lnTo>
                      <a:lnTo>
                        <a:pt x="310" y="638"/>
                      </a:lnTo>
                      <a:lnTo>
                        <a:pt x="300" y="604"/>
                      </a:lnTo>
                      <a:lnTo>
                        <a:pt x="300" y="581"/>
                      </a:lnTo>
                      <a:lnTo>
                        <a:pt x="290" y="558"/>
                      </a:lnTo>
                      <a:lnTo>
                        <a:pt x="280" y="536"/>
                      </a:lnTo>
                      <a:lnTo>
                        <a:pt x="270" y="513"/>
                      </a:lnTo>
                      <a:lnTo>
                        <a:pt x="260" y="479"/>
                      </a:lnTo>
                      <a:lnTo>
                        <a:pt x="250" y="456"/>
                      </a:lnTo>
                      <a:lnTo>
                        <a:pt x="250" y="433"/>
                      </a:lnTo>
                      <a:lnTo>
                        <a:pt x="240" y="410"/>
                      </a:lnTo>
                      <a:lnTo>
                        <a:pt x="230" y="387"/>
                      </a:lnTo>
                      <a:lnTo>
                        <a:pt x="220" y="365"/>
                      </a:lnTo>
                      <a:lnTo>
                        <a:pt x="210" y="342"/>
                      </a:lnTo>
                      <a:lnTo>
                        <a:pt x="190" y="319"/>
                      </a:lnTo>
                      <a:lnTo>
                        <a:pt x="180" y="296"/>
                      </a:lnTo>
                      <a:lnTo>
                        <a:pt x="170" y="273"/>
                      </a:lnTo>
                      <a:lnTo>
                        <a:pt x="160" y="251"/>
                      </a:lnTo>
                      <a:lnTo>
                        <a:pt x="150" y="228"/>
                      </a:lnTo>
                      <a:lnTo>
                        <a:pt x="140" y="205"/>
                      </a:lnTo>
                      <a:lnTo>
                        <a:pt x="120" y="182"/>
                      </a:lnTo>
                      <a:lnTo>
                        <a:pt x="110" y="159"/>
                      </a:lnTo>
                      <a:lnTo>
                        <a:pt x="100" y="148"/>
                      </a:lnTo>
                      <a:lnTo>
                        <a:pt x="90" y="125"/>
                      </a:lnTo>
                      <a:lnTo>
                        <a:pt x="70" y="102"/>
                      </a:lnTo>
                      <a:lnTo>
                        <a:pt x="60" y="80"/>
                      </a:lnTo>
                      <a:lnTo>
                        <a:pt x="50" y="57"/>
                      </a:lnTo>
                      <a:lnTo>
                        <a:pt x="30"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99320" y="1270080"/>
                  <a:ext cx="239400" cy="271440"/>
                </a:xfrm>
                <a:custGeom>
                  <a:avLst/>
                  <a:gdLst/>
                  <a:ahLst/>
                  <a:rect l="l" t="t" r="r" b="b"/>
                  <a:pathLst>
                    <a:path w="151" h="171">
                      <a:moveTo>
                        <a:pt x="151" y="171"/>
                      </a:moveTo>
                      <a:lnTo>
                        <a:pt x="141" y="148"/>
                      </a:lnTo>
                      <a:lnTo>
                        <a:pt x="121" y="125"/>
                      </a:lnTo>
                      <a:lnTo>
                        <a:pt x="101" y="102"/>
                      </a:lnTo>
                      <a:lnTo>
                        <a:pt x="81" y="80"/>
                      </a:lnTo>
                      <a:lnTo>
                        <a:pt x="61" y="57"/>
                      </a:lnTo>
                      <a:lnTo>
                        <a:pt x="41"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8080" y="1179360"/>
                  <a:ext cx="111240" cy="90720"/>
                </a:xfrm>
                <a:custGeom>
                  <a:avLst/>
                  <a:gdLst/>
                  <a:ahLst/>
                  <a:rect l="l" t="t" r="r" b="b"/>
                  <a:pathLst>
                    <a:path w="70" h="57">
                      <a:moveTo>
                        <a:pt x="70" y="57"/>
                      </a:moveTo>
                      <a:lnTo>
                        <a:pt x="50" y="34"/>
                      </a:lnTo>
                      <a:lnTo>
                        <a:pt x="20" y="23"/>
                      </a:lnTo>
                      <a:lnTo>
                        <a:pt x="0" y="0"/>
                      </a:lnTo>
                    </a:path>
                  </a:pathLst>
                </a:custGeom>
                <a:solidFill>
                  <a:srgbClr val="ccec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5" name=""/>
                <p:cNvSpPr/>
                <p:nvPr/>
              </p:nvSpPr>
              <p:spPr>
                <a:xfrm>
                  <a:off x="5740560" y="1143000"/>
                  <a:ext cx="47520" cy="36360"/>
                </a:xfrm>
                <a:custGeom>
                  <a:avLst/>
                  <a:gdLst/>
                  <a:ahLst/>
                  <a:rect l="l" t="t" r="r" b="b"/>
                  <a:pathLst>
                    <a:path w="30" h="23">
                      <a:moveTo>
                        <a:pt x="30" y="23"/>
                      </a:moveTo>
                      <a:lnTo>
                        <a:pt x="20" y="11"/>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 name=""/>
                <p:cNvSpPr/>
                <p:nvPr/>
              </p:nvSpPr>
              <p:spPr>
                <a:xfrm>
                  <a:off x="5931000" y="5938920"/>
                  <a:ext cx="382320" cy="271440"/>
                </a:xfrm>
                <a:custGeom>
                  <a:avLst/>
                  <a:gdLst/>
                  <a:ahLst/>
                  <a:rect l="l" t="t" r="r" b="b"/>
                  <a:pathLst>
                    <a:path w="241" h="171">
                      <a:moveTo>
                        <a:pt x="0" y="171"/>
                      </a:moveTo>
                      <a:lnTo>
                        <a:pt x="21" y="160"/>
                      </a:lnTo>
                      <a:lnTo>
                        <a:pt x="41" y="148"/>
                      </a:lnTo>
                      <a:lnTo>
                        <a:pt x="61" y="137"/>
                      </a:lnTo>
                      <a:lnTo>
                        <a:pt x="81" y="126"/>
                      </a:lnTo>
                      <a:lnTo>
                        <a:pt x="101" y="114"/>
                      </a:lnTo>
                      <a:lnTo>
                        <a:pt x="121" y="91"/>
                      </a:lnTo>
                      <a:lnTo>
                        <a:pt x="141" y="80"/>
                      </a:lnTo>
                      <a:lnTo>
                        <a:pt x="161" y="69"/>
                      </a:lnTo>
                      <a:lnTo>
                        <a:pt x="181" y="46"/>
                      </a:lnTo>
                      <a:lnTo>
                        <a:pt x="201" y="34"/>
                      </a:lnTo>
                      <a:lnTo>
                        <a:pt x="221" y="23"/>
                      </a:lnTo>
                      <a:lnTo>
                        <a:pt x="24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313320" y="4672080"/>
                  <a:ext cx="716040" cy="1266840"/>
                </a:xfrm>
                <a:custGeom>
                  <a:avLst/>
                  <a:gdLst/>
                  <a:ahLst/>
                  <a:rect l="l" t="t" r="r" b="b"/>
                  <a:pathLst>
                    <a:path w="451" h="798">
                      <a:moveTo>
                        <a:pt x="0" y="798"/>
                      </a:moveTo>
                      <a:lnTo>
                        <a:pt x="10" y="787"/>
                      </a:lnTo>
                      <a:lnTo>
                        <a:pt x="30" y="764"/>
                      </a:lnTo>
                      <a:lnTo>
                        <a:pt x="40" y="753"/>
                      </a:lnTo>
                      <a:lnTo>
                        <a:pt x="60" y="730"/>
                      </a:lnTo>
                      <a:lnTo>
                        <a:pt x="70" y="718"/>
                      </a:lnTo>
                      <a:lnTo>
                        <a:pt x="90" y="696"/>
                      </a:lnTo>
                      <a:lnTo>
                        <a:pt x="100" y="673"/>
                      </a:lnTo>
                      <a:lnTo>
                        <a:pt x="120" y="661"/>
                      </a:lnTo>
                      <a:lnTo>
                        <a:pt x="130" y="639"/>
                      </a:lnTo>
                      <a:lnTo>
                        <a:pt x="150" y="616"/>
                      </a:lnTo>
                      <a:lnTo>
                        <a:pt x="160" y="604"/>
                      </a:lnTo>
                      <a:lnTo>
                        <a:pt x="180" y="582"/>
                      </a:lnTo>
                      <a:lnTo>
                        <a:pt x="190" y="559"/>
                      </a:lnTo>
                      <a:lnTo>
                        <a:pt x="200" y="536"/>
                      </a:lnTo>
                      <a:lnTo>
                        <a:pt x="220" y="513"/>
                      </a:lnTo>
                      <a:lnTo>
                        <a:pt x="230" y="490"/>
                      </a:lnTo>
                      <a:lnTo>
                        <a:pt x="240" y="479"/>
                      </a:lnTo>
                      <a:lnTo>
                        <a:pt x="260" y="456"/>
                      </a:lnTo>
                      <a:lnTo>
                        <a:pt x="270" y="433"/>
                      </a:lnTo>
                      <a:lnTo>
                        <a:pt x="280" y="411"/>
                      </a:lnTo>
                      <a:lnTo>
                        <a:pt x="290" y="388"/>
                      </a:lnTo>
                      <a:lnTo>
                        <a:pt x="300" y="365"/>
                      </a:lnTo>
                      <a:lnTo>
                        <a:pt x="320" y="342"/>
                      </a:lnTo>
                      <a:lnTo>
                        <a:pt x="330" y="319"/>
                      </a:lnTo>
                      <a:lnTo>
                        <a:pt x="340" y="297"/>
                      </a:lnTo>
                      <a:lnTo>
                        <a:pt x="351" y="274"/>
                      </a:lnTo>
                      <a:lnTo>
                        <a:pt x="361" y="251"/>
                      </a:lnTo>
                      <a:lnTo>
                        <a:pt x="371" y="228"/>
                      </a:lnTo>
                      <a:lnTo>
                        <a:pt x="381" y="205"/>
                      </a:lnTo>
                      <a:lnTo>
                        <a:pt x="391" y="183"/>
                      </a:lnTo>
                      <a:lnTo>
                        <a:pt x="401" y="160"/>
                      </a:lnTo>
                      <a:lnTo>
                        <a:pt x="401" y="137"/>
                      </a:lnTo>
                      <a:lnTo>
                        <a:pt x="411" y="114"/>
                      </a:lnTo>
                      <a:lnTo>
                        <a:pt x="421" y="91"/>
                      </a:lnTo>
                      <a:lnTo>
                        <a:pt x="431" y="57"/>
                      </a:lnTo>
                      <a:lnTo>
                        <a:pt x="431" y="34"/>
                      </a:lnTo>
                      <a:lnTo>
                        <a:pt x="441" y="12"/>
                      </a:lnTo>
                      <a:lnTo>
                        <a:pt x="45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29360" y="2771640"/>
                  <a:ext cx="111240" cy="1900440"/>
                </a:xfrm>
                <a:custGeom>
                  <a:avLst/>
                  <a:gdLst/>
                  <a:ahLst/>
                  <a:rect l="l" t="t" r="r" b="b"/>
                  <a:pathLst>
                    <a:path w="70" h="1197">
                      <a:moveTo>
                        <a:pt x="0" y="1197"/>
                      </a:moveTo>
                      <a:lnTo>
                        <a:pt x="0" y="1163"/>
                      </a:lnTo>
                      <a:lnTo>
                        <a:pt x="10" y="1140"/>
                      </a:lnTo>
                      <a:lnTo>
                        <a:pt x="10" y="1117"/>
                      </a:lnTo>
                      <a:lnTo>
                        <a:pt x="20" y="1095"/>
                      </a:lnTo>
                      <a:lnTo>
                        <a:pt x="20" y="1072"/>
                      </a:lnTo>
                      <a:lnTo>
                        <a:pt x="30" y="1049"/>
                      </a:lnTo>
                      <a:lnTo>
                        <a:pt x="30" y="1026"/>
                      </a:lnTo>
                      <a:lnTo>
                        <a:pt x="30" y="1003"/>
                      </a:lnTo>
                      <a:lnTo>
                        <a:pt x="40" y="969"/>
                      </a:lnTo>
                      <a:lnTo>
                        <a:pt x="40" y="946"/>
                      </a:lnTo>
                      <a:lnTo>
                        <a:pt x="50" y="924"/>
                      </a:lnTo>
                      <a:lnTo>
                        <a:pt x="50" y="901"/>
                      </a:lnTo>
                      <a:lnTo>
                        <a:pt x="50" y="878"/>
                      </a:lnTo>
                      <a:lnTo>
                        <a:pt x="50" y="844"/>
                      </a:lnTo>
                      <a:lnTo>
                        <a:pt x="60" y="821"/>
                      </a:lnTo>
                      <a:lnTo>
                        <a:pt x="60" y="798"/>
                      </a:lnTo>
                      <a:lnTo>
                        <a:pt x="60" y="775"/>
                      </a:lnTo>
                      <a:lnTo>
                        <a:pt x="60" y="753"/>
                      </a:lnTo>
                      <a:lnTo>
                        <a:pt x="60" y="718"/>
                      </a:lnTo>
                      <a:lnTo>
                        <a:pt x="60" y="696"/>
                      </a:lnTo>
                      <a:lnTo>
                        <a:pt x="60" y="673"/>
                      </a:lnTo>
                      <a:lnTo>
                        <a:pt x="70" y="650"/>
                      </a:lnTo>
                      <a:lnTo>
                        <a:pt x="70" y="616"/>
                      </a:lnTo>
                      <a:lnTo>
                        <a:pt x="70" y="593"/>
                      </a:lnTo>
                      <a:lnTo>
                        <a:pt x="70" y="570"/>
                      </a:lnTo>
                      <a:lnTo>
                        <a:pt x="70" y="547"/>
                      </a:lnTo>
                      <a:lnTo>
                        <a:pt x="70" y="524"/>
                      </a:lnTo>
                      <a:lnTo>
                        <a:pt x="60" y="490"/>
                      </a:lnTo>
                      <a:lnTo>
                        <a:pt x="60" y="467"/>
                      </a:lnTo>
                      <a:lnTo>
                        <a:pt x="60" y="445"/>
                      </a:lnTo>
                      <a:lnTo>
                        <a:pt x="60" y="422"/>
                      </a:lnTo>
                      <a:lnTo>
                        <a:pt x="60" y="388"/>
                      </a:lnTo>
                      <a:lnTo>
                        <a:pt x="60" y="365"/>
                      </a:lnTo>
                      <a:lnTo>
                        <a:pt x="50" y="342"/>
                      </a:lnTo>
                      <a:lnTo>
                        <a:pt x="50" y="319"/>
                      </a:lnTo>
                      <a:lnTo>
                        <a:pt x="50" y="296"/>
                      </a:lnTo>
                      <a:lnTo>
                        <a:pt x="50" y="262"/>
                      </a:lnTo>
                      <a:lnTo>
                        <a:pt x="40" y="239"/>
                      </a:lnTo>
                      <a:lnTo>
                        <a:pt x="40" y="217"/>
                      </a:lnTo>
                      <a:lnTo>
                        <a:pt x="40" y="194"/>
                      </a:lnTo>
                      <a:lnTo>
                        <a:pt x="30" y="171"/>
                      </a:lnTo>
                      <a:lnTo>
                        <a:pt x="30" y="148"/>
                      </a:lnTo>
                      <a:lnTo>
                        <a:pt x="30" y="114"/>
                      </a:lnTo>
                      <a:lnTo>
                        <a:pt x="20" y="91"/>
                      </a:lnTo>
                      <a:lnTo>
                        <a:pt x="20" y="68"/>
                      </a:lnTo>
                      <a:lnTo>
                        <a:pt x="10" y="46"/>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8720" y="1541520"/>
                  <a:ext cx="620640" cy="1230120"/>
                </a:xfrm>
                <a:custGeom>
                  <a:avLst/>
                  <a:gdLst/>
                  <a:ahLst/>
                  <a:rect l="l" t="t" r="r" b="b"/>
                  <a:pathLst>
                    <a:path w="391" h="775">
                      <a:moveTo>
                        <a:pt x="391" y="775"/>
                      </a:moveTo>
                      <a:lnTo>
                        <a:pt x="391" y="752"/>
                      </a:lnTo>
                      <a:lnTo>
                        <a:pt x="381" y="729"/>
                      </a:lnTo>
                      <a:lnTo>
                        <a:pt x="381" y="707"/>
                      </a:lnTo>
                      <a:lnTo>
                        <a:pt x="371" y="684"/>
                      </a:lnTo>
                      <a:lnTo>
                        <a:pt x="361" y="661"/>
                      </a:lnTo>
                      <a:lnTo>
                        <a:pt x="351" y="638"/>
                      </a:lnTo>
                      <a:lnTo>
                        <a:pt x="351" y="604"/>
                      </a:lnTo>
                      <a:lnTo>
                        <a:pt x="341" y="581"/>
                      </a:lnTo>
                      <a:lnTo>
                        <a:pt x="331" y="558"/>
                      </a:lnTo>
                      <a:lnTo>
                        <a:pt x="321" y="536"/>
                      </a:lnTo>
                      <a:lnTo>
                        <a:pt x="311" y="513"/>
                      </a:lnTo>
                      <a:lnTo>
                        <a:pt x="301" y="490"/>
                      </a:lnTo>
                      <a:lnTo>
                        <a:pt x="291" y="467"/>
                      </a:lnTo>
                      <a:lnTo>
                        <a:pt x="280" y="444"/>
                      </a:lnTo>
                      <a:lnTo>
                        <a:pt x="270" y="422"/>
                      </a:lnTo>
                      <a:lnTo>
                        <a:pt x="260" y="399"/>
                      </a:lnTo>
                      <a:lnTo>
                        <a:pt x="250" y="376"/>
                      </a:lnTo>
                      <a:lnTo>
                        <a:pt x="240" y="353"/>
                      </a:lnTo>
                      <a:lnTo>
                        <a:pt x="230" y="330"/>
                      </a:lnTo>
                      <a:lnTo>
                        <a:pt x="210" y="308"/>
                      </a:lnTo>
                      <a:lnTo>
                        <a:pt x="200" y="285"/>
                      </a:lnTo>
                      <a:lnTo>
                        <a:pt x="190" y="262"/>
                      </a:lnTo>
                      <a:lnTo>
                        <a:pt x="180" y="251"/>
                      </a:lnTo>
                      <a:lnTo>
                        <a:pt x="160" y="228"/>
                      </a:lnTo>
                      <a:lnTo>
                        <a:pt x="150" y="205"/>
                      </a:lnTo>
                      <a:lnTo>
                        <a:pt x="140" y="182"/>
                      </a:lnTo>
                      <a:lnTo>
                        <a:pt x="130" y="171"/>
                      </a:lnTo>
                      <a:lnTo>
                        <a:pt x="110" y="148"/>
                      </a:lnTo>
                      <a:lnTo>
                        <a:pt x="100" y="125"/>
                      </a:lnTo>
                      <a:lnTo>
                        <a:pt x="80" y="102"/>
                      </a:lnTo>
                      <a:lnTo>
                        <a:pt x="70" y="91"/>
                      </a:lnTo>
                      <a:lnTo>
                        <a:pt x="60" y="68"/>
                      </a:lnTo>
                      <a:lnTo>
                        <a:pt x="40" y="57"/>
                      </a:lnTo>
                      <a:lnTo>
                        <a:pt x="30" y="34"/>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91200" y="1251000"/>
                  <a:ext cx="317520" cy="290520"/>
                </a:xfrm>
                <a:custGeom>
                  <a:avLst/>
                  <a:gdLst/>
                  <a:ahLst/>
                  <a:rect l="l" t="t" r="r" b="b"/>
                  <a:pathLst>
                    <a:path w="200" h="183">
                      <a:moveTo>
                        <a:pt x="200" y="183"/>
                      </a:moveTo>
                      <a:lnTo>
                        <a:pt x="180" y="160"/>
                      </a:lnTo>
                      <a:lnTo>
                        <a:pt x="160" y="137"/>
                      </a:lnTo>
                      <a:lnTo>
                        <a:pt x="140" y="126"/>
                      </a:lnTo>
                      <a:lnTo>
                        <a:pt x="120" y="103"/>
                      </a:lnTo>
                      <a:lnTo>
                        <a:pt x="100" y="80"/>
                      </a:lnTo>
                      <a:lnTo>
                        <a:pt x="80" y="69"/>
                      </a:lnTo>
                      <a:lnTo>
                        <a:pt x="60" y="46"/>
                      </a:lnTo>
                      <a:lnTo>
                        <a:pt x="40" y="35"/>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96160" y="1179360"/>
                  <a:ext cx="95040" cy="71640"/>
                </a:xfrm>
                <a:custGeom>
                  <a:avLst/>
                  <a:gdLst/>
                  <a:ahLst/>
                  <a:rect l="l" t="t" r="r" b="b"/>
                  <a:pathLst>
                    <a:path w="60" h="45">
                      <a:moveTo>
                        <a:pt x="60" y="45"/>
                      </a:moveTo>
                      <a:lnTo>
                        <a:pt x="40" y="34"/>
                      </a:lnTo>
                      <a:lnTo>
                        <a:pt x="20" y="11"/>
                      </a:lnTo>
                      <a:lnTo>
                        <a:pt x="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
                <p:cNvSpPr/>
                <p:nvPr/>
              </p:nvSpPr>
              <p:spPr>
                <a:xfrm>
                  <a:off x="5931000" y="1143000"/>
                  <a:ext cx="65160" cy="36360"/>
                </a:xfrm>
                <a:custGeom>
                  <a:avLst/>
                  <a:gdLst/>
                  <a:ahLst/>
                  <a:rect l="l" t="t" r="r" b="b"/>
                  <a:pathLst>
                    <a:path w="41" h="23">
                      <a:moveTo>
                        <a:pt x="41" y="23"/>
                      </a:moveTo>
                      <a:lnTo>
                        <a:pt x="21" y="11"/>
                      </a:lnTo>
                      <a:lnTo>
                        <a:pt x="11"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6122880" y="4672080"/>
                  <a:ext cx="1255680" cy="1538280"/>
                </a:xfrm>
                <a:custGeom>
                  <a:avLst/>
                  <a:gdLst/>
                  <a:ahLst/>
                  <a:rect l="l" t="t" r="r" b="b"/>
                  <a:pathLst>
                    <a:path w="791" h="969">
                      <a:moveTo>
                        <a:pt x="0" y="969"/>
                      </a:moveTo>
                      <a:lnTo>
                        <a:pt x="20" y="969"/>
                      </a:lnTo>
                      <a:lnTo>
                        <a:pt x="40" y="958"/>
                      </a:lnTo>
                      <a:lnTo>
                        <a:pt x="60" y="946"/>
                      </a:lnTo>
                      <a:lnTo>
                        <a:pt x="80" y="935"/>
                      </a:lnTo>
                      <a:lnTo>
                        <a:pt x="100" y="924"/>
                      </a:lnTo>
                      <a:lnTo>
                        <a:pt x="120" y="912"/>
                      </a:lnTo>
                      <a:lnTo>
                        <a:pt x="130" y="901"/>
                      </a:lnTo>
                      <a:lnTo>
                        <a:pt x="150" y="889"/>
                      </a:lnTo>
                      <a:lnTo>
                        <a:pt x="170" y="878"/>
                      </a:lnTo>
                      <a:lnTo>
                        <a:pt x="190" y="867"/>
                      </a:lnTo>
                      <a:lnTo>
                        <a:pt x="210" y="855"/>
                      </a:lnTo>
                      <a:lnTo>
                        <a:pt x="220" y="832"/>
                      </a:lnTo>
                      <a:lnTo>
                        <a:pt x="240" y="821"/>
                      </a:lnTo>
                      <a:lnTo>
                        <a:pt x="260" y="810"/>
                      </a:lnTo>
                      <a:lnTo>
                        <a:pt x="270" y="798"/>
                      </a:lnTo>
                      <a:lnTo>
                        <a:pt x="290" y="775"/>
                      </a:lnTo>
                      <a:lnTo>
                        <a:pt x="310" y="764"/>
                      </a:lnTo>
                      <a:lnTo>
                        <a:pt x="330" y="753"/>
                      </a:lnTo>
                      <a:lnTo>
                        <a:pt x="340" y="730"/>
                      </a:lnTo>
                      <a:lnTo>
                        <a:pt x="360" y="718"/>
                      </a:lnTo>
                      <a:lnTo>
                        <a:pt x="370" y="696"/>
                      </a:lnTo>
                      <a:lnTo>
                        <a:pt x="390" y="684"/>
                      </a:lnTo>
                      <a:lnTo>
                        <a:pt x="410" y="661"/>
                      </a:lnTo>
                      <a:lnTo>
                        <a:pt x="420" y="650"/>
                      </a:lnTo>
                      <a:lnTo>
                        <a:pt x="440" y="627"/>
                      </a:lnTo>
                      <a:lnTo>
                        <a:pt x="450" y="616"/>
                      </a:lnTo>
                      <a:lnTo>
                        <a:pt x="471" y="593"/>
                      </a:lnTo>
                      <a:lnTo>
                        <a:pt x="481" y="570"/>
                      </a:lnTo>
                      <a:lnTo>
                        <a:pt x="491" y="559"/>
                      </a:lnTo>
                      <a:lnTo>
                        <a:pt x="511" y="536"/>
                      </a:lnTo>
                      <a:lnTo>
                        <a:pt x="521" y="513"/>
                      </a:lnTo>
                      <a:lnTo>
                        <a:pt x="541" y="502"/>
                      </a:lnTo>
                      <a:lnTo>
                        <a:pt x="551" y="479"/>
                      </a:lnTo>
                      <a:lnTo>
                        <a:pt x="561" y="456"/>
                      </a:lnTo>
                      <a:lnTo>
                        <a:pt x="581" y="445"/>
                      </a:lnTo>
                      <a:lnTo>
                        <a:pt x="591" y="422"/>
                      </a:lnTo>
                      <a:lnTo>
                        <a:pt x="601" y="399"/>
                      </a:lnTo>
                      <a:lnTo>
                        <a:pt x="611" y="376"/>
                      </a:lnTo>
                      <a:lnTo>
                        <a:pt x="631" y="354"/>
                      </a:lnTo>
                      <a:lnTo>
                        <a:pt x="641" y="342"/>
                      </a:lnTo>
                      <a:lnTo>
                        <a:pt x="651" y="319"/>
                      </a:lnTo>
                      <a:lnTo>
                        <a:pt x="661" y="297"/>
                      </a:lnTo>
                      <a:lnTo>
                        <a:pt x="671" y="274"/>
                      </a:lnTo>
                      <a:lnTo>
                        <a:pt x="681" y="251"/>
                      </a:lnTo>
                      <a:lnTo>
                        <a:pt x="691" y="228"/>
                      </a:lnTo>
                      <a:lnTo>
                        <a:pt x="701" y="205"/>
                      </a:lnTo>
                      <a:lnTo>
                        <a:pt x="711" y="194"/>
                      </a:lnTo>
                      <a:lnTo>
                        <a:pt x="721" y="171"/>
                      </a:lnTo>
                      <a:lnTo>
                        <a:pt x="731" y="148"/>
                      </a:lnTo>
                      <a:lnTo>
                        <a:pt x="741" y="126"/>
                      </a:lnTo>
                      <a:lnTo>
                        <a:pt x="751" y="103"/>
                      </a:lnTo>
                      <a:lnTo>
                        <a:pt x="761" y="80"/>
                      </a:lnTo>
                      <a:lnTo>
                        <a:pt x="761" y="57"/>
                      </a:lnTo>
                      <a:lnTo>
                        <a:pt x="771" y="34"/>
                      </a:lnTo>
                      <a:lnTo>
                        <a:pt x="781" y="12"/>
                      </a:lnTo>
                      <a:lnTo>
                        <a:pt x="79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378560" y="4219560"/>
                  <a:ext cx="79560" cy="452520"/>
                </a:xfrm>
                <a:custGeom>
                  <a:avLst/>
                  <a:gdLst/>
                  <a:ahLst/>
                  <a:rect l="l" t="t" r="r" b="b"/>
                  <a:pathLst>
                    <a:path w="50" h="285">
                      <a:moveTo>
                        <a:pt x="0" y="285"/>
                      </a:moveTo>
                      <a:lnTo>
                        <a:pt x="0" y="251"/>
                      </a:lnTo>
                      <a:lnTo>
                        <a:pt x="10" y="228"/>
                      </a:lnTo>
                      <a:lnTo>
                        <a:pt x="20" y="194"/>
                      </a:lnTo>
                      <a:lnTo>
                        <a:pt x="20" y="171"/>
                      </a:lnTo>
                      <a:lnTo>
                        <a:pt x="30" y="137"/>
                      </a:lnTo>
                      <a:lnTo>
                        <a:pt x="30" y="114"/>
                      </a:lnTo>
                      <a:lnTo>
                        <a:pt x="40" y="91"/>
                      </a:lnTo>
                      <a:lnTo>
                        <a:pt x="40" y="57"/>
                      </a:lnTo>
                      <a:lnTo>
                        <a:pt x="50" y="34"/>
                      </a:lnTo>
                      <a:lnTo>
                        <a:pt x="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410600" y="2862360"/>
                  <a:ext cx="79200" cy="1357200"/>
                </a:xfrm>
                <a:custGeom>
                  <a:avLst/>
                  <a:gdLst/>
                  <a:ahLst/>
                  <a:rect l="l" t="t" r="r" b="b"/>
                  <a:pathLst>
                    <a:path w="50" h="855">
                      <a:moveTo>
                        <a:pt x="30" y="855"/>
                      </a:moveTo>
                      <a:lnTo>
                        <a:pt x="30" y="832"/>
                      </a:lnTo>
                      <a:lnTo>
                        <a:pt x="40" y="810"/>
                      </a:lnTo>
                      <a:lnTo>
                        <a:pt x="40" y="787"/>
                      </a:lnTo>
                      <a:lnTo>
                        <a:pt x="40" y="764"/>
                      </a:lnTo>
                      <a:lnTo>
                        <a:pt x="50" y="741"/>
                      </a:lnTo>
                      <a:lnTo>
                        <a:pt x="50" y="707"/>
                      </a:lnTo>
                      <a:lnTo>
                        <a:pt x="50" y="684"/>
                      </a:lnTo>
                      <a:lnTo>
                        <a:pt x="50" y="661"/>
                      </a:lnTo>
                      <a:lnTo>
                        <a:pt x="50" y="639"/>
                      </a:lnTo>
                      <a:lnTo>
                        <a:pt x="50" y="604"/>
                      </a:lnTo>
                      <a:lnTo>
                        <a:pt x="50" y="582"/>
                      </a:lnTo>
                      <a:lnTo>
                        <a:pt x="50" y="559"/>
                      </a:lnTo>
                      <a:lnTo>
                        <a:pt x="50" y="536"/>
                      </a:lnTo>
                      <a:lnTo>
                        <a:pt x="50" y="502"/>
                      </a:lnTo>
                      <a:lnTo>
                        <a:pt x="50" y="479"/>
                      </a:lnTo>
                      <a:lnTo>
                        <a:pt x="50" y="456"/>
                      </a:lnTo>
                      <a:lnTo>
                        <a:pt x="50" y="422"/>
                      </a:lnTo>
                      <a:lnTo>
                        <a:pt x="50" y="399"/>
                      </a:lnTo>
                      <a:lnTo>
                        <a:pt x="50" y="376"/>
                      </a:lnTo>
                      <a:lnTo>
                        <a:pt x="50" y="353"/>
                      </a:lnTo>
                      <a:lnTo>
                        <a:pt x="50" y="319"/>
                      </a:lnTo>
                      <a:lnTo>
                        <a:pt x="40" y="296"/>
                      </a:lnTo>
                      <a:lnTo>
                        <a:pt x="40" y="274"/>
                      </a:lnTo>
                      <a:lnTo>
                        <a:pt x="40" y="239"/>
                      </a:lnTo>
                      <a:lnTo>
                        <a:pt x="40" y="217"/>
                      </a:lnTo>
                      <a:lnTo>
                        <a:pt x="30" y="194"/>
                      </a:lnTo>
                      <a:lnTo>
                        <a:pt x="30" y="171"/>
                      </a:lnTo>
                      <a:lnTo>
                        <a:pt x="30" y="137"/>
                      </a:lnTo>
                      <a:lnTo>
                        <a:pt x="20" y="114"/>
                      </a:lnTo>
                      <a:lnTo>
                        <a:pt x="20" y="91"/>
                      </a:lnTo>
                      <a:lnTo>
                        <a:pt x="10" y="68"/>
                      </a:lnTo>
                      <a:lnTo>
                        <a:pt x="10" y="46"/>
                      </a:lnTo>
                      <a:lnTo>
                        <a:pt x="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62880" y="1541520"/>
                  <a:ext cx="747720" cy="1320840"/>
                </a:xfrm>
                <a:custGeom>
                  <a:avLst/>
                  <a:gdLst/>
                  <a:ahLst/>
                  <a:rect l="l" t="t" r="r" b="b"/>
                  <a:pathLst>
                    <a:path w="471" h="832">
                      <a:moveTo>
                        <a:pt x="471" y="832"/>
                      </a:moveTo>
                      <a:lnTo>
                        <a:pt x="461" y="809"/>
                      </a:lnTo>
                      <a:lnTo>
                        <a:pt x="451" y="775"/>
                      </a:lnTo>
                      <a:lnTo>
                        <a:pt x="451" y="752"/>
                      </a:lnTo>
                      <a:lnTo>
                        <a:pt x="441" y="729"/>
                      </a:lnTo>
                      <a:lnTo>
                        <a:pt x="431" y="707"/>
                      </a:lnTo>
                      <a:lnTo>
                        <a:pt x="431" y="684"/>
                      </a:lnTo>
                      <a:lnTo>
                        <a:pt x="421" y="661"/>
                      </a:lnTo>
                      <a:lnTo>
                        <a:pt x="411" y="638"/>
                      </a:lnTo>
                      <a:lnTo>
                        <a:pt x="401" y="604"/>
                      </a:lnTo>
                      <a:lnTo>
                        <a:pt x="391" y="581"/>
                      </a:lnTo>
                      <a:lnTo>
                        <a:pt x="381" y="558"/>
                      </a:lnTo>
                      <a:lnTo>
                        <a:pt x="371" y="536"/>
                      </a:lnTo>
                      <a:lnTo>
                        <a:pt x="361" y="513"/>
                      </a:lnTo>
                      <a:lnTo>
                        <a:pt x="351" y="490"/>
                      </a:lnTo>
                      <a:lnTo>
                        <a:pt x="341" y="467"/>
                      </a:lnTo>
                      <a:lnTo>
                        <a:pt x="331" y="444"/>
                      </a:lnTo>
                      <a:lnTo>
                        <a:pt x="321" y="422"/>
                      </a:lnTo>
                      <a:lnTo>
                        <a:pt x="301" y="399"/>
                      </a:lnTo>
                      <a:lnTo>
                        <a:pt x="291" y="387"/>
                      </a:lnTo>
                      <a:lnTo>
                        <a:pt x="281" y="365"/>
                      </a:lnTo>
                      <a:lnTo>
                        <a:pt x="271" y="342"/>
                      </a:lnTo>
                      <a:lnTo>
                        <a:pt x="251" y="319"/>
                      </a:lnTo>
                      <a:lnTo>
                        <a:pt x="241" y="296"/>
                      </a:lnTo>
                      <a:lnTo>
                        <a:pt x="231" y="273"/>
                      </a:lnTo>
                      <a:lnTo>
                        <a:pt x="211" y="262"/>
                      </a:lnTo>
                      <a:lnTo>
                        <a:pt x="201" y="239"/>
                      </a:lnTo>
                      <a:lnTo>
                        <a:pt x="191" y="216"/>
                      </a:lnTo>
                      <a:lnTo>
                        <a:pt x="171" y="194"/>
                      </a:lnTo>
                      <a:lnTo>
                        <a:pt x="161" y="182"/>
                      </a:lnTo>
                      <a:lnTo>
                        <a:pt x="141" y="159"/>
                      </a:lnTo>
                      <a:lnTo>
                        <a:pt x="131" y="137"/>
                      </a:lnTo>
                      <a:lnTo>
                        <a:pt x="110" y="125"/>
                      </a:lnTo>
                      <a:lnTo>
                        <a:pt x="100" y="102"/>
                      </a:lnTo>
                      <a:lnTo>
                        <a:pt x="80" y="91"/>
                      </a:lnTo>
                      <a:lnTo>
                        <a:pt x="70" y="68"/>
                      </a:lnTo>
                      <a:lnTo>
                        <a:pt x="50" y="45"/>
                      </a:lnTo>
                      <a:lnTo>
                        <a:pt x="30" y="34"/>
                      </a:lnTo>
                      <a:lnTo>
                        <a:pt x="2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297480" y="1251000"/>
                  <a:ext cx="365400" cy="290520"/>
                </a:xfrm>
                <a:custGeom>
                  <a:avLst/>
                  <a:gdLst/>
                  <a:ahLst/>
                  <a:rect l="l" t="t" r="r" b="b"/>
                  <a:pathLst>
                    <a:path w="230" h="183">
                      <a:moveTo>
                        <a:pt x="230" y="183"/>
                      </a:moveTo>
                      <a:lnTo>
                        <a:pt x="210" y="160"/>
                      </a:lnTo>
                      <a:lnTo>
                        <a:pt x="190" y="149"/>
                      </a:lnTo>
                      <a:lnTo>
                        <a:pt x="170" y="126"/>
                      </a:lnTo>
                      <a:lnTo>
                        <a:pt x="150" y="103"/>
                      </a:lnTo>
                      <a:lnTo>
                        <a:pt x="130" y="92"/>
                      </a:lnTo>
                      <a:lnTo>
                        <a:pt x="110" y="69"/>
                      </a:lnTo>
                      <a:lnTo>
                        <a:pt x="90" y="57"/>
                      </a:lnTo>
                      <a:lnTo>
                        <a:pt x="70" y="46"/>
                      </a:lnTo>
                      <a:lnTo>
                        <a:pt x="50" y="23"/>
                      </a:lnTo>
                      <a:lnTo>
                        <a:pt x="3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186600" y="1179360"/>
                  <a:ext cx="110880" cy="71640"/>
                </a:xfrm>
                <a:custGeom>
                  <a:avLst/>
                  <a:gdLst/>
                  <a:ahLst/>
                  <a:rect l="l" t="t" r="r" b="b"/>
                  <a:pathLst>
                    <a:path w="70" h="45">
                      <a:moveTo>
                        <a:pt x="70" y="45"/>
                      </a:moveTo>
                      <a:lnTo>
                        <a:pt x="50" y="34"/>
                      </a:lnTo>
                      <a:lnTo>
                        <a:pt x="30" y="11"/>
                      </a:lnTo>
                      <a:lnTo>
                        <a:pt x="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9" name=""/>
                <p:cNvSpPr/>
                <p:nvPr/>
              </p:nvSpPr>
              <p:spPr>
                <a:xfrm>
                  <a:off x="6122880" y="1143000"/>
                  <a:ext cx="63720" cy="36360"/>
                </a:xfrm>
                <a:custGeom>
                  <a:avLst/>
                  <a:gdLst/>
                  <a:ahLst/>
                  <a:rect l="l" t="t" r="r" b="b"/>
                  <a:pathLst>
                    <a:path w="40" h="23">
                      <a:moveTo>
                        <a:pt x="40" y="23"/>
                      </a:moveTo>
                      <a:lnTo>
                        <a:pt x="30" y="11"/>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6329520" y="5938920"/>
                  <a:ext cx="475920" cy="271440"/>
                </a:xfrm>
                <a:custGeom>
                  <a:avLst/>
                  <a:gdLst/>
                  <a:ahLst/>
                  <a:rect l="l" t="t" r="r" b="b"/>
                  <a:pathLst>
                    <a:path w="300" h="171">
                      <a:moveTo>
                        <a:pt x="0" y="171"/>
                      </a:moveTo>
                      <a:lnTo>
                        <a:pt x="20" y="171"/>
                      </a:lnTo>
                      <a:lnTo>
                        <a:pt x="40" y="160"/>
                      </a:lnTo>
                      <a:lnTo>
                        <a:pt x="60" y="148"/>
                      </a:lnTo>
                      <a:lnTo>
                        <a:pt x="90" y="137"/>
                      </a:lnTo>
                      <a:lnTo>
                        <a:pt x="110" y="126"/>
                      </a:lnTo>
                      <a:lnTo>
                        <a:pt x="130" y="114"/>
                      </a:lnTo>
                      <a:lnTo>
                        <a:pt x="150" y="103"/>
                      </a:lnTo>
                      <a:lnTo>
                        <a:pt x="170" y="91"/>
                      </a:lnTo>
                      <a:lnTo>
                        <a:pt x="200" y="69"/>
                      </a:lnTo>
                      <a:lnTo>
                        <a:pt x="220" y="57"/>
                      </a:lnTo>
                      <a:lnTo>
                        <a:pt x="240" y="46"/>
                      </a:lnTo>
                      <a:lnTo>
                        <a:pt x="260" y="34"/>
                      </a:lnTo>
                      <a:lnTo>
                        <a:pt x="280" y="12"/>
                      </a:lnTo>
                      <a:lnTo>
                        <a:pt x="30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805440" y="5649840"/>
                  <a:ext cx="319320" cy="289080"/>
                </a:xfrm>
                <a:custGeom>
                  <a:avLst/>
                  <a:gdLst/>
                  <a:ahLst/>
                  <a:rect l="l" t="t" r="r" b="b"/>
                  <a:pathLst>
                    <a:path w="201" h="182">
                      <a:moveTo>
                        <a:pt x="0" y="182"/>
                      </a:moveTo>
                      <a:lnTo>
                        <a:pt x="20" y="171"/>
                      </a:lnTo>
                      <a:lnTo>
                        <a:pt x="41" y="148"/>
                      </a:lnTo>
                      <a:lnTo>
                        <a:pt x="61" y="125"/>
                      </a:lnTo>
                      <a:lnTo>
                        <a:pt x="81" y="114"/>
                      </a:lnTo>
                      <a:lnTo>
                        <a:pt x="101" y="91"/>
                      </a:lnTo>
                      <a:lnTo>
                        <a:pt x="121" y="80"/>
                      </a:lnTo>
                      <a:lnTo>
                        <a:pt x="141" y="57"/>
                      </a:lnTo>
                      <a:lnTo>
                        <a:pt x="161" y="34"/>
                      </a:lnTo>
                      <a:lnTo>
                        <a:pt x="181" y="11"/>
                      </a:lnTo>
                      <a:lnTo>
                        <a:pt x="20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24760" y="4581720"/>
                  <a:ext cx="619200" cy="1068120"/>
                </a:xfrm>
                <a:custGeom>
                  <a:avLst/>
                  <a:gdLst/>
                  <a:ahLst/>
                  <a:rect l="l" t="t" r="r" b="b"/>
                  <a:pathLst>
                    <a:path w="390" h="673">
                      <a:moveTo>
                        <a:pt x="0" y="673"/>
                      </a:moveTo>
                      <a:lnTo>
                        <a:pt x="10" y="650"/>
                      </a:lnTo>
                      <a:lnTo>
                        <a:pt x="30" y="627"/>
                      </a:lnTo>
                      <a:lnTo>
                        <a:pt x="40" y="616"/>
                      </a:lnTo>
                      <a:lnTo>
                        <a:pt x="60" y="593"/>
                      </a:lnTo>
                      <a:lnTo>
                        <a:pt x="70" y="582"/>
                      </a:lnTo>
                      <a:lnTo>
                        <a:pt x="90" y="559"/>
                      </a:lnTo>
                      <a:lnTo>
                        <a:pt x="100" y="536"/>
                      </a:lnTo>
                      <a:lnTo>
                        <a:pt x="120" y="525"/>
                      </a:lnTo>
                      <a:lnTo>
                        <a:pt x="130" y="502"/>
                      </a:lnTo>
                      <a:lnTo>
                        <a:pt x="150" y="479"/>
                      </a:lnTo>
                      <a:lnTo>
                        <a:pt x="160" y="468"/>
                      </a:lnTo>
                      <a:lnTo>
                        <a:pt x="180" y="445"/>
                      </a:lnTo>
                      <a:lnTo>
                        <a:pt x="190" y="422"/>
                      </a:lnTo>
                      <a:lnTo>
                        <a:pt x="200" y="399"/>
                      </a:lnTo>
                      <a:lnTo>
                        <a:pt x="220" y="376"/>
                      </a:lnTo>
                      <a:lnTo>
                        <a:pt x="230" y="365"/>
                      </a:lnTo>
                      <a:lnTo>
                        <a:pt x="240" y="342"/>
                      </a:lnTo>
                      <a:lnTo>
                        <a:pt x="260" y="319"/>
                      </a:lnTo>
                      <a:lnTo>
                        <a:pt x="270" y="297"/>
                      </a:lnTo>
                      <a:lnTo>
                        <a:pt x="280" y="274"/>
                      </a:lnTo>
                      <a:lnTo>
                        <a:pt x="290" y="251"/>
                      </a:lnTo>
                      <a:lnTo>
                        <a:pt x="300" y="228"/>
                      </a:lnTo>
                      <a:lnTo>
                        <a:pt x="310" y="205"/>
                      </a:lnTo>
                      <a:lnTo>
                        <a:pt x="320" y="183"/>
                      </a:lnTo>
                      <a:lnTo>
                        <a:pt x="330" y="160"/>
                      </a:lnTo>
                      <a:lnTo>
                        <a:pt x="340" y="137"/>
                      </a:lnTo>
                      <a:lnTo>
                        <a:pt x="350" y="114"/>
                      </a:lnTo>
                      <a:lnTo>
                        <a:pt x="360" y="91"/>
                      </a:lnTo>
                      <a:lnTo>
                        <a:pt x="370" y="69"/>
                      </a:lnTo>
                      <a:lnTo>
                        <a:pt x="380" y="46"/>
                      </a:lnTo>
                      <a:lnTo>
                        <a:pt x="390" y="23"/>
                      </a:lnTo>
                      <a:lnTo>
                        <a:pt x="39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743960" y="2898720"/>
                  <a:ext cx="128520" cy="1683000"/>
                </a:xfrm>
                <a:custGeom>
                  <a:avLst/>
                  <a:gdLst/>
                  <a:ahLst/>
                  <a:rect l="l" t="t" r="r" b="b"/>
                  <a:pathLst>
                    <a:path w="81" h="1060">
                      <a:moveTo>
                        <a:pt x="0" y="1060"/>
                      </a:moveTo>
                      <a:lnTo>
                        <a:pt x="10" y="1037"/>
                      </a:lnTo>
                      <a:lnTo>
                        <a:pt x="10" y="1015"/>
                      </a:lnTo>
                      <a:lnTo>
                        <a:pt x="21" y="980"/>
                      </a:lnTo>
                      <a:lnTo>
                        <a:pt x="41" y="958"/>
                      </a:lnTo>
                      <a:lnTo>
                        <a:pt x="41" y="935"/>
                      </a:lnTo>
                      <a:lnTo>
                        <a:pt x="51" y="912"/>
                      </a:lnTo>
                      <a:lnTo>
                        <a:pt x="51" y="889"/>
                      </a:lnTo>
                      <a:lnTo>
                        <a:pt x="51" y="866"/>
                      </a:lnTo>
                      <a:lnTo>
                        <a:pt x="61" y="844"/>
                      </a:lnTo>
                      <a:lnTo>
                        <a:pt x="61" y="821"/>
                      </a:lnTo>
                      <a:lnTo>
                        <a:pt x="71" y="787"/>
                      </a:lnTo>
                      <a:lnTo>
                        <a:pt x="71" y="764"/>
                      </a:lnTo>
                      <a:lnTo>
                        <a:pt x="71" y="741"/>
                      </a:lnTo>
                      <a:lnTo>
                        <a:pt x="71" y="718"/>
                      </a:lnTo>
                      <a:lnTo>
                        <a:pt x="81" y="695"/>
                      </a:lnTo>
                      <a:lnTo>
                        <a:pt x="81" y="673"/>
                      </a:lnTo>
                      <a:lnTo>
                        <a:pt x="81" y="638"/>
                      </a:lnTo>
                      <a:lnTo>
                        <a:pt x="81" y="616"/>
                      </a:lnTo>
                      <a:lnTo>
                        <a:pt x="81" y="593"/>
                      </a:lnTo>
                      <a:lnTo>
                        <a:pt x="81" y="570"/>
                      </a:lnTo>
                      <a:lnTo>
                        <a:pt x="81" y="547"/>
                      </a:lnTo>
                      <a:lnTo>
                        <a:pt x="81" y="513"/>
                      </a:lnTo>
                      <a:lnTo>
                        <a:pt x="81" y="490"/>
                      </a:lnTo>
                      <a:lnTo>
                        <a:pt x="81" y="467"/>
                      </a:lnTo>
                      <a:lnTo>
                        <a:pt x="81" y="444"/>
                      </a:lnTo>
                      <a:lnTo>
                        <a:pt x="81" y="422"/>
                      </a:lnTo>
                      <a:lnTo>
                        <a:pt x="81" y="387"/>
                      </a:lnTo>
                      <a:lnTo>
                        <a:pt x="81" y="365"/>
                      </a:lnTo>
                      <a:lnTo>
                        <a:pt x="81" y="342"/>
                      </a:lnTo>
                      <a:lnTo>
                        <a:pt x="71" y="319"/>
                      </a:lnTo>
                      <a:lnTo>
                        <a:pt x="71" y="296"/>
                      </a:lnTo>
                      <a:lnTo>
                        <a:pt x="71" y="262"/>
                      </a:lnTo>
                      <a:lnTo>
                        <a:pt x="71" y="239"/>
                      </a:lnTo>
                      <a:lnTo>
                        <a:pt x="61" y="216"/>
                      </a:lnTo>
                      <a:lnTo>
                        <a:pt x="61" y="194"/>
                      </a:lnTo>
                      <a:lnTo>
                        <a:pt x="61" y="171"/>
                      </a:lnTo>
                      <a:lnTo>
                        <a:pt x="51" y="148"/>
                      </a:lnTo>
                      <a:lnTo>
                        <a:pt x="51" y="125"/>
                      </a:lnTo>
                      <a:lnTo>
                        <a:pt x="51" y="91"/>
                      </a:lnTo>
                      <a:lnTo>
                        <a:pt x="41" y="68"/>
                      </a:lnTo>
                      <a:lnTo>
                        <a:pt x="41" y="45"/>
                      </a:lnTo>
                      <a:lnTo>
                        <a:pt x="21" y="23"/>
                      </a:lnTo>
                      <a:lnTo>
                        <a:pt x="2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934320" y="1541520"/>
                  <a:ext cx="842760" cy="1357200"/>
                </a:xfrm>
                <a:custGeom>
                  <a:avLst/>
                  <a:gdLst/>
                  <a:ahLst/>
                  <a:rect l="l" t="t" r="r" b="b"/>
                  <a:pathLst>
                    <a:path w="531" h="855">
                      <a:moveTo>
                        <a:pt x="531" y="855"/>
                      </a:moveTo>
                      <a:lnTo>
                        <a:pt x="520" y="832"/>
                      </a:lnTo>
                      <a:lnTo>
                        <a:pt x="520" y="809"/>
                      </a:lnTo>
                      <a:lnTo>
                        <a:pt x="510" y="786"/>
                      </a:lnTo>
                      <a:lnTo>
                        <a:pt x="500" y="764"/>
                      </a:lnTo>
                      <a:lnTo>
                        <a:pt x="490" y="741"/>
                      </a:lnTo>
                      <a:lnTo>
                        <a:pt x="490" y="718"/>
                      </a:lnTo>
                      <a:lnTo>
                        <a:pt x="480" y="695"/>
                      </a:lnTo>
                      <a:lnTo>
                        <a:pt x="470" y="672"/>
                      </a:lnTo>
                      <a:lnTo>
                        <a:pt x="460" y="650"/>
                      </a:lnTo>
                      <a:lnTo>
                        <a:pt x="450" y="615"/>
                      </a:lnTo>
                      <a:lnTo>
                        <a:pt x="440" y="593"/>
                      </a:lnTo>
                      <a:lnTo>
                        <a:pt x="430" y="570"/>
                      </a:lnTo>
                      <a:lnTo>
                        <a:pt x="420" y="558"/>
                      </a:lnTo>
                      <a:lnTo>
                        <a:pt x="410" y="536"/>
                      </a:lnTo>
                      <a:lnTo>
                        <a:pt x="400" y="513"/>
                      </a:lnTo>
                      <a:lnTo>
                        <a:pt x="390" y="490"/>
                      </a:lnTo>
                      <a:lnTo>
                        <a:pt x="380" y="467"/>
                      </a:lnTo>
                      <a:lnTo>
                        <a:pt x="360" y="444"/>
                      </a:lnTo>
                      <a:lnTo>
                        <a:pt x="350" y="422"/>
                      </a:lnTo>
                      <a:lnTo>
                        <a:pt x="340" y="410"/>
                      </a:lnTo>
                      <a:lnTo>
                        <a:pt x="330" y="387"/>
                      </a:lnTo>
                      <a:lnTo>
                        <a:pt x="310" y="365"/>
                      </a:lnTo>
                      <a:lnTo>
                        <a:pt x="300" y="342"/>
                      </a:lnTo>
                      <a:lnTo>
                        <a:pt x="290" y="330"/>
                      </a:lnTo>
                      <a:lnTo>
                        <a:pt x="270" y="308"/>
                      </a:lnTo>
                      <a:lnTo>
                        <a:pt x="260" y="285"/>
                      </a:lnTo>
                      <a:lnTo>
                        <a:pt x="240" y="273"/>
                      </a:lnTo>
                      <a:lnTo>
                        <a:pt x="230" y="251"/>
                      </a:lnTo>
                      <a:lnTo>
                        <a:pt x="220" y="228"/>
                      </a:lnTo>
                      <a:lnTo>
                        <a:pt x="200" y="216"/>
                      </a:lnTo>
                      <a:lnTo>
                        <a:pt x="190" y="194"/>
                      </a:lnTo>
                      <a:lnTo>
                        <a:pt x="170" y="182"/>
                      </a:lnTo>
                      <a:lnTo>
                        <a:pt x="160" y="159"/>
                      </a:lnTo>
                      <a:lnTo>
                        <a:pt x="140" y="148"/>
                      </a:lnTo>
                      <a:lnTo>
                        <a:pt x="120" y="125"/>
                      </a:lnTo>
                      <a:lnTo>
                        <a:pt x="110" y="114"/>
                      </a:lnTo>
                      <a:lnTo>
                        <a:pt x="90" y="91"/>
                      </a:lnTo>
                      <a:lnTo>
                        <a:pt x="80" y="80"/>
                      </a:lnTo>
                      <a:lnTo>
                        <a:pt x="60" y="57"/>
                      </a:lnTo>
                      <a:lnTo>
                        <a:pt x="40" y="45"/>
                      </a:lnTo>
                      <a:lnTo>
                        <a:pt x="30" y="34"/>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519960" y="1251000"/>
                  <a:ext cx="414360" cy="290520"/>
                </a:xfrm>
                <a:custGeom>
                  <a:avLst/>
                  <a:gdLst/>
                  <a:ahLst/>
                  <a:rect l="l" t="t" r="r" b="b"/>
                  <a:pathLst>
                    <a:path w="261" h="183">
                      <a:moveTo>
                        <a:pt x="261" y="183"/>
                      </a:moveTo>
                      <a:lnTo>
                        <a:pt x="241" y="160"/>
                      </a:lnTo>
                      <a:lnTo>
                        <a:pt x="221" y="149"/>
                      </a:lnTo>
                      <a:lnTo>
                        <a:pt x="200" y="137"/>
                      </a:lnTo>
                      <a:lnTo>
                        <a:pt x="180" y="114"/>
                      </a:lnTo>
                      <a:lnTo>
                        <a:pt x="160" y="103"/>
                      </a:lnTo>
                      <a:lnTo>
                        <a:pt x="140" y="92"/>
                      </a:lnTo>
                      <a:lnTo>
                        <a:pt x="120" y="80"/>
                      </a:lnTo>
                      <a:lnTo>
                        <a:pt x="100" y="57"/>
                      </a:lnTo>
                      <a:lnTo>
                        <a:pt x="80" y="46"/>
                      </a:lnTo>
                      <a:lnTo>
                        <a:pt x="60" y="35"/>
                      </a:lnTo>
                      <a:lnTo>
                        <a:pt x="40" y="23"/>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392880" y="1179360"/>
                  <a:ext cx="127080" cy="71640"/>
                </a:xfrm>
                <a:custGeom>
                  <a:avLst/>
                  <a:gdLst/>
                  <a:ahLst/>
                  <a:rect l="l" t="t" r="r" b="b"/>
                  <a:pathLst>
                    <a:path w="80" h="45">
                      <a:moveTo>
                        <a:pt x="80" y="45"/>
                      </a:moveTo>
                      <a:lnTo>
                        <a:pt x="50" y="34"/>
                      </a:lnTo>
                      <a:lnTo>
                        <a:pt x="30" y="11"/>
                      </a:lnTo>
                      <a:lnTo>
                        <a:pt x="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7" name=""/>
                <p:cNvSpPr/>
                <p:nvPr/>
              </p:nvSpPr>
              <p:spPr>
                <a:xfrm>
                  <a:off x="6329520" y="1143000"/>
                  <a:ext cx="63360" cy="36360"/>
                </a:xfrm>
                <a:custGeom>
                  <a:avLst/>
                  <a:gdLst/>
                  <a:ahLst/>
                  <a:rect l="l" t="t" r="r" b="b"/>
                  <a:pathLst>
                    <a:path w="40" h="23">
                      <a:moveTo>
                        <a:pt x="40" y="23"/>
                      </a:moveTo>
                      <a:lnTo>
                        <a:pt x="20" y="11"/>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8" name=""/>
                <p:cNvSpPr/>
                <p:nvPr/>
              </p:nvSpPr>
              <p:spPr>
                <a:xfrm>
                  <a:off x="6519960" y="5486400"/>
                  <a:ext cx="1033200" cy="723960"/>
                </a:xfrm>
                <a:custGeom>
                  <a:avLst/>
                  <a:gdLst/>
                  <a:ahLst/>
                  <a:rect l="l" t="t" r="r" b="b"/>
                  <a:pathLst>
                    <a:path w="651" h="456">
                      <a:moveTo>
                        <a:pt x="0" y="456"/>
                      </a:moveTo>
                      <a:lnTo>
                        <a:pt x="20" y="456"/>
                      </a:lnTo>
                      <a:lnTo>
                        <a:pt x="40" y="445"/>
                      </a:lnTo>
                      <a:lnTo>
                        <a:pt x="60" y="433"/>
                      </a:lnTo>
                      <a:lnTo>
                        <a:pt x="80" y="422"/>
                      </a:lnTo>
                      <a:lnTo>
                        <a:pt x="100" y="422"/>
                      </a:lnTo>
                      <a:lnTo>
                        <a:pt x="130" y="411"/>
                      </a:lnTo>
                      <a:lnTo>
                        <a:pt x="150" y="399"/>
                      </a:lnTo>
                      <a:lnTo>
                        <a:pt x="170" y="388"/>
                      </a:lnTo>
                      <a:lnTo>
                        <a:pt x="190" y="376"/>
                      </a:lnTo>
                      <a:lnTo>
                        <a:pt x="210" y="365"/>
                      </a:lnTo>
                      <a:lnTo>
                        <a:pt x="221" y="354"/>
                      </a:lnTo>
                      <a:lnTo>
                        <a:pt x="241" y="342"/>
                      </a:lnTo>
                      <a:lnTo>
                        <a:pt x="261" y="331"/>
                      </a:lnTo>
                      <a:lnTo>
                        <a:pt x="281" y="319"/>
                      </a:lnTo>
                      <a:lnTo>
                        <a:pt x="301" y="308"/>
                      </a:lnTo>
                      <a:lnTo>
                        <a:pt x="321" y="297"/>
                      </a:lnTo>
                      <a:lnTo>
                        <a:pt x="341" y="274"/>
                      </a:lnTo>
                      <a:lnTo>
                        <a:pt x="361" y="262"/>
                      </a:lnTo>
                      <a:lnTo>
                        <a:pt x="381" y="251"/>
                      </a:lnTo>
                      <a:lnTo>
                        <a:pt x="391" y="240"/>
                      </a:lnTo>
                      <a:lnTo>
                        <a:pt x="411" y="228"/>
                      </a:lnTo>
                      <a:lnTo>
                        <a:pt x="431" y="205"/>
                      </a:lnTo>
                      <a:lnTo>
                        <a:pt x="451" y="194"/>
                      </a:lnTo>
                      <a:lnTo>
                        <a:pt x="471" y="183"/>
                      </a:lnTo>
                      <a:lnTo>
                        <a:pt x="481" y="160"/>
                      </a:lnTo>
                      <a:lnTo>
                        <a:pt x="501" y="148"/>
                      </a:lnTo>
                      <a:lnTo>
                        <a:pt x="521" y="137"/>
                      </a:lnTo>
                      <a:lnTo>
                        <a:pt x="531" y="114"/>
                      </a:lnTo>
                      <a:lnTo>
                        <a:pt x="551" y="103"/>
                      </a:lnTo>
                      <a:lnTo>
                        <a:pt x="571" y="80"/>
                      </a:lnTo>
                      <a:lnTo>
                        <a:pt x="591" y="69"/>
                      </a:lnTo>
                      <a:lnTo>
                        <a:pt x="601" y="46"/>
                      </a:lnTo>
                      <a:lnTo>
                        <a:pt x="621" y="34"/>
                      </a:lnTo>
                      <a:lnTo>
                        <a:pt x="631" y="12"/>
                      </a:lnTo>
                      <a:lnTo>
                        <a:pt x="65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553160" y="4527720"/>
                  <a:ext cx="573120" cy="958680"/>
                </a:xfrm>
                <a:custGeom>
                  <a:avLst/>
                  <a:gdLst/>
                  <a:ahLst/>
                  <a:rect l="l" t="t" r="r" b="b"/>
                  <a:pathLst>
                    <a:path w="361" h="604">
                      <a:moveTo>
                        <a:pt x="0" y="604"/>
                      </a:moveTo>
                      <a:lnTo>
                        <a:pt x="20" y="581"/>
                      </a:lnTo>
                      <a:lnTo>
                        <a:pt x="30" y="570"/>
                      </a:lnTo>
                      <a:lnTo>
                        <a:pt x="50" y="547"/>
                      </a:lnTo>
                      <a:lnTo>
                        <a:pt x="60" y="536"/>
                      </a:lnTo>
                      <a:lnTo>
                        <a:pt x="80" y="513"/>
                      </a:lnTo>
                      <a:lnTo>
                        <a:pt x="90" y="490"/>
                      </a:lnTo>
                      <a:lnTo>
                        <a:pt x="110" y="479"/>
                      </a:lnTo>
                      <a:lnTo>
                        <a:pt x="120" y="456"/>
                      </a:lnTo>
                      <a:lnTo>
                        <a:pt x="141" y="433"/>
                      </a:lnTo>
                      <a:lnTo>
                        <a:pt x="161" y="422"/>
                      </a:lnTo>
                      <a:lnTo>
                        <a:pt x="171" y="399"/>
                      </a:lnTo>
                      <a:lnTo>
                        <a:pt x="191" y="376"/>
                      </a:lnTo>
                      <a:lnTo>
                        <a:pt x="201" y="353"/>
                      </a:lnTo>
                      <a:lnTo>
                        <a:pt x="211" y="331"/>
                      </a:lnTo>
                      <a:lnTo>
                        <a:pt x="231" y="319"/>
                      </a:lnTo>
                      <a:lnTo>
                        <a:pt x="241" y="296"/>
                      </a:lnTo>
                      <a:lnTo>
                        <a:pt x="251" y="274"/>
                      </a:lnTo>
                      <a:lnTo>
                        <a:pt x="261" y="251"/>
                      </a:lnTo>
                      <a:lnTo>
                        <a:pt x="271" y="228"/>
                      </a:lnTo>
                      <a:lnTo>
                        <a:pt x="281" y="205"/>
                      </a:lnTo>
                      <a:lnTo>
                        <a:pt x="291" y="182"/>
                      </a:lnTo>
                      <a:lnTo>
                        <a:pt x="301" y="160"/>
                      </a:lnTo>
                      <a:lnTo>
                        <a:pt x="311" y="137"/>
                      </a:lnTo>
                      <a:lnTo>
                        <a:pt x="321" y="114"/>
                      </a:lnTo>
                      <a:lnTo>
                        <a:pt x="331" y="91"/>
                      </a:lnTo>
                      <a:lnTo>
                        <a:pt x="341" y="68"/>
                      </a:lnTo>
                      <a:lnTo>
                        <a:pt x="351" y="46"/>
                      </a:lnTo>
                      <a:lnTo>
                        <a:pt x="361" y="23"/>
                      </a:lnTo>
                      <a:lnTo>
                        <a:pt x="361"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6280" y="3387600"/>
                  <a:ext cx="111240" cy="1140120"/>
                </a:xfrm>
                <a:custGeom>
                  <a:avLst/>
                  <a:gdLst/>
                  <a:ahLst/>
                  <a:rect l="l" t="t" r="r" b="b"/>
                  <a:pathLst>
                    <a:path w="70" h="718">
                      <a:moveTo>
                        <a:pt x="0" y="718"/>
                      </a:moveTo>
                      <a:lnTo>
                        <a:pt x="10" y="695"/>
                      </a:lnTo>
                      <a:lnTo>
                        <a:pt x="10" y="672"/>
                      </a:lnTo>
                      <a:lnTo>
                        <a:pt x="20" y="650"/>
                      </a:lnTo>
                      <a:lnTo>
                        <a:pt x="30" y="627"/>
                      </a:lnTo>
                      <a:lnTo>
                        <a:pt x="30" y="604"/>
                      </a:lnTo>
                      <a:lnTo>
                        <a:pt x="40" y="581"/>
                      </a:lnTo>
                      <a:lnTo>
                        <a:pt x="40" y="547"/>
                      </a:lnTo>
                      <a:lnTo>
                        <a:pt x="50" y="524"/>
                      </a:lnTo>
                      <a:lnTo>
                        <a:pt x="50" y="501"/>
                      </a:lnTo>
                      <a:lnTo>
                        <a:pt x="50" y="479"/>
                      </a:lnTo>
                      <a:lnTo>
                        <a:pt x="60" y="456"/>
                      </a:lnTo>
                      <a:lnTo>
                        <a:pt x="60" y="422"/>
                      </a:lnTo>
                      <a:lnTo>
                        <a:pt x="60" y="399"/>
                      </a:lnTo>
                      <a:lnTo>
                        <a:pt x="70" y="376"/>
                      </a:lnTo>
                      <a:lnTo>
                        <a:pt x="70" y="353"/>
                      </a:lnTo>
                      <a:lnTo>
                        <a:pt x="70" y="319"/>
                      </a:lnTo>
                      <a:lnTo>
                        <a:pt x="70" y="296"/>
                      </a:lnTo>
                      <a:lnTo>
                        <a:pt x="70" y="273"/>
                      </a:lnTo>
                      <a:lnTo>
                        <a:pt x="70" y="251"/>
                      </a:lnTo>
                      <a:lnTo>
                        <a:pt x="70" y="216"/>
                      </a:lnTo>
                      <a:lnTo>
                        <a:pt x="70" y="194"/>
                      </a:lnTo>
                      <a:lnTo>
                        <a:pt x="70" y="171"/>
                      </a:lnTo>
                      <a:lnTo>
                        <a:pt x="70" y="148"/>
                      </a:lnTo>
                      <a:lnTo>
                        <a:pt x="70" y="125"/>
                      </a:lnTo>
                      <a:lnTo>
                        <a:pt x="70" y="91"/>
                      </a:lnTo>
                      <a:lnTo>
                        <a:pt x="70" y="68"/>
                      </a:lnTo>
                      <a:lnTo>
                        <a:pt x="70" y="45"/>
                      </a:lnTo>
                      <a:lnTo>
                        <a:pt x="70" y="22"/>
                      </a:lnTo>
                      <a:lnTo>
                        <a:pt x="6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58320" y="2989440"/>
                  <a:ext cx="63360" cy="398160"/>
                </a:xfrm>
                <a:custGeom>
                  <a:avLst/>
                  <a:gdLst/>
                  <a:ahLst/>
                  <a:rect l="l" t="t" r="r" b="b"/>
                  <a:pathLst>
                    <a:path w="40" h="251">
                      <a:moveTo>
                        <a:pt x="40" y="251"/>
                      </a:moveTo>
                      <a:lnTo>
                        <a:pt x="40" y="216"/>
                      </a:lnTo>
                      <a:lnTo>
                        <a:pt x="40" y="194"/>
                      </a:lnTo>
                      <a:lnTo>
                        <a:pt x="30" y="159"/>
                      </a:lnTo>
                      <a:lnTo>
                        <a:pt x="30" y="137"/>
                      </a:lnTo>
                      <a:lnTo>
                        <a:pt x="20" y="114"/>
                      </a:lnTo>
                      <a:lnTo>
                        <a:pt x="20" y="80"/>
                      </a:lnTo>
                      <a:lnTo>
                        <a:pt x="10" y="57"/>
                      </a:lnTo>
                      <a:lnTo>
                        <a:pt x="10" y="34"/>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188120" y="1541520"/>
                  <a:ext cx="970200" cy="1447920"/>
                </a:xfrm>
                <a:custGeom>
                  <a:avLst/>
                  <a:gdLst/>
                  <a:ahLst/>
                  <a:rect l="l" t="t" r="r" b="b"/>
                  <a:pathLst>
                    <a:path w="611" h="912">
                      <a:moveTo>
                        <a:pt x="611" y="912"/>
                      </a:moveTo>
                      <a:lnTo>
                        <a:pt x="611" y="889"/>
                      </a:lnTo>
                      <a:lnTo>
                        <a:pt x="601" y="866"/>
                      </a:lnTo>
                      <a:lnTo>
                        <a:pt x="601" y="843"/>
                      </a:lnTo>
                      <a:lnTo>
                        <a:pt x="591" y="821"/>
                      </a:lnTo>
                      <a:lnTo>
                        <a:pt x="581" y="798"/>
                      </a:lnTo>
                      <a:lnTo>
                        <a:pt x="571" y="775"/>
                      </a:lnTo>
                      <a:lnTo>
                        <a:pt x="571" y="752"/>
                      </a:lnTo>
                      <a:lnTo>
                        <a:pt x="561" y="729"/>
                      </a:lnTo>
                      <a:lnTo>
                        <a:pt x="551" y="707"/>
                      </a:lnTo>
                      <a:lnTo>
                        <a:pt x="541" y="684"/>
                      </a:lnTo>
                      <a:lnTo>
                        <a:pt x="531" y="661"/>
                      </a:lnTo>
                      <a:lnTo>
                        <a:pt x="521" y="638"/>
                      </a:lnTo>
                      <a:lnTo>
                        <a:pt x="511" y="604"/>
                      </a:lnTo>
                      <a:lnTo>
                        <a:pt x="501" y="581"/>
                      </a:lnTo>
                      <a:lnTo>
                        <a:pt x="491" y="570"/>
                      </a:lnTo>
                      <a:lnTo>
                        <a:pt x="481" y="547"/>
                      </a:lnTo>
                      <a:lnTo>
                        <a:pt x="471" y="524"/>
                      </a:lnTo>
                      <a:lnTo>
                        <a:pt x="451" y="501"/>
                      </a:lnTo>
                      <a:lnTo>
                        <a:pt x="441" y="479"/>
                      </a:lnTo>
                      <a:lnTo>
                        <a:pt x="431" y="456"/>
                      </a:lnTo>
                      <a:lnTo>
                        <a:pt x="421" y="444"/>
                      </a:lnTo>
                      <a:lnTo>
                        <a:pt x="401" y="422"/>
                      </a:lnTo>
                      <a:lnTo>
                        <a:pt x="391" y="399"/>
                      </a:lnTo>
                      <a:lnTo>
                        <a:pt x="371" y="387"/>
                      </a:lnTo>
                      <a:lnTo>
                        <a:pt x="350" y="365"/>
                      </a:lnTo>
                      <a:lnTo>
                        <a:pt x="340" y="342"/>
                      </a:lnTo>
                      <a:lnTo>
                        <a:pt x="320" y="330"/>
                      </a:lnTo>
                      <a:lnTo>
                        <a:pt x="310" y="308"/>
                      </a:lnTo>
                      <a:lnTo>
                        <a:pt x="290" y="285"/>
                      </a:lnTo>
                      <a:lnTo>
                        <a:pt x="280" y="273"/>
                      </a:lnTo>
                      <a:lnTo>
                        <a:pt x="260" y="251"/>
                      </a:lnTo>
                      <a:lnTo>
                        <a:pt x="250" y="239"/>
                      </a:lnTo>
                      <a:lnTo>
                        <a:pt x="230" y="216"/>
                      </a:lnTo>
                      <a:lnTo>
                        <a:pt x="220" y="205"/>
                      </a:lnTo>
                      <a:lnTo>
                        <a:pt x="200" y="182"/>
                      </a:lnTo>
                      <a:lnTo>
                        <a:pt x="180" y="171"/>
                      </a:lnTo>
                      <a:lnTo>
                        <a:pt x="170" y="148"/>
                      </a:lnTo>
                      <a:lnTo>
                        <a:pt x="150" y="137"/>
                      </a:lnTo>
                      <a:lnTo>
                        <a:pt x="130" y="114"/>
                      </a:lnTo>
                      <a:lnTo>
                        <a:pt x="120" y="102"/>
                      </a:lnTo>
                      <a:lnTo>
                        <a:pt x="100" y="91"/>
                      </a:lnTo>
                      <a:lnTo>
                        <a:pt x="80" y="68"/>
                      </a:lnTo>
                      <a:lnTo>
                        <a:pt x="70" y="57"/>
                      </a:lnTo>
                      <a:lnTo>
                        <a:pt x="50" y="45"/>
                      </a:lnTo>
                      <a:lnTo>
                        <a:pt x="30" y="23"/>
                      </a:lnTo>
                      <a:lnTo>
                        <a:pt x="2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42080" y="1251000"/>
                  <a:ext cx="446040" cy="290520"/>
                </a:xfrm>
                <a:custGeom>
                  <a:avLst/>
                  <a:gdLst/>
                  <a:ahLst/>
                  <a:rect l="l" t="t" r="r" b="b"/>
                  <a:pathLst>
                    <a:path w="281" h="183">
                      <a:moveTo>
                        <a:pt x="281" y="183"/>
                      </a:moveTo>
                      <a:lnTo>
                        <a:pt x="261" y="160"/>
                      </a:lnTo>
                      <a:lnTo>
                        <a:pt x="241" y="149"/>
                      </a:lnTo>
                      <a:lnTo>
                        <a:pt x="221" y="137"/>
                      </a:lnTo>
                      <a:lnTo>
                        <a:pt x="201" y="126"/>
                      </a:lnTo>
                      <a:lnTo>
                        <a:pt x="181" y="103"/>
                      </a:lnTo>
                      <a:lnTo>
                        <a:pt x="161" y="92"/>
                      </a:lnTo>
                      <a:lnTo>
                        <a:pt x="141" y="80"/>
                      </a:lnTo>
                      <a:lnTo>
                        <a:pt x="121" y="69"/>
                      </a:lnTo>
                      <a:lnTo>
                        <a:pt x="101" y="57"/>
                      </a:lnTo>
                      <a:lnTo>
                        <a:pt x="81" y="46"/>
                      </a:lnTo>
                      <a:lnTo>
                        <a:pt x="60" y="35"/>
                      </a:lnTo>
                      <a:lnTo>
                        <a:pt x="40" y="23"/>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599160" y="1179360"/>
                  <a:ext cx="142920" cy="71640"/>
                </a:xfrm>
                <a:custGeom>
                  <a:avLst/>
                  <a:gdLst/>
                  <a:ahLst/>
                  <a:rect l="l" t="t" r="r" b="b"/>
                  <a:pathLst>
                    <a:path w="90" h="45">
                      <a:moveTo>
                        <a:pt x="90" y="45"/>
                      </a:moveTo>
                      <a:lnTo>
                        <a:pt x="60" y="34"/>
                      </a:lnTo>
                      <a:lnTo>
                        <a:pt x="30" y="11"/>
                      </a:lnTo>
                      <a:lnTo>
                        <a:pt x="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5" name=""/>
                <p:cNvSpPr/>
                <p:nvPr/>
              </p:nvSpPr>
              <p:spPr>
                <a:xfrm>
                  <a:off x="6519960" y="1143000"/>
                  <a:ext cx="79200" cy="36360"/>
                </a:xfrm>
                <a:custGeom>
                  <a:avLst/>
                  <a:gdLst/>
                  <a:ahLst/>
                  <a:rect l="l" t="t" r="r" b="b"/>
                  <a:pathLst>
                    <a:path w="50" h="23">
                      <a:moveTo>
                        <a:pt x="50" y="23"/>
                      </a:moveTo>
                      <a:lnTo>
                        <a:pt x="30" y="11"/>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710400" y="5486400"/>
                  <a:ext cx="1162080" cy="723960"/>
                </a:xfrm>
                <a:custGeom>
                  <a:avLst/>
                  <a:gdLst/>
                  <a:ahLst/>
                  <a:rect l="l" t="t" r="r" b="b"/>
                  <a:pathLst>
                    <a:path w="732" h="456">
                      <a:moveTo>
                        <a:pt x="0" y="456"/>
                      </a:moveTo>
                      <a:lnTo>
                        <a:pt x="20" y="456"/>
                      </a:lnTo>
                      <a:lnTo>
                        <a:pt x="50" y="445"/>
                      </a:lnTo>
                      <a:lnTo>
                        <a:pt x="70" y="433"/>
                      </a:lnTo>
                      <a:lnTo>
                        <a:pt x="90" y="433"/>
                      </a:lnTo>
                      <a:lnTo>
                        <a:pt x="111" y="422"/>
                      </a:lnTo>
                      <a:lnTo>
                        <a:pt x="131" y="411"/>
                      </a:lnTo>
                      <a:lnTo>
                        <a:pt x="151" y="399"/>
                      </a:lnTo>
                      <a:lnTo>
                        <a:pt x="171" y="388"/>
                      </a:lnTo>
                      <a:lnTo>
                        <a:pt x="191" y="388"/>
                      </a:lnTo>
                      <a:lnTo>
                        <a:pt x="211" y="376"/>
                      </a:lnTo>
                      <a:lnTo>
                        <a:pt x="231" y="365"/>
                      </a:lnTo>
                      <a:lnTo>
                        <a:pt x="251" y="354"/>
                      </a:lnTo>
                      <a:lnTo>
                        <a:pt x="271" y="342"/>
                      </a:lnTo>
                      <a:lnTo>
                        <a:pt x="291" y="331"/>
                      </a:lnTo>
                      <a:lnTo>
                        <a:pt x="311" y="319"/>
                      </a:lnTo>
                      <a:lnTo>
                        <a:pt x="331" y="308"/>
                      </a:lnTo>
                      <a:lnTo>
                        <a:pt x="351" y="297"/>
                      </a:lnTo>
                      <a:lnTo>
                        <a:pt x="371" y="285"/>
                      </a:lnTo>
                      <a:lnTo>
                        <a:pt x="391" y="262"/>
                      </a:lnTo>
                      <a:lnTo>
                        <a:pt x="411" y="251"/>
                      </a:lnTo>
                      <a:lnTo>
                        <a:pt x="431" y="240"/>
                      </a:lnTo>
                      <a:lnTo>
                        <a:pt x="451" y="228"/>
                      </a:lnTo>
                      <a:lnTo>
                        <a:pt x="471" y="217"/>
                      </a:lnTo>
                      <a:lnTo>
                        <a:pt x="491" y="205"/>
                      </a:lnTo>
                      <a:lnTo>
                        <a:pt x="501" y="183"/>
                      </a:lnTo>
                      <a:lnTo>
                        <a:pt x="521" y="171"/>
                      </a:lnTo>
                      <a:lnTo>
                        <a:pt x="541" y="160"/>
                      </a:lnTo>
                      <a:lnTo>
                        <a:pt x="561" y="137"/>
                      </a:lnTo>
                      <a:lnTo>
                        <a:pt x="581" y="126"/>
                      </a:lnTo>
                      <a:lnTo>
                        <a:pt x="601" y="114"/>
                      </a:lnTo>
                      <a:lnTo>
                        <a:pt x="611" y="91"/>
                      </a:lnTo>
                      <a:lnTo>
                        <a:pt x="631" y="80"/>
                      </a:lnTo>
                      <a:lnTo>
                        <a:pt x="651" y="69"/>
                      </a:lnTo>
                      <a:lnTo>
                        <a:pt x="672" y="46"/>
                      </a:lnTo>
                      <a:lnTo>
                        <a:pt x="692" y="34"/>
                      </a:lnTo>
                      <a:lnTo>
                        <a:pt x="712" y="12"/>
                      </a:lnTo>
                      <a:lnTo>
                        <a:pt x="732"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872480" y="4581720"/>
                  <a:ext cx="603360" cy="904680"/>
                </a:xfrm>
                <a:custGeom>
                  <a:avLst/>
                  <a:gdLst/>
                  <a:ahLst/>
                  <a:rect l="l" t="t" r="r" b="b"/>
                  <a:pathLst>
                    <a:path w="380" h="570">
                      <a:moveTo>
                        <a:pt x="0" y="570"/>
                      </a:moveTo>
                      <a:lnTo>
                        <a:pt x="20" y="547"/>
                      </a:lnTo>
                      <a:lnTo>
                        <a:pt x="30" y="536"/>
                      </a:lnTo>
                      <a:lnTo>
                        <a:pt x="50" y="513"/>
                      </a:lnTo>
                      <a:lnTo>
                        <a:pt x="60" y="502"/>
                      </a:lnTo>
                      <a:lnTo>
                        <a:pt x="80" y="479"/>
                      </a:lnTo>
                      <a:lnTo>
                        <a:pt x="100" y="456"/>
                      </a:lnTo>
                      <a:lnTo>
                        <a:pt x="110" y="445"/>
                      </a:lnTo>
                      <a:lnTo>
                        <a:pt x="130" y="422"/>
                      </a:lnTo>
                      <a:lnTo>
                        <a:pt x="140" y="399"/>
                      </a:lnTo>
                      <a:lnTo>
                        <a:pt x="160" y="388"/>
                      </a:lnTo>
                      <a:lnTo>
                        <a:pt x="170" y="365"/>
                      </a:lnTo>
                      <a:lnTo>
                        <a:pt x="190" y="342"/>
                      </a:lnTo>
                      <a:lnTo>
                        <a:pt x="200" y="331"/>
                      </a:lnTo>
                      <a:lnTo>
                        <a:pt x="210" y="308"/>
                      </a:lnTo>
                      <a:lnTo>
                        <a:pt x="230" y="285"/>
                      </a:lnTo>
                      <a:lnTo>
                        <a:pt x="240" y="262"/>
                      </a:lnTo>
                      <a:lnTo>
                        <a:pt x="250" y="240"/>
                      </a:lnTo>
                      <a:lnTo>
                        <a:pt x="270" y="217"/>
                      </a:lnTo>
                      <a:lnTo>
                        <a:pt x="280" y="194"/>
                      </a:lnTo>
                      <a:lnTo>
                        <a:pt x="290" y="183"/>
                      </a:lnTo>
                      <a:lnTo>
                        <a:pt x="300" y="160"/>
                      </a:lnTo>
                      <a:lnTo>
                        <a:pt x="310" y="137"/>
                      </a:lnTo>
                      <a:lnTo>
                        <a:pt x="320" y="114"/>
                      </a:lnTo>
                      <a:lnTo>
                        <a:pt x="340" y="91"/>
                      </a:lnTo>
                      <a:lnTo>
                        <a:pt x="350" y="69"/>
                      </a:lnTo>
                      <a:lnTo>
                        <a:pt x="360" y="46"/>
                      </a:lnTo>
                      <a:lnTo>
                        <a:pt x="370" y="23"/>
                      </a:lnTo>
                      <a:lnTo>
                        <a:pt x="38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475840" y="3116160"/>
                  <a:ext cx="142560" cy="1465560"/>
                </a:xfrm>
                <a:custGeom>
                  <a:avLst/>
                  <a:gdLst/>
                  <a:ahLst/>
                  <a:rect l="l" t="t" r="r" b="b"/>
                  <a:pathLst>
                    <a:path w="90" h="923">
                      <a:moveTo>
                        <a:pt x="0" y="923"/>
                      </a:moveTo>
                      <a:lnTo>
                        <a:pt x="10" y="889"/>
                      </a:lnTo>
                      <a:lnTo>
                        <a:pt x="10" y="866"/>
                      </a:lnTo>
                      <a:lnTo>
                        <a:pt x="20" y="843"/>
                      </a:lnTo>
                      <a:lnTo>
                        <a:pt x="30" y="821"/>
                      </a:lnTo>
                      <a:lnTo>
                        <a:pt x="40" y="798"/>
                      </a:lnTo>
                      <a:lnTo>
                        <a:pt x="50" y="764"/>
                      </a:lnTo>
                      <a:lnTo>
                        <a:pt x="50" y="741"/>
                      </a:lnTo>
                      <a:lnTo>
                        <a:pt x="60" y="718"/>
                      </a:lnTo>
                      <a:lnTo>
                        <a:pt x="60" y="695"/>
                      </a:lnTo>
                      <a:lnTo>
                        <a:pt x="70" y="661"/>
                      </a:lnTo>
                      <a:lnTo>
                        <a:pt x="70" y="638"/>
                      </a:lnTo>
                      <a:lnTo>
                        <a:pt x="80" y="615"/>
                      </a:lnTo>
                      <a:lnTo>
                        <a:pt x="80" y="593"/>
                      </a:lnTo>
                      <a:lnTo>
                        <a:pt x="80" y="570"/>
                      </a:lnTo>
                      <a:lnTo>
                        <a:pt x="80" y="536"/>
                      </a:lnTo>
                      <a:lnTo>
                        <a:pt x="90" y="513"/>
                      </a:lnTo>
                      <a:lnTo>
                        <a:pt x="90" y="490"/>
                      </a:lnTo>
                      <a:lnTo>
                        <a:pt x="90" y="467"/>
                      </a:lnTo>
                      <a:lnTo>
                        <a:pt x="90" y="444"/>
                      </a:lnTo>
                      <a:lnTo>
                        <a:pt x="90" y="410"/>
                      </a:lnTo>
                      <a:lnTo>
                        <a:pt x="90" y="387"/>
                      </a:lnTo>
                      <a:lnTo>
                        <a:pt x="90" y="365"/>
                      </a:lnTo>
                      <a:lnTo>
                        <a:pt x="90" y="342"/>
                      </a:lnTo>
                      <a:lnTo>
                        <a:pt x="90" y="319"/>
                      </a:lnTo>
                      <a:lnTo>
                        <a:pt x="80" y="296"/>
                      </a:lnTo>
                      <a:lnTo>
                        <a:pt x="80" y="262"/>
                      </a:lnTo>
                      <a:lnTo>
                        <a:pt x="80" y="239"/>
                      </a:lnTo>
                      <a:lnTo>
                        <a:pt x="80" y="216"/>
                      </a:lnTo>
                      <a:lnTo>
                        <a:pt x="80" y="193"/>
                      </a:lnTo>
                      <a:lnTo>
                        <a:pt x="70" y="171"/>
                      </a:lnTo>
                      <a:lnTo>
                        <a:pt x="70" y="148"/>
                      </a:lnTo>
                      <a:lnTo>
                        <a:pt x="70" y="125"/>
                      </a:lnTo>
                      <a:lnTo>
                        <a:pt x="60" y="102"/>
                      </a:lnTo>
                      <a:lnTo>
                        <a:pt x="60" y="79"/>
                      </a:lnTo>
                      <a:lnTo>
                        <a:pt x="50" y="45"/>
                      </a:lnTo>
                      <a:lnTo>
                        <a:pt x="50" y="22"/>
                      </a:lnTo>
                      <a:lnTo>
                        <a:pt x="5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459640" y="2771640"/>
                  <a:ext cx="95400" cy="344520"/>
                </a:xfrm>
                <a:custGeom>
                  <a:avLst/>
                  <a:gdLst/>
                  <a:ahLst/>
                  <a:rect l="l" t="t" r="r" b="b"/>
                  <a:pathLst>
                    <a:path w="60" h="217">
                      <a:moveTo>
                        <a:pt x="60" y="217"/>
                      </a:moveTo>
                      <a:lnTo>
                        <a:pt x="50" y="194"/>
                      </a:lnTo>
                      <a:lnTo>
                        <a:pt x="40" y="160"/>
                      </a:lnTo>
                      <a:lnTo>
                        <a:pt x="40" y="137"/>
                      </a:lnTo>
                      <a:lnTo>
                        <a:pt x="30" y="103"/>
                      </a:lnTo>
                      <a:lnTo>
                        <a:pt x="20" y="80"/>
                      </a:lnTo>
                      <a:lnTo>
                        <a:pt x="10" y="57"/>
                      </a:lnTo>
                      <a:lnTo>
                        <a:pt x="10" y="23"/>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458120" y="1541520"/>
                  <a:ext cx="1001520" cy="1230120"/>
                </a:xfrm>
                <a:custGeom>
                  <a:avLst/>
                  <a:gdLst/>
                  <a:ahLst/>
                  <a:rect l="l" t="t" r="r" b="b"/>
                  <a:pathLst>
                    <a:path w="631" h="775">
                      <a:moveTo>
                        <a:pt x="631" y="775"/>
                      </a:moveTo>
                      <a:lnTo>
                        <a:pt x="621" y="752"/>
                      </a:lnTo>
                      <a:lnTo>
                        <a:pt x="611" y="729"/>
                      </a:lnTo>
                      <a:lnTo>
                        <a:pt x="601" y="707"/>
                      </a:lnTo>
                      <a:lnTo>
                        <a:pt x="591" y="684"/>
                      </a:lnTo>
                      <a:lnTo>
                        <a:pt x="581" y="661"/>
                      </a:lnTo>
                      <a:lnTo>
                        <a:pt x="571" y="638"/>
                      </a:lnTo>
                      <a:lnTo>
                        <a:pt x="551" y="604"/>
                      </a:lnTo>
                      <a:lnTo>
                        <a:pt x="541" y="581"/>
                      </a:lnTo>
                      <a:lnTo>
                        <a:pt x="531" y="570"/>
                      </a:lnTo>
                      <a:lnTo>
                        <a:pt x="521" y="547"/>
                      </a:lnTo>
                      <a:lnTo>
                        <a:pt x="511" y="524"/>
                      </a:lnTo>
                      <a:lnTo>
                        <a:pt x="491" y="501"/>
                      </a:lnTo>
                      <a:lnTo>
                        <a:pt x="481" y="479"/>
                      </a:lnTo>
                      <a:lnTo>
                        <a:pt x="471" y="467"/>
                      </a:lnTo>
                      <a:lnTo>
                        <a:pt x="451" y="444"/>
                      </a:lnTo>
                      <a:lnTo>
                        <a:pt x="441" y="422"/>
                      </a:lnTo>
                      <a:lnTo>
                        <a:pt x="421" y="410"/>
                      </a:lnTo>
                      <a:lnTo>
                        <a:pt x="411" y="387"/>
                      </a:lnTo>
                      <a:lnTo>
                        <a:pt x="391" y="365"/>
                      </a:lnTo>
                      <a:lnTo>
                        <a:pt x="381" y="353"/>
                      </a:lnTo>
                      <a:lnTo>
                        <a:pt x="361" y="330"/>
                      </a:lnTo>
                      <a:lnTo>
                        <a:pt x="351" y="308"/>
                      </a:lnTo>
                      <a:lnTo>
                        <a:pt x="331" y="296"/>
                      </a:lnTo>
                      <a:lnTo>
                        <a:pt x="321" y="273"/>
                      </a:lnTo>
                      <a:lnTo>
                        <a:pt x="301" y="262"/>
                      </a:lnTo>
                      <a:lnTo>
                        <a:pt x="281" y="239"/>
                      </a:lnTo>
                      <a:lnTo>
                        <a:pt x="271" y="228"/>
                      </a:lnTo>
                      <a:lnTo>
                        <a:pt x="251" y="205"/>
                      </a:lnTo>
                      <a:lnTo>
                        <a:pt x="231" y="194"/>
                      </a:lnTo>
                      <a:lnTo>
                        <a:pt x="221" y="182"/>
                      </a:lnTo>
                      <a:lnTo>
                        <a:pt x="190" y="159"/>
                      </a:lnTo>
                      <a:lnTo>
                        <a:pt x="170" y="148"/>
                      </a:lnTo>
                      <a:lnTo>
                        <a:pt x="160" y="125"/>
                      </a:lnTo>
                      <a:lnTo>
                        <a:pt x="140" y="114"/>
                      </a:lnTo>
                      <a:lnTo>
                        <a:pt x="120" y="102"/>
                      </a:lnTo>
                      <a:lnTo>
                        <a:pt x="100" y="80"/>
                      </a:lnTo>
                      <a:lnTo>
                        <a:pt x="90" y="68"/>
                      </a:lnTo>
                      <a:lnTo>
                        <a:pt x="70" y="57"/>
                      </a:lnTo>
                      <a:lnTo>
                        <a:pt x="50" y="45"/>
                      </a:lnTo>
                      <a:lnTo>
                        <a:pt x="30" y="23"/>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950160" y="1251000"/>
                  <a:ext cx="507960" cy="290520"/>
                </a:xfrm>
                <a:custGeom>
                  <a:avLst/>
                  <a:gdLst/>
                  <a:ahLst/>
                  <a:rect l="l" t="t" r="r" b="b"/>
                  <a:pathLst>
                    <a:path w="320" h="183">
                      <a:moveTo>
                        <a:pt x="320" y="183"/>
                      </a:moveTo>
                      <a:lnTo>
                        <a:pt x="300" y="171"/>
                      </a:lnTo>
                      <a:lnTo>
                        <a:pt x="280" y="149"/>
                      </a:lnTo>
                      <a:lnTo>
                        <a:pt x="260" y="137"/>
                      </a:lnTo>
                      <a:lnTo>
                        <a:pt x="240" y="126"/>
                      </a:lnTo>
                      <a:lnTo>
                        <a:pt x="220" y="114"/>
                      </a:lnTo>
                      <a:lnTo>
                        <a:pt x="190" y="103"/>
                      </a:lnTo>
                      <a:lnTo>
                        <a:pt x="170" y="92"/>
                      </a:lnTo>
                      <a:lnTo>
                        <a:pt x="150" y="80"/>
                      </a:lnTo>
                      <a:lnTo>
                        <a:pt x="130" y="69"/>
                      </a:lnTo>
                      <a:lnTo>
                        <a:pt x="110" y="46"/>
                      </a:lnTo>
                      <a:lnTo>
                        <a:pt x="90" y="46"/>
                      </a:lnTo>
                      <a:lnTo>
                        <a:pt x="70" y="35"/>
                      </a:lnTo>
                      <a:lnTo>
                        <a:pt x="50" y="23"/>
                      </a:lnTo>
                      <a:lnTo>
                        <a:pt x="20" y="12"/>
                      </a:lnTo>
                      <a:lnTo>
                        <a:pt x="0" y="0"/>
                      </a:lnTo>
                    </a:path>
                  </a:pathLst>
                </a:cu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89600" y="1179360"/>
                  <a:ext cx="160560" cy="71640"/>
                </a:xfrm>
                <a:custGeom>
                  <a:avLst/>
                  <a:gdLst/>
                  <a:ahLst/>
                  <a:rect l="l" t="t" r="r" b="b"/>
                  <a:pathLst>
                    <a:path w="101" h="45">
                      <a:moveTo>
                        <a:pt x="101" y="45"/>
                      </a:moveTo>
                      <a:lnTo>
                        <a:pt x="71" y="34"/>
                      </a:lnTo>
                      <a:lnTo>
                        <a:pt x="40" y="11"/>
                      </a:lnTo>
                      <a:lnTo>
                        <a:pt x="0" y="0"/>
                      </a:lnTo>
                    </a:path>
                  </a:pathLst>
                </a:custGeom>
                <a:solidFill>
                  <a:srgbClr val="ccec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3" name=""/>
                <p:cNvSpPr/>
                <p:nvPr/>
              </p:nvSpPr>
              <p:spPr>
                <a:xfrm>
                  <a:off x="6710400" y="1143000"/>
                  <a:ext cx="79200" cy="36360"/>
                </a:xfrm>
                <a:custGeom>
                  <a:avLst/>
                  <a:gdLst/>
                  <a:ahLst/>
                  <a:rect l="l" t="t" r="r" b="b"/>
                  <a:pathLst>
                    <a:path w="50" h="23">
                      <a:moveTo>
                        <a:pt x="50" y="23"/>
                      </a:moveTo>
                      <a:lnTo>
                        <a:pt x="30" y="11"/>
                      </a:lnTo>
                      <a:lnTo>
                        <a:pt x="10" y="11"/>
                      </a:lnTo>
                      <a:lnTo>
                        <a:pt x="0" y="0"/>
                      </a:lnTo>
                    </a:path>
                  </a:pathLst>
                </a:custGeom>
                <a:solidFill>
                  <a:srgbClr val="ccec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4" name=""/>
                <p:cNvSpPr/>
                <p:nvPr/>
              </p:nvSpPr>
              <p:spPr>
                <a:xfrm>
                  <a:off x="1590840" y="5958000"/>
                  <a:ext cx="5930640" cy="1440"/>
                </a:xfrm>
                <a:custGeom>
                  <a:avLst/>
                  <a:gdLst/>
                  <a:ahLst/>
                  <a:rect l="l" t="t" r="r" b="b"/>
                  <a:pathLst>
                    <a:path w="3736" h="0">
                      <a:moveTo>
                        <a:pt x="0" y="0"/>
                      </a:moveTo>
                      <a:lnTo>
                        <a:pt x="20" y="0"/>
                      </a:lnTo>
                      <a:lnTo>
                        <a:pt x="50" y="0"/>
                      </a:lnTo>
                      <a:lnTo>
                        <a:pt x="80" y="0"/>
                      </a:lnTo>
                      <a:lnTo>
                        <a:pt x="100" y="0"/>
                      </a:lnTo>
                      <a:lnTo>
                        <a:pt x="120" y="0"/>
                      </a:lnTo>
                      <a:lnTo>
                        <a:pt x="140" y="0"/>
                      </a:lnTo>
                      <a:lnTo>
                        <a:pt x="160" y="0"/>
                      </a:lnTo>
                      <a:lnTo>
                        <a:pt x="190" y="0"/>
                      </a:lnTo>
                      <a:lnTo>
                        <a:pt x="210" y="0"/>
                      </a:lnTo>
                      <a:lnTo>
                        <a:pt x="230" y="0"/>
                      </a:lnTo>
                      <a:lnTo>
                        <a:pt x="250" y="0"/>
                      </a:lnTo>
                      <a:lnTo>
                        <a:pt x="270" y="0"/>
                      </a:lnTo>
                      <a:lnTo>
                        <a:pt x="290" y="0"/>
                      </a:lnTo>
                      <a:lnTo>
                        <a:pt x="320" y="0"/>
                      </a:lnTo>
                      <a:lnTo>
                        <a:pt x="340" y="0"/>
                      </a:lnTo>
                      <a:lnTo>
                        <a:pt x="360" y="0"/>
                      </a:lnTo>
                      <a:lnTo>
                        <a:pt x="380" y="0"/>
                      </a:lnTo>
                      <a:lnTo>
                        <a:pt x="400" y="0"/>
                      </a:lnTo>
                      <a:lnTo>
                        <a:pt x="420" y="0"/>
                      </a:lnTo>
                      <a:lnTo>
                        <a:pt x="451" y="0"/>
                      </a:lnTo>
                      <a:lnTo>
                        <a:pt x="471" y="0"/>
                      </a:lnTo>
                      <a:lnTo>
                        <a:pt x="491" y="0"/>
                      </a:lnTo>
                      <a:lnTo>
                        <a:pt x="511" y="0"/>
                      </a:lnTo>
                      <a:lnTo>
                        <a:pt x="531" y="0"/>
                      </a:lnTo>
                      <a:lnTo>
                        <a:pt x="561" y="0"/>
                      </a:lnTo>
                      <a:lnTo>
                        <a:pt x="581" y="0"/>
                      </a:lnTo>
                      <a:lnTo>
                        <a:pt x="601" y="0"/>
                      </a:lnTo>
                      <a:lnTo>
                        <a:pt x="621" y="0"/>
                      </a:lnTo>
                      <a:lnTo>
                        <a:pt x="641" y="0"/>
                      </a:lnTo>
                      <a:lnTo>
                        <a:pt x="661" y="0"/>
                      </a:lnTo>
                      <a:lnTo>
                        <a:pt x="691" y="0"/>
                      </a:lnTo>
                      <a:lnTo>
                        <a:pt x="711" y="0"/>
                      </a:lnTo>
                      <a:lnTo>
                        <a:pt x="731" y="0"/>
                      </a:lnTo>
                      <a:lnTo>
                        <a:pt x="751" y="0"/>
                      </a:lnTo>
                      <a:lnTo>
                        <a:pt x="771" y="0"/>
                      </a:lnTo>
                      <a:lnTo>
                        <a:pt x="791" y="0"/>
                      </a:lnTo>
                      <a:lnTo>
                        <a:pt x="821" y="0"/>
                      </a:lnTo>
                      <a:lnTo>
                        <a:pt x="841" y="0"/>
                      </a:lnTo>
                      <a:lnTo>
                        <a:pt x="861" y="0"/>
                      </a:lnTo>
                      <a:lnTo>
                        <a:pt x="881" y="0"/>
                      </a:lnTo>
                      <a:lnTo>
                        <a:pt x="901" y="0"/>
                      </a:lnTo>
                      <a:lnTo>
                        <a:pt x="921" y="0"/>
                      </a:lnTo>
                      <a:lnTo>
                        <a:pt x="951" y="0"/>
                      </a:lnTo>
                      <a:lnTo>
                        <a:pt x="971" y="0"/>
                      </a:lnTo>
                      <a:lnTo>
                        <a:pt x="991" y="0"/>
                      </a:lnTo>
                      <a:lnTo>
                        <a:pt x="1011" y="0"/>
                      </a:lnTo>
                      <a:lnTo>
                        <a:pt x="1032" y="0"/>
                      </a:lnTo>
                      <a:lnTo>
                        <a:pt x="1052" y="0"/>
                      </a:lnTo>
                      <a:lnTo>
                        <a:pt x="1082" y="0"/>
                      </a:lnTo>
                      <a:lnTo>
                        <a:pt x="1102" y="0"/>
                      </a:lnTo>
                      <a:lnTo>
                        <a:pt x="1122" y="0"/>
                      </a:lnTo>
                      <a:lnTo>
                        <a:pt x="1142" y="0"/>
                      </a:lnTo>
                      <a:lnTo>
                        <a:pt x="1162" y="0"/>
                      </a:lnTo>
                      <a:lnTo>
                        <a:pt x="1182" y="0"/>
                      </a:lnTo>
                      <a:lnTo>
                        <a:pt x="1212" y="0"/>
                      </a:lnTo>
                      <a:lnTo>
                        <a:pt x="1232" y="0"/>
                      </a:lnTo>
                      <a:lnTo>
                        <a:pt x="1252" y="0"/>
                      </a:lnTo>
                      <a:lnTo>
                        <a:pt x="1272" y="0"/>
                      </a:lnTo>
                      <a:lnTo>
                        <a:pt x="1292" y="0"/>
                      </a:lnTo>
                      <a:lnTo>
                        <a:pt x="1312" y="0"/>
                      </a:lnTo>
                      <a:lnTo>
                        <a:pt x="1342" y="0"/>
                      </a:lnTo>
                      <a:lnTo>
                        <a:pt x="1362" y="0"/>
                      </a:lnTo>
                      <a:lnTo>
                        <a:pt x="1382" y="0"/>
                      </a:lnTo>
                      <a:lnTo>
                        <a:pt x="1402" y="0"/>
                      </a:lnTo>
                      <a:lnTo>
                        <a:pt x="1422" y="0"/>
                      </a:lnTo>
                      <a:lnTo>
                        <a:pt x="1442" y="0"/>
                      </a:lnTo>
                      <a:lnTo>
                        <a:pt x="1472" y="0"/>
                      </a:lnTo>
                      <a:lnTo>
                        <a:pt x="1492" y="0"/>
                      </a:lnTo>
                      <a:lnTo>
                        <a:pt x="1512" y="0"/>
                      </a:lnTo>
                      <a:lnTo>
                        <a:pt x="1532" y="0"/>
                      </a:lnTo>
                      <a:lnTo>
                        <a:pt x="1552" y="0"/>
                      </a:lnTo>
                      <a:lnTo>
                        <a:pt x="1572" y="0"/>
                      </a:lnTo>
                      <a:lnTo>
                        <a:pt x="1603" y="0"/>
                      </a:lnTo>
                      <a:lnTo>
                        <a:pt x="1623" y="0"/>
                      </a:lnTo>
                      <a:lnTo>
                        <a:pt x="1643" y="0"/>
                      </a:lnTo>
                      <a:lnTo>
                        <a:pt x="1663" y="0"/>
                      </a:lnTo>
                      <a:lnTo>
                        <a:pt x="1683" y="0"/>
                      </a:lnTo>
                      <a:lnTo>
                        <a:pt x="1703" y="0"/>
                      </a:lnTo>
                      <a:lnTo>
                        <a:pt x="1733" y="0"/>
                      </a:lnTo>
                      <a:lnTo>
                        <a:pt x="1753" y="0"/>
                      </a:lnTo>
                      <a:lnTo>
                        <a:pt x="1773" y="0"/>
                      </a:lnTo>
                      <a:lnTo>
                        <a:pt x="1793" y="0"/>
                      </a:lnTo>
                      <a:lnTo>
                        <a:pt x="1813" y="0"/>
                      </a:lnTo>
                      <a:lnTo>
                        <a:pt x="1833" y="0"/>
                      </a:lnTo>
                      <a:lnTo>
                        <a:pt x="1863" y="0"/>
                      </a:lnTo>
                      <a:lnTo>
                        <a:pt x="1883" y="0"/>
                      </a:lnTo>
                      <a:lnTo>
                        <a:pt x="1903" y="0"/>
                      </a:lnTo>
                      <a:lnTo>
                        <a:pt x="1923" y="0"/>
                      </a:lnTo>
                      <a:lnTo>
                        <a:pt x="1943" y="0"/>
                      </a:lnTo>
                      <a:lnTo>
                        <a:pt x="1973" y="0"/>
                      </a:lnTo>
                      <a:lnTo>
                        <a:pt x="2003" y="0"/>
                      </a:lnTo>
                      <a:lnTo>
                        <a:pt x="2023" y="0"/>
                      </a:lnTo>
                      <a:lnTo>
                        <a:pt x="2043" y="0"/>
                      </a:lnTo>
                      <a:lnTo>
                        <a:pt x="2063" y="0"/>
                      </a:lnTo>
                      <a:lnTo>
                        <a:pt x="2083" y="0"/>
                      </a:lnTo>
                      <a:lnTo>
                        <a:pt x="2113" y="0"/>
                      </a:lnTo>
                      <a:lnTo>
                        <a:pt x="2133" y="0"/>
                      </a:lnTo>
                      <a:lnTo>
                        <a:pt x="2153" y="0"/>
                      </a:lnTo>
                      <a:lnTo>
                        <a:pt x="2174" y="0"/>
                      </a:lnTo>
                      <a:lnTo>
                        <a:pt x="2194" y="0"/>
                      </a:lnTo>
                      <a:lnTo>
                        <a:pt x="2214" y="0"/>
                      </a:lnTo>
                      <a:lnTo>
                        <a:pt x="2244" y="0"/>
                      </a:lnTo>
                      <a:lnTo>
                        <a:pt x="2264" y="0"/>
                      </a:lnTo>
                      <a:lnTo>
                        <a:pt x="2284" y="0"/>
                      </a:lnTo>
                      <a:lnTo>
                        <a:pt x="2304" y="0"/>
                      </a:lnTo>
                      <a:lnTo>
                        <a:pt x="2324" y="0"/>
                      </a:lnTo>
                      <a:lnTo>
                        <a:pt x="2344" y="0"/>
                      </a:lnTo>
                      <a:lnTo>
                        <a:pt x="2374" y="0"/>
                      </a:lnTo>
                      <a:lnTo>
                        <a:pt x="2394" y="0"/>
                      </a:lnTo>
                      <a:lnTo>
                        <a:pt x="2414" y="0"/>
                      </a:lnTo>
                      <a:lnTo>
                        <a:pt x="2434" y="0"/>
                      </a:lnTo>
                      <a:lnTo>
                        <a:pt x="2454" y="0"/>
                      </a:lnTo>
                      <a:lnTo>
                        <a:pt x="2474" y="0"/>
                      </a:lnTo>
                      <a:lnTo>
                        <a:pt x="2504" y="0"/>
                      </a:lnTo>
                      <a:lnTo>
                        <a:pt x="2524" y="0"/>
                      </a:lnTo>
                      <a:lnTo>
                        <a:pt x="2544" y="0"/>
                      </a:lnTo>
                      <a:lnTo>
                        <a:pt x="2564" y="0"/>
                      </a:lnTo>
                      <a:lnTo>
                        <a:pt x="2584" y="0"/>
                      </a:lnTo>
                      <a:lnTo>
                        <a:pt x="2604" y="0"/>
                      </a:lnTo>
                      <a:lnTo>
                        <a:pt x="2634" y="0"/>
                      </a:lnTo>
                      <a:lnTo>
                        <a:pt x="2654" y="0"/>
                      </a:lnTo>
                      <a:lnTo>
                        <a:pt x="2674" y="0"/>
                      </a:lnTo>
                      <a:lnTo>
                        <a:pt x="2694" y="0"/>
                      </a:lnTo>
                      <a:lnTo>
                        <a:pt x="2714" y="0"/>
                      </a:lnTo>
                      <a:lnTo>
                        <a:pt x="2734" y="0"/>
                      </a:lnTo>
                      <a:lnTo>
                        <a:pt x="2765" y="0"/>
                      </a:lnTo>
                      <a:lnTo>
                        <a:pt x="2785" y="0"/>
                      </a:lnTo>
                      <a:lnTo>
                        <a:pt x="2805" y="0"/>
                      </a:lnTo>
                      <a:lnTo>
                        <a:pt x="2825" y="0"/>
                      </a:lnTo>
                      <a:lnTo>
                        <a:pt x="2845" y="0"/>
                      </a:lnTo>
                      <a:lnTo>
                        <a:pt x="2865" y="0"/>
                      </a:lnTo>
                      <a:lnTo>
                        <a:pt x="2895" y="0"/>
                      </a:lnTo>
                      <a:lnTo>
                        <a:pt x="2915" y="0"/>
                      </a:lnTo>
                      <a:lnTo>
                        <a:pt x="2935" y="0"/>
                      </a:lnTo>
                      <a:lnTo>
                        <a:pt x="2955" y="0"/>
                      </a:lnTo>
                      <a:lnTo>
                        <a:pt x="2975" y="0"/>
                      </a:lnTo>
                      <a:lnTo>
                        <a:pt x="2995" y="0"/>
                      </a:lnTo>
                      <a:lnTo>
                        <a:pt x="3025" y="0"/>
                      </a:lnTo>
                      <a:lnTo>
                        <a:pt x="3045" y="0"/>
                      </a:lnTo>
                      <a:lnTo>
                        <a:pt x="3065" y="0"/>
                      </a:lnTo>
                      <a:lnTo>
                        <a:pt x="3085" y="0"/>
                      </a:lnTo>
                      <a:lnTo>
                        <a:pt x="3105" y="0"/>
                      </a:lnTo>
                      <a:lnTo>
                        <a:pt x="3125" y="0"/>
                      </a:lnTo>
                      <a:lnTo>
                        <a:pt x="3155" y="0"/>
                      </a:lnTo>
                      <a:lnTo>
                        <a:pt x="3175" y="0"/>
                      </a:lnTo>
                      <a:lnTo>
                        <a:pt x="3195" y="0"/>
                      </a:lnTo>
                      <a:lnTo>
                        <a:pt x="3215" y="0"/>
                      </a:lnTo>
                      <a:lnTo>
                        <a:pt x="3235" y="0"/>
                      </a:lnTo>
                      <a:lnTo>
                        <a:pt x="3255" y="0"/>
                      </a:lnTo>
                      <a:lnTo>
                        <a:pt x="3285" y="0"/>
                      </a:lnTo>
                      <a:lnTo>
                        <a:pt x="3305" y="0"/>
                      </a:lnTo>
                      <a:lnTo>
                        <a:pt x="3326" y="0"/>
                      </a:lnTo>
                      <a:lnTo>
                        <a:pt x="3346" y="0"/>
                      </a:lnTo>
                      <a:lnTo>
                        <a:pt x="3366" y="0"/>
                      </a:lnTo>
                      <a:lnTo>
                        <a:pt x="3396" y="0"/>
                      </a:lnTo>
                      <a:lnTo>
                        <a:pt x="3416" y="0"/>
                      </a:lnTo>
                      <a:lnTo>
                        <a:pt x="3436" y="0"/>
                      </a:lnTo>
                      <a:lnTo>
                        <a:pt x="3456" y="0"/>
                      </a:lnTo>
                      <a:lnTo>
                        <a:pt x="3476" y="0"/>
                      </a:lnTo>
                      <a:lnTo>
                        <a:pt x="3496" y="0"/>
                      </a:lnTo>
                      <a:lnTo>
                        <a:pt x="3526" y="0"/>
                      </a:lnTo>
                      <a:lnTo>
                        <a:pt x="3546" y="0"/>
                      </a:lnTo>
                      <a:lnTo>
                        <a:pt x="3566" y="0"/>
                      </a:lnTo>
                      <a:lnTo>
                        <a:pt x="3586" y="0"/>
                      </a:lnTo>
                      <a:lnTo>
                        <a:pt x="3606" y="0"/>
                      </a:lnTo>
                      <a:lnTo>
                        <a:pt x="3626" y="0"/>
                      </a:lnTo>
                      <a:lnTo>
                        <a:pt x="3656" y="0"/>
                      </a:lnTo>
                      <a:lnTo>
                        <a:pt x="3676" y="0"/>
                      </a:lnTo>
                      <a:lnTo>
                        <a:pt x="3696" y="0"/>
                      </a:lnTo>
                      <a:lnTo>
                        <a:pt x="3716" y="0"/>
                      </a:lnTo>
                      <a:lnTo>
                        <a:pt x="3736"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49400" y="5540400"/>
                  <a:ext cx="7045200" cy="1440"/>
                </a:xfrm>
                <a:custGeom>
                  <a:avLst/>
                  <a:gdLst/>
                  <a:ahLst/>
                  <a:rect l="l" t="t" r="r" b="b"/>
                  <a:pathLst>
                    <a:path w="4438" h="0">
                      <a:moveTo>
                        <a:pt x="0" y="0"/>
                      </a:moveTo>
                      <a:lnTo>
                        <a:pt x="20" y="0"/>
                      </a:lnTo>
                      <a:lnTo>
                        <a:pt x="40" y="0"/>
                      </a:lnTo>
                      <a:lnTo>
                        <a:pt x="60" y="0"/>
                      </a:lnTo>
                      <a:lnTo>
                        <a:pt x="80" y="0"/>
                      </a:lnTo>
                      <a:lnTo>
                        <a:pt x="110" y="0"/>
                      </a:lnTo>
                      <a:lnTo>
                        <a:pt x="130" y="0"/>
                      </a:lnTo>
                      <a:lnTo>
                        <a:pt x="150" y="0"/>
                      </a:lnTo>
                      <a:lnTo>
                        <a:pt x="170" y="0"/>
                      </a:lnTo>
                      <a:lnTo>
                        <a:pt x="190" y="0"/>
                      </a:lnTo>
                      <a:lnTo>
                        <a:pt x="211" y="0"/>
                      </a:lnTo>
                      <a:lnTo>
                        <a:pt x="241" y="0"/>
                      </a:lnTo>
                      <a:lnTo>
                        <a:pt x="261" y="0"/>
                      </a:lnTo>
                      <a:lnTo>
                        <a:pt x="281" y="0"/>
                      </a:lnTo>
                      <a:lnTo>
                        <a:pt x="301" y="0"/>
                      </a:lnTo>
                      <a:lnTo>
                        <a:pt x="321" y="0"/>
                      </a:lnTo>
                      <a:lnTo>
                        <a:pt x="341" y="0"/>
                      </a:lnTo>
                      <a:lnTo>
                        <a:pt x="371" y="0"/>
                      </a:lnTo>
                      <a:lnTo>
                        <a:pt x="391" y="0"/>
                      </a:lnTo>
                      <a:lnTo>
                        <a:pt x="421" y="0"/>
                      </a:lnTo>
                      <a:lnTo>
                        <a:pt x="441" y="0"/>
                      </a:lnTo>
                      <a:lnTo>
                        <a:pt x="461" y="0"/>
                      </a:lnTo>
                      <a:lnTo>
                        <a:pt x="481" y="0"/>
                      </a:lnTo>
                      <a:lnTo>
                        <a:pt x="511" y="0"/>
                      </a:lnTo>
                      <a:lnTo>
                        <a:pt x="531" y="0"/>
                      </a:lnTo>
                      <a:lnTo>
                        <a:pt x="551" y="0"/>
                      </a:lnTo>
                      <a:lnTo>
                        <a:pt x="571" y="0"/>
                      </a:lnTo>
                      <a:lnTo>
                        <a:pt x="591" y="0"/>
                      </a:lnTo>
                      <a:lnTo>
                        <a:pt x="611" y="0"/>
                      </a:lnTo>
                      <a:lnTo>
                        <a:pt x="641" y="0"/>
                      </a:lnTo>
                      <a:lnTo>
                        <a:pt x="661" y="0"/>
                      </a:lnTo>
                      <a:lnTo>
                        <a:pt x="681" y="0"/>
                      </a:lnTo>
                      <a:lnTo>
                        <a:pt x="701" y="0"/>
                      </a:lnTo>
                      <a:lnTo>
                        <a:pt x="721" y="0"/>
                      </a:lnTo>
                      <a:lnTo>
                        <a:pt x="741" y="0"/>
                      </a:lnTo>
                      <a:lnTo>
                        <a:pt x="771" y="0"/>
                      </a:lnTo>
                      <a:lnTo>
                        <a:pt x="792" y="0"/>
                      </a:lnTo>
                      <a:lnTo>
                        <a:pt x="812" y="0"/>
                      </a:lnTo>
                      <a:lnTo>
                        <a:pt x="832" y="0"/>
                      </a:lnTo>
                      <a:lnTo>
                        <a:pt x="852" y="0"/>
                      </a:lnTo>
                      <a:lnTo>
                        <a:pt x="872" y="0"/>
                      </a:lnTo>
                      <a:lnTo>
                        <a:pt x="902" y="0"/>
                      </a:lnTo>
                      <a:lnTo>
                        <a:pt x="922" y="0"/>
                      </a:lnTo>
                      <a:lnTo>
                        <a:pt x="942" y="0"/>
                      </a:lnTo>
                      <a:lnTo>
                        <a:pt x="962" y="0"/>
                      </a:lnTo>
                      <a:lnTo>
                        <a:pt x="982" y="0"/>
                      </a:lnTo>
                      <a:lnTo>
                        <a:pt x="1002" y="0"/>
                      </a:lnTo>
                      <a:lnTo>
                        <a:pt x="1032" y="0"/>
                      </a:lnTo>
                      <a:lnTo>
                        <a:pt x="1052" y="0"/>
                      </a:lnTo>
                      <a:lnTo>
                        <a:pt x="1072" y="0"/>
                      </a:lnTo>
                      <a:lnTo>
                        <a:pt x="1092" y="0"/>
                      </a:lnTo>
                      <a:lnTo>
                        <a:pt x="1112" y="0"/>
                      </a:lnTo>
                      <a:lnTo>
                        <a:pt x="1132" y="0"/>
                      </a:lnTo>
                      <a:lnTo>
                        <a:pt x="1162" y="0"/>
                      </a:lnTo>
                      <a:lnTo>
                        <a:pt x="1182" y="0"/>
                      </a:lnTo>
                      <a:lnTo>
                        <a:pt x="1202" y="0"/>
                      </a:lnTo>
                      <a:lnTo>
                        <a:pt x="1222" y="0"/>
                      </a:lnTo>
                      <a:lnTo>
                        <a:pt x="1242" y="0"/>
                      </a:lnTo>
                      <a:lnTo>
                        <a:pt x="1262" y="0"/>
                      </a:lnTo>
                      <a:lnTo>
                        <a:pt x="1292" y="0"/>
                      </a:lnTo>
                      <a:lnTo>
                        <a:pt x="1312" y="0"/>
                      </a:lnTo>
                      <a:lnTo>
                        <a:pt x="1332" y="0"/>
                      </a:lnTo>
                      <a:lnTo>
                        <a:pt x="1352" y="0"/>
                      </a:lnTo>
                      <a:lnTo>
                        <a:pt x="1373" y="0"/>
                      </a:lnTo>
                      <a:lnTo>
                        <a:pt x="1393" y="0"/>
                      </a:lnTo>
                      <a:lnTo>
                        <a:pt x="1423" y="0"/>
                      </a:lnTo>
                      <a:lnTo>
                        <a:pt x="1443" y="0"/>
                      </a:lnTo>
                      <a:lnTo>
                        <a:pt x="1463" y="0"/>
                      </a:lnTo>
                      <a:lnTo>
                        <a:pt x="1483" y="0"/>
                      </a:lnTo>
                      <a:lnTo>
                        <a:pt x="1503" y="0"/>
                      </a:lnTo>
                      <a:lnTo>
                        <a:pt x="1523" y="0"/>
                      </a:lnTo>
                      <a:lnTo>
                        <a:pt x="1553" y="0"/>
                      </a:lnTo>
                      <a:lnTo>
                        <a:pt x="1573" y="0"/>
                      </a:lnTo>
                      <a:lnTo>
                        <a:pt x="1593" y="0"/>
                      </a:lnTo>
                      <a:lnTo>
                        <a:pt x="1613" y="0"/>
                      </a:lnTo>
                      <a:lnTo>
                        <a:pt x="1633" y="0"/>
                      </a:lnTo>
                      <a:lnTo>
                        <a:pt x="1653" y="0"/>
                      </a:lnTo>
                      <a:lnTo>
                        <a:pt x="1683" y="0"/>
                      </a:lnTo>
                      <a:lnTo>
                        <a:pt x="1703" y="0"/>
                      </a:lnTo>
                      <a:lnTo>
                        <a:pt x="1723" y="0"/>
                      </a:lnTo>
                      <a:lnTo>
                        <a:pt x="1743" y="0"/>
                      </a:lnTo>
                      <a:lnTo>
                        <a:pt x="1763" y="0"/>
                      </a:lnTo>
                      <a:lnTo>
                        <a:pt x="1783" y="0"/>
                      </a:lnTo>
                      <a:lnTo>
                        <a:pt x="1813" y="0"/>
                      </a:lnTo>
                      <a:lnTo>
                        <a:pt x="1833" y="0"/>
                      </a:lnTo>
                      <a:lnTo>
                        <a:pt x="1853" y="0"/>
                      </a:lnTo>
                      <a:lnTo>
                        <a:pt x="1873" y="0"/>
                      </a:lnTo>
                      <a:lnTo>
                        <a:pt x="1893" y="0"/>
                      </a:lnTo>
                      <a:lnTo>
                        <a:pt x="1913" y="0"/>
                      </a:lnTo>
                      <a:lnTo>
                        <a:pt x="1944" y="0"/>
                      </a:lnTo>
                      <a:lnTo>
                        <a:pt x="1964" y="0"/>
                      </a:lnTo>
                      <a:lnTo>
                        <a:pt x="1984" y="0"/>
                      </a:lnTo>
                      <a:lnTo>
                        <a:pt x="2004" y="0"/>
                      </a:lnTo>
                      <a:lnTo>
                        <a:pt x="2024" y="0"/>
                      </a:lnTo>
                      <a:lnTo>
                        <a:pt x="2044" y="0"/>
                      </a:lnTo>
                      <a:lnTo>
                        <a:pt x="2074" y="0"/>
                      </a:lnTo>
                      <a:lnTo>
                        <a:pt x="2094" y="0"/>
                      </a:lnTo>
                      <a:lnTo>
                        <a:pt x="2114" y="0"/>
                      </a:lnTo>
                      <a:lnTo>
                        <a:pt x="2134" y="0"/>
                      </a:lnTo>
                      <a:lnTo>
                        <a:pt x="2154" y="0"/>
                      </a:lnTo>
                      <a:lnTo>
                        <a:pt x="2174" y="0"/>
                      </a:lnTo>
                      <a:lnTo>
                        <a:pt x="2204" y="0"/>
                      </a:lnTo>
                      <a:lnTo>
                        <a:pt x="2224" y="0"/>
                      </a:lnTo>
                      <a:lnTo>
                        <a:pt x="2244" y="0"/>
                      </a:lnTo>
                      <a:lnTo>
                        <a:pt x="2264" y="0"/>
                      </a:lnTo>
                      <a:lnTo>
                        <a:pt x="2284" y="0"/>
                      </a:lnTo>
                      <a:lnTo>
                        <a:pt x="2314" y="0"/>
                      </a:lnTo>
                      <a:lnTo>
                        <a:pt x="2344" y="0"/>
                      </a:lnTo>
                      <a:lnTo>
                        <a:pt x="2364" y="0"/>
                      </a:lnTo>
                      <a:lnTo>
                        <a:pt x="2384" y="0"/>
                      </a:lnTo>
                      <a:lnTo>
                        <a:pt x="2404" y="0"/>
                      </a:lnTo>
                      <a:lnTo>
                        <a:pt x="2424" y="0"/>
                      </a:lnTo>
                      <a:lnTo>
                        <a:pt x="2454" y="0"/>
                      </a:lnTo>
                      <a:lnTo>
                        <a:pt x="2474" y="0"/>
                      </a:lnTo>
                      <a:lnTo>
                        <a:pt x="2494" y="0"/>
                      </a:lnTo>
                      <a:lnTo>
                        <a:pt x="2515" y="0"/>
                      </a:lnTo>
                      <a:lnTo>
                        <a:pt x="2535" y="0"/>
                      </a:lnTo>
                      <a:lnTo>
                        <a:pt x="2555" y="0"/>
                      </a:lnTo>
                      <a:lnTo>
                        <a:pt x="2585" y="0"/>
                      </a:lnTo>
                      <a:lnTo>
                        <a:pt x="2605" y="0"/>
                      </a:lnTo>
                      <a:lnTo>
                        <a:pt x="2625" y="0"/>
                      </a:lnTo>
                      <a:lnTo>
                        <a:pt x="2645" y="0"/>
                      </a:lnTo>
                      <a:lnTo>
                        <a:pt x="2665" y="0"/>
                      </a:lnTo>
                      <a:lnTo>
                        <a:pt x="2685" y="0"/>
                      </a:lnTo>
                      <a:lnTo>
                        <a:pt x="2715" y="0"/>
                      </a:lnTo>
                      <a:lnTo>
                        <a:pt x="2735" y="0"/>
                      </a:lnTo>
                      <a:lnTo>
                        <a:pt x="2755" y="0"/>
                      </a:lnTo>
                      <a:lnTo>
                        <a:pt x="2775" y="0"/>
                      </a:lnTo>
                      <a:lnTo>
                        <a:pt x="2795" y="0"/>
                      </a:lnTo>
                      <a:lnTo>
                        <a:pt x="2815" y="0"/>
                      </a:lnTo>
                      <a:lnTo>
                        <a:pt x="2845" y="0"/>
                      </a:lnTo>
                      <a:lnTo>
                        <a:pt x="2865" y="0"/>
                      </a:lnTo>
                      <a:lnTo>
                        <a:pt x="2885" y="0"/>
                      </a:lnTo>
                      <a:lnTo>
                        <a:pt x="2905" y="0"/>
                      </a:lnTo>
                      <a:lnTo>
                        <a:pt x="2925" y="0"/>
                      </a:lnTo>
                      <a:lnTo>
                        <a:pt x="2945" y="0"/>
                      </a:lnTo>
                      <a:lnTo>
                        <a:pt x="2975" y="0"/>
                      </a:lnTo>
                      <a:lnTo>
                        <a:pt x="2995" y="0"/>
                      </a:lnTo>
                      <a:lnTo>
                        <a:pt x="3015" y="0"/>
                      </a:lnTo>
                      <a:lnTo>
                        <a:pt x="3035" y="0"/>
                      </a:lnTo>
                      <a:lnTo>
                        <a:pt x="3055" y="0"/>
                      </a:lnTo>
                      <a:lnTo>
                        <a:pt x="3075" y="0"/>
                      </a:lnTo>
                      <a:lnTo>
                        <a:pt x="3106" y="0"/>
                      </a:lnTo>
                      <a:lnTo>
                        <a:pt x="3126" y="0"/>
                      </a:lnTo>
                      <a:lnTo>
                        <a:pt x="3146" y="0"/>
                      </a:lnTo>
                      <a:lnTo>
                        <a:pt x="3166" y="0"/>
                      </a:lnTo>
                      <a:lnTo>
                        <a:pt x="3186" y="0"/>
                      </a:lnTo>
                      <a:lnTo>
                        <a:pt x="3206" y="0"/>
                      </a:lnTo>
                      <a:lnTo>
                        <a:pt x="3236" y="0"/>
                      </a:lnTo>
                      <a:lnTo>
                        <a:pt x="3256" y="0"/>
                      </a:lnTo>
                      <a:lnTo>
                        <a:pt x="3276" y="0"/>
                      </a:lnTo>
                      <a:lnTo>
                        <a:pt x="3296" y="0"/>
                      </a:lnTo>
                      <a:lnTo>
                        <a:pt x="3316" y="0"/>
                      </a:lnTo>
                      <a:lnTo>
                        <a:pt x="3336" y="0"/>
                      </a:lnTo>
                      <a:lnTo>
                        <a:pt x="3366" y="0"/>
                      </a:lnTo>
                      <a:lnTo>
                        <a:pt x="3386" y="0"/>
                      </a:lnTo>
                      <a:lnTo>
                        <a:pt x="3406" y="0"/>
                      </a:lnTo>
                      <a:lnTo>
                        <a:pt x="3426" y="0"/>
                      </a:lnTo>
                      <a:lnTo>
                        <a:pt x="3446" y="0"/>
                      </a:lnTo>
                      <a:lnTo>
                        <a:pt x="3466" y="0"/>
                      </a:lnTo>
                      <a:lnTo>
                        <a:pt x="3496" y="0"/>
                      </a:lnTo>
                      <a:lnTo>
                        <a:pt x="3516" y="0"/>
                      </a:lnTo>
                      <a:lnTo>
                        <a:pt x="3536" y="0"/>
                      </a:lnTo>
                      <a:lnTo>
                        <a:pt x="3556" y="0"/>
                      </a:lnTo>
                      <a:lnTo>
                        <a:pt x="3576" y="0"/>
                      </a:lnTo>
                      <a:lnTo>
                        <a:pt x="3596" y="0"/>
                      </a:lnTo>
                      <a:lnTo>
                        <a:pt x="3626" y="0"/>
                      </a:lnTo>
                      <a:lnTo>
                        <a:pt x="3646" y="0"/>
                      </a:lnTo>
                      <a:lnTo>
                        <a:pt x="3667" y="0"/>
                      </a:lnTo>
                      <a:lnTo>
                        <a:pt x="3687" y="0"/>
                      </a:lnTo>
                      <a:lnTo>
                        <a:pt x="3707" y="0"/>
                      </a:lnTo>
                      <a:lnTo>
                        <a:pt x="3727" y="0"/>
                      </a:lnTo>
                      <a:lnTo>
                        <a:pt x="3757" y="0"/>
                      </a:lnTo>
                      <a:lnTo>
                        <a:pt x="3777" y="0"/>
                      </a:lnTo>
                      <a:lnTo>
                        <a:pt x="3797" y="0"/>
                      </a:lnTo>
                      <a:lnTo>
                        <a:pt x="3817" y="0"/>
                      </a:lnTo>
                      <a:lnTo>
                        <a:pt x="3837" y="0"/>
                      </a:lnTo>
                      <a:lnTo>
                        <a:pt x="3857" y="0"/>
                      </a:lnTo>
                      <a:lnTo>
                        <a:pt x="3887" y="0"/>
                      </a:lnTo>
                      <a:lnTo>
                        <a:pt x="3907" y="0"/>
                      </a:lnTo>
                      <a:lnTo>
                        <a:pt x="3927" y="0"/>
                      </a:lnTo>
                      <a:lnTo>
                        <a:pt x="3947" y="0"/>
                      </a:lnTo>
                      <a:lnTo>
                        <a:pt x="3967" y="0"/>
                      </a:lnTo>
                      <a:lnTo>
                        <a:pt x="3987" y="0"/>
                      </a:lnTo>
                      <a:lnTo>
                        <a:pt x="4017" y="0"/>
                      </a:lnTo>
                      <a:lnTo>
                        <a:pt x="4037" y="0"/>
                      </a:lnTo>
                      <a:lnTo>
                        <a:pt x="4057" y="0"/>
                      </a:lnTo>
                      <a:lnTo>
                        <a:pt x="4077" y="0"/>
                      </a:lnTo>
                      <a:lnTo>
                        <a:pt x="4097" y="0"/>
                      </a:lnTo>
                      <a:lnTo>
                        <a:pt x="4117" y="0"/>
                      </a:lnTo>
                      <a:lnTo>
                        <a:pt x="4147" y="0"/>
                      </a:lnTo>
                      <a:lnTo>
                        <a:pt x="4167" y="0"/>
                      </a:lnTo>
                      <a:lnTo>
                        <a:pt x="4187" y="0"/>
                      </a:lnTo>
                      <a:lnTo>
                        <a:pt x="4207" y="0"/>
                      </a:lnTo>
                      <a:lnTo>
                        <a:pt x="4227" y="0"/>
                      </a:lnTo>
                      <a:lnTo>
                        <a:pt x="4258" y="0"/>
                      </a:lnTo>
                      <a:lnTo>
                        <a:pt x="4288" y="0"/>
                      </a:lnTo>
                      <a:lnTo>
                        <a:pt x="4308" y="0"/>
                      </a:lnTo>
                      <a:lnTo>
                        <a:pt x="4328" y="0"/>
                      </a:lnTo>
                      <a:lnTo>
                        <a:pt x="4348" y="0"/>
                      </a:lnTo>
                      <a:lnTo>
                        <a:pt x="4368" y="0"/>
                      </a:lnTo>
                      <a:lnTo>
                        <a:pt x="4388" y="0"/>
                      </a:lnTo>
                      <a:lnTo>
                        <a:pt x="4418" y="0"/>
                      </a:lnTo>
                      <a:lnTo>
                        <a:pt x="4438"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620640" y="5106960"/>
                  <a:ext cx="7902720" cy="1800"/>
                </a:xfrm>
                <a:custGeom>
                  <a:avLst/>
                  <a:gdLst/>
                  <a:ahLst/>
                  <a:rect l="l" t="t" r="r" b="b"/>
                  <a:pathLst>
                    <a:path w="4978" h="0">
                      <a:moveTo>
                        <a:pt x="0" y="0"/>
                      </a:moveTo>
                      <a:lnTo>
                        <a:pt x="20" y="0"/>
                      </a:lnTo>
                      <a:lnTo>
                        <a:pt x="40" y="0"/>
                      </a:lnTo>
                      <a:lnTo>
                        <a:pt x="60" y="0"/>
                      </a:lnTo>
                      <a:lnTo>
                        <a:pt x="90" y="0"/>
                      </a:lnTo>
                      <a:lnTo>
                        <a:pt x="110" y="0"/>
                      </a:lnTo>
                      <a:lnTo>
                        <a:pt x="130" y="0"/>
                      </a:lnTo>
                      <a:lnTo>
                        <a:pt x="150" y="0"/>
                      </a:lnTo>
                      <a:lnTo>
                        <a:pt x="170" y="0"/>
                      </a:lnTo>
                      <a:lnTo>
                        <a:pt x="190" y="0"/>
                      </a:lnTo>
                      <a:lnTo>
                        <a:pt x="220" y="0"/>
                      </a:lnTo>
                      <a:lnTo>
                        <a:pt x="240" y="0"/>
                      </a:lnTo>
                      <a:lnTo>
                        <a:pt x="260" y="0"/>
                      </a:lnTo>
                      <a:lnTo>
                        <a:pt x="280" y="0"/>
                      </a:lnTo>
                      <a:lnTo>
                        <a:pt x="300" y="0"/>
                      </a:lnTo>
                      <a:lnTo>
                        <a:pt x="320" y="0"/>
                      </a:lnTo>
                      <a:lnTo>
                        <a:pt x="340" y="0"/>
                      </a:lnTo>
                      <a:lnTo>
                        <a:pt x="370" y="0"/>
                      </a:lnTo>
                      <a:lnTo>
                        <a:pt x="390" y="0"/>
                      </a:lnTo>
                      <a:lnTo>
                        <a:pt x="410" y="0"/>
                      </a:lnTo>
                      <a:lnTo>
                        <a:pt x="430" y="0"/>
                      </a:lnTo>
                      <a:lnTo>
                        <a:pt x="450" y="0"/>
                      </a:lnTo>
                      <a:lnTo>
                        <a:pt x="470" y="0"/>
                      </a:lnTo>
                      <a:lnTo>
                        <a:pt x="501" y="0"/>
                      </a:lnTo>
                      <a:lnTo>
                        <a:pt x="521" y="0"/>
                      </a:lnTo>
                      <a:lnTo>
                        <a:pt x="541" y="0"/>
                      </a:lnTo>
                      <a:lnTo>
                        <a:pt x="561" y="0"/>
                      </a:lnTo>
                      <a:lnTo>
                        <a:pt x="581" y="0"/>
                      </a:lnTo>
                      <a:lnTo>
                        <a:pt x="601" y="0"/>
                      </a:lnTo>
                      <a:lnTo>
                        <a:pt x="631" y="0"/>
                      </a:lnTo>
                      <a:lnTo>
                        <a:pt x="651" y="0"/>
                      </a:lnTo>
                      <a:lnTo>
                        <a:pt x="681" y="0"/>
                      </a:lnTo>
                      <a:lnTo>
                        <a:pt x="701" y="0"/>
                      </a:lnTo>
                      <a:lnTo>
                        <a:pt x="721" y="0"/>
                      </a:lnTo>
                      <a:lnTo>
                        <a:pt x="741" y="0"/>
                      </a:lnTo>
                      <a:lnTo>
                        <a:pt x="771" y="0"/>
                      </a:lnTo>
                      <a:lnTo>
                        <a:pt x="791" y="0"/>
                      </a:lnTo>
                      <a:lnTo>
                        <a:pt x="811" y="0"/>
                      </a:lnTo>
                      <a:lnTo>
                        <a:pt x="831" y="0"/>
                      </a:lnTo>
                      <a:lnTo>
                        <a:pt x="851" y="0"/>
                      </a:lnTo>
                      <a:lnTo>
                        <a:pt x="871" y="0"/>
                      </a:lnTo>
                      <a:lnTo>
                        <a:pt x="901" y="0"/>
                      </a:lnTo>
                      <a:lnTo>
                        <a:pt x="921" y="0"/>
                      </a:lnTo>
                      <a:lnTo>
                        <a:pt x="941" y="0"/>
                      </a:lnTo>
                      <a:lnTo>
                        <a:pt x="961" y="0"/>
                      </a:lnTo>
                      <a:lnTo>
                        <a:pt x="981" y="0"/>
                      </a:lnTo>
                      <a:lnTo>
                        <a:pt x="1001" y="0"/>
                      </a:lnTo>
                      <a:lnTo>
                        <a:pt x="1031" y="0"/>
                      </a:lnTo>
                      <a:lnTo>
                        <a:pt x="1052" y="0"/>
                      </a:lnTo>
                      <a:lnTo>
                        <a:pt x="1072" y="0"/>
                      </a:lnTo>
                      <a:lnTo>
                        <a:pt x="1092" y="0"/>
                      </a:lnTo>
                      <a:lnTo>
                        <a:pt x="1112" y="0"/>
                      </a:lnTo>
                      <a:lnTo>
                        <a:pt x="1132" y="0"/>
                      </a:lnTo>
                      <a:lnTo>
                        <a:pt x="1162" y="0"/>
                      </a:lnTo>
                      <a:lnTo>
                        <a:pt x="1182" y="0"/>
                      </a:lnTo>
                      <a:lnTo>
                        <a:pt x="1202" y="0"/>
                      </a:lnTo>
                      <a:lnTo>
                        <a:pt x="1222" y="0"/>
                      </a:lnTo>
                      <a:lnTo>
                        <a:pt x="1242" y="0"/>
                      </a:lnTo>
                      <a:lnTo>
                        <a:pt x="1262" y="0"/>
                      </a:lnTo>
                      <a:lnTo>
                        <a:pt x="1292" y="0"/>
                      </a:lnTo>
                      <a:lnTo>
                        <a:pt x="1312" y="0"/>
                      </a:lnTo>
                      <a:lnTo>
                        <a:pt x="1332" y="0"/>
                      </a:lnTo>
                      <a:lnTo>
                        <a:pt x="1352" y="0"/>
                      </a:lnTo>
                      <a:lnTo>
                        <a:pt x="1372" y="0"/>
                      </a:lnTo>
                      <a:lnTo>
                        <a:pt x="1392" y="0"/>
                      </a:lnTo>
                      <a:lnTo>
                        <a:pt x="1422" y="0"/>
                      </a:lnTo>
                      <a:lnTo>
                        <a:pt x="1442" y="0"/>
                      </a:lnTo>
                      <a:lnTo>
                        <a:pt x="1462" y="0"/>
                      </a:lnTo>
                      <a:lnTo>
                        <a:pt x="1482" y="0"/>
                      </a:lnTo>
                      <a:lnTo>
                        <a:pt x="1502" y="0"/>
                      </a:lnTo>
                      <a:lnTo>
                        <a:pt x="1522" y="0"/>
                      </a:lnTo>
                      <a:lnTo>
                        <a:pt x="1552" y="0"/>
                      </a:lnTo>
                      <a:lnTo>
                        <a:pt x="1572" y="0"/>
                      </a:lnTo>
                      <a:lnTo>
                        <a:pt x="1592" y="0"/>
                      </a:lnTo>
                      <a:lnTo>
                        <a:pt x="1612" y="0"/>
                      </a:lnTo>
                      <a:lnTo>
                        <a:pt x="1633" y="0"/>
                      </a:lnTo>
                      <a:lnTo>
                        <a:pt x="1653" y="0"/>
                      </a:lnTo>
                      <a:lnTo>
                        <a:pt x="1683" y="0"/>
                      </a:lnTo>
                      <a:lnTo>
                        <a:pt x="1703" y="0"/>
                      </a:lnTo>
                      <a:lnTo>
                        <a:pt x="1723" y="0"/>
                      </a:lnTo>
                      <a:lnTo>
                        <a:pt x="1743" y="0"/>
                      </a:lnTo>
                      <a:lnTo>
                        <a:pt x="1763" y="0"/>
                      </a:lnTo>
                      <a:lnTo>
                        <a:pt x="1783" y="0"/>
                      </a:lnTo>
                      <a:lnTo>
                        <a:pt x="1813" y="0"/>
                      </a:lnTo>
                      <a:lnTo>
                        <a:pt x="1833" y="0"/>
                      </a:lnTo>
                      <a:lnTo>
                        <a:pt x="1853" y="0"/>
                      </a:lnTo>
                      <a:lnTo>
                        <a:pt x="1873" y="0"/>
                      </a:lnTo>
                      <a:lnTo>
                        <a:pt x="1893" y="0"/>
                      </a:lnTo>
                      <a:lnTo>
                        <a:pt x="1913" y="0"/>
                      </a:lnTo>
                      <a:lnTo>
                        <a:pt x="1943" y="0"/>
                      </a:lnTo>
                      <a:lnTo>
                        <a:pt x="1963" y="0"/>
                      </a:lnTo>
                      <a:lnTo>
                        <a:pt x="1983" y="0"/>
                      </a:lnTo>
                      <a:lnTo>
                        <a:pt x="2003" y="0"/>
                      </a:lnTo>
                      <a:lnTo>
                        <a:pt x="2023" y="0"/>
                      </a:lnTo>
                      <a:lnTo>
                        <a:pt x="2043" y="0"/>
                      </a:lnTo>
                      <a:lnTo>
                        <a:pt x="2073" y="0"/>
                      </a:lnTo>
                      <a:lnTo>
                        <a:pt x="2093" y="0"/>
                      </a:lnTo>
                      <a:lnTo>
                        <a:pt x="2113" y="0"/>
                      </a:lnTo>
                      <a:lnTo>
                        <a:pt x="2133" y="0"/>
                      </a:lnTo>
                      <a:lnTo>
                        <a:pt x="2153" y="0"/>
                      </a:lnTo>
                      <a:lnTo>
                        <a:pt x="2173" y="0"/>
                      </a:lnTo>
                      <a:lnTo>
                        <a:pt x="2204" y="0"/>
                      </a:lnTo>
                      <a:lnTo>
                        <a:pt x="2224" y="0"/>
                      </a:lnTo>
                      <a:lnTo>
                        <a:pt x="2244" y="0"/>
                      </a:lnTo>
                      <a:lnTo>
                        <a:pt x="2264" y="0"/>
                      </a:lnTo>
                      <a:lnTo>
                        <a:pt x="2284" y="0"/>
                      </a:lnTo>
                      <a:lnTo>
                        <a:pt x="2304" y="0"/>
                      </a:lnTo>
                      <a:lnTo>
                        <a:pt x="2334" y="0"/>
                      </a:lnTo>
                      <a:lnTo>
                        <a:pt x="2354" y="0"/>
                      </a:lnTo>
                      <a:lnTo>
                        <a:pt x="2374" y="0"/>
                      </a:lnTo>
                      <a:lnTo>
                        <a:pt x="2394" y="0"/>
                      </a:lnTo>
                      <a:lnTo>
                        <a:pt x="2414" y="0"/>
                      </a:lnTo>
                      <a:lnTo>
                        <a:pt x="2434" y="0"/>
                      </a:lnTo>
                      <a:lnTo>
                        <a:pt x="2464" y="0"/>
                      </a:lnTo>
                      <a:lnTo>
                        <a:pt x="2484" y="0"/>
                      </a:lnTo>
                      <a:lnTo>
                        <a:pt x="2504" y="0"/>
                      </a:lnTo>
                      <a:lnTo>
                        <a:pt x="2524" y="0"/>
                      </a:lnTo>
                      <a:lnTo>
                        <a:pt x="2544" y="0"/>
                      </a:lnTo>
                      <a:lnTo>
                        <a:pt x="2564" y="0"/>
                      </a:lnTo>
                      <a:lnTo>
                        <a:pt x="2604" y="0"/>
                      </a:lnTo>
                      <a:lnTo>
                        <a:pt x="2624" y="0"/>
                      </a:lnTo>
                      <a:lnTo>
                        <a:pt x="2644" y="0"/>
                      </a:lnTo>
                      <a:lnTo>
                        <a:pt x="2664" y="0"/>
                      </a:lnTo>
                      <a:lnTo>
                        <a:pt x="2684" y="0"/>
                      </a:lnTo>
                      <a:lnTo>
                        <a:pt x="2704" y="0"/>
                      </a:lnTo>
                      <a:lnTo>
                        <a:pt x="2734" y="0"/>
                      </a:lnTo>
                      <a:lnTo>
                        <a:pt x="2754" y="0"/>
                      </a:lnTo>
                      <a:lnTo>
                        <a:pt x="2774" y="0"/>
                      </a:lnTo>
                      <a:lnTo>
                        <a:pt x="2795" y="0"/>
                      </a:lnTo>
                      <a:lnTo>
                        <a:pt x="2815" y="0"/>
                      </a:lnTo>
                      <a:lnTo>
                        <a:pt x="2835" y="0"/>
                      </a:lnTo>
                      <a:lnTo>
                        <a:pt x="2865" y="0"/>
                      </a:lnTo>
                      <a:lnTo>
                        <a:pt x="2885" y="0"/>
                      </a:lnTo>
                      <a:lnTo>
                        <a:pt x="2905" y="0"/>
                      </a:lnTo>
                      <a:lnTo>
                        <a:pt x="2925" y="0"/>
                      </a:lnTo>
                      <a:lnTo>
                        <a:pt x="2945" y="0"/>
                      </a:lnTo>
                      <a:lnTo>
                        <a:pt x="2965" y="0"/>
                      </a:lnTo>
                      <a:lnTo>
                        <a:pt x="2995" y="0"/>
                      </a:lnTo>
                      <a:lnTo>
                        <a:pt x="3015" y="0"/>
                      </a:lnTo>
                      <a:lnTo>
                        <a:pt x="3035" y="0"/>
                      </a:lnTo>
                      <a:lnTo>
                        <a:pt x="3055" y="0"/>
                      </a:lnTo>
                      <a:lnTo>
                        <a:pt x="3075" y="0"/>
                      </a:lnTo>
                      <a:lnTo>
                        <a:pt x="3095" y="0"/>
                      </a:lnTo>
                      <a:lnTo>
                        <a:pt x="3125" y="0"/>
                      </a:lnTo>
                      <a:lnTo>
                        <a:pt x="3145" y="0"/>
                      </a:lnTo>
                      <a:lnTo>
                        <a:pt x="3165" y="0"/>
                      </a:lnTo>
                      <a:lnTo>
                        <a:pt x="3185" y="0"/>
                      </a:lnTo>
                      <a:lnTo>
                        <a:pt x="3205" y="0"/>
                      </a:lnTo>
                      <a:lnTo>
                        <a:pt x="3225" y="0"/>
                      </a:lnTo>
                      <a:lnTo>
                        <a:pt x="3255" y="0"/>
                      </a:lnTo>
                      <a:lnTo>
                        <a:pt x="3275" y="0"/>
                      </a:lnTo>
                      <a:lnTo>
                        <a:pt x="3295" y="0"/>
                      </a:lnTo>
                      <a:lnTo>
                        <a:pt x="3315" y="0"/>
                      </a:lnTo>
                      <a:lnTo>
                        <a:pt x="3335" y="0"/>
                      </a:lnTo>
                      <a:lnTo>
                        <a:pt x="3356" y="0"/>
                      </a:lnTo>
                      <a:lnTo>
                        <a:pt x="3386" y="0"/>
                      </a:lnTo>
                      <a:lnTo>
                        <a:pt x="3406" y="0"/>
                      </a:lnTo>
                      <a:lnTo>
                        <a:pt x="3426" y="0"/>
                      </a:lnTo>
                      <a:lnTo>
                        <a:pt x="3446" y="0"/>
                      </a:lnTo>
                      <a:lnTo>
                        <a:pt x="3466" y="0"/>
                      </a:lnTo>
                      <a:lnTo>
                        <a:pt x="3486" y="0"/>
                      </a:lnTo>
                      <a:lnTo>
                        <a:pt x="3516" y="0"/>
                      </a:lnTo>
                      <a:lnTo>
                        <a:pt x="3536" y="0"/>
                      </a:lnTo>
                      <a:lnTo>
                        <a:pt x="3556" y="0"/>
                      </a:lnTo>
                      <a:lnTo>
                        <a:pt x="3576" y="0"/>
                      </a:lnTo>
                      <a:lnTo>
                        <a:pt x="3596" y="0"/>
                      </a:lnTo>
                      <a:lnTo>
                        <a:pt x="3616" y="0"/>
                      </a:lnTo>
                      <a:lnTo>
                        <a:pt x="3646" y="0"/>
                      </a:lnTo>
                      <a:lnTo>
                        <a:pt x="3666" y="0"/>
                      </a:lnTo>
                      <a:lnTo>
                        <a:pt x="3686" y="0"/>
                      </a:lnTo>
                      <a:lnTo>
                        <a:pt x="3706" y="0"/>
                      </a:lnTo>
                      <a:lnTo>
                        <a:pt x="3726" y="0"/>
                      </a:lnTo>
                      <a:lnTo>
                        <a:pt x="3746" y="0"/>
                      </a:lnTo>
                      <a:lnTo>
                        <a:pt x="3776" y="0"/>
                      </a:lnTo>
                      <a:lnTo>
                        <a:pt x="3796" y="0"/>
                      </a:lnTo>
                      <a:lnTo>
                        <a:pt x="3816" y="0"/>
                      </a:lnTo>
                      <a:lnTo>
                        <a:pt x="3836" y="0"/>
                      </a:lnTo>
                      <a:lnTo>
                        <a:pt x="3856" y="0"/>
                      </a:lnTo>
                      <a:lnTo>
                        <a:pt x="3876" y="0"/>
                      </a:lnTo>
                      <a:lnTo>
                        <a:pt x="3906" y="0"/>
                      </a:lnTo>
                      <a:lnTo>
                        <a:pt x="3926" y="0"/>
                      </a:lnTo>
                      <a:lnTo>
                        <a:pt x="3947" y="0"/>
                      </a:lnTo>
                      <a:lnTo>
                        <a:pt x="3967" y="0"/>
                      </a:lnTo>
                      <a:lnTo>
                        <a:pt x="3987" y="0"/>
                      </a:lnTo>
                      <a:lnTo>
                        <a:pt x="4007" y="0"/>
                      </a:lnTo>
                      <a:lnTo>
                        <a:pt x="4037" y="0"/>
                      </a:lnTo>
                      <a:lnTo>
                        <a:pt x="4057" y="0"/>
                      </a:lnTo>
                      <a:lnTo>
                        <a:pt x="4077" y="0"/>
                      </a:lnTo>
                      <a:lnTo>
                        <a:pt x="4097" y="0"/>
                      </a:lnTo>
                      <a:lnTo>
                        <a:pt x="4117" y="0"/>
                      </a:lnTo>
                      <a:lnTo>
                        <a:pt x="4137" y="0"/>
                      </a:lnTo>
                      <a:lnTo>
                        <a:pt x="4167" y="0"/>
                      </a:lnTo>
                      <a:lnTo>
                        <a:pt x="4187" y="0"/>
                      </a:lnTo>
                      <a:lnTo>
                        <a:pt x="4207" y="0"/>
                      </a:lnTo>
                      <a:lnTo>
                        <a:pt x="4227" y="0"/>
                      </a:lnTo>
                      <a:lnTo>
                        <a:pt x="4247" y="0"/>
                      </a:lnTo>
                      <a:lnTo>
                        <a:pt x="4267" y="0"/>
                      </a:lnTo>
                      <a:lnTo>
                        <a:pt x="4297" y="0"/>
                      </a:lnTo>
                      <a:lnTo>
                        <a:pt x="4317" y="0"/>
                      </a:lnTo>
                      <a:lnTo>
                        <a:pt x="4337" y="0"/>
                      </a:lnTo>
                      <a:lnTo>
                        <a:pt x="4357" y="0"/>
                      </a:lnTo>
                      <a:lnTo>
                        <a:pt x="4377" y="0"/>
                      </a:lnTo>
                      <a:lnTo>
                        <a:pt x="4397" y="0"/>
                      </a:lnTo>
                      <a:lnTo>
                        <a:pt x="4427" y="0"/>
                      </a:lnTo>
                      <a:lnTo>
                        <a:pt x="4447" y="0"/>
                      </a:lnTo>
                      <a:lnTo>
                        <a:pt x="4467" y="0"/>
                      </a:lnTo>
                      <a:lnTo>
                        <a:pt x="4487" y="0"/>
                      </a:lnTo>
                      <a:lnTo>
                        <a:pt x="4508" y="0"/>
                      </a:lnTo>
                      <a:lnTo>
                        <a:pt x="4538" y="0"/>
                      </a:lnTo>
                      <a:lnTo>
                        <a:pt x="4568" y="0"/>
                      </a:lnTo>
                      <a:lnTo>
                        <a:pt x="4588" y="0"/>
                      </a:lnTo>
                      <a:lnTo>
                        <a:pt x="4608" y="0"/>
                      </a:lnTo>
                      <a:lnTo>
                        <a:pt x="4628" y="0"/>
                      </a:lnTo>
                      <a:lnTo>
                        <a:pt x="4648" y="0"/>
                      </a:lnTo>
                      <a:lnTo>
                        <a:pt x="4668" y="0"/>
                      </a:lnTo>
                      <a:lnTo>
                        <a:pt x="4688" y="0"/>
                      </a:lnTo>
                      <a:lnTo>
                        <a:pt x="4718" y="0"/>
                      </a:lnTo>
                      <a:lnTo>
                        <a:pt x="4738" y="0"/>
                      </a:lnTo>
                      <a:lnTo>
                        <a:pt x="4758" y="0"/>
                      </a:lnTo>
                      <a:lnTo>
                        <a:pt x="4778" y="0"/>
                      </a:lnTo>
                      <a:lnTo>
                        <a:pt x="4798" y="0"/>
                      </a:lnTo>
                      <a:lnTo>
                        <a:pt x="4818" y="0"/>
                      </a:lnTo>
                      <a:lnTo>
                        <a:pt x="4848" y="0"/>
                      </a:lnTo>
                      <a:lnTo>
                        <a:pt x="4868" y="0"/>
                      </a:lnTo>
                      <a:lnTo>
                        <a:pt x="4888" y="0"/>
                      </a:lnTo>
                      <a:lnTo>
                        <a:pt x="4908" y="0"/>
                      </a:lnTo>
                      <a:lnTo>
                        <a:pt x="4928" y="0"/>
                      </a:lnTo>
                      <a:lnTo>
                        <a:pt x="4948" y="0"/>
                      </a:lnTo>
                      <a:lnTo>
                        <a:pt x="4978" y="0"/>
                      </a:lnTo>
                    </a:path>
                  </a:pathLst>
                </a:custGeom>
                <a:solidFill>
                  <a:srgbClr val="ccec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333360" y="4635360"/>
                  <a:ext cx="8461440" cy="1800"/>
                </a:xfrm>
                <a:custGeom>
                  <a:avLst/>
                  <a:gdLst/>
                  <a:ahLst/>
                  <a:rect l="l" t="t" r="r" b="b"/>
                  <a:pathLst>
                    <a:path w="5330" h="0">
                      <a:moveTo>
                        <a:pt x="0" y="0"/>
                      </a:moveTo>
                      <a:lnTo>
                        <a:pt x="20" y="0"/>
                      </a:lnTo>
                      <a:lnTo>
                        <a:pt x="50" y="0"/>
                      </a:lnTo>
                      <a:lnTo>
                        <a:pt x="70" y="0"/>
                      </a:lnTo>
                      <a:lnTo>
                        <a:pt x="91" y="0"/>
                      </a:lnTo>
                      <a:lnTo>
                        <a:pt x="111" y="0"/>
                      </a:lnTo>
                      <a:lnTo>
                        <a:pt x="131" y="0"/>
                      </a:lnTo>
                      <a:lnTo>
                        <a:pt x="151" y="0"/>
                      </a:lnTo>
                      <a:lnTo>
                        <a:pt x="181" y="0"/>
                      </a:lnTo>
                      <a:lnTo>
                        <a:pt x="201" y="0"/>
                      </a:lnTo>
                      <a:lnTo>
                        <a:pt x="221" y="0"/>
                      </a:lnTo>
                      <a:lnTo>
                        <a:pt x="241" y="0"/>
                      </a:lnTo>
                      <a:lnTo>
                        <a:pt x="261" y="0"/>
                      </a:lnTo>
                      <a:lnTo>
                        <a:pt x="281" y="0"/>
                      </a:lnTo>
                      <a:lnTo>
                        <a:pt x="311" y="0"/>
                      </a:lnTo>
                      <a:lnTo>
                        <a:pt x="331" y="0"/>
                      </a:lnTo>
                      <a:lnTo>
                        <a:pt x="351" y="0"/>
                      </a:lnTo>
                      <a:lnTo>
                        <a:pt x="371" y="0"/>
                      </a:lnTo>
                      <a:lnTo>
                        <a:pt x="391" y="0"/>
                      </a:lnTo>
                      <a:lnTo>
                        <a:pt x="411" y="0"/>
                      </a:lnTo>
                      <a:lnTo>
                        <a:pt x="441" y="0"/>
                      </a:lnTo>
                      <a:lnTo>
                        <a:pt x="461" y="0"/>
                      </a:lnTo>
                      <a:lnTo>
                        <a:pt x="481" y="0"/>
                      </a:lnTo>
                      <a:lnTo>
                        <a:pt x="501" y="0"/>
                      </a:lnTo>
                      <a:lnTo>
                        <a:pt x="521" y="0"/>
                      </a:lnTo>
                      <a:lnTo>
                        <a:pt x="541" y="0"/>
                      </a:lnTo>
                      <a:lnTo>
                        <a:pt x="571" y="0"/>
                      </a:lnTo>
                      <a:lnTo>
                        <a:pt x="591" y="0"/>
                      </a:lnTo>
                      <a:lnTo>
                        <a:pt x="611" y="0"/>
                      </a:lnTo>
                      <a:lnTo>
                        <a:pt x="631" y="0"/>
                      </a:lnTo>
                      <a:lnTo>
                        <a:pt x="651" y="0"/>
                      </a:lnTo>
                      <a:lnTo>
                        <a:pt x="672" y="0"/>
                      </a:lnTo>
                      <a:lnTo>
                        <a:pt x="702" y="0"/>
                      </a:lnTo>
                      <a:lnTo>
                        <a:pt x="722" y="0"/>
                      </a:lnTo>
                      <a:lnTo>
                        <a:pt x="742" y="0"/>
                      </a:lnTo>
                      <a:lnTo>
                        <a:pt x="762" y="0"/>
                      </a:lnTo>
                      <a:lnTo>
                        <a:pt x="782" y="0"/>
                      </a:lnTo>
                      <a:lnTo>
                        <a:pt x="802" y="0"/>
                      </a:lnTo>
                      <a:lnTo>
                        <a:pt x="832" y="0"/>
                      </a:lnTo>
                      <a:lnTo>
                        <a:pt x="862" y="0"/>
                      </a:lnTo>
                      <a:lnTo>
                        <a:pt x="882" y="0"/>
                      </a:lnTo>
                      <a:lnTo>
                        <a:pt x="902" y="0"/>
                      </a:lnTo>
                      <a:lnTo>
                        <a:pt x="922" y="0"/>
                      </a:lnTo>
                      <a:lnTo>
                        <a:pt x="942" y="0"/>
                      </a:lnTo>
                      <a:lnTo>
                        <a:pt x="972" y="0"/>
                      </a:lnTo>
                      <a:lnTo>
                        <a:pt x="992" y="0"/>
                      </a:lnTo>
                      <a:lnTo>
                        <a:pt x="1012" y="0"/>
                      </a:lnTo>
                      <a:lnTo>
                        <a:pt x="1032" y="0"/>
                      </a:lnTo>
                      <a:lnTo>
                        <a:pt x="1052" y="0"/>
                      </a:lnTo>
                      <a:lnTo>
                        <a:pt x="1072" y="0"/>
                      </a:lnTo>
                      <a:lnTo>
                        <a:pt x="1102" y="0"/>
                      </a:lnTo>
                      <a:lnTo>
                        <a:pt x="1122" y="0"/>
                      </a:lnTo>
                      <a:lnTo>
                        <a:pt x="1142" y="0"/>
                      </a:lnTo>
                      <a:lnTo>
                        <a:pt x="1162" y="0"/>
                      </a:lnTo>
                      <a:lnTo>
                        <a:pt x="1182" y="0"/>
                      </a:lnTo>
                      <a:lnTo>
                        <a:pt x="1212" y="0"/>
                      </a:lnTo>
                      <a:lnTo>
                        <a:pt x="1233" y="0"/>
                      </a:lnTo>
                      <a:lnTo>
                        <a:pt x="1253" y="0"/>
                      </a:lnTo>
                      <a:lnTo>
                        <a:pt x="1273" y="0"/>
                      </a:lnTo>
                      <a:lnTo>
                        <a:pt x="1293" y="0"/>
                      </a:lnTo>
                      <a:lnTo>
                        <a:pt x="1313" y="0"/>
                      </a:lnTo>
                      <a:lnTo>
                        <a:pt x="1343" y="0"/>
                      </a:lnTo>
                      <a:lnTo>
                        <a:pt x="1363" y="0"/>
                      </a:lnTo>
                      <a:lnTo>
                        <a:pt x="1383" y="0"/>
                      </a:lnTo>
                      <a:lnTo>
                        <a:pt x="1403" y="0"/>
                      </a:lnTo>
                      <a:lnTo>
                        <a:pt x="1423" y="0"/>
                      </a:lnTo>
                      <a:lnTo>
                        <a:pt x="1443" y="0"/>
                      </a:lnTo>
                      <a:lnTo>
                        <a:pt x="1473" y="0"/>
                      </a:lnTo>
                      <a:lnTo>
                        <a:pt x="1493" y="0"/>
                      </a:lnTo>
                      <a:lnTo>
                        <a:pt x="1513" y="0"/>
                      </a:lnTo>
                      <a:lnTo>
                        <a:pt x="1533" y="0"/>
                      </a:lnTo>
                      <a:lnTo>
                        <a:pt x="1553" y="0"/>
                      </a:lnTo>
                      <a:lnTo>
                        <a:pt x="1573" y="0"/>
                      </a:lnTo>
                      <a:lnTo>
                        <a:pt x="1603" y="0"/>
                      </a:lnTo>
                      <a:lnTo>
                        <a:pt x="1623" y="0"/>
                      </a:lnTo>
                      <a:lnTo>
                        <a:pt x="1643" y="0"/>
                      </a:lnTo>
                      <a:lnTo>
                        <a:pt x="1663" y="0"/>
                      </a:lnTo>
                      <a:lnTo>
                        <a:pt x="1683" y="0"/>
                      </a:lnTo>
                      <a:lnTo>
                        <a:pt x="1703" y="0"/>
                      </a:lnTo>
                      <a:lnTo>
                        <a:pt x="1733" y="0"/>
                      </a:lnTo>
                      <a:lnTo>
                        <a:pt x="1753" y="0"/>
                      </a:lnTo>
                      <a:lnTo>
                        <a:pt x="1773" y="0"/>
                      </a:lnTo>
                      <a:lnTo>
                        <a:pt x="1793" y="0"/>
                      </a:lnTo>
                      <a:lnTo>
                        <a:pt x="1814" y="0"/>
                      </a:lnTo>
                      <a:lnTo>
                        <a:pt x="1834" y="0"/>
                      </a:lnTo>
                      <a:lnTo>
                        <a:pt x="1864" y="0"/>
                      </a:lnTo>
                      <a:lnTo>
                        <a:pt x="1884" y="0"/>
                      </a:lnTo>
                      <a:lnTo>
                        <a:pt x="1904" y="0"/>
                      </a:lnTo>
                      <a:lnTo>
                        <a:pt x="1924" y="0"/>
                      </a:lnTo>
                      <a:lnTo>
                        <a:pt x="1944" y="0"/>
                      </a:lnTo>
                      <a:lnTo>
                        <a:pt x="1964" y="0"/>
                      </a:lnTo>
                      <a:lnTo>
                        <a:pt x="1994" y="0"/>
                      </a:lnTo>
                      <a:lnTo>
                        <a:pt x="2014" y="0"/>
                      </a:lnTo>
                      <a:lnTo>
                        <a:pt x="2034" y="0"/>
                      </a:lnTo>
                      <a:lnTo>
                        <a:pt x="2054" y="0"/>
                      </a:lnTo>
                      <a:lnTo>
                        <a:pt x="2074" y="0"/>
                      </a:lnTo>
                      <a:lnTo>
                        <a:pt x="2094" y="0"/>
                      </a:lnTo>
                      <a:lnTo>
                        <a:pt x="2124" y="0"/>
                      </a:lnTo>
                      <a:lnTo>
                        <a:pt x="2144" y="0"/>
                      </a:lnTo>
                      <a:lnTo>
                        <a:pt x="2164" y="0"/>
                      </a:lnTo>
                      <a:lnTo>
                        <a:pt x="2184" y="0"/>
                      </a:lnTo>
                      <a:lnTo>
                        <a:pt x="2204" y="0"/>
                      </a:lnTo>
                      <a:lnTo>
                        <a:pt x="2224" y="0"/>
                      </a:lnTo>
                      <a:lnTo>
                        <a:pt x="2254" y="0"/>
                      </a:lnTo>
                      <a:lnTo>
                        <a:pt x="2274" y="0"/>
                      </a:lnTo>
                      <a:lnTo>
                        <a:pt x="2294" y="0"/>
                      </a:lnTo>
                      <a:lnTo>
                        <a:pt x="2314" y="0"/>
                      </a:lnTo>
                      <a:lnTo>
                        <a:pt x="2334" y="0"/>
                      </a:lnTo>
                      <a:lnTo>
                        <a:pt x="2354" y="0"/>
                      </a:lnTo>
                      <a:lnTo>
                        <a:pt x="2385" y="0"/>
                      </a:lnTo>
                      <a:lnTo>
                        <a:pt x="2405" y="0"/>
                      </a:lnTo>
                      <a:lnTo>
                        <a:pt x="2425" y="0"/>
                      </a:lnTo>
                      <a:lnTo>
                        <a:pt x="2445" y="0"/>
                      </a:lnTo>
                      <a:lnTo>
                        <a:pt x="2465" y="0"/>
                      </a:lnTo>
                      <a:lnTo>
                        <a:pt x="2485" y="0"/>
                      </a:lnTo>
                      <a:lnTo>
                        <a:pt x="2515" y="0"/>
                      </a:lnTo>
                      <a:lnTo>
                        <a:pt x="2535" y="0"/>
                      </a:lnTo>
                      <a:lnTo>
                        <a:pt x="2555" y="0"/>
                      </a:lnTo>
                      <a:lnTo>
                        <a:pt x="2575" y="0"/>
                      </a:lnTo>
                      <a:lnTo>
                        <a:pt x="2595" y="0"/>
                      </a:lnTo>
                      <a:lnTo>
                        <a:pt x="2615" y="0"/>
                      </a:lnTo>
                      <a:lnTo>
                        <a:pt x="2645" y="0"/>
                      </a:lnTo>
                      <a:lnTo>
                        <a:pt x="2665" y="0"/>
                      </a:lnTo>
                      <a:lnTo>
                        <a:pt x="2685" y="0"/>
                      </a:lnTo>
                      <a:lnTo>
                        <a:pt x="2705" y="0"/>
                      </a:lnTo>
                      <a:lnTo>
                        <a:pt x="2725" y="0"/>
                      </a:lnTo>
                      <a:lnTo>
                        <a:pt x="2745" y="0"/>
                      </a:lnTo>
                      <a:lnTo>
                        <a:pt x="2785" y="0"/>
                      </a:lnTo>
                      <a:lnTo>
                        <a:pt x="2805" y="0"/>
                      </a:lnTo>
                      <a:lnTo>
                        <a:pt x="2825" y="0"/>
                      </a:lnTo>
                      <a:lnTo>
                        <a:pt x="2845" y="0"/>
                      </a:lnTo>
                      <a:lnTo>
                        <a:pt x="2865" y="0"/>
                      </a:lnTo>
                      <a:lnTo>
                        <a:pt x="2885" y="0"/>
                      </a:lnTo>
                      <a:lnTo>
                        <a:pt x="2915" y="0"/>
                      </a:lnTo>
                      <a:lnTo>
                        <a:pt x="2935" y="0"/>
                      </a:lnTo>
                      <a:lnTo>
                        <a:pt x="2955" y="0"/>
                      </a:lnTo>
                      <a:lnTo>
                        <a:pt x="2976" y="0"/>
                      </a:lnTo>
                      <a:lnTo>
                        <a:pt x="2996" y="0"/>
                      </a:lnTo>
                      <a:lnTo>
                        <a:pt x="3016" y="0"/>
                      </a:lnTo>
                      <a:lnTo>
                        <a:pt x="3046" y="0"/>
                      </a:lnTo>
                      <a:lnTo>
                        <a:pt x="3066" y="0"/>
                      </a:lnTo>
                      <a:lnTo>
                        <a:pt x="3086" y="0"/>
                      </a:lnTo>
                      <a:lnTo>
                        <a:pt x="3106" y="0"/>
                      </a:lnTo>
                      <a:lnTo>
                        <a:pt x="3126" y="0"/>
                      </a:lnTo>
                      <a:lnTo>
                        <a:pt x="3146" y="0"/>
                      </a:lnTo>
                      <a:lnTo>
                        <a:pt x="3176" y="0"/>
                      </a:lnTo>
                      <a:lnTo>
                        <a:pt x="3196" y="0"/>
                      </a:lnTo>
                      <a:lnTo>
                        <a:pt x="3216" y="0"/>
                      </a:lnTo>
                      <a:lnTo>
                        <a:pt x="3236" y="0"/>
                      </a:lnTo>
                      <a:lnTo>
                        <a:pt x="3256" y="0"/>
                      </a:lnTo>
                      <a:lnTo>
                        <a:pt x="3276" y="0"/>
                      </a:lnTo>
                      <a:lnTo>
                        <a:pt x="3306" y="0"/>
                      </a:lnTo>
                      <a:lnTo>
                        <a:pt x="3326" y="0"/>
                      </a:lnTo>
                      <a:lnTo>
                        <a:pt x="3346" y="0"/>
                      </a:lnTo>
                      <a:lnTo>
                        <a:pt x="3366" y="0"/>
                      </a:lnTo>
                      <a:lnTo>
                        <a:pt x="3386" y="0"/>
                      </a:lnTo>
                      <a:lnTo>
                        <a:pt x="3406" y="0"/>
                      </a:lnTo>
                      <a:lnTo>
                        <a:pt x="3436" y="0"/>
                      </a:lnTo>
                      <a:lnTo>
                        <a:pt x="3456" y="0"/>
                      </a:lnTo>
                      <a:lnTo>
                        <a:pt x="3476" y="0"/>
                      </a:lnTo>
                      <a:lnTo>
                        <a:pt x="3496" y="0"/>
                      </a:lnTo>
                      <a:lnTo>
                        <a:pt x="3516" y="0"/>
                      </a:lnTo>
                      <a:lnTo>
                        <a:pt x="3537" y="0"/>
                      </a:lnTo>
                      <a:lnTo>
                        <a:pt x="3567" y="0"/>
                      </a:lnTo>
                      <a:lnTo>
                        <a:pt x="3587" y="0"/>
                      </a:lnTo>
                      <a:lnTo>
                        <a:pt x="3607" y="0"/>
                      </a:lnTo>
                      <a:lnTo>
                        <a:pt x="3627" y="0"/>
                      </a:lnTo>
                      <a:lnTo>
                        <a:pt x="3647" y="0"/>
                      </a:lnTo>
                      <a:lnTo>
                        <a:pt x="3667" y="0"/>
                      </a:lnTo>
                      <a:lnTo>
                        <a:pt x="3697" y="0"/>
                      </a:lnTo>
                      <a:lnTo>
                        <a:pt x="3717" y="0"/>
                      </a:lnTo>
                      <a:lnTo>
                        <a:pt x="3737" y="0"/>
                      </a:lnTo>
                      <a:lnTo>
                        <a:pt x="3757" y="0"/>
                      </a:lnTo>
                      <a:lnTo>
                        <a:pt x="3777" y="0"/>
                      </a:lnTo>
                      <a:lnTo>
                        <a:pt x="3797" y="0"/>
                      </a:lnTo>
                      <a:lnTo>
                        <a:pt x="3827" y="0"/>
                      </a:lnTo>
                      <a:lnTo>
                        <a:pt x="3847" y="0"/>
                      </a:lnTo>
                      <a:lnTo>
                        <a:pt x="3867" y="0"/>
                      </a:lnTo>
                      <a:lnTo>
                        <a:pt x="3887" y="0"/>
                      </a:lnTo>
                      <a:lnTo>
                        <a:pt x="3907" y="0"/>
                      </a:lnTo>
                      <a:lnTo>
                        <a:pt x="3927" y="0"/>
                      </a:lnTo>
                      <a:lnTo>
                        <a:pt x="3957" y="0"/>
                      </a:lnTo>
                      <a:lnTo>
                        <a:pt x="3977" y="0"/>
                      </a:lnTo>
                      <a:lnTo>
                        <a:pt x="3997" y="0"/>
                      </a:lnTo>
                      <a:lnTo>
                        <a:pt x="4017" y="0"/>
                      </a:lnTo>
                      <a:lnTo>
                        <a:pt x="4037" y="0"/>
                      </a:lnTo>
                      <a:lnTo>
                        <a:pt x="4057" y="0"/>
                      </a:lnTo>
                      <a:lnTo>
                        <a:pt x="4087" y="0"/>
                      </a:lnTo>
                      <a:lnTo>
                        <a:pt x="4107" y="0"/>
                      </a:lnTo>
                      <a:lnTo>
                        <a:pt x="4128" y="0"/>
                      </a:lnTo>
                      <a:lnTo>
                        <a:pt x="4148" y="0"/>
                      </a:lnTo>
                      <a:lnTo>
                        <a:pt x="4168" y="0"/>
                      </a:lnTo>
                      <a:lnTo>
                        <a:pt x="4198" y="0"/>
                      </a:lnTo>
                      <a:lnTo>
                        <a:pt x="4218" y="0"/>
                      </a:lnTo>
                      <a:lnTo>
                        <a:pt x="4238" y="0"/>
                      </a:lnTo>
                      <a:lnTo>
                        <a:pt x="4258" y="0"/>
                      </a:lnTo>
                      <a:lnTo>
                        <a:pt x="4278" y="0"/>
                      </a:lnTo>
                      <a:lnTo>
                        <a:pt x="4298" y="0"/>
                      </a:lnTo>
                      <a:lnTo>
                        <a:pt x="4328" y="0"/>
                      </a:lnTo>
                      <a:lnTo>
                        <a:pt x="4348" y="0"/>
                      </a:lnTo>
                      <a:lnTo>
                        <a:pt x="4368" y="0"/>
                      </a:lnTo>
                      <a:lnTo>
                        <a:pt x="4388" y="0"/>
                      </a:lnTo>
                      <a:lnTo>
                        <a:pt x="4408" y="0"/>
                      </a:lnTo>
                      <a:lnTo>
                        <a:pt x="4428" y="0"/>
                      </a:lnTo>
                      <a:lnTo>
                        <a:pt x="4458" y="0"/>
                      </a:lnTo>
                      <a:lnTo>
                        <a:pt x="4478" y="0"/>
                      </a:lnTo>
                      <a:lnTo>
                        <a:pt x="4498" y="0"/>
                      </a:lnTo>
                      <a:lnTo>
                        <a:pt x="4518" y="0"/>
                      </a:lnTo>
                      <a:lnTo>
                        <a:pt x="4538" y="0"/>
                      </a:lnTo>
                      <a:lnTo>
                        <a:pt x="4558" y="0"/>
                      </a:lnTo>
                      <a:lnTo>
                        <a:pt x="4588" y="0"/>
                      </a:lnTo>
                      <a:lnTo>
                        <a:pt x="4608" y="0"/>
                      </a:lnTo>
                      <a:lnTo>
                        <a:pt x="4628" y="0"/>
                      </a:lnTo>
                      <a:lnTo>
                        <a:pt x="4648" y="0"/>
                      </a:lnTo>
                      <a:lnTo>
                        <a:pt x="4668" y="0"/>
                      </a:lnTo>
                      <a:lnTo>
                        <a:pt x="4689" y="0"/>
                      </a:lnTo>
                      <a:lnTo>
                        <a:pt x="4729" y="0"/>
                      </a:lnTo>
                      <a:lnTo>
                        <a:pt x="4749" y="0"/>
                      </a:lnTo>
                      <a:lnTo>
                        <a:pt x="4769" y="0"/>
                      </a:lnTo>
                      <a:lnTo>
                        <a:pt x="4789" y="0"/>
                      </a:lnTo>
                      <a:lnTo>
                        <a:pt x="4809" y="0"/>
                      </a:lnTo>
                      <a:lnTo>
                        <a:pt x="4829" y="0"/>
                      </a:lnTo>
                      <a:lnTo>
                        <a:pt x="4859" y="0"/>
                      </a:lnTo>
                      <a:lnTo>
                        <a:pt x="4879" y="0"/>
                      </a:lnTo>
                      <a:lnTo>
                        <a:pt x="4899" y="0"/>
                      </a:lnTo>
                      <a:lnTo>
                        <a:pt x="4919" y="0"/>
                      </a:lnTo>
                      <a:lnTo>
                        <a:pt x="4939" y="0"/>
                      </a:lnTo>
                      <a:lnTo>
                        <a:pt x="4959" y="0"/>
                      </a:lnTo>
                      <a:lnTo>
                        <a:pt x="4989" y="0"/>
                      </a:lnTo>
                      <a:lnTo>
                        <a:pt x="5009" y="0"/>
                      </a:lnTo>
                      <a:lnTo>
                        <a:pt x="5029" y="0"/>
                      </a:lnTo>
                      <a:lnTo>
                        <a:pt x="5049" y="0"/>
                      </a:lnTo>
                      <a:lnTo>
                        <a:pt x="5069" y="0"/>
                      </a:lnTo>
                      <a:lnTo>
                        <a:pt x="5089" y="0"/>
                      </a:lnTo>
                      <a:lnTo>
                        <a:pt x="5119" y="0"/>
                      </a:lnTo>
                      <a:lnTo>
                        <a:pt x="5139" y="0"/>
                      </a:lnTo>
                      <a:lnTo>
                        <a:pt x="5159" y="0"/>
                      </a:lnTo>
                      <a:lnTo>
                        <a:pt x="5179" y="0"/>
                      </a:lnTo>
                      <a:lnTo>
                        <a:pt x="5199" y="0"/>
                      </a:lnTo>
                      <a:lnTo>
                        <a:pt x="5219" y="0"/>
                      </a:lnTo>
                      <a:lnTo>
                        <a:pt x="5249" y="0"/>
                      </a:lnTo>
                      <a:lnTo>
                        <a:pt x="5270" y="0"/>
                      </a:lnTo>
                      <a:lnTo>
                        <a:pt x="5290" y="0"/>
                      </a:lnTo>
                      <a:lnTo>
                        <a:pt x="5310" y="0"/>
                      </a:lnTo>
                      <a:lnTo>
                        <a:pt x="5330" y="0"/>
                      </a:lnTo>
                    </a:path>
                  </a:pathLst>
                </a:custGeom>
                <a:solidFill>
                  <a:srgbClr val="ccec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06280" y="4165560"/>
                  <a:ext cx="8715600" cy="1800"/>
                </a:xfrm>
                <a:custGeom>
                  <a:avLst/>
                  <a:gdLst/>
                  <a:ahLst/>
                  <a:rect l="l" t="t" r="r" b="b"/>
                  <a:pathLst>
                    <a:path w="5490" h="0">
                      <a:moveTo>
                        <a:pt x="0" y="0"/>
                      </a:moveTo>
                      <a:lnTo>
                        <a:pt x="20" y="0"/>
                      </a:lnTo>
                      <a:lnTo>
                        <a:pt x="40" y="0"/>
                      </a:lnTo>
                      <a:lnTo>
                        <a:pt x="60" y="0"/>
                      </a:lnTo>
                      <a:lnTo>
                        <a:pt x="90" y="0"/>
                      </a:lnTo>
                      <a:lnTo>
                        <a:pt x="110" y="0"/>
                      </a:lnTo>
                      <a:lnTo>
                        <a:pt x="130" y="0"/>
                      </a:lnTo>
                      <a:lnTo>
                        <a:pt x="150" y="0"/>
                      </a:lnTo>
                      <a:lnTo>
                        <a:pt x="171" y="0"/>
                      </a:lnTo>
                      <a:lnTo>
                        <a:pt x="191" y="0"/>
                      </a:lnTo>
                      <a:lnTo>
                        <a:pt x="221" y="0"/>
                      </a:lnTo>
                      <a:lnTo>
                        <a:pt x="241" y="0"/>
                      </a:lnTo>
                      <a:lnTo>
                        <a:pt x="261" y="0"/>
                      </a:lnTo>
                      <a:lnTo>
                        <a:pt x="281" y="0"/>
                      </a:lnTo>
                      <a:lnTo>
                        <a:pt x="301" y="0"/>
                      </a:lnTo>
                      <a:lnTo>
                        <a:pt x="321" y="0"/>
                      </a:lnTo>
                      <a:lnTo>
                        <a:pt x="351" y="0"/>
                      </a:lnTo>
                      <a:lnTo>
                        <a:pt x="371" y="0"/>
                      </a:lnTo>
                      <a:lnTo>
                        <a:pt x="391" y="0"/>
                      </a:lnTo>
                      <a:lnTo>
                        <a:pt x="411" y="0"/>
                      </a:lnTo>
                      <a:lnTo>
                        <a:pt x="431" y="0"/>
                      </a:lnTo>
                      <a:lnTo>
                        <a:pt x="451" y="0"/>
                      </a:lnTo>
                      <a:lnTo>
                        <a:pt x="481" y="0"/>
                      </a:lnTo>
                      <a:lnTo>
                        <a:pt x="501" y="0"/>
                      </a:lnTo>
                      <a:lnTo>
                        <a:pt x="521" y="0"/>
                      </a:lnTo>
                      <a:lnTo>
                        <a:pt x="541" y="0"/>
                      </a:lnTo>
                      <a:lnTo>
                        <a:pt x="561" y="0"/>
                      </a:lnTo>
                      <a:lnTo>
                        <a:pt x="581" y="0"/>
                      </a:lnTo>
                      <a:lnTo>
                        <a:pt x="611" y="0"/>
                      </a:lnTo>
                      <a:lnTo>
                        <a:pt x="631" y="0"/>
                      </a:lnTo>
                      <a:lnTo>
                        <a:pt x="651" y="0"/>
                      </a:lnTo>
                      <a:lnTo>
                        <a:pt x="671" y="0"/>
                      </a:lnTo>
                      <a:lnTo>
                        <a:pt x="691" y="0"/>
                      </a:lnTo>
                      <a:lnTo>
                        <a:pt x="711" y="0"/>
                      </a:lnTo>
                      <a:lnTo>
                        <a:pt x="742" y="0"/>
                      </a:lnTo>
                      <a:lnTo>
                        <a:pt x="762" y="0"/>
                      </a:lnTo>
                      <a:lnTo>
                        <a:pt x="782" y="0"/>
                      </a:lnTo>
                      <a:lnTo>
                        <a:pt x="802" y="0"/>
                      </a:lnTo>
                      <a:lnTo>
                        <a:pt x="822" y="0"/>
                      </a:lnTo>
                      <a:lnTo>
                        <a:pt x="842" y="0"/>
                      </a:lnTo>
                      <a:lnTo>
                        <a:pt x="872" y="0"/>
                      </a:lnTo>
                      <a:lnTo>
                        <a:pt x="892" y="0"/>
                      </a:lnTo>
                      <a:lnTo>
                        <a:pt x="912" y="0"/>
                      </a:lnTo>
                      <a:lnTo>
                        <a:pt x="942" y="0"/>
                      </a:lnTo>
                      <a:lnTo>
                        <a:pt x="962" y="0"/>
                      </a:lnTo>
                      <a:lnTo>
                        <a:pt x="982" y="0"/>
                      </a:lnTo>
                      <a:lnTo>
                        <a:pt x="1012" y="0"/>
                      </a:lnTo>
                      <a:lnTo>
                        <a:pt x="1032" y="0"/>
                      </a:lnTo>
                      <a:lnTo>
                        <a:pt x="1052" y="0"/>
                      </a:lnTo>
                      <a:lnTo>
                        <a:pt x="1072" y="0"/>
                      </a:lnTo>
                      <a:lnTo>
                        <a:pt x="1092" y="0"/>
                      </a:lnTo>
                      <a:lnTo>
                        <a:pt x="1112" y="0"/>
                      </a:lnTo>
                      <a:lnTo>
                        <a:pt x="1142" y="0"/>
                      </a:lnTo>
                      <a:lnTo>
                        <a:pt x="1162" y="0"/>
                      </a:lnTo>
                      <a:lnTo>
                        <a:pt x="1182" y="0"/>
                      </a:lnTo>
                      <a:lnTo>
                        <a:pt x="1202" y="0"/>
                      </a:lnTo>
                      <a:lnTo>
                        <a:pt x="1222" y="0"/>
                      </a:lnTo>
                      <a:lnTo>
                        <a:pt x="1242" y="0"/>
                      </a:lnTo>
                      <a:lnTo>
                        <a:pt x="1272" y="0"/>
                      </a:lnTo>
                      <a:lnTo>
                        <a:pt x="1292" y="0"/>
                      </a:lnTo>
                      <a:lnTo>
                        <a:pt x="1313" y="0"/>
                      </a:lnTo>
                      <a:lnTo>
                        <a:pt x="1333" y="0"/>
                      </a:lnTo>
                      <a:lnTo>
                        <a:pt x="1353" y="0"/>
                      </a:lnTo>
                      <a:lnTo>
                        <a:pt x="1373" y="0"/>
                      </a:lnTo>
                      <a:lnTo>
                        <a:pt x="1403" y="0"/>
                      </a:lnTo>
                      <a:lnTo>
                        <a:pt x="1423" y="0"/>
                      </a:lnTo>
                      <a:lnTo>
                        <a:pt x="1443" y="0"/>
                      </a:lnTo>
                      <a:lnTo>
                        <a:pt x="1463" y="0"/>
                      </a:lnTo>
                      <a:lnTo>
                        <a:pt x="1483" y="0"/>
                      </a:lnTo>
                      <a:lnTo>
                        <a:pt x="1503" y="0"/>
                      </a:lnTo>
                      <a:lnTo>
                        <a:pt x="1533" y="0"/>
                      </a:lnTo>
                      <a:lnTo>
                        <a:pt x="1553" y="0"/>
                      </a:lnTo>
                      <a:lnTo>
                        <a:pt x="1573" y="0"/>
                      </a:lnTo>
                      <a:lnTo>
                        <a:pt x="1593" y="0"/>
                      </a:lnTo>
                      <a:lnTo>
                        <a:pt x="1613" y="0"/>
                      </a:lnTo>
                      <a:lnTo>
                        <a:pt x="1633" y="0"/>
                      </a:lnTo>
                      <a:lnTo>
                        <a:pt x="1663" y="0"/>
                      </a:lnTo>
                      <a:lnTo>
                        <a:pt x="1683" y="0"/>
                      </a:lnTo>
                      <a:lnTo>
                        <a:pt x="1703" y="0"/>
                      </a:lnTo>
                      <a:lnTo>
                        <a:pt x="1723" y="0"/>
                      </a:lnTo>
                      <a:lnTo>
                        <a:pt x="1743" y="0"/>
                      </a:lnTo>
                      <a:lnTo>
                        <a:pt x="1763" y="0"/>
                      </a:lnTo>
                      <a:lnTo>
                        <a:pt x="1793" y="0"/>
                      </a:lnTo>
                      <a:lnTo>
                        <a:pt x="1813" y="0"/>
                      </a:lnTo>
                      <a:lnTo>
                        <a:pt x="1833" y="0"/>
                      </a:lnTo>
                      <a:lnTo>
                        <a:pt x="1853" y="0"/>
                      </a:lnTo>
                      <a:lnTo>
                        <a:pt x="1873" y="0"/>
                      </a:lnTo>
                      <a:lnTo>
                        <a:pt x="1894" y="0"/>
                      </a:lnTo>
                      <a:lnTo>
                        <a:pt x="1914" y="0"/>
                      </a:lnTo>
                      <a:lnTo>
                        <a:pt x="1944" y="0"/>
                      </a:lnTo>
                      <a:lnTo>
                        <a:pt x="1964" y="0"/>
                      </a:lnTo>
                      <a:lnTo>
                        <a:pt x="1984" y="0"/>
                      </a:lnTo>
                      <a:lnTo>
                        <a:pt x="2004" y="0"/>
                      </a:lnTo>
                      <a:lnTo>
                        <a:pt x="2024" y="0"/>
                      </a:lnTo>
                      <a:lnTo>
                        <a:pt x="2044" y="0"/>
                      </a:lnTo>
                      <a:lnTo>
                        <a:pt x="2074" y="0"/>
                      </a:lnTo>
                      <a:lnTo>
                        <a:pt x="2094" y="0"/>
                      </a:lnTo>
                      <a:lnTo>
                        <a:pt x="2114" y="0"/>
                      </a:lnTo>
                      <a:lnTo>
                        <a:pt x="2134" y="0"/>
                      </a:lnTo>
                      <a:lnTo>
                        <a:pt x="2154" y="0"/>
                      </a:lnTo>
                      <a:lnTo>
                        <a:pt x="2174" y="0"/>
                      </a:lnTo>
                      <a:lnTo>
                        <a:pt x="2204" y="0"/>
                      </a:lnTo>
                      <a:lnTo>
                        <a:pt x="2224" y="0"/>
                      </a:lnTo>
                      <a:lnTo>
                        <a:pt x="2244" y="0"/>
                      </a:lnTo>
                      <a:lnTo>
                        <a:pt x="2264" y="0"/>
                      </a:lnTo>
                      <a:lnTo>
                        <a:pt x="2284" y="0"/>
                      </a:lnTo>
                      <a:lnTo>
                        <a:pt x="2304" y="0"/>
                      </a:lnTo>
                      <a:lnTo>
                        <a:pt x="2334" y="0"/>
                      </a:lnTo>
                      <a:lnTo>
                        <a:pt x="2354" y="0"/>
                      </a:lnTo>
                      <a:lnTo>
                        <a:pt x="2374" y="0"/>
                      </a:lnTo>
                      <a:lnTo>
                        <a:pt x="2394" y="0"/>
                      </a:lnTo>
                      <a:lnTo>
                        <a:pt x="2414" y="0"/>
                      </a:lnTo>
                      <a:lnTo>
                        <a:pt x="2434" y="0"/>
                      </a:lnTo>
                      <a:lnTo>
                        <a:pt x="2465" y="0"/>
                      </a:lnTo>
                      <a:lnTo>
                        <a:pt x="2485" y="0"/>
                      </a:lnTo>
                      <a:lnTo>
                        <a:pt x="2505" y="0"/>
                      </a:lnTo>
                      <a:lnTo>
                        <a:pt x="2525" y="0"/>
                      </a:lnTo>
                      <a:lnTo>
                        <a:pt x="2545" y="0"/>
                      </a:lnTo>
                      <a:lnTo>
                        <a:pt x="2565" y="0"/>
                      </a:lnTo>
                      <a:lnTo>
                        <a:pt x="2595" y="0"/>
                      </a:lnTo>
                      <a:lnTo>
                        <a:pt x="2615" y="0"/>
                      </a:lnTo>
                      <a:lnTo>
                        <a:pt x="2635" y="0"/>
                      </a:lnTo>
                      <a:lnTo>
                        <a:pt x="2655" y="0"/>
                      </a:lnTo>
                      <a:lnTo>
                        <a:pt x="2675" y="0"/>
                      </a:lnTo>
                      <a:lnTo>
                        <a:pt x="2695" y="0"/>
                      </a:lnTo>
                      <a:lnTo>
                        <a:pt x="2725" y="0"/>
                      </a:lnTo>
                      <a:lnTo>
                        <a:pt x="2745" y="0"/>
                      </a:lnTo>
                      <a:lnTo>
                        <a:pt x="2765" y="0"/>
                      </a:lnTo>
                      <a:lnTo>
                        <a:pt x="2785" y="0"/>
                      </a:lnTo>
                      <a:lnTo>
                        <a:pt x="2805" y="0"/>
                      </a:lnTo>
                      <a:lnTo>
                        <a:pt x="2825" y="0"/>
                      </a:lnTo>
                      <a:lnTo>
                        <a:pt x="2865" y="0"/>
                      </a:lnTo>
                      <a:lnTo>
                        <a:pt x="2885" y="0"/>
                      </a:lnTo>
                      <a:lnTo>
                        <a:pt x="2905" y="0"/>
                      </a:lnTo>
                      <a:lnTo>
                        <a:pt x="2925" y="0"/>
                      </a:lnTo>
                      <a:lnTo>
                        <a:pt x="2945" y="0"/>
                      </a:lnTo>
                      <a:lnTo>
                        <a:pt x="2965" y="0"/>
                      </a:lnTo>
                      <a:lnTo>
                        <a:pt x="2995" y="0"/>
                      </a:lnTo>
                      <a:lnTo>
                        <a:pt x="3015" y="0"/>
                      </a:lnTo>
                      <a:lnTo>
                        <a:pt x="3035" y="0"/>
                      </a:lnTo>
                      <a:lnTo>
                        <a:pt x="3056" y="0"/>
                      </a:lnTo>
                      <a:lnTo>
                        <a:pt x="3076" y="0"/>
                      </a:lnTo>
                      <a:lnTo>
                        <a:pt x="3096" y="0"/>
                      </a:lnTo>
                      <a:lnTo>
                        <a:pt x="3126" y="0"/>
                      </a:lnTo>
                      <a:lnTo>
                        <a:pt x="3146" y="0"/>
                      </a:lnTo>
                      <a:lnTo>
                        <a:pt x="3166" y="0"/>
                      </a:lnTo>
                      <a:lnTo>
                        <a:pt x="3186" y="0"/>
                      </a:lnTo>
                      <a:lnTo>
                        <a:pt x="3206" y="0"/>
                      </a:lnTo>
                      <a:lnTo>
                        <a:pt x="3226" y="0"/>
                      </a:lnTo>
                      <a:lnTo>
                        <a:pt x="3256" y="0"/>
                      </a:lnTo>
                      <a:lnTo>
                        <a:pt x="3276" y="0"/>
                      </a:lnTo>
                      <a:lnTo>
                        <a:pt x="3296" y="0"/>
                      </a:lnTo>
                      <a:lnTo>
                        <a:pt x="3316" y="0"/>
                      </a:lnTo>
                      <a:lnTo>
                        <a:pt x="3336" y="0"/>
                      </a:lnTo>
                      <a:lnTo>
                        <a:pt x="3356" y="0"/>
                      </a:lnTo>
                      <a:lnTo>
                        <a:pt x="3386" y="0"/>
                      </a:lnTo>
                      <a:lnTo>
                        <a:pt x="3406" y="0"/>
                      </a:lnTo>
                      <a:lnTo>
                        <a:pt x="3426" y="0"/>
                      </a:lnTo>
                      <a:lnTo>
                        <a:pt x="3446" y="0"/>
                      </a:lnTo>
                      <a:lnTo>
                        <a:pt x="3466" y="0"/>
                      </a:lnTo>
                      <a:lnTo>
                        <a:pt x="3486" y="0"/>
                      </a:lnTo>
                      <a:lnTo>
                        <a:pt x="3516" y="0"/>
                      </a:lnTo>
                      <a:lnTo>
                        <a:pt x="3536" y="0"/>
                      </a:lnTo>
                      <a:lnTo>
                        <a:pt x="3556" y="0"/>
                      </a:lnTo>
                      <a:lnTo>
                        <a:pt x="3576" y="0"/>
                      </a:lnTo>
                      <a:lnTo>
                        <a:pt x="3596" y="0"/>
                      </a:lnTo>
                      <a:lnTo>
                        <a:pt x="3617" y="0"/>
                      </a:lnTo>
                      <a:lnTo>
                        <a:pt x="3647" y="0"/>
                      </a:lnTo>
                      <a:lnTo>
                        <a:pt x="3667" y="0"/>
                      </a:lnTo>
                      <a:lnTo>
                        <a:pt x="3687" y="0"/>
                      </a:lnTo>
                      <a:lnTo>
                        <a:pt x="3707" y="0"/>
                      </a:lnTo>
                      <a:lnTo>
                        <a:pt x="3727" y="0"/>
                      </a:lnTo>
                      <a:lnTo>
                        <a:pt x="3747" y="0"/>
                      </a:lnTo>
                      <a:lnTo>
                        <a:pt x="3767" y="0"/>
                      </a:lnTo>
                      <a:lnTo>
                        <a:pt x="3797" y="0"/>
                      </a:lnTo>
                      <a:lnTo>
                        <a:pt x="3817" y="0"/>
                      </a:lnTo>
                      <a:lnTo>
                        <a:pt x="3837" y="0"/>
                      </a:lnTo>
                      <a:lnTo>
                        <a:pt x="3857" y="0"/>
                      </a:lnTo>
                      <a:lnTo>
                        <a:pt x="3877" y="0"/>
                      </a:lnTo>
                      <a:lnTo>
                        <a:pt x="3897" y="0"/>
                      </a:lnTo>
                      <a:lnTo>
                        <a:pt x="3927" y="0"/>
                      </a:lnTo>
                      <a:lnTo>
                        <a:pt x="3947" y="0"/>
                      </a:lnTo>
                      <a:lnTo>
                        <a:pt x="3967" y="0"/>
                      </a:lnTo>
                      <a:lnTo>
                        <a:pt x="3987" y="0"/>
                      </a:lnTo>
                      <a:lnTo>
                        <a:pt x="4007" y="0"/>
                      </a:lnTo>
                      <a:lnTo>
                        <a:pt x="4027" y="0"/>
                      </a:lnTo>
                      <a:lnTo>
                        <a:pt x="4057" y="0"/>
                      </a:lnTo>
                      <a:lnTo>
                        <a:pt x="4077" y="0"/>
                      </a:lnTo>
                      <a:lnTo>
                        <a:pt x="4097" y="0"/>
                      </a:lnTo>
                      <a:lnTo>
                        <a:pt x="4117" y="0"/>
                      </a:lnTo>
                      <a:lnTo>
                        <a:pt x="4137" y="0"/>
                      </a:lnTo>
                      <a:lnTo>
                        <a:pt x="4157" y="0"/>
                      </a:lnTo>
                      <a:lnTo>
                        <a:pt x="4187" y="0"/>
                      </a:lnTo>
                      <a:lnTo>
                        <a:pt x="4208" y="0"/>
                      </a:lnTo>
                      <a:lnTo>
                        <a:pt x="4228" y="0"/>
                      </a:lnTo>
                      <a:lnTo>
                        <a:pt x="4248" y="0"/>
                      </a:lnTo>
                      <a:lnTo>
                        <a:pt x="4268" y="0"/>
                      </a:lnTo>
                      <a:lnTo>
                        <a:pt x="4288" y="0"/>
                      </a:lnTo>
                      <a:lnTo>
                        <a:pt x="4318" y="0"/>
                      </a:lnTo>
                      <a:lnTo>
                        <a:pt x="4338" y="0"/>
                      </a:lnTo>
                      <a:lnTo>
                        <a:pt x="4358" y="0"/>
                      </a:lnTo>
                      <a:lnTo>
                        <a:pt x="4378" y="0"/>
                      </a:lnTo>
                      <a:lnTo>
                        <a:pt x="4398" y="0"/>
                      </a:lnTo>
                      <a:lnTo>
                        <a:pt x="4418" y="0"/>
                      </a:lnTo>
                      <a:lnTo>
                        <a:pt x="4448" y="0"/>
                      </a:lnTo>
                      <a:lnTo>
                        <a:pt x="4468" y="0"/>
                      </a:lnTo>
                      <a:lnTo>
                        <a:pt x="4488" y="0"/>
                      </a:lnTo>
                      <a:lnTo>
                        <a:pt x="4508" y="0"/>
                      </a:lnTo>
                      <a:lnTo>
                        <a:pt x="4528" y="0"/>
                      </a:lnTo>
                      <a:lnTo>
                        <a:pt x="4548" y="0"/>
                      </a:lnTo>
                      <a:lnTo>
                        <a:pt x="4578" y="0"/>
                      </a:lnTo>
                      <a:lnTo>
                        <a:pt x="4598" y="0"/>
                      </a:lnTo>
                      <a:lnTo>
                        <a:pt x="4618" y="0"/>
                      </a:lnTo>
                      <a:lnTo>
                        <a:pt x="4638" y="0"/>
                      </a:lnTo>
                      <a:lnTo>
                        <a:pt x="4658" y="0"/>
                      </a:lnTo>
                      <a:lnTo>
                        <a:pt x="4678" y="0"/>
                      </a:lnTo>
                      <a:lnTo>
                        <a:pt x="4708" y="0"/>
                      </a:lnTo>
                      <a:lnTo>
                        <a:pt x="4728" y="0"/>
                      </a:lnTo>
                      <a:lnTo>
                        <a:pt x="4748" y="0"/>
                      </a:lnTo>
                      <a:lnTo>
                        <a:pt x="4769" y="0"/>
                      </a:lnTo>
                      <a:lnTo>
                        <a:pt x="4799" y="0"/>
                      </a:lnTo>
                      <a:lnTo>
                        <a:pt x="4819" y="0"/>
                      </a:lnTo>
                      <a:lnTo>
                        <a:pt x="4849" y="0"/>
                      </a:lnTo>
                      <a:lnTo>
                        <a:pt x="4869" y="0"/>
                      </a:lnTo>
                      <a:lnTo>
                        <a:pt x="4889" y="0"/>
                      </a:lnTo>
                      <a:lnTo>
                        <a:pt x="4909" y="0"/>
                      </a:lnTo>
                      <a:lnTo>
                        <a:pt x="4929" y="0"/>
                      </a:lnTo>
                      <a:lnTo>
                        <a:pt x="4949" y="0"/>
                      </a:lnTo>
                      <a:lnTo>
                        <a:pt x="4979" y="0"/>
                      </a:lnTo>
                      <a:lnTo>
                        <a:pt x="4999" y="0"/>
                      </a:lnTo>
                      <a:lnTo>
                        <a:pt x="5019" y="0"/>
                      </a:lnTo>
                      <a:lnTo>
                        <a:pt x="5039" y="0"/>
                      </a:lnTo>
                      <a:lnTo>
                        <a:pt x="5059" y="0"/>
                      </a:lnTo>
                      <a:lnTo>
                        <a:pt x="5079" y="0"/>
                      </a:lnTo>
                      <a:lnTo>
                        <a:pt x="5109" y="0"/>
                      </a:lnTo>
                      <a:lnTo>
                        <a:pt x="5129" y="0"/>
                      </a:lnTo>
                      <a:lnTo>
                        <a:pt x="5149" y="0"/>
                      </a:lnTo>
                      <a:lnTo>
                        <a:pt x="5169" y="0"/>
                      </a:lnTo>
                      <a:lnTo>
                        <a:pt x="5189" y="0"/>
                      </a:lnTo>
                      <a:lnTo>
                        <a:pt x="5209" y="0"/>
                      </a:lnTo>
                      <a:lnTo>
                        <a:pt x="5239" y="0"/>
                      </a:lnTo>
                      <a:lnTo>
                        <a:pt x="5259" y="0"/>
                      </a:lnTo>
                      <a:lnTo>
                        <a:pt x="5279" y="0"/>
                      </a:lnTo>
                      <a:lnTo>
                        <a:pt x="5299" y="0"/>
                      </a:lnTo>
                      <a:lnTo>
                        <a:pt x="5319" y="0"/>
                      </a:lnTo>
                      <a:lnTo>
                        <a:pt x="5339" y="0"/>
                      </a:lnTo>
                      <a:lnTo>
                        <a:pt x="5370" y="0"/>
                      </a:lnTo>
                      <a:lnTo>
                        <a:pt x="5390" y="0"/>
                      </a:lnTo>
                      <a:lnTo>
                        <a:pt x="5410" y="0"/>
                      </a:lnTo>
                      <a:lnTo>
                        <a:pt x="5430" y="0"/>
                      </a:lnTo>
                      <a:lnTo>
                        <a:pt x="5450" y="0"/>
                      </a:lnTo>
                      <a:lnTo>
                        <a:pt x="5470" y="0"/>
                      </a:lnTo>
                      <a:lnTo>
                        <a:pt x="5490" y="0"/>
                      </a:lnTo>
                    </a:path>
                  </a:pathLst>
                </a:custGeom>
                <a:solidFill>
                  <a:srgbClr val="ccec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158760" y="3695760"/>
                  <a:ext cx="8810640" cy="1440"/>
                </a:xfrm>
                <a:custGeom>
                  <a:avLst/>
                  <a:gdLst/>
                  <a:ahLst/>
                  <a:rect l="l" t="t" r="r" b="b"/>
                  <a:pathLst>
                    <a:path w="5550" h="0">
                      <a:moveTo>
                        <a:pt x="0" y="0"/>
                      </a:moveTo>
                      <a:lnTo>
                        <a:pt x="20" y="0"/>
                      </a:lnTo>
                      <a:lnTo>
                        <a:pt x="50" y="0"/>
                      </a:lnTo>
                      <a:lnTo>
                        <a:pt x="70" y="0"/>
                      </a:lnTo>
                      <a:lnTo>
                        <a:pt x="90" y="0"/>
                      </a:lnTo>
                      <a:lnTo>
                        <a:pt x="110" y="0"/>
                      </a:lnTo>
                      <a:lnTo>
                        <a:pt x="130" y="0"/>
                      </a:lnTo>
                      <a:lnTo>
                        <a:pt x="150" y="0"/>
                      </a:lnTo>
                      <a:lnTo>
                        <a:pt x="180" y="0"/>
                      </a:lnTo>
                      <a:lnTo>
                        <a:pt x="201" y="0"/>
                      </a:lnTo>
                      <a:lnTo>
                        <a:pt x="221" y="0"/>
                      </a:lnTo>
                      <a:lnTo>
                        <a:pt x="241" y="0"/>
                      </a:lnTo>
                      <a:lnTo>
                        <a:pt x="261" y="0"/>
                      </a:lnTo>
                      <a:lnTo>
                        <a:pt x="281" y="0"/>
                      </a:lnTo>
                      <a:lnTo>
                        <a:pt x="311" y="0"/>
                      </a:lnTo>
                      <a:lnTo>
                        <a:pt x="331" y="0"/>
                      </a:lnTo>
                      <a:lnTo>
                        <a:pt x="351" y="0"/>
                      </a:lnTo>
                      <a:lnTo>
                        <a:pt x="371" y="0"/>
                      </a:lnTo>
                      <a:lnTo>
                        <a:pt x="391" y="0"/>
                      </a:lnTo>
                      <a:lnTo>
                        <a:pt x="411" y="0"/>
                      </a:lnTo>
                      <a:lnTo>
                        <a:pt x="431" y="0"/>
                      </a:lnTo>
                      <a:lnTo>
                        <a:pt x="461" y="0"/>
                      </a:lnTo>
                      <a:lnTo>
                        <a:pt x="481" y="0"/>
                      </a:lnTo>
                      <a:lnTo>
                        <a:pt x="501" y="0"/>
                      </a:lnTo>
                      <a:lnTo>
                        <a:pt x="521" y="0"/>
                      </a:lnTo>
                      <a:lnTo>
                        <a:pt x="541" y="0"/>
                      </a:lnTo>
                      <a:lnTo>
                        <a:pt x="561" y="0"/>
                      </a:lnTo>
                      <a:lnTo>
                        <a:pt x="591" y="0"/>
                      </a:lnTo>
                      <a:lnTo>
                        <a:pt x="611" y="0"/>
                      </a:lnTo>
                      <a:lnTo>
                        <a:pt x="631" y="0"/>
                      </a:lnTo>
                      <a:lnTo>
                        <a:pt x="651" y="0"/>
                      </a:lnTo>
                      <a:lnTo>
                        <a:pt x="671" y="0"/>
                      </a:lnTo>
                      <a:lnTo>
                        <a:pt x="691" y="0"/>
                      </a:lnTo>
                      <a:lnTo>
                        <a:pt x="721" y="0"/>
                      </a:lnTo>
                      <a:lnTo>
                        <a:pt x="741" y="0"/>
                      </a:lnTo>
                      <a:lnTo>
                        <a:pt x="761" y="0"/>
                      </a:lnTo>
                      <a:lnTo>
                        <a:pt x="782" y="0"/>
                      </a:lnTo>
                      <a:lnTo>
                        <a:pt x="802" y="0"/>
                      </a:lnTo>
                      <a:lnTo>
                        <a:pt x="822" y="0"/>
                      </a:lnTo>
                      <a:lnTo>
                        <a:pt x="852" y="0"/>
                      </a:lnTo>
                      <a:lnTo>
                        <a:pt x="872" y="0"/>
                      </a:lnTo>
                      <a:lnTo>
                        <a:pt x="892" y="0"/>
                      </a:lnTo>
                      <a:lnTo>
                        <a:pt x="912" y="0"/>
                      </a:lnTo>
                      <a:lnTo>
                        <a:pt x="932" y="0"/>
                      </a:lnTo>
                      <a:lnTo>
                        <a:pt x="952" y="0"/>
                      </a:lnTo>
                      <a:lnTo>
                        <a:pt x="982" y="0"/>
                      </a:lnTo>
                      <a:lnTo>
                        <a:pt x="1012" y="0"/>
                      </a:lnTo>
                      <a:lnTo>
                        <a:pt x="1032" y="0"/>
                      </a:lnTo>
                      <a:lnTo>
                        <a:pt x="1052" y="0"/>
                      </a:lnTo>
                      <a:lnTo>
                        <a:pt x="1072" y="0"/>
                      </a:lnTo>
                      <a:lnTo>
                        <a:pt x="1092" y="0"/>
                      </a:lnTo>
                      <a:lnTo>
                        <a:pt x="1112" y="0"/>
                      </a:lnTo>
                      <a:lnTo>
                        <a:pt x="1142" y="0"/>
                      </a:lnTo>
                      <a:lnTo>
                        <a:pt x="1162" y="0"/>
                      </a:lnTo>
                      <a:lnTo>
                        <a:pt x="1182" y="0"/>
                      </a:lnTo>
                      <a:lnTo>
                        <a:pt x="1202" y="0"/>
                      </a:lnTo>
                      <a:lnTo>
                        <a:pt x="1222" y="0"/>
                      </a:lnTo>
                      <a:lnTo>
                        <a:pt x="1242" y="0"/>
                      </a:lnTo>
                      <a:lnTo>
                        <a:pt x="1272" y="0"/>
                      </a:lnTo>
                      <a:lnTo>
                        <a:pt x="1292" y="0"/>
                      </a:lnTo>
                      <a:lnTo>
                        <a:pt x="1312" y="0"/>
                      </a:lnTo>
                      <a:lnTo>
                        <a:pt x="1332" y="0"/>
                      </a:lnTo>
                      <a:lnTo>
                        <a:pt x="1353" y="0"/>
                      </a:lnTo>
                      <a:lnTo>
                        <a:pt x="1373" y="0"/>
                      </a:lnTo>
                      <a:lnTo>
                        <a:pt x="1403" y="0"/>
                      </a:lnTo>
                      <a:lnTo>
                        <a:pt x="1423" y="0"/>
                      </a:lnTo>
                      <a:lnTo>
                        <a:pt x="1443" y="0"/>
                      </a:lnTo>
                      <a:lnTo>
                        <a:pt x="1463" y="0"/>
                      </a:lnTo>
                      <a:lnTo>
                        <a:pt x="1483" y="0"/>
                      </a:lnTo>
                      <a:lnTo>
                        <a:pt x="1503" y="0"/>
                      </a:lnTo>
                      <a:lnTo>
                        <a:pt x="1533" y="0"/>
                      </a:lnTo>
                      <a:lnTo>
                        <a:pt x="1553" y="0"/>
                      </a:lnTo>
                      <a:lnTo>
                        <a:pt x="1573" y="0"/>
                      </a:lnTo>
                      <a:lnTo>
                        <a:pt x="1593" y="0"/>
                      </a:lnTo>
                      <a:lnTo>
                        <a:pt x="1613" y="0"/>
                      </a:lnTo>
                      <a:lnTo>
                        <a:pt x="1633" y="0"/>
                      </a:lnTo>
                      <a:lnTo>
                        <a:pt x="1653" y="0"/>
                      </a:lnTo>
                      <a:lnTo>
                        <a:pt x="1683" y="0"/>
                      </a:lnTo>
                      <a:lnTo>
                        <a:pt x="1703" y="0"/>
                      </a:lnTo>
                      <a:lnTo>
                        <a:pt x="1723" y="0"/>
                      </a:lnTo>
                      <a:lnTo>
                        <a:pt x="1743" y="0"/>
                      </a:lnTo>
                      <a:lnTo>
                        <a:pt x="1763" y="0"/>
                      </a:lnTo>
                      <a:lnTo>
                        <a:pt x="1783" y="0"/>
                      </a:lnTo>
                      <a:lnTo>
                        <a:pt x="1813" y="0"/>
                      </a:lnTo>
                      <a:lnTo>
                        <a:pt x="1833" y="0"/>
                      </a:lnTo>
                      <a:lnTo>
                        <a:pt x="1853" y="0"/>
                      </a:lnTo>
                      <a:lnTo>
                        <a:pt x="1873" y="0"/>
                      </a:lnTo>
                      <a:lnTo>
                        <a:pt x="1893" y="0"/>
                      </a:lnTo>
                      <a:lnTo>
                        <a:pt x="1913" y="0"/>
                      </a:lnTo>
                      <a:lnTo>
                        <a:pt x="1944" y="0"/>
                      </a:lnTo>
                      <a:lnTo>
                        <a:pt x="1964" y="0"/>
                      </a:lnTo>
                      <a:lnTo>
                        <a:pt x="1984" y="0"/>
                      </a:lnTo>
                      <a:lnTo>
                        <a:pt x="2004" y="0"/>
                      </a:lnTo>
                      <a:lnTo>
                        <a:pt x="2024" y="0"/>
                      </a:lnTo>
                      <a:lnTo>
                        <a:pt x="2044" y="0"/>
                      </a:lnTo>
                      <a:lnTo>
                        <a:pt x="2074" y="0"/>
                      </a:lnTo>
                      <a:lnTo>
                        <a:pt x="2094" y="0"/>
                      </a:lnTo>
                      <a:lnTo>
                        <a:pt x="2114" y="0"/>
                      </a:lnTo>
                      <a:lnTo>
                        <a:pt x="2134" y="0"/>
                      </a:lnTo>
                      <a:lnTo>
                        <a:pt x="2154" y="0"/>
                      </a:lnTo>
                      <a:lnTo>
                        <a:pt x="2174" y="0"/>
                      </a:lnTo>
                      <a:lnTo>
                        <a:pt x="2194" y="0"/>
                      </a:lnTo>
                      <a:lnTo>
                        <a:pt x="2224" y="0"/>
                      </a:lnTo>
                      <a:lnTo>
                        <a:pt x="2244" y="0"/>
                      </a:lnTo>
                      <a:lnTo>
                        <a:pt x="2264" y="0"/>
                      </a:lnTo>
                      <a:lnTo>
                        <a:pt x="2284" y="0"/>
                      </a:lnTo>
                      <a:lnTo>
                        <a:pt x="2304" y="0"/>
                      </a:lnTo>
                      <a:lnTo>
                        <a:pt x="2324" y="0"/>
                      </a:lnTo>
                      <a:lnTo>
                        <a:pt x="2354" y="0"/>
                      </a:lnTo>
                      <a:lnTo>
                        <a:pt x="2374" y="0"/>
                      </a:lnTo>
                      <a:lnTo>
                        <a:pt x="2394" y="0"/>
                      </a:lnTo>
                      <a:lnTo>
                        <a:pt x="2414" y="0"/>
                      </a:lnTo>
                      <a:lnTo>
                        <a:pt x="2434" y="0"/>
                      </a:lnTo>
                      <a:lnTo>
                        <a:pt x="2454" y="0"/>
                      </a:lnTo>
                      <a:lnTo>
                        <a:pt x="2484" y="0"/>
                      </a:lnTo>
                      <a:lnTo>
                        <a:pt x="2505" y="0"/>
                      </a:lnTo>
                      <a:lnTo>
                        <a:pt x="2525" y="0"/>
                      </a:lnTo>
                      <a:lnTo>
                        <a:pt x="2545" y="0"/>
                      </a:lnTo>
                      <a:lnTo>
                        <a:pt x="2565" y="0"/>
                      </a:lnTo>
                      <a:lnTo>
                        <a:pt x="2585" y="0"/>
                      </a:lnTo>
                      <a:lnTo>
                        <a:pt x="2615" y="0"/>
                      </a:lnTo>
                      <a:lnTo>
                        <a:pt x="2635" y="0"/>
                      </a:lnTo>
                      <a:lnTo>
                        <a:pt x="2655" y="0"/>
                      </a:lnTo>
                      <a:lnTo>
                        <a:pt x="2675" y="0"/>
                      </a:lnTo>
                      <a:lnTo>
                        <a:pt x="2695" y="0"/>
                      </a:lnTo>
                      <a:lnTo>
                        <a:pt x="2715" y="0"/>
                      </a:lnTo>
                      <a:lnTo>
                        <a:pt x="2745" y="0"/>
                      </a:lnTo>
                      <a:lnTo>
                        <a:pt x="2765" y="0"/>
                      </a:lnTo>
                      <a:lnTo>
                        <a:pt x="2785" y="0"/>
                      </a:lnTo>
                      <a:lnTo>
                        <a:pt x="2805" y="0"/>
                      </a:lnTo>
                      <a:lnTo>
                        <a:pt x="2825" y="0"/>
                      </a:lnTo>
                      <a:lnTo>
                        <a:pt x="2845" y="0"/>
                      </a:lnTo>
                      <a:lnTo>
                        <a:pt x="2865" y="0"/>
                      </a:lnTo>
                      <a:lnTo>
                        <a:pt x="2905" y="0"/>
                      </a:lnTo>
                      <a:lnTo>
                        <a:pt x="2925" y="0"/>
                      </a:lnTo>
                      <a:lnTo>
                        <a:pt x="2945" y="0"/>
                      </a:lnTo>
                      <a:lnTo>
                        <a:pt x="2965" y="0"/>
                      </a:lnTo>
                      <a:lnTo>
                        <a:pt x="2985" y="0"/>
                      </a:lnTo>
                      <a:lnTo>
                        <a:pt x="3005" y="0"/>
                      </a:lnTo>
                      <a:lnTo>
                        <a:pt x="3035" y="0"/>
                      </a:lnTo>
                      <a:lnTo>
                        <a:pt x="3055" y="0"/>
                      </a:lnTo>
                      <a:lnTo>
                        <a:pt x="3076" y="0"/>
                      </a:lnTo>
                      <a:lnTo>
                        <a:pt x="3096" y="0"/>
                      </a:lnTo>
                      <a:lnTo>
                        <a:pt x="3116" y="0"/>
                      </a:lnTo>
                      <a:lnTo>
                        <a:pt x="3136" y="0"/>
                      </a:lnTo>
                      <a:lnTo>
                        <a:pt x="3166" y="0"/>
                      </a:lnTo>
                      <a:lnTo>
                        <a:pt x="3186" y="0"/>
                      </a:lnTo>
                      <a:lnTo>
                        <a:pt x="3206" y="0"/>
                      </a:lnTo>
                      <a:lnTo>
                        <a:pt x="3226" y="0"/>
                      </a:lnTo>
                      <a:lnTo>
                        <a:pt x="3246" y="0"/>
                      </a:lnTo>
                      <a:lnTo>
                        <a:pt x="3266" y="0"/>
                      </a:lnTo>
                      <a:lnTo>
                        <a:pt x="3296" y="0"/>
                      </a:lnTo>
                      <a:lnTo>
                        <a:pt x="3316" y="0"/>
                      </a:lnTo>
                      <a:lnTo>
                        <a:pt x="3336" y="0"/>
                      </a:lnTo>
                      <a:lnTo>
                        <a:pt x="3356" y="0"/>
                      </a:lnTo>
                      <a:lnTo>
                        <a:pt x="3376" y="0"/>
                      </a:lnTo>
                      <a:lnTo>
                        <a:pt x="3396" y="0"/>
                      </a:lnTo>
                      <a:lnTo>
                        <a:pt x="3416" y="0"/>
                      </a:lnTo>
                      <a:lnTo>
                        <a:pt x="3446" y="0"/>
                      </a:lnTo>
                      <a:lnTo>
                        <a:pt x="3466" y="0"/>
                      </a:lnTo>
                      <a:lnTo>
                        <a:pt x="3486" y="0"/>
                      </a:lnTo>
                      <a:lnTo>
                        <a:pt x="3506" y="0"/>
                      </a:lnTo>
                      <a:lnTo>
                        <a:pt x="3526" y="0"/>
                      </a:lnTo>
                      <a:lnTo>
                        <a:pt x="3546" y="0"/>
                      </a:lnTo>
                      <a:lnTo>
                        <a:pt x="3576" y="0"/>
                      </a:lnTo>
                      <a:lnTo>
                        <a:pt x="3596" y="0"/>
                      </a:lnTo>
                      <a:lnTo>
                        <a:pt x="3616" y="0"/>
                      </a:lnTo>
                      <a:lnTo>
                        <a:pt x="3636" y="0"/>
                      </a:lnTo>
                      <a:lnTo>
                        <a:pt x="3657" y="0"/>
                      </a:lnTo>
                      <a:lnTo>
                        <a:pt x="3677" y="0"/>
                      </a:lnTo>
                      <a:lnTo>
                        <a:pt x="3707" y="0"/>
                      </a:lnTo>
                      <a:lnTo>
                        <a:pt x="3727" y="0"/>
                      </a:lnTo>
                      <a:lnTo>
                        <a:pt x="3747" y="0"/>
                      </a:lnTo>
                      <a:lnTo>
                        <a:pt x="3767" y="0"/>
                      </a:lnTo>
                      <a:lnTo>
                        <a:pt x="3787" y="0"/>
                      </a:lnTo>
                      <a:lnTo>
                        <a:pt x="3807" y="0"/>
                      </a:lnTo>
                      <a:lnTo>
                        <a:pt x="3837" y="0"/>
                      </a:lnTo>
                      <a:lnTo>
                        <a:pt x="3857" y="0"/>
                      </a:lnTo>
                      <a:lnTo>
                        <a:pt x="3877" y="0"/>
                      </a:lnTo>
                      <a:lnTo>
                        <a:pt x="3897" y="0"/>
                      </a:lnTo>
                      <a:lnTo>
                        <a:pt x="3917" y="0"/>
                      </a:lnTo>
                      <a:lnTo>
                        <a:pt x="3937" y="0"/>
                      </a:lnTo>
                      <a:lnTo>
                        <a:pt x="3967" y="0"/>
                      </a:lnTo>
                      <a:lnTo>
                        <a:pt x="3987" y="0"/>
                      </a:lnTo>
                      <a:lnTo>
                        <a:pt x="4007" y="0"/>
                      </a:lnTo>
                      <a:lnTo>
                        <a:pt x="4027" y="0"/>
                      </a:lnTo>
                      <a:lnTo>
                        <a:pt x="4047" y="0"/>
                      </a:lnTo>
                      <a:lnTo>
                        <a:pt x="4067" y="0"/>
                      </a:lnTo>
                      <a:lnTo>
                        <a:pt x="4087" y="0"/>
                      </a:lnTo>
                      <a:lnTo>
                        <a:pt x="4117" y="0"/>
                      </a:lnTo>
                      <a:lnTo>
                        <a:pt x="4137" y="0"/>
                      </a:lnTo>
                      <a:lnTo>
                        <a:pt x="4157" y="0"/>
                      </a:lnTo>
                      <a:lnTo>
                        <a:pt x="4177" y="0"/>
                      </a:lnTo>
                      <a:lnTo>
                        <a:pt x="4197" y="0"/>
                      </a:lnTo>
                      <a:lnTo>
                        <a:pt x="4217" y="0"/>
                      </a:lnTo>
                      <a:lnTo>
                        <a:pt x="4248" y="0"/>
                      </a:lnTo>
                      <a:lnTo>
                        <a:pt x="4268" y="0"/>
                      </a:lnTo>
                      <a:lnTo>
                        <a:pt x="4288" y="0"/>
                      </a:lnTo>
                      <a:lnTo>
                        <a:pt x="4308" y="0"/>
                      </a:lnTo>
                      <a:lnTo>
                        <a:pt x="4328" y="0"/>
                      </a:lnTo>
                      <a:lnTo>
                        <a:pt x="4348" y="0"/>
                      </a:lnTo>
                      <a:lnTo>
                        <a:pt x="4378" y="0"/>
                      </a:lnTo>
                      <a:lnTo>
                        <a:pt x="4398" y="0"/>
                      </a:lnTo>
                      <a:lnTo>
                        <a:pt x="4418" y="0"/>
                      </a:lnTo>
                      <a:lnTo>
                        <a:pt x="4438" y="0"/>
                      </a:lnTo>
                      <a:lnTo>
                        <a:pt x="4458" y="0"/>
                      </a:lnTo>
                      <a:lnTo>
                        <a:pt x="4478" y="0"/>
                      </a:lnTo>
                      <a:lnTo>
                        <a:pt x="4508" y="0"/>
                      </a:lnTo>
                      <a:lnTo>
                        <a:pt x="4528" y="0"/>
                      </a:lnTo>
                      <a:lnTo>
                        <a:pt x="4548" y="0"/>
                      </a:lnTo>
                      <a:lnTo>
                        <a:pt x="4568" y="0"/>
                      </a:lnTo>
                      <a:lnTo>
                        <a:pt x="4588" y="0"/>
                      </a:lnTo>
                      <a:lnTo>
                        <a:pt x="4608" y="0"/>
                      </a:lnTo>
                      <a:lnTo>
                        <a:pt x="4628" y="0"/>
                      </a:lnTo>
                      <a:lnTo>
                        <a:pt x="4658" y="0"/>
                      </a:lnTo>
                      <a:lnTo>
                        <a:pt x="4678" y="0"/>
                      </a:lnTo>
                      <a:lnTo>
                        <a:pt x="4698" y="0"/>
                      </a:lnTo>
                      <a:lnTo>
                        <a:pt x="4718" y="0"/>
                      </a:lnTo>
                      <a:lnTo>
                        <a:pt x="4738" y="0"/>
                      </a:lnTo>
                      <a:lnTo>
                        <a:pt x="4758" y="0"/>
                      </a:lnTo>
                      <a:lnTo>
                        <a:pt x="4788" y="0"/>
                      </a:lnTo>
                      <a:lnTo>
                        <a:pt x="4819" y="0"/>
                      </a:lnTo>
                      <a:lnTo>
                        <a:pt x="4839" y="0"/>
                      </a:lnTo>
                      <a:lnTo>
                        <a:pt x="4859" y="0"/>
                      </a:lnTo>
                      <a:lnTo>
                        <a:pt x="4879" y="0"/>
                      </a:lnTo>
                      <a:lnTo>
                        <a:pt x="4899" y="0"/>
                      </a:lnTo>
                      <a:lnTo>
                        <a:pt x="4929" y="0"/>
                      </a:lnTo>
                      <a:lnTo>
                        <a:pt x="4949" y="0"/>
                      </a:lnTo>
                      <a:lnTo>
                        <a:pt x="4969" y="0"/>
                      </a:lnTo>
                      <a:lnTo>
                        <a:pt x="4989" y="0"/>
                      </a:lnTo>
                      <a:lnTo>
                        <a:pt x="5009" y="0"/>
                      </a:lnTo>
                      <a:lnTo>
                        <a:pt x="5029" y="0"/>
                      </a:lnTo>
                      <a:lnTo>
                        <a:pt x="5059" y="0"/>
                      </a:lnTo>
                      <a:lnTo>
                        <a:pt x="5079" y="0"/>
                      </a:lnTo>
                      <a:lnTo>
                        <a:pt x="5099" y="0"/>
                      </a:lnTo>
                      <a:lnTo>
                        <a:pt x="5119" y="0"/>
                      </a:lnTo>
                      <a:lnTo>
                        <a:pt x="5139" y="0"/>
                      </a:lnTo>
                      <a:lnTo>
                        <a:pt x="5159" y="0"/>
                      </a:lnTo>
                      <a:lnTo>
                        <a:pt x="5189" y="0"/>
                      </a:lnTo>
                      <a:lnTo>
                        <a:pt x="5209" y="0"/>
                      </a:lnTo>
                      <a:lnTo>
                        <a:pt x="5229" y="0"/>
                      </a:lnTo>
                      <a:lnTo>
                        <a:pt x="5249" y="0"/>
                      </a:lnTo>
                      <a:lnTo>
                        <a:pt x="5269" y="0"/>
                      </a:lnTo>
                      <a:lnTo>
                        <a:pt x="5289" y="0"/>
                      </a:lnTo>
                      <a:lnTo>
                        <a:pt x="5309" y="0"/>
                      </a:lnTo>
                      <a:lnTo>
                        <a:pt x="5339" y="0"/>
                      </a:lnTo>
                      <a:lnTo>
                        <a:pt x="5359" y="0"/>
                      </a:lnTo>
                      <a:lnTo>
                        <a:pt x="5380" y="0"/>
                      </a:lnTo>
                      <a:lnTo>
                        <a:pt x="5400" y="0"/>
                      </a:lnTo>
                      <a:lnTo>
                        <a:pt x="5420" y="0"/>
                      </a:lnTo>
                      <a:lnTo>
                        <a:pt x="5440" y="0"/>
                      </a:lnTo>
                      <a:lnTo>
                        <a:pt x="5470" y="0"/>
                      </a:lnTo>
                      <a:lnTo>
                        <a:pt x="5490" y="0"/>
                      </a:lnTo>
                      <a:lnTo>
                        <a:pt x="5510" y="0"/>
                      </a:lnTo>
                      <a:lnTo>
                        <a:pt x="5530" y="0"/>
                      </a:lnTo>
                      <a:lnTo>
                        <a:pt x="5550"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06280" y="3224160"/>
                  <a:ext cx="8715600" cy="1800"/>
                </a:xfrm>
                <a:custGeom>
                  <a:avLst/>
                  <a:gdLst/>
                  <a:ahLst/>
                  <a:rect l="l" t="t" r="r" b="b"/>
                  <a:pathLst>
                    <a:path w="5490" h="0">
                      <a:moveTo>
                        <a:pt x="0" y="0"/>
                      </a:moveTo>
                      <a:lnTo>
                        <a:pt x="20" y="0"/>
                      </a:lnTo>
                      <a:lnTo>
                        <a:pt x="40" y="0"/>
                      </a:lnTo>
                      <a:lnTo>
                        <a:pt x="60" y="0"/>
                      </a:lnTo>
                      <a:lnTo>
                        <a:pt x="90" y="0"/>
                      </a:lnTo>
                      <a:lnTo>
                        <a:pt x="110" y="0"/>
                      </a:lnTo>
                      <a:lnTo>
                        <a:pt x="130" y="0"/>
                      </a:lnTo>
                      <a:lnTo>
                        <a:pt x="150" y="0"/>
                      </a:lnTo>
                      <a:lnTo>
                        <a:pt x="171" y="0"/>
                      </a:lnTo>
                      <a:lnTo>
                        <a:pt x="191" y="0"/>
                      </a:lnTo>
                      <a:lnTo>
                        <a:pt x="221" y="0"/>
                      </a:lnTo>
                      <a:lnTo>
                        <a:pt x="241" y="0"/>
                      </a:lnTo>
                      <a:lnTo>
                        <a:pt x="261" y="0"/>
                      </a:lnTo>
                      <a:lnTo>
                        <a:pt x="281" y="0"/>
                      </a:lnTo>
                      <a:lnTo>
                        <a:pt x="301" y="0"/>
                      </a:lnTo>
                      <a:lnTo>
                        <a:pt x="321" y="0"/>
                      </a:lnTo>
                      <a:lnTo>
                        <a:pt x="351" y="0"/>
                      </a:lnTo>
                      <a:lnTo>
                        <a:pt x="371" y="0"/>
                      </a:lnTo>
                      <a:lnTo>
                        <a:pt x="391" y="0"/>
                      </a:lnTo>
                      <a:lnTo>
                        <a:pt x="411" y="0"/>
                      </a:lnTo>
                      <a:lnTo>
                        <a:pt x="431" y="0"/>
                      </a:lnTo>
                      <a:lnTo>
                        <a:pt x="451" y="0"/>
                      </a:lnTo>
                      <a:lnTo>
                        <a:pt x="481" y="0"/>
                      </a:lnTo>
                      <a:lnTo>
                        <a:pt x="501" y="0"/>
                      </a:lnTo>
                      <a:lnTo>
                        <a:pt x="521" y="0"/>
                      </a:lnTo>
                      <a:lnTo>
                        <a:pt x="541" y="0"/>
                      </a:lnTo>
                      <a:lnTo>
                        <a:pt x="561" y="0"/>
                      </a:lnTo>
                      <a:lnTo>
                        <a:pt x="581" y="0"/>
                      </a:lnTo>
                      <a:lnTo>
                        <a:pt x="611" y="0"/>
                      </a:lnTo>
                      <a:lnTo>
                        <a:pt x="631" y="0"/>
                      </a:lnTo>
                      <a:lnTo>
                        <a:pt x="651" y="0"/>
                      </a:lnTo>
                      <a:lnTo>
                        <a:pt x="671" y="0"/>
                      </a:lnTo>
                      <a:lnTo>
                        <a:pt x="691" y="0"/>
                      </a:lnTo>
                      <a:lnTo>
                        <a:pt x="711" y="0"/>
                      </a:lnTo>
                      <a:lnTo>
                        <a:pt x="742" y="0"/>
                      </a:lnTo>
                      <a:lnTo>
                        <a:pt x="762" y="0"/>
                      </a:lnTo>
                      <a:lnTo>
                        <a:pt x="782" y="0"/>
                      </a:lnTo>
                      <a:lnTo>
                        <a:pt x="802" y="0"/>
                      </a:lnTo>
                      <a:lnTo>
                        <a:pt x="822" y="0"/>
                      </a:lnTo>
                      <a:lnTo>
                        <a:pt x="842" y="0"/>
                      </a:lnTo>
                      <a:lnTo>
                        <a:pt x="872" y="0"/>
                      </a:lnTo>
                      <a:lnTo>
                        <a:pt x="892" y="0"/>
                      </a:lnTo>
                      <a:lnTo>
                        <a:pt x="912" y="0"/>
                      </a:lnTo>
                      <a:lnTo>
                        <a:pt x="942" y="0"/>
                      </a:lnTo>
                      <a:lnTo>
                        <a:pt x="962" y="0"/>
                      </a:lnTo>
                      <a:lnTo>
                        <a:pt x="982" y="0"/>
                      </a:lnTo>
                      <a:lnTo>
                        <a:pt x="1012" y="0"/>
                      </a:lnTo>
                      <a:lnTo>
                        <a:pt x="1032" y="0"/>
                      </a:lnTo>
                      <a:lnTo>
                        <a:pt x="1052" y="0"/>
                      </a:lnTo>
                      <a:lnTo>
                        <a:pt x="1072" y="0"/>
                      </a:lnTo>
                      <a:lnTo>
                        <a:pt x="1092" y="0"/>
                      </a:lnTo>
                      <a:lnTo>
                        <a:pt x="1112" y="0"/>
                      </a:lnTo>
                      <a:lnTo>
                        <a:pt x="1142" y="0"/>
                      </a:lnTo>
                      <a:lnTo>
                        <a:pt x="1162" y="0"/>
                      </a:lnTo>
                      <a:lnTo>
                        <a:pt x="1182" y="0"/>
                      </a:lnTo>
                      <a:lnTo>
                        <a:pt x="1202" y="0"/>
                      </a:lnTo>
                      <a:lnTo>
                        <a:pt x="1222" y="0"/>
                      </a:lnTo>
                      <a:lnTo>
                        <a:pt x="1242" y="0"/>
                      </a:lnTo>
                      <a:lnTo>
                        <a:pt x="1272" y="0"/>
                      </a:lnTo>
                      <a:lnTo>
                        <a:pt x="1292" y="0"/>
                      </a:lnTo>
                      <a:lnTo>
                        <a:pt x="1313" y="0"/>
                      </a:lnTo>
                      <a:lnTo>
                        <a:pt x="1333" y="0"/>
                      </a:lnTo>
                      <a:lnTo>
                        <a:pt x="1353" y="0"/>
                      </a:lnTo>
                      <a:lnTo>
                        <a:pt x="1373" y="0"/>
                      </a:lnTo>
                      <a:lnTo>
                        <a:pt x="1403" y="0"/>
                      </a:lnTo>
                      <a:lnTo>
                        <a:pt x="1423" y="0"/>
                      </a:lnTo>
                      <a:lnTo>
                        <a:pt x="1443" y="0"/>
                      </a:lnTo>
                      <a:lnTo>
                        <a:pt x="1463" y="0"/>
                      </a:lnTo>
                      <a:lnTo>
                        <a:pt x="1483" y="0"/>
                      </a:lnTo>
                      <a:lnTo>
                        <a:pt x="1503" y="0"/>
                      </a:lnTo>
                      <a:lnTo>
                        <a:pt x="1533" y="0"/>
                      </a:lnTo>
                      <a:lnTo>
                        <a:pt x="1553" y="0"/>
                      </a:lnTo>
                      <a:lnTo>
                        <a:pt x="1573" y="0"/>
                      </a:lnTo>
                      <a:lnTo>
                        <a:pt x="1593" y="0"/>
                      </a:lnTo>
                      <a:lnTo>
                        <a:pt x="1613" y="0"/>
                      </a:lnTo>
                      <a:lnTo>
                        <a:pt x="1633" y="0"/>
                      </a:lnTo>
                      <a:lnTo>
                        <a:pt x="1663" y="0"/>
                      </a:lnTo>
                      <a:lnTo>
                        <a:pt x="1683" y="0"/>
                      </a:lnTo>
                      <a:lnTo>
                        <a:pt x="1703" y="0"/>
                      </a:lnTo>
                      <a:lnTo>
                        <a:pt x="1723" y="0"/>
                      </a:lnTo>
                      <a:lnTo>
                        <a:pt x="1743" y="0"/>
                      </a:lnTo>
                      <a:lnTo>
                        <a:pt x="1763" y="0"/>
                      </a:lnTo>
                      <a:lnTo>
                        <a:pt x="1793" y="0"/>
                      </a:lnTo>
                      <a:lnTo>
                        <a:pt x="1813" y="0"/>
                      </a:lnTo>
                      <a:lnTo>
                        <a:pt x="1833" y="0"/>
                      </a:lnTo>
                      <a:lnTo>
                        <a:pt x="1853" y="0"/>
                      </a:lnTo>
                      <a:lnTo>
                        <a:pt x="1873" y="0"/>
                      </a:lnTo>
                      <a:lnTo>
                        <a:pt x="1894" y="0"/>
                      </a:lnTo>
                      <a:lnTo>
                        <a:pt x="1914" y="0"/>
                      </a:lnTo>
                      <a:lnTo>
                        <a:pt x="1944" y="0"/>
                      </a:lnTo>
                      <a:lnTo>
                        <a:pt x="1964" y="0"/>
                      </a:lnTo>
                      <a:lnTo>
                        <a:pt x="1984" y="0"/>
                      </a:lnTo>
                      <a:lnTo>
                        <a:pt x="2004" y="0"/>
                      </a:lnTo>
                      <a:lnTo>
                        <a:pt x="2024" y="0"/>
                      </a:lnTo>
                      <a:lnTo>
                        <a:pt x="2044" y="0"/>
                      </a:lnTo>
                      <a:lnTo>
                        <a:pt x="2074" y="0"/>
                      </a:lnTo>
                      <a:lnTo>
                        <a:pt x="2094" y="0"/>
                      </a:lnTo>
                      <a:lnTo>
                        <a:pt x="2114" y="0"/>
                      </a:lnTo>
                      <a:lnTo>
                        <a:pt x="2134" y="0"/>
                      </a:lnTo>
                      <a:lnTo>
                        <a:pt x="2154" y="0"/>
                      </a:lnTo>
                      <a:lnTo>
                        <a:pt x="2174" y="0"/>
                      </a:lnTo>
                      <a:lnTo>
                        <a:pt x="2204" y="0"/>
                      </a:lnTo>
                      <a:lnTo>
                        <a:pt x="2224" y="0"/>
                      </a:lnTo>
                      <a:lnTo>
                        <a:pt x="2244" y="0"/>
                      </a:lnTo>
                      <a:lnTo>
                        <a:pt x="2264" y="0"/>
                      </a:lnTo>
                      <a:lnTo>
                        <a:pt x="2284" y="0"/>
                      </a:lnTo>
                      <a:lnTo>
                        <a:pt x="2304" y="0"/>
                      </a:lnTo>
                      <a:lnTo>
                        <a:pt x="2334" y="0"/>
                      </a:lnTo>
                      <a:lnTo>
                        <a:pt x="2354" y="0"/>
                      </a:lnTo>
                      <a:lnTo>
                        <a:pt x="2374" y="0"/>
                      </a:lnTo>
                      <a:lnTo>
                        <a:pt x="2394" y="0"/>
                      </a:lnTo>
                      <a:lnTo>
                        <a:pt x="2414" y="0"/>
                      </a:lnTo>
                      <a:lnTo>
                        <a:pt x="2434" y="0"/>
                      </a:lnTo>
                      <a:lnTo>
                        <a:pt x="2465" y="0"/>
                      </a:lnTo>
                      <a:lnTo>
                        <a:pt x="2485" y="0"/>
                      </a:lnTo>
                      <a:lnTo>
                        <a:pt x="2505" y="0"/>
                      </a:lnTo>
                      <a:lnTo>
                        <a:pt x="2525" y="0"/>
                      </a:lnTo>
                      <a:lnTo>
                        <a:pt x="2545" y="0"/>
                      </a:lnTo>
                      <a:lnTo>
                        <a:pt x="2565" y="0"/>
                      </a:lnTo>
                      <a:lnTo>
                        <a:pt x="2595" y="0"/>
                      </a:lnTo>
                      <a:lnTo>
                        <a:pt x="2615" y="0"/>
                      </a:lnTo>
                      <a:lnTo>
                        <a:pt x="2635" y="0"/>
                      </a:lnTo>
                      <a:lnTo>
                        <a:pt x="2655" y="0"/>
                      </a:lnTo>
                      <a:lnTo>
                        <a:pt x="2675" y="0"/>
                      </a:lnTo>
                      <a:lnTo>
                        <a:pt x="2695" y="0"/>
                      </a:lnTo>
                      <a:lnTo>
                        <a:pt x="2725" y="0"/>
                      </a:lnTo>
                      <a:lnTo>
                        <a:pt x="2745" y="0"/>
                      </a:lnTo>
                      <a:lnTo>
                        <a:pt x="2765" y="0"/>
                      </a:lnTo>
                      <a:lnTo>
                        <a:pt x="2785" y="0"/>
                      </a:lnTo>
                      <a:lnTo>
                        <a:pt x="2805" y="0"/>
                      </a:lnTo>
                      <a:lnTo>
                        <a:pt x="2825" y="0"/>
                      </a:lnTo>
                      <a:lnTo>
                        <a:pt x="2865" y="0"/>
                      </a:lnTo>
                      <a:lnTo>
                        <a:pt x="2885" y="0"/>
                      </a:lnTo>
                      <a:lnTo>
                        <a:pt x="2905" y="0"/>
                      </a:lnTo>
                      <a:lnTo>
                        <a:pt x="2925" y="0"/>
                      </a:lnTo>
                      <a:lnTo>
                        <a:pt x="2945" y="0"/>
                      </a:lnTo>
                      <a:lnTo>
                        <a:pt x="2965" y="0"/>
                      </a:lnTo>
                      <a:lnTo>
                        <a:pt x="2995" y="0"/>
                      </a:lnTo>
                      <a:lnTo>
                        <a:pt x="3015" y="0"/>
                      </a:lnTo>
                      <a:lnTo>
                        <a:pt x="3035" y="0"/>
                      </a:lnTo>
                      <a:lnTo>
                        <a:pt x="3056" y="0"/>
                      </a:lnTo>
                      <a:lnTo>
                        <a:pt x="3076" y="0"/>
                      </a:lnTo>
                      <a:lnTo>
                        <a:pt x="3096" y="0"/>
                      </a:lnTo>
                      <a:lnTo>
                        <a:pt x="3126" y="0"/>
                      </a:lnTo>
                      <a:lnTo>
                        <a:pt x="3146" y="0"/>
                      </a:lnTo>
                      <a:lnTo>
                        <a:pt x="3166" y="0"/>
                      </a:lnTo>
                      <a:lnTo>
                        <a:pt x="3186" y="0"/>
                      </a:lnTo>
                      <a:lnTo>
                        <a:pt x="3206" y="0"/>
                      </a:lnTo>
                      <a:lnTo>
                        <a:pt x="3226" y="0"/>
                      </a:lnTo>
                      <a:lnTo>
                        <a:pt x="3256" y="0"/>
                      </a:lnTo>
                      <a:lnTo>
                        <a:pt x="3276" y="0"/>
                      </a:lnTo>
                      <a:lnTo>
                        <a:pt x="3296" y="0"/>
                      </a:lnTo>
                      <a:lnTo>
                        <a:pt x="3316" y="0"/>
                      </a:lnTo>
                      <a:lnTo>
                        <a:pt x="3336" y="0"/>
                      </a:lnTo>
                      <a:lnTo>
                        <a:pt x="3356" y="0"/>
                      </a:lnTo>
                      <a:lnTo>
                        <a:pt x="3386" y="0"/>
                      </a:lnTo>
                      <a:lnTo>
                        <a:pt x="3406" y="0"/>
                      </a:lnTo>
                      <a:lnTo>
                        <a:pt x="3426" y="0"/>
                      </a:lnTo>
                      <a:lnTo>
                        <a:pt x="3446" y="0"/>
                      </a:lnTo>
                      <a:lnTo>
                        <a:pt x="3466" y="0"/>
                      </a:lnTo>
                      <a:lnTo>
                        <a:pt x="3486" y="0"/>
                      </a:lnTo>
                      <a:lnTo>
                        <a:pt x="3516" y="0"/>
                      </a:lnTo>
                      <a:lnTo>
                        <a:pt x="3536" y="0"/>
                      </a:lnTo>
                      <a:lnTo>
                        <a:pt x="3556" y="0"/>
                      </a:lnTo>
                      <a:lnTo>
                        <a:pt x="3576" y="0"/>
                      </a:lnTo>
                      <a:lnTo>
                        <a:pt x="3596" y="0"/>
                      </a:lnTo>
                      <a:lnTo>
                        <a:pt x="3617" y="0"/>
                      </a:lnTo>
                      <a:lnTo>
                        <a:pt x="3647" y="0"/>
                      </a:lnTo>
                      <a:lnTo>
                        <a:pt x="3667" y="0"/>
                      </a:lnTo>
                      <a:lnTo>
                        <a:pt x="3687" y="0"/>
                      </a:lnTo>
                      <a:lnTo>
                        <a:pt x="3707" y="0"/>
                      </a:lnTo>
                      <a:lnTo>
                        <a:pt x="3727" y="0"/>
                      </a:lnTo>
                      <a:lnTo>
                        <a:pt x="3747" y="0"/>
                      </a:lnTo>
                      <a:lnTo>
                        <a:pt x="3767" y="0"/>
                      </a:lnTo>
                      <a:lnTo>
                        <a:pt x="3797" y="0"/>
                      </a:lnTo>
                      <a:lnTo>
                        <a:pt x="3817" y="0"/>
                      </a:lnTo>
                      <a:lnTo>
                        <a:pt x="3837" y="0"/>
                      </a:lnTo>
                      <a:lnTo>
                        <a:pt x="3857" y="0"/>
                      </a:lnTo>
                      <a:lnTo>
                        <a:pt x="3877" y="0"/>
                      </a:lnTo>
                      <a:lnTo>
                        <a:pt x="3897" y="0"/>
                      </a:lnTo>
                      <a:lnTo>
                        <a:pt x="3927" y="0"/>
                      </a:lnTo>
                      <a:lnTo>
                        <a:pt x="3947" y="0"/>
                      </a:lnTo>
                      <a:lnTo>
                        <a:pt x="3967" y="0"/>
                      </a:lnTo>
                      <a:lnTo>
                        <a:pt x="3987" y="0"/>
                      </a:lnTo>
                      <a:lnTo>
                        <a:pt x="4007" y="0"/>
                      </a:lnTo>
                      <a:lnTo>
                        <a:pt x="4027" y="0"/>
                      </a:lnTo>
                      <a:lnTo>
                        <a:pt x="4057" y="0"/>
                      </a:lnTo>
                      <a:lnTo>
                        <a:pt x="4077" y="0"/>
                      </a:lnTo>
                      <a:lnTo>
                        <a:pt x="4097" y="0"/>
                      </a:lnTo>
                      <a:lnTo>
                        <a:pt x="4117" y="0"/>
                      </a:lnTo>
                      <a:lnTo>
                        <a:pt x="4137" y="0"/>
                      </a:lnTo>
                      <a:lnTo>
                        <a:pt x="4157" y="0"/>
                      </a:lnTo>
                      <a:lnTo>
                        <a:pt x="4187" y="0"/>
                      </a:lnTo>
                      <a:lnTo>
                        <a:pt x="4208" y="0"/>
                      </a:lnTo>
                      <a:lnTo>
                        <a:pt x="4228" y="0"/>
                      </a:lnTo>
                      <a:lnTo>
                        <a:pt x="4248" y="0"/>
                      </a:lnTo>
                      <a:lnTo>
                        <a:pt x="4268" y="0"/>
                      </a:lnTo>
                      <a:lnTo>
                        <a:pt x="4288" y="0"/>
                      </a:lnTo>
                      <a:lnTo>
                        <a:pt x="4318" y="0"/>
                      </a:lnTo>
                      <a:lnTo>
                        <a:pt x="4338" y="0"/>
                      </a:lnTo>
                      <a:lnTo>
                        <a:pt x="4358" y="0"/>
                      </a:lnTo>
                      <a:lnTo>
                        <a:pt x="4378" y="0"/>
                      </a:lnTo>
                      <a:lnTo>
                        <a:pt x="4398" y="0"/>
                      </a:lnTo>
                      <a:lnTo>
                        <a:pt x="4418" y="0"/>
                      </a:lnTo>
                      <a:lnTo>
                        <a:pt x="4448" y="0"/>
                      </a:lnTo>
                      <a:lnTo>
                        <a:pt x="4468" y="0"/>
                      </a:lnTo>
                      <a:lnTo>
                        <a:pt x="4488" y="0"/>
                      </a:lnTo>
                      <a:lnTo>
                        <a:pt x="4508" y="0"/>
                      </a:lnTo>
                      <a:lnTo>
                        <a:pt x="4528" y="0"/>
                      </a:lnTo>
                      <a:lnTo>
                        <a:pt x="4548" y="0"/>
                      </a:lnTo>
                      <a:lnTo>
                        <a:pt x="4578" y="0"/>
                      </a:lnTo>
                      <a:lnTo>
                        <a:pt x="4598" y="0"/>
                      </a:lnTo>
                      <a:lnTo>
                        <a:pt x="4618" y="0"/>
                      </a:lnTo>
                      <a:lnTo>
                        <a:pt x="4638" y="0"/>
                      </a:lnTo>
                      <a:lnTo>
                        <a:pt x="4658" y="0"/>
                      </a:lnTo>
                      <a:lnTo>
                        <a:pt x="4678" y="0"/>
                      </a:lnTo>
                      <a:lnTo>
                        <a:pt x="4708" y="0"/>
                      </a:lnTo>
                      <a:lnTo>
                        <a:pt x="4728" y="0"/>
                      </a:lnTo>
                      <a:lnTo>
                        <a:pt x="4748" y="0"/>
                      </a:lnTo>
                      <a:lnTo>
                        <a:pt x="4769" y="0"/>
                      </a:lnTo>
                      <a:lnTo>
                        <a:pt x="4799" y="0"/>
                      </a:lnTo>
                      <a:lnTo>
                        <a:pt x="4819" y="0"/>
                      </a:lnTo>
                      <a:lnTo>
                        <a:pt x="4849" y="0"/>
                      </a:lnTo>
                      <a:lnTo>
                        <a:pt x="4869" y="0"/>
                      </a:lnTo>
                      <a:lnTo>
                        <a:pt x="4889" y="0"/>
                      </a:lnTo>
                      <a:lnTo>
                        <a:pt x="4909" y="0"/>
                      </a:lnTo>
                      <a:lnTo>
                        <a:pt x="4929" y="0"/>
                      </a:lnTo>
                      <a:lnTo>
                        <a:pt x="4949" y="0"/>
                      </a:lnTo>
                      <a:lnTo>
                        <a:pt x="4979" y="0"/>
                      </a:lnTo>
                      <a:lnTo>
                        <a:pt x="4999" y="0"/>
                      </a:lnTo>
                      <a:lnTo>
                        <a:pt x="5019" y="0"/>
                      </a:lnTo>
                      <a:lnTo>
                        <a:pt x="5039" y="0"/>
                      </a:lnTo>
                      <a:lnTo>
                        <a:pt x="5059" y="0"/>
                      </a:lnTo>
                      <a:lnTo>
                        <a:pt x="5079" y="0"/>
                      </a:lnTo>
                      <a:lnTo>
                        <a:pt x="5109" y="0"/>
                      </a:lnTo>
                      <a:lnTo>
                        <a:pt x="5129" y="0"/>
                      </a:lnTo>
                      <a:lnTo>
                        <a:pt x="5149" y="0"/>
                      </a:lnTo>
                      <a:lnTo>
                        <a:pt x="5169" y="0"/>
                      </a:lnTo>
                      <a:lnTo>
                        <a:pt x="5189" y="0"/>
                      </a:lnTo>
                      <a:lnTo>
                        <a:pt x="5209" y="0"/>
                      </a:lnTo>
                      <a:lnTo>
                        <a:pt x="5239" y="0"/>
                      </a:lnTo>
                      <a:lnTo>
                        <a:pt x="5259" y="0"/>
                      </a:lnTo>
                      <a:lnTo>
                        <a:pt x="5279" y="0"/>
                      </a:lnTo>
                      <a:lnTo>
                        <a:pt x="5299" y="0"/>
                      </a:lnTo>
                      <a:lnTo>
                        <a:pt x="5319" y="0"/>
                      </a:lnTo>
                      <a:lnTo>
                        <a:pt x="5339" y="0"/>
                      </a:lnTo>
                      <a:lnTo>
                        <a:pt x="5370" y="0"/>
                      </a:lnTo>
                      <a:lnTo>
                        <a:pt x="5390" y="0"/>
                      </a:lnTo>
                      <a:lnTo>
                        <a:pt x="5410" y="0"/>
                      </a:lnTo>
                      <a:lnTo>
                        <a:pt x="5430" y="0"/>
                      </a:lnTo>
                      <a:lnTo>
                        <a:pt x="5450" y="0"/>
                      </a:lnTo>
                      <a:lnTo>
                        <a:pt x="5470" y="0"/>
                      </a:lnTo>
                      <a:lnTo>
                        <a:pt x="5490" y="0"/>
                      </a:lnTo>
                    </a:path>
                  </a:pathLst>
                </a:custGeom>
                <a:solidFill>
                  <a:srgbClr val="ccec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33360" y="2754360"/>
                  <a:ext cx="8461440" cy="1440"/>
                </a:xfrm>
                <a:custGeom>
                  <a:avLst/>
                  <a:gdLst/>
                  <a:ahLst/>
                  <a:rect l="l" t="t" r="r" b="b"/>
                  <a:pathLst>
                    <a:path w="5330" h="0">
                      <a:moveTo>
                        <a:pt x="0" y="0"/>
                      </a:moveTo>
                      <a:lnTo>
                        <a:pt x="20" y="0"/>
                      </a:lnTo>
                      <a:lnTo>
                        <a:pt x="50" y="0"/>
                      </a:lnTo>
                      <a:lnTo>
                        <a:pt x="70" y="0"/>
                      </a:lnTo>
                      <a:lnTo>
                        <a:pt x="91" y="0"/>
                      </a:lnTo>
                      <a:lnTo>
                        <a:pt x="111" y="0"/>
                      </a:lnTo>
                      <a:lnTo>
                        <a:pt x="131" y="0"/>
                      </a:lnTo>
                      <a:lnTo>
                        <a:pt x="151" y="0"/>
                      </a:lnTo>
                      <a:lnTo>
                        <a:pt x="181" y="0"/>
                      </a:lnTo>
                      <a:lnTo>
                        <a:pt x="201" y="0"/>
                      </a:lnTo>
                      <a:lnTo>
                        <a:pt x="221" y="0"/>
                      </a:lnTo>
                      <a:lnTo>
                        <a:pt x="241" y="0"/>
                      </a:lnTo>
                      <a:lnTo>
                        <a:pt x="261" y="0"/>
                      </a:lnTo>
                      <a:lnTo>
                        <a:pt x="281" y="0"/>
                      </a:lnTo>
                      <a:lnTo>
                        <a:pt x="311" y="0"/>
                      </a:lnTo>
                      <a:lnTo>
                        <a:pt x="331" y="0"/>
                      </a:lnTo>
                      <a:lnTo>
                        <a:pt x="351" y="0"/>
                      </a:lnTo>
                      <a:lnTo>
                        <a:pt x="371" y="0"/>
                      </a:lnTo>
                      <a:lnTo>
                        <a:pt x="391" y="0"/>
                      </a:lnTo>
                      <a:lnTo>
                        <a:pt x="411" y="0"/>
                      </a:lnTo>
                      <a:lnTo>
                        <a:pt x="441" y="0"/>
                      </a:lnTo>
                      <a:lnTo>
                        <a:pt x="461" y="0"/>
                      </a:lnTo>
                      <a:lnTo>
                        <a:pt x="481" y="0"/>
                      </a:lnTo>
                      <a:lnTo>
                        <a:pt x="501" y="0"/>
                      </a:lnTo>
                      <a:lnTo>
                        <a:pt x="521" y="0"/>
                      </a:lnTo>
                      <a:lnTo>
                        <a:pt x="541" y="0"/>
                      </a:lnTo>
                      <a:lnTo>
                        <a:pt x="571" y="0"/>
                      </a:lnTo>
                      <a:lnTo>
                        <a:pt x="591" y="0"/>
                      </a:lnTo>
                      <a:lnTo>
                        <a:pt x="611" y="0"/>
                      </a:lnTo>
                      <a:lnTo>
                        <a:pt x="631" y="0"/>
                      </a:lnTo>
                      <a:lnTo>
                        <a:pt x="651" y="0"/>
                      </a:lnTo>
                      <a:lnTo>
                        <a:pt x="672" y="0"/>
                      </a:lnTo>
                      <a:lnTo>
                        <a:pt x="702" y="0"/>
                      </a:lnTo>
                      <a:lnTo>
                        <a:pt x="722" y="0"/>
                      </a:lnTo>
                      <a:lnTo>
                        <a:pt x="742" y="0"/>
                      </a:lnTo>
                      <a:lnTo>
                        <a:pt x="762" y="0"/>
                      </a:lnTo>
                      <a:lnTo>
                        <a:pt x="782" y="0"/>
                      </a:lnTo>
                      <a:lnTo>
                        <a:pt x="802" y="0"/>
                      </a:lnTo>
                      <a:lnTo>
                        <a:pt x="832" y="0"/>
                      </a:lnTo>
                      <a:lnTo>
                        <a:pt x="862" y="0"/>
                      </a:lnTo>
                      <a:lnTo>
                        <a:pt x="882" y="0"/>
                      </a:lnTo>
                      <a:lnTo>
                        <a:pt x="902" y="0"/>
                      </a:lnTo>
                      <a:lnTo>
                        <a:pt x="922" y="0"/>
                      </a:lnTo>
                      <a:lnTo>
                        <a:pt x="942" y="0"/>
                      </a:lnTo>
                      <a:lnTo>
                        <a:pt x="972" y="0"/>
                      </a:lnTo>
                      <a:lnTo>
                        <a:pt x="992" y="0"/>
                      </a:lnTo>
                      <a:lnTo>
                        <a:pt x="1012" y="0"/>
                      </a:lnTo>
                      <a:lnTo>
                        <a:pt x="1032" y="0"/>
                      </a:lnTo>
                      <a:lnTo>
                        <a:pt x="1052" y="0"/>
                      </a:lnTo>
                      <a:lnTo>
                        <a:pt x="1072" y="0"/>
                      </a:lnTo>
                      <a:lnTo>
                        <a:pt x="1102" y="0"/>
                      </a:lnTo>
                      <a:lnTo>
                        <a:pt x="1122" y="0"/>
                      </a:lnTo>
                      <a:lnTo>
                        <a:pt x="1142" y="0"/>
                      </a:lnTo>
                      <a:lnTo>
                        <a:pt x="1162" y="0"/>
                      </a:lnTo>
                      <a:lnTo>
                        <a:pt x="1182" y="0"/>
                      </a:lnTo>
                      <a:lnTo>
                        <a:pt x="1212" y="0"/>
                      </a:lnTo>
                      <a:lnTo>
                        <a:pt x="1233" y="0"/>
                      </a:lnTo>
                      <a:lnTo>
                        <a:pt x="1253" y="0"/>
                      </a:lnTo>
                      <a:lnTo>
                        <a:pt x="1273" y="0"/>
                      </a:lnTo>
                      <a:lnTo>
                        <a:pt x="1293" y="0"/>
                      </a:lnTo>
                      <a:lnTo>
                        <a:pt x="1313" y="0"/>
                      </a:lnTo>
                      <a:lnTo>
                        <a:pt x="1343" y="0"/>
                      </a:lnTo>
                      <a:lnTo>
                        <a:pt x="1363" y="0"/>
                      </a:lnTo>
                      <a:lnTo>
                        <a:pt x="1383" y="0"/>
                      </a:lnTo>
                      <a:lnTo>
                        <a:pt x="1403" y="0"/>
                      </a:lnTo>
                      <a:lnTo>
                        <a:pt x="1423" y="0"/>
                      </a:lnTo>
                      <a:lnTo>
                        <a:pt x="1443" y="0"/>
                      </a:lnTo>
                      <a:lnTo>
                        <a:pt x="1473" y="0"/>
                      </a:lnTo>
                      <a:lnTo>
                        <a:pt x="1493" y="0"/>
                      </a:lnTo>
                      <a:lnTo>
                        <a:pt x="1513" y="0"/>
                      </a:lnTo>
                      <a:lnTo>
                        <a:pt x="1533" y="0"/>
                      </a:lnTo>
                      <a:lnTo>
                        <a:pt x="1553" y="0"/>
                      </a:lnTo>
                      <a:lnTo>
                        <a:pt x="1573" y="0"/>
                      </a:lnTo>
                      <a:lnTo>
                        <a:pt x="1603" y="0"/>
                      </a:lnTo>
                      <a:lnTo>
                        <a:pt x="1623" y="0"/>
                      </a:lnTo>
                      <a:lnTo>
                        <a:pt x="1643" y="0"/>
                      </a:lnTo>
                      <a:lnTo>
                        <a:pt x="1663" y="0"/>
                      </a:lnTo>
                      <a:lnTo>
                        <a:pt x="1683" y="0"/>
                      </a:lnTo>
                      <a:lnTo>
                        <a:pt x="1703" y="0"/>
                      </a:lnTo>
                      <a:lnTo>
                        <a:pt x="1733" y="0"/>
                      </a:lnTo>
                      <a:lnTo>
                        <a:pt x="1753" y="0"/>
                      </a:lnTo>
                      <a:lnTo>
                        <a:pt x="1773" y="0"/>
                      </a:lnTo>
                      <a:lnTo>
                        <a:pt x="1793" y="0"/>
                      </a:lnTo>
                      <a:lnTo>
                        <a:pt x="1814" y="0"/>
                      </a:lnTo>
                      <a:lnTo>
                        <a:pt x="1834" y="0"/>
                      </a:lnTo>
                      <a:lnTo>
                        <a:pt x="1864" y="0"/>
                      </a:lnTo>
                      <a:lnTo>
                        <a:pt x="1884" y="0"/>
                      </a:lnTo>
                      <a:lnTo>
                        <a:pt x="1904" y="0"/>
                      </a:lnTo>
                      <a:lnTo>
                        <a:pt x="1924" y="0"/>
                      </a:lnTo>
                      <a:lnTo>
                        <a:pt x="1944" y="0"/>
                      </a:lnTo>
                      <a:lnTo>
                        <a:pt x="1964" y="0"/>
                      </a:lnTo>
                      <a:lnTo>
                        <a:pt x="1994" y="0"/>
                      </a:lnTo>
                      <a:lnTo>
                        <a:pt x="2014" y="0"/>
                      </a:lnTo>
                      <a:lnTo>
                        <a:pt x="2034" y="0"/>
                      </a:lnTo>
                      <a:lnTo>
                        <a:pt x="2054" y="0"/>
                      </a:lnTo>
                      <a:lnTo>
                        <a:pt x="2074" y="0"/>
                      </a:lnTo>
                      <a:lnTo>
                        <a:pt x="2094" y="0"/>
                      </a:lnTo>
                      <a:lnTo>
                        <a:pt x="2124" y="0"/>
                      </a:lnTo>
                      <a:lnTo>
                        <a:pt x="2144" y="0"/>
                      </a:lnTo>
                      <a:lnTo>
                        <a:pt x="2164" y="0"/>
                      </a:lnTo>
                      <a:lnTo>
                        <a:pt x="2184" y="0"/>
                      </a:lnTo>
                      <a:lnTo>
                        <a:pt x="2204" y="0"/>
                      </a:lnTo>
                      <a:lnTo>
                        <a:pt x="2224" y="0"/>
                      </a:lnTo>
                      <a:lnTo>
                        <a:pt x="2254" y="0"/>
                      </a:lnTo>
                      <a:lnTo>
                        <a:pt x="2274" y="0"/>
                      </a:lnTo>
                      <a:lnTo>
                        <a:pt x="2294" y="0"/>
                      </a:lnTo>
                      <a:lnTo>
                        <a:pt x="2314" y="0"/>
                      </a:lnTo>
                      <a:lnTo>
                        <a:pt x="2334" y="0"/>
                      </a:lnTo>
                      <a:lnTo>
                        <a:pt x="2354" y="0"/>
                      </a:lnTo>
                      <a:lnTo>
                        <a:pt x="2385" y="0"/>
                      </a:lnTo>
                      <a:lnTo>
                        <a:pt x="2405" y="0"/>
                      </a:lnTo>
                      <a:lnTo>
                        <a:pt x="2425" y="0"/>
                      </a:lnTo>
                      <a:lnTo>
                        <a:pt x="2445" y="0"/>
                      </a:lnTo>
                      <a:lnTo>
                        <a:pt x="2465" y="0"/>
                      </a:lnTo>
                      <a:lnTo>
                        <a:pt x="2485" y="0"/>
                      </a:lnTo>
                      <a:lnTo>
                        <a:pt x="2515" y="0"/>
                      </a:lnTo>
                      <a:lnTo>
                        <a:pt x="2535" y="0"/>
                      </a:lnTo>
                      <a:lnTo>
                        <a:pt x="2555" y="0"/>
                      </a:lnTo>
                      <a:lnTo>
                        <a:pt x="2575" y="0"/>
                      </a:lnTo>
                      <a:lnTo>
                        <a:pt x="2595" y="0"/>
                      </a:lnTo>
                      <a:lnTo>
                        <a:pt x="2615" y="0"/>
                      </a:lnTo>
                      <a:lnTo>
                        <a:pt x="2645" y="0"/>
                      </a:lnTo>
                      <a:lnTo>
                        <a:pt x="2665" y="0"/>
                      </a:lnTo>
                      <a:lnTo>
                        <a:pt x="2685" y="0"/>
                      </a:lnTo>
                      <a:lnTo>
                        <a:pt x="2705" y="0"/>
                      </a:lnTo>
                      <a:lnTo>
                        <a:pt x="2725" y="0"/>
                      </a:lnTo>
                      <a:lnTo>
                        <a:pt x="2745" y="0"/>
                      </a:lnTo>
                      <a:lnTo>
                        <a:pt x="2785" y="0"/>
                      </a:lnTo>
                      <a:lnTo>
                        <a:pt x="2805" y="0"/>
                      </a:lnTo>
                      <a:lnTo>
                        <a:pt x="2825" y="0"/>
                      </a:lnTo>
                      <a:lnTo>
                        <a:pt x="2845" y="0"/>
                      </a:lnTo>
                      <a:lnTo>
                        <a:pt x="2865" y="0"/>
                      </a:lnTo>
                      <a:lnTo>
                        <a:pt x="2885" y="0"/>
                      </a:lnTo>
                      <a:lnTo>
                        <a:pt x="2915" y="0"/>
                      </a:lnTo>
                      <a:lnTo>
                        <a:pt x="2935" y="0"/>
                      </a:lnTo>
                      <a:lnTo>
                        <a:pt x="2955" y="0"/>
                      </a:lnTo>
                      <a:lnTo>
                        <a:pt x="2976" y="0"/>
                      </a:lnTo>
                      <a:lnTo>
                        <a:pt x="2996" y="0"/>
                      </a:lnTo>
                      <a:lnTo>
                        <a:pt x="3016" y="0"/>
                      </a:lnTo>
                      <a:lnTo>
                        <a:pt x="3046" y="0"/>
                      </a:lnTo>
                      <a:lnTo>
                        <a:pt x="3066" y="0"/>
                      </a:lnTo>
                      <a:lnTo>
                        <a:pt x="3086" y="0"/>
                      </a:lnTo>
                      <a:lnTo>
                        <a:pt x="3106" y="0"/>
                      </a:lnTo>
                      <a:lnTo>
                        <a:pt x="3126" y="0"/>
                      </a:lnTo>
                      <a:lnTo>
                        <a:pt x="3146" y="0"/>
                      </a:lnTo>
                      <a:lnTo>
                        <a:pt x="3176" y="0"/>
                      </a:lnTo>
                      <a:lnTo>
                        <a:pt x="3196" y="0"/>
                      </a:lnTo>
                      <a:lnTo>
                        <a:pt x="3216" y="0"/>
                      </a:lnTo>
                      <a:lnTo>
                        <a:pt x="3236" y="0"/>
                      </a:lnTo>
                      <a:lnTo>
                        <a:pt x="3256" y="0"/>
                      </a:lnTo>
                      <a:lnTo>
                        <a:pt x="3276" y="0"/>
                      </a:lnTo>
                      <a:lnTo>
                        <a:pt x="3306" y="0"/>
                      </a:lnTo>
                      <a:lnTo>
                        <a:pt x="3326" y="0"/>
                      </a:lnTo>
                      <a:lnTo>
                        <a:pt x="3346" y="0"/>
                      </a:lnTo>
                      <a:lnTo>
                        <a:pt x="3366" y="0"/>
                      </a:lnTo>
                      <a:lnTo>
                        <a:pt x="3386" y="0"/>
                      </a:lnTo>
                      <a:lnTo>
                        <a:pt x="3406" y="0"/>
                      </a:lnTo>
                      <a:lnTo>
                        <a:pt x="3436" y="0"/>
                      </a:lnTo>
                      <a:lnTo>
                        <a:pt x="3456" y="0"/>
                      </a:lnTo>
                      <a:lnTo>
                        <a:pt x="3476" y="0"/>
                      </a:lnTo>
                      <a:lnTo>
                        <a:pt x="3496" y="0"/>
                      </a:lnTo>
                      <a:lnTo>
                        <a:pt x="3516" y="0"/>
                      </a:lnTo>
                      <a:lnTo>
                        <a:pt x="3537" y="0"/>
                      </a:lnTo>
                      <a:lnTo>
                        <a:pt x="3567" y="0"/>
                      </a:lnTo>
                      <a:lnTo>
                        <a:pt x="3587" y="0"/>
                      </a:lnTo>
                      <a:lnTo>
                        <a:pt x="3607" y="0"/>
                      </a:lnTo>
                      <a:lnTo>
                        <a:pt x="3627" y="0"/>
                      </a:lnTo>
                      <a:lnTo>
                        <a:pt x="3647" y="0"/>
                      </a:lnTo>
                      <a:lnTo>
                        <a:pt x="3667" y="0"/>
                      </a:lnTo>
                      <a:lnTo>
                        <a:pt x="3697" y="0"/>
                      </a:lnTo>
                      <a:lnTo>
                        <a:pt x="3717" y="0"/>
                      </a:lnTo>
                      <a:lnTo>
                        <a:pt x="3737" y="0"/>
                      </a:lnTo>
                      <a:lnTo>
                        <a:pt x="3757" y="0"/>
                      </a:lnTo>
                      <a:lnTo>
                        <a:pt x="3777" y="0"/>
                      </a:lnTo>
                      <a:lnTo>
                        <a:pt x="3797" y="0"/>
                      </a:lnTo>
                      <a:lnTo>
                        <a:pt x="3827" y="0"/>
                      </a:lnTo>
                      <a:lnTo>
                        <a:pt x="3847" y="0"/>
                      </a:lnTo>
                      <a:lnTo>
                        <a:pt x="3867" y="0"/>
                      </a:lnTo>
                      <a:lnTo>
                        <a:pt x="3887" y="0"/>
                      </a:lnTo>
                      <a:lnTo>
                        <a:pt x="3907" y="0"/>
                      </a:lnTo>
                      <a:lnTo>
                        <a:pt x="3927" y="0"/>
                      </a:lnTo>
                      <a:lnTo>
                        <a:pt x="3957" y="0"/>
                      </a:lnTo>
                      <a:lnTo>
                        <a:pt x="3977" y="0"/>
                      </a:lnTo>
                      <a:lnTo>
                        <a:pt x="3997" y="0"/>
                      </a:lnTo>
                      <a:lnTo>
                        <a:pt x="4017" y="0"/>
                      </a:lnTo>
                      <a:lnTo>
                        <a:pt x="4037" y="0"/>
                      </a:lnTo>
                      <a:lnTo>
                        <a:pt x="4057" y="0"/>
                      </a:lnTo>
                      <a:lnTo>
                        <a:pt x="4087" y="0"/>
                      </a:lnTo>
                      <a:lnTo>
                        <a:pt x="4107" y="0"/>
                      </a:lnTo>
                      <a:lnTo>
                        <a:pt x="4128" y="0"/>
                      </a:lnTo>
                      <a:lnTo>
                        <a:pt x="4148" y="0"/>
                      </a:lnTo>
                      <a:lnTo>
                        <a:pt x="4168" y="0"/>
                      </a:lnTo>
                      <a:lnTo>
                        <a:pt x="4198" y="0"/>
                      </a:lnTo>
                      <a:lnTo>
                        <a:pt x="4218" y="0"/>
                      </a:lnTo>
                      <a:lnTo>
                        <a:pt x="4238" y="0"/>
                      </a:lnTo>
                      <a:lnTo>
                        <a:pt x="4258" y="0"/>
                      </a:lnTo>
                      <a:lnTo>
                        <a:pt x="4278" y="0"/>
                      </a:lnTo>
                      <a:lnTo>
                        <a:pt x="4298" y="0"/>
                      </a:lnTo>
                      <a:lnTo>
                        <a:pt x="4328" y="0"/>
                      </a:lnTo>
                      <a:lnTo>
                        <a:pt x="4348" y="0"/>
                      </a:lnTo>
                      <a:lnTo>
                        <a:pt x="4368" y="0"/>
                      </a:lnTo>
                      <a:lnTo>
                        <a:pt x="4388" y="0"/>
                      </a:lnTo>
                      <a:lnTo>
                        <a:pt x="4408" y="0"/>
                      </a:lnTo>
                      <a:lnTo>
                        <a:pt x="4428" y="0"/>
                      </a:lnTo>
                      <a:lnTo>
                        <a:pt x="4458" y="0"/>
                      </a:lnTo>
                      <a:lnTo>
                        <a:pt x="4478" y="0"/>
                      </a:lnTo>
                      <a:lnTo>
                        <a:pt x="4498" y="0"/>
                      </a:lnTo>
                      <a:lnTo>
                        <a:pt x="4518" y="0"/>
                      </a:lnTo>
                      <a:lnTo>
                        <a:pt x="4538" y="0"/>
                      </a:lnTo>
                      <a:lnTo>
                        <a:pt x="4558" y="0"/>
                      </a:lnTo>
                      <a:lnTo>
                        <a:pt x="4588" y="0"/>
                      </a:lnTo>
                      <a:lnTo>
                        <a:pt x="4608" y="0"/>
                      </a:lnTo>
                      <a:lnTo>
                        <a:pt x="4628" y="0"/>
                      </a:lnTo>
                      <a:lnTo>
                        <a:pt x="4648" y="0"/>
                      </a:lnTo>
                      <a:lnTo>
                        <a:pt x="4668" y="0"/>
                      </a:lnTo>
                      <a:lnTo>
                        <a:pt x="4689" y="0"/>
                      </a:lnTo>
                      <a:lnTo>
                        <a:pt x="4729" y="0"/>
                      </a:lnTo>
                      <a:lnTo>
                        <a:pt x="4749" y="0"/>
                      </a:lnTo>
                      <a:lnTo>
                        <a:pt x="4769" y="0"/>
                      </a:lnTo>
                      <a:lnTo>
                        <a:pt x="4789" y="0"/>
                      </a:lnTo>
                      <a:lnTo>
                        <a:pt x="4809" y="0"/>
                      </a:lnTo>
                      <a:lnTo>
                        <a:pt x="4829" y="0"/>
                      </a:lnTo>
                      <a:lnTo>
                        <a:pt x="4859" y="0"/>
                      </a:lnTo>
                      <a:lnTo>
                        <a:pt x="4879" y="0"/>
                      </a:lnTo>
                      <a:lnTo>
                        <a:pt x="4899" y="0"/>
                      </a:lnTo>
                      <a:lnTo>
                        <a:pt x="4919" y="0"/>
                      </a:lnTo>
                      <a:lnTo>
                        <a:pt x="4939" y="0"/>
                      </a:lnTo>
                      <a:lnTo>
                        <a:pt x="4959" y="0"/>
                      </a:lnTo>
                      <a:lnTo>
                        <a:pt x="4989" y="0"/>
                      </a:lnTo>
                      <a:lnTo>
                        <a:pt x="5009" y="0"/>
                      </a:lnTo>
                      <a:lnTo>
                        <a:pt x="5029" y="0"/>
                      </a:lnTo>
                      <a:lnTo>
                        <a:pt x="5049" y="0"/>
                      </a:lnTo>
                      <a:lnTo>
                        <a:pt x="5069" y="0"/>
                      </a:lnTo>
                      <a:lnTo>
                        <a:pt x="5089" y="0"/>
                      </a:lnTo>
                      <a:lnTo>
                        <a:pt x="5119" y="0"/>
                      </a:lnTo>
                      <a:lnTo>
                        <a:pt x="5139" y="0"/>
                      </a:lnTo>
                      <a:lnTo>
                        <a:pt x="5159" y="0"/>
                      </a:lnTo>
                      <a:lnTo>
                        <a:pt x="5179" y="0"/>
                      </a:lnTo>
                      <a:lnTo>
                        <a:pt x="5199" y="0"/>
                      </a:lnTo>
                      <a:lnTo>
                        <a:pt x="5219" y="0"/>
                      </a:lnTo>
                      <a:lnTo>
                        <a:pt x="5249" y="0"/>
                      </a:lnTo>
                      <a:lnTo>
                        <a:pt x="5270" y="0"/>
                      </a:lnTo>
                      <a:lnTo>
                        <a:pt x="5290" y="0"/>
                      </a:lnTo>
                      <a:lnTo>
                        <a:pt x="5310" y="0"/>
                      </a:lnTo>
                      <a:lnTo>
                        <a:pt x="5330"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620640" y="2265480"/>
                  <a:ext cx="7902720" cy="1440"/>
                </a:xfrm>
                <a:custGeom>
                  <a:avLst/>
                  <a:gdLst/>
                  <a:ahLst/>
                  <a:rect l="l" t="t" r="r" b="b"/>
                  <a:pathLst>
                    <a:path w="4978" h="0">
                      <a:moveTo>
                        <a:pt x="0" y="0"/>
                      </a:moveTo>
                      <a:lnTo>
                        <a:pt x="20" y="0"/>
                      </a:lnTo>
                      <a:lnTo>
                        <a:pt x="40" y="0"/>
                      </a:lnTo>
                      <a:lnTo>
                        <a:pt x="60" y="0"/>
                      </a:lnTo>
                      <a:lnTo>
                        <a:pt x="90" y="0"/>
                      </a:lnTo>
                      <a:lnTo>
                        <a:pt x="110" y="0"/>
                      </a:lnTo>
                      <a:lnTo>
                        <a:pt x="130" y="0"/>
                      </a:lnTo>
                      <a:lnTo>
                        <a:pt x="150" y="0"/>
                      </a:lnTo>
                      <a:lnTo>
                        <a:pt x="170" y="0"/>
                      </a:lnTo>
                      <a:lnTo>
                        <a:pt x="190" y="0"/>
                      </a:lnTo>
                      <a:lnTo>
                        <a:pt x="220" y="0"/>
                      </a:lnTo>
                      <a:lnTo>
                        <a:pt x="240" y="0"/>
                      </a:lnTo>
                      <a:lnTo>
                        <a:pt x="260" y="0"/>
                      </a:lnTo>
                      <a:lnTo>
                        <a:pt x="280" y="0"/>
                      </a:lnTo>
                      <a:lnTo>
                        <a:pt x="300" y="0"/>
                      </a:lnTo>
                      <a:lnTo>
                        <a:pt x="320" y="0"/>
                      </a:lnTo>
                      <a:lnTo>
                        <a:pt x="340" y="0"/>
                      </a:lnTo>
                      <a:lnTo>
                        <a:pt x="370" y="0"/>
                      </a:lnTo>
                      <a:lnTo>
                        <a:pt x="390" y="0"/>
                      </a:lnTo>
                      <a:lnTo>
                        <a:pt x="410" y="0"/>
                      </a:lnTo>
                      <a:lnTo>
                        <a:pt x="430" y="0"/>
                      </a:lnTo>
                      <a:lnTo>
                        <a:pt x="450" y="0"/>
                      </a:lnTo>
                      <a:lnTo>
                        <a:pt x="470" y="0"/>
                      </a:lnTo>
                      <a:lnTo>
                        <a:pt x="501" y="0"/>
                      </a:lnTo>
                      <a:lnTo>
                        <a:pt x="521" y="0"/>
                      </a:lnTo>
                      <a:lnTo>
                        <a:pt x="541" y="0"/>
                      </a:lnTo>
                      <a:lnTo>
                        <a:pt x="561" y="0"/>
                      </a:lnTo>
                      <a:lnTo>
                        <a:pt x="581" y="0"/>
                      </a:lnTo>
                      <a:lnTo>
                        <a:pt x="601" y="0"/>
                      </a:lnTo>
                      <a:lnTo>
                        <a:pt x="631" y="0"/>
                      </a:lnTo>
                      <a:lnTo>
                        <a:pt x="651" y="0"/>
                      </a:lnTo>
                      <a:lnTo>
                        <a:pt x="681" y="0"/>
                      </a:lnTo>
                      <a:lnTo>
                        <a:pt x="701" y="0"/>
                      </a:lnTo>
                      <a:lnTo>
                        <a:pt x="721" y="0"/>
                      </a:lnTo>
                      <a:lnTo>
                        <a:pt x="741" y="0"/>
                      </a:lnTo>
                      <a:lnTo>
                        <a:pt x="771" y="0"/>
                      </a:lnTo>
                      <a:lnTo>
                        <a:pt x="791" y="0"/>
                      </a:lnTo>
                      <a:lnTo>
                        <a:pt x="811" y="0"/>
                      </a:lnTo>
                      <a:lnTo>
                        <a:pt x="831" y="0"/>
                      </a:lnTo>
                      <a:lnTo>
                        <a:pt x="851" y="0"/>
                      </a:lnTo>
                      <a:lnTo>
                        <a:pt x="871" y="0"/>
                      </a:lnTo>
                      <a:lnTo>
                        <a:pt x="901" y="0"/>
                      </a:lnTo>
                      <a:lnTo>
                        <a:pt x="921" y="0"/>
                      </a:lnTo>
                      <a:lnTo>
                        <a:pt x="941" y="0"/>
                      </a:lnTo>
                      <a:lnTo>
                        <a:pt x="961" y="0"/>
                      </a:lnTo>
                      <a:lnTo>
                        <a:pt x="981" y="0"/>
                      </a:lnTo>
                      <a:lnTo>
                        <a:pt x="1001" y="0"/>
                      </a:lnTo>
                      <a:lnTo>
                        <a:pt x="1031" y="0"/>
                      </a:lnTo>
                      <a:lnTo>
                        <a:pt x="1052" y="0"/>
                      </a:lnTo>
                      <a:lnTo>
                        <a:pt x="1072" y="0"/>
                      </a:lnTo>
                      <a:lnTo>
                        <a:pt x="1092" y="0"/>
                      </a:lnTo>
                      <a:lnTo>
                        <a:pt x="1112" y="0"/>
                      </a:lnTo>
                      <a:lnTo>
                        <a:pt x="1132" y="0"/>
                      </a:lnTo>
                      <a:lnTo>
                        <a:pt x="1162" y="0"/>
                      </a:lnTo>
                      <a:lnTo>
                        <a:pt x="1182" y="0"/>
                      </a:lnTo>
                      <a:lnTo>
                        <a:pt x="1202" y="0"/>
                      </a:lnTo>
                      <a:lnTo>
                        <a:pt x="1222" y="0"/>
                      </a:lnTo>
                      <a:lnTo>
                        <a:pt x="1242" y="0"/>
                      </a:lnTo>
                      <a:lnTo>
                        <a:pt x="1262" y="0"/>
                      </a:lnTo>
                      <a:lnTo>
                        <a:pt x="1292" y="0"/>
                      </a:lnTo>
                      <a:lnTo>
                        <a:pt x="1312" y="0"/>
                      </a:lnTo>
                      <a:lnTo>
                        <a:pt x="1332" y="0"/>
                      </a:lnTo>
                      <a:lnTo>
                        <a:pt x="1352" y="0"/>
                      </a:lnTo>
                      <a:lnTo>
                        <a:pt x="1372" y="0"/>
                      </a:lnTo>
                      <a:lnTo>
                        <a:pt x="1392" y="0"/>
                      </a:lnTo>
                      <a:lnTo>
                        <a:pt x="1422" y="0"/>
                      </a:lnTo>
                      <a:lnTo>
                        <a:pt x="1442" y="0"/>
                      </a:lnTo>
                      <a:lnTo>
                        <a:pt x="1462" y="0"/>
                      </a:lnTo>
                      <a:lnTo>
                        <a:pt x="1482" y="0"/>
                      </a:lnTo>
                      <a:lnTo>
                        <a:pt x="1502" y="0"/>
                      </a:lnTo>
                      <a:lnTo>
                        <a:pt x="1522" y="0"/>
                      </a:lnTo>
                      <a:lnTo>
                        <a:pt x="1552" y="0"/>
                      </a:lnTo>
                      <a:lnTo>
                        <a:pt x="1572" y="0"/>
                      </a:lnTo>
                      <a:lnTo>
                        <a:pt x="1592" y="0"/>
                      </a:lnTo>
                      <a:lnTo>
                        <a:pt x="1612" y="0"/>
                      </a:lnTo>
                      <a:lnTo>
                        <a:pt x="1633" y="0"/>
                      </a:lnTo>
                      <a:lnTo>
                        <a:pt x="1653" y="0"/>
                      </a:lnTo>
                      <a:lnTo>
                        <a:pt x="1683" y="0"/>
                      </a:lnTo>
                      <a:lnTo>
                        <a:pt x="1703" y="0"/>
                      </a:lnTo>
                      <a:lnTo>
                        <a:pt x="1723" y="0"/>
                      </a:lnTo>
                      <a:lnTo>
                        <a:pt x="1743" y="0"/>
                      </a:lnTo>
                      <a:lnTo>
                        <a:pt x="1763" y="0"/>
                      </a:lnTo>
                      <a:lnTo>
                        <a:pt x="1783" y="0"/>
                      </a:lnTo>
                      <a:lnTo>
                        <a:pt x="1813" y="0"/>
                      </a:lnTo>
                      <a:lnTo>
                        <a:pt x="1833" y="0"/>
                      </a:lnTo>
                      <a:lnTo>
                        <a:pt x="1853" y="0"/>
                      </a:lnTo>
                      <a:lnTo>
                        <a:pt x="1873" y="0"/>
                      </a:lnTo>
                      <a:lnTo>
                        <a:pt x="1893" y="0"/>
                      </a:lnTo>
                      <a:lnTo>
                        <a:pt x="1913" y="0"/>
                      </a:lnTo>
                      <a:lnTo>
                        <a:pt x="1943" y="0"/>
                      </a:lnTo>
                      <a:lnTo>
                        <a:pt x="1963" y="0"/>
                      </a:lnTo>
                      <a:lnTo>
                        <a:pt x="1983" y="0"/>
                      </a:lnTo>
                      <a:lnTo>
                        <a:pt x="2003" y="0"/>
                      </a:lnTo>
                      <a:lnTo>
                        <a:pt x="2023" y="0"/>
                      </a:lnTo>
                      <a:lnTo>
                        <a:pt x="2043" y="0"/>
                      </a:lnTo>
                      <a:lnTo>
                        <a:pt x="2073" y="0"/>
                      </a:lnTo>
                      <a:lnTo>
                        <a:pt x="2093" y="0"/>
                      </a:lnTo>
                      <a:lnTo>
                        <a:pt x="2113" y="0"/>
                      </a:lnTo>
                      <a:lnTo>
                        <a:pt x="2133" y="0"/>
                      </a:lnTo>
                      <a:lnTo>
                        <a:pt x="2153" y="0"/>
                      </a:lnTo>
                      <a:lnTo>
                        <a:pt x="2173" y="0"/>
                      </a:lnTo>
                      <a:lnTo>
                        <a:pt x="2204" y="0"/>
                      </a:lnTo>
                      <a:lnTo>
                        <a:pt x="2224" y="0"/>
                      </a:lnTo>
                      <a:lnTo>
                        <a:pt x="2244" y="0"/>
                      </a:lnTo>
                      <a:lnTo>
                        <a:pt x="2264" y="0"/>
                      </a:lnTo>
                      <a:lnTo>
                        <a:pt x="2284" y="0"/>
                      </a:lnTo>
                      <a:lnTo>
                        <a:pt x="2304" y="0"/>
                      </a:lnTo>
                      <a:lnTo>
                        <a:pt x="2334" y="0"/>
                      </a:lnTo>
                      <a:lnTo>
                        <a:pt x="2354" y="0"/>
                      </a:lnTo>
                      <a:lnTo>
                        <a:pt x="2374" y="0"/>
                      </a:lnTo>
                      <a:lnTo>
                        <a:pt x="2394" y="0"/>
                      </a:lnTo>
                      <a:lnTo>
                        <a:pt x="2414" y="0"/>
                      </a:lnTo>
                      <a:lnTo>
                        <a:pt x="2434" y="0"/>
                      </a:lnTo>
                      <a:lnTo>
                        <a:pt x="2464" y="0"/>
                      </a:lnTo>
                      <a:lnTo>
                        <a:pt x="2484" y="0"/>
                      </a:lnTo>
                      <a:lnTo>
                        <a:pt x="2504" y="0"/>
                      </a:lnTo>
                      <a:lnTo>
                        <a:pt x="2524" y="0"/>
                      </a:lnTo>
                      <a:lnTo>
                        <a:pt x="2544" y="0"/>
                      </a:lnTo>
                      <a:lnTo>
                        <a:pt x="2564" y="0"/>
                      </a:lnTo>
                      <a:lnTo>
                        <a:pt x="2604" y="0"/>
                      </a:lnTo>
                      <a:lnTo>
                        <a:pt x="2624" y="0"/>
                      </a:lnTo>
                      <a:lnTo>
                        <a:pt x="2644" y="0"/>
                      </a:lnTo>
                      <a:lnTo>
                        <a:pt x="2664" y="0"/>
                      </a:lnTo>
                      <a:lnTo>
                        <a:pt x="2684" y="0"/>
                      </a:lnTo>
                      <a:lnTo>
                        <a:pt x="2704" y="0"/>
                      </a:lnTo>
                      <a:lnTo>
                        <a:pt x="2734" y="0"/>
                      </a:lnTo>
                      <a:lnTo>
                        <a:pt x="2754" y="0"/>
                      </a:lnTo>
                      <a:lnTo>
                        <a:pt x="2774" y="0"/>
                      </a:lnTo>
                      <a:lnTo>
                        <a:pt x="2795" y="0"/>
                      </a:lnTo>
                      <a:lnTo>
                        <a:pt x="2815" y="0"/>
                      </a:lnTo>
                      <a:lnTo>
                        <a:pt x="2835" y="0"/>
                      </a:lnTo>
                      <a:lnTo>
                        <a:pt x="2865" y="0"/>
                      </a:lnTo>
                      <a:lnTo>
                        <a:pt x="2885" y="0"/>
                      </a:lnTo>
                      <a:lnTo>
                        <a:pt x="2905" y="0"/>
                      </a:lnTo>
                      <a:lnTo>
                        <a:pt x="2925" y="0"/>
                      </a:lnTo>
                      <a:lnTo>
                        <a:pt x="2945" y="0"/>
                      </a:lnTo>
                      <a:lnTo>
                        <a:pt x="2965" y="0"/>
                      </a:lnTo>
                      <a:lnTo>
                        <a:pt x="2995" y="0"/>
                      </a:lnTo>
                      <a:lnTo>
                        <a:pt x="3015" y="0"/>
                      </a:lnTo>
                      <a:lnTo>
                        <a:pt x="3035" y="0"/>
                      </a:lnTo>
                      <a:lnTo>
                        <a:pt x="3055" y="0"/>
                      </a:lnTo>
                      <a:lnTo>
                        <a:pt x="3075" y="0"/>
                      </a:lnTo>
                      <a:lnTo>
                        <a:pt x="3095" y="0"/>
                      </a:lnTo>
                      <a:lnTo>
                        <a:pt x="3125" y="0"/>
                      </a:lnTo>
                      <a:lnTo>
                        <a:pt x="3145" y="0"/>
                      </a:lnTo>
                      <a:lnTo>
                        <a:pt x="3165" y="0"/>
                      </a:lnTo>
                      <a:lnTo>
                        <a:pt x="3185" y="0"/>
                      </a:lnTo>
                      <a:lnTo>
                        <a:pt x="3205" y="0"/>
                      </a:lnTo>
                      <a:lnTo>
                        <a:pt x="3225" y="0"/>
                      </a:lnTo>
                      <a:lnTo>
                        <a:pt x="3255" y="0"/>
                      </a:lnTo>
                      <a:lnTo>
                        <a:pt x="3275" y="0"/>
                      </a:lnTo>
                      <a:lnTo>
                        <a:pt x="3295" y="0"/>
                      </a:lnTo>
                      <a:lnTo>
                        <a:pt x="3315" y="0"/>
                      </a:lnTo>
                      <a:lnTo>
                        <a:pt x="3335" y="0"/>
                      </a:lnTo>
                      <a:lnTo>
                        <a:pt x="3356" y="0"/>
                      </a:lnTo>
                      <a:lnTo>
                        <a:pt x="3386" y="0"/>
                      </a:lnTo>
                      <a:lnTo>
                        <a:pt x="3406" y="0"/>
                      </a:lnTo>
                      <a:lnTo>
                        <a:pt x="3426" y="0"/>
                      </a:lnTo>
                      <a:lnTo>
                        <a:pt x="3446" y="0"/>
                      </a:lnTo>
                      <a:lnTo>
                        <a:pt x="3466" y="0"/>
                      </a:lnTo>
                      <a:lnTo>
                        <a:pt x="3486" y="0"/>
                      </a:lnTo>
                      <a:lnTo>
                        <a:pt x="3516" y="0"/>
                      </a:lnTo>
                      <a:lnTo>
                        <a:pt x="3536" y="0"/>
                      </a:lnTo>
                      <a:lnTo>
                        <a:pt x="3556" y="0"/>
                      </a:lnTo>
                      <a:lnTo>
                        <a:pt x="3576" y="0"/>
                      </a:lnTo>
                      <a:lnTo>
                        <a:pt x="3596" y="0"/>
                      </a:lnTo>
                      <a:lnTo>
                        <a:pt x="3616" y="0"/>
                      </a:lnTo>
                      <a:lnTo>
                        <a:pt x="3646" y="0"/>
                      </a:lnTo>
                      <a:lnTo>
                        <a:pt x="3666" y="0"/>
                      </a:lnTo>
                      <a:lnTo>
                        <a:pt x="3686" y="0"/>
                      </a:lnTo>
                      <a:lnTo>
                        <a:pt x="3706" y="0"/>
                      </a:lnTo>
                      <a:lnTo>
                        <a:pt x="3726" y="0"/>
                      </a:lnTo>
                      <a:lnTo>
                        <a:pt x="3746" y="0"/>
                      </a:lnTo>
                      <a:lnTo>
                        <a:pt x="3776" y="0"/>
                      </a:lnTo>
                      <a:lnTo>
                        <a:pt x="3796" y="0"/>
                      </a:lnTo>
                      <a:lnTo>
                        <a:pt x="3816" y="0"/>
                      </a:lnTo>
                      <a:lnTo>
                        <a:pt x="3836" y="0"/>
                      </a:lnTo>
                      <a:lnTo>
                        <a:pt x="3856" y="0"/>
                      </a:lnTo>
                      <a:lnTo>
                        <a:pt x="3876" y="0"/>
                      </a:lnTo>
                      <a:lnTo>
                        <a:pt x="3906" y="0"/>
                      </a:lnTo>
                      <a:lnTo>
                        <a:pt x="3926" y="0"/>
                      </a:lnTo>
                      <a:lnTo>
                        <a:pt x="3947" y="0"/>
                      </a:lnTo>
                      <a:lnTo>
                        <a:pt x="3967" y="0"/>
                      </a:lnTo>
                      <a:lnTo>
                        <a:pt x="3987" y="0"/>
                      </a:lnTo>
                      <a:lnTo>
                        <a:pt x="4007" y="0"/>
                      </a:lnTo>
                      <a:lnTo>
                        <a:pt x="4037" y="0"/>
                      </a:lnTo>
                      <a:lnTo>
                        <a:pt x="4057" y="0"/>
                      </a:lnTo>
                      <a:lnTo>
                        <a:pt x="4077" y="0"/>
                      </a:lnTo>
                      <a:lnTo>
                        <a:pt x="4097" y="0"/>
                      </a:lnTo>
                      <a:lnTo>
                        <a:pt x="4117" y="0"/>
                      </a:lnTo>
                      <a:lnTo>
                        <a:pt x="4137" y="0"/>
                      </a:lnTo>
                      <a:lnTo>
                        <a:pt x="4167" y="0"/>
                      </a:lnTo>
                      <a:lnTo>
                        <a:pt x="4187" y="0"/>
                      </a:lnTo>
                      <a:lnTo>
                        <a:pt x="4207" y="0"/>
                      </a:lnTo>
                      <a:lnTo>
                        <a:pt x="4227" y="0"/>
                      </a:lnTo>
                      <a:lnTo>
                        <a:pt x="4247" y="0"/>
                      </a:lnTo>
                      <a:lnTo>
                        <a:pt x="4267" y="0"/>
                      </a:lnTo>
                      <a:lnTo>
                        <a:pt x="4297" y="0"/>
                      </a:lnTo>
                      <a:lnTo>
                        <a:pt x="4317" y="0"/>
                      </a:lnTo>
                      <a:lnTo>
                        <a:pt x="4337" y="0"/>
                      </a:lnTo>
                      <a:lnTo>
                        <a:pt x="4357" y="0"/>
                      </a:lnTo>
                      <a:lnTo>
                        <a:pt x="4377" y="0"/>
                      </a:lnTo>
                      <a:lnTo>
                        <a:pt x="4397" y="0"/>
                      </a:lnTo>
                      <a:lnTo>
                        <a:pt x="4427" y="0"/>
                      </a:lnTo>
                      <a:lnTo>
                        <a:pt x="4447" y="0"/>
                      </a:lnTo>
                      <a:lnTo>
                        <a:pt x="4467" y="0"/>
                      </a:lnTo>
                      <a:lnTo>
                        <a:pt x="4487" y="0"/>
                      </a:lnTo>
                      <a:lnTo>
                        <a:pt x="4508" y="0"/>
                      </a:lnTo>
                      <a:lnTo>
                        <a:pt x="4538" y="0"/>
                      </a:lnTo>
                      <a:lnTo>
                        <a:pt x="4568" y="0"/>
                      </a:lnTo>
                      <a:lnTo>
                        <a:pt x="4588" y="0"/>
                      </a:lnTo>
                      <a:lnTo>
                        <a:pt x="4608" y="0"/>
                      </a:lnTo>
                      <a:lnTo>
                        <a:pt x="4628" y="0"/>
                      </a:lnTo>
                      <a:lnTo>
                        <a:pt x="4648" y="0"/>
                      </a:lnTo>
                      <a:lnTo>
                        <a:pt x="4668" y="0"/>
                      </a:lnTo>
                      <a:lnTo>
                        <a:pt x="4688" y="0"/>
                      </a:lnTo>
                      <a:lnTo>
                        <a:pt x="4718" y="0"/>
                      </a:lnTo>
                      <a:lnTo>
                        <a:pt x="4738" y="0"/>
                      </a:lnTo>
                      <a:lnTo>
                        <a:pt x="4758" y="0"/>
                      </a:lnTo>
                      <a:lnTo>
                        <a:pt x="4778" y="0"/>
                      </a:lnTo>
                      <a:lnTo>
                        <a:pt x="4798" y="0"/>
                      </a:lnTo>
                      <a:lnTo>
                        <a:pt x="4818" y="0"/>
                      </a:lnTo>
                      <a:lnTo>
                        <a:pt x="4848" y="0"/>
                      </a:lnTo>
                      <a:lnTo>
                        <a:pt x="4868" y="0"/>
                      </a:lnTo>
                      <a:lnTo>
                        <a:pt x="4888" y="0"/>
                      </a:lnTo>
                      <a:lnTo>
                        <a:pt x="4908" y="0"/>
                      </a:lnTo>
                      <a:lnTo>
                        <a:pt x="4928" y="0"/>
                      </a:lnTo>
                      <a:lnTo>
                        <a:pt x="4948" y="0"/>
                      </a:lnTo>
                      <a:lnTo>
                        <a:pt x="4978"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1049400" y="1812960"/>
                  <a:ext cx="7045200" cy="1440"/>
                </a:xfrm>
                <a:custGeom>
                  <a:avLst/>
                  <a:gdLst/>
                  <a:ahLst/>
                  <a:rect l="l" t="t" r="r" b="b"/>
                  <a:pathLst>
                    <a:path w="4438" h="0">
                      <a:moveTo>
                        <a:pt x="0" y="0"/>
                      </a:moveTo>
                      <a:lnTo>
                        <a:pt x="20" y="0"/>
                      </a:lnTo>
                      <a:lnTo>
                        <a:pt x="40" y="0"/>
                      </a:lnTo>
                      <a:lnTo>
                        <a:pt x="60" y="0"/>
                      </a:lnTo>
                      <a:lnTo>
                        <a:pt x="80" y="0"/>
                      </a:lnTo>
                      <a:lnTo>
                        <a:pt x="110" y="0"/>
                      </a:lnTo>
                      <a:lnTo>
                        <a:pt x="130" y="0"/>
                      </a:lnTo>
                      <a:lnTo>
                        <a:pt x="150" y="0"/>
                      </a:lnTo>
                      <a:lnTo>
                        <a:pt x="170" y="0"/>
                      </a:lnTo>
                      <a:lnTo>
                        <a:pt x="190" y="0"/>
                      </a:lnTo>
                      <a:lnTo>
                        <a:pt x="211" y="0"/>
                      </a:lnTo>
                      <a:lnTo>
                        <a:pt x="241" y="0"/>
                      </a:lnTo>
                      <a:lnTo>
                        <a:pt x="261" y="0"/>
                      </a:lnTo>
                      <a:lnTo>
                        <a:pt x="281" y="0"/>
                      </a:lnTo>
                      <a:lnTo>
                        <a:pt x="301" y="0"/>
                      </a:lnTo>
                      <a:lnTo>
                        <a:pt x="321" y="0"/>
                      </a:lnTo>
                      <a:lnTo>
                        <a:pt x="341" y="0"/>
                      </a:lnTo>
                      <a:lnTo>
                        <a:pt x="371" y="0"/>
                      </a:lnTo>
                      <a:lnTo>
                        <a:pt x="391" y="0"/>
                      </a:lnTo>
                      <a:lnTo>
                        <a:pt x="421" y="0"/>
                      </a:lnTo>
                      <a:lnTo>
                        <a:pt x="441" y="0"/>
                      </a:lnTo>
                      <a:lnTo>
                        <a:pt x="461" y="0"/>
                      </a:lnTo>
                      <a:lnTo>
                        <a:pt x="481" y="0"/>
                      </a:lnTo>
                      <a:lnTo>
                        <a:pt x="511" y="0"/>
                      </a:lnTo>
                      <a:lnTo>
                        <a:pt x="531" y="0"/>
                      </a:lnTo>
                      <a:lnTo>
                        <a:pt x="551" y="0"/>
                      </a:lnTo>
                      <a:lnTo>
                        <a:pt x="571" y="0"/>
                      </a:lnTo>
                      <a:lnTo>
                        <a:pt x="591" y="0"/>
                      </a:lnTo>
                      <a:lnTo>
                        <a:pt x="611" y="0"/>
                      </a:lnTo>
                      <a:lnTo>
                        <a:pt x="641" y="0"/>
                      </a:lnTo>
                      <a:lnTo>
                        <a:pt x="661" y="0"/>
                      </a:lnTo>
                      <a:lnTo>
                        <a:pt x="681" y="0"/>
                      </a:lnTo>
                      <a:lnTo>
                        <a:pt x="701" y="0"/>
                      </a:lnTo>
                      <a:lnTo>
                        <a:pt x="721" y="0"/>
                      </a:lnTo>
                      <a:lnTo>
                        <a:pt x="741" y="0"/>
                      </a:lnTo>
                      <a:lnTo>
                        <a:pt x="771" y="0"/>
                      </a:lnTo>
                      <a:lnTo>
                        <a:pt x="792" y="0"/>
                      </a:lnTo>
                      <a:lnTo>
                        <a:pt x="812" y="0"/>
                      </a:lnTo>
                      <a:lnTo>
                        <a:pt x="832" y="0"/>
                      </a:lnTo>
                      <a:lnTo>
                        <a:pt x="852" y="0"/>
                      </a:lnTo>
                      <a:lnTo>
                        <a:pt x="872" y="0"/>
                      </a:lnTo>
                      <a:lnTo>
                        <a:pt x="902" y="0"/>
                      </a:lnTo>
                      <a:lnTo>
                        <a:pt x="922" y="0"/>
                      </a:lnTo>
                      <a:lnTo>
                        <a:pt x="942" y="0"/>
                      </a:lnTo>
                      <a:lnTo>
                        <a:pt x="962" y="0"/>
                      </a:lnTo>
                      <a:lnTo>
                        <a:pt x="982" y="0"/>
                      </a:lnTo>
                      <a:lnTo>
                        <a:pt x="1002" y="0"/>
                      </a:lnTo>
                      <a:lnTo>
                        <a:pt x="1032" y="0"/>
                      </a:lnTo>
                      <a:lnTo>
                        <a:pt x="1052" y="0"/>
                      </a:lnTo>
                      <a:lnTo>
                        <a:pt x="1072" y="0"/>
                      </a:lnTo>
                      <a:lnTo>
                        <a:pt x="1092" y="0"/>
                      </a:lnTo>
                      <a:lnTo>
                        <a:pt x="1112" y="0"/>
                      </a:lnTo>
                      <a:lnTo>
                        <a:pt x="1132" y="0"/>
                      </a:lnTo>
                      <a:lnTo>
                        <a:pt x="1162" y="0"/>
                      </a:lnTo>
                      <a:lnTo>
                        <a:pt x="1182" y="0"/>
                      </a:lnTo>
                      <a:lnTo>
                        <a:pt x="1202" y="0"/>
                      </a:lnTo>
                      <a:lnTo>
                        <a:pt x="1222" y="0"/>
                      </a:lnTo>
                      <a:lnTo>
                        <a:pt x="1242" y="0"/>
                      </a:lnTo>
                      <a:lnTo>
                        <a:pt x="1262" y="0"/>
                      </a:lnTo>
                      <a:lnTo>
                        <a:pt x="1292" y="0"/>
                      </a:lnTo>
                      <a:lnTo>
                        <a:pt x="1312" y="0"/>
                      </a:lnTo>
                      <a:lnTo>
                        <a:pt x="1332" y="0"/>
                      </a:lnTo>
                      <a:lnTo>
                        <a:pt x="1352" y="0"/>
                      </a:lnTo>
                      <a:lnTo>
                        <a:pt x="1373" y="0"/>
                      </a:lnTo>
                      <a:lnTo>
                        <a:pt x="1393" y="0"/>
                      </a:lnTo>
                      <a:lnTo>
                        <a:pt x="1423" y="0"/>
                      </a:lnTo>
                      <a:lnTo>
                        <a:pt x="1443" y="0"/>
                      </a:lnTo>
                      <a:lnTo>
                        <a:pt x="1463" y="0"/>
                      </a:lnTo>
                      <a:lnTo>
                        <a:pt x="1483" y="0"/>
                      </a:lnTo>
                      <a:lnTo>
                        <a:pt x="1503" y="0"/>
                      </a:lnTo>
                      <a:lnTo>
                        <a:pt x="1523" y="0"/>
                      </a:lnTo>
                      <a:lnTo>
                        <a:pt x="1553" y="0"/>
                      </a:lnTo>
                      <a:lnTo>
                        <a:pt x="1573" y="0"/>
                      </a:lnTo>
                      <a:lnTo>
                        <a:pt x="1593" y="0"/>
                      </a:lnTo>
                      <a:lnTo>
                        <a:pt x="1613" y="0"/>
                      </a:lnTo>
                      <a:lnTo>
                        <a:pt x="1633" y="0"/>
                      </a:lnTo>
                      <a:lnTo>
                        <a:pt x="1653" y="0"/>
                      </a:lnTo>
                      <a:lnTo>
                        <a:pt x="1683" y="0"/>
                      </a:lnTo>
                      <a:lnTo>
                        <a:pt x="1703" y="0"/>
                      </a:lnTo>
                      <a:lnTo>
                        <a:pt x="1723" y="0"/>
                      </a:lnTo>
                      <a:lnTo>
                        <a:pt x="1743" y="0"/>
                      </a:lnTo>
                      <a:lnTo>
                        <a:pt x="1763" y="0"/>
                      </a:lnTo>
                      <a:lnTo>
                        <a:pt x="1783" y="0"/>
                      </a:lnTo>
                      <a:lnTo>
                        <a:pt x="1813" y="0"/>
                      </a:lnTo>
                      <a:lnTo>
                        <a:pt x="1833" y="0"/>
                      </a:lnTo>
                      <a:lnTo>
                        <a:pt x="1853" y="0"/>
                      </a:lnTo>
                      <a:lnTo>
                        <a:pt x="1873" y="0"/>
                      </a:lnTo>
                      <a:lnTo>
                        <a:pt x="1893" y="0"/>
                      </a:lnTo>
                      <a:lnTo>
                        <a:pt x="1913" y="0"/>
                      </a:lnTo>
                      <a:lnTo>
                        <a:pt x="1944" y="0"/>
                      </a:lnTo>
                      <a:lnTo>
                        <a:pt x="1964" y="0"/>
                      </a:lnTo>
                      <a:lnTo>
                        <a:pt x="1984" y="0"/>
                      </a:lnTo>
                      <a:lnTo>
                        <a:pt x="2004" y="0"/>
                      </a:lnTo>
                      <a:lnTo>
                        <a:pt x="2024" y="0"/>
                      </a:lnTo>
                      <a:lnTo>
                        <a:pt x="2044" y="0"/>
                      </a:lnTo>
                      <a:lnTo>
                        <a:pt x="2074" y="0"/>
                      </a:lnTo>
                      <a:lnTo>
                        <a:pt x="2094" y="0"/>
                      </a:lnTo>
                      <a:lnTo>
                        <a:pt x="2114" y="0"/>
                      </a:lnTo>
                      <a:lnTo>
                        <a:pt x="2134" y="0"/>
                      </a:lnTo>
                      <a:lnTo>
                        <a:pt x="2154" y="0"/>
                      </a:lnTo>
                      <a:lnTo>
                        <a:pt x="2174" y="0"/>
                      </a:lnTo>
                      <a:lnTo>
                        <a:pt x="2204" y="0"/>
                      </a:lnTo>
                      <a:lnTo>
                        <a:pt x="2224" y="0"/>
                      </a:lnTo>
                      <a:lnTo>
                        <a:pt x="2244" y="0"/>
                      </a:lnTo>
                      <a:lnTo>
                        <a:pt x="2264" y="0"/>
                      </a:lnTo>
                      <a:lnTo>
                        <a:pt x="2284" y="0"/>
                      </a:lnTo>
                      <a:lnTo>
                        <a:pt x="2314" y="0"/>
                      </a:lnTo>
                      <a:lnTo>
                        <a:pt x="2344" y="0"/>
                      </a:lnTo>
                      <a:lnTo>
                        <a:pt x="2364" y="0"/>
                      </a:lnTo>
                      <a:lnTo>
                        <a:pt x="2384" y="0"/>
                      </a:lnTo>
                      <a:lnTo>
                        <a:pt x="2404" y="0"/>
                      </a:lnTo>
                      <a:lnTo>
                        <a:pt x="2424" y="0"/>
                      </a:lnTo>
                      <a:lnTo>
                        <a:pt x="2454" y="0"/>
                      </a:lnTo>
                      <a:lnTo>
                        <a:pt x="2474" y="0"/>
                      </a:lnTo>
                      <a:lnTo>
                        <a:pt x="2494" y="0"/>
                      </a:lnTo>
                      <a:lnTo>
                        <a:pt x="2515" y="0"/>
                      </a:lnTo>
                      <a:lnTo>
                        <a:pt x="2535" y="0"/>
                      </a:lnTo>
                      <a:lnTo>
                        <a:pt x="2555" y="0"/>
                      </a:lnTo>
                      <a:lnTo>
                        <a:pt x="2585" y="0"/>
                      </a:lnTo>
                      <a:lnTo>
                        <a:pt x="2605" y="0"/>
                      </a:lnTo>
                      <a:lnTo>
                        <a:pt x="2625" y="0"/>
                      </a:lnTo>
                      <a:lnTo>
                        <a:pt x="2645" y="0"/>
                      </a:lnTo>
                      <a:lnTo>
                        <a:pt x="2665" y="0"/>
                      </a:lnTo>
                      <a:lnTo>
                        <a:pt x="2685" y="0"/>
                      </a:lnTo>
                      <a:lnTo>
                        <a:pt x="2715" y="0"/>
                      </a:lnTo>
                      <a:lnTo>
                        <a:pt x="2735" y="0"/>
                      </a:lnTo>
                      <a:lnTo>
                        <a:pt x="2755" y="0"/>
                      </a:lnTo>
                      <a:lnTo>
                        <a:pt x="2775" y="0"/>
                      </a:lnTo>
                      <a:lnTo>
                        <a:pt x="2795" y="0"/>
                      </a:lnTo>
                      <a:lnTo>
                        <a:pt x="2815" y="0"/>
                      </a:lnTo>
                      <a:lnTo>
                        <a:pt x="2845" y="0"/>
                      </a:lnTo>
                      <a:lnTo>
                        <a:pt x="2865" y="0"/>
                      </a:lnTo>
                      <a:lnTo>
                        <a:pt x="2885" y="0"/>
                      </a:lnTo>
                      <a:lnTo>
                        <a:pt x="2905" y="0"/>
                      </a:lnTo>
                      <a:lnTo>
                        <a:pt x="2925" y="0"/>
                      </a:lnTo>
                      <a:lnTo>
                        <a:pt x="2945" y="0"/>
                      </a:lnTo>
                      <a:lnTo>
                        <a:pt x="2975" y="0"/>
                      </a:lnTo>
                      <a:lnTo>
                        <a:pt x="2995" y="0"/>
                      </a:lnTo>
                      <a:lnTo>
                        <a:pt x="3015" y="0"/>
                      </a:lnTo>
                      <a:lnTo>
                        <a:pt x="3035" y="0"/>
                      </a:lnTo>
                      <a:lnTo>
                        <a:pt x="3055" y="0"/>
                      </a:lnTo>
                      <a:lnTo>
                        <a:pt x="3075" y="0"/>
                      </a:lnTo>
                      <a:lnTo>
                        <a:pt x="3106" y="0"/>
                      </a:lnTo>
                      <a:lnTo>
                        <a:pt x="3126" y="0"/>
                      </a:lnTo>
                      <a:lnTo>
                        <a:pt x="3146" y="0"/>
                      </a:lnTo>
                      <a:lnTo>
                        <a:pt x="3166" y="0"/>
                      </a:lnTo>
                      <a:lnTo>
                        <a:pt x="3186" y="0"/>
                      </a:lnTo>
                      <a:lnTo>
                        <a:pt x="3206" y="0"/>
                      </a:lnTo>
                      <a:lnTo>
                        <a:pt x="3236" y="0"/>
                      </a:lnTo>
                      <a:lnTo>
                        <a:pt x="3256" y="0"/>
                      </a:lnTo>
                      <a:lnTo>
                        <a:pt x="3276" y="0"/>
                      </a:lnTo>
                      <a:lnTo>
                        <a:pt x="3296" y="0"/>
                      </a:lnTo>
                      <a:lnTo>
                        <a:pt x="3316" y="0"/>
                      </a:lnTo>
                      <a:lnTo>
                        <a:pt x="3336" y="0"/>
                      </a:lnTo>
                      <a:lnTo>
                        <a:pt x="3366" y="0"/>
                      </a:lnTo>
                      <a:lnTo>
                        <a:pt x="3386" y="0"/>
                      </a:lnTo>
                      <a:lnTo>
                        <a:pt x="3406" y="0"/>
                      </a:lnTo>
                      <a:lnTo>
                        <a:pt x="3426" y="0"/>
                      </a:lnTo>
                      <a:lnTo>
                        <a:pt x="3446" y="0"/>
                      </a:lnTo>
                      <a:lnTo>
                        <a:pt x="3466" y="0"/>
                      </a:lnTo>
                      <a:lnTo>
                        <a:pt x="3496" y="0"/>
                      </a:lnTo>
                      <a:lnTo>
                        <a:pt x="3516" y="0"/>
                      </a:lnTo>
                      <a:lnTo>
                        <a:pt x="3536" y="0"/>
                      </a:lnTo>
                      <a:lnTo>
                        <a:pt x="3556" y="0"/>
                      </a:lnTo>
                      <a:lnTo>
                        <a:pt x="3576" y="0"/>
                      </a:lnTo>
                      <a:lnTo>
                        <a:pt x="3596" y="0"/>
                      </a:lnTo>
                      <a:lnTo>
                        <a:pt x="3626" y="0"/>
                      </a:lnTo>
                      <a:lnTo>
                        <a:pt x="3646" y="0"/>
                      </a:lnTo>
                      <a:lnTo>
                        <a:pt x="3667" y="0"/>
                      </a:lnTo>
                      <a:lnTo>
                        <a:pt x="3687" y="0"/>
                      </a:lnTo>
                      <a:lnTo>
                        <a:pt x="3707" y="0"/>
                      </a:lnTo>
                      <a:lnTo>
                        <a:pt x="3727" y="0"/>
                      </a:lnTo>
                      <a:lnTo>
                        <a:pt x="3757" y="0"/>
                      </a:lnTo>
                      <a:lnTo>
                        <a:pt x="3777" y="0"/>
                      </a:lnTo>
                      <a:lnTo>
                        <a:pt x="3797" y="0"/>
                      </a:lnTo>
                      <a:lnTo>
                        <a:pt x="3817" y="0"/>
                      </a:lnTo>
                      <a:lnTo>
                        <a:pt x="3837" y="0"/>
                      </a:lnTo>
                      <a:lnTo>
                        <a:pt x="3857" y="0"/>
                      </a:lnTo>
                      <a:lnTo>
                        <a:pt x="3887" y="0"/>
                      </a:lnTo>
                      <a:lnTo>
                        <a:pt x="3907" y="0"/>
                      </a:lnTo>
                      <a:lnTo>
                        <a:pt x="3927" y="0"/>
                      </a:lnTo>
                      <a:lnTo>
                        <a:pt x="3947" y="0"/>
                      </a:lnTo>
                      <a:lnTo>
                        <a:pt x="3967" y="0"/>
                      </a:lnTo>
                      <a:lnTo>
                        <a:pt x="3987" y="0"/>
                      </a:lnTo>
                      <a:lnTo>
                        <a:pt x="4017" y="0"/>
                      </a:lnTo>
                      <a:lnTo>
                        <a:pt x="4037" y="0"/>
                      </a:lnTo>
                      <a:lnTo>
                        <a:pt x="4057" y="0"/>
                      </a:lnTo>
                      <a:lnTo>
                        <a:pt x="4077" y="0"/>
                      </a:lnTo>
                      <a:lnTo>
                        <a:pt x="4097" y="0"/>
                      </a:lnTo>
                      <a:lnTo>
                        <a:pt x="4117" y="0"/>
                      </a:lnTo>
                      <a:lnTo>
                        <a:pt x="4147" y="0"/>
                      </a:lnTo>
                      <a:lnTo>
                        <a:pt x="4167" y="0"/>
                      </a:lnTo>
                      <a:lnTo>
                        <a:pt x="4187" y="0"/>
                      </a:lnTo>
                      <a:lnTo>
                        <a:pt x="4207" y="0"/>
                      </a:lnTo>
                      <a:lnTo>
                        <a:pt x="4227" y="0"/>
                      </a:lnTo>
                      <a:lnTo>
                        <a:pt x="4258" y="0"/>
                      </a:lnTo>
                      <a:lnTo>
                        <a:pt x="4288" y="0"/>
                      </a:lnTo>
                      <a:lnTo>
                        <a:pt x="4308" y="0"/>
                      </a:lnTo>
                      <a:lnTo>
                        <a:pt x="4328" y="0"/>
                      </a:lnTo>
                      <a:lnTo>
                        <a:pt x="4348" y="0"/>
                      </a:lnTo>
                      <a:lnTo>
                        <a:pt x="4368" y="0"/>
                      </a:lnTo>
                      <a:lnTo>
                        <a:pt x="4388" y="0"/>
                      </a:lnTo>
                      <a:lnTo>
                        <a:pt x="4418" y="0"/>
                      </a:lnTo>
                      <a:lnTo>
                        <a:pt x="4438" y="0"/>
                      </a:lnTo>
                    </a:path>
                  </a:pathLst>
                </a:custGeom>
                <a:solidFill>
                  <a:srgbClr val="ccec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4" name=""/>
              <p:cNvGrpSpPr/>
              <p:nvPr/>
            </p:nvGrpSpPr>
            <p:grpSpPr>
              <a:xfrm>
                <a:off x="811080" y="1233360"/>
                <a:ext cx="7823160" cy="4996080"/>
                <a:chOff x="811080" y="1233360"/>
                <a:chExt cx="7823160" cy="4996080"/>
              </a:xfrm>
            </p:grpSpPr>
            <p:sp>
              <p:nvSpPr>
                <p:cNvPr id="405" name=""/>
                <p:cNvSpPr/>
                <p:nvPr/>
              </p:nvSpPr>
              <p:spPr>
                <a:xfrm>
                  <a:off x="1590840" y="1414440"/>
                  <a:ext cx="5930640" cy="1800"/>
                </a:xfrm>
                <a:custGeom>
                  <a:avLst/>
                  <a:gdLst/>
                  <a:ahLst/>
                  <a:rect l="l" t="t" r="r" b="b"/>
                  <a:pathLst>
                    <a:path w="3736" h="0">
                      <a:moveTo>
                        <a:pt x="0" y="0"/>
                      </a:moveTo>
                      <a:lnTo>
                        <a:pt x="20" y="0"/>
                      </a:lnTo>
                      <a:lnTo>
                        <a:pt x="50" y="0"/>
                      </a:lnTo>
                      <a:lnTo>
                        <a:pt x="80" y="0"/>
                      </a:lnTo>
                      <a:lnTo>
                        <a:pt x="100" y="0"/>
                      </a:lnTo>
                      <a:lnTo>
                        <a:pt x="120" y="0"/>
                      </a:lnTo>
                      <a:lnTo>
                        <a:pt x="140" y="0"/>
                      </a:lnTo>
                      <a:lnTo>
                        <a:pt x="160" y="0"/>
                      </a:lnTo>
                      <a:lnTo>
                        <a:pt x="190" y="0"/>
                      </a:lnTo>
                      <a:lnTo>
                        <a:pt x="210" y="0"/>
                      </a:lnTo>
                      <a:lnTo>
                        <a:pt x="230" y="0"/>
                      </a:lnTo>
                      <a:lnTo>
                        <a:pt x="250" y="0"/>
                      </a:lnTo>
                      <a:lnTo>
                        <a:pt x="270" y="0"/>
                      </a:lnTo>
                      <a:lnTo>
                        <a:pt x="290" y="0"/>
                      </a:lnTo>
                      <a:lnTo>
                        <a:pt x="320" y="0"/>
                      </a:lnTo>
                      <a:lnTo>
                        <a:pt x="340" y="0"/>
                      </a:lnTo>
                      <a:lnTo>
                        <a:pt x="360" y="0"/>
                      </a:lnTo>
                      <a:lnTo>
                        <a:pt x="380" y="0"/>
                      </a:lnTo>
                      <a:lnTo>
                        <a:pt x="400" y="0"/>
                      </a:lnTo>
                      <a:lnTo>
                        <a:pt x="420" y="0"/>
                      </a:lnTo>
                      <a:lnTo>
                        <a:pt x="451" y="0"/>
                      </a:lnTo>
                      <a:lnTo>
                        <a:pt x="471" y="0"/>
                      </a:lnTo>
                      <a:lnTo>
                        <a:pt x="491" y="0"/>
                      </a:lnTo>
                      <a:lnTo>
                        <a:pt x="511" y="0"/>
                      </a:lnTo>
                      <a:lnTo>
                        <a:pt x="531" y="0"/>
                      </a:lnTo>
                      <a:lnTo>
                        <a:pt x="561" y="0"/>
                      </a:lnTo>
                      <a:lnTo>
                        <a:pt x="581" y="0"/>
                      </a:lnTo>
                      <a:lnTo>
                        <a:pt x="601" y="0"/>
                      </a:lnTo>
                      <a:lnTo>
                        <a:pt x="621" y="0"/>
                      </a:lnTo>
                      <a:lnTo>
                        <a:pt x="641" y="0"/>
                      </a:lnTo>
                      <a:lnTo>
                        <a:pt x="661" y="0"/>
                      </a:lnTo>
                      <a:lnTo>
                        <a:pt x="691" y="0"/>
                      </a:lnTo>
                      <a:lnTo>
                        <a:pt x="711" y="0"/>
                      </a:lnTo>
                      <a:lnTo>
                        <a:pt x="731" y="0"/>
                      </a:lnTo>
                      <a:lnTo>
                        <a:pt x="751" y="0"/>
                      </a:lnTo>
                      <a:lnTo>
                        <a:pt x="771" y="0"/>
                      </a:lnTo>
                      <a:lnTo>
                        <a:pt x="791" y="0"/>
                      </a:lnTo>
                      <a:lnTo>
                        <a:pt x="821" y="0"/>
                      </a:lnTo>
                      <a:lnTo>
                        <a:pt x="841" y="0"/>
                      </a:lnTo>
                      <a:lnTo>
                        <a:pt x="861" y="0"/>
                      </a:lnTo>
                      <a:lnTo>
                        <a:pt x="881" y="0"/>
                      </a:lnTo>
                      <a:lnTo>
                        <a:pt x="901" y="0"/>
                      </a:lnTo>
                      <a:lnTo>
                        <a:pt x="921" y="0"/>
                      </a:lnTo>
                      <a:lnTo>
                        <a:pt x="951" y="0"/>
                      </a:lnTo>
                      <a:lnTo>
                        <a:pt x="971" y="0"/>
                      </a:lnTo>
                      <a:lnTo>
                        <a:pt x="991" y="0"/>
                      </a:lnTo>
                      <a:lnTo>
                        <a:pt x="1011" y="0"/>
                      </a:lnTo>
                      <a:lnTo>
                        <a:pt x="1032" y="0"/>
                      </a:lnTo>
                      <a:lnTo>
                        <a:pt x="1052" y="0"/>
                      </a:lnTo>
                      <a:lnTo>
                        <a:pt x="1082" y="0"/>
                      </a:lnTo>
                      <a:lnTo>
                        <a:pt x="1102" y="0"/>
                      </a:lnTo>
                      <a:lnTo>
                        <a:pt x="1122" y="0"/>
                      </a:lnTo>
                      <a:lnTo>
                        <a:pt x="1142" y="0"/>
                      </a:lnTo>
                      <a:lnTo>
                        <a:pt x="1162" y="0"/>
                      </a:lnTo>
                      <a:lnTo>
                        <a:pt x="1182" y="0"/>
                      </a:lnTo>
                      <a:lnTo>
                        <a:pt x="1212" y="0"/>
                      </a:lnTo>
                      <a:lnTo>
                        <a:pt x="1232" y="0"/>
                      </a:lnTo>
                      <a:lnTo>
                        <a:pt x="1252" y="0"/>
                      </a:lnTo>
                      <a:lnTo>
                        <a:pt x="1272" y="0"/>
                      </a:lnTo>
                      <a:lnTo>
                        <a:pt x="1292" y="0"/>
                      </a:lnTo>
                      <a:lnTo>
                        <a:pt x="1312" y="0"/>
                      </a:lnTo>
                      <a:lnTo>
                        <a:pt x="1342" y="0"/>
                      </a:lnTo>
                      <a:lnTo>
                        <a:pt x="1362" y="0"/>
                      </a:lnTo>
                      <a:lnTo>
                        <a:pt x="1382" y="0"/>
                      </a:lnTo>
                      <a:lnTo>
                        <a:pt x="1402" y="0"/>
                      </a:lnTo>
                      <a:lnTo>
                        <a:pt x="1422" y="0"/>
                      </a:lnTo>
                      <a:lnTo>
                        <a:pt x="1442" y="0"/>
                      </a:lnTo>
                      <a:lnTo>
                        <a:pt x="1472" y="0"/>
                      </a:lnTo>
                      <a:lnTo>
                        <a:pt x="1492" y="0"/>
                      </a:lnTo>
                      <a:lnTo>
                        <a:pt x="1512" y="0"/>
                      </a:lnTo>
                      <a:lnTo>
                        <a:pt x="1532" y="0"/>
                      </a:lnTo>
                      <a:lnTo>
                        <a:pt x="1552" y="0"/>
                      </a:lnTo>
                      <a:lnTo>
                        <a:pt x="1572" y="0"/>
                      </a:lnTo>
                      <a:lnTo>
                        <a:pt x="1603" y="0"/>
                      </a:lnTo>
                      <a:lnTo>
                        <a:pt x="1623" y="0"/>
                      </a:lnTo>
                      <a:lnTo>
                        <a:pt x="1643" y="0"/>
                      </a:lnTo>
                      <a:lnTo>
                        <a:pt x="1663" y="0"/>
                      </a:lnTo>
                      <a:lnTo>
                        <a:pt x="1683" y="0"/>
                      </a:lnTo>
                      <a:lnTo>
                        <a:pt x="1703" y="0"/>
                      </a:lnTo>
                      <a:lnTo>
                        <a:pt x="1733" y="0"/>
                      </a:lnTo>
                      <a:lnTo>
                        <a:pt x="1753" y="0"/>
                      </a:lnTo>
                      <a:lnTo>
                        <a:pt x="1773" y="0"/>
                      </a:lnTo>
                      <a:lnTo>
                        <a:pt x="1793" y="0"/>
                      </a:lnTo>
                      <a:lnTo>
                        <a:pt x="1813" y="0"/>
                      </a:lnTo>
                      <a:lnTo>
                        <a:pt x="1833" y="0"/>
                      </a:lnTo>
                      <a:lnTo>
                        <a:pt x="1863" y="0"/>
                      </a:lnTo>
                      <a:lnTo>
                        <a:pt x="1883" y="0"/>
                      </a:lnTo>
                      <a:lnTo>
                        <a:pt x="1903" y="0"/>
                      </a:lnTo>
                      <a:lnTo>
                        <a:pt x="1923" y="0"/>
                      </a:lnTo>
                      <a:lnTo>
                        <a:pt x="1943" y="0"/>
                      </a:lnTo>
                      <a:lnTo>
                        <a:pt x="1973" y="0"/>
                      </a:lnTo>
                      <a:lnTo>
                        <a:pt x="2003" y="0"/>
                      </a:lnTo>
                      <a:lnTo>
                        <a:pt x="2023" y="0"/>
                      </a:lnTo>
                      <a:lnTo>
                        <a:pt x="2043" y="0"/>
                      </a:lnTo>
                      <a:lnTo>
                        <a:pt x="2063" y="0"/>
                      </a:lnTo>
                      <a:lnTo>
                        <a:pt x="2083" y="0"/>
                      </a:lnTo>
                      <a:lnTo>
                        <a:pt x="2113" y="0"/>
                      </a:lnTo>
                      <a:lnTo>
                        <a:pt x="2133" y="0"/>
                      </a:lnTo>
                      <a:lnTo>
                        <a:pt x="2153" y="0"/>
                      </a:lnTo>
                      <a:lnTo>
                        <a:pt x="2174" y="0"/>
                      </a:lnTo>
                      <a:lnTo>
                        <a:pt x="2194" y="0"/>
                      </a:lnTo>
                      <a:lnTo>
                        <a:pt x="2214" y="0"/>
                      </a:lnTo>
                      <a:lnTo>
                        <a:pt x="2244" y="0"/>
                      </a:lnTo>
                      <a:lnTo>
                        <a:pt x="2264" y="0"/>
                      </a:lnTo>
                      <a:lnTo>
                        <a:pt x="2284" y="0"/>
                      </a:lnTo>
                      <a:lnTo>
                        <a:pt x="2304" y="0"/>
                      </a:lnTo>
                      <a:lnTo>
                        <a:pt x="2324" y="0"/>
                      </a:lnTo>
                      <a:lnTo>
                        <a:pt x="2344" y="0"/>
                      </a:lnTo>
                      <a:lnTo>
                        <a:pt x="2374" y="0"/>
                      </a:lnTo>
                      <a:lnTo>
                        <a:pt x="2394" y="0"/>
                      </a:lnTo>
                      <a:lnTo>
                        <a:pt x="2414" y="0"/>
                      </a:lnTo>
                      <a:lnTo>
                        <a:pt x="2434" y="0"/>
                      </a:lnTo>
                      <a:lnTo>
                        <a:pt x="2454" y="0"/>
                      </a:lnTo>
                      <a:lnTo>
                        <a:pt x="2474" y="0"/>
                      </a:lnTo>
                      <a:lnTo>
                        <a:pt x="2504" y="0"/>
                      </a:lnTo>
                      <a:lnTo>
                        <a:pt x="2524" y="0"/>
                      </a:lnTo>
                      <a:lnTo>
                        <a:pt x="2544" y="0"/>
                      </a:lnTo>
                      <a:lnTo>
                        <a:pt x="2564" y="0"/>
                      </a:lnTo>
                      <a:lnTo>
                        <a:pt x="2584" y="0"/>
                      </a:lnTo>
                      <a:lnTo>
                        <a:pt x="2604" y="0"/>
                      </a:lnTo>
                      <a:lnTo>
                        <a:pt x="2634" y="0"/>
                      </a:lnTo>
                      <a:lnTo>
                        <a:pt x="2654" y="0"/>
                      </a:lnTo>
                      <a:lnTo>
                        <a:pt x="2674" y="0"/>
                      </a:lnTo>
                      <a:lnTo>
                        <a:pt x="2694" y="0"/>
                      </a:lnTo>
                      <a:lnTo>
                        <a:pt x="2714" y="0"/>
                      </a:lnTo>
                      <a:lnTo>
                        <a:pt x="2734" y="0"/>
                      </a:lnTo>
                      <a:lnTo>
                        <a:pt x="2765" y="0"/>
                      </a:lnTo>
                      <a:lnTo>
                        <a:pt x="2785" y="0"/>
                      </a:lnTo>
                      <a:lnTo>
                        <a:pt x="2805" y="0"/>
                      </a:lnTo>
                      <a:lnTo>
                        <a:pt x="2825" y="0"/>
                      </a:lnTo>
                      <a:lnTo>
                        <a:pt x="2845" y="0"/>
                      </a:lnTo>
                      <a:lnTo>
                        <a:pt x="2865" y="0"/>
                      </a:lnTo>
                      <a:lnTo>
                        <a:pt x="2895" y="0"/>
                      </a:lnTo>
                      <a:lnTo>
                        <a:pt x="2915" y="0"/>
                      </a:lnTo>
                      <a:lnTo>
                        <a:pt x="2935" y="0"/>
                      </a:lnTo>
                      <a:lnTo>
                        <a:pt x="2955" y="0"/>
                      </a:lnTo>
                      <a:lnTo>
                        <a:pt x="2975" y="0"/>
                      </a:lnTo>
                      <a:lnTo>
                        <a:pt x="2995" y="0"/>
                      </a:lnTo>
                      <a:lnTo>
                        <a:pt x="3025" y="0"/>
                      </a:lnTo>
                      <a:lnTo>
                        <a:pt x="3045" y="0"/>
                      </a:lnTo>
                      <a:lnTo>
                        <a:pt x="3065" y="0"/>
                      </a:lnTo>
                      <a:lnTo>
                        <a:pt x="3085" y="0"/>
                      </a:lnTo>
                      <a:lnTo>
                        <a:pt x="3105" y="0"/>
                      </a:lnTo>
                      <a:lnTo>
                        <a:pt x="3125" y="0"/>
                      </a:lnTo>
                      <a:lnTo>
                        <a:pt x="3155" y="0"/>
                      </a:lnTo>
                      <a:lnTo>
                        <a:pt x="3175" y="0"/>
                      </a:lnTo>
                      <a:lnTo>
                        <a:pt x="3195" y="0"/>
                      </a:lnTo>
                      <a:lnTo>
                        <a:pt x="3215" y="0"/>
                      </a:lnTo>
                      <a:lnTo>
                        <a:pt x="3235" y="0"/>
                      </a:lnTo>
                      <a:lnTo>
                        <a:pt x="3255" y="0"/>
                      </a:lnTo>
                      <a:lnTo>
                        <a:pt x="3285" y="0"/>
                      </a:lnTo>
                      <a:lnTo>
                        <a:pt x="3305" y="0"/>
                      </a:lnTo>
                      <a:lnTo>
                        <a:pt x="3326" y="0"/>
                      </a:lnTo>
                      <a:lnTo>
                        <a:pt x="3346" y="0"/>
                      </a:lnTo>
                      <a:lnTo>
                        <a:pt x="3366" y="0"/>
                      </a:lnTo>
                      <a:lnTo>
                        <a:pt x="3396" y="0"/>
                      </a:lnTo>
                      <a:lnTo>
                        <a:pt x="3416" y="0"/>
                      </a:lnTo>
                      <a:lnTo>
                        <a:pt x="3436" y="0"/>
                      </a:lnTo>
                      <a:lnTo>
                        <a:pt x="3456" y="0"/>
                      </a:lnTo>
                      <a:lnTo>
                        <a:pt x="3476" y="0"/>
                      </a:lnTo>
                      <a:lnTo>
                        <a:pt x="3496" y="0"/>
                      </a:lnTo>
                      <a:lnTo>
                        <a:pt x="3526" y="0"/>
                      </a:lnTo>
                      <a:lnTo>
                        <a:pt x="3546" y="0"/>
                      </a:lnTo>
                      <a:lnTo>
                        <a:pt x="3566" y="0"/>
                      </a:lnTo>
                      <a:lnTo>
                        <a:pt x="3586" y="0"/>
                      </a:lnTo>
                      <a:lnTo>
                        <a:pt x="3606" y="0"/>
                      </a:lnTo>
                      <a:lnTo>
                        <a:pt x="3626" y="0"/>
                      </a:lnTo>
                      <a:lnTo>
                        <a:pt x="3656" y="0"/>
                      </a:lnTo>
                      <a:lnTo>
                        <a:pt x="3676" y="0"/>
                      </a:lnTo>
                      <a:lnTo>
                        <a:pt x="3696" y="0"/>
                      </a:lnTo>
                      <a:lnTo>
                        <a:pt x="3716" y="0"/>
                      </a:lnTo>
                      <a:lnTo>
                        <a:pt x="3736"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5948280" y="1306440"/>
                  <a:ext cx="47880" cy="1800"/>
                </a:xfrm>
                <a:custGeom>
                  <a:avLst/>
                  <a:gdLst/>
                  <a:ahLst/>
                  <a:rect l="l" t="t" r="r" b="b"/>
                  <a:pathLst>
                    <a:path w="30" h="0">
                      <a:moveTo>
                        <a:pt x="0" y="0"/>
                      </a:moveTo>
                      <a:lnTo>
                        <a:pt x="20" y="0"/>
                      </a:lnTo>
                      <a:lnTo>
                        <a:pt x="30" y="0"/>
                      </a:lnTo>
                      <a:lnTo>
                        <a:pt x="20" y="0"/>
                      </a:lnTo>
                      <a:lnTo>
                        <a:pt x="10" y="0"/>
                      </a:lnTo>
                      <a:lnTo>
                        <a:pt x="0" y="0"/>
                      </a:lnTo>
                      <a:lnTo>
                        <a:pt x="0"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5948280" y="1306440"/>
                  <a:ext cx="47880" cy="1800"/>
                </a:xfrm>
                <a:custGeom>
                  <a:avLst/>
                  <a:gdLst/>
                  <a:ahLst/>
                  <a:rect l="l" t="t" r="r" b="b"/>
                  <a:pathLst>
                    <a:path w="30" h="0">
                      <a:moveTo>
                        <a:pt x="0" y="0"/>
                      </a:moveTo>
                      <a:lnTo>
                        <a:pt x="20" y="0"/>
                      </a:lnTo>
                      <a:lnTo>
                        <a:pt x="30" y="0"/>
                      </a:lnTo>
                      <a:lnTo>
                        <a:pt x="20" y="0"/>
                      </a:ln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4849920" y="1306440"/>
                  <a:ext cx="95040" cy="17640"/>
                </a:xfrm>
                <a:custGeom>
                  <a:avLst/>
                  <a:gdLst/>
                  <a:ahLst/>
                  <a:rect l="l" t="t" r="r" b="b"/>
                  <a:pathLst>
                    <a:path w="60" h="11">
                      <a:moveTo>
                        <a:pt x="60" y="0"/>
                      </a:moveTo>
                      <a:lnTo>
                        <a:pt x="50" y="11"/>
                      </a:lnTo>
                      <a:lnTo>
                        <a:pt x="30" y="11"/>
                      </a:lnTo>
                      <a:lnTo>
                        <a:pt x="10" y="0"/>
                      </a:lnTo>
                      <a:lnTo>
                        <a:pt x="0" y="0"/>
                      </a:lnTo>
                      <a:lnTo>
                        <a:pt x="10" y="0"/>
                      </a:lnTo>
                      <a:lnTo>
                        <a:pt x="30" y="0"/>
                      </a:lnTo>
                      <a:lnTo>
                        <a:pt x="50" y="0"/>
                      </a:lnTo>
                      <a:lnTo>
                        <a:pt x="60" y="0"/>
                      </a:lnTo>
                      <a:lnTo>
                        <a:pt x="6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 name=""/>
                <p:cNvSpPr/>
                <p:nvPr/>
              </p:nvSpPr>
              <p:spPr>
                <a:xfrm>
                  <a:off x="4849920" y="1306440"/>
                  <a:ext cx="95040" cy="17640"/>
                </a:xfrm>
                <a:custGeom>
                  <a:avLst/>
                  <a:gdLst/>
                  <a:ahLst/>
                  <a:rect l="l" t="t" r="r" b="b"/>
                  <a:pathLst>
                    <a:path w="60" h="11">
                      <a:moveTo>
                        <a:pt x="60" y="0"/>
                      </a:moveTo>
                      <a:lnTo>
                        <a:pt x="50" y="11"/>
                      </a:lnTo>
                      <a:lnTo>
                        <a:pt x="30" y="11"/>
                      </a:lnTo>
                      <a:lnTo>
                        <a:pt x="10" y="0"/>
                      </a:lnTo>
                      <a:lnTo>
                        <a:pt x="0" y="0"/>
                      </a:lnTo>
                      <a:lnTo>
                        <a:pt x="10" y="0"/>
                      </a:lnTo>
                      <a:lnTo>
                        <a:pt x="30" y="0"/>
                      </a:lnTo>
                      <a:lnTo>
                        <a:pt x="50" y="0"/>
                      </a:lnTo>
                      <a:lnTo>
                        <a:pt x="6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 name=""/>
                <p:cNvSpPr/>
                <p:nvPr/>
              </p:nvSpPr>
              <p:spPr>
                <a:xfrm>
                  <a:off x="3164040" y="1287360"/>
                  <a:ext cx="96840" cy="54000"/>
                </a:xfrm>
                <a:custGeom>
                  <a:avLst/>
                  <a:gdLst/>
                  <a:ahLst/>
                  <a:rect l="l" t="t" r="r" b="b"/>
                  <a:pathLst>
                    <a:path w="61" h="34">
                      <a:moveTo>
                        <a:pt x="0" y="0"/>
                      </a:moveTo>
                      <a:lnTo>
                        <a:pt x="20" y="0"/>
                      </a:lnTo>
                      <a:lnTo>
                        <a:pt x="41" y="12"/>
                      </a:lnTo>
                      <a:lnTo>
                        <a:pt x="61" y="23"/>
                      </a:lnTo>
                      <a:lnTo>
                        <a:pt x="41" y="34"/>
                      </a:lnTo>
                      <a:lnTo>
                        <a:pt x="31" y="34"/>
                      </a:lnTo>
                      <a:lnTo>
                        <a:pt x="10" y="23"/>
                      </a:lnTo>
                      <a:lnTo>
                        <a:pt x="0" y="0"/>
                      </a:lnTo>
                      <a:lnTo>
                        <a:pt x="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1" name=""/>
                <p:cNvSpPr/>
                <p:nvPr/>
              </p:nvSpPr>
              <p:spPr>
                <a:xfrm>
                  <a:off x="3164040" y="1287360"/>
                  <a:ext cx="96840" cy="54000"/>
                </a:xfrm>
                <a:custGeom>
                  <a:avLst/>
                  <a:gdLst/>
                  <a:ahLst/>
                  <a:rect l="l" t="t" r="r" b="b"/>
                  <a:pathLst>
                    <a:path w="61" h="34">
                      <a:moveTo>
                        <a:pt x="0" y="0"/>
                      </a:moveTo>
                      <a:lnTo>
                        <a:pt x="20" y="0"/>
                      </a:lnTo>
                      <a:lnTo>
                        <a:pt x="41" y="12"/>
                      </a:lnTo>
                      <a:lnTo>
                        <a:pt x="61" y="23"/>
                      </a:lnTo>
                      <a:lnTo>
                        <a:pt x="41" y="34"/>
                      </a:lnTo>
                      <a:lnTo>
                        <a:pt x="31" y="34"/>
                      </a:lnTo>
                      <a:lnTo>
                        <a:pt x="10" y="23"/>
                      </a:lnTo>
                      <a:lnTo>
                        <a:pt x="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2" name=""/>
                <p:cNvSpPr/>
                <p:nvPr/>
              </p:nvSpPr>
              <p:spPr>
                <a:xfrm>
                  <a:off x="3132000" y="1251000"/>
                  <a:ext cx="478080" cy="146160"/>
                </a:xfrm>
                <a:custGeom>
                  <a:avLst/>
                  <a:gdLst/>
                  <a:ahLst/>
                  <a:rect l="l" t="t" r="r" b="b"/>
                  <a:pathLst>
                    <a:path w="301" h="92">
                      <a:moveTo>
                        <a:pt x="201" y="0"/>
                      </a:moveTo>
                      <a:lnTo>
                        <a:pt x="231" y="0"/>
                      </a:lnTo>
                      <a:lnTo>
                        <a:pt x="271" y="12"/>
                      </a:lnTo>
                      <a:lnTo>
                        <a:pt x="301" y="12"/>
                      </a:lnTo>
                      <a:lnTo>
                        <a:pt x="291" y="12"/>
                      </a:lnTo>
                      <a:lnTo>
                        <a:pt x="281" y="23"/>
                      </a:lnTo>
                      <a:lnTo>
                        <a:pt x="261" y="23"/>
                      </a:lnTo>
                      <a:lnTo>
                        <a:pt x="231" y="23"/>
                      </a:lnTo>
                      <a:lnTo>
                        <a:pt x="201" y="35"/>
                      </a:lnTo>
                      <a:lnTo>
                        <a:pt x="171" y="35"/>
                      </a:lnTo>
                      <a:lnTo>
                        <a:pt x="151" y="46"/>
                      </a:lnTo>
                      <a:lnTo>
                        <a:pt x="131" y="46"/>
                      </a:lnTo>
                      <a:lnTo>
                        <a:pt x="141" y="46"/>
                      </a:lnTo>
                      <a:lnTo>
                        <a:pt x="151" y="46"/>
                      </a:lnTo>
                      <a:lnTo>
                        <a:pt x="151" y="57"/>
                      </a:lnTo>
                      <a:lnTo>
                        <a:pt x="141" y="69"/>
                      </a:lnTo>
                      <a:lnTo>
                        <a:pt x="131" y="57"/>
                      </a:lnTo>
                      <a:lnTo>
                        <a:pt x="111" y="69"/>
                      </a:lnTo>
                      <a:lnTo>
                        <a:pt x="111" y="80"/>
                      </a:lnTo>
                      <a:lnTo>
                        <a:pt x="111" y="92"/>
                      </a:lnTo>
                      <a:lnTo>
                        <a:pt x="101" y="92"/>
                      </a:lnTo>
                      <a:lnTo>
                        <a:pt x="81" y="92"/>
                      </a:lnTo>
                      <a:lnTo>
                        <a:pt x="71" y="92"/>
                      </a:lnTo>
                      <a:lnTo>
                        <a:pt x="71" y="80"/>
                      </a:lnTo>
                      <a:lnTo>
                        <a:pt x="61" y="80"/>
                      </a:lnTo>
                      <a:lnTo>
                        <a:pt x="40" y="92"/>
                      </a:lnTo>
                      <a:lnTo>
                        <a:pt x="30" y="80"/>
                      </a:lnTo>
                      <a:lnTo>
                        <a:pt x="10" y="80"/>
                      </a:lnTo>
                      <a:lnTo>
                        <a:pt x="0" y="92"/>
                      </a:lnTo>
                      <a:lnTo>
                        <a:pt x="0" y="80"/>
                      </a:lnTo>
                      <a:lnTo>
                        <a:pt x="10" y="69"/>
                      </a:lnTo>
                      <a:lnTo>
                        <a:pt x="51" y="57"/>
                      </a:lnTo>
                      <a:lnTo>
                        <a:pt x="71" y="57"/>
                      </a:lnTo>
                      <a:lnTo>
                        <a:pt x="71" y="46"/>
                      </a:lnTo>
                      <a:lnTo>
                        <a:pt x="61" y="57"/>
                      </a:lnTo>
                      <a:lnTo>
                        <a:pt x="61" y="46"/>
                      </a:lnTo>
                      <a:lnTo>
                        <a:pt x="71" y="35"/>
                      </a:lnTo>
                      <a:lnTo>
                        <a:pt x="81" y="35"/>
                      </a:lnTo>
                      <a:lnTo>
                        <a:pt x="91" y="23"/>
                      </a:lnTo>
                      <a:lnTo>
                        <a:pt x="101" y="23"/>
                      </a:lnTo>
                      <a:lnTo>
                        <a:pt x="101" y="35"/>
                      </a:lnTo>
                      <a:lnTo>
                        <a:pt x="111" y="35"/>
                      </a:lnTo>
                      <a:lnTo>
                        <a:pt x="121" y="35"/>
                      </a:lnTo>
                      <a:lnTo>
                        <a:pt x="121" y="46"/>
                      </a:lnTo>
                      <a:lnTo>
                        <a:pt x="131" y="35"/>
                      </a:lnTo>
                      <a:lnTo>
                        <a:pt x="141" y="35"/>
                      </a:lnTo>
                      <a:lnTo>
                        <a:pt x="141" y="23"/>
                      </a:lnTo>
                      <a:lnTo>
                        <a:pt x="111" y="23"/>
                      </a:lnTo>
                      <a:lnTo>
                        <a:pt x="81" y="23"/>
                      </a:lnTo>
                      <a:lnTo>
                        <a:pt x="51" y="12"/>
                      </a:lnTo>
                      <a:lnTo>
                        <a:pt x="61" y="12"/>
                      </a:lnTo>
                      <a:lnTo>
                        <a:pt x="71" y="12"/>
                      </a:lnTo>
                      <a:lnTo>
                        <a:pt x="91" y="12"/>
                      </a:lnTo>
                      <a:lnTo>
                        <a:pt x="121" y="12"/>
                      </a:lnTo>
                      <a:lnTo>
                        <a:pt x="151" y="0"/>
                      </a:lnTo>
                      <a:lnTo>
                        <a:pt x="171" y="0"/>
                      </a:lnTo>
                      <a:lnTo>
                        <a:pt x="201" y="0"/>
                      </a:lnTo>
                      <a:lnTo>
                        <a:pt x="201"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132000" y="1251000"/>
                  <a:ext cx="478080" cy="146160"/>
                </a:xfrm>
                <a:custGeom>
                  <a:avLst/>
                  <a:gdLst/>
                  <a:ahLst/>
                  <a:rect l="l" t="t" r="r" b="b"/>
                  <a:pathLst>
                    <a:path w="301" h="92">
                      <a:moveTo>
                        <a:pt x="201" y="0"/>
                      </a:moveTo>
                      <a:lnTo>
                        <a:pt x="231" y="0"/>
                      </a:lnTo>
                      <a:lnTo>
                        <a:pt x="271" y="12"/>
                      </a:lnTo>
                      <a:lnTo>
                        <a:pt x="301" y="12"/>
                      </a:lnTo>
                      <a:lnTo>
                        <a:pt x="291" y="12"/>
                      </a:lnTo>
                      <a:lnTo>
                        <a:pt x="281" y="23"/>
                      </a:lnTo>
                      <a:lnTo>
                        <a:pt x="261" y="23"/>
                      </a:lnTo>
                      <a:lnTo>
                        <a:pt x="231" y="23"/>
                      </a:lnTo>
                      <a:lnTo>
                        <a:pt x="201" y="35"/>
                      </a:lnTo>
                      <a:lnTo>
                        <a:pt x="171" y="35"/>
                      </a:lnTo>
                      <a:lnTo>
                        <a:pt x="151" y="46"/>
                      </a:lnTo>
                      <a:lnTo>
                        <a:pt x="131" y="46"/>
                      </a:lnTo>
                      <a:lnTo>
                        <a:pt x="141" y="46"/>
                      </a:lnTo>
                      <a:lnTo>
                        <a:pt x="151" y="46"/>
                      </a:lnTo>
                      <a:lnTo>
                        <a:pt x="151" y="57"/>
                      </a:lnTo>
                      <a:lnTo>
                        <a:pt x="141" y="69"/>
                      </a:lnTo>
                      <a:lnTo>
                        <a:pt x="131" y="57"/>
                      </a:lnTo>
                      <a:lnTo>
                        <a:pt x="111" y="69"/>
                      </a:lnTo>
                      <a:lnTo>
                        <a:pt x="111" y="80"/>
                      </a:lnTo>
                      <a:lnTo>
                        <a:pt x="111" y="92"/>
                      </a:lnTo>
                      <a:lnTo>
                        <a:pt x="101" y="92"/>
                      </a:lnTo>
                      <a:lnTo>
                        <a:pt x="81" y="92"/>
                      </a:lnTo>
                      <a:lnTo>
                        <a:pt x="71" y="92"/>
                      </a:lnTo>
                      <a:lnTo>
                        <a:pt x="71" y="80"/>
                      </a:lnTo>
                      <a:lnTo>
                        <a:pt x="61" y="80"/>
                      </a:lnTo>
                      <a:lnTo>
                        <a:pt x="40" y="92"/>
                      </a:lnTo>
                      <a:lnTo>
                        <a:pt x="30" y="80"/>
                      </a:lnTo>
                      <a:lnTo>
                        <a:pt x="10" y="80"/>
                      </a:lnTo>
                      <a:lnTo>
                        <a:pt x="0" y="92"/>
                      </a:lnTo>
                      <a:lnTo>
                        <a:pt x="0" y="80"/>
                      </a:lnTo>
                      <a:lnTo>
                        <a:pt x="10" y="69"/>
                      </a:lnTo>
                      <a:lnTo>
                        <a:pt x="51" y="57"/>
                      </a:lnTo>
                      <a:lnTo>
                        <a:pt x="71" y="57"/>
                      </a:lnTo>
                      <a:lnTo>
                        <a:pt x="71" y="46"/>
                      </a:lnTo>
                      <a:lnTo>
                        <a:pt x="61" y="57"/>
                      </a:lnTo>
                      <a:lnTo>
                        <a:pt x="61" y="46"/>
                      </a:lnTo>
                      <a:lnTo>
                        <a:pt x="71" y="35"/>
                      </a:lnTo>
                      <a:lnTo>
                        <a:pt x="81" y="35"/>
                      </a:lnTo>
                      <a:lnTo>
                        <a:pt x="91" y="23"/>
                      </a:lnTo>
                      <a:lnTo>
                        <a:pt x="101" y="23"/>
                      </a:lnTo>
                      <a:lnTo>
                        <a:pt x="101" y="35"/>
                      </a:lnTo>
                      <a:lnTo>
                        <a:pt x="111" y="35"/>
                      </a:lnTo>
                      <a:lnTo>
                        <a:pt x="121" y="35"/>
                      </a:lnTo>
                      <a:lnTo>
                        <a:pt x="121" y="46"/>
                      </a:lnTo>
                      <a:lnTo>
                        <a:pt x="131" y="35"/>
                      </a:lnTo>
                      <a:lnTo>
                        <a:pt x="141" y="35"/>
                      </a:lnTo>
                      <a:lnTo>
                        <a:pt x="141" y="23"/>
                      </a:lnTo>
                      <a:lnTo>
                        <a:pt x="111" y="23"/>
                      </a:lnTo>
                      <a:lnTo>
                        <a:pt x="81" y="23"/>
                      </a:lnTo>
                      <a:lnTo>
                        <a:pt x="51" y="12"/>
                      </a:lnTo>
                      <a:lnTo>
                        <a:pt x="61" y="12"/>
                      </a:lnTo>
                      <a:lnTo>
                        <a:pt x="71" y="12"/>
                      </a:lnTo>
                      <a:lnTo>
                        <a:pt x="91" y="12"/>
                      </a:lnTo>
                      <a:lnTo>
                        <a:pt x="121" y="12"/>
                      </a:lnTo>
                      <a:lnTo>
                        <a:pt x="151" y="0"/>
                      </a:lnTo>
                      <a:lnTo>
                        <a:pt x="171" y="0"/>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043680" y="1306440"/>
                  <a:ext cx="63360" cy="17640"/>
                </a:xfrm>
                <a:custGeom>
                  <a:avLst/>
                  <a:gdLst/>
                  <a:ahLst/>
                  <a:rect l="l" t="t" r="r" b="b"/>
                  <a:pathLst>
                    <a:path w="40" h="11">
                      <a:moveTo>
                        <a:pt x="40" y="11"/>
                      </a:moveTo>
                      <a:lnTo>
                        <a:pt x="20" y="0"/>
                      </a:lnTo>
                      <a:lnTo>
                        <a:pt x="10" y="0"/>
                      </a:lnTo>
                      <a:lnTo>
                        <a:pt x="0" y="0"/>
                      </a:lnTo>
                      <a:lnTo>
                        <a:pt x="10" y="0"/>
                      </a:lnTo>
                      <a:lnTo>
                        <a:pt x="20" y="0"/>
                      </a:lnTo>
                      <a:lnTo>
                        <a:pt x="40" y="11"/>
                      </a:lnTo>
                      <a:lnTo>
                        <a:pt x="40" y="11"/>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5" name=""/>
                <p:cNvSpPr/>
                <p:nvPr/>
              </p:nvSpPr>
              <p:spPr>
                <a:xfrm>
                  <a:off x="6043680" y="1306440"/>
                  <a:ext cx="63360" cy="17640"/>
                </a:xfrm>
                <a:custGeom>
                  <a:avLst/>
                  <a:gdLst/>
                  <a:ahLst/>
                  <a:rect l="l" t="t" r="r" b="b"/>
                  <a:pathLst>
                    <a:path w="40" h="11">
                      <a:moveTo>
                        <a:pt x="40" y="11"/>
                      </a:moveTo>
                      <a:lnTo>
                        <a:pt x="20" y="0"/>
                      </a:lnTo>
                      <a:lnTo>
                        <a:pt x="10" y="0"/>
                      </a:lnTo>
                      <a:lnTo>
                        <a:pt x="0" y="0"/>
                      </a:lnTo>
                      <a:lnTo>
                        <a:pt x="10" y="0"/>
                      </a:lnTo>
                      <a:lnTo>
                        <a:pt x="20" y="0"/>
                      </a:lnTo>
                      <a:lnTo>
                        <a:pt x="4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 name=""/>
                <p:cNvSpPr/>
                <p:nvPr/>
              </p:nvSpPr>
              <p:spPr>
                <a:xfrm>
                  <a:off x="6138720" y="1324080"/>
                  <a:ext cx="15840" cy="17280"/>
                </a:xfrm>
                <a:custGeom>
                  <a:avLst/>
                  <a:gdLst/>
                  <a:ahLst/>
                  <a:rect l="l" t="t" r="r" b="b"/>
                  <a:pathLst>
                    <a:path w="10" h="11">
                      <a:moveTo>
                        <a:pt x="0" y="11"/>
                      </a:moveTo>
                      <a:lnTo>
                        <a:pt x="10" y="11"/>
                      </a:lnTo>
                      <a:lnTo>
                        <a:pt x="10" y="0"/>
                      </a:lnTo>
                      <a:lnTo>
                        <a:pt x="10" y="11"/>
                      </a:lnTo>
                      <a:lnTo>
                        <a:pt x="0" y="11"/>
                      </a:lnTo>
                      <a:lnTo>
                        <a:pt x="0" y="11"/>
                      </a:lnTo>
                      <a:close/>
                    </a:path>
                  </a:pathLst>
                </a:custGeom>
                <a:solidFill>
                  <a:srgbClr val="009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7" name=""/>
                <p:cNvSpPr/>
                <p:nvPr/>
              </p:nvSpPr>
              <p:spPr>
                <a:xfrm>
                  <a:off x="6138720" y="1324080"/>
                  <a:ext cx="15840" cy="17280"/>
                </a:xfrm>
                <a:custGeom>
                  <a:avLst/>
                  <a:gdLst/>
                  <a:ahLst/>
                  <a:rect l="l" t="t" r="r" b="b"/>
                  <a:pathLst>
                    <a:path w="10" h="11">
                      <a:moveTo>
                        <a:pt x="0" y="11"/>
                      </a:moveTo>
                      <a:lnTo>
                        <a:pt x="10" y="11"/>
                      </a:lnTo>
                      <a:lnTo>
                        <a:pt x="10" y="0"/>
                      </a:lnTo>
                      <a:lnTo>
                        <a:pt x="10" y="11"/>
                      </a:lnTo>
                      <a:lnTo>
                        <a:pt x="0"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8" name=""/>
                <p:cNvSpPr/>
                <p:nvPr/>
              </p:nvSpPr>
              <p:spPr>
                <a:xfrm>
                  <a:off x="2925720" y="1324080"/>
                  <a:ext cx="47520" cy="17280"/>
                </a:xfrm>
                <a:custGeom>
                  <a:avLst/>
                  <a:gdLst/>
                  <a:ahLst/>
                  <a:rect l="l" t="t" r="r" b="b"/>
                  <a:pathLst>
                    <a:path w="30" h="11">
                      <a:moveTo>
                        <a:pt x="30" y="0"/>
                      </a:moveTo>
                      <a:lnTo>
                        <a:pt x="30" y="11"/>
                      </a:lnTo>
                      <a:lnTo>
                        <a:pt x="20" y="11"/>
                      </a:lnTo>
                      <a:lnTo>
                        <a:pt x="10" y="11"/>
                      </a:lnTo>
                      <a:lnTo>
                        <a:pt x="0" y="11"/>
                      </a:lnTo>
                      <a:lnTo>
                        <a:pt x="10" y="0"/>
                      </a:lnTo>
                      <a:lnTo>
                        <a:pt x="20" y="0"/>
                      </a:lnTo>
                      <a:lnTo>
                        <a:pt x="30" y="0"/>
                      </a:lnTo>
                      <a:lnTo>
                        <a:pt x="30" y="0"/>
                      </a:lnTo>
                      <a:close/>
                    </a:path>
                  </a:pathLst>
                </a:custGeom>
                <a:solidFill>
                  <a:srgbClr val="009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2925720" y="1324080"/>
                  <a:ext cx="47520" cy="17280"/>
                </a:xfrm>
                <a:custGeom>
                  <a:avLst/>
                  <a:gdLst/>
                  <a:ahLst/>
                  <a:rect l="l" t="t" r="r" b="b"/>
                  <a:pathLst>
                    <a:path w="30" h="11">
                      <a:moveTo>
                        <a:pt x="30" y="0"/>
                      </a:moveTo>
                      <a:lnTo>
                        <a:pt x="30" y="11"/>
                      </a:lnTo>
                      <a:lnTo>
                        <a:pt x="20" y="11"/>
                      </a:lnTo>
                      <a:lnTo>
                        <a:pt x="10" y="11"/>
                      </a:lnTo>
                      <a:lnTo>
                        <a:pt x="0" y="11"/>
                      </a:lnTo>
                      <a:lnTo>
                        <a:pt x="10" y="0"/>
                      </a:lnTo>
                      <a:lnTo>
                        <a:pt x="20" y="0"/>
                      </a:lnTo>
                      <a:lnTo>
                        <a:pt x="3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0" name=""/>
                <p:cNvSpPr/>
                <p:nvPr/>
              </p:nvSpPr>
              <p:spPr>
                <a:xfrm>
                  <a:off x="4722840" y="1306440"/>
                  <a:ext cx="190440" cy="71640"/>
                </a:xfrm>
                <a:custGeom>
                  <a:avLst/>
                  <a:gdLst/>
                  <a:ahLst/>
                  <a:rect l="l" t="t" r="r" b="b"/>
                  <a:pathLst>
                    <a:path w="120" h="45">
                      <a:moveTo>
                        <a:pt x="0" y="0"/>
                      </a:moveTo>
                      <a:lnTo>
                        <a:pt x="20" y="0"/>
                      </a:lnTo>
                      <a:lnTo>
                        <a:pt x="30" y="0"/>
                      </a:lnTo>
                      <a:lnTo>
                        <a:pt x="40" y="0"/>
                      </a:lnTo>
                      <a:lnTo>
                        <a:pt x="50" y="0"/>
                      </a:lnTo>
                      <a:lnTo>
                        <a:pt x="60" y="11"/>
                      </a:lnTo>
                      <a:lnTo>
                        <a:pt x="70" y="11"/>
                      </a:lnTo>
                      <a:lnTo>
                        <a:pt x="60" y="0"/>
                      </a:lnTo>
                      <a:lnTo>
                        <a:pt x="70" y="0"/>
                      </a:lnTo>
                      <a:lnTo>
                        <a:pt x="80" y="0"/>
                      </a:lnTo>
                      <a:lnTo>
                        <a:pt x="100" y="0"/>
                      </a:lnTo>
                      <a:lnTo>
                        <a:pt x="110" y="11"/>
                      </a:lnTo>
                      <a:lnTo>
                        <a:pt x="120" y="11"/>
                      </a:lnTo>
                      <a:lnTo>
                        <a:pt x="110" y="34"/>
                      </a:lnTo>
                      <a:lnTo>
                        <a:pt x="90" y="45"/>
                      </a:lnTo>
                      <a:lnTo>
                        <a:pt x="70" y="45"/>
                      </a:lnTo>
                      <a:lnTo>
                        <a:pt x="60" y="45"/>
                      </a:lnTo>
                      <a:lnTo>
                        <a:pt x="50" y="34"/>
                      </a:lnTo>
                      <a:lnTo>
                        <a:pt x="40" y="22"/>
                      </a:lnTo>
                      <a:lnTo>
                        <a:pt x="50" y="22"/>
                      </a:lnTo>
                      <a:lnTo>
                        <a:pt x="60" y="22"/>
                      </a:lnTo>
                      <a:lnTo>
                        <a:pt x="80" y="22"/>
                      </a:lnTo>
                      <a:lnTo>
                        <a:pt x="70" y="22"/>
                      </a:lnTo>
                      <a:lnTo>
                        <a:pt x="70" y="11"/>
                      </a:lnTo>
                      <a:lnTo>
                        <a:pt x="50" y="11"/>
                      </a:lnTo>
                      <a:lnTo>
                        <a:pt x="30" y="11"/>
                      </a:lnTo>
                      <a:lnTo>
                        <a:pt x="0" y="0"/>
                      </a:lnTo>
                      <a:lnTo>
                        <a:pt x="0" y="0"/>
                      </a:lnTo>
                      <a:close/>
                    </a:path>
                  </a:pathLst>
                </a:custGeom>
                <a:solidFill>
                  <a:srgbClr val="00937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4722840" y="1306440"/>
                  <a:ext cx="190440" cy="71640"/>
                </a:xfrm>
                <a:custGeom>
                  <a:avLst/>
                  <a:gdLst/>
                  <a:ahLst/>
                  <a:rect l="l" t="t" r="r" b="b"/>
                  <a:pathLst>
                    <a:path w="120" h="45">
                      <a:moveTo>
                        <a:pt x="0" y="0"/>
                      </a:moveTo>
                      <a:lnTo>
                        <a:pt x="20" y="0"/>
                      </a:lnTo>
                      <a:lnTo>
                        <a:pt x="30" y="0"/>
                      </a:lnTo>
                      <a:lnTo>
                        <a:pt x="40" y="0"/>
                      </a:lnTo>
                      <a:lnTo>
                        <a:pt x="50" y="0"/>
                      </a:lnTo>
                      <a:lnTo>
                        <a:pt x="60" y="11"/>
                      </a:lnTo>
                      <a:lnTo>
                        <a:pt x="70" y="11"/>
                      </a:lnTo>
                      <a:lnTo>
                        <a:pt x="60" y="0"/>
                      </a:lnTo>
                      <a:lnTo>
                        <a:pt x="70" y="0"/>
                      </a:lnTo>
                      <a:lnTo>
                        <a:pt x="80" y="0"/>
                      </a:lnTo>
                      <a:lnTo>
                        <a:pt x="100" y="0"/>
                      </a:lnTo>
                      <a:lnTo>
                        <a:pt x="110" y="11"/>
                      </a:lnTo>
                      <a:lnTo>
                        <a:pt x="120" y="11"/>
                      </a:lnTo>
                      <a:lnTo>
                        <a:pt x="110" y="34"/>
                      </a:lnTo>
                      <a:lnTo>
                        <a:pt x="90" y="45"/>
                      </a:lnTo>
                      <a:lnTo>
                        <a:pt x="70" y="45"/>
                      </a:lnTo>
                      <a:lnTo>
                        <a:pt x="60" y="45"/>
                      </a:lnTo>
                      <a:lnTo>
                        <a:pt x="50" y="34"/>
                      </a:lnTo>
                      <a:lnTo>
                        <a:pt x="40" y="22"/>
                      </a:lnTo>
                      <a:lnTo>
                        <a:pt x="50" y="22"/>
                      </a:lnTo>
                      <a:lnTo>
                        <a:pt x="60" y="22"/>
                      </a:lnTo>
                      <a:lnTo>
                        <a:pt x="80" y="22"/>
                      </a:lnTo>
                      <a:lnTo>
                        <a:pt x="70" y="22"/>
                      </a:lnTo>
                      <a:lnTo>
                        <a:pt x="70" y="11"/>
                      </a:lnTo>
                      <a:lnTo>
                        <a:pt x="50" y="11"/>
                      </a:lnTo>
                      <a:lnTo>
                        <a:pt x="30" y="11"/>
                      </a:lnTo>
                      <a:lnTo>
                        <a:pt x="0"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2" name=""/>
                <p:cNvSpPr/>
                <p:nvPr/>
              </p:nvSpPr>
              <p:spPr>
                <a:xfrm>
                  <a:off x="6234120" y="1341360"/>
                  <a:ext cx="15840" cy="1800"/>
                </a:xfrm>
                <a:custGeom>
                  <a:avLst/>
                  <a:gdLst/>
                  <a:ahLst/>
                  <a:rect l="l" t="t" r="r" b="b"/>
                  <a:pathLst>
                    <a:path w="10" h="0">
                      <a:moveTo>
                        <a:pt x="0" y="0"/>
                      </a:moveTo>
                      <a:lnTo>
                        <a:pt x="10" y="0"/>
                      </a:lnTo>
                      <a:lnTo>
                        <a:pt x="0" y="0"/>
                      </a:lnTo>
                      <a:lnTo>
                        <a:pt x="0"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6234120" y="1341360"/>
                  <a:ext cx="1584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2608200" y="1360440"/>
                  <a:ext cx="79560" cy="36720"/>
                </a:xfrm>
                <a:custGeom>
                  <a:avLst/>
                  <a:gdLst/>
                  <a:ahLst/>
                  <a:rect l="l" t="t" r="r" b="b"/>
                  <a:pathLst>
                    <a:path w="50" h="23">
                      <a:moveTo>
                        <a:pt x="50" y="0"/>
                      </a:moveTo>
                      <a:lnTo>
                        <a:pt x="40" y="23"/>
                      </a:lnTo>
                      <a:lnTo>
                        <a:pt x="30" y="23"/>
                      </a:lnTo>
                      <a:lnTo>
                        <a:pt x="0" y="23"/>
                      </a:lnTo>
                      <a:lnTo>
                        <a:pt x="10" y="11"/>
                      </a:lnTo>
                      <a:lnTo>
                        <a:pt x="30" y="11"/>
                      </a:lnTo>
                      <a:lnTo>
                        <a:pt x="40" y="0"/>
                      </a:lnTo>
                      <a:lnTo>
                        <a:pt x="50" y="0"/>
                      </a:lnTo>
                      <a:lnTo>
                        <a:pt x="50" y="0"/>
                      </a:lnTo>
                      <a:close/>
                    </a:path>
                  </a:pathLst>
                </a:custGeom>
                <a:solidFill>
                  <a:srgbClr val="00937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5" name=""/>
                <p:cNvSpPr/>
                <p:nvPr/>
              </p:nvSpPr>
              <p:spPr>
                <a:xfrm>
                  <a:off x="2608200" y="1360440"/>
                  <a:ext cx="79560" cy="36720"/>
                </a:xfrm>
                <a:custGeom>
                  <a:avLst/>
                  <a:gdLst/>
                  <a:ahLst/>
                  <a:rect l="l" t="t" r="r" b="b"/>
                  <a:pathLst>
                    <a:path w="50" h="23">
                      <a:moveTo>
                        <a:pt x="50" y="0"/>
                      </a:moveTo>
                      <a:lnTo>
                        <a:pt x="40" y="23"/>
                      </a:lnTo>
                      <a:lnTo>
                        <a:pt x="30" y="23"/>
                      </a:lnTo>
                      <a:lnTo>
                        <a:pt x="0" y="23"/>
                      </a:lnTo>
                      <a:lnTo>
                        <a:pt x="10" y="11"/>
                      </a:lnTo>
                      <a:lnTo>
                        <a:pt x="30" y="11"/>
                      </a:lnTo>
                      <a:lnTo>
                        <a:pt x="40" y="0"/>
                      </a:lnTo>
                      <a:lnTo>
                        <a:pt x="50"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6" name=""/>
                <p:cNvSpPr/>
                <p:nvPr/>
              </p:nvSpPr>
              <p:spPr>
                <a:xfrm>
                  <a:off x="2941560" y="1378080"/>
                  <a:ext cx="15840" cy="1440"/>
                </a:xfrm>
                <a:custGeom>
                  <a:avLst/>
                  <a:gdLst/>
                  <a:ahLst/>
                  <a:rect l="l" t="t" r="r" b="b"/>
                  <a:pathLst>
                    <a:path w="10" h="0">
                      <a:moveTo>
                        <a:pt x="10" y="0"/>
                      </a:move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2941560" y="1378080"/>
                  <a:ext cx="15840" cy="1440"/>
                </a:xfrm>
                <a:custGeom>
                  <a:avLst/>
                  <a:gdLst/>
                  <a:ahLst/>
                  <a:rect l="l" t="t" r="r" b="b"/>
                  <a:pathLst>
                    <a:path w="10" h="0">
                      <a:moveTo>
                        <a:pt x="10" y="0"/>
                      </a:moveTo>
                      <a:lnTo>
                        <a:pt x="0" y="0"/>
                      </a:lnTo>
                      <a:lnTo>
                        <a:pt x="1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878200" y="1378080"/>
                  <a:ext cx="15840" cy="19080"/>
                </a:xfrm>
                <a:custGeom>
                  <a:avLst/>
                  <a:gdLst/>
                  <a:ahLst/>
                  <a:rect l="l" t="t" r="r" b="b"/>
                  <a:pathLst>
                    <a:path w="10" h="12">
                      <a:moveTo>
                        <a:pt x="10" y="0"/>
                      </a:moveTo>
                      <a:lnTo>
                        <a:pt x="0" y="12"/>
                      </a:lnTo>
                      <a:lnTo>
                        <a:pt x="10" y="0"/>
                      </a:lnTo>
                      <a:lnTo>
                        <a:pt x="1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9" name=""/>
                <p:cNvSpPr/>
                <p:nvPr/>
              </p:nvSpPr>
              <p:spPr>
                <a:xfrm>
                  <a:off x="2878200" y="1378080"/>
                  <a:ext cx="15840" cy="19080"/>
                </a:xfrm>
                <a:custGeom>
                  <a:avLst/>
                  <a:gdLst/>
                  <a:ahLst/>
                  <a:rect l="l" t="t" r="r" b="b"/>
                  <a:pathLst>
                    <a:path w="10" h="12">
                      <a:moveTo>
                        <a:pt x="10" y="0"/>
                      </a:moveTo>
                      <a:lnTo>
                        <a:pt x="0" y="12"/>
                      </a:lnTo>
                      <a:lnTo>
                        <a:pt x="1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2894040" y="1378080"/>
                  <a:ext cx="63360" cy="36360"/>
                </a:xfrm>
                <a:custGeom>
                  <a:avLst/>
                  <a:gdLst/>
                  <a:ahLst/>
                  <a:rect l="l" t="t" r="r" b="b"/>
                  <a:pathLst>
                    <a:path w="40" h="23">
                      <a:moveTo>
                        <a:pt x="40" y="0"/>
                      </a:moveTo>
                      <a:lnTo>
                        <a:pt x="30" y="12"/>
                      </a:lnTo>
                      <a:lnTo>
                        <a:pt x="20" y="23"/>
                      </a:lnTo>
                      <a:lnTo>
                        <a:pt x="10" y="23"/>
                      </a:lnTo>
                      <a:lnTo>
                        <a:pt x="0" y="23"/>
                      </a:lnTo>
                      <a:lnTo>
                        <a:pt x="10" y="12"/>
                      </a:lnTo>
                      <a:lnTo>
                        <a:pt x="30" y="0"/>
                      </a:lnTo>
                      <a:lnTo>
                        <a:pt x="40" y="0"/>
                      </a:lnTo>
                      <a:lnTo>
                        <a:pt x="40"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2894040" y="1378080"/>
                  <a:ext cx="63360" cy="36360"/>
                </a:xfrm>
                <a:custGeom>
                  <a:avLst/>
                  <a:gdLst/>
                  <a:ahLst/>
                  <a:rect l="l" t="t" r="r" b="b"/>
                  <a:pathLst>
                    <a:path w="40" h="23">
                      <a:moveTo>
                        <a:pt x="40" y="0"/>
                      </a:moveTo>
                      <a:lnTo>
                        <a:pt x="30" y="12"/>
                      </a:lnTo>
                      <a:lnTo>
                        <a:pt x="20" y="23"/>
                      </a:lnTo>
                      <a:lnTo>
                        <a:pt x="10" y="23"/>
                      </a:lnTo>
                      <a:lnTo>
                        <a:pt x="0" y="23"/>
                      </a:lnTo>
                      <a:lnTo>
                        <a:pt x="10" y="12"/>
                      </a:lnTo>
                      <a:lnTo>
                        <a:pt x="30" y="0"/>
                      </a:lnTo>
                      <a:lnTo>
                        <a:pt x="4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3005280" y="1378080"/>
                  <a:ext cx="239400" cy="54000"/>
                </a:xfrm>
                <a:custGeom>
                  <a:avLst/>
                  <a:gdLst/>
                  <a:ahLst/>
                  <a:rect l="l" t="t" r="r" b="b"/>
                  <a:pathLst>
                    <a:path w="151" h="34">
                      <a:moveTo>
                        <a:pt x="50" y="0"/>
                      </a:moveTo>
                      <a:lnTo>
                        <a:pt x="60" y="12"/>
                      </a:lnTo>
                      <a:lnTo>
                        <a:pt x="70" y="12"/>
                      </a:lnTo>
                      <a:lnTo>
                        <a:pt x="100" y="23"/>
                      </a:lnTo>
                      <a:lnTo>
                        <a:pt x="120" y="23"/>
                      </a:lnTo>
                      <a:lnTo>
                        <a:pt x="151" y="34"/>
                      </a:lnTo>
                      <a:lnTo>
                        <a:pt x="141" y="34"/>
                      </a:lnTo>
                      <a:lnTo>
                        <a:pt x="131" y="34"/>
                      </a:lnTo>
                      <a:lnTo>
                        <a:pt x="120" y="34"/>
                      </a:lnTo>
                      <a:lnTo>
                        <a:pt x="90" y="23"/>
                      </a:lnTo>
                      <a:lnTo>
                        <a:pt x="60" y="23"/>
                      </a:lnTo>
                      <a:lnTo>
                        <a:pt x="30" y="12"/>
                      </a:lnTo>
                      <a:lnTo>
                        <a:pt x="0" y="0"/>
                      </a:lnTo>
                      <a:lnTo>
                        <a:pt x="10" y="0"/>
                      </a:lnTo>
                      <a:lnTo>
                        <a:pt x="20" y="0"/>
                      </a:lnTo>
                      <a:lnTo>
                        <a:pt x="30" y="0"/>
                      </a:lnTo>
                      <a:lnTo>
                        <a:pt x="40" y="0"/>
                      </a:lnTo>
                      <a:lnTo>
                        <a:pt x="50" y="0"/>
                      </a:lnTo>
                      <a:lnTo>
                        <a:pt x="5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 name=""/>
                <p:cNvSpPr/>
                <p:nvPr/>
              </p:nvSpPr>
              <p:spPr>
                <a:xfrm>
                  <a:off x="3005280" y="1378080"/>
                  <a:ext cx="239400" cy="54000"/>
                </a:xfrm>
                <a:custGeom>
                  <a:avLst/>
                  <a:gdLst/>
                  <a:ahLst/>
                  <a:rect l="l" t="t" r="r" b="b"/>
                  <a:pathLst>
                    <a:path w="151" h="34">
                      <a:moveTo>
                        <a:pt x="50" y="0"/>
                      </a:moveTo>
                      <a:lnTo>
                        <a:pt x="60" y="12"/>
                      </a:lnTo>
                      <a:lnTo>
                        <a:pt x="70" y="12"/>
                      </a:lnTo>
                      <a:lnTo>
                        <a:pt x="100" y="23"/>
                      </a:lnTo>
                      <a:lnTo>
                        <a:pt x="120" y="23"/>
                      </a:lnTo>
                      <a:lnTo>
                        <a:pt x="151" y="34"/>
                      </a:lnTo>
                      <a:lnTo>
                        <a:pt x="141" y="34"/>
                      </a:lnTo>
                      <a:lnTo>
                        <a:pt x="131" y="34"/>
                      </a:lnTo>
                      <a:lnTo>
                        <a:pt x="120" y="34"/>
                      </a:lnTo>
                      <a:lnTo>
                        <a:pt x="90" y="23"/>
                      </a:lnTo>
                      <a:lnTo>
                        <a:pt x="60" y="23"/>
                      </a:lnTo>
                      <a:lnTo>
                        <a:pt x="30" y="12"/>
                      </a:lnTo>
                      <a:lnTo>
                        <a:pt x="0" y="0"/>
                      </a:lnTo>
                      <a:lnTo>
                        <a:pt x="10" y="0"/>
                      </a:lnTo>
                      <a:lnTo>
                        <a:pt x="20" y="0"/>
                      </a:lnTo>
                      <a:lnTo>
                        <a:pt x="30" y="0"/>
                      </a:lnTo>
                      <a:lnTo>
                        <a:pt x="40" y="0"/>
                      </a:lnTo>
                      <a:lnTo>
                        <a:pt x="5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4" name=""/>
                <p:cNvSpPr/>
                <p:nvPr/>
              </p:nvSpPr>
              <p:spPr>
                <a:xfrm>
                  <a:off x="2639880" y="1378080"/>
                  <a:ext cx="206640" cy="54000"/>
                </a:xfrm>
                <a:custGeom>
                  <a:avLst/>
                  <a:gdLst/>
                  <a:ahLst/>
                  <a:rect l="l" t="t" r="r" b="b"/>
                  <a:pathLst>
                    <a:path w="130" h="34">
                      <a:moveTo>
                        <a:pt x="70" y="12"/>
                      </a:moveTo>
                      <a:lnTo>
                        <a:pt x="90" y="0"/>
                      </a:lnTo>
                      <a:lnTo>
                        <a:pt x="100" y="0"/>
                      </a:lnTo>
                      <a:lnTo>
                        <a:pt x="120" y="0"/>
                      </a:lnTo>
                      <a:lnTo>
                        <a:pt x="130" y="12"/>
                      </a:lnTo>
                      <a:lnTo>
                        <a:pt x="130" y="23"/>
                      </a:lnTo>
                      <a:lnTo>
                        <a:pt x="120" y="23"/>
                      </a:lnTo>
                      <a:lnTo>
                        <a:pt x="110" y="23"/>
                      </a:lnTo>
                      <a:lnTo>
                        <a:pt x="100" y="23"/>
                      </a:lnTo>
                      <a:lnTo>
                        <a:pt x="90" y="23"/>
                      </a:lnTo>
                      <a:lnTo>
                        <a:pt x="80" y="23"/>
                      </a:lnTo>
                      <a:lnTo>
                        <a:pt x="70" y="23"/>
                      </a:lnTo>
                      <a:lnTo>
                        <a:pt x="60" y="23"/>
                      </a:lnTo>
                      <a:lnTo>
                        <a:pt x="50" y="23"/>
                      </a:lnTo>
                      <a:lnTo>
                        <a:pt x="40" y="23"/>
                      </a:lnTo>
                      <a:lnTo>
                        <a:pt x="20" y="23"/>
                      </a:lnTo>
                      <a:lnTo>
                        <a:pt x="10" y="34"/>
                      </a:lnTo>
                      <a:lnTo>
                        <a:pt x="0" y="23"/>
                      </a:lnTo>
                      <a:lnTo>
                        <a:pt x="0" y="12"/>
                      </a:lnTo>
                      <a:lnTo>
                        <a:pt x="20" y="12"/>
                      </a:lnTo>
                      <a:lnTo>
                        <a:pt x="30" y="12"/>
                      </a:lnTo>
                      <a:lnTo>
                        <a:pt x="50" y="12"/>
                      </a:lnTo>
                      <a:lnTo>
                        <a:pt x="60" y="12"/>
                      </a:lnTo>
                      <a:lnTo>
                        <a:pt x="70" y="12"/>
                      </a:lnTo>
                      <a:lnTo>
                        <a:pt x="70" y="12"/>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 name=""/>
                <p:cNvSpPr/>
                <p:nvPr/>
              </p:nvSpPr>
              <p:spPr>
                <a:xfrm>
                  <a:off x="2639880" y="1378080"/>
                  <a:ext cx="206640" cy="54000"/>
                </a:xfrm>
                <a:custGeom>
                  <a:avLst/>
                  <a:gdLst/>
                  <a:ahLst/>
                  <a:rect l="l" t="t" r="r" b="b"/>
                  <a:pathLst>
                    <a:path w="130" h="34">
                      <a:moveTo>
                        <a:pt x="70" y="12"/>
                      </a:moveTo>
                      <a:lnTo>
                        <a:pt x="90" y="0"/>
                      </a:lnTo>
                      <a:lnTo>
                        <a:pt x="100" y="0"/>
                      </a:lnTo>
                      <a:lnTo>
                        <a:pt x="120" y="0"/>
                      </a:lnTo>
                      <a:lnTo>
                        <a:pt x="130" y="12"/>
                      </a:lnTo>
                      <a:lnTo>
                        <a:pt x="130" y="23"/>
                      </a:lnTo>
                      <a:lnTo>
                        <a:pt x="120" y="23"/>
                      </a:lnTo>
                      <a:lnTo>
                        <a:pt x="110" y="23"/>
                      </a:lnTo>
                      <a:lnTo>
                        <a:pt x="100" y="23"/>
                      </a:lnTo>
                      <a:lnTo>
                        <a:pt x="90" y="23"/>
                      </a:lnTo>
                      <a:lnTo>
                        <a:pt x="80" y="23"/>
                      </a:lnTo>
                      <a:lnTo>
                        <a:pt x="70" y="23"/>
                      </a:lnTo>
                      <a:lnTo>
                        <a:pt x="60" y="23"/>
                      </a:lnTo>
                      <a:lnTo>
                        <a:pt x="50" y="23"/>
                      </a:lnTo>
                      <a:lnTo>
                        <a:pt x="40" y="23"/>
                      </a:lnTo>
                      <a:lnTo>
                        <a:pt x="20" y="23"/>
                      </a:lnTo>
                      <a:lnTo>
                        <a:pt x="10" y="34"/>
                      </a:lnTo>
                      <a:lnTo>
                        <a:pt x="0" y="23"/>
                      </a:lnTo>
                      <a:lnTo>
                        <a:pt x="0" y="12"/>
                      </a:lnTo>
                      <a:lnTo>
                        <a:pt x="20" y="12"/>
                      </a:lnTo>
                      <a:lnTo>
                        <a:pt x="30" y="12"/>
                      </a:lnTo>
                      <a:lnTo>
                        <a:pt x="50" y="12"/>
                      </a:lnTo>
                      <a:lnTo>
                        <a:pt x="60" y="12"/>
                      </a:lnTo>
                      <a:lnTo>
                        <a:pt x="70" y="1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6" name=""/>
                <p:cNvSpPr/>
                <p:nvPr/>
              </p:nvSpPr>
              <p:spPr>
                <a:xfrm>
                  <a:off x="6805440" y="1397160"/>
                  <a:ext cx="128880" cy="34920"/>
                </a:xfrm>
                <a:custGeom>
                  <a:avLst/>
                  <a:gdLst/>
                  <a:ahLst/>
                  <a:rect l="l" t="t" r="r" b="b"/>
                  <a:pathLst>
                    <a:path w="81" h="22">
                      <a:moveTo>
                        <a:pt x="41" y="22"/>
                      </a:moveTo>
                      <a:lnTo>
                        <a:pt x="30" y="11"/>
                      </a:lnTo>
                      <a:lnTo>
                        <a:pt x="20" y="11"/>
                      </a:lnTo>
                      <a:lnTo>
                        <a:pt x="0" y="11"/>
                      </a:lnTo>
                      <a:lnTo>
                        <a:pt x="0" y="0"/>
                      </a:lnTo>
                      <a:lnTo>
                        <a:pt x="30" y="0"/>
                      </a:lnTo>
                      <a:lnTo>
                        <a:pt x="51" y="11"/>
                      </a:lnTo>
                      <a:lnTo>
                        <a:pt x="81" y="11"/>
                      </a:lnTo>
                      <a:lnTo>
                        <a:pt x="81" y="22"/>
                      </a:lnTo>
                      <a:lnTo>
                        <a:pt x="61" y="22"/>
                      </a:lnTo>
                      <a:lnTo>
                        <a:pt x="41" y="22"/>
                      </a:lnTo>
                      <a:lnTo>
                        <a:pt x="41" y="22"/>
                      </a:lnTo>
                      <a:close/>
                    </a:path>
                  </a:pathLst>
                </a:custGeom>
                <a:solidFill>
                  <a:srgbClr val="0093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7" name=""/>
                <p:cNvSpPr/>
                <p:nvPr/>
              </p:nvSpPr>
              <p:spPr>
                <a:xfrm>
                  <a:off x="6805440" y="1397160"/>
                  <a:ext cx="128880" cy="34920"/>
                </a:xfrm>
                <a:custGeom>
                  <a:avLst/>
                  <a:gdLst/>
                  <a:ahLst/>
                  <a:rect l="l" t="t" r="r" b="b"/>
                  <a:pathLst>
                    <a:path w="81" h="22">
                      <a:moveTo>
                        <a:pt x="41" y="22"/>
                      </a:moveTo>
                      <a:lnTo>
                        <a:pt x="30" y="11"/>
                      </a:lnTo>
                      <a:lnTo>
                        <a:pt x="20" y="11"/>
                      </a:lnTo>
                      <a:lnTo>
                        <a:pt x="0" y="11"/>
                      </a:lnTo>
                      <a:lnTo>
                        <a:pt x="0" y="0"/>
                      </a:lnTo>
                      <a:lnTo>
                        <a:pt x="30" y="0"/>
                      </a:lnTo>
                      <a:lnTo>
                        <a:pt x="51" y="11"/>
                      </a:lnTo>
                      <a:lnTo>
                        <a:pt x="81" y="11"/>
                      </a:lnTo>
                      <a:lnTo>
                        <a:pt x="81" y="22"/>
                      </a:lnTo>
                      <a:lnTo>
                        <a:pt x="61" y="22"/>
                      </a:lnTo>
                      <a:lnTo>
                        <a:pt x="4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6950160" y="1414440"/>
                  <a:ext cx="95040" cy="17640"/>
                </a:xfrm>
                <a:custGeom>
                  <a:avLst/>
                  <a:gdLst/>
                  <a:ahLst/>
                  <a:rect l="l" t="t" r="r" b="b"/>
                  <a:pathLst>
                    <a:path w="60" h="11">
                      <a:moveTo>
                        <a:pt x="0" y="0"/>
                      </a:moveTo>
                      <a:lnTo>
                        <a:pt x="20" y="0"/>
                      </a:lnTo>
                      <a:lnTo>
                        <a:pt x="40" y="0"/>
                      </a:lnTo>
                      <a:lnTo>
                        <a:pt x="60" y="0"/>
                      </a:lnTo>
                      <a:lnTo>
                        <a:pt x="60" y="11"/>
                      </a:lnTo>
                      <a:lnTo>
                        <a:pt x="50" y="11"/>
                      </a:lnTo>
                      <a:lnTo>
                        <a:pt x="40" y="11"/>
                      </a:lnTo>
                      <a:lnTo>
                        <a:pt x="30" y="0"/>
                      </a:lnTo>
                      <a:lnTo>
                        <a:pt x="10" y="0"/>
                      </a:lnTo>
                      <a:lnTo>
                        <a:pt x="0" y="0"/>
                      </a:lnTo>
                      <a:lnTo>
                        <a:pt x="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9" name=""/>
                <p:cNvSpPr/>
                <p:nvPr/>
              </p:nvSpPr>
              <p:spPr>
                <a:xfrm>
                  <a:off x="6950160" y="1414440"/>
                  <a:ext cx="95040" cy="17640"/>
                </a:xfrm>
                <a:custGeom>
                  <a:avLst/>
                  <a:gdLst/>
                  <a:ahLst/>
                  <a:rect l="l" t="t" r="r" b="b"/>
                  <a:pathLst>
                    <a:path w="60" h="11">
                      <a:moveTo>
                        <a:pt x="0" y="0"/>
                      </a:moveTo>
                      <a:lnTo>
                        <a:pt x="20" y="0"/>
                      </a:lnTo>
                      <a:lnTo>
                        <a:pt x="40" y="0"/>
                      </a:lnTo>
                      <a:lnTo>
                        <a:pt x="60" y="0"/>
                      </a:lnTo>
                      <a:lnTo>
                        <a:pt x="60" y="11"/>
                      </a:lnTo>
                      <a:lnTo>
                        <a:pt x="50" y="11"/>
                      </a:lnTo>
                      <a:lnTo>
                        <a:pt x="40" y="11"/>
                      </a:lnTo>
                      <a:lnTo>
                        <a:pt x="30" y="0"/>
                      </a:lnTo>
                      <a:lnTo>
                        <a:pt x="10" y="0"/>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0" name=""/>
                <p:cNvSpPr/>
                <p:nvPr/>
              </p:nvSpPr>
              <p:spPr>
                <a:xfrm>
                  <a:off x="5486400" y="1360440"/>
                  <a:ext cx="190440" cy="108000"/>
                </a:xfrm>
                <a:custGeom>
                  <a:avLst/>
                  <a:gdLst/>
                  <a:ahLst/>
                  <a:rect l="l" t="t" r="r" b="b"/>
                  <a:pathLst>
                    <a:path w="120" h="68">
                      <a:moveTo>
                        <a:pt x="20" y="45"/>
                      </a:moveTo>
                      <a:lnTo>
                        <a:pt x="20" y="34"/>
                      </a:lnTo>
                      <a:lnTo>
                        <a:pt x="20" y="23"/>
                      </a:lnTo>
                      <a:lnTo>
                        <a:pt x="40" y="23"/>
                      </a:lnTo>
                      <a:lnTo>
                        <a:pt x="70" y="11"/>
                      </a:lnTo>
                      <a:lnTo>
                        <a:pt x="90" y="0"/>
                      </a:lnTo>
                      <a:lnTo>
                        <a:pt x="110" y="0"/>
                      </a:lnTo>
                      <a:lnTo>
                        <a:pt x="120" y="23"/>
                      </a:lnTo>
                      <a:lnTo>
                        <a:pt x="110" y="23"/>
                      </a:lnTo>
                      <a:lnTo>
                        <a:pt x="90" y="23"/>
                      </a:lnTo>
                      <a:lnTo>
                        <a:pt x="70" y="34"/>
                      </a:lnTo>
                      <a:lnTo>
                        <a:pt x="50" y="34"/>
                      </a:lnTo>
                      <a:lnTo>
                        <a:pt x="30" y="45"/>
                      </a:lnTo>
                      <a:lnTo>
                        <a:pt x="10" y="57"/>
                      </a:lnTo>
                      <a:lnTo>
                        <a:pt x="0" y="68"/>
                      </a:lnTo>
                      <a:lnTo>
                        <a:pt x="0" y="57"/>
                      </a:lnTo>
                      <a:lnTo>
                        <a:pt x="10" y="45"/>
                      </a:lnTo>
                      <a:lnTo>
                        <a:pt x="20" y="45"/>
                      </a:lnTo>
                      <a:lnTo>
                        <a:pt x="20" y="45"/>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86400" y="1360440"/>
                  <a:ext cx="190440" cy="108000"/>
                </a:xfrm>
                <a:custGeom>
                  <a:avLst/>
                  <a:gdLst/>
                  <a:ahLst/>
                  <a:rect l="l" t="t" r="r" b="b"/>
                  <a:pathLst>
                    <a:path w="120" h="68">
                      <a:moveTo>
                        <a:pt x="20" y="45"/>
                      </a:moveTo>
                      <a:lnTo>
                        <a:pt x="20" y="34"/>
                      </a:lnTo>
                      <a:lnTo>
                        <a:pt x="20" y="23"/>
                      </a:lnTo>
                      <a:lnTo>
                        <a:pt x="40" y="23"/>
                      </a:lnTo>
                      <a:lnTo>
                        <a:pt x="70" y="11"/>
                      </a:lnTo>
                      <a:lnTo>
                        <a:pt x="90" y="0"/>
                      </a:lnTo>
                      <a:lnTo>
                        <a:pt x="110" y="0"/>
                      </a:lnTo>
                      <a:lnTo>
                        <a:pt x="120" y="23"/>
                      </a:lnTo>
                      <a:lnTo>
                        <a:pt x="110" y="23"/>
                      </a:lnTo>
                      <a:lnTo>
                        <a:pt x="90" y="23"/>
                      </a:lnTo>
                      <a:lnTo>
                        <a:pt x="70" y="34"/>
                      </a:lnTo>
                      <a:lnTo>
                        <a:pt x="50" y="34"/>
                      </a:lnTo>
                      <a:lnTo>
                        <a:pt x="30" y="45"/>
                      </a:lnTo>
                      <a:lnTo>
                        <a:pt x="10" y="57"/>
                      </a:lnTo>
                      <a:lnTo>
                        <a:pt x="0" y="68"/>
                      </a:lnTo>
                      <a:lnTo>
                        <a:pt x="0" y="57"/>
                      </a:lnTo>
                      <a:lnTo>
                        <a:pt x="10" y="45"/>
                      </a:lnTo>
                      <a:lnTo>
                        <a:pt x="20"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57400" y="1451160"/>
                  <a:ext cx="47880" cy="53640"/>
                </a:xfrm>
                <a:custGeom>
                  <a:avLst/>
                  <a:gdLst/>
                  <a:ahLst/>
                  <a:rect l="l" t="t" r="r" b="b"/>
                  <a:pathLst>
                    <a:path w="30" h="34">
                      <a:moveTo>
                        <a:pt x="10" y="0"/>
                      </a:moveTo>
                      <a:lnTo>
                        <a:pt x="20" y="0"/>
                      </a:lnTo>
                      <a:lnTo>
                        <a:pt x="30" y="11"/>
                      </a:lnTo>
                      <a:lnTo>
                        <a:pt x="20" y="23"/>
                      </a:lnTo>
                      <a:lnTo>
                        <a:pt x="10" y="34"/>
                      </a:lnTo>
                      <a:lnTo>
                        <a:pt x="0" y="23"/>
                      </a:lnTo>
                      <a:lnTo>
                        <a:pt x="0" y="11"/>
                      </a:lnTo>
                      <a:lnTo>
                        <a:pt x="10" y="0"/>
                      </a:lnTo>
                      <a:lnTo>
                        <a:pt x="10" y="0"/>
                      </a:lnTo>
                      <a:close/>
                    </a:path>
                  </a:pathLst>
                </a:custGeom>
                <a:solidFill>
                  <a:srgbClr val="00937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3" name=""/>
                <p:cNvSpPr/>
                <p:nvPr/>
              </p:nvSpPr>
              <p:spPr>
                <a:xfrm>
                  <a:off x="2957400" y="1451160"/>
                  <a:ext cx="47880" cy="53640"/>
                </a:xfrm>
                <a:custGeom>
                  <a:avLst/>
                  <a:gdLst/>
                  <a:ahLst/>
                  <a:rect l="l" t="t" r="r" b="b"/>
                  <a:pathLst>
                    <a:path w="30" h="34">
                      <a:moveTo>
                        <a:pt x="10" y="0"/>
                      </a:moveTo>
                      <a:lnTo>
                        <a:pt x="20" y="0"/>
                      </a:lnTo>
                      <a:lnTo>
                        <a:pt x="30" y="11"/>
                      </a:lnTo>
                      <a:lnTo>
                        <a:pt x="20" y="23"/>
                      </a:lnTo>
                      <a:lnTo>
                        <a:pt x="10" y="34"/>
                      </a:lnTo>
                      <a:lnTo>
                        <a:pt x="0" y="23"/>
                      </a:lnTo>
                      <a:lnTo>
                        <a:pt x="0" y="11"/>
                      </a:lnTo>
                      <a:lnTo>
                        <a:pt x="10"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4" name=""/>
                <p:cNvSpPr/>
                <p:nvPr/>
              </p:nvSpPr>
              <p:spPr>
                <a:xfrm>
                  <a:off x="6630840" y="1468440"/>
                  <a:ext cx="95400" cy="19080"/>
                </a:xfrm>
                <a:custGeom>
                  <a:avLst/>
                  <a:gdLst/>
                  <a:ahLst/>
                  <a:rect l="l" t="t" r="r" b="b"/>
                  <a:pathLst>
                    <a:path w="60" h="12">
                      <a:moveTo>
                        <a:pt x="0" y="0"/>
                      </a:moveTo>
                      <a:lnTo>
                        <a:pt x="20" y="0"/>
                      </a:lnTo>
                      <a:lnTo>
                        <a:pt x="30" y="0"/>
                      </a:lnTo>
                      <a:lnTo>
                        <a:pt x="40" y="0"/>
                      </a:lnTo>
                      <a:lnTo>
                        <a:pt x="50" y="0"/>
                      </a:lnTo>
                      <a:lnTo>
                        <a:pt x="60" y="12"/>
                      </a:lnTo>
                      <a:lnTo>
                        <a:pt x="40" y="12"/>
                      </a:lnTo>
                      <a:lnTo>
                        <a:pt x="20" y="12"/>
                      </a:lnTo>
                      <a:lnTo>
                        <a:pt x="0" y="0"/>
                      </a:lnTo>
                      <a:lnTo>
                        <a:pt x="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6630840" y="1468440"/>
                  <a:ext cx="95400" cy="19080"/>
                </a:xfrm>
                <a:custGeom>
                  <a:avLst/>
                  <a:gdLst/>
                  <a:ahLst/>
                  <a:rect l="l" t="t" r="r" b="b"/>
                  <a:pathLst>
                    <a:path w="60" h="12">
                      <a:moveTo>
                        <a:pt x="0" y="0"/>
                      </a:moveTo>
                      <a:lnTo>
                        <a:pt x="20" y="0"/>
                      </a:lnTo>
                      <a:lnTo>
                        <a:pt x="30" y="0"/>
                      </a:lnTo>
                      <a:lnTo>
                        <a:pt x="40" y="0"/>
                      </a:lnTo>
                      <a:lnTo>
                        <a:pt x="50" y="0"/>
                      </a:lnTo>
                      <a:lnTo>
                        <a:pt x="60" y="12"/>
                      </a:lnTo>
                      <a:lnTo>
                        <a:pt x="40" y="12"/>
                      </a:lnTo>
                      <a:lnTo>
                        <a:pt x="20" y="12"/>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2433600" y="1432080"/>
                  <a:ext cx="190440" cy="90360"/>
                </a:xfrm>
                <a:custGeom>
                  <a:avLst/>
                  <a:gdLst/>
                  <a:ahLst/>
                  <a:rect l="l" t="t" r="r" b="b"/>
                  <a:pathLst>
                    <a:path w="120" h="57">
                      <a:moveTo>
                        <a:pt x="90" y="12"/>
                      </a:moveTo>
                      <a:lnTo>
                        <a:pt x="100" y="12"/>
                      </a:lnTo>
                      <a:lnTo>
                        <a:pt x="110" y="12"/>
                      </a:lnTo>
                      <a:lnTo>
                        <a:pt x="120" y="23"/>
                      </a:lnTo>
                      <a:lnTo>
                        <a:pt x="90" y="35"/>
                      </a:lnTo>
                      <a:lnTo>
                        <a:pt x="60" y="46"/>
                      </a:lnTo>
                      <a:lnTo>
                        <a:pt x="40" y="46"/>
                      </a:lnTo>
                      <a:lnTo>
                        <a:pt x="20" y="57"/>
                      </a:lnTo>
                      <a:lnTo>
                        <a:pt x="10" y="57"/>
                      </a:lnTo>
                      <a:lnTo>
                        <a:pt x="0" y="57"/>
                      </a:lnTo>
                      <a:lnTo>
                        <a:pt x="0" y="46"/>
                      </a:lnTo>
                      <a:lnTo>
                        <a:pt x="0" y="35"/>
                      </a:lnTo>
                      <a:lnTo>
                        <a:pt x="10" y="35"/>
                      </a:lnTo>
                      <a:lnTo>
                        <a:pt x="20" y="23"/>
                      </a:lnTo>
                      <a:lnTo>
                        <a:pt x="30" y="23"/>
                      </a:lnTo>
                      <a:lnTo>
                        <a:pt x="40" y="12"/>
                      </a:lnTo>
                      <a:lnTo>
                        <a:pt x="40" y="0"/>
                      </a:lnTo>
                      <a:lnTo>
                        <a:pt x="60" y="0"/>
                      </a:lnTo>
                      <a:lnTo>
                        <a:pt x="70" y="0"/>
                      </a:lnTo>
                      <a:lnTo>
                        <a:pt x="90" y="12"/>
                      </a:lnTo>
                      <a:lnTo>
                        <a:pt x="90" y="12"/>
                      </a:lnTo>
                      <a:close/>
                    </a:path>
                  </a:pathLst>
                </a:custGeom>
                <a:solidFill>
                  <a:srgbClr val="00937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 name=""/>
                <p:cNvSpPr/>
                <p:nvPr/>
              </p:nvSpPr>
              <p:spPr>
                <a:xfrm>
                  <a:off x="2433600" y="1432080"/>
                  <a:ext cx="190440" cy="90360"/>
                </a:xfrm>
                <a:custGeom>
                  <a:avLst/>
                  <a:gdLst/>
                  <a:ahLst/>
                  <a:rect l="l" t="t" r="r" b="b"/>
                  <a:pathLst>
                    <a:path w="120" h="57">
                      <a:moveTo>
                        <a:pt x="90" y="12"/>
                      </a:moveTo>
                      <a:lnTo>
                        <a:pt x="100" y="12"/>
                      </a:lnTo>
                      <a:lnTo>
                        <a:pt x="110" y="12"/>
                      </a:lnTo>
                      <a:lnTo>
                        <a:pt x="120" y="23"/>
                      </a:lnTo>
                      <a:lnTo>
                        <a:pt x="90" y="35"/>
                      </a:lnTo>
                      <a:lnTo>
                        <a:pt x="60" y="46"/>
                      </a:lnTo>
                      <a:lnTo>
                        <a:pt x="40" y="46"/>
                      </a:lnTo>
                      <a:lnTo>
                        <a:pt x="20" y="57"/>
                      </a:lnTo>
                      <a:lnTo>
                        <a:pt x="10" y="57"/>
                      </a:lnTo>
                      <a:lnTo>
                        <a:pt x="0" y="57"/>
                      </a:lnTo>
                      <a:lnTo>
                        <a:pt x="0" y="46"/>
                      </a:lnTo>
                      <a:lnTo>
                        <a:pt x="0" y="35"/>
                      </a:lnTo>
                      <a:lnTo>
                        <a:pt x="10" y="35"/>
                      </a:lnTo>
                      <a:lnTo>
                        <a:pt x="20" y="23"/>
                      </a:lnTo>
                      <a:lnTo>
                        <a:pt x="30" y="23"/>
                      </a:lnTo>
                      <a:lnTo>
                        <a:pt x="40" y="12"/>
                      </a:lnTo>
                      <a:lnTo>
                        <a:pt x="40" y="0"/>
                      </a:lnTo>
                      <a:lnTo>
                        <a:pt x="60" y="0"/>
                      </a:lnTo>
                      <a:lnTo>
                        <a:pt x="70" y="0"/>
                      </a:lnTo>
                      <a:lnTo>
                        <a:pt x="90" y="1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 name=""/>
                <p:cNvSpPr/>
                <p:nvPr/>
              </p:nvSpPr>
              <p:spPr>
                <a:xfrm>
                  <a:off x="2830680" y="1451160"/>
                  <a:ext cx="79200" cy="53640"/>
                </a:xfrm>
                <a:custGeom>
                  <a:avLst/>
                  <a:gdLst/>
                  <a:ahLst/>
                  <a:rect l="l" t="t" r="r" b="b"/>
                  <a:pathLst>
                    <a:path w="50" h="34">
                      <a:moveTo>
                        <a:pt x="40" y="0"/>
                      </a:moveTo>
                      <a:lnTo>
                        <a:pt x="40" y="11"/>
                      </a:lnTo>
                      <a:lnTo>
                        <a:pt x="50" y="23"/>
                      </a:lnTo>
                      <a:lnTo>
                        <a:pt x="50" y="34"/>
                      </a:lnTo>
                      <a:lnTo>
                        <a:pt x="40" y="34"/>
                      </a:lnTo>
                      <a:lnTo>
                        <a:pt x="20" y="34"/>
                      </a:lnTo>
                      <a:lnTo>
                        <a:pt x="10" y="23"/>
                      </a:lnTo>
                      <a:lnTo>
                        <a:pt x="0" y="11"/>
                      </a:lnTo>
                      <a:lnTo>
                        <a:pt x="10" y="11"/>
                      </a:lnTo>
                      <a:lnTo>
                        <a:pt x="20" y="0"/>
                      </a:lnTo>
                      <a:lnTo>
                        <a:pt x="30" y="0"/>
                      </a:lnTo>
                      <a:lnTo>
                        <a:pt x="40" y="0"/>
                      </a:lnTo>
                      <a:lnTo>
                        <a:pt x="40" y="0"/>
                      </a:lnTo>
                      <a:close/>
                    </a:path>
                  </a:pathLst>
                </a:custGeom>
                <a:solidFill>
                  <a:srgbClr val="00937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9" name=""/>
                <p:cNvSpPr/>
                <p:nvPr/>
              </p:nvSpPr>
              <p:spPr>
                <a:xfrm>
                  <a:off x="2830680" y="1451160"/>
                  <a:ext cx="79200" cy="53640"/>
                </a:xfrm>
                <a:custGeom>
                  <a:avLst/>
                  <a:gdLst/>
                  <a:ahLst/>
                  <a:rect l="l" t="t" r="r" b="b"/>
                  <a:pathLst>
                    <a:path w="50" h="34">
                      <a:moveTo>
                        <a:pt x="40" y="0"/>
                      </a:moveTo>
                      <a:lnTo>
                        <a:pt x="40" y="11"/>
                      </a:lnTo>
                      <a:lnTo>
                        <a:pt x="50" y="23"/>
                      </a:lnTo>
                      <a:lnTo>
                        <a:pt x="50" y="34"/>
                      </a:lnTo>
                      <a:lnTo>
                        <a:pt x="40" y="34"/>
                      </a:lnTo>
                      <a:lnTo>
                        <a:pt x="20" y="34"/>
                      </a:lnTo>
                      <a:lnTo>
                        <a:pt x="10" y="23"/>
                      </a:lnTo>
                      <a:lnTo>
                        <a:pt x="0" y="11"/>
                      </a:lnTo>
                      <a:lnTo>
                        <a:pt x="10" y="11"/>
                      </a:lnTo>
                      <a:lnTo>
                        <a:pt x="20" y="0"/>
                      </a:lnTo>
                      <a:lnTo>
                        <a:pt x="30" y="0"/>
                      </a:lnTo>
                      <a:lnTo>
                        <a:pt x="40"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0" name=""/>
                <p:cNvSpPr/>
                <p:nvPr/>
              </p:nvSpPr>
              <p:spPr>
                <a:xfrm>
                  <a:off x="5454720" y="1468440"/>
                  <a:ext cx="127080" cy="54000"/>
                </a:xfrm>
                <a:custGeom>
                  <a:avLst/>
                  <a:gdLst/>
                  <a:ahLst/>
                  <a:rect l="l" t="t" r="r" b="b"/>
                  <a:pathLst>
                    <a:path w="80" h="34">
                      <a:moveTo>
                        <a:pt x="0" y="23"/>
                      </a:moveTo>
                      <a:lnTo>
                        <a:pt x="20" y="12"/>
                      </a:lnTo>
                      <a:lnTo>
                        <a:pt x="30" y="0"/>
                      </a:lnTo>
                      <a:lnTo>
                        <a:pt x="50" y="0"/>
                      </a:lnTo>
                      <a:lnTo>
                        <a:pt x="40" y="12"/>
                      </a:lnTo>
                      <a:lnTo>
                        <a:pt x="40" y="23"/>
                      </a:lnTo>
                      <a:lnTo>
                        <a:pt x="50" y="23"/>
                      </a:lnTo>
                      <a:lnTo>
                        <a:pt x="60" y="34"/>
                      </a:lnTo>
                      <a:lnTo>
                        <a:pt x="80" y="34"/>
                      </a:lnTo>
                      <a:lnTo>
                        <a:pt x="70" y="34"/>
                      </a:lnTo>
                      <a:lnTo>
                        <a:pt x="50" y="34"/>
                      </a:lnTo>
                      <a:lnTo>
                        <a:pt x="40" y="34"/>
                      </a:lnTo>
                      <a:lnTo>
                        <a:pt x="30" y="34"/>
                      </a:lnTo>
                      <a:lnTo>
                        <a:pt x="20" y="34"/>
                      </a:lnTo>
                      <a:lnTo>
                        <a:pt x="10" y="23"/>
                      </a:lnTo>
                      <a:lnTo>
                        <a:pt x="0" y="23"/>
                      </a:lnTo>
                      <a:lnTo>
                        <a:pt x="0" y="23"/>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1" name=""/>
                <p:cNvSpPr/>
                <p:nvPr/>
              </p:nvSpPr>
              <p:spPr>
                <a:xfrm>
                  <a:off x="5454720" y="1468440"/>
                  <a:ext cx="127080" cy="54000"/>
                </a:xfrm>
                <a:custGeom>
                  <a:avLst/>
                  <a:gdLst/>
                  <a:ahLst/>
                  <a:rect l="l" t="t" r="r" b="b"/>
                  <a:pathLst>
                    <a:path w="80" h="34">
                      <a:moveTo>
                        <a:pt x="0" y="23"/>
                      </a:moveTo>
                      <a:lnTo>
                        <a:pt x="20" y="12"/>
                      </a:lnTo>
                      <a:lnTo>
                        <a:pt x="30" y="0"/>
                      </a:lnTo>
                      <a:lnTo>
                        <a:pt x="50" y="0"/>
                      </a:lnTo>
                      <a:lnTo>
                        <a:pt x="40" y="12"/>
                      </a:lnTo>
                      <a:lnTo>
                        <a:pt x="40" y="23"/>
                      </a:lnTo>
                      <a:lnTo>
                        <a:pt x="50" y="23"/>
                      </a:lnTo>
                      <a:lnTo>
                        <a:pt x="60" y="34"/>
                      </a:lnTo>
                      <a:lnTo>
                        <a:pt x="80" y="34"/>
                      </a:lnTo>
                      <a:lnTo>
                        <a:pt x="70" y="34"/>
                      </a:lnTo>
                      <a:lnTo>
                        <a:pt x="50" y="34"/>
                      </a:lnTo>
                      <a:lnTo>
                        <a:pt x="40" y="34"/>
                      </a:lnTo>
                      <a:lnTo>
                        <a:pt x="30" y="34"/>
                      </a:lnTo>
                      <a:lnTo>
                        <a:pt x="20" y="34"/>
                      </a:lnTo>
                      <a:lnTo>
                        <a:pt x="10" y="23"/>
                      </a:lnTo>
                      <a:lnTo>
                        <a:pt x="0" y="2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2" name=""/>
                <p:cNvSpPr/>
                <p:nvPr/>
              </p:nvSpPr>
              <p:spPr>
                <a:xfrm>
                  <a:off x="3419640" y="1233360"/>
                  <a:ext cx="922320" cy="579600"/>
                </a:xfrm>
                <a:custGeom>
                  <a:avLst/>
                  <a:gdLst/>
                  <a:ahLst/>
                  <a:rect l="l" t="t" r="r" b="b"/>
                  <a:pathLst>
                    <a:path w="581" h="365">
                      <a:moveTo>
                        <a:pt x="310" y="262"/>
                      </a:moveTo>
                      <a:lnTo>
                        <a:pt x="280" y="262"/>
                      </a:lnTo>
                      <a:lnTo>
                        <a:pt x="260" y="274"/>
                      </a:lnTo>
                      <a:lnTo>
                        <a:pt x="240" y="285"/>
                      </a:lnTo>
                      <a:lnTo>
                        <a:pt x="240" y="296"/>
                      </a:lnTo>
                      <a:lnTo>
                        <a:pt x="230" y="308"/>
                      </a:lnTo>
                      <a:lnTo>
                        <a:pt x="220" y="308"/>
                      </a:lnTo>
                      <a:lnTo>
                        <a:pt x="200" y="319"/>
                      </a:lnTo>
                      <a:lnTo>
                        <a:pt x="200" y="331"/>
                      </a:lnTo>
                      <a:lnTo>
                        <a:pt x="210" y="331"/>
                      </a:lnTo>
                      <a:lnTo>
                        <a:pt x="210" y="342"/>
                      </a:lnTo>
                      <a:lnTo>
                        <a:pt x="200" y="353"/>
                      </a:lnTo>
                      <a:lnTo>
                        <a:pt x="180" y="365"/>
                      </a:lnTo>
                      <a:lnTo>
                        <a:pt x="170" y="365"/>
                      </a:lnTo>
                      <a:lnTo>
                        <a:pt x="170" y="353"/>
                      </a:lnTo>
                      <a:lnTo>
                        <a:pt x="160" y="353"/>
                      </a:lnTo>
                      <a:lnTo>
                        <a:pt x="140" y="353"/>
                      </a:lnTo>
                      <a:lnTo>
                        <a:pt x="130" y="353"/>
                      </a:lnTo>
                      <a:lnTo>
                        <a:pt x="120" y="342"/>
                      </a:lnTo>
                      <a:lnTo>
                        <a:pt x="120" y="331"/>
                      </a:lnTo>
                      <a:lnTo>
                        <a:pt x="120" y="308"/>
                      </a:lnTo>
                      <a:lnTo>
                        <a:pt x="130" y="296"/>
                      </a:lnTo>
                      <a:lnTo>
                        <a:pt x="140" y="296"/>
                      </a:lnTo>
                      <a:lnTo>
                        <a:pt x="140" y="285"/>
                      </a:lnTo>
                      <a:lnTo>
                        <a:pt x="130" y="285"/>
                      </a:lnTo>
                      <a:lnTo>
                        <a:pt x="110" y="296"/>
                      </a:lnTo>
                      <a:lnTo>
                        <a:pt x="110" y="285"/>
                      </a:lnTo>
                      <a:lnTo>
                        <a:pt x="130" y="274"/>
                      </a:lnTo>
                      <a:lnTo>
                        <a:pt x="130" y="262"/>
                      </a:lnTo>
                      <a:lnTo>
                        <a:pt x="110" y="274"/>
                      </a:lnTo>
                      <a:lnTo>
                        <a:pt x="100" y="262"/>
                      </a:lnTo>
                      <a:lnTo>
                        <a:pt x="110" y="251"/>
                      </a:lnTo>
                      <a:lnTo>
                        <a:pt x="120" y="251"/>
                      </a:lnTo>
                      <a:lnTo>
                        <a:pt x="130" y="251"/>
                      </a:lnTo>
                      <a:lnTo>
                        <a:pt x="140" y="251"/>
                      </a:lnTo>
                      <a:lnTo>
                        <a:pt x="150" y="251"/>
                      </a:lnTo>
                      <a:lnTo>
                        <a:pt x="130" y="251"/>
                      </a:lnTo>
                      <a:lnTo>
                        <a:pt x="120" y="262"/>
                      </a:lnTo>
                      <a:lnTo>
                        <a:pt x="100" y="262"/>
                      </a:lnTo>
                      <a:lnTo>
                        <a:pt x="100" y="251"/>
                      </a:lnTo>
                      <a:lnTo>
                        <a:pt x="110" y="239"/>
                      </a:lnTo>
                      <a:lnTo>
                        <a:pt x="120" y="239"/>
                      </a:lnTo>
                      <a:lnTo>
                        <a:pt x="130" y="239"/>
                      </a:lnTo>
                      <a:lnTo>
                        <a:pt x="120" y="239"/>
                      </a:lnTo>
                      <a:lnTo>
                        <a:pt x="120" y="228"/>
                      </a:lnTo>
                      <a:lnTo>
                        <a:pt x="130" y="228"/>
                      </a:lnTo>
                      <a:lnTo>
                        <a:pt x="150" y="239"/>
                      </a:lnTo>
                      <a:lnTo>
                        <a:pt x="150" y="228"/>
                      </a:lnTo>
                      <a:lnTo>
                        <a:pt x="140" y="228"/>
                      </a:lnTo>
                      <a:lnTo>
                        <a:pt x="130" y="228"/>
                      </a:lnTo>
                      <a:lnTo>
                        <a:pt x="120" y="228"/>
                      </a:lnTo>
                      <a:lnTo>
                        <a:pt x="120" y="217"/>
                      </a:lnTo>
                      <a:lnTo>
                        <a:pt x="140" y="217"/>
                      </a:lnTo>
                      <a:lnTo>
                        <a:pt x="150" y="217"/>
                      </a:lnTo>
                      <a:lnTo>
                        <a:pt x="160" y="217"/>
                      </a:lnTo>
                      <a:lnTo>
                        <a:pt x="160" y="205"/>
                      </a:lnTo>
                      <a:lnTo>
                        <a:pt x="170" y="194"/>
                      </a:lnTo>
                      <a:lnTo>
                        <a:pt x="160" y="194"/>
                      </a:lnTo>
                      <a:lnTo>
                        <a:pt x="150" y="194"/>
                      </a:lnTo>
                      <a:lnTo>
                        <a:pt x="140" y="194"/>
                      </a:lnTo>
                      <a:lnTo>
                        <a:pt x="140" y="182"/>
                      </a:lnTo>
                      <a:lnTo>
                        <a:pt x="150" y="171"/>
                      </a:lnTo>
                      <a:lnTo>
                        <a:pt x="150" y="160"/>
                      </a:lnTo>
                      <a:lnTo>
                        <a:pt x="140" y="160"/>
                      </a:lnTo>
                      <a:lnTo>
                        <a:pt x="130" y="160"/>
                      </a:lnTo>
                      <a:lnTo>
                        <a:pt x="120" y="171"/>
                      </a:lnTo>
                      <a:lnTo>
                        <a:pt x="130" y="171"/>
                      </a:lnTo>
                      <a:lnTo>
                        <a:pt x="140" y="160"/>
                      </a:lnTo>
                      <a:lnTo>
                        <a:pt x="130" y="160"/>
                      </a:lnTo>
                      <a:lnTo>
                        <a:pt x="120" y="160"/>
                      </a:lnTo>
                      <a:lnTo>
                        <a:pt x="130" y="160"/>
                      </a:lnTo>
                      <a:lnTo>
                        <a:pt x="120" y="160"/>
                      </a:lnTo>
                      <a:lnTo>
                        <a:pt x="120" y="137"/>
                      </a:lnTo>
                      <a:lnTo>
                        <a:pt x="120" y="114"/>
                      </a:lnTo>
                      <a:lnTo>
                        <a:pt x="110" y="103"/>
                      </a:lnTo>
                      <a:lnTo>
                        <a:pt x="100" y="103"/>
                      </a:lnTo>
                      <a:lnTo>
                        <a:pt x="90" y="91"/>
                      </a:lnTo>
                      <a:lnTo>
                        <a:pt x="80" y="91"/>
                      </a:lnTo>
                      <a:lnTo>
                        <a:pt x="50" y="91"/>
                      </a:lnTo>
                      <a:lnTo>
                        <a:pt x="30" y="91"/>
                      </a:lnTo>
                      <a:lnTo>
                        <a:pt x="0" y="91"/>
                      </a:lnTo>
                      <a:lnTo>
                        <a:pt x="10" y="91"/>
                      </a:lnTo>
                      <a:lnTo>
                        <a:pt x="20" y="80"/>
                      </a:lnTo>
                      <a:lnTo>
                        <a:pt x="10" y="68"/>
                      </a:lnTo>
                      <a:lnTo>
                        <a:pt x="10" y="57"/>
                      </a:lnTo>
                      <a:lnTo>
                        <a:pt x="20" y="68"/>
                      </a:lnTo>
                      <a:lnTo>
                        <a:pt x="30" y="68"/>
                      </a:lnTo>
                      <a:lnTo>
                        <a:pt x="60" y="57"/>
                      </a:lnTo>
                      <a:lnTo>
                        <a:pt x="80" y="57"/>
                      </a:lnTo>
                      <a:lnTo>
                        <a:pt x="110" y="46"/>
                      </a:lnTo>
                      <a:lnTo>
                        <a:pt x="90" y="46"/>
                      </a:lnTo>
                      <a:lnTo>
                        <a:pt x="80" y="46"/>
                      </a:lnTo>
                      <a:lnTo>
                        <a:pt x="110" y="34"/>
                      </a:lnTo>
                      <a:lnTo>
                        <a:pt x="140" y="23"/>
                      </a:lnTo>
                      <a:lnTo>
                        <a:pt x="160" y="23"/>
                      </a:lnTo>
                      <a:lnTo>
                        <a:pt x="170" y="23"/>
                      </a:lnTo>
                      <a:lnTo>
                        <a:pt x="180" y="23"/>
                      </a:lnTo>
                      <a:lnTo>
                        <a:pt x="190" y="23"/>
                      </a:lnTo>
                      <a:lnTo>
                        <a:pt x="180" y="23"/>
                      </a:lnTo>
                      <a:lnTo>
                        <a:pt x="190" y="11"/>
                      </a:lnTo>
                      <a:lnTo>
                        <a:pt x="200" y="11"/>
                      </a:lnTo>
                      <a:lnTo>
                        <a:pt x="210" y="11"/>
                      </a:lnTo>
                      <a:lnTo>
                        <a:pt x="220" y="11"/>
                      </a:lnTo>
                      <a:lnTo>
                        <a:pt x="240" y="11"/>
                      </a:lnTo>
                      <a:lnTo>
                        <a:pt x="260" y="11"/>
                      </a:lnTo>
                      <a:lnTo>
                        <a:pt x="280" y="11"/>
                      </a:lnTo>
                      <a:lnTo>
                        <a:pt x="310" y="0"/>
                      </a:lnTo>
                      <a:lnTo>
                        <a:pt x="330" y="0"/>
                      </a:lnTo>
                      <a:lnTo>
                        <a:pt x="360" y="0"/>
                      </a:lnTo>
                      <a:lnTo>
                        <a:pt x="390" y="0"/>
                      </a:lnTo>
                      <a:lnTo>
                        <a:pt x="410" y="0"/>
                      </a:lnTo>
                      <a:lnTo>
                        <a:pt x="441" y="0"/>
                      </a:lnTo>
                      <a:lnTo>
                        <a:pt x="461" y="0"/>
                      </a:lnTo>
                      <a:lnTo>
                        <a:pt x="491" y="0"/>
                      </a:lnTo>
                      <a:lnTo>
                        <a:pt x="481" y="0"/>
                      </a:lnTo>
                      <a:lnTo>
                        <a:pt x="471" y="11"/>
                      </a:lnTo>
                      <a:lnTo>
                        <a:pt x="481" y="23"/>
                      </a:lnTo>
                      <a:lnTo>
                        <a:pt x="491" y="34"/>
                      </a:lnTo>
                      <a:lnTo>
                        <a:pt x="501" y="34"/>
                      </a:lnTo>
                      <a:lnTo>
                        <a:pt x="511" y="34"/>
                      </a:lnTo>
                      <a:lnTo>
                        <a:pt x="521" y="23"/>
                      </a:lnTo>
                      <a:lnTo>
                        <a:pt x="531" y="23"/>
                      </a:lnTo>
                      <a:lnTo>
                        <a:pt x="541" y="23"/>
                      </a:lnTo>
                      <a:lnTo>
                        <a:pt x="551" y="23"/>
                      </a:lnTo>
                      <a:lnTo>
                        <a:pt x="561" y="23"/>
                      </a:lnTo>
                      <a:lnTo>
                        <a:pt x="571" y="11"/>
                      </a:lnTo>
                      <a:lnTo>
                        <a:pt x="581" y="23"/>
                      </a:lnTo>
                      <a:lnTo>
                        <a:pt x="581" y="34"/>
                      </a:lnTo>
                      <a:lnTo>
                        <a:pt x="561" y="34"/>
                      </a:lnTo>
                      <a:lnTo>
                        <a:pt x="551" y="34"/>
                      </a:lnTo>
                      <a:lnTo>
                        <a:pt x="531" y="46"/>
                      </a:lnTo>
                      <a:lnTo>
                        <a:pt x="511" y="57"/>
                      </a:lnTo>
                      <a:lnTo>
                        <a:pt x="501" y="80"/>
                      </a:lnTo>
                      <a:lnTo>
                        <a:pt x="511" y="80"/>
                      </a:lnTo>
                      <a:lnTo>
                        <a:pt x="521" y="80"/>
                      </a:lnTo>
                      <a:lnTo>
                        <a:pt x="541" y="91"/>
                      </a:lnTo>
                      <a:lnTo>
                        <a:pt x="541" y="103"/>
                      </a:lnTo>
                      <a:lnTo>
                        <a:pt x="531" y="103"/>
                      </a:lnTo>
                      <a:lnTo>
                        <a:pt x="521" y="114"/>
                      </a:lnTo>
                      <a:lnTo>
                        <a:pt x="511" y="114"/>
                      </a:lnTo>
                      <a:lnTo>
                        <a:pt x="491" y="114"/>
                      </a:lnTo>
                      <a:lnTo>
                        <a:pt x="501" y="125"/>
                      </a:lnTo>
                      <a:lnTo>
                        <a:pt x="511" y="125"/>
                      </a:lnTo>
                      <a:lnTo>
                        <a:pt x="521" y="125"/>
                      </a:lnTo>
                      <a:lnTo>
                        <a:pt x="511" y="125"/>
                      </a:lnTo>
                      <a:lnTo>
                        <a:pt x="501" y="125"/>
                      </a:lnTo>
                      <a:lnTo>
                        <a:pt x="491" y="125"/>
                      </a:lnTo>
                      <a:lnTo>
                        <a:pt x="501" y="137"/>
                      </a:lnTo>
                      <a:lnTo>
                        <a:pt x="481" y="148"/>
                      </a:lnTo>
                      <a:lnTo>
                        <a:pt x="451" y="137"/>
                      </a:lnTo>
                      <a:lnTo>
                        <a:pt x="430" y="137"/>
                      </a:lnTo>
                      <a:lnTo>
                        <a:pt x="420" y="160"/>
                      </a:lnTo>
                      <a:lnTo>
                        <a:pt x="441" y="160"/>
                      </a:lnTo>
                      <a:lnTo>
                        <a:pt x="461" y="160"/>
                      </a:lnTo>
                      <a:lnTo>
                        <a:pt x="471" y="171"/>
                      </a:lnTo>
                      <a:lnTo>
                        <a:pt x="471" y="182"/>
                      </a:lnTo>
                      <a:lnTo>
                        <a:pt x="481" y="194"/>
                      </a:lnTo>
                      <a:lnTo>
                        <a:pt x="471" y="194"/>
                      </a:lnTo>
                      <a:lnTo>
                        <a:pt x="471" y="182"/>
                      </a:lnTo>
                      <a:lnTo>
                        <a:pt x="461" y="182"/>
                      </a:lnTo>
                      <a:lnTo>
                        <a:pt x="451" y="171"/>
                      </a:lnTo>
                      <a:lnTo>
                        <a:pt x="430" y="171"/>
                      </a:lnTo>
                      <a:lnTo>
                        <a:pt x="410" y="171"/>
                      </a:lnTo>
                      <a:lnTo>
                        <a:pt x="400" y="194"/>
                      </a:lnTo>
                      <a:lnTo>
                        <a:pt x="420" y="182"/>
                      </a:lnTo>
                      <a:lnTo>
                        <a:pt x="430" y="194"/>
                      </a:lnTo>
                      <a:lnTo>
                        <a:pt x="430" y="205"/>
                      </a:lnTo>
                      <a:lnTo>
                        <a:pt x="420" y="217"/>
                      </a:lnTo>
                      <a:lnTo>
                        <a:pt x="410" y="217"/>
                      </a:lnTo>
                      <a:lnTo>
                        <a:pt x="390" y="228"/>
                      </a:lnTo>
                      <a:lnTo>
                        <a:pt x="360" y="228"/>
                      </a:lnTo>
                      <a:lnTo>
                        <a:pt x="340" y="239"/>
                      </a:lnTo>
                      <a:lnTo>
                        <a:pt x="330" y="251"/>
                      </a:lnTo>
                      <a:lnTo>
                        <a:pt x="320" y="262"/>
                      </a:lnTo>
                      <a:lnTo>
                        <a:pt x="310" y="262"/>
                      </a:lnTo>
                      <a:lnTo>
                        <a:pt x="310" y="26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419640" y="1233360"/>
                  <a:ext cx="922320" cy="579600"/>
                </a:xfrm>
                <a:custGeom>
                  <a:avLst/>
                  <a:gdLst/>
                  <a:ahLst/>
                  <a:rect l="l" t="t" r="r" b="b"/>
                  <a:pathLst>
                    <a:path w="581" h="365">
                      <a:moveTo>
                        <a:pt x="310" y="262"/>
                      </a:moveTo>
                      <a:lnTo>
                        <a:pt x="280" y="262"/>
                      </a:lnTo>
                      <a:lnTo>
                        <a:pt x="260" y="274"/>
                      </a:lnTo>
                      <a:lnTo>
                        <a:pt x="240" y="285"/>
                      </a:lnTo>
                      <a:lnTo>
                        <a:pt x="240" y="296"/>
                      </a:lnTo>
                      <a:lnTo>
                        <a:pt x="230" y="308"/>
                      </a:lnTo>
                      <a:lnTo>
                        <a:pt x="220" y="308"/>
                      </a:lnTo>
                      <a:lnTo>
                        <a:pt x="200" y="319"/>
                      </a:lnTo>
                      <a:lnTo>
                        <a:pt x="200" y="331"/>
                      </a:lnTo>
                      <a:lnTo>
                        <a:pt x="210" y="331"/>
                      </a:lnTo>
                      <a:lnTo>
                        <a:pt x="210" y="342"/>
                      </a:lnTo>
                      <a:lnTo>
                        <a:pt x="200" y="353"/>
                      </a:lnTo>
                      <a:lnTo>
                        <a:pt x="180" y="365"/>
                      </a:lnTo>
                      <a:lnTo>
                        <a:pt x="170" y="365"/>
                      </a:lnTo>
                      <a:lnTo>
                        <a:pt x="170" y="353"/>
                      </a:lnTo>
                      <a:lnTo>
                        <a:pt x="160" y="353"/>
                      </a:lnTo>
                      <a:lnTo>
                        <a:pt x="140" y="353"/>
                      </a:lnTo>
                      <a:lnTo>
                        <a:pt x="130" y="353"/>
                      </a:lnTo>
                      <a:lnTo>
                        <a:pt x="120" y="342"/>
                      </a:lnTo>
                      <a:lnTo>
                        <a:pt x="120" y="331"/>
                      </a:lnTo>
                      <a:lnTo>
                        <a:pt x="120" y="308"/>
                      </a:lnTo>
                      <a:lnTo>
                        <a:pt x="130" y="296"/>
                      </a:lnTo>
                      <a:lnTo>
                        <a:pt x="140" y="296"/>
                      </a:lnTo>
                      <a:lnTo>
                        <a:pt x="140" y="285"/>
                      </a:lnTo>
                      <a:lnTo>
                        <a:pt x="130" y="285"/>
                      </a:lnTo>
                      <a:lnTo>
                        <a:pt x="110" y="296"/>
                      </a:lnTo>
                      <a:lnTo>
                        <a:pt x="110" y="285"/>
                      </a:lnTo>
                      <a:lnTo>
                        <a:pt x="130" y="274"/>
                      </a:lnTo>
                      <a:lnTo>
                        <a:pt x="130" y="262"/>
                      </a:lnTo>
                      <a:lnTo>
                        <a:pt x="110" y="274"/>
                      </a:lnTo>
                      <a:lnTo>
                        <a:pt x="100" y="262"/>
                      </a:lnTo>
                      <a:lnTo>
                        <a:pt x="110" y="251"/>
                      </a:lnTo>
                      <a:lnTo>
                        <a:pt x="120" y="251"/>
                      </a:lnTo>
                      <a:lnTo>
                        <a:pt x="130" y="251"/>
                      </a:lnTo>
                      <a:lnTo>
                        <a:pt x="140" y="251"/>
                      </a:lnTo>
                      <a:lnTo>
                        <a:pt x="150" y="251"/>
                      </a:lnTo>
                      <a:lnTo>
                        <a:pt x="130" y="251"/>
                      </a:lnTo>
                      <a:lnTo>
                        <a:pt x="120" y="262"/>
                      </a:lnTo>
                      <a:lnTo>
                        <a:pt x="100" y="262"/>
                      </a:lnTo>
                      <a:lnTo>
                        <a:pt x="100" y="251"/>
                      </a:lnTo>
                      <a:lnTo>
                        <a:pt x="110" y="239"/>
                      </a:lnTo>
                      <a:lnTo>
                        <a:pt x="120" y="239"/>
                      </a:lnTo>
                      <a:lnTo>
                        <a:pt x="130" y="239"/>
                      </a:lnTo>
                      <a:lnTo>
                        <a:pt x="120" y="239"/>
                      </a:lnTo>
                      <a:lnTo>
                        <a:pt x="120" y="228"/>
                      </a:lnTo>
                      <a:lnTo>
                        <a:pt x="130" y="228"/>
                      </a:lnTo>
                      <a:lnTo>
                        <a:pt x="150" y="239"/>
                      </a:lnTo>
                      <a:lnTo>
                        <a:pt x="150" y="228"/>
                      </a:lnTo>
                      <a:lnTo>
                        <a:pt x="140" y="228"/>
                      </a:lnTo>
                      <a:lnTo>
                        <a:pt x="130" y="228"/>
                      </a:lnTo>
                      <a:lnTo>
                        <a:pt x="120" y="228"/>
                      </a:lnTo>
                      <a:lnTo>
                        <a:pt x="120" y="217"/>
                      </a:lnTo>
                      <a:lnTo>
                        <a:pt x="140" y="217"/>
                      </a:lnTo>
                      <a:lnTo>
                        <a:pt x="150" y="217"/>
                      </a:lnTo>
                      <a:lnTo>
                        <a:pt x="160" y="217"/>
                      </a:lnTo>
                      <a:lnTo>
                        <a:pt x="160" y="205"/>
                      </a:lnTo>
                      <a:lnTo>
                        <a:pt x="170" y="194"/>
                      </a:lnTo>
                      <a:lnTo>
                        <a:pt x="160" y="194"/>
                      </a:lnTo>
                      <a:lnTo>
                        <a:pt x="150" y="194"/>
                      </a:lnTo>
                      <a:lnTo>
                        <a:pt x="140" y="194"/>
                      </a:lnTo>
                      <a:lnTo>
                        <a:pt x="140" y="182"/>
                      </a:lnTo>
                      <a:lnTo>
                        <a:pt x="150" y="171"/>
                      </a:lnTo>
                      <a:lnTo>
                        <a:pt x="150" y="160"/>
                      </a:lnTo>
                      <a:lnTo>
                        <a:pt x="140" y="160"/>
                      </a:lnTo>
                      <a:lnTo>
                        <a:pt x="130" y="160"/>
                      </a:lnTo>
                      <a:lnTo>
                        <a:pt x="120" y="171"/>
                      </a:lnTo>
                      <a:lnTo>
                        <a:pt x="130" y="171"/>
                      </a:lnTo>
                      <a:lnTo>
                        <a:pt x="140" y="160"/>
                      </a:lnTo>
                      <a:lnTo>
                        <a:pt x="130" y="160"/>
                      </a:lnTo>
                      <a:lnTo>
                        <a:pt x="120" y="160"/>
                      </a:lnTo>
                      <a:lnTo>
                        <a:pt x="130" y="160"/>
                      </a:lnTo>
                      <a:lnTo>
                        <a:pt x="120" y="160"/>
                      </a:lnTo>
                      <a:lnTo>
                        <a:pt x="120" y="137"/>
                      </a:lnTo>
                      <a:lnTo>
                        <a:pt x="120" y="114"/>
                      </a:lnTo>
                      <a:lnTo>
                        <a:pt x="110" y="103"/>
                      </a:lnTo>
                      <a:lnTo>
                        <a:pt x="100" y="103"/>
                      </a:lnTo>
                      <a:lnTo>
                        <a:pt x="90" y="91"/>
                      </a:lnTo>
                      <a:lnTo>
                        <a:pt x="80" y="91"/>
                      </a:lnTo>
                      <a:lnTo>
                        <a:pt x="50" y="91"/>
                      </a:lnTo>
                      <a:lnTo>
                        <a:pt x="30" y="91"/>
                      </a:lnTo>
                      <a:lnTo>
                        <a:pt x="0" y="91"/>
                      </a:lnTo>
                      <a:lnTo>
                        <a:pt x="10" y="91"/>
                      </a:lnTo>
                      <a:lnTo>
                        <a:pt x="20" y="80"/>
                      </a:lnTo>
                      <a:lnTo>
                        <a:pt x="10" y="68"/>
                      </a:lnTo>
                      <a:lnTo>
                        <a:pt x="10" y="57"/>
                      </a:lnTo>
                      <a:lnTo>
                        <a:pt x="20" y="68"/>
                      </a:lnTo>
                      <a:lnTo>
                        <a:pt x="30" y="68"/>
                      </a:lnTo>
                      <a:lnTo>
                        <a:pt x="60" y="57"/>
                      </a:lnTo>
                      <a:lnTo>
                        <a:pt x="80" y="57"/>
                      </a:lnTo>
                      <a:lnTo>
                        <a:pt x="110" y="46"/>
                      </a:lnTo>
                      <a:lnTo>
                        <a:pt x="90" y="46"/>
                      </a:lnTo>
                      <a:lnTo>
                        <a:pt x="80" y="46"/>
                      </a:lnTo>
                      <a:lnTo>
                        <a:pt x="110" y="34"/>
                      </a:lnTo>
                      <a:lnTo>
                        <a:pt x="140" y="23"/>
                      </a:lnTo>
                      <a:lnTo>
                        <a:pt x="160" y="23"/>
                      </a:lnTo>
                      <a:lnTo>
                        <a:pt x="170" y="23"/>
                      </a:lnTo>
                      <a:lnTo>
                        <a:pt x="180" y="23"/>
                      </a:lnTo>
                      <a:lnTo>
                        <a:pt x="190" y="23"/>
                      </a:lnTo>
                      <a:lnTo>
                        <a:pt x="180" y="23"/>
                      </a:lnTo>
                      <a:lnTo>
                        <a:pt x="190" y="11"/>
                      </a:lnTo>
                      <a:lnTo>
                        <a:pt x="200" y="11"/>
                      </a:lnTo>
                      <a:lnTo>
                        <a:pt x="210" y="11"/>
                      </a:lnTo>
                      <a:lnTo>
                        <a:pt x="220" y="11"/>
                      </a:lnTo>
                      <a:lnTo>
                        <a:pt x="240" y="11"/>
                      </a:lnTo>
                      <a:lnTo>
                        <a:pt x="260" y="11"/>
                      </a:lnTo>
                      <a:lnTo>
                        <a:pt x="280" y="11"/>
                      </a:lnTo>
                      <a:lnTo>
                        <a:pt x="310" y="0"/>
                      </a:lnTo>
                      <a:lnTo>
                        <a:pt x="330" y="0"/>
                      </a:lnTo>
                      <a:lnTo>
                        <a:pt x="360" y="0"/>
                      </a:lnTo>
                      <a:lnTo>
                        <a:pt x="390" y="0"/>
                      </a:lnTo>
                      <a:lnTo>
                        <a:pt x="410" y="0"/>
                      </a:lnTo>
                      <a:lnTo>
                        <a:pt x="441" y="0"/>
                      </a:lnTo>
                      <a:lnTo>
                        <a:pt x="461" y="0"/>
                      </a:lnTo>
                      <a:lnTo>
                        <a:pt x="491" y="0"/>
                      </a:lnTo>
                      <a:lnTo>
                        <a:pt x="481" y="0"/>
                      </a:lnTo>
                      <a:lnTo>
                        <a:pt x="471" y="11"/>
                      </a:lnTo>
                      <a:lnTo>
                        <a:pt x="481" y="23"/>
                      </a:lnTo>
                      <a:lnTo>
                        <a:pt x="491" y="34"/>
                      </a:lnTo>
                      <a:lnTo>
                        <a:pt x="501" y="34"/>
                      </a:lnTo>
                      <a:lnTo>
                        <a:pt x="511" y="34"/>
                      </a:lnTo>
                      <a:lnTo>
                        <a:pt x="521" y="23"/>
                      </a:lnTo>
                      <a:lnTo>
                        <a:pt x="531" y="23"/>
                      </a:lnTo>
                      <a:lnTo>
                        <a:pt x="541" y="23"/>
                      </a:lnTo>
                      <a:lnTo>
                        <a:pt x="551" y="23"/>
                      </a:lnTo>
                      <a:lnTo>
                        <a:pt x="561" y="23"/>
                      </a:lnTo>
                      <a:lnTo>
                        <a:pt x="571" y="11"/>
                      </a:lnTo>
                      <a:lnTo>
                        <a:pt x="581" y="23"/>
                      </a:lnTo>
                      <a:lnTo>
                        <a:pt x="581" y="34"/>
                      </a:lnTo>
                      <a:lnTo>
                        <a:pt x="561" y="34"/>
                      </a:lnTo>
                      <a:lnTo>
                        <a:pt x="551" y="34"/>
                      </a:lnTo>
                      <a:lnTo>
                        <a:pt x="531" y="46"/>
                      </a:lnTo>
                      <a:lnTo>
                        <a:pt x="511" y="57"/>
                      </a:lnTo>
                      <a:lnTo>
                        <a:pt x="501" y="80"/>
                      </a:lnTo>
                      <a:lnTo>
                        <a:pt x="511" y="80"/>
                      </a:lnTo>
                      <a:lnTo>
                        <a:pt x="521" y="80"/>
                      </a:lnTo>
                      <a:lnTo>
                        <a:pt x="541" y="91"/>
                      </a:lnTo>
                      <a:lnTo>
                        <a:pt x="541" y="103"/>
                      </a:lnTo>
                      <a:lnTo>
                        <a:pt x="531" y="103"/>
                      </a:lnTo>
                      <a:lnTo>
                        <a:pt x="521" y="114"/>
                      </a:lnTo>
                      <a:lnTo>
                        <a:pt x="511" y="114"/>
                      </a:lnTo>
                      <a:lnTo>
                        <a:pt x="491" y="114"/>
                      </a:lnTo>
                      <a:lnTo>
                        <a:pt x="501" y="125"/>
                      </a:lnTo>
                      <a:lnTo>
                        <a:pt x="511" y="125"/>
                      </a:lnTo>
                      <a:lnTo>
                        <a:pt x="521" y="125"/>
                      </a:lnTo>
                      <a:lnTo>
                        <a:pt x="511" y="125"/>
                      </a:lnTo>
                      <a:lnTo>
                        <a:pt x="501" y="125"/>
                      </a:lnTo>
                      <a:lnTo>
                        <a:pt x="491" y="125"/>
                      </a:lnTo>
                      <a:lnTo>
                        <a:pt x="501" y="137"/>
                      </a:lnTo>
                      <a:lnTo>
                        <a:pt x="481" y="148"/>
                      </a:lnTo>
                      <a:lnTo>
                        <a:pt x="451" y="137"/>
                      </a:lnTo>
                      <a:lnTo>
                        <a:pt x="430" y="137"/>
                      </a:lnTo>
                      <a:lnTo>
                        <a:pt x="420" y="160"/>
                      </a:lnTo>
                      <a:lnTo>
                        <a:pt x="441" y="160"/>
                      </a:lnTo>
                      <a:lnTo>
                        <a:pt x="461" y="160"/>
                      </a:lnTo>
                      <a:lnTo>
                        <a:pt x="471" y="171"/>
                      </a:lnTo>
                      <a:lnTo>
                        <a:pt x="471" y="182"/>
                      </a:lnTo>
                      <a:lnTo>
                        <a:pt x="481" y="194"/>
                      </a:lnTo>
                      <a:lnTo>
                        <a:pt x="471" y="194"/>
                      </a:lnTo>
                      <a:lnTo>
                        <a:pt x="471" y="182"/>
                      </a:lnTo>
                      <a:lnTo>
                        <a:pt x="461" y="182"/>
                      </a:lnTo>
                      <a:lnTo>
                        <a:pt x="451" y="171"/>
                      </a:lnTo>
                      <a:lnTo>
                        <a:pt x="430" y="171"/>
                      </a:lnTo>
                      <a:lnTo>
                        <a:pt x="410" y="171"/>
                      </a:lnTo>
                      <a:lnTo>
                        <a:pt x="400" y="194"/>
                      </a:lnTo>
                      <a:lnTo>
                        <a:pt x="420" y="182"/>
                      </a:lnTo>
                      <a:lnTo>
                        <a:pt x="430" y="194"/>
                      </a:lnTo>
                      <a:lnTo>
                        <a:pt x="430" y="205"/>
                      </a:lnTo>
                      <a:lnTo>
                        <a:pt x="420" y="217"/>
                      </a:lnTo>
                      <a:lnTo>
                        <a:pt x="410" y="217"/>
                      </a:lnTo>
                      <a:lnTo>
                        <a:pt x="390" y="228"/>
                      </a:lnTo>
                      <a:lnTo>
                        <a:pt x="360" y="228"/>
                      </a:lnTo>
                      <a:lnTo>
                        <a:pt x="340" y="239"/>
                      </a:lnTo>
                      <a:lnTo>
                        <a:pt x="330" y="251"/>
                      </a:lnTo>
                      <a:lnTo>
                        <a:pt x="320" y="262"/>
                      </a:lnTo>
                      <a:lnTo>
                        <a:pt x="310" y="2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32080" y="1504800"/>
                  <a:ext cx="15840" cy="17640"/>
                </a:xfrm>
                <a:custGeom>
                  <a:avLst/>
                  <a:gdLst/>
                  <a:ahLst/>
                  <a:rect l="l" t="t" r="r" b="b"/>
                  <a:pathLst>
                    <a:path w="10" h="11">
                      <a:moveTo>
                        <a:pt x="10" y="0"/>
                      </a:moveTo>
                      <a:lnTo>
                        <a:pt x="10" y="11"/>
                      </a:lnTo>
                      <a:lnTo>
                        <a:pt x="0" y="11"/>
                      </a:lnTo>
                      <a:lnTo>
                        <a:pt x="10" y="0"/>
                      </a:lnTo>
                      <a:lnTo>
                        <a:pt x="1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 name=""/>
                <p:cNvSpPr/>
                <p:nvPr/>
              </p:nvSpPr>
              <p:spPr>
                <a:xfrm>
                  <a:off x="1432080" y="1504800"/>
                  <a:ext cx="15840" cy="17640"/>
                </a:xfrm>
                <a:custGeom>
                  <a:avLst/>
                  <a:gdLst/>
                  <a:ahLst/>
                  <a:rect l="l" t="t" r="r" b="b"/>
                  <a:pathLst>
                    <a:path w="10" h="11">
                      <a:moveTo>
                        <a:pt x="10" y="0"/>
                      </a:moveTo>
                      <a:lnTo>
                        <a:pt x="10" y="11"/>
                      </a:lnTo>
                      <a:lnTo>
                        <a:pt x="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
                <p:cNvSpPr/>
                <p:nvPr/>
              </p:nvSpPr>
              <p:spPr>
                <a:xfrm>
                  <a:off x="2513160" y="1468440"/>
                  <a:ext cx="285480" cy="109440"/>
                </a:xfrm>
                <a:custGeom>
                  <a:avLst/>
                  <a:gdLst/>
                  <a:ahLst/>
                  <a:rect l="l" t="t" r="r" b="b"/>
                  <a:pathLst>
                    <a:path w="180" h="69">
                      <a:moveTo>
                        <a:pt x="70" y="12"/>
                      </a:moveTo>
                      <a:lnTo>
                        <a:pt x="90" y="12"/>
                      </a:lnTo>
                      <a:lnTo>
                        <a:pt x="110" y="23"/>
                      </a:lnTo>
                      <a:lnTo>
                        <a:pt x="120" y="23"/>
                      </a:lnTo>
                      <a:lnTo>
                        <a:pt x="130" y="12"/>
                      </a:lnTo>
                      <a:lnTo>
                        <a:pt x="140" y="0"/>
                      </a:lnTo>
                      <a:lnTo>
                        <a:pt x="150" y="0"/>
                      </a:lnTo>
                      <a:lnTo>
                        <a:pt x="160" y="0"/>
                      </a:lnTo>
                      <a:lnTo>
                        <a:pt x="170" y="23"/>
                      </a:lnTo>
                      <a:lnTo>
                        <a:pt x="180" y="46"/>
                      </a:lnTo>
                      <a:lnTo>
                        <a:pt x="170" y="57"/>
                      </a:lnTo>
                      <a:lnTo>
                        <a:pt x="150" y="69"/>
                      </a:lnTo>
                      <a:lnTo>
                        <a:pt x="140" y="69"/>
                      </a:lnTo>
                      <a:lnTo>
                        <a:pt x="130" y="69"/>
                      </a:lnTo>
                      <a:lnTo>
                        <a:pt x="120" y="57"/>
                      </a:lnTo>
                      <a:lnTo>
                        <a:pt x="110" y="57"/>
                      </a:lnTo>
                      <a:lnTo>
                        <a:pt x="100" y="57"/>
                      </a:lnTo>
                      <a:lnTo>
                        <a:pt x="90" y="69"/>
                      </a:lnTo>
                      <a:lnTo>
                        <a:pt x="60" y="69"/>
                      </a:lnTo>
                      <a:lnTo>
                        <a:pt x="30" y="69"/>
                      </a:lnTo>
                      <a:lnTo>
                        <a:pt x="0" y="46"/>
                      </a:lnTo>
                      <a:lnTo>
                        <a:pt x="10" y="46"/>
                      </a:lnTo>
                      <a:lnTo>
                        <a:pt x="20" y="46"/>
                      </a:lnTo>
                      <a:lnTo>
                        <a:pt x="20" y="34"/>
                      </a:lnTo>
                      <a:lnTo>
                        <a:pt x="10" y="34"/>
                      </a:lnTo>
                      <a:lnTo>
                        <a:pt x="0" y="34"/>
                      </a:lnTo>
                      <a:lnTo>
                        <a:pt x="10" y="23"/>
                      </a:lnTo>
                      <a:lnTo>
                        <a:pt x="20" y="34"/>
                      </a:lnTo>
                      <a:lnTo>
                        <a:pt x="40" y="23"/>
                      </a:lnTo>
                      <a:lnTo>
                        <a:pt x="30" y="23"/>
                      </a:lnTo>
                      <a:lnTo>
                        <a:pt x="20" y="12"/>
                      </a:lnTo>
                      <a:lnTo>
                        <a:pt x="40" y="0"/>
                      </a:lnTo>
                      <a:lnTo>
                        <a:pt x="50" y="0"/>
                      </a:lnTo>
                      <a:lnTo>
                        <a:pt x="70" y="12"/>
                      </a:lnTo>
                      <a:lnTo>
                        <a:pt x="70" y="1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513160" y="1468440"/>
                  <a:ext cx="285480" cy="109440"/>
                </a:xfrm>
                <a:custGeom>
                  <a:avLst/>
                  <a:gdLst/>
                  <a:ahLst/>
                  <a:rect l="l" t="t" r="r" b="b"/>
                  <a:pathLst>
                    <a:path w="180" h="69">
                      <a:moveTo>
                        <a:pt x="70" y="12"/>
                      </a:moveTo>
                      <a:lnTo>
                        <a:pt x="90" y="12"/>
                      </a:lnTo>
                      <a:lnTo>
                        <a:pt x="110" y="23"/>
                      </a:lnTo>
                      <a:lnTo>
                        <a:pt x="120" y="23"/>
                      </a:lnTo>
                      <a:lnTo>
                        <a:pt x="130" y="12"/>
                      </a:lnTo>
                      <a:lnTo>
                        <a:pt x="140" y="0"/>
                      </a:lnTo>
                      <a:lnTo>
                        <a:pt x="150" y="0"/>
                      </a:lnTo>
                      <a:lnTo>
                        <a:pt x="160" y="0"/>
                      </a:lnTo>
                      <a:lnTo>
                        <a:pt x="170" y="23"/>
                      </a:lnTo>
                      <a:lnTo>
                        <a:pt x="180" y="46"/>
                      </a:lnTo>
                      <a:lnTo>
                        <a:pt x="170" y="57"/>
                      </a:lnTo>
                      <a:lnTo>
                        <a:pt x="150" y="69"/>
                      </a:lnTo>
                      <a:lnTo>
                        <a:pt x="140" y="69"/>
                      </a:lnTo>
                      <a:lnTo>
                        <a:pt x="130" y="69"/>
                      </a:lnTo>
                      <a:lnTo>
                        <a:pt x="120" y="57"/>
                      </a:lnTo>
                      <a:lnTo>
                        <a:pt x="110" y="57"/>
                      </a:lnTo>
                      <a:lnTo>
                        <a:pt x="100" y="57"/>
                      </a:lnTo>
                      <a:lnTo>
                        <a:pt x="90" y="69"/>
                      </a:lnTo>
                      <a:lnTo>
                        <a:pt x="60" y="69"/>
                      </a:lnTo>
                      <a:lnTo>
                        <a:pt x="30" y="69"/>
                      </a:lnTo>
                      <a:lnTo>
                        <a:pt x="0" y="46"/>
                      </a:lnTo>
                      <a:lnTo>
                        <a:pt x="10" y="46"/>
                      </a:lnTo>
                      <a:lnTo>
                        <a:pt x="20" y="46"/>
                      </a:lnTo>
                      <a:lnTo>
                        <a:pt x="20" y="34"/>
                      </a:lnTo>
                      <a:lnTo>
                        <a:pt x="10" y="34"/>
                      </a:lnTo>
                      <a:lnTo>
                        <a:pt x="0" y="34"/>
                      </a:lnTo>
                      <a:lnTo>
                        <a:pt x="10" y="23"/>
                      </a:lnTo>
                      <a:lnTo>
                        <a:pt x="20" y="34"/>
                      </a:lnTo>
                      <a:lnTo>
                        <a:pt x="40" y="23"/>
                      </a:lnTo>
                      <a:lnTo>
                        <a:pt x="30" y="23"/>
                      </a:lnTo>
                      <a:lnTo>
                        <a:pt x="20" y="12"/>
                      </a:lnTo>
                      <a:lnTo>
                        <a:pt x="40" y="0"/>
                      </a:lnTo>
                      <a:lnTo>
                        <a:pt x="50" y="0"/>
                      </a:lnTo>
                      <a:lnTo>
                        <a:pt x="70"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610080" y="1541520"/>
                  <a:ext cx="1440" cy="17280"/>
                </a:xfrm>
                <a:custGeom>
                  <a:avLst/>
                  <a:gdLst/>
                  <a:ahLst/>
                  <a:rect l="l" t="t" r="r" b="b"/>
                  <a:pathLst>
                    <a:path w="0" h="11">
                      <a:moveTo>
                        <a:pt x="0" y="0"/>
                      </a:moveTo>
                      <a:lnTo>
                        <a:pt x="0" y="11"/>
                      </a:lnTo>
                      <a:lnTo>
                        <a:pt x="0" y="0"/>
                      </a:lnTo>
                      <a:lnTo>
                        <a:pt x="0" y="0"/>
                      </a:lnTo>
                      <a:close/>
                    </a:path>
                  </a:pathLst>
                </a:custGeom>
                <a:solidFill>
                  <a:srgbClr val="009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3610080" y="1541520"/>
                  <a:ext cx="1440" cy="17280"/>
                </a:xfrm>
                <a:custGeom>
                  <a:avLst/>
                  <a:gdLst/>
                  <a:ahLst/>
                  <a:rect l="l" t="t" r="r" b="b"/>
                  <a:pathLst>
                    <a:path w="0" h="11">
                      <a:moveTo>
                        <a:pt x="0" y="0"/>
                      </a:moveTo>
                      <a:lnTo>
                        <a:pt x="0" y="11"/>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 name=""/>
                <p:cNvSpPr/>
                <p:nvPr/>
              </p:nvSpPr>
              <p:spPr>
                <a:xfrm>
                  <a:off x="3195720" y="1558800"/>
                  <a:ext cx="1440" cy="19080"/>
                </a:xfrm>
                <a:custGeom>
                  <a:avLst/>
                  <a:gdLst/>
                  <a:ahLst/>
                  <a:rect l="l" t="t" r="r" b="b"/>
                  <a:pathLst>
                    <a:path w="0" h="12">
                      <a:moveTo>
                        <a:pt x="0" y="0"/>
                      </a:moveTo>
                      <a:lnTo>
                        <a:pt x="0" y="12"/>
                      </a:lnTo>
                      <a:lnTo>
                        <a:pt x="0" y="0"/>
                      </a:lnTo>
                      <a:lnTo>
                        <a:pt x="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3195720" y="1558800"/>
                  <a:ext cx="1440" cy="19080"/>
                </a:xfrm>
                <a:custGeom>
                  <a:avLst/>
                  <a:gdLst/>
                  <a:ahLst/>
                  <a:rect l="l" t="t" r="r" b="b"/>
                  <a:pathLst>
                    <a:path w="0" h="12">
                      <a:moveTo>
                        <a:pt x="0" y="0"/>
                      </a:moveTo>
                      <a:lnTo>
                        <a:pt x="0" y="12"/>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2" name=""/>
                <p:cNvSpPr/>
                <p:nvPr/>
              </p:nvSpPr>
              <p:spPr>
                <a:xfrm>
                  <a:off x="2846520" y="1541520"/>
                  <a:ext cx="1440" cy="54000"/>
                </a:xfrm>
                <a:custGeom>
                  <a:avLst/>
                  <a:gdLst/>
                  <a:ahLst/>
                  <a:rect l="l" t="t" r="r" b="b"/>
                  <a:pathLst>
                    <a:path w="0" h="34">
                      <a:moveTo>
                        <a:pt x="0" y="0"/>
                      </a:moveTo>
                      <a:lnTo>
                        <a:pt x="0" y="11"/>
                      </a:lnTo>
                      <a:lnTo>
                        <a:pt x="0" y="23"/>
                      </a:lnTo>
                      <a:lnTo>
                        <a:pt x="0" y="34"/>
                      </a:lnTo>
                      <a:lnTo>
                        <a:pt x="0" y="23"/>
                      </a:lnTo>
                      <a:lnTo>
                        <a:pt x="0" y="11"/>
                      </a:lnTo>
                      <a:lnTo>
                        <a:pt x="0" y="0"/>
                      </a:lnTo>
                      <a:lnTo>
                        <a:pt x="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2846520" y="1541520"/>
                  <a:ext cx="1440" cy="54000"/>
                </a:xfrm>
                <a:custGeom>
                  <a:avLst/>
                  <a:gdLst/>
                  <a:ahLst/>
                  <a:rect l="l" t="t" r="r" b="b"/>
                  <a:pathLst>
                    <a:path w="0" h="34">
                      <a:moveTo>
                        <a:pt x="0" y="0"/>
                      </a:moveTo>
                      <a:lnTo>
                        <a:pt x="0" y="11"/>
                      </a:lnTo>
                      <a:lnTo>
                        <a:pt x="0" y="23"/>
                      </a:lnTo>
                      <a:lnTo>
                        <a:pt x="0" y="34"/>
                      </a:lnTo>
                      <a:lnTo>
                        <a:pt x="0" y="23"/>
                      </a:lnTo>
                      <a:lnTo>
                        <a:pt x="0" y="11"/>
                      </a:lnTo>
                      <a:lnTo>
                        <a:pt x="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4" name=""/>
                <p:cNvSpPr/>
                <p:nvPr/>
              </p:nvSpPr>
              <p:spPr>
                <a:xfrm>
                  <a:off x="3005280" y="1451160"/>
                  <a:ext cx="446040" cy="325440"/>
                </a:xfrm>
                <a:custGeom>
                  <a:avLst/>
                  <a:gdLst/>
                  <a:ahLst/>
                  <a:rect l="l" t="t" r="r" b="b"/>
                  <a:pathLst>
                    <a:path w="281" h="205">
                      <a:moveTo>
                        <a:pt x="221" y="91"/>
                      </a:moveTo>
                      <a:lnTo>
                        <a:pt x="231" y="91"/>
                      </a:lnTo>
                      <a:lnTo>
                        <a:pt x="231" y="102"/>
                      </a:lnTo>
                      <a:lnTo>
                        <a:pt x="241" y="91"/>
                      </a:lnTo>
                      <a:lnTo>
                        <a:pt x="251" y="91"/>
                      </a:lnTo>
                      <a:lnTo>
                        <a:pt x="261" y="91"/>
                      </a:lnTo>
                      <a:lnTo>
                        <a:pt x="281" y="114"/>
                      </a:lnTo>
                      <a:lnTo>
                        <a:pt x="271" y="114"/>
                      </a:lnTo>
                      <a:lnTo>
                        <a:pt x="261" y="125"/>
                      </a:lnTo>
                      <a:lnTo>
                        <a:pt x="251" y="137"/>
                      </a:lnTo>
                      <a:lnTo>
                        <a:pt x="241" y="148"/>
                      </a:lnTo>
                      <a:lnTo>
                        <a:pt x="241" y="137"/>
                      </a:lnTo>
                      <a:lnTo>
                        <a:pt x="241" y="125"/>
                      </a:lnTo>
                      <a:lnTo>
                        <a:pt x="231" y="125"/>
                      </a:lnTo>
                      <a:lnTo>
                        <a:pt x="211" y="137"/>
                      </a:lnTo>
                      <a:lnTo>
                        <a:pt x="201" y="148"/>
                      </a:lnTo>
                      <a:lnTo>
                        <a:pt x="201" y="159"/>
                      </a:lnTo>
                      <a:lnTo>
                        <a:pt x="211" y="171"/>
                      </a:lnTo>
                      <a:lnTo>
                        <a:pt x="211" y="182"/>
                      </a:lnTo>
                      <a:lnTo>
                        <a:pt x="201" y="194"/>
                      </a:lnTo>
                      <a:lnTo>
                        <a:pt x="181" y="205"/>
                      </a:lnTo>
                      <a:lnTo>
                        <a:pt x="161" y="194"/>
                      </a:lnTo>
                      <a:lnTo>
                        <a:pt x="141" y="182"/>
                      </a:lnTo>
                      <a:lnTo>
                        <a:pt x="120" y="171"/>
                      </a:lnTo>
                      <a:lnTo>
                        <a:pt x="110" y="159"/>
                      </a:lnTo>
                      <a:lnTo>
                        <a:pt x="100" y="159"/>
                      </a:lnTo>
                      <a:lnTo>
                        <a:pt x="90" y="159"/>
                      </a:lnTo>
                      <a:lnTo>
                        <a:pt x="70" y="159"/>
                      </a:lnTo>
                      <a:lnTo>
                        <a:pt x="70" y="148"/>
                      </a:lnTo>
                      <a:lnTo>
                        <a:pt x="70" y="137"/>
                      </a:lnTo>
                      <a:lnTo>
                        <a:pt x="80" y="137"/>
                      </a:lnTo>
                      <a:lnTo>
                        <a:pt x="90" y="137"/>
                      </a:lnTo>
                      <a:lnTo>
                        <a:pt x="90" y="148"/>
                      </a:lnTo>
                      <a:lnTo>
                        <a:pt x="100" y="148"/>
                      </a:lnTo>
                      <a:lnTo>
                        <a:pt x="110" y="148"/>
                      </a:lnTo>
                      <a:lnTo>
                        <a:pt x="120" y="137"/>
                      </a:lnTo>
                      <a:lnTo>
                        <a:pt x="131" y="137"/>
                      </a:lnTo>
                      <a:lnTo>
                        <a:pt x="141" y="137"/>
                      </a:lnTo>
                      <a:lnTo>
                        <a:pt x="151" y="137"/>
                      </a:lnTo>
                      <a:lnTo>
                        <a:pt x="161" y="125"/>
                      </a:lnTo>
                      <a:lnTo>
                        <a:pt x="171" y="114"/>
                      </a:lnTo>
                      <a:lnTo>
                        <a:pt x="161" y="114"/>
                      </a:lnTo>
                      <a:lnTo>
                        <a:pt x="151" y="114"/>
                      </a:lnTo>
                      <a:lnTo>
                        <a:pt x="141" y="114"/>
                      </a:lnTo>
                      <a:lnTo>
                        <a:pt x="141" y="102"/>
                      </a:lnTo>
                      <a:lnTo>
                        <a:pt x="131" y="91"/>
                      </a:lnTo>
                      <a:lnTo>
                        <a:pt x="120" y="80"/>
                      </a:lnTo>
                      <a:lnTo>
                        <a:pt x="120" y="68"/>
                      </a:lnTo>
                      <a:lnTo>
                        <a:pt x="120" y="57"/>
                      </a:lnTo>
                      <a:lnTo>
                        <a:pt x="120" y="45"/>
                      </a:lnTo>
                      <a:lnTo>
                        <a:pt x="110" y="57"/>
                      </a:lnTo>
                      <a:lnTo>
                        <a:pt x="100" y="57"/>
                      </a:lnTo>
                      <a:lnTo>
                        <a:pt x="80" y="68"/>
                      </a:lnTo>
                      <a:lnTo>
                        <a:pt x="60" y="57"/>
                      </a:lnTo>
                      <a:lnTo>
                        <a:pt x="30" y="57"/>
                      </a:lnTo>
                      <a:lnTo>
                        <a:pt x="10" y="45"/>
                      </a:lnTo>
                      <a:lnTo>
                        <a:pt x="0" y="34"/>
                      </a:lnTo>
                      <a:lnTo>
                        <a:pt x="10" y="34"/>
                      </a:lnTo>
                      <a:lnTo>
                        <a:pt x="30" y="11"/>
                      </a:lnTo>
                      <a:lnTo>
                        <a:pt x="50" y="0"/>
                      </a:lnTo>
                      <a:lnTo>
                        <a:pt x="80" y="0"/>
                      </a:lnTo>
                      <a:lnTo>
                        <a:pt x="90" y="0"/>
                      </a:lnTo>
                      <a:lnTo>
                        <a:pt x="70" y="11"/>
                      </a:lnTo>
                      <a:lnTo>
                        <a:pt x="50" y="23"/>
                      </a:lnTo>
                      <a:lnTo>
                        <a:pt x="30" y="45"/>
                      </a:lnTo>
                      <a:lnTo>
                        <a:pt x="40" y="45"/>
                      </a:lnTo>
                      <a:lnTo>
                        <a:pt x="50" y="45"/>
                      </a:lnTo>
                      <a:lnTo>
                        <a:pt x="60" y="45"/>
                      </a:lnTo>
                      <a:lnTo>
                        <a:pt x="60" y="34"/>
                      </a:lnTo>
                      <a:lnTo>
                        <a:pt x="60" y="23"/>
                      </a:lnTo>
                      <a:lnTo>
                        <a:pt x="70" y="11"/>
                      </a:lnTo>
                      <a:lnTo>
                        <a:pt x="80" y="11"/>
                      </a:lnTo>
                      <a:lnTo>
                        <a:pt x="90" y="11"/>
                      </a:lnTo>
                      <a:lnTo>
                        <a:pt x="100" y="11"/>
                      </a:lnTo>
                      <a:lnTo>
                        <a:pt x="110" y="0"/>
                      </a:lnTo>
                      <a:lnTo>
                        <a:pt x="120" y="0"/>
                      </a:lnTo>
                      <a:lnTo>
                        <a:pt x="120" y="11"/>
                      </a:lnTo>
                      <a:lnTo>
                        <a:pt x="110" y="23"/>
                      </a:lnTo>
                      <a:lnTo>
                        <a:pt x="110" y="34"/>
                      </a:lnTo>
                      <a:lnTo>
                        <a:pt x="110" y="23"/>
                      </a:lnTo>
                      <a:lnTo>
                        <a:pt x="120" y="23"/>
                      </a:lnTo>
                      <a:lnTo>
                        <a:pt x="131" y="23"/>
                      </a:lnTo>
                      <a:lnTo>
                        <a:pt x="151" y="11"/>
                      </a:lnTo>
                      <a:lnTo>
                        <a:pt x="161" y="11"/>
                      </a:lnTo>
                      <a:lnTo>
                        <a:pt x="161" y="23"/>
                      </a:lnTo>
                      <a:lnTo>
                        <a:pt x="161" y="34"/>
                      </a:lnTo>
                      <a:lnTo>
                        <a:pt x="161" y="45"/>
                      </a:lnTo>
                      <a:lnTo>
                        <a:pt x="171" y="45"/>
                      </a:lnTo>
                      <a:lnTo>
                        <a:pt x="181" y="45"/>
                      </a:lnTo>
                      <a:lnTo>
                        <a:pt x="191" y="57"/>
                      </a:lnTo>
                      <a:lnTo>
                        <a:pt x="201" y="57"/>
                      </a:lnTo>
                      <a:lnTo>
                        <a:pt x="211" y="45"/>
                      </a:lnTo>
                      <a:lnTo>
                        <a:pt x="221" y="45"/>
                      </a:lnTo>
                      <a:lnTo>
                        <a:pt x="221" y="57"/>
                      </a:lnTo>
                      <a:lnTo>
                        <a:pt x="211" y="68"/>
                      </a:lnTo>
                      <a:lnTo>
                        <a:pt x="201" y="68"/>
                      </a:lnTo>
                      <a:lnTo>
                        <a:pt x="221" y="68"/>
                      </a:lnTo>
                      <a:lnTo>
                        <a:pt x="231" y="68"/>
                      </a:lnTo>
                      <a:lnTo>
                        <a:pt x="241" y="68"/>
                      </a:lnTo>
                      <a:lnTo>
                        <a:pt x="231" y="80"/>
                      </a:lnTo>
                      <a:lnTo>
                        <a:pt x="221" y="80"/>
                      </a:lnTo>
                      <a:lnTo>
                        <a:pt x="201" y="80"/>
                      </a:lnTo>
                      <a:lnTo>
                        <a:pt x="211" y="80"/>
                      </a:lnTo>
                      <a:lnTo>
                        <a:pt x="211" y="91"/>
                      </a:lnTo>
                      <a:lnTo>
                        <a:pt x="221" y="91"/>
                      </a:lnTo>
                      <a:lnTo>
                        <a:pt x="221" y="91"/>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005280" y="1451160"/>
                  <a:ext cx="446040" cy="325440"/>
                </a:xfrm>
                <a:custGeom>
                  <a:avLst/>
                  <a:gdLst/>
                  <a:ahLst/>
                  <a:rect l="l" t="t" r="r" b="b"/>
                  <a:pathLst>
                    <a:path w="281" h="205">
                      <a:moveTo>
                        <a:pt x="221" y="91"/>
                      </a:moveTo>
                      <a:lnTo>
                        <a:pt x="231" y="91"/>
                      </a:lnTo>
                      <a:lnTo>
                        <a:pt x="231" y="102"/>
                      </a:lnTo>
                      <a:lnTo>
                        <a:pt x="241" y="91"/>
                      </a:lnTo>
                      <a:lnTo>
                        <a:pt x="251" y="91"/>
                      </a:lnTo>
                      <a:lnTo>
                        <a:pt x="261" y="91"/>
                      </a:lnTo>
                      <a:lnTo>
                        <a:pt x="281" y="114"/>
                      </a:lnTo>
                      <a:lnTo>
                        <a:pt x="271" y="114"/>
                      </a:lnTo>
                      <a:lnTo>
                        <a:pt x="261" y="125"/>
                      </a:lnTo>
                      <a:lnTo>
                        <a:pt x="251" y="137"/>
                      </a:lnTo>
                      <a:lnTo>
                        <a:pt x="241" y="148"/>
                      </a:lnTo>
                      <a:lnTo>
                        <a:pt x="241" y="137"/>
                      </a:lnTo>
                      <a:lnTo>
                        <a:pt x="241" y="125"/>
                      </a:lnTo>
                      <a:lnTo>
                        <a:pt x="231" y="125"/>
                      </a:lnTo>
                      <a:lnTo>
                        <a:pt x="211" y="137"/>
                      </a:lnTo>
                      <a:lnTo>
                        <a:pt x="201" y="148"/>
                      </a:lnTo>
                      <a:lnTo>
                        <a:pt x="201" y="159"/>
                      </a:lnTo>
                      <a:lnTo>
                        <a:pt x="211" y="171"/>
                      </a:lnTo>
                      <a:lnTo>
                        <a:pt x="211" y="182"/>
                      </a:lnTo>
                      <a:lnTo>
                        <a:pt x="201" y="194"/>
                      </a:lnTo>
                      <a:lnTo>
                        <a:pt x="181" y="205"/>
                      </a:lnTo>
                      <a:lnTo>
                        <a:pt x="161" y="194"/>
                      </a:lnTo>
                      <a:lnTo>
                        <a:pt x="141" y="182"/>
                      </a:lnTo>
                      <a:lnTo>
                        <a:pt x="120" y="171"/>
                      </a:lnTo>
                      <a:lnTo>
                        <a:pt x="110" y="159"/>
                      </a:lnTo>
                      <a:lnTo>
                        <a:pt x="100" y="159"/>
                      </a:lnTo>
                      <a:lnTo>
                        <a:pt x="90" y="159"/>
                      </a:lnTo>
                      <a:lnTo>
                        <a:pt x="70" y="159"/>
                      </a:lnTo>
                      <a:lnTo>
                        <a:pt x="70" y="148"/>
                      </a:lnTo>
                      <a:lnTo>
                        <a:pt x="70" y="137"/>
                      </a:lnTo>
                      <a:lnTo>
                        <a:pt x="80" y="137"/>
                      </a:lnTo>
                      <a:lnTo>
                        <a:pt x="90" y="137"/>
                      </a:lnTo>
                      <a:lnTo>
                        <a:pt x="90" y="148"/>
                      </a:lnTo>
                      <a:lnTo>
                        <a:pt x="100" y="148"/>
                      </a:lnTo>
                      <a:lnTo>
                        <a:pt x="110" y="148"/>
                      </a:lnTo>
                      <a:lnTo>
                        <a:pt x="120" y="137"/>
                      </a:lnTo>
                      <a:lnTo>
                        <a:pt x="131" y="137"/>
                      </a:lnTo>
                      <a:lnTo>
                        <a:pt x="141" y="137"/>
                      </a:lnTo>
                      <a:lnTo>
                        <a:pt x="151" y="137"/>
                      </a:lnTo>
                      <a:lnTo>
                        <a:pt x="161" y="125"/>
                      </a:lnTo>
                      <a:lnTo>
                        <a:pt x="171" y="114"/>
                      </a:lnTo>
                      <a:lnTo>
                        <a:pt x="161" y="114"/>
                      </a:lnTo>
                      <a:lnTo>
                        <a:pt x="151" y="114"/>
                      </a:lnTo>
                      <a:lnTo>
                        <a:pt x="141" y="114"/>
                      </a:lnTo>
                      <a:lnTo>
                        <a:pt x="141" y="102"/>
                      </a:lnTo>
                      <a:lnTo>
                        <a:pt x="131" y="91"/>
                      </a:lnTo>
                      <a:lnTo>
                        <a:pt x="120" y="80"/>
                      </a:lnTo>
                      <a:lnTo>
                        <a:pt x="120" y="68"/>
                      </a:lnTo>
                      <a:lnTo>
                        <a:pt x="120" y="57"/>
                      </a:lnTo>
                      <a:lnTo>
                        <a:pt x="120" y="45"/>
                      </a:lnTo>
                      <a:lnTo>
                        <a:pt x="110" y="57"/>
                      </a:lnTo>
                      <a:lnTo>
                        <a:pt x="100" y="57"/>
                      </a:lnTo>
                      <a:lnTo>
                        <a:pt x="80" y="68"/>
                      </a:lnTo>
                      <a:lnTo>
                        <a:pt x="60" y="57"/>
                      </a:lnTo>
                      <a:lnTo>
                        <a:pt x="30" y="57"/>
                      </a:lnTo>
                      <a:lnTo>
                        <a:pt x="10" y="45"/>
                      </a:lnTo>
                      <a:lnTo>
                        <a:pt x="0" y="34"/>
                      </a:lnTo>
                      <a:lnTo>
                        <a:pt x="10" y="34"/>
                      </a:lnTo>
                      <a:lnTo>
                        <a:pt x="30" y="11"/>
                      </a:lnTo>
                      <a:lnTo>
                        <a:pt x="50" y="0"/>
                      </a:lnTo>
                      <a:lnTo>
                        <a:pt x="80" y="0"/>
                      </a:lnTo>
                      <a:lnTo>
                        <a:pt x="90" y="0"/>
                      </a:lnTo>
                      <a:lnTo>
                        <a:pt x="70" y="11"/>
                      </a:lnTo>
                      <a:lnTo>
                        <a:pt x="50" y="23"/>
                      </a:lnTo>
                      <a:lnTo>
                        <a:pt x="30" y="45"/>
                      </a:lnTo>
                      <a:lnTo>
                        <a:pt x="40" y="45"/>
                      </a:lnTo>
                      <a:lnTo>
                        <a:pt x="50" y="45"/>
                      </a:lnTo>
                      <a:lnTo>
                        <a:pt x="60" y="45"/>
                      </a:lnTo>
                      <a:lnTo>
                        <a:pt x="60" y="34"/>
                      </a:lnTo>
                      <a:lnTo>
                        <a:pt x="60" y="23"/>
                      </a:lnTo>
                      <a:lnTo>
                        <a:pt x="70" y="11"/>
                      </a:lnTo>
                      <a:lnTo>
                        <a:pt x="80" y="11"/>
                      </a:lnTo>
                      <a:lnTo>
                        <a:pt x="90" y="11"/>
                      </a:lnTo>
                      <a:lnTo>
                        <a:pt x="100" y="11"/>
                      </a:lnTo>
                      <a:lnTo>
                        <a:pt x="110" y="0"/>
                      </a:lnTo>
                      <a:lnTo>
                        <a:pt x="120" y="0"/>
                      </a:lnTo>
                      <a:lnTo>
                        <a:pt x="120" y="11"/>
                      </a:lnTo>
                      <a:lnTo>
                        <a:pt x="110" y="23"/>
                      </a:lnTo>
                      <a:lnTo>
                        <a:pt x="110" y="34"/>
                      </a:lnTo>
                      <a:lnTo>
                        <a:pt x="110" y="23"/>
                      </a:lnTo>
                      <a:lnTo>
                        <a:pt x="120" y="23"/>
                      </a:lnTo>
                      <a:lnTo>
                        <a:pt x="131" y="23"/>
                      </a:lnTo>
                      <a:lnTo>
                        <a:pt x="151" y="11"/>
                      </a:lnTo>
                      <a:lnTo>
                        <a:pt x="161" y="11"/>
                      </a:lnTo>
                      <a:lnTo>
                        <a:pt x="161" y="23"/>
                      </a:lnTo>
                      <a:lnTo>
                        <a:pt x="161" y="34"/>
                      </a:lnTo>
                      <a:lnTo>
                        <a:pt x="161" y="45"/>
                      </a:lnTo>
                      <a:lnTo>
                        <a:pt x="171" y="45"/>
                      </a:lnTo>
                      <a:lnTo>
                        <a:pt x="181" y="45"/>
                      </a:lnTo>
                      <a:lnTo>
                        <a:pt x="191" y="57"/>
                      </a:lnTo>
                      <a:lnTo>
                        <a:pt x="201" y="57"/>
                      </a:lnTo>
                      <a:lnTo>
                        <a:pt x="211" y="45"/>
                      </a:lnTo>
                      <a:lnTo>
                        <a:pt x="221" y="45"/>
                      </a:lnTo>
                      <a:lnTo>
                        <a:pt x="221" y="57"/>
                      </a:lnTo>
                      <a:lnTo>
                        <a:pt x="211" y="68"/>
                      </a:lnTo>
                      <a:lnTo>
                        <a:pt x="201" y="68"/>
                      </a:lnTo>
                      <a:lnTo>
                        <a:pt x="221" y="68"/>
                      </a:lnTo>
                      <a:lnTo>
                        <a:pt x="231" y="68"/>
                      </a:lnTo>
                      <a:lnTo>
                        <a:pt x="241" y="68"/>
                      </a:lnTo>
                      <a:lnTo>
                        <a:pt x="231" y="80"/>
                      </a:lnTo>
                      <a:lnTo>
                        <a:pt x="221" y="80"/>
                      </a:lnTo>
                      <a:lnTo>
                        <a:pt x="201" y="80"/>
                      </a:lnTo>
                      <a:lnTo>
                        <a:pt x="211" y="80"/>
                      </a:lnTo>
                      <a:lnTo>
                        <a:pt x="211" y="91"/>
                      </a:lnTo>
                      <a:lnTo>
                        <a:pt x="221" y="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102200" y="1668600"/>
                  <a:ext cx="207720" cy="54000"/>
                </a:xfrm>
                <a:custGeom>
                  <a:avLst/>
                  <a:gdLst/>
                  <a:ahLst/>
                  <a:rect l="l" t="t" r="r" b="b"/>
                  <a:pathLst>
                    <a:path w="131" h="34">
                      <a:moveTo>
                        <a:pt x="41" y="22"/>
                      </a:moveTo>
                      <a:lnTo>
                        <a:pt x="41" y="11"/>
                      </a:lnTo>
                      <a:lnTo>
                        <a:pt x="41" y="0"/>
                      </a:lnTo>
                      <a:lnTo>
                        <a:pt x="21" y="0"/>
                      </a:lnTo>
                      <a:lnTo>
                        <a:pt x="11" y="0"/>
                      </a:lnTo>
                      <a:lnTo>
                        <a:pt x="0" y="0"/>
                      </a:lnTo>
                      <a:lnTo>
                        <a:pt x="21" y="0"/>
                      </a:lnTo>
                      <a:lnTo>
                        <a:pt x="31" y="11"/>
                      </a:lnTo>
                      <a:lnTo>
                        <a:pt x="41" y="0"/>
                      </a:lnTo>
                      <a:lnTo>
                        <a:pt x="51" y="0"/>
                      </a:lnTo>
                      <a:lnTo>
                        <a:pt x="61" y="0"/>
                      </a:lnTo>
                      <a:lnTo>
                        <a:pt x="81" y="0"/>
                      </a:lnTo>
                      <a:lnTo>
                        <a:pt x="101" y="0"/>
                      </a:lnTo>
                      <a:lnTo>
                        <a:pt x="131" y="0"/>
                      </a:lnTo>
                      <a:lnTo>
                        <a:pt x="131" y="11"/>
                      </a:lnTo>
                      <a:lnTo>
                        <a:pt x="121" y="11"/>
                      </a:lnTo>
                      <a:lnTo>
                        <a:pt x="121" y="22"/>
                      </a:lnTo>
                      <a:lnTo>
                        <a:pt x="101" y="22"/>
                      </a:lnTo>
                      <a:lnTo>
                        <a:pt x="91" y="34"/>
                      </a:lnTo>
                      <a:lnTo>
                        <a:pt x="71" y="34"/>
                      </a:lnTo>
                      <a:lnTo>
                        <a:pt x="61" y="34"/>
                      </a:lnTo>
                      <a:lnTo>
                        <a:pt x="41" y="34"/>
                      </a:lnTo>
                      <a:lnTo>
                        <a:pt x="41" y="22"/>
                      </a:lnTo>
                      <a:lnTo>
                        <a:pt x="41" y="22"/>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7" name=""/>
                <p:cNvSpPr/>
                <p:nvPr/>
              </p:nvSpPr>
              <p:spPr>
                <a:xfrm>
                  <a:off x="4102200" y="1668600"/>
                  <a:ext cx="207720" cy="54000"/>
                </a:xfrm>
                <a:custGeom>
                  <a:avLst/>
                  <a:gdLst/>
                  <a:ahLst/>
                  <a:rect l="l" t="t" r="r" b="b"/>
                  <a:pathLst>
                    <a:path w="131" h="34">
                      <a:moveTo>
                        <a:pt x="41" y="22"/>
                      </a:moveTo>
                      <a:lnTo>
                        <a:pt x="41" y="11"/>
                      </a:lnTo>
                      <a:lnTo>
                        <a:pt x="41" y="0"/>
                      </a:lnTo>
                      <a:lnTo>
                        <a:pt x="21" y="0"/>
                      </a:lnTo>
                      <a:lnTo>
                        <a:pt x="11" y="0"/>
                      </a:lnTo>
                      <a:lnTo>
                        <a:pt x="0" y="0"/>
                      </a:lnTo>
                      <a:lnTo>
                        <a:pt x="21" y="0"/>
                      </a:lnTo>
                      <a:lnTo>
                        <a:pt x="31" y="11"/>
                      </a:lnTo>
                      <a:lnTo>
                        <a:pt x="41" y="0"/>
                      </a:lnTo>
                      <a:lnTo>
                        <a:pt x="51" y="0"/>
                      </a:lnTo>
                      <a:lnTo>
                        <a:pt x="61" y="0"/>
                      </a:lnTo>
                      <a:lnTo>
                        <a:pt x="81" y="0"/>
                      </a:lnTo>
                      <a:lnTo>
                        <a:pt x="101" y="0"/>
                      </a:lnTo>
                      <a:lnTo>
                        <a:pt x="131" y="0"/>
                      </a:lnTo>
                      <a:lnTo>
                        <a:pt x="131" y="11"/>
                      </a:lnTo>
                      <a:lnTo>
                        <a:pt x="121" y="11"/>
                      </a:lnTo>
                      <a:lnTo>
                        <a:pt x="121" y="22"/>
                      </a:lnTo>
                      <a:lnTo>
                        <a:pt x="101" y="22"/>
                      </a:lnTo>
                      <a:lnTo>
                        <a:pt x="91" y="34"/>
                      </a:lnTo>
                      <a:lnTo>
                        <a:pt x="71" y="34"/>
                      </a:lnTo>
                      <a:lnTo>
                        <a:pt x="61" y="34"/>
                      </a:lnTo>
                      <a:lnTo>
                        <a:pt x="41" y="34"/>
                      </a:lnTo>
                      <a:lnTo>
                        <a:pt x="41" y="2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8" name=""/>
                <p:cNvSpPr/>
                <p:nvPr/>
              </p:nvSpPr>
              <p:spPr>
                <a:xfrm>
                  <a:off x="2957400" y="1649520"/>
                  <a:ext cx="63720" cy="73080"/>
                </a:xfrm>
                <a:custGeom>
                  <a:avLst/>
                  <a:gdLst/>
                  <a:ahLst/>
                  <a:rect l="l" t="t" r="r" b="b"/>
                  <a:pathLst>
                    <a:path w="40" h="46">
                      <a:moveTo>
                        <a:pt x="40" y="23"/>
                      </a:moveTo>
                      <a:lnTo>
                        <a:pt x="40" y="34"/>
                      </a:lnTo>
                      <a:lnTo>
                        <a:pt x="40" y="46"/>
                      </a:lnTo>
                      <a:lnTo>
                        <a:pt x="20" y="46"/>
                      </a:lnTo>
                      <a:lnTo>
                        <a:pt x="10" y="46"/>
                      </a:lnTo>
                      <a:lnTo>
                        <a:pt x="0" y="34"/>
                      </a:lnTo>
                      <a:lnTo>
                        <a:pt x="0" y="23"/>
                      </a:lnTo>
                      <a:lnTo>
                        <a:pt x="10" y="12"/>
                      </a:lnTo>
                      <a:lnTo>
                        <a:pt x="20" y="0"/>
                      </a:lnTo>
                      <a:lnTo>
                        <a:pt x="30" y="12"/>
                      </a:lnTo>
                      <a:lnTo>
                        <a:pt x="40" y="12"/>
                      </a:lnTo>
                      <a:lnTo>
                        <a:pt x="40" y="23"/>
                      </a:lnTo>
                      <a:lnTo>
                        <a:pt x="40" y="23"/>
                      </a:lnTo>
                      <a:close/>
                    </a:path>
                  </a:pathLst>
                </a:custGeom>
                <a:solidFill>
                  <a:srgbClr val="00937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9" name=""/>
                <p:cNvSpPr/>
                <p:nvPr/>
              </p:nvSpPr>
              <p:spPr>
                <a:xfrm>
                  <a:off x="2957400" y="1649520"/>
                  <a:ext cx="63720" cy="73080"/>
                </a:xfrm>
                <a:custGeom>
                  <a:avLst/>
                  <a:gdLst/>
                  <a:ahLst/>
                  <a:rect l="l" t="t" r="r" b="b"/>
                  <a:pathLst>
                    <a:path w="40" h="46">
                      <a:moveTo>
                        <a:pt x="40" y="23"/>
                      </a:moveTo>
                      <a:lnTo>
                        <a:pt x="40" y="34"/>
                      </a:lnTo>
                      <a:lnTo>
                        <a:pt x="40" y="46"/>
                      </a:lnTo>
                      <a:lnTo>
                        <a:pt x="20" y="46"/>
                      </a:lnTo>
                      <a:lnTo>
                        <a:pt x="10" y="46"/>
                      </a:lnTo>
                      <a:lnTo>
                        <a:pt x="0" y="34"/>
                      </a:lnTo>
                      <a:lnTo>
                        <a:pt x="0" y="23"/>
                      </a:lnTo>
                      <a:lnTo>
                        <a:pt x="10" y="12"/>
                      </a:lnTo>
                      <a:lnTo>
                        <a:pt x="20" y="0"/>
                      </a:lnTo>
                      <a:lnTo>
                        <a:pt x="30" y="12"/>
                      </a:lnTo>
                      <a:lnTo>
                        <a:pt x="40" y="12"/>
                      </a:lnTo>
                      <a:lnTo>
                        <a:pt x="40" y="23"/>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1463760" y="1884240"/>
                  <a:ext cx="47520" cy="19080"/>
                </a:xfrm>
                <a:custGeom>
                  <a:avLst/>
                  <a:gdLst/>
                  <a:ahLst/>
                  <a:rect l="l" t="t" r="r" b="b"/>
                  <a:pathLst>
                    <a:path w="30" h="12">
                      <a:moveTo>
                        <a:pt x="30" y="0"/>
                      </a:moveTo>
                      <a:lnTo>
                        <a:pt x="20" y="0"/>
                      </a:lnTo>
                      <a:lnTo>
                        <a:pt x="0" y="12"/>
                      </a:lnTo>
                      <a:lnTo>
                        <a:pt x="20" y="0"/>
                      </a:lnTo>
                      <a:lnTo>
                        <a:pt x="30" y="0"/>
                      </a:lnTo>
                      <a:lnTo>
                        <a:pt x="3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1463760" y="1884240"/>
                  <a:ext cx="47520" cy="19080"/>
                </a:xfrm>
                <a:custGeom>
                  <a:avLst/>
                  <a:gdLst/>
                  <a:ahLst/>
                  <a:rect l="l" t="t" r="r" b="b"/>
                  <a:pathLst>
                    <a:path w="30" h="12">
                      <a:moveTo>
                        <a:pt x="30" y="0"/>
                      </a:moveTo>
                      <a:lnTo>
                        <a:pt x="20" y="0"/>
                      </a:lnTo>
                      <a:lnTo>
                        <a:pt x="0" y="12"/>
                      </a:lnTo>
                      <a:lnTo>
                        <a:pt x="20" y="0"/>
                      </a:lnTo>
                      <a:lnTo>
                        <a:pt x="3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2941560" y="1920960"/>
                  <a:ext cx="15840" cy="19080"/>
                </a:xfrm>
                <a:custGeom>
                  <a:avLst/>
                  <a:gdLst/>
                  <a:ahLst/>
                  <a:rect l="l" t="t" r="r" b="b"/>
                  <a:pathLst>
                    <a:path w="10" h="12">
                      <a:moveTo>
                        <a:pt x="10" y="0"/>
                      </a:moveTo>
                      <a:lnTo>
                        <a:pt x="10" y="12"/>
                      </a:lnTo>
                      <a:lnTo>
                        <a:pt x="0" y="12"/>
                      </a:lnTo>
                      <a:lnTo>
                        <a:pt x="10" y="12"/>
                      </a:lnTo>
                      <a:lnTo>
                        <a:pt x="10" y="0"/>
                      </a:lnTo>
                      <a:lnTo>
                        <a:pt x="1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2941560" y="1920960"/>
                  <a:ext cx="15840" cy="19080"/>
                </a:xfrm>
                <a:custGeom>
                  <a:avLst/>
                  <a:gdLst/>
                  <a:ahLst/>
                  <a:rect l="l" t="t" r="r" b="b"/>
                  <a:pathLst>
                    <a:path w="10" h="12">
                      <a:moveTo>
                        <a:pt x="10" y="0"/>
                      </a:moveTo>
                      <a:lnTo>
                        <a:pt x="10" y="12"/>
                      </a:lnTo>
                      <a:lnTo>
                        <a:pt x="0" y="12"/>
                      </a:lnTo>
                      <a:lnTo>
                        <a:pt x="10" y="12"/>
                      </a:lnTo>
                      <a:lnTo>
                        <a:pt x="1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1892160" y="1920960"/>
                  <a:ext cx="15840" cy="19080"/>
                </a:xfrm>
                <a:custGeom>
                  <a:avLst/>
                  <a:gdLst/>
                  <a:ahLst/>
                  <a:rect l="l" t="t" r="r" b="b"/>
                  <a:pathLst>
                    <a:path w="10" h="12">
                      <a:moveTo>
                        <a:pt x="10" y="0"/>
                      </a:moveTo>
                      <a:lnTo>
                        <a:pt x="0" y="0"/>
                      </a:lnTo>
                      <a:lnTo>
                        <a:pt x="0" y="12"/>
                      </a:ln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1892160" y="1920960"/>
                  <a:ext cx="15840" cy="19080"/>
                </a:xfrm>
                <a:custGeom>
                  <a:avLst/>
                  <a:gdLst/>
                  <a:ahLst/>
                  <a:rect l="l" t="t" r="r" b="b"/>
                  <a:pathLst>
                    <a:path w="10" h="12">
                      <a:moveTo>
                        <a:pt x="10" y="0"/>
                      </a:moveTo>
                      <a:lnTo>
                        <a:pt x="0" y="0"/>
                      </a:lnTo>
                      <a:lnTo>
                        <a:pt x="0" y="12"/>
                      </a:lnTo>
                      <a:lnTo>
                        <a:pt x="0" y="0"/>
                      </a:lnTo>
                      <a:lnTo>
                        <a:pt x="1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1271520" y="1957320"/>
                  <a:ext cx="15840" cy="1800"/>
                </a:xfrm>
                <a:custGeom>
                  <a:avLst/>
                  <a:gdLst/>
                  <a:ahLst/>
                  <a:rect l="l" t="t" r="r" b="b"/>
                  <a:pathLst>
                    <a:path w="10" h="0">
                      <a:moveTo>
                        <a:pt x="10" y="0"/>
                      </a:move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1271520" y="1957320"/>
                  <a:ext cx="15840" cy="1800"/>
                </a:xfrm>
                <a:custGeom>
                  <a:avLst/>
                  <a:gdLst/>
                  <a:ahLst/>
                  <a:rect l="l" t="t" r="r" b="b"/>
                  <a:pathLst>
                    <a:path w="10" h="0">
                      <a:moveTo>
                        <a:pt x="10" y="0"/>
                      </a:moveTo>
                      <a:lnTo>
                        <a:pt x="0" y="0"/>
                      </a:lnTo>
                      <a:lnTo>
                        <a:pt x="1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4437000" y="1866960"/>
                  <a:ext cx="158760" cy="235080"/>
                </a:xfrm>
                <a:custGeom>
                  <a:avLst/>
                  <a:gdLst/>
                  <a:ahLst/>
                  <a:rect l="l" t="t" r="r" b="b"/>
                  <a:pathLst>
                    <a:path w="100" h="148">
                      <a:moveTo>
                        <a:pt x="20" y="0"/>
                      </a:moveTo>
                      <a:lnTo>
                        <a:pt x="20" y="11"/>
                      </a:lnTo>
                      <a:lnTo>
                        <a:pt x="40" y="11"/>
                      </a:lnTo>
                      <a:lnTo>
                        <a:pt x="50" y="11"/>
                      </a:lnTo>
                      <a:lnTo>
                        <a:pt x="50" y="23"/>
                      </a:lnTo>
                      <a:lnTo>
                        <a:pt x="40" y="34"/>
                      </a:lnTo>
                      <a:lnTo>
                        <a:pt x="30" y="46"/>
                      </a:lnTo>
                      <a:lnTo>
                        <a:pt x="40" y="46"/>
                      </a:lnTo>
                      <a:lnTo>
                        <a:pt x="50" y="46"/>
                      </a:lnTo>
                      <a:lnTo>
                        <a:pt x="60" y="57"/>
                      </a:lnTo>
                      <a:lnTo>
                        <a:pt x="60" y="68"/>
                      </a:lnTo>
                      <a:lnTo>
                        <a:pt x="70" y="80"/>
                      </a:lnTo>
                      <a:lnTo>
                        <a:pt x="80" y="91"/>
                      </a:lnTo>
                      <a:lnTo>
                        <a:pt x="90" y="91"/>
                      </a:lnTo>
                      <a:lnTo>
                        <a:pt x="100" y="103"/>
                      </a:lnTo>
                      <a:lnTo>
                        <a:pt x="100" y="114"/>
                      </a:lnTo>
                      <a:lnTo>
                        <a:pt x="90" y="125"/>
                      </a:lnTo>
                      <a:lnTo>
                        <a:pt x="80" y="125"/>
                      </a:lnTo>
                      <a:lnTo>
                        <a:pt x="80" y="137"/>
                      </a:lnTo>
                      <a:lnTo>
                        <a:pt x="80" y="148"/>
                      </a:lnTo>
                      <a:lnTo>
                        <a:pt x="70" y="137"/>
                      </a:lnTo>
                      <a:lnTo>
                        <a:pt x="60" y="125"/>
                      </a:lnTo>
                      <a:lnTo>
                        <a:pt x="50" y="125"/>
                      </a:lnTo>
                      <a:lnTo>
                        <a:pt x="40" y="125"/>
                      </a:lnTo>
                      <a:lnTo>
                        <a:pt x="30" y="125"/>
                      </a:lnTo>
                      <a:lnTo>
                        <a:pt x="20" y="125"/>
                      </a:lnTo>
                      <a:lnTo>
                        <a:pt x="20" y="114"/>
                      </a:lnTo>
                      <a:lnTo>
                        <a:pt x="10" y="114"/>
                      </a:lnTo>
                      <a:lnTo>
                        <a:pt x="20" y="103"/>
                      </a:lnTo>
                      <a:lnTo>
                        <a:pt x="30" y="103"/>
                      </a:lnTo>
                      <a:lnTo>
                        <a:pt x="50" y="91"/>
                      </a:lnTo>
                      <a:lnTo>
                        <a:pt x="40" y="68"/>
                      </a:lnTo>
                      <a:lnTo>
                        <a:pt x="30" y="68"/>
                      </a:lnTo>
                      <a:lnTo>
                        <a:pt x="20" y="68"/>
                      </a:lnTo>
                      <a:lnTo>
                        <a:pt x="10" y="68"/>
                      </a:lnTo>
                      <a:lnTo>
                        <a:pt x="10" y="57"/>
                      </a:lnTo>
                      <a:lnTo>
                        <a:pt x="20" y="46"/>
                      </a:lnTo>
                      <a:lnTo>
                        <a:pt x="20" y="34"/>
                      </a:lnTo>
                      <a:lnTo>
                        <a:pt x="10" y="46"/>
                      </a:lnTo>
                      <a:lnTo>
                        <a:pt x="10" y="57"/>
                      </a:lnTo>
                      <a:lnTo>
                        <a:pt x="0" y="57"/>
                      </a:lnTo>
                      <a:lnTo>
                        <a:pt x="0" y="46"/>
                      </a:lnTo>
                      <a:lnTo>
                        <a:pt x="10" y="46"/>
                      </a:lnTo>
                      <a:lnTo>
                        <a:pt x="10" y="34"/>
                      </a:lnTo>
                      <a:lnTo>
                        <a:pt x="20" y="23"/>
                      </a:lnTo>
                      <a:lnTo>
                        <a:pt x="20" y="0"/>
                      </a:lnTo>
                      <a:lnTo>
                        <a:pt x="2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437000" y="1866960"/>
                  <a:ext cx="158760" cy="235080"/>
                </a:xfrm>
                <a:custGeom>
                  <a:avLst/>
                  <a:gdLst/>
                  <a:ahLst/>
                  <a:rect l="l" t="t" r="r" b="b"/>
                  <a:pathLst>
                    <a:path w="100" h="148">
                      <a:moveTo>
                        <a:pt x="20" y="0"/>
                      </a:moveTo>
                      <a:lnTo>
                        <a:pt x="20" y="11"/>
                      </a:lnTo>
                      <a:lnTo>
                        <a:pt x="40" y="11"/>
                      </a:lnTo>
                      <a:lnTo>
                        <a:pt x="50" y="11"/>
                      </a:lnTo>
                      <a:lnTo>
                        <a:pt x="50" y="23"/>
                      </a:lnTo>
                      <a:lnTo>
                        <a:pt x="40" y="34"/>
                      </a:lnTo>
                      <a:lnTo>
                        <a:pt x="30" y="46"/>
                      </a:lnTo>
                      <a:lnTo>
                        <a:pt x="40" y="46"/>
                      </a:lnTo>
                      <a:lnTo>
                        <a:pt x="50" y="46"/>
                      </a:lnTo>
                      <a:lnTo>
                        <a:pt x="60" y="57"/>
                      </a:lnTo>
                      <a:lnTo>
                        <a:pt x="60" y="68"/>
                      </a:lnTo>
                      <a:lnTo>
                        <a:pt x="70" y="80"/>
                      </a:lnTo>
                      <a:lnTo>
                        <a:pt x="80" y="91"/>
                      </a:lnTo>
                      <a:lnTo>
                        <a:pt x="90" y="91"/>
                      </a:lnTo>
                      <a:lnTo>
                        <a:pt x="100" y="103"/>
                      </a:lnTo>
                      <a:lnTo>
                        <a:pt x="100" y="114"/>
                      </a:lnTo>
                      <a:lnTo>
                        <a:pt x="90" y="125"/>
                      </a:lnTo>
                      <a:lnTo>
                        <a:pt x="80" y="125"/>
                      </a:lnTo>
                      <a:lnTo>
                        <a:pt x="80" y="137"/>
                      </a:lnTo>
                      <a:lnTo>
                        <a:pt x="80" y="148"/>
                      </a:lnTo>
                      <a:lnTo>
                        <a:pt x="70" y="137"/>
                      </a:lnTo>
                      <a:lnTo>
                        <a:pt x="60" y="125"/>
                      </a:lnTo>
                      <a:lnTo>
                        <a:pt x="50" y="125"/>
                      </a:lnTo>
                      <a:lnTo>
                        <a:pt x="40" y="125"/>
                      </a:lnTo>
                      <a:lnTo>
                        <a:pt x="30" y="125"/>
                      </a:lnTo>
                      <a:lnTo>
                        <a:pt x="20" y="125"/>
                      </a:lnTo>
                      <a:lnTo>
                        <a:pt x="20" y="114"/>
                      </a:lnTo>
                      <a:lnTo>
                        <a:pt x="10" y="114"/>
                      </a:lnTo>
                      <a:lnTo>
                        <a:pt x="20" y="103"/>
                      </a:lnTo>
                      <a:lnTo>
                        <a:pt x="30" y="103"/>
                      </a:lnTo>
                      <a:lnTo>
                        <a:pt x="50" y="91"/>
                      </a:lnTo>
                      <a:lnTo>
                        <a:pt x="40" y="68"/>
                      </a:lnTo>
                      <a:lnTo>
                        <a:pt x="30" y="68"/>
                      </a:lnTo>
                      <a:lnTo>
                        <a:pt x="20" y="68"/>
                      </a:lnTo>
                      <a:lnTo>
                        <a:pt x="10" y="68"/>
                      </a:lnTo>
                      <a:lnTo>
                        <a:pt x="10" y="57"/>
                      </a:lnTo>
                      <a:lnTo>
                        <a:pt x="20" y="46"/>
                      </a:lnTo>
                      <a:lnTo>
                        <a:pt x="20" y="34"/>
                      </a:lnTo>
                      <a:lnTo>
                        <a:pt x="10" y="46"/>
                      </a:lnTo>
                      <a:lnTo>
                        <a:pt x="10" y="57"/>
                      </a:lnTo>
                      <a:lnTo>
                        <a:pt x="0" y="57"/>
                      </a:lnTo>
                      <a:lnTo>
                        <a:pt x="0" y="46"/>
                      </a:lnTo>
                      <a:lnTo>
                        <a:pt x="10" y="46"/>
                      </a:lnTo>
                      <a:lnTo>
                        <a:pt x="10" y="34"/>
                      </a:lnTo>
                      <a:lnTo>
                        <a:pt x="20" y="23"/>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341960" y="1994040"/>
                  <a:ext cx="95040" cy="71280"/>
                </a:xfrm>
                <a:custGeom>
                  <a:avLst/>
                  <a:gdLst/>
                  <a:ahLst/>
                  <a:rect l="l" t="t" r="r" b="b"/>
                  <a:pathLst>
                    <a:path w="60" h="45">
                      <a:moveTo>
                        <a:pt x="60" y="0"/>
                      </a:moveTo>
                      <a:lnTo>
                        <a:pt x="50" y="11"/>
                      </a:lnTo>
                      <a:lnTo>
                        <a:pt x="40" y="34"/>
                      </a:lnTo>
                      <a:lnTo>
                        <a:pt x="30" y="45"/>
                      </a:lnTo>
                      <a:lnTo>
                        <a:pt x="20" y="45"/>
                      </a:lnTo>
                      <a:lnTo>
                        <a:pt x="0" y="45"/>
                      </a:lnTo>
                      <a:lnTo>
                        <a:pt x="0" y="34"/>
                      </a:lnTo>
                      <a:lnTo>
                        <a:pt x="10" y="34"/>
                      </a:lnTo>
                      <a:lnTo>
                        <a:pt x="20" y="34"/>
                      </a:lnTo>
                      <a:lnTo>
                        <a:pt x="20" y="23"/>
                      </a:lnTo>
                      <a:lnTo>
                        <a:pt x="10" y="11"/>
                      </a:lnTo>
                      <a:lnTo>
                        <a:pt x="10" y="0"/>
                      </a:lnTo>
                      <a:lnTo>
                        <a:pt x="30" y="0"/>
                      </a:lnTo>
                      <a:lnTo>
                        <a:pt x="40" y="0"/>
                      </a:lnTo>
                      <a:lnTo>
                        <a:pt x="60" y="0"/>
                      </a:lnTo>
                      <a:lnTo>
                        <a:pt x="60" y="0"/>
                      </a:lnTo>
                      <a:close/>
                    </a:path>
                  </a:pathLst>
                </a:custGeom>
                <a:solidFill>
                  <a:srgbClr val="00937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1" name=""/>
                <p:cNvSpPr/>
                <p:nvPr/>
              </p:nvSpPr>
              <p:spPr>
                <a:xfrm>
                  <a:off x="4341960" y="1994040"/>
                  <a:ext cx="95040" cy="71280"/>
                </a:xfrm>
                <a:custGeom>
                  <a:avLst/>
                  <a:gdLst/>
                  <a:ahLst/>
                  <a:rect l="l" t="t" r="r" b="b"/>
                  <a:pathLst>
                    <a:path w="60" h="45">
                      <a:moveTo>
                        <a:pt x="60" y="0"/>
                      </a:moveTo>
                      <a:lnTo>
                        <a:pt x="50" y="11"/>
                      </a:lnTo>
                      <a:lnTo>
                        <a:pt x="40" y="34"/>
                      </a:lnTo>
                      <a:lnTo>
                        <a:pt x="30" y="45"/>
                      </a:lnTo>
                      <a:lnTo>
                        <a:pt x="20" y="45"/>
                      </a:lnTo>
                      <a:lnTo>
                        <a:pt x="0" y="45"/>
                      </a:lnTo>
                      <a:lnTo>
                        <a:pt x="0" y="34"/>
                      </a:lnTo>
                      <a:lnTo>
                        <a:pt x="10" y="34"/>
                      </a:lnTo>
                      <a:lnTo>
                        <a:pt x="20" y="34"/>
                      </a:lnTo>
                      <a:lnTo>
                        <a:pt x="20" y="23"/>
                      </a:lnTo>
                      <a:lnTo>
                        <a:pt x="10" y="11"/>
                      </a:lnTo>
                      <a:lnTo>
                        <a:pt x="10" y="0"/>
                      </a:lnTo>
                      <a:lnTo>
                        <a:pt x="30" y="0"/>
                      </a:lnTo>
                      <a:lnTo>
                        <a:pt x="40" y="0"/>
                      </a:lnTo>
                      <a:lnTo>
                        <a:pt x="6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
                <p:cNvSpPr/>
                <p:nvPr/>
              </p:nvSpPr>
              <p:spPr>
                <a:xfrm>
                  <a:off x="8158320" y="2030400"/>
                  <a:ext cx="15840" cy="1440"/>
                </a:xfrm>
                <a:custGeom>
                  <a:avLst/>
                  <a:gdLst/>
                  <a:ahLst/>
                  <a:rect l="l" t="t" r="r" b="b"/>
                  <a:pathLst>
                    <a:path w="10" h="0">
                      <a:moveTo>
                        <a:pt x="0" y="0"/>
                      </a:moveTo>
                      <a:lnTo>
                        <a:pt x="10" y="0"/>
                      </a:lnTo>
                      <a:lnTo>
                        <a:pt x="0" y="0"/>
                      </a:lnTo>
                      <a:lnTo>
                        <a:pt x="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158320" y="2030400"/>
                  <a:ext cx="15840" cy="144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4659480" y="2030400"/>
                  <a:ext cx="15840" cy="1440"/>
                </a:xfrm>
                <a:custGeom>
                  <a:avLst/>
                  <a:gdLst/>
                  <a:ahLst/>
                  <a:rect l="l" t="t" r="r" b="b"/>
                  <a:pathLst>
                    <a:path w="10" h="0">
                      <a:moveTo>
                        <a:pt x="10" y="0"/>
                      </a:move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4659480" y="2030400"/>
                  <a:ext cx="15840" cy="1440"/>
                </a:xfrm>
                <a:custGeom>
                  <a:avLst/>
                  <a:gdLst/>
                  <a:ahLst/>
                  <a:rect l="l" t="t" r="r" b="b"/>
                  <a:pathLst>
                    <a:path w="10" h="0">
                      <a:moveTo>
                        <a:pt x="10" y="0"/>
                      </a:moveTo>
                      <a:lnTo>
                        <a:pt x="0" y="0"/>
                      </a:lnTo>
                      <a:lnTo>
                        <a:pt x="1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7505640" y="2030400"/>
                  <a:ext cx="174600" cy="198360"/>
                </a:xfrm>
                <a:custGeom>
                  <a:avLst/>
                  <a:gdLst/>
                  <a:ahLst/>
                  <a:rect l="l" t="t" r="r" b="b"/>
                  <a:pathLst>
                    <a:path w="110" h="125">
                      <a:moveTo>
                        <a:pt x="0" y="0"/>
                      </a:moveTo>
                      <a:lnTo>
                        <a:pt x="10" y="0"/>
                      </a:lnTo>
                      <a:lnTo>
                        <a:pt x="30" y="11"/>
                      </a:lnTo>
                      <a:lnTo>
                        <a:pt x="40" y="22"/>
                      </a:lnTo>
                      <a:lnTo>
                        <a:pt x="50" y="34"/>
                      </a:lnTo>
                      <a:lnTo>
                        <a:pt x="60" y="45"/>
                      </a:lnTo>
                      <a:lnTo>
                        <a:pt x="70" y="57"/>
                      </a:lnTo>
                      <a:lnTo>
                        <a:pt x="80" y="57"/>
                      </a:lnTo>
                      <a:lnTo>
                        <a:pt x="90" y="68"/>
                      </a:lnTo>
                      <a:lnTo>
                        <a:pt x="100" y="79"/>
                      </a:lnTo>
                      <a:lnTo>
                        <a:pt x="90" y="79"/>
                      </a:lnTo>
                      <a:lnTo>
                        <a:pt x="80" y="79"/>
                      </a:lnTo>
                      <a:lnTo>
                        <a:pt x="70" y="68"/>
                      </a:lnTo>
                      <a:lnTo>
                        <a:pt x="80" y="68"/>
                      </a:lnTo>
                      <a:lnTo>
                        <a:pt x="80" y="79"/>
                      </a:lnTo>
                      <a:lnTo>
                        <a:pt x="90" y="102"/>
                      </a:lnTo>
                      <a:lnTo>
                        <a:pt x="100" y="114"/>
                      </a:lnTo>
                      <a:lnTo>
                        <a:pt x="100" y="125"/>
                      </a:lnTo>
                      <a:lnTo>
                        <a:pt x="110" y="125"/>
                      </a:lnTo>
                      <a:lnTo>
                        <a:pt x="100" y="114"/>
                      </a:lnTo>
                      <a:lnTo>
                        <a:pt x="70" y="91"/>
                      </a:lnTo>
                      <a:lnTo>
                        <a:pt x="60" y="79"/>
                      </a:lnTo>
                      <a:lnTo>
                        <a:pt x="50" y="68"/>
                      </a:lnTo>
                      <a:lnTo>
                        <a:pt x="60" y="68"/>
                      </a:lnTo>
                      <a:lnTo>
                        <a:pt x="50" y="57"/>
                      </a:lnTo>
                      <a:lnTo>
                        <a:pt x="30" y="34"/>
                      </a:lnTo>
                      <a:lnTo>
                        <a:pt x="20" y="22"/>
                      </a:lnTo>
                      <a:lnTo>
                        <a:pt x="10" y="22"/>
                      </a:lnTo>
                      <a:lnTo>
                        <a:pt x="10" y="11"/>
                      </a:lnTo>
                      <a:lnTo>
                        <a:pt x="0" y="0"/>
                      </a:lnTo>
                      <a:lnTo>
                        <a:pt x="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505640" y="2030400"/>
                  <a:ext cx="174600" cy="198360"/>
                </a:xfrm>
                <a:custGeom>
                  <a:avLst/>
                  <a:gdLst/>
                  <a:ahLst/>
                  <a:rect l="l" t="t" r="r" b="b"/>
                  <a:pathLst>
                    <a:path w="110" h="125">
                      <a:moveTo>
                        <a:pt x="0" y="0"/>
                      </a:moveTo>
                      <a:lnTo>
                        <a:pt x="10" y="0"/>
                      </a:lnTo>
                      <a:lnTo>
                        <a:pt x="30" y="11"/>
                      </a:lnTo>
                      <a:lnTo>
                        <a:pt x="40" y="22"/>
                      </a:lnTo>
                      <a:lnTo>
                        <a:pt x="50" y="34"/>
                      </a:lnTo>
                      <a:lnTo>
                        <a:pt x="60" y="45"/>
                      </a:lnTo>
                      <a:lnTo>
                        <a:pt x="70" y="57"/>
                      </a:lnTo>
                      <a:lnTo>
                        <a:pt x="80" y="57"/>
                      </a:lnTo>
                      <a:lnTo>
                        <a:pt x="90" y="68"/>
                      </a:lnTo>
                      <a:lnTo>
                        <a:pt x="100" y="79"/>
                      </a:lnTo>
                      <a:lnTo>
                        <a:pt x="90" y="79"/>
                      </a:lnTo>
                      <a:lnTo>
                        <a:pt x="80" y="79"/>
                      </a:lnTo>
                      <a:lnTo>
                        <a:pt x="70" y="68"/>
                      </a:lnTo>
                      <a:lnTo>
                        <a:pt x="80" y="68"/>
                      </a:lnTo>
                      <a:lnTo>
                        <a:pt x="80" y="79"/>
                      </a:lnTo>
                      <a:lnTo>
                        <a:pt x="90" y="102"/>
                      </a:lnTo>
                      <a:lnTo>
                        <a:pt x="100" y="114"/>
                      </a:lnTo>
                      <a:lnTo>
                        <a:pt x="100" y="125"/>
                      </a:lnTo>
                      <a:lnTo>
                        <a:pt x="110" y="125"/>
                      </a:lnTo>
                      <a:lnTo>
                        <a:pt x="100" y="114"/>
                      </a:lnTo>
                      <a:lnTo>
                        <a:pt x="70" y="91"/>
                      </a:lnTo>
                      <a:lnTo>
                        <a:pt x="60" y="79"/>
                      </a:lnTo>
                      <a:lnTo>
                        <a:pt x="50" y="68"/>
                      </a:lnTo>
                      <a:lnTo>
                        <a:pt x="60" y="68"/>
                      </a:lnTo>
                      <a:lnTo>
                        <a:pt x="50" y="57"/>
                      </a:lnTo>
                      <a:lnTo>
                        <a:pt x="30" y="34"/>
                      </a:lnTo>
                      <a:lnTo>
                        <a:pt x="20" y="22"/>
                      </a:lnTo>
                      <a:lnTo>
                        <a:pt x="10" y="22"/>
                      </a:lnTo>
                      <a:lnTo>
                        <a:pt x="10" y="1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876320" y="2102040"/>
                  <a:ext cx="47880" cy="72720"/>
                </a:xfrm>
                <a:custGeom>
                  <a:avLst/>
                  <a:gdLst/>
                  <a:ahLst/>
                  <a:rect l="l" t="t" r="r" b="b"/>
                  <a:pathLst>
                    <a:path w="30" h="46">
                      <a:moveTo>
                        <a:pt x="0" y="0"/>
                      </a:moveTo>
                      <a:lnTo>
                        <a:pt x="10" y="12"/>
                      </a:lnTo>
                      <a:lnTo>
                        <a:pt x="20" y="23"/>
                      </a:lnTo>
                      <a:lnTo>
                        <a:pt x="30" y="46"/>
                      </a:lnTo>
                      <a:lnTo>
                        <a:pt x="20" y="46"/>
                      </a:lnTo>
                      <a:lnTo>
                        <a:pt x="20" y="34"/>
                      </a:lnTo>
                      <a:lnTo>
                        <a:pt x="10" y="34"/>
                      </a:lnTo>
                      <a:lnTo>
                        <a:pt x="10" y="23"/>
                      </a:lnTo>
                      <a:lnTo>
                        <a:pt x="0" y="0"/>
                      </a:lnTo>
                      <a:lnTo>
                        <a:pt x="0" y="0"/>
                      </a:lnTo>
                      <a:close/>
                    </a:path>
                  </a:pathLst>
                </a:custGeom>
                <a:solidFill>
                  <a:srgbClr val="00937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9" name=""/>
                <p:cNvSpPr/>
                <p:nvPr/>
              </p:nvSpPr>
              <p:spPr>
                <a:xfrm>
                  <a:off x="1876320" y="2102040"/>
                  <a:ext cx="47880" cy="72720"/>
                </a:xfrm>
                <a:custGeom>
                  <a:avLst/>
                  <a:gdLst/>
                  <a:ahLst/>
                  <a:rect l="l" t="t" r="r" b="b"/>
                  <a:pathLst>
                    <a:path w="30" h="46">
                      <a:moveTo>
                        <a:pt x="0" y="0"/>
                      </a:moveTo>
                      <a:lnTo>
                        <a:pt x="10" y="12"/>
                      </a:lnTo>
                      <a:lnTo>
                        <a:pt x="20" y="23"/>
                      </a:lnTo>
                      <a:lnTo>
                        <a:pt x="30" y="46"/>
                      </a:lnTo>
                      <a:lnTo>
                        <a:pt x="20" y="46"/>
                      </a:lnTo>
                      <a:lnTo>
                        <a:pt x="20" y="34"/>
                      </a:lnTo>
                      <a:lnTo>
                        <a:pt x="10" y="34"/>
                      </a:lnTo>
                      <a:lnTo>
                        <a:pt x="10" y="23"/>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0" name=""/>
                <p:cNvSpPr/>
                <p:nvPr/>
              </p:nvSpPr>
              <p:spPr>
                <a:xfrm>
                  <a:off x="3324240" y="2065320"/>
                  <a:ext cx="95400" cy="146160"/>
                </a:xfrm>
                <a:custGeom>
                  <a:avLst/>
                  <a:gdLst/>
                  <a:ahLst/>
                  <a:rect l="l" t="t" r="r" b="b"/>
                  <a:pathLst>
                    <a:path w="60" h="92">
                      <a:moveTo>
                        <a:pt x="50" y="0"/>
                      </a:moveTo>
                      <a:lnTo>
                        <a:pt x="30" y="23"/>
                      </a:lnTo>
                      <a:lnTo>
                        <a:pt x="20" y="35"/>
                      </a:lnTo>
                      <a:lnTo>
                        <a:pt x="40" y="46"/>
                      </a:lnTo>
                      <a:lnTo>
                        <a:pt x="50" y="46"/>
                      </a:lnTo>
                      <a:lnTo>
                        <a:pt x="60" y="46"/>
                      </a:lnTo>
                      <a:lnTo>
                        <a:pt x="60" y="57"/>
                      </a:lnTo>
                      <a:lnTo>
                        <a:pt x="60" y="69"/>
                      </a:lnTo>
                      <a:lnTo>
                        <a:pt x="50" y="80"/>
                      </a:lnTo>
                      <a:lnTo>
                        <a:pt x="50" y="69"/>
                      </a:lnTo>
                      <a:lnTo>
                        <a:pt x="40" y="80"/>
                      </a:lnTo>
                      <a:lnTo>
                        <a:pt x="30" y="92"/>
                      </a:lnTo>
                      <a:lnTo>
                        <a:pt x="10" y="92"/>
                      </a:lnTo>
                      <a:lnTo>
                        <a:pt x="0" y="80"/>
                      </a:lnTo>
                      <a:lnTo>
                        <a:pt x="0" y="57"/>
                      </a:lnTo>
                      <a:lnTo>
                        <a:pt x="0" y="46"/>
                      </a:lnTo>
                      <a:lnTo>
                        <a:pt x="10" y="35"/>
                      </a:lnTo>
                      <a:lnTo>
                        <a:pt x="20" y="23"/>
                      </a:lnTo>
                      <a:lnTo>
                        <a:pt x="40" y="12"/>
                      </a:lnTo>
                      <a:lnTo>
                        <a:pt x="50" y="0"/>
                      </a:lnTo>
                      <a:lnTo>
                        <a:pt x="5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324240" y="2065320"/>
                  <a:ext cx="95400" cy="146160"/>
                </a:xfrm>
                <a:custGeom>
                  <a:avLst/>
                  <a:gdLst/>
                  <a:ahLst/>
                  <a:rect l="l" t="t" r="r" b="b"/>
                  <a:pathLst>
                    <a:path w="60" h="92">
                      <a:moveTo>
                        <a:pt x="50" y="0"/>
                      </a:moveTo>
                      <a:lnTo>
                        <a:pt x="30" y="23"/>
                      </a:lnTo>
                      <a:lnTo>
                        <a:pt x="20" y="35"/>
                      </a:lnTo>
                      <a:lnTo>
                        <a:pt x="40" y="46"/>
                      </a:lnTo>
                      <a:lnTo>
                        <a:pt x="50" y="46"/>
                      </a:lnTo>
                      <a:lnTo>
                        <a:pt x="60" y="46"/>
                      </a:lnTo>
                      <a:lnTo>
                        <a:pt x="60" y="57"/>
                      </a:lnTo>
                      <a:lnTo>
                        <a:pt x="60" y="69"/>
                      </a:lnTo>
                      <a:lnTo>
                        <a:pt x="50" y="80"/>
                      </a:lnTo>
                      <a:lnTo>
                        <a:pt x="50" y="69"/>
                      </a:lnTo>
                      <a:lnTo>
                        <a:pt x="40" y="80"/>
                      </a:lnTo>
                      <a:lnTo>
                        <a:pt x="30" y="92"/>
                      </a:lnTo>
                      <a:lnTo>
                        <a:pt x="10" y="92"/>
                      </a:lnTo>
                      <a:lnTo>
                        <a:pt x="0" y="80"/>
                      </a:lnTo>
                      <a:lnTo>
                        <a:pt x="0" y="57"/>
                      </a:lnTo>
                      <a:lnTo>
                        <a:pt x="0" y="46"/>
                      </a:lnTo>
                      <a:lnTo>
                        <a:pt x="10" y="35"/>
                      </a:lnTo>
                      <a:lnTo>
                        <a:pt x="20" y="23"/>
                      </a:lnTo>
                      <a:lnTo>
                        <a:pt x="40" y="12"/>
                      </a:lnTo>
                      <a:lnTo>
                        <a:pt x="5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64400" y="2246400"/>
                  <a:ext cx="144360" cy="127080"/>
                </a:xfrm>
                <a:custGeom>
                  <a:avLst/>
                  <a:gdLst/>
                  <a:ahLst/>
                  <a:rect l="l" t="t" r="r" b="b"/>
                  <a:pathLst>
                    <a:path w="91" h="80">
                      <a:moveTo>
                        <a:pt x="0" y="0"/>
                      </a:moveTo>
                      <a:lnTo>
                        <a:pt x="10" y="12"/>
                      </a:lnTo>
                      <a:lnTo>
                        <a:pt x="30" y="23"/>
                      </a:lnTo>
                      <a:lnTo>
                        <a:pt x="40" y="35"/>
                      </a:lnTo>
                      <a:lnTo>
                        <a:pt x="50" y="35"/>
                      </a:lnTo>
                      <a:lnTo>
                        <a:pt x="71" y="35"/>
                      </a:lnTo>
                      <a:lnTo>
                        <a:pt x="91" y="46"/>
                      </a:lnTo>
                      <a:lnTo>
                        <a:pt x="91" y="57"/>
                      </a:lnTo>
                      <a:lnTo>
                        <a:pt x="71" y="69"/>
                      </a:lnTo>
                      <a:lnTo>
                        <a:pt x="60" y="80"/>
                      </a:lnTo>
                      <a:lnTo>
                        <a:pt x="40" y="69"/>
                      </a:lnTo>
                      <a:lnTo>
                        <a:pt x="20" y="57"/>
                      </a:lnTo>
                      <a:lnTo>
                        <a:pt x="10" y="57"/>
                      </a:lnTo>
                      <a:lnTo>
                        <a:pt x="10" y="69"/>
                      </a:lnTo>
                      <a:lnTo>
                        <a:pt x="20" y="80"/>
                      </a:lnTo>
                      <a:lnTo>
                        <a:pt x="10" y="69"/>
                      </a:lnTo>
                      <a:lnTo>
                        <a:pt x="10" y="46"/>
                      </a:lnTo>
                      <a:lnTo>
                        <a:pt x="10" y="23"/>
                      </a:lnTo>
                      <a:lnTo>
                        <a:pt x="0" y="12"/>
                      </a:lnTo>
                      <a:lnTo>
                        <a:pt x="0" y="0"/>
                      </a:lnTo>
                      <a:lnTo>
                        <a:pt x="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64400" y="2246400"/>
                  <a:ext cx="144360" cy="127080"/>
                </a:xfrm>
                <a:custGeom>
                  <a:avLst/>
                  <a:gdLst/>
                  <a:ahLst/>
                  <a:rect l="l" t="t" r="r" b="b"/>
                  <a:pathLst>
                    <a:path w="91" h="80">
                      <a:moveTo>
                        <a:pt x="0" y="0"/>
                      </a:moveTo>
                      <a:lnTo>
                        <a:pt x="10" y="12"/>
                      </a:lnTo>
                      <a:lnTo>
                        <a:pt x="30" y="23"/>
                      </a:lnTo>
                      <a:lnTo>
                        <a:pt x="40" y="35"/>
                      </a:lnTo>
                      <a:lnTo>
                        <a:pt x="50" y="35"/>
                      </a:lnTo>
                      <a:lnTo>
                        <a:pt x="71" y="35"/>
                      </a:lnTo>
                      <a:lnTo>
                        <a:pt x="91" y="46"/>
                      </a:lnTo>
                      <a:lnTo>
                        <a:pt x="91" y="57"/>
                      </a:lnTo>
                      <a:lnTo>
                        <a:pt x="71" y="69"/>
                      </a:lnTo>
                      <a:lnTo>
                        <a:pt x="60" y="80"/>
                      </a:lnTo>
                      <a:lnTo>
                        <a:pt x="40" y="69"/>
                      </a:lnTo>
                      <a:lnTo>
                        <a:pt x="20" y="57"/>
                      </a:lnTo>
                      <a:lnTo>
                        <a:pt x="10" y="57"/>
                      </a:lnTo>
                      <a:lnTo>
                        <a:pt x="10" y="69"/>
                      </a:lnTo>
                      <a:lnTo>
                        <a:pt x="20" y="80"/>
                      </a:lnTo>
                      <a:lnTo>
                        <a:pt x="10" y="69"/>
                      </a:lnTo>
                      <a:lnTo>
                        <a:pt x="10" y="46"/>
                      </a:lnTo>
                      <a:lnTo>
                        <a:pt x="10" y="23"/>
                      </a:lnTo>
                      <a:lnTo>
                        <a:pt x="0" y="1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754520" y="2392200"/>
                  <a:ext cx="31680" cy="71640"/>
                </a:xfrm>
                <a:custGeom>
                  <a:avLst/>
                  <a:gdLst/>
                  <a:ahLst/>
                  <a:rect l="l" t="t" r="r" b="b"/>
                  <a:pathLst>
                    <a:path w="20" h="45">
                      <a:moveTo>
                        <a:pt x="20" y="0"/>
                      </a:moveTo>
                      <a:lnTo>
                        <a:pt x="20" y="11"/>
                      </a:lnTo>
                      <a:lnTo>
                        <a:pt x="20" y="34"/>
                      </a:lnTo>
                      <a:lnTo>
                        <a:pt x="10" y="45"/>
                      </a:lnTo>
                      <a:lnTo>
                        <a:pt x="10" y="34"/>
                      </a:lnTo>
                      <a:lnTo>
                        <a:pt x="0" y="22"/>
                      </a:lnTo>
                      <a:lnTo>
                        <a:pt x="0" y="11"/>
                      </a:lnTo>
                      <a:lnTo>
                        <a:pt x="0" y="0"/>
                      </a:lnTo>
                      <a:lnTo>
                        <a:pt x="10" y="0"/>
                      </a:lnTo>
                      <a:lnTo>
                        <a:pt x="20" y="0"/>
                      </a:lnTo>
                      <a:lnTo>
                        <a:pt x="20" y="0"/>
                      </a:lnTo>
                      <a:close/>
                    </a:path>
                  </a:pathLst>
                </a:custGeom>
                <a:solidFill>
                  <a:srgbClr val="00937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5" name=""/>
                <p:cNvSpPr/>
                <p:nvPr/>
              </p:nvSpPr>
              <p:spPr>
                <a:xfrm>
                  <a:off x="4754520" y="2392200"/>
                  <a:ext cx="31680" cy="71640"/>
                </a:xfrm>
                <a:custGeom>
                  <a:avLst/>
                  <a:gdLst/>
                  <a:ahLst/>
                  <a:rect l="l" t="t" r="r" b="b"/>
                  <a:pathLst>
                    <a:path w="20" h="45">
                      <a:moveTo>
                        <a:pt x="20" y="0"/>
                      </a:moveTo>
                      <a:lnTo>
                        <a:pt x="20" y="11"/>
                      </a:lnTo>
                      <a:lnTo>
                        <a:pt x="20" y="34"/>
                      </a:lnTo>
                      <a:lnTo>
                        <a:pt x="10" y="45"/>
                      </a:lnTo>
                      <a:lnTo>
                        <a:pt x="10" y="34"/>
                      </a:lnTo>
                      <a:lnTo>
                        <a:pt x="0" y="22"/>
                      </a:lnTo>
                      <a:lnTo>
                        <a:pt x="0" y="11"/>
                      </a:lnTo>
                      <a:lnTo>
                        <a:pt x="0" y="0"/>
                      </a:lnTo>
                      <a:lnTo>
                        <a:pt x="10" y="0"/>
                      </a:lnTo>
                      <a:lnTo>
                        <a:pt x="20"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6" name=""/>
                <p:cNvSpPr/>
                <p:nvPr/>
              </p:nvSpPr>
              <p:spPr>
                <a:xfrm>
                  <a:off x="7585200" y="2373480"/>
                  <a:ext cx="223560" cy="271440"/>
                </a:xfrm>
                <a:custGeom>
                  <a:avLst/>
                  <a:gdLst/>
                  <a:ahLst/>
                  <a:rect l="l" t="t" r="r" b="b"/>
                  <a:pathLst>
                    <a:path w="141" h="171">
                      <a:moveTo>
                        <a:pt x="80" y="0"/>
                      </a:moveTo>
                      <a:lnTo>
                        <a:pt x="90" y="12"/>
                      </a:lnTo>
                      <a:lnTo>
                        <a:pt x="110" y="23"/>
                      </a:lnTo>
                      <a:lnTo>
                        <a:pt x="121" y="46"/>
                      </a:lnTo>
                      <a:lnTo>
                        <a:pt x="121" y="57"/>
                      </a:lnTo>
                      <a:lnTo>
                        <a:pt x="121" y="69"/>
                      </a:lnTo>
                      <a:lnTo>
                        <a:pt x="121" y="80"/>
                      </a:lnTo>
                      <a:lnTo>
                        <a:pt x="121" y="91"/>
                      </a:lnTo>
                      <a:lnTo>
                        <a:pt x="141" y="114"/>
                      </a:lnTo>
                      <a:lnTo>
                        <a:pt x="141" y="126"/>
                      </a:lnTo>
                      <a:lnTo>
                        <a:pt x="141" y="137"/>
                      </a:lnTo>
                      <a:lnTo>
                        <a:pt x="141" y="148"/>
                      </a:lnTo>
                      <a:lnTo>
                        <a:pt x="121" y="148"/>
                      </a:lnTo>
                      <a:lnTo>
                        <a:pt x="110" y="148"/>
                      </a:lnTo>
                      <a:lnTo>
                        <a:pt x="100" y="160"/>
                      </a:lnTo>
                      <a:lnTo>
                        <a:pt x="90" y="171"/>
                      </a:lnTo>
                      <a:lnTo>
                        <a:pt x="80" y="171"/>
                      </a:lnTo>
                      <a:lnTo>
                        <a:pt x="70" y="171"/>
                      </a:lnTo>
                      <a:lnTo>
                        <a:pt x="70" y="160"/>
                      </a:lnTo>
                      <a:lnTo>
                        <a:pt x="60" y="148"/>
                      </a:lnTo>
                      <a:lnTo>
                        <a:pt x="40" y="148"/>
                      </a:lnTo>
                      <a:lnTo>
                        <a:pt x="20" y="160"/>
                      </a:lnTo>
                      <a:lnTo>
                        <a:pt x="0" y="160"/>
                      </a:lnTo>
                      <a:lnTo>
                        <a:pt x="0" y="148"/>
                      </a:lnTo>
                      <a:lnTo>
                        <a:pt x="10" y="137"/>
                      </a:lnTo>
                      <a:lnTo>
                        <a:pt x="20" y="126"/>
                      </a:lnTo>
                      <a:lnTo>
                        <a:pt x="30" y="126"/>
                      </a:lnTo>
                      <a:lnTo>
                        <a:pt x="50" y="137"/>
                      </a:lnTo>
                      <a:lnTo>
                        <a:pt x="60" y="137"/>
                      </a:lnTo>
                      <a:lnTo>
                        <a:pt x="60" y="126"/>
                      </a:lnTo>
                      <a:lnTo>
                        <a:pt x="60" y="91"/>
                      </a:lnTo>
                      <a:lnTo>
                        <a:pt x="60" y="80"/>
                      </a:lnTo>
                      <a:lnTo>
                        <a:pt x="70" y="80"/>
                      </a:lnTo>
                      <a:lnTo>
                        <a:pt x="80" y="80"/>
                      </a:lnTo>
                      <a:lnTo>
                        <a:pt x="90" y="80"/>
                      </a:lnTo>
                      <a:lnTo>
                        <a:pt x="90" y="69"/>
                      </a:lnTo>
                      <a:lnTo>
                        <a:pt x="90" y="34"/>
                      </a:lnTo>
                      <a:lnTo>
                        <a:pt x="80" y="0"/>
                      </a:lnTo>
                      <a:lnTo>
                        <a:pt x="8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85200" y="2373480"/>
                  <a:ext cx="223560" cy="271440"/>
                </a:xfrm>
                <a:custGeom>
                  <a:avLst/>
                  <a:gdLst/>
                  <a:ahLst/>
                  <a:rect l="l" t="t" r="r" b="b"/>
                  <a:pathLst>
                    <a:path w="141" h="171">
                      <a:moveTo>
                        <a:pt x="80" y="0"/>
                      </a:moveTo>
                      <a:lnTo>
                        <a:pt x="90" y="12"/>
                      </a:lnTo>
                      <a:lnTo>
                        <a:pt x="110" y="23"/>
                      </a:lnTo>
                      <a:lnTo>
                        <a:pt x="121" y="46"/>
                      </a:lnTo>
                      <a:lnTo>
                        <a:pt x="121" y="57"/>
                      </a:lnTo>
                      <a:lnTo>
                        <a:pt x="121" y="69"/>
                      </a:lnTo>
                      <a:lnTo>
                        <a:pt x="121" y="80"/>
                      </a:lnTo>
                      <a:lnTo>
                        <a:pt x="121" y="91"/>
                      </a:lnTo>
                      <a:lnTo>
                        <a:pt x="141" y="114"/>
                      </a:lnTo>
                      <a:lnTo>
                        <a:pt x="141" y="126"/>
                      </a:lnTo>
                      <a:lnTo>
                        <a:pt x="141" y="137"/>
                      </a:lnTo>
                      <a:lnTo>
                        <a:pt x="141" y="148"/>
                      </a:lnTo>
                      <a:lnTo>
                        <a:pt x="121" y="148"/>
                      </a:lnTo>
                      <a:lnTo>
                        <a:pt x="110" y="148"/>
                      </a:lnTo>
                      <a:lnTo>
                        <a:pt x="100" y="160"/>
                      </a:lnTo>
                      <a:lnTo>
                        <a:pt x="90" y="171"/>
                      </a:lnTo>
                      <a:lnTo>
                        <a:pt x="80" y="171"/>
                      </a:lnTo>
                      <a:lnTo>
                        <a:pt x="70" y="171"/>
                      </a:lnTo>
                      <a:lnTo>
                        <a:pt x="70" y="160"/>
                      </a:lnTo>
                      <a:lnTo>
                        <a:pt x="60" y="148"/>
                      </a:lnTo>
                      <a:lnTo>
                        <a:pt x="40" y="148"/>
                      </a:lnTo>
                      <a:lnTo>
                        <a:pt x="20" y="160"/>
                      </a:lnTo>
                      <a:lnTo>
                        <a:pt x="0" y="160"/>
                      </a:lnTo>
                      <a:lnTo>
                        <a:pt x="0" y="148"/>
                      </a:lnTo>
                      <a:lnTo>
                        <a:pt x="10" y="137"/>
                      </a:lnTo>
                      <a:lnTo>
                        <a:pt x="20" y="126"/>
                      </a:lnTo>
                      <a:lnTo>
                        <a:pt x="30" y="126"/>
                      </a:lnTo>
                      <a:lnTo>
                        <a:pt x="50" y="137"/>
                      </a:lnTo>
                      <a:lnTo>
                        <a:pt x="60" y="137"/>
                      </a:lnTo>
                      <a:lnTo>
                        <a:pt x="60" y="126"/>
                      </a:lnTo>
                      <a:lnTo>
                        <a:pt x="60" y="91"/>
                      </a:lnTo>
                      <a:lnTo>
                        <a:pt x="60" y="80"/>
                      </a:lnTo>
                      <a:lnTo>
                        <a:pt x="70" y="80"/>
                      </a:lnTo>
                      <a:lnTo>
                        <a:pt x="80" y="80"/>
                      </a:lnTo>
                      <a:lnTo>
                        <a:pt x="90" y="80"/>
                      </a:lnTo>
                      <a:lnTo>
                        <a:pt x="90" y="69"/>
                      </a:lnTo>
                      <a:lnTo>
                        <a:pt x="90" y="34"/>
                      </a:lnTo>
                      <a:lnTo>
                        <a:pt x="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849920" y="2482920"/>
                  <a:ext cx="79200" cy="34920"/>
                </a:xfrm>
                <a:custGeom>
                  <a:avLst/>
                  <a:gdLst/>
                  <a:ahLst/>
                  <a:rect l="l" t="t" r="r" b="b"/>
                  <a:pathLst>
                    <a:path w="50" h="22">
                      <a:moveTo>
                        <a:pt x="50" y="0"/>
                      </a:moveTo>
                      <a:lnTo>
                        <a:pt x="50" y="11"/>
                      </a:lnTo>
                      <a:lnTo>
                        <a:pt x="40" y="22"/>
                      </a:lnTo>
                      <a:lnTo>
                        <a:pt x="20" y="22"/>
                      </a:lnTo>
                      <a:lnTo>
                        <a:pt x="10" y="11"/>
                      </a:lnTo>
                      <a:lnTo>
                        <a:pt x="0" y="11"/>
                      </a:lnTo>
                      <a:lnTo>
                        <a:pt x="0" y="0"/>
                      </a:lnTo>
                      <a:lnTo>
                        <a:pt x="10" y="0"/>
                      </a:lnTo>
                      <a:lnTo>
                        <a:pt x="20" y="0"/>
                      </a:lnTo>
                      <a:lnTo>
                        <a:pt x="40" y="0"/>
                      </a:lnTo>
                      <a:lnTo>
                        <a:pt x="50" y="0"/>
                      </a:lnTo>
                      <a:lnTo>
                        <a:pt x="50" y="0"/>
                      </a:lnTo>
                      <a:close/>
                    </a:path>
                  </a:pathLst>
                </a:custGeom>
                <a:solidFill>
                  <a:srgbClr val="0093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9" name=""/>
                <p:cNvSpPr/>
                <p:nvPr/>
              </p:nvSpPr>
              <p:spPr>
                <a:xfrm>
                  <a:off x="4849920" y="2482920"/>
                  <a:ext cx="79200" cy="34920"/>
                </a:xfrm>
                <a:custGeom>
                  <a:avLst/>
                  <a:gdLst/>
                  <a:ahLst/>
                  <a:rect l="l" t="t" r="r" b="b"/>
                  <a:pathLst>
                    <a:path w="50" h="22">
                      <a:moveTo>
                        <a:pt x="50" y="0"/>
                      </a:moveTo>
                      <a:lnTo>
                        <a:pt x="50" y="11"/>
                      </a:lnTo>
                      <a:lnTo>
                        <a:pt x="40" y="22"/>
                      </a:lnTo>
                      <a:lnTo>
                        <a:pt x="20" y="22"/>
                      </a:lnTo>
                      <a:lnTo>
                        <a:pt x="10" y="11"/>
                      </a:lnTo>
                      <a:lnTo>
                        <a:pt x="0" y="11"/>
                      </a:lnTo>
                      <a:lnTo>
                        <a:pt x="0" y="0"/>
                      </a:lnTo>
                      <a:lnTo>
                        <a:pt x="10" y="0"/>
                      </a:lnTo>
                      <a:lnTo>
                        <a:pt x="20" y="0"/>
                      </a:lnTo>
                      <a:lnTo>
                        <a:pt x="40" y="0"/>
                      </a:lnTo>
                      <a:lnTo>
                        <a:pt x="5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0" name=""/>
                <p:cNvSpPr/>
                <p:nvPr/>
              </p:nvSpPr>
              <p:spPr>
                <a:xfrm>
                  <a:off x="2830680" y="2573280"/>
                  <a:ext cx="1440" cy="17640"/>
                </a:xfrm>
                <a:custGeom>
                  <a:avLst/>
                  <a:gdLst/>
                  <a:ahLst/>
                  <a:rect l="l" t="t" r="r" b="b"/>
                  <a:pathLst>
                    <a:path w="0" h="11">
                      <a:moveTo>
                        <a:pt x="0" y="11"/>
                      </a:moveTo>
                      <a:lnTo>
                        <a:pt x="0" y="0"/>
                      </a:lnTo>
                      <a:lnTo>
                        <a:pt x="0" y="11"/>
                      </a:lnTo>
                      <a:lnTo>
                        <a:pt x="0" y="11"/>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 name=""/>
                <p:cNvSpPr/>
                <p:nvPr/>
              </p:nvSpPr>
              <p:spPr>
                <a:xfrm>
                  <a:off x="2830680" y="2573280"/>
                  <a:ext cx="1440" cy="17640"/>
                </a:xfrm>
                <a:custGeom>
                  <a:avLst/>
                  <a:gdLst/>
                  <a:ahLst/>
                  <a:rect l="l" t="t" r="r" b="b"/>
                  <a:pathLst>
                    <a:path w="0" h="11">
                      <a:moveTo>
                        <a:pt x="0" y="11"/>
                      </a:moveTo>
                      <a:lnTo>
                        <a:pt x="0" y="0"/>
                      </a:lnTo>
                      <a:lnTo>
                        <a:pt x="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2" name=""/>
                <p:cNvSpPr/>
                <p:nvPr/>
              </p:nvSpPr>
              <p:spPr>
                <a:xfrm>
                  <a:off x="5311800" y="2573280"/>
                  <a:ext cx="63360" cy="17640"/>
                </a:xfrm>
                <a:custGeom>
                  <a:avLst/>
                  <a:gdLst/>
                  <a:ahLst/>
                  <a:rect l="l" t="t" r="r" b="b"/>
                  <a:pathLst>
                    <a:path w="40" h="11">
                      <a:moveTo>
                        <a:pt x="40" y="0"/>
                      </a:moveTo>
                      <a:lnTo>
                        <a:pt x="20" y="11"/>
                      </a:lnTo>
                      <a:lnTo>
                        <a:pt x="10" y="11"/>
                      </a:lnTo>
                      <a:lnTo>
                        <a:pt x="0" y="11"/>
                      </a:lnTo>
                      <a:lnTo>
                        <a:pt x="10" y="11"/>
                      </a:lnTo>
                      <a:lnTo>
                        <a:pt x="20" y="11"/>
                      </a:lnTo>
                      <a:lnTo>
                        <a:pt x="40" y="0"/>
                      </a:lnTo>
                      <a:lnTo>
                        <a:pt x="4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 name=""/>
                <p:cNvSpPr/>
                <p:nvPr/>
              </p:nvSpPr>
              <p:spPr>
                <a:xfrm>
                  <a:off x="5311800" y="2573280"/>
                  <a:ext cx="63360" cy="17640"/>
                </a:xfrm>
                <a:custGeom>
                  <a:avLst/>
                  <a:gdLst/>
                  <a:ahLst/>
                  <a:rect l="l" t="t" r="r" b="b"/>
                  <a:pathLst>
                    <a:path w="40" h="11">
                      <a:moveTo>
                        <a:pt x="40" y="0"/>
                      </a:moveTo>
                      <a:lnTo>
                        <a:pt x="20" y="11"/>
                      </a:lnTo>
                      <a:lnTo>
                        <a:pt x="10" y="11"/>
                      </a:lnTo>
                      <a:lnTo>
                        <a:pt x="0" y="11"/>
                      </a:lnTo>
                      <a:lnTo>
                        <a:pt x="10" y="11"/>
                      </a:lnTo>
                      <a:lnTo>
                        <a:pt x="20" y="11"/>
                      </a:lnTo>
                      <a:lnTo>
                        <a:pt x="4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4" name=""/>
                <p:cNvSpPr/>
                <p:nvPr/>
              </p:nvSpPr>
              <p:spPr>
                <a:xfrm>
                  <a:off x="7569360" y="2627280"/>
                  <a:ext cx="63360" cy="71640"/>
                </a:xfrm>
                <a:custGeom>
                  <a:avLst/>
                  <a:gdLst/>
                  <a:ahLst/>
                  <a:rect l="l" t="t" r="r" b="b"/>
                  <a:pathLst>
                    <a:path w="40" h="45">
                      <a:moveTo>
                        <a:pt x="40" y="34"/>
                      </a:moveTo>
                      <a:lnTo>
                        <a:pt x="30" y="45"/>
                      </a:lnTo>
                      <a:lnTo>
                        <a:pt x="10" y="45"/>
                      </a:lnTo>
                      <a:lnTo>
                        <a:pt x="0" y="11"/>
                      </a:lnTo>
                      <a:lnTo>
                        <a:pt x="10" y="0"/>
                      </a:lnTo>
                      <a:lnTo>
                        <a:pt x="20" y="0"/>
                      </a:lnTo>
                      <a:lnTo>
                        <a:pt x="30" y="11"/>
                      </a:lnTo>
                      <a:lnTo>
                        <a:pt x="30" y="23"/>
                      </a:lnTo>
                      <a:lnTo>
                        <a:pt x="40" y="34"/>
                      </a:lnTo>
                      <a:lnTo>
                        <a:pt x="40" y="34"/>
                      </a:lnTo>
                      <a:close/>
                    </a:path>
                  </a:pathLst>
                </a:custGeom>
                <a:solidFill>
                  <a:srgbClr val="00937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7569360" y="2627280"/>
                  <a:ext cx="63360" cy="71640"/>
                </a:xfrm>
                <a:custGeom>
                  <a:avLst/>
                  <a:gdLst/>
                  <a:ahLst/>
                  <a:rect l="l" t="t" r="r" b="b"/>
                  <a:pathLst>
                    <a:path w="40" h="45">
                      <a:moveTo>
                        <a:pt x="40" y="34"/>
                      </a:moveTo>
                      <a:lnTo>
                        <a:pt x="30" y="45"/>
                      </a:lnTo>
                      <a:lnTo>
                        <a:pt x="10" y="45"/>
                      </a:lnTo>
                      <a:lnTo>
                        <a:pt x="0" y="11"/>
                      </a:lnTo>
                      <a:lnTo>
                        <a:pt x="10" y="0"/>
                      </a:lnTo>
                      <a:lnTo>
                        <a:pt x="20" y="0"/>
                      </a:lnTo>
                      <a:lnTo>
                        <a:pt x="30" y="11"/>
                      </a:lnTo>
                      <a:lnTo>
                        <a:pt x="30" y="23"/>
                      </a:lnTo>
                      <a:lnTo>
                        <a:pt x="40" y="3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1908000" y="2771640"/>
                  <a:ext cx="1800" cy="17640"/>
                </a:xfrm>
                <a:custGeom>
                  <a:avLst/>
                  <a:gdLst/>
                  <a:ahLst/>
                  <a:rect l="l" t="t" r="r" b="b"/>
                  <a:pathLst>
                    <a:path w="0" h="11">
                      <a:moveTo>
                        <a:pt x="0" y="0"/>
                      </a:moveTo>
                      <a:lnTo>
                        <a:pt x="0" y="11"/>
                      </a:lnTo>
                      <a:lnTo>
                        <a:pt x="0" y="0"/>
                      </a:lnTo>
                      <a:lnTo>
                        <a:pt x="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7" name=""/>
                <p:cNvSpPr/>
                <p:nvPr/>
              </p:nvSpPr>
              <p:spPr>
                <a:xfrm>
                  <a:off x="1908000" y="2771640"/>
                  <a:ext cx="1800" cy="17640"/>
                </a:xfrm>
                <a:custGeom>
                  <a:avLst/>
                  <a:gdLst/>
                  <a:ahLst/>
                  <a:rect l="l" t="t" r="r" b="b"/>
                  <a:pathLst>
                    <a:path w="0" h="11">
                      <a:moveTo>
                        <a:pt x="0" y="0"/>
                      </a:moveTo>
                      <a:lnTo>
                        <a:pt x="0" y="1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8" name=""/>
                <p:cNvSpPr/>
                <p:nvPr/>
              </p:nvSpPr>
              <p:spPr>
                <a:xfrm>
                  <a:off x="1908000" y="2898720"/>
                  <a:ext cx="1800" cy="17640"/>
                </a:xfrm>
                <a:custGeom>
                  <a:avLst/>
                  <a:gdLst/>
                  <a:ahLst/>
                  <a:rect l="l" t="t" r="r" b="b"/>
                  <a:pathLst>
                    <a:path w="0" h="11">
                      <a:moveTo>
                        <a:pt x="0" y="0"/>
                      </a:moveTo>
                      <a:lnTo>
                        <a:pt x="0" y="11"/>
                      </a:lnTo>
                      <a:lnTo>
                        <a:pt x="0" y="0"/>
                      </a:lnTo>
                      <a:lnTo>
                        <a:pt x="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9" name=""/>
                <p:cNvSpPr/>
                <p:nvPr/>
              </p:nvSpPr>
              <p:spPr>
                <a:xfrm>
                  <a:off x="1908000" y="2898720"/>
                  <a:ext cx="1800" cy="17640"/>
                </a:xfrm>
                <a:custGeom>
                  <a:avLst/>
                  <a:gdLst/>
                  <a:ahLst/>
                  <a:rect l="l" t="t" r="r" b="b"/>
                  <a:pathLst>
                    <a:path w="0" h="11">
                      <a:moveTo>
                        <a:pt x="0" y="0"/>
                      </a:moveTo>
                      <a:lnTo>
                        <a:pt x="0" y="1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
                <p:cNvSpPr/>
                <p:nvPr/>
              </p:nvSpPr>
              <p:spPr>
                <a:xfrm>
                  <a:off x="7426440" y="2916360"/>
                  <a:ext cx="47520" cy="90360"/>
                </a:xfrm>
                <a:custGeom>
                  <a:avLst/>
                  <a:gdLst/>
                  <a:ahLst/>
                  <a:rect l="l" t="t" r="r" b="b"/>
                  <a:pathLst>
                    <a:path w="30" h="57">
                      <a:moveTo>
                        <a:pt x="10" y="0"/>
                      </a:moveTo>
                      <a:lnTo>
                        <a:pt x="20" y="12"/>
                      </a:lnTo>
                      <a:lnTo>
                        <a:pt x="30" y="34"/>
                      </a:lnTo>
                      <a:lnTo>
                        <a:pt x="30" y="46"/>
                      </a:lnTo>
                      <a:lnTo>
                        <a:pt x="20" y="57"/>
                      </a:lnTo>
                      <a:lnTo>
                        <a:pt x="10" y="57"/>
                      </a:lnTo>
                      <a:lnTo>
                        <a:pt x="10" y="46"/>
                      </a:lnTo>
                      <a:lnTo>
                        <a:pt x="0" y="23"/>
                      </a:lnTo>
                      <a:lnTo>
                        <a:pt x="0" y="12"/>
                      </a:lnTo>
                      <a:lnTo>
                        <a:pt x="10" y="0"/>
                      </a:lnTo>
                      <a:lnTo>
                        <a:pt x="10" y="0"/>
                      </a:lnTo>
                      <a:close/>
                    </a:path>
                  </a:pathLst>
                </a:custGeom>
                <a:solidFill>
                  <a:srgbClr val="00937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7426440" y="2916360"/>
                  <a:ext cx="47520" cy="90360"/>
                </a:xfrm>
                <a:custGeom>
                  <a:avLst/>
                  <a:gdLst/>
                  <a:ahLst/>
                  <a:rect l="l" t="t" r="r" b="b"/>
                  <a:pathLst>
                    <a:path w="30" h="57">
                      <a:moveTo>
                        <a:pt x="10" y="0"/>
                      </a:moveTo>
                      <a:lnTo>
                        <a:pt x="20" y="12"/>
                      </a:lnTo>
                      <a:lnTo>
                        <a:pt x="30" y="34"/>
                      </a:lnTo>
                      <a:lnTo>
                        <a:pt x="30" y="46"/>
                      </a:lnTo>
                      <a:lnTo>
                        <a:pt x="20" y="57"/>
                      </a:lnTo>
                      <a:lnTo>
                        <a:pt x="10" y="57"/>
                      </a:lnTo>
                      <a:lnTo>
                        <a:pt x="10" y="46"/>
                      </a:lnTo>
                      <a:lnTo>
                        <a:pt x="0" y="23"/>
                      </a:lnTo>
                      <a:lnTo>
                        <a:pt x="0" y="12"/>
                      </a:lnTo>
                      <a:lnTo>
                        <a:pt x="1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544840" y="2970360"/>
                  <a:ext cx="237960" cy="109440"/>
                </a:xfrm>
                <a:custGeom>
                  <a:avLst/>
                  <a:gdLst/>
                  <a:ahLst/>
                  <a:rect l="l" t="t" r="r" b="b"/>
                  <a:pathLst>
                    <a:path w="150" h="69">
                      <a:moveTo>
                        <a:pt x="0" y="23"/>
                      </a:moveTo>
                      <a:lnTo>
                        <a:pt x="20" y="0"/>
                      </a:lnTo>
                      <a:lnTo>
                        <a:pt x="40" y="0"/>
                      </a:lnTo>
                      <a:lnTo>
                        <a:pt x="80" y="12"/>
                      </a:lnTo>
                      <a:lnTo>
                        <a:pt x="90" y="23"/>
                      </a:lnTo>
                      <a:lnTo>
                        <a:pt x="100" y="23"/>
                      </a:lnTo>
                      <a:lnTo>
                        <a:pt x="110" y="23"/>
                      </a:lnTo>
                      <a:lnTo>
                        <a:pt x="110" y="35"/>
                      </a:lnTo>
                      <a:lnTo>
                        <a:pt x="130" y="35"/>
                      </a:lnTo>
                      <a:lnTo>
                        <a:pt x="140" y="46"/>
                      </a:lnTo>
                      <a:lnTo>
                        <a:pt x="150" y="57"/>
                      </a:lnTo>
                      <a:lnTo>
                        <a:pt x="140" y="69"/>
                      </a:lnTo>
                      <a:lnTo>
                        <a:pt x="130" y="57"/>
                      </a:lnTo>
                      <a:lnTo>
                        <a:pt x="120" y="57"/>
                      </a:lnTo>
                      <a:lnTo>
                        <a:pt x="110" y="57"/>
                      </a:lnTo>
                      <a:lnTo>
                        <a:pt x="90" y="46"/>
                      </a:lnTo>
                      <a:lnTo>
                        <a:pt x="100" y="46"/>
                      </a:lnTo>
                      <a:lnTo>
                        <a:pt x="100" y="35"/>
                      </a:lnTo>
                      <a:lnTo>
                        <a:pt x="90" y="35"/>
                      </a:lnTo>
                      <a:lnTo>
                        <a:pt x="80" y="23"/>
                      </a:lnTo>
                      <a:lnTo>
                        <a:pt x="80" y="35"/>
                      </a:lnTo>
                      <a:lnTo>
                        <a:pt x="70" y="23"/>
                      </a:lnTo>
                      <a:lnTo>
                        <a:pt x="60" y="23"/>
                      </a:lnTo>
                      <a:lnTo>
                        <a:pt x="40" y="12"/>
                      </a:lnTo>
                      <a:lnTo>
                        <a:pt x="30" y="12"/>
                      </a:lnTo>
                      <a:lnTo>
                        <a:pt x="20" y="12"/>
                      </a:lnTo>
                      <a:lnTo>
                        <a:pt x="0" y="23"/>
                      </a:lnTo>
                      <a:lnTo>
                        <a:pt x="0" y="23"/>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544840" y="2970360"/>
                  <a:ext cx="237960" cy="109440"/>
                </a:xfrm>
                <a:custGeom>
                  <a:avLst/>
                  <a:gdLst/>
                  <a:ahLst/>
                  <a:rect l="l" t="t" r="r" b="b"/>
                  <a:pathLst>
                    <a:path w="150" h="69">
                      <a:moveTo>
                        <a:pt x="0" y="23"/>
                      </a:moveTo>
                      <a:lnTo>
                        <a:pt x="20" y="0"/>
                      </a:lnTo>
                      <a:lnTo>
                        <a:pt x="40" y="0"/>
                      </a:lnTo>
                      <a:lnTo>
                        <a:pt x="80" y="12"/>
                      </a:lnTo>
                      <a:lnTo>
                        <a:pt x="90" y="23"/>
                      </a:lnTo>
                      <a:lnTo>
                        <a:pt x="100" y="23"/>
                      </a:lnTo>
                      <a:lnTo>
                        <a:pt x="110" y="23"/>
                      </a:lnTo>
                      <a:lnTo>
                        <a:pt x="110" y="35"/>
                      </a:lnTo>
                      <a:lnTo>
                        <a:pt x="130" y="35"/>
                      </a:lnTo>
                      <a:lnTo>
                        <a:pt x="140" y="46"/>
                      </a:lnTo>
                      <a:lnTo>
                        <a:pt x="150" y="57"/>
                      </a:lnTo>
                      <a:lnTo>
                        <a:pt x="140" y="69"/>
                      </a:lnTo>
                      <a:lnTo>
                        <a:pt x="130" y="57"/>
                      </a:lnTo>
                      <a:lnTo>
                        <a:pt x="120" y="57"/>
                      </a:lnTo>
                      <a:lnTo>
                        <a:pt x="110" y="57"/>
                      </a:lnTo>
                      <a:lnTo>
                        <a:pt x="90" y="46"/>
                      </a:lnTo>
                      <a:lnTo>
                        <a:pt x="100" y="46"/>
                      </a:lnTo>
                      <a:lnTo>
                        <a:pt x="100" y="35"/>
                      </a:lnTo>
                      <a:lnTo>
                        <a:pt x="90" y="35"/>
                      </a:lnTo>
                      <a:lnTo>
                        <a:pt x="80" y="23"/>
                      </a:lnTo>
                      <a:lnTo>
                        <a:pt x="80" y="35"/>
                      </a:lnTo>
                      <a:lnTo>
                        <a:pt x="70" y="23"/>
                      </a:lnTo>
                      <a:lnTo>
                        <a:pt x="60" y="23"/>
                      </a:lnTo>
                      <a:lnTo>
                        <a:pt x="40" y="12"/>
                      </a:lnTo>
                      <a:lnTo>
                        <a:pt x="30" y="12"/>
                      </a:lnTo>
                      <a:lnTo>
                        <a:pt x="20" y="12"/>
                      </a:lnTo>
                      <a:lnTo>
                        <a:pt x="0"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24000" y="1577880"/>
                  <a:ext cx="223920" cy="125640"/>
                </a:xfrm>
                <a:custGeom>
                  <a:avLst/>
                  <a:gdLst/>
                  <a:ahLst/>
                  <a:rect l="l" t="t" r="r" b="b"/>
                  <a:pathLst>
                    <a:path w="141" h="79">
                      <a:moveTo>
                        <a:pt x="80" y="0"/>
                      </a:moveTo>
                      <a:lnTo>
                        <a:pt x="90" y="11"/>
                      </a:lnTo>
                      <a:lnTo>
                        <a:pt x="101" y="22"/>
                      </a:lnTo>
                      <a:lnTo>
                        <a:pt x="111" y="34"/>
                      </a:lnTo>
                      <a:lnTo>
                        <a:pt x="121" y="34"/>
                      </a:lnTo>
                      <a:lnTo>
                        <a:pt x="131" y="34"/>
                      </a:lnTo>
                      <a:lnTo>
                        <a:pt x="141" y="45"/>
                      </a:lnTo>
                      <a:lnTo>
                        <a:pt x="131" y="45"/>
                      </a:lnTo>
                      <a:lnTo>
                        <a:pt x="131" y="57"/>
                      </a:lnTo>
                      <a:lnTo>
                        <a:pt x="121" y="57"/>
                      </a:lnTo>
                      <a:lnTo>
                        <a:pt x="111" y="57"/>
                      </a:lnTo>
                      <a:lnTo>
                        <a:pt x="101" y="57"/>
                      </a:lnTo>
                      <a:lnTo>
                        <a:pt x="80" y="57"/>
                      </a:lnTo>
                      <a:lnTo>
                        <a:pt x="80" y="68"/>
                      </a:lnTo>
                      <a:lnTo>
                        <a:pt x="70" y="79"/>
                      </a:lnTo>
                      <a:lnTo>
                        <a:pt x="60" y="79"/>
                      </a:lnTo>
                      <a:lnTo>
                        <a:pt x="50" y="68"/>
                      </a:lnTo>
                      <a:lnTo>
                        <a:pt x="40" y="57"/>
                      </a:lnTo>
                      <a:lnTo>
                        <a:pt x="40" y="45"/>
                      </a:lnTo>
                      <a:lnTo>
                        <a:pt x="20" y="45"/>
                      </a:lnTo>
                      <a:lnTo>
                        <a:pt x="10" y="57"/>
                      </a:lnTo>
                      <a:lnTo>
                        <a:pt x="0" y="57"/>
                      </a:lnTo>
                      <a:lnTo>
                        <a:pt x="0" y="68"/>
                      </a:lnTo>
                      <a:lnTo>
                        <a:pt x="10" y="45"/>
                      </a:lnTo>
                      <a:lnTo>
                        <a:pt x="30" y="34"/>
                      </a:lnTo>
                      <a:lnTo>
                        <a:pt x="50" y="22"/>
                      </a:lnTo>
                      <a:lnTo>
                        <a:pt x="70" y="11"/>
                      </a:lnTo>
                      <a:lnTo>
                        <a:pt x="80" y="0"/>
                      </a:lnTo>
                      <a:lnTo>
                        <a:pt x="8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224000" y="1577880"/>
                  <a:ext cx="223920" cy="125640"/>
                </a:xfrm>
                <a:custGeom>
                  <a:avLst/>
                  <a:gdLst/>
                  <a:ahLst/>
                  <a:rect l="l" t="t" r="r" b="b"/>
                  <a:pathLst>
                    <a:path w="141" h="79">
                      <a:moveTo>
                        <a:pt x="80" y="0"/>
                      </a:moveTo>
                      <a:lnTo>
                        <a:pt x="90" y="11"/>
                      </a:lnTo>
                      <a:lnTo>
                        <a:pt x="101" y="22"/>
                      </a:lnTo>
                      <a:lnTo>
                        <a:pt x="111" y="34"/>
                      </a:lnTo>
                      <a:lnTo>
                        <a:pt x="121" y="34"/>
                      </a:lnTo>
                      <a:lnTo>
                        <a:pt x="131" y="34"/>
                      </a:lnTo>
                      <a:lnTo>
                        <a:pt x="141" y="45"/>
                      </a:lnTo>
                      <a:lnTo>
                        <a:pt x="131" y="45"/>
                      </a:lnTo>
                      <a:lnTo>
                        <a:pt x="131" y="57"/>
                      </a:lnTo>
                      <a:lnTo>
                        <a:pt x="121" y="57"/>
                      </a:lnTo>
                      <a:lnTo>
                        <a:pt x="111" y="57"/>
                      </a:lnTo>
                      <a:lnTo>
                        <a:pt x="101" y="57"/>
                      </a:lnTo>
                      <a:lnTo>
                        <a:pt x="80" y="57"/>
                      </a:lnTo>
                      <a:lnTo>
                        <a:pt x="80" y="68"/>
                      </a:lnTo>
                      <a:lnTo>
                        <a:pt x="70" y="79"/>
                      </a:lnTo>
                      <a:lnTo>
                        <a:pt x="60" y="79"/>
                      </a:lnTo>
                      <a:lnTo>
                        <a:pt x="50" y="68"/>
                      </a:lnTo>
                      <a:lnTo>
                        <a:pt x="40" y="57"/>
                      </a:lnTo>
                      <a:lnTo>
                        <a:pt x="40" y="45"/>
                      </a:lnTo>
                      <a:lnTo>
                        <a:pt x="20" y="45"/>
                      </a:lnTo>
                      <a:lnTo>
                        <a:pt x="10" y="57"/>
                      </a:lnTo>
                      <a:lnTo>
                        <a:pt x="0" y="57"/>
                      </a:lnTo>
                      <a:lnTo>
                        <a:pt x="0" y="68"/>
                      </a:lnTo>
                      <a:lnTo>
                        <a:pt x="10" y="45"/>
                      </a:lnTo>
                      <a:lnTo>
                        <a:pt x="30" y="34"/>
                      </a:lnTo>
                      <a:lnTo>
                        <a:pt x="50" y="22"/>
                      </a:lnTo>
                      <a:lnTo>
                        <a:pt x="70" y="11"/>
                      </a:lnTo>
                      <a:lnTo>
                        <a:pt x="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135320" y="2517840"/>
                  <a:ext cx="1700280" cy="2263680"/>
                </a:xfrm>
                <a:custGeom>
                  <a:avLst/>
                  <a:gdLst/>
                  <a:ahLst/>
                  <a:rect l="l" t="t" r="r" b="b"/>
                  <a:pathLst>
                    <a:path w="1071" h="1426">
                      <a:moveTo>
                        <a:pt x="751" y="160"/>
                      </a:moveTo>
                      <a:lnTo>
                        <a:pt x="761" y="171"/>
                      </a:lnTo>
                      <a:lnTo>
                        <a:pt x="771" y="183"/>
                      </a:lnTo>
                      <a:lnTo>
                        <a:pt x="771" y="194"/>
                      </a:lnTo>
                      <a:lnTo>
                        <a:pt x="781" y="194"/>
                      </a:lnTo>
                      <a:lnTo>
                        <a:pt x="781" y="206"/>
                      </a:lnTo>
                      <a:lnTo>
                        <a:pt x="781" y="217"/>
                      </a:lnTo>
                      <a:lnTo>
                        <a:pt x="791" y="228"/>
                      </a:lnTo>
                      <a:lnTo>
                        <a:pt x="791" y="240"/>
                      </a:lnTo>
                      <a:lnTo>
                        <a:pt x="801" y="263"/>
                      </a:lnTo>
                      <a:lnTo>
                        <a:pt x="811" y="274"/>
                      </a:lnTo>
                      <a:lnTo>
                        <a:pt x="811" y="285"/>
                      </a:lnTo>
                      <a:lnTo>
                        <a:pt x="821" y="297"/>
                      </a:lnTo>
                      <a:lnTo>
                        <a:pt x="831" y="308"/>
                      </a:lnTo>
                      <a:lnTo>
                        <a:pt x="831" y="320"/>
                      </a:lnTo>
                      <a:lnTo>
                        <a:pt x="841" y="331"/>
                      </a:lnTo>
                      <a:lnTo>
                        <a:pt x="851" y="354"/>
                      </a:lnTo>
                      <a:lnTo>
                        <a:pt x="861" y="377"/>
                      </a:lnTo>
                      <a:lnTo>
                        <a:pt x="871" y="411"/>
                      </a:lnTo>
                      <a:lnTo>
                        <a:pt x="871" y="422"/>
                      </a:lnTo>
                      <a:lnTo>
                        <a:pt x="871" y="434"/>
                      </a:lnTo>
                      <a:lnTo>
                        <a:pt x="881" y="445"/>
                      </a:lnTo>
                      <a:lnTo>
                        <a:pt x="891" y="445"/>
                      </a:lnTo>
                      <a:lnTo>
                        <a:pt x="901" y="456"/>
                      </a:lnTo>
                      <a:lnTo>
                        <a:pt x="911" y="456"/>
                      </a:lnTo>
                      <a:lnTo>
                        <a:pt x="911" y="468"/>
                      </a:lnTo>
                      <a:lnTo>
                        <a:pt x="921" y="479"/>
                      </a:lnTo>
                      <a:lnTo>
                        <a:pt x="931" y="479"/>
                      </a:lnTo>
                      <a:lnTo>
                        <a:pt x="931" y="491"/>
                      </a:lnTo>
                      <a:lnTo>
                        <a:pt x="931" y="502"/>
                      </a:lnTo>
                      <a:lnTo>
                        <a:pt x="921" y="513"/>
                      </a:lnTo>
                      <a:lnTo>
                        <a:pt x="931" y="513"/>
                      </a:lnTo>
                      <a:lnTo>
                        <a:pt x="941" y="513"/>
                      </a:lnTo>
                      <a:lnTo>
                        <a:pt x="941" y="525"/>
                      </a:lnTo>
                      <a:lnTo>
                        <a:pt x="951" y="525"/>
                      </a:lnTo>
                      <a:lnTo>
                        <a:pt x="961" y="536"/>
                      </a:lnTo>
                      <a:lnTo>
                        <a:pt x="971" y="536"/>
                      </a:lnTo>
                      <a:lnTo>
                        <a:pt x="971" y="525"/>
                      </a:lnTo>
                      <a:lnTo>
                        <a:pt x="1001" y="525"/>
                      </a:lnTo>
                      <a:lnTo>
                        <a:pt x="1041" y="525"/>
                      </a:lnTo>
                      <a:lnTo>
                        <a:pt x="1061" y="536"/>
                      </a:lnTo>
                      <a:lnTo>
                        <a:pt x="1071" y="559"/>
                      </a:lnTo>
                      <a:lnTo>
                        <a:pt x="1071" y="570"/>
                      </a:lnTo>
                      <a:lnTo>
                        <a:pt x="1061" y="582"/>
                      </a:lnTo>
                      <a:lnTo>
                        <a:pt x="1051" y="582"/>
                      </a:lnTo>
                      <a:lnTo>
                        <a:pt x="1041" y="582"/>
                      </a:lnTo>
                      <a:lnTo>
                        <a:pt x="1031" y="593"/>
                      </a:lnTo>
                      <a:lnTo>
                        <a:pt x="1031" y="605"/>
                      </a:lnTo>
                      <a:lnTo>
                        <a:pt x="1031" y="616"/>
                      </a:lnTo>
                      <a:lnTo>
                        <a:pt x="1011" y="650"/>
                      </a:lnTo>
                      <a:lnTo>
                        <a:pt x="1001" y="673"/>
                      </a:lnTo>
                      <a:lnTo>
                        <a:pt x="981" y="696"/>
                      </a:lnTo>
                      <a:lnTo>
                        <a:pt x="971" y="707"/>
                      </a:lnTo>
                      <a:lnTo>
                        <a:pt x="961" y="719"/>
                      </a:lnTo>
                      <a:lnTo>
                        <a:pt x="951" y="719"/>
                      </a:lnTo>
                      <a:lnTo>
                        <a:pt x="961" y="719"/>
                      </a:lnTo>
                      <a:lnTo>
                        <a:pt x="961" y="707"/>
                      </a:lnTo>
                      <a:lnTo>
                        <a:pt x="971" y="707"/>
                      </a:lnTo>
                      <a:lnTo>
                        <a:pt x="971" y="696"/>
                      </a:lnTo>
                      <a:lnTo>
                        <a:pt x="981" y="684"/>
                      </a:lnTo>
                      <a:lnTo>
                        <a:pt x="971" y="696"/>
                      </a:lnTo>
                      <a:lnTo>
                        <a:pt x="961" y="707"/>
                      </a:lnTo>
                      <a:lnTo>
                        <a:pt x="961" y="719"/>
                      </a:lnTo>
                      <a:lnTo>
                        <a:pt x="941" y="730"/>
                      </a:lnTo>
                      <a:lnTo>
                        <a:pt x="931" y="742"/>
                      </a:lnTo>
                      <a:lnTo>
                        <a:pt x="931" y="753"/>
                      </a:lnTo>
                      <a:lnTo>
                        <a:pt x="921" y="764"/>
                      </a:lnTo>
                      <a:lnTo>
                        <a:pt x="911" y="776"/>
                      </a:lnTo>
                      <a:lnTo>
                        <a:pt x="901" y="776"/>
                      </a:lnTo>
                      <a:lnTo>
                        <a:pt x="891" y="799"/>
                      </a:lnTo>
                      <a:lnTo>
                        <a:pt x="881" y="810"/>
                      </a:lnTo>
                      <a:lnTo>
                        <a:pt x="881" y="833"/>
                      </a:lnTo>
                      <a:lnTo>
                        <a:pt x="871" y="867"/>
                      </a:lnTo>
                      <a:lnTo>
                        <a:pt x="871" y="890"/>
                      </a:lnTo>
                      <a:lnTo>
                        <a:pt x="881" y="913"/>
                      </a:lnTo>
                      <a:lnTo>
                        <a:pt x="891" y="947"/>
                      </a:lnTo>
                      <a:lnTo>
                        <a:pt x="901" y="947"/>
                      </a:lnTo>
                      <a:lnTo>
                        <a:pt x="891" y="992"/>
                      </a:lnTo>
                      <a:lnTo>
                        <a:pt x="891" y="1027"/>
                      </a:lnTo>
                      <a:lnTo>
                        <a:pt x="881" y="1061"/>
                      </a:lnTo>
                      <a:lnTo>
                        <a:pt x="871" y="1072"/>
                      </a:lnTo>
                      <a:lnTo>
                        <a:pt x="861" y="1072"/>
                      </a:lnTo>
                      <a:lnTo>
                        <a:pt x="851" y="1084"/>
                      </a:lnTo>
                      <a:lnTo>
                        <a:pt x="841" y="1084"/>
                      </a:lnTo>
                      <a:lnTo>
                        <a:pt x="841" y="1095"/>
                      </a:lnTo>
                      <a:lnTo>
                        <a:pt x="831" y="1106"/>
                      </a:lnTo>
                      <a:lnTo>
                        <a:pt x="821" y="1118"/>
                      </a:lnTo>
                      <a:lnTo>
                        <a:pt x="811" y="1118"/>
                      </a:lnTo>
                      <a:lnTo>
                        <a:pt x="801" y="1129"/>
                      </a:lnTo>
                      <a:lnTo>
                        <a:pt x="791" y="1175"/>
                      </a:lnTo>
                      <a:lnTo>
                        <a:pt x="781" y="1209"/>
                      </a:lnTo>
                      <a:lnTo>
                        <a:pt x="771" y="1243"/>
                      </a:lnTo>
                      <a:lnTo>
                        <a:pt x="771" y="1255"/>
                      </a:lnTo>
                      <a:lnTo>
                        <a:pt x="771" y="1266"/>
                      </a:lnTo>
                      <a:lnTo>
                        <a:pt x="761" y="1289"/>
                      </a:lnTo>
                      <a:lnTo>
                        <a:pt x="741" y="1312"/>
                      </a:lnTo>
                      <a:lnTo>
                        <a:pt x="731" y="1334"/>
                      </a:lnTo>
                      <a:lnTo>
                        <a:pt x="711" y="1357"/>
                      </a:lnTo>
                      <a:lnTo>
                        <a:pt x="701" y="1380"/>
                      </a:lnTo>
                      <a:lnTo>
                        <a:pt x="681" y="1403"/>
                      </a:lnTo>
                      <a:lnTo>
                        <a:pt x="661" y="1414"/>
                      </a:lnTo>
                      <a:lnTo>
                        <a:pt x="641" y="1414"/>
                      </a:lnTo>
                      <a:lnTo>
                        <a:pt x="631" y="1414"/>
                      </a:lnTo>
                      <a:lnTo>
                        <a:pt x="621" y="1414"/>
                      </a:lnTo>
                      <a:lnTo>
                        <a:pt x="601" y="1414"/>
                      </a:lnTo>
                      <a:lnTo>
                        <a:pt x="591" y="1414"/>
                      </a:lnTo>
                      <a:lnTo>
                        <a:pt x="591" y="1426"/>
                      </a:lnTo>
                      <a:lnTo>
                        <a:pt x="571" y="1426"/>
                      </a:lnTo>
                      <a:lnTo>
                        <a:pt x="550" y="1414"/>
                      </a:lnTo>
                      <a:lnTo>
                        <a:pt x="540" y="1391"/>
                      </a:lnTo>
                      <a:lnTo>
                        <a:pt x="530" y="1357"/>
                      </a:lnTo>
                      <a:lnTo>
                        <a:pt x="530" y="1334"/>
                      </a:lnTo>
                      <a:lnTo>
                        <a:pt x="520" y="1300"/>
                      </a:lnTo>
                      <a:lnTo>
                        <a:pt x="510" y="1277"/>
                      </a:lnTo>
                      <a:lnTo>
                        <a:pt x="510" y="1266"/>
                      </a:lnTo>
                      <a:lnTo>
                        <a:pt x="500" y="1266"/>
                      </a:lnTo>
                      <a:lnTo>
                        <a:pt x="500" y="1277"/>
                      </a:lnTo>
                      <a:lnTo>
                        <a:pt x="500" y="1266"/>
                      </a:lnTo>
                      <a:lnTo>
                        <a:pt x="500" y="1232"/>
                      </a:lnTo>
                      <a:lnTo>
                        <a:pt x="490" y="1198"/>
                      </a:lnTo>
                      <a:lnTo>
                        <a:pt x="480" y="1175"/>
                      </a:lnTo>
                      <a:lnTo>
                        <a:pt x="480" y="1141"/>
                      </a:lnTo>
                      <a:lnTo>
                        <a:pt x="470" y="1129"/>
                      </a:lnTo>
                      <a:lnTo>
                        <a:pt x="470" y="1118"/>
                      </a:lnTo>
                      <a:lnTo>
                        <a:pt x="460" y="1106"/>
                      </a:lnTo>
                      <a:lnTo>
                        <a:pt x="460" y="1095"/>
                      </a:lnTo>
                      <a:lnTo>
                        <a:pt x="460" y="1072"/>
                      </a:lnTo>
                      <a:lnTo>
                        <a:pt x="460" y="1038"/>
                      </a:lnTo>
                      <a:lnTo>
                        <a:pt x="470" y="1004"/>
                      </a:lnTo>
                      <a:lnTo>
                        <a:pt x="470" y="992"/>
                      </a:lnTo>
                      <a:lnTo>
                        <a:pt x="480" y="981"/>
                      </a:lnTo>
                      <a:lnTo>
                        <a:pt x="490" y="970"/>
                      </a:lnTo>
                      <a:lnTo>
                        <a:pt x="480" y="935"/>
                      </a:lnTo>
                      <a:lnTo>
                        <a:pt x="470" y="901"/>
                      </a:lnTo>
                      <a:lnTo>
                        <a:pt x="460" y="867"/>
                      </a:lnTo>
                      <a:lnTo>
                        <a:pt x="470" y="856"/>
                      </a:lnTo>
                      <a:lnTo>
                        <a:pt x="480" y="856"/>
                      </a:lnTo>
                      <a:lnTo>
                        <a:pt x="460" y="833"/>
                      </a:lnTo>
                      <a:lnTo>
                        <a:pt x="440" y="810"/>
                      </a:lnTo>
                      <a:lnTo>
                        <a:pt x="420" y="776"/>
                      </a:lnTo>
                      <a:lnTo>
                        <a:pt x="410" y="753"/>
                      </a:lnTo>
                      <a:lnTo>
                        <a:pt x="420" y="719"/>
                      </a:lnTo>
                      <a:lnTo>
                        <a:pt x="430" y="696"/>
                      </a:lnTo>
                      <a:lnTo>
                        <a:pt x="430" y="662"/>
                      </a:lnTo>
                      <a:lnTo>
                        <a:pt x="420" y="650"/>
                      </a:lnTo>
                      <a:lnTo>
                        <a:pt x="390" y="639"/>
                      </a:lnTo>
                      <a:lnTo>
                        <a:pt x="340" y="627"/>
                      </a:lnTo>
                      <a:lnTo>
                        <a:pt x="330" y="627"/>
                      </a:lnTo>
                      <a:lnTo>
                        <a:pt x="320" y="616"/>
                      </a:lnTo>
                      <a:lnTo>
                        <a:pt x="310" y="616"/>
                      </a:lnTo>
                      <a:lnTo>
                        <a:pt x="290" y="616"/>
                      </a:lnTo>
                      <a:lnTo>
                        <a:pt x="260" y="627"/>
                      </a:lnTo>
                      <a:lnTo>
                        <a:pt x="250" y="639"/>
                      </a:lnTo>
                      <a:lnTo>
                        <a:pt x="230" y="639"/>
                      </a:lnTo>
                      <a:lnTo>
                        <a:pt x="210" y="639"/>
                      </a:lnTo>
                      <a:lnTo>
                        <a:pt x="190" y="639"/>
                      </a:lnTo>
                      <a:lnTo>
                        <a:pt x="180" y="639"/>
                      </a:lnTo>
                      <a:lnTo>
                        <a:pt x="160" y="650"/>
                      </a:lnTo>
                      <a:lnTo>
                        <a:pt x="150" y="650"/>
                      </a:lnTo>
                      <a:lnTo>
                        <a:pt x="140" y="650"/>
                      </a:lnTo>
                      <a:lnTo>
                        <a:pt x="130" y="639"/>
                      </a:lnTo>
                      <a:lnTo>
                        <a:pt x="110" y="627"/>
                      </a:lnTo>
                      <a:lnTo>
                        <a:pt x="100" y="627"/>
                      </a:lnTo>
                      <a:lnTo>
                        <a:pt x="100" y="616"/>
                      </a:lnTo>
                      <a:lnTo>
                        <a:pt x="110" y="616"/>
                      </a:lnTo>
                      <a:lnTo>
                        <a:pt x="110" y="627"/>
                      </a:lnTo>
                      <a:lnTo>
                        <a:pt x="120" y="627"/>
                      </a:lnTo>
                      <a:lnTo>
                        <a:pt x="110" y="616"/>
                      </a:lnTo>
                      <a:lnTo>
                        <a:pt x="100" y="616"/>
                      </a:lnTo>
                      <a:lnTo>
                        <a:pt x="90" y="605"/>
                      </a:lnTo>
                      <a:lnTo>
                        <a:pt x="80" y="605"/>
                      </a:lnTo>
                      <a:lnTo>
                        <a:pt x="80" y="593"/>
                      </a:lnTo>
                      <a:lnTo>
                        <a:pt x="70" y="582"/>
                      </a:lnTo>
                      <a:lnTo>
                        <a:pt x="70" y="570"/>
                      </a:lnTo>
                      <a:lnTo>
                        <a:pt x="60" y="559"/>
                      </a:lnTo>
                      <a:lnTo>
                        <a:pt x="60" y="548"/>
                      </a:lnTo>
                      <a:lnTo>
                        <a:pt x="50" y="536"/>
                      </a:lnTo>
                      <a:lnTo>
                        <a:pt x="40" y="525"/>
                      </a:lnTo>
                      <a:lnTo>
                        <a:pt x="30" y="525"/>
                      </a:lnTo>
                      <a:lnTo>
                        <a:pt x="30" y="513"/>
                      </a:lnTo>
                      <a:lnTo>
                        <a:pt x="40" y="513"/>
                      </a:lnTo>
                      <a:lnTo>
                        <a:pt x="40" y="502"/>
                      </a:lnTo>
                      <a:lnTo>
                        <a:pt x="30" y="502"/>
                      </a:lnTo>
                      <a:lnTo>
                        <a:pt x="20" y="502"/>
                      </a:lnTo>
                      <a:lnTo>
                        <a:pt x="10" y="502"/>
                      </a:lnTo>
                      <a:lnTo>
                        <a:pt x="20" y="491"/>
                      </a:lnTo>
                      <a:lnTo>
                        <a:pt x="30" y="491"/>
                      </a:lnTo>
                      <a:lnTo>
                        <a:pt x="40" y="479"/>
                      </a:lnTo>
                      <a:lnTo>
                        <a:pt x="20" y="468"/>
                      </a:lnTo>
                      <a:lnTo>
                        <a:pt x="10" y="468"/>
                      </a:lnTo>
                      <a:lnTo>
                        <a:pt x="0" y="445"/>
                      </a:lnTo>
                      <a:lnTo>
                        <a:pt x="0" y="434"/>
                      </a:lnTo>
                      <a:lnTo>
                        <a:pt x="0" y="422"/>
                      </a:lnTo>
                      <a:lnTo>
                        <a:pt x="10" y="411"/>
                      </a:lnTo>
                      <a:lnTo>
                        <a:pt x="20" y="422"/>
                      </a:lnTo>
                      <a:lnTo>
                        <a:pt x="20" y="434"/>
                      </a:lnTo>
                      <a:lnTo>
                        <a:pt x="20" y="445"/>
                      </a:lnTo>
                      <a:lnTo>
                        <a:pt x="30" y="445"/>
                      </a:lnTo>
                      <a:lnTo>
                        <a:pt x="30" y="434"/>
                      </a:lnTo>
                      <a:lnTo>
                        <a:pt x="30" y="422"/>
                      </a:lnTo>
                      <a:lnTo>
                        <a:pt x="30" y="411"/>
                      </a:lnTo>
                      <a:lnTo>
                        <a:pt x="30" y="388"/>
                      </a:lnTo>
                      <a:lnTo>
                        <a:pt x="20" y="365"/>
                      </a:lnTo>
                      <a:lnTo>
                        <a:pt x="10" y="331"/>
                      </a:lnTo>
                      <a:lnTo>
                        <a:pt x="10" y="308"/>
                      </a:lnTo>
                      <a:lnTo>
                        <a:pt x="20" y="297"/>
                      </a:lnTo>
                      <a:lnTo>
                        <a:pt x="30" y="285"/>
                      </a:lnTo>
                      <a:lnTo>
                        <a:pt x="30" y="274"/>
                      </a:lnTo>
                      <a:lnTo>
                        <a:pt x="40" y="251"/>
                      </a:lnTo>
                      <a:lnTo>
                        <a:pt x="60" y="217"/>
                      </a:lnTo>
                      <a:lnTo>
                        <a:pt x="80" y="194"/>
                      </a:lnTo>
                      <a:lnTo>
                        <a:pt x="90" y="183"/>
                      </a:lnTo>
                      <a:lnTo>
                        <a:pt x="100" y="183"/>
                      </a:lnTo>
                      <a:lnTo>
                        <a:pt x="120" y="160"/>
                      </a:lnTo>
                      <a:lnTo>
                        <a:pt x="130" y="149"/>
                      </a:lnTo>
                      <a:lnTo>
                        <a:pt x="120" y="137"/>
                      </a:lnTo>
                      <a:lnTo>
                        <a:pt x="120" y="126"/>
                      </a:lnTo>
                      <a:lnTo>
                        <a:pt x="130" y="92"/>
                      </a:lnTo>
                      <a:lnTo>
                        <a:pt x="140" y="92"/>
                      </a:lnTo>
                      <a:lnTo>
                        <a:pt x="140" y="80"/>
                      </a:lnTo>
                      <a:lnTo>
                        <a:pt x="150" y="80"/>
                      </a:lnTo>
                      <a:lnTo>
                        <a:pt x="170" y="69"/>
                      </a:lnTo>
                      <a:lnTo>
                        <a:pt x="170" y="57"/>
                      </a:lnTo>
                      <a:lnTo>
                        <a:pt x="180" y="46"/>
                      </a:lnTo>
                      <a:lnTo>
                        <a:pt x="190" y="35"/>
                      </a:lnTo>
                      <a:lnTo>
                        <a:pt x="200" y="46"/>
                      </a:lnTo>
                      <a:lnTo>
                        <a:pt x="210" y="46"/>
                      </a:lnTo>
                      <a:lnTo>
                        <a:pt x="220" y="46"/>
                      </a:lnTo>
                      <a:lnTo>
                        <a:pt x="240" y="46"/>
                      </a:lnTo>
                      <a:lnTo>
                        <a:pt x="260" y="46"/>
                      </a:lnTo>
                      <a:lnTo>
                        <a:pt x="270" y="46"/>
                      </a:lnTo>
                      <a:lnTo>
                        <a:pt x="270" y="35"/>
                      </a:lnTo>
                      <a:lnTo>
                        <a:pt x="270" y="23"/>
                      </a:lnTo>
                      <a:lnTo>
                        <a:pt x="280" y="23"/>
                      </a:lnTo>
                      <a:lnTo>
                        <a:pt x="310" y="0"/>
                      </a:lnTo>
                      <a:lnTo>
                        <a:pt x="340" y="0"/>
                      </a:lnTo>
                      <a:lnTo>
                        <a:pt x="370" y="23"/>
                      </a:lnTo>
                      <a:lnTo>
                        <a:pt x="410" y="23"/>
                      </a:lnTo>
                      <a:lnTo>
                        <a:pt x="430" y="35"/>
                      </a:lnTo>
                      <a:lnTo>
                        <a:pt x="420" y="57"/>
                      </a:lnTo>
                      <a:lnTo>
                        <a:pt x="420" y="69"/>
                      </a:lnTo>
                      <a:lnTo>
                        <a:pt x="430" y="80"/>
                      </a:lnTo>
                      <a:lnTo>
                        <a:pt x="440" y="80"/>
                      </a:lnTo>
                      <a:lnTo>
                        <a:pt x="450" y="92"/>
                      </a:lnTo>
                      <a:lnTo>
                        <a:pt x="460" y="92"/>
                      </a:lnTo>
                      <a:lnTo>
                        <a:pt x="480" y="92"/>
                      </a:lnTo>
                      <a:lnTo>
                        <a:pt x="500" y="103"/>
                      </a:lnTo>
                      <a:lnTo>
                        <a:pt x="500" y="114"/>
                      </a:lnTo>
                      <a:lnTo>
                        <a:pt x="510" y="114"/>
                      </a:lnTo>
                      <a:lnTo>
                        <a:pt x="510" y="126"/>
                      </a:lnTo>
                      <a:lnTo>
                        <a:pt x="520" y="126"/>
                      </a:lnTo>
                      <a:lnTo>
                        <a:pt x="530" y="126"/>
                      </a:lnTo>
                      <a:lnTo>
                        <a:pt x="540" y="137"/>
                      </a:lnTo>
                      <a:lnTo>
                        <a:pt x="550" y="137"/>
                      </a:lnTo>
                      <a:lnTo>
                        <a:pt x="560" y="149"/>
                      </a:lnTo>
                      <a:lnTo>
                        <a:pt x="571" y="137"/>
                      </a:lnTo>
                      <a:lnTo>
                        <a:pt x="571" y="114"/>
                      </a:lnTo>
                      <a:lnTo>
                        <a:pt x="571" y="103"/>
                      </a:lnTo>
                      <a:lnTo>
                        <a:pt x="581" y="103"/>
                      </a:lnTo>
                      <a:lnTo>
                        <a:pt x="581" y="92"/>
                      </a:lnTo>
                      <a:lnTo>
                        <a:pt x="591" y="92"/>
                      </a:lnTo>
                      <a:lnTo>
                        <a:pt x="611" y="92"/>
                      </a:lnTo>
                      <a:lnTo>
                        <a:pt x="641" y="114"/>
                      </a:lnTo>
                      <a:lnTo>
                        <a:pt x="661" y="126"/>
                      </a:lnTo>
                      <a:lnTo>
                        <a:pt x="681" y="126"/>
                      </a:lnTo>
                      <a:lnTo>
                        <a:pt x="701" y="126"/>
                      </a:lnTo>
                      <a:lnTo>
                        <a:pt x="721" y="114"/>
                      </a:lnTo>
                      <a:lnTo>
                        <a:pt x="741" y="114"/>
                      </a:lnTo>
                      <a:lnTo>
                        <a:pt x="741" y="126"/>
                      </a:lnTo>
                      <a:lnTo>
                        <a:pt x="751" y="149"/>
                      </a:lnTo>
                      <a:lnTo>
                        <a:pt x="751" y="160"/>
                      </a:lnTo>
                      <a:lnTo>
                        <a:pt x="751" y="16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35320" y="2517840"/>
                  <a:ext cx="1700280" cy="2263680"/>
                </a:xfrm>
                <a:custGeom>
                  <a:avLst/>
                  <a:gdLst/>
                  <a:ahLst/>
                  <a:rect l="l" t="t" r="r" b="b"/>
                  <a:pathLst>
                    <a:path w="1071" h="1426">
                      <a:moveTo>
                        <a:pt x="751" y="160"/>
                      </a:moveTo>
                      <a:lnTo>
                        <a:pt x="761" y="171"/>
                      </a:lnTo>
                      <a:lnTo>
                        <a:pt x="771" y="183"/>
                      </a:lnTo>
                      <a:lnTo>
                        <a:pt x="771" y="194"/>
                      </a:lnTo>
                      <a:lnTo>
                        <a:pt x="781" y="194"/>
                      </a:lnTo>
                      <a:lnTo>
                        <a:pt x="781" y="206"/>
                      </a:lnTo>
                      <a:lnTo>
                        <a:pt x="781" y="217"/>
                      </a:lnTo>
                      <a:lnTo>
                        <a:pt x="791" y="228"/>
                      </a:lnTo>
                      <a:lnTo>
                        <a:pt x="791" y="240"/>
                      </a:lnTo>
                      <a:lnTo>
                        <a:pt x="801" y="263"/>
                      </a:lnTo>
                      <a:lnTo>
                        <a:pt x="811" y="274"/>
                      </a:lnTo>
                      <a:lnTo>
                        <a:pt x="811" y="285"/>
                      </a:lnTo>
                      <a:lnTo>
                        <a:pt x="821" y="297"/>
                      </a:lnTo>
                      <a:lnTo>
                        <a:pt x="831" y="308"/>
                      </a:lnTo>
                      <a:lnTo>
                        <a:pt x="831" y="320"/>
                      </a:lnTo>
                      <a:lnTo>
                        <a:pt x="841" y="331"/>
                      </a:lnTo>
                      <a:lnTo>
                        <a:pt x="851" y="354"/>
                      </a:lnTo>
                      <a:lnTo>
                        <a:pt x="861" y="377"/>
                      </a:lnTo>
                      <a:lnTo>
                        <a:pt x="871" y="411"/>
                      </a:lnTo>
                      <a:lnTo>
                        <a:pt x="871" y="422"/>
                      </a:lnTo>
                      <a:lnTo>
                        <a:pt x="871" y="434"/>
                      </a:lnTo>
                      <a:lnTo>
                        <a:pt x="881" y="445"/>
                      </a:lnTo>
                      <a:lnTo>
                        <a:pt x="891" y="445"/>
                      </a:lnTo>
                      <a:lnTo>
                        <a:pt x="901" y="456"/>
                      </a:lnTo>
                      <a:lnTo>
                        <a:pt x="911" y="456"/>
                      </a:lnTo>
                      <a:lnTo>
                        <a:pt x="911" y="468"/>
                      </a:lnTo>
                      <a:lnTo>
                        <a:pt x="921" y="479"/>
                      </a:lnTo>
                      <a:lnTo>
                        <a:pt x="931" y="479"/>
                      </a:lnTo>
                      <a:lnTo>
                        <a:pt x="931" y="491"/>
                      </a:lnTo>
                      <a:lnTo>
                        <a:pt x="931" y="502"/>
                      </a:lnTo>
                      <a:lnTo>
                        <a:pt x="921" y="513"/>
                      </a:lnTo>
                      <a:lnTo>
                        <a:pt x="931" y="513"/>
                      </a:lnTo>
                      <a:lnTo>
                        <a:pt x="941" y="513"/>
                      </a:lnTo>
                      <a:lnTo>
                        <a:pt x="941" y="525"/>
                      </a:lnTo>
                      <a:lnTo>
                        <a:pt x="951" y="525"/>
                      </a:lnTo>
                      <a:lnTo>
                        <a:pt x="961" y="536"/>
                      </a:lnTo>
                      <a:lnTo>
                        <a:pt x="971" y="536"/>
                      </a:lnTo>
                      <a:lnTo>
                        <a:pt x="971" y="525"/>
                      </a:lnTo>
                      <a:lnTo>
                        <a:pt x="1001" y="525"/>
                      </a:lnTo>
                      <a:lnTo>
                        <a:pt x="1041" y="525"/>
                      </a:lnTo>
                      <a:lnTo>
                        <a:pt x="1061" y="536"/>
                      </a:lnTo>
                      <a:lnTo>
                        <a:pt x="1071" y="559"/>
                      </a:lnTo>
                      <a:lnTo>
                        <a:pt x="1071" y="570"/>
                      </a:lnTo>
                      <a:lnTo>
                        <a:pt x="1061" y="582"/>
                      </a:lnTo>
                      <a:lnTo>
                        <a:pt x="1051" y="582"/>
                      </a:lnTo>
                      <a:lnTo>
                        <a:pt x="1041" y="582"/>
                      </a:lnTo>
                      <a:lnTo>
                        <a:pt x="1031" y="593"/>
                      </a:lnTo>
                      <a:lnTo>
                        <a:pt x="1031" y="605"/>
                      </a:lnTo>
                      <a:lnTo>
                        <a:pt x="1031" y="616"/>
                      </a:lnTo>
                      <a:lnTo>
                        <a:pt x="1011" y="650"/>
                      </a:lnTo>
                      <a:lnTo>
                        <a:pt x="1001" y="673"/>
                      </a:lnTo>
                      <a:lnTo>
                        <a:pt x="981" y="696"/>
                      </a:lnTo>
                      <a:lnTo>
                        <a:pt x="971" y="707"/>
                      </a:lnTo>
                      <a:lnTo>
                        <a:pt x="961" y="719"/>
                      </a:lnTo>
                      <a:lnTo>
                        <a:pt x="951" y="719"/>
                      </a:lnTo>
                      <a:lnTo>
                        <a:pt x="961" y="719"/>
                      </a:lnTo>
                      <a:lnTo>
                        <a:pt x="961" y="707"/>
                      </a:lnTo>
                      <a:lnTo>
                        <a:pt x="971" y="707"/>
                      </a:lnTo>
                      <a:lnTo>
                        <a:pt x="971" y="696"/>
                      </a:lnTo>
                      <a:lnTo>
                        <a:pt x="981" y="684"/>
                      </a:lnTo>
                      <a:lnTo>
                        <a:pt x="971" y="696"/>
                      </a:lnTo>
                      <a:lnTo>
                        <a:pt x="961" y="707"/>
                      </a:lnTo>
                      <a:lnTo>
                        <a:pt x="961" y="719"/>
                      </a:lnTo>
                      <a:lnTo>
                        <a:pt x="941" y="730"/>
                      </a:lnTo>
                      <a:lnTo>
                        <a:pt x="931" y="742"/>
                      </a:lnTo>
                      <a:lnTo>
                        <a:pt x="931" y="753"/>
                      </a:lnTo>
                      <a:lnTo>
                        <a:pt x="921" y="764"/>
                      </a:lnTo>
                      <a:lnTo>
                        <a:pt x="911" y="776"/>
                      </a:lnTo>
                      <a:lnTo>
                        <a:pt x="901" y="776"/>
                      </a:lnTo>
                      <a:lnTo>
                        <a:pt x="891" y="799"/>
                      </a:lnTo>
                      <a:lnTo>
                        <a:pt x="881" y="810"/>
                      </a:lnTo>
                      <a:lnTo>
                        <a:pt x="881" y="833"/>
                      </a:lnTo>
                      <a:lnTo>
                        <a:pt x="871" y="867"/>
                      </a:lnTo>
                      <a:lnTo>
                        <a:pt x="871" y="890"/>
                      </a:lnTo>
                      <a:lnTo>
                        <a:pt x="881" y="913"/>
                      </a:lnTo>
                      <a:lnTo>
                        <a:pt x="891" y="947"/>
                      </a:lnTo>
                      <a:lnTo>
                        <a:pt x="901" y="947"/>
                      </a:lnTo>
                      <a:lnTo>
                        <a:pt x="891" y="992"/>
                      </a:lnTo>
                      <a:lnTo>
                        <a:pt x="891" y="1027"/>
                      </a:lnTo>
                      <a:lnTo>
                        <a:pt x="881" y="1061"/>
                      </a:lnTo>
                      <a:lnTo>
                        <a:pt x="871" y="1072"/>
                      </a:lnTo>
                      <a:lnTo>
                        <a:pt x="861" y="1072"/>
                      </a:lnTo>
                      <a:lnTo>
                        <a:pt x="851" y="1084"/>
                      </a:lnTo>
                      <a:lnTo>
                        <a:pt x="841" y="1084"/>
                      </a:lnTo>
                      <a:lnTo>
                        <a:pt x="841" y="1095"/>
                      </a:lnTo>
                      <a:lnTo>
                        <a:pt x="831" y="1106"/>
                      </a:lnTo>
                      <a:lnTo>
                        <a:pt x="821" y="1118"/>
                      </a:lnTo>
                      <a:lnTo>
                        <a:pt x="811" y="1118"/>
                      </a:lnTo>
                      <a:lnTo>
                        <a:pt x="801" y="1129"/>
                      </a:lnTo>
                      <a:lnTo>
                        <a:pt x="791" y="1175"/>
                      </a:lnTo>
                      <a:lnTo>
                        <a:pt x="781" y="1209"/>
                      </a:lnTo>
                      <a:lnTo>
                        <a:pt x="771" y="1243"/>
                      </a:lnTo>
                      <a:lnTo>
                        <a:pt x="771" y="1255"/>
                      </a:lnTo>
                      <a:lnTo>
                        <a:pt x="771" y="1266"/>
                      </a:lnTo>
                      <a:lnTo>
                        <a:pt x="761" y="1289"/>
                      </a:lnTo>
                      <a:lnTo>
                        <a:pt x="741" y="1312"/>
                      </a:lnTo>
                      <a:lnTo>
                        <a:pt x="731" y="1334"/>
                      </a:lnTo>
                      <a:lnTo>
                        <a:pt x="711" y="1357"/>
                      </a:lnTo>
                      <a:lnTo>
                        <a:pt x="701" y="1380"/>
                      </a:lnTo>
                      <a:lnTo>
                        <a:pt x="681" y="1403"/>
                      </a:lnTo>
                      <a:lnTo>
                        <a:pt x="661" y="1414"/>
                      </a:lnTo>
                      <a:lnTo>
                        <a:pt x="641" y="1414"/>
                      </a:lnTo>
                      <a:lnTo>
                        <a:pt x="631" y="1414"/>
                      </a:lnTo>
                      <a:lnTo>
                        <a:pt x="621" y="1414"/>
                      </a:lnTo>
                      <a:lnTo>
                        <a:pt x="601" y="1414"/>
                      </a:lnTo>
                      <a:lnTo>
                        <a:pt x="591" y="1414"/>
                      </a:lnTo>
                      <a:lnTo>
                        <a:pt x="591" y="1426"/>
                      </a:lnTo>
                      <a:lnTo>
                        <a:pt x="571" y="1426"/>
                      </a:lnTo>
                      <a:lnTo>
                        <a:pt x="550" y="1414"/>
                      </a:lnTo>
                      <a:lnTo>
                        <a:pt x="540" y="1391"/>
                      </a:lnTo>
                      <a:lnTo>
                        <a:pt x="530" y="1357"/>
                      </a:lnTo>
                      <a:lnTo>
                        <a:pt x="530" y="1334"/>
                      </a:lnTo>
                      <a:lnTo>
                        <a:pt x="520" y="1300"/>
                      </a:lnTo>
                      <a:lnTo>
                        <a:pt x="510" y="1277"/>
                      </a:lnTo>
                      <a:lnTo>
                        <a:pt x="510" y="1266"/>
                      </a:lnTo>
                      <a:lnTo>
                        <a:pt x="500" y="1266"/>
                      </a:lnTo>
                      <a:lnTo>
                        <a:pt x="500" y="1277"/>
                      </a:lnTo>
                      <a:lnTo>
                        <a:pt x="500" y="1266"/>
                      </a:lnTo>
                      <a:lnTo>
                        <a:pt x="500" y="1232"/>
                      </a:lnTo>
                      <a:lnTo>
                        <a:pt x="490" y="1198"/>
                      </a:lnTo>
                      <a:lnTo>
                        <a:pt x="480" y="1175"/>
                      </a:lnTo>
                      <a:lnTo>
                        <a:pt x="480" y="1141"/>
                      </a:lnTo>
                      <a:lnTo>
                        <a:pt x="470" y="1129"/>
                      </a:lnTo>
                      <a:lnTo>
                        <a:pt x="470" y="1118"/>
                      </a:lnTo>
                      <a:lnTo>
                        <a:pt x="460" y="1106"/>
                      </a:lnTo>
                      <a:lnTo>
                        <a:pt x="460" y="1095"/>
                      </a:lnTo>
                      <a:lnTo>
                        <a:pt x="460" y="1072"/>
                      </a:lnTo>
                      <a:lnTo>
                        <a:pt x="460" y="1038"/>
                      </a:lnTo>
                      <a:lnTo>
                        <a:pt x="470" y="1004"/>
                      </a:lnTo>
                      <a:lnTo>
                        <a:pt x="470" y="992"/>
                      </a:lnTo>
                      <a:lnTo>
                        <a:pt x="480" y="981"/>
                      </a:lnTo>
                      <a:lnTo>
                        <a:pt x="490" y="970"/>
                      </a:lnTo>
                      <a:lnTo>
                        <a:pt x="480" y="935"/>
                      </a:lnTo>
                      <a:lnTo>
                        <a:pt x="470" y="901"/>
                      </a:lnTo>
                      <a:lnTo>
                        <a:pt x="460" y="867"/>
                      </a:lnTo>
                      <a:lnTo>
                        <a:pt x="470" y="856"/>
                      </a:lnTo>
                      <a:lnTo>
                        <a:pt x="480" y="856"/>
                      </a:lnTo>
                      <a:lnTo>
                        <a:pt x="460" y="833"/>
                      </a:lnTo>
                      <a:lnTo>
                        <a:pt x="440" y="810"/>
                      </a:lnTo>
                      <a:lnTo>
                        <a:pt x="420" y="776"/>
                      </a:lnTo>
                      <a:lnTo>
                        <a:pt x="410" y="753"/>
                      </a:lnTo>
                      <a:lnTo>
                        <a:pt x="420" y="719"/>
                      </a:lnTo>
                      <a:lnTo>
                        <a:pt x="430" y="696"/>
                      </a:lnTo>
                      <a:lnTo>
                        <a:pt x="430" y="662"/>
                      </a:lnTo>
                      <a:lnTo>
                        <a:pt x="420" y="650"/>
                      </a:lnTo>
                      <a:lnTo>
                        <a:pt x="390" y="639"/>
                      </a:lnTo>
                      <a:lnTo>
                        <a:pt x="340" y="627"/>
                      </a:lnTo>
                      <a:lnTo>
                        <a:pt x="330" y="627"/>
                      </a:lnTo>
                      <a:lnTo>
                        <a:pt x="320" y="616"/>
                      </a:lnTo>
                      <a:lnTo>
                        <a:pt x="310" y="616"/>
                      </a:lnTo>
                      <a:lnTo>
                        <a:pt x="290" y="616"/>
                      </a:lnTo>
                      <a:lnTo>
                        <a:pt x="260" y="627"/>
                      </a:lnTo>
                      <a:lnTo>
                        <a:pt x="250" y="639"/>
                      </a:lnTo>
                      <a:lnTo>
                        <a:pt x="230" y="639"/>
                      </a:lnTo>
                      <a:lnTo>
                        <a:pt x="210" y="639"/>
                      </a:lnTo>
                      <a:lnTo>
                        <a:pt x="190" y="639"/>
                      </a:lnTo>
                      <a:lnTo>
                        <a:pt x="180" y="639"/>
                      </a:lnTo>
                      <a:lnTo>
                        <a:pt x="160" y="650"/>
                      </a:lnTo>
                      <a:lnTo>
                        <a:pt x="150" y="650"/>
                      </a:lnTo>
                      <a:lnTo>
                        <a:pt x="140" y="650"/>
                      </a:lnTo>
                      <a:lnTo>
                        <a:pt x="130" y="639"/>
                      </a:lnTo>
                      <a:lnTo>
                        <a:pt x="110" y="627"/>
                      </a:lnTo>
                      <a:lnTo>
                        <a:pt x="100" y="627"/>
                      </a:lnTo>
                      <a:lnTo>
                        <a:pt x="100" y="616"/>
                      </a:lnTo>
                      <a:lnTo>
                        <a:pt x="110" y="616"/>
                      </a:lnTo>
                      <a:lnTo>
                        <a:pt x="110" y="627"/>
                      </a:lnTo>
                      <a:lnTo>
                        <a:pt x="120" y="627"/>
                      </a:lnTo>
                      <a:lnTo>
                        <a:pt x="110" y="616"/>
                      </a:lnTo>
                      <a:lnTo>
                        <a:pt x="100" y="616"/>
                      </a:lnTo>
                      <a:lnTo>
                        <a:pt x="90" y="605"/>
                      </a:lnTo>
                      <a:lnTo>
                        <a:pt x="80" y="605"/>
                      </a:lnTo>
                      <a:lnTo>
                        <a:pt x="80" y="593"/>
                      </a:lnTo>
                      <a:lnTo>
                        <a:pt x="70" y="582"/>
                      </a:lnTo>
                      <a:lnTo>
                        <a:pt x="70" y="570"/>
                      </a:lnTo>
                      <a:lnTo>
                        <a:pt x="60" y="559"/>
                      </a:lnTo>
                      <a:lnTo>
                        <a:pt x="60" y="548"/>
                      </a:lnTo>
                      <a:lnTo>
                        <a:pt x="50" y="536"/>
                      </a:lnTo>
                      <a:lnTo>
                        <a:pt x="40" y="525"/>
                      </a:lnTo>
                      <a:lnTo>
                        <a:pt x="30" y="525"/>
                      </a:lnTo>
                      <a:lnTo>
                        <a:pt x="30" y="513"/>
                      </a:lnTo>
                      <a:lnTo>
                        <a:pt x="40" y="513"/>
                      </a:lnTo>
                      <a:lnTo>
                        <a:pt x="40" y="502"/>
                      </a:lnTo>
                      <a:lnTo>
                        <a:pt x="30" y="502"/>
                      </a:lnTo>
                      <a:lnTo>
                        <a:pt x="20" y="502"/>
                      </a:lnTo>
                      <a:lnTo>
                        <a:pt x="10" y="502"/>
                      </a:lnTo>
                      <a:lnTo>
                        <a:pt x="20" y="491"/>
                      </a:lnTo>
                      <a:lnTo>
                        <a:pt x="30" y="491"/>
                      </a:lnTo>
                      <a:lnTo>
                        <a:pt x="40" y="479"/>
                      </a:lnTo>
                      <a:lnTo>
                        <a:pt x="20" y="468"/>
                      </a:lnTo>
                      <a:lnTo>
                        <a:pt x="10" y="468"/>
                      </a:lnTo>
                      <a:lnTo>
                        <a:pt x="0" y="445"/>
                      </a:lnTo>
                      <a:lnTo>
                        <a:pt x="0" y="434"/>
                      </a:lnTo>
                      <a:lnTo>
                        <a:pt x="0" y="422"/>
                      </a:lnTo>
                      <a:lnTo>
                        <a:pt x="10" y="411"/>
                      </a:lnTo>
                      <a:lnTo>
                        <a:pt x="20" y="422"/>
                      </a:lnTo>
                      <a:lnTo>
                        <a:pt x="20" y="434"/>
                      </a:lnTo>
                      <a:lnTo>
                        <a:pt x="20" y="445"/>
                      </a:lnTo>
                      <a:lnTo>
                        <a:pt x="30" y="445"/>
                      </a:lnTo>
                      <a:lnTo>
                        <a:pt x="30" y="434"/>
                      </a:lnTo>
                      <a:lnTo>
                        <a:pt x="30" y="422"/>
                      </a:lnTo>
                      <a:lnTo>
                        <a:pt x="30" y="411"/>
                      </a:lnTo>
                      <a:lnTo>
                        <a:pt x="30" y="388"/>
                      </a:lnTo>
                      <a:lnTo>
                        <a:pt x="20" y="365"/>
                      </a:lnTo>
                      <a:lnTo>
                        <a:pt x="10" y="331"/>
                      </a:lnTo>
                      <a:lnTo>
                        <a:pt x="10" y="308"/>
                      </a:lnTo>
                      <a:lnTo>
                        <a:pt x="20" y="297"/>
                      </a:lnTo>
                      <a:lnTo>
                        <a:pt x="30" y="285"/>
                      </a:lnTo>
                      <a:lnTo>
                        <a:pt x="30" y="274"/>
                      </a:lnTo>
                      <a:lnTo>
                        <a:pt x="40" y="251"/>
                      </a:lnTo>
                      <a:lnTo>
                        <a:pt x="60" y="217"/>
                      </a:lnTo>
                      <a:lnTo>
                        <a:pt x="80" y="194"/>
                      </a:lnTo>
                      <a:lnTo>
                        <a:pt x="90" y="183"/>
                      </a:lnTo>
                      <a:lnTo>
                        <a:pt x="100" y="183"/>
                      </a:lnTo>
                      <a:lnTo>
                        <a:pt x="120" y="160"/>
                      </a:lnTo>
                      <a:lnTo>
                        <a:pt x="130" y="149"/>
                      </a:lnTo>
                      <a:lnTo>
                        <a:pt x="120" y="137"/>
                      </a:lnTo>
                      <a:lnTo>
                        <a:pt x="120" y="126"/>
                      </a:lnTo>
                      <a:lnTo>
                        <a:pt x="130" y="92"/>
                      </a:lnTo>
                      <a:lnTo>
                        <a:pt x="140" y="92"/>
                      </a:lnTo>
                      <a:lnTo>
                        <a:pt x="140" y="80"/>
                      </a:lnTo>
                      <a:lnTo>
                        <a:pt x="150" y="80"/>
                      </a:lnTo>
                      <a:lnTo>
                        <a:pt x="170" y="69"/>
                      </a:lnTo>
                      <a:lnTo>
                        <a:pt x="170" y="57"/>
                      </a:lnTo>
                      <a:lnTo>
                        <a:pt x="180" y="46"/>
                      </a:lnTo>
                      <a:lnTo>
                        <a:pt x="190" y="35"/>
                      </a:lnTo>
                      <a:lnTo>
                        <a:pt x="200" y="46"/>
                      </a:lnTo>
                      <a:lnTo>
                        <a:pt x="210" y="46"/>
                      </a:lnTo>
                      <a:lnTo>
                        <a:pt x="220" y="46"/>
                      </a:lnTo>
                      <a:lnTo>
                        <a:pt x="240" y="46"/>
                      </a:lnTo>
                      <a:lnTo>
                        <a:pt x="260" y="46"/>
                      </a:lnTo>
                      <a:lnTo>
                        <a:pt x="270" y="46"/>
                      </a:lnTo>
                      <a:lnTo>
                        <a:pt x="270" y="35"/>
                      </a:lnTo>
                      <a:lnTo>
                        <a:pt x="270" y="23"/>
                      </a:lnTo>
                      <a:lnTo>
                        <a:pt x="280" y="23"/>
                      </a:lnTo>
                      <a:lnTo>
                        <a:pt x="310" y="0"/>
                      </a:lnTo>
                      <a:lnTo>
                        <a:pt x="340" y="0"/>
                      </a:lnTo>
                      <a:lnTo>
                        <a:pt x="370" y="23"/>
                      </a:lnTo>
                      <a:lnTo>
                        <a:pt x="410" y="23"/>
                      </a:lnTo>
                      <a:lnTo>
                        <a:pt x="430" y="35"/>
                      </a:lnTo>
                      <a:lnTo>
                        <a:pt x="420" y="57"/>
                      </a:lnTo>
                      <a:lnTo>
                        <a:pt x="420" y="69"/>
                      </a:lnTo>
                      <a:lnTo>
                        <a:pt x="430" y="80"/>
                      </a:lnTo>
                      <a:lnTo>
                        <a:pt x="440" y="80"/>
                      </a:lnTo>
                      <a:lnTo>
                        <a:pt x="450" y="92"/>
                      </a:lnTo>
                      <a:lnTo>
                        <a:pt x="460" y="92"/>
                      </a:lnTo>
                      <a:lnTo>
                        <a:pt x="480" y="92"/>
                      </a:lnTo>
                      <a:lnTo>
                        <a:pt x="500" y="103"/>
                      </a:lnTo>
                      <a:lnTo>
                        <a:pt x="500" y="114"/>
                      </a:lnTo>
                      <a:lnTo>
                        <a:pt x="510" y="114"/>
                      </a:lnTo>
                      <a:lnTo>
                        <a:pt x="510" y="126"/>
                      </a:lnTo>
                      <a:lnTo>
                        <a:pt x="520" y="126"/>
                      </a:lnTo>
                      <a:lnTo>
                        <a:pt x="530" y="126"/>
                      </a:lnTo>
                      <a:lnTo>
                        <a:pt x="540" y="137"/>
                      </a:lnTo>
                      <a:lnTo>
                        <a:pt x="550" y="137"/>
                      </a:lnTo>
                      <a:lnTo>
                        <a:pt x="560" y="149"/>
                      </a:lnTo>
                      <a:lnTo>
                        <a:pt x="571" y="137"/>
                      </a:lnTo>
                      <a:lnTo>
                        <a:pt x="571" y="114"/>
                      </a:lnTo>
                      <a:lnTo>
                        <a:pt x="571" y="103"/>
                      </a:lnTo>
                      <a:lnTo>
                        <a:pt x="581" y="103"/>
                      </a:lnTo>
                      <a:lnTo>
                        <a:pt x="581" y="92"/>
                      </a:lnTo>
                      <a:lnTo>
                        <a:pt x="591" y="92"/>
                      </a:lnTo>
                      <a:lnTo>
                        <a:pt x="611" y="92"/>
                      </a:lnTo>
                      <a:lnTo>
                        <a:pt x="641" y="114"/>
                      </a:lnTo>
                      <a:lnTo>
                        <a:pt x="661" y="126"/>
                      </a:lnTo>
                      <a:lnTo>
                        <a:pt x="681" y="126"/>
                      </a:lnTo>
                      <a:lnTo>
                        <a:pt x="701" y="126"/>
                      </a:lnTo>
                      <a:lnTo>
                        <a:pt x="721" y="114"/>
                      </a:lnTo>
                      <a:lnTo>
                        <a:pt x="741" y="114"/>
                      </a:lnTo>
                      <a:lnTo>
                        <a:pt x="741" y="126"/>
                      </a:lnTo>
                      <a:lnTo>
                        <a:pt x="751" y="149"/>
                      </a:lnTo>
                      <a:lnTo>
                        <a:pt x="75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11080" y="3060720"/>
                  <a:ext cx="15840" cy="36360"/>
                </a:xfrm>
                <a:custGeom>
                  <a:avLst/>
                  <a:gdLst/>
                  <a:ahLst/>
                  <a:rect l="l" t="t" r="r" b="b"/>
                  <a:pathLst>
                    <a:path w="10" h="23">
                      <a:moveTo>
                        <a:pt x="10" y="0"/>
                      </a:moveTo>
                      <a:lnTo>
                        <a:pt x="0" y="12"/>
                      </a:lnTo>
                      <a:lnTo>
                        <a:pt x="0" y="23"/>
                      </a:lnTo>
                      <a:lnTo>
                        <a:pt x="0" y="12"/>
                      </a:lnTo>
                      <a:lnTo>
                        <a:pt x="10" y="0"/>
                      </a:lnTo>
                      <a:lnTo>
                        <a:pt x="10"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811080" y="3060720"/>
                  <a:ext cx="15840" cy="36360"/>
                </a:xfrm>
                <a:custGeom>
                  <a:avLst/>
                  <a:gdLst/>
                  <a:ahLst/>
                  <a:rect l="l" t="t" r="r" b="b"/>
                  <a:pathLst>
                    <a:path w="10" h="23">
                      <a:moveTo>
                        <a:pt x="10" y="0"/>
                      </a:moveTo>
                      <a:lnTo>
                        <a:pt x="0" y="12"/>
                      </a:lnTo>
                      <a:lnTo>
                        <a:pt x="0" y="23"/>
                      </a:lnTo>
                      <a:lnTo>
                        <a:pt x="0" y="12"/>
                      </a:lnTo>
                      <a:lnTo>
                        <a:pt x="1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0" name=""/>
                <p:cNvSpPr/>
                <p:nvPr/>
              </p:nvSpPr>
              <p:spPr>
                <a:xfrm>
                  <a:off x="7188120" y="3060720"/>
                  <a:ext cx="31680" cy="55440"/>
                </a:xfrm>
                <a:custGeom>
                  <a:avLst/>
                  <a:gdLst/>
                  <a:ahLst/>
                  <a:rect l="l" t="t" r="r" b="b"/>
                  <a:pathLst>
                    <a:path w="20" h="35">
                      <a:moveTo>
                        <a:pt x="0" y="0"/>
                      </a:moveTo>
                      <a:lnTo>
                        <a:pt x="10" y="12"/>
                      </a:lnTo>
                      <a:lnTo>
                        <a:pt x="20" y="23"/>
                      </a:lnTo>
                      <a:lnTo>
                        <a:pt x="20" y="35"/>
                      </a:lnTo>
                      <a:lnTo>
                        <a:pt x="0" y="35"/>
                      </a:lnTo>
                      <a:lnTo>
                        <a:pt x="0" y="23"/>
                      </a:lnTo>
                      <a:lnTo>
                        <a:pt x="0" y="12"/>
                      </a:lnTo>
                      <a:lnTo>
                        <a:pt x="0" y="0"/>
                      </a:lnTo>
                      <a:lnTo>
                        <a:pt x="0" y="0"/>
                      </a:lnTo>
                      <a:close/>
                    </a:path>
                  </a:pathLst>
                </a:custGeom>
                <a:solidFill>
                  <a:srgbClr val="0093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1" name=""/>
                <p:cNvSpPr/>
                <p:nvPr/>
              </p:nvSpPr>
              <p:spPr>
                <a:xfrm>
                  <a:off x="7188120" y="3060720"/>
                  <a:ext cx="31680" cy="55440"/>
                </a:xfrm>
                <a:custGeom>
                  <a:avLst/>
                  <a:gdLst/>
                  <a:ahLst/>
                  <a:rect l="l" t="t" r="r" b="b"/>
                  <a:pathLst>
                    <a:path w="20" h="35">
                      <a:moveTo>
                        <a:pt x="0" y="0"/>
                      </a:moveTo>
                      <a:lnTo>
                        <a:pt x="10" y="12"/>
                      </a:lnTo>
                      <a:lnTo>
                        <a:pt x="20" y="23"/>
                      </a:lnTo>
                      <a:lnTo>
                        <a:pt x="20" y="35"/>
                      </a:lnTo>
                      <a:lnTo>
                        <a:pt x="0" y="35"/>
                      </a:lnTo>
                      <a:lnTo>
                        <a:pt x="0" y="23"/>
                      </a:lnTo>
                      <a:lnTo>
                        <a:pt x="0" y="12"/>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2" name=""/>
                <p:cNvSpPr/>
                <p:nvPr/>
              </p:nvSpPr>
              <p:spPr>
                <a:xfrm>
                  <a:off x="2798640" y="3079800"/>
                  <a:ext cx="127080" cy="36360"/>
                </a:xfrm>
                <a:custGeom>
                  <a:avLst/>
                  <a:gdLst/>
                  <a:ahLst/>
                  <a:rect l="l" t="t" r="r" b="b"/>
                  <a:pathLst>
                    <a:path w="80" h="23">
                      <a:moveTo>
                        <a:pt x="30" y="0"/>
                      </a:moveTo>
                      <a:lnTo>
                        <a:pt x="50" y="0"/>
                      </a:lnTo>
                      <a:lnTo>
                        <a:pt x="60" y="11"/>
                      </a:lnTo>
                      <a:lnTo>
                        <a:pt x="80" y="23"/>
                      </a:lnTo>
                      <a:lnTo>
                        <a:pt x="70" y="23"/>
                      </a:lnTo>
                      <a:lnTo>
                        <a:pt x="50" y="23"/>
                      </a:lnTo>
                      <a:lnTo>
                        <a:pt x="30" y="11"/>
                      </a:lnTo>
                      <a:lnTo>
                        <a:pt x="0" y="0"/>
                      </a:lnTo>
                      <a:lnTo>
                        <a:pt x="20" y="0"/>
                      </a:lnTo>
                      <a:lnTo>
                        <a:pt x="30" y="0"/>
                      </a:lnTo>
                      <a:lnTo>
                        <a:pt x="30"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3" name=""/>
                <p:cNvSpPr/>
                <p:nvPr/>
              </p:nvSpPr>
              <p:spPr>
                <a:xfrm>
                  <a:off x="2798640" y="3079800"/>
                  <a:ext cx="127080" cy="36360"/>
                </a:xfrm>
                <a:custGeom>
                  <a:avLst/>
                  <a:gdLst/>
                  <a:ahLst/>
                  <a:rect l="l" t="t" r="r" b="b"/>
                  <a:pathLst>
                    <a:path w="80" h="23">
                      <a:moveTo>
                        <a:pt x="30" y="0"/>
                      </a:moveTo>
                      <a:lnTo>
                        <a:pt x="50" y="0"/>
                      </a:lnTo>
                      <a:lnTo>
                        <a:pt x="60" y="11"/>
                      </a:lnTo>
                      <a:lnTo>
                        <a:pt x="80" y="23"/>
                      </a:lnTo>
                      <a:lnTo>
                        <a:pt x="70" y="23"/>
                      </a:lnTo>
                      <a:lnTo>
                        <a:pt x="50" y="23"/>
                      </a:lnTo>
                      <a:lnTo>
                        <a:pt x="30" y="11"/>
                      </a:lnTo>
                      <a:lnTo>
                        <a:pt x="0" y="0"/>
                      </a:lnTo>
                      <a:lnTo>
                        <a:pt x="20" y="0"/>
                      </a:lnTo>
                      <a:lnTo>
                        <a:pt x="3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4" name=""/>
                <p:cNvSpPr/>
                <p:nvPr/>
              </p:nvSpPr>
              <p:spPr>
                <a:xfrm>
                  <a:off x="7458120" y="3116160"/>
                  <a:ext cx="127080" cy="181080"/>
                </a:xfrm>
                <a:custGeom>
                  <a:avLst/>
                  <a:gdLst/>
                  <a:ahLst/>
                  <a:rect l="l" t="t" r="r" b="b"/>
                  <a:pathLst>
                    <a:path w="80" h="114">
                      <a:moveTo>
                        <a:pt x="30" y="0"/>
                      </a:moveTo>
                      <a:lnTo>
                        <a:pt x="30" y="11"/>
                      </a:lnTo>
                      <a:lnTo>
                        <a:pt x="40" y="22"/>
                      </a:lnTo>
                      <a:lnTo>
                        <a:pt x="30" y="45"/>
                      </a:lnTo>
                      <a:lnTo>
                        <a:pt x="30" y="68"/>
                      </a:lnTo>
                      <a:lnTo>
                        <a:pt x="40" y="91"/>
                      </a:lnTo>
                      <a:lnTo>
                        <a:pt x="50" y="91"/>
                      </a:lnTo>
                      <a:lnTo>
                        <a:pt x="60" y="91"/>
                      </a:lnTo>
                      <a:lnTo>
                        <a:pt x="70" y="91"/>
                      </a:lnTo>
                      <a:lnTo>
                        <a:pt x="70" y="102"/>
                      </a:lnTo>
                      <a:lnTo>
                        <a:pt x="80" y="114"/>
                      </a:lnTo>
                      <a:lnTo>
                        <a:pt x="70" y="114"/>
                      </a:lnTo>
                      <a:lnTo>
                        <a:pt x="60" y="114"/>
                      </a:lnTo>
                      <a:lnTo>
                        <a:pt x="60" y="102"/>
                      </a:lnTo>
                      <a:lnTo>
                        <a:pt x="50" y="91"/>
                      </a:lnTo>
                      <a:lnTo>
                        <a:pt x="50" y="102"/>
                      </a:lnTo>
                      <a:lnTo>
                        <a:pt x="30" y="102"/>
                      </a:lnTo>
                      <a:lnTo>
                        <a:pt x="20" y="91"/>
                      </a:lnTo>
                      <a:lnTo>
                        <a:pt x="20" y="79"/>
                      </a:lnTo>
                      <a:lnTo>
                        <a:pt x="10" y="68"/>
                      </a:lnTo>
                      <a:lnTo>
                        <a:pt x="10" y="57"/>
                      </a:lnTo>
                      <a:lnTo>
                        <a:pt x="0" y="45"/>
                      </a:lnTo>
                      <a:lnTo>
                        <a:pt x="0" y="22"/>
                      </a:lnTo>
                      <a:lnTo>
                        <a:pt x="0" y="11"/>
                      </a:lnTo>
                      <a:lnTo>
                        <a:pt x="10" y="0"/>
                      </a:lnTo>
                      <a:lnTo>
                        <a:pt x="20" y="0"/>
                      </a:lnTo>
                      <a:lnTo>
                        <a:pt x="30" y="0"/>
                      </a:lnTo>
                      <a:lnTo>
                        <a:pt x="3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458120" y="3116160"/>
                  <a:ext cx="127080" cy="181080"/>
                </a:xfrm>
                <a:custGeom>
                  <a:avLst/>
                  <a:gdLst/>
                  <a:ahLst/>
                  <a:rect l="l" t="t" r="r" b="b"/>
                  <a:pathLst>
                    <a:path w="80" h="114">
                      <a:moveTo>
                        <a:pt x="30" y="0"/>
                      </a:moveTo>
                      <a:lnTo>
                        <a:pt x="30" y="11"/>
                      </a:lnTo>
                      <a:lnTo>
                        <a:pt x="40" y="22"/>
                      </a:lnTo>
                      <a:lnTo>
                        <a:pt x="30" y="45"/>
                      </a:lnTo>
                      <a:lnTo>
                        <a:pt x="30" y="68"/>
                      </a:lnTo>
                      <a:lnTo>
                        <a:pt x="40" y="91"/>
                      </a:lnTo>
                      <a:lnTo>
                        <a:pt x="50" y="91"/>
                      </a:lnTo>
                      <a:lnTo>
                        <a:pt x="60" y="91"/>
                      </a:lnTo>
                      <a:lnTo>
                        <a:pt x="70" y="91"/>
                      </a:lnTo>
                      <a:lnTo>
                        <a:pt x="70" y="102"/>
                      </a:lnTo>
                      <a:lnTo>
                        <a:pt x="80" y="114"/>
                      </a:lnTo>
                      <a:lnTo>
                        <a:pt x="70" y="114"/>
                      </a:lnTo>
                      <a:lnTo>
                        <a:pt x="60" y="114"/>
                      </a:lnTo>
                      <a:lnTo>
                        <a:pt x="60" y="102"/>
                      </a:lnTo>
                      <a:lnTo>
                        <a:pt x="50" y="91"/>
                      </a:lnTo>
                      <a:lnTo>
                        <a:pt x="50" y="102"/>
                      </a:lnTo>
                      <a:lnTo>
                        <a:pt x="30" y="102"/>
                      </a:lnTo>
                      <a:lnTo>
                        <a:pt x="20" y="91"/>
                      </a:lnTo>
                      <a:lnTo>
                        <a:pt x="20" y="79"/>
                      </a:lnTo>
                      <a:lnTo>
                        <a:pt x="10" y="68"/>
                      </a:lnTo>
                      <a:lnTo>
                        <a:pt x="10" y="57"/>
                      </a:lnTo>
                      <a:lnTo>
                        <a:pt x="0" y="45"/>
                      </a:lnTo>
                      <a:lnTo>
                        <a:pt x="0" y="22"/>
                      </a:lnTo>
                      <a:lnTo>
                        <a:pt x="0" y="11"/>
                      </a:lnTo>
                      <a:lnTo>
                        <a:pt x="10" y="0"/>
                      </a:lnTo>
                      <a:lnTo>
                        <a:pt x="20" y="0"/>
                      </a:lnTo>
                      <a:lnTo>
                        <a:pt x="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585200" y="3297240"/>
                  <a:ext cx="15840" cy="17640"/>
                </a:xfrm>
                <a:custGeom>
                  <a:avLst/>
                  <a:gdLst/>
                  <a:ahLst/>
                  <a:rect l="l" t="t" r="r" b="b"/>
                  <a:pathLst>
                    <a:path w="10" h="11">
                      <a:moveTo>
                        <a:pt x="0" y="0"/>
                      </a:moveTo>
                      <a:lnTo>
                        <a:pt x="0" y="11"/>
                      </a:lnTo>
                      <a:lnTo>
                        <a:pt x="10" y="11"/>
                      </a:lnTo>
                      <a:lnTo>
                        <a:pt x="0" y="11"/>
                      </a:lnTo>
                      <a:lnTo>
                        <a:pt x="0" y="0"/>
                      </a:lnTo>
                      <a:lnTo>
                        <a:pt x="0" y="0"/>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7" name=""/>
                <p:cNvSpPr/>
                <p:nvPr/>
              </p:nvSpPr>
              <p:spPr>
                <a:xfrm>
                  <a:off x="7585200" y="3297240"/>
                  <a:ext cx="15840" cy="17640"/>
                </a:xfrm>
                <a:custGeom>
                  <a:avLst/>
                  <a:gdLst/>
                  <a:ahLst/>
                  <a:rect l="l" t="t" r="r" b="b"/>
                  <a:pathLst>
                    <a:path w="10" h="11">
                      <a:moveTo>
                        <a:pt x="0" y="0"/>
                      </a:moveTo>
                      <a:lnTo>
                        <a:pt x="0" y="11"/>
                      </a:lnTo>
                      <a:lnTo>
                        <a:pt x="10" y="11"/>
                      </a:lnTo>
                      <a:lnTo>
                        <a:pt x="0" y="11"/>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7410600" y="3332160"/>
                  <a:ext cx="63360" cy="109440"/>
                </a:xfrm>
                <a:custGeom>
                  <a:avLst/>
                  <a:gdLst/>
                  <a:ahLst/>
                  <a:rect l="l" t="t" r="r" b="b"/>
                  <a:pathLst>
                    <a:path w="40" h="69">
                      <a:moveTo>
                        <a:pt x="40" y="0"/>
                      </a:moveTo>
                      <a:lnTo>
                        <a:pt x="30" y="23"/>
                      </a:lnTo>
                      <a:lnTo>
                        <a:pt x="20" y="46"/>
                      </a:lnTo>
                      <a:lnTo>
                        <a:pt x="10" y="69"/>
                      </a:lnTo>
                      <a:lnTo>
                        <a:pt x="0" y="57"/>
                      </a:lnTo>
                      <a:lnTo>
                        <a:pt x="10" y="57"/>
                      </a:lnTo>
                      <a:lnTo>
                        <a:pt x="10" y="46"/>
                      </a:lnTo>
                      <a:lnTo>
                        <a:pt x="20" y="35"/>
                      </a:lnTo>
                      <a:lnTo>
                        <a:pt x="30" y="35"/>
                      </a:lnTo>
                      <a:lnTo>
                        <a:pt x="30" y="23"/>
                      </a:lnTo>
                      <a:lnTo>
                        <a:pt x="40" y="12"/>
                      </a:lnTo>
                      <a:lnTo>
                        <a:pt x="40" y="0"/>
                      </a:lnTo>
                      <a:lnTo>
                        <a:pt x="4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410600" y="3332160"/>
                  <a:ext cx="63360" cy="109440"/>
                </a:xfrm>
                <a:custGeom>
                  <a:avLst/>
                  <a:gdLst/>
                  <a:ahLst/>
                  <a:rect l="l" t="t" r="r" b="b"/>
                  <a:pathLst>
                    <a:path w="40" h="69">
                      <a:moveTo>
                        <a:pt x="40" y="0"/>
                      </a:moveTo>
                      <a:lnTo>
                        <a:pt x="30" y="23"/>
                      </a:lnTo>
                      <a:lnTo>
                        <a:pt x="20" y="46"/>
                      </a:lnTo>
                      <a:lnTo>
                        <a:pt x="10" y="69"/>
                      </a:lnTo>
                      <a:lnTo>
                        <a:pt x="0" y="57"/>
                      </a:lnTo>
                      <a:lnTo>
                        <a:pt x="10" y="57"/>
                      </a:lnTo>
                      <a:lnTo>
                        <a:pt x="10" y="46"/>
                      </a:lnTo>
                      <a:lnTo>
                        <a:pt x="20" y="35"/>
                      </a:lnTo>
                      <a:lnTo>
                        <a:pt x="30" y="35"/>
                      </a:lnTo>
                      <a:lnTo>
                        <a:pt x="30" y="23"/>
                      </a:lnTo>
                      <a:lnTo>
                        <a:pt x="40" y="12"/>
                      </a:lnTo>
                      <a:lnTo>
                        <a:pt x="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224000" y="1487520"/>
                  <a:ext cx="2496960" cy="3871800"/>
                </a:xfrm>
                <a:custGeom>
                  <a:avLst/>
                  <a:gdLst/>
                  <a:ahLst/>
                  <a:rect l="l" t="t" r="r" b="b"/>
                  <a:pathLst>
                    <a:path w="1573" h="2439">
                      <a:moveTo>
                        <a:pt x="922" y="1219"/>
                      </a:moveTo>
                      <a:lnTo>
                        <a:pt x="932" y="1219"/>
                      </a:lnTo>
                      <a:lnTo>
                        <a:pt x="942" y="1208"/>
                      </a:lnTo>
                      <a:lnTo>
                        <a:pt x="952" y="1197"/>
                      </a:lnTo>
                      <a:lnTo>
                        <a:pt x="952" y="1185"/>
                      </a:lnTo>
                      <a:lnTo>
                        <a:pt x="962" y="1174"/>
                      </a:lnTo>
                      <a:lnTo>
                        <a:pt x="972" y="1174"/>
                      </a:lnTo>
                      <a:lnTo>
                        <a:pt x="972" y="1162"/>
                      </a:lnTo>
                      <a:lnTo>
                        <a:pt x="982" y="1162"/>
                      </a:lnTo>
                      <a:lnTo>
                        <a:pt x="992" y="1174"/>
                      </a:lnTo>
                      <a:lnTo>
                        <a:pt x="1002" y="1174"/>
                      </a:lnTo>
                      <a:lnTo>
                        <a:pt x="1012" y="1174"/>
                      </a:lnTo>
                      <a:lnTo>
                        <a:pt x="1012" y="1197"/>
                      </a:lnTo>
                      <a:lnTo>
                        <a:pt x="1012" y="1208"/>
                      </a:lnTo>
                      <a:lnTo>
                        <a:pt x="1002" y="1197"/>
                      </a:lnTo>
                      <a:lnTo>
                        <a:pt x="1002" y="1185"/>
                      </a:lnTo>
                      <a:lnTo>
                        <a:pt x="1012" y="1174"/>
                      </a:lnTo>
                      <a:lnTo>
                        <a:pt x="1022" y="1174"/>
                      </a:lnTo>
                      <a:lnTo>
                        <a:pt x="1032" y="1174"/>
                      </a:lnTo>
                      <a:lnTo>
                        <a:pt x="1042" y="1162"/>
                      </a:lnTo>
                      <a:lnTo>
                        <a:pt x="1032" y="1151"/>
                      </a:lnTo>
                      <a:lnTo>
                        <a:pt x="1042" y="1162"/>
                      </a:lnTo>
                      <a:lnTo>
                        <a:pt x="1052" y="1174"/>
                      </a:lnTo>
                      <a:lnTo>
                        <a:pt x="1062" y="1174"/>
                      </a:lnTo>
                      <a:lnTo>
                        <a:pt x="1072" y="1185"/>
                      </a:lnTo>
                      <a:lnTo>
                        <a:pt x="1082" y="1185"/>
                      </a:lnTo>
                      <a:lnTo>
                        <a:pt x="1092" y="1185"/>
                      </a:lnTo>
                      <a:lnTo>
                        <a:pt x="1122" y="1185"/>
                      </a:lnTo>
                      <a:lnTo>
                        <a:pt x="1142" y="1197"/>
                      </a:lnTo>
                      <a:lnTo>
                        <a:pt x="1172" y="1208"/>
                      </a:lnTo>
                      <a:lnTo>
                        <a:pt x="1162" y="1219"/>
                      </a:lnTo>
                      <a:lnTo>
                        <a:pt x="1172" y="1219"/>
                      </a:lnTo>
                      <a:lnTo>
                        <a:pt x="1182" y="1219"/>
                      </a:lnTo>
                      <a:lnTo>
                        <a:pt x="1192" y="1231"/>
                      </a:lnTo>
                      <a:lnTo>
                        <a:pt x="1202" y="1231"/>
                      </a:lnTo>
                      <a:lnTo>
                        <a:pt x="1202" y="1242"/>
                      </a:lnTo>
                      <a:lnTo>
                        <a:pt x="1202" y="1254"/>
                      </a:lnTo>
                      <a:lnTo>
                        <a:pt x="1202" y="1265"/>
                      </a:lnTo>
                      <a:lnTo>
                        <a:pt x="1202" y="1276"/>
                      </a:lnTo>
                      <a:lnTo>
                        <a:pt x="1222" y="1276"/>
                      </a:lnTo>
                      <a:lnTo>
                        <a:pt x="1232" y="1276"/>
                      </a:lnTo>
                      <a:lnTo>
                        <a:pt x="1253" y="1288"/>
                      </a:lnTo>
                      <a:lnTo>
                        <a:pt x="1283" y="1299"/>
                      </a:lnTo>
                      <a:lnTo>
                        <a:pt x="1313" y="1311"/>
                      </a:lnTo>
                      <a:lnTo>
                        <a:pt x="1323" y="1333"/>
                      </a:lnTo>
                      <a:lnTo>
                        <a:pt x="1333" y="1345"/>
                      </a:lnTo>
                      <a:lnTo>
                        <a:pt x="1333" y="1368"/>
                      </a:lnTo>
                      <a:lnTo>
                        <a:pt x="1323" y="1379"/>
                      </a:lnTo>
                      <a:lnTo>
                        <a:pt x="1303" y="1402"/>
                      </a:lnTo>
                      <a:lnTo>
                        <a:pt x="1293" y="1425"/>
                      </a:lnTo>
                      <a:lnTo>
                        <a:pt x="1303" y="1425"/>
                      </a:lnTo>
                      <a:lnTo>
                        <a:pt x="1313" y="1413"/>
                      </a:lnTo>
                      <a:lnTo>
                        <a:pt x="1323" y="1413"/>
                      </a:lnTo>
                      <a:lnTo>
                        <a:pt x="1323" y="1425"/>
                      </a:lnTo>
                      <a:lnTo>
                        <a:pt x="1333" y="1425"/>
                      </a:lnTo>
                      <a:lnTo>
                        <a:pt x="1343" y="1425"/>
                      </a:lnTo>
                      <a:lnTo>
                        <a:pt x="1353" y="1413"/>
                      </a:lnTo>
                      <a:lnTo>
                        <a:pt x="1373" y="1413"/>
                      </a:lnTo>
                      <a:lnTo>
                        <a:pt x="1383" y="1402"/>
                      </a:lnTo>
                      <a:lnTo>
                        <a:pt x="1393" y="1402"/>
                      </a:lnTo>
                      <a:lnTo>
                        <a:pt x="1413" y="1413"/>
                      </a:lnTo>
                      <a:lnTo>
                        <a:pt x="1423" y="1425"/>
                      </a:lnTo>
                      <a:lnTo>
                        <a:pt x="1413" y="1436"/>
                      </a:lnTo>
                      <a:lnTo>
                        <a:pt x="1413" y="1448"/>
                      </a:lnTo>
                      <a:lnTo>
                        <a:pt x="1413" y="1459"/>
                      </a:lnTo>
                      <a:lnTo>
                        <a:pt x="1443" y="1459"/>
                      </a:lnTo>
                      <a:lnTo>
                        <a:pt x="1483" y="1459"/>
                      </a:lnTo>
                      <a:lnTo>
                        <a:pt x="1513" y="1459"/>
                      </a:lnTo>
                      <a:lnTo>
                        <a:pt x="1523" y="1470"/>
                      </a:lnTo>
                      <a:lnTo>
                        <a:pt x="1523" y="1482"/>
                      </a:lnTo>
                      <a:lnTo>
                        <a:pt x="1533" y="1493"/>
                      </a:lnTo>
                      <a:lnTo>
                        <a:pt x="1543" y="1493"/>
                      </a:lnTo>
                      <a:lnTo>
                        <a:pt x="1553" y="1493"/>
                      </a:lnTo>
                      <a:lnTo>
                        <a:pt x="1563" y="1493"/>
                      </a:lnTo>
                      <a:lnTo>
                        <a:pt x="1573" y="1516"/>
                      </a:lnTo>
                      <a:lnTo>
                        <a:pt x="1563" y="1550"/>
                      </a:lnTo>
                      <a:lnTo>
                        <a:pt x="1553" y="1573"/>
                      </a:lnTo>
                      <a:lnTo>
                        <a:pt x="1543" y="1596"/>
                      </a:lnTo>
                      <a:lnTo>
                        <a:pt x="1533" y="1607"/>
                      </a:lnTo>
                      <a:lnTo>
                        <a:pt x="1533" y="1619"/>
                      </a:lnTo>
                      <a:lnTo>
                        <a:pt x="1523" y="1630"/>
                      </a:lnTo>
                      <a:lnTo>
                        <a:pt x="1523" y="1641"/>
                      </a:lnTo>
                      <a:lnTo>
                        <a:pt x="1513" y="1641"/>
                      </a:lnTo>
                      <a:lnTo>
                        <a:pt x="1513" y="1664"/>
                      </a:lnTo>
                      <a:lnTo>
                        <a:pt x="1513" y="1687"/>
                      </a:lnTo>
                      <a:lnTo>
                        <a:pt x="1513" y="1698"/>
                      </a:lnTo>
                      <a:lnTo>
                        <a:pt x="1503" y="1744"/>
                      </a:lnTo>
                      <a:lnTo>
                        <a:pt x="1493" y="1767"/>
                      </a:lnTo>
                      <a:lnTo>
                        <a:pt x="1483" y="1812"/>
                      </a:lnTo>
                      <a:lnTo>
                        <a:pt x="1483" y="1824"/>
                      </a:lnTo>
                      <a:lnTo>
                        <a:pt x="1473" y="1835"/>
                      </a:lnTo>
                      <a:lnTo>
                        <a:pt x="1443" y="1847"/>
                      </a:lnTo>
                      <a:lnTo>
                        <a:pt x="1423" y="1858"/>
                      </a:lnTo>
                      <a:lnTo>
                        <a:pt x="1413" y="1858"/>
                      </a:lnTo>
                      <a:lnTo>
                        <a:pt x="1403" y="1869"/>
                      </a:lnTo>
                      <a:lnTo>
                        <a:pt x="1393" y="1881"/>
                      </a:lnTo>
                      <a:lnTo>
                        <a:pt x="1383" y="1881"/>
                      </a:lnTo>
                      <a:lnTo>
                        <a:pt x="1373" y="1892"/>
                      </a:lnTo>
                      <a:lnTo>
                        <a:pt x="1373" y="1915"/>
                      </a:lnTo>
                      <a:lnTo>
                        <a:pt x="1373" y="1938"/>
                      </a:lnTo>
                      <a:lnTo>
                        <a:pt x="1373" y="1972"/>
                      </a:lnTo>
                      <a:lnTo>
                        <a:pt x="1363" y="1983"/>
                      </a:lnTo>
                      <a:lnTo>
                        <a:pt x="1363" y="1995"/>
                      </a:lnTo>
                      <a:lnTo>
                        <a:pt x="1353" y="2006"/>
                      </a:lnTo>
                      <a:lnTo>
                        <a:pt x="1353" y="2018"/>
                      </a:lnTo>
                      <a:lnTo>
                        <a:pt x="1343" y="2029"/>
                      </a:lnTo>
                      <a:lnTo>
                        <a:pt x="1343" y="2018"/>
                      </a:lnTo>
                      <a:lnTo>
                        <a:pt x="1353" y="2006"/>
                      </a:lnTo>
                      <a:lnTo>
                        <a:pt x="1363" y="1995"/>
                      </a:lnTo>
                      <a:lnTo>
                        <a:pt x="1353" y="1983"/>
                      </a:lnTo>
                      <a:lnTo>
                        <a:pt x="1343" y="1983"/>
                      </a:lnTo>
                      <a:lnTo>
                        <a:pt x="1353" y="1995"/>
                      </a:lnTo>
                      <a:lnTo>
                        <a:pt x="1343" y="2018"/>
                      </a:lnTo>
                      <a:lnTo>
                        <a:pt x="1333" y="2040"/>
                      </a:lnTo>
                      <a:lnTo>
                        <a:pt x="1323" y="2052"/>
                      </a:lnTo>
                      <a:lnTo>
                        <a:pt x="1323" y="2063"/>
                      </a:lnTo>
                      <a:lnTo>
                        <a:pt x="1313" y="2075"/>
                      </a:lnTo>
                      <a:lnTo>
                        <a:pt x="1303" y="2075"/>
                      </a:lnTo>
                      <a:lnTo>
                        <a:pt x="1293" y="2063"/>
                      </a:lnTo>
                      <a:lnTo>
                        <a:pt x="1273" y="2040"/>
                      </a:lnTo>
                      <a:lnTo>
                        <a:pt x="1253" y="2029"/>
                      </a:lnTo>
                      <a:lnTo>
                        <a:pt x="1253" y="2040"/>
                      </a:lnTo>
                      <a:lnTo>
                        <a:pt x="1263" y="2075"/>
                      </a:lnTo>
                      <a:lnTo>
                        <a:pt x="1283" y="2097"/>
                      </a:lnTo>
                      <a:lnTo>
                        <a:pt x="1293" y="2120"/>
                      </a:lnTo>
                      <a:lnTo>
                        <a:pt x="1283" y="2132"/>
                      </a:lnTo>
                      <a:lnTo>
                        <a:pt x="1263" y="2143"/>
                      </a:lnTo>
                      <a:lnTo>
                        <a:pt x="1253" y="2154"/>
                      </a:lnTo>
                      <a:lnTo>
                        <a:pt x="1242" y="2154"/>
                      </a:lnTo>
                      <a:lnTo>
                        <a:pt x="1232" y="2154"/>
                      </a:lnTo>
                      <a:lnTo>
                        <a:pt x="1222" y="2166"/>
                      </a:lnTo>
                      <a:lnTo>
                        <a:pt x="1232" y="2189"/>
                      </a:lnTo>
                      <a:lnTo>
                        <a:pt x="1222" y="2200"/>
                      </a:lnTo>
                      <a:lnTo>
                        <a:pt x="1212" y="2200"/>
                      </a:lnTo>
                      <a:lnTo>
                        <a:pt x="1202" y="2189"/>
                      </a:lnTo>
                      <a:lnTo>
                        <a:pt x="1182" y="2200"/>
                      </a:lnTo>
                      <a:lnTo>
                        <a:pt x="1182" y="2211"/>
                      </a:lnTo>
                      <a:lnTo>
                        <a:pt x="1192" y="2223"/>
                      </a:lnTo>
                      <a:lnTo>
                        <a:pt x="1202" y="2223"/>
                      </a:lnTo>
                      <a:lnTo>
                        <a:pt x="1212" y="2223"/>
                      </a:lnTo>
                      <a:lnTo>
                        <a:pt x="1212" y="2234"/>
                      </a:lnTo>
                      <a:lnTo>
                        <a:pt x="1202" y="2234"/>
                      </a:lnTo>
                      <a:lnTo>
                        <a:pt x="1192" y="2234"/>
                      </a:lnTo>
                      <a:lnTo>
                        <a:pt x="1192" y="2246"/>
                      </a:lnTo>
                      <a:lnTo>
                        <a:pt x="1202" y="2257"/>
                      </a:lnTo>
                      <a:lnTo>
                        <a:pt x="1202" y="2280"/>
                      </a:lnTo>
                      <a:lnTo>
                        <a:pt x="1192" y="2280"/>
                      </a:lnTo>
                      <a:lnTo>
                        <a:pt x="1182" y="2291"/>
                      </a:lnTo>
                      <a:lnTo>
                        <a:pt x="1182" y="2303"/>
                      </a:lnTo>
                      <a:lnTo>
                        <a:pt x="1192" y="2314"/>
                      </a:lnTo>
                      <a:lnTo>
                        <a:pt x="1212" y="2325"/>
                      </a:lnTo>
                      <a:lnTo>
                        <a:pt x="1212" y="2337"/>
                      </a:lnTo>
                      <a:lnTo>
                        <a:pt x="1192" y="2360"/>
                      </a:lnTo>
                      <a:lnTo>
                        <a:pt x="1182" y="2371"/>
                      </a:lnTo>
                      <a:lnTo>
                        <a:pt x="1192" y="2371"/>
                      </a:lnTo>
                      <a:lnTo>
                        <a:pt x="1202" y="2394"/>
                      </a:lnTo>
                      <a:lnTo>
                        <a:pt x="1202" y="2405"/>
                      </a:lnTo>
                      <a:lnTo>
                        <a:pt x="1202" y="2417"/>
                      </a:lnTo>
                      <a:lnTo>
                        <a:pt x="1192" y="2428"/>
                      </a:lnTo>
                      <a:lnTo>
                        <a:pt x="1182" y="2428"/>
                      </a:lnTo>
                      <a:lnTo>
                        <a:pt x="1162" y="2439"/>
                      </a:lnTo>
                      <a:lnTo>
                        <a:pt x="1172" y="2428"/>
                      </a:lnTo>
                      <a:lnTo>
                        <a:pt x="1162" y="2428"/>
                      </a:lnTo>
                      <a:lnTo>
                        <a:pt x="1152" y="2428"/>
                      </a:lnTo>
                      <a:lnTo>
                        <a:pt x="1142" y="2428"/>
                      </a:lnTo>
                      <a:lnTo>
                        <a:pt x="1152" y="2417"/>
                      </a:lnTo>
                      <a:lnTo>
                        <a:pt x="1152" y="2405"/>
                      </a:lnTo>
                      <a:lnTo>
                        <a:pt x="1132" y="2394"/>
                      </a:lnTo>
                      <a:lnTo>
                        <a:pt x="1112" y="2382"/>
                      </a:lnTo>
                      <a:lnTo>
                        <a:pt x="1102" y="2360"/>
                      </a:lnTo>
                      <a:lnTo>
                        <a:pt x="1092" y="2337"/>
                      </a:lnTo>
                      <a:lnTo>
                        <a:pt x="1102" y="2337"/>
                      </a:lnTo>
                      <a:lnTo>
                        <a:pt x="1112" y="2337"/>
                      </a:lnTo>
                      <a:lnTo>
                        <a:pt x="1112" y="2325"/>
                      </a:lnTo>
                      <a:lnTo>
                        <a:pt x="1102" y="2314"/>
                      </a:lnTo>
                      <a:lnTo>
                        <a:pt x="1092" y="2314"/>
                      </a:lnTo>
                      <a:lnTo>
                        <a:pt x="1082" y="2314"/>
                      </a:lnTo>
                      <a:lnTo>
                        <a:pt x="1072" y="2314"/>
                      </a:lnTo>
                      <a:lnTo>
                        <a:pt x="1072" y="2303"/>
                      </a:lnTo>
                      <a:lnTo>
                        <a:pt x="1082" y="2291"/>
                      </a:lnTo>
                      <a:lnTo>
                        <a:pt x="1092" y="2280"/>
                      </a:lnTo>
                      <a:lnTo>
                        <a:pt x="1102" y="2268"/>
                      </a:lnTo>
                      <a:lnTo>
                        <a:pt x="1092" y="2257"/>
                      </a:lnTo>
                      <a:lnTo>
                        <a:pt x="1092" y="2246"/>
                      </a:lnTo>
                      <a:lnTo>
                        <a:pt x="1092" y="2223"/>
                      </a:lnTo>
                      <a:lnTo>
                        <a:pt x="1092" y="2211"/>
                      </a:lnTo>
                      <a:lnTo>
                        <a:pt x="1082" y="2211"/>
                      </a:lnTo>
                      <a:lnTo>
                        <a:pt x="1072" y="2211"/>
                      </a:lnTo>
                      <a:lnTo>
                        <a:pt x="1062" y="2200"/>
                      </a:lnTo>
                      <a:lnTo>
                        <a:pt x="1062" y="2189"/>
                      </a:lnTo>
                      <a:lnTo>
                        <a:pt x="1062" y="2177"/>
                      </a:lnTo>
                      <a:lnTo>
                        <a:pt x="1062" y="2166"/>
                      </a:lnTo>
                      <a:lnTo>
                        <a:pt x="1052" y="2143"/>
                      </a:lnTo>
                      <a:lnTo>
                        <a:pt x="1042" y="2132"/>
                      </a:lnTo>
                      <a:lnTo>
                        <a:pt x="1052" y="2120"/>
                      </a:lnTo>
                      <a:lnTo>
                        <a:pt x="1052" y="2109"/>
                      </a:lnTo>
                      <a:lnTo>
                        <a:pt x="1052" y="2097"/>
                      </a:lnTo>
                      <a:lnTo>
                        <a:pt x="1052" y="2063"/>
                      </a:lnTo>
                      <a:lnTo>
                        <a:pt x="1052" y="2029"/>
                      </a:lnTo>
                      <a:lnTo>
                        <a:pt x="1052" y="1995"/>
                      </a:lnTo>
                      <a:lnTo>
                        <a:pt x="1052" y="1983"/>
                      </a:lnTo>
                      <a:lnTo>
                        <a:pt x="1052" y="1972"/>
                      </a:lnTo>
                      <a:lnTo>
                        <a:pt x="1042" y="1961"/>
                      </a:lnTo>
                      <a:lnTo>
                        <a:pt x="1052" y="1949"/>
                      </a:lnTo>
                      <a:lnTo>
                        <a:pt x="1052" y="1938"/>
                      </a:lnTo>
                      <a:lnTo>
                        <a:pt x="1052" y="1915"/>
                      </a:lnTo>
                      <a:lnTo>
                        <a:pt x="1052" y="1892"/>
                      </a:lnTo>
                      <a:lnTo>
                        <a:pt x="1052" y="1858"/>
                      </a:lnTo>
                      <a:lnTo>
                        <a:pt x="1042" y="1824"/>
                      </a:lnTo>
                      <a:lnTo>
                        <a:pt x="1032" y="1790"/>
                      </a:lnTo>
                      <a:lnTo>
                        <a:pt x="1022" y="1755"/>
                      </a:lnTo>
                      <a:lnTo>
                        <a:pt x="1022" y="1744"/>
                      </a:lnTo>
                      <a:lnTo>
                        <a:pt x="1012" y="1721"/>
                      </a:lnTo>
                      <a:lnTo>
                        <a:pt x="982" y="1710"/>
                      </a:lnTo>
                      <a:lnTo>
                        <a:pt x="962" y="1687"/>
                      </a:lnTo>
                      <a:lnTo>
                        <a:pt x="942" y="1664"/>
                      </a:lnTo>
                      <a:lnTo>
                        <a:pt x="942" y="1653"/>
                      </a:lnTo>
                      <a:lnTo>
                        <a:pt x="932" y="1641"/>
                      </a:lnTo>
                      <a:lnTo>
                        <a:pt x="922" y="1630"/>
                      </a:lnTo>
                      <a:lnTo>
                        <a:pt x="922" y="1619"/>
                      </a:lnTo>
                      <a:lnTo>
                        <a:pt x="902" y="1584"/>
                      </a:lnTo>
                      <a:lnTo>
                        <a:pt x="892" y="1550"/>
                      </a:lnTo>
                      <a:lnTo>
                        <a:pt x="882" y="1527"/>
                      </a:lnTo>
                      <a:lnTo>
                        <a:pt x="872" y="1516"/>
                      </a:lnTo>
                      <a:lnTo>
                        <a:pt x="862" y="1516"/>
                      </a:lnTo>
                      <a:lnTo>
                        <a:pt x="862" y="1505"/>
                      </a:lnTo>
                      <a:lnTo>
                        <a:pt x="862" y="1482"/>
                      </a:lnTo>
                      <a:lnTo>
                        <a:pt x="872" y="1470"/>
                      </a:lnTo>
                      <a:lnTo>
                        <a:pt x="872" y="1459"/>
                      </a:lnTo>
                      <a:lnTo>
                        <a:pt x="872" y="1448"/>
                      </a:lnTo>
                      <a:lnTo>
                        <a:pt x="882" y="1436"/>
                      </a:lnTo>
                      <a:lnTo>
                        <a:pt x="882" y="1425"/>
                      </a:lnTo>
                      <a:lnTo>
                        <a:pt x="872" y="1425"/>
                      </a:lnTo>
                      <a:lnTo>
                        <a:pt x="872" y="1436"/>
                      </a:lnTo>
                      <a:lnTo>
                        <a:pt x="862" y="1436"/>
                      </a:lnTo>
                      <a:lnTo>
                        <a:pt x="862" y="1425"/>
                      </a:lnTo>
                      <a:lnTo>
                        <a:pt x="862" y="1413"/>
                      </a:lnTo>
                      <a:lnTo>
                        <a:pt x="862" y="1402"/>
                      </a:lnTo>
                      <a:lnTo>
                        <a:pt x="872" y="1402"/>
                      </a:lnTo>
                      <a:lnTo>
                        <a:pt x="872" y="1379"/>
                      </a:lnTo>
                      <a:lnTo>
                        <a:pt x="882" y="1379"/>
                      </a:lnTo>
                      <a:lnTo>
                        <a:pt x="892" y="1368"/>
                      </a:lnTo>
                      <a:lnTo>
                        <a:pt x="892" y="1356"/>
                      </a:lnTo>
                      <a:lnTo>
                        <a:pt x="902" y="1345"/>
                      </a:lnTo>
                      <a:lnTo>
                        <a:pt x="912" y="1333"/>
                      </a:lnTo>
                      <a:lnTo>
                        <a:pt x="922" y="1311"/>
                      </a:lnTo>
                      <a:lnTo>
                        <a:pt x="912" y="1311"/>
                      </a:lnTo>
                      <a:lnTo>
                        <a:pt x="912" y="1276"/>
                      </a:lnTo>
                      <a:lnTo>
                        <a:pt x="912" y="1254"/>
                      </a:lnTo>
                      <a:lnTo>
                        <a:pt x="912" y="1219"/>
                      </a:lnTo>
                      <a:lnTo>
                        <a:pt x="902" y="1219"/>
                      </a:lnTo>
                      <a:lnTo>
                        <a:pt x="892" y="1219"/>
                      </a:lnTo>
                      <a:lnTo>
                        <a:pt x="882" y="1219"/>
                      </a:lnTo>
                      <a:lnTo>
                        <a:pt x="872" y="1219"/>
                      </a:lnTo>
                      <a:lnTo>
                        <a:pt x="852" y="1231"/>
                      </a:lnTo>
                      <a:lnTo>
                        <a:pt x="832" y="1231"/>
                      </a:lnTo>
                      <a:lnTo>
                        <a:pt x="832" y="1219"/>
                      </a:lnTo>
                      <a:lnTo>
                        <a:pt x="822" y="1219"/>
                      </a:lnTo>
                      <a:lnTo>
                        <a:pt x="812" y="1208"/>
                      </a:lnTo>
                      <a:lnTo>
                        <a:pt x="802" y="1208"/>
                      </a:lnTo>
                      <a:lnTo>
                        <a:pt x="792" y="1197"/>
                      </a:lnTo>
                      <a:lnTo>
                        <a:pt x="792" y="1185"/>
                      </a:lnTo>
                      <a:lnTo>
                        <a:pt x="792" y="1174"/>
                      </a:lnTo>
                      <a:lnTo>
                        <a:pt x="792" y="1162"/>
                      </a:lnTo>
                      <a:lnTo>
                        <a:pt x="782" y="1151"/>
                      </a:lnTo>
                      <a:lnTo>
                        <a:pt x="772" y="1140"/>
                      </a:lnTo>
                      <a:lnTo>
                        <a:pt x="772" y="1128"/>
                      </a:lnTo>
                      <a:lnTo>
                        <a:pt x="762" y="1128"/>
                      </a:lnTo>
                      <a:lnTo>
                        <a:pt x="742" y="1117"/>
                      </a:lnTo>
                      <a:lnTo>
                        <a:pt x="722" y="1117"/>
                      </a:lnTo>
                      <a:lnTo>
                        <a:pt x="702" y="1105"/>
                      </a:lnTo>
                      <a:lnTo>
                        <a:pt x="692" y="1083"/>
                      </a:lnTo>
                      <a:lnTo>
                        <a:pt x="682" y="1071"/>
                      </a:lnTo>
                      <a:lnTo>
                        <a:pt x="661" y="1071"/>
                      </a:lnTo>
                      <a:lnTo>
                        <a:pt x="631" y="1060"/>
                      </a:lnTo>
                      <a:lnTo>
                        <a:pt x="611" y="1060"/>
                      </a:lnTo>
                      <a:lnTo>
                        <a:pt x="581" y="1048"/>
                      </a:lnTo>
                      <a:lnTo>
                        <a:pt x="561" y="1048"/>
                      </a:lnTo>
                      <a:lnTo>
                        <a:pt x="541" y="1026"/>
                      </a:lnTo>
                      <a:lnTo>
                        <a:pt x="521" y="1014"/>
                      </a:lnTo>
                      <a:lnTo>
                        <a:pt x="511" y="991"/>
                      </a:lnTo>
                      <a:lnTo>
                        <a:pt x="511" y="980"/>
                      </a:lnTo>
                      <a:lnTo>
                        <a:pt x="511" y="957"/>
                      </a:lnTo>
                      <a:lnTo>
                        <a:pt x="511" y="934"/>
                      </a:lnTo>
                      <a:lnTo>
                        <a:pt x="501" y="912"/>
                      </a:lnTo>
                      <a:lnTo>
                        <a:pt x="481" y="900"/>
                      </a:lnTo>
                      <a:lnTo>
                        <a:pt x="471" y="889"/>
                      </a:lnTo>
                      <a:lnTo>
                        <a:pt x="471" y="877"/>
                      </a:lnTo>
                      <a:lnTo>
                        <a:pt x="461" y="855"/>
                      </a:lnTo>
                      <a:lnTo>
                        <a:pt x="451" y="843"/>
                      </a:lnTo>
                      <a:lnTo>
                        <a:pt x="441" y="820"/>
                      </a:lnTo>
                      <a:lnTo>
                        <a:pt x="441" y="809"/>
                      </a:lnTo>
                      <a:lnTo>
                        <a:pt x="441" y="786"/>
                      </a:lnTo>
                      <a:lnTo>
                        <a:pt x="441" y="775"/>
                      </a:lnTo>
                      <a:lnTo>
                        <a:pt x="441" y="763"/>
                      </a:lnTo>
                      <a:lnTo>
                        <a:pt x="431" y="763"/>
                      </a:lnTo>
                      <a:lnTo>
                        <a:pt x="421" y="763"/>
                      </a:lnTo>
                      <a:lnTo>
                        <a:pt x="411" y="786"/>
                      </a:lnTo>
                      <a:lnTo>
                        <a:pt x="421" y="809"/>
                      </a:lnTo>
                      <a:lnTo>
                        <a:pt x="431" y="832"/>
                      </a:lnTo>
                      <a:lnTo>
                        <a:pt x="431" y="843"/>
                      </a:lnTo>
                      <a:lnTo>
                        <a:pt x="441" y="877"/>
                      </a:lnTo>
                      <a:lnTo>
                        <a:pt x="451" y="900"/>
                      </a:lnTo>
                      <a:lnTo>
                        <a:pt x="461" y="934"/>
                      </a:lnTo>
                      <a:lnTo>
                        <a:pt x="451" y="934"/>
                      </a:lnTo>
                      <a:lnTo>
                        <a:pt x="441" y="923"/>
                      </a:lnTo>
                      <a:lnTo>
                        <a:pt x="431" y="912"/>
                      </a:lnTo>
                      <a:lnTo>
                        <a:pt x="431" y="900"/>
                      </a:lnTo>
                      <a:lnTo>
                        <a:pt x="431" y="889"/>
                      </a:lnTo>
                      <a:lnTo>
                        <a:pt x="431" y="877"/>
                      </a:lnTo>
                      <a:lnTo>
                        <a:pt x="421" y="866"/>
                      </a:lnTo>
                      <a:lnTo>
                        <a:pt x="401" y="855"/>
                      </a:lnTo>
                      <a:lnTo>
                        <a:pt x="401" y="843"/>
                      </a:lnTo>
                      <a:lnTo>
                        <a:pt x="401" y="832"/>
                      </a:lnTo>
                      <a:lnTo>
                        <a:pt x="411" y="832"/>
                      </a:lnTo>
                      <a:lnTo>
                        <a:pt x="411" y="820"/>
                      </a:lnTo>
                      <a:lnTo>
                        <a:pt x="401" y="809"/>
                      </a:lnTo>
                      <a:lnTo>
                        <a:pt x="401" y="798"/>
                      </a:lnTo>
                      <a:lnTo>
                        <a:pt x="391" y="763"/>
                      </a:lnTo>
                      <a:lnTo>
                        <a:pt x="391" y="741"/>
                      </a:lnTo>
                      <a:lnTo>
                        <a:pt x="381" y="718"/>
                      </a:lnTo>
                      <a:lnTo>
                        <a:pt x="371" y="718"/>
                      </a:lnTo>
                      <a:lnTo>
                        <a:pt x="361" y="718"/>
                      </a:lnTo>
                      <a:lnTo>
                        <a:pt x="351" y="706"/>
                      </a:lnTo>
                      <a:lnTo>
                        <a:pt x="361" y="706"/>
                      </a:lnTo>
                      <a:lnTo>
                        <a:pt x="361" y="695"/>
                      </a:lnTo>
                      <a:lnTo>
                        <a:pt x="361" y="684"/>
                      </a:lnTo>
                      <a:lnTo>
                        <a:pt x="371" y="649"/>
                      </a:lnTo>
                      <a:lnTo>
                        <a:pt x="371" y="627"/>
                      </a:lnTo>
                      <a:lnTo>
                        <a:pt x="361" y="627"/>
                      </a:lnTo>
                      <a:lnTo>
                        <a:pt x="351" y="615"/>
                      </a:lnTo>
                      <a:lnTo>
                        <a:pt x="341" y="615"/>
                      </a:lnTo>
                      <a:lnTo>
                        <a:pt x="341" y="604"/>
                      </a:lnTo>
                      <a:lnTo>
                        <a:pt x="351" y="604"/>
                      </a:lnTo>
                      <a:lnTo>
                        <a:pt x="351" y="592"/>
                      </a:lnTo>
                      <a:lnTo>
                        <a:pt x="351" y="581"/>
                      </a:lnTo>
                      <a:lnTo>
                        <a:pt x="351" y="570"/>
                      </a:lnTo>
                      <a:lnTo>
                        <a:pt x="361" y="558"/>
                      </a:lnTo>
                      <a:lnTo>
                        <a:pt x="361" y="547"/>
                      </a:lnTo>
                      <a:lnTo>
                        <a:pt x="371" y="547"/>
                      </a:lnTo>
                      <a:lnTo>
                        <a:pt x="371" y="535"/>
                      </a:lnTo>
                      <a:lnTo>
                        <a:pt x="371" y="524"/>
                      </a:lnTo>
                      <a:lnTo>
                        <a:pt x="381" y="524"/>
                      </a:lnTo>
                      <a:lnTo>
                        <a:pt x="381" y="513"/>
                      </a:lnTo>
                      <a:lnTo>
                        <a:pt x="401" y="501"/>
                      </a:lnTo>
                      <a:lnTo>
                        <a:pt x="411" y="478"/>
                      </a:lnTo>
                      <a:lnTo>
                        <a:pt x="411" y="467"/>
                      </a:lnTo>
                      <a:lnTo>
                        <a:pt x="411" y="456"/>
                      </a:lnTo>
                      <a:lnTo>
                        <a:pt x="431" y="444"/>
                      </a:lnTo>
                      <a:lnTo>
                        <a:pt x="451" y="433"/>
                      </a:lnTo>
                      <a:lnTo>
                        <a:pt x="441" y="433"/>
                      </a:lnTo>
                      <a:lnTo>
                        <a:pt x="431" y="444"/>
                      </a:lnTo>
                      <a:lnTo>
                        <a:pt x="431" y="456"/>
                      </a:lnTo>
                      <a:lnTo>
                        <a:pt x="451" y="433"/>
                      </a:lnTo>
                      <a:lnTo>
                        <a:pt x="461" y="410"/>
                      </a:lnTo>
                      <a:lnTo>
                        <a:pt x="451" y="376"/>
                      </a:lnTo>
                      <a:lnTo>
                        <a:pt x="441" y="376"/>
                      </a:lnTo>
                      <a:lnTo>
                        <a:pt x="431" y="376"/>
                      </a:lnTo>
                      <a:lnTo>
                        <a:pt x="411" y="376"/>
                      </a:lnTo>
                      <a:lnTo>
                        <a:pt x="421" y="364"/>
                      </a:lnTo>
                      <a:lnTo>
                        <a:pt x="431" y="364"/>
                      </a:lnTo>
                      <a:lnTo>
                        <a:pt x="441" y="353"/>
                      </a:lnTo>
                      <a:lnTo>
                        <a:pt x="441" y="330"/>
                      </a:lnTo>
                      <a:lnTo>
                        <a:pt x="431" y="330"/>
                      </a:lnTo>
                      <a:lnTo>
                        <a:pt x="421" y="319"/>
                      </a:lnTo>
                      <a:lnTo>
                        <a:pt x="431" y="319"/>
                      </a:lnTo>
                      <a:lnTo>
                        <a:pt x="441" y="296"/>
                      </a:lnTo>
                      <a:lnTo>
                        <a:pt x="451" y="285"/>
                      </a:lnTo>
                      <a:lnTo>
                        <a:pt x="441" y="285"/>
                      </a:lnTo>
                      <a:lnTo>
                        <a:pt x="441" y="296"/>
                      </a:lnTo>
                      <a:lnTo>
                        <a:pt x="421" y="307"/>
                      </a:lnTo>
                      <a:lnTo>
                        <a:pt x="421" y="296"/>
                      </a:lnTo>
                      <a:lnTo>
                        <a:pt x="431" y="296"/>
                      </a:lnTo>
                      <a:lnTo>
                        <a:pt x="441" y="285"/>
                      </a:lnTo>
                      <a:lnTo>
                        <a:pt x="431" y="285"/>
                      </a:lnTo>
                      <a:lnTo>
                        <a:pt x="421" y="285"/>
                      </a:lnTo>
                      <a:lnTo>
                        <a:pt x="421" y="273"/>
                      </a:lnTo>
                      <a:lnTo>
                        <a:pt x="431" y="273"/>
                      </a:lnTo>
                      <a:lnTo>
                        <a:pt x="431" y="250"/>
                      </a:lnTo>
                      <a:lnTo>
                        <a:pt x="441" y="239"/>
                      </a:lnTo>
                      <a:lnTo>
                        <a:pt x="441" y="216"/>
                      </a:lnTo>
                      <a:lnTo>
                        <a:pt x="431" y="228"/>
                      </a:lnTo>
                      <a:lnTo>
                        <a:pt x="421" y="239"/>
                      </a:lnTo>
                      <a:lnTo>
                        <a:pt x="411" y="239"/>
                      </a:lnTo>
                      <a:lnTo>
                        <a:pt x="401" y="216"/>
                      </a:lnTo>
                      <a:lnTo>
                        <a:pt x="391" y="205"/>
                      </a:lnTo>
                      <a:lnTo>
                        <a:pt x="381" y="216"/>
                      </a:lnTo>
                      <a:lnTo>
                        <a:pt x="361" y="205"/>
                      </a:lnTo>
                      <a:lnTo>
                        <a:pt x="341" y="193"/>
                      </a:lnTo>
                      <a:lnTo>
                        <a:pt x="311" y="182"/>
                      </a:lnTo>
                      <a:lnTo>
                        <a:pt x="301" y="193"/>
                      </a:lnTo>
                      <a:lnTo>
                        <a:pt x="261" y="216"/>
                      </a:lnTo>
                      <a:lnTo>
                        <a:pt x="231" y="228"/>
                      </a:lnTo>
                      <a:lnTo>
                        <a:pt x="221" y="228"/>
                      </a:lnTo>
                      <a:lnTo>
                        <a:pt x="231" y="205"/>
                      </a:lnTo>
                      <a:lnTo>
                        <a:pt x="271" y="193"/>
                      </a:lnTo>
                      <a:lnTo>
                        <a:pt x="301" y="182"/>
                      </a:lnTo>
                      <a:lnTo>
                        <a:pt x="281" y="182"/>
                      </a:lnTo>
                      <a:lnTo>
                        <a:pt x="281" y="193"/>
                      </a:lnTo>
                      <a:lnTo>
                        <a:pt x="271" y="182"/>
                      </a:lnTo>
                      <a:lnTo>
                        <a:pt x="251" y="193"/>
                      </a:lnTo>
                      <a:lnTo>
                        <a:pt x="231" y="205"/>
                      </a:lnTo>
                      <a:lnTo>
                        <a:pt x="221" y="205"/>
                      </a:lnTo>
                      <a:lnTo>
                        <a:pt x="221" y="216"/>
                      </a:lnTo>
                      <a:lnTo>
                        <a:pt x="211" y="216"/>
                      </a:lnTo>
                      <a:lnTo>
                        <a:pt x="191" y="239"/>
                      </a:lnTo>
                      <a:lnTo>
                        <a:pt x="171" y="250"/>
                      </a:lnTo>
                      <a:lnTo>
                        <a:pt x="151" y="250"/>
                      </a:lnTo>
                      <a:lnTo>
                        <a:pt x="131" y="262"/>
                      </a:lnTo>
                      <a:lnTo>
                        <a:pt x="121" y="262"/>
                      </a:lnTo>
                      <a:lnTo>
                        <a:pt x="101" y="273"/>
                      </a:lnTo>
                      <a:lnTo>
                        <a:pt x="70" y="285"/>
                      </a:lnTo>
                      <a:lnTo>
                        <a:pt x="50" y="296"/>
                      </a:lnTo>
                      <a:lnTo>
                        <a:pt x="20" y="296"/>
                      </a:lnTo>
                      <a:lnTo>
                        <a:pt x="0" y="307"/>
                      </a:lnTo>
                      <a:lnTo>
                        <a:pt x="0" y="296"/>
                      </a:lnTo>
                      <a:lnTo>
                        <a:pt x="10" y="296"/>
                      </a:lnTo>
                      <a:lnTo>
                        <a:pt x="20" y="285"/>
                      </a:lnTo>
                      <a:lnTo>
                        <a:pt x="40" y="285"/>
                      </a:lnTo>
                      <a:lnTo>
                        <a:pt x="50" y="285"/>
                      </a:lnTo>
                      <a:lnTo>
                        <a:pt x="60" y="285"/>
                      </a:lnTo>
                      <a:lnTo>
                        <a:pt x="80" y="273"/>
                      </a:lnTo>
                      <a:lnTo>
                        <a:pt x="90" y="262"/>
                      </a:lnTo>
                      <a:lnTo>
                        <a:pt x="101" y="262"/>
                      </a:lnTo>
                      <a:lnTo>
                        <a:pt x="111" y="262"/>
                      </a:lnTo>
                      <a:lnTo>
                        <a:pt x="121" y="250"/>
                      </a:lnTo>
                      <a:lnTo>
                        <a:pt x="131" y="250"/>
                      </a:lnTo>
                      <a:lnTo>
                        <a:pt x="141" y="239"/>
                      </a:lnTo>
                      <a:lnTo>
                        <a:pt x="151" y="239"/>
                      </a:lnTo>
                      <a:lnTo>
                        <a:pt x="161" y="228"/>
                      </a:lnTo>
                      <a:lnTo>
                        <a:pt x="151" y="228"/>
                      </a:lnTo>
                      <a:lnTo>
                        <a:pt x="141" y="228"/>
                      </a:lnTo>
                      <a:lnTo>
                        <a:pt x="131" y="239"/>
                      </a:lnTo>
                      <a:lnTo>
                        <a:pt x="121" y="239"/>
                      </a:lnTo>
                      <a:lnTo>
                        <a:pt x="121" y="228"/>
                      </a:lnTo>
                      <a:lnTo>
                        <a:pt x="111" y="228"/>
                      </a:lnTo>
                      <a:lnTo>
                        <a:pt x="101" y="228"/>
                      </a:lnTo>
                      <a:lnTo>
                        <a:pt x="101" y="216"/>
                      </a:lnTo>
                      <a:lnTo>
                        <a:pt x="111" y="205"/>
                      </a:lnTo>
                      <a:lnTo>
                        <a:pt x="121" y="193"/>
                      </a:lnTo>
                      <a:lnTo>
                        <a:pt x="111" y="193"/>
                      </a:lnTo>
                      <a:lnTo>
                        <a:pt x="90" y="216"/>
                      </a:lnTo>
                      <a:lnTo>
                        <a:pt x="80" y="216"/>
                      </a:lnTo>
                      <a:lnTo>
                        <a:pt x="90" y="205"/>
                      </a:lnTo>
                      <a:lnTo>
                        <a:pt x="101" y="205"/>
                      </a:lnTo>
                      <a:lnTo>
                        <a:pt x="111" y="193"/>
                      </a:lnTo>
                      <a:lnTo>
                        <a:pt x="101" y="182"/>
                      </a:lnTo>
                      <a:lnTo>
                        <a:pt x="90" y="182"/>
                      </a:lnTo>
                      <a:lnTo>
                        <a:pt x="111" y="171"/>
                      </a:lnTo>
                      <a:lnTo>
                        <a:pt x="121" y="159"/>
                      </a:lnTo>
                      <a:lnTo>
                        <a:pt x="141" y="148"/>
                      </a:lnTo>
                      <a:lnTo>
                        <a:pt x="151" y="148"/>
                      </a:lnTo>
                      <a:lnTo>
                        <a:pt x="171" y="148"/>
                      </a:lnTo>
                      <a:lnTo>
                        <a:pt x="191" y="136"/>
                      </a:lnTo>
                      <a:lnTo>
                        <a:pt x="211" y="125"/>
                      </a:lnTo>
                      <a:lnTo>
                        <a:pt x="201" y="125"/>
                      </a:lnTo>
                      <a:lnTo>
                        <a:pt x="181" y="136"/>
                      </a:lnTo>
                      <a:lnTo>
                        <a:pt x="171" y="125"/>
                      </a:lnTo>
                      <a:lnTo>
                        <a:pt x="161" y="125"/>
                      </a:lnTo>
                      <a:lnTo>
                        <a:pt x="151" y="114"/>
                      </a:lnTo>
                      <a:lnTo>
                        <a:pt x="141" y="102"/>
                      </a:lnTo>
                      <a:lnTo>
                        <a:pt x="161" y="91"/>
                      </a:lnTo>
                      <a:lnTo>
                        <a:pt x="181" y="91"/>
                      </a:lnTo>
                      <a:lnTo>
                        <a:pt x="211" y="91"/>
                      </a:lnTo>
                      <a:lnTo>
                        <a:pt x="241" y="91"/>
                      </a:lnTo>
                      <a:lnTo>
                        <a:pt x="251" y="91"/>
                      </a:lnTo>
                      <a:lnTo>
                        <a:pt x="251" y="102"/>
                      </a:lnTo>
                      <a:lnTo>
                        <a:pt x="261" y="91"/>
                      </a:lnTo>
                      <a:lnTo>
                        <a:pt x="241" y="79"/>
                      </a:lnTo>
                      <a:lnTo>
                        <a:pt x="231" y="79"/>
                      </a:lnTo>
                      <a:lnTo>
                        <a:pt x="221" y="68"/>
                      </a:lnTo>
                      <a:lnTo>
                        <a:pt x="221" y="57"/>
                      </a:lnTo>
                      <a:lnTo>
                        <a:pt x="231" y="57"/>
                      </a:lnTo>
                      <a:lnTo>
                        <a:pt x="241" y="57"/>
                      </a:lnTo>
                      <a:lnTo>
                        <a:pt x="261" y="45"/>
                      </a:lnTo>
                      <a:lnTo>
                        <a:pt x="301" y="45"/>
                      </a:lnTo>
                      <a:lnTo>
                        <a:pt x="321" y="34"/>
                      </a:lnTo>
                      <a:lnTo>
                        <a:pt x="341" y="34"/>
                      </a:lnTo>
                      <a:lnTo>
                        <a:pt x="361" y="22"/>
                      </a:lnTo>
                      <a:lnTo>
                        <a:pt x="381" y="22"/>
                      </a:lnTo>
                      <a:lnTo>
                        <a:pt x="391" y="22"/>
                      </a:lnTo>
                      <a:lnTo>
                        <a:pt x="401" y="11"/>
                      </a:lnTo>
                      <a:lnTo>
                        <a:pt x="411" y="11"/>
                      </a:lnTo>
                      <a:lnTo>
                        <a:pt x="401" y="22"/>
                      </a:lnTo>
                      <a:lnTo>
                        <a:pt x="411" y="22"/>
                      </a:lnTo>
                      <a:lnTo>
                        <a:pt x="421" y="22"/>
                      </a:lnTo>
                      <a:lnTo>
                        <a:pt x="411" y="22"/>
                      </a:lnTo>
                      <a:lnTo>
                        <a:pt x="421" y="22"/>
                      </a:lnTo>
                      <a:lnTo>
                        <a:pt x="431" y="34"/>
                      </a:lnTo>
                      <a:lnTo>
                        <a:pt x="461" y="34"/>
                      </a:lnTo>
                      <a:lnTo>
                        <a:pt x="481" y="34"/>
                      </a:lnTo>
                      <a:lnTo>
                        <a:pt x="511" y="45"/>
                      </a:lnTo>
                      <a:lnTo>
                        <a:pt x="531" y="57"/>
                      </a:lnTo>
                      <a:lnTo>
                        <a:pt x="561" y="57"/>
                      </a:lnTo>
                      <a:lnTo>
                        <a:pt x="591" y="57"/>
                      </a:lnTo>
                      <a:lnTo>
                        <a:pt x="601" y="57"/>
                      </a:lnTo>
                      <a:lnTo>
                        <a:pt x="611" y="57"/>
                      </a:lnTo>
                      <a:lnTo>
                        <a:pt x="621" y="45"/>
                      </a:lnTo>
                      <a:lnTo>
                        <a:pt x="631" y="45"/>
                      </a:lnTo>
                      <a:lnTo>
                        <a:pt x="621" y="45"/>
                      </a:lnTo>
                      <a:lnTo>
                        <a:pt x="611" y="45"/>
                      </a:lnTo>
                      <a:lnTo>
                        <a:pt x="611" y="57"/>
                      </a:lnTo>
                      <a:lnTo>
                        <a:pt x="641" y="57"/>
                      </a:lnTo>
                      <a:lnTo>
                        <a:pt x="661" y="45"/>
                      </a:lnTo>
                      <a:lnTo>
                        <a:pt x="682" y="34"/>
                      </a:lnTo>
                      <a:lnTo>
                        <a:pt x="692" y="45"/>
                      </a:lnTo>
                      <a:lnTo>
                        <a:pt x="702" y="45"/>
                      </a:lnTo>
                      <a:lnTo>
                        <a:pt x="712" y="45"/>
                      </a:lnTo>
                      <a:lnTo>
                        <a:pt x="722" y="34"/>
                      </a:lnTo>
                      <a:lnTo>
                        <a:pt x="732" y="34"/>
                      </a:lnTo>
                      <a:lnTo>
                        <a:pt x="722" y="45"/>
                      </a:lnTo>
                      <a:lnTo>
                        <a:pt x="732" y="45"/>
                      </a:lnTo>
                      <a:lnTo>
                        <a:pt x="742" y="45"/>
                      </a:lnTo>
                      <a:lnTo>
                        <a:pt x="762" y="45"/>
                      </a:lnTo>
                      <a:lnTo>
                        <a:pt x="782" y="45"/>
                      </a:lnTo>
                      <a:lnTo>
                        <a:pt x="792" y="57"/>
                      </a:lnTo>
                      <a:lnTo>
                        <a:pt x="802" y="57"/>
                      </a:lnTo>
                      <a:lnTo>
                        <a:pt x="812" y="57"/>
                      </a:lnTo>
                      <a:lnTo>
                        <a:pt x="822" y="57"/>
                      </a:lnTo>
                      <a:lnTo>
                        <a:pt x="812" y="68"/>
                      </a:lnTo>
                      <a:lnTo>
                        <a:pt x="802" y="68"/>
                      </a:lnTo>
                      <a:lnTo>
                        <a:pt x="802" y="79"/>
                      </a:lnTo>
                      <a:lnTo>
                        <a:pt x="812" y="79"/>
                      </a:lnTo>
                      <a:lnTo>
                        <a:pt x="822" y="79"/>
                      </a:lnTo>
                      <a:lnTo>
                        <a:pt x="842" y="79"/>
                      </a:lnTo>
                      <a:lnTo>
                        <a:pt x="852" y="91"/>
                      </a:lnTo>
                      <a:lnTo>
                        <a:pt x="872" y="102"/>
                      </a:lnTo>
                      <a:lnTo>
                        <a:pt x="872" y="91"/>
                      </a:lnTo>
                      <a:lnTo>
                        <a:pt x="892" y="79"/>
                      </a:lnTo>
                      <a:lnTo>
                        <a:pt x="902" y="68"/>
                      </a:lnTo>
                      <a:lnTo>
                        <a:pt x="922" y="57"/>
                      </a:lnTo>
                      <a:lnTo>
                        <a:pt x="932" y="68"/>
                      </a:lnTo>
                      <a:lnTo>
                        <a:pt x="942" y="79"/>
                      </a:lnTo>
                      <a:lnTo>
                        <a:pt x="962" y="79"/>
                      </a:lnTo>
                      <a:lnTo>
                        <a:pt x="972" y="79"/>
                      </a:lnTo>
                      <a:lnTo>
                        <a:pt x="982" y="79"/>
                      </a:lnTo>
                      <a:lnTo>
                        <a:pt x="992" y="68"/>
                      </a:lnTo>
                      <a:lnTo>
                        <a:pt x="1002" y="68"/>
                      </a:lnTo>
                      <a:lnTo>
                        <a:pt x="1002" y="57"/>
                      </a:lnTo>
                      <a:lnTo>
                        <a:pt x="1012" y="68"/>
                      </a:lnTo>
                      <a:lnTo>
                        <a:pt x="1012" y="79"/>
                      </a:lnTo>
                      <a:lnTo>
                        <a:pt x="1002" y="91"/>
                      </a:lnTo>
                      <a:lnTo>
                        <a:pt x="1012" y="91"/>
                      </a:lnTo>
                      <a:lnTo>
                        <a:pt x="1012" y="79"/>
                      </a:lnTo>
                      <a:lnTo>
                        <a:pt x="1022" y="79"/>
                      </a:lnTo>
                      <a:lnTo>
                        <a:pt x="1032" y="68"/>
                      </a:lnTo>
                      <a:lnTo>
                        <a:pt x="1042" y="68"/>
                      </a:lnTo>
                      <a:lnTo>
                        <a:pt x="1052" y="57"/>
                      </a:lnTo>
                      <a:lnTo>
                        <a:pt x="1042" y="45"/>
                      </a:lnTo>
                      <a:lnTo>
                        <a:pt x="1042" y="34"/>
                      </a:lnTo>
                      <a:lnTo>
                        <a:pt x="1052" y="34"/>
                      </a:lnTo>
                      <a:lnTo>
                        <a:pt x="1062" y="22"/>
                      </a:lnTo>
                      <a:lnTo>
                        <a:pt x="1072" y="11"/>
                      </a:lnTo>
                      <a:lnTo>
                        <a:pt x="1082" y="0"/>
                      </a:lnTo>
                      <a:lnTo>
                        <a:pt x="1082" y="11"/>
                      </a:lnTo>
                      <a:lnTo>
                        <a:pt x="1072" y="34"/>
                      </a:lnTo>
                      <a:lnTo>
                        <a:pt x="1072" y="45"/>
                      </a:lnTo>
                      <a:lnTo>
                        <a:pt x="1082" y="45"/>
                      </a:lnTo>
                      <a:lnTo>
                        <a:pt x="1102" y="45"/>
                      </a:lnTo>
                      <a:lnTo>
                        <a:pt x="1112" y="45"/>
                      </a:lnTo>
                      <a:lnTo>
                        <a:pt x="1112" y="57"/>
                      </a:lnTo>
                      <a:lnTo>
                        <a:pt x="1112" y="79"/>
                      </a:lnTo>
                      <a:lnTo>
                        <a:pt x="1132" y="79"/>
                      </a:lnTo>
                      <a:lnTo>
                        <a:pt x="1142" y="68"/>
                      </a:lnTo>
                      <a:lnTo>
                        <a:pt x="1142" y="57"/>
                      </a:lnTo>
                      <a:lnTo>
                        <a:pt x="1152" y="34"/>
                      </a:lnTo>
                      <a:lnTo>
                        <a:pt x="1172" y="34"/>
                      </a:lnTo>
                      <a:lnTo>
                        <a:pt x="1182" y="45"/>
                      </a:lnTo>
                      <a:lnTo>
                        <a:pt x="1192" y="45"/>
                      </a:lnTo>
                      <a:lnTo>
                        <a:pt x="1192" y="57"/>
                      </a:lnTo>
                      <a:lnTo>
                        <a:pt x="1182" y="57"/>
                      </a:lnTo>
                      <a:lnTo>
                        <a:pt x="1182" y="68"/>
                      </a:lnTo>
                      <a:lnTo>
                        <a:pt x="1182" y="79"/>
                      </a:lnTo>
                      <a:lnTo>
                        <a:pt x="1172" y="91"/>
                      </a:lnTo>
                      <a:lnTo>
                        <a:pt x="1162" y="91"/>
                      </a:lnTo>
                      <a:lnTo>
                        <a:pt x="1152" y="102"/>
                      </a:lnTo>
                      <a:lnTo>
                        <a:pt x="1142" y="102"/>
                      </a:lnTo>
                      <a:lnTo>
                        <a:pt x="1142" y="91"/>
                      </a:lnTo>
                      <a:lnTo>
                        <a:pt x="1132" y="91"/>
                      </a:lnTo>
                      <a:lnTo>
                        <a:pt x="1142" y="102"/>
                      </a:lnTo>
                      <a:lnTo>
                        <a:pt x="1132" y="102"/>
                      </a:lnTo>
                      <a:lnTo>
                        <a:pt x="1112" y="102"/>
                      </a:lnTo>
                      <a:lnTo>
                        <a:pt x="1102" y="114"/>
                      </a:lnTo>
                      <a:lnTo>
                        <a:pt x="1082" y="114"/>
                      </a:lnTo>
                      <a:lnTo>
                        <a:pt x="1072" y="114"/>
                      </a:lnTo>
                      <a:lnTo>
                        <a:pt x="1072" y="102"/>
                      </a:lnTo>
                      <a:lnTo>
                        <a:pt x="1062" y="102"/>
                      </a:lnTo>
                      <a:lnTo>
                        <a:pt x="1052" y="102"/>
                      </a:lnTo>
                      <a:lnTo>
                        <a:pt x="1042" y="102"/>
                      </a:lnTo>
                      <a:lnTo>
                        <a:pt x="1062" y="114"/>
                      </a:lnTo>
                      <a:lnTo>
                        <a:pt x="1082" y="114"/>
                      </a:lnTo>
                      <a:lnTo>
                        <a:pt x="1092" y="114"/>
                      </a:lnTo>
                      <a:lnTo>
                        <a:pt x="1082" y="125"/>
                      </a:lnTo>
                      <a:lnTo>
                        <a:pt x="1072" y="136"/>
                      </a:lnTo>
                      <a:lnTo>
                        <a:pt x="1052" y="136"/>
                      </a:lnTo>
                      <a:lnTo>
                        <a:pt x="1042" y="136"/>
                      </a:lnTo>
                      <a:lnTo>
                        <a:pt x="1042" y="148"/>
                      </a:lnTo>
                      <a:lnTo>
                        <a:pt x="1032" y="148"/>
                      </a:lnTo>
                      <a:lnTo>
                        <a:pt x="1022" y="136"/>
                      </a:lnTo>
                      <a:lnTo>
                        <a:pt x="1012" y="136"/>
                      </a:lnTo>
                      <a:lnTo>
                        <a:pt x="1002" y="136"/>
                      </a:lnTo>
                      <a:lnTo>
                        <a:pt x="1012" y="148"/>
                      </a:lnTo>
                      <a:lnTo>
                        <a:pt x="1022" y="159"/>
                      </a:lnTo>
                      <a:lnTo>
                        <a:pt x="1012" y="159"/>
                      </a:lnTo>
                      <a:lnTo>
                        <a:pt x="1002" y="159"/>
                      </a:lnTo>
                      <a:lnTo>
                        <a:pt x="992" y="159"/>
                      </a:lnTo>
                      <a:lnTo>
                        <a:pt x="982" y="171"/>
                      </a:lnTo>
                      <a:lnTo>
                        <a:pt x="962" y="182"/>
                      </a:lnTo>
                      <a:lnTo>
                        <a:pt x="942" y="205"/>
                      </a:lnTo>
                      <a:lnTo>
                        <a:pt x="932" y="239"/>
                      </a:lnTo>
                      <a:lnTo>
                        <a:pt x="942" y="250"/>
                      </a:lnTo>
                      <a:lnTo>
                        <a:pt x="952" y="250"/>
                      </a:lnTo>
                      <a:lnTo>
                        <a:pt x="962" y="262"/>
                      </a:lnTo>
                      <a:lnTo>
                        <a:pt x="972" y="273"/>
                      </a:lnTo>
                      <a:lnTo>
                        <a:pt x="992" y="285"/>
                      </a:lnTo>
                      <a:lnTo>
                        <a:pt x="1012" y="307"/>
                      </a:lnTo>
                      <a:lnTo>
                        <a:pt x="1012" y="296"/>
                      </a:lnTo>
                      <a:lnTo>
                        <a:pt x="1032" y="296"/>
                      </a:lnTo>
                      <a:lnTo>
                        <a:pt x="1042" y="296"/>
                      </a:lnTo>
                      <a:lnTo>
                        <a:pt x="1052" y="296"/>
                      </a:lnTo>
                      <a:lnTo>
                        <a:pt x="1052" y="307"/>
                      </a:lnTo>
                      <a:lnTo>
                        <a:pt x="1042" y="319"/>
                      </a:lnTo>
                      <a:lnTo>
                        <a:pt x="1032" y="342"/>
                      </a:lnTo>
                      <a:lnTo>
                        <a:pt x="1032" y="353"/>
                      </a:lnTo>
                      <a:lnTo>
                        <a:pt x="1032" y="364"/>
                      </a:lnTo>
                      <a:lnTo>
                        <a:pt x="1042" y="376"/>
                      </a:lnTo>
                      <a:lnTo>
                        <a:pt x="1052" y="387"/>
                      </a:lnTo>
                      <a:lnTo>
                        <a:pt x="1052" y="376"/>
                      </a:lnTo>
                      <a:lnTo>
                        <a:pt x="1052" y="364"/>
                      </a:lnTo>
                      <a:lnTo>
                        <a:pt x="1062" y="364"/>
                      </a:lnTo>
                      <a:lnTo>
                        <a:pt x="1072" y="364"/>
                      </a:lnTo>
                      <a:lnTo>
                        <a:pt x="1072" y="353"/>
                      </a:lnTo>
                      <a:lnTo>
                        <a:pt x="1072" y="342"/>
                      </a:lnTo>
                      <a:lnTo>
                        <a:pt x="1072" y="319"/>
                      </a:lnTo>
                      <a:lnTo>
                        <a:pt x="1082" y="307"/>
                      </a:lnTo>
                      <a:lnTo>
                        <a:pt x="1092" y="296"/>
                      </a:lnTo>
                      <a:lnTo>
                        <a:pt x="1122" y="285"/>
                      </a:lnTo>
                      <a:lnTo>
                        <a:pt x="1142" y="262"/>
                      </a:lnTo>
                      <a:lnTo>
                        <a:pt x="1142" y="250"/>
                      </a:lnTo>
                      <a:lnTo>
                        <a:pt x="1132" y="239"/>
                      </a:lnTo>
                      <a:lnTo>
                        <a:pt x="1122" y="239"/>
                      </a:lnTo>
                      <a:lnTo>
                        <a:pt x="1132" y="228"/>
                      </a:lnTo>
                      <a:lnTo>
                        <a:pt x="1142" y="228"/>
                      </a:lnTo>
                      <a:lnTo>
                        <a:pt x="1142" y="216"/>
                      </a:lnTo>
                      <a:lnTo>
                        <a:pt x="1152" y="205"/>
                      </a:lnTo>
                      <a:lnTo>
                        <a:pt x="1162" y="182"/>
                      </a:lnTo>
                      <a:lnTo>
                        <a:pt x="1162" y="171"/>
                      </a:lnTo>
                      <a:lnTo>
                        <a:pt x="1172" y="171"/>
                      </a:lnTo>
                      <a:lnTo>
                        <a:pt x="1172" y="159"/>
                      </a:lnTo>
                      <a:lnTo>
                        <a:pt x="1202" y="171"/>
                      </a:lnTo>
                      <a:lnTo>
                        <a:pt x="1232" y="182"/>
                      </a:lnTo>
                      <a:lnTo>
                        <a:pt x="1263" y="193"/>
                      </a:lnTo>
                      <a:lnTo>
                        <a:pt x="1253" y="193"/>
                      </a:lnTo>
                      <a:lnTo>
                        <a:pt x="1242" y="205"/>
                      </a:lnTo>
                      <a:lnTo>
                        <a:pt x="1232" y="205"/>
                      </a:lnTo>
                      <a:lnTo>
                        <a:pt x="1232" y="216"/>
                      </a:lnTo>
                      <a:lnTo>
                        <a:pt x="1253" y="228"/>
                      </a:lnTo>
                      <a:lnTo>
                        <a:pt x="1253" y="239"/>
                      </a:lnTo>
                      <a:lnTo>
                        <a:pt x="1253" y="250"/>
                      </a:lnTo>
                      <a:lnTo>
                        <a:pt x="1232" y="250"/>
                      </a:lnTo>
                      <a:lnTo>
                        <a:pt x="1253" y="250"/>
                      </a:lnTo>
                      <a:lnTo>
                        <a:pt x="1273" y="239"/>
                      </a:lnTo>
                      <a:lnTo>
                        <a:pt x="1283" y="228"/>
                      </a:lnTo>
                      <a:lnTo>
                        <a:pt x="1293" y="216"/>
                      </a:lnTo>
                      <a:lnTo>
                        <a:pt x="1303" y="216"/>
                      </a:lnTo>
                      <a:lnTo>
                        <a:pt x="1313" y="205"/>
                      </a:lnTo>
                      <a:lnTo>
                        <a:pt x="1313" y="216"/>
                      </a:lnTo>
                      <a:lnTo>
                        <a:pt x="1313" y="239"/>
                      </a:lnTo>
                      <a:lnTo>
                        <a:pt x="1323" y="273"/>
                      </a:lnTo>
                      <a:lnTo>
                        <a:pt x="1333" y="296"/>
                      </a:lnTo>
                      <a:lnTo>
                        <a:pt x="1343" y="307"/>
                      </a:lnTo>
                      <a:lnTo>
                        <a:pt x="1353" y="307"/>
                      </a:lnTo>
                      <a:lnTo>
                        <a:pt x="1363" y="307"/>
                      </a:lnTo>
                      <a:lnTo>
                        <a:pt x="1363" y="319"/>
                      </a:lnTo>
                      <a:lnTo>
                        <a:pt x="1353" y="319"/>
                      </a:lnTo>
                      <a:lnTo>
                        <a:pt x="1343" y="319"/>
                      </a:lnTo>
                      <a:lnTo>
                        <a:pt x="1333" y="330"/>
                      </a:lnTo>
                      <a:lnTo>
                        <a:pt x="1313" y="330"/>
                      </a:lnTo>
                      <a:lnTo>
                        <a:pt x="1323" y="330"/>
                      </a:lnTo>
                      <a:lnTo>
                        <a:pt x="1333" y="330"/>
                      </a:lnTo>
                      <a:lnTo>
                        <a:pt x="1343" y="330"/>
                      </a:lnTo>
                      <a:lnTo>
                        <a:pt x="1353" y="319"/>
                      </a:lnTo>
                      <a:lnTo>
                        <a:pt x="1363" y="330"/>
                      </a:lnTo>
                      <a:lnTo>
                        <a:pt x="1373" y="342"/>
                      </a:lnTo>
                      <a:lnTo>
                        <a:pt x="1373" y="353"/>
                      </a:lnTo>
                      <a:lnTo>
                        <a:pt x="1353" y="364"/>
                      </a:lnTo>
                      <a:lnTo>
                        <a:pt x="1343" y="364"/>
                      </a:lnTo>
                      <a:lnTo>
                        <a:pt x="1333" y="376"/>
                      </a:lnTo>
                      <a:lnTo>
                        <a:pt x="1323" y="376"/>
                      </a:lnTo>
                      <a:lnTo>
                        <a:pt x="1313" y="387"/>
                      </a:lnTo>
                      <a:lnTo>
                        <a:pt x="1303" y="387"/>
                      </a:lnTo>
                      <a:lnTo>
                        <a:pt x="1293" y="399"/>
                      </a:lnTo>
                      <a:lnTo>
                        <a:pt x="1283" y="399"/>
                      </a:lnTo>
                      <a:lnTo>
                        <a:pt x="1253" y="399"/>
                      </a:lnTo>
                      <a:lnTo>
                        <a:pt x="1212" y="410"/>
                      </a:lnTo>
                      <a:lnTo>
                        <a:pt x="1182" y="410"/>
                      </a:lnTo>
                      <a:lnTo>
                        <a:pt x="1172" y="421"/>
                      </a:lnTo>
                      <a:lnTo>
                        <a:pt x="1162" y="433"/>
                      </a:lnTo>
                      <a:lnTo>
                        <a:pt x="1152" y="444"/>
                      </a:lnTo>
                      <a:lnTo>
                        <a:pt x="1142" y="444"/>
                      </a:lnTo>
                      <a:lnTo>
                        <a:pt x="1132" y="456"/>
                      </a:lnTo>
                      <a:lnTo>
                        <a:pt x="1142" y="456"/>
                      </a:lnTo>
                      <a:lnTo>
                        <a:pt x="1152" y="444"/>
                      </a:lnTo>
                      <a:lnTo>
                        <a:pt x="1162" y="444"/>
                      </a:lnTo>
                      <a:lnTo>
                        <a:pt x="1162" y="433"/>
                      </a:lnTo>
                      <a:lnTo>
                        <a:pt x="1182" y="421"/>
                      </a:lnTo>
                      <a:lnTo>
                        <a:pt x="1202" y="410"/>
                      </a:lnTo>
                      <a:lnTo>
                        <a:pt x="1222" y="410"/>
                      </a:lnTo>
                      <a:lnTo>
                        <a:pt x="1232" y="410"/>
                      </a:lnTo>
                      <a:lnTo>
                        <a:pt x="1242" y="421"/>
                      </a:lnTo>
                      <a:lnTo>
                        <a:pt x="1222" y="433"/>
                      </a:lnTo>
                      <a:lnTo>
                        <a:pt x="1212" y="433"/>
                      </a:lnTo>
                      <a:lnTo>
                        <a:pt x="1202" y="433"/>
                      </a:lnTo>
                      <a:lnTo>
                        <a:pt x="1212" y="433"/>
                      </a:lnTo>
                      <a:lnTo>
                        <a:pt x="1232" y="444"/>
                      </a:lnTo>
                      <a:lnTo>
                        <a:pt x="1232" y="456"/>
                      </a:lnTo>
                      <a:lnTo>
                        <a:pt x="1232" y="467"/>
                      </a:lnTo>
                      <a:lnTo>
                        <a:pt x="1232" y="478"/>
                      </a:lnTo>
                      <a:lnTo>
                        <a:pt x="1242" y="478"/>
                      </a:lnTo>
                      <a:lnTo>
                        <a:pt x="1253" y="478"/>
                      </a:lnTo>
                      <a:lnTo>
                        <a:pt x="1263" y="478"/>
                      </a:lnTo>
                      <a:lnTo>
                        <a:pt x="1263" y="490"/>
                      </a:lnTo>
                      <a:lnTo>
                        <a:pt x="1253" y="490"/>
                      </a:lnTo>
                      <a:lnTo>
                        <a:pt x="1242" y="490"/>
                      </a:lnTo>
                      <a:lnTo>
                        <a:pt x="1232" y="501"/>
                      </a:lnTo>
                      <a:lnTo>
                        <a:pt x="1222" y="513"/>
                      </a:lnTo>
                      <a:lnTo>
                        <a:pt x="1212" y="513"/>
                      </a:lnTo>
                      <a:lnTo>
                        <a:pt x="1192" y="524"/>
                      </a:lnTo>
                      <a:lnTo>
                        <a:pt x="1192" y="513"/>
                      </a:lnTo>
                      <a:lnTo>
                        <a:pt x="1192" y="501"/>
                      </a:lnTo>
                      <a:lnTo>
                        <a:pt x="1202" y="501"/>
                      </a:lnTo>
                      <a:lnTo>
                        <a:pt x="1222" y="490"/>
                      </a:lnTo>
                      <a:lnTo>
                        <a:pt x="1232" y="490"/>
                      </a:lnTo>
                      <a:lnTo>
                        <a:pt x="1232" y="478"/>
                      </a:lnTo>
                      <a:lnTo>
                        <a:pt x="1222" y="478"/>
                      </a:lnTo>
                      <a:lnTo>
                        <a:pt x="1222" y="467"/>
                      </a:lnTo>
                      <a:lnTo>
                        <a:pt x="1212" y="478"/>
                      </a:lnTo>
                      <a:lnTo>
                        <a:pt x="1202" y="478"/>
                      </a:lnTo>
                      <a:lnTo>
                        <a:pt x="1202" y="490"/>
                      </a:lnTo>
                      <a:lnTo>
                        <a:pt x="1192" y="490"/>
                      </a:lnTo>
                      <a:lnTo>
                        <a:pt x="1182" y="490"/>
                      </a:lnTo>
                      <a:lnTo>
                        <a:pt x="1172" y="490"/>
                      </a:lnTo>
                      <a:lnTo>
                        <a:pt x="1172" y="501"/>
                      </a:lnTo>
                      <a:lnTo>
                        <a:pt x="1162" y="501"/>
                      </a:lnTo>
                      <a:lnTo>
                        <a:pt x="1142" y="513"/>
                      </a:lnTo>
                      <a:lnTo>
                        <a:pt x="1132" y="524"/>
                      </a:lnTo>
                      <a:lnTo>
                        <a:pt x="1122" y="535"/>
                      </a:lnTo>
                      <a:lnTo>
                        <a:pt x="1112" y="535"/>
                      </a:lnTo>
                      <a:lnTo>
                        <a:pt x="1112" y="547"/>
                      </a:lnTo>
                      <a:lnTo>
                        <a:pt x="1102" y="558"/>
                      </a:lnTo>
                      <a:lnTo>
                        <a:pt x="1092" y="570"/>
                      </a:lnTo>
                      <a:lnTo>
                        <a:pt x="1072" y="570"/>
                      </a:lnTo>
                      <a:lnTo>
                        <a:pt x="1052" y="581"/>
                      </a:lnTo>
                      <a:lnTo>
                        <a:pt x="1052" y="592"/>
                      </a:lnTo>
                      <a:lnTo>
                        <a:pt x="1042" y="604"/>
                      </a:lnTo>
                      <a:lnTo>
                        <a:pt x="1042" y="615"/>
                      </a:lnTo>
                      <a:lnTo>
                        <a:pt x="1042" y="604"/>
                      </a:lnTo>
                      <a:lnTo>
                        <a:pt x="1042" y="592"/>
                      </a:lnTo>
                      <a:lnTo>
                        <a:pt x="1032" y="604"/>
                      </a:lnTo>
                      <a:lnTo>
                        <a:pt x="1032" y="615"/>
                      </a:lnTo>
                      <a:lnTo>
                        <a:pt x="1022" y="627"/>
                      </a:lnTo>
                      <a:lnTo>
                        <a:pt x="1022" y="638"/>
                      </a:lnTo>
                      <a:lnTo>
                        <a:pt x="1022" y="649"/>
                      </a:lnTo>
                      <a:lnTo>
                        <a:pt x="1012" y="649"/>
                      </a:lnTo>
                      <a:lnTo>
                        <a:pt x="1012" y="638"/>
                      </a:lnTo>
                      <a:lnTo>
                        <a:pt x="1012" y="627"/>
                      </a:lnTo>
                      <a:lnTo>
                        <a:pt x="1002" y="615"/>
                      </a:lnTo>
                      <a:lnTo>
                        <a:pt x="1012" y="627"/>
                      </a:lnTo>
                      <a:lnTo>
                        <a:pt x="1012" y="638"/>
                      </a:lnTo>
                      <a:lnTo>
                        <a:pt x="1012" y="672"/>
                      </a:lnTo>
                      <a:lnTo>
                        <a:pt x="1012" y="684"/>
                      </a:lnTo>
                      <a:lnTo>
                        <a:pt x="1002" y="684"/>
                      </a:lnTo>
                      <a:lnTo>
                        <a:pt x="992" y="684"/>
                      </a:lnTo>
                      <a:lnTo>
                        <a:pt x="1002" y="684"/>
                      </a:lnTo>
                      <a:lnTo>
                        <a:pt x="1012" y="684"/>
                      </a:lnTo>
                      <a:lnTo>
                        <a:pt x="1002" y="695"/>
                      </a:lnTo>
                      <a:lnTo>
                        <a:pt x="982" y="718"/>
                      </a:lnTo>
                      <a:lnTo>
                        <a:pt x="952" y="729"/>
                      </a:lnTo>
                      <a:lnTo>
                        <a:pt x="932" y="752"/>
                      </a:lnTo>
                      <a:lnTo>
                        <a:pt x="912" y="763"/>
                      </a:lnTo>
                      <a:lnTo>
                        <a:pt x="902" y="786"/>
                      </a:lnTo>
                      <a:lnTo>
                        <a:pt x="902" y="809"/>
                      </a:lnTo>
                      <a:lnTo>
                        <a:pt x="912" y="832"/>
                      </a:lnTo>
                      <a:lnTo>
                        <a:pt x="912" y="843"/>
                      </a:lnTo>
                      <a:lnTo>
                        <a:pt x="912" y="855"/>
                      </a:lnTo>
                      <a:lnTo>
                        <a:pt x="912" y="866"/>
                      </a:lnTo>
                      <a:lnTo>
                        <a:pt x="892" y="900"/>
                      </a:lnTo>
                      <a:lnTo>
                        <a:pt x="892" y="889"/>
                      </a:lnTo>
                      <a:lnTo>
                        <a:pt x="892" y="877"/>
                      </a:lnTo>
                      <a:lnTo>
                        <a:pt x="882" y="877"/>
                      </a:lnTo>
                      <a:lnTo>
                        <a:pt x="882" y="866"/>
                      </a:lnTo>
                      <a:lnTo>
                        <a:pt x="872" y="843"/>
                      </a:lnTo>
                      <a:lnTo>
                        <a:pt x="862" y="820"/>
                      </a:lnTo>
                      <a:lnTo>
                        <a:pt x="842" y="809"/>
                      </a:lnTo>
                      <a:lnTo>
                        <a:pt x="822" y="809"/>
                      </a:lnTo>
                      <a:lnTo>
                        <a:pt x="802" y="809"/>
                      </a:lnTo>
                      <a:lnTo>
                        <a:pt x="782" y="820"/>
                      </a:lnTo>
                      <a:lnTo>
                        <a:pt x="772" y="820"/>
                      </a:lnTo>
                      <a:lnTo>
                        <a:pt x="772" y="809"/>
                      </a:lnTo>
                      <a:lnTo>
                        <a:pt x="752" y="809"/>
                      </a:lnTo>
                      <a:lnTo>
                        <a:pt x="742" y="798"/>
                      </a:lnTo>
                      <a:lnTo>
                        <a:pt x="722" y="798"/>
                      </a:lnTo>
                      <a:lnTo>
                        <a:pt x="712" y="798"/>
                      </a:lnTo>
                      <a:lnTo>
                        <a:pt x="712" y="809"/>
                      </a:lnTo>
                      <a:lnTo>
                        <a:pt x="702" y="809"/>
                      </a:lnTo>
                      <a:lnTo>
                        <a:pt x="712" y="809"/>
                      </a:lnTo>
                      <a:lnTo>
                        <a:pt x="692" y="820"/>
                      </a:lnTo>
                      <a:lnTo>
                        <a:pt x="672" y="832"/>
                      </a:lnTo>
                      <a:lnTo>
                        <a:pt x="661" y="843"/>
                      </a:lnTo>
                      <a:lnTo>
                        <a:pt x="651" y="855"/>
                      </a:lnTo>
                      <a:lnTo>
                        <a:pt x="651" y="866"/>
                      </a:lnTo>
                      <a:lnTo>
                        <a:pt x="651" y="877"/>
                      </a:lnTo>
                      <a:lnTo>
                        <a:pt x="651" y="889"/>
                      </a:lnTo>
                      <a:lnTo>
                        <a:pt x="641" y="900"/>
                      </a:lnTo>
                      <a:lnTo>
                        <a:pt x="641" y="934"/>
                      </a:lnTo>
                      <a:lnTo>
                        <a:pt x="641" y="957"/>
                      </a:lnTo>
                      <a:lnTo>
                        <a:pt x="641" y="980"/>
                      </a:lnTo>
                      <a:lnTo>
                        <a:pt x="651" y="1026"/>
                      </a:lnTo>
                      <a:lnTo>
                        <a:pt x="661" y="1026"/>
                      </a:lnTo>
                      <a:lnTo>
                        <a:pt x="692" y="1014"/>
                      </a:lnTo>
                      <a:lnTo>
                        <a:pt x="712" y="1014"/>
                      </a:lnTo>
                      <a:lnTo>
                        <a:pt x="732" y="1014"/>
                      </a:lnTo>
                      <a:lnTo>
                        <a:pt x="742" y="1003"/>
                      </a:lnTo>
                      <a:lnTo>
                        <a:pt x="742" y="991"/>
                      </a:lnTo>
                      <a:lnTo>
                        <a:pt x="742" y="980"/>
                      </a:lnTo>
                      <a:lnTo>
                        <a:pt x="752" y="969"/>
                      </a:lnTo>
                      <a:lnTo>
                        <a:pt x="782" y="969"/>
                      </a:lnTo>
                      <a:lnTo>
                        <a:pt x="792" y="969"/>
                      </a:lnTo>
                      <a:lnTo>
                        <a:pt x="802" y="969"/>
                      </a:lnTo>
                      <a:lnTo>
                        <a:pt x="792" y="991"/>
                      </a:lnTo>
                      <a:lnTo>
                        <a:pt x="782" y="1003"/>
                      </a:lnTo>
                      <a:lnTo>
                        <a:pt x="772" y="1014"/>
                      </a:lnTo>
                      <a:lnTo>
                        <a:pt x="772" y="1026"/>
                      </a:lnTo>
                      <a:lnTo>
                        <a:pt x="762" y="1037"/>
                      </a:lnTo>
                      <a:lnTo>
                        <a:pt x="772" y="1048"/>
                      </a:lnTo>
                      <a:lnTo>
                        <a:pt x="762" y="1060"/>
                      </a:lnTo>
                      <a:lnTo>
                        <a:pt x="752" y="1071"/>
                      </a:lnTo>
                      <a:lnTo>
                        <a:pt x="762" y="1083"/>
                      </a:lnTo>
                      <a:lnTo>
                        <a:pt x="772" y="1071"/>
                      </a:lnTo>
                      <a:lnTo>
                        <a:pt x="792" y="1083"/>
                      </a:lnTo>
                      <a:lnTo>
                        <a:pt x="822" y="1083"/>
                      </a:lnTo>
                      <a:lnTo>
                        <a:pt x="842" y="1094"/>
                      </a:lnTo>
                      <a:lnTo>
                        <a:pt x="832" y="1094"/>
                      </a:lnTo>
                      <a:lnTo>
                        <a:pt x="832" y="1128"/>
                      </a:lnTo>
                      <a:lnTo>
                        <a:pt x="822" y="1151"/>
                      </a:lnTo>
                      <a:lnTo>
                        <a:pt x="822" y="1174"/>
                      </a:lnTo>
                      <a:lnTo>
                        <a:pt x="832" y="1197"/>
                      </a:lnTo>
                      <a:lnTo>
                        <a:pt x="862" y="1208"/>
                      </a:lnTo>
                      <a:lnTo>
                        <a:pt x="882" y="1208"/>
                      </a:lnTo>
                      <a:lnTo>
                        <a:pt x="892" y="1208"/>
                      </a:lnTo>
                      <a:lnTo>
                        <a:pt x="902" y="1219"/>
                      </a:lnTo>
                      <a:lnTo>
                        <a:pt x="922" y="1219"/>
                      </a:lnTo>
                      <a:lnTo>
                        <a:pt x="922" y="1219"/>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224000" y="1487520"/>
                  <a:ext cx="2496960" cy="3871800"/>
                </a:xfrm>
                <a:custGeom>
                  <a:avLst/>
                  <a:gdLst/>
                  <a:ahLst/>
                  <a:rect l="l" t="t" r="r" b="b"/>
                  <a:pathLst>
                    <a:path w="1573" h="2439">
                      <a:moveTo>
                        <a:pt x="922" y="1219"/>
                      </a:moveTo>
                      <a:lnTo>
                        <a:pt x="932" y="1219"/>
                      </a:lnTo>
                      <a:lnTo>
                        <a:pt x="942" y="1208"/>
                      </a:lnTo>
                      <a:lnTo>
                        <a:pt x="952" y="1197"/>
                      </a:lnTo>
                      <a:lnTo>
                        <a:pt x="952" y="1185"/>
                      </a:lnTo>
                      <a:lnTo>
                        <a:pt x="962" y="1174"/>
                      </a:lnTo>
                      <a:lnTo>
                        <a:pt x="972" y="1174"/>
                      </a:lnTo>
                      <a:lnTo>
                        <a:pt x="972" y="1162"/>
                      </a:lnTo>
                      <a:lnTo>
                        <a:pt x="982" y="1162"/>
                      </a:lnTo>
                      <a:lnTo>
                        <a:pt x="992" y="1174"/>
                      </a:lnTo>
                      <a:lnTo>
                        <a:pt x="1002" y="1174"/>
                      </a:lnTo>
                      <a:lnTo>
                        <a:pt x="1012" y="1174"/>
                      </a:lnTo>
                      <a:lnTo>
                        <a:pt x="1012" y="1197"/>
                      </a:lnTo>
                      <a:lnTo>
                        <a:pt x="1012" y="1208"/>
                      </a:lnTo>
                      <a:lnTo>
                        <a:pt x="1002" y="1197"/>
                      </a:lnTo>
                      <a:lnTo>
                        <a:pt x="1002" y="1185"/>
                      </a:lnTo>
                      <a:lnTo>
                        <a:pt x="1012" y="1174"/>
                      </a:lnTo>
                      <a:lnTo>
                        <a:pt x="1022" y="1174"/>
                      </a:lnTo>
                      <a:lnTo>
                        <a:pt x="1032" y="1174"/>
                      </a:lnTo>
                      <a:lnTo>
                        <a:pt x="1042" y="1162"/>
                      </a:lnTo>
                      <a:lnTo>
                        <a:pt x="1032" y="1151"/>
                      </a:lnTo>
                      <a:lnTo>
                        <a:pt x="1042" y="1162"/>
                      </a:lnTo>
                      <a:lnTo>
                        <a:pt x="1052" y="1174"/>
                      </a:lnTo>
                      <a:lnTo>
                        <a:pt x="1062" y="1174"/>
                      </a:lnTo>
                      <a:lnTo>
                        <a:pt x="1072" y="1185"/>
                      </a:lnTo>
                      <a:lnTo>
                        <a:pt x="1082" y="1185"/>
                      </a:lnTo>
                      <a:lnTo>
                        <a:pt x="1092" y="1185"/>
                      </a:lnTo>
                      <a:lnTo>
                        <a:pt x="1122" y="1185"/>
                      </a:lnTo>
                      <a:lnTo>
                        <a:pt x="1142" y="1197"/>
                      </a:lnTo>
                      <a:lnTo>
                        <a:pt x="1172" y="1208"/>
                      </a:lnTo>
                      <a:lnTo>
                        <a:pt x="1162" y="1219"/>
                      </a:lnTo>
                      <a:lnTo>
                        <a:pt x="1172" y="1219"/>
                      </a:lnTo>
                      <a:lnTo>
                        <a:pt x="1182" y="1219"/>
                      </a:lnTo>
                      <a:lnTo>
                        <a:pt x="1192" y="1231"/>
                      </a:lnTo>
                      <a:lnTo>
                        <a:pt x="1202" y="1231"/>
                      </a:lnTo>
                      <a:lnTo>
                        <a:pt x="1202" y="1242"/>
                      </a:lnTo>
                      <a:lnTo>
                        <a:pt x="1202" y="1254"/>
                      </a:lnTo>
                      <a:lnTo>
                        <a:pt x="1202" y="1265"/>
                      </a:lnTo>
                      <a:lnTo>
                        <a:pt x="1202" y="1276"/>
                      </a:lnTo>
                      <a:lnTo>
                        <a:pt x="1222" y="1276"/>
                      </a:lnTo>
                      <a:lnTo>
                        <a:pt x="1232" y="1276"/>
                      </a:lnTo>
                      <a:lnTo>
                        <a:pt x="1253" y="1288"/>
                      </a:lnTo>
                      <a:lnTo>
                        <a:pt x="1283" y="1299"/>
                      </a:lnTo>
                      <a:lnTo>
                        <a:pt x="1313" y="1311"/>
                      </a:lnTo>
                      <a:lnTo>
                        <a:pt x="1323" y="1333"/>
                      </a:lnTo>
                      <a:lnTo>
                        <a:pt x="1333" y="1345"/>
                      </a:lnTo>
                      <a:lnTo>
                        <a:pt x="1333" y="1368"/>
                      </a:lnTo>
                      <a:lnTo>
                        <a:pt x="1323" y="1379"/>
                      </a:lnTo>
                      <a:lnTo>
                        <a:pt x="1303" y="1402"/>
                      </a:lnTo>
                      <a:lnTo>
                        <a:pt x="1293" y="1425"/>
                      </a:lnTo>
                      <a:lnTo>
                        <a:pt x="1303" y="1425"/>
                      </a:lnTo>
                      <a:lnTo>
                        <a:pt x="1313" y="1413"/>
                      </a:lnTo>
                      <a:lnTo>
                        <a:pt x="1323" y="1413"/>
                      </a:lnTo>
                      <a:lnTo>
                        <a:pt x="1323" y="1425"/>
                      </a:lnTo>
                      <a:lnTo>
                        <a:pt x="1333" y="1425"/>
                      </a:lnTo>
                      <a:lnTo>
                        <a:pt x="1343" y="1425"/>
                      </a:lnTo>
                      <a:lnTo>
                        <a:pt x="1353" y="1413"/>
                      </a:lnTo>
                      <a:lnTo>
                        <a:pt x="1373" y="1413"/>
                      </a:lnTo>
                      <a:lnTo>
                        <a:pt x="1383" y="1402"/>
                      </a:lnTo>
                      <a:lnTo>
                        <a:pt x="1393" y="1402"/>
                      </a:lnTo>
                      <a:lnTo>
                        <a:pt x="1413" y="1413"/>
                      </a:lnTo>
                      <a:lnTo>
                        <a:pt x="1423" y="1425"/>
                      </a:lnTo>
                      <a:lnTo>
                        <a:pt x="1413" y="1436"/>
                      </a:lnTo>
                      <a:lnTo>
                        <a:pt x="1413" y="1448"/>
                      </a:lnTo>
                      <a:lnTo>
                        <a:pt x="1413" y="1459"/>
                      </a:lnTo>
                      <a:lnTo>
                        <a:pt x="1443" y="1459"/>
                      </a:lnTo>
                      <a:lnTo>
                        <a:pt x="1483" y="1459"/>
                      </a:lnTo>
                      <a:lnTo>
                        <a:pt x="1513" y="1459"/>
                      </a:lnTo>
                      <a:lnTo>
                        <a:pt x="1523" y="1470"/>
                      </a:lnTo>
                      <a:lnTo>
                        <a:pt x="1523" y="1482"/>
                      </a:lnTo>
                      <a:lnTo>
                        <a:pt x="1533" y="1493"/>
                      </a:lnTo>
                      <a:lnTo>
                        <a:pt x="1543" y="1493"/>
                      </a:lnTo>
                      <a:lnTo>
                        <a:pt x="1553" y="1493"/>
                      </a:lnTo>
                      <a:lnTo>
                        <a:pt x="1563" y="1493"/>
                      </a:lnTo>
                      <a:lnTo>
                        <a:pt x="1573" y="1516"/>
                      </a:lnTo>
                      <a:lnTo>
                        <a:pt x="1563" y="1550"/>
                      </a:lnTo>
                      <a:lnTo>
                        <a:pt x="1553" y="1573"/>
                      </a:lnTo>
                      <a:lnTo>
                        <a:pt x="1543" y="1596"/>
                      </a:lnTo>
                      <a:lnTo>
                        <a:pt x="1533" y="1607"/>
                      </a:lnTo>
                      <a:lnTo>
                        <a:pt x="1533" y="1619"/>
                      </a:lnTo>
                      <a:lnTo>
                        <a:pt x="1523" y="1630"/>
                      </a:lnTo>
                      <a:lnTo>
                        <a:pt x="1523" y="1641"/>
                      </a:lnTo>
                      <a:lnTo>
                        <a:pt x="1513" y="1641"/>
                      </a:lnTo>
                      <a:lnTo>
                        <a:pt x="1513" y="1664"/>
                      </a:lnTo>
                      <a:lnTo>
                        <a:pt x="1513" y="1687"/>
                      </a:lnTo>
                      <a:lnTo>
                        <a:pt x="1513" y="1698"/>
                      </a:lnTo>
                      <a:lnTo>
                        <a:pt x="1503" y="1744"/>
                      </a:lnTo>
                      <a:lnTo>
                        <a:pt x="1493" y="1767"/>
                      </a:lnTo>
                      <a:lnTo>
                        <a:pt x="1483" y="1812"/>
                      </a:lnTo>
                      <a:lnTo>
                        <a:pt x="1483" y="1824"/>
                      </a:lnTo>
                      <a:lnTo>
                        <a:pt x="1473" y="1835"/>
                      </a:lnTo>
                      <a:lnTo>
                        <a:pt x="1443" y="1847"/>
                      </a:lnTo>
                      <a:lnTo>
                        <a:pt x="1423" y="1858"/>
                      </a:lnTo>
                      <a:lnTo>
                        <a:pt x="1413" y="1858"/>
                      </a:lnTo>
                      <a:lnTo>
                        <a:pt x="1403" y="1869"/>
                      </a:lnTo>
                      <a:lnTo>
                        <a:pt x="1393" y="1881"/>
                      </a:lnTo>
                      <a:lnTo>
                        <a:pt x="1383" y="1881"/>
                      </a:lnTo>
                      <a:lnTo>
                        <a:pt x="1373" y="1892"/>
                      </a:lnTo>
                      <a:lnTo>
                        <a:pt x="1373" y="1915"/>
                      </a:lnTo>
                      <a:lnTo>
                        <a:pt x="1373" y="1938"/>
                      </a:lnTo>
                      <a:lnTo>
                        <a:pt x="1373" y="1972"/>
                      </a:lnTo>
                      <a:lnTo>
                        <a:pt x="1363" y="1983"/>
                      </a:lnTo>
                      <a:lnTo>
                        <a:pt x="1363" y="1995"/>
                      </a:lnTo>
                      <a:lnTo>
                        <a:pt x="1353" y="2006"/>
                      </a:lnTo>
                      <a:lnTo>
                        <a:pt x="1353" y="2018"/>
                      </a:lnTo>
                      <a:lnTo>
                        <a:pt x="1343" y="2029"/>
                      </a:lnTo>
                      <a:lnTo>
                        <a:pt x="1343" y="2018"/>
                      </a:lnTo>
                      <a:lnTo>
                        <a:pt x="1353" y="2006"/>
                      </a:lnTo>
                      <a:lnTo>
                        <a:pt x="1363" y="1995"/>
                      </a:lnTo>
                      <a:lnTo>
                        <a:pt x="1353" y="1983"/>
                      </a:lnTo>
                      <a:lnTo>
                        <a:pt x="1343" y="1983"/>
                      </a:lnTo>
                      <a:lnTo>
                        <a:pt x="1353" y="1995"/>
                      </a:lnTo>
                      <a:lnTo>
                        <a:pt x="1343" y="2018"/>
                      </a:lnTo>
                      <a:lnTo>
                        <a:pt x="1333" y="2040"/>
                      </a:lnTo>
                      <a:lnTo>
                        <a:pt x="1323" y="2052"/>
                      </a:lnTo>
                      <a:lnTo>
                        <a:pt x="1323" y="2063"/>
                      </a:lnTo>
                      <a:lnTo>
                        <a:pt x="1313" y="2075"/>
                      </a:lnTo>
                      <a:lnTo>
                        <a:pt x="1303" y="2075"/>
                      </a:lnTo>
                      <a:lnTo>
                        <a:pt x="1293" y="2063"/>
                      </a:lnTo>
                      <a:lnTo>
                        <a:pt x="1273" y="2040"/>
                      </a:lnTo>
                      <a:lnTo>
                        <a:pt x="1253" y="2029"/>
                      </a:lnTo>
                      <a:lnTo>
                        <a:pt x="1253" y="2040"/>
                      </a:lnTo>
                      <a:lnTo>
                        <a:pt x="1263" y="2075"/>
                      </a:lnTo>
                      <a:lnTo>
                        <a:pt x="1283" y="2097"/>
                      </a:lnTo>
                      <a:lnTo>
                        <a:pt x="1293" y="2120"/>
                      </a:lnTo>
                      <a:lnTo>
                        <a:pt x="1283" y="2132"/>
                      </a:lnTo>
                      <a:lnTo>
                        <a:pt x="1263" y="2143"/>
                      </a:lnTo>
                      <a:lnTo>
                        <a:pt x="1253" y="2154"/>
                      </a:lnTo>
                      <a:lnTo>
                        <a:pt x="1242" y="2154"/>
                      </a:lnTo>
                      <a:lnTo>
                        <a:pt x="1232" y="2154"/>
                      </a:lnTo>
                      <a:lnTo>
                        <a:pt x="1222" y="2166"/>
                      </a:lnTo>
                      <a:lnTo>
                        <a:pt x="1232" y="2189"/>
                      </a:lnTo>
                      <a:lnTo>
                        <a:pt x="1222" y="2200"/>
                      </a:lnTo>
                      <a:lnTo>
                        <a:pt x="1212" y="2200"/>
                      </a:lnTo>
                      <a:lnTo>
                        <a:pt x="1202" y="2189"/>
                      </a:lnTo>
                      <a:lnTo>
                        <a:pt x="1182" y="2200"/>
                      </a:lnTo>
                      <a:lnTo>
                        <a:pt x="1182" y="2211"/>
                      </a:lnTo>
                      <a:lnTo>
                        <a:pt x="1192" y="2223"/>
                      </a:lnTo>
                      <a:lnTo>
                        <a:pt x="1202" y="2223"/>
                      </a:lnTo>
                      <a:lnTo>
                        <a:pt x="1212" y="2223"/>
                      </a:lnTo>
                      <a:lnTo>
                        <a:pt x="1212" y="2234"/>
                      </a:lnTo>
                      <a:lnTo>
                        <a:pt x="1202" y="2234"/>
                      </a:lnTo>
                      <a:lnTo>
                        <a:pt x="1192" y="2234"/>
                      </a:lnTo>
                      <a:lnTo>
                        <a:pt x="1192" y="2246"/>
                      </a:lnTo>
                      <a:lnTo>
                        <a:pt x="1202" y="2257"/>
                      </a:lnTo>
                      <a:lnTo>
                        <a:pt x="1202" y="2280"/>
                      </a:lnTo>
                      <a:lnTo>
                        <a:pt x="1192" y="2280"/>
                      </a:lnTo>
                      <a:lnTo>
                        <a:pt x="1182" y="2291"/>
                      </a:lnTo>
                      <a:lnTo>
                        <a:pt x="1182" y="2303"/>
                      </a:lnTo>
                      <a:lnTo>
                        <a:pt x="1192" y="2314"/>
                      </a:lnTo>
                      <a:lnTo>
                        <a:pt x="1212" y="2325"/>
                      </a:lnTo>
                      <a:lnTo>
                        <a:pt x="1212" y="2337"/>
                      </a:lnTo>
                      <a:lnTo>
                        <a:pt x="1192" y="2360"/>
                      </a:lnTo>
                      <a:lnTo>
                        <a:pt x="1182" y="2371"/>
                      </a:lnTo>
                      <a:lnTo>
                        <a:pt x="1192" y="2371"/>
                      </a:lnTo>
                      <a:lnTo>
                        <a:pt x="1202" y="2394"/>
                      </a:lnTo>
                      <a:lnTo>
                        <a:pt x="1202" y="2405"/>
                      </a:lnTo>
                      <a:lnTo>
                        <a:pt x="1202" y="2417"/>
                      </a:lnTo>
                      <a:lnTo>
                        <a:pt x="1192" y="2428"/>
                      </a:lnTo>
                      <a:lnTo>
                        <a:pt x="1182" y="2428"/>
                      </a:lnTo>
                      <a:lnTo>
                        <a:pt x="1162" y="2439"/>
                      </a:lnTo>
                      <a:lnTo>
                        <a:pt x="1172" y="2428"/>
                      </a:lnTo>
                      <a:lnTo>
                        <a:pt x="1162" y="2428"/>
                      </a:lnTo>
                      <a:lnTo>
                        <a:pt x="1152" y="2428"/>
                      </a:lnTo>
                      <a:lnTo>
                        <a:pt x="1142" y="2428"/>
                      </a:lnTo>
                      <a:lnTo>
                        <a:pt x="1152" y="2417"/>
                      </a:lnTo>
                      <a:lnTo>
                        <a:pt x="1152" y="2405"/>
                      </a:lnTo>
                      <a:lnTo>
                        <a:pt x="1132" y="2394"/>
                      </a:lnTo>
                      <a:lnTo>
                        <a:pt x="1112" y="2382"/>
                      </a:lnTo>
                      <a:lnTo>
                        <a:pt x="1102" y="2360"/>
                      </a:lnTo>
                      <a:lnTo>
                        <a:pt x="1092" y="2337"/>
                      </a:lnTo>
                      <a:lnTo>
                        <a:pt x="1102" y="2337"/>
                      </a:lnTo>
                      <a:lnTo>
                        <a:pt x="1112" y="2337"/>
                      </a:lnTo>
                      <a:lnTo>
                        <a:pt x="1112" y="2325"/>
                      </a:lnTo>
                      <a:lnTo>
                        <a:pt x="1102" y="2314"/>
                      </a:lnTo>
                      <a:lnTo>
                        <a:pt x="1092" y="2314"/>
                      </a:lnTo>
                      <a:lnTo>
                        <a:pt x="1082" y="2314"/>
                      </a:lnTo>
                      <a:lnTo>
                        <a:pt x="1072" y="2314"/>
                      </a:lnTo>
                      <a:lnTo>
                        <a:pt x="1072" y="2303"/>
                      </a:lnTo>
                      <a:lnTo>
                        <a:pt x="1082" y="2291"/>
                      </a:lnTo>
                      <a:lnTo>
                        <a:pt x="1092" y="2280"/>
                      </a:lnTo>
                      <a:lnTo>
                        <a:pt x="1102" y="2268"/>
                      </a:lnTo>
                      <a:lnTo>
                        <a:pt x="1092" y="2257"/>
                      </a:lnTo>
                      <a:lnTo>
                        <a:pt x="1092" y="2246"/>
                      </a:lnTo>
                      <a:lnTo>
                        <a:pt x="1092" y="2223"/>
                      </a:lnTo>
                      <a:lnTo>
                        <a:pt x="1092" y="2211"/>
                      </a:lnTo>
                      <a:lnTo>
                        <a:pt x="1082" y="2211"/>
                      </a:lnTo>
                      <a:lnTo>
                        <a:pt x="1072" y="2211"/>
                      </a:lnTo>
                      <a:lnTo>
                        <a:pt x="1062" y="2200"/>
                      </a:lnTo>
                      <a:lnTo>
                        <a:pt x="1062" y="2189"/>
                      </a:lnTo>
                      <a:lnTo>
                        <a:pt x="1062" y="2177"/>
                      </a:lnTo>
                      <a:lnTo>
                        <a:pt x="1062" y="2166"/>
                      </a:lnTo>
                      <a:lnTo>
                        <a:pt x="1052" y="2143"/>
                      </a:lnTo>
                      <a:lnTo>
                        <a:pt x="1042" y="2132"/>
                      </a:lnTo>
                      <a:lnTo>
                        <a:pt x="1052" y="2120"/>
                      </a:lnTo>
                      <a:lnTo>
                        <a:pt x="1052" y="2109"/>
                      </a:lnTo>
                      <a:lnTo>
                        <a:pt x="1052" y="2097"/>
                      </a:lnTo>
                      <a:lnTo>
                        <a:pt x="1052" y="2063"/>
                      </a:lnTo>
                      <a:lnTo>
                        <a:pt x="1052" y="2029"/>
                      </a:lnTo>
                      <a:lnTo>
                        <a:pt x="1052" y="1995"/>
                      </a:lnTo>
                      <a:lnTo>
                        <a:pt x="1052" y="1983"/>
                      </a:lnTo>
                      <a:lnTo>
                        <a:pt x="1052" y="1972"/>
                      </a:lnTo>
                      <a:lnTo>
                        <a:pt x="1042" y="1961"/>
                      </a:lnTo>
                      <a:lnTo>
                        <a:pt x="1052" y="1949"/>
                      </a:lnTo>
                      <a:lnTo>
                        <a:pt x="1052" y="1938"/>
                      </a:lnTo>
                      <a:lnTo>
                        <a:pt x="1052" y="1915"/>
                      </a:lnTo>
                      <a:lnTo>
                        <a:pt x="1052" y="1892"/>
                      </a:lnTo>
                      <a:lnTo>
                        <a:pt x="1052" y="1858"/>
                      </a:lnTo>
                      <a:lnTo>
                        <a:pt x="1042" y="1824"/>
                      </a:lnTo>
                      <a:lnTo>
                        <a:pt x="1032" y="1790"/>
                      </a:lnTo>
                      <a:lnTo>
                        <a:pt x="1022" y="1755"/>
                      </a:lnTo>
                      <a:lnTo>
                        <a:pt x="1022" y="1744"/>
                      </a:lnTo>
                      <a:lnTo>
                        <a:pt x="1012" y="1721"/>
                      </a:lnTo>
                      <a:lnTo>
                        <a:pt x="982" y="1710"/>
                      </a:lnTo>
                      <a:lnTo>
                        <a:pt x="962" y="1687"/>
                      </a:lnTo>
                      <a:lnTo>
                        <a:pt x="942" y="1664"/>
                      </a:lnTo>
                      <a:lnTo>
                        <a:pt x="942" y="1653"/>
                      </a:lnTo>
                      <a:lnTo>
                        <a:pt x="932" y="1641"/>
                      </a:lnTo>
                      <a:lnTo>
                        <a:pt x="922" y="1630"/>
                      </a:lnTo>
                      <a:lnTo>
                        <a:pt x="922" y="1619"/>
                      </a:lnTo>
                      <a:lnTo>
                        <a:pt x="902" y="1584"/>
                      </a:lnTo>
                      <a:lnTo>
                        <a:pt x="892" y="1550"/>
                      </a:lnTo>
                      <a:lnTo>
                        <a:pt x="882" y="1527"/>
                      </a:lnTo>
                      <a:lnTo>
                        <a:pt x="872" y="1516"/>
                      </a:lnTo>
                      <a:lnTo>
                        <a:pt x="862" y="1516"/>
                      </a:lnTo>
                      <a:lnTo>
                        <a:pt x="862" y="1505"/>
                      </a:lnTo>
                      <a:lnTo>
                        <a:pt x="862" y="1482"/>
                      </a:lnTo>
                      <a:lnTo>
                        <a:pt x="872" y="1470"/>
                      </a:lnTo>
                      <a:lnTo>
                        <a:pt x="872" y="1459"/>
                      </a:lnTo>
                      <a:lnTo>
                        <a:pt x="872" y="1448"/>
                      </a:lnTo>
                      <a:lnTo>
                        <a:pt x="882" y="1436"/>
                      </a:lnTo>
                      <a:lnTo>
                        <a:pt x="882" y="1425"/>
                      </a:lnTo>
                      <a:lnTo>
                        <a:pt x="872" y="1425"/>
                      </a:lnTo>
                      <a:lnTo>
                        <a:pt x="872" y="1436"/>
                      </a:lnTo>
                      <a:lnTo>
                        <a:pt x="862" y="1436"/>
                      </a:lnTo>
                      <a:lnTo>
                        <a:pt x="862" y="1425"/>
                      </a:lnTo>
                      <a:lnTo>
                        <a:pt x="862" y="1413"/>
                      </a:lnTo>
                      <a:lnTo>
                        <a:pt x="862" y="1402"/>
                      </a:lnTo>
                      <a:lnTo>
                        <a:pt x="872" y="1402"/>
                      </a:lnTo>
                      <a:lnTo>
                        <a:pt x="872" y="1379"/>
                      </a:lnTo>
                      <a:lnTo>
                        <a:pt x="882" y="1379"/>
                      </a:lnTo>
                      <a:lnTo>
                        <a:pt x="892" y="1368"/>
                      </a:lnTo>
                      <a:lnTo>
                        <a:pt x="892" y="1356"/>
                      </a:lnTo>
                      <a:lnTo>
                        <a:pt x="902" y="1345"/>
                      </a:lnTo>
                      <a:lnTo>
                        <a:pt x="912" y="1333"/>
                      </a:lnTo>
                      <a:lnTo>
                        <a:pt x="922" y="1311"/>
                      </a:lnTo>
                      <a:lnTo>
                        <a:pt x="912" y="1311"/>
                      </a:lnTo>
                      <a:lnTo>
                        <a:pt x="912" y="1276"/>
                      </a:lnTo>
                      <a:lnTo>
                        <a:pt x="912" y="1254"/>
                      </a:lnTo>
                      <a:lnTo>
                        <a:pt x="912" y="1219"/>
                      </a:lnTo>
                      <a:lnTo>
                        <a:pt x="902" y="1219"/>
                      </a:lnTo>
                      <a:lnTo>
                        <a:pt x="892" y="1219"/>
                      </a:lnTo>
                      <a:lnTo>
                        <a:pt x="882" y="1219"/>
                      </a:lnTo>
                      <a:lnTo>
                        <a:pt x="872" y="1219"/>
                      </a:lnTo>
                      <a:lnTo>
                        <a:pt x="852" y="1231"/>
                      </a:lnTo>
                      <a:lnTo>
                        <a:pt x="832" y="1231"/>
                      </a:lnTo>
                      <a:lnTo>
                        <a:pt x="832" y="1219"/>
                      </a:lnTo>
                      <a:lnTo>
                        <a:pt x="822" y="1219"/>
                      </a:lnTo>
                      <a:lnTo>
                        <a:pt x="812" y="1208"/>
                      </a:lnTo>
                      <a:lnTo>
                        <a:pt x="802" y="1208"/>
                      </a:lnTo>
                      <a:lnTo>
                        <a:pt x="792" y="1197"/>
                      </a:lnTo>
                      <a:lnTo>
                        <a:pt x="792" y="1185"/>
                      </a:lnTo>
                      <a:lnTo>
                        <a:pt x="792" y="1174"/>
                      </a:lnTo>
                      <a:lnTo>
                        <a:pt x="792" y="1162"/>
                      </a:lnTo>
                      <a:lnTo>
                        <a:pt x="782" y="1151"/>
                      </a:lnTo>
                      <a:lnTo>
                        <a:pt x="772" y="1140"/>
                      </a:lnTo>
                      <a:lnTo>
                        <a:pt x="772" y="1128"/>
                      </a:lnTo>
                      <a:lnTo>
                        <a:pt x="762" y="1128"/>
                      </a:lnTo>
                      <a:lnTo>
                        <a:pt x="742" y="1117"/>
                      </a:lnTo>
                      <a:lnTo>
                        <a:pt x="722" y="1117"/>
                      </a:lnTo>
                      <a:lnTo>
                        <a:pt x="702" y="1105"/>
                      </a:lnTo>
                      <a:lnTo>
                        <a:pt x="692" y="1083"/>
                      </a:lnTo>
                      <a:lnTo>
                        <a:pt x="682" y="1071"/>
                      </a:lnTo>
                      <a:lnTo>
                        <a:pt x="661" y="1071"/>
                      </a:lnTo>
                      <a:lnTo>
                        <a:pt x="631" y="1060"/>
                      </a:lnTo>
                      <a:lnTo>
                        <a:pt x="611" y="1060"/>
                      </a:lnTo>
                      <a:lnTo>
                        <a:pt x="581" y="1048"/>
                      </a:lnTo>
                      <a:lnTo>
                        <a:pt x="561" y="1048"/>
                      </a:lnTo>
                      <a:lnTo>
                        <a:pt x="541" y="1026"/>
                      </a:lnTo>
                      <a:lnTo>
                        <a:pt x="521" y="1014"/>
                      </a:lnTo>
                      <a:lnTo>
                        <a:pt x="511" y="991"/>
                      </a:lnTo>
                      <a:lnTo>
                        <a:pt x="511" y="980"/>
                      </a:lnTo>
                      <a:lnTo>
                        <a:pt x="511" y="957"/>
                      </a:lnTo>
                      <a:lnTo>
                        <a:pt x="511" y="934"/>
                      </a:lnTo>
                      <a:lnTo>
                        <a:pt x="501" y="912"/>
                      </a:lnTo>
                      <a:lnTo>
                        <a:pt x="481" y="900"/>
                      </a:lnTo>
                      <a:lnTo>
                        <a:pt x="471" y="889"/>
                      </a:lnTo>
                      <a:lnTo>
                        <a:pt x="471" y="877"/>
                      </a:lnTo>
                      <a:lnTo>
                        <a:pt x="461" y="855"/>
                      </a:lnTo>
                      <a:lnTo>
                        <a:pt x="451" y="843"/>
                      </a:lnTo>
                      <a:lnTo>
                        <a:pt x="441" y="820"/>
                      </a:lnTo>
                      <a:lnTo>
                        <a:pt x="441" y="809"/>
                      </a:lnTo>
                      <a:lnTo>
                        <a:pt x="441" y="786"/>
                      </a:lnTo>
                      <a:lnTo>
                        <a:pt x="441" y="775"/>
                      </a:lnTo>
                      <a:lnTo>
                        <a:pt x="441" y="763"/>
                      </a:lnTo>
                      <a:lnTo>
                        <a:pt x="431" y="763"/>
                      </a:lnTo>
                      <a:lnTo>
                        <a:pt x="421" y="763"/>
                      </a:lnTo>
                      <a:lnTo>
                        <a:pt x="411" y="786"/>
                      </a:lnTo>
                      <a:lnTo>
                        <a:pt x="421" y="809"/>
                      </a:lnTo>
                      <a:lnTo>
                        <a:pt x="431" y="832"/>
                      </a:lnTo>
                      <a:lnTo>
                        <a:pt x="431" y="843"/>
                      </a:lnTo>
                      <a:lnTo>
                        <a:pt x="441" y="877"/>
                      </a:lnTo>
                      <a:lnTo>
                        <a:pt x="451" y="900"/>
                      </a:lnTo>
                      <a:lnTo>
                        <a:pt x="461" y="934"/>
                      </a:lnTo>
                      <a:lnTo>
                        <a:pt x="451" y="934"/>
                      </a:lnTo>
                      <a:lnTo>
                        <a:pt x="441" y="923"/>
                      </a:lnTo>
                      <a:lnTo>
                        <a:pt x="431" y="912"/>
                      </a:lnTo>
                      <a:lnTo>
                        <a:pt x="431" y="900"/>
                      </a:lnTo>
                      <a:lnTo>
                        <a:pt x="431" y="889"/>
                      </a:lnTo>
                      <a:lnTo>
                        <a:pt x="431" y="877"/>
                      </a:lnTo>
                      <a:lnTo>
                        <a:pt x="421" y="866"/>
                      </a:lnTo>
                      <a:lnTo>
                        <a:pt x="401" y="855"/>
                      </a:lnTo>
                      <a:lnTo>
                        <a:pt x="401" y="843"/>
                      </a:lnTo>
                      <a:lnTo>
                        <a:pt x="401" y="832"/>
                      </a:lnTo>
                      <a:lnTo>
                        <a:pt x="411" y="832"/>
                      </a:lnTo>
                      <a:lnTo>
                        <a:pt x="411" y="820"/>
                      </a:lnTo>
                      <a:lnTo>
                        <a:pt x="401" y="809"/>
                      </a:lnTo>
                      <a:lnTo>
                        <a:pt x="401" y="798"/>
                      </a:lnTo>
                      <a:lnTo>
                        <a:pt x="391" y="763"/>
                      </a:lnTo>
                      <a:lnTo>
                        <a:pt x="391" y="741"/>
                      </a:lnTo>
                      <a:lnTo>
                        <a:pt x="381" y="718"/>
                      </a:lnTo>
                      <a:lnTo>
                        <a:pt x="371" y="718"/>
                      </a:lnTo>
                      <a:lnTo>
                        <a:pt x="361" y="718"/>
                      </a:lnTo>
                      <a:lnTo>
                        <a:pt x="351" y="706"/>
                      </a:lnTo>
                      <a:lnTo>
                        <a:pt x="361" y="706"/>
                      </a:lnTo>
                      <a:lnTo>
                        <a:pt x="361" y="695"/>
                      </a:lnTo>
                      <a:lnTo>
                        <a:pt x="361" y="684"/>
                      </a:lnTo>
                      <a:lnTo>
                        <a:pt x="371" y="649"/>
                      </a:lnTo>
                      <a:lnTo>
                        <a:pt x="371" y="627"/>
                      </a:lnTo>
                      <a:lnTo>
                        <a:pt x="361" y="627"/>
                      </a:lnTo>
                      <a:lnTo>
                        <a:pt x="351" y="615"/>
                      </a:lnTo>
                      <a:lnTo>
                        <a:pt x="341" y="615"/>
                      </a:lnTo>
                      <a:lnTo>
                        <a:pt x="341" y="604"/>
                      </a:lnTo>
                      <a:lnTo>
                        <a:pt x="351" y="604"/>
                      </a:lnTo>
                      <a:lnTo>
                        <a:pt x="351" y="592"/>
                      </a:lnTo>
                      <a:lnTo>
                        <a:pt x="351" y="581"/>
                      </a:lnTo>
                      <a:lnTo>
                        <a:pt x="351" y="570"/>
                      </a:lnTo>
                      <a:lnTo>
                        <a:pt x="361" y="558"/>
                      </a:lnTo>
                      <a:lnTo>
                        <a:pt x="361" y="547"/>
                      </a:lnTo>
                      <a:lnTo>
                        <a:pt x="371" y="547"/>
                      </a:lnTo>
                      <a:lnTo>
                        <a:pt x="371" y="535"/>
                      </a:lnTo>
                      <a:lnTo>
                        <a:pt x="371" y="524"/>
                      </a:lnTo>
                      <a:lnTo>
                        <a:pt x="381" y="524"/>
                      </a:lnTo>
                      <a:lnTo>
                        <a:pt x="381" y="513"/>
                      </a:lnTo>
                      <a:lnTo>
                        <a:pt x="401" y="501"/>
                      </a:lnTo>
                      <a:lnTo>
                        <a:pt x="411" y="478"/>
                      </a:lnTo>
                      <a:lnTo>
                        <a:pt x="411" y="467"/>
                      </a:lnTo>
                      <a:lnTo>
                        <a:pt x="411" y="456"/>
                      </a:lnTo>
                      <a:lnTo>
                        <a:pt x="431" y="444"/>
                      </a:lnTo>
                      <a:lnTo>
                        <a:pt x="451" y="433"/>
                      </a:lnTo>
                      <a:lnTo>
                        <a:pt x="441" y="433"/>
                      </a:lnTo>
                      <a:lnTo>
                        <a:pt x="431" y="444"/>
                      </a:lnTo>
                      <a:lnTo>
                        <a:pt x="431" y="456"/>
                      </a:lnTo>
                      <a:lnTo>
                        <a:pt x="451" y="433"/>
                      </a:lnTo>
                      <a:lnTo>
                        <a:pt x="461" y="410"/>
                      </a:lnTo>
                      <a:lnTo>
                        <a:pt x="451" y="376"/>
                      </a:lnTo>
                      <a:lnTo>
                        <a:pt x="441" y="376"/>
                      </a:lnTo>
                      <a:lnTo>
                        <a:pt x="431" y="376"/>
                      </a:lnTo>
                      <a:lnTo>
                        <a:pt x="411" y="376"/>
                      </a:lnTo>
                      <a:lnTo>
                        <a:pt x="421" y="364"/>
                      </a:lnTo>
                      <a:lnTo>
                        <a:pt x="431" y="364"/>
                      </a:lnTo>
                      <a:lnTo>
                        <a:pt x="441" y="353"/>
                      </a:lnTo>
                      <a:lnTo>
                        <a:pt x="441" y="330"/>
                      </a:lnTo>
                      <a:lnTo>
                        <a:pt x="431" y="330"/>
                      </a:lnTo>
                      <a:lnTo>
                        <a:pt x="421" y="319"/>
                      </a:lnTo>
                      <a:lnTo>
                        <a:pt x="431" y="319"/>
                      </a:lnTo>
                      <a:lnTo>
                        <a:pt x="441" y="296"/>
                      </a:lnTo>
                      <a:lnTo>
                        <a:pt x="451" y="285"/>
                      </a:lnTo>
                      <a:lnTo>
                        <a:pt x="441" y="285"/>
                      </a:lnTo>
                      <a:lnTo>
                        <a:pt x="441" y="296"/>
                      </a:lnTo>
                      <a:lnTo>
                        <a:pt x="421" y="307"/>
                      </a:lnTo>
                      <a:lnTo>
                        <a:pt x="421" y="296"/>
                      </a:lnTo>
                      <a:lnTo>
                        <a:pt x="431" y="296"/>
                      </a:lnTo>
                      <a:lnTo>
                        <a:pt x="441" y="285"/>
                      </a:lnTo>
                      <a:lnTo>
                        <a:pt x="431" y="285"/>
                      </a:lnTo>
                      <a:lnTo>
                        <a:pt x="421" y="285"/>
                      </a:lnTo>
                      <a:lnTo>
                        <a:pt x="421" y="273"/>
                      </a:lnTo>
                      <a:lnTo>
                        <a:pt x="431" y="273"/>
                      </a:lnTo>
                      <a:lnTo>
                        <a:pt x="431" y="250"/>
                      </a:lnTo>
                      <a:lnTo>
                        <a:pt x="441" y="239"/>
                      </a:lnTo>
                      <a:lnTo>
                        <a:pt x="441" y="216"/>
                      </a:lnTo>
                      <a:lnTo>
                        <a:pt x="431" y="228"/>
                      </a:lnTo>
                      <a:lnTo>
                        <a:pt x="421" y="239"/>
                      </a:lnTo>
                      <a:lnTo>
                        <a:pt x="411" y="239"/>
                      </a:lnTo>
                      <a:lnTo>
                        <a:pt x="401" y="216"/>
                      </a:lnTo>
                      <a:lnTo>
                        <a:pt x="391" y="205"/>
                      </a:lnTo>
                      <a:lnTo>
                        <a:pt x="381" y="216"/>
                      </a:lnTo>
                      <a:lnTo>
                        <a:pt x="361" y="205"/>
                      </a:lnTo>
                      <a:lnTo>
                        <a:pt x="341" y="193"/>
                      </a:lnTo>
                      <a:lnTo>
                        <a:pt x="311" y="182"/>
                      </a:lnTo>
                      <a:lnTo>
                        <a:pt x="301" y="193"/>
                      </a:lnTo>
                      <a:lnTo>
                        <a:pt x="261" y="216"/>
                      </a:lnTo>
                      <a:lnTo>
                        <a:pt x="231" y="228"/>
                      </a:lnTo>
                      <a:lnTo>
                        <a:pt x="221" y="228"/>
                      </a:lnTo>
                      <a:lnTo>
                        <a:pt x="231" y="205"/>
                      </a:lnTo>
                      <a:lnTo>
                        <a:pt x="271" y="193"/>
                      </a:lnTo>
                      <a:lnTo>
                        <a:pt x="301" y="182"/>
                      </a:lnTo>
                      <a:lnTo>
                        <a:pt x="281" y="182"/>
                      </a:lnTo>
                      <a:lnTo>
                        <a:pt x="281" y="193"/>
                      </a:lnTo>
                      <a:lnTo>
                        <a:pt x="271" y="182"/>
                      </a:lnTo>
                      <a:lnTo>
                        <a:pt x="251" y="193"/>
                      </a:lnTo>
                      <a:lnTo>
                        <a:pt x="231" y="205"/>
                      </a:lnTo>
                      <a:lnTo>
                        <a:pt x="221" y="205"/>
                      </a:lnTo>
                      <a:lnTo>
                        <a:pt x="221" y="216"/>
                      </a:lnTo>
                      <a:lnTo>
                        <a:pt x="211" y="216"/>
                      </a:lnTo>
                      <a:lnTo>
                        <a:pt x="191" y="239"/>
                      </a:lnTo>
                      <a:lnTo>
                        <a:pt x="171" y="250"/>
                      </a:lnTo>
                      <a:lnTo>
                        <a:pt x="151" y="250"/>
                      </a:lnTo>
                      <a:lnTo>
                        <a:pt x="131" y="262"/>
                      </a:lnTo>
                      <a:lnTo>
                        <a:pt x="121" y="262"/>
                      </a:lnTo>
                      <a:lnTo>
                        <a:pt x="101" y="273"/>
                      </a:lnTo>
                      <a:lnTo>
                        <a:pt x="70" y="285"/>
                      </a:lnTo>
                      <a:lnTo>
                        <a:pt x="50" y="296"/>
                      </a:lnTo>
                      <a:lnTo>
                        <a:pt x="20" y="296"/>
                      </a:lnTo>
                      <a:lnTo>
                        <a:pt x="0" y="307"/>
                      </a:lnTo>
                      <a:lnTo>
                        <a:pt x="0" y="296"/>
                      </a:lnTo>
                      <a:lnTo>
                        <a:pt x="10" y="296"/>
                      </a:lnTo>
                      <a:lnTo>
                        <a:pt x="20" y="285"/>
                      </a:lnTo>
                      <a:lnTo>
                        <a:pt x="40" y="285"/>
                      </a:lnTo>
                      <a:lnTo>
                        <a:pt x="50" y="285"/>
                      </a:lnTo>
                      <a:lnTo>
                        <a:pt x="60" y="285"/>
                      </a:lnTo>
                      <a:lnTo>
                        <a:pt x="80" y="273"/>
                      </a:lnTo>
                      <a:lnTo>
                        <a:pt x="90" y="262"/>
                      </a:lnTo>
                      <a:lnTo>
                        <a:pt x="101" y="262"/>
                      </a:lnTo>
                      <a:lnTo>
                        <a:pt x="111" y="262"/>
                      </a:lnTo>
                      <a:lnTo>
                        <a:pt x="121" y="250"/>
                      </a:lnTo>
                      <a:lnTo>
                        <a:pt x="131" y="250"/>
                      </a:lnTo>
                      <a:lnTo>
                        <a:pt x="141" y="239"/>
                      </a:lnTo>
                      <a:lnTo>
                        <a:pt x="151" y="239"/>
                      </a:lnTo>
                      <a:lnTo>
                        <a:pt x="161" y="228"/>
                      </a:lnTo>
                      <a:lnTo>
                        <a:pt x="151" y="228"/>
                      </a:lnTo>
                      <a:lnTo>
                        <a:pt x="141" y="228"/>
                      </a:lnTo>
                      <a:lnTo>
                        <a:pt x="131" y="239"/>
                      </a:lnTo>
                      <a:lnTo>
                        <a:pt x="121" y="239"/>
                      </a:lnTo>
                      <a:lnTo>
                        <a:pt x="121" y="228"/>
                      </a:lnTo>
                      <a:lnTo>
                        <a:pt x="111" y="228"/>
                      </a:lnTo>
                      <a:lnTo>
                        <a:pt x="101" y="228"/>
                      </a:lnTo>
                      <a:lnTo>
                        <a:pt x="101" y="216"/>
                      </a:lnTo>
                      <a:lnTo>
                        <a:pt x="111" y="205"/>
                      </a:lnTo>
                      <a:lnTo>
                        <a:pt x="121" y="193"/>
                      </a:lnTo>
                      <a:lnTo>
                        <a:pt x="111" y="193"/>
                      </a:lnTo>
                      <a:lnTo>
                        <a:pt x="90" y="216"/>
                      </a:lnTo>
                      <a:lnTo>
                        <a:pt x="80" y="216"/>
                      </a:lnTo>
                      <a:lnTo>
                        <a:pt x="90" y="205"/>
                      </a:lnTo>
                      <a:lnTo>
                        <a:pt x="101" y="205"/>
                      </a:lnTo>
                      <a:lnTo>
                        <a:pt x="111" y="193"/>
                      </a:lnTo>
                      <a:lnTo>
                        <a:pt x="101" y="182"/>
                      </a:lnTo>
                      <a:lnTo>
                        <a:pt x="90" y="182"/>
                      </a:lnTo>
                      <a:lnTo>
                        <a:pt x="111" y="171"/>
                      </a:lnTo>
                      <a:lnTo>
                        <a:pt x="121" y="159"/>
                      </a:lnTo>
                      <a:lnTo>
                        <a:pt x="141" y="148"/>
                      </a:lnTo>
                      <a:lnTo>
                        <a:pt x="151" y="148"/>
                      </a:lnTo>
                      <a:lnTo>
                        <a:pt x="171" y="148"/>
                      </a:lnTo>
                      <a:lnTo>
                        <a:pt x="191" y="136"/>
                      </a:lnTo>
                      <a:lnTo>
                        <a:pt x="211" y="125"/>
                      </a:lnTo>
                      <a:lnTo>
                        <a:pt x="201" y="125"/>
                      </a:lnTo>
                      <a:lnTo>
                        <a:pt x="181" y="136"/>
                      </a:lnTo>
                      <a:lnTo>
                        <a:pt x="171" y="125"/>
                      </a:lnTo>
                      <a:lnTo>
                        <a:pt x="161" y="125"/>
                      </a:lnTo>
                      <a:lnTo>
                        <a:pt x="151" y="114"/>
                      </a:lnTo>
                      <a:lnTo>
                        <a:pt x="141" y="102"/>
                      </a:lnTo>
                      <a:lnTo>
                        <a:pt x="161" y="91"/>
                      </a:lnTo>
                      <a:lnTo>
                        <a:pt x="181" y="91"/>
                      </a:lnTo>
                      <a:lnTo>
                        <a:pt x="211" y="91"/>
                      </a:lnTo>
                      <a:lnTo>
                        <a:pt x="241" y="91"/>
                      </a:lnTo>
                      <a:lnTo>
                        <a:pt x="251" y="91"/>
                      </a:lnTo>
                      <a:lnTo>
                        <a:pt x="251" y="102"/>
                      </a:lnTo>
                      <a:lnTo>
                        <a:pt x="261" y="91"/>
                      </a:lnTo>
                      <a:lnTo>
                        <a:pt x="241" y="79"/>
                      </a:lnTo>
                      <a:lnTo>
                        <a:pt x="231" y="79"/>
                      </a:lnTo>
                      <a:lnTo>
                        <a:pt x="221" y="68"/>
                      </a:lnTo>
                      <a:lnTo>
                        <a:pt x="221" y="57"/>
                      </a:lnTo>
                      <a:lnTo>
                        <a:pt x="231" y="57"/>
                      </a:lnTo>
                      <a:lnTo>
                        <a:pt x="241" y="57"/>
                      </a:lnTo>
                      <a:lnTo>
                        <a:pt x="261" y="45"/>
                      </a:lnTo>
                      <a:lnTo>
                        <a:pt x="301" y="45"/>
                      </a:lnTo>
                      <a:lnTo>
                        <a:pt x="321" y="34"/>
                      </a:lnTo>
                      <a:lnTo>
                        <a:pt x="341" y="34"/>
                      </a:lnTo>
                      <a:lnTo>
                        <a:pt x="361" y="22"/>
                      </a:lnTo>
                      <a:lnTo>
                        <a:pt x="381" y="22"/>
                      </a:lnTo>
                      <a:lnTo>
                        <a:pt x="391" y="22"/>
                      </a:lnTo>
                      <a:lnTo>
                        <a:pt x="401" y="11"/>
                      </a:lnTo>
                      <a:lnTo>
                        <a:pt x="411" y="11"/>
                      </a:lnTo>
                      <a:lnTo>
                        <a:pt x="401" y="22"/>
                      </a:lnTo>
                      <a:lnTo>
                        <a:pt x="411" y="22"/>
                      </a:lnTo>
                      <a:lnTo>
                        <a:pt x="421" y="22"/>
                      </a:lnTo>
                      <a:lnTo>
                        <a:pt x="411" y="22"/>
                      </a:lnTo>
                      <a:lnTo>
                        <a:pt x="421" y="22"/>
                      </a:lnTo>
                      <a:lnTo>
                        <a:pt x="431" y="34"/>
                      </a:lnTo>
                      <a:lnTo>
                        <a:pt x="461" y="34"/>
                      </a:lnTo>
                      <a:lnTo>
                        <a:pt x="481" y="34"/>
                      </a:lnTo>
                      <a:lnTo>
                        <a:pt x="511" y="45"/>
                      </a:lnTo>
                      <a:lnTo>
                        <a:pt x="531" y="57"/>
                      </a:lnTo>
                      <a:lnTo>
                        <a:pt x="561" y="57"/>
                      </a:lnTo>
                      <a:lnTo>
                        <a:pt x="591" y="57"/>
                      </a:lnTo>
                      <a:lnTo>
                        <a:pt x="601" y="57"/>
                      </a:lnTo>
                      <a:lnTo>
                        <a:pt x="611" y="57"/>
                      </a:lnTo>
                      <a:lnTo>
                        <a:pt x="621" y="45"/>
                      </a:lnTo>
                      <a:lnTo>
                        <a:pt x="631" y="45"/>
                      </a:lnTo>
                      <a:lnTo>
                        <a:pt x="621" y="45"/>
                      </a:lnTo>
                      <a:lnTo>
                        <a:pt x="611" y="45"/>
                      </a:lnTo>
                      <a:lnTo>
                        <a:pt x="611" y="57"/>
                      </a:lnTo>
                      <a:lnTo>
                        <a:pt x="641" y="57"/>
                      </a:lnTo>
                      <a:lnTo>
                        <a:pt x="661" y="45"/>
                      </a:lnTo>
                      <a:lnTo>
                        <a:pt x="682" y="34"/>
                      </a:lnTo>
                      <a:lnTo>
                        <a:pt x="692" y="45"/>
                      </a:lnTo>
                      <a:lnTo>
                        <a:pt x="702" y="45"/>
                      </a:lnTo>
                      <a:lnTo>
                        <a:pt x="712" y="45"/>
                      </a:lnTo>
                      <a:lnTo>
                        <a:pt x="722" y="34"/>
                      </a:lnTo>
                      <a:lnTo>
                        <a:pt x="732" y="34"/>
                      </a:lnTo>
                      <a:lnTo>
                        <a:pt x="722" y="45"/>
                      </a:lnTo>
                      <a:lnTo>
                        <a:pt x="732" y="45"/>
                      </a:lnTo>
                      <a:lnTo>
                        <a:pt x="742" y="45"/>
                      </a:lnTo>
                      <a:lnTo>
                        <a:pt x="762" y="45"/>
                      </a:lnTo>
                      <a:lnTo>
                        <a:pt x="782" y="45"/>
                      </a:lnTo>
                      <a:lnTo>
                        <a:pt x="792" y="57"/>
                      </a:lnTo>
                      <a:lnTo>
                        <a:pt x="802" y="57"/>
                      </a:lnTo>
                      <a:lnTo>
                        <a:pt x="812" y="57"/>
                      </a:lnTo>
                      <a:lnTo>
                        <a:pt x="822" y="57"/>
                      </a:lnTo>
                      <a:lnTo>
                        <a:pt x="812" y="68"/>
                      </a:lnTo>
                      <a:lnTo>
                        <a:pt x="802" y="68"/>
                      </a:lnTo>
                      <a:lnTo>
                        <a:pt x="802" y="79"/>
                      </a:lnTo>
                      <a:lnTo>
                        <a:pt x="812" y="79"/>
                      </a:lnTo>
                      <a:lnTo>
                        <a:pt x="822" y="79"/>
                      </a:lnTo>
                      <a:lnTo>
                        <a:pt x="842" y="79"/>
                      </a:lnTo>
                      <a:lnTo>
                        <a:pt x="852" y="91"/>
                      </a:lnTo>
                      <a:lnTo>
                        <a:pt x="872" y="102"/>
                      </a:lnTo>
                      <a:lnTo>
                        <a:pt x="872" y="91"/>
                      </a:lnTo>
                      <a:lnTo>
                        <a:pt x="892" y="79"/>
                      </a:lnTo>
                      <a:lnTo>
                        <a:pt x="902" y="68"/>
                      </a:lnTo>
                      <a:lnTo>
                        <a:pt x="922" y="57"/>
                      </a:lnTo>
                      <a:lnTo>
                        <a:pt x="932" y="68"/>
                      </a:lnTo>
                      <a:lnTo>
                        <a:pt x="942" y="79"/>
                      </a:lnTo>
                      <a:lnTo>
                        <a:pt x="962" y="79"/>
                      </a:lnTo>
                      <a:lnTo>
                        <a:pt x="972" y="79"/>
                      </a:lnTo>
                      <a:lnTo>
                        <a:pt x="982" y="79"/>
                      </a:lnTo>
                      <a:lnTo>
                        <a:pt x="992" y="68"/>
                      </a:lnTo>
                      <a:lnTo>
                        <a:pt x="1002" y="68"/>
                      </a:lnTo>
                      <a:lnTo>
                        <a:pt x="1002" y="57"/>
                      </a:lnTo>
                      <a:lnTo>
                        <a:pt x="1012" y="68"/>
                      </a:lnTo>
                      <a:lnTo>
                        <a:pt x="1012" y="79"/>
                      </a:lnTo>
                      <a:lnTo>
                        <a:pt x="1002" y="91"/>
                      </a:lnTo>
                      <a:lnTo>
                        <a:pt x="1012" y="91"/>
                      </a:lnTo>
                      <a:lnTo>
                        <a:pt x="1012" y="79"/>
                      </a:lnTo>
                      <a:lnTo>
                        <a:pt x="1022" y="79"/>
                      </a:lnTo>
                      <a:lnTo>
                        <a:pt x="1032" y="68"/>
                      </a:lnTo>
                      <a:lnTo>
                        <a:pt x="1042" y="68"/>
                      </a:lnTo>
                      <a:lnTo>
                        <a:pt x="1052" y="57"/>
                      </a:lnTo>
                      <a:lnTo>
                        <a:pt x="1042" y="45"/>
                      </a:lnTo>
                      <a:lnTo>
                        <a:pt x="1042" y="34"/>
                      </a:lnTo>
                      <a:lnTo>
                        <a:pt x="1052" y="34"/>
                      </a:lnTo>
                      <a:lnTo>
                        <a:pt x="1062" y="22"/>
                      </a:lnTo>
                      <a:lnTo>
                        <a:pt x="1072" y="11"/>
                      </a:lnTo>
                      <a:lnTo>
                        <a:pt x="1082" y="0"/>
                      </a:lnTo>
                      <a:lnTo>
                        <a:pt x="1082" y="11"/>
                      </a:lnTo>
                      <a:lnTo>
                        <a:pt x="1072" y="34"/>
                      </a:lnTo>
                      <a:lnTo>
                        <a:pt x="1072" y="45"/>
                      </a:lnTo>
                      <a:lnTo>
                        <a:pt x="1082" y="45"/>
                      </a:lnTo>
                      <a:lnTo>
                        <a:pt x="1102" y="45"/>
                      </a:lnTo>
                      <a:lnTo>
                        <a:pt x="1112" y="45"/>
                      </a:lnTo>
                      <a:lnTo>
                        <a:pt x="1112" y="57"/>
                      </a:lnTo>
                      <a:lnTo>
                        <a:pt x="1112" y="79"/>
                      </a:lnTo>
                      <a:lnTo>
                        <a:pt x="1132" y="79"/>
                      </a:lnTo>
                      <a:lnTo>
                        <a:pt x="1142" y="68"/>
                      </a:lnTo>
                      <a:lnTo>
                        <a:pt x="1142" y="57"/>
                      </a:lnTo>
                      <a:lnTo>
                        <a:pt x="1152" y="34"/>
                      </a:lnTo>
                      <a:lnTo>
                        <a:pt x="1172" y="34"/>
                      </a:lnTo>
                      <a:lnTo>
                        <a:pt x="1182" y="45"/>
                      </a:lnTo>
                      <a:lnTo>
                        <a:pt x="1192" y="45"/>
                      </a:lnTo>
                      <a:lnTo>
                        <a:pt x="1192" y="57"/>
                      </a:lnTo>
                      <a:lnTo>
                        <a:pt x="1182" y="57"/>
                      </a:lnTo>
                      <a:lnTo>
                        <a:pt x="1182" y="68"/>
                      </a:lnTo>
                      <a:lnTo>
                        <a:pt x="1182" y="79"/>
                      </a:lnTo>
                      <a:lnTo>
                        <a:pt x="1172" y="91"/>
                      </a:lnTo>
                      <a:lnTo>
                        <a:pt x="1162" y="91"/>
                      </a:lnTo>
                      <a:lnTo>
                        <a:pt x="1152" y="102"/>
                      </a:lnTo>
                      <a:lnTo>
                        <a:pt x="1142" y="102"/>
                      </a:lnTo>
                      <a:lnTo>
                        <a:pt x="1142" y="91"/>
                      </a:lnTo>
                      <a:lnTo>
                        <a:pt x="1132" y="91"/>
                      </a:lnTo>
                      <a:lnTo>
                        <a:pt x="1142" y="102"/>
                      </a:lnTo>
                      <a:lnTo>
                        <a:pt x="1132" y="102"/>
                      </a:lnTo>
                      <a:lnTo>
                        <a:pt x="1112" y="102"/>
                      </a:lnTo>
                      <a:lnTo>
                        <a:pt x="1102" y="114"/>
                      </a:lnTo>
                      <a:lnTo>
                        <a:pt x="1082" y="114"/>
                      </a:lnTo>
                      <a:lnTo>
                        <a:pt x="1072" y="114"/>
                      </a:lnTo>
                      <a:lnTo>
                        <a:pt x="1072" y="102"/>
                      </a:lnTo>
                      <a:lnTo>
                        <a:pt x="1062" y="102"/>
                      </a:lnTo>
                      <a:lnTo>
                        <a:pt x="1052" y="102"/>
                      </a:lnTo>
                      <a:lnTo>
                        <a:pt x="1042" y="102"/>
                      </a:lnTo>
                      <a:lnTo>
                        <a:pt x="1062" y="114"/>
                      </a:lnTo>
                      <a:lnTo>
                        <a:pt x="1082" y="114"/>
                      </a:lnTo>
                      <a:lnTo>
                        <a:pt x="1092" y="114"/>
                      </a:lnTo>
                      <a:lnTo>
                        <a:pt x="1082" y="125"/>
                      </a:lnTo>
                      <a:lnTo>
                        <a:pt x="1072" y="136"/>
                      </a:lnTo>
                      <a:lnTo>
                        <a:pt x="1052" y="136"/>
                      </a:lnTo>
                      <a:lnTo>
                        <a:pt x="1042" y="136"/>
                      </a:lnTo>
                      <a:lnTo>
                        <a:pt x="1042" y="148"/>
                      </a:lnTo>
                      <a:lnTo>
                        <a:pt x="1032" y="148"/>
                      </a:lnTo>
                      <a:lnTo>
                        <a:pt x="1022" y="136"/>
                      </a:lnTo>
                      <a:lnTo>
                        <a:pt x="1012" y="136"/>
                      </a:lnTo>
                      <a:lnTo>
                        <a:pt x="1002" y="136"/>
                      </a:lnTo>
                      <a:lnTo>
                        <a:pt x="1012" y="148"/>
                      </a:lnTo>
                      <a:lnTo>
                        <a:pt x="1022" y="159"/>
                      </a:lnTo>
                      <a:lnTo>
                        <a:pt x="1012" y="159"/>
                      </a:lnTo>
                      <a:lnTo>
                        <a:pt x="1002" y="159"/>
                      </a:lnTo>
                      <a:lnTo>
                        <a:pt x="992" y="159"/>
                      </a:lnTo>
                      <a:lnTo>
                        <a:pt x="982" y="171"/>
                      </a:lnTo>
                      <a:lnTo>
                        <a:pt x="962" y="182"/>
                      </a:lnTo>
                      <a:lnTo>
                        <a:pt x="942" y="205"/>
                      </a:lnTo>
                      <a:lnTo>
                        <a:pt x="932" y="239"/>
                      </a:lnTo>
                      <a:lnTo>
                        <a:pt x="942" y="250"/>
                      </a:lnTo>
                      <a:lnTo>
                        <a:pt x="952" y="250"/>
                      </a:lnTo>
                      <a:lnTo>
                        <a:pt x="962" y="262"/>
                      </a:lnTo>
                      <a:lnTo>
                        <a:pt x="972" y="273"/>
                      </a:lnTo>
                      <a:lnTo>
                        <a:pt x="992" y="285"/>
                      </a:lnTo>
                      <a:lnTo>
                        <a:pt x="1012" y="307"/>
                      </a:lnTo>
                      <a:lnTo>
                        <a:pt x="1012" y="296"/>
                      </a:lnTo>
                      <a:lnTo>
                        <a:pt x="1032" y="296"/>
                      </a:lnTo>
                      <a:lnTo>
                        <a:pt x="1042" y="296"/>
                      </a:lnTo>
                      <a:lnTo>
                        <a:pt x="1052" y="296"/>
                      </a:lnTo>
                      <a:lnTo>
                        <a:pt x="1052" y="307"/>
                      </a:lnTo>
                      <a:lnTo>
                        <a:pt x="1042" y="319"/>
                      </a:lnTo>
                      <a:lnTo>
                        <a:pt x="1032" y="342"/>
                      </a:lnTo>
                      <a:lnTo>
                        <a:pt x="1032" y="353"/>
                      </a:lnTo>
                      <a:lnTo>
                        <a:pt x="1032" y="364"/>
                      </a:lnTo>
                      <a:lnTo>
                        <a:pt x="1042" y="376"/>
                      </a:lnTo>
                      <a:lnTo>
                        <a:pt x="1052" y="387"/>
                      </a:lnTo>
                      <a:lnTo>
                        <a:pt x="1052" y="376"/>
                      </a:lnTo>
                      <a:lnTo>
                        <a:pt x="1052" y="364"/>
                      </a:lnTo>
                      <a:lnTo>
                        <a:pt x="1062" y="364"/>
                      </a:lnTo>
                      <a:lnTo>
                        <a:pt x="1072" y="364"/>
                      </a:lnTo>
                      <a:lnTo>
                        <a:pt x="1072" y="353"/>
                      </a:lnTo>
                      <a:lnTo>
                        <a:pt x="1072" y="342"/>
                      </a:lnTo>
                      <a:lnTo>
                        <a:pt x="1072" y="319"/>
                      </a:lnTo>
                      <a:lnTo>
                        <a:pt x="1082" y="307"/>
                      </a:lnTo>
                      <a:lnTo>
                        <a:pt x="1092" y="296"/>
                      </a:lnTo>
                      <a:lnTo>
                        <a:pt x="1122" y="285"/>
                      </a:lnTo>
                      <a:lnTo>
                        <a:pt x="1142" y="262"/>
                      </a:lnTo>
                      <a:lnTo>
                        <a:pt x="1142" y="250"/>
                      </a:lnTo>
                      <a:lnTo>
                        <a:pt x="1132" y="239"/>
                      </a:lnTo>
                      <a:lnTo>
                        <a:pt x="1122" y="239"/>
                      </a:lnTo>
                      <a:lnTo>
                        <a:pt x="1132" y="228"/>
                      </a:lnTo>
                      <a:lnTo>
                        <a:pt x="1142" y="228"/>
                      </a:lnTo>
                      <a:lnTo>
                        <a:pt x="1142" y="216"/>
                      </a:lnTo>
                      <a:lnTo>
                        <a:pt x="1152" y="205"/>
                      </a:lnTo>
                      <a:lnTo>
                        <a:pt x="1162" y="182"/>
                      </a:lnTo>
                      <a:lnTo>
                        <a:pt x="1162" y="171"/>
                      </a:lnTo>
                      <a:lnTo>
                        <a:pt x="1172" y="171"/>
                      </a:lnTo>
                      <a:lnTo>
                        <a:pt x="1172" y="159"/>
                      </a:lnTo>
                      <a:lnTo>
                        <a:pt x="1202" y="171"/>
                      </a:lnTo>
                      <a:lnTo>
                        <a:pt x="1232" y="182"/>
                      </a:lnTo>
                      <a:lnTo>
                        <a:pt x="1263" y="193"/>
                      </a:lnTo>
                      <a:lnTo>
                        <a:pt x="1253" y="193"/>
                      </a:lnTo>
                      <a:lnTo>
                        <a:pt x="1242" y="205"/>
                      </a:lnTo>
                      <a:lnTo>
                        <a:pt x="1232" y="205"/>
                      </a:lnTo>
                      <a:lnTo>
                        <a:pt x="1232" y="216"/>
                      </a:lnTo>
                      <a:lnTo>
                        <a:pt x="1253" y="228"/>
                      </a:lnTo>
                      <a:lnTo>
                        <a:pt x="1253" y="239"/>
                      </a:lnTo>
                      <a:lnTo>
                        <a:pt x="1253" y="250"/>
                      </a:lnTo>
                      <a:lnTo>
                        <a:pt x="1232" y="250"/>
                      </a:lnTo>
                      <a:lnTo>
                        <a:pt x="1253" y="250"/>
                      </a:lnTo>
                      <a:lnTo>
                        <a:pt x="1273" y="239"/>
                      </a:lnTo>
                      <a:lnTo>
                        <a:pt x="1283" y="228"/>
                      </a:lnTo>
                      <a:lnTo>
                        <a:pt x="1293" y="216"/>
                      </a:lnTo>
                      <a:lnTo>
                        <a:pt x="1303" y="216"/>
                      </a:lnTo>
                      <a:lnTo>
                        <a:pt x="1313" y="205"/>
                      </a:lnTo>
                      <a:lnTo>
                        <a:pt x="1313" y="216"/>
                      </a:lnTo>
                      <a:lnTo>
                        <a:pt x="1313" y="239"/>
                      </a:lnTo>
                      <a:lnTo>
                        <a:pt x="1323" y="273"/>
                      </a:lnTo>
                      <a:lnTo>
                        <a:pt x="1333" y="296"/>
                      </a:lnTo>
                      <a:lnTo>
                        <a:pt x="1343" y="307"/>
                      </a:lnTo>
                      <a:lnTo>
                        <a:pt x="1353" y="307"/>
                      </a:lnTo>
                      <a:lnTo>
                        <a:pt x="1363" y="307"/>
                      </a:lnTo>
                      <a:lnTo>
                        <a:pt x="1363" y="319"/>
                      </a:lnTo>
                      <a:lnTo>
                        <a:pt x="1353" y="319"/>
                      </a:lnTo>
                      <a:lnTo>
                        <a:pt x="1343" y="319"/>
                      </a:lnTo>
                      <a:lnTo>
                        <a:pt x="1333" y="330"/>
                      </a:lnTo>
                      <a:lnTo>
                        <a:pt x="1313" y="330"/>
                      </a:lnTo>
                      <a:lnTo>
                        <a:pt x="1323" y="330"/>
                      </a:lnTo>
                      <a:lnTo>
                        <a:pt x="1333" y="330"/>
                      </a:lnTo>
                      <a:lnTo>
                        <a:pt x="1343" y="330"/>
                      </a:lnTo>
                      <a:lnTo>
                        <a:pt x="1353" y="319"/>
                      </a:lnTo>
                      <a:lnTo>
                        <a:pt x="1363" y="330"/>
                      </a:lnTo>
                      <a:lnTo>
                        <a:pt x="1373" y="342"/>
                      </a:lnTo>
                      <a:lnTo>
                        <a:pt x="1373" y="353"/>
                      </a:lnTo>
                      <a:lnTo>
                        <a:pt x="1353" y="364"/>
                      </a:lnTo>
                      <a:lnTo>
                        <a:pt x="1343" y="364"/>
                      </a:lnTo>
                      <a:lnTo>
                        <a:pt x="1333" y="376"/>
                      </a:lnTo>
                      <a:lnTo>
                        <a:pt x="1323" y="376"/>
                      </a:lnTo>
                      <a:lnTo>
                        <a:pt x="1313" y="387"/>
                      </a:lnTo>
                      <a:lnTo>
                        <a:pt x="1303" y="387"/>
                      </a:lnTo>
                      <a:lnTo>
                        <a:pt x="1293" y="399"/>
                      </a:lnTo>
                      <a:lnTo>
                        <a:pt x="1283" y="399"/>
                      </a:lnTo>
                      <a:lnTo>
                        <a:pt x="1253" y="399"/>
                      </a:lnTo>
                      <a:lnTo>
                        <a:pt x="1212" y="410"/>
                      </a:lnTo>
                      <a:lnTo>
                        <a:pt x="1182" y="410"/>
                      </a:lnTo>
                      <a:lnTo>
                        <a:pt x="1172" y="421"/>
                      </a:lnTo>
                      <a:lnTo>
                        <a:pt x="1162" y="433"/>
                      </a:lnTo>
                      <a:lnTo>
                        <a:pt x="1152" y="444"/>
                      </a:lnTo>
                      <a:lnTo>
                        <a:pt x="1142" y="444"/>
                      </a:lnTo>
                      <a:lnTo>
                        <a:pt x="1132" y="456"/>
                      </a:lnTo>
                      <a:lnTo>
                        <a:pt x="1142" y="456"/>
                      </a:lnTo>
                      <a:lnTo>
                        <a:pt x="1152" y="444"/>
                      </a:lnTo>
                      <a:lnTo>
                        <a:pt x="1162" y="444"/>
                      </a:lnTo>
                      <a:lnTo>
                        <a:pt x="1162" y="433"/>
                      </a:lnTo>
                      <a:lnTo>
                        <a:pt x="1182" y="421"/>
                      </a:lnTo>
                      <a:lnTo>
                        <a:pt x="1202" y="410"/>
                      </a:lnTo>
                      <a:lnTo>
                        <a:pt x="1222" y="410"/>
                      </a:lnTo>
                      <a:lnTo>
                        <a:pt x="1232" y="410"/>
                      </a:lnTo>
                      <a:lnTo>
                        <a:pt x="1242" y="421"/>
                      </a:lnTo>
                      <a:lnTo>
                        <a:pt x="1222" y="433"/>
                      </a:lnTo>
                      <a:lnTo>
                        <a:pt x="1212" y="433"/>
                      </a:lnTo>
                      <a:lnTo>
                        <a:pt x="1202" y="433"/>
                      </a:lnTo>
                      <a:lnTo>
                        <a:pt x="1212" y="433"/>
                      </a:lnTo>
                      <a:lnTo>
                        <a:pt x="1232" y="444"/>
                      </a:lnTo>
                      <a:lnTo>
                        <a:pt x="1232" y="456"/>
                      </a:lnTo>
                      <a:lnTo>
                        <a:pt x="1232" y="467"/>
                      </a:lnTo>
                      <a:lnTo>
                        <a:pt x="1232" y="478"/>
                      </a:lnTo>
                      <a:lnTo>
                        <a:pt x="1242" y="478"/>
                      </a:lnTo>
                      <a:lnTo>
                        <a:pt x="1253" y="478"/>
                      </a:lnTo>
                      <a:lnTo>
                        <a:pt x="1263" y="478"/>
                      </a:lnTo>
                      <a:lnTo>
                        <a:pt x="1263" y="490"/>
                      </a:lnTo>
                      <a:lnTo>
                        <a:pt x="1253" y="490"/>
                      </a:lnTo>
                      <a:lnTo>
                        <a:pt x="1242" y="490"/>
                      </a:lnTo>
                      <a:lnTo>
                        <a:pt x="1232" y="501"/>
                      </a:lnTo>
                      <a:lnTo>
                        <a:pt x="1222" y="513"/>
                      </a:lnTo>
                      <a:lnTo>
                        <a:pt x="1212" y="513"/>
                      </a:lnTo>
                      <a:lnTo>
                        <a:pt x="1192" y="524"/>
                      </a:lnTo>
                      <a:lnTo>
                        <a:pt x="1192" y="513"/>
                      </a:lnTo>
                      <a:lnTo>
                        <a:pt x="1192" y="501"/>
                      </a:lnTo>
                      <a:lnTo>
                        <a:pt x="1202" y="501"/>
                      </a:lnTo>
                      <a:lnTo>
                        <a:pt x="1222" y="490"/>
                      </a:lnTo>
                      <a:lnTo>
                        <a:pt x="1232" y="490"/>
                      </a:lnTo>
                      <a:lnTo>
                        <a:pt x="1232" y="478"/>
                      </a:lnTo>
                      <a:lnTo>
                        <a:pt x="1222" y="478"/>
                      </a:lnTo>
                      <a:lnTo>
                        <a:pt x="1222" y="467"/>
                      </a:lnTo>
                      <a:lnTo>
                        <a:pt x="1212" y="478"/>
                      </a:lnTo>
                      <a:lnTo>
                        <a:pt x="1202" y="478"/>
                      </a:lnTo>
                      <a:lnTo>
                        <a:pt x="1202" y="490"/>
                      </a:lnTo>
                      <a:lnTo>
                        <a:pt x="1192" y="490"/>
                      </a:lnTo>
                      <a:lnTo>
                        <a:pt x="1182" y="490"/>
                      </a:lnTo>
                      <a:lnTo>
                        <a:pt x="1172" y="490"/>
                      </a:lnTo>
                      <a:lnTo>
                        <a:pt x="1172" y="501"/>
                      </a:lnTo>
                      <a:lnTo>
                        <a:pt x="1162" y="501"/>
                      </a:lnTo>
                      <a:lnTo>
                        <a:pt x="1142" y="513"/>
                      </a:lnTo>
                      <a:lnTo>
                        <a:pt x="1132" y="524"/>
                      </a:lnTo>
                      <a:lnTo>
                        <a:pt x="1122" y="535"/>
                      </a:lnTo>
                      <a:lnTo>
                        <a:pt x="1112" y="535"/>
                      </a:lnTo>
                      <a:lnTo>
                        <a:pt x="1112" y="547"/>
                      </a:lnTo>
                      <a:lnTo>
                        <a:pt x="1102" y="558"/>
                      </a:lnTo>
                      <a:lnTo>
                        <a:pt x="1092" y="570"/>
                      </a:lnTo>
                      <a:lnTo>
                        <a:pt x="1072" y="570"/>
                      </a:lnTo>
                      <a:lnTo>
                        <a:pt x="1052" y="581"/>
                      </a:lnTo>
                      <a:lnTo>
                        <a:pt x="1052" y="592"/>
                      </a:lnTo>
                      <a:lnTo>
                        <a:pt x="1042" y="604"/>
                      </a:lnTo>
                      <a:lnTo>
                        <a:pt x="1042" y="615"/>
                      </a:lnTo>
                      <a:lnTo>
                        <a:pt x="1042" y="604"/>
                      </a:lnTo>
                      <a:lnTo>
                        <a:pt x="1042" y="592"/>
                      </a:lnTo>
                      <a:lnTo>
                        <a:pt x="1032" y="604"/>
                      </a:lnTo>
                      <a:lnTo>
                        <a:pt x="1032" y="615"/>
                      </a:lnTo>
                      <a:lnTo>
                        <a:pt x="1022" y="627"/>
                      </a:lnTo>
                      <a:lnTo>
                        <a:pt x="1022" y="638"/>
                      </a:lnTo>
                      <a:lnTo>
                        <a:pt x="1022" y="649"/>
                      </a:lnTo>
                      <a:lnTo>
                        <a:pt x="1012" y="649"/>
                      </a:lnTo>
                      <a:lnTo>
                        <a:pt x="1012" y="638"/>
                      </a:lnTo>
                      <a:lnTo>
                        <a:pt x="1012" y="627"/>
                      </a:lnTo>
                      <a:lnTo>
                        <a:pt x="1002" y="615"/>
                      </a:lnTo>
                      <a:lnTo>
                        <a:pt x="1012" y="627"/>
                      </a:lnTo>
                      <a:lnTo>
                        <a:pt x="1012" y="638"/>
                      </a:lnTo>
                      <a:lnTo>
                        <a:pt x="1012" y="672"/>
                      </a:lnTo>
                      <a:lnTo>
                        <a:pt x="1012" y="684"/>
                      </a:lnTo>
                      <a:lnTo>
                        <a:pt x="1002" y="684"/>
                      </a:lnTo>
                      <a:lnTo>
                        <a:pt x="992" y="684"/>
                      </a:lnTo>
                      <a:lnTo>
                        <a:pt x="1002" y="684"/>
                      </a:lnTo>
                      <a:lnTo>
                        <a:pt x="1012" y="684"/>
                      </a:lnTo>
                      <a:lnTo>
                        <a:pt x="1002" y="695"/>
                      </a:lnTo>
                      <a:lnTo>
                        <a:pt x="982" y="718"/>
                      </a:lnTo>
                      <a:lnTo>
                        <a:pt x="952" y="729"/>
                      </a:lnTo>
                      <a:lnTo>
                        <a:pt x="932" y="752"/>
                      </a:lnTo>
                      <a:lnTo>
                        <a:pt x="912" y="763"/>
                      </a:lnTo>
                      <a:lnTo>
                        <a:pt x="902" y="786"/>
                      </a:lnTo>
                      <a:lnTo>
                        <a:pt x="902" y="809"/>
                      </a:lnTo>
                      <a:lnTo>
                        <a:pt x="912" y="832"/>
                      </a:lnTo>
                      <a:lnTo>
                        <a:pt x="912" y="843"/>
                      </a:lnTo>
                      <a:lnTo>
                        <a:pt x="912" y="855"/>
                      </a:lnTo>
                      <a:lnTo>
                        <a:pt x="912" y="866"/>
                      </a:lnTo>
                      <a:lnTo>
                        <a:pt x="892" y="900"/>
                      </a:lnTo>
                      <a:lnTo>
                        <a:pt x="892" y="889"/>
                      </a:lnTo>
                      <a:lnTo>
                        <a:pt x="892" y="877"/>
                      </a:lnTo>
                      <a:lnTo>
                        <a:pt x="882" y="877"/>
                      </a:lnTo>
                      <a:lnTo>
                        <a:pt x="882" y="866"/>
                      </a:lnTo>
                      <a:lnTo>
                        <a:pt x="872" y="843"/>
                      </a:lnTo>
                      <a:lnTo>
                        <a:pt x="862" y="820"/>
                      </a:lnTo>
                      <a:lnTo>
                        <a:pt x="842" y="809"/>
                      </a:lnTo>
                      <a:lnTo>
                        <a:pt x="822" y="809"/>
                      </a:lnTo>
                      <a:lnTo>
                        <a:pt x="802" y="809"/>
                      </a:lnTo>
                      <a:lnTo>
                        <a:pt x="782" y="820"/>
                      </a:lnTo>
                      <a:lnTo>
                        <a:pt x="772" y="820"/>
                      </a:lnTo>
                      <a:lnTo>
                        <a:pt x="772" y="809"/>
                      </a:lnTo>
                      <a:lnTo>
                        <a:pt x="752" y="809"/>
                      </a:lnTo>
                      <a:lnTo>
                        <a:pt x="742" y="798"/>
                      </a:lnTo>
                      <a:lnTo>
                        <a:pt x="722" y="798"/>
                      </a:lnTo>
                      <a:lnTo>
                        <a:pt x="712" y="798"/>
                      </a:lnTo>
                      <a:lnTo>
                        <a:pt x="712" y="809"/>
                      </a:lnTo>
                      <a:lnTo>
                        <a:pt x="702" y="809"/>
                      </a:lnTo>
                      <a:lnTo>
                        <a:pt x="712" y="809"/>
                      </a:lnTo>
                      <a:lnTo>
                        <a:pt x="692" y="820"/>
                      </a:lnTo>
                      <a:lnTo>
                        <a:pt x="672" y="832"/>
                      </a:lnTo>
                      <a:lnTo>
                        <a:pt x="661" y="843"/>
                      </a:lnTo>
                      <a:lnTo>
                        <a:pt x="651" y="855"/>
                      </a:lnTo>
                      <a:lnTo>
                        <a:pt x="651" y="866"/>
                      </a:lnTo>
                      <a:lnTo>
                        <a:pt x="651" y="877"/>
                      </a:lnTo>
                      <a:lnTo>
                        <a:pt x="651" y="889"/>
                      </a:lnTo>
                      <a:lnTo>
                        <a:pt x="641" y="900"/>
                      </a:lnTo>
                      <a:lnTo>
                        <a:pt x="641" y="934"/>
                      </a:lnTo>
                      <a:lnTo>
                        <a:pt x="641" y="957"/>
                      </a:lnTo>
                      <a:lnTo>
                        <a:pt x="641" y="980"/>
                      </a:lnTo>
                      <a:lnTo>
                        <a:pt x="651" y="1026"/>
                      </a:lnTo>
                      <a:lnTo>
                        <a:pt x="661" y="1026"/>
                      </a:lnTo>
                      <a:lnTo>
                        <a:pt x="692" y="1014"/>
                      </a:lnTo>
                      <a:lnTo>
                        <a:pt x="712" y="1014"/>
                      </a:lnTo>
                      <a:lnTo>
                        <a:pt x="732" y="1014"/>
                      </a:lnTo>
                      <a:lnTo>
                        <a:pt x="742" y="1003"/>
                      </a:lnTo>
                      <a:lnTo>
                        <a:pt x="742" y="991"/>
                      </a:lnTo>
                      <a:lnTo>
                        <a:pt x="742" y="980"/>
                      </a:lnTo>
                      <a:lnTo>
                        <a:pt x="752" y="969"/>
                      </a:lnTo>
                      <a:lnTo>
                        <a:pt x="782" y="969"/>
                      </a:lnTo>
                      <a:lnTo>
                        <a:pt x="792" y="969"/>
                      </a:lnTo>
                      <a:lnTo>
                        <a:pt x="802" y="969"/>
                      </a:lnTo>
                      <a:lnTo>
                        <a:pt x="792" y="991"/>
                      </a:lnTo>
                      <a:lnTo>
                        <a:pt x="782" y="1003"/>
                      </a:lnTo>
                      <a:lnTo>
                        <a:pt x="772" y="1014"/>
                      </a:lnTo>
                      <a:lnTo>
                        <a:pt x="772" y="1026"/>
                      </a:lnTo>
                      <a:lnTo>
                        <a:pt x="762" y="1037"/>
                      </a:lnTo>
                      <a:lnTo>
                        <a:pt x="772" y="1048"/>
                      </a:lnTo>
                      <a:lnTo>
                        <a:pt x="762" y="1060"/>
                      </a:lnTo>
                      <a:lnTo>
                        <a:pt x="752" y="1071"/>
                      </a:lnTo>
                      <a:lnTo>
                        <a:pt x="762" y="1083"/>
                      </a:lnTo>
                      <a:lnTo>
                        <a:pt x="772" y="1071"/>
                      </a:lnTo>
                      <a:lnTo>
                        <a:pt x="792" y="1083"/>
                      </a:lnTo>
                      <a:lnTo>
                        <a:pt x="822" y="1083"/>
                      </a:lnTo>
                      <a:lnTo>
                        <a:pt x="842" y="1094"/>
                      </a:lnTo>
                      <a:lnTo>
                        <a:pt x="832" y="1094"/>
                      </a:lnTo>
                      <a:lnTo>
                        <a:pt x="832" y="1128"/>
                      </a:lnTo>
                      <a:lnTo>
                        <a:pt x="822" y="1151"/>
                      </a:lnTo>
                      <a:lnTo>
                        <a:pt x="822" y="1174"/>
                      </a:lnTo>
                      <a:lnTo>
                        <a:pt x="832" y="1197"/>
                      </a:lnTo>
                      <a:lnTo>
                        <a:pt x="862" y="1208"/>
                      </a:lnTo>
                      <a:lnTo>
                        <a:pt x="882" y="1208"/>
                      </a:lnTo>
                      <a:lnTo>
                        <a:pt x="892" y="1208"/>
                      </a:lnTo>
                      <a:lnTo>
                        <a:pt x="902" y="1219"/>
                      </a:lnTo>
                      <a:lnTo>
                        <a:pt x="922" y="12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519960" y="3405240"/>
                  <a:ext cx="47520" cy="108000"/>
                </a:xfrm>
                <a:custGeom>
                  <a:avLst/>
                  <a:gdLst/>
                  <a:ahLst/>
                  <a:rect l="l" t="t" r="r" b="b"/>
                  <a:pathLst>
                    <a:path w="30" h="68">
                      <a:moveTo>
                        <a:pt x="0" y="34"/>
                      </a:moveTo>
                      <a:lnTo>
                        <a:pt x="0" y="23"/>
                      </a:lnTo>
                      <a:lnTo>
                        <a:pt x="0" y="0"/>
                      </a:lnTo>
                      <a:lnTo>
                        <a:pt x="10" y="0"/>
                      </a:lnTo>
                      <a:lnTo>
                        <a:pt x="20" y="11"/>
                      </a:lnTo>
                      <a:lnTo>
                        <a:pt x="30" y="23"/>
                      </a:lnTo>
                      <a:lnTo>
                        <a:pt x="30" y="34"/>
                      </a:lnTo>
                      <a:lnTo>
                        <a:pt x="20" y="46"/>
                      </a:lnTo>
                      <a:lnTo>
                        <a:pt x="20" y="57"/>
                      </a:lnTo>
                      <a:lnTo>
                        <a:pt x="10" y="68"/>
                      </a:lnTo>
                      <a:lnTo>
                        <a:pt x="0" y="57"/>
                      </a:lnTo>
                      <a:lnTo>
                        <a:pt x="0" y="46"/>
                      </a:lnTo>
                      <a:lnTo>
                        <a:pt x="0" y="34"/>
                      </a:lnTo>
                      <a:lnTo>
                        <a:pt x="0" y="34"/>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519960" y="3405240"/>
                  <a:ext cx="47520" cy="108000"/>
                </a:xfrm>
                <a:custGeom>
                  <a:avLst/>
                  <a:gdLst/>
                  <a:ahLst/>
                  <a:rect l="l" t="t" r="r" b="b"/>
                  <a:pathLst>
                    <a:path w="30" h="68">
                      <a:moveTo>
                        <a:pt x="0" y="34"/>
                      </a:moveTo>
                      <a:lnTo>
                        <a:pt x="0" y="23"/>
                      </a:lnTo>
                      <a:lnTo>
                        <a:pt x="0" y="0"/>
                      </a:lnTo>
                      <a:lnTo>
                        <a:pt x="10" y="0"/>
                      </a:lnTo>
                      <a:lnTo>
                        <a:pt x="20" y="11"/>
                      </a:lnTo>
                      <a:lnTo>
                        <a:pt x="30" y="23"/>
                      </a:lnTo>
                      <a:lnTo>
                        <a:pt x="30" y="34"/>
                      </a:lnTo>
                      <a:lnTo>
                        <a:pt x="20" y="46"/>
                      </a:lnTo>
                      <a:lnTo>
                        <a:pt x="20" y="57"/>
                      </a:lnTo>
                      <a:lnTo>
                        <a:pt x="10" y="68"/>
                      </a:lnTo>
                      <a:lnTo>
                        <a:pt x="0" y="57"/>
                      </a:lnTo>
                      <a:lnTo>
                        <a:pt x="0" y="46"/>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537320" y="3387600"/>
                  <a:ext cx="111240" cy="108000"/>
                </a:xfrm>
                <a:custGeom>
                  <a:avLst/>
                  <a:gdLst/>
                  <a:ahLst/>
                  <a:rect l="l" t="t" r="r" b="b"/>
                  <a:pathLst>
                    <a:path w="70" h="68">
                      <a:moveTo>
                        <a:pt x="50" y="0"/>
                      </a:moveTo>
                      <a:lnTo>
                        <a:pt x="60" y="11"/>
                      </a:lnTo>
                      <a:lnTo>
                        <a:pt x="60" y="34"/>
                      </a:lnTo>
                      <a:lnTo>
                        <a:pt x="70" y="45"/>
                      </a:lnTo>
                      <a:lnTo>
                        <a:pt x="70" y="57"/>
                      </a:lnTo>
                      <a:lnTo>
                        <a:pt x="70" y="68"/>
                      </a:lnTo>
                      <a:lnTo>
                        <a:pt x="60" y="68"/>
                      </a:lnTo>
                      <a:lnTo>
                        <a:pt x="60" y="57"/>
                      </a:lnTo>
                      <a:lnTo>
                        <a:pt x="60" y="45"/>
                      </a:lnTo>
                      <a:lnTo>
                        <a:pt x="50" y="45"/>
                      </a:lnTo>
                      <a:lnTo>
                        <a:pt x="40" y="45"/>
                      </a:lnTo>
                      <a:lnTo>
                        <a:pt x="30" y="34"/>
                      </a:lnTo>
                      <a:lnTo>
                        <a:pt x="10" y="45"/>
                      </a:lnTo>
                      <a:lnTo>
                        <a:pt x="0" y="57"/>
                      </a:lnTo>
                      <a:lnTo>
                        <a:pt x="0" y="45"/>
                      </a:lnTo>
                      <a:lnTo>
                        <a:pt x="10" y="34"/>
                      </a:lnTo>
                      <a:lnTo>
                        <a:pt x="20" y="22"/>
                      </a:lnTo>
                      <a:lnTo>
                        <a:pt x="20" y="34"/>
                      </a:lnTo>
                      <a:lnTo>
                        <a:pt x="30" y="34"/>
                      </a:lnTo>
                      <a:lnTo>
                        <a:pt x="40" y="22"/>
                      </a:lnTo>
                      <a:lnTo>
                        <a:pt x="50" y="11"/>
                      </a:lnTo>
                      <a:lnTo>
                        <a:pt x="50" y="0"/>
                      </a:lnTo>
                      <a:lnTo>
                        <a:pt x="5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537320" y="3387600"/>
                  <a:ext cx="111240" cy="108000"/>
                </a:xfrm>
                <a:custGeom>
                  <a:avLst/>
                  <a:gdLst/>
                  <a:ahLst/>
                  <a:rect l="l" t="t" r="r" b="b"/>
                  <a:pathLst>
                    <a:path w="70" h="68">
                      <a:moveTo>
                        <a:pt x="50" y="0"/>
                      </a:moveTo>
                      <a:lnTo>
                        <a:pt x="60" y="11"/>
                      </a:lnTo>
                      <a:lnTo>
                        <a:pt x="60" y="34"/>
                      </a:lnTo>
                      <a:lnTo>
                        <a:pt x="70" y="45"/>
                      </a:lnTo>
                      <a:lnTo>
                        <a:pt x="70" y="57"/>
                      </a:lnTo>
                      <a:lnTo>
                        <a:pt x="70" y="68"/>
                      </a:lnTo>
                      <a:lnTo>
                        <a:pt x="60" y="68"/>
                      </a:lnTo>
                      <a:lnTo>
                        <a:pt x="60" y="57"/>
                      </a:lnTo>
                      <a:lnTo>
                        <a:pt x="60" y="45"/>
                      </a:lnTo>
                      <a:lnTo>
                        <a:pt x="50" y="45"/>
                      </a:lnTo>
                      <a:lnTo>
                        <a:pt x="40" y="45"/>
                      </a:lnTo>
                      <a:lnTo>
                        <a:pt x="30" y="34"/>
                      </a:lnTo>
                      <a:lnTo>
                        <a:pt x="10" y="45"/>
                      </a:lnTo>
                      <a:lnTo>
                        <a:pt x="0" y="57"/>
                      </a:lnTo>
                      <a:lnTo>
                        <a:pt x="0" y="45"/>
                      </a:lnTo>
                      <a:lnTo>
                        <a:pt x="10" y="34"/>
                      </a:lnTo>
                      <a:lnTo>
                        <a:pt x="20" y="22"/>
                      </a:lnTo>
                      <a:lnTo>
                        <a:pt x="20" y="34"/>
                      </a:lnTo>
                      <a:lnTo>
                        <a:pt x="30" y="34"/>
                      </a:lnTo>
                      <a:lnTo>
                        <a:pt x="40" y="22"/>
                      </a:lnTo>
                      <a:lnTo>
                        <a:pt x="50" y="11"/>
                      </a:lnTo>
                      <a:lnTo>
                        <a:pt x="5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236000" y="3478320"/>
                  <a:ext cx="237960" cy="342720"/>
                </a:xfrm>
                <a:custGeom>
                  <a:avLst/>
                  <a:gdLst/>
                  <a:ahLst/>
                  <a:rect l="l" t="t" r="r" b="b"/>
                  <a:pathLst>
                    <a:path w="150" h="216">
                      <a:moveTo>
                        <a:pt x="90" y="45"/>
                      </a:moveTo>
                      <a:lnTo>
                        <a:pt x="100" y="22"/>
                      </a:lnTo>
                      <a:lnTo>
                        <a:pt x="100" y="11"/>
                      </a:lnTo>
                      <a:lnTo>
                        <a:pt x="120" y="0"/>
                      </a:lnTo>
                      <a:lnTo>
                        <a:pt x="120" y="11"/>
                      </a:lnTo>
                      <a:lnTo>
                        <a:pt x="120" y="22"/>
                      </a:lnTo>
                      <a:lnTo>
                        <a:pt x="130" y="22"/>
                      </a:lnTo>
                      <a:lnTo>
                        <a:pt x="140" y="22"/>
                      </a:lnTo>
                      <a:lnTo>
                        <a:pt x="150" y="34"/>
                      </a:lnTo>
                      <a:lnTo>
                        <a:pt x="140" y="45"/>
                      </a:lnTo>
                      <a:lnTo>
                        <a:pt x="130" y="57"/>
                      </a:lnTo>
                      <a:lnTo>
                        <a:pt x="120" y="68"/>
                      </a:lnTo>
                      <a:lnTo>
                        <a:pt x="130" y="79"/>
                      </a:lnTo>
                      <a:lnTo>
                        <a:pt x="130" y="91"/>
                      </a:lnTo>
                      <a:lnTo>
                        <a:pt x="140" y="102"/>
                      </a:lnTo>
                      <a:lnTo>
                        <a:pt x="150" y="102"/>
                      </a:lnTo>
                      <a:lnTo>
                        <a:pt x="150" y="114"/>
                      </a:lnTo>
                      <a:lnTo>
                        <a:pt x="140" y="114"/>
                      </a:lnTo>
                      <a:lnTo>
                        <a:pt x="130" y="114"/>
                      </a:lnTo>
                      <a:lnTo>
                        <a:pt x="130" y="125"/>
                      </a:lnTo>
                      <a:lnTo>
                        <a:pt x="130" y="137"/>
                      </a:lnTo>
                      <a:lnTo>
                        <a:pt x="120" y="148"/>
                      </a:lnTo>
                      <a:lnTo>
                        <a:pt x="110" y="159"/>
                      </a:lnTo>
                      <a:lnTo>
                        <a:pt x="110" y="171"/>
                      </a:lnTo>
                      <a:lnTo>
                        <a:pt x="100" y="194"/>
                      </a:lnTo>
                      <a:lnTo>
                        <a:pt x="100" y="216"/>
                      </a:lnTo>
                      <a:lnTo>
                        <a:pt x="80" y="216"/>
                      </a:lnTo>
                      <a:lnTo>
                        <a:pt x="80" y="205"/>
                      </a:lnTo>
                      <a:lnTo>
                        <a:pt x="60" y="194"/>
                      </a:lnTo>
                      <a:lnTo>
                        <a:pt x="40" y="194"/>
                      </a:lnTo>
                      <a:lnTo>
                        <a:pt x="10" y="182"/>
                      </a:lnTo>
                      <a:lnTo>
                        <a:pt x="0" y="159"/>
                      </a:lnTo>
                      <a:lnTo>
                        <a:pt x="0" y="125"/>
                      </a:lnTo>
                      <a:lnTo>
                        <a:pt x="0" y="91"/>
                      </a:lnTo>
                      <a:lnTo>
                        <a:pt x="10" y="102"/>
                      </a:lnTo>
                      <a:lnTo>
                        <a:pt x="20" y="102"/>
                      </a:lnTo>
                      <a:lnTo>
                        <a:pt x="30" y="114"/>
                      </a:lnTo>
                      <a:lnTo>
                        <a:pt x="30" y="102"/>
                      </a:lnTo>
                      <a:lnTo>
                        <a:pt x="30" y="91"/>
                      </a:lnTo>
                      <a:lnTo>
                        <a:pt x="30" y="79"/>
                      </a:lnTo>
                      <a:lnTo>
                        <a:pt x="40" y="79"/>
                      </a:lnTo>
                      <a:lnTo>
                        <a:pt x="50" y="79"/>
                      </a:lnTo>
                      <a:lnTo>
                        <a:pt x="60" y="79"/>
                      </a:lnTo>
                      <a:lnTo>
                        <a:pt x="70" y="57"/>
                      </a:lnTo>
                      <a:lnTo>
                        <a:pt x="70" y="45"/>
                      </a:lnTo>
                      <a:lnTo>
                        <a:pt x="90" y="45"/>
                      </a:lnTo>
                      <a:lnTo>
                        <a:pt x="90" y="45"/>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236000" y="3478320"/>
                  <a:ext cx="237960" cy="342720"/>
                </a:xfrm>
                <a:custGeom>
                  <a:avLst/>
                  <a:gdLst/>
                  <a:ahLst/>
                  <a:rect l="l" t="t" r="r" b="b"/>
                  <a:pathLst>
                    <a:path w="150" h="216">
                      <a:moveTo>
                        <a:pt x="90" y="45"/>
                      </a:moveTo>
                      <a:lnTo>
                        <a:pt x="100" y="22"/>
                      </a:lnTo>
                      <a:lnTo>
                        <a:pt x="100" y="11"/>
                      </a:lnTo>
                      <a:lnTo>
                        <a:pt x="120" y="0"/>
                      </a:lnTo>
                      <a:lnTo>
                        <a:pt x="120" y="11"/>
                      </a:lnTo>
                      <a:lnTo>
                        <a:pt x="120" y="22"/>
                      </a:lnTo>
                      <a:lnTo>
                        <a:pt x="130" y="22"/>
                      </a:lnTo>
                      <a:lnTo>
                        <a:pt x="140" y="22"/>
                      </a:lnTo>
                      <a:lnTo>
                        <a:pt x="150" y="34"/>
                      </a:lnTo>
                      <a:lnTo>
                        <a:pt x="140" y="45"/>
                      </a:lnTo>
                      <a:lnTo>
                        <a:pt x="130" y="57"/>
                      </a:lnTo>
                      <a:lnTo>
                        <a:pt x="120" y="68"/>
                      </a:lnTo>
                      <a:lnTo>
                        <a:pt x="130" y="79"/>
                      </a:lnTo>
                      <a:lnTo>
                        <a:pt x="130" y="91"/>
                      </a:lnTo>
                      <a:lnTo>
                        <a:pt x="140" y="102"/>
                      </a:lnTo>
                      <a:lnTo>
                        <a:pt x="150" y="102"/>
                      </a:lnTo>
                      <a:lnTo>
                        <a:pt x="150" y="114"/>
                      </a:lnTo>
                      <a:lnTo>
                        <a:pt x="140" y="114"/>
                      </a:lnTo>
                      <a:lnTo>
                        <a:pt x="130" y="114"/>
                      </a:lnTo>
                      <a:lnTo>
                        <a:pt x="130" y="125"/>
                      </a:lnTo>
                      <a:lnTo>
                        <a:pt x="130" y="137"/>
                      </a:lnTo>
                      <a:lnTo>
                        <a:pt x="120" y="148"/>
                      </a:lnTo>
                      <a:lnTo>
                        <a:pt x="110" y="159"/>
                      </a:lnTo>
                      <a:lnTo>
                        <a:pt x="110" y="171"/>
                      </a:lnTo>
                      <a:lnTo>
                        <a:pt x="100" y="194"/>
                      </a:lnTo>
                      <a:lnTo>
                        <a:pt x="100" y="216"/>
                      </a:lnTo>
                      <a:lnTo>
                        <a:pt x="80" y="216"/>
                      </a:lnTo>
                      <a:lnTo>
                        <a:pt x="80" y="205"/>
                      </a:lnTo>
                      <a:lnTo>
                        <a:pt x="60" y="194"/>
                      </a:lnTo>
                      <a:lnTo>
                        <a:pt x="40" y="194"/>
                      </a:lnTo>
                      <a:lnTo>
                        <a:pt x="10" y="182"/>
                      </a:lnTo>
                      <a:lnTo>
                        <a:pt x="0" y="159"/>
                      </a:lnTo>
                      <a:lnTo>
                        <a:pt x="0" y="125"/>
                      </a:lnTo>
                      <a:lnTo>
                        <a:pt x="0" y="91"/>
                      </a:lnTo>
                      <a:lnTo>
                        <a:pt x="10" y="102"/>
                      </a:lnTo>
                      <a:lnTo>
                        <a:pt x="20" y="102"/>
                      </a:lnTo>
                      <a:lnTo>
                        <a:pt x="30" y="114"/>
                      </a:lnTo>
                      <a:lnTo>
                        <a:pt x="30" y="102"/>
                      </a:lnTo>
                      <a:lnTo>
                        <a:pt x="30" y="91"/>
                      </a:lnTo>
                      <a:lnTo>
                        <a:pt x="30" y="79"/>
                      </a:lnTo>
                      <a:lnTo>
                        <a:pt x="40" y="79"/>
                      </a:lnTo>
                      <a:lnTo>
                        <a:pt x="50" y="79"/>
                      </a:lnTo>
                      <a:lnTo>
                        <a:pt x="60" y="79"/>
                      </a:lnTo>
                      <a:lnTo>
                        <a:pt x="70" y="57"/>
                      </a:lnTo>
                      <a:lnTo>
                        <a:pt x="70" y="45"/>
                      </a:lnTo>
                      <a:lnTo>
                        <a:pt x="90"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886440" y="3513240"/>
                  <a:ext cx="270000" cy="363600"/>
                </a:xfrm>
                <a:custGeom>
                  <a:avLst/>
                  <a:gdLst/>
                  <a:ahLst/>
                  <a:rect l="l" t="t" r="r" b="b"/>
                  <a:pathLst>
                    <a:path w="170" h="229">
                      <a:moveTo>
                        <a:pt x="0" y="0"/>
                      </a:moveTo>
                      <a:lnTo>
                        <a:pt x="20" y="12"/>
                      </a:lnTo>
                      <a:lnTo>
                        <a:pt x="30" y="23"/>
                      </a:lnTo>
                      <a:lnTo>
                        <a:pt x="50" y="23"/>
                      </a:lnTo>
                      <a:lnTo>
                        <a:pt x="70" y="46"/>
                      </a:lnTo>
                      <a:lnTo>
                        <a:pt x="80" y="46"/>
                      </a:lnTo>
                      <a:lnTo>
                        <a:pt x="70" y="57"/>
                      </a:lnTo>
                      <a:lnTo>
                        <a:pt x="80" y="57"/>
                      </a:lnTo>
                      <a:lnTo>
                        <a:pt x="80" y="69"/>
                      </a:lnTo>
                      <a:lnTo>
                        <a:pt x="100" y="80"/>
                      </a:lnTo>
                      <a:lnTo>
                        <a:pt x="110" y="92"/>
                      </a:lnTo>
                      <a:lnTo>
                        <a:pt x="120" y="103"/>
                      </a:lnTo>
                      <a:lnTo>
                        <a:pt x="120" y="115"/>
                      </a:lnTo>
                      <a:lnTo>
                        <a:pt x="130" y="103"/>
                      </a:lnTo>
                      <a:lnTo>
                        <a:pt x="140" y="103"/>
                      </a:lnTo>
                      <a:lnTo>
                        <a:pt x="150" y="126"/>
                      </a:lnTo>
                      <a:lnTo>
                        <a:pt x="140" y="149"/>
                      </a:lnTo>
                      <a:lnTo>
                        <a:pt x="150" y="172"/>
                      </a:lnTo>
                      <a:lnTo>
                        <a:pt x="160" y="172"/>
                      </a:lnTo>
                      <a:lnTo>
                        <a:pt x="170" y="183"/>
                      </a:lnTo>
                      <a:lnTo>
                        <a:pt x="160" y="206"/>
                      </a:lnTo>
                      <a:lnTo>
                        <a:pt x="160" y="217"/>
                      </a:lnTo>
                      <a:lnTo>
                        <a:pt x="150" y="229"/>
                      </a:lnTo>
                      <a:lnTo>
                        <a:pt x="140" y="229"/>
                      </a:lnTo>
                      <a:lnTo>
                        <a:pt x="140" y="217"/>
                      </a:lnTo>
                      <a:lnTo>
                        <a:pt x="130" y="217"/>
                      </a:lnTo>
                      <a:lnTo>
                        <a:pt x="120" y="194"/>
                      </a:lnTo>
                      <a:lnTo>
                        <a:pt x="100" y="183"/>
                      </a:lnTo>
                      <a:lnTo>
                        <a:pt x="90" y="160"/>
                      </a:lnTo>
                      <a:lnTo>
                        <a:pt x="90" y="149"/>
                      </a:lnTo>
                      <a:lnTo>
                        <a:pt x="90" y="137"/>
                      </a:lnTo>
                      <a:lnTo>
                        <a:pt x="80" y="126"/>
                      </a:lnTo>
                      <a:lnTo>
                        <a:pt x="80" y="115"/>
                      </a:lnTo>
                      <a:lnTo>
                        <a:pt x="70" y="115"/>
                      </a:lnTo>
                      <a:lnTo>
                        <a:pt x="60" y="115"/>
                      </a:lnTo>
                      <a:lnTo>
                        <a:pt x="60" y="92"/>
                      </a:lnTo>
                      <a:lnTo>
                        <a:pt x="50" y="80"/>
                      </a:lnTo>
                      <a:lnTo>
                        <a:pt x="40" y="69"/>
                      </a:lnTo>
                      <a:lnTo>
                        <a:pt x="40" y="57"/>
                      </a:lnTo>
                      <a:lnTo>
                        <a:pt x="30" y="46"/>
                      </a:lnTo>
                      <a:lnTo>
                        <a:pt x="20" y="46"/>
                      </a:lnTo>
                      <a:lnTo>
                        <a:pt x="20" y="35"/>
                      </a:lnTo>
                      <a:lnTo>
                        <a:pt x="10" y="23"/>
                      </a:lnTo>
                      <a:lnTo>
                        <a:pt x="10" y="12"/>
                      </a:lnTo>
                      <a:lnTo>
                        <a:pt x="0" y="0"/>
                      </a:lnTo>
                      <a:lnTo>
                        <a:pt x="0" y="0"/>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886440" y="3513240"/>
                  <a:ext cx="270000" cy="363600"/>
                </a:xfrm>
                <a:custGeom>
                  <a:avLst/>
                  <a:gdLst/>
                  <a:ahLst/>
                  <a:rect l="l" t="t" r="r" b="b"/>
                  <a:pathLst>
                    <a:path w="170" h="229">
                      <a:moveTo>
                        <a:pt x="0" y="0"/>
                      </a:moveTo>
                      <a:lnTo>
                        <a:pt x="20" y="12"/>
                      </a:lnTo>
                      <a:lnTo>
                        <a:pt x="30" y="23"/>
                      </a:lnTo>
                      <a:lnTo>
                        <a:pt x="50" y="23"/>
                      </a:lnTo>
                      <a:lnTo>
                        <a:pt x="70" y="46"/>
                      </a:lnTo>
                      <a:lnTo>
                        <a:pt x="80" y="46"/>
                      </a:lnTo>
                      <a:lnTo>
                        <a:pt x="70" y="57"/>
                      </a:lnTo>
                      <a:lnTo>
                        <a:pt x="80" y="57"/>
                      </a:lnTo>
                      <a:lnTo>
                        <a:pt x="80" y="69"/>
                      </a:lnTo>
                      <a:lnTo>
                        <a:pt x="100" y="80"/>
                      </a:lnTo>
                      <a:lnTo>
                        <a:pt x="110" y="92"/>
                      </a:lnTo>
                      <a:lnTo>
                        <a:pt x="120" y="103"/>
                      </a:lnTo>
                      <a:lnTo>
                        <a:pt x="120" y="115"/>
                      </a:lnTo>
                      <a:lnTo>
                        <a:pt x="130" y="103"/>
                      </a:lnTo>
                      <a:lnTo>
                        <a:pt x="140" y="103"/>
                      </a:lnTo>
                      <a:lnTo>
                        <a:pt x="150" y="126"/>
                      </a:lnTo>
                      <a:lnTo>
                        <a:pt x="140" y="149"/>
                      </a:lnTo>
                      <a:lnTo>
                        <a:pt x="150" y="172"/>
                      </a:lnTo>
                      <a:lnTo>
                        <a:pt x="160" y="172"/>
                      </a:lnTo>
                      <a:lnTo>
                        <a:pt x="170" y="183"/>
                      </a:lnTo>
                      <a:lnTo>
                        <a:pt x="160" y="206"/>
                      </a:lnTo>
                      <a:lnTo>
                        <a:pt x="160" y="217"/>
                      </a:lnTo>
                      <a:lnTo>
                        <a:pt x="150" y="229"/>
                      </a:lnTo>
                      <a:lnTo>
                        <a:pt x="140" y="229"/>
                      </a:lnTo>
                      <a:lnTo>
                        <a:pt x="140" y="217"/>
                      </a:lnTo>
                      <a:lnTo>
                        <a:pt x="130" y="217"/>
                      </a:lnTo>
                      <a:lnTo>
                        <a:pt x="120" y="194"/>
                      </a:lnTo>
                      <a:lnTo>
                        <a:pt x="100" y="183"/>
                      </a:lnTo>
                      <a:lnTo>
                        <a:pt x="90" y="160"/>
                      </a:lnTo>
                      <a:lnTo>
                        <a:pt x="90" y="149"/>
                      </a:lnTo>
                      <a:lnTo>
                        <a:pt x="90" y="137"/>
                      </a:lnTo>
                      <a:lnTo>
                        <a:pt x="80" y="126"/>
                      </a:lnTo>
                      <a:lnTo>
                        <a:pt x="80" y="115"/>
                      </a:lnTo>
                      <a:lnTo>
                        <a:pt x="70" y="115"/>
                      </a:lnTo>
                      <a:lnTo>
                        <a:pt x="60" y="115"/>
                      </a:lnTo>
                      <a:lnTo>
                        <a:pt x="60" y="92"/>
                      </a:lnTo>
                      <a:lnTo>
                        <a:pt x="50" y="80"/>
                      </a:lnTo>
                      <a:lnTo>
                        <a:pt x="40" y="69"/>
                      </a:lnTo>
                      <a:lnTo>
                        <a:pt x="40" y="57"/>
                      </a:lnTo>
                      <a:lnTo>
                        <a:pt x="30" y="46"/>
                      </a:lnTo>
                      <a:lnTo>
                        <a:pt x="20" y="46"/>
                      </a:lnTo>
                      <a:lnTo>
                        <a:pt x="20" y="35"/>
                      </a:lnTo>
                      <a:lnTo>
                        <a:pt x="10" y="23"/>
                      </a:lnTo>
                      <a:lnTo>
                        <a:pt x="10" y="1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324240" y="3695760"/>
                  <a:ext cx="63360" cy="54000"/>
                </a:xfrm>
                <a:custGeom>
                  <a:avLst/>
                  <a:gdLst/>
                  <a:ahLst/>
                  <a:rect l="l" t="t" r="r" b="b"/>
                  <a:pathLst>
                    <a:path w="40" h="34">
                      <a:moveTo>
                        <a:pt x="40" y="0"/>
                      </a:moveTo>
                      <a:lnTo>
                        <a:pt x="30" y="22"/>
                      </a:lnTo>
                      <a:lnTo>
                        <a:pt x="20" y="34"/>
                      </a:lnTo>
                      <a:lnTo>
                        <a:pt x="10" y="34"/>
                      </a:lnTo>
                      <a:lnTo>
                        <a:pt x="0" y="34"/>
                      </a:lnTo>
                      <a:lnTo>
                        <a:pt x="0" y="11"/>
                      </a:lnTo>
                      <a:lnTo>
                        <a:pt x="0" y="0"/>
                      </a:lnTo>
                      <a:lnTo>
                        <a:pt x="10" y="0"/>
                      </a:lnTo>
                      <a:lnTo>
                        <a:pt x="20" y="0"/>
                      </a:lnTo>
                      <a:lnTo>
                        <a:pt x="40" y="0"/>
                      </a:lnTo>
                      <a:lnTo>
                        <a:pt x="4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1" name=""/>
                <p:cNvSpPr/>
                <p:nvPr/>
              </p:nvSpPr>
              <p:spPr>
                <a:xfrm>
                  <a:off x="3324240" y="3695760"/>
                  <a:ext cx="63360" cy="54000"/>
                </a:xfrm>
                <a:custGeom>
                  <a:avLst/>
                  <a:gdLst/>
                  <a:ahLst/>
                  <a:rect l="l" t="t" r="r" b="b"/>
                  <a:pathLst>
                    <a:path w="40" h="34">
                      <a:moveTo>
                        <a:pt x="40" y="0"/>
                      </a:moveTo>
                      <a:lnTo>
                        <a:pt x="30" y="22"/>
                      </a:lnTo>
                      <a:lnTo>
                        <a:pt x="20" y="34"/>
                      </a:lnTo>
                      <a:lnTo>
                        <a:pt x="10" y="34"/>
                      </a:lnTo>
                      <a:lnTo>
                        <a:pt x="0" y="34"/>
                      </a:lnTo>
                      <a:lnTo>
                        <a:pt x="0" y="11"/>
                      </a:lnTo>
                      <a:lnTo>
                        <a:pt x="0" y="0"/>
                      </a:lnTo>
                      <a:lnTo>
                        <a:pt x="10" y="0"/>
                      </a:lnTo>
                      <a:lnTo>
                        <a:pt x="20" y="0"/>
                      </a:lnTo>
                      <a:lnTo>
                        <a:pt x="4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a:off x="3292560" y="3730680"/>
                  <a:ext cx="15840" cy="19080"/>
                </a:xfrm>
                <a:custGeom>
                  <a:avLst/>
                  <a:gdLst/>
                  <a:ahLst/>
                  <a:rect l="l" t="t" r="r" b="b"/>
                  <a:pathLst>
                    <a:path w="10" h="12">
                      <a:moveTo>
                        <a:pt x="10" y="0"/>
                      </a:moveTo>
                      <a:lnTo>
                        <a:pt x="0" y="0"/>
                      </a:lnTo>
                      <a:lnTo>
                        <a:pt x="0" y="12"/>
                      </a:ln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3292560" y="3730680"/>
                  <a:ext cx="15840" cy="19080"/>
                </a:xfrm>
                <a:custGeom>
                  <a:avLst/>
                  <a:gdLst/>
                  <a:ahLst/>
                  <a:rect l="l" t="t" r="r" b="b"/>
                  <a:pathLst>
                    <a:path w="10" h="12">
                      <a:moveTo>
                        <a:pt x="10" y="0"/>
                      </a:moveTo>
                      <a:lnTo>
                        <a:pt x="0" y="0"/>
                      </a:lnTo>
                      <a:lnTo>
                        <a:pt x="0" y="12"/>
                      </a:lnTo>
                      <a:lnTo>
                        <a:pt x="0" y="0"/>
                      </a:lnTo>
                      <a:lnTo>
                        <a:pt x="1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7489800" y="3659040"/>
                  <a:ext cx="111240" cy="217800"/>
                </a:xfrm>
                <a:custGeom>
                  <a:avLst/>
                  <a:gdLst/>
                  <a:ahLst/>
                  <a:rect l="l" t="t" r="r" b="b"/>
                  <a:pathLst>
                    <a:path w="70" h="137">
                      <a:moveTo>
                        <a:pt x="0" y="137"/>
                      </a:moveTo>
                      <a:lnTo>
                        <a:pt x="0" y="125"/>
                      </a:lnTo>
                      <a:lnTo>
                        <a:pt x="0" y="114"/>
                      </a:lnTo>
                      <a:lnTo>
                        <a:pt x="0" y="102"/>
                      </a:lnTo>
                      <a:lnTo>
                        <a:pt x="0" y="68"/>
                      </a:lnTo>
                      <a:lnTo>
                        <a:pt x="0" y="34"/>
                      </a:lnTo>
                      <a:lnTo>
                        <a:pt x="0" y="11"/>
                      </a:lnTo>
                      <a:lnTo>
                        <a:pt x="10" y="11"/>
                      </a:lnTo>
                      <a:lnTo>
                        <a:pt x="10" y="0"/>
                      </a:lnTo>
                      <a:lnTo>
                        <a:pt x="30" y="11"/>
                      </a:lnTo>
                      <a:lnTo>
                        <a:pt x="50" y="11"/>
                      </a:lnTo>
                      <a:lnTo>
                        <a:pt x="70" y="11"/>
                      </a:lnTo>
                      <a:lnTo>
                        <a:pt x="60" y="11"/>
                      </a:lnTo>
                      <a:lnTo>
                        <a:pt x="60" y="23"/>
                      </a:lnTo>
                      <a:lnTo>
                        <a:pt x="40" y="23"/>
                      </a:lnTo>
                      <a:lnTo>
                        <a:pt x="30" y="34"/>
                      </a:lnTo>
                      <a:lnTo>
                        <a:pt x="10" y="45"/>
                      </a:lnTo>
                      <a:lnTo>
                        <a:pt x="20" y="45"/>
                      </a:lnTo>
                      <a:lnTo>
                        <a:pt x="20" y="57"/>
                      </a:lnTo>
                      <a:lnTo>
                        <a:pt x="30" y="68"/>
                      </a:lnTo>
                      <a:lnTo>
                        <a:pt x="40" y="91"/>
                      </a:lnTo>
                      <a:lnTo>
                        <a:pt x="50" y="114"/>
                      </a:lnTo>
                      <a:lnTo>
                        <a:pt x="40" y="114"/>
                      </a:lnTo>
                      <a:lnTo>
                        <a:pt x="30" y="114"/>
                      </a:lnTo>
                      <a:lnTo>
                        <a:pt x="20" y="91"/>
                      </a:lnTo>
                      <a:lnTo>
                        <a:pt x="20" y="80"/>
                      </a:lnTo>
                      <a:lnTo>
                        <a:pt x="10" y="80"/>
                      </a:lnTo>
                      <a:lnTo>
                        <a:pt x="10" y="91"/>
                      </a:lnTo>
                      <a:lnTo>
                        <a:pt x="10" y="114"/>
                      </a:lnTo>
                      <a:lnTo>
                        <a:pt x="0" y="125"/>
                      </a:lnTo>
                      <a:lnTo>
                        <a:pt x="0" y="137"/>
                      </a:lnTo>
                      <a:lnTo>
                        <a:pt x="0" y="137"/>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489800" y="3659040"/>
                  <a:ext cx="111240" cy="217800"/>
                </a:xfrm>
                <a:custGeom>
                  <a:avLst/>
                  <a:gdLst/>
                  <a:ahLst/>
                  <a:rect l="l" t="t" r="r" b="b"/>
                  <a:pathLst>
                    <a:path w="70" h="137">
                      <a:moveTo>
                        <a:pt x="0" y="137"/>
                      </a:moveTo>
                      <a:lnTo>
                        <a:pt x="0" y="125"/>
                      </a:lnTo>
                      <a:lnTo>
                        <a:pt x="0" y="114"/>
                      </a:lnTo>
                      <a:lnTo>
                        <a:pt x="0" y="102"/>
                      </a:lnTo>
                      <a:lnTo>
                        <a:pt x="0" y="68"/>
                      </a:lnTo>
                      <a:lnTo>
                        <a:pt x="0" y="34"/>
                      </a:lnTo>
                      <a:lnTo>
                        <a:pt x="0" y="11"/>
                      </a:lnTo>
                      <a:lnTo>
                        <a:pt x="10" y="11"/>
                      </a:lnTo>
                      <a:lnTo>
                        <a:pt x="10" y="0"/>
                      </a:lnTo>
                      <a:lnTo>
                        <a:pt x="30" y="11"/>
                      </a:lnTo>
                      <a:lnTo>
                        <a:pt x="50" y="11"/>
                      </a:lnTo>
                      <a:lnTo>
                        <a:pt x="70" y="11"/>
                      </a:lnTo>
                      <a:lnTo>
                        <a:pt x="60" y="11"/>
                      </a:lnTo>
                      <a:lnTo>
                        <a:pt x="60" y="23"/>
                      </a:lnTo>
                      <a:lnTo>
                        <a:pt x="40" y="23"/>
                      </a:lnTo>
                      <a:lnTo>
                        <a:pt x="30" y="34"/>
                      </a:lnTo>
                      <a:lnTo>
                        <a:pt x="10" y="45"/>
                      </a:lnTo>
                      <a:lnTo>
                        <a:pt x="20" y="45"/>
                      </a:lnTo>
                      <a:lnTo>
                        <a:pt x="20" y="57"/>
                      </a:lnTo>
                      <a:lnTo>
                        <a:pt x="30" y="68"/>
                      </a:lnTo>
                      <a:lnTo>
                        <a:pt x="40" y="91"/>
                      </a:lnTo>
                      <a:lnTo>
                        <a:pt x="50" y="114"/>
                      </a:lnTo>
                      <a:lnTo>
                        <a:pt x="40" y="114"/>
                      </a:lnTo>
                      <a:lnTo>
                        <a:pt x="30" y="114"/>
                      </a:lnTo>
                      <a:lnTo>
                        <a:pt x="20" y="91"/>
                      </a:lnTo>
                      <a:lnTo>
                        <a:pt x="20" y="80"/>
                      </a:lnTo>
                      <a:lnTo>
                        <a:pt x="10" y="80"/>
                      </a:lnTo>
                      <a:lnTo>
                        <a:pt x="10" y="91"/>
                      </a:lnTo>
                      <a:lnTo>
                        <a:pt x="10" y="114"/>
                      </a:lnTo>
                      <a:lnTo>
                        <a:pt x="0" y="125"/>
                      </a:lnTo>
                      <a:lnTo>
                        <a:pt x="0" y="1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140600" y="3749760"/>
                  <a:ext cx="15840" cy="17280"/>
                </a:xfrm>
                <a:custGeom>
                  <a:avLst/>
                  <a:gdLst/>
                  <a:ahLst/>
                  <a:rect l="l" t="t" r="r" b="b"/>
                  <a:pathLst>
                    <a:path w="10" h="11">
                      <a:moveTo>
                        <a:pt x="10" y="0"/>
                      </a:moveTo>
                      <a:lnTo>
                        <a:pt x="0" y="0"/>
                      </a:lnTo>
                      <a:lnTo>
                        <a:pt x="0" y="11"/>
                      </a:lnTo>
                      <a:lnTo>
                        <a:pt x="0" y="0"/>
                      </a:lnTo>
                      <a:lnTo>
                        <a:pt x="10" y="0"/>
                      </a:lnTo>
                      <a:lnTo>
                        <a:pt x="10" y="0"/>
                      </a:lnTo>
                      <a:close/>
                    </a:path>
                  </a:pathLst>
                </a:custGeom>
                <a:solidFill>
                  <a:srgbClr val="00937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7" name=""/>
                <p:cNvSpPr/>
                <p:nvPr/>
              </p:nvSpPr>
              <p:spPr>
                <a:xfrm>
                  <a:off x="7140600" y="3749760"/>
                  <a:ext cx="15840" cy="17280"/>
                </a:xfrm>
                <a:custGeom>
                  <a:avLst/>
                  <a:gdLst/>
                  <a:ahLst/>
                  <a:rect l="l" t="t" r="r" b="b"/>
                  <a:pathLst>
                    <a:path w="10" h="11">
                      <a:moveTo>
                        <a:pt x="10" y="0"/>
                      </a:moveTo>
                      <a:lnTo>
                        <a:pt x="0" y="0"/>
                      </a:lnTo>
                      <a:lnTo>
                        <a:pt x="0" y="11"/>
                      </a:lnTo>
                      <a:lnTo>
                        <a:pt x="0" y="0"/>
                      </a:lnTo>
                      <a:lnTo>
                        <a:pt x="1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8" name=""/>
                <p:cNvSpPr/>
                <p:nvPr/>
              </p:nvSpPr>
              <p:spPr>
                <a:xfrm>
                  <a:off x="8253360" y="3767040"/>
                  <a:ext cx="63720" cy="54000"/>
                </a:xfrm>
                <a:custGeom>
                  <a:avLst/>
                  <a:gdLst/>
                  <a:ahLst/>
                  <a:rect l="l" t="t" r="r" b="b"/>
                  <a:pathLst>
                    <a:path w="40" h="34">
                      <a:moveTo>
                        <a:pt x="0" y="0"/>
                      </a:moveTo>
                      <a:lnTo>
                        <a:pt x="20" y="12"/>
                      </a:lnTo>
                      <a:lnTo>
                        <a:pt x="30" y="23"/>
                      </a:lnTo>
                      <a:lnTo>
                        <a:pt x="40" y="34"/>
                      </a:lnTo>
                      <a:lnTo>
                        <a:pt x="20" y="23"/>
                      </a:lnTo>
                      <a:lnTo>
                        <a:pt x="10" y="12"/>
                      </a:lnTo>
                      <a:lnTo>
                        <a:pt x="0" y="0"/>
                      </a:lnTo>
                      <a:lnTo>
                        <a:pt x="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9" name=""/>
                <p:cNvSpPr/>
                <p:nvPr/>
              </p:nvSpPr>
              <p:spPr>
                <a:xfrm>
                  <a:off x="8253360" y="3767040"/>
                  <a:ext cx="63720" cy="54000"/>
                </a:xfrm>
                <a:custGeom>
                  <a:avLst/>
                  <a:gdLst/>
                  <a:ahLst/>
                  <a:rect l="l" t="t" r="r" b="b"/>
                  <a:pathLst>
                    <a:path w="40" h="34">
                      <a:moveTo>
                        <a:pt x="0" y="0"/>
                      </a:moveTo>
                      <a:lnTo>
                        <a:pt x="20" y="12"/>
                      </a:lnTo>
                      <a:lnTo>
                        <a:pt x="30" y="23"/>
                      </a:lnTo>
                      <a:lnTo>
                        <a:pt x="40" y="34"/>
                      </a:lnTo>
                      <a:lnTo>
                        <a:pt x="20" y="23"/>
                      </a:lnTo>
                      <a:lnTo>
                        <a:pt x="10" y="12"/>
                      </a:lnTo>
                      <a:lnTo>
                        <a:pt x="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a:off x="7759800" y="3713040"/>
                  <a:ext cx="493560" cy="308160"/>
                </a:xfrm>
                <a:custGeom>
                  <a:avLst/>
                  <a:gdLst/>
                  <a:ahLst/>
                  <a:rect l="l" t="t" r="r" b="b"/>
                  <a:pathLst>
                    <a:path w="311" h="194">
                      <a:moveTo>
                        <a:pt x="161" y="171"/>
                      </a:moveTo>
                      <a:lnTo>
                        <a:pt x="151" y="160"/>
                      </a:lnTo>
                      <a:lnTo>
                        <a:pt x="131" y="160"/>
                      </a:lnTo>
                      <a:lnTo>
                        <a:pt x="131" y="148"/>
                      </a:lnTo>
                      <a:lnTo>
                        <a:pt x="121" y="137"/>
                      </a:lnTo>
                      <a:lnTo>
                        <a:pt x="121" y="114"/>
                      </a:lnTo>
                      <a:lnTo>
                        <a:pt x="121" y="91"/>
                      </a:lnTo>
                      <a:lnTo>
                        <a:pt x="111" y="91"/>
                      </a:lnTo>
                      <a:lnTo>
                        <a:pt x="91" y="80"/>
                      </a:lnTo>
                      <a:lnTo>
                        <a:pt x="71" y="80"/>
                      </a:lnTo>
                      <a:lnTo>
                        <a:pt x="71" y="68"/>
                      </a:lnTo>
                      <a:lnTo>
                        <a:pt x="61" y="68"/>
                      </a:lnTo>
                      <a:lnTo>
                        <a:pt x="61" y="57"/>
                      </a:lnTo>
                      <a:lnTo>
                        <a:pt x="61" y="46"/>
                      </a:lnTo>
                      <a:lnTo>
                        <a:pt x="51" y="46"/>
                      </a:lnTo>
                      <a:lnTo>
                        <a:pt x="41" y="46"/>
                      </a:lnTo>
                      <a:lnTo>
                        <a:pt x="31" y="46"/>
                      </a:lnTo>
                      <a:lnTo>
                        <a:pt x="41" y="34"/>
                      </a:lnTo>
                      <a:lnTo>
                        <a:pt x="51" y="34"/>
                      </a:lnTo>
                      <a:lnTo>
                        <a:pt x="61" y="34"/>
                      </a:lnTo>
                      <a:lnTo>
                        <a:pt x="41" y="23"/>
                      </a:lnTo>
                      <a:lnTo>
                        <a:pt x="31" y="23"/>
                      </a:lnTo>
                      <a:lnTo>
                        <a:pt x="0" y="11"/>
                      </a:lnTo>
                      <a:lnTo>
                        <a:pt x="11" y="0"/>
                      </a:lnTo>
                      <a:lnTo>
                        <a:pt x="31" y="0"/>
                      </a:lnTo>
                      <a:lnTo>
                        <a:pt x="41" y="0"/>
                      </a:lnTo>
                      <a:lnTo>
                        <a:pt x="51" y="11"/>
                      </a:lnTo>
                      <a:lnTo>
                        <a:pt x="61" y="11"/>
                      </a:lnTo>
                      <a:lnTo>
                        <a:pt x="71" y="34"/>
                      </a:lnTo>
                      <a:lnTo>
                        <a:pt x="71" y="57"/>
                      </a:lnTo>
                      <a:lnTo>
                        <a:pt x="81" y="57"/>
                      </a:lnTo>
                      <a:lnTo>
                        <a:pt x="91" y="34"/>
                      </a:lnTo>
                      <a:lnTo>
                        <a:pt x="101" y="23"/>
                      </a:lnTo>
                      <a:lnTo>
                        <a:pt x="121" y="23"/>
                      </a:lnTo>
                      <a:lnTo>
                        <a:pt x="131" y="23"/>
                      </a:lnTo>
                      <a:lnTo>
                        <a:pt x="141" y="23"/>
                      </a:lnTo>
                      <a:lnTo>
                        <a:pt x="151" y="34"/>
                      </a:lnTo>
                      <a:lnTo>
                        <a:pt x="171" y="46"/>
                      </a:lnTo>
                      <a:lnTo>
                        <a:pt x="191" y="57"/>
                      </a:lnTo>
                      <a:lnTo>
                        <a:pt x="221" y="68"/>
                      </a:lnTo>
                      <a:lnTo>
                        <a:pt x="231" y="80"/>
                      </a:lnTo>
                      <a:lnTo>
                        <a:pt x="241" y="80"/>
                      </a:lnTo>
                      <a:lnTo>
                        <a:pt x="251" y="91"/>
                      </a:lnTo>
                      <a:lnTo>
                        <a:pt x="251" y="103"/>
                      </a:lnTo>
                      <a:lnTo>
                        <a:pt x="261" y="103"/>
                      </a:lnTo>
                      <a:lnTo>
                        <a:pt x="261" y="114"/>
                      </a:lnTo>
                      <a:lnTo>
                        <a:pt x="261" y="125"/>
                      </a:lnTo>
                      <a:lnTo>
                        <a:pt x="251" y="137"/>
                      </a:lnTo>
                      <a:lnTo>
                        <a:pt x="261" y="137"/>
                      </a:lnTo>
                      <a:lnTo>
                        <a:pt x="261" y="148"/>
                      </a:lnTo>
                      <a:lnTo>
                        <a:pt x="271" y="148"/>
                      </a:lnTo>
                      <a:lnTo>
                        <a:pt x="271" y="160"/>
                      </a:lnTo>
                      <a:lnTo>
                        <a:pt x="271" y="171"/>
                      </a:lnTo>
                      <a:lnTo>
                        <a:pt x="281" y="171"/>
                      </a:lnTo>
                      <a:lnTo>
                        <a:pt x="301" y="182"/>
                      </a:lnTo>
                      <a:lnTo>
                        <a:pt x="311" y="194"/>
                      </a:lnTo>
                      <a:lnTo>
                        <a:pt x="301" y="194"/>
                      </a:lnTo>
                      <a:lnTo>
                        <a:pt x="281" y="182"/>
                      </a:lnTo>
                      <a:lnTo>
                        <a:pt x="261" y="182"/>
                      </a:lnTo>
                      <a:lnTo>
                        <a:pt x="251" y="171"/>
                      </a:lnTo>
                      <a:lnTo>
                        <a:pt x="241" y="160"/>
                      </a:lnTo>
                      <a:lnTo>
                        <a:pt x="231" y="148"/>
                      </a:lnTo>
                      <a:lnTo>
                        <a:pt x="211" y="137"/>
                      </a:lnTo>
                      <a:lnTo>
                        <a:pt x="181" y="137"/>
                      </a:lnTo>
                      <a:lnTo>
                        <a:pt x="171" y="137"/>
                      </a:lnTo>
                      <a:lnTo>
                        <a:pt x="161" y="137"/>
                      </a:lnTo>
                      <a:lnTo>
                        <a:pt x="171" y="137"/>
                      </a:lnTo>
                      <a:lnTo>
                        <a:pt x="171" y="148"/>
                      </a:lnTo>
                      <a:lnTo>
                        <a:pt x="181" y="160"/>
                      </a:lnTo>
                      <a:lnTo>
                        <a:pt x="191" y="160"/>
                      </a:lnTo>
                      <a:lnTo>
                        <a:pt x="191" y="171"/>
                      </a:lnTo>
                      <a:lnTo>
                        <a:pt x="181" y="171"/>
                      </a:lnTo>
                      <a:lnTo>
                        <a:pt x="171" y="171"/>
                      </a:lnTo>
                      <a:lnTo>
                        <a:pt x="161" y="171"/>
                      </a:lnTo>
                      <a:lnTo>
                        <a:pt x="161" y="171"/>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759800" y="3713040"/>
                  <a:ext cx="493560" cy="308160"/>
                </a:xfrm>
                <a:custGeom>
                  <a:avLst/>
                  <a:gdLst/>
                  <a:ahLst/>
                  <a:rect l="l" t="t" r="r" b="b"/>
                  <a:pathLst>
                    <a:path w="311" h="194">
                      <a:moveTo>
                        <a:pt x="161" y="171"/>
                      </a:moveTo>
                      <a:lnTo>
                        <a:pt x="151" y="160"/>
                      </a:lnTo>
                      <a:lnTo>
                        <a:pt x="131" y="160"/>
                      </a:lnTo>
                      <a:lnTo>
                        <a:pt x="131" y="148"/>
                      </a:lnTo>
                      <a:lnTo>
                        <a:pt x="121" y="137"/>
                      </a:lnTo>
                      <a:lnTo>
                        <a:pt x="121" y="114"/>
                      </a:lnTo>
                      <a:lnTo>
                        <a:pt x="121" y="91"/>
                      </a:lnTo>
                      <a:lnTo>
                        <a:pt x="111" y="91"/>
                      </a:lnTo>
                      <a:lnTo>
                        <a:pt x="91" y="80"/>
                      </a:lnTo>
                      <a:lnTo>
                        <a:pt x="71" y="80"/>
                      </a:lnTo>
                      <a:lnTo>
                        <a:pt x="71" y="68"/>
                      </a:lnTo>
                      <a:lnTo>
                        <a:pt x="61" y="68"/>
                      </a:lnTo>
                      <a:lnTo>
                        <a:pt x="61" y="57"/>
                      </a:lnTo>
                      <a:lnTo>
                        <a:pt x="61" y="46"/>
                      </a:lnTo>
                      <a:lnTo>
                        <a:pt x="51" y="46"/>
                      </a:lnTo>
                      <a:lnTo>
                        <a:pt x="41" y="46"/>
                      </a:lnTo>
                      <a:lnTo>
                        <a:pt x="31" y="46"/>
                      </a:lnTo>
                      <a:lnTo>
                        <a:pt x="41" y="34"/>
                      </a:lnTo>
                      <a:lnTo>
                        <a:pt x="51" y="34"/>
                      </a:lnTo>
                      <a:lnTo>
                        <a:pt x="61" y="34"/>
                      </a:lnTo>
                      <a:lnTo>
                        <a:pt x="41" y="23"/>
                      </a:lnTo>
                      <a:lnTo>
                        <a:pt x="31" y="23"/>
                      </a:lnTo>
                      <a:lnTo>
                        <a:pt x="0" y="11"/>
                      </a:lnTo>
                      <a:lnTo>
                        <a:pt x="11" y="0"/>
                      </a:lnTo>
                      <a:lnTo>
                        <a:pt x="31" y="0"/>
                      </a:lnTo>
                      <a:lnTo>
                        <a:pt x="41" y="0"/>
                      </a:lnTo>
                      <a:lnTo>
                        <a:pt x="51" y="11"/>
                      </a:lnTo>
                      <a:lnTo>
                        <a:pt x="61" y="11"/>
                      </a:lnTo>
                      <a:lnTo>
                        <a:pt x="71" y="34"/>
                      </a:lnTo>
                      <a:lnTo>
                        <a:pt x="71" y="57"/>
                      </a:lnTo>
                      <a:lnTo>
                        <a:pt x="81" y="57"/>
                      </a:lnTo>
                      <a:lnTo>
                        <a:pt x="91" y="34"/>
                      </a:lnTo>
                      <a:lnTo>
                        <a:pt x="101" y="23"/>
                      </a:lnTo>
                      <a:lnTo>
                        <a:pt x="121" y="23"/>
                      </a:lnTo>
                      <a:lnTo>
                        <a:pt x="131" y="23"/>
                      </a:lnTo>
                      <a:lnTo>
                        <a:pt x="141" y="23"/>
                      </a:lnTo>
                      <a:lnTo>
                        <a:pt x="151" y="34"/>
                      </a:lnTo>
                      <a:lnTo>
                        <a:pt x="171" y="46"/>
                      </a:lnTo>
                      <a:lnTo>
                        <a:pt x="191" y="57"/>
                      </a:lnTo>
                      <a:lnTo>
                        <a:pt x="221" y="68"/>
                      </a:lnTo>
                      <a:lnTo>
                        <a:pt x="231" y="80"/>
                      </a:lnTo>
                      <a:lnTo>
                        <a:pt x="241" y="80"/>
                      </a:lnTo>
                      <a:lnTo>
                        <a:pt x="251" y="91"/>
                      </a:lnTo>
                      <a:lnTo>
                        <a:pt x="251" y="103"/>
                      </a:lnTo>
                      <a:lnTo>
                        <a:pt x="261" y="103"/>
                      </a:lnTo>
                      <a:lnTo>
                        <a:pt x="261" y="114"/>
                      </a:lnTo>
                      <a:lnTo>
                        <a:pt x="261" y="125"/>
                      </a:lnTo>
                      <a:lnTo>
                        <a:pt x="251" y="137"/>
                      </a:lnTo>
                      <a:lnTo>
                        <a:pt x="261" y="137"/>
                      </a:lnTo>
                      <a:lnTo>
                        <a:pt x="261" y="148"/>
                      </a:lnTo>
                      <a:lnTo>
                        <a:pt x="271" y="148"/>
                      </a:lnTo>
                      <a:lnTo>
                        <a:pt x="271" y="160"/>
                      </a:lnTo>
                      <a:lnTo>
                        <a:pt x="271" y="171"/>
                      </a:lnTo>
                      <a:lnTo>
                        <a:pt x="281" y="171"/>
                      </a:lnTo>
                      <a:lnTo>
                        <a:pt x="301" y="182"/>
                      </a:lnTo>
                      <a:lnTo>
                        <a:pt x="311" y="194"/>
                      </a:lnTo>
                      <a:lnTo>
                        <a:pt x="301" y="194"/>
                      </a:lnTo>
                      <a:lnTo>
                        <a:pt x="281" y="182"/>
                      </a:lnTo>
                      <a:lnTo>
                        <a:pt x="261" y="182"/>
                      </a:lnTo>
                      <a:lnTo>
                        <a:pt x="251" y="171"/>
                      </a:lnTo>
                      <a:lnTo>
                        <a:pt x="241" y="160"/>
                      </a:lnTo>
                      <a:lnTo>
                        <a:pt x="231" y="148"/>
                      </a:lnTo>
                      <a:lnTo>
                        <a:pt x="211" y="137"/>
                      </a:lnTo>
                      <a:lnTo>
                        <a:pt x="181" y="137"/>
                      </a:lnTo>
                      <a:lnTo>
                        <a:pt x="171" y="137"/>
                      </a:lnTo>
                      <a:lnTo>
                        <a:pt x="161" y="137"/>
                      </a:lnTo>
                      <a:lnTo>
                        <a:pt x="171" y="137"/>
                      </a:lnTo>
                      <a:lnTo>
                        <a:pt x="171" y="148"/>
                      </a:lnTo>
                      <a:lnTo>
                        <a:pt x="181" y="160"/>
                      </a:lnTo>
                      <a:lnTo>
                        <a:pt x="191" y="160"/>
                      </a:lnTo>
                      <a:lnTo>
                        <a:pt x="191" y="171"/>
                      </a:lnTo>
                      <a:lnTo>
                        <a:pt x="181" y="171"/>
                      </a:lnTo>
                      <a:lnTo>
                        <a:pt x="171" y="171"/>
                      </a:lnTo>
                      <a:lnTo>
                        <a:pt x="161" y="1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124760" y="3876840"/>
                  <a:ext cx="237960" cy="90360"/>
                </a:xfrm>
                <a:custGeom>
                  <a:avLst/>
                  <a:gdLst/>
                  <a:ahLst/>
                  <a:rect l="l" t="t" r="r" b="b"/>
                  <a:pathLst>
                    <a:path w="150" h="57">
                      <a:moveTo>
                        <a:pt x="70" y="45"/>
                      </a:moveTo>
                      <a:lnTo>
                        <a:pt x="60" y="34"/>
                      </a:lnTo>
                      <a:lnTo>
                        <a:pt x="40" y="34"/>
                      </a:lnTo>
                      <a:lnTo>
                        <a:pt x="20" y="34"/>
                      </a:lnTo>
                      <a:lnTo>
                        <a:pt x="0" y="22"/>
                      </a:lnTo>
                      <a:lnTo>
                        <a:pt x="10" y="11"/>
                      </a:lnTo>
                      <a:lnTo>
                        <a:pt x="30" y="0"/>
                      </a:lnTo>
                      <a:lnTo>
                        <a:pt x="50" y="0"/>
                      </a:lnTo>
                      <a:lnTo>
                        <a:pt x="70" y="0"/>
                      </a:lnTo>
                      <a:lnTo>
                        <a:pt x="60" y="0"/>
                      </a:lnTo>
                      <a:lnTo>
                        <a:pt x="50" y="11"/>
                      </a:lnTo>
                      <a:lnTo>
                        <a:pt x="50" y="22"/>
                      </a:lnTo>
                      <a:lnTo>
                        <a:pt x="60" y="22"/>
                      </a:lnTo>
                      <a:lnTo>
                        <a:pt x="70" y="22"/>
                      </a:lnTo>
                      <a:lnTo>
                        <a:pt x="80" y="11"/>
                      </a:lnTo>
                      <a:lnTo>
                        <a:pt x="90" y="11"/>
                      </a:lnTo>
                      <a:lnTo>
                        <a:pt x="110" y="22"/>
                      </a:lnTo>
                      <a:lnTo>
                        <a:pt x="130" y="22"/>
                      </a:lnTo>
                      <a:lnTo>
                        <a:pt x="140" y="34"/>
                      </a:lnTo>
                      <a:lnTo>
                        <a:pt x="150" y="45"/>
                      </a:lnTo>
                      <a:lnTo>
                        <a:pt x="150" y="57"/>
                      </a:lnTo>
                      <a:lnTo>
                        <a:pt x="140" y="57"/>
                      </a:lnTo>
                      <a:lnTo>
                        <a:pt x="130" y="57"/>
                      </a:lnTo>
                      <a:lnTo>
                        <a:pt x="120" y="45"/>
                      </a:lnTo>
                      <a:lnTo>
                        <a:pt x="120" y="57"/>
                      </a:lnTo>
                      <a:lnTo>
                        <a:pt x="100" y="45"/>
                      </a:lnTo>
                      <a:lnTo>
                        <a:pt x="90" y="45"/>
                      </a:lnTo>
                      <a:lnTo>
                        <a:pt x="70" y="45"/>
                      </a:lnTo>
                      <a:lnTo>
                        <a:pt x="70" y="45"/>
                      </a:lnTo>
                      <a:close/>
                    </a:path>
                  </a:pathLst>
                </a:custGeom>
                <a:solidFill>
                  <a:srgbClr val="00937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7124760" y="3876840"/>
                  <a:ext cx="237960" cy="90360"/>
                </a:xfrm>
                <a:custGeom>
                  <a:avLst/>
                  <a:gdLst/>
                  <a:ahLst/>
                  <a:rect l="l" t="t" r="r" b="b"/>
                  <a:pathLst>
                    <a:path w="150" h="57">
                      <a:moveTo>
                        <a:pt x="70" y="45"/>
                      </a:moveTo>
                      <a:lnTo>
                        <a:pt x="60" y="34"/>
                      </a:lnTo>
                      <a:lnTo>
                        <a:pt x="40" y="34"/>
                      </a:lnTo>
                      <a:lnTo>
                        <a:pt x="20" y="34"/>
                      </a:lnTo>
                      <a:lnTo>
                        <a:pt x="0" y="22"/>
                      </a:lnTo>
                      <a:lnTo>
                        <a:pt x="10" y="11"/>
                      </a:lnTo>
                      <a:lnTo>
                        <a:pt x="30" y="0"/>
                      </a:lnTo>
                      <a:lnTo>
                        <a:pt x="50" y="0"/>
                      </a:lnTo>
                      <a:lnTo>
                        <a:pt x="70" y="0"/>
                      </a:lnTo>
                      <a:lnTo>
                        <a:pt x="60" y="0"/>
                      </a:lnTo>
                      <a:lnTo>
                        <a:pt x="50" y="11"/>
                      </a:lnTo>
                      <a:lnTo>
                        <a:pt x="50" y="22"/>
                      </a:lnTo>
                      <a:lnTo>
                        <a:pt x="60" y="22"/>
                      </a:lnTo>
                      <a:lnTo>
                        <a:pt x="70" y="22"/>
                      </a:lnTo>
                      <a:lnTo>
                        <a:pt x="80" y="11"/>
                      </a:lnTo>
                      <a:lnTo>
                        <a:pt x="90" y="11"/>
                      </a:lnTo>
                      <a:lnTo>
                        <a:pt x="110" y="22"/>
                      </a:lnTo>
                      <a:lnTo>
                        <a:pt x="130" y="22"/>
                      </a:lnTo>
                      <a:lnTo>
                        <a:pt x="140" y="34"/>
                      </a:lnTo>
                      <a:lnTo>
                        <a:pt x="150" y="45"/>
                      </a:lnTo>
                      <a:lnTo>
                        <a:pt x="150" y="57"/>
                      </a:lnTo>
                      <a:lnTo>
                        <a:pt x="140" y="57"/>
                      </a:lnTo>
                      <a:lnTo>
                        <a:pt x="130" y="57"/>
                      </a:lnTo>
                      <a:lnTo>
                        <a:pt x="120" y="45"/>
                      </a:lnTo>
                      <a:lnTo>
                        <a:pt x="120" y="57"/>
                      </a:lnTo>
                      <a:lnTo>
                        <a:pt x="100" y="45"/>
                      </a:lnTo>
                      <a:lnTo>
                        <a:pt x="90" y="45"/>
                      </a:lnTo>
                      <a:lnTo>
                        <a:pt x="70" y="45"/>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7489800" y="3948120"/>
                  <a:ext cx="15840" cy="36360"/>
                </a:xfrm>
                <a:custGeom>
                  <a:avLst/>
                  <a:gdLst/>
                  <a:ahLst/>
                  <a:rect l="l" t="t" r="r" b="b"/>
                  <a:pathLst>
                    <a:path w="10" h="23">
                      <a:moveTo>
                        <a:pt x="0" y="0"/>
                      </a:moveTo>
                      <a:lnTo>
                        <a:pt x="10" y="12"/>
                      </a:lnTo>
                      <a:lnTo>
                        <a:pt x="10" y="23"/>
                      </a:lnTo>
                      <a:lnTo>
                        <a:pt x="0" y="23"/>
                      </a:lnTo>
                      <a:lnTo>
                        <a:pt x="0" y="12"/>
                      </a:lnTo>
                      <a:lnTo>
                        <a:pt x="0" y="0"/>
                      </a:lnTo>
                      <a:lnTo>
                        <a:pt x="0"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5" name=""/>
                <p:cNvSpPr/>
                <p:nvPr/>
              </p:nvSpPr>
              <p:spPr>
                <a:xfrm>
                  <a:off x="7489800" y="3948120"/>
                  <a:ext cx="15840" cy="36360"/>
                </a:xfrm>
                <a:custGeom>
                  <a:avLst/>
                  <a:gdLst/>
                  <a:ahLst/>
                  <a:rect l="l" t="t" r="r" b="b"/>
                  <a:pathLst>
                    <a:path w="10" h="23">
                      <a:moveTo>
                        <a:pt x="0" y="0"/>
                      </a:moveTo>
                      <a:lnTo>
                        <a:pt x="10" y="12"/>
                      </a:lnTo>
                      <a:lnTo>
                        <a:pt x="10" y="23"/>
                      </a:lnTo>
                      <a:lnTo>
                        <a:pt x="0" y="23"/>
                      </a:lnTo>
                      <a:lnTo>
                        <a:pt x="0" y="12"/>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7410600" y="3948120"/>
                  <a:ext cx="15840" cy="36360"/>
                </a:xfrm>
                <a:custGeom>
                  <a:avLst/>
                  <a:gdLst/>
                  <a:ahLst/>
                  <a:rect l="l" t="t" r="r" b="b"/>
                  <a:pathLst>
                    <a:path w="10" h="23">
                      <a:moveTo>
                        <a:pt x="10" y="0"/>
                      </a:moveTo>
                      <a:lnTo>
                        <a:pt x="0" y="12"/>
                      </a:lnTo>
                      <a:lnTo>
                        <a:pt x="0" y="23"/>
                      </a:lnTo>
                      <a:lnTo>
                        <a:pt x="0" y="12"/>
                      </a:lnTo>
                      <a:lnTo>
                        <a:pt x="10" y="0"/>
                      </a:lnTo>
                      <a:lnTo>
                        <a:pt x="10" y="0"/>
                      </a:lnTo>
                      <a:close/>
                    </a:path>
                  </a:pathLst>
                </a:custGeom>
                <a:solidFill>
                  <a:srgbClr val="0093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7" name=""/>
                <p:cNvSpPr/>
                <p:nvPr/>
              </p:nvSpPr>
              <p:spPr>
                <a:xfrm>
                  <a:off x="7410600" y="3948120"/>
                  <a:ext cx="15840" cy="36360"/>
                </a:xfrm>
                <a:custGeom>
                  <a:avLst/>
                  <a:gdLst/>
                  <a:ahLst/>
                  <a:rect l="l" t="t" r="r" b="b"/>
                  <a:pathLst>
                    <a:path w="10" h="23">
                      <a:moveTo>
                        <a:pt x="10" y="0"/>
                      </a:moveTo>
                      <a:lnTo>
                        <a:pt x="0" y="12"/>
                      </a:lnTo>
                      <a:lnTo>
                        <a:pt x="0" y="23"/>
                      </a:lnTo>
                      <a:lnTo>
                        <a:pt x="0" y="12"/>
                      </a:lnTo>
                      <a:lnTo>
                        <a:pt x="1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8" name=""/>
                <p:cNvSpPr/>
                <p:nvPr/>
              </p:nvSpPr>
              <p:spPr>
                <a:xfrm>
                  <a:off x="7569360" y="3948120"/>
                  <a:ext cx="95040" cy="54000"/>
                </a:xfrm>
                <a:custGeom>
                  <a:avLst/>
                  <a:gdLst/>
                  <a:ahLst/>
                  <a:rect l="l" t="t" r="r" b="b"/>
                  <a:pathLst>
                    <a:path w="60" h="34">
                      <a:moveTo>
                        <a:pt x="20" y="23"/>
                      </a:moveTo>
                      <a:lnTo>
                        <a:pt x="10" y="34"/>
                      </a:lnTo>
                      <a:lnTo>
                        <a:pt x="0" y="34"/>
                      </a:lnTo>
                      <a:lnTo>
                        <a:pt x="10" y="23"/>
                      </a:lnTo>
                      <a:lnTo>
                        <a:pt x="20" y="23"/>
                      </a:lnTo>
                      <a:lnTo>
                        <a:pt x="30" y="12"/>
                      </a:lnTo>
                      <a:lnTo>
                        <a:pt x="40" y="0"/>
                      </a:lnTo>
                      <a:lnTo>
                        <a:pt x="50" y="0"/>
                      </a:lnTo>
                      <a:lnTo>
                        <a:pt x="60" y="0"/>
                      </a:lnTo>
                      <a:lnTo>
                        <a:pt x="60" y="12"/>
                      </a:lnTo>
                      <a:lnTo>
                        <a:pt x="50" y="23"/>
                      </a:lnTo>
                      <a:lnTo>
                        <a:pt x="30" y="23"/>
                      </a:lnTo>
                      <a:lnTo>
                        <a:pt x="20" y="23"/>
                      </a:lnTo>
                      <a:lnTo>
                        <a:pt x="20" y="23"/>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a:off x="7569360" y="3948120"/>
                  <a:ext cx="95040" cy="54000"/>
                </a:xfrm>
                <a:custGeom>
                  <a:avLst/>
                  <a:gdLst/>
                  <a:ahLst/>
                  <a:rect l="l" t="t" r="r" b="b"/>
                  <a:pathLst>
                    <a:path w="60" h="34">
                      <a:moveTo>
                        <a:pt x="20" y="23"/>
                      </a:moveTo>
                      <a:lnTo>
                        <a:pt x="10" y="34"/>
                      </a:lnTo>
                      <a:lnTo>
                        <a:pt x="0" y="34"/>
                      </a:lnTo>
                      <a:lnTo>
                        <a:pt x="10" y="23"/>
                      </a:lnTo>
                      <a:lnTo>
                        <a:pt x="20" y="23"/>
                      </a:lnTo>
                      <a:lnTo>
                        <a:pt x="30" y="12"/>
                      </a:lnTo>
                      <a:lnTo>
                        <a:pt x="40" y="0"/>
                      </a:lnTo>
                      <a:lnTo>
                        <a:pt x="50" y="0"/>
                      </a:lnTo>
                      <a:lnTo>
                        <a:pt x="60" y="0"/>
                      </a:lnTo>
                      <a:lnTo>
                        <a:pt x="60" y="12"/>
                      </a:lnTo>
                      <a:lnTo>
                        <a:pt x="50" y="23"/>
                      </a:lnTo>
                      <a:lnTo>
                        <a:pt x="30" y="23"/>
                      </a:lnTo>
                      <a:lnTo>
                        <a:pt x="20" y="2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 name=""/>
                <p:cNvSpPr/>
                <p:nvPr/>
              </p:nvSpPr>
              <p:spPr>
                <a:xfrm>
                  <a:off x="5613480" y="4075200"/>
                  <a:ext cx="174600" cy="415800"/>
                </a:xfrm>
                <a:custGeom>
                  <a:avLst/>
                  <a:gdLst/>
                  <a:ahLst/>
                  <a:rect l="l" t="t" r="r" b="b"/>
                  <a:pathLst>
                    <a:path w="110" h="262">
                      <a:moveTo>
                        <a:pt x="0" y="194"/>
                      </a:moveTo>
                      <a:lnTo>
                        <a:pt x="0" y="182"/>
                      </a:lnTo>
                      <a:lnTo>
                        <a:pt x="10" y="160"/>
                      </a:lnTo>
                      <a:lnTo>
                        <a:pt x="20" y="148"/>
                      </a:lnTo>
                      <a:lnTo>
                        <a:pt x="20" y="125"/>
                      </a:lnTo>
                      <a:lnTo>
                        <a:pt x="20" y="103"/>
                      </a:lnTo>
                      <a:lnTo>
                        <a:pt x="20" y="80"/>
                      </a:lnTo>
                      <a:lnTo>
                        <a:pt x="30" y="80"/>
                      </a:lnTo>
                      <a:lnTo>
                        <a:pt x="50" y="68"/>
                      </a:lnTo>
                      <a:lnTo>
                        <a:pt x="60" y="57"/>
                      </a:lnTo>
                      <a:lnTo>
                        <a:pt x="80" y="57"/>
                      </a:lnTo>
                      <a:lnTo>
                        <a:pt x="70" y="46"/>
                      </a:lnTo>
                      <a:lnTo>
                        <a:pt x="80" y="23"/>
                      </a:lnTo>
                      <a:lnTo>
                        <a:pt x="90" y="11"/>
                      </a:lnTo>
                      <a:lnTo>
                        <a:pt x="100" y="0"/>
                      </a:lnTo>
                      <a:lnTo>
                        <a:pt x="100" y="11"/>
                      </a:lnTo>
                      <a:lnTo>
                        <a:pt x="110" y="23"/>
                      </a:lnTo>
                      <a:lnTo>
                        <a:pt x="110" y="46"/>
                      </a:lnTo>
                      <a:lnTo>
                        <a:pt x="100" y="68"/>
                      </a:lnTo>
                      <a:lnTo>
                        <a:pt x="90" y="103"/>
                      </a:lnTo>
                      <a:lnTo>
                        <a:pt x="90" y="114"/>
                      </a:lnTo>
                      <a:lnTo>
                        <a:pt x="90" y="148"/>
                      </a:lnTo>
                      <a:lnTo>
                        <a:pt x="70" y="194"/>
                      </a:lnTo>
                      <a:lnTo>
                        <a:pt x="60" y="228"/>
                      </a:lnTo>
                      <a:lnTo>
                        <a:pt x="50" y="251"/>
                      </a:lnTo>
                      <a:lnTo>
                        <a:pt x="30" y="262"/>
                      </a:lnTo>
                      <a:lnTo>
                        <a:pt x="10" y="262"/>
                      </a:lnTo>
                      <a:lnTo>
                        <a:pt x="0" y="239"/>
                      </a:lnTo>
                      <a:lnTo>
                        <a:pt x="0" y="217"/>
                      </a:lnTo>
                      <a:lnTo>
                        <a:pt x="0" y="205"/>
                      </a:lnTo>
                      <a:lnTo>
                        <a:pt x="0" y="194"/>
                      </a:lnTo>
                      <a:lnTo>
                        <a:pt x="0" y="194"/>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613480" y="4075200"/>
                  <a:ext cx="174600" cy="415800"/>
                </a:xfrm>
                <a:custGeom>
                  <a:avLst/>
                  <a:gdLst/>
                  <a:ahLst/>
                  <a:rect l="l" t="t" r="r" b="b"/>
                  <a:pathLst>
                    <a:path w="110" h="262">
                      <a:moveTo>
                        <a:pt x="0" y="194"/>
                      </a:moveTo>
                      <a:lnTo>
                        <a:pt x="0" y="182"/>
                      </a:lnTo>
                      <a:lnTo>
                        <a:pt x="10" y="160"/>
                      </a:lnTo>
                      <a:lnTo>
                        <a:pt x="20" y="148"/>
                      </a:lnTo>
                      <a:lnTo>
                        <a:pt x="20" y="125"/>
                      </a:lnTo>
                      <a:lnTo>
                        <a:pt x="20" y="103"/>
                      </a:lnTo>
                      <a:lnTo>
                        <a:pt x="20" y="80"/>
                      </a:lnTo>
                      <a:lnTo>
                        <a:pt x="30" y="80"/>
                      </a:lnTo>
                      <a:lnTo>
                        <a:pt x="50" y="68"/>
                      </a:lnTo>
                      <a:lnTo>
                        <a:pt x="60" y="57"/>
                      </a:lnTo>
                      <a:lnTo>
                        <a:pt x="80" y="57"/>
                      </a:lnTo>
                      <a:lnTo>
                        <a:pt x="70" y="46"/>
                      </a:lnTo>
                      <a:lnTo>
                        <a:pt x="80" y="23"/>
                      </a:lnTo>
                      <a:lnTo>
                        <a:pt x="90" y="11"/>
                      </a:lnTo>
                      <a:lnTo>
                        <a:pt x="100" y="0"/>
                      </a:lnTo>
                      <a:lnTo>
                        <a:pt x="100" y="11"/>
                      </a:lnTo>
                      <a:lnTo>
                        <a:pt x="110" y="23"/>
                      </a:lnTo>
                      <a:lnTo>
                        <a:pt x="110" y="46"/>
                      </a:lnTo>
                      <a:lnTo>
                        <a:pt x="100" y="68"/>
                      </a:lnTo>
                      <a:lnTo>
                        <a:pt x="90" y="103"/>
                      </a:lnTo>
                      <a:lnTo>
                        <a:pt x="90" y="114"/>
                      </a:lnTo>
                      <a:lnTo>
                        <a:pt x="90" y="148"/>
                      </a:lnTo>
                      <a:lnTo>
                        <a:pt x="70" y="194"/>
                      </a:lnTo>
                      <a:lnTo>
                        <a:pt x="60" y="228"/>
                      </a:lnTo>
                      <a:lnTo>
                        <a:pt x="50" y="251"/>
                      </a:lnTo>
                      <a:lnTo>
                        <a:pt x="30" y="262"/>
                      </a:lnTo>
                      <a:lnTo>
                        <a:pt x="10" y="262"/>
                      </a:lnTo>
                      <a:lnTo>
                        <a:pt x="0" y="239"/>
                      </a:lnTo>
                      <a:lnTo>
                        <a:pt x="0" y="217"/>
                      </a:lnTo>
                      <a:lnTo>
                        <a:pt x="0" y="205"/>
                      </a:lnTo>
                      <a:lnTo>
                        <a:pt x="0" y="1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219800" y="4038480"/>
                  <a:ext cx="986040" cy="887400"/>
                </a:xfrm>
                <a:custGeom>
                  <a:avLst/>
                  <a:gdLst/>
                  <a:ahLst/>
                  <a:rect l="l" t="t" r="r" b="b"/>
                  <a:pathLst>
                    <a:path w="621" h="559">
                      <a:moveTo>
                        <a:pt x="401" y="536"/>
                      </a:moveTo>
                      <a:lnTo>
                        <a:pt x="381" y="536"/>
                      </a:lnTo>
                      <a:lnTo>
                        <a:pt x="351" y="536"/>
                      </a:lnTo>
                      <a:lnTo>
                        <a:pt x="340" y="536"/>
                      </a:lnTo>
                      <a:lnTo>
                        <a:pt x="340" y="525"/>
                      </a:lnTo>
                      <a:lnTo>
                        <a:pt x="340" y="502"/>
                      </a:lnTo>
                      <a:lnTo>
                        <a:pt x="340" y="490"/>
                      </a:lnTo>
                      <a:lnTo>
                        <a:pt x="330" y="490"/>
                      </a:lnTo>
                      <a:lnTo>
                        <a:pt x="320" y="479"/>
                      </a:lnTo>
                      <a:lnTo>
                        <a:pt x="310" y="479"/>
                      </a:lnTo>
                      <a:lnTo>
                        <a:pt x="310" y="468"/>
                      </a:lnTo>
                      <a:lnTo>
                        <a:pt x="320" y="456"/>
                      </a:lnTo>
                      <a:lnTo>
                        <a:pt x="330" y="445"/>
                      </a:lnTo>
                      <a:lnTo>
                        <a:pt x="340" y="422"/>
                      </a:lnTo>
                      <a:lnTo>
                        <a:pt x="340" y="433"/>
                      </a:lnTo>
                      <a:lnTo>
                        <a:pt x="330" y="445"/>
                      </a:lnTo>
                      <a:lnTo>
                        <a:pt x="310" y="456"/>
                      </a:lnTo>
                      <a:lnTo>
                        <a:pt x="300" y="468"/>
                      </a:lnTo>
                      <a:lnTo>
                        <a:pt x="290" y="468"/>
                      </a:lnTo>
                      <a:lnTo>
                        <a:pt x="280" y="445"/>
                      </a:lnTo>
                      <a:lnTo>
                        <a:pt x="270" y="422"/>
                      </a:lnTo>
                      <a:lnTo>
                        <a:pt x="260" y="399"/>
                      </a:lnTo>
                      <a:lnTo>
                        <a:pt x="250" y="399"/>
                      </a:lnTo>
                      <a:lnTo>
                        <a:pt x="240" y="399"/>
                      </a:lnTo>
                      <a:lnTo>
                        <a:pt x="220" y="411"/>
                      </a:lnTo>
                      <a:lnTo>
                        <a:pt x="210" y="411"/>
                      </a:lnTo>
                      <a:lnTo>
                        <a:pt x="200" y="422"/>
                      </a:lnTo>
                      <a:lnTo>
                        <a:pt x="190" y="422"/>
                      </a:lnTo>
                      <a:lnTo>
                        <a:pt x="180" y="422"/>
                      </a:lnTo>
                      <a:lnTo>
                        <a:pt x="170" y="422"/>
                      </a:lnTo>
                      <a:lnTo>
                        <a:pt x="160" y="422"/>
                      </a:lnTo>
                      <a:lnTo>
                        <a:pt x="140" y="433"/>
                      </a:lnTo>
                      <a:lnTo>
                        <a:pt x="140" y="445"/>
                      </a:lnTo>
                      <a:lnTo>
                        <a:pt x="130" y="445"/>
                      </a:lnTo>
                      <a:lnTo>
                        <a:pt x="130" y="456"/>
                      </a:lnTo>
                      <a:lnTo>
                        <a:pt x="100" y="456"/>
                      </a:lnTo>
                      <a:lnTo>
                        <a:pt x="80" y="456"/>
                      </a:lnTo>
                      <a:lnTo>
                        <a:pt x="60" y="468"/>
                      </a:lnTo>
                      <a:lnTo>
                        <a:pt x="40" y="468"/>
                      </a:lnTo>
                      <a:lnTo>
                        <a:pt x="30" y="479"/>
                      </a:lnTo>
                      <a:lnTo>
                        <a:pt x="20" y="479"/>
                      </a:lnTo>
                      <a:lnTo>
                        <a:pt x="0" y="445"/>
                      </a:lnTo>
                      <a:lnTo>
                        <a:pt x="10" y="433"/>
                      </a:lnTo>
                      <a:lnTo>
                        <a:pt x="20" y="422"/>
                      </a:lnTo>
                      <a:lnTo>
                        <a:pt x="30" y="411"/>
                      </a:lnTo>
                      <a:lnTo>
                        <a:pt x="30" y="399"/>
                      </a:lnTo>
                      <a:lnTo>
                        <a:pt x="20" y="388"/>
                      </a:lnTo>
                      <a:lnTo>
                        <a:pt x="30" y="376"/>
                      </a:lnTo>
                      <a:lnTo>
                        <a:pt x="30" y="365"/>
                      </a:lnTo>
                      <a:lnTo>
                        <a:pt x="30" y="354"/>
                      </a:lnTo>
                      <a:lnTo>
                        <a:pt x="20" y="342"/>
                      </a:lnTo>
                      <a:lnTo>
                        <a:pt x="20" y="319"/>
                      </a:lnTo>
                      <a:lnTo>
                        <a:pt x="20" y="297"/>
                      </a:lnTo>
                      <a:lnTo>
                        <a:pt x="30" y="297"/>
                      </a:lnTo>
                      <a:lnTo>
                        <a:pt x="30" y="285"/>
                      </a:lnTo>
                      <a:lnTo>
                        <a:pt x="30" y="274"/>
                      </a:lnTo>
                      <a:lnTo>
                        <a:pt x="30" y="262"/>
                      </a:lnTo>
                      <a:lnTo>
                        <a:pt x="40" y="228"/>
                      </a:lnTo>
                      <a:lnTo>
                        <a:pt x="70" y="205"/>
                      </a:lnTo>
                      <a:lnTo>
                        <a:pt x="90" y="183"/>
                      </a:lnTo>
                      <a:lnTo>
                        <a:pt x="90" y="194"/>
                      </a:lnTo>
                      <a:lnTo>
                        <a:pt x="100" y="194"/>
                      </a:lnTo>
                      <a:lnTo>
                        <a:pt x="110" y="183"/>
                      </a:lnTo>
                      <a:lnTo>
                        <a:pt x="120" y="183"/>
                      </a:lnTo>
                      <a:lnTo>
                        <a:pt x="130" y="171"/>
                      </a:lnTo>
                      <a:lnTo>
                        <a:pt x="140" y="171"/>
                      </a:lnTo>
                      <a:lnTo>
                        <a:pt x="150" y="171"/>
                      </a:lnTo>
                      <a:lnTo>
                        <a:pt x="160" y="171"/>
                      </a:lnTo>
                      <a:lnTo>
                        <a:pt x="160" y="160"/>
                      </a:lnTo>
                      <a:lnTo>
                        <a:pt x="170" y="148"/>
                      </a:lnTo>
                      <a:lnTo>
                        <a:pt x="180" y="148"/>
                      </a:lnTo>
                      <a:lnTo>
                        <a:pt x="180" y="137"/>
                      </a:lnTo>
                      <a:lnTo>
                        <a:pt x="190" y="126"/>
                      </a:lnTo>
                      <a:lnTo>
                        <a:pt x="190" y="114"/>
                      </a:lnTo>
                      <a:lnTo>
                        <a:pt x="200" y="103"/>
                      </a:lnTo>
                      <a:lnTo>
                        <a:pt x="200" y="114"/>
                      </a:lnTo>
                      <a:lnTo>
                        <a:pt x="200" y="126"/>
                      </a:lnTo>
                      <a:lnTo>
                        <a:pt x="200" y="137"/>
                      </a:lnTo>
                      <a:lnTo>
                        <a:pt x="210" y="126"/>
                      </a:lnTo>
                      <a:lnTo>
                        <a:pt x="210" y="114"/>
                      </a:lnTo>
                      <a:lnTo>
                        <a:pt x="210" y="103"/>
                      </a:lnTo>
                      <a:lnTo>
                        <a:pt x="220" y="91"/>
                      </a:lnTo>
                      <a:lnTo>
                        <a:pt x="230" y="91"/>
                      </a:lnTo>
                      <a:lnTo>
                        <a:pt x="240" y="80"/>
                      </a:lnTo>
                      <a:lnTo>
                        <a:pt x="240" y="69"/>
                      </a:lnTo>
                      <a:lnTo>
                        <a:pt x="250" y="57"/>
                      </a:lnTo>
                      <a:lnTo>
                        <a:pt x="260" y="57"/>
                      </a:lnTo>
                      <a:lnTo>
                        <a:pt x="270" y="57"/>
                      </a:lnTo>
                      <a:lnTo>
                        <a:pt x="270" y="69"/>
                      </a:lnTo>
                      <a:lnTo>
                        <a:pt x="270" y="80"/>
                      </a:lnTo>
                      <a:lnTo>
                        <a:pt x="270" y="91"/>
                      </a:lnTo>
                      <a:lnTo>
                        <a:pt x="300" y="103"/>
                      </a:lnTo>
                      <a:lnTo>
                        <a:pt x="310" y="103"/>
                      </a:lnTo>
                      <a:lnTo>
                        <a:pt x="310" y="80"/>
                      </a:lnTo>
                      <a:lnTo>
                        <a:pt x="310" y="69"/>
                      </a:lnTo>
                      <a:lnTo>
                        <a:pt x="310" y="57"/>
                      </a:lnTo>
                      <a:lnTo>
                        <a:pt x="310" y="46"/>
                      </a:lnTo>
                      <a:lnTo>
                        <a:pt x="320" y="34"/>
                      </a:lnTo>
                      <a:lnTo>
                        <a:pt x="330" y="23"/>
                      </a:lnTo>
                      <a:lnTo>
                        <a:pt x="340" y="23"/>
                      </a:lnTo>
                      <a:lnTo>
                        <a:pt x="351" y="23"/>
                      </a:lnTo>
                      <a:lnTo>
                        <a:pt x="371" y="23"/>
                      </a:lnTo>
                      <a:lnTo>
                        <a:pt x="351" y="12"/>
                      </a:lnTo>
                      <a:lnTo>
                        <a:pt x="351" y="0"/>
                      </a:lnTo>
                      <a:lnTo>
                        <a:pt x="351" y="12"/>
                      </a:lnTo>
                      <a:lnTo>
                        <a:pt x="381" y="12"/>
                      </a:lnTo>
                      <a:lnTo>
                        <a:pt x="391" y="23"/>
                      </a:lnTo>
                      <a:lnTo>
                        <a:pt x="411" y="23"/>
                      </a:lnTo>
                      <a:lnTo>
                        <a:pt x="421" y="23"/>
                      </a:lnTo>
                      <a:lnTo>
                        <a:pt x="431" y="23"/>
                      </a:lnTo>
                      <a:lnTo>
                        <a:pt x="421" y="46"/>
                      </a:lnTo>
                      <a:lnTo>
                        <a:pt x="411" y="57"/>
                      </a:lnTo>
                      <a:lnTo>
                        <a:pt x="401" y="80"/>
                      </a:lnTo>
                      <a:lnTo>
                        <a:pt x="401" y="91"/>
                      </a:lnTo>
                      <a:lnTo>
                        <a:pt x="411" y="103"/>
                      </a:lnTo>
                      <a:lnTo>
                        <a:pt x="421" y="103"/>
                      </a:lnTo>
                      <a:lnTo>
                        <a:pt x="431" y="103"/>
                      </a:lnTo>
                      <a:lnTo>
                        <a:pt x="441" y="114"/>
                      </a:lnTo>
                      <a:lnTo>
                        <a:pt x="451" y="114"/>
                      </a:lnTo>
                      <a:lnTo>
                        <a:pt x="451" y="126"/>
                      </a:lnTo>
                      <a:lnTo>
                        <a:pt x="461" y="126"/>
                      </a:lnTo>
                      <a:lnTo>
                        <a:pt x="461" y="137"/>
                      </a:lnTo>
                      <a:lnTo>
                        <a:pt x="471" y="126"/>
                      </a:lnTo>
                      <a:lnTo>
                        <a:pt x="491" y="103"/>
                      </a:lnTo>
                      <a:lnTo>
                        <a:pt x="491" y="80"/>
                      </a:lnTo>
                      <a:lnTo>
                        <a:pt x="501" y="69"/>
                      </a:lnTo>
                      <a:lnTo>
                        <a:pt x="501" y="57"/>
                      </a:lnTo>
                      <a:lnTo>
                        <a:pt x="501" y="46"/>
                      </a:lnTo>
                      <a:lnTo>
                        <a:pt x="501" y="34"/>
                      </a:lnTo>
                      <a:lnTo>
                        <a:pt x="511" y="34"/>
                      </a:lnTo>
                      <a:lnTo>
                        <a:pt x="511" y="23"/>
                      </a:lnTo>
                      <a:lnTo>
                        <a:pt x="521" y="23"/>
                      </a:lnTo>
                      <a:lnTo>
                        <a:pt x="531" y="34"/>
                      </a:lnTo>
                      <a:lnTo>
                        <a:pt x="531" y="57"/>
                      </a:lnTo>
                      <a:lnTo>
                        <a:pt x="531" y="69"/>
                      </a:lnTo>
                      <a:lnTo>
                        <a:pt x="541" y="69"/>
                      </a:lnTo>
                      <a:lnTo>
                        <a:pt x="551" y="80"/>
                      </a:lnTo>
                      <a:lnTo>
                        <a:pt x="551" y="91"/>
                      </a:lnTo>
                      <a:lnTo>
                        <a:pt x="551" y="103"/>
                      </a:lnTo>
                      <a:lnTo>
                        <a:pt x="551" y="126"/>
                      </a:lnTo>
                      <a:lnTo>
                        <a:pt x="551" y="148"/>
                      </a:lnTo>
                      <a:lnTo>
                        <a:pt x="561" y="171"/>
                      </a:lnTo>
                      <a:lnTo>
                        <a:pt x="571" y="171"/>
                      </a:lnTo>
                      <a:lnTo>
                        <a:pt x="581" y="183"/>
                      </a:lnTo>
                      <a:lnTo>
                        <a:pt x="581" y="194"/>
                      </a:lnTo>
                      <a:lnTo>
                        <a:pt x="591" y="205"/>
                      </a:lnTo>
                      <a:lnTo>
                        <a:pt x="601" y="217"/>
                      </a:lnTo>
                      <a:lnTo>
                        <a:pt x="601" y="228"/>
                      </a:lnTo>
                      <a:lnTo>
                        <a:pt x="611" y="228"/>
                      </a:lnTo>
                      <a:lnTo>
                        <a:pt x="611" y="240"/>
                      </a:lnTo>
                      <a:lnTo>
                        <a:pt x="621" y="262"/>
                      </a:lnTo>
                      <a:lnTo>
                        <a:pt x="621" y="285"/>
                      </a:lnTo>
                      <a:lnTo>
                        <a:pt x="621" y="297"/>
                      </a:lnTo>
                      <a:lnTo>
                        <a:pt x="621" y="308"/>
                      </a:lnTo>
                      <a:lnTo>
                        <a:pt x="611" y="319"/>
                      </a:lnTo>
                      <a:lnTo>
                        <a:pt x="611" y="331"/>
                      </a:lnTo>
                      <a:lnTo>
                        <a:pt x="611" y="342"/>
                      </a:lnTo>
                      <a:lnTo>
                        <a:pt x="611" y="354"/>
                      </a:lnTo>
                      <a:lnTo>
                        <a:pt x="611" y="365"/>
                      </a:lnTo>
                      <a:lnTo>
                        <a:pt x="601" y="376"/>
                      </a:lnTo>
                      <a:lnTo>
                        <a:pt x="591" y="388"/>
                      </a:lnTo>
                      <a:lnTo>
                        <a:pt x="581" y="399"/>
                      </a:lnTo>
                      <a:lnTo>
                        <a:pt x="581" y="411"/>
                      </a:lnTo>
                      <a:lnTo>
                        <a:pt x="571" y="422"/>
                      </a:lnTo>
                      <a:lnTo>
                        <a:pt x="561" y="422"/>
                      </a:lnTo>
                      <a:lnTo>
                        <a:pt x="561" y="433"/>
                      </a:lnTo>
                      <a:lnTo>
                        <a:pt x="551" y="433"/>
                      </a:lnTo>
                      <a:lnTo>
                        <a:pt x="541" y="445"/>
                      </a:lnTo>
                      <a:lnTo>
                        <a:pt x="521" y="468"/>
                      </a:lnTo>
                      <a:lnTo>
                        <a:pt x="511" y="490"/>
                      </a:lnTo>
                      <a:lnTo>
                        <a:pt x="491" y="525"/>
                      </a:lnTo>
                      <a:lnTo>
                        <a:pt x="481" y="525"/>
                      </a:lnTo>
                      <a:lnTo>
                        <a:pt x="471" y="525"/>
                      </a:lnTo>
                      <a:lnTo>
                        <a:pt x="451" y="525"/>
                      </a:lnTo>
                      <a:lnTo>
                        <a:pt x="441" y="536"/>
                      </a:lnTo>
                      <a:lnTo>
                        <a:pt x="431" y="547"/>
                      </a:lnTo>
                      <a:lnTo>
                        <a:pt x="421" y="559"/>
                      </a:lnTo>
                      <a:lnTo>
                        <a:pt x="411" y="547"/>
                      </a:lnTo>
                      <a:lnTo>
                        <a:pt x="401" y="536"/>
                      </a:lnTo>
                      <a:lnTo>
                        <a:pt x="401" y="536"/>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219800" y="4038480"/>
                  <a:ext cx="986040" cy="887400"/>
                </a:xfrm>
                <a:custGeom>
                  <a:avLst/>
                  <a:gdLst/>
                  <a:ahLst/>
                  <a:rect l="l" t="t" r="r" b="b"/>
                  <a:pathLst>
                    <a:path w="621" h="559">
                      <a:moveTo>
                        <a:pt x="401" y="536"/>
                      </a:moveTo>
                      <a:lnTo>
                        <a:pt x="381" y="536"/>
                      </a:lnTo>
                      <a:lnTo>
                        <a:pt x="351" y="536"/>
                      </a:lnTo>
                      <a:lnTo>
                        <a:pt x="340" y="536"/>
                      </a:lnTo>
                      <a:lnTo>
                        <a:pt x="340" y="525"/>
                      </a:lnTo>
                      <a:lnTo>
                        <a:pt x="340" y="502"/>
                      </a:lnTo>
                      <a:lnTo>
                        <a:pt x="340" y="490"/>
                      </a:lnTo>
                      <a:lnTo>
                        <a:pt x="330" y="490"/>
                      </a:lnTo>
                      <a:lnTo>
                        <a:pt x="320" y="479"/>
                      </a:lnTo>
                      <a:lnTo>
                        <a:pt x="310" y="479"/>
                      </a:lnTo>
                      <a:lnTo>
                        <a:pt x="310" y="468"/>
                      </a:lnTo>
                      <a:lnTo>
                        <a:pt x="320" y="456"/>
                      </a:lnTo>
                      <a:lnTo>
                        <a:pt x="330" y="445"/>
                      </a:lnTo>
                      <a:lnTo>
                        <a:pt x="340" y="422"/>
                      </a:lnTo>
                      <a:lnTo>
                        <a:pt x="340" y="433"/>
                      </a:lnTo>
                      <a:lnTo>
                        <a:pt x="330" y="445"/>
                      </a:lnTo>
                      <a:lnTo>
                        <a:pt x="310" y="456"/>
                      </a:lnTo>
                      <a:lnTo>
                        <a:pt x="300" y="468"/>
                      </a:lnTo>
                      <a:lnTo>
                        <a:pt x="290" y="468"/>
                      </a:lnTo>
                      <a:lnTo>
                        <a:pt x="280" y="445"/>
                      </a:lnTo>
                      <a:lnTo>
                        <a:pt x="270" y="422"/>
                      </a:lnTo>
                      <a:lnTo>
                        <a:pt x="260" y="399"/>
                      </a:lnTo>
                      <a:lnTo>
                        <a:pt x="250" y="399"/>
                      </a:lnTo>
                      <a:lnTo>
                        <a:pt x="240" y="399"/>
                      </a:lnTo>
                      <a:lnTo>
                        <a:pt x="220" y="411"/>
                      </a:lnTo>
                      <a:lnTo>
                        <a:pt x="210" y="411"/>
                      </a:lnTo>
                      <a:lnTo>
                        <a:pt x="200" y="422"/>
                      </a:lnTo>
                      <a:lnTo>
                        <a:pt x="190" y="422"/>
                      </a:lnTo>
                      <a:lnTo>
                        <a:pt x="180" y="422"/>
                      </a:lnTo>
                      <a:lnTo>
                        <a:pt x="170" y="422"/>
                      </a:lnTo>
                      <a:lnTo>
                        <a:pt x="160" y="422"/>
                      </a:lnTo>
                      <a:lnTo>
                        <a:pt x="140" y="433"/>
                      </a:lnTo>
                      <a:lnTo>
                        <a:pt x="140" y="445"/>
                      </a:lnTo>
                      <a:lnTo>
                        <a:pt x="130" y="445"/>
                      </a:lnTo>
                      <a:lnTo>
                        <a:pt x="130" y="456"/>
                      </a:lnTo>
                      <a:lnTo>
                        <a:pt x="100" y="456"/>
                      </a:lnTo>
                      <a:lnTo>
                        <a:pt x="80" y="456"/>
                      </a:lnTo>
                      <a:lnTo>
                        <a:pt x="60" y="468"/>
                      </a:lnTo>
                      <a:lnTo>
                        <a:pt x="40" y="468"/>
                      </a:lnTo>
                      <a:lnTo>
                        <a:pt x="30" y="479"/>
                      </a:lnTo>
                      <a:lnTo>
                        <a:pt x="20" y="479"/>
                      </a:lnTo>
                      <a:lnTo>
                        <a:pt x="0" y="445"/>
                      </a:lnTo>
                      <a:lnTo>
                        <a:pt x="10" y="433"/>
                      </a:lnTo>
                      <a:lnTo>
                        <a:pt x="20" y="422"/>
                      </a:lnTo>
                      <a:lnTo>
                        <a:pt x="30" y="411"/>
                      </a:lnTo>
                      <a:lnTo>
                        <a:pt x="30" y="399"/>
                      </a:lnTo>
                      <a:lnTo>
                        <a:pt x="20" y="388"/>
                      </a:lnTo>
                      <a:lnTo>
                        <a:pt x="30" y="376"/>
                      </a:lnTo>
                      <a:lnTo>
                        <a:pt x="30" y="365"/>
                      </a:lnTo>
                      <a:lnTo>
                        <a:pt x="30" y="354"/>
                      </a:lnTo>
                      <a:lnTo>
                        <a:pt x="20" y="342"/>
                      </a:lnTo>
                      <a:lnTo>
                        <a:pt x="20" y="319"/>
                      </a:lnTo>
                      <a:lnTo>
                        <a:pt x="20" y="297"/>
                      </a:lnTo>
                      <a:lnTo>
                        <a:pt x="30" y="297"/>
                      </a:lnTo>
                      <a:lnTo>
                        <a:pt x="30" y="285"/>
                      </a:lnTo>
                      <a:lnTo>
                        <a:pt x="30" y="274"/>
                      </a:lnTo>
                      <a:lnTo>
                        <a:pt x="30" y="262"/>
                      </a:lnTo>
                      <a:lnTo>
                        <a:pt x="40" y="228"/>
                      </a:lnTo>
                      <a:lnTo>
                        <a:pt x="70" y="205"/>
                      </a:lnTo>
                      <a:lnTo>
                        <a:pt x="90" y="183"/>
                      </a:lnTo>
                      <a:lnTo>
                        <a:pt x="90" y="194"/>
                      </a:lnTo>
                      <a:lnTo>
                        <a:pt x="100" y="194"/>
                      </a:lnTo>
                      <a:lnTo>
                        <a:pt x="110" y="183"/>
                      </a:lnTo>
                      <a:lnTo>
                        <a:pt x="120" y="183"/>
                      </a:lnTo>
                      <a:lnTo>
                        <a:pt x="130" y="171"/>
                      </a:lnTo>
                      <a:lnTo>
                        <a:pt x="140" y="171"/>
                      </a:lnTo>
                      <a:lnTo>
                        <a:pt x="150" y="171"/>
                      </a:lnTo>
                      <a:lnTo>
                        <a:pt x="160" y="171"/>
                      </a:lnTo>
                      <a:lnTo>
                        <a:pt x="160" y="160"/>
                      </a:lnTo>
                      <a:lnTo>
                        <a:pt x="170" y="148"/>
                      </a:lnTo>
                      <a:lnTo>
                        <a:pt x="180" y="148"/>
                      </a:lnTo>
                      <a:lnTo>
                        <a:pt x="180" y="137"/>
                      </a:lnTo>
                      <a:lnTo>
                        <a:pt x="190" y="126"/>
                      </a:lnTo>
                      <a:lnTo>
                        <a:pt x="190" y="114"/>
                      </a:lnTo>
                      <a:lnTo>
                        <a:pt x="200" y="103"/>
                      </a:lnTo>
                      <a:lnTo>
                        <a:pt x="200" y="114"/>
                      </a:lnTo>
                      <a:lnTo>
                        <a:pt x="200" y="126"/>
                      </a:lnTo>
                      <a:lnTo>
                        <a:pt x="200" y="137"/>
                      </a:lnTo>
                      <a:lnTo>
                        <a:pt x="210" y="126"/>
                      </a:lnTo>
                      <a:lnTo>
                        <a:pt x="210" y="114"/>
                      </a:lnTo>
                      <a:lnTo>
                        <a:pt x="210" y="103"/>
                      </a:lnTo>
                      <a:lnTo>
                        <a:pt x="220" y="91"/>
                      </a:lnTo>
                      <a:lnTo>
                        <a:pt x="230" y="91"/>
                      </a:lnTo>
                      <a:lnTo>
                        <a:pt x="240" y="80"/>
                      </a:lnTo>
                      <a:lnTo>
                        <a:pt x="240" y="69"/>
                      </a:lnTo>
                      <a:lnTo>
                        <a:pt x="250" y="57"/>
                      </a:lnTo>
                      <a:lnTo>
                        <a:pt x="260" y="57"/>
                      </a:lnTo>
                      <a:lnTo>
                        <a:pt x="270" y="57"/>
                      </a:lnTo>
                      <a:lnTo>
                        <a:pt x="270" y="69"/>
                      </a:lnTo>
                      <a:lnTo>
                        <a:pt x="270" y="80"/>
                      </a:lnTo>
                      <a:lnTo>
                        <a:pt x="270" y="91"/>
                      </a:lnTo>
                      <a:lnTo>
                        <a:pt x="300" y="103"/>
                      </a:lnTo>
                      <a:lnTo>
                        <a:pt x="310" y="103"/>
                      </a:lnTo>
                      <a:lnTo>
                        <a:pt x="310" y="80"/>
                      </a:lnTo>
                      <a:lnTo>
                        <a:pt x="310" y="69"/>
                      </a:lnTo>
                      <a:lnTo>
                        <a:pt x="310" y="57"/>
                      </a:lnTo>
                      <a:lnTo>
                        <a:pt x="310" y="46"/>
                      </a:lnTo>
                      <a:lnTo>
                        <a:pt x="320" y="34"/>
                      </a:lnTo>
                      <a:lnTo>
                        <a:pt x="330" y="23"/>
                      </a:lnTo>
                      <a:lnTo>
                        <a:pt x="340" y="23"/>
                      </a:lnTo>
                      <a:lnTo>
                        <a:pt x="351" y="23"/>
                      </a:lnTo>
                      <a:lnTo>
                        <a:pt x="371" y="23"/>
                      </a:lnTo>
                      <a:lnTo>
                        <a:pt x="351" y="12"/>
                      </a:lnTo>
                      <a:lnTo>
                        <a:pt x="351" y="0"/>
                      </a:lnTo>
                      <a:lnTo>
                        <a:pt x="351" y="12"/>
                      </a:lnTo>
                      <a:lnTo>
                        <a:pt x="381" y="12"/>
                      </a:lnTo>
                      <a:lnTo>
                        <a:pt x="391" y="23"/>
                      </a:lnTo>
                      <a:lnTo>
                        <a:pt x="411" y="23"/>
                      </a:lnTo>
                      <a:lnTo>
                        <a:pt x="421" y="23"/>
                      </a:lnTo>
                      <a:lnTo>
                        <a:pt x="431" y="23"/>
                      </a:lnTo>
                      <a:lnTo>
                        <a:pt x="421" y="46"/>
                      </a:lnTo>
                      <a:lnTo>
                        <a:pt x="411" y="57"/>
                      </a:lnTo>
                      <a:lnTo>
                        <a:pt x="401" y="80"/>
                      </a:lnTo>
                      <a:lnTo>
                        <a:pt x="401" y="91"/>
                      </a:lnTo>
                      <a:lnTo>
                        <a:pt x="411" y="103"/>
                      </a:lnTo>
                      <a:lnTo>
                        <a:pt x="421" y="103"/>
                      </a:lnTo>
                      <a:lnTo>
                        <a:pt x="431" y="103"/>
                      </a:lnTo>
                      <a:lnTo>
                        <a:pt x="441" y="114"/>
                      </a:lnTo>
                      <a:lnTo>
                        <a:pt x="451" y="114"/>
                      </a:lnTo>
                      <a:lnTo>
                        <a:pt x="451" y="126"/>
                      </a:lnTo>
                      <a:lnTo>
                        <a:pt x="461" y="126"/>
                      </a:lnTo>
                      <a:lnTo>
                        <a:pt x="461" y="137"/>
                      </a:lnTo>
                      <a:lnTo>
                        <a:pt x="471" y="126"/>
                      </a:lnTo>
                      <a:lnTo>
                        <a:pt x="491" y="103"/>
                      </a:lnTo>
                      <a:lnTo>
                        <a:pt x="491" y="80"/>
                      </a:lnTo>
                      <a:lnTo>
                        <a:pt x="501" y="69"/>
                      </a:lnTo>
                      <a:lnTo>
                        <a:pt x="501" y="57"/>
                      </a:lnTo>
                      <a:lnTo>
                        <a:pt x="501" y="46"/>
                      </a:lnTo>
                      <a:lnTo>
                        <a:pt x="501" y="34"/>
                      </a:lnTo>
                      <a:lnTo>
                        <a:pt x="511" y="34"/>
                      </a:lnTo>
                      <a:lnTo>
                        <a:pt x="511" y="23"/>
                      </a:lnTo>
                      <a:lnTo>
                        <a:pt x="521" y="23"/>
                      </a:lnTo>
                      <a:lnTo>
                        <a:pt x="531" y="34"/>
                      </a:lnTo>
                      <a:lnTo>
                        <a:pt x="531" y="57"/>
                      </a:lnTo>
                      <a:lnTo>
                        <a:pt x="531" y="69"/>
                      </a:lnTo>
                      <a:lnTo>
                        <a:pt x="541" y="69"/>
                      </a:lnTo>
                      <a:lnTo>
                        <a:pt x="551" y="80"/>
                      </a:lnTo>
                      <a:lnTo>
                        <a:pt x="551" y="91"/>
                      </a:lnTo>
                      <a:lnTo>
                        <a:pt x="551" y="103"/>
                      </a:lnTo>
                      <a:lnTo>
                        <a:pt x="551" y="126"/>
                      </a:lnTo>
                      <a:lnTo>
                        <a:pt x="551" y="148"/>
                      </a:lnTo>
                      <a:lnTo>
                        <a:pt x="561" y="171"/>
                      </a:lnTo>
                      <a:lnTo>
                        <a:pt x="571" y="171"/>
                      </a:lnTo>
                      <a:lnTo>
                        <a:pt x="581" y="183"/>
                      </a:lnTo>
                      <a:lnTo>
                        <a:pt x="581" y="194"/>
                      </a:lnTo>
                      <a:lnTo>
                        <a:pt x="591" y="205"/>
                      </a:lnTo>
                      <a:lnTo>
                        <a:pt x="601" y="217"/>
                      </a:lnTo>
                      <a:lnTo>
                        <a:pt x="601" y="228"/>
                      </a:lnTo>
                      <a:lnTo>
                        <a:pt x="611" y="228"/>
                      </a:lnTo>
                      <a:lnTo>
                        <a:pt x="611" y="240"/>
                      </a:lnTo>
                      <a:lnTo>
                        <a:pt x="621" y="262"/>
                      </a:lnTo>
                      <a:lnTo>
                        <a:pt x="621" y="285"/>
                      </a:lnTo>
                      <a:lnTo>
                        <a:pt x="621" y="297"/>
                      </a:lnTo>
                      <a:lnTo>
                        <a:pt x="621" y="308"/>
                      </a:lnTo>
                      <a:lnTo>
                        <a:pt x="611" y="319"/>
                      </a:lnTo>
                      <a:lnTo>
                        <a:pt x="611" y="331"/>
                      </a:lnTo>
                      <a:lnTo>
                        <a:pt x="611" y="342"/>
                      </a:lnTo>
                      <a:lnTo>
                        <a:pt x="611" y="354"/>
                      </a:lnTo>
                      <a:lnTo>
                        <a:pt x="611" y="365"/>
                      </a:lnTo>
                      <a:lnTo>
                        <a:pt x="601" y="376"/>
                      </a:lnTo>
                      <a:lnTo>
                        <a:pt x="591" y="388"/>
                      </a:lnTo>
                      <a:lnTo>
                        <a:pt x="581" y="399"/>
                      </a:lnTo>
                      <a:lnTo>
                        <a:pt x="581" y="411"/>
                      </a:lnTo>
                      <a:lnTo>
                        <a:pt x="571" y="422"/>
                      </a:lnTo>
                      <a:lnTo>
                        <a:pt x="561" y="422"/>
                      </a:lnTo>
                      <a:lnTo>
                        <a:pt x="561" y="433"/>
                      </a:lnTo>
                      <a:lnTo>
                        <a:pt x="551" y="433"/>
                      </a:lnTo>
                      <a:lnTo>
                        <a:pt x="541" y="445"/>
                      </a:lnTo>
                      <a:lnTo>
                        <a:pt x="521" y="468"/>
                      </a:lnTo>
                      <a:lnTo>
                        <a:pt x="511" y="490"/>
                      </a:lnTo>
                      <a:lnTo>
                        <a:pt x="491" y="525"/>
                      </a:lnTo>
                      <a:lnTo>
                        <a:pt x="481" y="525"/>
                      </a:lnTo>
                      <a:lnTo>
                        <a:pt x="471" y="525"/>
                      </a:lnTo>
                      <a:lnTo>
                        <a:pt x="451" y="525"/>
                      </a:lnTo>
                      <a:lnTo>
                        <a:pt x="441" y="536"/>
                      </a:lnTo>
                      <a:lnTo>
                        <a:pt x="431" y="547"/>
                      </a:lnTo>
                      <a:lnTo>
                        <a:pt x="421" y="559"/>
                      </a:lnTo>
                      <a:lnTo>
                        <a:pt x="411" y="547"/>
                      </a:lnTo>
                      <a:lnTo>
                        <a:pt x="401" y="5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491680" y="4853160"/>
                  <a:ext cx="142560" cy="144360"/>
                </a:xfrm>
                <a:custGeom>
                  <a:avLst/>
                  <a:gdLst/>
                  <a:ahLst/>
                  <a:rect l="l" t="t" r="r" b="b"/>
                  <a:pathLst>
                    <a:path w="90" h="91">
                      <a:moveTo>
                        <a:pt x="50" y="57"/>
                      </a:moveTo>
                      <a:lnTo>
                        <a:pt x="40" y="57"/>
                      </a:lnTo>
                      <a:lnTo>
                        <a:pt x="30" y="69"/>
                      </a:lnTo>
                      <a:lnTo>
                        <a:pt x="20" y="80"/>
                      </a:lnTo>
                      <a:lnTo>
                        <a:pt x="10" y="91"/>
                      </a:lnTo>
                      <a:lnTo>
                        <a:pt x="0" y="91"/>
                      </a:lnTo>
                      <a:lnTo>
                        <a:pt x="0" y="80"/>
                      </a:lnTo>
                      <a:lnTo>
                        <a:pt x="10" y="69"/>
                      </a:lnTo>
                      <a:lnTo>
                        <a:pt x="20" y="57"/>
                      </a:lnTo>
                      <a:lnTo>
                        <a:pt x="10" y="57"/>
                      </a:lnTo>
                      <a:lnTo>
                        <a:pt x="10" y="46"/>
                      </a:lnTo>
                      <a:lnTo>
                        <a:pt x="20" y="34"/>
                      </a:lnTo>
                      <a:lnTo>
                        <a:pt x="40" y="12"/>
                      </a:lnTo>
                      <a:lnTo>
                        <a:pt x="50" y="0"/>
                      </a:lnTo>
                      <a:lnTo>
                        <a:pt x="40" y="0"/>
                      </a:lnTo>
                      <a:lnTo>
                        <a:pt x="50" y="0"/>
                      </a:lnTo>
                      <a:lnTo>
                        <a:pt x="50" y="12"/>
                      </a:lnTo>
                      <a:lnTo>
                        <a:pt x="60" y="12"/>
                      </a:lnTo>
                      <a:lnTo>
                        <a:pt x="70" y="12"/>
                      </a:lnTo>
                      <a:lnTo>
                        <a:pt x="90" y="12"/>
                      </a:lnTo>
                      <a:lnTo>
                        <a:pt x="80" y="34"/>
                      </a:lnTo>
                      <a:lnTo>
                        <a:pt x="60" y="46"/>
                      </a:lnTo>
                      <a:lnTo>
                        <a:pt x="50" y="57"/>
                      </a:lnTo>
                      <a:lnTo>
                        <a:pt x="50" y="57"/>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491680" y="4853160"/>
                  <a:ext cx="142560" cy="144360"/>
                </a:xfrm>
                <a:custGeom>
                  <a:avLst/>
                  <a:gdLst/>
                  <a:ahLst/>
                  <a:rect l="l" t="t" r="r" b="b"/>
                  <a:pathLst>
                    <a:path w="90" h="91">
                      <a:moveTo>
                        <a:pt x="50" y="57"/>
                      </a:moveTo>
                      <a:lnTo>
                        <a:pt x="40" y="57"/>
                      </a:lnTo>
                      <a:lnTo>
                        <a:pt x="30" y="69"/>
                      </a:lnTo>
                      <a:lnTo>
                        <a:pt x="20" y="80"/>
                      </a:lnTo>
                      <a:lnTo>
                        <a:pt x="10" y="91"/>
                      </a:lnTo>
                      <a:lnTo>
                        <a:pt x="0" y="91"/>
                      </a:lnTo>
                      <a:lnTo>
                        <a:pt x="0" y="80"/>
                      </a:lnTo>
                      <a:lnTo>
                        <a:pt x="10" y="69"/>
                      </a:lnTo>
                      <a:lnTo>
                        <a:pt x="20" y="57"/>
                      </a:lnTo>
                      <a:lnTo>
                        <a:pt x="10" y="57"/>
                      </a:lnTo>
                      <a:lnTo>
                        <a:pt x="10" y="46"/>
                      </a:lnTo>
                      <a:lnTo>
                        <a:pt x="20" y="34"/>
                      </a:lnTo>
                      <a:lnTo>
                        <a:pt x="40" y="12"/>
                      </a:lnTo>
                      <a:lnTo>
                        <a:pt x="50" y="0"/>
                      </a:lnTo>
                      <a:lnTo>
                        <a:pt x="40" y="0"/>
                      </a:lnTo>
                      <a:lnTo>
                        <a:pt x="50" y="0"/>
                      </a:lnTo>
                      <a:lnTo>
                        <a:pt x="50" y="12"/>
                      </a:lnTo>
                      <a:lnTo>
                        <a:pt x="60" y="12"/>
                      </a:lnTo>
                      <a:lnTo>
                        <a:pt x="70" y="12"/>
                      </a:lnTo>
                      <a:lnTo>
                        <a:pt x="90" y="12"/>
                      </a:lnTo>
                      <a:lnTo>
                        <a:pt x="80" y="34"/>
                      </a:lnTo>
                      <a:lnTo>
                        <a:pt x="60" y="46"/>
                      </a:lnTo>
                      <a:lnTo>
                        <a:pt x="5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808760" y="4962600"/>
                  <a:ext cx="95400" cy="90360"/>
                </a:xfrm>
                <a:custGeom>
                  <a:avLst/>
                  <a:gdLst/>
                  <a:ahLst/>
                  <a:rect l="l" t="t" r="r" b="b"/>
                  <a:pathLst>
                    <a:path w="60" h="57">
                      <a:moveTo>
                        <a:pt x="0" y="57"/>
                      </a:moveTo>
                      <a:lnTo>
                        <a:pt x="0" y="34"/>
                      </a:lnTo>
                      <a:lnTo>
                        <a:pt x="0" y="22"/>
                      </a:lnTo>
                      <a:lnTo>
                        <a:pt x="10" y="0"/>
                      </a:lnTo>
                      <a:lnTo>
                        <a:pt x="20" y="0"/>
                      </a:lnTo>
                      <a:lnTo>
                        <a:pt x="20" y="11"/>
                      </a:lnTo>
                      <a:lnTo>
                        <a:pt x="30" y="11"/>
                      </a:lnTo>
                      <a:lnTo>
                        <a:pt x="40" y="11"/>
                      </a:lnTo>
                      <a:lnTo>
                        <a:pt x="50" y="11"/>
                      </a:lnTo>
                      <a:lnTo>
                        <a:pt x="60" y="11"/>
                      </a:lnTo>
                      <a:lnTo>
                        <a:pt x="50" y="22"/>
                      </a:lnTo>
                      <a:lnTo>
                        <a:pt x="50" y="34"/>
                      </a:lnTo>
                      <a:lnTo>
                        <a:pt x="30" y="45"/>
                      </a:lnTo>
                      <a:lnTo>
                        <a:pt x="20" y="57"/>
                      </a:lnTo>
                      <a:lnTo>
                        <a:pt x="0" y="57"/>
                      </a:lnTo>
                      <a:lnTo>
                        <a:pt x="0" y="57"/>
                      </a:lnTo>
                      <a:close/>
                    </a:path>
                  </a:pathLst>
                </a:custGeom>
                <a:solidFill>
                  <a:srgbClr val="00937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7808760" y="4962600"/>
                  <a:ext cx="95400" cy="90360"/>
                </a:xfrm>
                <a:custGeom>
                  <a:avLst/>
                  <a:gdLst/>
                  <a:ahLst/>
                  <a:rect l="l" t="t" r="r" b="b"/>
                  <a:pathLst>
                    <a:path w="60" h="57">
                      <a:moveTo>
                        <a:pt x="0" y="57"/>
                      </a:moveTo>
                      <a:lnTo>
                        <a:pt x="0" y="34"/>
                      </a:lnTo>
                      <a:lnTo>
                        <a:pt x="0" y="22"/>
                      </a:lnTo>
                      <a:lnTo>
                        <a:pt x="10" y="0"/>
                      </a:lnTo>
                      <a:lnTo>
                        <a:pt x="20" y="0"/>
                      </a:lnTo>
                      <a:lnTo>
                        <a:pt x="20" y="11"/>
                      </a:lnTo>
                      <a:lnTo>
                        <a:pt x="30" y="11"/>
                      </a:lnTo>
                      <a:lnTo>
                        <a:pt x="40" y="11"/>
                      </a:lnTo>
                      <a:lnTo>
                        <a:pt x="50" y="11"/>
                      </a:lnTo>
                      <a:lnTo>
                        <a:pt x="60" y="11"/>
                      </a:lnTo>
                      <a:lnTo>
                        <a:pt x="50" y="22"/>
                      </a:lnTo>
                      <a:lnTo>
                        <a:pt x="50" y="34"/>
                      </a:lnTo>
                      <a:lnTo>
                        <a:pt x="30" y="45"/>
                      </a:lnTo>
                      <a:lnTo>
                        <a:pt x="20" y="57"/>
                      </a:lnTo>
                      <a:lnTo>
                        <a:pt x="0" y="57"/>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 name=""/>
                <p:cNvSpPr/>
                <p:nvPr/>
              </p:nvSpPr>
              <p:spPr>
                <a:xfrm>
                  <a:off x="8221680" y="4962600"/>
                  <a:ext cx="237960" cy="198360"/>
                </a:xfrm>
                <a:custGeom>
                  <a:avLst/>
                  <a:gdLst/>
                  <a:ahLst/>
                  <a:rect l="l" t="t" r="r" b="b"/>
                  <a:pathLst>
                    <a:path w="150" h="125">
                      <a:moveTo>
                        <a:pt x="150" y="22"/>
                      </a:moveTo>
                      <a:lnTo>
                        <a:pt x="140" y="34"/>
                      </a:lnTo>
                      <a:lnTo>
                        <a:pt x="130" y="45"/>
                      </a:lnTo>
                      <a:lnTo>
                        <a:pt x="110" y="57"/>
                      </a:lnTo>
                      <a:lnTo>
                        <a:pt x="100" y="57"/>
                      </a:lnTo>
                      <a:lnTo>
                        <a:pt x="90" y="57"/>
                      </a:lnTo>
                      <a:lnTo>
                        <a:pt x="100" y="68"/>
                      </a:lnTo>
                      <a:lnTo>
                        <a:pt x="80" y="68"/>
                      </a:lnTo>
                      <a:lnTo>
                        <a:pt x="70" y="79"/>
                      </a:lnTo>
                      <a:lnTo>
                        <a:pt x="60" y="79"/>
                      </a:lnTo>
                      <a:lnTo>
                        <a:pt x="60" y="91"/>
                      </a:lnTo>
                      <a:lnTo>
                        <a:pt x="50" y="102"/>
                      </a:lnTo>
                      <a:lnTo>
                        <a:pt x="30" y="114"/>
                      </a:lnTo>
                      <a:lnTo>
                        <a:pt x="10" y="125"/>
                      </a:lnTo>
                      <a:lnTo>
                        <a:pt x="0" y="102"/>
                      </a:lnTo>
                      <a:lnTo>
                        <a:pt x="10" y="91"/>
                      </a:lnTo>
                      <a:lnTo>
                        <a:pt x="20" y="79"/>
                      </a:lnTo>
                      <a:lnTo>
                        <a:pt x="40" y="68"/>
                      </a:lnTo>
                      <a:lnTo>
                        <a:pt x="50" y="68"/>
                      </a:lnTo>
                      <a:lnTo>
                        <a:pt x="80" y="57"/>
                      </a:lnTo>
                      <a:lnTo>
                        <a:pt x="100" y="34"/>
                      </a:lnTo>
                      <a:lnTo>
                        <a:pt x="130" y="11"/>
                      </a:lnTo>
                      <a:lnTo>
                        <a:pt x="150" y="0"/>
                      </a:lnTo>
                      <a:lnTo>
                        <a:pt x="150" y="11"/>
                      </a:lnTo>
                      <a:lnTo>
                        <a:pt x="150" y="22"/>
                      </a:lnTo>
                      <a:lnTo>
                        <a:pt x="150" y="22"/>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21680" y="4962600"/>
                  <a:ext cx="237960" cy="198360"/>
                </a:xfrm>
                <a:custGeom>
                  <a:avLst/>
                  <a:gdLst/>
                  <a:ahLst/>
                  <a:rect l="l" t="t" r="r" b="b"/>
                  <a:pathLst>
                    <a:path w="150" h="125">
                      <a:moveTo>
                        <a:pt x="150" y="22"/>
                      </a:moveTo>
                      <a:lnTo>
                        <a:pt x="140" y="34"/>
                      </a:lnTo>
                      <a:lnTo>
                        <a:pt x="130" y="45"/>
                      </a:lnTo>
                      <a:lnTo>
                        <a:pt x="110" y="57"/>
                      </a:lnTo>
                      <a:lnTo>
                        <a:pt x="100" y="57"/>
                      </a:lnTo>
                      <a:lnTo>
                        <a:pt x="90" y="57"/>
                      </a:lnTo>
                      <a:lnTo>
                        <a:pt x="100" y="68"/>
                      </a:lnTo>
                      <a:lnTo>
                        <a:pt x="80" y="68"/>
                      </a:lnTo>
                      <a:lnTo>
                        <a:pt x="70" y="79"/>
                      </a:lnTo>
                      <a:lnTo>
                        <a:pt x="60" y="79"/>
                      </a:lnTo>
                      <a:lnTo>
                        <a:pt x="60" y="91"/>
                      </a:lnTo>
                      <a:lnTo>
                        <a:pt x="50" y="102"/>
                      </a:lnTo>
                      <a:lnTo>
                        <a:pt x="30" y="114"/>
                      </a:lnTo>
                      <a:lnTo>
                        <a:pt x="10" y="125"/>
                      </a:lnTo>
                      <a:lnTo>
                        <a:pt x="0" y="102"/>
                      </a:lnTo>
                      <a:lnTo>
                        <a:pt x="10" y="91"/>
                      </a:lnTo>
                      <a:lnTo>
                        <a:pt x="20" y="79"/>
                      </a:lnTo>
                      <a:lnTo>
                        <a:pt x="40" y="68"/>
                      </a:lnTo>
                      <a:lnTo>
                        <a:pt x="50" y="68"/>
                      </a:lnTo>
                      <a:lnTo>
                        <a:pt x="80" y="57"/>
                      </a:lnTo>
                      <a:lnTo>
                        <a:pt x="100" y="34"/>
                      </a:lnTo>
                      <a:lnTo>
                        <a:pt x="130" y="11"/>
                      </a:lnTo>
                      <a:lnTo>
                        <a:pt x="150" y="0"/>
                      </a:lnTo>
                      <a:lnTo>
                        <a:pt x="150" y="11"/>
                      </a:lnTo>
                      <a:lnTo>
                        <a:pt x="150"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941560" y="5197320"/>
                  <a:ext cx="15840" cy="1800"/>
                </a:xfrm>
                <a:custGeom>
                  <a:avLst/>
                  <a:gdLst/>
                  <a:ahLst/>
                  <a:rect l="l" t="t" r="r" b="b"/>
                  <a:pathLst>
                    <a:path w="10" h="0">
                      <a:moveTo>
                        <a:pt x="0" y="0"/>
                      </a:moveTo>
                      <a:lnTo>
                        <a:pt x="10" y="0"/>
                      </a:lnTo>
                      <a:lnTo>
                        <a:pt x="0" y="0"/>
                      </a:lnTo>
                      <a:lnTo>
                        <a:pt x="0" y="0"/>
                      </a:lnTo>
                      <a:close/>
                    </a:path>
                  </a:pathLst>
                </a:custGeom>
                <a:solidFill>
                  <a:srgbClr val="00937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2941560" y="5197320"/>
                  <a:ext cx="1584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3100320" y="5342040"/>
                  <a:ext cx="128520" cy="54000"/>
                </a:xfrm>
                <a:custGeom>
                  <a:avLst/>
                  <a:gdLst/>
                  <a:ahLst/>
                  <a:rect l="l" t="t" r="r" b="b"/>
                  <a:pathLst>
                    <a:path w="81" h="34">
                      <a:moveTo>
                        <a:pt x="20" y="0"/>
                      </a:moveTo>
                      <a:lnTo>
                        <a:pt x="30" y="0"/>
                      </a:lnTo>
                      <a:lnTo>
                        <a:pt x="30" y="11"/>
                      </a:lnTo>
                      <a:lnTo>
                        <a:pt x="50" y="11"/>
                      </a:lnTo>
                      <a:lnTo>
                        <a:pt x="60" y="23"/>
                      </a:lnTo>
                      <a:lnTo>
                        <a:pt x="81" y="34"/>
                      </a:lnTo>
                      <a:lnTo>
                        <a:pt x="50" y="23"/>
                      </a:lnTo>
                      <a:lnTo>
                        <a:pt x="30" y="11"/>
                      </a:lnTo>
                      <a:lnTo>
                        <a:pt x="0" y="0"/>
                      </a:lnTo>
                      <a:lnTo>
                        <a:pt x="20" y="0"/>
                      </a:lnTo>
                      <a:lnTo>
                        <a:pt x="2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3" name=""/>
                <p:cNvSpPr/>
                <p:nvPr/>
              </p:nvSpPr>
              <p:spPr>
                <a:xfrm>
                  <a:off x="3100320" y="5342040"/>
                  <a:ext cx="128520" cy="54000"/>
                </a:xfrm>
                <a:custGeom>
                  <a:avLst/>
                  <a:gdLst/>
                  <a:ahLst/>
                  <a:rect l="l" t="t" r="r" b="b"/>
                  <a:pathLst>
                    <a:path w="81" h="34">
                      <a:moveTo>
                        <a:pt x="20" y="0"/>
                      </a:moveTo>
                      <a:lnTo>
                        <a:pt x="30" y="0"/>
                      </a:lnTo>
                      <a:lnTo>
                        <a:pt x="30" y="11"/>
                      </a:lnTo>
                      <a:lnTo>
                        <a:pt x="50" y="11"/>
                      </a:lnTo>
                      <a:lnTo>
                        <a:pt x="60" y="23"/>
                      </a:lnTo>
                      <a:lnTo>
                        <a:pt x="81" y="34"/>
                      </a:lnTo>
                      <a:lnTo>
                        <a:pt x="50" y="23"/>
                      </a:lnTo>
                      <a:lnTo>
                        <a:pt x="30" y="11"/>
                      </a:lnTo>
                      <a:lnTo>
                        <a:pt x="0" y="0"/>
                      </a:lnTo>
                      <a:lnTo>
                        <a:pt x="2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4" name=""/>
                <p:cNvSpPr/>
                <p:nvPr/>
              </p:nvSpPr>
              <p:spPr>
                <a:xfrm>
                  <a:off x="3800520" y="5378400"/>
                  <a:ext cx="31680" cy="17640"/>
                </a:xfrm>
                <a:custGeom>
                  <a:avLst/>
                  <a:gdLst/>
                  <a:ahLst/>
                  <a:rect l="l" t="t" r="r" b="b"/>
                  <a:pathLst>
                    <a:path w="20" h="11">
                      <a:moveTo>
                        <a:pt x="20" y="11"/>
                      </a:moveTo>
                      <a:lnTo>
                        <a:pt x="10" y="11"/>
                      </a:lnTo>
                      <a:lnTo>
                        <a:pt x="0" y="0"/>
                      </a:lnTo>
                      <a:lnTo>
                        <a:pt x="10" y="11"/>
                      </a:lnTo>
                      <a:lnTo>
                        <a:pt x="20" y="11"/>
                      </a:lnTo>
                      <a:lnTo>
                        <a:pt x="20" y="11"/>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5" name=""/>
                <p:cNvSpPr/>
                <p:nvPr/>
              </p:nvSpPr>
              <p:spPr>
                <a:xfrm>
                  <a:off x="3800520" y="5378400"/>
                  <a:ext cx="31680" cy="17640"/>
                </a:xfrm>
                <a:custGeom>
                  <a:avLst/>
                  <a:gdLst/>
                  <a:ahLst/>
                  <a:rect l="l" t="t" r="r" b="b"/>
                  <a:pathLst>
                    <a:path w="20" h="11">
                      <a:moveTo>
                        <a:pt x="20" y="11"/>
                      </a:moveTo>
                      <a:lnTo>
                        <a:pt x="10" y="11"/>
                      </a:lnTo>
                      <a:lnTo>
                        <a:pt x="0" y="0"/>
                      </a:lnTo>
                      <a:lnTo>
                        <a:pt x="10" y="11"/>
                      </a:lnTo>
                      <a:lnTo>
                        <a:pt x="2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 name=""/>
                <p:cNvSpPr/>
                <p:nvPr/>
              </p:nvSpPr>
              <p:spPr>
                <a:xfrm>
                  <a:off x="3132000" y="5396040"/>
                  <a:ext cx="32040" cy="19080"/>
                </a:xfrm>
                <a:custGeom>
                  <a:avLst/>
                  <a:gdLst/>
                  <a:ahLst/>
                  <a:rect l="l" t="t" r="r" b="b"/>
                  <a:pathLst>
                    <a:path w="20" h="12">
                      <a:moveTo>
                        <a:pt x="20" y="0"/>
                      </a:moveTo>
                      <a:lnTo>
                        <a:pt x="10" y="12"/>
                      </a:lnTo>
                      <a:lnTo>
                        <a:pt x="0" y="12"/>
                      </a:lnTo>
                      <a:lnTo>
                        <a:pt x="10" y="12"/>
                      </a:lnTo>
                      <a:lnTo>
                        <a:pt x="20" y="0"/>
                      </a:lnTo>
                      <a:lnTo>
                        <a:pt x="20" y="0"/>
                      </a:lnTo>
                      <a:close/>
                    </a:path>
                  </a:pathLst>
                </a:custGeom>
                <a:solidFill>
                  <a:srgbClr val="00937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3132000" y="5396040"/>
                  <a:ext cx="32040" cy="19080"/>
                </a:xfrm>
                <a:custGeom>
                  <a:avLst/>
                  <a:gdLst/>
                  <a:ahLst/>
                  <a:rect l="l" t="t" r="r" b="b"/>
                  <a:pathLst>
                    <a:path w="20" h="12">
                      <a:moveTo>
                        <a:pt x="20" y="0"/>
                      </a:moveTo>
                      <a:lnTo>
                        <a:pt x="10" y="12"/>
                      </a:lnTo>
                      <a:lnTo>
                        <a:pt x="0" y="12"/>
                      </a:lnTo>
                      <a:lnTo>
                        <a:pt x="10" y="12"/>
                      </a:lnTo>
                      <a:lnTo>
                        <a:pt x="2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3292560" y="5794560"/>
                  <a:ext cx="95040" cy="90360"/>
                </a:xfrm>
                <a:custGeom>
                  <a:avLst/>
                  <a:gdLst/>
                  <a:ahLst/>
                  <a:rect l="l" t="t" r="r" b="b"/>
                  <a:pathLst>
                    <a:path w="60" h="57">
                      <a:moveTo>
                        <a:pt x="30" y="57"/>
                      </a:moveTo>
                      <a:lnTo>
                        <a:pt x="20" y="57"/>
                      </a:lnTo>
                      <a:lnTo>
                        <a:pt x="20" y="46"/>
                      </a:lnTo>
                      <a:lnTo>
                        <a:pt x="20" y="34"/>
                      </a:lnTo>
                      <a:lnTo>
                        <a:pt x="10" y="23"/>
                      </a:lnTo>
                      <a:lnTo>
                        <a:pt x="0" y="11"/>
                      </a:lnTo>
                      <a:lnTo>
                        <a:pt x="0" y="0"/>
                      </a:lnTo>
                      <a:lnTo>
                        <a:pt x="10" y="0"/>
                      </a:lnTo>
                      <a:lnTo>
                        <a:pt x="30" y="11"/>
                      </a:lnTo>
                      <a:lnTo>
                        <a:pt x="50" y="34"/>
                      </a:lnTo>
                      <a:lnTo>
                        <a:pt x="60" y="46"/>
                      </a:lnTo>
                      <a:lnTo>
                        <a:pt x="50" y="57"/>
                      </a:lnTo>
                      <a:lnTo>
                        <a:pt x="40" y="57"/>
                      </a:lnTo>
                      <a:lnTo>
                        <a:pt x="30" y="57"/>
                      </a:lnTo>
                      <a:lnTo>
                        <a:pt x="30" y="57"/>
                      </a:lnTo>
                      <a:close/>
                    </a:path>
                  </a:pathLst>
                </a:custGeom>
                <a:solidFill>
                  <a:srgbClr val="00937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9" name=""/>
                <p:cNvSpPr/>
                <p:nvPr/>
              </p:nvSpPr>
              <p:spPr>
                <a:xfrm>
                  <a:off x="3292560" y="5794560"/>
                  <a:ext cx="95040" cy="90360"/>
                </a:xfrm>
                <a:custGeom>
                  <a:avLst/>
                  <a:gdLst/>
                  <a:ahLst/>
                  <a:rect l="l" t="t" r="r" b="b"/>
                  <a:pathLst>
                    <a:path w="60" h="57">
                      <a:moveTo>
                        <a:pt x="30" y="57"/>
                      </a:moveTo>
                      <a:lnTo>
                        <a:pt x="20" y="57"/>
                      </a:lnTo>
                      <a:lnTo>
                        <a:pt x="20" y="46"/>
                      </a:lnTo>
                      <a:lnTo>
                        <a:pt x="20" y="34"/>
                      </a:lnTo>
                      <a:lnTo>
                        <a:pt x="10" y="23"/>
                      </a:lnTo>
                      <a:lnTo>
                        <a:pt x="0" y="11"/>
                      </a:lnTo>
                      <a:lnTo>
                        <a:pt x="0" y="0"/>
                      </a:lnTo>
                      <a:lnTo>
                        <a:pt x="10" y="0"/>
                      </a:lnTo>
                      <a:lnTo>
                        <a:pt x="30" y="11"/>
                      </a:lnTo>
                      <a:lnTo>
                        <a:pt x="50" y="34"/>
                      </a:lnTo>
                      <a:lnTo>
                        <a:pt x="60" y="46"/>
                      </a:lnTo>
                      <a:lnTo>
                        <a:pt x="50" y="57"/>
                      </a:lnTo>
                      <a:lnTo>
                        <a:pt x="40" y="57"/>
                      </a:lnTo>
                      <a:lnTo>
                        <a:pt x="30" y="57"/>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2814480" y="5867280"/>
                  <a:ext cx="111240" cy="17640"/>
                </a:xfrm>
                <a:custGeom>
                  <a:avLst/>
                  <a:gdLst/>
                  <a:ahLst/>
                  <a:rect l="l" t="t" r="r" b="b"/>
                  <a:pathLst>
                    <a:path w="70" h="11">
                      <a:moveTo>
                        <a:pt x="70" y="11"/>
                      </a:moveTo>
                      <a:lnTo>
                        <a:pt x="50" y="11"/>
                      </a:lnTo>
                      <a:lnTo>
                        <a:pt x="30" y="11"/>
                      </a:lnTo>
                      <a:lnTo>
                        <a:pt x="0" y="11"/>
                      </a:lnTo>
                      <a:lnTo>
                        <a:pt x="0" y="0"/>
                      </a:lnTo>
                      <a:lnTo>
                        <a:pt x="20" y="0"/>
                      </a:lnTo>
                      <a:lnTo>
                        <a:pt x="30" y="0"/>
                      </a:lnTo>
                      <a:lnTo>
                        <a:pt x="50" y="0"/>
                      </a:lnTo>
                      <a:lnTo>
                        <a:pt x="70" y="11"/>
                      </a:lnTo>
                      <a:lnTo>
                        <a:pt x="70" y="11"/>
                      </a:lnTo>
                      <a:close/>
                    </a:path>
                  </a:pathLst>
                </a:custGeom>
                <a:solidFill>
                  <a:srgbClr val="00937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1" name=""/>
                <p:cNvSpPr/>
                <p:nvPr/>
              </p:nvSpPr>
              <p:spPr>
                <a:xfrm>
                  <a:off x="2814480" y="5867280"/>
                  <a:ext cx="111240" cy="17640"/>
                </a:xfrm>
                <a:custGeom>
                  <a:avLst/>
                  <a:gdLst/>
                  <a:ahLst/>
                  <a:rect l="l" t="t" r="r" b="b"/>
                  <a:pathLst>
                    <a:path w="70" h="11">
                      <a:moveTo>
                        <a:pt x="70" y="11"/>
                      </a:moveTo>
                      <a:lnTo>
                        <a:pt x="50" y="11"/>
                      </a:lnTo>
                      <a:lnTo>
                        <a:pt x="30" y="11"/>
                      </a:lnTo>
                      <a:lnTo>
                        <a:pt x="0" y="11"/>
                      </a:lnTo>
                      <a:lnTo>
                        <a:pt x="0" y="0"/>
                      </a:lnTo>
                      <a:lnTo>
                        <a:pt x="20" y="0"/>
                      </a:lnTo>
                      <a:lnTo>
                        <a:pt x="30" y="0"/>
                      </a:lnTo>
                      <a:lnTo>
                        <a:pt x="50" y="0"/>
                      </a:lnTo>
                      <a:lnTo>
                        <a:pt x="7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2" name=""/>
                <p:cNvSpPr/>
                <p:nvPr/>
              </p:nvSpPr>
              <p:spPr>
                <a:xfrm>
                  <a:off x="2019240" y="5667480"/>
                  <a:ext cx="5486400" cy="561960"/>
                </a:xfrm>
                <a:custGeom>
                  <a:avLst/>
                  <a:gdLst/>
                  <a:ahLst/>
                  <a:rect l="l" t="t" r="r" b="b"/>
                  <a:pathLst>
                    <a:path w="3456" h="354">
                      <a:moveTo>
                        <a:pt x="0" y="308"/>
                      </a:moveTo>
                      <a:lnTo>
                        <a:pt x="30" y="308"/>
                      </a:lnTo>
                      <a:lnTo>
                        <a:pt x="60" y="308"/>
                      </a:lnTo>
                      <a:lnTo>
                        <a:pt x="90" y="308"/>
                      </a:lnTo>
                      <a:lnTo>
                        <a:pt x="120" y="308"/>
                      </a:lnTo>
                      <a:lnTo>
                        <a:pt x="150" y="308"/>
                      </a:lnTo>
                      <a:lnTo>
                        <a:pt x="171" y="297"/>
                      </a:lnTo>
                      <a:lnTo>
                        <a:pt x="191" y="297"/>
                      </a:lnTo>
                      <a:lnTo>
                        <a:pt x="211" y="285"/>
                      </a:lnTo>
                      <a:lnTo>
                        <a:pt x="211" y="274"/>
                      </a:lnTo>
                      <a:lnTo>
                        <a:pt x="191" y="274"/>
                      </a:lnTo>
                      <a:lnTo>
                        <a:pt x="181" y="274"/>
                      </a:lnTo>
                      <a:lnTo>
                        <a:pt x="160" y="274"/>
                      </a:lnTo>
                      <a:lnTo>
                        <a:pt x="150" y="274"/>
                      </a:lnTo>
                      <a:lnTo>
                        <a:pt x="140" y="262"/>
                      </a:lnTo>
                      <a:lnTo>
                        <a:pt x="150" y="262"/>
                      </a:lnTo>
                      <a:lnTo>
                        <a:pt x="160" y="251"/>
                      </a:lnTo>
                      <a:lnTo>
                        <a:pt x="171" y="251"/>
                      </a:lnTo>
                      <a:lnTo>
                        <a:pt x="160" y="240"/>
                      </a:lnTo>
                      <a:lnTo>
                        <a:pt x="150" y="240"/>
                      </a:lnTo>
                      <a:lnTo>
                        <a:pt x="130" y="240"/>
                      </a:lnTo>
                      <a:lnTo>
                        <a:pt x="100" y="228"/>
                      </a:lnTo>
                      <a:lnTo>
                        <a:pt x="80" y="228"/>
                      </a:lnTo>
                      <a:lnTo>
                        <a:pt x="60" y="228"/>
                      </a:lnTo>
                      <a:lnTo>
                        <a:pt x="50" y="228"/>
                      </a:lnTo>
                      <a:lnTo>
                        <a:pt x="40" y="228"/>
                      </a:lnTo>
                      <a:lnTo>
                        <a:pt x="70" y="217"/>
                      </a:lnTo>
                      <a:lnTo>
                        <a:pt x="90" y="205"/>
                      </a:lnTo>
                      <a:lnTo>
                        <a:pt x="120" y="205"/>
                      </a:lnTo>
                      <a:lnTo>
                        <a:pt x="110" y="194"/>
                      </a:lnTo>
                      <a:lnTo>
                        <a:pt x="100" y="194"/>
                      </a:lnTo>
                      <a:lnTo>
                        <a:pt x="90" y="194"/>
                      </a:lnTo>
                      <a:lnTo>
                        <a:pt x="120" y="183"/>
                      </a:lnTo>
                      <a:lnTo>
                        <a:pt x="140" y="183"/>
                      </a:lnTo>
                      <a:lnTo>
                        <a:pt x="160" y="171"/>
                      </a:lnTo>
                      <a:lnTo>
                        <a:pt x="181" y="171"/>
                      </a:lnTo>
                      <a:lnTo>
                        <a:pt x="211" y="171"/>
                      </a:lnTo>
                      <a:lnTo>
                        <a:pt x="231" y="171"/>
                      </a:lnTo>
                      <a:lnTo>
                        <a:pt x="251" y="171"/>
                      </a:lnTo>
                      <a:lnTo>
                        <a:pt x="281" y="171"/>
                      </a:lnTo>
                      <a:lnTo>
                        <a:pt x="301" y="171"/>
                      </a:lnTo>
                      <a:lnTo>
                        <a:pt x="331" y="171"/>
                      </a:lnTo>
                      <a:lnTo>
                        <a:pt x="351" y="171"/>
                      </a:lnTo>
                      <a:lnTo>
                        <a:pt x="371" y="171"/>
                      </a:lnTo>
                      <a:lnTo>
                        <a:pt x="401" y="171"/>
                      </a:lnTo>
                      <a:lnTo>
                        <a:pt x="421" y="171"/>
                      </a:lnTo>
                      <a:lnTo>
                        <a:pt x="441" y="171"/>
                      </a:lnTo>
                      <a:lnTo>
                        <a:pt x="461" y="183"/>
                      </a:lnTo>
                      <a:lnTo>
                        <a:pt x="481" y="183"/>
                      </a:lnTo>
                      <a:lnTo>
                        <a:pt x="501" y="183"/>
                      </a:lnTo>
                      <a:lnTo>
                        <a:pt x="521" y="183"/>
                      </a:lnTo>
                      <a:lnTo>
                        <a:pt x="551" y="183"/>
                      </a:lnTo>
                      <a:lnTo>
                        <a:pt x="571" y="183"/>
                      </a:lnTo>
                      <a:lnTo>
                        <a:pt x="561" y="183"/>
                      </a:lnTo>
                      <a:lnTo>
                        <a:pt x="551" y="183"/>
                      </a:lnTo>
                      <a:lnTo>
                        <a:pt x="531" y="171"/>
                      </a:lnTo>
                      <a:lnTo>
                        <a:pt x="521" y="171"/>
                      </a:lnTo>
                      <a:lnTo>
                        <a:pt x="511" y="160"/>
                      </a:lnTo>
                      <a:lnTo>
                        <a:pt x="521" y="160"/>
                      </a:lnTo>
                      <a:lnTo>
                        <a:pt x="531" y="160"/>
                      </a:lnTo>
                      <a:lnTo>
                        <a:pt x="541" y="160"/>
                      </a:lnTo>
                      <a:lnTo>
                        <a:pt x="551" y="160"/>
                      </a:lnTo>
                      <a:lnTo>
                        <a:pt x="561" y="160"/>
                      </a:lnTo>
                      <a:lnTo>
                        <a:pt x="551" y="148"/>
                      </a:lnTo>
                      <a:lnTo>
                        <a:pt x="541" y="148"/>
                      </a:lnTo>
                      <a:lnTo>
                        <a:pt x="561" y="160"/>
                      </a:lnTo>
                      <a:lnTo>
                        <a:pt x="591" y="160"/>
                      </a:lnTo>
                      <a:lnTo>
                        <a:pt x="611" y="160"/>
                      </a:lnTo>
                      <a:lnTo>
                        <a:pt x="641" y="160"/>
                      </a:lnTo>
                      <a:lnTo>
                        <a:pt x="671" y="160"/>
                      </a:lnTo>
                      <a:lnTo>
                        <a:pt x="691" y="160"/>
                      </a:lnTo>
                      <a:lnTo>
                        <a:pt x="721" y="160"/>
                      </a:lnTo>
                      <a:lnTo>
                        <a:pt x="741" y="160"/>
                      </a:lnTo>
                      <a:lnTo>
                        <a:pt x="752" y="148"/>
                      </a:lnTo>
                      <a:lnTo>
                        <a:pt x="762" y="148"/>
                      </a:lnTo>
                      <a:lnTo>
                        <a:pt x="772" y="160"/>
                      </a:lnTo>
                      <a:lnTo>
                        <a:pt x="802" y="160"/>
                      </a:lnTo>
                      <a:lnTo>
                        <a:pt x="842" y="160"/>
                      </a:lnTo>
                      <a:lnTo>
                        <a:pt x="862" y="148"/>
                      </a:lnTo>
                      <a:lnTo>
                        <a:pt x="872" y="126"/>
                      </a:lnTo>
                      <a:lnTo>
                        <a:pt x="852" y="103"/>
                      </a:lnTo>
                      <a:lnTo>
                        <a:pt x="842" y="91"/>
                      </a:lnTo>
                      <a:lnTo>
                        <a:pt x="832" y="57"/>
                      </a:lnTo>
                      <a:lnTo>
                        <a:pt x="842" y="46"/>
                      </a:lnTo>
                      <a:lnTo>
                        <a:pt x="862" y="34"/>
                      </a:lnTo>
                      <a:lnTo>
                        <a:pt x="872" y="12"/>
                      </a:lnTo>
                      <a:lnTo>
                        <a:pt x="882" y="0"/>
                      </a:lnTo>
                      <a:lnTo>
                        <a:pt x="902" y="0"/>
                      </a:lnTo>
                      <a:lnTo>
                        <a:pt x="912" y="0"/>
                      </a:lnTo>
                      <a:lnTo>
                        <a:pt x="912" y="23"/>
                      </a:lnTo>
                      <a:lnTo>
                        <a:pt x="902" y="34"/>
                      </a:lnTo>
                      <a:lnTo>
                        <a:pt x="892" y="34"/>
                      </a:lnTo>
                      <a:lnTo>
                        <a:pt x="882" y="46"/>
                      </a:lnTo>
                      <a:lnTo>
                        <a:pt x="862" y="46"/>
                      </a:lnTo>
                      <a:lnTo>
                        <a:pt x="862" y="57"/>
                      </a:lnTo>
                      <a:lnTo>
                        <a:pt x="852" y="69"/>
                      </a:lnTo>
                      <a:lnTo>
                        <a:pt x="872" y="80"/>
                      </a:lnTo>
                      <a:lnTo>
                        <a:pt x="882" y="69"/>
                      </a:lnTo>
                      <a:lnTo>
                        <a:pt x="892" y="80"/>
                      </a:lnTo>
                      <a:lnTo>
                        <a:pt x="902" y="80"/>
                      </a:lnTo>
                      <a:lnTo>
                        <a:pt x="912" y="91"/>
                      </a:lnTo>
                      <a:lnTo>
                        <a:pt x="932" y="114"/>
                      </a:lnTo>
                      <a:lnTo>
                        <a:pt x="952" y="137"/>
                      </a:lnTo>
                      <a:lnTo>
                        <a:pt x="972" y="171"/>
                      </a:lnTo>
                      <a:lnTo>
                        <a:pt x="962" y="171"/>
                      </a:lnTo>
                      <a:lnTo>
                        <a:pt x="952" y="171"/>
                      </a:lnTo>
                      <a:lnTo>
                        <a:pt x="952" y="183"/>
                      </a:lnTo>
                      <a:lnTo>
                        <a:pt x="942" y="183"/>
                      </a:lnTo>
                      <a:lnTo>
                        <a:pt x="912" y="183"/>
                      </a:lnTo>
                      <a:lnTo>
                        <a:pt x="882" y="194"/>
                      </a:lnTo>
                      <a:lnTo>
                        <a:pt x="862" y="194"/>
                      </a:lnTo>
                      <a:lnTo>
                        <a:pt x="832" y="194"/>
                      </a:lnTo>
                      <a:lnTo>
                        <a:pt x="802" y="194"/>
                      </a:lnTo>
                      <a:lnTo>
                        <a:pt x="772" y="205"/>
                      </a:lnTo>
                      <a:lnTo>
                        <a:pt x="752" y="205"/>
                      </a:lnTo>
                      <a:lnTo>
                        <a:pt x="752" y="217"/>
                      </a:lnTo>
                      <a:lnTo>
                        <a:pt x="782" y="217"/>
                      </a:lnTo>
                      <a:lnTo>
                        <a:pt x="812" y="217"/>
                      </a:lnTo>
                      <a:lnTo>
                        <a:pt x="842" y="228"/>
                      </a:lnTo>
                      <a:lnTo>
                        <a:pt x="852" y="240"/>
                      </a:lnTo>
                      <a:lnTo>
                        <a:pt x="862" y="240"/>
                      </a:lnTo>
                      <a:lnTo>
                        <a:pt x="852" y="240"/>
                      </a:lnTo>
                      <a:lnTo>
                        <a:pt x="842" y="240"/>
                      </a:lnTo>
                      <a:lnTo>
                        <a:pt x="832" y="240"/>
                      </a:lnTo>
                      <a:lnTo>
                        <a:pt x="822" y="240"/>
                      </a:lnTo>
                      <a:lnTo>
                        <a:pt x="812" y="240"/>
                      </a:lnTo>
                      <a:lnTo>
                        <a:pt x="802" y="240"/>
                      </a:lnTo>
                      <a:lnTo>
                        <a:pt x="792" y="240"/>
                      </a:lnTo>
                      <a:lnTo>
                        <a:pt x="802" y="240"/>
                      </a:lnTo>
                      <a:lnTo>
                        <a:pt x="822" y="251"/>
                      </a:lnTo>
                      <a:lnTo>
                        <a:pt x="842" y="251"/>
                      </a:lnTo>
                      <a:lnTo>
                        <a:pt x="852" y="251"/>
                      </a:lnTo>
                      <a:lnTo>
                        <a:pt x="862" y="251"/>
                      </a:lnTo>
                      <a:lnTo>
                        <a:pt x="872" y="251"/>
                      </a:lnTo>
                      <a:lnTo>
                        <a:pt x="892" y="262"/>
                      </a:lnTo>
                      <a:lnTo>
                        <a:pt x="922" y="262"/>
                      </a:lnTo>
                      <a:lnTo>
                        <a:pt x="942" y="262"/>
                      </a:lnTo>
                      <a:lnTo>
                        <a:pt x="952" y="262"/>
                      </a:lnTo>
                      <a:lnTo>
                        <a:pt x="972" y="274"/>
                      </a:lnTo>
                      <a:lnTo>
                        <a:pt x="982" y="274"/>
                      </a:lnTo>
                      <a:lnTo>
                        <a:pt x="1002" y="274"/>
                      </a:lnTo>
                      <a:lnTo>
                        <a:pt x="1012" y="274"/>
                      </a:lnTo>
                      <a:lnTo>
                        <a:pt x="1022" y="274"/>
                      </a:lnTo>
                      <a:lnTo>
                        <a:pt x="1032" y="274"/>
                      </a:lnTo>
                      <a:lnTo>
                        <a:pt x="1042" y="274"/>
                      </a:lnTo>
                      <a:lnTo>
                        <a:pt x="1062" y="274"/>
                      </a:lnTo>
                      <a:lnTo>
                        <a:pt x="1072" y="274"/>
                      </a:lnTo>
                      <a:lnTo>
                        <a:pt x="1092" y="274"/>
                      </a:lnTo>
                      <a:lnTo>
                        <a:pt x="1112" y="274"/>
                      </a:lnTo>
                      <a:lnTo>
                        <a:pt x="1132" y="274"/>
                      </a:lnTo>
                      <a:lnTo>
                        <a:pt x="1152" y="274"/>
                      </a:lnTo>
                      <a:lnTo>
                        <a:pt x="1182" y="274"/>
                      </a:lnTo>
                      <a:lnTo>
                        <a:pt x="1212" y="274"/>
                      </a:lnTo>
                      <a:lnTo>
                        <a:pt x="1242" y="262"/>
                      </a:lnTo>
                      <a:lnTo>
                        <a:pt x="1272" y="251"/>
                      </a:lnTo>
                      <a:lnTo>
                        <a:pt x="1302" y="240"/>
                      </a:lnTo>
                      <a:lnTo>
                        <a:pt x="1312" y="240"/>
                      </a:lnTo>
                      <a:lnTo>
                        <a:pt x="1292" y="240"/>
                      </a:lnTo>
                      <a:lnTo>
                        <a:pt x="1272" y="228"/>
                      </a:lnTo>
                      <a:lnTo>
                        <a:pt x="1252" y="217"/>
                      </a:lnTo>
                      <a:lnTo>
                        <a:pt x="1272" y="217"/>
                      </a:lnTo>
                      <a:lnTo>
                        <a:pt x="1282" y="217"/>
                      </a:lnTo>
                      <a:lnTo>
                        <a:pt x="1292" y="205"/>
                      </a:lnTo>
                      <a:lnTo>
                        <a:pt x="1302" y="205"/>
                      </a:lnTo>
                      <a:lnTo>
                        <a:pt x="1312" y="205"/>
                      </a:lnTo>
                      <a:lnTo>
                        <a:pt x="1312" y="194"/>
                      </a:lnTo>
                      <a:lnTo>
                        <a:pt x="1353" y="183"/>
                      </a:lnTo>
                      <a:lnTo>
                        <a:pt x="1383" y="183"/>
                      </a:lnTo>
                      <a:lnTo>
                        <a:pt x="1413" y="171"/>
                      </a:lnTo>
                      <a:lnTo>
                        <a:pt x="1423" y="171"/>
                      </a:lnTo>
                      <a:lnTo>
                        <a:pt x="1433" y="171"/>
                      </a:lnTo>
                      <a:lnTo>
                        <a:pt x="1433" y="160"/>
                      </a:lnTo>
                      <a:lnTo>
                        <a:pt x="1433" y="148"/>
                      </a:lnTo>
                      <a:lnTo>
                        <a:pt x="1443" y="148"/>
                      </a:lnTo>
                      <a:lnTo>
                        <a:pt x="1453" y="148"/>
                      </a:lnTo>
                      <a:lnTo>
                        <a:pt x="1463" y="137"/>
                      </a:lnTo>
                      <a:lnTo>
                        <a:pt x="1463" y="126"/>
                      </a:lnTo>
                      <a:lnTo>
                        <a:pt x="1473" y="114"/>
                      </a:lnTo>
                      <a:lnTo>
                        <a:pt x="1473" y="126"/>
                      </a:lnTo>
                      <a:lnTo>
                        <a:pt x="1483" y="126"/>
                      </a:lnTo>
                      <a:lnTo>
                        <a:pt x="1503" y="126"/>
                      </a:lnTo>
                      <a:lnTo>
                        <a:pt x="1513" y="114"/>
                      </a:lnTo>
                      <a:lnTo>
                        <a:pt x="1533" y="114"/>
                      </a:lnTo>
                      <a:lnTo>
                        <a:pt x="1533" y="126"/>
                      </a:lnTo>
                      <a:lnTo>
                        <a:pt x="1553" y="126"/>
                      </a:lnTo>
                      <a:lnTo>
                        <a:pt x="1563" y="126"/>
                      </a:lnTo>
                      <a:lnTo>
                        <a:pt x="1573" y="114"/>
                      </a:lnTo>
                      <a:lnTo>
                        <a:pt x="1613" y="114"/>
                      </a:lnTo>
                      <a:lnTo>
                        <a:pt x="1643" y="114"/>
                      </a:lnTo>
                      <a:lnTo>
                        <a:pt x="1673" y="103"/>
                      </a:lnTo>
                      <a:lnTo>
                        <a:pt x="1683" y="103"/>
                      </a:lnTo>
                      <a:lnTo>
                        <a:pt x="1693" y="103"/>
                      </a:lnTo>
                      <a:lnTo>
                        <a:pt x="1733" y="103"/>
                      </a:lnTo>
                      <a:lnTo>
                        <a:pt x="1753" y="103"/>
                      </a:lnTo>
                      <a:lnTo>
                        <a:pt x="1783" y="91"/>
                      </a:lnTo>
                      <a:lnTo>
                        <a:pt x="1803" y="91"/>
                      </a:lnTo>
                      <a:lnTo>
                        <a:pt x="1833" y="91"/>
                      </a:lnTo>
                      <a:lnTo>
                        <a:pt x="1853" y="91"/>
                      </a:lnTo>
                      <a:lnTo>
                        <a:pt x="1873" y="91"/>
                      </a:lnTo>
                      <a:lnTo>
                        <a:pt x="1904" y="91"/>
                      </a:lnTo>
                      <a:lnTo>
                        <a:pt x="1924" y="91"/>
                      </a:lnTo>
                      <a:lnTo>
                        <a:pt x="1954" y="91"/>
                      </a:lnTo>
                      <a:lnTo>
                        <a:pt x="1974" y="91"/>
                      </a:lnTo>
                      <a:lnTo>
                        <a:pt x="1984" y="80"/>
                      </a:lnTo>
                      <a:lnTo>
                        <a:pt x="1994" y="69"/>
                      </a:lnTo>
                      <a:lnTo>
                        <a:pt x="2004" y="80"/>
                      </a:lnTo>
                      <a:lnTo>
                        <a:pt x="2014" y="91"/>
                      </a:lnTo>
                      <a:lnTo>
                        <a:pt x="2014" y="103"/>
                      </a:lnTo>
                      <a:lnTo>
                        <a:pt x="2034" y="103"/>
                      </a:lnTo>
                      <a:lnTo>
                        <a:pt x="2044" y="91"/>
                      </a:lnTo>
                      <a:lnTo>
                        <a:pt x="2064" y="80"/>
                      </a:lnTo>
                      <a:lnTo>
                        <a:pt x="2074" y="69"/>
                      </a:lnTo>
                      <a:lnTo>
                        <a:pt x="2094" y="69"/>
                      </a:lnTo>
                      <a:lnTo>
                        <a:pt x="2114" y="69"/>
                      </a:lnTo>
                      <a:lnTo>
                        <a:pt x="2134" y="57"/>
                      </a:lnTo>
                      <a:lnTo>
                        <a:pt x="2154" y="46"/>
                      </a:lnTo>
                      <a:lnTo>
                        <a:pt x="2184" y="34"/>
                      </a:lnTo>
                      <a:lnTo>
                        <a:pt x="2224" y="34"/>
                      </a:lnTo>
                      <a:lnTo>
                        <a:pt x="2244" y="34"/>
                      </a:lnTo>
                      <a:lnTo>
                        <a:pt x="2254" y="34"/>
                      </a:lnTo>
                      <a:lnTo>
                        <a:pt x="2254" y="46"/>
                      </a:lnTo>
                      <a:lnTo>
                        <a:pt x="2264" y="46"/>
                      </a:lnTo>
                      <a:lnTo>
                        <a:pt x="2274" y="46"/>
                      </a:lnTo>
                      <a:lnTo>
                        <a:pt x="2304" y="57"/>
                      </a:lnTo>
                      <a:lnTo>
                        <a:pt x="2334" y="57"/>
                      </a:lnTo>
                      <a:lnTo>
                        <a:pt x="2364" y="69"/>
                      </a:lnTo>
                      <a:lnTo>
                        <a:pt x="2394" y="80"/>
                      </a:lnTo>
                      <a:lnTo>
                        <a:pt x="2384" y="80"/>
                      </a:lnTo>
                      <a:lnTo>
                        <a:pt x="2374" y="91"/>
                      </a:lnTo>
                      <a:lnTo>
                        <a:pt x="2364" y="91"/>
                      </a:lnTo>
                      <a:lnTo>
                        <a:pt x="2354" y="103"/>
                      </a:lnTo>
                      <a:lnTo>
                        <a:pt x="2364" y="114"/>
                      </a:lnTo>
                      <a:lnTo>
                        <a:pt x="2374" y="114"/>
                      </a:lnTo>
                      <a:lnTo>
                        <a:pt x="2384" y="114"/>
                      </a:lnTo>
                      <a:lnTo>
                        <a:pt x="2394" y="114"/>
                      </a:lnTo>
                      <a:lnTo>
                        <a:pt x="2414" y="103"/>
                      </a:lnTo>
                      <a:lnTo>
                        <a:pt x="2424" y="91"/>
                      </a:lnTo>
                      <a:lnTo>
                        <a:pt x="2444" y="91"/>
                      </a:lnTo>
                      <a:lnTo>
                        <a:pt x="2454" y="91"/>
                      </a:lnTo>
                      <a:lnTo>
                        <a:pt x="2475" y="80"/>
                      </a:lnTo>
                      <a:lnTo>
                        <a:pt x="2485" y="80"/>
                      </a:lnTo>
                      <a:lnTo>
                        <a:pt x="2495" y="69"/>
                      </a:lnTo>
                      <a:lnTo>
                        <a:pt x="2515" y="69"/>
                      </a:lnTo>
                      <a:lnTo>
                        <a:pt x="2525" y="57"/>
                      </a:lnTo>
                      <a:lnTo>
                        <a:pt x="2535" y="57"/>
                      </a:lnTo>
                      <a:lnTo>
                        <a:pt x="2565" y="46"/>
                      </a:lnTo>
                      <a:lnTo>
                        <a:pt x="2595" y="34"/>
                      </a:lnTo>
                      <a:lnTo>
                        <a:pt x="2625" y="34"/>
                      </a:lnTo>
                      <a:lnTo>
                        <a:pt x="2635" y="34"/>
                      </a:lnTo>
                      <a:lnTo>
                        <a:pt x="2635" y="46"/>
                      </a:lnTo>
                      <a:lnTo>
                        <a:pt x="2645" y="46"/>
                      </a:lnTo>
                      <a:lnTo>
                        <a:pt x="2655" y="46"/>
                      </a:lnTo>
                      <a:lnTo>
                        <a:pt x="2665" y="46"/>
                      </a:lnTo>
                      <a:lnTo>
                        <a:pt x="2675" y="46"/>
                      </a:lnTo>
                      <a:lnTo>
                        <a:pt x="2685" y="46"/>
                      </a:lnTo>
                      <a:lnTo>
                        <a:pt x="2715" y="46"/>
                      </a:lnTo>
                      <a:lnTo>
                        <a:pt x="2745" y="46"/>
                      </a:lnTo>
                      <a:lnTo>
                        <a:pt x="2775" y="46"/>
                      </a:lnTo>
                      <a:lnTo>
                        <a:pt x="2795" y="46"/>
                      </a:lnTo>
                      <a:lnTo>
                        <a:pt x="2825" y="46"/>
                      </a:lnTo>
                      <a:lnTo>
                        <a:pt x="2855" y="46"/>
                      </a:lnTo>
                      <a:lnTo>
                        <a:pt x="2865" y="46"/>
                      </a:lnTo>
                      <a:lnTo>
                        <a:pt x="2875" y="46"/>
                      </a:lnTo>
                      <a:lnTo>
                        <a:pt x="2885" y="34"/>
                      </a:lnTo>
                      <a:lnTo>
                        <a:pt x="2905" y="34"/>
                      </a:lnTo>
                      <a:lnTo>
                        <a:pt x="2935" y="46"/>
                      </a:lnTo>
                      <a:lnTo>
                        <a:pt x="2955" y="46"/>
                      </a:lnTo>
                      <a:lnTo>
                        <a:pt x="2965" y="46"/>
                      </a:lnTo>
                      <a:lnTo>
                        <a:pt x="2975" y="46"/>
                      </a:lnTo>
                      <a:lnTo>
                        <a:pt x="2995" y="46"/>
                      </a:lnTo>
                      <a:lnTo>
                        <a:pt x="3005" y="46"/>
                      </a:lnTo>
                      <a:lnTo>
                        <a:pt x="3015" y="46"/>
                      </a:lnTo>
                      <a:lnTo>
                        <a:pt x="3025" y="46"/>
                      </a:lnTo>
                      <a:lnTo>
                        <a:pt x="3035" y="46"/>
                      </a:lnTo>
                      <a:lnTo>
                        <a:pt x="3045" y="46"/>
                      </a:lnTo>
                      <a:lnTo>
                        <a:pt x="3056" y="34"/>
                      </a:lnTo>
                      <a:lnTo>
                        <a:pt x="3066" y="34"/>
                      </a:lnTo>
                      <a:lnTo>
                        <a:pt x="3076" y="46"/>
                      </a:lnTo>
                      <a:lnTo>
                        <a:pt x="3086" y="46"/>
                      </a:lnTo>
                      <a:lnTo>
                        <a:pt x="3096" y="46"/>
                      </a:lnTo>
                      <a:lnTo>
                        <a:pt x="3106" y="34"/>
                      </a:lnTo>
                      <a:lnTo>
                        <a:pt x="3116" y="34"/>
                      </a:lnTo>
                      <a:lnTo>
                        <a:pt x="3146" y="34"/>
                      </a:lnTo>
                      <a:lnTo>
                        <a:pt x="3166" y="34"/>
                      </a:lnTo>
                      <a:lnTo>
                        <a:pt x="3196" y="46"/>
                      </a:lnTo>
                      <a:lnTo>
                        <a:pt x="3226" y="46"/>
                      </a:lnTo>
                      <a:lnTo>
                        <a:pt x="3236" y="46"/>
                      </a:lnTo>
                      <a:lnTo>
                        <a:pt x="3246" y="57"/>
                      </a:lnTo>
                      <a:lnTo>
                        <a:pt x="3276" y="69"/>
                      </a:lnTo>
                      <a:lnTo>
                        <a:pt x="3286" y="69"/>
                      </a:lnTo>
                      <a:lnTo>
                        <a:pt x="3296" y="69"/>
                      </a:lnTo>
                      <a:lnTo>
                        <a:pt x="3306" y="69"/>
                      </a:lnTo>
                      <a:lnTo>
                        <a:pt x="3336" y="80"/>
                      </a:lnTo>
                      <a:lnTo>
                        <a:pt x="3356" y="91"/>
                      </a:lnTo>
                      <a:lnTo>
                        <a:pt x="3376" y="103"/>
                      </a:lnTo>
                      <a:lnTo>
                        <a:pt x="3396" y="103"/>
                      </a:lnTo>
                      <a:lnTo>
                        <a:pt x="3406" y="103"/>
                      </a:lnTo>
                      <a:lnTo>
                        <a:pt x="3416" y="91"/>
                      </a:lnTo>
                      <a:lnTo>
                        <a:pt x="3436" y="103"/>
                      </a:lnTo>
                      <a:lnTo>
                        <a:pt x="3456" y="126"/>
                      </a:lnTo>
                      <a:lnTo>
                        <a:pt x="3456" y="137"/>
                      </a:lnTo>
                      <a:lnTo>
                        <a:pt x="3436" y="137"/>
                      </a:lnTo>
                      <a:lnTo>
                        <a:pt x="3426" y="137"/>
                      </a:lnTo>
                      <a:lnTo>
                        <a:pt x="3406" y="148"/>
                      </a:lnTo>
                      <a:lnTo>
                        <a:pt x="3396" y="148"/>
                      </a:lnTo>
                      <a:lnTo>
                        <a:pt x="3396" y="160"/>
                      </a:lnTo>
                      <a:lnTo>
                        <a:pt x="3386" y="160"/>
                      </a:lnTo>
                      <a:lnTo>
                        <a:pt x="3376" y="160"/>
                      </a:lnTo>
                      <a:lnTo>
                        <a:pt x="3346" y="160"/>
                      </a:lnTo>
                      <a:lnTo>
                        <a:pt x="3326" y="171"/>
                      </a:lnTo>
                      <a:lnTo>
                        <a:pt x="3296" y="183"/>
                      </a:lnTo>
                      <a:lnTo>
                        <a:pt x="3256" y="194"/>
                      </a:lnTo>
                      <a:lnTo>
                        <a:pt x="3236" y="205"/>
                      </a:lnTo>
                      <a:lnTo>
                        <a:pt x="3236" y="217"/>
                      </a:lnTo>
                      <a:lnTo>
                        <a:pt x="3246" y="228"/>
                      </a:lnTo>
                      <a:lnTo>
                        <a:pt x="3236" y="240"/>
                      </a:lnTo>
                      <a:lnTo>
                        <a:pt x="3226" y="228"/>
                      </a:lnTo>
                      <a:lnTo>
                        <a:pt x="3216" y="228"/>
                      </a:lnTo>
                      <a:lnTo>
                        <a:pt x="3186" y="240"/>
                      </a:lnTo>
                      <a:lnTo>
                        <a:pt x="3156" y="240"/>
                      </a:lnTo>
                      <a:lnTo>
                        <a:pt x="3126" y="251"/>
                      </a:lnTo>
                      <a:lnTo>
                        <a:pt x="3136" y="251"/>
                      </a:lnTo>
                      <a:lnTo>
                        <a:pt x="3146" y="251"/>
                      </a:lnTo>
                      <a:lnTo>
                        <a:pt x="3126" y="262"/>
                      </a:lnTo>
                      <a:lnTo>
                        <a:pt x="3116" y="262"/>
                      </a:lnTo>
                      <a:lnTo>
                        <a:pt x="3106" y="274"/>
                      </a:lnTo>
                      <a:lnTo>
                        <a:pt x="3116" y="274"/>
                      </a:lnTo>
                      <a:lnTo>
                        <a:pt x="3146" y="297"/>
                      </a:lnTo>
                      <a:lnTo>
                        <a:pt x="3176" y="297"/>
                      </a:lnTo>
                      <a:lnTo>
                        <a:pt x="3206" y="308"/>
                      </a:lnTo>
                      <a:lnTo>
                        <a:pt x="3196" y="308"/>
                      </a:lnTo>
                      <a:lnTo>
                        <a:pt x="3186" y="308"/>
                      </a:lnTo>
                      <a:lnTo>
                        <a:pt x="3156" y="319"/>
                      </a:lnTo>
                      <a:lnTo>
                        <a:pt x="3126" y="331"/>
                      </a:lnTo>
                      <a:lnTo>
                        <a:pt x="3096" y="342"/>
                      </a:lnTo>
                      <a:lnTo>
                        <a:pt x="3076" y="354"/>
                      </a:lnTo>
                      <a:lnTo>
                        <a:pt x="130" y="342"/>
                      </a:lnTo>
                      <a:lnTo>
                        <a:pt x="110" y="342"/>
                      </a:lnTo>
                      <a:lnTo>
                        <a:pt x="90" y="331"/>
                      </a:lnTo>
                      <a:lnTo>
                        <a:pt x="70" y="331"/>
                      </a:lnTo>
                      <a:lnTo>
                        <a:pt x="50" y="319"/>
                      </a:lnTo>
                      <a:lnTo>
                        <a:pt x="20" y="308"/>
                      </a:lnTo>
                      <a:lnTo>
                        <a:pt x="0" y="308"/>
                      </a:lnTo>
                      <a:lnTo>
                        <a:pt x="0" y="308"/>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19240" y="5667480"/>
                  <a:ext cx="5486400" cy="561960"/>
                </a:xfrm>
                <a:custGeom>
                  <a:avLst/>
                  <a:gdLst/>
                  <a:ahLst/>
                  <a:rect l="l" t="t" r="r" b="b"/>
                  <a:pathLst>
                    <a:path w="3456" h="354">
                      <a:moveTo>
                        <a:pt x="0" y="308"/>
                      </a:moveTo>
                      <a:lnTo>
                        <a:pt x="30" y="308"/>
                      </a:lnTo>
                      <a:lnTo>
                        <a:pt x="60" y="308"/>
                      </a:lnTo>
                      <a:lnTo>
                        <a:pt x="90" y="308"/>
                      </a:lnTo>
                      <a:lnTo>
                        <a:pt x="120" y="308"/>
                      </a:lnTo>
                      <a:lnTo>
                        <a:pt x="150" y="308"/>
                      </a:lnTo>
                      <a:lnTo>
                        <a:pt x="171" y="297"/>
                      </a:lnTo>
                      <a:lnTo>
                        <a:pt x="191" y="297"/>
                      </a:lnTo>
                      <a:lnTo>
                        <a:pt x="211" y="285"/>
                      </a:lnTo>
                      <a:lnTo>
                        <a:pt x="211" y="274"/>
                      </a:lnTo>
                      <a:lnTo>
                        <a:pt x="191" y="274"/>
                      </a:lnTo>
                      <a:lnTo>
                        <a:pt x="181" y="274"/>
                      </a:lnTo>
                      <a:lnTo>
                        <a:pt x="160" y="274"/>
                      </a:lnTo>
                      <a:lnTo>
                        <a:pt x="150" y="274"/>
                      </a:lnTo>
                      <a:lnTo>
                        <a:pt x="140" y="262"/>
                      </a:lnTo>
                      <a:lnTo>
                        <a:pt x="150" y="262"/>
                      </a:lnTo>
                      <a:lnTo>
                        <a:pt x="160" y="251"/>
                      </a:lnTo>
                      <a:lnTo>
                        <a:pt x="171" y="251"/>
                      </a:lnTo>
                      <a:lnTo>
                        <a:pt x="160" y="240"/>
                      </a:lnTo>
                      <a:lnTo>
                        <a:pt x="150" y="240"/>
                      </a:lnTo>
                      <a:lnTo>
                        <a:pt x="130" y="240"/>
                      </a:lnTo>
                      <a:lnTo>
                        <a:pt x="100" y="228"/>
                      </a:lnTo>
                      <a:lnTo>
                        <a:pt x="80" y="228"/>
                      </a:lnTo>
                      <a:lnTo>
                        <a:pt x="60" y="228"/>
                      </a:lnTo>
                      <a:lnTo>
                        <a:pt x="50" y="228"/>
                      </a:lnTo>
                      <a:lnTo>
                        <a:pt x="40" y="228"/>
                      </a:lnTo>
                      <a:lnTo>
                        <a:pt x="70" y="217"/>
                      </a:lnTo>
                      <a:lnTo>
                        <a:pt x="90" y="205"/>
                      </a:lnTo>
                      <a:lnTo>
                        <a:pt x="120" y="205"/>
                      </a:lnTo>
                      <a:lnTo>
                        <a:pt x="110" y="194"/>
                      </a:lnTo>
                      <a:lnTo>
                        <a:pt x="100" y="194"/>
                      </a:lnTo>
                      <a:lnTo>
                        <a:pt x="90" y="194"/>
                      </a:lnTo>
                      <a:lnTo>
                        <a:pt x="120" y="183"/>
                      </a:lnTo>
                      <a:lnTo>
                        <a:pt x="140" y="183"/>
                      </a:lnTo>
                      <a:lnTo>
                        <a:pt x="160" y="171"/>
                      </a:lnTo>
                      <a:lnTo>
                        <a:pt x="181" y="171"/>
                      </a:lnTo>
                      <a:lnTo>
                        <a:pt x="211" y="171"/>
                      </a:lnTo>
                      <a:lnTo>
                        <a:pt x="231" y="171"/>
                      </a:lnTo>
                      <a:lnTo>
                        <a:pt x="251" y="171"/>
                      </a:lnTo>
                      <a:lnTo>
                        <a:pt x="281" y="171"/>
                      </a:lnTo>
                      <a:lnTo>
                        <a:pt x="301" y="171"/>
                      </a:lnTo>
                      <a:lnTo>
                        <a:pt x="331" y="171"/>
                      </a:lnTo>
                      <a:lnTo>
                        <a:pt x="351" y="171"/>
                      </a:lnTo>
                      <a:lnTo>
                        <a:pt x="371" y="171"/>
                      </a:lnTo>
                      <a:lnTo>
                        <a:pt x="401" y="171"/>
                      </a:lnTo>
                      <a:lnTo>
                        <a:pt x="421" y="171"/>
                      </a:lnTo>
                      <a:lnTo>
                        <a:pt x="441" y="171"/>
                      </a:lnTo>
                      <a:lnTo>
                        <a:pt x="461" y="183"/>
                      </a:lnTo>
                      <a:lnTo>
                        <a:pt x="481" y="183"/>
                      </a:lnTo>
                      <a:lnTo>
                        <a:pt x="501" y="183"/>
                      </a:lnTo>
                      <a:lnTo>
                        <a:pt x="521" y="183"/>
                      </a:lnTo>
                      <a:lnTo>
                        <a:pt x="551" y="183"/>
                      </a:lnTo>
                      <a:lnTo>
                        <a:pt x="571" y="183"/>
                      </a:lnTo>
                      <a:lnTo>
                        <a:pt x="561" y="183"/>
                      </a:lnTo>
                      <a:lnTo>
                        <a:pt x="551" y="183"/>
                      </a:lnTo>
                      <a:lnTo>
                        <a:pt x="531" y="171"/>
                      </a:lnTo>
                      <a:lnTo>
                        <a:pt x="521" y="171"/>
                      </a:lnTo>
                      <a:lnTo>
                        <a:pt x="511" y="160"/>
                      </a:lnTo>
                      <a:lnTo>
                        <a:pt x="521" y="160"/>
                      </a:lnTo>
                      <a:lnTo>
                        <a:pt x="531" y="160"/>
                      </a:lnTo>
                      <a:lnTo>
                        <a:pt x="541" y="160"/>
                      </a:lnTo>
                      <a:lnTo>
                        <a:pt x="551" y="160"/>
                      </a:lnTo>
                      <a:lnTo>
                        <a:pt x="561" y="160"/>
                      </a:lnTo>
                      <a:lnTo>
                        <a:pt x="551" y="148"/>
                      </a:lnTo>
                      <a:lnTo>
                        <a:pt x="541" y="148"/>
                      </a:lnTo>
                      <a:lnTo>
                        <a:pt x="561" y="160"/>
                      </a:lnTo>
                      <a:lnTo>
                        <a:pt x="591" y="160"/>
                      </a:lnTo>
                      <a:lnTo>
                        <a:pt x="611" y="160"/>
                      </a:lnTo>
                      <a:lnTo>
                        <a:pt x="641" y="160"/>
                      </a:lnTo>
                      <a:lnTo>
                        <a:pt x="671" y="160"/>
                      </a:lnTo>
                      <a:lnTo>
                        <a:pt x="691" y="160"/>
                      </a:lnTo>
                      <a:lnTo>
                        <a:pt x="721" y="160"/>
                      </a:lnTo>
                      <a:lnTo>
                        <a:pt x="741" y="160"/>
                      </a:lnTo>
                      <a:lnTo>
                        <a:pt x="752" y="148"/>
                      </a:lnTo>
                      <a:lnTo>
                        <a:pt x="762" y="148"/>
                      </a:lnTo>
                      <a:lnTo>
                        <a:pt x="772" y="160"/>
                      </a:lnTo>
                      <a:lnTo>
                        <a:pt x="802" y="160"/>
                      </a:lnTo>
                      <a:lnTo>
                        <a:pt x="842" y="160"/>
                      </a:lnTo>
                      <a:lnTo>
                        <a:pt x="862" y="148"/>
                      </a:lnTo>
                      <a:lnTo>
                        <a:pt x="872" y="126"/>
                      </a:lnTo>
                      <a:lnTo>
                        <a:pt x="852" y="103"/>
                      </a:lnTo>
                      <a:lnTo>
                        <a:pt x="842" y="91"/>
                      </a:lnTo>
                      <a:lnTo>
                        <a:pt x="832" y="57"/>
                      </a:lnTo>
                      <a:lnTo>
                        <a:pt x="842" y="46"/>
                      </a:lnTo>
                      <a:lnTo>
                        <a:pt x="862" y="34"/>
                      </a:lnTo>
                      <a:lnTo>
                        <a:pt x="872" y="12"/>
                      </a:lnTo>
                      <a:lnTo>
                        <a:pt x="882" y="0"/>
                      </a:lnTo>
                      <a:lnTo>
                        <a:pt x="902" y="0"/>
                      </a:lnTo>
                      <a:lnTo>
                        <a:pt x="912" y="0"/>
                      </a:lnTo>
                      <a:lnTo>
                        <a:pt x="912" y="23"/>
                      </a:lnTo>
                      <a:lnTo>
                        <a:pt x="902" y="34"/>
                      </a:lnTo>
                      <a:lnTo>
                        <a:pt x="892" y="34"/>
                      </a:lnTo>
                      <a:lnTo>
                        <a:pt x="882" y="46"/>
                      </a:lnTo>
                      <a:lnTo>
                        <a:pt x="862" y="46"/>
                      </a:lnTo>
                      <a:lnTo>
                        <a:pt x="862" y="57"/>
                      </a:lnTo>
                      <a:lnTo>
                        <a:pt x="852" y="69"/>
                      </a:lnTo>
                      <a:lnTo>
                        <a:pt x="872" y="80"/>
                      </a:lnTo>
                      <a:lnTo>
                        <a:pt x="882" y="69"/>
                      </a:lnTo>
                      <a:lnTo>
                        <a:pt x="892" y="80"/>
                      </a:lnTo>
                      <a:lnTo>
                        <a:pt x="902" y="80"/>
                      </a:lnTo>
                      <a:lnTo>
                        <a:pt x="912" y="91"/>
                      </a:lnTo>
                      <a:lnTo>
                        <a:pt x="932" y="114"/>
                      </a:lnTo>
                      <a:lnTo>
                        <a:pt x="952" y="137"/>
                      </a:lnTo>
                      <a:lnTo>
                        <a:pt x="972" y="171"/>
                      </a:lnTo>
                      <a:lnTo>
                        <a:pt x="962" y="171"/>
                      </a:lnTo>
                      <a:lnTo>
                        <a:pt x="952" y="171"/>
                      </a:lnTo>
                      <a:lnTo>
                        <a:pt x="952" y="183"/>
                      </a:lnTo>
                      <a:lnTo>
                        <a:pt x="942" y="183"/>
                      </a:lnTo>
                      <a:lnTo>
                        <a:pt x="912" y="183"/>
                      </a:lnTo>
                      <a:lnTo>
                        <a:pt x="882" y="194"/>
                      </a:lnTo>
                      <a:lnTo>
                        <a:pt x="862" y="194"/>
                      </a:lnTo>
                      <a:lnTo>
                        <a:pt x="832" y="194"/>
                      </a:lnTo>
                      <a:lnTo>
                        <a:pt x="802" y="194"/>
                      </a:lnTo>
                      <a:lnTo>
                        <a:pt x="772" y="205"/>
                      </a:lnTo>
                      <a:lnTo>
                        <a:pt x="752" y="205"/>
                      </a:lnTo>
                      <a:lnTo>
                        <a:pt x="752" y="217"/>
                      </a:lnTo>
                      <a:lnTo>
                        <a:pt x="782" y="217"/>
                      </a:lnTo>
                      <a:lnTo>
                        <a:pt x="812" y="217"/>
                      </a:lnTo>
                      <a:lnTo>
                        <a:pt x="842" y="228"/>
                      </a:lnTo>
                      <a:lnTo>
                        <a:pt x="852" y="240"/>
                      </a:lnTo>
                      <a:lnTo>
                        <a:pt x="862" y="240"/>
                      </a:lnTo>
                      <a:lnTo>
                        <a:pt x="852" y="240"/>
                      </a:lnTo>
                      <a:lnTo>
                        <a:pt x="842" y="240"/>
                      </a:lnTo>
                      <a:lnTo>
                        <a:pt x="832" y="240"/>
                      </a:lnTo>
                      <a:lnTo>
                        <a:pt x="822" y="240"/>
                      </a:lnTo>
                      <a:lnTo>
                        <a:pt x="812" y="240"/>
                      </a:lnTo>
                      <a:lnTo>
                        <a:pt x="802" y="240"/>
                      </a:lnTo>
                      <a:lnTo>
                        <a:pt x="792" y="240"/>
                      </a:lnTo>
                      <a:lnTo>
                        <a:pt x="802" y="240"/>
                      </a:lnTo>
                      <a:lnTo>
                        <a:pt x="822" y="251"/>
                      </a:lnTo>
                      <a:lnTo>
                        <a:pt x="842" y="251"/>
                      </a:lnTo>
                      <a:lnTo>
                        <a:pt x="852" y="251"/>
                      </a:lnTo>
                      <a:lnTo>
                        <a:pt x="862" y="251"/>
                      </a:lnTo>
                      <a:lnTo>
                        <a:pt x="872" y="251"/>
                      </a:lnTo>
                      <a:lnTo>
                        <a:pt x="892" y="262"/>
                      </a:lnTo>
                      <a:lnTo>
                        <a:pt x="922" y="262"/>
                      </a:lnTo>
                      <a:lnTo>
                        <a:pt x="942" y="262"/>
                      </a:lnTo>
                      <a:lnTo>
                        <a:pt x="952" y="262"/>
                      </a:lnTo>
                      <a:lnTo>
                        <a:pt x="972" y="274"/>
                      </a:lnTo>
                      <a:lnTo>
                        <a:pt x="982" y="274"/>
                      </a:lnTo>
                      <a:lnTo>
                        <a:pt x="1002" y="274"/>
                      </a:lnTo>
                      <a:lnTo>
                        <a:pt x="1012" y="274"/>
                      </a:lnTo>
                      <a:lnTo>
                        <a:pt x="1022" y="274"/>
                      </a:lnTo>
                      <a:lnTo>
                        <a:pt x="1032" y="274"/>
                      </a:lnTo>
                      <a:lnTo>
                        <a:pt x="1042" y="274"/>
                      </a:lnTo>
                      <a:lnTo>
                        <a:pt x="1062" y="274"/>
                      </a:lnTo>
                      <a:lnTo>
                        <a:pt x="1072" y="274"/>
                      </a:lnTo>
                      <a:lnTo>
                        <a:pt x="1092" y="274"/>
                      </a:lnTo>
                      <a:lnTo>
                        <a:pt x="1112" y="274"/>
                      </a:lnTo>
                      <a:lnTo>
                        <a:pt x="1132" y="274"/>
                      </a:lnTo>
                      <a:lnTo>
                        <a:pt x="1152" y="274"/>
                      </a:lnTo>
                      <a:lnTo>
                        <a:pt x="1182" y="274"/>
                      </a:lnTo>
                      <a:lnTo>
                        <a:pt x="1212" y="274"/>
                      </a:lnTo>
                      <a:lnTo>
                        <a:pt x="1242" y="262"/>
                      </a:lnTo>
                      <a:lnTo>
                        <a:pt x="1272" y="251"/>
                      </a:lnTo>
                      <a:lnTo>
                        <a:pt x="1302" y="240"/>
                      </a:lnTo>
                      <a:lnTo>
                        <a:pt x="1312" y="240"/>
                      </a:lnTo>
                      <a:lnTo>
                        <a:pt x="1292" y="240"/>
                      </a:lnTo>
                      <a:lnTo>
                        <a:pt x="1272" y="228"/>
                      </a:lnTo>
                      <a:lnTo>
                        <a:pt x="1252" y="217"/>
                      </a:lnTo>
                      <a:lnTo>
                        <a:pt x="1272" y="217"/>
                      </a:lnTo>
                      <a:lnTo>
                        <a:pt x="1282" y="217"/>
                      </a:lnTo>
                      <a:lnTo>
                        <a:pt x="1292" y="205"/>
                      </a:lnTo>
                      <a:lnTo>
                        <a:pt x="1302" y="205"/>
                      </a:lnTo>
                      <a:lnTo>
                        <a:pt x="1312" y="205"/>
                      </a:lnTo>
                      <a:lnTo>
                        <a:pt x="1312" y="194"/>
                      </a:lnTo>
                      <a:lnTo>
                        <a:pt x="1353" y="183"/>
                      </a:lnTo>
                      <a:lnTo>
                        <a:pt x="1383" y="183"/>
                      </a:lnTo>
                      <a:lnTo>
                        <a:pt x="1413" y="171"/>
                      </a:lnTo>
                      <a:lnTo>
                        <a:pt x="1423" y="171"/>
                      </a:lnTo>
                      <a:lnTo>
                        <a:pt x="1433" y="171"/>
                      </a:lnTo>
                      <a:lnTo>
                        <a:pt x="1433" y="160"/>
                      </a:lnTo>
                      <a:lnTo>
                        <a:pt x="1433" y="148"/>
                      </a:lnTo>
                      <a:lnTo>
                        <a:pt x="1443" y="148"/>
                      </a:lnTo>
                      <a:lnTo>
                        <a:pt x="1453" y="148"/>
                      </a:lnTo>
                      <a:lnTo>
                        <a:pt x="1463" y="137"/>
                      </a:lnTo>
                      <a:lnTo>
                        <a:pt x="1463" y="126"/>
                      </a:lnTo>
                      <a:lnTo>
                        <a:pt x="1473" y="114"/>
                      </a:lnTo>
                      <a:lnTo>
                        <a:pt x="1473" y="126"/>
                      </a:lnTo>
                      <a:lnTo>
                        <a:pt x="1483" y="126"/>
                      </a:lnTo>
                      <a:lnTo>
                        <a:pt x="1503" y="126"/>
                      </a:lnTo>
                      <a:lnTo>
                        <a:pt x="1513" y="114"/>
                      </a:lnTo>
                      <a:lnTo>
                        <a:pt x="1533" y="114"/>
                      </a:lnTo>
                      <a:lnTo>
                        <a:pt x="1533" y="126"/>
                      </a:lnTo>
                      <a:lnTo>
                        <a:pt x="1553" y="126"/>
                      </a:lnTo>
                      <a:lnTo>
                        <a:pt x="1563" y="126"/>
                      </a:lnTo>
                      <a:lnTo>
                        <a:pt x="1573" y="114"/>
                      </a:lnTo>
                      <a:lnTo>
                        <a:pt x="1613" y="114"/>
                      </a:lnTo>
                      <a:lnTo>
                        <a:pt x="1643" y="114"/>
                      </a:lnTo>
                      <a:lnTo>
                        <a:pt x="1673" y="103"/>
                      </a:lnTo>
                      <a:lnTo>
                        <a:pt x="1683" y="103"/>
                      </a:lnTo>
                      <a:lnTo>
                        <a:pt x="1693" y="103"/>
                      </a:lnTo>
                      <a:lnTo>
                        <a:pt x="1733" y="103"/>
                      </a:lnTo>
                      <a:lnTo>
                        <a:pt x="1753" y="103"/>
                      </a:lnTo>
                      <a:lnTo>
                        <a:pt x="1783" y="91"/>
                      </a:lnTo>
                      <a:lnTo>
                        <a:pt x="1803" y="91"/>
                      </a:lnTo>
                      <a:lnTo>
                        <a:pt x="1833" y="91"/>
                      </a:lnTo>
                      <a:lnTo>
                        <a:pt x="1853" y="91"/>
                      </a:lnTo>
                      <a:lnTo>
                        <a:pt x="1873" y="91"/>
                      </a:lnTo>
                      <a:lnTo>
                        <a:pt x="1904" y="91"/>
                      </a:lnTo>
                      <a:lnTo>
                        <a:pt x="1924" y="91"/>
                      </a:lnTo>
                      <a:lnTo>
                        <a:pt x="1954" y="91"/>
                      </a:lnTo>
                      <a:lnTo>
                        <a:pt x="1974" y="91"/>
                      </a:lnTo>
                      <a:lnTo>
                        <a:pt x="1984" y="80"/>
                      </a:lnTo>
                      <a:lnTo>
                        <a:pt x="1994" y="69"/>
                      </a:lnTo>
                      <a:lnTo>
                        <a:pt x="2004" y="80"/>
                      </a:lnTo>
                      <a:lnTo>
                        <a:pt x="2014" y="91"/>
                      </a:lnTo>
                      <a:lnTo>
                        <a:pt x="2014" y="103"/>
                      </a:lnTo>
                      <a:lnTo>
                        <a:pt x="2034" y="103"/>
                      </a:lnTo>
                      <a:lnTo>
                        <a:pt x="2044" y="91"/>
                      </a:lnTo>
                      <a:lnTo>
                        <a:pt x="2064" y="80"/>
                      </a:lnTo>
                      <a:lnTo>
                        <a:pt x="2074" y="69"/>
                      </a:lnTo>
                      <a:lnTo>
                        <a:pt x="2094" y="69"/>
                      </a:lnTo>
                      <a:lnTo>
                        <a:pt x="2114" y="69"/>
                      </a:lnTo>
                      <a:lnTo>
                        <a:pt x="2134" y="57"/>
                      </a:lnTo>
                      <a:lnTo>
                        <a:pt x="2154" y="46"/>
                      </a:lnTo>
                      <a:lnTo>
                        <a:pt x="2184" y="34"/>
                      </a:lnTo>
                      <a:lnTo>
                        <a:pt x="2224" y="34"/>
                      </a:lnTo>
                      <a:lnTo>
                        <a:pt x="2244" y="34"/>
                      </a:lnTo>
                      <a:lnTo>
                        <a:pt x="2254" y="34"/>
                      </a:lnTo>
                      <a:lnTo>
                        <a:pt x="2254" y="46"/>
                      </a:lnTo>
                      <a:lnTo>
                        <a:pt x="2264" y="46"/>
                      </a:lnTo>
                      <a:lnTo>
                        <a:pt x="2274" y="46"/>
                      </a:lnTo>
                      <a:lnTo>
                        <a:pt x="2304" y="57"/>
                      </a:lnTo>
                      <a:lnTo>
                        <a:pt x="2334" y="57"/>
                      </a:lnTo>
                      <a:lnTo>
                        <a:pt x="2364" y="69"/>
                      </a:lnTo>
                      <a:lnTo>
                        <a:pt x="2394" y="80"/>
                      </a:lnTo>
                      <a:lnTo>
                        <a:pt x="2384" y="80"/>
                      </a:lnTo>
                      <a:lnTo>
                        <a:pt x="2374" y="91"/>
                      </a:lnTo>
                      <a:lnTo>
                        <a:pt x="2364" y="91"/>
                      </a:lnTo>
                      <a:lnTo>
                        <a:pt x="2354" y="103"/>
                      </a:lnTo>
                      <a:lnTo>
                        <a:pt x="2364" y="114"/>
                      </a:lnTo>
                      <a:lnTo>
                        <a:pt x="2374" y="114"/>
                      </a:lnTo>
                      <a:lnTo>
                        <a:pt x="2384" y="114"/>
                      </a:lnTo>
                      <a:lnTo>
                        <a:pt x="2394" y="114"/>
                      </a:lnTo>
                      <a:lnTo>
                        <a:pt x="2414" y="103"/>
                      </a:lnTo>
                      <a:lnTo>
                        <a:pt x="2424" y="91"/>
                      </a:lnTo>
                      <a:lnTo>
                        <a:pt x="2444" y="91"/>
                      </a:lnTo>
                      <a:lnTo>
                        <a:pt x="2454" y="91"/>
                      </a:lnTo>
                      <a:lnTo>
                        <a:pt x="2475" y="80"/>
                      </a:lnTo>
                      <a:lnTo>
                        <a:pt x="2485" y="80"/>
                      </a:lnTo>
                      <a:lnTo>
                        <a:pt x="2495" y="69"/>
                      </a:lnTo>
                      <a:lnTo>
                        <a:pt x="2515" y="69"/>
                      </a:lnTo>
                      <a:lnTo>
                        <a:pt x="2525" y="57"/>
                      </a:lnTo>
                      <a:lnTo>
                        <a:pt x="2535" y="57"/>
                      </a:lnTo>
                      <a:lnTo>
                        <a:pt x="2565" y="46"/>
                      </a:lnTo>
                      <a:lnTo>
                        <a:pt x="2595" y="34"/>
                      </a:lnTo>
                      <a:lnTo>
                        <a:pt x="2625" y="34"/>
                      </a:lnTo>
                      <a:lnTo>
                        <a:pt x="2635" y="34"/>
                      </a:lnTo>
                      <a:lnTo>
                        <a:pt x="2635" y="46"/>
                      </a:lnTo>
                      <a:lnTo>
                        <a:pt x="2645" y="46"/>
                      </a:lnTo>
                      <a:lnTo>
                        <a:pt x="2655" y="46"/>
                      </a:lnTo>
                      <a:lnTo>
                        <a:pt x="2665" y="46"/>
                      </a:lnTo>
                      <a:lnTo>
                        <a:pt x="2675" y="46"/>
                      </a:lnTo>
                      <a:lnTo>
                        <a:pt x="2685" y="46"/>
                      </a:lnTo>
                      <a:lnTo>
                        <a:pt x="2715" y="46"/>
                      </a:lnTo>
                      <a:lnTo>
                        <a:pt x="2745" y="46"/>
                      </a:lnTo>
                      <a:lnTo>
                        <a:pt x="2775" y="46"/>
                      </a:lnTo>
                      <a:lnTo>
                        <a:pt x="2795" y="46"/>
                      </a:lnTo>
                      <a:lnTo>
                        <a:pt x="2825" y="46"/>
                      </a:lnTo>
                      <a:lnTo>
                        <a:pt x="2855" y="46"/>
                      </a:lnTo>
                      <a:lnTo>
                        <a:pt x="2865" y="46"/>
                      </a:lnTo>
                      <a:lnTo>
                        <a:pt x="2875" y="46"/>
                      </a:lnTo>
                      <a:lnTo>
                        <a:pt x="2885" y="34"/>
                      </a:lnTo>
                      <a:lnTo>
                        <a:pt x="2905" y="34"/>
                      </a:lnTo>
                      <a:lnTo>
                        <a:pt x="2935" y="46"/>
                      </a:lnTo>
                      <a:lnTo>
                        <a:pt x="2955" y="46"/>
                      </a:lnTo>
                      <a:lnTo>
                        <a:pt x="2965" y="46"/>
                      </a:lnTo>
                      <a:lnTo>
                        <a:pt x="2975" y="46"/>
                      </a:lnTo>
                      <a:lnTo>
                        <a:pt x="2995" y="46"/>
                      </a:lnTo>
                      <a:lnTo>
                        <a:pt x="3005" y="46"/>
                      </a:lnTo>
                      <a:lnTo>
                        <a:pt x="3015" y="46"/>
                      </a:lnTo>
                      <a:lnTo>
                        <a:pt x="3025" y="46"/>
                      </a:lnTo>
                      <a:lnTo>
                        <a:pt x="3035" y="46"/>
                      </a:lnTo>
                      <a:lnTo>
                        <a:pt x="3045" y="46"/>
                      </a:lnTo>
                      <a:lnTo>
                        <a:pt x="3056" y="34"/>
                      </a:lnTo>
                      <a:lnTo>
                        <a:pt x="3066" y="34"/>
                      </a:lnTo>
                      <a:lnTo>
                        <a:pt x="3076" y="46"/>
                      </a:lnTo>
                      <a:lnTo>
                        <a:pt x="3086" y="46"/>
                      </a:lnTo>
                      <a:lnTo>
                        <a:pt x="3096" y="46"/>
                      </a:lnTo>
                      <a:lnTo>
                        <a:pt x="3106" y="34"/>
                      </a:lnTo>
                      <a:lnTo>
                        <a:pt x="3116" y="34"/>
                      </a:lnTo>
                      <a:lnTo>
                        <a:pt x="3146" y="34"/>
                      </a:lnTo>
                      <a:lnTo>
                        <a:pt x="3166" y="34"/>
                      </a:lnTo>
                      <a:lnTo>
                        <a:pt x="3196" y="46"/>
                      </a:lnTo>
                      <a:lnTo>
                        <a:pt x="3226" y="46"/>
                      </a:lnTo>
                      <a:lnTo>
                        <a:pt x="3236" y="46"/>
                      </a:lnTo>
                      <a:lnTo>
                        <a:pt x="3246" y="57"/>
                      </a:lnTo>
                      <a:lnTo>
                        <a:pt x="3276" y="69"/>
                      </a:lnTo>
                      <a:lnTo>
                        <a:pt x="3286" y="69"/>
                      </a:lnTo>
                      <a:lnTo>
                        <a:pt x="3296" y="69"/>
                      </a:lnTo>
                      <a:lnTo>
                        <a:pt x="3306" y="69"/>
                      </a:lnTo>
                      <a:lnTo>
                        <a:pt x="3336" y="80"/>
                      </a:lnTo>
                      <a:lnTo>
                        <a:pt x="3356" y="91"/>
                      </a:lnTo>
                      <a:lnTo>
                        <a:pt x="3376" y="103"/>
                      </a:lnTo>
                      <a:lnTo>
                        <a:pt x="3396" y="103"/>
                      </a:lnTo>
                      <a:lnTo>
                        <a:pt x="3406" y="103"/>
                      </a:lnTo>
                      <a:lnTo>
                        <a:pt x="3416" y="91"/>
                      </a:lnTo>
                      <a:lnTo>
                        <a:pt x="3436" y="103"/>
                      </a:lnTo>
                      <a:lnTo>
                        <a:pt x="3456" y="126"/>
                      </a:lnTo>
                      <a:lnTo>
                        <a:pt x="3456" y="137"/>
                      </a:lnTo>
                      <a:lnTo>
                        <a:pt x="3436" y="137"/>
                      </a:lnTo>
                      <a:lnTo>
                        <a:pt x="3426" y="137"/>
                      </a:lnTo>
                      <a:lnTo>
                        <a:pt x="3406" y="148"/>
                      </a:lnTo>
                      <a:lnTo>
                        <a:pt x="3396" y="148"/>
                      </a:lnTo>
                      <a:lnTo>
                        <a:pt x="3396" y="160"/>
                      </a:lnTo>
                      <a:lnTo>
                        <a:pt x="3386" y="160"/>
                      </a:lnTo>
                      <a:lnTo>
                        <a:pt x="3376" y="160"/>
                      </a:lnTo>
                      <a:lnTo>
                        <a:pt x="3346" y="160"/>
                      </a:lnTo>
                      <a:lnTo>
                        <a:pt x="3326" y="171"/>
                      </a:lnTo>
                      <a:lnTo>
                        <a:pt x="3296" y="183"/>
                      </a:lnTo>
                      <a:lnTo>
                        <a:pt x="3256" y="194"/>
                      </a:lnTo>
                      <a:lnTo>
                        <a:pt x="3236" y="205"/>
                      </a:lnTo>
                      <a:lnTo>
                        <a:pt x="3236" y="217"/>
                      </a:lnTo>
                      <a:lnTo>
                        <a:pt x="3246" y="228"/>
                      </a:lnTo>
                      <a:lnTo>
                        <a:pt x="3236" y="240"/>
                      </a:lnTo>
                      <a:lnTo>
                        <a:pt x="3226" y="228"/>
                      </a:lnTo>
                      <a:lnTo>
                        <a:pt x="3216" y="228"/>
                      </a:lnTo>
                      <a:lnTo>
                        <a:pt x="3186" y="240"/>
                      </a:lnTo>
                      <a:lnTo>
                        <a:pt x="3156" y="240"/>
                      </a:lnTo>
                      <a:lnTo>
                        <a:pt x="3126" y="251"/>
                      </a:lnTo>
                      <a:lnTo>
                        <a:pt x="3136" y="251"/>
                      </a:lnTo>
                      <a:lnTo>
                        <a:pt x="3146" y="251"/>
                      </a:lnTo>
                      <a:lnTo>
                        <a:pt x="3126" y="262"/>
                      </a:lnTo>
                      <a:lnTo>
                        <a:pt x="3116" y="262"/>
                      </a:lnTo>
                      <a:lnTo>
                        <a:pt x="3106" y="274"/>
                      </a:lnTo>
                      <a:lnTo>
                        <a:pt x="3116" y="274"/>
                      </a:lnTo>
                      <a:lnTo>
                        <a:pt x="3146" y="297"/>
                      </a:lnTo>
                      <a:lnTo>
                        <a:pt x="3176" y="297"/>
                      </a:lnTo>
                      <a:lnTo>
                        <a:pt x="3206" y="308"/>
                      </a:lnTo>
                      <a:lnTo>
                        <a:pt x="3196" y="308"/>
                      </a:lnTo>
                      <a:lnTo>
                        <a:pt x="3186" y="308"/>
                      </a:lnTo>
                      <a:lnTo>
                        <a:pt x="3156" y="319"/>
                      </a:lnTo>
                      <a:lnTo>
                        <a:pt x="3126" y="331"/>
                      </a:lnTo>
                      <a:lnTo>
                        <a:pt x="3096" y="342"/>
                      </a:lnTo>
                      <a:lnTo>
                        <a:pt x="3076" y="354"/>
                      </a:lnTo>
                      <a:lnTo>
                        <a:pt x="130" y="342"/>
                      </a:lnTo>
                      <a:lnTo>
                        <a:pt x="110" y="342"/>
                      </a:lnTo>
                      <a:lnTo>
                        <a:pt x="90" y="331"/>
                      </a:lnTo>
                      <a:lnTo>
                        <a:pt x="70" y="331"/>
                      </a:lnTo>
                      <a:lnTo>
                        <a:pt x="50" y="319"/>
                      </a:lnTo>
                      <a:lnTo>
                        <a:pt x="20" y="308"/>
                      </a:lnTo>
                      <a:lnTo>
                        <a:pt x="0" y="3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753000" y="6029280"/>
                  <a:ext cx="142560" cy="54000"/>
                </a:xfrm>
                <a:custGeom>
                  <a:avLst/>
                  <a:gdLst/>
                  <a:ahLst/>
                  <a:rect l="l" t="t" r="r" b="b"/>
                  <a:pathLst>
                    <a:path w="90" h="34">
                      <a:moveTo>
                        <a:pt x="50" y="0"/>
                      </a:moveTo>
                      <a:lnTo>
                        <a:pt x="60" y="0"/>
                      </a:lnTo>
                      <a:lnTo>
                        <a:pt x="80" y="12"/>
                      </a:lnTo>
                      <a:lnTo>
                        <a:pt x="90" y="23"/>
                      </a:lnTo>
                      <a:lnTo>
                        <a:pt x="90" y="34"/>
                      </a:lnTo>
                      <a:lnTo>
                        <a:pt x="80" y="34"/>
                      </a:lnTo>
                      <a:lnTo>
                        <a:pt x="50" y="23"/>
                      </a:lnTo>
                      <a:lnTo>
                        <a:pt x="30" y="23"/>
                      </a:lnTo>
                      <a:lnTo>
                        <a:pt x="0" y="12"/>
                      </a:lnTo>
                      <a:lnTo>
                        <a:pt x="10" y="0"/>
                      </a:lnTo>
                      <a:lnTo>
                        <a:pt x="30" y="0"/>
                      </a:lnTo>
                      <a:lnTo>
                        <a:pt x="50" y="0"/>
                      </a:lnTo>
                      <a:lnTo>
                        <a:pt x="50" y="0"/>
                      </a:lnTo>
                      <a:close/>
                    </a:path>
                  </a:pathLst>
                </a:custGeom>
                <a:solidFill>
                  <a:srgbClr val="0093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5" name=""/>
                <p:cNvSpPr/>
                <p:nvPr/>
              </p:nvSpPr>
              <p:spPr>
                <a:xfrm>
                  <a:off x="3753000" y="6029280"/>
                  <a:ext cx="142560" cy="54000"/>
                </a:xfrm>
                <a:custGeom>
                  <a:avLst/>
                  <a:gdLst/>
                  <a:ahLst/>
                  <a:rect l="l" t="t" r="r" b="b"/>
                  <a:pathLst>
                    <a:path w="90" h="34">
                      <a:moveTo>
                        <a:pt x="50" y="0"/>
                      </a:moveTo>
                      <a:lnTo>
                        <a:pt x="60" y="0"/>
                      </a:lnTo>
                      <a:lnTo>
                        <a:pt x="80" y="12"/>
                      </a:lnTo>
                      <a:lnTo>
                        <a:pt x="90" y="23"/>
                      </a:lnTo>
                      <a:lnTo>
                        <a:pt x="90" y="34"/>
                      </a:lnTo>
                      <a:lnTo>
                        <a:pt x="80" y="34"/>
                      </a:lnTo>
                      <a:lnTo>
                        <a:pt x="50" y="23"/>
                      </a:lnTo>
                      <a:lnTo>
                        <a:pt x="30" y="23"/>
                      </a:lnTo>
                      <a:lnTo>
                        <a:pt x="0" y="12"/>
                      </a:lnTo>
                      <a:lnTo>
                        <a:pt x="10" y="0"/>
                      </a:lnTo>
                      <a:lnTo>
                        <a:pt x="30" y="0"/>
                      </a:lnTo>
                      <a:lnTo>
                        <a:pt x="5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6" name=""/>
                <p:cNvSpPr/>
                <p:nvPr/>
              </p:nvSpPr>
              <p:spPr>
                <a:xfrm>
                  <a:off x="4341960" y="1360440"/>
                  <a:ext cx="3657600" cy="2298600"/>
                </a:xfrm>
                <a:custGeom>
                  <a:avLst/>
                  <a:gdLst/>
                  <a:ahLst/>
                  <a:rect l="l" t="t" r="r" b="b"/>
                  <a:pathLst>
                    <a:path w="2304" h="1448">
                      <a:moveTo>
                        <a:pt x="2254" y="205"/>
                      </a:moveTo>
                      <a:lnTo>
                        <a:pt x="2264" y="216"/>
                      </a:lnTo>
                      <a:lnTo>
                        <a:pt x="2274" y="228"/>
                      </a:lnTo>
                      <a:lnTo>
                        <a:pt x="2284" y="228"/>
                      </a:lnTo>
                      <a:lnTo>
                        <a:pt x="2294" y="239"/>
                      </a:lnTo>
                      <a:lnTo>
                        <a:pt x="2304" y="251"/>
                      </a:lnTo>
                      <a:lnTo>
                        <a:pt x="2294" y="251"/>
                      </a:lnTo>
                      <a:lnTo>
                        <a:pt x="2284" y="251"/>
                      </a:lnTo>
                      <a:lnTo>
                        <a:pt x="2264" y="239"/>
                      </a:lnTo>
                      <a:lnTo>
                        <a:pt x="2274" y="239"/>
                      </a:lnTo>
                      <a:lnTo>
                        <a:pt x="2264" y="251"/>
                      </a:lnTo>
                      <a:lnTo>
                        <a:pt x="2254" y="251"/>
                      </a:lnTo>
                      <a:lnTo>
                        <a:pt x="2244" y="262"/>
                      </a:lnTo>
                      <a:lnTo>
                        <a:pt x="2244" y="273"/>
                      </a:lnTo>
                      <a:lnTo>
                        <a:pt x="2244" y="285"/>
                      </a:lnTo>
                      <a:lnTo>
                        <a:pt x="2244" y="296"/>
                      </a:lnTo>
                      <a:lnTo>
                        <a:pt x="2234" y="296"/>
                      </a:lnTo>
                      <a:lnTo>
                        <a:pt x="2224" y="285"/>
                      </a:lnTo>
                      <a:lnTo>
                        <a:pt x="2214" y="285"/>
                      </a:lnTo>
                      <a:lnTo>
                        <a:pt x="2204" y="285"/>
                      </a:lnTo>
                      <a:lnTo>
                        <a:pt x="2194" y="285"/>
                      </a:lnTo>
                      <a:lnTo>
                        <a:pt x="2184" y="285"/>
                      </a:lnTo>
                      <a:lnTo>
                        <a:pt x="2164" y="285"/>
                      </a:lnTo>
                      <a:lnTo>
                        <a:pt x="2153" y="285"/>
                      </a:lnTo>
                      <a:lnTo>
                        <a:pt x="2153" y="308"/>
                      </a:lnTo>
                      <a:lnTo>
                        <a:pt x="2184" y="330"/>
                      </a:lnTo>
                      <a:lnTo>
                        <a:pt x="2214" y="353"/>
                      </a:lnTo>
                      <a:lnTo>
                        <a:pt x="2224" y="365"/>
                      </a:lnTo>
                      <a:lnTo>
                        <a:pt x="2234" y="365"/>
                      </a:lnTo>
                      <a:lnTo>
                        <a:pt x="2234" y="376"/>
                      </a:lnTo>
                      <a:lnTo>
                        <a:pt x="2234" y="387"/>
                      </a:lnTo>
                      <a:lnTo>
                        <a:pt x="2224" y="387"/>
                      </a:lnTo>
                      <a:lnTo>
                        <a:pt x="2224" y="410"/>
                      </a:lnTo>
                      <a:lnTo>
                        <a:pt x="2234" y="410"/>
                      </a:lnTo>
                      <a:lnTo>
                        <a:pt x="2234" y="422"/>
                      </a:lnTo>
                      <a:lnTo>
                        <a:pt x="2234" y="433"/>
                      </a:lnTo>
                      <a:lnTo>
                        <a:pt x="2234" y="444"/>
                      </a:lnTo>
                      <a:lnTo>
                        <a:pt x="2234" y="456"/>
                      </a:lnTo>
                      <a:lnTo>
                        <a:pt x="2224" y="456"/>
                      </a:lnTo>
                      <a:lnTo>
                        <a:pt x="2214" y="444"/>
                      </a:lnTo>
                      <a:lnTo>
                        <a:pt x="2204" y="433"/>
                      </a:lnTo>
                      <a:lnTo>
                        <a:pt x="2184" y="410"/>
                      </a:lnTo>
                      <a:lnTo>
                        <a:pt x="2153" y="399"/>
                      </a:lnTo>
                      <a:lnTo>
                        <a:pt x="2133" y="376"/>
                      </a:lnTo>
                      <a:lnTo>
                        <a:pt x="2123" y="365"/>
                      </a:lnTo>
                      <a:lnTo>
                        <a:pt x="2113" y="353"/>
                      </a:lnTo>
                      <a:lnTo>
                        <a:pt x="2113" y="342"/>
                      </a:lnTo>
                      <a:lnTo>
                        <a:pt x="2123" y="330"/>
                      </a:lnTo>
                      <a:lnTo>
                        <a:pt x="2123" y="296"/>
                      </a:lnTo>
                      <a:lnTo>
                        <a:pt x="2113" y="273"/>
                      </a:lnTo>
                      <a:lnTo>
                        <a:pt x="2093" y="239"/>
                      </a:lnTo>
                      <a:lnTo>
                        <a:pt x="2093" y="251"/>
                      </a:lnTo>
                      <a:lnTo>
                        <a:pt x="2103" y="262"/>
                      </a:lnTo>
                      <a:lnTo>
                        <a:pt x="2103" y="273"/>
                      </a:lnTo>
                      <a:lnTo>
                        <a:pt x="2093" y="285"/>
                      </a:lnTo>
                      <a:lnTo>
                        <a:pt x="2093" y="273"/>
                      </a:lnTo>
                      <a:lnTo>
                        <a:pt x="2083" y="262"/>
                      </a:lnTo>
                      <a:lnTo>
                        <a:pt x="2073" y="262"/>
                      </a:lnTo>
                      <a:lnTo>
                        <a:pt x="2053" y="251"/>
                      </a:lnTo>
                      <a:lnTo>
                        <a:pt x="2033" y="262"/>
                      </a:lnTo>
                      <a:lnTo>
                        <a:pt x="2033" y="296"/>
                      </a:lnTo>
                      <a:lnTo>
                        <a:pt x="2043" y="296"/>
                      </a:lnTo>
                      <a:lnTo>
                        <a:pt x="2053" y="296"/>
                      </a:lnTo>
                      <a:lnTo>
                        <a:pt x="2063" y="308"/>
                      </a:lnTo>
                      <a:lnTo>
                        <a:pt x="2053" y="308"/>
                      </a:lnTo>
                      <a:lnTo>
                        <a:pt x="2043" y="308"/>
                      </a:lnTo>
                      <a:lnTo>
                        <a:pt x="2033" y="308"/>
                      </a:lnTo>
                      <a:lnTo>
                        <a:pt x="2023" y="308"/>
                      </a:lnTo>
                      <a:lnTo>
                        <a:pt x="2003" y="308"/>
                      </a:lnTo>
                      <a:lnTo>
                        <a:pt x="1993" y="296"/>
                      </a:lnTo>
                      <a:lnTo>
                        <a:pt x="1983" y="296"/>
                      </a:lnTo>
                      <a:lnTo>
                        <a:pt x="1973" y="296"/>
                      </a:lnTo>
                      <a:lnTo>
                        <a:pt x="1953" y="308"/>
                      </a:lnTo>
                      <a:lnTo>
                        <a:pt x="1923" y="319"/>
                      </a:lnTo>
                      <a:lnTo>
                        <a:pt x="1903" y="330"/>
                      </a:lnTo>
                      <a:lnTo>
                        <a:pt x="1903" y="342"/>
                      </a:lnTo>
                      <a:lnTo>
                        <a:pt x="1893" y="342"/>
                      </a:lnTo>
                      <a:lnTo>
                        <a:pt x="1893" y="353"/>
                      </a:lnTo>
                      <a:lnTo>
                        <a:pt x="1883" y="376"/>
                      </a:lnTo>
                      <a:lnTo>
                        <a:pt x="1883" y="387"/>
                      </a:lnTo>
                      <a:lnTo>
                        <a:pt x="1893" y="399"/>
                      </a:lnTo>
                      <a:lnTo>
                        <a:pt x="1923" y="410"/>
                      </a:lnTo>
                      <a:lnTo>
                        <a:pt x="1933" y="410"/>
                      </a:lnTo>
                      <a:lnTo>
                        <a:pt x="1943" y="399"/>
                      </a:lnTo>
                      <a:lnTo>
                        <a:pt x="1953" y="399"/>
                      </a:lnTo>
                      <a:lnTo>
                        <a:pt x="1963" y="399"/>
                      </a:lnTo>
                      <a:lnTo>
                        <a:pt x="1973" y="410"/>
                      </a:lnTo>
                      <a:lnTo>
                        <a:pt x="1983" y="410"/>
                      </a:lnTo>
                      <a:lnTo>
                        <a:pt x="1973" y="422"/>
                      </a:lnTo>
                      <a:lnTo>
                        <a:pt x="1983" y="422"/>
                      </a:lnTo>
                      <a:lnTo>
                        <a:pt x="1993" y="433"/>
                      </a:lnTo>
                      <a:lnTo>
                        <a:pt x="2003" y="433"/>
                      </a:lnTo>
                      <a:lnTo>
                        <a:pt x="2003" y="444"/>
                      </a:lnTo>
                      <a:lnTo>
                        <a:pt x="2003" y="456"/>
                      </a:lnTo>
                      <a:lnTo>
                        <a:pt x="2003" y="467"/>
                      </a:lnTo>
                      <a:lnTo>
                        <a:pt x="2013" y="479"/>
                      </a:lnTo>
                      <a:lnTo>
                        <a:pt x="2023" y="490"/>
                      </a:lnTo>
                      <a:lnTo>
                        <a:pt x="2033" y="501"/>
                      </a:lnTo>
                      <a:lnTo>
                        <a:pt x="2033" y="513"/>
                      </a:lnTo>
                      <a:lnTo>
                        <a:pt x="2023" y="513"/>
                      </a:lnTo>
                      <a:lnTo>
                        <a:pt x="2023" y="547"/>
                      </a:lnTo>
                      <a:lnTo>
                        <a:pt x="2013" y="581"/>
                      </a:lnTo>
                      <a:lnTo>
                        <a:pt x="2003" y="615"/>
                      </a:lnTo>
                      <a:lnTo>
                        <a:pt x="1993" y="615"/>
                      </a:lnTo>
                      <a:lnTo>
                        <a:pt x="1983" y="604"/>
                      </a:lnTo>
                      <a:lnTo>
                        <a:pt x="1973" y="604"/>
                      </a:lnTo>
                      <a:lnTo>
                        <a:pt x="1973" y="615"/>
                      </a:lnTo>
                      <a:lnTo>
                        <a:pt x="1963" y="627"/>
                      </a:lnTo>
                      <a:lnTo>
                        <a:pt x="1963" y="638"/>
                      </a:lnTo>
                      <a:lnTo>
                        <a:pt x="1963" y="650"/>
                      </a:lnTo>
                      <a:lnTo>
                        <a:pt x="1953" y="661"/>
                      </a:lnTo>
                      <a:lnTo>
                        <a:pt x="1953" y="672"/>
                      </a:lnTo>
                      <a:lnTo>
                        <a:pt x="1963" y="695"/>
                      </a:lnTo>
                      <a:lnTo>
                        <a:pt x="1983" y="718"/>
                      </a:lnTo>
                      <a:lnTo>
                        <a:pt x="2013" y="752"/>
                      </a:lnTo>
                      <a:lnTo>
                        <a:pt x="2013" y="775"/>
                      </a:lnTo>
                      <a:lnTo>
                        <a:pt x="2003" y="786"/>
                      </a:lnTo>
                      <a:lnTo>
                        <a:pt x="1993" y="786"/>
                      </a:lnTo>
                      <a:lnTo>
                        <a:pt x="1983" y="798"/>
                      </a:lnTo>
                      <a:lnTo>
                        <a:pt x="1973" y="786"/>
                      </a:lnTo>
                      <a:lnTo>
                        <a:pt x="1973" y="775"/>
                      </a:lnTo>
                      <a:lnTo>
                        <a:pt x="1973" y="752"/>
                      </a:lnTo>
                      <a:lnTo>
                        <a:pt x="1963" y="729"/>
                      </a:lnTo>
                      <a:lnTo>
                        <a:pt x="1963" y="718"/>
                      </a:lnTo>
                      <a:lnTo>
                        <a:pt x="1953" y="718"/>
                      </a:lnTo>
                      <a:lnTo>
                        <a:pt x="1943" y="707"/>
                      </a:lnTo>
                      <a:lnTo>
                        <a:pt x="1933" y="707"/>
                      </a:lnTo>
                      <a:lnTo>
                        <a:pt x="1923" y="707"/>
                      </a:lnTo>
                      <a:lnTo>
                        <a:pt x="1913" y="695"/>
                      </a:lnTo>
                      <a:lnTo>
                        <a:pt x="1913" y="684"/>
                      </a:lnTo>
                      <a:lnTo>
                        <a:pt x="1903" y="672"/>
                      </a:lnTo>
                      <a:lnTo>
                        <a:pt x="1893" y="695"/>
                      </a:lnTo>
                      <a:lnTo>
                        <a:pt x="1873" y="695"/>
                      </a:lnTo>
                      <a:lnTo>
                        <a:pt x="1873" y="684"/>
                      </a:lnTo>
                      <a:lnTo>
                        <a:pt x="1873" y="672"/>
                      </a:lnTo>
                      <a:lnTo>
                        <a:pt x="1863" y="661"/>
                      </a:lnTo>
                      <a:lnTo>
                        <a:pt x="1853" y="661"/>
                      </a:lnTo>
                      <a:lnTo>
                        <a:pt x="1843" y="672"/>
                      </a:lnTo>
                      <a:lnTo>
                        <a:pt x="1823" y="695"/>
                      </a:lnTo>
                      <a:lnTo>
                        <a:pt x="1833" y="718"/>
                      </a:lnTo>
                      <a:lnTo>
                        <a:pt x="1853" y="729"/>
                      </a:lnTo>
                      <a:lnTo>
                        <a:pt x="1863" y="729"/>
                      </a:lnTo>
                      <a:lnTo>
                        <a:pt x="1863" y="718"/>
                      </a:lnTo>
                      <a:lnTo>
                        <a:pt x="1873" y="718"/>
                      </a:lnTo>
                      <a:lnTo>
                        <a:pt x="1883" y="718"/>
                      </a:lnTo>
                      <a:lnTo>
                        <a:pt x="1893" y="718"/>
                      </a:lnTo>
                      <a:lnTo>
                        <a:pt x="1903" y="718"/>
                      </a:lnTo>
                      <a:lnTo>
                        <a:pt x="1903" y="729"/>
                      </a:lnTo>
                      <a:lnTo>
                        <a:pt x="1893" y="752"/>
                      </a:lnTo>
                      <a:lnTo>
                        <a:pt x="1883" y="764"/>
                      </a:lnTo>
                      <a:lnTo>
                        <a:pt x="1873" y="775"/>
                      </a:lnTo>
                      <a:lnTo>
                        <a:pt x="1873" y="786"/>
                      </a:lnTo>
                      <a:lnTo>
                        <a:pt x="1883" y="798"/>
                      </a:lnTo>
                      <a:lnTo>
                        <a:pt x="1893" y="809"/>
                      </a:lnTo>
                      <a:lnTo>
                        <a:pt x="1913" y="832"/>
                      </a:lnTo>
                      <a:lnTo>
                        <a:pt x="1923" y="832"/>
                      </a:lnTo>
                      <a:lnTo>
                        <a:pt x="1933" y="843"/>
                      </a:lnTo>
                      <a:lnTo>
                        <a:pt x="1923" y="843"/>
                      </a:lnTo>
                      <a:lnTo>
                        <a:pt x="1903" y="832"/>
                      </a:lnTo>
                      <a:lnTo>
                        <a:pt x="1893" y="832"/>
                      </a:lnTo>
                      <a:lnTo>
                        <a:pt x="1903" y="843"/>
                      </a:lnTo>
                      <a:lnTo>
                        <a:pt x="1913" y="843"/>
                      </a:lnTo>
                      <a:lnTo>
                        <a:pt x="1923" y="855"/>
                      </a:lnTo>
                      <a:lnTo>
                        <a:pt x="1933" y="855"/>
                      </a:lnTo>
                      <a:lnTo>
                        <a:pt x="1933" y="866"/>
                      </a:lnTo>
                      <a:lnTo>
                        <a:pt x="1923" y="866"/>
                      </a:lnTo>
                      <a:lnTo>
                        <a:pt x="1913" y="878"/>
                      </a:lnTo>
                      <a:lnTo>
                        <a:pt x="1923" y="878"/>
                      </a:lnTo>
                      <a:lnTo>
                        <a:pt x="1933" y="878"/>
                      </a:lnTo>
                      <a:lnTo>
                        <a:pt x="1943" y="878"/>
                      </a:lnTo>
                      <a:lnTo>
                        <a:pt x="1953" y="912"/>
                      </a:lnTo>
                      <a:lnTo>
                        <a:pt x="1943" y="923"/>
                      </a:lnTo>
                      <a:lnTo>
                        <a:pt x="1943" y="935"/>
                      </a:lnTo>
                      <a:lnTo>
                        <a:pt x="1923" y="935"/>
                      </a:lnTo>
                      <a:lnTo>
                        <a:pt x="1923" y="957"/>
                      </a:lnTo>
                      <a:lnTo>
                        <a:pt x="1933" y="957"/>
                      </a:lnTo>
                      <a:lnTo>
                        <a:pt x="1923" y="969"/>
                      </a:lnTo>
                      <a:lnTo>
                        <a:pt x="1923" y="980"/>
                      </a:lnTo>
                      <a:lnTo>
                        <a:pt x="1913" y="992"/>
                      </a:lnTo>
                      <a:lnTo>
                        <a:pt x="1903" y="1003"/>
                      </a:lnTo>
                      <a:lnTo>
                        <a:pt x="1893" y="1003"/>
                      </a:lnTo>
                      <a:lnTo>
                        <a:pt x="1873" y="1014"/>
                      </a:lnTo>
                      <a:lnTo>
                        <a:pt x="1863" y="1026"/>
                      </a:lnTo>
                      <a:lnTo>
                        <a:pt x="1853" y="1037"/>
                      </a:lnTo>
                      <a:lnTo>
                        <a:pt x="1843" y="1037"/>
                      </a:lnTo>
                      <a:lnTo>
                        <a:pt x="1833" y="1037"/>
                      </a:lnTo>
                      <a:lnTo>
                        <a:pt x="1823" y="1049"/>
                      </a:lnTo>
                      <a:lnTo>
                        <a:pt x="1813" y="1049"/>
                      </a:lnTo>
                      <a:lnTo>
                        <a:pt x="1813" y="1060"/>
                      </a:lnTo>
                      <a:lnTo>
                        <a:pt x="1803" y="1071"/>
                      </a:lnTo>
                      <a:lnTo>
                        <a:pt x="1803" y="1060"/>
                      </a:lnTo>
                      <a:lnTo>
                        <a:pt x="1803" y="1049"/>
                      </a:lnTo>
                      <a:lnTo>
                        <a:pt x="1773" y="1049"/>
                      </a:lnTo>
                      <a:lnTo>
                        <a:pt x="1753" y="1060"/>
                      </a:lnTo>
                      <a:lnTo>
                        <a:pt x="1743" y="1083"/>
                      </a:lnTo>
                      <a:lnTo>
                        <a:pt x="1753" y="1117"/>
                      </a:lnTo>
                      <a:lnTo>
                        <a:pt x="1773" y="1140"/>
                      </a:lnTo>
                      <a:lnTo>
                        <a:pt x="1803" y="1174"/>
                      </a:lnTo>
                      <a:lnTo>
                        <a:pt x="1803" y="1197"/>
                      </a:lnTo>
                      <a:lnTo>
                        <a:pt x="1803" y="1231"/>
                      </a:lnTo>
                      <a:lnTo>
                        <a:pt x="1793" y="1254"/>
                      </a:lnTo>
                      <a:lnTo>
                        <a:pt x="1793" y="1265"/>
                      </a:lnTo>
                      <a:lnTo>
                        <a:pt x="1783" y="1277"/>
                      </a:lnTo>
                      <a:lnTo>
                        <a:pt x="1773" y="1277"/>
                      </a:lnTo>
                      <a:lnTo>
                        <a:pt x="1763" y="1277"/>
                      </a:lnTo>
                      <a:lnTo>
                        <a:pt x="1753" y="1288"/>
                      </a:lnTo>
                      <a:lnTo>
                        <a:pt x="1753" y="1299"/>
                      </a:lnTo>
                      <a:lnTo>
                        <a:pt x="1743" y="1288"/>
                      </a:lnTo>
                      <a:lnTo>
                        <a:pt x="1743" y="1277"/>
                      </a:lnTo>
                      <a:lnTo>
                        <a:pt x="1743" y="1265"/>
                      </a:lnTo>
                      <a:lnTo>
                        <a:pt x="1733" y="1254"/>
                      </a:lnTo>
                      <a:lnTo>
                        <a:pt x="1723" y="1242"/>
                      </a:lnTo>
                      <a:lnTo>
                        <a:pt x="1713" y="1242"/>
                      </a:lnTo>
                      <a:lnTo>
                        <a:pt x="1703" y="1231"/>
                      </a:lnTo>
                      <a:lnTo>
                        <a:pt x="1693" y="1231"/>
                      </a:lnTo>
                      <a:lnTo>
                        <a:pt x="1683" y="1220"/>
                      </a:lnTo>
                      <a:lnTo>
                        <a:pt x="1673" y="1208"/>
                      </a:lnTo>
                      <a:lnTo>
                        <a:pt x="1673" y="1242"/>
                      </a:lnTo>
                      <a:lnTo>
                        <a:pt x="1673" y="1265"/>
                      </a:lnTo>
                      <a:lnTo>
                        <a:pt x="1673" y="1299"/>
                      </a:lnTo>
                      <a:lnTo>
                        <a:pt x="1683" y="1334"/>
                      </a:lnTo>
                      <a:lnTo>
                        <a:pt x="1693" y="1334"/>
                      </a:lnTo>
                      <a:lnTo>
                        <a:pt x="1703" y="1345"/>
                      </a:lnTo>
                      <a:lnTo>
                        <a:pt x="1713" y="1345"/>
                      </a:lnTo>
                      <a:lnTo>
                        <a:pt x="1723" y="1368"/>
                      </a:lnTo>
                      <a:lnTo>
                        <a:pt x="1733" y="1368"/>
                      </a:lnTo>
                      <a:lnTo>
                        <a:pt x="1733" y="1379"/>
                      </a:lnTo>
                      <a:lnTo>
                        <a:pt x="1733" y="1391"/>
                      </a:lnTo>
                      <a:lnTo>
                        <a:pt x="1733" y="1413"/>
                      </a:lnTo>
                      <a:lnTo>
                        <a:pt x="1733" y="1425"/>
                      </a:lnTo>
                      <a:lnTo>
                        <a:pt x="1743" y="1436"/>
                      </a:lnTo>
                      <a:lnTo>
                        <a:pt x="1743" y="1448"/>
                      </a:lnTo>
                      <a:lnTo>
                        <a:pt x="1733" y="1448"/>
                      </a:lnTo>
                      <a:lnTo>
                        <a:pt x="1723" y="1436"/>
                      </a:lnTo>
                      <a:lnTo>
                        <a:pt x="1713" y="1425"/>
                      </a:lnTo>
                      <a:lnTo>
                        <a:pt x="1703" y="1413"/>
                      </a:lnTo>
                      <a:lnTo>
                        <a:pt x="1703" y="1402"/>
                      </a:lnTo>
                      <a:lnTo>
                        <a:pt x="1693" y="1379"/>
                      </a:lnTo>
                      <a:lnTo>
                        <a:pt x="1683" y="1345"/>
                      </a:lnTo>
                      <a:lnTo>
                        <a:pt x="1673" y="1322"/>
                      </a:lnTo>
                      <a:lnTo>
                        <a:pt x="1663" y="1322"/>
                      </a:lnTo>
                      <a:lnTo>
                        <a:pt x="1653" y="1311"/>
                      </a:lnTo>
                      <a:lnTo>
                        <a:pt x="1653" y="1299"/>
                      </a:lnTo>
                      <a:lnTo>
                        <a:pt x="1653" y="1277"/>
                      </a:lnTo>
                      <a:lnTo>
                        <a:pt x="1653" y="1265"/>
                      </a:lnTo>
                      <a:lnTo>
                        <a:pt x="1653" y="1242"/>
                      </a:lnTo>
                      <a:lnTo>
                        <a:pt x="1643" y="1220"/>
                      </a:lnTo>
                      <a:lnTo>
                        <a:pt x="1643" y="1197"/>
                      </a:lnTo>
                      <a:lnTo>
                        <a:pt x="1643" y="1208"/>
                      </a:lnTo>
                      <a:lnTo>
                        <a:pt x="1633" y="1174"/>
                      </a:lnTo>
                      <a:lnTo>
                        <a:pt x="1623" y="1151"/>
                      </a:lnTo>
                      <a:lnTo>
                        <a:pt x="1613" y="1128"/>
                      </a:lnTo>
                      <a:lnTo>
                        <a:pt x="1603" y="1128"/>
                      </a:lnTo>
                      <a:lnTo>
                        <a:pt x="1603" y="1140"/>
                      </a:lnTo>
                      <a:lnTo>
                        <a:pt x="1603" y="1151"/>
                      </a:lnTo>
                      <a:lnTo>
                        <a:pt x="1593" y="1163"/>
                      </a:lnTo>
                      <a:lnTo>
                        <a:pt x="1582" y="1163"/>
                      </a:lnTo>
                      <a:lnTo>
                        <a:pt x="1572" y="1151"/>
                      </a:lnTo>
                      <a:lnTo>
                        <a:pt x="1582" y="1140"/>
                      </a:lnTo>
                      <a:lnTo>
                        <a:pt x="1582" y="1128"/>
                      </a:lnTo>
                      <a:lnTo>
                        <a:pt x="1562" y="1106"/>
                      </a:lnTo>
                      <a:lnTo>
                        <a:pt x="1542" y="1071"/>
                      </a:lnTo>
                      <a:lnTo>
                        <a:pt x="1532" y="1049"/>
                      </a:lnTo>
                      <a:lnTo>
                        <a:pt x="1532" y="1037"/>
                      </a:lnTo>
                      <a:lnTo>
                        <a:pt x="1522" y="1026"/>
                      </a:lnTo>
                      <a:lnTo>
                        <a:pt x="1522" y="1014"/>
                      </a:lnTo>
                      <a:lnTo>
                        <a:pt x="1512" y="1014"/>
                      </a:lnTo>
                      <a:lnTo>
                        <a:pt x="1502" y="1014"/>
                      </a:lnTo>
                      <a:lnTo>
                        <a:pt x="1492" y="1003"/>
                      </a:lnTo>
                      <a:lnTo>
                        <a:pt x="1482" y="992"/>
                      </a:lnTo>
                      <a:lnTo>
                        <a:pt x="1482" y="1003"/>
                      </a:lnTo>
                      <a:lnTo>
                        <a:pt x="1492" y="1014"/>
                      </a:lnTo>
                      <a:lnTo>
                        <a:pt x="1502" y="1014"/>
                      </a:lnTo>
                      <a:lnTo>
                        <a:pt x="1502" y="1026"/>
                      </a:lnTo>
                      <a:lnTo>
                        <a:pt x="1502" y="1037"/>
                      </a:lnTo>
                      <a:lnTo>
                        <a:pt x="1492" y="1037"/>
                      </a:lnTo>
                      <a:lnTo>
                        <a:pt x="1482" y="1037"/>
                      </a:lnTo>
                      <a:lnTo>
                        <a:pt x="1472" y="1049"/>
                      </a:lnTo>
                      <a:lnTo>
                        <a:pt x="1462" y="1060"/>
                      </a:lnTo>
                      <a:lnTo>
                        <a:pt x="1452" y="1071"/>
                      </a:lnTo>
                      <a:lnTo>
                        <a:pt x="1442" y="1083"/>
                      </a:lnTo>
                      <a:lnTo>
                        <a:pt x="1432" y="1083"/>
                      </a:lnTo>
                      <a:lnTo>
                        <a:pt x="1432" y="1094"/>
                      </a:lnTo>
                      <a:lnTo>
                        <a:pt x="1422" y="1106"/>
                      </a:lnTo>
                      <a:lnTo>
                        <a:pt x="1402" y="1128"/>
                      </a:lnTo>
                      <a:lnTo>
                        <a:pt x="1382" y="1140"/>
                      </a:lnTo>
                      <a:lnTo>
                        <a:pt x="1362" y="1163"/>
                      </a:lnTo>
                      <a:lnTo>
                        <a:pt x="1362" y="1174"/>
                      </a:lnTo>
                      <a:lnTo>
                        <a:pt x="1362" y="1185"/>
                      </a:lnTo>
                      <a:lnTo>
                        <a:pt x="1352" y="1220"/>
                      </a:lnTo>
                      <a:lnTo>
                        <a:pt x="1342" y="1254"/>
                      </a:lnTo>
                      <a:lnTo>
                        <a:pt x="1332" y="1277"/>
                      </a:lnTo>
                      <a:lnTo>
                        <a:pt x="1322" y="1299"/>
                      </a:lnTo>
                      <a:lnTo>
                        <a:pt x="1312" y="1299"/>
                      </a:lnTo>
                      <a:lnTo>
                        <a:pt x="1312" y="1288"/>
                      </a:lnTo>
                      <a:lnTo>
                        <a:pt x="1312" y="1277"/>
                      </a:lnTo>
                      <a:lnTo>
                        <a:pt x="1302" y="1265"/>
                      </a:lnTo>
                      <a:lnTo>
                        <a:pt x="1302" y="1242"/>
                      </a:lnTo>
                      <a:lnTo>
                        <a:pt x="1292" y="1231"/>
                      </a:lnTo>
                      <a:lnTo>
                        <a:pt x="1282" y="1220"/>
                      </a:lnTo>
                      <a:lnTo>
                        <a:pt x="1292" y="1220"/>
                      </a:lnTo>
                      <a:lnTo>
                        <a:pt x="1282" y="1208"/>
                      </a:lnTo>
                      <a:lnTo>
                        <a:pt x="1282" y="1185"/>
                      </a:lnTo>
                      <a:lnTo>
                        <a:pt x="1272" y="1185"/>
                      </a:lnTo>
                      <a:lnTo>
                        <a:pt x="1272" y="1174"/>
                      </a:lnTo>
                      <a:lnTo>
                        <a:pt x="1262" y="1163"/>
                      </a:lnTo>
                      <a:lnTo>
                        <a:pt x="1262" y="1151"/>
                      </a:lnTo>
                      <a:lnTo>
                        <a:pt x="1262" y="1140"/>
                      </a:lnTo>
                      <a:lnTo>
                        <a:pt x="1252" y="1117"/>
                      </a:lnTo>
                      <a:lnTo>
                        <a:pt x="1242" y="1071"/>
                      </a:lnTo>
                      <a:lnTo>
                        <a:pt x="1232" y="1049"/>
                      </a:lnTo>
                      <a:lnTo>
                        <a:pt x="1222" y="1049"/>
                      </a:lnTo>
                      <a:lnTo>
                        <a:pt x="1222" y="1060"/>
                      </a:lnTo>
                      <a:lnTo>
                        <a:pt x="1212" y="1060"/>
                      </a:lnTo>
                      <a:lnTo>
                        <a:pt x="1202" y="1060"/>
                      </a:lnTo>
                      <a:lnTo>
                        <a:pt x="1192" y="1049"/>
                      </a:lnTo>
                      <a:lnTo>
                        <a:pt x="1182" y="1026"/>
                      </a:lnTo>
                      <a:lnTo>
                        <a:pt x="1192" y="1026"/>
                      </a:lnTo>
                      <a:lnTo>
                        <a:pt x="1202" y="1026"/>
                      </a:lnTo>
                      <a:lnTo>
                        <a:pt x="1202" y="1014"/>
                      </a:lnTo>
                      <a:lnTo>
                        <a:pt x="1192" y="1003"/>
                      </a:lnTo>
                      <a:lnTo>
                        <a:pt x="1182" y="1003"/>
                      </a:lnTo>
                      <a:lnTo>
                        <a:pt x="1172" y="1003"/>
                      </a:lnTo>
                      <a:lnTo>
                        <a:pt x="1162" y="992"/>
                      </a:lnTo>
                      <a:lnTo>
                        <a:pt x="1152" y="980"/>
                      </a:lnTo>
                      <a:lnTo>
                        <a:pt x="1142" y="980"/>
                      </a:lnTo>
                      <a:lnTo>
                        <a:pt x="1142" y="969"/>
                      </a:lnTo>
                      <a:lnTo>
                        <a:pt x="1132" y="969"/>
                      </a:lnTo>
                      <a:lnTo>
                        <a:pt x="1112" y="957"/>
                      </a:lnTo>
                      <a:lnTo>
                        <a:pt x="1082" y="957"/>
                      </a:lnTo>
                      <a:lnTo>
                        <a:pt x="1052" y="957"/>
                      </a:lnTo>
                      <a:lnTo>
                        <a:pt x="1022" y="946"/>
                      </a:lnTo>
                      <a:lnTo>
                        <a:pt x="991" y="946"/>
                      </a:lnTo>
                      <a:lnTo>
                        <a:pt x="991" y="935"/>
                      </a:lnTo>
                      <a:lnTo>
                        <a:pt x="971" y="935"/>
                      </a:lnTo>
                      <a:lnTo>
                        <a:pt x="961" y="946"/>
                      </a:lnTo>
                      <a:lnTo>
                        <a:pt x="941" y="946"/>
                      </a:lnTo>
                      <a:lnTo>
                        <a:pt x="941" y="935"/>
                      </a:lnTo>
                      <a:lnTo>
                        <a:pt x="931" y="935"/>
                      </a:lnTo>
                      <a:lnTo>
                        <a:pt x="921" y="923"/>
                      </a:lnTo>
                      <a:lnTo>
                        <a:pt x="911" y="923"/>
                      </a:lnTo>
                      <a:lnTo>
                        <a:pt x="911" y="912"/>
                      </a:lnTo>
                      <a:lnTo>
                        <a:pt x="901" y="900"/>
                      </a:lnTo>
                      <a:lnTo>
                        <a:pt x="891" y="889"/>
                      </a:lnTo>
                      <a:lnTo>
                        <a:pt x="881" y="878"/>
                      </a:lnTo>
                      <a:lnTo>
                        <a:pt x="871" y="878"/>
                      </a:lnTo>
                      <a:lnTo>
                        <a:pt x="861" y="878"/>
                      </a:lnTo>
                      <a:lnTo>
                        <a:pt x="861" y="900"/>
                      </a:lnTo>
                      <a:lnTo>
                        <a:pt x="881" y="935"/>
                      </a:lnTo>
                      <a:lnTo>
                        <a:pt x="891" y="946"/>
                      </a:lnTo>
                      <a:lnTo>
                        <a:pt x="901" y="957"/>
                      </a:lnTo>
                      <a:lnTo>
                        <a:pt x="901" y="969"/>
                      </a:lnTo>
                      <a:lnTo>
                        <a:pt x="901" y="980"/>
                      </a:lnTo>
                      <a:lnTo>
                        <a:pt x="911" y="980"/>
                      </a:lnTo>
                      <a:lnTo>
                        <a:pt x="911" y="969"/>
                      </a:lnTo>
                      <a:lnTo>
                        <a:pt x="911" y="957"/>
                      </a:lnTo>
                      <a:lnTo>
                        <a:pt x="931" y="946"/>
                      </a:lnTo>
                      <a:lnTo>
                        <a:pt x="961" y="946"/>
                      </a:lnTo>
                      <a:lnTo>
                        <a:pt x="981" y="946"/>
                      </a:lnTo>
                      <a:lnTo>
                        <a:pt x="991" y="957"/>
                      </a:lnTo>
                      <a:lnTo>
                        <a:pt x="991" y="969"/>
                      </a:lnTo>
                      <a:lnTo>
                        <a:pt x="991" y="992"/>
                      </a:lnTo>
                      <a:lnTo>
                        <a:pt x="1001" y="992"/>
                      </a:lnTo>
                      <a:lnTo>
                        <a:pt x="1001" y="1003"/>
                      </a:lnTo>
                      <a:lnTo>
                        <a:pt x="1022" y="1003"/>
                      </a:lnTo>
                      <a:lnTo>
                        <a:pt x="1032" y="1014"/>
                      </a:lnTo>
                      <a:lnTo>
                        <a:pt x="1042" y="1037"/>
                      </a:lnTo>
                      <a:lnTo>
                        <a:pt x="1042" y="1049"/>
                      </a:lnTo>
                      <a:lnTo>
                        <a:pt x="1032" y="1060"/>
                      </a:lnTo>
                      <a:lnTo>
                        <a:pt x="1032" y="1071"/>
                      </a:lnTo>
                      <a:lnTo>
                        <a:pt x="1022" y="1083"/>
                      </a:lnTo>
                      <a:lnTo>
                        <a:pt x="1022" y="1094"/>
                      </a:lnTo>
                      <a:lnTo>
                        <a:pt x="1012" y="1094"/>
                      </a:lnTo>
                      <a:lnTo>
                        <a:pt x="1001" y="1106"/>
                      </a:lnTo>
                      <a:lnTo>
                        <a:pt x="991" y="1117"/>
                      </a:lnTo>
                      <a:lnTo>
                        <a:pt x="981" y="1117"/>
                      </a:lnTo>
                      <a:lnTo>
                        <a:pt x="971" y="1128"/>
                      </a:lnTo>
                      <a:lnTo>
                        <a:pt x="951" y="1140"/>
                      </a:lnTo>
                      <a:lnTo>
                        <a:pt x="941" y="1151"/>
                      </a:lnTo>
                      <a:lnTo>
                        <a:pt x="931" y="1151"/>
                      </a:lnTo>
                      <a:lnTo>
                        <a:pt x="931" y="1163"/>
                      </a:lnTo>
                      <a:lnTo>
                        <a:pt x="931" y="1174"/>
                      </a:lnTo>
                      <a:lnTo>
                        <a:pt x="921" y="1174"/>
                      </a:lnTo>
                      <a:lnTo>
                        <a:pt x="911" y="1174"/>
                      </a:lnTo>
                      <a:lnTo>
                        <a:pt x="901" y="1185"/>
                      </a:lnTo>
                      <a:lnTo>
                        <a:pt x="891" y="1185"/>
                      </a:lnTo>
                      <a:lnTo>
                        <a:pt x="891" y="1197"/>
                      </a:lnTo>
                      <a:lnTo>
                        <a:pt x="881" y="1197"/>
                      </a:lnTo>
                      <a:lnTo>
                        <a:pt x="871" y="1197"/>
                      </a:lnTo>
                      <a:lnTo>
                        <a:pt x="861" y="1208"/>
                      </a:lnTo>
                      <a:lnTo>
                        <a:pt x="841" y="1208"/>
                      </a:lnTo>
                      <a:lnTo>
                        <a:pt x="831" y="1220"/>
                      </a:lnTo>
                      <a:lnTo>
                        <a:pt x="811" y="1220"/>
                      </a:lnTo>
                      <a:lnTo>
                        <a:pt x="801" y="1208"/>
                      </a:lnTo>
                      <a:lnTo>
                        <a:pt x="801" y="1185"/>
                      </a:lnTo>
                      <a:lnTo>
                        <a:pt x="801" y="1151"/>
                      </a:lnTo>
                      <a:lnTo>
                        <a:pt x="791" y="1128"/>
                      </a:lnTo>
                      <a:lnTo>
                        <a:pt x="781" y="1117"/>
                      </a:lnTo>
                      <a:lnTo>
                        <a:pt x="771" y="1106"/>
                      </a:lnTo>
                      <a:lnTo>
                        <a:pt x="771" y="1094"/>
                      </a:lnTo>
                      <a:lnTo>
                        <a:pt x="761" y="1083"/>
                      </a:lnTo>
                      <a:lnTo>
                        <a:pt x="751" y="1071"/>
                      </a:lnTo>
                      <a:lnTo>
                        <a:pt x="741" y="1060"/>
                      </a:lnTo>
                      <a:lnTo>
                        <a:pt x="741" y="1049"/>
                      </a:lnTo>
                      <a:lnTo>
                        <a:pt x="731" y="1049"/>
                      </a:lnTo>
                      <a:lnTo>
                        <a:pt x="731" y="1037"/>
                      </a:lnTo>
                      <a:lnTo>
                        <a:pt x="721" y="1026"/>
                      </a:lnTo>
                      <a:lnTo>
                        <a:pt x="711" y="1003"/>
                      </a:lnTo>
                      <a:lnTo>
                        <a:pt x="711" y="992"/>
                      </a:lnTo>
                      <a:lnTo>
                        <a:pt x="701" y="980"/>
                      </a:lnTo>
                      <a:lnTo>
                        <a:pt x="701" y="969"/>
                      </a:lnTo>
                      <a:lnTo>
                        <a:pt x="691" y="957"/>
                      </a:lnTo>
                      <a:lnTo>
                        <a:pt x="681" y="935"/>
                      </a:lnTo>
                      <a:lnTo>
                        <a:pt x="671" y="912"/>
                      </a:lnTo>
                      <a:lnTo>
                        <a:pt x="661" y="912"/>
                      </a:lnTo>
                      <a:lnTo>
                        <a:pt x="661" y="923"/>
                      </a:lnTo>
                      <a:lnTo>
                        <a:pt x="651" y="923"/>
                      </a:lnTo>
                      <a:lnTo>
                        <a:pt x="641" y="912"/>
                      </a:lnTo>
                      <a:lnTo>
                        <a:pt x="631" y="900"/>
                      </a:lnTo>
                      <a:lnTo>
                        <a:pt x="621" y="889"/>
                      </a:lnTo>
                      <a:lnTo>
                        <a:pt x="621" y="878"/>
                      </a:lnTo>
                      <a:lnTo>
                        <a:pt x="611" y="855"/>
                      </a:lnTo>
                      <a:lnTo>
                        <a:pt x="611" y="843"/>
                      </a:lnTo>
                      <a:lnTo>
                        <a:pt x="621" y="832"/>
                      </a:lnTo>
                      <a:lnTo>
                        <a:pt x="641" y="832"/>
                      </a:lnTo>
                      <a:lnTo>
                        <a:pt x="661" y="821"/>
                      </a:lnTo>
                      <a:lnTo>
                        <a:pt x="671" y="798"/>
                      </a:lnTo>
                      <a:lnTo>
                        <a:pt x="661" y="764"/>
                      </a:lnTo>
                      <a:lnTo>
                        <a:pt x="651" y="752"/>
                      </a:lnTo>
                      <a:lnTo>
                        <a:pt x="641" y="752"/>
                      </a:lnTo>
                      <a:lnTo>
                        <a:pt x="631" y="752"/>
                      </a:lnTo>
                      <a:lnTo>
                        <a:pt x="621" y="764"/>
                      </a:lnTo>
                      <a:lnTo>
                        <a:pt x="611" y="752"/>
                      </a:lnTo>
                      <a:lnTo>
                        <a:pt x="601" y="752"/>
                      </a:lnTo>
                      <a:lnTo>
                        <a:pt x="591" y="729"/>
                      </a:lnTo>
                      <a:lnTo>
                        <a:pt x="591" y="752"/>
                      </a:lnTo>
                      <a:lnTo>
                        <a:pt x="581" y="752"/>
                      </a:lnTo>
                      <a:lnTo>
                        <a:pt x="571" y="764"/>
                      </a:lnTo>
                      <a:lnTo>
                        <a:pt x="561" y="752"/>
                      </a:lnTo>
                      <a:lnTo>
                        <a:pt x="551" y="752"/>
                      </a:lnTo>
                      <a:lnTo>
                        <a:pt x="541" y="752"/>
                      </a:lnTo>
                      <a:lnTo>
                        <a:pt x="541" y="729"/>
                      </a:lnTo>
                      <a:lnTo>
                        <a:pt x="551" y="729"/>
                      </a:lnTo>
                      <a:lnTo>
                        <a:pt x="541" y="718"/>
                      </a:lnTo>
                      <a:lnTo>
                        <a:pt x="531" y="718"/>
                      </a:lnTo>
                      <a:lnTo>
                        <a:pt x="521" y="707"/>
                      </a:lnTo>
                      <a:lnTo>
                        <a:pt x="531" y="707"/>
                      </a:lnTo>
                      <a:lnTo>
                        <a:pt x="531" y="695"/>
                      </a:lnTo>
                      <a:lnTo>
                        <a:pt x="521" y="684"/>
                      </a:lnTo>
                      <a:lnTo>
                        <a:pt x="521" y="672"/>
                      </a:lnTo>
                      <a:lnTo>
                        <a:pt x="521" y="661"/>
                      </a:lnTo>
                      <a:lnTo>
                        <a:pt x="541" y="650"/>
                      </a:lnTo>
                      <a:lnTo>
                        <a:pt x="561" y="650"/>
                      </a:lnTo>
                      <a:lnTo>
                        <a:pt x="571" y="650"/>
                      </a:lnTo>
                      <a:lnTo>
                        <a:pt x="581" y="650"/>
                      </a:lnTo>
                      <a:lnTo>
                        <a:pt x="591" y="650"/>
                      </a:lnTo>
                      <a:lnTo>
                        <a:pt x="621" y="638"/>
                      </a:lnTo>
                      <a:lnTo>
                        <a:pt x="661" y="638"/>
                      </a:lnTo>
                      <a:lnTo>
                        <a:pt x="691" y="650"/>
                      </a:lnTo>
                      <a:lnTo>
                        <a:pt x="701" y="650"/>
                      </a:lnTo>
                      <a:lnTo>
                        <a:pt x="711" y="650"/>
                      </a:lnTo>
                      <a:lnTo>
                        <a:pt x="721" y="650"/>
                      </a:lnTo>
                      <a:lnTo>
                        <a:pt x="731" y="638"/>
                      </a:lnTo>
                      <a:lnTo>
                        <a:pt x="721" y="627"/>
                      </a:lnTo>
                      <a:lnTo>
                        <a:pt x="701" y="604"/>
                      </a:lnTo>
                      <a:lnTo>
                        <a:pt x="681" y="593"/>
                      </a:lnTo>
                      <a:lnTo>
                        <a:pt x="671" y="581"/>
                      </a:lnTo>
                      <a:lnTo>
                        <a:pt x="661" y="581"/>
                      </a:lnTo>
                      <a:lnTo>
                        <a:pt x="651" y="570"/>
                      </a:lnTo>
                      <a:lnTo>
                        <a:pt x="651" y="558"/>
                      </a:lnTo>
                      <a:lnTo>
                        <a:pt x="661" y="558"/>
                      </a:lnTo>
                      <a:lnTo>
                        <a:pt x="671" y="558"/>
                      </a:lnTo>
                      <a:lnTo>
                        <a:pt x="671" y="547"/>
                      </a:lnTo>
                      <a:lnTo>
                        <a:pt x="661" y="547"/>
                      </a:lnTo>
                      <a:lnTo>
                        <a:pt x="661" y="536"/>
                      </a:lnTo>
                      <a:lnTo>
                        <a:pt x="671" y="536"/>
                      </a:lnTo>
                      <a:lnTo>
                        <a:pt x="681" y="536"/>
                      </a:lnTo>
                      <a:lnTo>
                        <a:pt x="681" y="524"/>
                      </a:lnTo>
                      <a:lnTo>
                        <a:pt x="671" y="536"/>
                      </a:lnTo>
                      <a:lnTo>
                        <a:pt x="651" y="536"/>
                      </a:lnTo>
                      <a:lnTo>
                        <a:pt x="631" y="536"/>
                      </a:lnTo>
                      <a:lnTo>
                        <a:pt x="621" y="547"/>
                      </a:lnTo>
                      <a:lnTo>
                        <a:pt x="631" y="558"/>
                      </a:lnTo>
                      <a:lnTo>
                        <a:pt x="641" y="558"/>
                      </a:lnTo>
                      <a:lnTo>
                        <a:pt x="651" y="570"/>
                      </a:lnTo>
                      <a:lnTo>
                        <a:pt x="631" y="581"/>
                      </a:lnTo>
                      <a:lnTo>
                        <a:pt x="611" y="581"/>
                      </a:lnTo>
                      <a:lnTo>
                        <a:pt x="591" y="570"/>
                      </a:lnTo>
                      <a:lnTo>
                        <a:pt x="601" y="558"/>
                      </a:lnTo>
                      <a:lnTo>
                        <a:pt x="611" y="558"/>
                      </a:lnTo>
                      <a:lnTo>
                        <a:pt x="591" y="547"/>
                      </a:lnTo>
                      <a:lnTo>
                        <a:pt x="581" y="547"/>
                      </a:lnTo>
                      <a:lnTo>
                        <a:pt x="581" y="524"/>
                      </a:lnTo>
                      <a:lnTo>
                        <a:pt x="581" y="536"/>
                      </a:lnTo>
                      <a:lnTo>
                        <a:pt x="571" y="558"/>
                      </a:lnTo>
                      <a:lnTo>
                        <a:pt x="561" y="558"/>
                      </a:lnTo>
                      <a:lnTo>
                        <a:pt x="551" y="570"/>
                      </a:lnTo>
                      <a:lnTo>
                        <a:pt x="551" y="593"/>
                      </a:lnTo>
                      <a:lnTo>
                        <a:pt x="541" y="627"/>
                      </a:lnTo>
                      <a:lnTo>
                        <a:pt x="531" y="650"/>
                      </a:lnTo>
                      <a:lnTo>
                        <a:pt x="511" y="672"/>
                      </a:lnTo>
                      <a:lnTo>
                        <a:pt x="491" y="672"/>
                      </a:lnTo>
                      <a:lnTo>
                        <a:pt x="471" y="695"/>
                      </a:lnTo>
                      <a:lnTo>
                        <a:pt x="481" y="695"/>
                      </a:lnTo>
                      <a:lnTo>
                        <a:pt x="491" y="707"/>
                      </a:lnTo>
                      <a:lnTo>
                        <a:pt x="481" y="718"/>
                      </a:lnTo>
                      <a:lnTo>
                        <a:pt x="471" y="718"/>
                      </a:lnTo>
                      <a:lnTo>
                        <a:pt x="471" y="729"/>
                      </a:lnTo>
                      <a:lnTo>
                        <a:pt x="481" y="729"/>
                      </a:lnTo>
                      <a:lnTo>
                        <a:pt x="481" y="752"/>
                      </a:lnTo>
                      <a:lnTo>
                        <a:pt x="471" y="729"/>
                      </a:lnTo>
                      <a:lnTo>
                        <a:pt x="461" y="729"/>
                      </a:lnTo>
                      <a:lnTo>
                        <a:pt x="451" y="718"/>
                      </a:lnTo>
                      <a:lnTo>
                        <a:pt x="451" y="707"/>
                      </a:lnTo>
                      <a:lnTo>
                        <a:pt x="461" y="707"/>
                      </a:lnTo>
                      <a:lnTo>
                        <a:pt x="451" y="695"/>
                      </a:lnTo>
                      <a:lnTo>
                        <a:pt x="441" y="684"/>
                      </a:lnTo>
                      <a:lnTo>
                        <a:pt x="430" y="672"/>
                      </a:lnTo>
                      <a:lnTo>
                        <a:pt x="420" y="661"/>
                      </a:lnTo>
                      <a:lnTo>
                        <a:pt x="420" y="638"/>
                      </a:lnTo>
                      <a:lnTo>
                        <a:pt x="410" y="627"/>
                      </a:lnTo>
                      <a:lnTo>
                        <a:pt x="400" y="615"/>
                      </a:lnTo>
                      <a:lnTo>
                        <a:pt x="390" y="615"/>
                      </a:lnTo>
                      <a:lnTo>
                        <a:pt x="380" y="615"/>
                      </a:lnTo>
                      <a:lnTo>
                        <a:pt x="380" y="604"/>
                      </a:lnTo>
                      <a:lnTo>
                        <a:pt x="370" y="604"/>
                      </a:lnTo>
                      <a:lnTo>
                        <a:pt x="350" y="581"/>
                      </a:lnTo>
                      <a:lnTo>
                        <a:pt x="340" y="558"/>
                      </a:lnTo>
                      <a:lnTo>
                        <a:pt x="330" y="558"/>
                      </a:lnTo>
                      <a:lnTo>
                        <a:pt x="320" y="581"/>
                      </a:lnTo>
                      <a:lnTo>
                        <a:pt x="320" y="593"/>
                      </a:lnTo>
                      <a:lnTo>
                        <a:pt x="340" y="604"/>
                      </a:lnTo>
                      <a:lnTo>
                        <a:pt x="340" y="615"/>
                      </a:lnTo>
                      <a:lnTo>
                        <a:pt x="340" y="627"/>
                      </a:lnTo>
                      <a:lnTo>
                        <a:pt x="350" y="627"/>
                      </a:lnTo>
                      <a:lnTo>
                        <a:pt x="360" y="627"/>
                      </a:lnTo>
                      <a:lnTo>
                        <a:pt x="370" y="627"/>
                      </a:lnTo>
                      <a:lnTo>
                        <a:pt x="370" y="638"/>
                      </a:lnTo>
                      <a:lnTo>
                        <a:pt x="380" y="638"/>
                      </a:lnTo>
                      <a:lnTo>
                        <a:pt x="390" y="650"/>
                      </a:lnTo>
                      <a:lnTo>
                        <a:pt x="400" y="661"/>
                      </a:lnTo>
                      <a:lnTo>
                        <a:pt x="410" y="672"/>
                      </a:lnTo>
                      <a:lnTo>
                        <a:pt x="410" y="684"/>
                      </a:lnTo>
                      <a:lnTo>
                        <a:pt x="400" y="707"/>
                      </a:lnTo>
                      <a:lnTo>
                        <a:pt x="380" y="707"/>
                      </a:lnTo>
                      <a:lnTo>
                        <a:pt x="370" y="707"/>
                      </a:lnTo>
                      <a:lnTo>
                        <a:pt x="370" y="684"/>
                      </a:lnTo>
                      <a:lnTo>
                        <a:pt x="370" y="672"/>
                      </a:lnTo>
                      <a:lnTo>
                        <a:pt x="360" y="661"/>
                      </a:lnTo>
                      <a:lnTo>
                        <a:pt x="350" y="650"/>
                      </a:lnTo>
                      <a:lnTo>
                        <a:pt x="340" y="650"/>
                      </a:lnTo>
                      <a:lnTo>
                        <a:pt x="330" y="650"/>
                      </a:lnTo>
                      <a:lnTo>
                        <a:pt x="320" y="638"/>
                      </a:lnTo>
                      <a:lnTo>
                        <a:pt x="310" y="627"/>
                      </a:lnTo>
                      <a:lnTo>
                        <a:pt x="300" y="627"/>
                      </a:lnTo>
                      <a:lnTo>
                        <a:pt x="300" y="615"/>
                      </a:lnTo>
                      <a:lnTo>
                        <a:pt x="290" y="604"/>
                      </a:lnTo>
                      <a:lnTo>
                        <a:pt x="290" y="593"/>
                      </a:lnTo>
                      <a:lnTo>
                        <a:pt x="260" y="581"/>
                      </a:lnTo>
                      <a:lnTo>
                        <a:pt x="240" y="593"/>
                      </a:lnTo>
                      <a:lnTo>
                        <a:pt x="240" y="604"/>
                      </a:lnTo>
                      <a:lnTo>
                        <a:pt x="220" y="615"/>
                      </a:lnTo>
                      <a:lnTo>
                        <a:pt x="210" y="604"/>
                      </a:lnTo>
                      <a:lnTo>
                        <a:pt x="200" y="604"/>
                      </a:lnTo>
                      <a:lnTo>
                        <a:pt x="190" y="604"/>
                      </a:lnTo>
                      <a:lnTo>
                        <a:pt x="180" y="615"/>
                      </a:lnTo>
                      <a:lnTo>
                        <a:pt x="180" y="627"/>
                      </a:lnTo>
                      <a:lnTo>
                        <a:pt x="180" y="638"/>
                      </a:lnTo>
                      <a:lnTo>
                        <a:pt x="170" y="638"/>
                      </a:lnTo>
                      <a:lnTo>
                        <a:pt x="170" y="650"/>
                      </a:lnTo>
                      <a:lnTo>
                        <a:pt x="160" y="650"/>
                      </a:lnTo>
                      <a:lnTo>
                        <a:pt x="150" y="661"/>
                      </a:lnTo>
                      <a:lnTo>
                        <a:pt x="140" y="672"/>
                      </a:lnTo>
                      <a:lnTo>
                        <a:pt x="140" y="684"/>
                      </a:lnTo>
                      <a:lnTo>
                        <a:pt x="140" y="695"/>
                      </a:lnTo>
                      <a:lnTo>
                        <a:pt x="130" y="707"/>
                      </a:lnTo>
                      <a:lnTo>
                        <a:pt x="120" y="718"/>
                      </a:lnTo>
                      <a:lnTo>
                        <a:pt x="110" y="729"/>
                      </a:lnTo>
                      <a:lnTo>
                        <a:pt x="100" y="752"/>
                      </a:lnTo>
                      <a:lnTo>
                        <a:pt x="90" y="729"/>
                      </a:lnTo>
                      <a:lnTo>
                        <a:pt x="70" y="729"/>
                      </a:lnTo>
                      <a:lnTo>
                        <a:pt x="70" y="752"/>
                      </a:lnTo>
                      <a:lnTo>
                        <a:pt x="60" y="752"/>
                      </a:lnTo>
                      <a:lnTo>
                        <a:pt x="40" y="764"/>
                      </a:lnTo>
                      <a:lnTo>
                        <a:pt x="30" y="752"/>
                      </a:lnTo>
                      <a:lnTo>
                        <a:pt x="10" y="729"/>
                      </a:lnTo>
                      <a:lnTo>
                        <a:pt x="0" y="718"/>
                      </a:lnTo>
                      <a:lnTo>
                        <a:pt x="0" y="707"/>
                      </a:lnTo>
                      <a:lnTo>
                        <a:pt x="0" y="695"/>
                      </a:lnTo>
                      <a:lnTo>
                        <a:pt x="10" y="684"/>
                      </a:lnTo>
                      <a:lnTo>
                        <a:pt x="10" y="672"/>
                      </a:lnTo>
                      <a:lnTo>
                        <a:pt x="20" y="661"/>
                      </a:lnTo>
                      <a:lnTo>
                        <a:pt x="20" y="638"/>
                      </a:lnTo>
                      <a:lnTo>
                        <a:pt x="10" y="615"/>
                      </a:lnTo>
                      <a:lnTo>
                        <a:pt x="30" y="593"/>
                      </a:lnTo>
                      <a:lnTo>
                        <a:pt x="40" y="604"/>
                      </a:lnTo>
                      <a:lnTo>
                        <a:pt x="70" y="604"/>
                      </a:lnTo>
                      <a:lnTo>
                        <a:pt x="100" y="593"/>
                      </a:lnTo>
                      <a:lnTo>
                        <a:pt x="120" y="581"/>
                      </a:lnTo>
                      <a:lnTo>
                        <a:pt x="130" y="558"/>
                      </a:lnTo>
                      <a:lnTo>
                        <a:pt x="120" y="547"/>
                      </a:lnTo>
                      <a:lnTo>
                        <a:pt x="100" y="524"/>
                      </a:lnTo>
                      <a:lnTo>
                        <a:pt x="80" y="513"/>
                      </a:lnTo>
                      <a:lnTo>
                        <a:pt x="70" y="501"/>
                      </a:lnTo>
                      <a:lnTo>
                        <a:pt x="80" y="501"/>
                      </a:lnTo>
                      <a:lnTo>
                        <a:pt x="90" y="501"/>
                      </a:lnTo>
                      <a:lnTo>
                        <a:pt x="100" y="490"/>
                      </a:lnTo>
                      <a:lnTo>
                        <a:pt x="110" y="490"/>
                      </a:lnTo>
                      <a:lnTo>
                        <a:pt x="110" y="479"/>
                      </a:lnTo>
                      <a:lnTo>
                        <a:pt x="120" y="479"/>
                      </a:lnTo>
                      <a:lnTo>
                        <a:pt x="130" y="490"/>
                      </a:lnTo>
                      <a:lnTo>
                        <a:pt x="140" y="490"/>
                      </a:lnTo>
                      <a:lnTo>
                        <a:pt x="150" y="479"/>
                      </a:lnTo>
                      <a:lnTo>
                        <a:pt x="160" y="467"/>
                      </a:lnTo>
                      <a:lnTo>
                        <a:pt x="170" y="456"/>
                      </a:lnTo>
                      <a:lnTo>
                        <a:pt x="180" y="456"/>
                      </a:lnTo>
                      <a:lnTo>
                        <a:pt x="190" y="444"/>
                      </a:lnTo>
                      <a:lnTo>
                        <a:pt x="190" y="433"/>
                      </a:lnTo>
                      <a:lnTo>
                        <a:pt x="200" y="422"/>
                      </a:lnTo>
                      <a:lnTo>
                        <a:pt x="210" y="422"/>
                      </a:lnTo>
                      <a:lnTo>
                        <a:pt x="220" y="422"/>
                      </a:lnTo>
                      <a:lnTo>
                        <a:pt x="230" y="410"/>
                      </a:lnTo>
                      <a:lnTo>
                        <a:pt x="260" y="399"/>
                      </a:lnTo>
                      <a:lnTo>
                        <a:pt x="260" y="387"/>
                      </a:lnTo>
                      <a:lnTo>
                        <a:pt x="240" y="376"/>
                      </a:lnTo>
                      <a:lnTo>
                        <a:pt x="240" y="365"/>
                      </a:lnTo>
                      <a:lnTo>
                        <a:pt x="240" y="353"/>
                      </a:lnTo>
                      <a:lnTo>
                        <a:pt x="260" y="353"/>
                      </a:lnTo>
                      <a:lnTo>
                        <a:pt x="260" y="342"/>
                      </a:lnTo>
                      <a:lnTo>
                        <a:pt x="270" y="342"/>
                      </a:lnTo>
                      <a:lnTo>
                        <a:pt x="280" y="330"/>
                      </a:lnTo>
                      <a:lnTo>
                        <a:pt x="280" y="342"/>
                      </a:lnTo>
                      <a:lnTo>
                        <a:pt x="270" y="342"/>
                      </a:lnTo>
                      <a:lnTo>
                        <a:pt x="270" y="365"/>
                      </a:lnTo>
                      <a:lnTo>
                        <a:pt x="270" y="387"/>
                      </a:lnTo>
                      <a:lnTo>
                        <a:pt x="290" y="399"/>
                      </a:lnTo>
                      <a:lnTo>
                        <a:pt x="300" y="399"/>
                      </a:lnTo>
                      <a:lnTo>
                        <a:pt x="310" y="399"/>
                      </a:lnTo>
                      <a:lnTo>
                        <a:pt x="320" y="399"/>
                      </a:lnTo>
                      <a:lnTo>
                        <a:pt x="330" y="410"/>
                      </a:lnTo>
                      <a:lnTo>
                        <a:pt x="330" y="399"/>
                      </a:lnTo>
                      <a:lnTo>
                        <a:pt x="340" y="399"/>
                      </a:lnTo>
                      <a:lnTo>
                        <a:pt x="350" y="399"/>
                      </a:lnTo>
                      <a:lnTo>
                        <a:pt x="360" y="399"/>
                      </a:lnTo>
                      <a:lnTo>
                        <a:pt x="370" y="387"/>
                      </a:lnTo>
                      <a:lnTo>
                        <a:pt x="380" y="387"/>
                      </a:lnTo>
                      <a:lnTo>
                        <a:pt x="390" y="376"/>
                      </a:lnTo>
                      <a:lnTo>
                        <a:pt x="400" y="353"/>
                      </a:lnTo>
                      <a:lnTo>
                        <a:pt x="420" y="342"/>
                      </a:lnTo>
                      <a:lnTo>
                        <a:pt x="430" y="342"/>
                      </a:lnTo>
                      <a:lnTo>
                        <a:pt x="441" y="342"/>
                      </a:lnTo>
                      <a:lnTo>
                        <a:pt x="451" y="342"/>
                      </a:lnTo>
                      <a:lnTo>
                        <a:pt x="451" y="330"/>
                      </a:lnTo>
                      <a:lnTo>
                        <a:pt x="441" y="319"/>
                      </a:lnTo>
                      <a:lnTo>
                        <a:pt x="441" y="308"/>
                      </a:lnTo>
                      <a:lnTo>
                        <a:pt x="441" y="296"/>
                      </a:lnTo>
                      <a:lnTo>
                        <a:pt x="451" y="296"/>
                      </a:lnTo>
                      <a:lnTo>
                        <a:pt x="461" y="296"/>
                      </a:lnTo>
                      <a:lnTo>
                        <a:pt x="471" y="296"/>
                      </a:lnTo>
                      <a:lnTo>
                        <a:pt x="481" y="285"/>
                      </a:lnTo>
                      <a:lnTo>
                        <a:pt x="491" y="285"/>
                      </a:lnTo>
                      <a:lnTo>
                        <a:pt x="481" y="273"/>
                      </a:lnTo>
                      <a:lnTo>
                        <a:pt x="481" y="285"/>
                      </a:lnTo>
                      <a:lnTo>
                        <a:pt x="471" y="285"/>
                      </a:lnTo>
                      <a:lnTo>
                        <a:pt x="451" y="285"/>
                      </a:lnTo>
                      <a:lnTo>
                        <a:pt x="430" y="296"/>
                      </a:lnTo>
                      <a:lnTo>
                        <a:pt x="410" y="285"/>
                      </a:lnTo>
                      <a:lnTo>
                        <a:pt x="400" y="262"/>
                      </a:lnTo>
                      <a:lnTo>
                        <a:pt x="400" y="239"/>
                      </a:lnTo>
                      <a:lnTo>
                        <a:pt x="420" y="228"/>
                      </a:lnTo>
                      <a:lnTo>
                        <a:pt x="430" y="216"/>
                      </a:lnTo>
                      <a:lnTo>
                        <a:pt x="441" y="205"/>
                      </a:lnTo>
                      <a:lnTo>
                        <a:pt x="441" y="194"/>
                      </a:lnTo>
                      <a:lnTo>
                        <a:pt x="420" y="182"/>
                      </a:lnTo>
                      <a:lnTo>
                        <a:pt x="410" y="182"/>
                      </a:lnTo>
                      <a:lnTo>
                        <a:pt x="400" y="194"/>
                      </a:lnTo>
                      <a:lnTo>
                        <a:pt x="400" y="205"/>
                      </a:lnTo>
                      <a:lnTo>
                        <a:pt x="390" y="228"/>
                      </a:lnTo>
                      <a:lnTo>
                        <a:pt x="380" y="228"/>
                      </a:lnTo>
                      <a:lnTo>
                        <a:pt x="370" y="239"/>
                      </a:lnTo>
                      <a:lnTo>
                        <a:pt x="360" y="239"/>
                      </a:lnTo>
                      <a:lnTo>
                        <a:pt x="350" y="251"/>
                      </a:lnTo>
                      <a:lnTo>
                        <a:pt x="360" y="262"/>
                      </a:lnTo>
                      <a:lnTo>
                        <a:pt x="370" y="273"/>
                      </a:lnTo>
                      <a:lnTo>
                        <a:pt x="380" y="285"/>
                      </a:lnTo>
                      <a:lnTo>
                        <a:pt x="380" y="296"/>
                      </a:lnTo>
                      <a:lnTo>
                        <a:pt x="370" y="296"/>
                      </a:lnTo>
                      <a:lnTo>
                        <a:pt x="360" y="296"/>
                      </a:lnTo>
                      <a:lnTo>
                        <a:pt x="340" y="296"/>
                      </a:lnTo>
                      <a:lnTo>
                        <a:pt x="340" y="308"/>
                      </a:lnTo>
                      <a:lnTo>
                        <a:pt x="350" y="319"/>
                      </a:lnTo>
                      <a:lnTo>
                        <a:pt x="360" y="319"/>
                      </a:lnTo>
                      <a:lnTo>
                        <a:pt x="350" y="342"/>
                      </a:lnTo>
                      <a:lnTo>
                        <a:pt x="330" y="365"/>
                      </a:lnTo>
                      <a:lnTo>
                        <a:pt x="320" y="376"/>
                      </a:lnTo>
                      <a:lnTo>
                        <a:pt x="310" y="376"/>
                      </a:lnTo>
                      <a:lnTo>
                        <a:pt x="310" y="365"/>
                      </a:lnTo>
                      <a:lnTo>
                        <a:pt x="310" y="353"/>
                      </a:lnTo>
                      <a:lnTo>
                        <a:pt x="300" y="342"/>
                      </a:lnTo>
                      <a:lnTo>
                        <a:pt x="290" y="330"/>
                      </a:lnTo>
                      <a:lnTo>
                        <a:pt x="290" y="319"/>
                      </a:lnTo>
                      <a:lnTo>
                        <a:pt x="290" y="296"/>
                      </a:lnTo>
                      <a:lnTo>
                        <a:pt x="280" y="296"/>
                      </a:lnTo>
                      <a:lnTo>
                        <a:pt x="260" y="308"/>
                      </a:lnTo>
                      <a:lnTo>
                        <a:pt x="240" y="319"/>
                      </a:lnTo>
                      <a:lnTo>
                        <a:pt x="220" y="330"/>
                      </a:lnTo>
                      <a:lnTo>
                        <a:pt x="210" y="319"/>
                      </a:lnTo>
                      <a:lnTo>
                        <a:pt x="200" y="308"/>
                      </a:lnTo>
                      <a:lnTo>
                        <a:pt x="200" y="296"/>
                      </a:lnTo>
                      <a:lnTo>
                        <a:pt x="210" y="296"/>
                      </a:lnTo>
                      <a:lnTo>
                        <a:pt x="220" y="285"/>
                      </a:lnTo>
                      <a:lnTo>
                        <a:pt x="220" y="273"/>
                      </a:lnTo>
                      <a:lnTo>
                        <a:pt x="210" y="285"/>
                      </a:lnTo>
                      <a:lnTo>
                        <a:pt x="200" y="273"/>
                      </a:lnTo>
                      <a:lnTo>
                        <a:pt x="210" y="262"/>
                      </a:lnTo>
                      <a:lnTo>
                        <a:pt x="220" y="262"/>
                      </a:lnTo>
                      <a:lnTo>
                        <a:pt x="210" y="251"/>
                      </a:lnTo>
                      <a:lnTo>
                        <a:pt x="200" y="251"/>
                      </a:lnTo>
                      <a:lnTo>
                        <a:pt x="200" y="239"/>
                      </a:lnTo>
                      <a:lnTo>
                        <a:pt x="210" y="239"/>
                      </a:lnTo>
                      <a:lnTo>
                        <a:pt x="220" y="239"/>
                      </a:lnTo>
                      <a:lnTo>
                        <a:pt x="230" y="239"/>
                      </a:lnTo>
                      <a:lnTo>
                        <a:pt x="240" y="251"/>
                      </a:lnTo>
                      <a:lnTo>
                        <a:pt x="270" y="251"/>
                      </a:lnTo>
                      <a:lnTo>
                        <a:pt x="280" y="228"/>
                      </a:lnTo>
                      <a:lnTo>
                        <a:pt x="280" y="216"/>
                      </a:lnTo>
                      <a:lnTo>
                        <a:pt x="270" y="228"/>
                      </a:lnTo>
                      <a:lnTo>
                        <a:pt x="260" y="228"/>
                      </a:lnTo>
                      <a:lnTo>
                        <a:pt x="260" y="216"/>
                      </a:lnTo>
                      <a:lnTo>
                        <a:pt x="270" y="216"/>
                      </a:lnTo>
                      <a:lnTo>
                        <a:pt x="280" y="205"/>
                      </a:lnTo>
                      <a:lnTo>
                        <a:pt x="290" y="194"/>
                      </a:lnTo>
                      <a:lnTo>
                        <a:pt x="300" y="182"/>
                      </a:lnTo>
                      <a:lnTo>
                        <a:pt x="300" y="171"/>
                      </a:lnTo>
                      <a:lnTo>
                        <a:pt x="310" y="159"/>
                      </a:lnTo>
                      <a:lnTo>
                        <a:pt x="320" y="159"/>
                      </a:lnTo>
                      <a:lnTo>
                        <a:pt x="330" y="148"/>
                      </a:lnTo>
                      <a:lnTo>
                        <a:pt x="340" y="137"/>
                      </a:lnTo>
                      <a:lnTo>
                        <a:pt x="340" y="125"/>
                      </a:lnTo>
                      <a:lnTo>
                        <a:pt x="350" y="125"/>
                      </a:lnTo>
                      <a:lnTo>
                        <a:pt x="360" y="125"/>
                      </a:lnTo>
                      <a:lnTo>
                        <a:pt x="370" y="125"/>
                      </a:lnTo>
                      <a:lnTo>
                        <a:pt x="360" y="125"/>
                      </a:lnTo>
                      <a:lnTo>
                        <a:pt x="370" y="125"/>
                      </a:lnTo>
                      <a:lnTo>
                        <a:pt x="380" y="125"/>
                      </a:lnTo>
                      <a:lnTo>
                        <a:pt x="380" y="114"/>
                      </a:lnTo>
                      <a:lnTo>
                        <a:pt x="400" y="114"/>
                      </a:lnTo>
                      <a:lnTo>
                        <a:pt x="420" y="102"/>
                      </a:lnTo>
                      <a:lnTo>
                        <a:pt x="451" y="102"/>
                      </a:lnTo>
                      <a:lnTo>
                        <a:pt x="461" y="102"/>
                      </a:lnTo>
                      <a:lnTo>
                        <a:pt x="481" y="102"/>
                      </a:lnTo>
                      <a:lnTo>
                        <a:pt x="491" y="114"/>
                      </a:lnTo>
                      <a:lnTo>
                        <a:pt x="491" y="125"/>
                      </a:lnTo>
                      <a:lnTo>
                        <a:pt x="521" y="137"/>
                      </a:lnTo>
                      <a:lnTo>
                        <a:pt x="551" y="137"/>
                      </a:lnTo>
                      <a:lnTo>
                        <a:pt x="591" y="148"/>
                      </a:lnTo>
                      <a:lnTo>
                        <a:pt x="611" y="159"/>
                      </a:lnTo>
                      <a:lnTo>
                        <a:pt x="621" y="159"/>
                      </a:lnTo>
                      <a:lnTo>
                        <a:pt x="601" y="182"/>
                      </a:lnTo>
                      <a:lnTo>
                        <a:pt x="581" y="182"/>
                      </a:lnTo>
                      <a:lnTo>
                        <a:pt x="561" y="182"/>
                      </a:lnTo>
                      <a:lnTo>
                        <a:pt x="541" y="171"/>
                      </a:lnTo>
                      <a:lnTo>
                        <a:pt x="511" y="159"/>
                      </a:lnTo>
                      <a:lnTo>
                        <a:pt x="511" y="171"/>
                      </a:lnTo>
                      <a:lnTo>
                        <a:pt x="531" y="171"/>
                      </a:lnTo>
                      <a:lnTo>
                        <a:pt x="541" y="182"/>
                      </a:lnTo>
                      <a:lnTo>
                        <a:pt x="551" y="194"/>
                      </a:lnTo>
                      <a:lnTo>
                        <a:pt x="571" y="228"/>
                      </a:lnTo>
                      <a:lnTo>
                        <a:pt x="591" y="228"/>
                      </a:lnTo>
                      <a:lnTo>
                        <a:pt x="591" y="216"/>
                      </a:lnTo>
                      <a:lnTo>
                        <a:pt x="581" y="205"/>
                      </a:lnTo>
                      <a:lnTo>
                        <a:pt x="581" y="194"/>
                      </a:lnTo>
                      <a:lnTo>
                        <a:pt x="591" y="205"/>
                      </a:lnTo>
                      <a:lnTo>
                        <a:pt x="601" y="205"/>
                      </a:lnTo>
                      <a:lnTo>
                        <a:pt x="601" y="194"/>
                      </a:lnTo>
                      <a:lnTo>
                        <a:pt x="611" y="194"/>
                      </a:lnTo>
                      <a:lnTo>
                        <a:pt x="621" y="182"/>
                      </a:lnTo>
                      <a:lnTo>
                        <a:pt x="631" y="171"/>
                      </a:lnTo>
                      <a:lnTo>
                        <a:pt x="641" y="171"/>
                      </a:lnTo>
                      <a:lnTo>
                        <a:pt x="641" y="159"/>
                      </a:lnTo>
                      <a:lnTo>
                        <a:pt x="641" y="148"/>
                      </a:lnTo>
                      <a:lnTo>
                        <a:pt x="661" y="137"/>
                      </a:lnTo>
                      <a:lnTo>
                        <a:pt x="661" y="148"/>
                      </a:lnTo>
                      <a:lnTo>
                        <a:pt x="661" y="159"/>
                      </a:lnTo>
                      <a:lnTo>
                        <a:pt x="661" y="171"/>
                      </a:lnTo>
                      <a:lnTo>
                        <a:pt x="671" y="171"/>
                      </a:lnTo>
                      <a:lnTo>
                        <a:pt x="691" y="171"/>
                      </a:lnTo>
                      <a:lnTo>
                        <a:pt x="711" y="159"/>
                      </a:lnTo>
                      <a:lnTo>
                        <a:pt x="721" y="148"/>
                      </a:lnTo>
                      <a:lnTo>
                        <a:pt x="741" y="137"/>
                      </a:lnTo>
                      <a:lnTo>
                        <a:pt x="761" y="137"/>
                      </a:lnTo>
                      <a:lnTo>
                        <a:pt x="791" y="125"/>
                      </a:lnTo>
                      <a:lnTo>
                        <a:pt x="811" y="125"/>
                      </a:lnTo>
                      <a:lnTo>
                        <a:pt x="821" y="125"/>
                      </a:lnTo>
                      <a:lnTo>
                        <a:pt x="821" y="114"/>
                      </a:lnTo>
                      <a:lnTo>
                        <a:pt x="841" y="125"/>
                      </a:lnTo>
                      <a:lnTo>
                        <a:pt x="851" y="125"/>
                      </a:lnTo>
                      <a:lnTo>
                        <a:pt x="871" y="125"/>
                      </a:lnTo>
                      <a:lnTo>
                        <a:pt x="881" y="137"/>
                      </a:lnTo>
                      <a:lnTo>
                        <a:pt x="891" y="137"/>
                      </a:lnTo>
                      <a:lnTo>
                        <a:pt x="901" y="137"/>
                      </a:lnTo>
                      <a:lnTo>
                        <a:pt x="901" y="125"/>
                      </a:lnTo>
                      <a:lnTo>
                        <a:pt x="891" y="114"/>
                      </a:lnTo>
                      <a:lnTo>
                        <a:pt x="871" y="102"/>
                      </a:lnTo>
                      <a:lnTo>
                        <a:pt x="871" y="91"/>
                      </a:lnTo>
                      <a:lnTo>
                        <a:pt x="881" y="80"/>
                      </a:lnTo>
                      <a:lnTo>
                        <a:pt x="881" y="68"/>
                      </a:lnTo>
                      <a:lnTo>
                        <a:pt x="901" y="80"/>
                      </a:lnTo>
                      <a:lnTo>
                        <a:pt x="911" y="80"/>
                      </a:lnTo>
                      <a:lnTo>
                        <a:pt x="921" y="91"/>
                      </a:lnTo>
                      <a:lnTo>
                        <a:pt x="931" y="91"/>
                      </a:lnTo>
                      <a:lnTo>
                        <a:pt x="941" y="102"/>
                      </a:lnTo>
                      <a:lnTo>
                        <a:pt x="951" y="114"/>
                      </a:lnTo>
                      <a:lnTo>
                        <a:pt x="951" y="125"/>
                      </a:lnTo>
                      <a:lnTo>
                        <a:pt x="951" y="137"/>
                      </a:lnTo>
                      <a:lnTo>
                        <a:pt x="961" y="137"/>
                      </a:lnTo>
                      <a:lnTo>
                        <a:pt x="971" y="148"/>
                      </a:lnTo>
                      <a:lnTo>
                        <a:pt x="971" y="159"/>
                      </a:lnTo>
                      <a:lnTo>
                        <a:pt x="961" y="171"/>
                      </a:lnTo>
                      <a:lnTo>
                        <a:pt x="951" y="171"/>
                      </a:lnTo>
                      <a:lnTo>
                        <a:pt x="941" y="171"/>
                      </a:lnTo>
                      <a:lnTo>
                        <a:pt x="971" y="182"/>
                      </a:lnTo>
                      <a:lnTo>
                        <a:pt x="981" y="171"/>
                      </a:lnTo>
                      <a:lnTo>
                        <a:pt x="991" y="148"/>
                      </a:lnTo>
                      <a:lnTo>
                        <a:pt x="1001" y="137"/>
                      </a:lnTo>
                      <a:lnTo>
                        <a:pt x="1012" y="148"/>
                      </a:lnTo>
                      <a:lnTo>
                        <a:pt x="1032" y="159"/>
                      </a:lnTo>
                      <a:lnTo>
                        <a:pt x="1042" y="159"/>
                      </a:lnTo>
                      <a:lnTo>
                        <a:pt x="1042" y="148"/>
                      </a:lnTo>
                      <a:lnTo>
                        <a:pt x="1022" y="137"/>
                      </a:lnTo>
                      <a:lnTo>
                        <a:pt x="1012" y="137"/>
                      </a:lnTo>
                      <a:lnTo>
                        <a:pt x="991" y="125"/>
                      </a:lnTo>
                      <a:lnTo>
                        <a:pt x="971" y="114"/>
                      </a:lnTo>
                      <a:lnTo>
                        <a:pt x="951" y="102"/>
                      </a:lnTo>
                      <a:lnTo>
                        <a:pt x="941" y="68"/>
                      </a:lnTo>
                      <a:lnTo>
                        <a:pt x="951" y="68"/>
                      </a:lnTo>
                      <a:lnTo>
                        <a:pt x="951" y="80"/>
                      </a:lnTo>
                      <a:lnTo>
                        <a:pt x="961" y="91"/>
                      </a:lnTo>
                      <a:lnTo>
                        <a:pt x="971" y="91"/>
                      </a:lnTo>
                      <a:lnTo>
                        <a:pt x="981" y="80"/>
                      </a:lnTo>
                      <a:lnTo>
                        <a:pt x="991" y="80"/>
                      </a:lnTo>
                      <a:lnTo>
                        <a:pt x="1001" y="80"/>
                      </a:lnTo>
                      <a:lnTo>
                        <a:pt x="1012" y="80"/>
                      </a:lnTo>
                      <a:lnTo>
                        <a:pt x="1032" y="91"/>
                      </a:lnTo>
                      <a:lnTo>
                        <a:pt x="1042" y="91"/>
                      </a:lnTo>
                      <a:lnTo>
                        <a:pt x="1052" y="102"/>
                      </a:lnTo>
                      <a:lnTo>
                        <a:pt x="1062" y="102"/>
                      </a:lnTo>
                      <a:lnTo>
                        <a:pt x="1062" y="114"/>
                      </a:lnTo>
                      <a:lnTo>
                        <a:pt x="1052" y="102"/>
                      </a:lnTo>
                      <a:lnTo>
                        <a:pt x="1052" y="91"/>
                      </a:lnTo>
                      <a:lnTo>
                        <a:pt x="1042" y="91"/>
                      </a:lnTo>
                      <a:lnTo>
                        <a:pt x="1032" y="80"/>
                      </a:lnTo>
                      <a:lnTo>
                        <a:pt x="1022" y="80"/>
                      </a:lnTo>
                      <a:lnTo>
                        <a:pt x="1012" y="80"/>
                      </a:lnTo>
                      <a:lnTo>
                        <a:pt x="1001" y="68"/>
                      </a:lnTo>
                      <a:lnTo>
                        <a:pt x="991" y="68"/>
                      </a:lnTo>
                      <a:lnTo>
                        <a:pt x="991" y="57"/>
                      </a:lnTo>
                      <a:lnTo>
                        <a:pt x="1012" y="57"/>
                      </a:lnTo>
                      <a:lnTo>
                        <a:pt x="1032" y="57"/>
                      </a:lnTo>
                      <a:lnTo>
                        <a:pt x="1042" y="57"/>
                      </a:lnTo>
                      <a:lnTo>
                        <a:pt x="1052" y="68"/>
                      </a:lnTo>
                      <a:lnTo>
                        <a:pt x="1062" y="68"/>
                      </a:lnTo>
                      <a:lnTo>
                        <a:pt x="1072" y="68"/>
                      </a:lnTo>
                      <a:lnTo>
                        <a:pt x="1062" y="57"/>
                      </a:lnTo>
                      <a:lnTo>
                        <a:pt x="1052" y="45"/>
                      </a:lnTo>
                      <a:lnTo>
                        <a:pt x="1042" y="45"/>
                      </a:lnTo>
                      <a:lnTo>
                        <a:pt x="1052" y="45"/>
                      </a:lnTo>
                      <a:lnTo>
                        <a:pt x="1042" y="34"/>
                      </a:lnTo>
                      <a:lnTo>
                        <a:pt x="1052" y="34"/>
                      </a:lnTo>
                      <a:lnTo>
                        <a:pt x="1062" y="34"/>
                      </a:lnTo>
                      <a:lnTo>
                        <a:pt x="1092" y="23"/>
                      </a:lnTo>
                      <a:lnTo>
                        <a:pt x="1122" y="11"/>
                      </a:lnTo>
                      <a:lnTo>
                        <a:pt x="1142" y="11"/>
                      </a:lnTo>
                      <a:lnTo>
                        <a:pt x="1152" y="0"/>
                      </a:lnTo>
                      <a:lnTo>
                        <a:pt x="1172" y="0"/>
                      </a:lnTo>
                      <a:lnTo>
                        <a:pt x="1182" y="0"/>
                      </a:lnTo>
                      <a:lnTo>
                        <a:pt x="1192" y="0"/>
                      </a:lnTo>
                      <a:lnTo>
                        <a:pt x="1212" y="0"/>
                      </a:lnTo>
                      <a:lnTo>
                        <a:pt x="1232" y="0"/>
                      </a:lnTo>
                      <a:lnTo>
                        <a:pt x="1252" y="11"/>
                      </a:lnTo>
                      <a:lnTo>
                        <a:pt x="1282" y="23"/>
                      </a:lnTo>
                      <a:lnTo>
                        <a:pt x="1292" y="23"/>
                      </a:lnTo>
                      <a:lnTo>
                        <a:pt x="1302" y="23"/>
                      </a:lnTo>
                      <a:lnTo>
                        <a:pt x="1312" y="34"/>
                      </a:lnTo>
                      <a:lnTo>
                        <a:pt x="1312" y="45"/>
                      </a:lnTo>
                      <a:lnTo>
                        <a:pt x="1302" y="45"/>
                      </a:lnTo>
                      <a:lnTo>
                        <a:pt x="1292" y="45"/>
                      </a:lnTo>
                      <a:lnTo>
                        <a:pt x="1282" y="57"/>
                      </a:lnTo>
                      <a:lnTo>
                        <a:pt x="1272" y="68"/>
                      </a:lnTo>
                      <a:lnTo>
                        <a:pt x="1262" y="68"/>
                      </a:lnTo>
                      <a:lnTo>
                        <a:pt x="1272" y="68"/>
                      </a:lnTo>
                      <a:lnTo>
                        <a:pt x="1292" y="57"/>
                      </a:lnTo>
                      <a:lnTo>
                        <a:pt x="1312" y="57"/>
                      </a:lnTo>
                      <a:lnTo>
                        <a:pt x="1332" y="57"/>
                      </a:lnTo>
                      <a:lnTo>
                        <a:pt x="1342" y="57"/>
                      </a:lnTo>
                      <a:lnTo>
                        <a:pt x="1352" y="68"/>
                      </a:lnTo>
                      <a:lnTo>
                        <a:pt x="1362" y="80"/>
                      </a:lnTo>
                      <a:lnTo>
                        <a:pt x="1352" y="68"/>
                      </a:lnTo>
                      <a:lnTo>
                        <a:pt x="1342" y="57"/>
                      </a:lnTo>
                      <a:lnTo>
                        <a:pt x="1352" y="57"/>
                      </a:lnTo>
                      <a:lnTo>
                        <a:pt x="1362" y="57"/>
                      </a:lnTo>
                      <a:lnTo>
                        <a:pt x="1372" y="57"/>
                      </a:lnTo>
                      <a:lnTo>
                        <a:pt x="1382" y="57"/>
                      </a:lnTo>
                      <a:lnTo>
                        <a:pt x="1392" y="57"/>
                      </a:lnTo>
                      <a:lnTo>
                        <a:pt x="1402" y="57"/>
                      </a:lnTo>
                      <a:lnTo>
                        <a:pt x="1402" y="68"/>
                      </a:lnTo>
                      <a:lnTo>
                        <a:pt x="1422" y="68"/>
                      </a:lnTo>
                      <a:lnTo>
                        <a:pt x="1452" y="80"/>
                      </a:lnTo>
                      <a:lnTo>
                        <a:pt x="1472" y="80"/>
                      </a:lnTo>
                      <a:lnTo>
                        <a:pt x="1502" y="91"/>
                      </a:lnTo>
                      <a:lnTo>
                        <a:pt x="1522" y="91"/>
                      </a:lnTo>
                      <a:lnTo>
                        <a:pt x="1512" y="80"/>
                      </a:lnTo>
                      <a:lnTo>
                        <a:pt x="1502" y="80"/>
                      </a:lnTo>
                      <a:lnTo>
                        <a:pt x="1512" y="80"/>
                      </a:lnTo>
                      <a:lnTo>
                        <a:pt x="1532" y="91"/>
                      </a:lnTo>
                      <a:lnTo>
                        <a:pt x="1542" y="91"/>
                      </a:lnTo>
                      <a:lnTo>
                        <a:pt x="1532" y="91"/>
                      </a:lnTo>
                      <a:lnTo>
                        <a:pt x="1532" y="80"/>
                      </a:lnTo>
                      <a:lnTo>
                        <a:pt x="1552" y="91"/>
                      </a:lnTo>
                      <a:lnTo>
                        <a:pt x="1562" y="102"/>
                      </a:lnTo>
                      <a:lnTo>
                        <a:pt x="1582" y="102"/>
                      </a:lnTo>
                      <a:lnTo>
                        <a:pt x="1582" y="91"/>
                      </a:lnTo>
                      <a:lnTo>
                        <a:pt x="1593" y="91"/>
                      </a:lnTo>
                      <a:lnTo>
                        <a:pt x="1603" y="91"/>
                      </a:lnTo>
                      <a:lnTo>
                        <a:pt x="1613" y="91"/>
                      </a:lnTo>
                      <a:lnTo>
                        <a:pt x="1633" y="80"/>
                      </a:lnTo>
                      <a:lnTo>
                        <a:pt x="1643" y="68"/>
                      </a:lnTo>
                      <a:lnTo>
                        <a:pt x="1653" y="68"/>
                      </a:lnTo>
                      <a:lnTo>
                        <a:pt x="1673" y="80"/>
                      </a:lnTo>
                      <a:lnTo>
                        <a:pt x="1693" y="91"/>
                      </a:lnTo>
                      <a:lnTo>
                        <a:pt x="1713" y="91"/>
                      </a:lnTo>
                      <a:lnTo>
                        <a:pt x="1733" y="91"/>
                      </a:lnTo>
                      <a:lnTo>
                        <a:pt x="1733" y="80"/>
                      </a:lnTo>
                      <a:lnTo>
                        <a:pt x="1743" y="80"/>
                      </a:lnTo>
                      <a:lnTo>
                        <a:pt x="1763" y="91"/>
                      </a:lnTo>
                      <a:lnTo>
                        <a:pt x="1753" y="91"/>
                      </a:lnTo>
                      <a:lnTo>
                        <a:pt x="1783" y="102"/>
                      </a:lnTo>
                      <a:lnTo>
                        <a:pt x="1803" y="102"/>
                      </a:lnTo>
                      <a:lnTo>
                        <a:pt x="1823" y="102"/>
                      </a:lnTo>
                      <a:lnTo>
                        <a:pt x="1833" y="102"/>
                      </a:lnTo>
                      <a:lnTo>
                        <a:pt x="1843" y="102"/>
                      </a:lnTo>
                      <a:lnTo>
                        <a:pt x="1863" y="102"/>
                      </a:lnTo>
                      <a:lnTo>
                        <a:pt x="1883" y="102"/>
                      </a:lnTo>
                      <a:lnTo>
                        <a:pt x="1893" y="102"/>
                      </a:lnTo>
                      <a:lnTo>
                        <a:pt x="1903" y="114"/>
                      </a:lnTo>
                      <a:lnTo>
                        <a:pt x="1913" y="114"/>
                      </a:lnTo>
                      <a:lnTo>
                        <a:pt x="1913" y="125"/>
                      </a:lnTo>
                      <a:lnTo>
                        <a:pt x="1903" y="125"/>
                      </a:lnTo>
                      <a:lnTo>
                        <a:pt x="1893" y="137"/>
                      </a:lnTo>
                      <a:lnTo>
                        <a:pt x="1903" y="137"/>
                      </a:lnTo>
                      <a:lnTo>
                        <a:pt x="1913" y="137"/>
                      </a:lnTo>
                      <a:lnTo>
                        <a:pt x="1923" y="137"/>
                      </a:lnTo>
                      <a:lnTo>
                        <a:pt x="1953" y="137"/>
                      </a:lnTo>
                      <a:lnTo>
                        <a:pt x="1943" y="125"/>
                      </a:lnTo>
                      <a:lnTo>
                        <a:pt x="1963" y="125"/>
                      </a:lnTo>
                      <a:lnTo>
                        <a:pt x="1993" y="125"/>
                      </a:lnTo>
                      <a:lnTo>
                        <a:pt x="2023" y="125"/>
                      </a:lnTo>
                      <a:lnTo>
                        <a:pt x="2033" y="137"/>
                      </a:lnTo>
                      <a:lnTo>
                        <a:pt x="2043" y="137"/>
                      </a:lnTo>
                      <a:lnTo>
                        <a:pt x="2053" y="137"/>
                      </a:lnTo>
                      <a:lnTo>
                        <a:pt x="2043" y="125"/>
                      </a:lnTo>
                      <a:lnTo>
                        <a:pt x="2033" y="125"/>
                      </a:lnTo>
                      <a:lnTo>
                        <a:pt x="2023" y="114"/>
                      </a:lnTo>
                      <a:lnTo>
                        <a:pt x="2053" y="114"/>
                      </a:lnTo>
                      <a:lnTo>
                        <a:pt x="2083" y="125"/>
                      </a:lnTo>
                      <a:lnTo>
                        <a:pt x="2103" y="125"/>
                      </a:lnTo>
                      <a:lnTo>
                        <a:pt x="2133" y="125"/>
                      </a:lnTo>
                      <a:lnTo>
                        <a:pt x="2143" y="125"/>
                      </a:lnTo>
                      <a:lnTo>
                        <a:pt x="2143" y="137"/>
                      </a:lnTo>
                      <a:lnTo>
                        <a:pt x="2153" y="137"/>
                      </a:lnTo>
                      <a:lnTo>
                        <a:pt x="2164" y="137"/>
                      </a:lnTo>
                      <a:lnTo>
                        <a:pt x="2164" y="148"/>
                      </a:lnTo>
                      <a:lnTo>
                        <a:pt x="2184" y="148"/>
                      </a:lnTo>
                      <a:lnTo>
                        <a:pt x="2204" y="159"/>
                      </a:lnTo>
                      <a:lnTo>
                        <a:pt x="2214" y="171"/>
                      </a:lnTo>
                      <a:lnTo>
                        <a:pt x="2234" y="182"/>
                      </a:lnTo>
                      <a:lnTo>
                        <a:pt x="2254" y="205"/>
                      </a:lnTo>
                      <a:lnTo>
                        <a:pt x="2254" y="205"/>
                      </a:lnTo>
                      <a:close/>
                    </a:path>
                  </a:pathLst>
                </a:custGeom>
                <a:solidFill>
                  <a:srgbClr val="0093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341960" y="1360440"/>
                  <a:ext cx="3657600" cy="2298600"/>
                </a:xfrm>
                <a:custGeom>
                  <a:avLst/>
                  <a:gdLst/>
                  <a:ahLst/>
                  <a:rect l="l" t="t" r="r" b="b"/>
                  <a:pathLst>
                    <a:path w="2304" h="1448">
                      <a:moveTo>
                        <a:pt x="2254" y="205"/>
                      </a:moveTo>
                      <a:lnTo>
                        <a:pt x="2264" y="216"/>
                      </a:lnTo>
                      <a:lnTo>
                        <a:pt x="2274" y="228"/>
                      </a:lnTo>
                      <a:lnTo>
                        <a:pt x="2284" y="228"/>
                      </a:lnTo>
                      <a:lnTo>
                        <a:pt x="2294" y="239"/>
                      </a:lnTo>
                      <a:lnTo>
                        <a:pt x="2304" y="251"/>
                      </a:lnTo>
                      <a:lnTo>
                        <a:pt x="2294" y="251"/>
                      </a:lnTo>
                      <a:lnTo>
                        <a:pt x="2284" y="251"/>
                      </a:lnTo>
                      <a:lnTo>
                        <a:pt x="2264" y="239"/>
                      </a:lnTo>
                      <a:lnTo>
                        <a:pt x="2274" y="239"/>
                      </a:lnTo>
                      <a:lnTo>
                        <a:pt x="2264" y="251"/>
                      </a:lnTo>
                      <a:lnTo>
                        <a:pt x="2254" y="251"/>
                      </a:lnTo>
                      <a:lnTo>
                        <a:pt x="2244" y="262"/>
                      </a:lnTo>
                      <a:lnTo>
                        <a:pt x="2244" y="273"/>
                      </a:lnTo>
                      <a:lnTo>
                        <a:pt x="2244" y="285"/>
                      </a:lnTo>
                      <a:lnTo>
                        <a:pt x="2244" y="296"/>
                      </a:lnTo>
                      <a:lnTo>
                        <a:pt x="2234" y="296"/>
                      </a:lnTo>
                      <a:lnTo>
                        <a:pt x="2224" y="285"/>
                      </a:lnTo>
                      <a:lnTo>
                        <a:pt x="2214" y="285"/>
                      </a:lnTo>
                      <a:lnTo>
                        <a:pt x="2204" y="285"/>
                      </a:lnTo>
                      <a:lnTo>
                        <a:pt x="2194" y="285"/>
                      </a:lnTo>
                      <a:lnTo>
                        <a:pt x="2184" y="285"/>
                      </a:lnTo>
                      <a:lnTo>
                        <a:pt x="2164" y="285"/>
                      </a:lnTo>
                      <a:lnTo>
                        <a:pt x="2153" y="285"/>
                      </a:lnTo>
                      <a:lnTo>
                        <a:pt x="2153" y="308"/>
                      </a:lnTo>
                      <a:lnTo>
                        <a:pt x="2184" y="330"/>
                      </a:lnTo>
                      <a:lnTo>
                        <a:pt x="2214" y="353"/>
                      </a:lnTo>
                      <a:lnTo>
                        <a:pt x="2224" y="365"/>
                      </a:lnTo>
                      <a:lnTo>
                        <a:pt x="2234" y="365"/>
                      </a:lnTo>
                      <a:lnTo>
                        <a:pt x="2234" y="376"/>
                      </a:lnTo>
                      <a:lnTo>
                        <a:pt x="2234" y="387"/>
                      </a:lnTo>
                      <a:lnTo>
                        <a:pt x="2224" y="387"/>
                      </a:lnTo>
                      <a:lnTo>
                        <a:pt x="2224" y="410"/>
                      </a:lnTo>
                      <a:lnTo>
                        <a:pt x="2234" y="410"/>
                      </a:lnTo>
                      <a:lnTo>
                        <a:pt x="2234" y="422"/>
                      </a:lnTo>
                      <a:lnTo>
                        <a:pt x="2234" y="433"/>
                      </a:lnTo>
                      <a:lnTo>
                        <a:pt x="2234" y="444"/>
                      </a:lnTo>
                      <a:lnTo>
                        <a:pt x="2234" y="456"/>
                      </a:lnTo>
                      <a:lnTo>
                        <a:pt x="2224" y="456"/>
                      </a:lnTo>
                      <a:lnTo>
                        <a:pt x="2214" y="444"/>
                      </a:lnTo>
                      <a:lnTo>
                        <a:pt x="2204" y="433"/>
                      </a:lnTo>
                      <a:lnTo>
                        <a:pt x="2184" y="410"/>
                      </a:lnTo>
                      <a:lnTo>
                        <a:pt x="2153" y="399"/>
                      </a:lnTo>
                      <a:lnTo>
                        <a:pt x="2133" y="376"/>
                      </a:lnTo>
                      <a:lnTo>
                        <a:pt x="2123" y="365"/>
                      </a:lnTo>
                      <a:lnTo>
                        <a:pt x="2113" y="353"/>
                      </a:lnTo>
                      <a:lnTo>
                        <a:pt x="2113" y="342"/>
                      </a:lnTo>
                      <a:lnTo>
                        <a:pt x="2123" y="330"/>
                      </a:lnTo>
                      <a:lnTo>
                        <a:pt x="2123" y="296"/>
                      </a:lnTo>
                      <a:lnTo>
                        <a:pt x="2113" y="273"/>
                      </a:lnTo>
                      <a:lnTo>
                        <a:pt x="2093" y="239"/>
                      </a:lnTo>
                      <a:lnTo>
                        <a:pt x="2093" y="251"/>
                      </a:lnTo>
                      <a:lnTo>
                        <a:pt x="2103" y="262"/>
                      </a:lnTo>
                      <a:lnTo>
                        <a:pt x="2103" y="273"/>
                      </a:lnTo>
                      <a:lnTo>
                        <a:pt x="2093" y="285"/>
                      </a:lnTo>
                      <a:lnTo>
                        <a:pt x="2093" y="273"/>
                      </a:lnTo>
                      <a:lnTo>
                        <a:pt x="2083" y="262"/>
                      </a:lnTo>
                      <a:lnTo>
                        <a:pt x="2073" y="262"/>
                      </a:lnTo>
                      <a:lnTo>
                        <a:pt x="2053" y="251"/>
                      </a:lnTo>
                      <a:lnTo>
                        <a:pt x="2033" y="262"/>
                      </a:lnTo>
                      <a:lnTo>
                        <a:pt x="2033" y="296"/>
                      </a:lnTo>
                      <a:lnTo>
                        <a:pt x="2043" y="296"/>
                      </a:lnTo>
                      <a:lnTo>
                        <a:pt x="2053" y="296"/>
                      </a:lnTo>
                      <a:lnTo>
                        <a:pt x="2063" y="308"/>
                      </a:lnTo>
                      <a:lnTo>
                        <a:pt x="2053" y="308"/>
                      </a:lnTo>
                      <a:lnTo>
                        <a:pt x="2043" y="308"/>
                      </a:lnTo>
                      <a:lnTo>
                        <a:pt x="2033" y="308"/>
                      </a:lnTo>
                      <a:lnTo>
                        <a:pt x="2023" y="308"/>
                      </a:lnTo>
                      <a:lnTo>
                        <a:pt x="2003" y="308"/>
                      </a:lnTo>
                      <a:lnTo>
                        <a:pt x="1993" y="296"/>
                      </a:lnTo>
                      <a:lnTo>
                        <a:pt x="1983" y="296"/>
                      </a:lnTo>
                      <a:lnTo>
                        <a:pt x="1973" y="296"/>
                      </a:lnTo>
                      <a:lnTo>
                        <a:pt x="1953" y="308"/>
                      </a:lnTo>
                      <a:lnTo>
                        <a:pt x="1923" y="319"/>
                      </a:lnTo>
                      <a:lnTo>
                        <a:pt x="1903" y="330"/>
                      </a:lnTo>
                      <a:lnTo>
                        <a:pt x="1903" y="342"/>
                      </a:lnTo>
                      <a:lnTo>
                        <a:pt x="1893" y="342"/>
                      </a:lnTo>
                      <a:lnTo>
                        <a:pt x="1893" y="353"/>
                      </a:lnTo>
                      <a:lnTo>
                        <a:pt x="1883" y="376"/>
                      </a:lnTo>
                      <a:lnTo>
                        <a:pt x="1883" y="387"/>
                      </a:lnTo>
                      <a:lnTo>
                        <a:pt x="1893" y="399"/>
                      </a:lnTo>
                      <a:lnTo>
                        <a:pt x="1923" y="410"/>
                      </a:lnTo>
                      <a:lnTo>
                        <a:pt x="1933" y="410"/>
                      </a:lnTo>
                      <a:lnTo>
                        <a:pt x="1943" y="399"/>
                      </a:lnTo>
                      <a:lnTo>
                        <a:pt x="1953" y="399"/>
                      </a:lnTo>
                      <a:lnTo>
                        <a:pt x="1963" y="399"/>
                      </a:lnTo>
                      <a:lnTo>
                        <a:pt x="1973" y="410"/>
                      </a:lnTo>
                      <a:lnTo>
                        <a:pt x="1983" y="410"/>
                      </a:lnTo>
                      <a:lnTo>
                        <a:pt x="1973" y="422"/>
                      </a:lnTo>
                      <a:lnTo>
                        <a:pt x="1983" y="422"/>
                      </a:lnTo>
                      <a:lnTo>
                        <a:pt x="1993" y="433"/>
                      </a:lnTo>
                      <a:lnTo>
                        <a:pt x="2003" y="433"/>
                      </a:lnTo>
                      <a:lnTo>
                        <a:pt x="2003" y="444"/>
                      </a:lnTo>
                      <a:lnTo>
                        <a:pt x="2003" y="456"/>
                      </a:lnTo>
                      <a:lnTo>
                        <a:pt x="2003" y="467"/>
                      </a:lnTo>
                      <a:lnTo>
                        <a:pt x="2013" y="479"/>
                      </a:lnTo>
                      <a:lnTo>
                        <a:pt x="2023" y="490"/>
                      </a:lnTo>
                      <a:lnTo>
                        <a:pt x="2033" y="501"/>
                      </a:lnTo>
                      <a:lnTo>
                        <a:pt x="2033" y="513"/>
                      </a:lnTo>
                      <a:lnTo>
                        <a:pt x="2023" y="513"/>
                      </a:lnTo>
                      <a:lnTo>
                        <a:pt x="2023" y="547"/>
                      </a:lnTo>
                      <a:lnTo>
                        <a:pt x="2013" y="581"/>
                      </a:lnTo>
                      <a:lnTo>
                        <a:pt x="2003" y="615"/>
                      </a:lnTo>
                      <a:lnTo>
                        <a:pt x="1993" y="615"/>
                      </a:lnTo>
                      <a:lnTo>
                        <a:pt x="1983" y="604"/>
                      </a:lnTo>
                      <a:lnTo>
                        <a:pt x="1973" y="604"/>
                      </a:lnTo>
                      <a:lnTo>
                        <a:pt x="1973" y="615"/>
                      </a:lnTo>
                      <a:lnTo>
                        <a:pt x="1963" y="627"/>
                      </a:lnTo>
                      <a:lnTo>
                        <a:pt x="1963" y="638"/>
                      </a:lnTo>
                      <a:lnTo>
                        <a:pt x="1963" y="650"/>
                      </a:lnTo>
                      <a:lnTo>
                        <a:pt x="1953" y="661"/>
                      </a:lnTo>
                      <a:lnTo>
                        <a:pt x="1953" y="672"/>
                      </a:lnTo>
                      <a:lnTo>
                        <a:pt x="1963" y="695"/>
                      </a:lnTo>
                      <a:lnTo>
                        <a:pt x="1983" y="718"/>
                      </a:lnTo>
                      <a:lnTo>
                        <a:pt x="2013" y="752"/>
                      </a:lnTo>
                      <a:lnTo>
                        <a:pt x="2013" y="775"/>
                      </a:lnTo>
                      <a:lnTo>
                        <a:pt x="2003" y="786"/>
                      </a:lnTo>
                      <a:lnTo>
                        <a:pt x="1993" y="786"/>
                      </a:lnTo>
                      <a:lnTo>
                        <a:pt x="1983" y="798"/>
                      </a:lnTo>
                      <a:lnTo>
                        <a:pt x="1973" y="786"/>
                      </a:lnTo>
                      <a:lnTo>
                        <a:pt x="1973" y="775"/>
                      </a:lnTo>
                      <a:lnTo>
                        <a:pt x="1973" y="752"/>
                      </a:lnTo>
                      <a:lnTo>
                        <a:pt x="1963" y="729"/>
                      </a:lnTo>
                      <a:lnTo>
                        <a:pt x="1963" y="718"/>
                      </a:lnTo>
                      <a:lnTo>
                        <a:pt x="1953" y="718"/>
                      </a:lnTo>
                      <a:lnTo>
                        <a:pt x="1943" y="707"/>
                      </a:lnTo>
                      <a:lnTo>
                        <a:pt x="1933" y="707"/>
                      </a:lnTo>
                      <a:lnTo>
                        <a:pt x="1923" y="707"/>
                      </a:lnTo>
                      <a:lnTo>
                        <a:pt x="1913" y="695"/>
                      </a:lnTo>
                      <a:lnTo>
                        <a:pt x="1913" y="684"/>
                      </a:lnTo>
                      <a:lnTo>
                        <a:pt x="1903" y="672"/>
                      </a:lnTo>
                      <a:lnTo>
                        <a:pt x="1893" y="695"/>
                      </a:lnTo>
                      <a:lnTo>
                        <a:pt x="1873" y="695"/>
                      </a:lnTo>
                      <a:lnTo>
                        <a:pt x="1873" y="684"/>
                      </a:lnTo>
                      <a:lnTo>
                        <a:pt x="1873" y="672"/>
                      </a:lnTo>
                      <a:lnTo>
                        <a:pt x="1863" y="661"/>
                      </a:lnTo>
                      <a:lnTo>
                        <a:pt x="1853" y="661"/>
                      </a:lnTo>
                      <a:lnTo>
                        <a:pt x="1843" y="672"/>
                      </a:lnTo>
                      <a:lnTo>
                        <a:pt x="1823" y="695"/>
                      </a:lnTo>
                      <a:lnTo>
                        <a:pt x="1833" y="718"/>
                      </a:lnTo>
                      <a:lnTo>
                        <a:pt x="1853" y="729"/>
                      </a:lnTo>
                      <a:lnTo>
                        <a:pt x="1863" y="729"/>
                      </a:lnTo>
                      <a:lnTo>
                        <a:pt x="1863" y="718"/>
                      </a:lnTo>
                      <a:lnTo>
                        <a:pt x="1873" y="718"/>
                      </a:lnTo>
                      <a:lnTo>
                        <a:pt x="1883" y="718"/>
                      </a:lnTo>
                      <a:lnTo>
                        <a:pt x="1893" y="718"/>
                      </a:lnTo>
                      <a:lnTo>
                        <a:pt x="1903" y="718"/>
                      </a:lnTo>
                      <a:lnTo>
                        <a:pt x="1903" y="729"/>
                      </a:lnTo>
                      <a:lnTo>
                        <a:pt x="1893" y="752"/>
                      </a:lnTo>
                      <a:lnTo>
                        <a:pt x="1883" y="764"/>
                      </a:lnTo>
                      <a:lnTo>
                        <a:pt x="1873" y="775"/>
                      </a:lnTo>
                      <a:lnTo>
                        <a:pt x="1873" y="786"/>
                      </a:lnTo>
                      <a:lnTo>
                        <a:pt x="1883" y="798"/>
                      </a:lnTo>
                      <a:lnTo>
                        <a:pt x="1893" y="809"/>
                      </a:lnTo>
                      <a:lnTo>
                        <a:pt x="1913" y="832"/>
                      </a:lnTo>
                      <a:lnTo>
                        <a:pt x="1923" y="832"/>
                      </a:lnTo>
                      <a:lnTo>
                        <a:pt x="1933" y="843"/>
                      </a:lnTo>
                      <a:lnTo>
                        <a:pt x="1923" y="843"/>
                      </a:lnTo>
                      <a:lnTo>
                        <a:pt x="1903" y="832"/>
                      </a:lnTo>
                      <a:lnTo>
                        <a:pt x="1893" y="832"/>
                      </a:lnTo>
                      <a:lnTo>
                        <a:pt x="1903" y="843"/>
                      </a:lnTo>
                      <a:lnTo>
                        <a:pt x="1913" y="843"/>
                      </a:lnTo>
                      <a:lnTo>
                        <a:pt x="1923" y="855"/>
                      </a:lnTo>
                      <a:lnTo>
                        <a:pt x="1933" y="855"/>
                      </a:lnTo>
                      <a:lnTo>
                        <a:pt x="1933" y="866"/>
                      </a:lnTo>
                      <a:lnTo>
                        <a:pt x="1923" y="866"/>
                      </a:lnTo>
                      <a:lnTo>
                        <a:pt x="1913" y="878"/>
                      </a:lnTo>
                      <a:lnTo>
                        <a:pt x="1923" y="878"/>
                      </a:lnTo>
                      <a:lnTo>
                        <a:pt x="1933" y="878"/>
                      </a:lnTo>
                      <a:lnTo>
                        <a:pt x="1943" y="878"/>
                      </a:lnTo>
                      <a:lnTo>
                        <a:pt x="1953" y="912"/>
                      </a:lnTo>
                      <a:lnTo>
                        <a:pt x="1943" y="923"/>
                      </a:lnTo>
                      <a:lnTo>
                        <a:pt x="1943" y="935"/>
                      </a:lnTo>
                      <a:lnTo>
                        <a:pt x="1923" y="935"/>
                      </a:lnTo>
                      <a:lnTo>
                        <a:pt x="1923" y="957"/>
                      </a:lnTo>
                      <a:lnTo>
                        <a:pt x="1933" y="957"/>
                      </a:lnTo>
                      <a:lnTo>
                        <a:pt x="1923" y="969"/>
                      </a:lnTo>
                      <a:lnTo>
                        <a:pt x="1923" y="980"/>
                      </a:lnTo>
                      <a:lnTo>
                        <a:pt x="1913" y="992"/>
                      </a:lnTo>
                      <a:lnTo>
                        <a:pt x="1903" y="1003"/>
                      </a:lnTo>
                      <a:lnTo>
                        <a:pt x="1893" y="1003"/>
                      </a:lnTo>
                      <a:lnTo>
                        <a:pt x="1873" y="1014"/>
                      </a:lnTo>
                      <a:lnTo>
                        <a:pt x="1863" y="1026"/>
                      </a:lnTo>
                      <a:lnTo>
                        <a:pt x="1853" y="1037"/>
                      </a:lnTo>
                      <a:lnTo>
                        <a:pt x="1843" y="1037"/>
                      </a:lnTo>
                      <a:lnTo>
                        <a:pt x="1833" y="1037"/>
                      </a:lnTo>
                      <a:lnTo>
                        <a:pt x="1823" y="1049"/>
                      </a:lnTo>
                      <a:lnTo>
                        <a:pt x="1813" y="1049"/>
                      </a:lnTo>
                      <a:lnTo>
                        <a:pt x="1813" y="1060"/>
                      </a:lnTo>
                      <a:lnTo>
                        <a:pt x="1803" y="1071"/>
                      </a:lnTo>
                      <a:lnTo>
                        <a:pt x="1803" y="1060"/>
                      </a:lnTo>
                      <a:lnTo>
                        <a:pt x="1803" y="1049"/>
                      </a:lnTo>
                      <a:lnTo>
                        <a:pt x="1773" y="1049"/>
                      </a:lnTo>
                      <a:lnTo>
                        <a:pt x="1753" y="1060"/>
                      </a:lnTo>
                      <a:lnTo>
                        <a:pt x="1743" y="1083"/>
                      </a:lnTo>
                      <a:lnTo>
                        <a:pt x="1753" y="1117"/>
                      </a:lnTo>
                      <a:lnTo>
                        <a:pt x="1773" y="1140"/>
                      </a:lnTo>
                      <a:lnTo>
                        <a:pt x="1803" y="1174"/>
                      </a:lnTo>
                      <a:lnTo>
                        <a:pt x="1803" y="1197"/>
                      </a:lnTo>
                      <a:lnTo>
                        <a:pt x="1803" y="1231"/>
                      </a:lnTo>
                      <a:lnTo>
                        <a:pt x="1793" y="1254"/>
                      </a:lnTo>
                      <a:lnTo>
                        <a:pt x="1793" y="1265"/>
                      </a:lnTo>
                      <a:lnTo>
                        <a:pt x="1783" y="1277"/>
                      </a:lnTo>
                      <a:lnTo>
                        <a:pt x="1773" y="1277"/>
                      </a:lnTo>
                      <a:lnTo>
                        <a:pt x="1763" y="1277"/>
                      </a:lnTo>
                      <a:lnTo>
                        <a:pt x="1753" y="1288"/>
                      </a:lnTo>
                      <a:lnTo>
                        <a:pt x="1753" y="1299"/>
                      </a:lnTo>
                      <a:lnTo>
                        <a:pt x="1743" y="1288"/>
                      </a:lnTo>
                      <a:lnTo>
                        <a:pt x="1743" y="1277"/>
                      </a:lnTo>
                      <a:lnTo>
                        <a:pt x="1743" y="1265"/>
                      </a:lnTo>
                      <a:lnTo>
                        <a:pt x="1733" y="1254"/>
                      </a:lnTo>
                      <a:lnTo>
                        <a:pt x="1723" y="1242"/>
                      </a:lnTo>
                      <a:lnTo>
                        <a:pt x="1713" y="1242"/>
                      </a:lnTo>
                      <a:lnTo>
                        <a:pt x="1703" y="1231"/>
                      </a:lnTo>
                      <a:lnTo>
                        <a:pt x="1693" y="1231"/>
                      </a:lnTo>
                      <a:lnTo>
                        <a:pt x="1683" y="1220"/>
                      </a:lnTo>
                      <a:lnTo>
                        <a:pt x="1673" y="1208"/>
                      </a:lnTo>
                      <a:lnTo>
                        <a:pt x="1673" y="1242"/>
                      </a:lnTo>
                      <a:lnTo>
                        <a:pt x="1673" y="1265"/>
                      </a:lnTo>
                      <a:lnTo>
                        <a:pt x="1673" y="1299"/>
                      </a:lnTo>
                      <a:lnTo>
                        <a:pt x="1683" y="1334"/>
                      </a:lnTo>
                      <a:lnTo>
                        <a:pt x="1693" y="1334"/>
                      </a:lnTo>
                      <a:lnTo>
                        <a:pt x="1703" y="1345"/>
                      </a:lnTo>
                      <a:lnTo>
                        <a:pt x="1713" y="1345"/>
                      </a:lnTo>
                      <a:lnTo>
                        <a:pt x="1723" y="1368"/>
                      </a:lnTo>
                      <a:lnTo>
                        <a:pt x="1733" y="1368"/>
                      </a:lnTo>
                      <a:lnTo>
                        <a:pt x="1733" y="1379"/>
                      </a:lnTo>
                      <a:lnTo>
                        <a:pt x="1733" y="1391"/>
                      </a:lnTo>
                      <a:lnTo>
                        <a:pt x="1733" y="1413"/>
                      </a:lnTo>
                      <a:lnTo>
                        <a:pt x="1733" y="1425"/>
                      </a:lnTo>
                      <a:lnTo>
                        <a:pt x="1743" y="1436"/>
                      </a:lnTo>
                      <a:lnTo>
                        <a:pt x="1743" y="1448"/>
                      </a:lnTo>
                      <a:lnTo>
                        <a:pt x="1733" y="1448"/>
                      </a:lnTo>
                      <a:lnTo>
                        <a:pt x="1723" y="1436"/>
                      </a:lnTo>
                      <a:lnTo>
                        <a:pt x="1713" y="1425"/>
                      </a:lnTo>
                      <a:lnTo>
                        <a:pt x="1703" y="1413"/>
                      </a:lnTo>
                      <a:lnTo>
                        <a:pt x="1703" y="1402"/>
                      </a:lnTo>
                      <a:lnTo>
                        <a:pt x="1693" y="1379"/>
                      </a:lnTo>
                      <a:lnTo>
                        <a:pt x="1683" y="1345"/>
                      </a:lnTo>
                      <a:lnTo>
                        <a:pt x="1673" y="1322"/>
                      </a:lnTo>
                      <a:lnTo>
                        <a:pt x="1663" y="1322"/>
                      </a:lnTo>
                      <a:lnTo>
                        <a:pt x="1653" y="1311"/>
                      </a:lnTo>
                      <a:lnTo>
                        <a:pt x="1653" y="1299"/>
                      </a:lnTo>
                      <a:lnTo>
                        <a:pt x="1653" y="1277"/>
                      </a:lnTo>
                      <a:lnTo>
                        <a:pt x="1653" y="1265"/>
                      </a:lnTo>
                      <a:lnTo>
                        <a:pt x="1653" y="1242"/>
                      </a:lnTo>
                      <a:lnTo>
                        <a:pt x="1643" y="1220"/>
                      </a:lnTo>
                      <a:lnTo>
                        <a:pt x="1643" y="1197"/>
                      </a:lnTo>
                      <a:lnTo>
                        <a:pt x="1643" y="1208"/>
                      </a:lnTo>
                      <a:lnTo>
                        <a:pt x="1633" y="1174"/>
                      </a:lnTo>
                      <a:lnTo>
                        <a:pt x="1623" y="1151"/>
                      </a:lnTo>
                      <a:lnTo>
                        <a:pt x="1613" y="1128"/>
                      </a:lnTo>
                      <a:lnTo>
                        <a:pt x="1603" y="1128"/>
                      </a:lnTo>
                      <a:lnTo>
                        <a:pt x="1603" y="1140"/>
                      </a:lnTo>
                      <a:lnTo>
                        <a:pt x="1603" y="1151"/>
                      </a:lnTo>
                      <a:lnTo>
                        <a:pt x="1593" y="1163"/>
                      </a:lnTo>
                      <a:lnTo>
                        <a:pt x="1582" y="1163"/>
                      </a:lnTo>
                      <a:lnTo>
                        <a:pt x="1572" y="1151"/>
                      </a:lnTo>
                      <a:lnTo>
                        <a:pt x="1582" y="1140"/>
                      </a:lnTo>
                      <a:lnTo>
                        <a:pt x="1582" y="1128"/>
                      </a:lnTo>
                      <a:lnTo>
                        <a:pt x="1562" y="1106"/>
                      </a:lnTo>
                      <a:lnTo>
                        <a:pt x="1542" y="1071"/>
                      </a:lnTo>
                      <a:lnTo>
                        <a:pt x="1532" y="1049"/>
                      </a:lnTo>
                      <a:lnTo>
                        <a:pt x="1532" y="1037"/>
                      </a:lnTo>
                      <a:lnTo>
                        <a:pt x="1522" y="1026"/>
                      </a:lnTo>
                      <a:lnTo>
                        <a:pt x="1522" y="1014"/>
                      </a:lnTo>
                      <a:lnTo>
                        <a:pt x="1512" y="1014"/>
                      </a:lnTo>
                      <a:lnTo>
                        <a:pt x="1502" y="1014"/>
                      </a:lnTo>
                      <a:lnTo>
                        <a:pt x="1492" y="1003"/>
                      </a:lnTo>
                      <a:lnTo>
                        <a:pt x="1482" y="992"/>
                      </a:lnTo>
                      <a:lnTo>
                        <a:pt x="1482" y="1003"/>
                      </a:lnTo>
                      <a:lnTo>
                        <a:pt x="1492" y="1014"/>
                      </a:lnTo>
                      <a:lnTo>
                        <a:pt x="1502" y="1014"/>
                      </a:lnTo>
                      <a:lnTo>
                        <a:pt x="1502" y="1026"/>
                      </a:lnTo>
                      <a:lnTo>
                        <a:pt x="1502" y="1037"/>
                      </a:lnTo>
                      <a:lnTo>
                        <a:pt x="1492" y="1037"/>
                      </a:lnTo>
                      <a:lnTo>
                        <a:pt x="1482" y="1037"/>
                      </a:lnTo>
                      <a:lnTo>
                        <a:pt x="1472" y="1049"/>
                      </a:lnTo>
                      <a:lnTo>
                        <a:pt x="1462" y="1060"/>
                      </a:lnTo>
                      <a:lnTo>
                        <a:pt x="1452" y="1071"/>
                      </a:lnTo>
                      <a:lnTo>
                        <a:pt x="1442" y="1083"/>
                      </a:lnTo>
                      <a:lnTo>
                        <a:pt x="1432" y="1083"/>
                      </a:lnTo>
                      <a:lnTo>
                        <a:pt x="1432" y="1094"/>
                      </a:lnTo>
                      <a:lnTo>
                        <a:pt x="1422" y="1106"/>
                      </a:lnTo>
                      <a:lnTo>
                        <a:pt x="1402" y="1128"/>
                      </a:lnTo>
                      <a:lnTo>
                        <a:pt x="1382" y="1140"/>
                      </a:lnTo>
                      <a:lnTo>
                        <a:pt x="1362" y="1163"/>
                      </a:lnTo>
                      <a:lnTo>
                        <a:pt x="1362" y="1174"/>
                      </a:lnTo>
                      <a:lnTo>
                        <a:pt x="1362" y="1185"/>
                      </a:lnTo>
                      <a:lnTo>
                        <a:pt x="1352" y="1220"/>
                      </a:lnTo>
                      <a:lnTo>
                        <a:pt x="1342" y="1254"/>
                      </a:lnTo>
                      <a:lnTo>
                        <a:pt x="1332" y="1277"/>
                      </a:lnTo>
                      <a:lnTo>
                        <a:pt x="1322" y="1299"/>
                      </a:lnTo>
                      <a:lnTo>
                        <a:pt x="1312" y="1299"/>
                      </a:lnTo>
                      <a:lnTo>
                        <a:pt x="1312" y="1288"/>
                      </a:lnTo>
                      <a:lnTo>
                        <a:pt x="1312" y="1277"/>
                      </a:lnTo>
                      <a:lnTo>
                        <a:pt x="1302" y="1265"/>
                      </a:lnTo>
                      <a:lnTo>
                        <a:pt x="1302" y="1242"/>
                      </a:lnTo>
                      <a:lnTo>
                        <a:pt x="1292" y="1231"/>
                      </a:lnTo>
                      <a:lnTo>
                        <a:pt x="1282" y="1220"/>
                      </a:lnTo>
                      <a:lnTo>
                        <a:pt x="1292" y="1220"/>
                      </a:lnTo>
                      <a:lnTo>
                        <a:pt x="1282" y="1208"/>
                      </a:lnTo>
                      <a:lnTo>
                        <a:pt x="1282" y="1185"/>
                      </a:lnTo>
                      <a:lnTo>
                        <a:pt x="1272" y="1185"/>
                      </a:lnTo>
                      <a:lnTo>
                        <a:pt x="1272" y="1174"/>
                      </a:lnTo>
                      <a:lnTo>
                        <a:pt x="1262" y="1163"/>
                      </a:lnTo>
                      <a:lnTo>
                        <a:pt x="1262" y="1151"/>
                      </a:lnTo>
                      <a:lnTo>
                        <a:pt x="1262" y="1140"/>
                      </a:lnTo>
                      <a:lnTo>
                        <a:pt x="1252" y="1117"/>
                      </a:lnTo>
                      <a:lnTo>
                        <a:pt x="1242" y="1071"/>
                      </a:lnTo>
                      <a:lnTo>
                        <a:pt x="1232" y="1049"/>
                      </a:lnTo>
                      <a:lnTo>
                        <a:pt x="1222" y="1049"/>
                      </a:lnTo>
                      <a:lnTo>
                        <a:pt x="1222" y="1060"/>
                      </a:lnTo>
                      <a:lnTo>
                        <a:pt x="1212" y="1060"/>
                      </a:lnTo>
                      <a:lnTo>
                        <a:pt x="1202" y="1060"/>
                      </a:lnTo>
                      <a:lnTo>
                        <a:pt x="1192" y="1049"/>
                      </a:lnTo>
                      <a:lnTo>
                        <a:pt x="1182" y="1026"/>
                      </a:lnTo>
                      <a:lnTo>
                        <a:pt x="1192" y="1026"/>
                      </a:lnTo>
                      <a:lnTo>
                        <a:pt x="1202" y="1026"/>
                      </a:lnTo>
                      <a:lnTo>
                        <a:pt x="1202" y="1014"/>
                      </a:lnTo>
                      <a:lnTo>
                        <a:pt x="1192" y="1003"/>
                      </a:lnTo>
                      <a:lnTo>
                        <a:pt x="1182" y="1003"/>
                      </a:lnTo>
                      <a:lnTo>
                        <a:pt x="1172" y="1003"/>
                      </a:lnTo>
                      <a:lnTo>
                        <a:pt x="1162" y="992"/>
                      </a:lnTo>
                      <a:lnTo>
                        <a:pt x="1152" y="980"/>
                      </a:lnTo>
                      <a:lnTo>
                        <a:pt x="1142" y="980"/>
                      </a:lnTo>
                      <a:lnTo>
                        <a:pt x="1142" y="969"/>
                      </a:lnTo>
                      <a:lnTo>
                        <a:pt x="1132" y="969"/>
                      </a:lnTo>
                      <a:lnTo>
                        <a:pt x="1112" y="957"/>
                      </a:lnTo>
                      <a:lnTo>
                        <a:pt x="1082" y="957"/>
                      </a:lnTo>
                      <a:lnTo>
                        <a:pt x="1052" y="957"/>
                      </a:lnTo>
                      <a:lnTo>
                        <a:pt x="1022" y="946"/>
                      </a:lnTo>
                      <a:lnTo>
                        <a:pt x="991" y="946"/>
                      </a:lnTo>
                      <a:lnTo>
                        <a:pt x="991" y="935"/>
                      </a:lnTo>
                      <a:lnTo>
                        <a:pt x="971" y="935"/>
                      </a:lnTo>
                      <a:lnTo>
                        <a:pt x="961" y="946"/>
                      </a:lnTo>
                      <a:lnTo>
                        <a:pt x="941" y="946"/>
                      </a:lnTo>
                      <a:lnTo>
                        <a:pt x="941" y="935"/>
                      </a:lnTo>
                      <a:lnTo>
                        <a:pt x="931" y="935"/>
                      </a:lnTo>
                      <a:lnTo>
                        <a:pt x="921" y="923"/>
                      </a:lnTo>
                      <a:lnTo>
                        <a:pt x="911" y="923"/>
                      </a:lnTo>
                      <a:lnTo>
                        <a:pt x="911" y="912"/>
                      </a:lnTo>
                      <a:lnTo>
                        <a:pt x="901" y="900"/>
                      </a:lnTo>
                      <a:lnTo>
                        <a:pt x="891" y="889"/>
                      </a:lnTo>
                      <a:lnTo>
                        <a:pt x="881" y="878"/>
                      </a:lnTo>
                      <a:lnTo>
                        <a:pt x="871" y="878"/>
                      </a:lnTo>
                      <a:lnTo>
                        <a:pt x="861" y="878"/>
                      </a:lnTo>
                      <a:lnTo>
                        <a:pt x="861" y="900"/>
                      </a:lnTo>
                      <a:lnTo>
                        <a:pt x="881" y="935"/>
                      </a:lnTo>
                      <a:lnTo>
                        <a:pt x="891" y="946"/>
                      </a:lnTo>
                      <a:lnTo>
                        <a:pt x="901" y="957"/>
                      </a:lnTo>
                      <a:lnTo>
                        <a:pt x="901" y="969"/>
                      </a:lnTo>
                      <a:lnTo>
                        <a:pt x="901" y="980"/>
                      </a:lnTo>
                      <a:lnTo>
                        <a:pt x="911" y="980"/>
                      </a:lnTo>
                      <a:lnTo>
                        <a:pt x="911" y="969"/>
                      </a:lnTo>
                      <a:lnTo>
                        <a:pt x="911" y="957"/>
                      </a:lnTo>
                      <a:lnTo>
                        <a:pt x="931" y="946"/>
                      </a:lnTo>
                      <a:lnTo>
                        <a:pt x="961" y="946"/>
                      </a:lnTo>
                      <a:lnTo>
                        <a:pt x="981" y="946"/>
                      </a:lnTo>
                      <a:lnTo>
                        <a:pt x="991" y="957"/>
                      </a:lnTo>
                      <a:lnTo>
                        <a:pt x="991" y="969"/>
                      </a:lnTo>
                      <a:lnTo>
                        <a:pt x="991" y="992"/>
                      </a:lnTo>
                      <a:lnTo>
                        <a:pt x="1001" y="992"/>
                      </a:lnTo>
                      <a:lnTo>
                        <a:pt x="1001" y="1003"/>
                      </a:lnTo>
                      <a:lnTo>
                        <a:pt x="1022" y="1003"/>
                      </a:lnTo>
                      <a:lnTo>
                        <a:pt x="1032" y="1014"/>
                      </a:lnTo>
                      <a:lnTo>
                        <a:pt x="1042" y="1037"/>
                      </a:lnTo>
                      <a:lnTo>
                        <a:pt x="1042" y="1049"/>
                      </a:lnTo>
                      <a:lnTo>
                        <a:pt x="1032" y="1060"/>
                      </a:lnTo>
                      <a:lnTo>
                        <a:pt x="1032" y="1071"/>
                      </a:lnTo>
                      <a:lnTo>
                        <a:pt x="1022" y="1083"/>
                      </a:lnTo>
                      <a:lnTo>
                        <a:pt x="1022" y="1094"/>
                      </a:lnTo>
                      <a:lnTo>
                        <a:pt x="1012" y="1094"/>
                      </a:lnTo>
                      <a:lnTo>
                        <a:pt x="1001" y="1106"/>
                      </a:lnTo>
                      <a:lnTo>
                        <a:pt x="991" y="1117"/>
                      </a:lnTo>
                      <a:lnTo>
                        <a:pt x="981" y="1117"/>
                      </a:lnTo>
                      <a:lnTo>
                        <a:pt x="971" y="1128"/>
                      </a:lnTo>
                      <a:lnTo>
                        <a:pt x="951" y="1140"/>
                      </a:lnTo>
                      <a:lnTo>
                        <a:pt x="941" y="1151"/>
                      </a:lnTo>
                      <a:lnTo>
                        <a:pt x="931" y="1151"/>
                      </a:lnTo>
                      <a:lnTo>
                        <a:pt x="931" y="1163"/>
                      </a:lnTo>
                      <a:lnTo>
                        <a:pt x="931" y="1174"/>
                      </a:lnTo>
                      <a:lnTo>
                        <a:pt x="921" y="1174"/>
                      </a:lnTo>
                      <a:lnTo>
                        <a:pt x="911" y="1174"/>
                      </a:lnTo>
                      <a:lnTo>
                        <a:pt x="901" y="1185"/>
                      </a:lnTo>
                      <a:lnTo>
                        <a:pt x="891" y="1185"/>
                      </a:lnTo>
                      <a:lnTo>
                        <a:pt x="891" y="1197"/>
                      </a:lnTo>
                      <a:lnTo>
                        <a:pt x="881" y="1197"/>
                      </a:lnTo>
                      <a:lnTo>
                        <a:pt x="871" y="1197"/>
                      </a:lnTo>
                      <a:lnTo>
                        <a:pt x="861" y="1208"/>
                      </a:lnTo>
                      <a:lnTo>
                        <a:pt x="841" y="1208"/>
                      </a:lnTo>
                      <a:lnTo>
                        <a:pt x="831" y="1220"/>
                      </a:lnTo>
                      <a:lnTo>
                        <a:pt x="811" y="1220"/>
                      </a:lnTo>
                      <a:lnTo>
                        <a:pt x="801" y="1208"/>
                      </a:lnTo>
                      <a:lnTo>
                        <a:pt x="801" y="1185"/>
                      </a:lnTo>
                      <a:lnTo>
                        <a:pt x="801" y="1151"/>
                      </a:lnTo>
                      <a:lnTo>
                        <a:pt x="791" y="1128"/>
                      </a:lnTo>
                      <a:lnTo>
                        <a:pt x="781" y="1117"/>
                      </a:lnTo>
                      <a:lnTo>
                        <a:pt x="771" y="1106"/>
                      </a:lnTo>
                      <a:lnTo>
                        <a:pt x="771" y="1094"/>
                      </a:lnTo>
                      <a:lnTo>
                        <a:pt x="761" y="1083"/>
                      </a:lnTo>
                      <a:lnTo>
                        <a:pt x="751" y="1071"/>
                      </a:lnTo>
                      <a:lnTo>
                        <a:pt x="741" y="1060"/>
                      </a:lnTo>
                      <a:lnTo>
                        <a:pt x="741" y="1049"/>
                      </a:lnTo>
                      <a:lnTo>
                        <a:pt x="731" y="1049"/>
                      </a:lnTo>
                      <a:lnTo>
                        <a:pt x="731" y="1037"/>
                      </a:lnTo>
                      <a:lnTo>
                        <a:pt x="721" y="1026"/>
                      </a:lnTo>
                      <a:lnTo>
                        <a:pt x="711" y="1003"/>
                      </a:lnTo>
                      <a:lnTo>
                        <a:pt x="711" y="992"/>
                      </a:lnTo>
                      <a:lnTo>
                        <a:pt x="701" y="980"/>
                      </a:lnTo>
                      <a:lnTo>
                        <a:pt x="701" y="969"/>
                      </a:lnTo>
                      <a:lnTo>
                        <a:pt x="691" y="957"/>
                      </a:lnTo>
                      <a:lnTo>
                        <a:pt x="681" y="935"/>
                      </a:lnTo>
                      <a:lnTo>
                        <a:pt x="671" y="912"/>
                      </a:lnTo>
                      <a:lnTo>
                        <a:pt x="661" y="912"/>
                      </a:lnTo>
                      <a:lnTo>
                        <a:pt x="661" y="923"/>
                      </a:lnTo>
                      <a:lnTo>
                        <a:pt x="651" y="923"/>
                      </a:lnTo>
                      <a:lnTo>
                        <a:pt x="641" y="912"/>
                      </a:lnTo>
                      <a:lnTo>
                        <a:pt x="631" y="900"/>
                      </a:lnTo>
                      <a:lnTo>
                        <a:pt x="621" y="889"/>
                      </a:lnTo>
                      <a:lnTo>
                        <a:pt x="621" y="878"/>
                      </a:lnTo>
                      <a:lnTo>
                        <a:pt x="611" y="855"/>
                      </a:lnTo>
                      <a:lnTo>
                        <a:pt x="611" y="843"/>
                      </a:lnTo>
                      <a:lnTo>
                        <a:pt x="621" y="832"/>
                      </a:lnTo>
                      <a:lnTo>
                        <a:pt x="641" y="832"/>
                      </a:lnTo>
                      <a:lnTo>
                        <a:pt x="661" y="821"/>
                      </a:lnTo>
                      <a:lnTo>
                        <a:pt x="671" y="798"/>
                      </a:lnTo>
                      <a:lnTo>
                        <a:pt x="661" y="764"/>
                      </a:lnTo>
                      <a:lnTo>
                        <a:pt x="651" y="752"/>
                      </a:lnTo>
                      <a:lnTo>
                        <a:pt x="641" y="752"/>
                      </a:lnTo>
                      <a:lnTo>
                        <a:pt x="631" y="752"/>
                      </a:lnTo>
                      <a:lnTo>
                        <a:pt x="621" y="764"/>
                      </a:lnTo>
                      <a:lnTo>
                        <a:pt x="611" y="752"/>
                      </a:lnTo>
                      <a:lnTo>
                        <a:pt x="601" y="752"/>
                      </a:lnTo>
                      <a:lnTo>
                        <a:pt x="591" y="729"/>
                      </a:lnTo>
                      <a:lnTo>
                        <a:pt x="591" y="752"/>
                      </a:lnTo>
                      <a:lnTo>
                        <a:pt x="581" y="752"/>
                      </a:lnTo>
                      <a:lnTo>
                        <a:pt x="571" y="764"/>
                      </a:lnTo>
                      <a:lnTo>
                        <a:pt x="561" y="752"/>
                      </a:lnTo>
                      <a:lnTo>
                        <a:pt x="551" y="752"/>
                      </a:lnTo>
                      <a:lnTo>
                        <a:pt x="541" y="752"/>
                      </a:lnTo>
                      <a:lnTo>
                        <a:pt x="541" y="729"/>
                      </a:lnTo>
                      <a:lnTo>
                        <a:pt x="551" y="729"/>
                      </a:lnTo>
                      <a:lnTo>
                        <a:pt x="541" y="718"/>
                      </a:lnTo>
                      <a:lnTo>
                        <a:pt x="531" y="718"/>
                      </a:lnTo>
                      <a:lnTo>
                        <a:pt x="521" y="707"/>
                      </a:lnTo>
                      <a:lnTo>
                        <a:pt x="531" y="707"/>
                      </a:lnTo>
                      <a:lnTo>
                        <a:pt x="531" y="695"/>
                      </a:lnTo>
                      <a:lnTo>
                        <a:pt x="521" y="684"/>
                      </a:lnTo>
                      <a:lnTo>
                        <a:pt x="521" y="672"/>
                      </a:lnTo>
                      <a:lnTo>
                        <a:pt x="521" y="661"/>
                      </a:lnTo>
                      <a:lnTo>
                        <a:pt x="541" y="650"/>
                      </a:lnTo>
                      <a:lnTo>
                        <a:pt x="561" y="650"/>
                      </a:lnTo>
                      <a:lnTo>
                        <a:pt x="571" y="650"/>
                      </a:lnTo>
                      <a:lnTo>
                        <a:pt x="581" y="650"/>
                      </a:lnTo>
                      <a:lnTo>
                        <a:pt x="591" y="650"/>
                      </a:lnTo>
                      <a:lnTo>
                        <a:pt x="621" y="638"/>
                      </a:lnTo>
                      <a:lnTo>
                        <a:pt x="661" y="638"/>
                      </a:lnTo>
                      <a:lnTo>
                        <a:pt x="691" y="650"/>
                      </a:lnTo>
                      <a:lnTo>
                        <a:pt x="701" y="650"/>
                      </a:lnTo>
                      <a:lnTo>
                        <a:pt x="711" y="650"/>
                      </a:lnTo>
                      <a:lnTo>
                        <a:pt x="721" y="650"/>
                      </a:lnTo>
                      <a:lnTo>
                        <a:pt x="731" y="638"/>
                      </a:lnTo>
                      <a:lnTo>
                        <a:pt x="721" y="627"/>
                      </a:lnTo>
                      <a:lnTo>
                        <a:pt x="701" y="604"/>
                      </a:lnTo>
                      <a:lnTo>
                        <a:pt x="681" y="593"/>
                      </a:lnTo>
                      <a:lnTo>
                        <a:pt x="671" y="581"/>
                      </a:lnTo>
                      <a:lnTo>
                        <a:pt x="661" y="581"/>
                      </a:lnTo>
                      <a:lnTo>
                        <a:pt x="651" y="570"/>
                      </a:lnTo>
                      <a:lnTo>
                        <a:pt x="651" y="558"/>
                      </a:lnTo>
                      <a:lnTo>
                        <a:pt x="661" y="558"/>
                      </a:lnTo>
                      <a:lnTo>
                        <a:pt x="671" y="558"/>
                      </a:lnTo>
                      <a:lnTo>
                        <a:pt x="671" y="547"/>
                      </a:lnTo>
                      <a:lnTo>
                        <a:pt x="661" y="547"/>
                      </a:lnTo>
                      <a:lnTo>
                        <a:pt x="661" y="536"/>
                      </a:lnTo>
                      <a:lnTo>
                        <a:pt x="671" y="536"/>
                      </a:lnTo>
                      <a:lnTo>
                        <a:pt x="681" y="536"/>
                      </a:lnTo>
                      <a:lnTo>
                        <a:pt x="681" y="524"/>
                      </a:lnTo>
                      <a:lnTo>
                        <a:pt x="671" y="536"/>
                      </a:lnTo>
                      <a:lnTo>
                        <a:pt x="651" y="536"/>
                      </a:lnTo>
                      <a:lnTo>
                        <a:pt x="631" y="536"/>
                      </a:lnTo>
                      <a:lnTo>
                        <a:pt x="621" y="547"/>
                      </a:lnTo>
                      <a:lnTo>
                        <a:pt x="631" y="558"/>
                      </a:lnTo>
                      <a:lnTo>
                        <a:pt x="641" y="558"/>
                      </a:lnTo>
                      <a:lnTo>
                        <a:pt x="651" y="570"/>
                      </a:lnTo>
                      <a:lnTo>
                        <a:pt x="631" y="581"/>
                      </a:lnTo>
                      <a:lnTo>
                        <a:pt x="611" y="581"/>
                      </a:lnTo>
                      <a:lnTo>
                        <a:pt x="591" y="570"/>
                      </a:lnTo>
                      <a:lnTo>
                        <a:pt x="601" y="558"/>
                      </a:lnTo>
                      <a:lnTo>
                        <a:pt x="611" y="558"/>
                      </a:lnTo>
                      <a:lnTo>
                        <a:pt x="591" y="547"/>
                      </a:lnTo>
                      <a:lnTo>
                        <a:pt x="581" y="547"/>
                      </a:lnTo>
                      <a:lnTo>
                        <a:pt x="581" y="524"/>
                      </a:lnTo>
                      <a:lnTo>
                        <a:pt x="581" y="536"/>
                      </a:lnTo>
                      <a:lnTo>
                        <a:pt x="571" y="558"/>
                      </a:lnTo>
                      <a:lnTo>
                        <a:pt x="561" y="558"/>
                      </a:lnTo>
                      <a:lnTo>
                        <a:pt x="551" y="570"/>
                      </a:lnTo>
                      <a:lnTo>
                        <a:pt x="551" y="593"/>
                      </a:lnTo>
                      <a:lnTo>
                        <a:pt x="541" y="627"/>
                      </a:lnTo>
                      <a:lnTo>
                        <a:pt x="531" y="650"/>
                      </a:lnTo>
                      <a:lnTo>
                        <a:pt x="511" y="672"/>
                      </a:lnTo>
                      <a:lnTo>
                        <a:pt x="491" y="672"/>
                      </a:lnTo>
                      <a:lnTo>
                        <a:pt x="471" y="695"/>
                      </a:lnTo>
                      <a:lnTo>
                        <a:pt x="481" y="695"/>
                      </a:lnTo>
                      <a:lnTo>
                        <a:pt x="491" y="707"/>
                      </a:lnTo>
                      <a:lnTo>
                        <a:pt x="481" y="718"/>
                      </a:lnTo>
                      <a:lnTo>
                        <a:pt x="471" y="718"/>
                      </a:lnTo>
                      <a:lnTo>
                        <a:pt x="471" y="729"/>
                      </a:lnTo>
                      <a:lnTo>
                        <a:pt x="481" y="729"/>
                      </a:lnTo>
                      <a:lnTo>
                        <a:pt x="481" y="752"/>
                      </a:lnTo>
                      <a:lnTo>
                        <a:pt x="471" y="729"/>
                      </a:lnTo>
                      <a:lnTo>
                        <a:pt x="461" y="729"/>
                      </a:lnTo>
                      <a:lnTo>
                        <a:pt x="451" y="718"/>
                      </a:lnTo>
                      <a:lnTo>
                        <a:pt x="451" y="707"/>
                      </a:lnTo>
                      <a:lnTo>
                        <a:pt x="461" y="707"/>
                      </a:lnTo>
                      <a:lnTo>
                        <a:pt x="451" y="695"/>
                      </a:lnTo>
                      <a:lnTo>
                        <a:pt x="441" y="684"/>
                      </a:lnTo>
                      <a:lnTo>
                        <a:pt x="430" y="672"/>
                      </a:lnTo>
                      <a:lnTo>
                        <a:pt x="420" y="661"/>
                      </a:lnTo>
                      <a:lnTo>
                        <a:pt x="420" y="638"/>
                      </a:lnTo>
                      <a:lnTo>
                        <a:pt x="410" y="627"/>
                      </a:lnTo>
                      <a:lnTo>
                        <a:pt x="400" y="615"/>
                      </a:lnTo>
                      <a:lnTo>
                        <a:pt x="390" y="615"/>
                      </a:lnTo>
                      <a:lnTo>
                        <a:pt x="380" y="615"/>
                      </a:lnTo>
                      <a:lnTo>
                        <a:pt x="380" y="604"/>
                      </a:lnTo>
                      <a:lnTo>
                        <a:pt x="370" y="604"/>
                      </a:lnTo>
                      <a:lnTo>
                        <a:pt x="350" y="581"/>
                      </a:lnTo>
                      <a:lnTo>
                        <a:pt x="340" y="558"/>
                      </a:lnTo>
                      <a:lnTo>
                        <a:pt x="330" y="558"/>
                      </a:lnTo>
                      <a:lnTo>
                        <a:pt x="320" y="581"/>
                      </a:lnTo>
                      <a:lnTo>
                        <a:pt x="320" y="593"/>
                      </a:lnTo>
                      <a:lnTo>
                        <a:pt x="340" y="604"/>
                      </a:lnTo>
                      <a:lnTo>
                        <a:pt x="340" y="615"/>
                      </a:lnTo>
                      <a:lnTo>
                        <a:pt x="340" y="627"/>
                      </a:lnTo>
                      <a:lnTo>
                        <a:pt x="350" y="627"/>
                      </a:lnTo>
                      <a:lnTo>
                        <a:pt x="360" y="627"/>
                      </a:lnTo>
                      <a:lnTo>
                        <a:pt x="370" y="627"/>
                      </a:lnTo>
                      <a:lnTo>
                        <a:pt x="370" y="638"/>
                      </a:lnTo>
                      <a:lnTo>
                        <a:pt x="380" y="638"/>
                      </a:lnTo>
                      <a:lnTo>
                        <a:pt x="390" y="650"/>
                      </a:lnTo>
                      <a:lnTo>
                        <a:pt x="400" y="661"/>
                      </a:lnTo>
                      <a:lnTo>
                        <a:pt x="410" y="672"/>
                      </a:lnTo>
                      <a:lnTo>
                        <a:pt x="410" y="684"/>
                      </a:lnTo>
                      <a:lnTo>
                        <a:pt x="400" y="707"/>
                      </a:lnTo>
                      <a:lnTo>
                        <a:pt x="380" y="707"/>
                      </a:lnTo>
                      <a:lnTo>
                        <a:pt x="370" y="707"/>
                      </a:lnTo>
                      <a:lnTo>
                        <a:pt x="370" y="684"/>
                      </a:lnTo>
                      <a:lnTo>
                        <a:pt x="370" y="672"/>
                      </a:lnTo>
                      <a:lnTo>
                        <a:pt x="360" y="661"/>
                      </a:lnTo>
                      <a:lnTo>
                        <a:pt x="350" y="650"/>
                      </a:lnTo>
                      <a:lnTo>
                        <a:pt x="340" y="650"/>
                      </a:lnTo>
                      <a:lnTo>
                        <a:pt x="330" y="650"/>
                      </a:lnTo>
                      <a:lnTo>
                        <a:pt x="320" y="638"/>
                      </a:lnTo>
                      <a:lnTo>
                        <a:pt x="310" y="627"/>
                      </a:lnTo>
                      <a:lnTo>
                        <a:pt x="300" y="627"/>
                      </a:lnTo>
                      <a:lnTo>
                        <a:pt x="300" y="615"/>
                      </a:lnTo>
                      <a:lnTo>
                        <a:pt x="290" y="604"/>
                      </a:lnTo>
                      <a:lnTo>
                        <a:pt x="290" y="593"/>
                      </a:lnTo>
                      <a:lnTo>
                        <a:pt x="260" y="581"/>
                      </a:lnTo>
                      <a:lnTo>
                        <a:pt x="240" y="593"/>
                      </a:lnTo>
                      <a:lnTo>
                        <a:pt x="240" y="604"/>
                      </a:lnTo>
                      <a:lnTo>
                        <a:pt x="220" y="615"/>
                      </a:lnTo>
                      <a:lnTo>
                        <a:pt x="210" y="604"/>
                      </a:lnTo>
                      <a:lnTo>
                        <a:pt x="200" y="604"/>
                      </a:lnTo>
                      <a:lnTo>
                        <a:pt x="190" y="604"/>
                      </a:lnTo>
                      <a:lnTo>
                        <a:pt x="180" y="615"/>
                      </a:lnTo>
                      <a:lnTo>
                        <a:pt x="180" y="627"/>
                      </a:lnTo>
                      <a:lnTo>
                        <a:pt x="180" y="638"/>
                      </a:lnTo>
                      <a:lnTo>
                        <a:pt x="170" y="638"/>
                      </a:lnTo>
                      <a:lnTo>
                        <a:pt x="170" y="650"/>
                      </a:lnTo>
                      <a:lnTo>
                        <a:pt x="160" y="650"/>
                      </a:lnTo>
                      <a:lnTo>
                        <a:pt x="150" y="661"/>
                      </a:lnTo>
                      <a:lnTo>
                        <a:pt x="140" y="672"/>
                      </a:lnTo>
                      <a:lnTo>
                        <a:pt x="140" y="684"/>
                      </a:lnTo>
                      <a:lnTo>
                        <a:pt x="140" y="695"/>
                      </a:lnTo>
                      <a:lnTo>
                        <a:pt x="130" y="707"/>
                      </a:lnTo>
                      <a:lnTo>
                        <a:pt x="120" y="718"/>
                      </a:lnTo>
                      <a:lnTo>
                        <a:pt x="110" y="729"/>
                      </a:lnTo>
                      <a:lnTo>
                        <a:pt x="100" y="752"/>
                      </a:lnTo>
                      <a:lnTo>
                        <a:pt x="90" y="729"/>
                      </a:lnTo>
                      <a:lnTo>
                        <a:pt x="70" y="729"/>
                      </a:lnTo>
                      <a:lnTo>
                        <a:pt x="70" y="752"/>
                      </a:lnTo>
                      <a:lnTo>
                        <a:pt x="60" y="752"/>
                      </a:lnTo>
                      <a:lnTo>
                        <a:pt x="40" y="764"/>
                      </a:lnTo>
                      <a:lnTo>
                        <a:pt x="30" y="752"/>
                      </a:lnTo>
                      <a:lnTo>
                        <a:pt x="10" y="729"/>
                      </a:lnTo>
                      <a:lnTo>
                        <a:pt x="0" y="718"/>
                      </a:lnTo>
                      <a:lnTo>
                        <a:pt x="0" y="707"/>
                      </a:lnTo>
                      <a:lnTo>
                        <a:pt x="0" y="695"/>
                      </a:lnTo>
                      <a:lnTo>
                        <a:pt x="10" y="684"/>
                      </a:lnTo>
                      <a:lnTo>
                        <a:pt x="10" y="672"/>
                      </a:lnTo>
                      <a:lnTo>
                        <a:pt x="20" y="661"/>
                      </a:lnTo>
                      <a:lnTo>
                        <a:pt x="20" y="638"/>
                      </a:lnTo>
                      <a:lnTo>
                        <a:pt x="10" y="615"/>
                      </a:lnTo>
                      <a:lnTo>
                        <a:pt x="30" y="593"/>
                      </a:lnTo>
                      <a:lnTo>
                        <a:pt x="40" y="604"/>
                      </a:lnTo>
                      <a:lnTo>
                        <a:pt x="70" y="604"/>
                      </a:lnTo>
                      <a:lnTo>
                        <a:pt x="100" y="593"/>
                      </a:lnTo>
                      <a:lnTo>
                        <a:pt x="120" y="581"/>
                      </a:lnTo>
                      <a:lnTo>
                        <a:pt x="130" y="558"/>
                      </a:lnTo>
                      <a:lnTo>
                        <a:pt x="120" y="547"/>
                      </a:lnTo>
                      <a:lnTo>
                        <a:pt x="100" y="524"/>
                      </a:lnTo>
                      <a:lnTo>
                        <a:pt x="80" y="513"/>
                      </a:lnTo>
                      <a:lnTo>
                        <a:pt x="70" y="501"/>
                      </a:lnTo>
                      <a:lnTo>
                        <a:pt x="80" y="501"/>
                      </a:lnTo>
                      <a:lnTo>
                        <a:pt x="90" y="501"/>
                      </a:lnTo>
                      <a:lnTo>
                        <a:pt x="100" y="490"/>
                      </a:lnTo>
                      <a:lnTo>
                        <a:pt x="110" y="490"/>
                      </a:lnTo>
                      <a:lnTo>
                        <a:pt x="110" y="479"/>
                      </a:lnTo>
                      <a:lnTo>
                        <a:pt x="120" y="479"/>
                      </a:lnTo>
                      <a:lnTo>
                        <a:pt x="130" y="490"/>
                      </a:lnTo>
                      <a:lnTo>
                        <a:pt x="140" y="490"/>
                      </a:lnTo>
                      <a:lnTo>
                        <a:pt x="150" y="479"/>
                      </a:lnTo>
                      <a:lnTo>
                        <a:pt x="160" y="467"/>
                      </a:lnTo>
                      <a:lnTo>
                        <a:pt x="170" y="456"/>
                      </a:lnTo>
                      <a:lnTo>
                        <a:pt x="180" y="456"/>
                      </a:lnTo>
                      <a:lnTo>
                        <a:pt x="190" y="444"/>
                      </a:lnTo>
                      <a:lnTo>
                        <a:pt x="190" y="433"/>
                      </a:lnTo>
                      <a:lnTo>
                        <a:pt x="200" y="422"/>
                      </a:lnTo>
                      <a:lnTo>
                        <a:pt x="210" y="422"/>
                      </a:lnTo>
                      <a:lnTo>
                        <a:pt x="220" y="422"/>
                      </a:lnTo>
                      <a:lnTo>
                        <a:pt x="230" y="410"/>
                      </a:lnTo>
                      <a:lnTo>
                        <a:pt x="260" y="399"/>
                      </a:lnTo>
                      <a:lnTo>
                        <a:pt x="260" y="387"/>
                      </a:lnTo>
                      <a:lnTo>
                        <a:pt x="240" y="376"/>
                      </a:lnTo>
                      <a:lnTo>
                        <a:pt x="240" y="365"/>
                      </a:lnTo>
                      <a:lnTo>
                        <a:pt x="240" y="353"/>
                      </a:lnTo>
                      <a:lnTo>
                        <a:pt x="260" y="353"/>
                      </a:lnTo>
                      <a:lnTo>
                        <a:pt x="260" y="342"/>
                      </a:lnTo>
                      <a:lnTo>
                        <a:pt x="270" y="342"/>
                      </a:lnTo>
                      <a:lnTo>
                        <a:pt x="280" y="330"/>
                      </a:lnTo>
                      <a:lnTo>
                        <a:pt x="280" y="342"/>
                      </a:lnTo>
                      <a:lnTo>
                        <a:pt x="270" y="342"/>
                      </a:lnTo>
                      <a:lnTo>
                        <a:pt x="270" y="365"/>
                      </a:lnTo>
                      <a:lnTo>
                        <a:pt x="270" y="387"/>
                      </a:lnTo>
                      <a:lnTo>
                        <a:pt x="290" y="399"/>
                      </a:lnTo>
                      <a:lnTo>
                        <a:pt x="300" y="399"/>
                      </a:lnTo>
                      <a:lnTo>
                        <a:pt x="310" y="399"/>
                      </a:lnTo>
                      <a:lnTo>
                        <a:pt x="320" y="399"/>
                      </a:lnTo>
                      <a:lnTo>
                        <a:pt x="330" y="410"/>
                      </a:lnTo>
                      <a:lnTo>
                        <a:pt x="330" y="399"/>
                      </a:lnTo>
                      <a:lnTo>
                        <a:pt x="340" y="399"/>
                      </a:lnTo>
                      <a:lnTo>
                        <a:pt x="350" y="399"/>
                      </a:lnTo>
                      <a:lnTo>
                        <a:pt x="360" y="399"/>
                      </a:lnTo>
                      <a:lnTo>
                        <a:pt x="370" y="387"/>
                      </a:lnTo>
                      <a:lnTo>
                        <a:pt x="380" y="387"/>
                      </a:lnTo>
                      <a:lnTo>
                        <a:pt x="390" y="376"/>
                      </a:lnTo>
                      <a:lnTo>
                        <a:pt x="400" y="353"/>
                      </a:lnTo>
                      <a:lnTo>
                        <a:pt x="420" y="342"/>
                      </a:lnTo>
                      <a:lnTo>
                        <a:pt x="430" y="342"/>
                      </a:lnTo>
                      <a:lnTo>
                        <a:pt x="441" y="342"/>
                      </a:lnTo>
                      <a:lnTo>
                        <a:pt x="451" y="342"/>
                      </a:lnTo>
                      <a:lnTo>
                        <a:pt x="451" y="330"/>
                      </a:lnTo>
                      <a:lnTo>
                        <a:pt x="441" y="319"/>
                      </a:lnTo>
                      <a:lnTo>
                        <a:pt x="441" y="308"/>
                      </a:lnTo>
                      <a:lnTo>
                        <a:pt x="441" y="296"/>
                      </a:lnTo>
                      <a:lnTo>
                        <a:pt x="451" y="296"/>
                      </a:lnTo>
                      <a:lnTo>
                        <a:pt x="461" y="296"/>
                      </a:lnTo>
                      <a:lnTo>
                        <a:pt x="471" y="296"/>
                      </a:lnTo>
                      <a:lnTo>
                        <a:pt x="481" y="285"/>
                      </a:lnTo>
                      <a:lnTo>
                        <a:pt x="491" y="285"/>
                      </a:lnTo>
                      <a:lnTo>
                        <a:pt x="481" y="273"/>
                      </a:lnTo>
                      <a:lnTo>
                        <a:pt x="481" y="285"/>
                      </a:lnTo>
                      <a:lnTo>
                        <a:pt x="471" y="285"/>
                      </a:lnTo>
                      <a:lnTo>
                        <a:pt x="451" y="285"/>
                      </a:lnTo>
                      <a:lnTo>
                        <a:pt x="430" y="296"/>
                      </a:lnTo>
                      <a:lnTo>
                        <a:pt x="410" y="285"/>
                      </a:lnTo>
                      <a:lnTo>
                        <a:pt x="400" y="262"/>
                      </a:lnTo>
                      <a:lnTo>
                        <a:pt x="400" y="239"/>
                      </a:lnTo>
                      <a:lnTo>
                        <a:pt x="420" y="228"/>
                      </a:lnTo>
                      <a:lnTo>
                        <a:pt x="430" y="216"/>
                      </a:lnTo>
                      <a:lnTo>
                        <a:pt x="441" y="205"/>
                      </a:lnTo>
                      <a:lnTo>
                        <a:pt x="441" y="194"/>
                      </a:lnTo>
                      <a:lnTo>
                        <a:pt x="420" y="182"/>
                      </a:lnTo>
                      <a:lnTo>
                        <a:pt x="410" y="182"/>
                      </a:lnTo>
                      <a:lnTo>
                        <a:pt x="400" y="194"/>
                      </a:lnTo>
                      <a:lnTo>
                        <a:pt x="400" y="205"/>
                      </a:lnTo>
                      <a:lnTo>
                        <a:pt x="390" y="228"/>
                      </a:lnTo>
                      <a:lnTo>
                        <a:pt x="380" y="228"/>
                      </a:lnTo>
                      <a:lnTo>
                        <a:pt x="370" y="239"/>
                      </a:lnTo>
                      <a:lnTo>
                        <a:pt x="360" y="239"/>
                      </a:lnTo>
                      <a:lnTo>
                        <a:pt x="350" y="251"/>
                      </a:lnTo>
                      <a:lnTo>
                        <a:pt x="360" y="262"/>
                      </a:lnTo>
                      <a:lnTo>
                        <a:pt x="370" y="273"/>
                      </a:lnTo>
                      <a:lnTo>
                        <a:pt x="380" y="285"/>
                      </a:lnTo>
                      <a:lnTo>
                        <a:pt x="380" y="296"/>
                      </a:lnTo>
                      <a:lnTo>
                        <a:pt x="370" y="296"/>
                      </a:lnTo>
                      <a:lnTo>
                        <a:pt x="360" y="296"/>
                      </a:lnTo>
                      <a:lnTo>
                        <a:pt x="340" y="296"/>
                      </a:lnTo>
                      <a:lnTo>
                        <a:pt x="340" y="308"/>
                      </a:lnTo>
                      <a:lnTo>
                        <a:pt x="350" y="319"/>
                      </a:lnTo>
                      <a:lnTo>
                        <a:pt x="360" y="319"/>
                      </a:lnTo>
                      <a:lnTo>
                        <a:pt x="350" y="342"/>
                      </a:lnTo>
                      <a:lnTo>
                        <a:pt x="330" y="365"/>
                      </a:lnTo>
                      <a:lnTo>
                        <a:pt x="320" y="376"/>
                      </a:lnTo>
                      <a:lnTo>
                        <a:pt x="310" y="376"/>
                      </a:lnTo>
                      <a:lnTo>
                        <a:pt x="310" y="365"/>
                      </a:lnTo>
                      <a:lnTo>
                        <a:pt x="310" y="353"/>
                      </a:lnTo>
                      <a:lnTo>
                        <a:pt x="300" y="342"/>
                      </a:lnTo>
                      <a:lnTo>
                        <a:pt x="290" y="330"/>
                      </a:lnTo>
                      <a:lnTo>
                        <a:pt x="290" y="319"/>
                      </a:lnTo>
                      <a:lnTo>
                        <a:pt x="290" y="296"/>
                      </a:lnTo>
                      <a:lnTo>
                        <a:pt x="280" y="296"/>
                      </a:lnTo>
                      <a:lnTo>
                        <a:pt x="260" y="308"/>
                      </a:lnTo>
                      <a:lnTo>
                        <a:pt x="240" y="319"/>
                      </a:lnTo>
                      <a:lnTo>
                        <a:pt x="220" y="330"/>
                      </a:lnTo>
                      <a:lnTo>
                        <a:pt x="210" y="319"/>
                      </a:lnTo>
                      <a:lnTo>
                        <a:pt x="200" y="308"/>
                      </a:lnTo>
                      <a:lnTo>
                        <a:pt x="200" y="296"/>
                      </a:lnTo>
                      <a:lnTo>
                        <a:pt x="210" y="296"/>
                      </a:lnTo>
                      <a:lnTo>
                        <a:pt x="220" y="285"/>
                      </a:lnTo>
                      <a:lnTo>
                        <a:pt x="220" y="273"/>
                      </a:lnTo>
                      <a:lnTo>
                        <a:pt x="210" y="285"/>
                      </a:lnTo>
                      <a:lnTo>
                        <a:pt x="200" y="273"/>
                      </a:lnTo>
                      <a:lnTo>
                        <a:pt x="210" y="262"/>
                      </a:lnTo>
                      <a:lnTo>
                        <a:pt x="220" y="262"/>
                      </a:lnTo>
                      <a:lnTo>
                        <a:pt x="210" y="251"/>
                      </a:lnTo>
                      <a:lnTo>
                        <a:pt x="200" y="251"/>
                      </a:lnTo>
                      <a:lnTo>
                        <a:pt x="200" y="239"/>
                      </a:lnTo>
                      <a:lnTo>
                        <a:pt x="210" y="239"/>
                      </a:lnTo>
                      <a:lnTo>
                        <a:pt x="220" y="239"/>
                      </a:lnTo>
                      <a:lnTo>
                        <a:pt x="230" y="239"/>
                      </a:lnTo>
                      <a:lnTo>
                        <a:pt x="240" y="251"/>
                      </a:lnTo>
                      <a:lnTo>
                        <a:pt x="270" y="251"/>
                      </a:lnTo>
                      <a:lnTo>
                        <a:pt x="280" y="228"/>
                      </a:lnTo>
                      <a:lnTo>
                        <a:pt x="280" y="216"/>
                      </a:lnTo>
                      <a:lnTo>
                        <a:pt x="270" y="228"/>
                      </a:lnTo>
                      <a:lnTo>
                        <a:pt x="260" y="228"/>
                      </a:lnTo>
                      <a:lnTo>
                        <a:pt x="260" y="216"/>
                      </a:lnTo>
                      <a:lnTo>
                        <a:pt x="270" y="216"/>
                      </a:lnTo>
                      <a:lnTo>
                        <a:pt x="280" y="205"/>
                      </a:lnTo>
                      <a:lnTo>
                        <a:pt x="290" y="194"/>
                      </a:lnTo>
                      <a:lnTo>
                        <a:pt x="300" y="182"/>
                      </a:lnTo>
                      <a:lnTo>
                        <a:pt x="300" y="171"/>
                      </a:lnTo>
                      <a:lnTo>
                        <a:pt x="310" y="159"/>
                      </a:lnTo>
                      <a:lnTo>
                        <a:pt x="320" y="159"/>
                      </a:lnTo>
                      <a:lnTo>
                        <a:pt x="330" y="148"/>
                      </a:lnTo>
                      <a:lnTo>
                        <a:pt x="340" y="137"/>
                      </a:lnTo>
                      <a:lnTo>
                        <a:pt x="340" y="125"/>
                      </a:lnTo>
                      <a:lnTo>
                        <a:pt x="350" y="125"/>
                      </a:lnTo>
                      <a:lnTo>
                        <a:pt x="360" y="125"/>
                      </a:lnTo>
                      <a:lnTo>
                        <a:pt x="370" y="125"/>
                      </a:lnTo>
                      <a:lnTo>
                        <a:pt x="360" y="125"/>
                      </a:lnTo>
                      <a:lnTo>
                        <a:pt x="370" y="125"/>
                      </a:lnTo>
                      <a:lnTo>
                        <a:pt x="380" y="125"/>
                      </a:lnTo>
                      <a:lnTo>
                        <a:pt x="380" y="114"/>
                      </a:lnTo>
                      <a:lnTo>
                        <a:pt x="400" y="114"/>
                      </a:lnTo>
                      <a:lnTo>
                        <a:pt x="420" y="102"/>
                      </a:lnTo>
                      <a:lnTo>
                        <a:pt x="451" y="102"/>
                      </a:lnTo>
                      <a:lnTo>
                        <a:pt x="461" y="102"/>
                      </a:lnTo>
                      <a:lnTo>
                        <a:pt x="481" y="102"/>
                      </a:lnTo>
                      <a:lnTo>
                        <a:pt x="491" y="114"/>
                      </a:lnTo>
                      <a:lnTo>
                        <a:pt x="491" y="125"/>
                      </a:lnTo>
                      <a:lnTo>
                        <a:pt x="521" y="137"/>
                      </a:lnTo>
                      <a:lnTo>
                        <a:pt x="551" y="137"/>
                      </a:lnTo>
                      <a:lnTo>
                        <a:pt x="591" y="148"/>
                      </a:lnTo>
                      <a:lnTo>
                        <a:pt x="611" y="159"/>
                      </a:lnTo>
                      <a:lnTo>
                        <a:pt x="621" y="159"/>
                      </a:lnTo>
                      <a:lnTo>
                        <a:pt x="601" y="182"/>
                      </a:lnTo>
                      <a:lnTo>
                        <a:pt x="581" y="182"/>
                      </a:lnTo>
                      <a:lnTo>
                        <a:pt x="561" y="182"/>
                      </a:lnTo>
                      <a:lnTo>
                        <a:pt x="541" y="171"/>
                      </a:lnTo>
                      <a:lnTo>
                        <a:pt x="511" y="159"/>
                      </a:lnTo>
                      <a:lnTo>
                        <a:pt x="511" y="171"/>
                      </a:lnTo>
                      <a:lnTo>
                        <a:pt x="531" y="171"/>
                      </a:lnTo>
                      <a:lnTo>
                        <a:pt x="541" y="182"/>
                      </a:lnTo>
                      <a:lnTo>
                        <a:pt x="551" y="194"/>
                      </a:lnTo>
                      <a:lnTo>
                        <a:pt x="571" y="228"/>
                      </a:lnTo>
                      <a:lnTo>
                        <a:pt x="591" y="228"/>
                      </a:lnTo>
                      <a:lnTo>
                        <a:pt x="591" y="216"/>
                      </a:lnTo>
                      <a:lnTo>
                        <a:pt x="581" y="205"/>
                      </a:lnTo>
                      <a:lnTo>
                        <a:pt x="581" y="194"/>
                      </a:lnTo>
                      <a:lnTo>
                        <a:pt x="591" y="205"/>
                      </a:lnTo>
                      <a:lnTo>
                        <a:pt x="601" y="205"/>
                      </a:lnTo>
                      <a:lnTo>
                        <a:pt x="601" y="194"/>
                      </a:lnTo>
                      <a:lnTo>
                        <a:pt x="611" y="194"/>
                      </a:lnTo>
                      <a:lnTo>
                        <a:pt x="621" y="182"/>
                      </a:lnTo>
                      <a:lnTo>
                        <a:pt x="631" y="171"/>
                      </a:lnTo>
                      <a:lnTo>
                        <a:pt x="641" y="171"/>
                      </a:lnTo>
                      <a:lnTo>
                        <a:pt x="641" y="159"/>
                      </a:lnTo>
                      <a:lnTo>
                        <a:pt x="641" y="148"/>
                      </a:lnTo>
                      <a:lnTo>
                        <a:pt x="661" y="137"/>
                      </a:lnTo>
                      <a:lnTo>
                        <a:pt x="661" y="148"/>
                      </a:lnTo>
                      <a:lnTo>
                        <a:pt x="661" y="159"/>
                      </a:lnTo>
                      <a:lnTo>
                        <a:pt x="661" y="171"/>
                      </a:lnTo>
                      <a:lnTo>
                        <a:pt x="671" y="171"/>
                      </a:lnTo>
                      <a:lnTo>
                        <a:pt x="691" y="171"/>
                      </a:lnTo>
                      <a:lnTo>
                        <a:pt x="711" y="159"/>
                      </a:lnTo>
                      <a:lnTo>
                        <a:pt x="721" y="148"/>
                      </a:lnTo>
                      <a:lnTo>
                        <a:pt x="741" y="137"/>
                      </a:lnTo>
                      <a:lnTo>
                        <a:pt x="761" y="137"/>
                      </a:lnTo>
                      <a:lnTo>
                        <a:pt x="791" y="125"/>
                      </a:lnTo>
                      <a:lnTo>
                        <a:pt x="811" y="125"/>
                      </a:lnTo>
                      <a:lnTo>
                        <a:pt x="821" y="125"/>
                      </a:lnTo>
                      <a:lnTo>
                        <a:pt x="821" y="114"/>
                      </a:lnTo>
                      <a:lnTo>
                        <a:pt x="841" y="125"/>
                      </a:lnTo>
                      <a:lnTo>
                        <a:pt x="851" y="125"/>
                      </a:lnTo>
                      <a:lnTo>
                        <a:pt x="871" y="125"/>
                      </a:lnTo>
                      <a:lnTo>
                        <a:pt x="881" y="137"/>
                      </a:lnTo>
                      <a:lnTo>
                        <a:pt x="891" y="137"/>
                      </a:lnTo>
                      <a:lnTo>
                        <a:pt x="901" y="137"/>
                      </a:lnTo>
                      <a:lnTo>
                        <a:pt x="901" y="125"/>
                      </a:lnTo>
                      <a:lnTo>
                        <a:pt x="891" y="114"/>
                      </a:lnTo>
                      <a:lnTo>
                        <a:pt x="871" y="102"/>
                      </a:lnTo>
                      <a:lnTo>
                        <a:pt x="871" y="91"/>
                      </a:lnTo>
                      <a:lnTo>
                        <a:pt x="881" y="80"/>
                      </a:lnTo>
                      <a:lnTo>
                        <a:pt x="881" y="68"/>
                      </a:lnTo>
                      <a:lnTo>
                        <a:pt x="901" y="80"/>
                      </a:lnTo>
                      <a:lnTo>
                        <a:pt x="911" y="80"/>
                      </a:lnTo>
                      <a:lnTo>
                        <a:pt x="921" y="91"/>
                      </a:lnTo>
                      <a:lnTo>
                        <a:pt x="931" y="91"/>
                      </a:lnTo>
                      <a:lnTo>
                        <a:pt x="941" y="102"/>
                      </a:lnTo>
                      <a:lnTo>
                        <a:pt x="951" y="114"/>
                      </a:lnTo>
                      <a:lnTo>
                        <a:pt x="951" y="125"/>
                      </a:lnTo>
                      <a:lnTo>
                        <a:pt x="951" y="137"/>
                      </a:lnTo>
                      <a:lnTo>
                        <a:pt x="961" y="137"/>
                      </a:lnTo>
                      <a:lnTo>
                        <a:pt x="971" y="148"/>
                      </a:lnTo>
                      <a:lnTo>
                        <a:pt x="971" y="159"/>
                      </a:lnTo>
                      <a:lnTo>
                        <a:pt x="961" y="171"/>
                      </a:lnTo>
                      <a:lnTo>
                        <a:pt x="951" y="171"/>
                      </a:lnTo>
                      <a:lnTo>
                        <a:pt x="941" y="171"/>
                      </a:lnTo>
                      <a:lnTo>
                        <a:pt x="971" y="182"/>
                      </a:lnTo>
                      <a:lnTo>
                        <a:pt x="981" y="171"/>
                      </a:lnTo>
                      <a:lnTo>
                        <a:pt x="991" y="148"/>
                      </a:lnTo>
                      <a:lnTo>
                        <a:pt x="1001" y="137"/>
                      </a:lnTo>
                      <a:lnTo>
                        <a:pt x="1012" y="148"/>
                      </a:lnTo>
                      <a:lnTo>
                        <a:pt x="1032" y="159"/>
                      </a:lnTo>
                      <a:lnTo>
                        <a:pt x="1042" y="159"/>
                      </a:lnTo>
                      <a:lnTo>
                        <a:pt x="1042" y="148"/>
                      </a:lnTo>
                      <a:lnTo>
                        <a:pt x="1022" y="137"/>
                      </a:lnTo>
                      <a:lnTo>
                        <a:pt x="1012" y="137"/>
                      </a:lnTo>
                      <a:lnTo>
                        <a:pt x="991" y="125"/>
                      </a:lnTo>
                      <a:lnTo>
                        <a:pt x="971" y="114"/>
                      </a:lnTo>
                      <a:lnTo>
                        <a:pt x="951" y="102"/>
                      </a:lnTo>
                      <a:lnTo>
                        <a:pt x="941" y="68"/>
                      </a:lnTo>
                      <a:lnTo>
                        <a:pt x="951" y="68"/>
                      </a:lnTo>
                      <a:lnTo>
                        <a:pt x="951" y="80"/>
                      </a:lnTo>
                      <a:lnTo>
                        <a:pt x="961" y="91"/>
                      </a:lnTo>
                      <a:lnTo>
                        <a:pt x="971" y="91"/>
                      </a:lnTo>
                      <a:lnTo>
                        <a:pt x="981" y="80"/>
                      </a:lnTo>
                      <a:lnTo>
                        <a:pt x="991" y="80"/>
                      </a:lnTo>
                      <a:lnTo>
                        <a:pt x="1001" y="80"/>
                      </a:lnTo>
                      <a:lnTo>
                        <a:pt x="1012" y="80"/>
                      </a:lnTo>
                      <a:lnTo>
                        <a:pt x="1032" y="91"/>
                      </a:lnTo>
                      <a:lnTo>
                        <a:pt x="1042" y="91"/>
                      </a:lnTo>
                      <a:lnTo>
                        <a:pt x="1052" y="102"/>
                      </a:lnTo>
                      <a:lnTo>
                        <a:pt x="1062" y="102"/>
                      </a:lnTo>
                      <a:lnTo>
                        <a:pt x="1062" y="114"/>
                      </a:lnTo>
                      <a:lnTo>
                        <a:pt x="1052" y="102"/>
                      </a:lnTo>
                      <a:lnTo>
                        <a:pt x="1052" y="91"/>
                      </a:lnTo>
                      <a:lnTo>
                        <a:pt x="1042" y="91"/>
                      </a:lnTo>
                      <a:lnTo>
                        <a:pt x="1032" y="80"/>
                      </a:lnTo>
                      <a:lnTo>
                        <a:pt x="1022" y="80"/>
                      </a:lnTo>
                      <a:lnTo>
                        <a:pt x="1012" y="80"/>
                      </a:lnTo>
                      <a:lnTo>
                        <a:pt x="1001" y="68"/>
                      </a:lnTo>
                      <a:lnTo>
                        <a:pt x="991" y="68"/>
                      </a:lnTo>
                      <a:lnTo>
                        <a:pt x="991" y="57"/>
                      </a:lnTo>
                      <a:lnTo>
                        <a:pt x="1012" y="57"/>
                      </a:lnTo>
                      <a:lnTo>
                        <a:pt x="1032" y="57"/>
                      </a:lnTo>
                      <a:lnTo>
                        <a:pt x="1042" y="57"/>
                      </a:lnTo>
                      <a:lnTo>
                        <a:pt x="1052" y="68"/>
                      </a:lnTo>
                      <a:lnTo>
                        <a:pt x="1062" y="68"/>
                      </a:lnTo>
                      <a:lnTo>
                        <a:pt x="1072" y="68"/>
                      </a:lnTo>
                      <a:lnTo>
                        <a:pt x="1062" y="57"/>
                      </a:lnTo>
                      <a:lnTo>
                        <a:pt x="1052" y="45"/>
                      </a:lnTo>
                      <a:lnTo>
                        <a:pt x="1042" y="45"/>
                      </a:lnTo>
                      <a:lnTo>
                        <a:pt x="1052" y="45"/>
                      </a:lnTo>
                      <a:lnTo>
                        <a:pt x="1042" y="34"/>
                      </a:lnTo>
                      <a:lnTo>
                        <a:pt x="1052" y="34"/>
                      </a:lnTo>
                      <a:lnTo>
                        <a:pt x="1062" y="34"/>
                      </a:lnTo>
                      <a:lnTo>
                        <a:pt x="1092" y="23"/>
                      </a:lnTo>
                      <a:lnTo>
                        <a:pt x="1122" y="11"/>
                      </a:lnTo>
                      <a:lnTo>
                        <a:pt x="1142" y="11"/>
                      </a:lnTo>
                      <a:lnTo>
                        <a:pt x="1152" y="0"/>
                      </a:lnTo>
                      <a:lnTo>
                        <a:pt x="1172" y="0"/>
                      </a:lnTo>
                      <a:lnTo>
                        <a:pt x="1182" y="0"/>
                      </a:lnTo>
                      <a:lnTo>
                        <a:pt x="1192" y="0"/>
                      </a:lnTo>
                      <a:lnTo>
                        <a:pt x="1212" y="0"/>
                      </a:lnTo>
                      <a:lnTo>
                        <a:pt x="1232" y="0"/>
                      </a:lnTo>
                      <a:lnTo>
                        <a:pt x="1252" y="11"/>
                      </a:lnTo>
                      <a:lnTo>
                        <a:pt x="1282" y="23"/>
                      </a:lnTo>
                      <a:lnTo>
                        <a:pt x="1292" y="23"/>
                      </a:lnTo>
                      <a:lnTo>
                        <a:pt x="1302" y="23"/>
                      </a:lnTo>
                      <a:lnTo>
                        <a:pt x="1312" y="34"/>
                      </a:lnTo>
                      <a:lnTo>
                        <a:pt x="1312" y="45"/>
                      </a:lnTo>
                      <a:lnTo>
                        <a:pt x="1302" y="45"/>
                      </a:lnTo>
                      <a:lnTo>
                        <a:pt x="1292" y="45"/>
                      </a:lnTo>
                      <a:lnTo>
                        <a:pt x="1282" y="57"/>
                      </a:lnTo>
                      <a:lnTo>
                        <a:pt x="1272" y="68"/>
                      </a:lnTo>
                      <a:lnTo>
                        <a:pt x="1262" y="68"/>
                      </a:lnTo>
                      <a:lnTo>
                        <a:pt x="1272" y="68"/>
                      </a:lnTo>
                      <a:lnTo>
                        <a:pt x="1292" y="57"/>
                      </a:lnTo>
                      <a:lnTo>
                        <a:pt x="1312" y="57"/>
                      </a:lnTo>
                      <a:lnTo>
                        <a:pt x="1332" y="57"/>
                      </a:lnTo>
                      <a:lnTo>
                        <a:pt x="1342" y="57"/>
                      </a:lnTo>
                      <a:lnTo>
                        <a:pt x="1352" y="68"/>
                      </a:lnTo>
                      <a:lnTo>
                        <a:pt x="1362" y="80"/>
                      </a:lnTo>
                      <a:lnTo>
                        <a:pt x="1352" y="68"/>
                      </a:lnTo>
                      <a:lnTo>
                        <a:pt x="1342" y="57"/>
                      </a:lnTo>
                      <a:lnTo>
                        <a:pt x="1352" y="57"/>
                      </a:lnTo>
                      <a:lnTo>
                        <a:pt x="1362" y="57"/>
                      </a:lnTo>
                      <a:lnTo>
                        <a:pt x="1372" y="57"/>
                      </a:lnTo>
                      <a:lnTo>
                        <a:pt x="1382" y="57"/>
                      </a:lnTo>
                      <a:lnTo>
                        <a:pt x="1392" y="57"/>
                      </a:lnTo>
                      <a:lnTo>
                        <a:pt x="1402" y="57"/>
                      </a:lnTo>
                      <a:lnTo>
                        <a:pt x="1402" y="68"/>
                      </a:lnTo>
                      <a:lnTo>
                        <a:pt x="1422" y="68"/>
                      </a:lnTo>
                      <a:lnTo>
                        <a:pt x="1452" y="80"/>
                      </a:lnTo>
                      <a:lnTo>
                        <a:pt x="1472" y="80"/>
                      </a:lnTo>
                      <a:lnTo>
                        <a:pt x="1502" y="91"/>
                      </a:lnTo>
                      <a:lnTo>
                        <a:pt x="1522" y="91"/>
                      </a:lnTo>
                      <a:lnTo>
                        <a:pt x="1512" y="80"/>
                      </a:lnTo>
                      <a:lnTo>
                        <a:pt x="1502" y="80"/>
                      </a:lnTo>
                      <a:lnTo>
                        <a:pt x="1512" y="80"/>
                      </a:lnTo>
                      <a:lnTo>
                        <a:pt x="1532" y="91"/>
                      </a:lnTo>
                      <a:lnTo>
                        <a:pt x="1542" y="91"/>
                      </a:lnTo>
                      <a:lnTo>
                        <a:pt x="1532" y="91"/>
                      </a:lnTo>
                      <a:lnTo>
                        <a:pt x="1532" y="80"/>
                      </a:lnTo>
                      <a:lnTo>
                        <a:pt x="1552" y="91"/>
                      </a:lnTo>
                      <a:lnTo>
                        <a:pt x="1562" y="102"/>
                      </a:lnTo>
                      <a:lnTo>
                        <a:pt x="1582" y="102"/>
                      </a:lnTo>
                      <a:lnTo>
                        <a:pt x="1582" y="91"/>
                      </a:lnTo>
                      <a:lnTo>
                        <a:pt x="1593" y="91"/>
                      </a:lnTo>
                      <a:lnTo>
                        <a:pt x="1603" y="91"/>
                      </a:lnTo>
                      <a:lnTo>
                        <a:pt x="1613" y="91"/>
                      </a:lnTo>
                      <a:lnTo>
                        <a:pt x="1633" y="80"/>
                      </a:lnTo>
                      <a:lnTo>
                        <a:pt x="1643" y="68"/>
                      </a:lnTo>
                      <a:lnTo>
                        <a:pt x="1653" y="68"/>
                      </a:lnTo>
                      <a:lnTo>
                        <a:pt x="1673" y="80"/>
                      </a:lnTo>
                      <a:lnTo>
                        <a:pt x="1693" y="91"/>
                      </a:lnTo>
                      <a:lnTo>
                        <a:pt x="1713" y="91"/>
                      </a:lnTo>
                      <a:lnTo>
                        <a:pt x="1733" y="91"/>
                      </a:lnTo>
                      <a:lnTo>
                        <a:pt x="1733" y="80"/>
                      </a:lnTo>
                      <a:lnTo>
                        <a:pt x="1743" y="80"/>
                      </a:lnTo>
                      <a:lnTo>
                        <a:pt x="1763" y="91"/>
                      </a:lnTo>
                      <a:lnTo>
                        <a:pt x="1753" y="91"/>
                      </a:lnTo>
                      <a:lnTo>
                        <a:pt x="1783" y="102"/>
                      </a:lnTo>
                      <a:lnTo>
                        <a:pt x="1803" y="102"/>
                      </a:lnTo>
                      <a:lnTo>
                        <a:pt x="1823" y="102"/>
                      </a:lnTo>
                      <a:lnTo>
                        <a:pt x="1833" y="102"/>
                      </a:lnTo>
                      <a:lnTo>
                        <a:pt x="1843" y="102"/>
                      </a:lnTo>
                      <a:lnTo>
                        <a:pt x="1863" y="102"/>
                      </a:lnTo>
                      <a:lnTo>
                        <a:pt x="1883" y="102"/>
                      </a:lnTo>
                      <a:lnTo>
                        <a:pt x="1893" y="102"/>
                      </a:lnTo>
                      <a:lnTo>
                        <a:pt x="1903" y="114"/>
                      </a:lnTo>
                      <a:lnTo>
                        <a:pt x="1913" y="114"/>
                      </a:lnTo>
                      <a:lnTo>
                        <a:pt x="1913" y="125"/>
                      </a:lnTo>
                      <a:lnTo>
                        <a:pt x="1903" y="125"/>
                      </a:lnTo>
                      <a:lnTo>
                        <a:pt x="1893" y="137"/>
                      </a:lnTo>
                      <a:lnTo>
                        <a:pt x="1903" y="137"/>
                      </a:lnTo>
                      <a:lnTo>
                        <a:pt x="1913" y="137"/>
                      </a:lnTo>
                      <a:lnTo>
                        <a:pt x="1923" y="137"/>
                      </a:lnTo>
                      <a:lnTo>
                        <a:pt x="1953" y="137"/>
                      </a:lnTo>
                      <a:lnTo>
                        <a:pt x="1943" y="125"/>
                      </a:lnTo>
                      <a:lnTo>
                        <a:pt x="1963" y="125"/>
                      </a:lnTo>
                      <a:lnTo>
                        <a:pt x="1993" y="125"/>
                      </a:lnTo>
                      <a:lnTo>
                        <a:pt x="2023" y="125"/>
                      </a:lnTo>
                      <a:lnTo>
                        <a:pt x="2033" y="137"/>
                      </a:lnTo>
                      <a:lnTo>
                        <a:pt x="2043" y="137"/>
                      </a:lnTo>
                      <a:lnTo>
                        <a:pt x="2053" y="137"/>
                      </a:lnTo>
                      <a:lnTo>
                        <a:pt x="2043" y="125"/>
                      </a:lnTo>
                      <a:lnTo>
                        <a:pt x="2033" y="125"/>
                      </a:lnTo>
                      <a:lnTo>
                        <a:pt x="2023" y="114"/>
                      </a:lnTo>
                      <a:lnTo>
                        <a:pt x="2053" y="114"/>
                      </a:lnTo>
                      <a:lnTo>
                        <a:pt x="2083" y="125"/>
                      </a:lnTo>
                      <a:lnTo>
                        <a:pt x="2103" y="125"/>
                      </a:lnTo>
                      <a:lnTo>
                        <a:pt x="2133" y="125"/>
                      </a:lnTo>
                      <a:lnTo>
                        <a:pt x="2143" y="125"/>
                      </a:lnTo>
                      <a:lnTo>
                        <a:pt x="2143" y="137"/>
                      </a:lnTo>
                      <a:lnTo>
                        <a:pt x="2153" y="137"/>
                      </a:lnTo>
                      <a:lnTo>
                        <a:pt x="2164" y="137"/>
                      </a:lnTo>
                      <a:lnTo>
                        <a:pt x="2164" y="148"/>
                      </a:lnTo>
                      <a:lnTo>
                        <a:pt x="2184" y="148"/>
                      </a:lnTo>
                      <a:lnTo>
                        <a:pt x="2204" y="159"/>
                      </a:lnTo>
                      <a:lnTo>
                        <a:pt x="2214" y="171"/>
                      </a:lnTo>
                      <a:lnTo>
                        <a:pt x="2234" y="182"/>
                      </a:lnTo>
                      <a:lnTo>
                        <a:pt x="2254" y="2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218280" y="1414440"/>
                  <a:ext cx="47520" cy="36720"/>
                </a:xfrm>
                <a:custGeom>
                  <a:avLst/>
                  <a:gdLst/>
                  <a:ahLst/>
                  <a:rect l="l" t="t" r="r" b="b"/>
                  <a:pathLst>
                    <a:path w="30" h="23">
                      <a:moveTo>
                        <a:pt x="30" y="11"/>
                      </a:moveTo>
                      <a:lnTo>
                        <a:pt x="20" y="11"/>
                      </a:lnTo>
                      <a:lnTo>
                        <a:pt x="10" y="0"/>
                      </a:lnTo>
                      <a:lnTo>
                        <a:pt x="0" y="0"/>
                      </a:lnTo>
                      <a:lnTo>
                        <a:pt x="0" y="11"/>
                      </a:lnTo>
                      <a:lnTo>
                        <a:pt x="10" y="11"/>
                      </a:lnTo>
                      <a:lnTo>
                        <a:pt x="10" y="23"/>
                      </a:lnTo>
                      <a:lnTo>
                        <a:pt x="20" y="23"/>
                      </a:lnTo>
                      <a:lnTo>
                        <a:pt x="30" y="23"/>
                      </a:lnTo>
                      <a:lnTo>
                        <a:pt x="30" y="11"/>
                      </a:lnTo>
                      <a:lnTo>
                        <a:pt x="30" y="11"/>
                      </a:lnTo>
                      <a:close/>
                    </a:path>
                  </a:pathLst>
                </a:custGeom>
                <a:solidFill>
                  <a:srgbClr val="bb74b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9" name=""/>
                <p:cNvSpPr/>
                <p:nvPr/>
              </p:nvSpPr>
              <p:spPr>
                <a:xfrm>
                  <a:off x="6218280" y="1414440"/>
                  <a:ext cx="47520" cy="36720"/>
                </a:xfrm>
                <a:custGeom>
                  <a:avLst/>
                  <a:gdLst/>
                  <a:ahLst/>
                  <a:rect l="l" t="t" r="r" b="b"/>
                  <a:pathLst>
                    <a:path w="30" h="23">
                      <a:moveTo>
                        <a:pt x="30" y="11"/>
                      </a:moveTo>
                      <a:lnTo>
                        <a:pt x="20" y="11"/>
                      </a:lnTo>
                      <a:lnTo>
                        <a:pt x="10" y="0"/>
                      </a:lnTo>
                      <a:lnTo>
                        <a:pt x="0" y="0"/>
                      </a:lnTo>
                      <a:lnTo>
                        <a:pt x="0" y="11"/>
                      </a:lnTo>
                      <a:lnTo>
                        <a:pt x="10" y="11"/>
                      </a:lnTo>
                      <a:lnTo>
                        <a:pt x="10" y="23"/>
                      </a:lnTo>
                      <a:lnTo>
                        <a:pt x="20" y="23"/>
                      </a:lnTo>
                      <a:lnTo>
                        <a:pt x="30" y="23"/>
                      </a:lnTo>
                      <a:lnTo>
                        <a:pt x="30" y="11"/>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0" name=""/>
                <p:cNvSpPr/>
                <p:nvPr/>
              </p:nvSpPr>
              <p:spPr>
                <a:xfrm>
                  <a:off x="2273400" y="1631880"/>
                  <a:ext cx="128520" cy="36720"/>
                </a:xfrm>
                <a:custGeom>
                  <a:avLst/>
                  <a:gdLst/>
                  <a:ahLst/>
                  <a:rect l="l" t="t" r="r" b="b"/>
                  <a:pathLst>
                    <a:path w="81" h="23">
                      <a:moveTo>
                        <a:pt x="0" y="23"/>
                      </a:moveTo>
                      <a:lnTo>
                        <a:pt x="21" y="23"/>
                      </a:lnTo>
                      <a:lnTo>
                        <a:pt x="31" y="23"/>
                      </a:lnTo>
                      <a:lnTo>
                        <a:pt x="41" y="11"/>
                      </a:lnTo>
                      <a:lnTo>
                        <a:pt x="51" y="11"/>
                      </a:lnTo>
                      <a:lnTo>
                        <a:pt x="61" y="0"/>
                      </a:lnTo>
                      <a:lnTo>
                        <a:pt x="81" y="0"/>
                      </a:lnTo>
                      <a:lnTo>
                        <a:pt x="71" y="0"/>
                      </a:lnTo>
                      <a:lnTo>
                        <a:pt x="71" y="11"/>
                      </a:lnTo>
                      <a:lnTo>
                        <a:pt x="61" y="11"/>
                      </a:lnTo>
                      <a:lnTo>
                        <a:pt x="51" y="23"/>
                      </a:lnTo>
                      <a:lnTo>
                        <a:pt x="41" y="23"/>
                      </a:lnTo>
                      <a:lnTo>
                        <a:pt x="31" y="23"/>
                      </a:lnTo>
                      <a:lnTo>
                        <a:pt x="11" y="23"/>
                      </a:lnTo>
                      <a:lnTo>
                        <a:pt x="0" y="23"/>
                      </a:lnTo>
                      <a:lnTo>
                        <a:pt x="0" y="23"/>
                      </a:lnTo>
                      <a:close/>
                    </a:path>
                  </a:pathLst>
                </a:custGeom>
                <a:solidFill>
                  <a:srgbClr val="bb74b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2273400" y="1631880"/>
                  <a:ext cx="128520" cy="36720"/>
                </a:xfrm>
                <a:custGeom>
                  <a:avLst/>
                  <a:gdLst/>
                  <a:ahLst/>
                  <a:rect l="l" t="t" r="r" b="b"/>
                  <a:pathLst>
                    <a:path w="81" h="23">
                      <a:moveTo>
                        <a:pt x="0" y="23"/>
                      </a:moveTo>
                      <a:lnTo>
                        <a:pt x="21" y="23"/>
                      </a:lnTo>
                      <a:lnTo>
                        <a:pt x="31" y="23"/>
                      </a:lnTo>
                      <a:lnTo>
                        <a:pt x="41" y="11"/>
                      </a:lnTo>
                      <a:lnTo>
                        <a:pt x="51" y="11"/>
                      </a:lnTo>
                      <a:lnTo>
                        <a:pt x="61" y="0"/>
                      </a:lnTo>
                      <a:lnTo>
                        <a:pt x="81" y="0"/>
                      </a:lnTo>
                      <a:lnTo>
                        <a:pt x="71" y="0"/>
                      </a:lnTo>
                      <a:lnTo>
                        <a:pt x="71" y="11"/>
                      </a:lnTo>
                      <a:lnTo>
                        <a:pt x="61" y="11"/>
                      </a:lnTo>
                      <a:lnTo>
                        <a:pt x="51" y="23"/>
                      </a:lnTo>
                      <a:lnTo>
                        <a:pt x="41" y="23"/>
                      </a:lnTo>
                      <a:lnTo>
                        <a:pt x="31" y="23"/>
                      </a:lnTo>
                      <a:lnTo>
                        <a:pt x="11" y="23"/>
                      </a:lnTo>
                      <a:lnTo>
                        <a:pt x="0" y="2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2" name=""/>
                <p:cNvSpPr/>
                <p:nvPr/>
              </p:nvSpPr>
              <p:spPr>
                <a:xfrm>
                  <a:off x="5105520" y="1739880"/>
                  <a:ext cx="15840" cy="54000"/>
                </a:xfrm>
                <a:custGeom>
                  <a:avLst/>
                  <a:gdLst/>
                  <a:ahLst/>
                  <a:rect l="l" t="t" r="r" b="b"/>
                  <a:pathLst>
                    <a:path w="10" h="34">
                      <a:moveTo>
                        <a:pt x="0" y="34"/>
                      </a:moveTo>
                      <a:lnTo>
                        <a:pt x="10" y="23"/>
                      </a:lnTo>
                      <a:lnTo>
                        <a:pt x="10" y="12"/>
                      </a:lnTo>
                      <a:lnTo>
                        <a:pt x="0" y="0"/>
                      </a:lnTo>
                      <a:lnTo>
                        <a:pt x="0" y="12"/>
                      </a:lnTo>
                      <a:lnTo>
                        <a:pt x="0" y="23"/>
                      </a:lnTo>
                      <a:lnTo>
                        <a:pt x="0" y="34"/>
                      </a:lnTo>
                      <a:lnTo>
                        <a:pt x="0" y="34"/>
                      </a:lnTo>
                      <a:close/>
                    </a:path>
                  </a:pathLst>
                </a:custGeom>
                <a:solidFill>
                  <a:srgbClr val="bb74b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3" name=""/>
                <p:cNvSpPr/>
                <p:nvPr/>
              </p:nvSpPr>
              <p:spPr>
                <a:xfrm>
                  <a:off x="5105520" y="1739880"/>
                  <a:ext cx="15840" cy="54000"/>
                </a:xfrm>
                <a:custGeom>
                  <a:avLst/>
                  <a:gdLst/>
                  <a:ahLst/>
                  <a:rect l="l" t="t" r="r" b="b"/>
                  <a:pathLst>
                    <a:path w="10" h="34">
                      <a:moveTo>
                        <a:pt x="0" y="34"/>
                      </a:moveTo>
                      <a:lnTo>
                        <a:pt x="10" y="23"/>
                      </a:lnTo>
                      <a:lnTo>
                        <a:pt x="10" y="12"/>
                      </a:lnTo>
                      <a:lnTo>
                        <a:pt x="0" y="0"/>
                      </a:lnTo>
                      <a:lnTo>
                        <a:pt x="0" y="12"/>
                      </a:lnTo>
                      <a:lnTo>
                        <a:pt x="0" y="23"/>
                      </a:lnTo>
                      <a:lnTo>
                        <a:pt x="0"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4" name=""/>
                <p:cNvSpPr/>
                <p:nvPr/>
              </p:nvSpPr>
              <p:spPr>
                <a:xfrm>
                  <a:off x="5057640" y="1739880"/>
                  <a:ext cx="15840" cy="54000"/>
                </a:xfrm>
                <a:custGeom>
                  <a:avLst/>
                  <a:gdLst/>
                  <a:ahLst/>
                  <a:rect l="l" t="t" r="r" b="b"/>
                  <a:pathLst>
                    <a:path w="10" h="34">
                      <a:moveTo>
                        <a:pt x="0" y="0"/>
                      </a:moveTo>
                      <a:lnTo>
                        <a:pt x="10" y="0"/>
                      </a:lnTo>
                      <a:lnTo>
                        <a:pt x="10" y="12"/>
                      </a:lnTo>
                      <a:lnTo>
                        <a:pt x="10" y="23"/>
                      </a:lnTo>
                      <a:lnTo>
                        <a:pt x="10" y="34"/>
                      </a:lnTo>
                      <a:lnTo>
                        <a:pt x="10" y="23"/>
                      </a:lnTo>
                      <a:lnTo>
                        <a:pt x="10" y="12"/>
                      </a:lnTo>
                      <a:lnTo>
                        <a:pt x="0" y="0"/>
                      </a:lnTo>
                      <a:lnTo>
                        <a:pt x="0" y="0"/>
                      </a:lnTo>
                      <a:close/>
                    </a:path>
                  </a:pathLst>
                </a:custGeom>
                <a:solidFill>
                  <a:srgbClr val="bb74b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
                <p:cNvSpPr/>
                <p:nvPr/>
              </p:nvSpPr>
              <p:spPr>
                <a:xfrm>
                  <a:off x="5057640" y="1739880"/>
                  <a:ext cx="15840" cy="54000"/>
                </a:xfrm>
                <a:custGeom>
                  <a:avLst/>
                  <a:gdLst/>
                  <a:ahLst/>
                  <a:rect l="l" t="t" r="r" b="b"/>
                  <a:pathLst>
                    <a:path w="10" h="34">
                      <a:moveTo>
                        <a:pt x="0" y="0"/>
                      </a:moveTo>
                      <a:lnTo>
                        <a:pt x="10" y="0"/>
                      </a:lnTo>
                      <a:lnTo>
                        <a:pt x="10" y="12"/>
                      </a:lnTo>
                      <a:lnTo>
                        <a:pt x="10" y="23"/>
                      </a:lnTo>
                      <a:lnTo>
                        <a:pt x="10" y="34"/>
                      </a:lnTo>
                      <a:lnTo>
                        <a:pt x="10" y="23"/>
                      </a:lnTo>
                      <a:lnTo>
                        <a:pt x="10" y="12"/>
                      </a:lnTo>
                      <a:lnTo>
                        <a:pt x="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6" name=""/>
                <p:cNvSpPr/>
                <p:nvPr/>
              </p:nvSpPr>
              <p:spPr>
                <a:xfrm>
                  <a:off x="2338560" y="1739880"/>
                  <a:ext cx="142560" cy="54000"/>
                </a:xfrm>
                <a:custGeom>
                  <a:avLst/>
                  <a:gdLst/>
                  <a:ahLst/>
                  <a:rect l="l" t="t" r="r" b="b"/>
                  <a:pathLst>
                    <a:path w="90" h="34">
                      <a:moveTo>
                        <a:pt x="0" y="34"/>
                      </a:moveTo>
                      <a:lnTo>
                        <a:pt x="10" y="34"/>
                      </a:lnTo>
                      <a:lnTo>
                        <a:pt x="20" y="23"/>
                      </a:lnTo>
                      <a:lnTo>
                        <a:pt x="20" y="12"/>
                      </a:lnTo>
                      <a:lnTo>
                        <a:pt x="40" y="0"/>
                      </a:lnTo>
                      <a:lnTo>
                        <a:pt x="60" y="0"/>
                      </a:lnTo>
                      <a:lnTo>
                        <a:pt x="80" y="0"/>
                      </a:lnTo>
                      <a:lnTo>
                        <a:pt x="90" y="0"/>
                      </a:lnTo>
                      <a:lnTo>
                        <a:pt x="80" y="12"/>
                      </a:lnTo>
                      <a:lnTo>
                        <a:pt x="70" y="12"/>
                      </a:lnTo>
                      <a:lnTo>
                        <a:pt x="60" y="12"/>
                      </a:lnTo>
                      <a:lnTo>
                        <a:pt x="50" y="23"/>
                      </a:lnTo>
                      <a:lnTo>
                        <a:pt x="40" y="23"/>
                      </a:lnTo>
                      <a:lnTo>
                        <a:pt x="20" y="34"/>
                      </a:lnTo>
                      <a:lnTo>
                        <a:pt x="10" y="34"/>
                      </a:lnTo>
                      <a:lnTo>
                        <a:pt x="0" y="34"/>
                      </a:lnTo>
                      <a:lnTo>
                        <a:pt x="0" y="34"/>
                      </a:lnTo>
                      <a:close/>
                    </a:path>
                  </a:pathLst>
                </a:custGeom>
                <a:solidFill>
                  <a:srgbClr val="bb74b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7" name=""/>
                <p:cNvSpPr/>
                <p:nvPr/>
              </p:nvSpPr>
              <p:spPr>
                <a:xfrm>
                  <a:off x="2338560" y="1739880"/>
                  <a:ext cx="142560" cy="54000"/>
                </a:xfrm>
                <a:custGeom>
                  <a:avLst/>
                  <a:gdLst/>
                  <a:ahLst/>
                  <a:rect l="l" t="t" r="r" b="b"/>
                  <a:pathLst>
                    <a:path w="90" h="34">
                      <a:moveTo>
                        <a:pt x="0" y="34"/>
                      </a:moveTo>
                      <a:lnTo>
                        <a:pt x="10" y="34"/>
                      </a:lnTo>
                      <a:lnTo>
                        <a:pt x="20" y="23"/>
                      </a:lnTo>
                      <a:lnTo>
                        <a:pt x="20" y="12"/>
                      </a:lnTo>
                      <a:lnTo>
                        <a:pt x="40" y="0"/>
                      </a:lnTo>
                      <a:lnTo>
                        <a:pt x="60" y="0"/>
                      </a:lnTo>
                      <a:lnTo>
                        <a:pt x="80" y="0"/>
                      </a:lnTo>
                      <a:lnTo>
                        <a:pt x="90" y="0"/>
                      </a:lnTo>
                      <a:lnTo>
                        <a:pt x="80" y="12"/>
                      </a:lnTo>
                      <a:lnTo>
                        <a:pt x="70" y="12"/>
                      </a:lnTo>
                      <a:lnTo>
                        <a:pt x="60" y="12"/>
                      </a:lnTo>
                      <a:lnTo>
                        <a:pt x="50" y="23"/>
                      </a:lnTo>
                      <a:lnTo>
                        <a:pt x="40" y="23"/>
                      </a:lnTo>
                      <a:lnTo>
                        <a:pt x="20" y="34"/>
                      </a:lnTo>
                      <a:lnTo>
                        <a:pt x="10" y="34"/>
                      </a:lnTo>
                      <a:lnTo>
                        <a:pt x="0"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8" name=""/>
                <p:cNvSpPr/>
                <p:nvPr/>
              </p:nvSpPr>
              <p:spPr>
                <a:xfrm>
                  <a:off x="5232240" y="1739880"/>
                  <a:ext cx="47880" cy="54000"/>
                </a:xfrm>
                <a:custGeom>
                  <a:avLst/>
                  <a:gdLst/>
                  <a:ahLst/>
                  <a:rect l="l" t="t" r="r" b="b"/>
                  <a:pathLst>
                    <a:path w="30" h="34">
                      <a:moveTo>
                        <a:pt x="0" y="0"/>
                      </a:moveTo>
                      <a:lnTo>
                        <a:pt x="10" y="12"/>
                      </a:lnTo>
                      <a:lnTo>
                        <a:pt x="20" y="23"/>
                      </a:lnTo>
                      <a:lnTo>
                        <a:pt x="30" y="34"/>
                      </a:lnTo>
                      <a:lnTo>
                        <a:pt x="20" y="34"/>
                      </a:lnTo>
                      <a:lnTo>
                        <a:pt x="10" y="34"/>
                      </a:lnTo>
                      <a:lnTo>
                        <a:pt x="0" y="12"/>
                      </a:lnTo>
                      <a:lnTo>
                        <a:pt x="10" y="12"/>
                      </a:lnTo>
                      <a:lnTo>
                        <a:pt x="10" y="0"/>
                      </a:lnTo>
                      <a:lnTo>
                        <a:pt x="0" y="0"/>
                      </a:lnTo>
                      <a:lnTo>
                        <a:pt x="0" y="0"/>
                      </a:lnTo>
                      <a:close/>
                    </a:path>
                  </a:pathLst>
                </a:custGeom>
                <a:solidFill>
                  <a:srgbClr val="bb74b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9" name=""/>
                <p:cNvSpPr/>
                <p:nvPr/>
              </p:nvSpPr>
              <p:spPr>
                <a:xfrm>
                  <a:off x="5232240" y="1739880"/>
                  <a:ext cx="47880" cy="54000"/>
                </a:xfrm>
                <a:custGeom>
                  <a:avLst/>
                  <a:gdLst/>
                  <a:ahLst/>
                  <a:rect l="l" t="t" r="r" b="b"/>
                  <a:pathLst>
                    <a:path w="30" h="34">
                      <a:moveTo>
                        <a:pt x="0" y="0"/>
                      </a:moveTo>
                      <a:lnTo>
                        <a:pt x="10" y="12"/>
                      </a:lnTo>
                      <a:lnTo>
                        <a:pt x="20" y="23"/>
                      </a:lnTo>
                      <a:lnTo>
                        <a:pt x="30" y="34"/>
                      </a:lnTo>
                      <a:lnTo>
                        <a:pt x="20" y="34"/>
                      </a:lnTo>
                      <a:lnTo>
                        <a:pt x="10" y="34"/>
                      </a:lnTo>
                      <a:lnTo>
                        <a:pt x="0" y="12"/>
                      </a:lnTo>
                      <a:lnTo>
                        <a:pt x="10" y="12"/>
                      </a:lnTo>
                      <a:lnTo>
                        <a:pt x="10" y="0"/>
                      </a:lnTo>
                      <a:lnTo>
                        <a:pt x="0"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a:off x="5153040" y="1776600"/>
                  <a:ext cx="31680" cy="53640"/>
                </a:xfrm>
                <a:custGeom>
                  <a:avLst/>
                  <a:gdLst/>
                  <a:ahLst/>
                  <a:rect l="l" t="t" r="r" b="b"/>
                  <a:pathLst>
                    <a:path w="20" h="34">
                      <a:moveTo>
                        <a:pt x="10" y="0"/>
                      </a:moveTo>
                      <a:lnTo>
                        <a:pt x="10" y="11"/>
                      </a:lnTo>
                      <a:lnTo>
                        <a:pt x="20" y="23"/>
                      </a:lnTo>
                      <a:lnTo>
                        <a:pt x="20" y="34"/>
                      </a:lnTo>
                      <a:lnTo>
                        <a:pt x="20" y="23"/>
                      </a:lnTo>
                      <a:lnTo>
                        <a:pt x="10" y="23"/>
                      </a:lnTo>
                      <a:lnTo>
                        <a:pt x="0" y="11"/>
                      </a:lnTo>
                      <a:lnTo>
                        <a:pt x="0" y="0"/>
                      </a:lnTo>
                      <a:lnTo>
                        <a:pt x="10" y="0"/>
                      </a:lnTo>
                      <a:lnTo>
                        <a:pt x="10" y="0"/>
                      </a:lnTo>
                      <a:close/>
                    </a:path>
                  </a:pathLst>
                </a:custGeom>
                <a:solidFill>
                  <a:srgbClr val="bb74b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1" name=""/>
                <p:cNvSpPr/>
                <p:nvPr/>
              </p:nvSpPr>
              <p:spPr>
                <a:xfrm>
                  <a:off x="5153040" y="1776600"/>
                  <a:ext cx="31680" cy="53640"/>
                </a:xfrm>
                <a:custGeom>
                  <a:avLst/>
                  <a:gdLst/>
                  <a:ahLst/>
                  <a:rect l="l" t="t" r="r" b="b"/>
                  <a:pathLst>
                    <a:path w="20" h="34">
                      <a:moveTo>
                        <a:pt x="10" y="0"/>
                      </a:moveTo>
                      <a:lnTo>
                        <a:pt x="10" y="11"/>
                      </a:lnTo>
                      <a:lnTo>
                        <a:pt x="20" y="23"/>
                      </a:lnTo>
                      <a:lnTo>
                        <a:pt x="20" y="34"/>
                      </a:lnTo>
                      <a:lnTo>
                        <a:pt x="20" y="23"/>
                      </a:lnTo>
                      <a:lnTo>
                        <a:pt x="10" y="23"/>
                      </a:lnTo>
                      <a:lnTo>
                        <a:pt x="0" y="11"/>
                      </a:lnTo>
                      <a:lnTo>
                        <a:pt x="0" y="0"/>
                      </a:lnTo>
                      <a:lnTo>
                        <a:pt x="10"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2" name=""/>
                <p:cNvSpPr/>
                <p:nvPr/>
              </p:nvSpPr>
              <p:spPr>
                <a:xfrm>
                  <a:off x="2370240" y="1849320"/>
                  <a:ext cx="110880" cy="17640"/>
                </a:xfrm>
                <a:custGeom>
                  <a:avLst/>
                  <a:gdLst/>
                  <a:ahLst/>
                  <a:rect l="l" t="t" r="r" b="b"/>
                  <a:pathLst>
                    <a:path w="70" h="11">
                      <a:moveTo>
                        <a:pt x="0" y="11"/>
                      </a:moveTo>
                      <a:lnTo>
                        <a:pt x="30" y="0"/>
                      </a:lnTo>
                      <a:lnTo>
                        <a:pt x="50" y="0"/>
                      </a:lnTo>
                      <a:lnTo>
                        <a:pt x="70" y="0"/>
                      </a:lnTo>
                      <a:lnTo>
                        <a:pt x="50" y="0"/>
                      </a:lnTo>
                      <a:lnTo>
                        <a:pt x="30" y="0"/>
                      </a:lnTo>
                      <a:lnTo>
                        <a:pt x="0" y="11"/>
                      </a:lnTo>
                      <a:lnTo>
                        <a:pt x="0" y="11"/>
                      </a:lnTo>
                      <a:close/>
                    </a:path>
                  </a:pathLst>
                </a:custGeom>
                <a:solidFill>
                  <a:srgbClr val="bb74b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370240" y="1849320"/>
                  <a:ext cx="110880" cy="17640"/>
                </a:xfrm>
                <a:custGeom>
                  <a:avLst/>
                  <a:gdLst/>
                  <a:ahLst/>
                  <a:rect l="l" t="t" r="r" b="b"/>
                  <a:pathLst>
                    <a:path w="70" h="11">
                      <a:moveTo>
                        <a:pt x="0" y="11"/>
                      </a:moveTo>
                      <a:lnTo>
                        <a:pt x="30" y="0"/>
                      </a:lnTo>
                      <a:lnTo>
                        <a:pt x="50" y="0"/>
                      </a:lnTo>
                      <a:lnTo>
                        <a:pt x="70" y="0"/>
                      </a:lnTo>
                      <a:lnTo>
                        <a:pt x="50" y="0"/>
                      </a:lnTo>
                      <a:lnTo>
                        <a:pt x="30" y="0"/>
                      </a:lnTo>
                      <a:lnTo>
                        <a:pt x="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4818240" y="1849320"/>
                  <a:ext cx="31680" cy="17640"/>
                </a:xfrm>
                <a:custGeom>
                  <a:avLst/>
                  <a:gdLst/>
                  <a:ahLst/>
                  <a:rect l="l" t="t" r="r" b="b"/>
                  <a:pathLst>
                    <a:path w="20" h="11">
                      <a:moveTo>
                        <a:pt x="20" y="0"/>
                      </a:moveTo>
                      <a:lnTo>
                        <a:pt x="10" y="0"/>
                      </a:lnTo>
                      <a:lnTo>
                        <a:pt x="10" y="11"/>
                      </a:lnTo>
                      <a:lnTo>
                        <a:pt x="0" y="11"/>
                      </a:lnTo>
                      <a:lnTo>
                        <a:pt x="10" y="11"/>
                      </a:lnTo>
                      <a:lnTo>
                        <a:pt x="10" y="0"/>
                      </a:lnTo>
                      <a:lnTo>
                        <a:pt x="20" y="0"/>
                      </a:lnTo>
                      <a:lnTo>
                        <a:pt x="20" y="0"/>
                      </a:lnTo>
                      <a:close/>
                    </a:path>
                  </a:pathLst>
                </a:custGeom>
                <a:solidFill>
                  <a:srgbClr val="bb74b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605" name=""/>
              <p:cNvSpPr/>
              <p:nvPr/>
            </p:nvSpPr>
            <p:spPr>
              <a:xfrm>
                <a:off x="4818240" y="1849320"/>
                <a:ext cx="31680" cy="17640"/>
              </a:xfrm>
              <a:custGeom>
                <a:avLst/>
                <a:gdLst/>
                <a:ahLst/>
                <a:rect l="l" t="t" r="r" b="b"/>
                <a:pathLst>
                  <a:path w="20" h="11">
                    <a:moveTo>
                      <a:pt x="20" y="0"/>
                    </a:moveTo>
                    <a:lnTo>
                      <a:pt x="10" y="0"/>
                    </a:lnTo>
                    <a:lnTo>
                      <a:pt x="10" y="11"/>
                    </a:lnTo>
                    <a:lnTo>
                      <a:pt x="0" y="11"/>
                    </a:lnTo>
                    <a:lnTo>
                      <a:pt x="10" y="11"/>
                    </a:lnTo>
                    <a:lnTo>
                      <a:pt x="10" y="0"/>
                    </a:lnTo>
                    <a:lnTo>
                      <a:pt x="20" y="0"/>
                    </a:lnTo>
                  </a:path>
                </a:pathLst>
              </a:custGeom>
              <a:solidFill>
                <a:srgbClr val="179c82"/>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 name=""/>
              <p:cNvSpPr/>
              <p:nvPr/>
            </p:nvSpPr>
            <p:spPr>
              <a:xfrm>
                <a:off x="5661000" y="1849320"/>
                <a:ext cx="47520" cy="34920"/>
              </a:xfrm>
              <a:custGeom>
                <a:avLst/>
                <a:gdLst/>
                <a:ahLst/>
                <a:rect l="l" t="t" r="r" b="b"/>
                <a:pathLst>
                  <a:path w="30" h="22">
                    <a:moveTo>
                      <a:pt x="10" y="0"/>
                    </a:moveTo>
                    <a:lnTo>
                      <a:pt x="20" y="11"/>
                    </a:lnTo>
                    <a:lnTo>
                      <a:pt x="20" y="22"/>
                    </a:lnTo>
                    <a:lnTo>
                      <a:pt x="30" y="22"/>
                    </a:lnTo>
                    <a:lnTo>
                      <a:pt x="20" y="22"/>
                    </a:lnTo>
                    <a:lnTo>
                      <a:pt x="10" y="11"/>
                    </a:lnTo>
                    <a:lnTo>
                      <a:pt x="0" y="11"/>
                    </a:lnTo>
                    <a:lnTo>
                      <a:pt x="0" y="0"/>
                    </a:lnTo>
                    <a:lnTo>
                      <a:pt x="10" y="0"/>
                    </a:lnTo>
                    <a:lnTo>
                      <a:pt x="10" y="0"/>
                    </a:lnTo>
                    <a:close/>
                  </a:path>
                </a:pathLst>
              </a:custGeom>
              <a:solidFill>
                <a:srgbClr val="179c8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7" name=""/>
              <p:cNvSpPr/>
              <p:nvPr/>
            </p:nvSpPr>
            <p:spPr>
              <a:xfrm>
                <a:off x="5661000" y="1849320"/>
                <a:ext cx="47520" cy="34920"/>
              </a:xfrm>
              <a:custGeom>
                <a:avLst/>
                <a:gdLst/>
                <a:ahLst/>
                <a:rect l="l" t="t" r="r" b="b"/>
                <a:pathLst>
                  <a:path w="30" h="22">
                    <a:moveTo>
                      <a:pt x="10" y="0"/>
                    </a:moveTo>
                    <a:lnTo>
                      <a:pt x="20" y="11"/>
                    </a:lnTo>
                    <a:lnTo>
                      <a:pt x="20" y="22"/>
                    </a:lnTo>
                    <a:lnTo>
                      <a:pt x="30" y="22"/>
                    </a:lnTo>
                    <a:lnTo>
                      <a:pt x="20" y="22"/>
                    </a:lnTo>
                    <a:lnTo>
                      <a:pt x="10" y="11"/>
                    </a:lnTo>
                    <a:lnTo>
                      <a:pt x="0" y="11"/>
                    </a:lnTo>
                    <a:lnTo>
                      <a:pt x="0" y="0"/>
                    </a:lnTo>
                    <a:lnTo>
                      <a:pt x="10" y="0"/>
                    </a:lnTo>
                  </a:path>
                </a:pathLst>
              </a:custGeom>
              <a:solidFill>
                <a:srgbClr val="179c82"/>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 name=""/>
              <p:cNvSpPr/>
              <p:nvPr/>
            </p:nvSpPr>
            <p:spPr>
              <a:xfrm>
                <a:off x="5311800" y="1849320"/>
                <a:ext cx="15840" cy="1800"/>
              </a:xfrm>
              <a:custGeom>
                <a:avLst/>
                <a:gdLst/>
                <a:ahLst/>
                <a:rect l="l" t="t" r="r" b="b"/>
                <a:pathLst>
                  <a:path w="10" h="0">
                    <a:moveTo>
                      <a:pt x="10" y="0"/>
                    </a:moveTo>
                    <a:lnTo>
                      <a:pt x="0" y="0"/>
                    </a:lnTo>
                    <a:lnTo>
                      <a:pt x="10" y="0"/>
                    </a:lnTo>
                    <a:lnTo>
                      <a:pt x="10" y="0"/>
                    </a:lnTo>
                    <a:close/>
                  </a:path>
                </a:pathLst>
              </a:custGeom>
              <a:solidFill>
                <a:srgbClr val="179c8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5311800" y="1849320"/>
                <a:ext cx="15840" cy="1800"/>
              </a:xfrm>
              <a:custGeom>
                <a:avLst/>
                <a:gdLst/>
                <a:ahLst/>
                <a:rect l="l" t="t" r="r" b="b"/>
                <a:pathLst>
                  <a:path w="10" h="0">
                    <a:moveTo>
                      <a:pt x="10" y="0"/>
                    </a:moveTo>
                    <a:lnTo>
                      <a:pt x="0" y="0"/>
                    </a:lnTo>
                    <a:lnTo>
                      <a:pt x="10" y="0"/>
                    </a:lnTo>
                  </a:path>
                </a:pathLst>
              </a:custGeom>
              <a:solidFill>
                <a:srgbClr val="179c82"/>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a:off x="2481120" y="1866960"/>
                <a:ext cx="63720" cy="54000"/>
              </a:xfrm>
              <a:custGeom>
                <a:avLst/>
                <a:gdLst/>
                <a:ahLst/>
                <a:rect l="l" t="t" r="r" b="b"/>
                <a:pathLst>
                  <a:path w="40" h="34">
                    <a:moveTo>
                      <a:pt x="0" y="34"/>
                    </a:moveTo>
                    <a:lnTo>
                      <a:pt x="10" y="23"/>
                    </a:lnTo>
                    <a:lnTo>
                      <a:pt x="30" y="11"/>
                    </a:lnTo>
                    <a:lnTo>
                      <a:pt x="40" y="0"/>
                    </a:lnTo>
                    <a:lnTo>
                      <a:pt x="40" y="11"/>
                    </a:lnTo>
                    <a:lnTo>
                      <a:pt x="30" y="23"/>
                    </a:lnTo>
                    <a:lnTo>
                      <a:pt x="20" y="34"/>
                    </a:lnTo>
                    <a:lnTo>
                      <a:pt x="10" y="34"/>
                    </a:lnTo>
                    <a:lnTo>
                      <a:pt x="0" y="34"/>
                    </a:lnTo>
                    <a:lnTo>
                      <a:pt x="0" y="34"/>
                    </a:lnTo>
                    <a:close/>
                  </a:path>
                </a:pathLst>
              </a:custGeom>
              <a:solidFill>
                <a:srgbClr val="179c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481120" y="1866960"/>
                <a:ext cx="63720" cy="54000"/>
              </a:xfrm>
              <a:custGeom>
                <a:avLst/>
                <a:gdLst/>
                <a:ahLst/>
                <a:rect l="l" t="t" r="r" b="b"/>
                <a:pathLst>
                  <a:path w="40" h="34">
                    <a:moveTo>
                      <a:pt x="0" y="34"/>
                    </a:moveTo>
                    <a:lnTo>
                      <a:pt x="10" y="23"/>
                    </a:lnTo>
                    <a:lnTo>
                      <a:pt x="30" y="11"/>
                    </a:lnTo>
                    <a:lnTo>
                      <a:pt x="40" y="0"/>
                    </a:lnTo>
                    <a:lnTo>
                      <a:pt x="40" y="11"/>
                    </a:lnTo>
                    <a:lnTo>
                      <a:pt x="30" y="23"/>
                    </a:lnTo>
                    <a:lnTo>
                      <a:pt x="20" y="34"/>
                    </a:lnTo>
                    <a:lnTo>
                      <a:pt x="10" y="34"/>
                    </a:lnTo>
                    <a:lnTo>
                      <a:pt x="0" y="34"/>
                    </a:lnTo>
                  </a:path>
                </a:pathLst>
              </a:custGeom>
              <a:solidFill>
                <a:srgbClr val="179c82"/>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6615000" y="1940040"/>
                <a:ext cx="95400" cy="90360"/>
              </a:xfrm>
              <a:custGeom>
                <a:avLst/>
                <a:gdLst/>
                <a:ahLst/>
                <a:rect l="l" t="t" r="r" b="b"/>
                <a:pathLst>
                  <a:path w="60" h="57">
                    <a:moveTo>
                      <a:pt x="10" y="0"/>
                    </a:moveTo>
                    <a:lnTo>
                      <a:pt x="20" y="11"/>
                    </a:lnTo>
                    <a:lnTo>
                      <a:pt x="40" y="22"/>
                    </a:lnTo>
                    <a:lnTo>
                      <a:pt x="50" y="34"/>
                    </a:lnTo>
                    <a:lnTo>
                      <a:pt x="50" y="45"/>
                    </a:lnTo>
                    <a:lnTo>
                      <a:pt x="60" y="45"/>
                    </a:lnTo>
                    <a:lnTo>
                      <a:pt x="60" y="57"/>
                    </a:lnTo>
                    <a:lnTo>
                      <a:pt x="50" y="34"/>
                    </a:lnTo>
                    <a:lnTo>
                      <a:pt x="40" y="22"/>
                    </a:lnTo>
                    <a:lnTo>
                      <a:pt x="30" y="0"/>
                    </a:lnTo>
                    <a:lnTo>
                      <a:pt x="20" y="0"/>
                    </a:lnTo>
                    <a:lnTo>
                      <a:pt x="10" y="0"/>
                    </a:lnTo>
                    <a:lnTo>
                      <a:pt x="20" y="0"/>
                    </a:lnTo>
                    <a:lnTo>
                      <a:pt x="20" y="11"/>
                    </a:lnTo>
                    <a:lnTo>
                      <a:pt x="10" y="11"/>
                    </a:lnTo>
                    <a:lnTo>
                      <a:pt x="0" y="0"/>
                    </a:lnTo>
                    <a:lnTo>
                      <a:pt x="10" y="0"/>
                    </a:lnTo>
                    <a:lnTo>
                      <a:pt x="10" y="0"/>
                    </a:lnTo>
                    <a:close/>
                  </a:path>
                </a:pathLst>
              </a:custGeom>
              <a:solidFill>
                <a:srgbClr val="179c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6615000" y="1940040"/>
                <a:ext cx="95400" cy="90360"/>
              </a:xfrm>
              <a:custGeom>
                <a:avLst/>
                <a:gdLst/>
                <a:ahLst/>
                <a:rect l="l" t="t" r="r" b="b"/>
                <a:pathLst>
                  <a:path w="60" h="57">
                    <a:moveTo>
                      <a:pt x="10" y="0"/>
                    </a:moveTo>
                    <a:lnTo>
                      <a:pt x="20" y="11"/>
                    </a:lnTo>
                    <a:lnTo>
                      <a:pt x="40" y="22"/>
                    </a:lnTo>
                    <a:lnTo>
                      <a:pt x="50" y="34"/>
                    </a:lnTo>
                    <a:lnTo>
                      <a:pt x="50" y="45"/>
                    </a:lnTo>
                    <a:lnTo>
                      <a:pt x="60" y="45"/>
                    </a:lnTo>
                    <a:lnTo>
                      <a:pt x="60" y="57"/>
                    </a:lnTo>
                    <a:lnTo>
                      <a:pt x="50" y="34"/>
                    </a:lnTo>
                    <a:lnTo>
                      <a:pt x="40" y="22"/>
                    </a:lnTo>
                    <a:lnTo>
                      <a:pt x="30" y="0"/>
                    </a:lnTo>
                    <a:lnTo>
                      <a:pt x="20" y="0"/>
                    </a:lnTo>
                    <a:lnTo>
                      <a:pt x="10" y="0"/>
                    </a:lnTo>
                    <a:lnTo>
                      <a:pt x="20" y="0"/>
                    </a:lnTo>
                    <a:lnTo>
                      <a:pt x="20" y="11"/>
                    </a:lnTo>
                    <a:lnTo>
                      <a:pt x="10" y="11"/>
                    </a:lnTo>
                    <a:lnTo>
                      <a:pt x="0" y="0"/>
                    </a:lnTo>
                    <a:lnTo>
                      <a:pt x="10" y="0"/>
                    </a:lnTo>
                  </a:path>
                </a:pathLst>
              </a:custGeom>
              <a:solidFill>
                <a:srgbClr val="179c82"/>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6424560" y="1974960"/>
                <a:ext cx="31680" cy="36360"/>
              </a:xfrm>
              <a:custGeom>
                <a:avLst/>
                <a:gdLst/>
                <a:ahLst/>
                <a:rect l="l" t="t" r="r" b="b"/>
                <a:pathLst>
                  <a:path w="20" h="23">
                    <a:moveTo>
                      <a:pt x="0" y="0"/>
                    </a:moveTo>
                    <a:lnTo>
                      <a:pt x="10" y="0"/>
                    </a:lnTo>
                    <a:lnTo>
                      <a:pt x="20" y="12"/>
                    </a:lnTo>
                    <a:lnTo>
                      <a:pt x="20" y="23"/>
                    </a:lnTo>
                    <a:lnTo>
                      <a:pt x="0" y="0"/>
                    </a:lnTo>
                    <a:lnTo>
                      <a:pt x="0" y="0"/>
                    </a:lnTo>
                    <a:close/>
                  </a:path>
                </a:pathLst>
              </a:custGeom>
              <a:solidFill>
                <a:srgbClr val="179c8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6424560" y="1974960"/>
                <a:ext cx="31680" cy="36360"/>
              </a:xfrm>
              <a:custGeom>
                <a:avLst/>
                <a:gdLst/>
                <a:ahLst/>
                <a:rect l="l" t="t" r="r" b="b"/>
                <a:pathLst>
                  <a:path w="20" h="23">
                    <a:moveTo>
                      <a:pt x="0" y="0"/>
                    </a:moveTo>
                    <a:lnTo>
                      <a:pt x="10" y="0"/>
                    </a:lnTo>
                    <a:lnTo>
                      <a:pt x="20" y="12"/>
                    </a:lnTo>
                    <a:lnTo>
                      <a:pt x="20" y="23"/>
                    </a:lnTo>
                    <a:lnTo>
                      <a:pt x="0" y="0"/>
                    </a:lnTo>
                  </a:path>
                </a:pathLst>
              </a:custGeom>
              <a:solidFill>
                <a:srgbClr val="179c82"/>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6" name=""/>
              <p:cNvSpPr/>
              <p:nvPr/>
            </p:nvSpPr>
            <p:spPr>
              <a:xfrm>
                <a:off x="5565600" y="1940040"/>
                <a:ext cx="63720" cy="71280"/>
              </a:xfrm>
              <a:custGeom>
                <a:avLst/>
                <a:gdLst/>
                <a:ahLst/>
                <a:rect l="l" t="t" r="r" b="b"/>
                <a:pathLst>
                  <a:path w="40" h="45">
                    <a:moveTo>
                      <a:pt x="10" y="22"/>
                    </a:moveTo>
                    <a:lnTo>
                      <a:pt x="10" y="45"/>
                    </a:lnTo>
                    <a:lnTo>
                      <a:pt x="0" y="22"/>
                    </a:lnTo>
                    <a:lnTo>
                      <a:pt x="0" y="11"/>
                    </a:lnTo>
                    <a:lnTo>
                      <a:pt x="20" y="0"/>
                    </a:lnTo>
                    <a:lnTo>
                      <a:pt x="30" y="0"/>
                    </a:lnTo>
                    <a:lnTo>
                      <a:pt x="40" y="0"/>
                    </a:lnTo>
                    <a:lnTo>
                      <a:pt x="30" y="11"/>
                    </a:lnTo>
                    <a:lnTo>
                      <a:pt x="10" y="22"/>
                    </a:lnTo>
                    <a:lnTo>
                      <a:pt x="10" y="22"/>
                    </a:lnTo>
                    <a:close/>
                  </a:path>
                </a:pathLst>
              </a:custGeom>
              <a:solidFill>
                <a:srgbClr val="179c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7" name=""/>
              <p:cNvSpPr/>
              <p:nvPr/>
            </p:nvSpPr>
            <p:spPr>
              <a:xfrm>
                <a:off x="5565600" y="1940040"/>
                <a:ext cx="63720" cy="71280"/>
              </a:xfrm>
              <a:custGeom>
                <a:avLst/>
                <a:gdLst/>
                <a:ahLst/>
                <a:rect l="l" t="t" r="r" b="b"/>
                <a:pathLst>
                  <a:path w="40" h="45">
                    <a:moveTo>
                      <a:pt x="10" y="22"/>
                    </a:moveTo>
                    <a:lnTo>
                      <a:pt x="10" y="45"/>
                    </a:lnTo>
                    <a:lnTo>
                      <a:pt x="0" y="22"/>
                    </a:lnTo>
                    <a:lnTo>
                      <a:pt x="0" y="11"/>
                    </a:lnTo>
                    <a:lnTo>
                      <a:pt x="20" y="0"/>
                    </a:lnTo>
                    <a:lnTo>
                      <a:pt x="30" y="0"/>
                    </a:lnTo>
                    <a:lnTo>
                      <a:pt x="40" y="0"/>
                    </a:lnTo>
                    <a:lnTo>
                      <a:pt x="30" y="11"/>
                    </a:lnTo>
                    <a:lnTo>
                      <a:pt x="10" y="22"/>
                    </a:lnTo>
                  </a:path>
                </a:pathLst>
              </a:custGeom>
              <a:solidFill>
                <a:srgbClr val="179c82"/>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8" name=""/>
              <p:cNvSpPr/>
              <p:nvPr/>
            </p:nvSpPr>
            <p:spPr>
              <a:xfrm>
                <a:off x="6234120" y="1974960"/>
                <a:ext cx="31680" cy="19080"/>
              </a:xfrm>
              <a:custGeom>
                <a:avLst/>
                <a:gdLst/>
                <a:ahLst/>
                <a:rect l="l" t="t" r="r" b="b"/>
                <a:pathLst>
                  <a:path w="20" h="12">
                    <a:moveTo>
                      <a:pt x="0" y="12"/>
                    </a:moveTo>
                    <a:lnTo>
                      <a:pt x="10" y="12"/>
                    </a:lnTo>
                    <a:lnTo>
                      <a:pt x="20" y="0"/>
                    </a:lnTo>
                    <a:lnTo>
                      <a:pt x="10" y="12"/>
                    </a:lnTo>
                    <a:lnTo>
                      <a:pt x="0" y="12"/>
                    </a:lnTo>
                    <a:lnTo>
                      <a:pt x="0" y="12"/>
                    </a:lnTo>
                    <a:close/>
                  </a:path>
                </a:pathLst>
              </a:custGeom>
              <a:solidFill>
                <a:srgbClr val="179c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9" name=""/>
              <p:cNvSpPr/>
              <p:nvPr/>
            </p:nvSpPr>
            <p:spPr>
              <a:xfrm>
                <a:off x="6234120" y="1974960"/>
                <a:ext cx="31680" cy="19080"/>
              </a:xfrm>
              <a:custGeom>
                <a:avLst/>
                <a:gdLst/>
                <a:ahLst/>
                <a:rect l="l" t="t" r="r" b="b"/>
                <a:pathLst>
                  <a:path w="20" h="12">
                    <a:moveTo>
                      <a:pt x="0" y="12"/>
                    </a:moveTo>
                    <a:lnTo>
                      <a:pt x="10" y="12"/>
                    </a:lnTo>
                    <a:lnTo>
                      <a:pt x="20" y="0"/>
                    </a:lnTo>
                    <a:lnTo>
                      <a:pt x="10" y="12"/>
                    </a:lnTo>
                    <a:lnTo>
                      <a:pt x="0" y="12"/>
                    </a:lnTo>
                  </a:path>
                </a:pathLst>
              </a:custGeom>
              <a:solidFill>
                <a:srgbClr val="179c8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3213000" y="1957320"/>
                <a:ext cx="31680" cy="54000"/>
              </a:xfrm>
              <a:custGeom>
                <a:avLst/>
                <a:gdLst/>
                <a:ahLst/>
                <a:rect l="l" t="t" r="r" b="b"/>
                <a:pathLst>
                  <a:path w="20" h="34">
                    <a:moveTo>
                      <a:pt x="20" y="11"/>
                    </a:moveTo>
                    <a:lnTo>
                      <a:pt x="20" y="23"/>
                    </a:lnTo>
                    <a:lnTo>
                      <a:pt x="10" y="34"/>
                    </a:lnTo>
                    <a:lnTo>
                      <a:pt x="0" y="34"/>
                    </a:lnTo>
                    <a:lnTo>
                      <a:pt x="0" y="23"/>
                    </a:lnTo>
                    <a:lnTo>
                      <a:pt x="0" y="11"/>
                    </a:lnTo>
                    <a:lnTo>
                      <a:pt x="0" y="0"/>
                    </a:lnTo>
                    <a:lnTo>
                      <a:pt x="0" y="11"/>
                    </a:lnTo>
                    <a:lnTo>
                      <a:pt x="0" y="23"/>
                    </a:lnTo>
                    <a:lnTo>
                      <a:pt x="10" y="23"/>
                    </a:lnTo>
                    <a:lnTo>
                      <a:pt x="20" y="11"/>
                    </a:lnTo>
                    <a:lnTo>
                      <a:pt x="20" y="11"/>
                    </a:lnTo>
                    <a:close/>
                  </a:path>
                </a:pathLst>
              </a:custGeom>
              <a:solidFill>
                <a:srgbClr val="179c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a:off x="3213000" y="1957320"/>
                <a:ext cx="31680" cy="54000"/>
              </a:xfrm>
              <a:custGeom>
                <a:avLst/>
                <a:gdLst/>
                <a:ahLst/>
                <a:rect l="l" t="t" r="r" b="b"/>
                <a:pathLst>
                  <a:path w="20" h="34">
                    <a:moveTo>
                      <a:pt x="20" y="11"/>
                    </a:moveTo>
                    <a:lnTo>
                      <a:pt x="20" y="23"/>
                    </a:lnTo>
                    <a:lnTo>
                      <a:pt x="10" y="34"/>
                    </a:lnTo>
                    <a:lnTo>
                      <a:pt x="0" y="34"/>
                    </a:lnTo>
                    <a:lnTo>
                      <a:pt x="0" y="23"/>
                    </a:lnTo>
                    <a:lnTo>
                      <a:pt x="0" y="11"/>
                    </a:lnTo>
                    <a:lnTo>
                      <a:pt x="0" y="0"/>
                    </a:lnTo>
                    <a:lnTo>
                      <a:pt x="0" y="11"/>
                    </a:lnTo>
                    <a:lnTo>
                      <a:pt x="0" y="23"/>
                    </a:lnTo>
                    <a:lnTo>
                      <a:pt x="10" y="23"/>
                    </a:lnTo>
                    <a:lnTo>
                      <a:pt x="20" y="11"/>
                    </a:lnTo>
                  </a:path>
                </a:pathLst>
              </a:custGeom>
              <a:solidFill>
                <a:srgbClr val="179c82"/>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a:off x="2481120" y="1994040"/>
                <a:ext cx="32040" cy="17280"/>
              </a:xfrm>
              <a:custGeom>
                <a:avLst/>
                <a:gdLst/>
                <a:ahLst/>
                <a:rect l="l" t="t" r="r" b="b"/>
                <a:pathLst>
                  <a:path w="20" h="11">
                    <a:moveTo>
                      <a:pt x="20" y="0"/>
                    </a:moveTo>
                    <a:lnTo>
                      <a:pt x="10" y="0"/>
                    </a:lnTo>
                    <a:lnTo>
                      <a:pt x="10" y="11"/>
                    </a:lnTo>
                    <a:lnTo>
                      <a:pt x="0" y="11"/>
                    </a:lnTo>
                    <a:lnTo>
                      <a:pt x="10" y="11"/>
                    </a:lnTo>
                    <a:lnTo>
                      <a:pt x="10" y="0"/>
                    </a:lnTo>
                    <a:lnTo>
                      <a:pt x="20" y="0"/>
                    </a:lnTo>
                    <a:lnTo>
                      <a:pt x="20" y="0"/>
                    </a:lnTo>
                    <a:close/>
                  </a:path>
                </a:pathLst>
              </a:custGeom>
              <a:solidFill>
                <a:srgbClr val="179c8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2481120" y="1994040"/>
                <a:ext cx="32040" cy="17280"/>
              </a:xfrm>
              <a:custGeom>
                <a:avLst/>
                <a:gdLst/>
                <a:ahLst/>
                <a:rect l="l" t="t" r="r" b="b"/>
                <a:pathLst>
                  <a:path w="20" h="11">
                    <a:moveTo>
                      <a:pt x="20" y="0"/>
                    </a:moveTo>
                    <a:lnTo>
                      <a:pt x="10" y="0"/>
                    </a:lnTo>
                    <a:lnTo>
                      <a:pt x="10" y="11"/>
                    </a:lnTo>
                    <a:lnTo>
                      <a:pt x="0" y="11"/>
                    </a:lnTo>
                    <a:lnTo>
                      <a:pt x="10" y="11"/>
                    </a:lnTo>
                    <a:lnTo>
                      <a:pt x="10" y="0"/>
                    </a:lnTo>
                    <a:lnTo>
                      <a:pt x="20" y="0"/>
                    </a:lnTo>
                  </a:path>
                </a:pathLst>
              </a:custGeom>
              <a:solidFill>
                <a:srgbClr val="179c82"/>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4" name=""/>
              <p:cNvSpPr/>
              <p:nvPr/>
            </p:nvSpPr>
            <p:spPr>
              <a:xfrm>
                <a:off x="6742080" y="1940040"/>
                <a:ext cx="79560" cy="125280"/>
              </a:xfrm>
              <a:custGeom>
                <a:avLst/>
                <a:gdLst/>
                <a:ahLst/>
                <a:rect l="l" t="t" r="r" b="b"/>
                <a:pathLst>
                  <a:path w="50" h="79">
                    <a:moveTo>
                      <a:pt x="30" y="0"/>
                    </a:moveTo>
                    <a:lnTo>
                      <a:pt x="40" y="22"/>
                    </a:lnTo>
                    <a:lnTo>
                      <a:pt x="40" y="34"/>
                    </a:lnTo>
                    <a:lnTo>
                      <a:pt x="50" y="45"/>
                    </a:lnTo>
                    <a:lnTo>
                      <a:pt x="40" y="57"/>
                    </a:lnTo>
                    <a:lnTo>
                      <a:pt x="40" y="68"/>
                    </a:lnTo>
                    <a:lnTo>
                      <a:pt x="30" y="79"/>
                    </a:lnTo>
                    <a:lnTo>
                      <a:pt x="20" y="79"/>
                    </a:lnTo>
                    <a:lnTo>
                      <a:pt x="10" y="79"/>
                    </a:lnTo>
                    <a:lnTo>
                      <a:pt x="0" y="79"/>
                    </a:lnTo>
                    <a:lnTo>
                      <a:pt x="10" y="68"/>
                    </a:lnTo>
                    <a:lnTo>
                      <a:pt x="20" y="68"/>
                    </a:lnTo>
                    <a:lnTo>
                      <a:pt x="30" y="68"/>
                    </a:lnTo>
                    <a:lnTo>
                      <a:pt x="30" y="34"/>
                    </a:lnTo>
                    <a:lnTo>
                      <a:pt x="30" y="22"/>
                    </a:lnTo>
                    <a:lnTo>
                      <a:pt x="30" y="11"/>
                    </a:lnTo>
                    <a:lnTo>
                      <a:pt x="30" y="0"/>
                    </a:lnTo>
                    <a:lnTo>
                      <a:pt x="30" y="0"/>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742080" y="1940040"/>
                <a:ext cx="79560" cy="125280"/>
              </a:xfrm>
              <a:custGeom>
                <a:avLst/>
                <a:gdLst/>
                <a:ahLst/>
                <a:rect l="l" t="t" r="r" b="b"/>
                <a:pathLst>
                  <a:path w="50" h="79">
                    <a:moveTo>
                      <a:pt x="30" y="0"/>
                    </a:moveTo>
                    <a:lnTo>
                      <a:pt x="40" y="22"/>
                    </a:lnTo>
                    <a:lnTo>
                      <a:pt x="40" y="34"/>
                    </a:lnTo>
                    <a:lnTo>
                      <a:pt x="50" y="45"/>
                    </a:lnTo>
                    <a:lnTo>
                      <a:pt x="40" y="57"/>
                    </a:lnTo>
                    <a:lnTo>
                      <a:pt x="40" y="68"/>
                    </a:lnTo>
                    <a:lnTo>
                      <a:pt x="30" y="79"/>
                    </a:lnTo>
                    <a:lnTo>
                      <a:pt x="20" y="79"/>
                    </a:lnTo>
                    <a:lnTo>
                      <a:pt x="10" y="79"/>
                    </a:lnTo>
                    <a:lnTo>
                      <a:pt x="0" y="79"/>
                    </a:lnTo>
                    <a:lnTo>
                      <a:pt x="10" y="68"/>
                    </a:lnTo>
                    <a:lnTo>
                      <a:pt x="20" y="68"/>
                    </a:lnTo>
                    <a:lnTo>
                      <a:pt x="30" y="68"/>
                    </a:lnTo>
                    <a:lnTo>
                      <a:pt x="30" y="34"/>
                    </a:lnTo>
                    <a:lnTo>
                      <a:pt x="30" y="22"/>
                    </a:lnTo>
                    <a:lnTo>
                      <a:pt x="30" y="11"/>
                    </a:lnTo>
                    <a:lnTo>
                      <a:pt x="30" y="0"/>
                    </a:lnTo>
                  </a:path>
                </a:pathLst>
              </a:custGeom>
              <a:solidFill>
                <a:srgbClr val="179c8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465280" y="2030400"/>
                <a:ext cx="15840" cy="1440"/>
              </a:xfrm>
              <a:custGeom>
                <a:avLst/>
                <a:gdLst/>
                <a:ahLst/>
                <a:rect l="l" t="t" r="r" b="b"/>
                <a:pathLst>
                  <a:path w="10" h="0">
                    <a:moveTo>
                      <a:pt x="10" y="0"/>
                    </a:moveTo>
                    <a:lnTo>
                      <a:pt x="0" y="0"/>
                    </a:lnTo>
                    <a:lnTo>
                      <a:pt x="10" y="0"/>
                    </a:lnTo>
                    <a:lnTo>
                      <a:pt x="10"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2465280" y="2030400"/>
                <a:ext cx="15840" cy="1440"/>
              </a:xfrm>
              <a:custGeom>
                <a:avLst/>
                <a:gdLst/>
                <a:ahLst/>
                <a:rect l="l" t="t" r="r" b="b"/>
                <a:pathLst>
                  <a:path w="10" h="0">
                    <a:moveTo>
                      <a:pt x="10" y="0"/>
                    </a:moveTo>
                    <a:lnTo>
                      <a:pt x="0" y="0"/>
                    </a:lnTo>
                    <a:lnTo>
                      <a:pt x="10" y="0"/>
                    </a:lnTo>
                  </a:path>
                </a:pathLst>
              </a:custGeom>
              <a:solidFill>
                <a:srgbClr val="179c82"/>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2513160" y="1994040"/>
                <a:ext cx="47520" cy="108000"/>
              </a:xfrm>
              <a:custGeom>
                <a:avLst/>
                <a:gdLst/>
                <a:ahLst/>
                <a:rect l="l" t="t" r="r" b="b"/>
                <a:pathLst>
                  <a:path w="30" h="68">
                    <a:moveTo>
                      <a:pt x="10" y="23"/>
                    </a:moveTo>
                    <a:lnTo>
                      <a:pt x="30" y="0"/>
                    </a:lnTo>
                    <a:lnTo>
                      <a:pt x="30" y="23"/>
                    </a:lnTo>
                    <a:lnTo>
                      <a:pt x="10" y="68"/>
                    </a:lnTo>
                    <a:lnTo>
                      <a:pt x="0" y="68"/>
                    </a:lnTo>
                    <a:lnTo>
                      <a:pt x="0" y="45"/>
                    </a:lnTo>
                    <a:lnTo>
                      <a:pt x="10" y="34"/>
                    </a:lnTo>
                    <a:lnTo>
                      <a:pt x="10" y="23"/>
                    </a:lnTo>
                    <a:lnTo>
                      <a:pt x="10" y="23"/>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513160" y="1994040"/>
                <a:ext cx="47520" cy="108000"/>
              </a:xfrm>
              <a:custGeom>
                <a:avLst/>
                <a:gdLst/>
                <a:ahLst/>
                <a:rect l="l" t="t" r="r" b="b"/>
                <a:pathLst>
                  <a:path w="30" h="68">
                    <a:moveTo>
                      <a:pt x="10" y="23"/>
                    </a:moveTo>
                    <a:lnTo>
                      <a:pt x="30" y="0"/>
                    </a:lnTo>
                    <a:lnTo>
                      <a:pt x="30" y="23"/>
                    </a:lnTo>
                    <a:lnTo>
                      <a:pt x="10" y="68"/>
                    </a:lnTo>
                    <a:lnTo>
                      <a:pt x="0" y="68"/>
                    </a:lnTo>
                    <a:lnTo>
                      <a:pt x="0" y="45"/>
                    </a:lnTo>
                    <a:lnTo>
                      <a:pt x="10" y="34"/>
                    </a:lnTo>
                    <a:lnTo>
                      <a:pt x="10" y="23"/>
                    </a:lnTo>
                  </a:path>
                </a:pathLst>
              </a:custGeom>
              <a:solidFill>
                <a:srgbClr val="179c8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05280" y="2084400"/>
                <a:ext cx="31680" cy="17640"/>
              </a:xfrm>
              <a:custGeom>
                <a:avLst/>
                <a:gdLst/>
                <a:ahLst/>
                <a:rect l="l" t="t" r="r" b="b"/>
                <a:pathLst>
                  <a:path w="20" h="11">
                    <a:moveTo>
                      <a:pt x="20" y="0"/>
                    </a:moveTo>
                    <a:lnTo>
                      <a:pt x="10" y="0"/>
                    </a:lnTo>
                    <a:lnTo>
                      <a:pt x="0" y="11"/>
                    </a:lnTo>
                    <a:lnTo>
                      <a:pt x="10" y="0"/>
                    </a:lnTo>
                    <a:lnTo>
                      <a:pt x="20" y="0"/>
                    </a:lnTo>
                    <a:lnTo>
                      <a:pt x="20" y="0"/>
                    </a:lnTo>
                    <a:close/>
                  </a:path>
                </a:pathLst>
              </a:custGeom>
              <a:solidFill>
                <a:srgbClr val="179c8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1" name=""/>
              <p:cNvSpPr/>
              <p:nvPr/>
            </p:nvSpPr>
            <p:spPr>
              <a:xfrm>
                <a:off x="3005280" y="2084400"/>
                <a:ext cx="31680" cy="17640"/>
              </a:xfrm>
              <a:custGeom>
                <a:avLst/>
                <a:gdLst/>
                <a:ahLst/>
                <a:rect l="l" t="t" r="r" b="b"/>
                <a:pathLst>
                  <a:path w="20" h="11">
                    <a:moveTo>
                      <a:pt x="20" y="0"/>
                    </a:moveTo>
                    <a:lnTo>
                      <a:pt x="10" y="0"/>
                    </a:lnTo>
                    <a:lnTo>
                      <a:pt x="0" y="11"/>
                    </a:lnTo>
                    <a:lnTo>
                      <a:pt x="10" y="0"/>
                    </a:lnTo>
                    <a:lnTo>
                      <a:pt x="20" y="0"/>
                    </a:lnTo>
                  </a:path>
                </a:pathLst>
              </a:custGeom>
              <a:solidFill>
                <a:srgbClr val="179c82"/>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 name=""/>
              <p:cNvSpPr/>
              <p:nvPr/>
            </p:nvSpPr>
            <p:spPr>
              <a:xfrm>
                <a:off x="6535800" y="2102040"/>
                <a:ext cx="1440" cy="18720"/>
              </a:xfrm>
              <a:custGeom>
                <a:avLst/>
                <a:gdLst/>
                <a:ahLst/>
                <a:rect l="l" t="t" r="r" b="b"/>
                <a:pathLst>
                  <a:path w="0" h="12">
                    <a:moveTo>
                      <a:pt x="0" y="0"/>
                    </a:moveTo>
                    <a:lnTo>
                      <a:pt x="0" y="12"/>
                    </a:lnTo>
                    <a:lnTo>
                      <a:pt x="0" y="0"/>
                    </a:lnTo>
                    <a:lnTo>
                      <a:pt x="0" y="0"/>
                    </a:lnTo>
                    <a:close/>
                  </a:path>
                </a:pathLst>
              </a:custGeom>
              <a:solidFill>
                <a:srgbClr val="179c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3" name=""/>
              <p:cNvSpPr/>
              <p:nvPr/>
            </p:nvSpPr>
            <p:spPr>
              <a:xfrm>
                <a:off x="6535800" y="2102040"/>
                <a:ext cx="1440" cy="18720"/>
              </a:xfrm>
              <a:custGeom>
                <a:avLst/>
                <a:gdLst/>
                <a:ahLst/>
                <a:rect l="l" t="t" r="r" b="b"/>
                <a:pathLst>
                  <a:path w="0" h="12">
                    <a:moveTo>
                      <a:pt x="0" y="0"/>
                    </a:moveTo>
                    <a:lnTo>
                      <a:pt x="0" y="12"/>
                    </a:lnTo>
                    <a:lnTo>
                      <a:pt x="0" y="0"/>
                    </a:lnTo>
                  </a:path>
                </a:pathLst>
              </a:custGeom>
              <a:solidFill>
                <a:srgbClr val="179c82"/>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4" name=""/>
              <p:cNvSpPr/>
              <p:nvPr/>
            </p:nvSpPr>
            <p:spPr>
              <a:xfrm>
                <a:off x="5533920" y="2065320"/>
                <a:ext cx="15840" cy="90360"/>
              </a:xfrm>
              <a:custGeom>
                <a:avLst/>
                <a:gdLst/>
                <a:ahLst/>
                <a:rect l="l" t="t" r="r" b="b"/>
                <a:pathLst>
                  <a:path w="10" h="57">
                    <a:moveTo>
                      <a:pt x="0" y="57"/>
                    </a:moveTo>
                    <a:lnTo>
                      <a:pt x="0" y="35"/>
                    </a:lnTo>
                    <a:lnTo>
                      <a:pt x="10" y="23"/>
                    </a:lnTo>
                    <a:lnTo>
                      <a:pt x="10" y="0"/>
                    </a:lnTo>
                    <a:lnTo>
                      <a:pt x="0" y="12"/>
                    </a:lnTo>
                    <a:lnTo>
                      <a:pt x="10" y="23"/>
                    </a:lnTo>
                    <a:lnTo>
                      <a:pt x="10" y="35"/>
                    </a:lnTo>
                    <a:lnTo>
                      <a:pt x="0" y="35"/>
                    </a:lnTo>
                    <a:lnTo>
                      <a:pt x="0" y="46"/>
                    </a:lnTo>
                    <a:lnTo>
                      <a:pt x="0" y="57"/>
                    </a:lnTo>
                    <a:lnTo>
                      <a:pt x="0" y="57"/>
                    </a:lnTo>
                    <a:close/>
                  </a:path>
                </a:pathLst>
              </a:custGeom>
              <a:solidFill>
                <a:srgbClr val="179c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5533920" y="2065320"/>
                <a:ext cx="15840" cy="90360"/>
              </a:xfrm>
              <a:custGeom>
                <a:avLst/>
                <a:gdLst/>
                <a:ahLst/>
                <a:rect l="l" t="t" r="r" b="b"/>
                <a:pathLst>
                  <a:path w="10" h="57">
                    <a:moveTo>
                      <a:pt x="0" y="57"/>
                    </a:moveTo>
                    <a:lnTo>
                      <a:pt x="0" y="35"/>
                    </a:lnTo>
                    <a:lnTo>
                      <a:pt x="10" y="23"/>
                    </a:lnTo>
                    <a:lnTo>
                      <a:pt x="10" y="0"/>
                    </a:lnTo>
                    <a:lnTo>
                      <a:pt x="0" y="12"/>
                    </a:lnTo>
                    <a:lnTo>
                      <a:pt x="10" y="23"/>
                    </a:lnTo>
                    <a:lnTo>
                      <a:pt x="10" y="35"/>
                    </a:lnTo>
                    <a:lnTo>
                      <a:pt x="0" y="35"/>
                    </a:lnTo>
                    <a:lnTo>
                      <a:pt x="0" y="46"/>
                    </a:lnTo>
                    <a:lnTo>
                      <a:pt x="0" y="57"/>
                    </a:lnTo>
                  </a:path>
                </a:pathLst>
              </a:custGeom>
              <a:solidFill>
                <a:srgbClr val="179c82"/>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2529000" y="2120760"/>
                <a:ext cx="31680" cy="34920"/>
              </a:xfrm>
              <a:custGeom>
                <a:avLst/>
                <a:gdLst/>
                <a:ahLst/>
                <a:rect l="l" t="t" r="r" b="b"/>
                <a:pathLst>
                  <a:path w="20" h="22">
                    <a:moveTo>
                      <a:pt x="20" y="0"/>
                    </a:moveTo>
                    <a:lnTo>
                      <a:pt x="10" y="11"/>
                    </a:lnTo>
                    <a:lnTo>
                      <a:pt x="0" y="22"/>
                    </a:lnTo>
                    <a:lnTo>
                      <a:pt x="10" y="11"/>
                    </a:lnTo>
                    <a:lnTo>
                      <a:pt x="20" y="0"/>
                    </a:lnTo>
                    <a:lnTo>
                      <a:pt x="20" y="0"/>
                    </a:lnTo>
                    <a:close/>
                  </a:path>
                </a:pathLst>
              </a:custGeom>
              <a:solidFill>
                <a:srgbClr val="179c8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7" name=""/>
              <p:cNvSpPr/>
              <p:nvPr/>
            </p:nvSpPr>
            <p:spPr>
              <a:xfrm>
                <a:off x="2529000" y="2120760"/>
                <a:ext cx="31680" cy="34920"/>
              </a:xfrm>
              <a:custGeom>
                <a:avLst/>
                <a:gdLst/>
                <a:ahLst/>
                <a:rect l="l" t="t" r="r" b="b"/>
                <a:pathLst>
                  <a:path w="20" h="22">
                    <a:moveTo>
                      <a:pt x="20" y="0"/>
                    </a:moveTo>
                    <a:lnTo>
                      <a:pt x="10" y="11"/>
                    </a:lnTo>
                    <a:lnTo>
                      <a:pt x="0" y="22"/>
                    </a:lnTo>
                    <a:lnTo>
                      <a:pt x="10" y="11"/>
                    </a:lnTo>
                    <a:lnTo>
                      <a:pt x="20" y="0"/>
                    </a:lnTo>
                  </a:path>
                </a:pathLst>
              </a:custGeom>
              <a:solidFill>
                <a:srgbClr val="179c82"/>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8" name=""/>
              <p:cNvSpPr/>
              <p:nvPr/>
            </p:nvSpPr>
            <p:spPr>
              <a:xfrm>
                <a:off x="6361200" y="2138400"/>
                <a:ext cx="15840" cy="54000"/>
              </a:xfrm>
              <a:custGeom>
                <a:avLst/>
                <a:gdLst/>
                <a:ahLst/>
                <a:rect l="l" t="t" r="r" b="b"/>
                <a:pathLst>
                  <a:path w="10" h="34">
                    <a:moveTo>
                      <a:pt x="10" y="34"/>
                    </a:moveTo>
                    <a:lnTo>
                      <a:pt x="10" y="23"/>
                    </a:lnTo>
                    <a:lnTo>
                      <a:pt x="10" y="11"/>
                    </a:lnTo>
                    <a:lnTo>
                      <a:pt x="0" y="0"/>
                    </a:lnTo>
                    <a:lnTo>
                      <a:pt x="0" y="11"/>
                    </a:lnTo>
                    <a:lnTo>
                      <a:pt x="10" y="23"/>
                    </a:lnTo>
                    <a:lnTo>
                      <a:pt x="10" y="34"/>
                    </a:lnTo>
                    <a:lnTo>
                      <a:pt x="10" y="34"/>
                    </a:lnTo>
                    <a:close/>
                  </a:path>
                </a:pathLst>
              </a:custGeom>
              <a:solidFill>
                <a:srgbClr val="179c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a:off x="6361200" y="2138400"/>
                <a:ext cx="15840" cy="54000"/>
              </a:xfrm>
              <a:custGeom>
                <a:avLst/>
                <a:gdLst/>
                <a:ahLst/>
                <a:rect l="l" t="t" r="r" b="b"/>
                <a:pathLst>
                  <a:path w="10" h="34">
                    <a:moveTo>
                      <a:pt x="10" y="34"/>
                    </a:moveTo>
                    <a:lnTo>
                      <a:pt x="10" y="23"/>
                    </a:lnTo>
                    <a:lnTo>
                      <a:pt x="10" y="11"/>
                    </a:lnTo>
                    <a:lnTo>
                      <a:pt x="0" y="0"/>
                    </a:lnTo>
                    <a:lnTo>
                      <a:pt x="0" y="11"/>
                    </a:lnTo>
                    <a:lnTo>
                      <a:pt x="10" y="23"/>
                    </a:lnTo>
                    <a:lnTo>
                      <a:pt x="10" y="34"/>
                    </a:lnTo>
                  </a:path>
                </a:pathLst>
              </a:custGeom>
              <a:solidFill>
                <a:srgbClr val="179c82"/>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a:off x="5486400" y="2138400"/>
                <a:ext cx="15840" cy="54000"/>
              </a:xfrm>
              <a:custGeom>
                <a:avLst/>
                <a:gdLst/>
                <a:ahLst/>
                <a:rect l="l" t="t" r="r" b="b"/>
                <a:pathLst>
                  <a:path w="10" h="34">
                    <a:moveTo>
                      <a:pt x="10" y="0"/>
                    </a:moveTo>
                    <a:lnTo>
                      <a:pt x="0" y="11"/>
                    </a:lnTo>
                    <a:lnTo>
                      <a:pt x="0" y="23"/>
                    </a:lnTo>
                    <a:lnTo>
                      <a:pt x="0" y="34"/>
                    </a:lnTo>
                    <a:lnTo>
                      <a:pt x="10" y="23"/>
                    </a:lnTo>
                    <a:lnTo>
                      <a:pt x="10" y="0"/>
                    </a:lnTo>
                    <a:lnTo>
                      <a:pt x="10" y="0"/>
                    </a:lnTo>
                    <a:close/>
                  </a:path>
                </a:pathLst>
              </a:custGeom>
              <a:solidFill>
                <a:srgbClr val="179c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1" name=""/>
              <p:cNvSpPr/>
              <p:nvPr/>
            </p:nvSpPr>
            <p:spPr>
              <a:xfrm>
                <a:off x="5486400" y="2138400"/>
                <a:ext cx="15840" cy="54000"/>
              </a:xfrm>
              <a:custGeom>
                <a:avLst/>
                <a:gdLst/>
                <a:ahLst/>
                <a:rect l="l" t="t" r="r" b="b"/>
                <a:pathLst>
                  <a:path w="10" h="34">
                    <a:moveTo>
                      <a:pt x="10" y="0"/>
                    </a:moveTo>
                    <a:lnTo>
                      <a:pt x="0" y="11"/>
                    </a:lnTo>
                    <a:lnTo>
                      <a:pt x="0" y="23"/>
                    </a:lnTo>
                    <a:lnTo>
                      <a:pt x="0" y="34"/>
                    </a:lnTo>
                    <a:lnTo>
                      <a:pt x="10" y="23"/>
                    </a:lnTo>
                    <a:lnTo>
                      <a:pt x="10" y="0"/>
                    </a:lnTo>
                  </a:path>
                </a:pathLst>
              </a:custGeom>
              <a:solidFill>
                <a:srgbClr val="179c82"/>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a:off x="5248440" y="2120760"/>
                <a:ext cx="79200" cy="90720"/>
              </a:xfrm>
              <a:custGeom>
                <a:avLst/>
                <a:gdLst/>
                <a:ahLst/>
                <a:rect l="l" t="t" r="r" b="b"/>
                <a:pathLst>
                  <a:path w="50" h="57">
                    <a:moveTo>
                      <a:pt x="0" y="0"/>
                    </a:moveTo>
                    <a:lnTo>
                      <a:pt x="10" y="11"/>
                    </a:lnTo>
                    <a:lnTo>
                      <a:pt x="30" y="22"/>
                    </a:lnTo>
                    <a:lnTo>
                      <a:pt x="40" y="22"/>
                    </a:lnTo>
                    <a:lnTo>
                      <a:pt x="50" y="34"/>
                    </a:lnTo>
                    <a:lnTo>
                      <a:pt x="50" y="45"/>
                    </a:lnTo>
                    <a:lnTo>
                      <a:pt x="40" y="57"/>
                    </a:lnTo>
                    <a:lnTo>
                      <a:pt x="30" y="57"/>
                    </a:lnTo>
                    <a:lnTo>
                      <a:pt x="20" y="57"/>
                    </a:lnTo>
                    <a:lnTo>
                      <a:pt x="40" y="57"/>
                    </a:lnTo>
                    <a:lnTo>
                      <a:pt x="50" y="45"/>
                    </a:lnTo>
                    <a:lnTo>
                      <a:pt x="50" y="34"/>
                    </a:lnTo>
                    <a:lnTo>
                      <a:pt x="40" y="11"/>
                    </a:lnTo>
                    <a:lnTo>
                      <a:pt x="10" y="0"/>
                    </a:lnTo>
                    <a:lnTo>
                      <a:pt x="0" y="0"/>
                    </a:lnTo>
                    <a:lnTo>
                      <a:pt x="0" y="0"/>
                    </a:lnTo>
                    <a:close/>
                  </a:path>
                </a:pathLst>
              </a:custGeom>
              <a:solidFill>
                <a:srgbClr val="179c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3" name=""/>
              <p:cNvSpPr/>
              <p:nvPr/>
            </p:nvSpPr>
            <p:spPr>
              <a:xfrm>
                <a:off x="5248440" y="2120760"/>
                <a:ext cx="79200" cy="90720"/>
              </a:xfrm>
              <a:custGeom>
                <a:avLst/>
                <a:gdLst/>
                <a:ahLst/>
                <a:rect l="l" t="t" r="r" b="b"/>
                <a:pathLst>
                  <a:path w="50" h="57">
                    <a:moveTo>
                      <a:pt x="0" y="0"/>
                    </a:moveTo>
                    <a:lnTo>
                      <a:pt x="10" y="11"/>
                    </a:lnTo>
                    <a:lnTo>
                      <a:pt x="30" y="22"/>
                    </a:lnTo>
                    <a:lnTo>
                      <a:pt x="40" y="22"/>
                    </a:lnTo>
                    <a:lnTo>
                      <a:pt x="50" y="34"/>
                    </a:lnTo>
                    <a:lnTo>
                      <a:pt x="50" y="45"/>
                    </a:lnTo>
                    <a:lnTo>
                      <a:pt x="40" y="57"/>
                    </a:lnTo>
                    <a:lnTo>
                      <a:pt x="30" y="57"/>
                    </a:lnTo>
                    <a:lnTo>
                      <a:pt x="20" y="57"/>
                    </a:lnTo>
                    <a:lnTo>
                      <a:pt x="40" y="57"/>
                    </a:lnTo>
                    <a:lnTo>
                      <a:pt x="50" y="45"/>
                    </a:lnTo>
                    <a:lnTo>
                      <a:pt x="50" y="34"/>
                    </a:lnTo>
                    <a:lnTo>
                      <a:pt x="40" y="11"/>
                    </a:lnTo>
                    <a:lnTo>
                      <a:pt x="10" y="0"/>
                    </a:lnTo>
                    <a:lnTo>
                      <a:pt x="0" y="0"/>
                    </a:lnTo>
                  </a:path>
                </a:pathLst>
              </a:custGeom>
              <a:solidFill>
                <a:srgbClr val="179c82"/>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4" name=""/>
              <p:cNvSpPr/>
              <p:nvPr/>
            </p:nvSpPr>
            <p:spPr>
              <a:xfrm>
                <a:off x="6186600" y="2228760"/>
                <a:ext cx="1440" cy="36720"/>
              </a:xfrm>
              <a:custGeom>
                <a:avLst/>
                <a:gdLst/>
                <a:ahLst/>
                <a:rect l="l" t="t" r="r" b="b"/>
                <a:pathLst>
                  <a:path w="0" h="23">
                    <a:moveTo>
                      <a:pt x="0" y="0"/>
                    </a:moveTo>
                    <a:lnTo>
                      <a:pt x="0" y="11"/>
                    </a:lnTo>
                    <a:lnTo>
                      <a:pt x="0" y="23"/>
                    </a:lnTo>
                    <a:lnTo>
                      <a:pt x="0" y="11"/>
                    </a:lnTo>
                    <a:lnTo>
                      <a:pt x="0" y="0"/>
                    </a:lnTo>
                    <a:lnTo>
                      <a:pt x="0" y="0"/>
                    </a:lnTo>
                    <a:close/>
                  </a:path>
                </a:pathLst>
              </a:custGeom>
              <a:solidFill>
                <a:srgbClr val="179c8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
              <p:cNvSpPr/>
              <p:nvPr/>
            </p:nvSpPr>
            <p:spPr>
              <a:xfrm>
                <a:off x="6186600" y="2228760"/>
                <a:ext cx="1440" cy="36720"/>
              </a:xfrm>
              <a:custGeom>
                <a:avLst/>
                <a:gdLst/>
                <a:ahLst/>
                <a:rect l="l" t="t" r="r" b="b"/>
                <a:pathLst>
                  <a:path w="0" h="23">
                    <a:moveTo>
                      <a:pt x="0" y="0"/>
                    </a:moveTo>
                    <a:lnTo>
                      <a:pt x="0" y="11"/>
                    </a:lnTo>
                    <a:lnTo>
                      <a:pt x="0" y="23"/>
                    </a:lnTo>
                    <a:lnTo>
                      <a:pt x="0" y="11"/>
                    </a:lnTo>
                    <a:lnTo>
                      <a:pt x="0" y="0"/>
                    </a:lnTo>
                  </a:path>
                </a:pathLst>
              </a:custGeom>
              <a:solidFill>
                <a:srgbClr val="179c82"/>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6" name=""/>
              <p:cNvSpPr/>
              <p:nvPr/>
            </p:nvSpPr>
            <p:spPr>
              <a:xfrm>
                <a:off x="2576520" y="2138400"/>
                <a:ext cx="237960" cy="235080"/>
              </a:xfrm>
              <a:custGeom>
                <a:avLst/>
                <a:gdLst/>
                <a:ahLst/>
                <a:rect l="l" t="t" r="r" b="b"/>
                <a:pathLst>
                  <a:path w="150" h="148">
                    <a:moveTo>
                      <a:pt x="100" y="125"/>
                    </a:moveTo>
                    <a:lnTo>
                      <a:pt x="100" y="114"/>
                    </a:lnTo>
                    <a:lnTo>
                      <a:pt x="90" y="114"/>
                    </a:lnTo>
                    <a:lnTo>
                      <a:pt x="90" y="103"/>
                    </a:lnTo>
                    <a:lnTo>
                      <a:pt x="100" y="91"/>
                    </a:lnTo>
                    <a:lnTo>
                      <a:pt x="100" y="80"/>
                    </a:lnTo>
                    <a:lnTo>
                      <a:pt x="100" y="68"/>
                    </a:lnTo>
                    <a:lnTo>
                      <a:pt x="90" y="68"/>
                    </a:lnTo>
                    <a:lnTo>
                      <a:pt x="70" y="80"/>
                    </a:lnTo>
                    <a:lnTo>
                      <a:pt x="60" y="103"/>
                    </a:lnTo>
                    <a:lnTo>
                      <a:pt x="50" y="125"/>
                    </a:lnTo>
                    <a:lnTo>
                      <a:pt x="40" y="137"/>
                    </a:lnTo>
                    <a:lnTo>
                      <a:pt x="40" y="148"/>
                    </a:lnTo>
                    <a:lnTo>
                      <a:pt x="30" y="148"/>
                    </a:lnTo>
                    <a:lnTo>
                      <a:pt x="30" y="125"/>
                    </a:lnTo>
                    <a:lnTo>
                      <a:pt x="40" y="103"/>
                    </a:lnTo>
                    <a:lnTo>
                      <a:pt x="50" y="91"/>
                    </a:lnTo>
                    <a:lnTo>
                      <a:pt x="40" y="91"/>
                    </a:lnTo>
                    <a:lnTo>
                      <a:pt x="40" y="80"/>
                    </a:lnTo>
                    <a:lnTo>
                      <a:pt x="50" y="68"/>
                    </a:lnTo>
                    <a:lnTo>
                      <a:pt x="60" y="68"/>
                    </a:lnTo>
                    <a:lnTo>
                      <a:pt x="70" y="68"/>
                    </a:lnTo>
                    <a:lnTo>
                      <a:pt x="90" y="68"/>
                    </a:lnTo>
                    <a:lnTo>
                      <a:pt x="90" y="57"/>
                    </a:lnTo>
                    <a:lnTo>
                      <a:pt x="80" y="46"/>
                    </a:lnTo>
                    <a:lnTo>
                      <a:pt x="60" y="34"/>
                    </a:lnTo>
                    <a:lnTo>
                      <a:pt x="40" y="46"/>
                    </a:lnTo>
                    <a:lnTo>
                      <a:pt x="20" y="57"/>
                    </a:lnTo>
                    <a:lnTo>
                      <a:pt x="10" y="57"/>
                    </a:lnTo>
                    <a:lnTo>
                      <a:pt x="0" y="57"/>
                    </a:lnTo>
                    <a:lnTo>
                      <a:pt x="0" y="46"/>
                    </a:lnTo>
                    <a:lnTo>
                      <a:pt x="10" y="34"/>
                    </a:lnTo>
                    <a:lnTo>
                      <a:pt x="30" y="34"/>
                    </a:lnTo>
                    <a:lnTo>
                      <a:pt x="40" y="23"/>
                    </a:lnTo>
                    <a:lnTo>
                      <a:pt x="60" y="11"/>
                    </a:lnTo>
                    <a:lnTo>
                      <a:pt x="80" y="0"/>
                    </a:lnTo>
                    <a:lnTo>
                      <a:pt x="100" y="23"/>
                    </a:lnTo>
                    <a:lnTo>
                      <a:pt x="100" y="34"/>
                    </a:lnTo>
                    <a:lnTo>
                      <a:pt x="100" y="46"/>
                    </a:lnTo>
                    <a:lnTo>
                      <a:pt x="130" y="57"/>
                    </a:lnTo>
                    <a:lnTo>
                      <a:pt x="150" y="68"/>
                    </a:lnTo>
                    <a:lnTo>
                      <a:pt x="150" y="80"/>
                    </a:lnTo>
                    <a:lnTo>
                      <a:pt x="140" y="91"/>
                    </a:lnTo>
                    <a:lnTo>
                      <a:pt x="130" y="91"/>
                    </a:lnTo>
                    <a:lnTo>
                      <a:pt x="130" y="103"/>
                    </a:lnTo>
                    <a:lnTo>
                      <a:pt x="120" y="103"/>
                    </a:lnTo>
                    <a:lnTo>
                      <a:pt x="120" y="114"/>
                    </a:lnTo>
                    <a:lnTo>
                      <a:pt x="110" y="114"/>
                    </a:lnTo>
                    <a:lnTo>
                      <a:pt x="110" y="125"/>
                    </a:lnTo>
                    <a:lnTo>
                      <a:pt x="100" y="125"/>
                    </a:lnTo>
                    <a:lnTo>
                      <a:pt x="100" y="125"/>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76520" y="2138400"/>
                <a:ext cx="237960" cy="235080"/>
              </a:xfrm>
              <a:custGeom>
                <a:avLst/>
                <a:gdLst/>
                <a:ahLst/>
                <a:rect l="l" t="t" r="r" b="b"/>
                <a:pathLst>
                  <a:path w="150" h="148">
                    <a:moveTo>
                      <a:pt x="100" y="125"/>
                    </a:moveTo>
                    <a:lnTo>
                      <a:pt x="100" y="114"/>
                    </a:lnTo>
                    <a:lnTo>
                      <a:pt x="90" y="114"/>
                    </a:lnTo>
                    <a:lnTo>
                      <a:pt x="90" y="103"/>
                    </a:lnTo>
                    <a:lnTo>
                      <a:pt x="100" y="91"/>
                    </a:lnTo>
                    <a:lnTo>
                      <a:pt x="100" y="80"/>
                    </a:lnTo>
                    <a:lnTo>
                      <a:pt x="100" y="68"/>
                    </a:lnTo>
                    <a:lnTo>
                      <a:pt x="90" y="68"/>
                    </a:lnTo>
                    <a:lnTo>
                      <a:pt x="70" y="80"/>
                    </a:lnTo>
                    <a:lnTo>
                      <a:pt x="60" y="103"/>
                    </a:lnTo>
                    <a:lnTo>
                      <a:pt x="50" y="125"/>
                    </a:lnTo>
                    <a:lnTo>
                      <a:pt x="40" y="137"/>
                    </a:lnTo>
                    <a:lnTo>
                      <a:pt x="40" y="148"/>
                    </a:lnTo>
                    <a:lnTo>
                      <a:pt x="30" y="148"/>
                    </a:lnTo>
                    <a:lnTo>
                      <a:pt x="30" y="125"/>
                    </a:lnTo>
                    <a:lnTo>
                      <a:pt x="40" y="103"/>
                    </a:lnTo>
                    <a:lnTo>
                      <a:pt x="50" y="91"/>
                    </a:lnTo>
                    <a:lnTo>
                      <a:pt x="40" y="91"/>
                    </a:lnTo>
                    <a:lnTo>
                      <a:pt x="40" y="80"/>
                    </a:lnTo>
                    <a:lnTo>
                      <a:pt x="50" y="68"/>
                    </a:lnTo>
                    <a:lnTo>
                      <a:pt x="60" y="68"/>
                    </a:lnTo>
                    <a:lnTo>
                      <a:pt x="70" y="68"/>
                    </a:lnTo>
                    <a:lnTo>
                      <a:pt x="90" y="68"/>
                    </a:lnTo>
                    <a:lnTo>
                      <a:pt x="90" y="57"/>
                    </a:lnTo>
                    <a:lnTo>
                      <a:pt x="80" y="46"/>
                    </a:lnTo>
                    <a:lnTo>
                      <a:pt x="60" y="34"/>
                    </a:lnTo>
                    <a:lnTo>
                      <a:pt x="40" y="46"/>
                    </a:lnTo>
                    <a:lnTo>
                      <a:pt x="20" y="57"/>
                    </a:lnTo>
                    <a:lnTo>
                      <a:pt x="10" y="57"/>
                    </a:lnTo>
                    <a:lnTo>
                      <a:pt x="0" y="57"/>
                    </a:lnTo>
                    <a:lnTo>
                      <a:pt x="0" y="46"/>
                    </a:lnTo>
                    <a:lnTo>
                      <a:pt x="10" y="34"/>
                    </a:lnTo>
                    <a:lnTo>
                      <a:pt x="30" y="34"/>
                    </a:lnTo>
                    <a:lnTo>
                      <a:pt x="40" y="23"/>
                    </a:lnTo>
                    <a:lnTo>
                      <a:pt x="60" y="11"/>
                    </a:lnTo>
                    <a:lnTo>
                      <a:pt x="80" y="0"/>
                    </a:lnTo>
                    <a:lnTo>
                      <a:pt x="100" y="23"/>
                    </a:lnTo>
                    <a:lnTo>
                      <a:pt x="100" y="34"/>
                    </a:lnTo>
                    <a:lnTo>
                      <a:pt x="100" y="46"/>
                    </a:lnTo>
                    <a:lnTo>
                      <a:pt x="130" y="57"/>
                    </a:lnTo>
                    <a:lnTo>
                      <a:pt x="150" y="68"/>
                    </a:lnTo>
                    <a:lnTo>
                      <a:pt x="150" y="80"/>
                    </a:lnTo>
                    <a:lnTo>
                      <a:pt x="140" y="91"/>
                    </a:lnTo>
                    <a:lnTo>
                      <a:pt x="130" y="91"/>
                    </a:lnTo>
                    <a:lnTo>
                      <a:pt x="130" y="103"/>
                    </a:lnTo>
                    <a:lnTo>
                      <a:pt x="120" y="103"/>
                    </a:lnTo>
                    <a:lnTo>
                      <a:pt x="120" y="114"/>
                    </a:lnTo>
                    <a:lnTo>
                      <a:pt x="110" y="114"/>
                    </a:lnTo>
                    <a:lnTo>
                      <a:pt x="110" y="125"/>
                    </a:lnTo>
                    <a:lnTo>
                      <a:pt x="100" y="125"/>
                    </a:lnTo>
                  </a:path>
                </a:pathLst>
              </a:custGeom>
              <a:solidFill>
                <a:srgbClr val="179c8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851440" y="2228760"/>
                <a:ext cx="63720" cy="73080"/>
              </a:xfrm>
              <a:custGeom>
                <a:avLst/>
                <a:gdLst/>
                <a:ahLst/>
                <a:rect l="l" t="t" r="r" b="b"/>
                <a:pathLst>
                  <a:path w="40" h="46">
                    <a:moveTo>
                      <a:pt x="40" y="34"/>
                    </a:moveTo>
                    <a:lnTo>
                      <a:pt x="30" y="46"/>
                    </a:lnTo>
                    <a:lnTo>
                      <a:pt x="0" y="46"/>
                    </a:lnTo>
                    <a:lnTo>
                      <a:pt x="0" y="23"/>
                    </a:lnTo>
                    <a:lnTo>
                      <a:pt x="0" y="11"/>
                    </a:lnTo>
                    <a:lnTo>
                      <a:pt x="10" y="0"/>
                    </a:lnTo>
                    <a:lnTo>
                      <a:pt x="20" y="11"/>
                    </a:lnTo>
                    <a:lnTo>
                      <a:pt x="40" y="23"/>
                    </a:lnTo>
                    <a:lnTo>
                      <a:pt x="40" y="34"/>
                    </a:lnTo>
                    <a:lnTo>
                      <a:pt x="40" y="34"/>
                    </a:lnTo>
                    <a:close/>
                  </a:path>
                </a:pathLst>
              </a:custGeom>
              <a:solidFill>
                <a:srgbClr val="179c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 name=""/>
              <p:cNvSpPr/>
              <p:nvPr/>
            </p:nvSpPr>
            <p:spPr>
              <a:xfrm>
                <a:off x="5851440" y="2228760"/>
                <a:ext cx="63720" cy="73080"/>
              </a:xfrm>
              <a:custGeom>
                <a:avLst/>
                <a:gdLst/>
                <a:ahLst/>
                <a:rect l="l" t="t" r="r" b="b"/>
                <a:pathLst>
                  <a:path w="40" h="46">
                    <a:moveTo>
                      <a:pt x="40" y="34"/>
                    </a:moveTo>
                    <a:lnTo>
                      <a:pt x="30" y="46"/>
                    </a:lnTo>
                    <a:lnTo>
                      <a:pt x="0" y="46"/>
                    </a:lnTo>
                    <a:lnTo>
                      <a:pt x="0" y="23"/>
                    </a:lnTo>
                    <a:lnTo>
                      <a:pt x="0" y="11"/>
                    </a:lnTo>
                    <a:lnTo>
                      <a:pt x="10" y="0"/>
                    </a:lnTo>
                    <a:lnTo>
                      <a:pt x="20" y="11"/>
                    </a:lnTo>
                    <a:lnTo>
                      <a:pt x="40" y="23"/>
                    </a:lnTo>
                    <a:lnTo>
                      <a:pt x="40" y="34"/>
                    </a:lnTo>
                  </a:path>
                </a:pathLst>
              </a:custGeom>
              <a:solidFill>
                <a:srgbClr val="179c82"/>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 name=""/>
              <p:cNvSpPr/>
              <p:nvPr/>
            </p:nvSpPr>
            <p:spPr>
              <a:xfrm>
                <a:off x="2814480" y="2282760"/>
                <a:ext cx="79560" cy="36720"/>
              </a:xfrm>
              <a:custGeom>
                <a:avLst/>
                <a:gdLst/>
                <a:ahLst/>
                <a:rect l="l" t="t" r="r" b="b"/>
                <a:pathLst>
                  <a:path w="50" h="23">
                    <a:moveTo>
                      <a:pt x="50" y="0"/>
                    </a:moveTo>
                    <a:lnTo>
                      <a:pt x="50" y="12"/>
                    </a:lnTo>
                    <a:lnTo>
                      <a:pt x="40" y="23"/>
                    </a:lnTo>
                    <a:lnTo>
                      <a:pt x="30" y="23"/>
                    </a:lnTo>
                    <a:lnTo>
                      <a:pt x="20" y="23"/>
                    </a:lnTo>
                    <a:lnTo>
                      <a:pt x="10" y="23"/>
                    </a:lnTo>
                    <a:lnTo>
                      <a:pt x="0" y="23"/>
                    </a:lnTo>
                    <a:lnTo>
                      <a:pt x="0" y="12"/>
                    </a:lnTo>
                    <a:lnTo>
                      <a:pt x="10" y="12"/>
                    </a:lnTo>
                    <a:lnTo>
                      <a:pt x="20" y="12"/>
                    </a:lnTo>
                    <a:lnTo>
                      <a:pt x="30" y="12"/>
                    </a:lnTo>
                    <a:lnTo>
                      <a:pt x="40" y="12"/>
                    </a:lnTo>
                    <a:lnTo>
                      <a:pt x="50" y="0"/>
                    </a:lnTo>
                    <a:lnTo>
                      <a:pt x="50" y="0"/>
                    </a:lnTo>
                    <a:close/>
                  </a:path>
                </a:pathLst>
              </a:custGeom>
              <a:solidFill>
                <a:srgbClr val="179c8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1" name=""/>
              <p:cNvSpPr/>
              <p:nvPr/>
            </p:nvSpPr>
            <p:spPr>
              <a:xfrm>
                <a:off x="2814480" y="2282760"/>
                <a:ext cx="79560" cy="36720"/>
              </a:xfrm>
              <a:custGeom>
                <a:avLst/>
                <a:gdLst/>
                <a:ahLst/>
                <a:rect l="l" t="t" r="r" b="b"/>
                <a:pathLst>
                  <a:path w="50" h="23">
                    <a:moveTo>
                      <a:pt x="50" y="0"/>
                    </a:moveTo>
                    <a:lnTo>
                      <a:pt x="50" y="12"/>
                    </a:lnTo>
                    <a:lnTo>
                      <a:pt x="40" y="23"/>
                    </a:lnTo>
                    <a:lnTo>
                      <a:pt x="30" y="23"/>
                    </a:lnTo>
                    <a:lnTo>
                      <a:pt x="20" y="23"/>
                    </a:lnTo>
                    <a:lnTo>
                      <a:pt x="10" y="23"/>
                    </a:lnTo>
                    <a:lnTo>
                      <a:pt x="0" y="23"/>
                    </a:lnTo>
                    <a:lnTo>
                      <a:pt x="0" y="12"/>
                    </a:lnTo>
                    <a:lnTo>
                      <a:pt x="10" y="12"/>
                    </a:lnTo>
                    <a:lnTo>
                      <a:pt x="20" y="12"/>
                    </a:lnTo>
                    <a:lnTo>
                      <a:pt x="30" y="12"/>
                    </a:lnTo>
                    <a:lnTo>
                      <a:pt x="40" y="12"/>
                    </a:lnTo>
                    <a:lnTo>
                      <a:pt x="50" y="0"/>
                    </a:lnTo>
                  </a:path>
                </a:pathLst>
              </a:custGeom>
              <a:solidFill>
                <a:srgbClr val="179c82"/>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2" name=""/>
              <p:cNvSpPr/>
              <p:nvPr/>
            </p:nvSpPr>
            <p:spPr>
              <a:xfrm>
                <a:off x="2719440" y="2336760"/>
                <a:ext cx="31680" cy="55440"/>
              </a:xfrm>
              <a:custGeom>
                <a:avLst/>
                <a:gdLst/>
                <a:ahLst/>
                <a:rect l="l" t="t" r="r" b="b"/>
                <a:pathLst>
                  <a:path w="20" h="35">
                    <a:moveTo>
                      <a:pt x="20" y="12"/>
                    </a:moveTo>
                    <a:lnTo>
                      <a:pt x="20" y="23"/>
                    </a:lnTo>
                    <a:lnTo>
                      <a:pt x="10" y="23"/>
                    </a:lnTo>
                    <a:lnTo>
                      <a:pt x="0" y="35"/>
                    </a:lnTo>
                    <a:lnTo>
                      <a:pt x="0" y="23"/>
                    </a:lnTo>
                    <a:lnTo>
                      <a:pt x="10" y="12"/>
                    </a:lnTo>
                    <a:lnTo>
                      <a:pt x="10" y="0"/>
                    </a:lnTo>
                    <a:lnTo>
                      <a:pt x="0" y="12"/>
                    </a:lnTo>
                    <a:lnTo>
                      <a:pt x="10" y="12"/>
                    </a:lnTo>
                    <a:lnTo>
                      <a:pt x="20" y="12"/>
                    </a:lnTo>
                    <a:lnTo>
                      <a:pt x="20" y="12"/>
                    </a:lnTo>
                    <a:close/>
                  </a:path>
                </a:pathLst>
              </a:custGeom>
              <a:solidFill>
                <a:srgbClr val="179c8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3" name=""/>
              <p:cNvSpPr/>
              <p:nvPr/>
            </p:nvSpPr>
            <p:spPr>
              <a:xfrm>
                <a:off x="2719440" y="2336760"/>
                <a:ext cx="31680" cy="55440"/>
              </a:xfrm>
              <a:custGeom>
                <a:avLst/>
                <a:gdLst/>
                <a:ahLst/>
                <a:rect l="l" t="t" r="r" b="b"/>
                <a:pathLst>
                  <a:path w="20" h="35">
                    <a:moveTo>
                      <a:pt x="20" y="12"/>
                    </a:moveTo>
                    <a:lnTo>
                      <a:pt x="20" y="23"/>
                    </a:lnTo>
                    <a:lnTo>
                      <a:pt x="10" y="23"/>
                    </a:lnTo>
                    <a:lnTo>
                      <a:pt x="0" y="35"/>
                    </a:lnTo>
                    <a:lnTo>
                      <a:pt x="0" y="23"/>
                    </a:lnTo>
                    <a:lnTo>
                      <a:pt x="10" y="12"/>
                    </a:lnTo>
                    <a:lnTo>
                      <a:pt x="10" y="0"/>
                    </a:lnTo>
                    <a:lnTo>
                      <a:pt x="0" y="12"/>
                    </a:lnTo>
                    <a:lnTo>
                      <a:pt x="10" y="12"/>
                    </a:lnTo>
                    <a:lnTo>
                      <a:pt x="20" y="12"/>
                    </a:lnTo>
                  </a:path>
                </a:pathLst>
              </a:custGeom>
              <a:solidFill>
                <a:srgbClr val="179c82"/>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4" name=""/>
              <p:cNvSpPr/>
              <p:nvPr/>
            </p:nvSpPr>
            <p:spPr>
              <a:xfrm>
                <a:off x="2401920" y="3206880"/>
                <a:ext cx="15840" cy="1440"/>
              </a:xfrm>
              <a:custGeom>
                <a:avLst/>
                <a:gdLst/>
                <a:ahLst/>
                <a:rect l="l" t="t" r="r" b="b"/>
                <a:pathLst>
                  <a:path w="10" h="0">
                    <a:moveTo>
                      <a:pt x="0" y="0"/>
                    </a:moveTo>
                    <a:lnTo>
                      <a:pt x="10" y="0"/>
                    </a:lnTo>
                    <a:lnTo>
                      <a:pt x="0" y="0"/>
                    </a:lnTo>
                    <a:lnTo>
                      <a:pt x="0" y="0"/>
                    </a:lnTo>
                    <a:close/>
                  </a:path>
                </a:pathLst>
              </a:custGeom>
              <a:solidFill>
                <a:srgbClr val="179c8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2401920" y="3206880"/>
                <a:ext cx="15840" cy="1440"/>
              </a:xfrm>
              <a:custGeom>
                <a:avLst/>
                <a:gdLst/>
                <a:ahLst/>
                <a:rect l="l" t="t" r="r" b="b"/>
                <a:pathLst>
                  <a:path w="10" h="0">
                    <a:moveTo>
                      <a:pt x="0" y="0"/>
                    </a:moveTo>
                    <a:lnTo>
                      <a:pt x="10" y="0"/>
                    </a:lnTo>
                    <a:lnTo>
                      <a:pt x="0" y="0"/>
                    </a:lnTo>
                  </a:path>
                </a:pathLst>
              </a:custGeom>
              <a:solidFill>
                <a:srgbClr val="179c82"/>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4532400" y="3405240"/>
                <a:ext cx="31680" cy="73080"/>
              </a:xfrm>
              <a:custGeom>
                <a:avLst/>
                <a:gdLst/>
                <a:ahLst/>
                <a:rect l="l" t="t" r="r" b="b"/>
                <a:pathLst>
                  <a:path w="20" h="46">
                    <a:moveTo>
                      <a:pt x="20" y="0"/>
                    </a:moveTo>
                    <a:lnTo>
                      <a:pt x="20" y="23"/>
                    </a:lnTo>
                    <a:lnTo>
                      <a:pt x="20" y="34"/>
                    </a:lnTo>
                    <a:lnTo>
                      <a:pt x="10" y="46"/>
                    </a:lnTo>
                    <a:lnTo>
                      <a:pt x="0" y="46"/>
                    </a:lnTo>
                    <a:lnTo>
                      <a:pt x="0" y="23"/>
                    </a:lnTo>
                    <a:lnTo>
                      <a:pt x="0" y="11"/>
                    </a:lnTo>
                    <a:lnTo>
                      <a:pt x="0" y="0"/>
                    </a:lnTo>
                    <a:lnTo>
                      <a:pt x="10" y="11"/>
                    </a:lnTo>
                    <a:lnTo>
                      <a:pt x="10" y="23"/>
                    </a:lnTo>
                    <a:lnTo>
                      <a:pt x="20" y="34"/>
                    </a:lnTo>
                    <a:lnTo>
                      <a:pt x="20" y="23"/>
                    </a:lnTo>
                    <a:lnTo>
                      <a:pt x="20" y="11"/>
                    </a:lnTo>
                    <a:lnTo>
                      <a:pt x="20" y="0"/>
                    </a:lnTo>
                    <a:lnTo>
                      <a:pt x="20" y="0"/>
                    </a:lnTo>
                    <a:close/>
                  </a:path>
                </a:pathLst>
              </a:custGeom>
              <a:solidFill>
                <a:srgbClr val="179c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7" name=""/>
              <p:cNvSpPr/>
              <p:nvPr/>
            </p:nvSpPr>
            <p:spPr>
              <a:xfrm>
                <a:off x="4532400" y="3405240"/>
                <a:ext cx="31680" cy="73080"/>
              </a:xfrm>
              <a:custGeom>
                <a:avLst/>
                <a:gdLst/>
                <a:ahLst/>
                <a:rect l="l" t="t" r="r" b="b"/>
                <a:pathLst>
                  <a:path w="20" h="46">
                    <a:moveTo>
                      <a:pt x="20" y="0"/>
                    </a:moveTo>
                    <a:lnTo>
                      <a:pt x="20" y="23"/>
                    </a:lnTo>
                    <a:lnTo>
                      <a:pt x="20" y="34"/>
                    </a:lnTo>
                    <a:lnTo>
                      <a:pt x="10" y="46"/>
                    </a:lnTo>
                    <a:lnTo>
                      <a:pt x="0" y="46"/>
                    </a:lnTo>
                    <a:lnTo>
                      <a:pt x="0" y="23"/>
                    </a:lnTo>
                    <a:lnTo>
                      <a:pt x="0" y="11"/>
                    </a:lnTo>
                    <a:lnTo>
                      <a:pt x="0" y="0"/>
                    </a:lnTo>
                    <a:lnTo>
                      <a:pt x="10" y="11"/>
                    </a:lnTo>
                    <a:lnTo>
                      <a:pt x="10" y="23"/>
                    </a:lnTo>
                    <a:lnTo>
                      <a:pt x="20" y="34"/>
                    </a:lnTo>
                    <a:lnTo>
                      <a:pt x="20" y="23"/>
                    </a:lnTo>
                    <a:lnTo>
                      <a:pt x="20" y="11"/>
                    </a:lnTo>
                    <a:lnTo>
                      <a:pt x="20" y="0"/>
                    </a:lnTo>
                  </a:path>
                </a:pathLst>
              </a:custGeom>
              <a:solidFill>
                <a:srgbClr val="179c82"/>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8" name=""/>
              <p:cNvSpPr/>
              <p:nvPr/>
            </p:nvSpPr>
            <p:spPr>
              <a:xfrm>
                <a:off x="5454720" y="3549600"/>
                <a:ext cx="1440" cy="36720"/>
              </a:xfrm>
              <a:custGeom>
                <a:avLst/>
                <a:gdLst/>
                <a:ahLst/>
                <a:rect l="l" t="t" r="r" b="b"/>
                <a:pathLst>
                  <a:path w="0" h="23">
                    <a:moveTo>
                      <a:pt x="0" y="0"/>
                    </a:moveTo>
                    <a:lnTo>
                      <a:pt x="0" y="12"/>
                    </a:lnTo>
                    <a:lnTo>
                      <a:pt x="0" y="23"/>
                    </a:lnTo>
                    <a:lnTo>
                      <a:pt x="0" y="12"/>
                    </a:lnTo>
                    <a:lnTo>
                      <a:pt x="0" y="0"/>
                    </a:lnTo>
                    <a:lnTo>
                      <a:pt x="0" y="0"/>
                    </a:lnTo>
                    <a:close/>
                  </a:path>
                </a:pathLst>
              </a:custGeom>
              <a:solidFill>
                <a:srgbClr val="179c8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9" name=""/>
              <p:cNvSpPr/>
              <p:nvPr/>
            </p:nvSpPr>
            <p:spPr>
              <a:xfrm>
                <a:off x="5454720" y="3549600"/>
                <a:ext cx="1440" cy="36720"/>
              </a:xfrm>
              <a:custGeom>
                <a:avLst/>
                <a:gdLst/>
                <a:ahLst/>
                <a:rect l="l" t="t" r="r" b="b"/>
                <a:pathLst>
                  <a:path w="0" h="23">
                    <a:moveTo>
                      <a:pt x="0" y="0"/>
                    </a:moveTo>
                    <a:lnTo>
                      <a:pt x="0" y="12"/>
                    </a:lnTo>
                    <a:lnTo>
                      <a:pt x="0" y="23"/>
                    </a:lnTo>
                    <a:lnTo>
                      <a:pt x="0" y="12"/>
                    </a:lnTo>
                    <a:lnTo>
                      <a:pt x="0" y="0"/>
                    </a:lnTo>
                  </a:path>
                </a:pathLst>
              </a:custGeom>
              <a:solidFill>
                <a:srgbClr val="179c82"/>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0" name=""/>
              <p:cNvSpPr/>
              <p:nvPr/>
            </p:nvSpPr>
            <p:spPr>
              <a:xfrm>
                <a:off x="5343480" y="3695760"/>
                <a:ext cx="63720" cy="90360"/>
              </a:xfrm>
              <a:custGeom>
                <a:avLst/>
                <a:gdLst/>
                <a:ahLst/>
                <a:rect l="l" t="t" r="r" b="b"/>
                <a:pathLst>
                  <a:path w="40" h="57">
                    <a:moveTo>
                      <a:pt x="0" y="45"/>
                    </a:moveTo>
                    <a:lnTo>
                      <a:pt x="10" y="22"/>
                    </a:lnTo>
                    <a:lnTo>
                      <a:pt x="20" y="11"/>
                    </a:lnTo>
                    <a:lnTo>
                      <a:pt x="40" y="0"/>
                    </a:lnTo>
                    <a:lnTo>
                      <a:pt x="40" y="11"/>
                    </a:lnTo>
                    <a:lnTo>
                      <a:pt x="30" y="22"/>
                    </a:lnTo>
                    <a:lnTo>
                      <a:pt x="30" y="34"/>
                    </a:lnTo>
                    <a:lnTo>
                      <a:pt x="30" y="45"/>
                    </a:lnTo>
                    <a:lnTo>
                      <a:pt x="20" y="57"/>
                    </a:lnTo>
                    <a:lnTo>
                      <a:pt x="20" y="45"/>
                    </a:lnTo>
                    <a:lnTo>
                      <a:pt x="10" y="45"/>
                    </a:lnTo>
                    <a:lnTo>
                      <a:pt x="0" y="45"/>
                    </a:lnTo>
                    <a:lnTo>
                      <a:pt x="0" y="45"/>
                    </a:lnTo>
                    <a:close/>
                  </a:path>
                </a:pathLst>
              </a:custGeom>
              <a:solidFill>
                <a:srgbClr val="179c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1" name=""/>
              <p:cNvSpPr/>
              <p:nvPr/>
            </p:nvSpPr>
            <p:spPr>
              <a:xfrm>
                <a:off x="5343480" y="3695760"/>
                <a:ext cx="63720" cy="90360"/>
              </a:xfrm>
              <a:custGeom>
                <a:avLst/>
                <a:gdLst/>
                <a:ahLst/>
                <a:rect l="l" t="t" r="r" b="b"/>
                <a:pathLst>
                  <a:path w="40" h="57">
                    <a:moveTo>
                      <a:pt x="0" y="45"/>
                    </a:moveTo>
                    <a:lnTo>
                      <a:pt x="10" y="22"/>
                    </a:lnTo>
                    <a:lnTo>
                      <a:pt x="20" y="11"/>
                    </a:lnTo>
                    <a:lnTo>
                      <a:pt x="40" y="0"/>
                    </a:lnTo>
                    <a:lnTo>
                      <a:pt x="40" y="11"/>
                    </a:lnTo>
                    <a:lnTo>
                      <a:pt x="30" y="22"/>
                    </a:lnTo>
                    <a:lnTo>
                      <a:pt x="30" y="34"/>
                    </a:lnTo>
                    <a:lnTo>
                      <a:pt x="30" y="45"/>
                    </a:lnTo>
                    <a:lnTo>
                      <a:pt x="20" y="57"/>
                    </a:lnTo>
                    <a:lnTo>
                      <a:pt x="20" y="45"/>
                    </a:lnTo>
                    <a:lnTo>
                      <a:pt x="10" y="45"/>
                    </a:lnTo>
                    <a:lnTo>
                      <a:pt x="0" y="45"/>
                    </a:lnTo>
                  </a:path>
                </a:pathLst>
              </a:custGeom>
              <a:solidFill>
                <a:srgbClr val="179c82"/>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2" name=""/>
              <p:cNvSpPr/>
              <p:nvPr/>
            </p:nvSpPr>
            <p:spPr>
              <a:xfrm>
                <a:off x="5391000" y="4002120"/>
                <a:ext cx="32040" cy="146160"/>
              </a:xfrm>
              <a:custGeom>
                <a:avLst/>
                <a:gdLst/>
                <a:ahLst/>
                <a:rect l="l" t="t" r="r" b="b"/>
                <a:pathLst>
                  <a:path w="20" h="92">
                    <a:moveTo>
                      <a:pt x="0" y="0"/>
                    </a:moveTo>
                    <a:lnTo>
                      <a:pt x="10" y="23"/>
                    </a:lnTo>
                    <a:lnTo>
                      <a:pt x="20" y="57"/>
                    </a:lnTo>
                    <a:lnTo>
                      <a:pt x="20" y="92"/>
                    </a:lnTo>
                    <a:lnTo>
                      <a:pt x="10" y="92"/>
                    </a:lnTo>
                    <a:lnTo>
                      <a:pt x="10" y="80"/>
                    </a:lnTo>
                    <a:lnTo>
                      <a:pt x="10" y="69"/>
                    </a:lnTo>
                    <a:lnTo>
                      <a:pt x="10" y="57"/>
                    </a:lnTo>
                    <a:lnTo>
                      <a:pt x="10" y="35"/>
                    </a:lnTo>
                    <a:lnTo>
                      <a:pt x="10" y="23"/>
                    </a:lnTo>
                    <a:lnTo>
                      <a:pt x="0" y="0"/>
                    </a:lnTo>
                    <a:lnTo>
                      <a:pt x="0" y="0"/>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391000" y="4002120"/>
                <a:ext cx="32040" cy="146160"/>
              </a:xfrm>
              <a:custGeom>
                <a:avLst/>
                <a:gdLst/>
                <a:ahLst/>
                <a:rect l="l" t="t" r="r" b="b"/>
                <a:pathLst>
                  <a:path w="20" h="92">
                    <a:moveTo>
                      <a:pt x="0" y="0"/>
                    </a:moveTo>
                    <a:lnTo>
                      <a:pt x="10" y="23"/>
                    </a:lnTo>
                    <a:lnTo>
                      <a:pt x="20" y="57"/>
                    </a:lnTo>
                    <a:lnTo>
                      <a:pt x="20" y="92"/>
                    </a:lnTo>
                    <a:lnTo>
                      <a:pt x="10" y="92"/>
                    </a:lnTo>
                    <a:lnTo>
                      <a:pt x="10" y="80"/>
                    </a:lnTo>
                    <a:lnTo>
                      <a:pt x="10" y="69"/>
                    </a:lnTo>
                    <a:lnTo>
                      <a:pt x="10" y="57"/>
                    </a:lnTo>
                    <a:lnTo>
                      <a:pt x="10" y="35"/>
                    </a:lnTo>
                    <a:lnTo>
                      <a:pt x="10" y="23"/>
                    </a:lnTo>
                    <a:lnTo>
                      <a:pt x="0" y="0"/>
                    </a:lnTo>
                  </a:path>
                </a:pathLst>
              </a:custGeom>
              <a:solidFill>
                <a:srgbClr val="179c8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97640" y="2211480"/>
                <a:ext cx="206280" cy="288720"/>
              </a:xfrm>
              <a:custGeom>
                <a:avLst/>
                <a:gdLst/>
                <a:ahLst/>
                <a:rect l="l" t="t" r="r" b="b"/>
                <a:pathLst>
                  <a:path w="130" h="182">
                    <a:moveTo>
                      <a:pt x="130" y="182"/>
                    </a:moveTo>
                    <a:lnTo>
                      <a:pt x="100" y="182"/>
                    </a:lnTo>
                    <a:lnTo>
                      <a:pt x="80" y="182"/>
                    </a:lnTo>
                    <a:lnTo>
                      <a:pt x="50" y="171"/>
                    </a:lnTo>
                    <a:lnTo>
                      <a:pt x="50" y="159"/>
                    </a:lnTo>
                    <a:lnTo>
                      <a:pt x="60" y="148"/>
                    </a:lnTo>
                    <a:lnTo>
                      <a:pt x="70" y="125"/>
                    </a:lnTo>
                    <a:lnTo>
                      <a:pt x="60" y="125"/>
                    </a:lnTo>
                    <a:lnTo>
                      <a:pt x="50" y="125"/>
                    </a:lnTo>
                    <a:lnTo>
                      <a:pt x="40" y="102"/>
                    </a:lnTo>
                    <a:lnTo>
                      <a:pt x="30" y="91"/>
                    </a:lnTo>
                    <a:lnTo>
                      <a:pt x="20" y="79"/>
                    </a:lnTo>
                    <a:lnTo>
                      <a:pt x="0" y="45"/>
                    </a:lnTo>
                    <a:lnTo>
                      <a:pt x="10" y="34"/>
                    </a:lnTo>
                    <a:lnTo>
                      <a:pt x="30" y="11"/>
                    </a:lnTo>
                    <a:lnTo>
                      <a:pt x="30" y="0"/>
                    </a:lnTo>
                    <a:lnTo>
                      <a:pt x="40" y="0"/>
                    </a:lnTo>
                    <a:lnTo>
                      <a:pt x="50" y="0"/>
                    </a:lnTo>
                    <a:lnTo>
                      <a:pt x="60" y="0"/>
                    </a:lnTo>
                    <a:lnTo>
                      <a:pt x="80" y="11"/>
                    </a:lnTo>
                    <a:lnTo>
                      <a:pt x="90" y="34"/>
                    </a:lnTo>
                    <a:lnTo>
                      <a:pt x="80" y="45"/>
                    </a:lnTo>
                    <a:lnTo>
                      <a:pt x="60" y="45"/>
                    </a:lnTo>
                    <a:lnTo>
                      <a:pt x="60" y="57"/>
                    </a:lnTo>
                    <a:lnTo>
                      <a:pt x="70" y="68"/>
                    </a:lnTo>
                    <a:lnTo>
                      <a:pt x="80" y="91"/>
                    </a:lnTo>
                    <a:lnTo>
                      <a:pt x="100" y="102"/>
                    </a:lnTo>
                    <a:lnTo>
                      <a:pt x="110" y="102"/>
                    </a:lnTo>
                    <a:lnTo>
                      <a:pt x="120" y="102"/>
                    </a:lnTo>
                    <a:lnTo>
                      <a:pt x="130" y="114"/>
                    </a:lnTo>
                    <a:lnTo>
                      <a:pt x="120" y="125"/>
                    </a:lnTo>
                    <a:lnTo>
                      <a:pt x="110" y="125"/>
                    </a:lnTo>
                    <a:lnTo>
                      <a:pt x="100" y="125"/>
                    </a:lnTo>
                    <a:lnTo>
                      <a:pt x="100" y="136"/>
                    </a:lnTo>
                    <a:lnTo>
                      <a:pt x="110" y="136"/>
                    </a:lnTo>
                    <a:lnTo>
                      <a:pt x="120" y="159"/>
                    </a:lnTo>
                    <a:lnTo>
                      <a:pt x="120" y="171"/>
                    </a:lnTo>
                    <a:lnTo>
                      <a:pt x="130" y="182"/>
                    </a:lnTo>
                    <a:lnTo>
                      <a:pt x="130" y="182"/>
                    </a:lnTo>
                    <a:close/>
                  </a:path>
                </a:pathLst>
              </a:custGeom>
              <a:solidFill>
                <a:srgbClr val="179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597640" y="2211480"/>
                <a:ext cx="206280" cy="288720"/>
              </a:xfrm>
              <a:custGeom>
                <a:avLst/>
                <a:gdLst/>
                <a:ahLst/>
                <a:rect l="l" t="t" r="r" b="b"/>
                <a:pathLst>
                  <a:path w="130" h="182">
                    <a:moveTo>
                      <a:pt x="130" y="182"/>
                    </a:moveTo>
                    <a:lnTo>
                      <a:pt x="100" y="182"/>
                    </a:lnTo>
                    <a:lnTo>
                      <a:pt x="80" y="182"/>
                    </a:lnTo>
                    <a:lnTo>
                      <a:pt x="50" y="171"/>
                    </a:lnTo>
                    <a:lnTo>
                      <a:pt x="50" y="159"/>
                    </a:lnTo>
                    <a:lnTo>
                      <a:pt x="60" y="148"/>
                    </a:lnTo>
                    <a:lnTo>
                      <a:pt x="70" y="125"/>
                    </a:lnTo>
                    <a:lnTo>
                      <a:pt x="60" y="125"/>
                    </a:lnTo>
                    <a:lnTo>
                      <a:pt x="50" y="125"/>
                    </a:lnTo>
                    <a:lnTo>
                      <a:pt x="40" y="102"/>
                    </a:lnTo>
                    <a:lnTo>
                      <a:pt x="30" y="91"/>
                    </a:lnTo>
                    <a:lnTo>
                      <a:pt x="20" y="79"/>
                    </a:lnTo>
                    <a:lnTo>
                      <a:pt x="0" y="45"/>
                    </a:lnTo>
                    <a:lnTo>
                      <a:pt x="10" y="34"/>
                    </a:lnTo>
                    <a:lnTo>
                      <a:pt x="30" y="11"/>
                    </a:lnTo>
                    <a:lnTo>
                      <a:pt x="30" y="0"/>
                    </a:lnTo>
                    <a:lnTo>
                      <a:pt x="40" y="0"/>
                    </a:lnTo>
                    <a:lnTo>
                      <a:pt x="50" y="0"/>
                    </a:lnTo>
                    <a:lnTo>
                      <a:pt x="60" y="0"/>
                    </a:lnTo>
                    <a:lnTo>
                      <a:pt x="80" y="11"/>
                    </a:lnTo>
                    <a:lnTo>
                      <a:pt x="90" y="34"/>
                    </a:lnTo>
                    <a:lnTo>
                      <a:pt x="80" y="45"/>
                    </a:lnTo>
                    <a:lnTo>
                      <a:pt x="60" y="45"/>
                    </a:lnTo>
                    <a:lnTo>
                      <a:pt x="60" y="57"/>
                    </a:lnTo>
                    <a:lnTo>
                      <a:pt x="70" y="68"/>
                    </a:lnTo>
                    <a:lnTo>
                      <a:pt x="80" y="91"/>
                    </a:lnTo>
                    <a:lnTo>
                      <a:pt x="100" y="102"/>
                    </a:lnTo>
                    <a:lnTo>
                      <a:pt x="110" y="102"/>
                    </a:lnTo>
                    <a:lnTo>
                      <a:pt x="120" y="102"/>
                    </a:lnTo>
                    <a:lnTo>
                      <a:pt x="130" y="114"/>
                    </a:lnTo>
                    <a:lnTo>
                      <a:pt x="120" y="125"/>
                    </a:lnTo>
                    <a:lnTo>
                      <a:pt x="110" y="125"/>
                    </a:lnTo>
                    <a:lnTo>
                      <a:pt x="100" y="125"/>
                    </a:lnTo>
                    <a:lnTo>
                      <a:pt x="100" y="136"/>
                    </a:lnTo>
                    <a:lnTo>
                      <a:pt x="110" y="136"/>
                    </a:lnTo>
                    <a:lnTo>
                      <a:pt x="120" y="159"/>
                    </a:lnTo>
                    <a:lnTo>
                      <a:pt x="120" y="171"/>
                    </a:lnTo>
                    <a:lnTo>
                      <a:pt x="130" y="182"/>
                    </a:lnTo>
                  </a:path>
                </a:pathLst>
              </a:custGeom>
              <a:solidFill>
                <a:srgbClr val="179c8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1570680" y="2513160"/>
              <a:ext cx="15296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Get Weather Info</a:t>
              </a:r>
              <a:endParaRPr b="0" lang="en-US" sz="1400" spc="-1" strike="noStrike">
                <a:solidFill>
                  <a:srgbClr val="000000"/>
                </a:solidFill>
                <a:latin typeface="Times New Roman"/>
              </a:endParaRPr>
            </a:p>
          </p:txBody>
        </p:sp>
        <p:sp>
          <p:nvSpPr>
            <p:cNvPr id="667" name=""/>
            <p:cNvSpPr/>
            <p:nvPr/>
          </p:nvSpPr>
          <p:spPr>
            <a:xfrm>
              <a:off x="4570560" y="1995480"/>
              <a:ext cx="181440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Determine Force Mix</a:t>
              </a:r>
              <a:endParaRPr b="0" lang="en-US" sz="1400" spc="-1" strike="noStrike">
                <a:solidFill>
                  <a:srgbClr val="000000"/>
                </a:solidFill>
                <a:latin typeface="Times New Roman"/>
              </a:endParaRPr>
            </a:p>
          </p:txBody>
        </p:sp>
        <p:sp>
          <p:nvSpPr>
            <p:cNvPr id="668" name=""/>
            <p:cNvSpPr/>
            <p:nvPr/>
          </p:nvSpPr>
          <p:spPr>
            <a:xfrm>
              <a:off x="5413680" y="2765520"/>
              <a:ext cx="2318760" cy="36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Provide</a:t>
              </a:r>
              <a:r>
                <a:rPr b="1" lang="en-US" sz="1800" spc="-1" strike="noStrike">
                  <a:solidFill>
                    <a:srgbClr val="fa0f33"/>
                  </a:solidFill>
                  <a:latin typeface="Times New Roman"/>
                </a:rPr>
                <a:t> </a:t>
              </a:r>
              <a:r>
                <a:rPr b="1" lang="en-US" sz="1400" spc="-1" strike="noStrike">
                  <a:solidFill>
                    <a:srgbClr val="fa0f33"/>
                  </a:solidFill>
                  <a:latin typeface="Times New Roman"/>
                </a:rPr>
                <a:t>Intelligence Update</a:t>
              </a:r>
              <a:endParaRPr b="0" lang="en-US" sz="1400" spc="-1" strike="noStrike">
                <a:solidFill>
                  <a:srgbClr val="000000"/>
                </a:solidFill>
                <a:latin typeface="Times New Roman"/>
              </a:endParaRPr>
            </a:p>
          </p:txBody>
        </p:sp>
        <p:sp>
          <p:nvSpPr>
            <p:cNvPr id="669" name=""/>
            <p:cNvSpPr/>
            <p:nvPr/>
          </p:nvSpPr>
          <p:spPr>
            <a:xfrm>
              <a:off x="3992400" y="3462480"/>
              <a:ext cx="226260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Coordinate Transportation</a:t>
              </a:r>
              <a:endParaRPr b="0" lang="en-US" sz="1400" spc="-1" strike="noStrike">
                <a:solidFill>
                  <a:srgbClr val="000000"/>
                </a:solidFill>
                <a:latin typeface="Times New Roman"/>
              </a:endParaRPr>
            </a:p>
          </p:txBody>
        </p:sp>
        <p:sp>
          <p:nvSpPr>
            <p:cNvPr id="670" name=""/>
            <p:cNvSpPr/>
            <p:nvPr/>
          </p:nvSpPr>
          <p:spPr>
            <a:xfrm>
              <a:off x="7110000" y="4413240"/>
              <a:ext cx="125820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Select Targets</a:t>
              </a:r>
              <a:endParaRPr b="0" lang="en-US" sz="1400" spc="-1" strike="noStrike">
                <a:solidFill>
                  <a:srgbClr val="000000"/>
                </a:solidFill>
                <a:latin typeface="Times New Roman"/>
              </a:endParaRPr>
            </a:p>
          </p:txBody>
        </p:sp>
        <p:sp>
          <p:nvSpPr>
            <p:cNvPr id="671" name=""/>
            <p:cNvSpPr/>
            <p:nvPr/>
          </p:nvSpPr>
          <p:spPr>
            <a:xfrm>
              <a:off x="2657880" y="4025880"/>
              <a:ext cx="134676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0f33"/>
                  </a:solidFill>
                  <a:latin typeface="Times New Roman"/>
                </a:rPr>
                <a:t>Order Supplies</a:t>
              </a:r>
              <a:endParaRPr b="0" lang="en-US" sz="1400" spc="-1" strike="noStrike">
                <a:solidFill>
                  <a:srgbClr val="000000"/>
                </a:solidFill>
                <a:latin typeface="Times New Roman"/>
              </a:endParaRPr>
            </a:p>
          </p:txBody>
        </p:sp>
        <p:pic>
          <p:nvPicPr>
            <p:cNvPr id="672" name="" descr=""/>
            <p:cNvPicPr/>
            <p:nvPr/>
          </p:nvPicPr>
          <p:blipFill>
            <a:blip r:embed="rId1"/>
            <a:stretch/>
          </p:blipFill>
          <p:spPr>
            <a:xfrm>
              <a:off x="2011320" y="2209680"/>
              <a:ext cx="365040" cy="354240"/>
            </a:xfrm>
            <a:prstGeom prst="rect">
              <a:avLst/>
            </a:prstGeom>
            <a:ln w="0">
              <a:noFill/>
            </a:ln>
          </p:spPr>
        </p:pic>
        <p:pic>
          <p:nvPicPr>
            <p:cNvPr id="673" name="" descr=""/>
            <p:cNvPicPr/>
            <p:nvPr/>
          </p:nvPicPr>
          <p:blipFill>
            <a:blip r:embed="rId2"/>
            <a:stretch/>
          </p:blipFill>
          <p:spPr>
            <a:xfrm>
              <a:off x="4788000" y="3170160"/>
              <a:ext cx="365040" cy="354240"/>
            </a:xfrm>
            <a:prstGeom prst="rect">
              <a:avLst/>
            </a:prstGeom>
            <a:ln w="0">
              <a:noFill/>
            </a:ln>
          </p:spPr>
        </p:pic>
        <p:pic>
          <p:nvPicPr>
            <p:cNvPr id="674" name="" descr=""/>
            <p:cNvPicPr/>
            <p:nvPr/>
          </p:nvPicPr>
          <p:blipFill>
            <a:blip r:embed="rId3"/>
            <a:stretch/>
          </p:blipFill>
          <p:spPr>
            <a:xfrm>
              <a:off x="7505640" y="4138560"/>
              <a:ext cx="365040" cy="354240"/>
            </a:xfrm>
            <a:prstGeom prst="rect">
              <a:avLst/>
            </a:prstGeom>
            <a:ln w="0">
              <a:noFill/>
            </a:ln>
          </p:spPr>
        </p:pic>
        <p:pic>
          <p:nvPicPr>
            <p:cNvPr id="675" name="" descr=""/>
            <p:cNvPicPr/>
            <p:nvPr/>
          </p:nvPicPr>
          <p:blipFill>
            <a:blip r:embed="rId4"/>
            <a:stretch/>
          </p:blipFill>
          <p:spPr>
            <a:xfrm>
              <a:off x="6367320" y="2505240"/>
              <a:ext cx="365400" cy="353880"/>
            </a:xfrm>
            <a:prstGeom prst="rect">
              <a:avLst/>
            </a:prstGeom>
            <a:ln w="0">
              <a:noFill/>
            </a:ln>
          </p:spPr>
        </p:pic>
        <p:pic>
          <p:nvPicPr>
            <p:cNvPr id="676" name="" descr=""/>
            <p:cNvPicPr/>
            <p:nvPr/>
          </p:nvPicPr>
          <p:blipFill>
            <a:blip r:embed="rId5"/>
            <a:stretch/>
          </p:blipFill>
          <p:spPr>
            <a:xfrm>
              <a:off x="5183280" y="1720800"/>
              <a:ext cx="365040" cy="354240"/>
            </a:xfrm>
            <a:prstGeom prst="rect">
              <a:avLst/>
            </a:prstGeom>
            <a:ln w="0">
              <a:noFill/>
            </a:ln>
          </p:spPr>
        </p:pic>
        <p:pic>
          <p:nvPicPr>
            <p:cNvPr id="677" name="" descr=""/>
            <p:cNvPicPr/>
            <p:nvPr/>
          </p:nvPicPr>
          <p:blipFill>
            <a:blip r:embed="rId6"/>
            <a:stretch/>
          </p:blipFill>
          <p:spPr>
            <a:xfrm>
              <a:off x="2836800" y="3741840"/>
              <a:ext cx="365040" cy="353880"/>
            </a:xfrm>
            <a:prstGeom prst="rect">
              <a:avLst/>
            </a:prstGeom>
            <a:ln w="0">
              <a:noFill/>
            </a:ln>
          </p:spPr>
        </p:pic>
      </p:grpSp>
      <p:grpSp>
        <p:nvGrpSpPr>
          <p:cNvPr id="678" name=""/>
          <p:cNvGrpSpPr/>
          <p:nvPr/>
        </p:nvGrpSpPr>
        <p:grpSpPr>
          <a:xfrm>
            <a:off x="206280" y="4795920"/>
            <a:ext cx="2216160" cy="1677960"/>
            <a:chOff x="206280" y="4795920"/>
            <a:chExt cx="2216160" cy="1677960"/>
          </a:xfrm>
        </p:grpSpPr>
        <p:sp>
          <p:nvSpPr>
            <p:cNvPr id="679" name=""/>
            <p:cNvSpPr/>
            <p:nvPr/>
          </p:nvSpPr>
          <p:spPr>
            <a:xfrm>
              <a:off x="1099800" y="5681880"/>
              <a:ext cx="824040" cy="237960"/>
            </a:xfrm>
            <a:custGeom>
              <a:avLst/>
              <a:gdLst/>
              <a:ahLst/>
              <a:rect l="l" t="t" r="r" b="b"/>
              <a:pathLst>
                <a:path w="3117" h="900">
                  <a:moveTo>
                    <a:pt x="3" y="0"/>
                  </a:moveTo>
                  <a:lnTo>
                    <a:pt x="3109" y="513"/>
                  </a:lnTo>
                  <a:lnTo>
                    <a:pt x="3117" y="900"/>
                  </a:lnTo>
                  <a:lnTo>
                    <a:pt x="0" y="321"/>
                  </a:lnTo>
                  <a:lnTo>
                    <a:pt x="3" y="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03040" y="5121360"/>
              <a:ext cx="939960" cy="704880"/>
            </a:xfrm>
            <a:custGeom>
              <a:avLst/>
              <a:gdLst/>
              <a:ahLst/>
              <a:rect l="l" t="t" r="r" b="b"/>
              <a:pathLst>
                <a:path w="3553" h="2668">
                  <a:moveTo>
                    <a:pt x="3553" y="444"/>
                  </a:moveTo>
                  <a:lnTo>
                    <a:pt x="441" y="0"/>
                  </a:lnTo>
                  <a:lnTo>
                    <a:pt x="0" y="2155"/>
                  </a:lnTo>
                  <a:lnTo>
                    <a:pt x="3104" y="2668"/>
                  </a:lnTo>
                  <a:lnTo>
                    <a:pt x="3553" y="4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44480" y="5621400"/>
              <a:ext cx="163440" cy="155520"/>
            </a:xfrm>
            <a:custGeom>
              <a:avLst/>
              <a:gdLst/>
              <a:ahLst/>
              <a:rect l="l" t="t" r="r" b="b"/>
              <a:pathLst>
                <a:path w="618" h="586">
                  <a:moveTo>
                    <a:pt x="595" y="427"/>
                  </a:moveTo>
                  <a:lnTo>
                    <a:pt x="214" y="586"/>
                  </a:lnTo>
                  <a:lnTo>
                    <a:pt x="113" y="556"/>
                  </a:lnTo>
                  <a:lnTo>
                    <a:pt x="0" y="88"/>
                  </a:lnTo>
                  <a:lnTo>
                    <a:pt x="21" y="46"/>
                  </a:lnTo>
                  <a:lnTo>
                    <a:pt x="43" y="19"/>
                  </a:lnTo>
                  <a:lnTo>
                    <a:pt x="62" y="2"/>
                  </a:lnTo>
                  <a:lnTo>
                    <a:pt x="81" y="0"/>
                  </a:lnTo>
                  <a:lnTo>
                    <a:pt x="100" y="6"/>
                  </a:lnTo>
                  <a:lnTo>
                    <a:pt x="119" y="22"/>
                  </a:lnTo>
                  <a:lnTo>
                    <a:pt x="140" y="43"/>
                  </a:lnTo>
                  <a:lnTo>
                    <a:pt x="162" y="72"/>
                  </a:lnTo>
                  <a:lnTo>
                    <a:pt x="200" y="437"/>
                  </a:lnTo>
                  <a:lnTo>
                    <a:pt x="546" y="318"/>
                  </a:lnTo>
                  <a:lnTo>
                    <a:pt x="570" y="313"/>
                  </a:lnTo>
                  <a:lnTo>
                    <a:pt x="589" y="318"/>
                  </a:lnTo>
                  <a:lnTo>
                    <a:pt x="605" y="329"/>
                  </a:lnTo>
                  <a:lnTo>
                    <a:pt x="616" y="348"/>
                  </a:lnTo>
                  <a:lnTo>
                    <a:pt x="618" y="369"/>
                  </a:lnTo>
                  <a:lnTo>
                    <a:pt x="616" y="392"/>
                  </a:lnTo>
                  <a:lnTo>
                    <a:pt x="608" y="410"/>
                  </a:lnTo>
                  <a:lnTo>
                    <a:pt x="595"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63480" y="4892760"/>
              <a:ext cx="431640" cy="430200"/>
            </a:xfrm>
            <a:custGeom>
              <a:avLst/>
              <a:gdLst/>
              <a:ahLst/>
              <a:rect l="l" t="t" r="r" b="b"/>
              <a:pathLst>
                <a:path w="1634" h="1626">
                  <a:moveTo>
                    <a:pt x="818" y="0"/>
                  </a:moveTo>
                  <a:lnTo>
                    <a:pt x="775" y="0"/>
                  </a:lnTo>
                  <a:lnTo>
                    <a:pt x="735" y="0"/>
                  </a:lnTo>
                  <a:lnTo>
                    <a:pt x="694" y="8"/>
                  </a:lnTo>
                  <a:lnTo>
                    <a:pt x="653" y="16"/>
                  </a:lnTo>
                  <a:lnTo>
                    <a:pt x="615" y="22"/>
                  </a:lnTo>
                  <a:lnTo>
                    <a:pt x="575" y="35"/>
                  </a:lnTo>
                  <a:lnTo>
                    <a:pt x="540" y="47"/>
                  </a:lnTo>
                  <a:lnTo>
                    <a:pt x="502" y="62"/>
                  </a:lnTo>
                  <a:lnTo>
                    <a:pt x="464" y="76"/>
                  </a:lnTo>
                  <a:lnTo>
                    <a:pt x="431" y="97"/>
                  </a:lnTo>
                  <a:lnTo>
                    <a:pt x="391" y="113"/>
                  </a:lnTo>
                  <a:lnTo>
                    <a:pt x="362" y="136"/>
                  </a:lnTo>
                  <a:lnTo>
                    <a:pt x="329" y="157"/>
                  </a:lnTo>
                  <a:lnTo>
                    <a:pt x="300" y="184"/>
                  </a:lnTo>
                  <a:lnTo>
                    <a:pt x="269" y="208"/>
                  </a:lnTo>
                  <a:lnTo>
                    <a:pt x="240" y="235"/>
                  </a:lnTo>
                  <a:lnTo>
                    <a:pt x="213" y="265"/>
                  </a:lnTo>
                  <a:lnTo>
                    <a:pt x="188" y="292"/>
                  </a:lnTo>
                  <a:lnTo>
                    <a:pt x="164" y="324"/>
                  </a:lnTo>
                  <a:lnTo>
                    <a:pt x="140" y="357"/>
                  </a:lnTo>
                  <a:lnTo>
                    <a:pt x="118" y="390"/>
                  </a:lnTo>
                  <a:lnTo>
                    <a:pt x="99" y="424"/>
                  </a:lnTo>
                  <a:lnTo>
                    <a:pt x="81" y="459"/>
                  </a:lnTo>
                  <a:lnTo>
                    <a:pt x="64" y="496"/>
                  </a:lnTo>
                  <a:lnTo>
                    <a:pt x="50" y="535"/>
                  </a:lnTo>
                  <a:lnTo>
                    <a:pt x="35" y="571"/>
                  </a:lnTo>
                  <a:lnTo>
                    <a:pt x="23" y="608"/>
                  </a:lnTo>
                  <a:lnTo>
                    <a:pt x="13" y="649"/>
                  </a:lnTo>
                  <a:lnTo>
                    <a:pt x="8" y="690"/>
                  </a:lnTo>
                  <a:lnTo>
                    <a:pt x="4" y="730"/>
                  </a:lnTo>
                  <a:lnTo>
                    <a:pt x="0" y="771"/>
                  </a:lnTo>
                  <a:lnTo>
                    <a:pt x="0" y="811"/>
                  </a:lnTo>
                  <a:lnTo>
                    <a:pt x="0" y="854"/>
                  </a:lnTo>
                  <a:lnTo>
                    <a:pt x="4" y="895"/>
                  </a:lnTo>
                  <a:lnTo>
                    <a:pt x="8" y="939"/>
                  </a:lnTo>
                  <a:lnTo>
                    <a:pt x="13" y="976"/>
                  </a:lnTo>
                  <a:lnTo>
                    <a:pt x="23" y="1017"/>
                  </a:lnTo>
                  <a:lnTo>
                    <a:pt x="35" y="1055"/>
                  </a:lnTo>
                  <a:lnTo>
                    <a:pt x="50" y="1092"/>
                  </a:lnTo>
                  <a:lnTo>
                    <a:pt x="64" y="1131"/>
                  </a:lnTo>
                  <a:lnTo>
                    <a:pt x="81" y="1166"/>
                  </a:lnTo>
                  <a:lnTo>
                    <a:pt x="99" y="1198"/>
                  </a:lnTo>
                  <a:lnTo>
                    <a:pt x="118" y="1239"/>
                  </a:lnTo>
                  <a:lnTo>
                    <a:pt x="140" y="1268"/>
                  </a:lnTo>
                  <a:lnTo>
                    <a:pt x="164" y="1301"/>
                  </a:lnTo>
                  <a:lnTo>
                    <a:pt x="188" y="1330"/>
                  </a:lnTo>
                  <a:lnTo>
                    <a:pt x="213" y="1361"/>
                  </a:lnTo>
                  <a:lnTo>
                    <a:pt x="240" y="1390"/>
                  </a:lnTo>
                  <a:lnTo>
                    <a:pt x="269" y="1417"/>
                  </a:lnTo>
                  <a:lnTo>
                    <a:pt x="300" y="1442"/>
                  </a:lnTo>
                  <a:lnTo>
                    <a:pt x="329" y="1466"/>
                  </a:lnTo>
                  <a:lnTo>
                    <a:pt x="362" y="1487"/>
                  </a:lnTo>
                  <a:lnTo>
                    <a:pt x="391" y="1510"/>
                  </a:lnTo>
                  <a:lnTo>
                    <a:pt x="431" y="1531"/>
                  </a:lnTo>
                  <a:lnTo>
                    <a:pt x="464" y="1547"/>
                  </a:lnTo>
                  <a:lnTo>
                    <a:pt x="502" y="1566"/>
                  </a:lnTo>
                  <a:lnTo>
                    <a:pt x="540" y="1577"/>
                  </a:lnTo>
                  <a:lnTo>
                    <a:pt x="575" y="1591"/>
                  </a:lnTo>
                  <a:lnTo>
                    <a:pt x="615" y="1601"/>
                  </a:lnTo>
                  <a:lnTo>
                    <a:pt x="653" y="1612"/>
                  </a:lnTo>
                  <a:lnTo>
                    <a:pt x="694" y="1620"/>
                  </a:lnTo>
                  <a:lnTo>
                    <a:pt x="735" y="1623"/>
                  </a:lnTo>
                  <a:lnTo>
                    <a:pt x="775" y="1626"/>
                  </a:lnTo>
                  <a:lnTo>
                    <a:pt x="818" y="1626"/>
                  </a:lnTo>
                  <a:lnTo>
                    <a:pt x="859" y="1626"/>
                  </a:lnTo>
                  <a:lnTo>
                    <a:pt x="899" y="1623"/>
                  </a:lnTo>
                  <a:lnTo>
                    <a:pt x="942" y="1620"/>
                  </a:lnTo>
                  <a:lnTo>
                    <a:pt x="980" y="1612"/>
                  </a:lnTo>
                  <a:lnTo>
                    <a:pt x="1021" y="1601"/>
                  </a:lnTo>
                  <a:lnTo>
                    <a:pt x="1059" y="1591"/>
                  </a:lnTo>
                  <a:lnTo>
                    <a:pt x="1096" y="1577"/>
                  </a:lnTo>
                  <a:lnTo>
                    <a:pt x="1135" y="1566"/>
                  </a:lnTo>
                  <a:lnTo>
                    <a:pt x="1172" y="1547"/>
                  </a:lnTo>
                  <a:lnTo>
                    <a:pt x="1205" y="1531"/>
                  </a:lnTo>
                  <a:lnTo>
                    <a:pt x="1243" y="1510"/>
                  </a:lnTo>
                  <a:lnTo>
                    <a:pt x="1274" y="1487"/>
                  </a:lnTo>
                  <a:lnTo>
                    <a:pt x="1307" y="1466"/>
                  </a:lnTo>
                  <a:lnTo>
                    <a:pt x="1334" y="1442"/>
                  </a:lnTo>
                  <a:lnTo>
                    <a:pt x="1367" y="1417"/>
                  </a:lnTo>
                  <a:lnTo>
                    <a:pt x="1394" y="1390"/>
                  </a:lnTo>
                  <a:lnTo>
                    <a:pt x="1423" y="1361"/>
                  </a:lnTo>
                  <a:lnTo>
                    <a:pt x="1448" y="1330"/>
                  </a:lnTo>
                  <a:lnTo>
                    <a:pt x="1472" y="1301"/>
                  </a:lnTo>
                  <a:lnTo>
                    <a:pt x="1494" y="1268"/>
                  </a:lnTo>
                  <a:lnTo>
                    <a:pt x="1516" y="1239"/>
                  </a:lnTo>
                  <a:lnTo>
                    <a:pt x="1537" y="1198"/>
                  </a:lnTo>
                  <a:lnTo>
                    <a:pt x="1556" y="1166"/>
                  </a:lnTo>
                  <a:lnTo>
                    <a:pt x="1572" y="1131"/>
                  </a:lnTo>
                  <a:lnTo>
                    <a:pt x="1583" y="1092"/>
                  </a:lnTo>
                  <a:lnTo>
                    <a:pt x="1599" y="1055"/>
                  </a:lnTo>
                  <a:lnTo>
                    <a:pt x="1610" y="1017"/>
                  </a:lnTo>
                  <a:lnTo>
                    <a:pt x="1620" y="976"/>
                  </a:lnTo>
                  <a:lnTo>
                    <a:pt x="1626" y="939"/>
                  </a:lnTo>
                  <a:lnTo>
                    <a:pt x="1632" y="895"/>
                  </a:lnTo>
                  <a:lnTo>
                    <a:pt x="1634" y="854"/>
                  </a:lnTo>
                  <a:lnTo>
                    <a:pt x="1634" y="811"/>
                  </a:lnTo>
                  <a:lnTo>
                    <a:pt x="1634" y="771"/>
                  </a:lnTo>
                  <a:lnTo>
                    <a:pt x="1632" y="730"/>
                  </a:lnTo>
                  <a:lnTo>
                    <a:pt x="1626" y="690"/>
                  </a:lnTo>
                  <a:lnTo>
                    <a:pt x="1620" y="649"/>
                  </a:lnTo>
                  <a:lnTo>
                    <a:pt x="1610" y="608"/>
                  </a:lnTo>
                  <a:lnTo>
                    <a:pt x="1599" y="571"/>
                  </a:lnTo>
                  <a:lnTo>
                    <a:pt x="1583" y="535"/>
                  </a:lnTo>
                  <a:lnTo>
                    <a:pt x="1572" y="496"/>
                  </a:lnTo>
                  <a:lnTo>
                    <a:pt x="1556" y="459"/>
                  </a:lnTo>
                  <a:lnTo>
                    <a:pt x="1537" y="424"/>
                  </a:lnTo>
                  <a:lnTo>
                    <a:pt x="1516" y="390"/>
                  </a:lnTo>
                  <a:lnTo>
                    <a:pt x="1494" y="357"/>
                  </a:lnTo>
                  <a:lnTo>
                    <a:pt x="1472" y="324"/>
                  </a:lnTo>
                  <a:lnTo>
                    <a:pt x="1448" y="292"/>
                  </a:lnTo>
                  <a:lnTo>
                    <a:pt x="1423" y="265"/>
                  </a:lnTo>
                  <a:lnTo>
                    <a:pt x="1394" y="235"/>
                  </a:lnTo>
                  <a:lnTo>
                    <a:pt x="1367" y="208"/>
                  </a:lnTo>
                  <a:lnTo>
                    <a:pt x="1334" y="184"/>
                  </a:lnTo>
                  <a:lnTo>
                    <a:pt x="1307" y="157"/>
                  </a:lnTo>
                  <a:lnTo>
                    <a:pt x="1274" y="136"/>
                  </a:lnTo>
                  <a:lnTo>
                    <a:pt x="1243" y="113"/>
                  </a:lnTo>
                  <a:lnTo>
                    <a:pt x="1205" y="97"/>
                  </a:lnTo>
                  <a:lnTo>
                    <a:pt x="1172" y="76"/>
                  </a:lnTo>
                  <a:lnTo>
                    <a:pt x="1135" y="62"/>
                  </a:lnTo>
                  <a:lnTo>
                    <a:pt x="1096" y="47"/>
                  </a:lnTo>
                  <a:lnTo>
                    <a:pt x="1059" y="35"/>
                  </a:lnTo>
                  <a:lnTo>
                    <a:pt x="1021" y="22"/>
                  </a:lnTo>
                  <a:lnTo>
                    <a:pt x="980" y="16"/>
                  </a:lnTo>
                  <a:lnTo>
                    <a:pt x="942" y="8"/>
                  </a:lnTo>
                  <a:lnTo>
                    <a:pt x="899" y="0"/>
                  </a:lnTo>
                  <a:lnTo>
                    <a:pt x="859" y="0"/>
                  </a:lnTo>
                  <a:lnTo>
                    <a:pt x="818" y="0"/>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03120" y="5241960"/>
              <a:ext cx="990360" cy="806400"/>
            </a:xfrm>
            <a:custGeom>
              <a:avLst/>
              <a:gdLst/>
              <a:ahLst/>
              <a:rect l="l" t="t" r="r" b="b"/>
              <a:pathLst>
                <a:path w="3747" h="3053">
                  <a:moveTo>
                    <a:pt x="3747" y="2655"/>
                  </a:moveTo>
                  <a:lnTo>
                    <a:pt x="2867" y="3053"/>
                  </a:lnTo>
                  <a:lnTo>
                    <a:pt x="0" y="2054"/>
                  </a:lnTo>
                  <a:lnTo>
                    <a:pt x="597" y="130"/>
                  </a:lnTo>
                  <a:lnTo>
                    <a:pt x="681" y="24"/>
                  </a:lnTo>
                  <a:lnTo>
                    <a:pt x="805" y="0"/>
                  </a:lnTo>
                  <a:lnTo>
                    <a:pt x="3231" y="579"/>
                  </a:lnTo>
                  <a:lnTo>
                    <a:pt x="3351" y="641"/>
                  </a:lnTo>
                  <a:lnTo>
                    <a:pt x="3432" y="779"/>
                  </a:lnTo>
                  <a:lnTo>
                    <a:pt x="3608" y="1822"/>
                  </a:lnTo>
                  <a:lnTo>
                    <a:pt x="3747" y="265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39600" y="5794560"/>
              <a:ext cx="687600" cy="272880"/>
            </a:xfrm>
            <a:custGeom>
              <a:avLst/>
              <a:gdLst/>
              <a:ahLst/>
              <a:rect l="l" t="t" r="r" b="b"/>
              <a:pathLst>
                <a:path w="2602" h="1038">
                  <a:moveTo>
                    <a:pt x="2602" y="167"/>
                  </a:moveTo>
                  <a:lnTo>
                    <a:pt x="524" y="1038"/>
                  </a:lnTo>
                  <a:lnTo>
                    <a:pt x="0" y="687"/>
                  </a:lnTo>
                  <a:lnTo>
                    <a:pt x="1904" y="0"/>
                  </a:lnTo>
                  <a:lnTo>
                    <a:pt x="2602" y="167"/>
                  </a:lnTo>
                  <a:close/>
                </a:path>
              </a:pathLst>
            </a:custGeom>
            <a:solidFill>
              <a:srgbClr val="606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06280" y="5235840"/>
              <a:ext cx="735120" cy="183960"/>
            </a:xfrm>
            <a:custGeom>
              <a:avLst/>
              <a:gdLst/>
              <a:ahLst/>
              <a:rect l="l" t="t" r="r" b="b"/>
              <a:pathLst>
                <a:path w="2780" h="697">
                  <a:moveTo>
                    <a:pt x="2780" y="521"/>
                  </a:moveTo>
                  <a:lnTo>
                    <a:pt x="348" y="0"/>
                  </a:lnTo>
                  <a:lnTo>
                    <a:pt x="0" y="170"/>
                  </a:lnTo>
                  <a:lnTo>
                    <a:pt x="2264" y="697"/>
                  </a:lnTo>
                  <a:lnTo>
                    <a:pt x="2780" y="521"/>
                  </a:lnTo>
                  <a:close/>
                </a:path>
              </a:pathLst>
            </a:custGeom>
            <a:solidFill>
              <a:srgbClr val="c1c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06280" y="5281920"/>
              <a:ext cx="826920" cy="1191960"/>
            </a:xfrm>
            <a:custGeom>
              <a:avLst/>
              <a:gdLst/>
              <a:ahLst/>
              <a:rect l="l" t="t" r="r" b="b"/>
              <a:pathLst>
                <a:path w="3127" h="4510">
                  <a:moveTo>
                    <a:pt x="2259" y="525"/>
                  </a:moveTo>
                  <a:lnTo>
                    <a:pt x="0" y="0"/>
                  </a:lnTo>
                  <a:lnTo>
                    <a:pt x="694" y="3642"/>
                  </a:lnTo>
                  <a:lnTo>
                    <a:pt x="3127" y="4510"/>
                  </a:lnTo>
                  <a:lnTo>
                    <a:pt x="2259" y="525"/>
                  </a:lnTo>
                  <a:close/>
                </a:path>
              </a:pathLst>
            </a:custGeom>
            <a:solidFill>
              <a:srgbClr val="a0a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5840" y="5207040"/>
              <a:ext cx="506160" cy="476280"/>
            </a:xfrm>
            <a:custGeom>
              <a:avLst/>
              <a:gdLst/>
              <a:ahLst/>
              <a:rect l="l" t="t" r="r" b="b"/>
              <a:pathLst>
                <a:path w="1915" h="1794">
                  <a:moveTo>
                    <a:pt x="1915" y="251"/>
                  </a:moveTo>
                  <a:lnTo>
                    <a:pt x="365" y="0"/>
                  </a:lnTo>
                  <a:lnTo>
                    <a:pt x="0" y="1528"/>
                  </a:lnTo>
                  <a:lnTo>
                    <a:pt x="1580" y="1794"/>
                  </a:lnTo>
                  <a:lnTo>
                    <a:pt x="1915" y="251"/>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226880" y="5248440"/>
              <a:ext cx="422280" cy="395280"/>
            </a:xfrm>
            <a:custGeom>
              <a:avLst/>
              <a:gdLst/>
              <a:ahLst/>
              <a:rect l="l" t="t" r="r" b="b"/>
              <a:pathLst>
                <a:path w="1591" h="1498">
                  <a:moveTo>
                    <a:pt x="1591" y="209"/>
                  </a:moveTo>
                  <a:lnTo>
                    <a:pt x="303" y="0"/>
                  </a:lnTo>
                  <a:lnTo>
                    <a:pt x="0" y="1275"/>
                  </a:lnTo>
                  <a:lnTo>
                    <a:pt x="1315" y="1498"/>
                  </a:lnTo>
                  <a:lnTo>
                    <a:pt x="1591" y="2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03160" y="5372280"/>
              <a:ext cx="825480" cy="1101600"/>
            </a:xfrm>
            <a:custGeom>
              <a:avLst/>
              <a:gdLst/>
              <a:ahLst/>
              <a:rect l="l" t="t" r="r" b="b"/>
              <a:pathLst>
                <a:path w="3117" h="4162">
                  <a:moveTo>
                    <a:pt x="517" y="0"/>
                  </a:moveTo>
                  <a:lnTo>
                    <a:pt x="0" y="173"/>
                  </a:lnTo>
                  <a:lnTo>
                    <a:pt x="865" y="4162"/>
                  </a:lnTo>
                  <a:lnTo>
                    <a:pt x="2944" y="3645"/>
                  </a:lnTo>
                  <a:lnTo>
                    <a:pt x="3117" y="1732"/>
                  </a:lnTo>
                  <a:lnTo>
                    <a:pt x="1041" y="2601"/>
                  </a:lnTo>
                  <a:lnTo>
                    <a:pt x="517" y="0"/>
                  </a:lnTo>
                  <a:close/>
                </a:path>
              </a:pathLst>
            </a:custGeom>
            <a:solidFill>
              <a:srgbClr val="8989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31800" y="4795920"/>
              <a:ext cx="517320" cy="482760"/>
            </a:xfrm>
            <a:custGeom>
              <a:avLst/>
              <a:gdLst/>
              <a:ahLst/>
              <a:rect l="l" t="t" r="r" b="b"/>
              <a:pathLst>
                <a:path w="1957" h="1823">
                  <a:moveTo>
                    <a:pt x="743" y="21"/>
                  </a:moveTo>
                  <a:lnTo>
                    <a:pt x="594" y="60"/>
                  </a:lnTo>
                  <a:lnTo>
                    <a:pt x="464" y="114"/>
                  </a:lnTo>
                  <a:lnTo>
                    <a:pt x="351" y="184"/>
                  </a:lnTo>
                  <a:lnTo>
                    <a:pt x="257" y="267"/>
                  </a:lnTo>
                  <a:lnTo>
                    <a:pt x="180" y="362"/>
                  </a:lnTo>
                  <a:lnTo>
                    <a:pt x="116" y="468"/>
                  </a:lnTo>
                  <a:lnTo>
                    <a:pt x="70" y="579"/>
                  </a:lnTo>
                  <a:lnTo>
                    <a:pt x="33" y="692"/>
                  </a:lnTo>
                  <a:lnTo>
                    <a:pt x="10" y="809"/>
                  </a:lnTo>
                  <a:lnTo>
                    <a:pt x="0" y="930"/>
                  </a:lnTo>
                  <a:lnTo>
                    <a:pt x="0" y="1049"/>
                  </a:lnTo>
                  <a:lnTo>
                    <a:pt x="6" y="1163"/>
                  </a:lnTo>
                  <a:lnTo>
                    <a:pt x="21" y="1273"/>
                  </a:lnTo>
                  <a:lnTo>
                    <a:pt x="43" y="1374"/>
                  </a:lnTo>
                  <a:lnTo>
                    <a:pt x="70" y="1469"/>
                  </a:lnTo>
                  <a:lnTo>
                    <a:pt x="103" y="1552"/>
                  </a:lnTo>
                  <a:lnTo>
                    <a:pt x="176" y="1625"/>
                  </a:lnTo>
                  <a:lnTo>
                    <a:pt x="259" y="1687"/>
                  </a:lnTo>
                  <a:lnTo>
                    <a:pt x="351" y="1739"/>
                  </a:lnTo>
                  <a:lnTo>
                    <a:pt x="451" y="1780"/>
                  </a:lnTo>
                  <a:lnTo>
                    <a:pt x="557" y="1807"/>
                  </a:lnTo>
                  <a:lnTo>
                    <a:pt x="665" y="1823"/>
                  </a:lnTo>
                  <a:lnTo>
                    <a:pt x="772" y="1823"/>
                  </a:lnTo>
                  <a:lnTo>
                    <a:pt x="884" y="1807"/>
                  </a:lnTo>
                  <a:lnTo>
                    <a:pt x="992" y="1780"/>
                  </a:lnTo>
                  <a:lnTo>
                    <a:pt x="1102" y="1736"/>
                  </a:lnTo>
                  <a:lnTo>
                    <a:pt x="1203" y="1677"/>
                  </a:lnTo>
                  <a:lnTo>
                    <a:pt x="1300" y="1601"/>
                  </a:lnTo>
                  <a:lnTo>
                    <a:pt x="1389" y="1507"/>
                  </a:lnTo>
                  <a:lnTo>
                    <a:pt x="1464" y="1399"/>
                  </a:lnTo>
                  <a:lnTo>
                    <a:pt x="1532" y="1271"/>
                  </a:lnTo>
                  <a:lnTo>
                    <a:pt x="1586" y="1125"/>
                  </a:lnTo>
                  <a:lnTo>
                    <a:pt x="1789" y="1049"/>
                  </a:lnTo>
                  <a:lnTo>
                    <a:pt x="1957" y="1044"/>
                  </a:lnTo>
                  <a:lnTo>
                    <a:pt x="1889" y="627"/>
                  </a:lnTo>
                  <a:lnTo>
                    <a:pt x="1848" y="563"/>
                  </a:lnTo>
                  <a:lnTo>
                    <a:pt x="1804" y="495"/>
                  </a:lnTo>
                  <a:lnTo>
                    <a:pt x="1759" y="430"/>
                  </a:lnTo>
                  <a:lnTo>
                    <a:pt x="1710" y="368"/>
                  </a:lnTo>
                  <a:lnTo>
                    <a:pt x="1657" y="308"/>
                  </a:lnTo>
                  <a:lnTo>
                    <a:pt x="1599" y="249"/>
                  </a:lnTo>
                  <a:lnTo>
                    <a:pt x="1537" y="197"/>
                  </a:lnTo>
                  <a:lnTo>
                    <a:pt x="1472" y="149"/>
                  </a:lnTo>
                  <a:lnTo>
                    <a:pt x="1400" y="106"/>
                  </a:lnTo>
                  <a:lnTo>
                    <a:pt x="1324" y="67"/>
                  </a:lnTo>
                  <a:lnTo>
                    <a:pt x="1240" y="40"/>
                  </a:lnTo>
                  <a:lnTo>
                    <a:pt x="1154" y="21"/>
                  </a:lnTo>
                  <a:lnTo>
                    <a:pt x="1059" y="5"/>
                  </a:lnTo>
                  <a:lnTo>
                    <a:pt x="961" y="0"/>
                  </a:lnTo>
                  <a:lnTo>
                    <a:pt x="853" y="5"/>
                  </a:lnTo>
                  <a:lnTo>
                    <a:pt x="743" y="2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218960" y="5121360"/>
              <a:ext cx="1179720" cy="135000"/>
            </a:xfrm>
            <a:custGeom>
              <a:avLst/>
              <a:gdLst/>
              <a:ahLst/>
              <a:rect l="l" t="t" r="r" b="b"/>
              <a:pathLst>
                <a:path w="4461" h="514">
                  <a:moveTo>
                    <a:pt x="0" y="0"/>
                  </a:moveTo>
                  <a:lnTo>
                    <a:pt x="1688" y="140"/>
                  </a:lnTo>
                  <a:lnTo>
                    <a:pt x="4461" y="514"/>
                  </a:lnTo>
                  <a:lnTo>
                    <a:pt x="3110" y="444"/>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22400" y="5238720"/>
              <a:ext cx="496800" cy="613080"/>
            </a:xfrm>
            <a:custGeom>
              <a:avLst/>
              <a:gdLst/>
              <a:ahLst/>
              <a:rect l="l" t="t" r="r" b="b"/>
              <a:pathLst>
                <a:path w="1874" h="2317">
                  <a:moveTo>
                    <a:pt x="0" y="2222"/>
                  </a:moveTo>
                  <a:lnTo>
                    <a:pt x="1555" y="2317"/>
                  </a:lnTo>
                  <a:lnTo>
                    <a:pt x="1874" y="1895"/>
                  </a:lnTo>
                  <a:lnTo>
                    <a:pt x="1800" y="71"/>
                  </a:lnTo>
                  <a:lnTo>
                    <a:pt x="447" y="0"/>
                  </a:lnTo>
                  <a:lnTo>
                    <a:pt x="0" y="22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612800" y="5616720"/>
              <a:ext cx="135000" cy="135000"/>
            </a:xfrm>
            <a:custGeom>
              <a:avLst/>
              <a:gdLst/>
              <a:ahLst/>
              <a:rect l="l" t="t" r="r" b="b"/>
              <a:pathLst>
                <a:path w="509" h="507">
                  <a:moveTo>
                    <a:pt x="254" y="0"/>
                  </a:moveTo>
                  <a:lnTo>
                    <a:pt x="304" y="5"/>
                  </a:lnTo>
                  <a:lnTo>
                    <a:pt x="352" y="18"/>
                  </a:lnTo>
                  <a:lnTo>
                    <a:pt x="395" y="43"/>
                  </a:lnTo>
                  <a:lnTo>
                    <a:pt x="433" y="72"/>
                  </a:lnTo>
                  <a:lnTo>
                    <a:pt x="463" y="110"/>
                  </a:lnTo>
                  <a:lnTo>
                    <a:pt x="487" y="153"/>
                  </a:lnTo>
                  <a:lnTo>
                    <a:pt x="503" y="201"/>
                  </a:lnTo>
                  <a:lnTo>
                    <a:pt x="509" y="253"/>
                  </a:lnTo>
                  <a:lnTo>
                    <a:pt x="503" y="304"/>
                  </a:lnTo>
                  <a:lnTo>
                    <a:pt x="487" y="350"/>
                  </a:lnTo>
                  <a:lnTo>
                    <a:pt x="463" y="394"/>
                  </a:lnTo>
                  <a:lnTo>
                    <a:pt x="433" y="431"/>
                  </a:lnTo>
                  <a:lnTo>
                    <a:pt x="395" y="464"/>
                  </a:lnTo>
                  <a:lnTo>
                    <a:pt x="352" y="486"/>
                  </a:lnTo>
                  <a:lnTo>
                    <a:pt x="304" y="502"/>
                  </a:lnTo>
                  <a:lnTo>
                    <a:pt x="254" y="507"/>
                  </a:lnTo>
                  <a:lnTo>
                    <a:pt x="203" y="502"/>
                  </a:lnTo>
                  <a:lnTo>
                    <a:pt x="157" y="486"/>
                  </a:lnTo>
                  <a:lnTo>
                    <a:pt x="114" y="464"/>
                  </a:lnTo>
                  <a:lnTo>
                    <a:pt x="76" y="431"/>
                  </a:lnTo>
                  <a:lnTo>
                    <a:pt x="43" y="394"/>
                  </a:lnTo>
                  <a:lnTo>
                    <a:pt x="22" y="350"/>
                  </a:lnTo>
                  <a:lnTo>
                    <a:pt x="6" y="304"/>
                  </a:lnTo>
                  <a:lnTo>
                    <a:pt x="0" y="253"/>
                  </a:lnTo>
                  <a:lnTo>
                    <a:pt x="6" y="201"/>
                  </a:lnTo>
                  <a:lnTo>
                    <a:pt x="22" y="153"/>
                  </a:lnTo>
                  <a:lnTo>
                    <a:pt x="43" y="110"/>
                  </a:lnTo>
                  <a:lnTo>
                    <a:pt x="76" y="72"/>
                  </a:lnTo>
                  <a:lnTo>
                    <a:pt x="114" y="43"/>
                  </a:lnTo>
                  <a:lnTo>
                    <a:pt x="157" y="18"/>
                  </a:lnTo>
                  <a:lnTo>
                    <a:pt x="203" y="5"/>
                  </a:lnTo>
                  <a:lnTo>
                    <a:pt x="254"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990360" y="5415120"/>
              <a:ext cx="682560" cy="463680"/>
            </a:xfrm>
            <a:custGeom>
              <a:avLst/>
              <a:gdLst/>
              <a:ahLst/>
              <a:rect l="l" t="t" r="r" b="b"/>
              <a:pathLst>
                <a:path w="2580" h="1752">
                  <a:moveTo>
                    <a:pt x="0" y="414"/>
                  </a:moveTo>
                  <a:lnTo>
                    <a:pt x="1374" y="1698"/>
                  </a:lnTo>
                  <a:lnTo>
                    <a:pt x="1428" y="1735"/>
                  </a:lnTo>
                  <a:lnTo>
                    <a:pt x="1474" y="1752"/>
                  </a:lnTo>
                  <a:lnTo>
                    <a:pt x="1515" y="1749"/>
                  </a:lnTo>
                  <a:lnTo>
                    <a:pt x="1558" y="1733"/>
                  </a:lnTo>
                  <a:lnTo>
                    <a:pt x="1598" y="1708"/>
                  </a:lnTo>
                  <a:lnTo>
                    <a:pt x="1645" y="1685"/>
                  </a:lnTo>
                  <a:lnTo>
                    <a:pt x="1695" y="1660"/>
                  </a:lnTo>
                  <a:lnTo>
                    <a:pt x="1755" y="1644"/>
                  </a:lnTo>
                  <a:lnTo>
                    <a:pt x="2580" y="1360"/>
                  </a:lnTo>
                  <a:lnTo>
                    <a:pt x="2571" y="1290"/>
                  </a:lnTo>
                  <a:lnTo>
                    <a:pt x="2544" y="1203"/>
                  </a:lnTo>
                  <a:lnTo>
                    <a:pt x="2499" y="1114"/>
                  </a:lnTo>
                  <a:lnTo>
                    <a:pt x="2447" y="1027"/>
                  </a:lnTo>
                  <a:lnTo>
                    <a:pt x="2387" y="954"/>
                  </a:lnTo>
                  <a:lnTo>
                    <a:pt x="2329" y="900"/>
                  </a:lnTo>
                  <a:lnTo>
                    <a:pt x="2275" y="876"/>
                  </a:lnTo>
                  <a:lnTo>
                    <a:pt x="2231" y="892"/>
                  </a:lnTo>
                  <a:lnTo>
                    <a:pt x="1669" y="1165"/>
                  </a:lnTo>
                  <a:lnTo>
                    <a:pt x="735" y="0"/>
                  </a:lnTo>
                  <a:lnTo>
                    <a:pt x="0" y="41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707840" y="5288040"/>
              <a:ext cx="276480" cy="247680"/>
            </a:xfrm>
            <a:custGeom>
              <a:avLst/>
              <a:gdLst/>
              <a:ahLst/>
              <a:rect l="l" t="t" r="r" b="b"/>
              <a:pathLst>
                <a:path w="1045" h="939">
                  <a:moveTo>
                    <a:pt x="188" y="0"/>
                  </a:moveTo>
                  <a:lnTo>
                    <a:pt x="1045" y="108"/>
                  </a:lnTo>
                  <a:lnTo>
                    <a:pt x="856" y="939"/>
                  </a:lnTo>
                  <a:lnTo>
                    <a:pt x="0" y="830"/>
                  </a:lnTo>
                  <a:lnTo>
                    <a:pt x="188"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760400" y="5310360"/>
              <a:ext cx="39600" cy="38160"/>
            </a:xfrm>
            <a:custGeom>
              <a:avLst/>
              <a:gdLst/>
              <a:ahLst/>
              <a:rect l="l" t="t" r="r" b="b"/>
              <a:pathLst>
                <a:path w="149" h="148">
                  <a:moveTo>
                    <a:pt x="30" y="0"/>
                  </a:moveTo>
                  <a:lnTo>
                    <a:pt x="149" y="16"/>
                  </a:lnTo>
                  <a:lnTo>
                    <a:pt x="120" y="148"/>
                  </a:lnTo>
                  <a:lnTo>
                    <a:pt x="0" y="132"/>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7" name=""/>
            <p:cNvSpPr/>
            <p:nvPr/>
          </p:nvSpPr>
          <p:spPr>
            <a:xfrm>
              <a:off x="1738080" y="5405400"/>
              <a:ext cx="39600" cy="39960"/>
            </a:xfrm>
            <a:custGeom>
              <a:avLst/>
              <a:gdLst/>
              <a:ahLst/>
              <a:rect l="l" t="t" r="r" b="b"/>
              <a:pathLst>
                <a:path w="149" h="149">
                  <a:moveTo>
                    <a:pt x="29" y="0"/>
                  </a:moveTo>
                  <a:lnTo>
                    <a:pt x="149"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8" name=""/>
            <p:cNvSpPr/>
            <p:nvPr/>
          </p:nvSpPr>
          <p:spPr>
            <a:xfrm>
              <a:off x="1749240" y="5357880"/>
              <a:ext cx="39600" cy="38160"/>
            </a:xfrm>
            <a:custGeom>
              <a:avLst/>
              <a:gdLst/>
              <a:ahLst/>
              <a:rect l="l" t="t" r="r" b="b"/>
              <a:pathLst>
                <a:path w="148" h="149">
                  <a:moveTo>
                    <a:pt x="29" y="0"/>
                  </a:moveTo>
                  <a:lnTo>
                    <a:pt x="148" y="17"/>
                  </a:lnTo>
                  <a:lnTo>
                    <a:pt x="119" y="149"/>
                  </a:lnTo>
                  <a:lnTo>
                    <a:pt x="0" y="133"/>
                  </a:lnTo>
                  <a:lnTo>
                    <a:pt x="2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9" name=""/>
            <p:cNvSpPr/>
            <p:nvPr/>
          </p:nvSpPr>
          <p:spPr>
            <a:xfrm>
              <a:off x="1728720" y="5454720"/>
              <a:ext cx="38160" cy="38160"/>
            </a:xfrm>
            <a:custGeom>
              <a:avLst/>
              <a:gdLst/>
              <a:ahLst/>
              <a:rect l="l" t="t" r="r" b="b"/>
              <a:pathLst>
                <a:path w="149" h="149">
                  <a:moveTo>
                    <a:pt x="30" y="0"/>
                  </a:moveTo>
                  <a:lnTo>
                    <a:pt x="149" y="16"/>
                  </a:lnTo>
                  <a:lnTo>
                    <a:pt x="119" y="149"/>
                  </a:lnTo>
                  <a:lnTo>
                    <a:pt x="0" y="132"/>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1815840" y="5316840"/>
              <a:ext cx="39960" cy="39600"/>
            </a:xfrm>
            <a:custGeom>
              <a:avLst/>
              <a:gdLst/>
              <a:ahLst/>
              <a:rect l="l" t="t" r="r" b="b"/>
              <a:pathLst>
                <a:path w="148" h="148">
                  <a:moveTo>
                    <a:pt x="29" y="0"/>
                  </a:moveTo>
                  <a:lnTo>
                    <a:pt x="148" y="16"/>
                  </a:lnTo>
                  <a:lnTo>
                    <a:pt x="118" y="148"/>
                  </a:lnTo>
                  <a:lnTo>
                    <a:pt x="0" y="132"/>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
            <p:cNvSpPr/>
            <p:nvPr/>
          </p:nvSpPr>
          <p:spPr>
            <a:xfrm>
              <a:off x="1793880" y="5413680"/>
              <a:ext cx="39600" cy="39600"/>
            </a:xfrm>
            <a:custGeom>
              <a:avLst/>
              <a:gdLst/>
              <a:ahLst/>
              <a:rect l="l" t="t" r="r" b="b"/>
              <a:pathLst>
                <a:path w="148" h="149">
                  <a:moveTo>
                    <a:pt x="29" y="0"/>
                  </a:moveTo>
                  <a:lnTo>
                    <a:pt x="148"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2" name=""/>
            <p:cNvSpPr/>
            <p:nvPr/>
          </p:nvSpPr>
          <p:spPr>
            <a:xfrm>
              <a:off x="1804680" y="5365800"/>
              <a:ext cx="38160" cy="38160"/>
            </a:xfrm>
            <a:custGeom>
              <a:avLst/>
              <a:gdLst/>
              <a:ahLst/>
              <a:rect l="l" t="t" r="r" b="b"/>
              <a:pathLst>
                <a:path w="149" h="148">
                  <a:moveTo>
                    <a:pt x="30" y="0"/>
                  </a:moveTo>
                  <a:lnTo>
                    <a:pt x="149" y="16"/>
                  </a:lnTo>
                  <a:lnTo>
                    <a:pt x="119" y="148"/>
                  </a:lnTo>
                  <a:lnTo>
                    <a:pt x="0" y="132"/>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3" name=""/>
            <p:cNvSpPr/>
            <p:nvPr/>
          </p:nvSpPr>
          <p:spPr>
            <a:xfrm>
              <a:off x="1784160" y="5461200"/>
              <a:ext cx="38160" cy="39600"/>
            </a:xfrm>
            <a:custGeom>
              <a:avLst/>
              <a:gdLst/>
              <a:ahLst/>
              <a:rect l="l" t="t" r="r" b="b"/>
              <a:pathLst>
                <a:path w="149" h="149">
                  <a:moveTo>
                    <a:pt x="29" y="0"/>
                  </a:moveTo>
                  <a:lnTo>
                    <a:pt x="149"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1871640" y="5322960"/>
              <a:ext cx="39600" cy="39600"/>
            </a:xfrm>
            <a:custGeom>
              <a:avLst/>
              <a:gdLst/>
              <a:ahLst/>
              <a:rect l="l" t="t" r="r" b="b"/>
              <a:pathLst>
                <a:path w="149" h="149">
                  <a:moveTo>
                    <a:pt x="30" y="0"/>
                  </a:moveTo>
                  <a:lnTo>
                    <a:pt x="149" y="17"/>
                  </a:lnTo>
                  <a:lnTo>
                    <a:pt x="119" y="149"/>
                  </a:lnTo>
                  <a:lnTo>
                    <a:pt x="0" y="133"/>
                  </a:lnTo>
                  <a:lnTo>
                    <a:pt x="3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 name=""/>
            <p:cNvSpPr/>
            <p:nvPr/>
          </p:nvSpPr>
          <p:spPr>
            <a:xfrm>
              <a:off x="1849320" y="5418360"/>
              <a:ext cx="39600" cy="39600"/>
            </a:xfrm>
            <a:custGeom>
              <a:avLst/>
              <a:gdLst/>
              <a:ahLst/>
              <a:rect l="l" t="t" r="r" b="b"/>
              <a:pathLst>
                <a:path w="149" h="149">
                  <a:moveTo>
                    <a:pt x="30" y="0"/>
                  </a:moveTo>
                  <a:lnTo>
                    <a:pt x="149" y="17"/>
                  </a:lnTo>
                  <a:lnTo>
                    <a:pt x="119" y="149"/>
                  </a:lnTo>
                  <a:lnTo>
                    <a:pt x="0" y="133"/>
                  </a:lnTo>
                  <a:lnTo>
                    <a:pt x="3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6" name=""/>
            <p:cNvSpPr/>
            <p:nvPr/>
          </p:nvSpPr>
          <p:spPr>
            <a:xfrm>
              <a:off x="1860480" y="5372280"/>
              <a:ext cx="39600" cy="38160"/>
            </a:xfrm>
            <a:custGeom>
              <a:avLst/>
              <a:gdLst/>
              <a:ahLst/>
              <a:rect l="l" t="t" r="r" b="b"/>
              <a:pathLst>
                <a:path w="148" h="149">
                  <a:moveTo>
                    <a:pt x="30" y="0"/>
                  </a:moveTo>
                  <a:lnTo>
                    <a:pt x="148" y="17"/>
                  </a:lnTo>
                  <a:lnTo>
                    <a:pt x="119" y="149"/>
                  </a:lnTo>
                  <a:lnTo>
                    <a:pt x="0" y="133"/>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1838160" y="5467320"/>
              <a:ext cx="39600" cy="39960"/>
            </a:xfrm>
            <a:custGeom>
              <a:avLst/>
              <a:gdLst/>
              <a:ahLst/>
              <a:rect l="l" t="t" r="r" b="b"/>
              <a:pathLst>
                <a:path w="149" h="149">
                  <a:moveTo>
                    <a:pt x="29" y="0"/>
                  </a:moveTo>
                  <a:lnTo>
                    <a:pt x="149"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8" name=""/>
            <p:cNvSpPr/>
            <p:nvPr/>
          </p:nvSpPr>
          <p:spPr>
            <a:xfrm>
              <a:off x="1925640" y="5330880"/>
              <a:ext cx="39600" cy="39600"/>
            </a:xfrm>
            <a:custGeom>
              <a:avLst/>
              <a:gdLst/>
              <a:ahLst/>
              <a:rect l="l" t="t" r="r" b="b"/>
              <a:pathLst>
                <a:path w="148" h="147">
                  <a:moveTo>
                    <a:pt x="29" y="0"/>
                  </a:moveTo>
                  <a:lnTo>
                    <a:pt x="148" y="15"/>
                  </a:lnTo>
                  <a:lnTo>
                    <a:pt x="118" y="147"/>
                  </a:lnTo>
                  <a:lnTo>
                    <a:pt x="0" y="132"/>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9" name=""/>
            <p:cNvSpPr/>
            <p:nvPr/>
          </p:nvSpPr>
          <p:spPr>
            <a:xfrm>
              <a:off x="1903320" y="5427720"/>
              <a:ext cx="39600" cy="39600"/>
            </a:xfrm>
            <a:custGeom>
              <a:avLst/>
              <a:gdLst/>
              <a:ahLst/>
              <a:rect l="l" t="t" r="r" b="b"/>
              <a:pathLst>
                <a:path w="148" h="149">
                  <a:moveTo>
                    <a:pt x="30" y="0"/>
                  </a:moveTo>
                  <a:lnTo>
                    <a:pt x="148" y="17"/>
                  </a:lnTo>
                  <a:lnTo>
                    <a:pt x="119" y="149"/>
                  </a:lnTo>
                  <a:lnTo>
                    <a:pt x="0" y="133"/>
                  </a:lnTo>
                  <a:lnTo>
                    <a:pt x="3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0" name=""/>
            <p:cNvSpPr/>
            <p:nvPr/>
          </p:nvSpPr>
          <p:spPr>
            <a:xfrm>
              <a:off x="1915920" y="5378760"/>
              <a:ext cx="38160" cy="39600"/>
            </a:xfrm>
            <a:custGeom>
              <a:avLst/>
              <a:gdLst/>
              <a:ahLst/>
              <a:rect l="l" t="t" r="r" b="b"/>
              <a:pathLst>
                <a:path w="149" h="149">
                  <a:moveTo>
                    <a:pt x="29" y="0"/>
                  </a:moveTo>
                  <a:lnTo>
                    <a:pt x="149"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1" name=""/>
            <p:cNvSpPr/>
            <p:nvPr/>
          </p:nvSpPr>
          <p:spPr>
            <a:xfrm>
              <a:off x="1893600" y="5475600"/>
              <a:ext cx="38160" cy="37800"/>
            </a:xfrm>
            <a:custGeom>
              <a:avLst/>
              <a:gdLst/>
              <a:ahLst/>
              <a:rect l="l" t="t" r="r" b="b"/>
              <a:pathLst>
                <a:path w="147" h="149">
                  <a:moveTo>
                    <a:pt x="29" y="0"/>
                  </a:moveTo>
                  <a:lnTo>
                    <a:pt x="147" y="17"/>
                  </a:lnTo>
                  <a:lnTo>
                    <a:pt x="118" y="149"/>
                  </a:lnTo>
                  <a:lnTo>
                    <a:pt x="0" y="133"/>
                  </a:lnTo>
                  <a:lnTo>
                    <a:pt x="2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2" name=""/>
            <p:cNvSpPr/>
            <p:nvPr/>
          </p:nvSpPr>
          <p:spPr>
            <a:xfrm>
              <a:off x="1922400" y="5729400"/>
              <a:ext cx="500040" cy="195120"/>
            </a:xfrm>
            <a:custGeom>
              <a:avLst/>
              <a:gdLst/>
              <a:ahLst/>
              <a:rect l="l" t="t" r="r" b="b"/>
              <a:pathLst>
                <a:path w="1891" h="735">
                  <a:moveTo>
                    <a:pt x="1878" y="0"/>
                  </a:moveTo>
                  <a:lnTo>
                    <a:pt x="1559" y="424"/>
                  </a:lnTo>
                  <a:lnTo>
                    <a:pt x="0" y="337"/>
                  </a:lnTo>
                  <a:lnTo>
                    <a:pt x="10" y="716"/>
                  </a:lnTo>
                  <a:lnTo>
                    <a:pt x="1630" y="735"/>
                  </a:lnTo>
                  <a:lnTo>
                    <a:pt x="1891" y="368"/>
                  </a:lnTo>
                  <a:lnTo>
                    <a:pt x="1878" y="0"/>
                  </a:lnTo>
                  <a:close/>
                </a:path>
              </a:pathLst>
            </a:custGeom>
            <a:solidFill>
              <a:srgbClr val="3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277640" y="5354640"/>
              <a:ext cx="343080" cy="74880"/>
            </a:xfrm>
            <a:custGeom>
              <a:avLst/>
              <a:gdLst/>
              <a:ahLst/>
              <a:rect l="l" t="t" r="r" b="b"/>
              <a:pathLst>
                <a:path w="1295" h="283">
                  <a:moveTo>
                    <a:pt x="0" y="31"/>
                  </a:moveTo>
                  <a:lnTo>
                    <a:pt x="0" y="70"/>
                  </a:lnTo>
                  <a:lnTo>
                    <a:pt x="0" y="70"/>
                  </a:lnTo>
                  <a:lnTo>
                    <a:pt x="10" y="75"/>
                  </a:lnTo>
                  <a:lnTo>
                    <a:pt x="23" y="83"/>
                  </a:lnTo>
                  <a:lnTo>
                    <a:pt x="40" y="94"/>
                  </a:lnTo>
                  <a:lnTo>
                    <a:pt x="58" y="105"/>
                  </a:lnTo>
                  <a:lnTo>
                    <a:pt x="75" y="116"/>
                  </a:lnTo>
                  <a:lnTo>
                    <a:pt x="91" y="126"/>
                  </a:lnTo>
                  <a:lnTo>
                    <a:pt x="105" y="137"/>
                  </a:lnTo>
                  <a:lnTo>
                    <a:pt x="112" y="145"/>
                  </a:lnTo>
                  <a:lnTo>
                    <a:pt x="241" y="145"/>
                  </a:lnTo>
                  <a:lnTo>
                    <a:pt x="241" y="145"/>
                  </a:lnTo>
                  <a:lnTo>
                    <a:pt x="260" y="129"/>
                  </a:lnTo>
                  <a:lnTo>
                    <a:pt x="279" y="116"/>
                  </a:lnTo>
                  <a:lnTo>
                    <a:pt x="298" y="97"/>
                  </a:lnTo>
                  <a:lnTo>
                    <a:pt x="312" y="78"/>
                  </a:lnTo>
                  <a:lnTo>
                    <a:pt x="312" y="78"/>
                  </a:lnTo>
                  <a:lnTo>
                    <a:pt x="325" y="75"/>
                  </a:lnTo>
                  <a:lnTo>
                    <a:pt x="331" y="67"/>
                  </a:lnTo>
                  <a:lnTo>
                    <a:pt x="336" y="54"/>
                  </a:lnTo>
                  <a:lnTo>
                    <a:pt x="341" y="37"/>
                  </a:lnTo>
                  <a:lnTo>
                    <a:pt x="341" y="37"/>
                  </a:lnTo>
                  <a:lnTo>
                    <a:pt x="366" y="31"/>
                  </a:lnTo>
                  <a:lnTo>
                    <a:pt x="382" y="23"/>
                  </a:lnTo>
                  <a:lnTo>
                    <a:pt x="393" y="16"/>
                  </a:lnTo>
                  <a:lnTo>
                    <a:pt x="403" y="0"/>
                  </a:lnTo>
                  <a:lnTo>
                    <a:pt x="403" y="0"/>
                  </a:lnTo>
                  <a:lnTo>
                    <a:pt x="415" y="0"/>
                  </a:lnTo>
                  <a:lnTo>
                    <a:pt x="428" y="0"/>
                  </a:lnTo>
                  <a:lnTo>
                    <a:pt x="438" y="2"/>
                  </a:lnTo>
                  <a:lnTo>
                    <a:pt x="452" y="2"/>
                  </a:lnTo>
                  <a:lnTo>
                    <a:pt x="465" y="4"/>
                  </a:lnTo>
                  <a:lnTo>
                    <a:pt x="479" y="8"/>
                  </a:lnTo>
                  <a:lnTo>
                    <a:pt x="490" y="8"/>
                  </a:lnTo>
                  <a:lnTo>
                    <a:pt x="504" y="8"/>
                  </a:lnTo>
                  <a:lnTo>
                    <a:pt x="504" y="8"/>
                  </a:lnTo>
                  <a:lnTo>
                    <a:pt x="511" y="10"/>
                  </a:lnTo>
                  <a:lnTo>
                    <a:pt x="523" y="18"/>
                  </a:lnTo>
                  <a:lnTo>
                    <a:pt x="533" y="27"/>
                  </a:lnTo>
                  <a:lnTo>
                    <a:pt x="542" y="31"/>
                  </a:lnTo>
                  <a:lnTo>
                    <a:pt x="542" y="31"/>
                  </a:lnTo>
                  <a:lnTo>
                    <a:pt x="558" y="54"/>
                  </a:lnTo>
                  <a:lnTo>
                    <a:pt x="577" y="78"/>
                  </a:lnTo>
                  <a:lnTo>
                    <a:pt x="593" y="102"/>
                  </a:lnTo>
                  <a:lnTo>
                    <a:pt x="606" y="129"/>
                  </a:lnTo>
                  <a:lnTo>
                    <a:pt x="606" y="129"/>
                  </a:lnTo>
                  <a:lnTo>
                    <a:pt x="617" y="143"/>
                  </a:lnTo>
                  <a:lnTo>
                    <a:pt x="628" y="153"/>
                  </a:lnTo>
                  <a:lnTo>
                    <a:pt x="635" y="167"/>
                  </a:lnTo>
                  <a:lnTo>
                    <a:pt x="644" y="184"/>
                  </a:lnTo>
                  <a:lnTo>
                    <a:pt x="644" y="184"/>
                  </a:lnTo>
                  <a:lnTo>
                    <a:pt x="662" y="191"/>
                  </a:lnTo>
                  <a:lnTo>
                    <a:pt x="679" y="202"/>
                  </a:lnTo>
                  <a:lnTo>
                    <a:pt x="693" y="213"/>
                  </a:lnTo>
                  <a:lnTo>
                    <a:pt x="706" y="229"/>
                  </a:lnTo>
                  <a:lnTo>
                    <a:pt x="706" y="229"/>
                  </a:lnTo>
                  <a:lnTo>
                    <a:pt x="728" y="229"/>
                  </a:lnTo>
                  <a:lnTo>
                    <a:pt x="747" y="232"/>
                  </a:lnTo>
                  <a:lnTo>
                    <a:pt x="768" y="234"/>
                  </a:lnTo>
                  <a:lnTo>
                    <a:pt x="790" y="238"/>
                  </a:lnTo>
                  <a:lnTo>
                    <a:pt x="811" y="238"/>
                  </a:lnTo>
                  <a:lnTo>
                    <a:pt x="833" y="240"/>
                  </a:lnTo>
                  <a:lnTo>
                    <a:pt x="852" y="240"/>
                  </a:lnTo>
                  <a:lnTo>
                    <a:pt x="873" y="238"/>
                  </a:lnTo>
                  <a:lnTo>
                    <a:pt x="873" y="238"/>
                  </a:lnTo>
                  <a:lnTo>
                    <a:pt x="882" y="219"/>
                  </a:lnTo>
                  <a:lnTo>
                    <a:pt x="892" y="191"/>
                  </a:lnTo>
                  <a:lnTo>
                    <a:pt x="904" y="167"/>
                  </a:lnTo>
                  <a:lnTo>
                    <a:pt x="906" y="145"/>
                  </a:lnTo>
                  <a:lnTo>
                    <a:pt x="906" y="145"/>
                  </a:lnTo>
                  <a:lnTo>
                    <a:pt x="912" y="145"/>
                  </a:lnTo>
                  <a:lnTo>
                    <a:pt x="919" y="140"/>
                  </a:lnTo>
                  <a:lnTo>
                    <a:pt x="927" y="137"/>
                  </a:lnTo>
                  <a:lnTo>
                    <a:pt x="936" y="137"/>
                  </a:lnTo>
                  <a:lnTo>
                    <a:pt x="936" y="137"/>
                  </a:lnTo>
                  <a:lnTo>
                    <a:pt x="950" y="137"/>
                  </a:lnTo>
                  <a:lnTo>
                    <a:pt x="966" y="137"/>
                  </a:lnTo>
                  <a:lnTo>
                    <a:pt x="981" y="140"/>
                  </a:lnTo>
                  <a:lnTo>
                    <a:pt x="998" y="140"/>
                  </a:lnTo>
                  <a:lnTo>
                    <a:pt x="1012" y="143"/>
                  </a:lnTo>
                  <a:lnTo>
                    <a:pt x="1028" y="145"/>
                  </a:lnTo>
                  <a:lnTo>
                    <a:pt x="1045" y="145"/>
                  </a:lnTo>
                  <a:lnTo>
                    <a:pt x="1057" y="145"/>
                  </a:lnTo>
                  <a:lnTo>
                    <a:pt x="1057" y="145"/>
                  </a:lnTo>
                  <a:lnTo>
                    <a:pt x="1070" y="157"/>
                  </a:lnTo>
                  <a:lnTo>
                    <a:pt x="1084" y="170"/>
                  </a:lnTo>
                  <a:lnTo>
                    <a:pt x="1098" y="180"/>
                  </a:lnTo>
                  <a:lnTo>
                    <a:pt x="1111" y="194"/>
                  </a:lnTo>
                  <a:lnTo>
                    <a:pt x="1122" y="211"/>
                  </a:lnTo>
                  <a:lnTo>
                    <a:pt x="1134" y="224"/>
                  </a:lnTo>
                  <a:lnTo>
                    <a:pt x="1138" y="242"/>
                  </a:lnTo>
                  <a:lnTo>
                    <a:pt x="1141" y="261"/>
                  </a:lnTo>
                  <a:lnTo>
                    <a:pt x="1141" y="261"/>
                  </a:lnTo>
                  <a:lnTo>
                    <a:pt x="1161" y="261"/>
                  </a:lnTo>
                  <a:lnTo>
                    <a:pt x="1171" y="267"/>
                  </a:lnTo>
                  <a:lnTo>
                    <a:pt x="1176" y="273"/>
                  </a:lnTo>
                  <a:lnTo>
                    <a:pt x="1182" y="283"/>
                  </a:lnTo>
                  <a:lnTo>
                    <a:pt x="1273" y="283"/>
                  </a:lnTo>
                  <a:lnTo>
                    <a:pt x="1273" y="283"/>
                  </a:lnTo>
                  <a:lnTo>
                    <a:pt x="1281" y="281"/>
                  </a:lnTo>
                  <a:lnTo>
                    <a:pt x="1287" y="275"/>
                  </a:lnTo>
                  <a:lnTo>
                    <a:pt x="1292" y="267"/>
                  </a:lnTo>
                  <a:lnTo>
                    <a:pt x="1295" y="261"/>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4" name=""/>
            <p:cNvSpPr/>
            <p:nvPr/>
          </p:nvSpPr>
          <p:spPr>
            <a:xfrm>
              <a:off x="1450800" y="5405400"/>
              <a:ext cx="71280" cy="223920"/>
            </a:xfrm>
            <a:custGeom>
              <a:avLst/>
              <a:gdLst/>
              <a:ahLst/>
              <a:rect l="l" t="t" r="r" b="b"/>
              <a:pathLst>
                <a:path w="267" h="841">
                  <a:moveTo>
                    <a:pt x="0" y="0"/>
                  </a:moveTo>
                  <a:lnTo>
                    <a:pt x="0" y="0"/>
                  </a:lnTo>
                  <a:lnTo>
                    <a:pt x="3" y="25"/>
                  </a:lnTo>
                  <a:lnTo>
                    <a:pt x="6" y="52"/>
                  </a:lnTo>
                  <a:lnTo>
                    <a:pt x="8" y="81"/>
                  </a:lnTo>
                  <a:lnTo>
                    <a:pt x="6" y="106"/>
                  </a:lnTo>
                  <a:lnTo>
                    <a:pt x="0" y="114"/>
                  </a:lnTo>
                  <a:lnTo>
                    <a:pt x="0" y="222"/>
                  </a:lnTo>
                  <a:lnTo>
                    <a:pt x="0" y="222"/>
                  </a:lnTo>
                  <a:lnTo>
                    <a:pt x="10" y="241"/>
                  </a:lnTo>
                  <a:lnTo>
                    <a:pt x="22" y="257"/>
                  </a:lnTo>
                  <a:lnTo>
                    <a:pt x="35" y="265"/>
                  </a:lnTo>
                  <a:lnTo>
                    <a:pt x="60" y="268"/>
                  </a:lnTo>
                  <a:lnTo>
                    <a:pt x="60" y="268"/>
                  </a:lnTo>
                  <a:lnTo>
                    <a:pt x="62" y="276"/>
                  </a:lnTo>
                  <a:lnTo>
                    <a:pt x="68" y="286"/>
                  </a:lnTo>
                  <a:lnTo>
                    <a:pt x="74" y="298"/>
                  </a:lnTo>
                  <a:lnTo>
                    <a:pt x="76" y="305"/>
                  </a:lnTo>
                  <a:lnTo>
                    <a:pt x="76" y="305"/>
                  </a:lnTo>
                  <a:lnTo>
                    <a:pt x="97" y="311"/>
                  </a:lnTo>
                  <a:lnTo>
                    <a:pt x="116" y="319"/>
                  </a:lnTo>
                  <a:lnTo>
                    <a:pt x="130" y="327"/>
                  </a:lnTo>
                  <a:lnTo>
                    <a:pt x="141" y="336"/>
                  </a:lnTo>
                  <a:lnTo>
                    <a:pt x="155" y="344"/>
                  </a:lnTo>
                  <a:lnTo>
                    <a:pt x="165" y="349"/>
                  </a:lnTo>
                  <a:lnTo>
                    <a:pt x="178" y="357"/>
                  </a:lnTo>
                  <a:lnTo>
                    <a:pt x="198" y="363"/>
                  </a:lnTo>
                  <a:lnTo>
                    <a:pt x="198" y="363"/>
                  </a:lnTo>
                  <a:lnTo>
                    <a:pt x="200" y="379"/>
                  </a:lnTo>
                  <a:lnTo>
                    <a:pt x="203" y="392"/>
                  </a:lnTo>
                  <a:lnTo>
                    <a:pt x="211" y="406"/>
                  </a:lnTo>
                  <a:lnTo>
                    <a:pt x="221" y="416"/>
                  </a:lnTo>
                  <a:lnTo>
                    <a:pt x="221" y="493"/>
                  </a:lnTo>
                  <a:lnTo>
                    <a:pt x="213" y="501"/>
                  </a:lnTo>
                  <a:lnTo>
                    <a:pt x="213" y="501"/>
                  </a:lnTo>
                  <a:lnTo>
                    <a:pt x="213" y="530"/>
                  </a:lnTo>
                  <a:lnTo>
                    <a:pt x="219" y="560"/>
                  </a:lnTo>
                  <a:lnTo>
                    <a:pt x="221" y="590"/>
                  </a:lnTo>
                  <a:lnTo>
                    <a:pt x="221" y="617"/>
                  </a:lnTo>
                  <a:lnTo>
                    <a:pt x="221" y="617"/>
                  </a:lnTo>
                  <a:lnTo>
                    <a:pt x="230" y="625"/>
                  </a:lnTo>
                  <a:lnTo>
                    <a:pt x="240" y="630"/>
                  </a:lnTo>
                  <a:lnTo>
                    <a:pt x="252" y="638"/>
                  </a:lnTo>
                  <a:lnTo>
                    <a:pt x="260" y="646"/>
                  </a:lnTo>
                  <a:lnTo>
                    <a:pt x="260" y="646"/>
                  </a:lnTo>
                  <a:lnTo>
                    <a:pt x="260" y="671"/>
                  </a:lnTo>
                  <a:lnTo>
                    <a:pt x="265" y="700"/>
                  </a:lnTo>
                  <a:lnTo>
                    <a:pt x="267" y="733"/>
                  </a:lnTo>
                  <a:lnTo>
                    <a:pt x="267" y="762"/>
                  </a:lnTo>
                  <a:lnTo>
                    <a:pt x="267" y="762"/>
                  </a:lnTo>
                  <a:lnTo>
                    <a:pt x="267" y="771"/>
                  </a:lnTo>
                  <a:lnTo>
                    <a:pt x="265" y="779"/>
                  </a:lnTo>
                  <a:lnTo>
                    <a:pt x="260" y="789"/>
                  </a:lnTo>
                  <a:lnTo>
                    <a:pt x="260" y="801"/>
                  </a:lnTo>
                  <a:lnTo>
                    <a:pt x="260" y="801"/>
                  </a:lnTo>
                  <a:lnTo>
                    <a:pt x="254" y="801"/>
                  </a:lnTo>
                  <a:lnTo>
                    <a:pt x="248" y="803"/>
                  </a:lnTo>
                  <a:lnTo>
                    <a:pt x="240" y="809"/>
                  </a:lnTo>
                  <a:lnTo>
                    <a:pt x="235" y="809"/>
                  </a:lnTo>
                  <a:lnTo>
                    <a:pt x="235" y="8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347480" y="5475600"/>
              <a:ext cx="32040" cy="31680"/>
            </a:xfrm>
            <a:custGeom>
              <a:avLst/>
              <a:gdLst/>
              <a:ahLst/>
              <a:rect l="l" t="t" r="r" b="b"/>
              <a:pathLst>
                <a:path w="120" h="121">
                  <a:moveTo>
                    <a:pt x="60" y="5"/>
                  </a:moveTo>
                  <a:lnTo>
                    <a:pt x="60" y="5"/>
                  </a:lnTo>
                  <a:lnTo>
                    <a:pt x="52" y="5"/>
                  </a:lnTo>
                  <a:lnTo>
                    <a:pt x="41" y="2"/>
                  </a:lnTo>
                  <a:lnTo>
                    <a:pt x="31" y="0"/>
                  </a:lnTo>
                  <a:lnTo>
                    <a:pt x="22" y="0"/>
                  </a:lnTo>
                  <a:lnTo>
                    <a:pt x="22" y="0"/>
                  </a:lnTo>
                  <a:lnTo>
                    <a:pt x="19" y="13"/>
                  </a:lnTo>
                  <a:lnTo>
                    <a:pt x="17" y="23"/>
                  </a:lnTo>
                  <a:lnTo>
                    <a:pt x="8" y="32"/>
                  </a:lnTo>
                  <a:lnTo>
                    <a:pt x="0" y="35"/>
                  </a:lnTo>
                  <a:lnTo>
                    <a:pt x="0" y="91"/>
                  </a:lnTo>
                  <a:lnTo>
                    <a:pt x="0" y="91"/>
                  </a:lnTo>
                  <a:lnTo>
                    <a:pt x="3" y="100"/>
                  </a:lnTo>
                  <a:lnTo>
                    <a:pt x="8" y="108"/>
                  </a:lnTo>
                  <a:lnTo>
                    <a:pt x="11" y="116"/>
                  </a:lnTo>
                  <a:lnTo>
                    <a:pt x="14" y="121"/>
                  </a:lnTo>
                  <a:lnTo>
                    <a:pt x="46" y="121"/>
                  </a:lnTo>
                  <a:lnTo>
                    <a:pt x="46" y="121"/>
                  </a:lnTo>
                  <a:lnTo>
                    <a:pt x="60" y="110"/>
                  </a:lnTo>
                  <a:lnTo>
                    <a:pt x="73" y="110"/>
                  </a:lnTo>
                  <a:lnTo>
                    <a:pt x="89" y="114"/>
                  </a:lnTo>
                  <a:lnTo>
                    <a:pt x="106" y="116"/>
                  </a:lnTo>
                  <a:lnTo>
                    <a:pt x="106" y="116"/>
                  </a:lnTo>
                  <a:lnTo>
                    <a:pt x="111" y="94"/>
                  </a:lnTo>
                  <a:lnTo>
                    <a:pt x="114" y="75"/>
                  </a:lnTo>
                  <a:lnTo>
                    <a:pt x="120" y="56"/>
                  </a:lnTo>
                  <a:lnTo>
                    <a:pt x="120" y="35"/>
                  </a:lnTo>
                  <a:lnTo>
                    <a:pt x="120" y="35"/>
                  </a:lnTo>
                  <a:lnTo>
                    <a:pt x="111" y="35"/>
                  </a:lnTo>
                  <a:lnTo>
                    <a:pt x="106" y="29"/>
                  </a:lnTo>
                  <a:lnTo>
                    <a:pt x="98" y="27"/>
                  </a:lnTo>
                  <a:lnTo>
                    <a:pt x="89" y="27"/>
                  </a:lnTo>
                  <a:lnTo>
                    <a:pt x="89" y="27"/>
                  </a:lnTo>
                  <a:lnTo>
                    <a:pt x="89" y="21"/>
                  </a:lnTo>
                  <a:lnTo>
                    <a:pt x="87" y="15"/>
                  </a:lnTo>
                  <a:lnTo>
                    <a:pt x="81" y="10"/>
                  </a:lnTo>
                  <a:lnTo>
                    <a:pt x="81" y="5"/>
                  </a:lnTo>
                  <a:lnTo>
                    <a:pt x="60" y="5"/>
                  </a:lnTo>
                </a:path>
              </a:pathLst>
            </a:custGeom>
            <a:noFill/>
            <a:ln w="0">
              <a:solidFill>
                <a:srgbClr val="cc9933"/>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6" name=""/>
            <p:cNvSpPr/>
            <p:nvPr/>
          </p:nvSpPr>
          <p:spPr>
            <a:xfrm>
              <a:off x="1338120" y="5464440"/>
              <a:ext cx="50760" cy="54000"/>
            </a:xfrm>
            <a:custGeom>
              <a:avLst/>
              <a:gdLst/>
              <a:ahLst/>
              <a:rect l="l" t="t" r="r" b="b"/>
              <a:pathLst>
                <a:path w="194" h="203">
                  <a:moveTo>
                    <a:pt x="97" y="10"/>
                  </a:moveTo>
                  <a:lnTo>
                    <a:pt x="97" y="10"/>
                  </a:lnTo>
                  <a:lnTo>
                    <a:pt x="83" y="8"/>
                  </a:lnTo>
                  <a:lnTo>
                    <a:pt x="68" y="6"/>
                  </a:lnTo>
                  <a:lnTo>
                    <a:pt x="48" y="2"/>
                  </a:lnTo>
                  <a:lnTo>
                    <a:pt x="35" y="0"/>
                  </a:lnTo>
                  <a:lnTo>
                    <a:pt x="35" y="0"/>
                  </a:lnTo>
                  <a:lnTo>
                    <a:pt x="31" y="24"/>
                  </a:lnTo>
                  <a:lnTo>
                    <a:pt x="27" y="43"/>
                  </a:lnTo>
                  <a:lnTo>
                    <a:pt x="16" y="54"/>
                  </a:lnTo>
                  <a:lnTo>
                    <a:pt x="0" y="60"/>
                  </a:lnTo>
                  <a:lnTo>
                    <a:pt x="0" y="151"/>
                  </a:lnTo>
                  <a:lnTo>
                    <a:pt x="0" y="151"/>
                  </a:lnTo>
                  <a:lnTo>
                    <a:pt x="2" y="162"/>
                  </a:lnTo>
                  <a:lnTo>
                    <a:pt x="13" y="176"/>
                  </a:lnTo>
                  <a:lnTo>
                    <a:pt x="21" y="192"/>
                  </a:lnTo>
                  <a:lnTo>
                    <a:pt x="24" y="203"/>
                  </a:lnTo>
                  <a:lnTo>
                    <a:pt x="72" y="203"/>
                  </a:lnTo>
                  <a:lnTo>
                    <a:pt x="72" y="203"/>
                  </a:lnTo>
                  <a:lnTo>
                    <a:pt x="86" y="192"/>
                  </a:lnTo>
                  <a:lnTo>
                    <a:pt x="97" y="184"/>
                  </a:lnTo>
                  <a:lnTo>
                    <a:pt x="108" y="182"/>
                  </a:lnTo>
                  <a:lnTo>
                    <a:pt x="122" y="182"/>
                  </a:lnTo>
                  <a:lnTo>
                    <a:pt x="132" y="184"/>
                  </a:lnTo>
                  <a:lnTo>
                    <a:pt x="143" y="186"/>
                  </a:lnTo>
                  <a:lnTo>
                    <a:pt x="157" y="190"/>
                  </a:lnTo>
                  <a:lnTo>
                    <a:pt x="170" y="190"/>
                  </a:lnTo>
                  <a:lnTo>
                    <a:pt x="170" y="190"/>
                  </a:lnTo>
                  <a:lnTo>
                    <a:pt x="180" y="157"/>
                  </a:lnTo>
                  <a:lnTo>
                    <a:pt x="186" y="127"/>
                  </a:lnTo>
                  <a:lnTo>
                    <a:pt x="192" y="97"/>
                  </a:lnTo>
                  <a:lnTo>
                    <a:pt x="194" y="60"/>
                  </a:lnTo>
                  <a:lnTo>
                    <a:pt x="194" y="60"/>
                  </a:lnTo>
                  <a:lnTo>
                    <a:pt x="184" y="56"/>
                  </a:lnTo>
                  <a:lnTo>
                    <a:pt x="170" y="51"/>
                  </a:lnTo>
                  <a:lnTo>
                    <a:pt x="157" y="48"/>
                  </a:lnTo>
                  <a:lnTo>
                    <a:pt x="145" y="46"/>
                  </a:lnTo>
                  <a:lnTo>
                    <a:pt x="145" y="46"/>
                  </a:lnTo>
                  <a:lnTo>
                    <a:pt x="143" y="37"/>
                  </a:lnTo>
                  <a:lnTo>
                    <a:pt x="140" y="27"/>
                  </a:lnTo>
                  <a:lnTo>
                    <a:pt x="135" y="19"/>
                  </a:lnTo>
                  <a:lnTo>
                    <a:pt x="132" y="10"/>
                  </a:lnTo>
                  <a:lnTo>
                    <a:pt x="97" y="10"/>
                  </a:lnTo>
                </a:path>
              </a:pathLst>
            </a:custGeom>
            <a:noFill/>
            <a:ln w="0">
              <a:solidFill>
                <a:srgbClr val="cc993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7" name=""/>
            <p:cNvSpPr/>
            <p:nvPr/>
          </p:nvSpPr>
          <p:spPr>
            <a:xfrm>
              <a:off x="1326960" y="5454720"/>
              <a:ext cx="73080" cy="74520"/>
            </a:xfrm>
            <a:custGeom>
              <a:avLst/>
              <a:gdLst/>
              <a:ahLst/>
              <a:rect l="l" t="t" r="r" b="b"/>
              <a:pathLst>
                <a:path w="275" h="282">
                  <a:moveTo>
                    <a:pt x="138" y="17"/>
                  </a:moveTo>
                  <a:lnTo>
                    <a:pt x="138" y="17"/>
                  </a:lnTo>
                  <a:lnTo>
                    <a:pt x="130" y="17"/>
                  </a:lnTo>
                  <a:lnTo>
                    <a:pt x="119" y="13"/>
                  </a:lnTo>
                  <a:lnTo>
                    <a:pt x="109" y="11"/>
                  </a:lnTo>
                  <a:lnTo>
                    <a:pt x="97" y="8"/>
                  </a:lnTo>
                  <a:lnTo>
                    <a:pt x="84" y="5"/>
                  </a:lnTo>
                  <a:lnTo>
                    <a:pt x="72" y="3"/>
                  </a:lnTo>
                  <a:lnTo>
                    <a:pt x="62" y="0"/>
                  </a:lnTo>
                  <a:lnTo>
                    <a:pt x="54" y="0"/>
                  </a:lnTo>
                  <a:lnTo>
                    <a:pt x="54" y="0"/>
                  </a:lnTo>
                  <a:lnTo>
                    <a:pt x="51" y="32"/>
                  </a:lnTo>
                  <a:lnTo>
                    <a:pt x="41" y="59"/>
                  </a:lnTo>
                  <a:lnTo>
                    <a:pt x="24" y="79"/>
                  </a:lnTo>
                  <a:lnTo>
                    <a:pt x="0" y="84"/>
                  </a:lnTo>
                  <a:lnTo>
                    <a:pt x="0" y="214"/>
                  </a:lnTo>
                  <a:lnTo>
                    <a:pt x="0" y="214"/>
                  </a:lnTo>
                  <a:lnTo>
                    <a:pt x="5" y="230"/>
                  </a:lnTo>
                  <a:lnTo>
                    <a:pt x="18" y="246"/>
                  </a:lnTo>
                  <a:lnTo>
                    <a:pt x="30" y="265"/>
                  </a:lnTo>
                  <a:lnTo>
                    <a:pt x="35" y="282"/>
                  </a:lnTo>
                  <a:lnTo>
                    <a:pt x="105" y="282"/>
                  </a:lnTo>
                  <a:lnTo>
                    <a:pt x="105" y="282"/>
                  </a:lnTo>
                  <a:lnTo>
                    <a:pt x="124" y="265"/>
                  </a:lnTo>
                  <a:lnTo>
                    <a:pt x="140" y="257"/>
                  </a:lnTo>
                  <a:lnTo>
                    <a:pt x="157" y="255"/>
                  </a:lnTo>
                  <a:lnTo>
                    <a:pt x="173" y="255"/>
                  </a:lnTo>
                  <a:lnTo>
                    <a:pt x="189" y="257"/>
                  </a:lnTo>
                  <a:lnTo>
                    <a:pt x="205" y="259"/>
                  </a:lnTo>
                  <a:lnTo>
                    <a:pt x="221" y="262"/>
                  </a:lnTo>
                  <a:lnTo>
                    <a:pt x="240" y="265"/>
                  </a:lnTo>
                  <a:lnTo>
                    <a:pt x="240" y="265"/>
                  </a:lnTo>
                  <a:lnTo>
                    <a:pt x="254" y="220"/>
                  </a:lnTo>
                  <a:lnTo>
                    <a:pt x="265" y="179"/>
                  </a:lnTo>
                  <a:lnTo>
                    <a:pt x="273" y="135"/>
                  </a:lnTo>
                  <a:lnTo>
                    <a:pt x="275" y="84"/>
                  </a:lnTo>
                  <a:lnTo>
                    <a:pt x="275" y="84"/>
                  </a:lnTo>
                  <a:lnTo>
                    <a:pt x="260" y="81"/>
                  </a:lnTo>
                  <a:lnTo>
                    <a:pt x="240" y="75"/>
                  </a:lnTo>
                  <a:lnTo>
                    <a:pt x="221" y="71"/>
                  </a:lnTo>
                  <a:lnTo>
                    <a:pt x="205" y="67"/>
                  </a:lnTo>
                  <a:lnTo>
                    <a:pt x="205" y="67"/>
                  </a:lnTo>
                  <a:lnTo>
                    <a:pt x="202" y="54"/>
                  </a:lnTo>
                  <a:lnTo>
                    <a:pt x="198" y="40"/>
                  </a:lnTo>
                  <a:lnTo>
                    <a:pt x="192" y="30"/>
                  </a:lnTo>
                  <a:lnTo>
                    <a:pt x="189" y="17"/>
                  </a:lnTo>
                  <a:lnTo>
                    <a:pt x="138" y="17"/>
                  </a:lnTo>
                </a:path>
              </a:pathLst>
            </a:custGeom>
            <a:noFill/>
            <a:ln w="0">
              <a:solidFill>
                <a:srgbClr val="cc9933"/>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1312560" y="5440680"/>
              <a:ext cx="100080" cy="102960"/>
            </a:xfrm>
            <a:custGeom>
              <a:avLst/>
              <a:gdLst/>
              <a:ahLst/>
              <a:rect l="l" t="t" r="r" b="b"/>
              <a:pathLst>
                <a:path w="377" h="393">
                  <a:moveTo>
                    <a:pt x="188" y="22"/>
                  </a:moveTo>
                  <a:lnTo>
                    <a:pt x="188" y="22"/>
                  </a:lnTo>
                  <a:lnTo>
                    <a:pt x="177" y="22"/>
                  </a:lnTo>
                  <a:lnTo>
                    <a:pt x="163" y="19"/>
                  </a:lnTo>
                  <a:lnTo>
                    <a:pt x="147" y="14"/>
                  </a:lnTo>
                  <a:lnTo>
                    <a:pt x="128" y="12"/>
                  </a:lnTo>
                  <a:lnTo>
                    <a:pt x="112" y="8"/>
                  </a:lnTo>
                  <a:lnTo>
                    <a:pt x="95" y="2"/>
                  </a:lnTo>
                  <a:lnTo>
                    <a:pt x="80" y="0"/>
                  </a:lnTo>
                  <a:lnTo>
                    <a:pt x="68" y="0"/>
                  </a:lnTo>
                  <a:lnTo>
                    <a:pt x="68" y="0"/>
                  </a:lnTo>
                  <a:lnTo>
                    <a:pt x="64" y="46"/>
                  </a:lnTo>
                  <a:lnTo>
                    <a:pt x="50" y="84"/>
                  </a:lnTo>
                  <a:lnTo>
                    <a:pt x="28" y="109"/>
                  </a:lnTo>
                  <a:lnTo>
                    <a:pt x="0" y="116"/>
                  </a:lnTo>
                  <a:lnTo>
                    <a:pt x="0" y="295"/>
                  </a:lnTo>
                  <a:lnTo>
                    <a:pt x="0" y="295"/>
                  </a:lnTo>
                  <a:lnTo>
                    <a:pt x="6" y="316"/>
                  </a:lnTo>
                  <a:lnTo>
                    <a:pt x="23" y="343"/>
                  </a:lnTo>
                  <a:lnTo>
                    <a:pt x="37" y="370"/>
                  </a:lnTo>
                  <a:lnTo>
                    <a:pt x="45" y="393"/>
                  </a:lnTo>
                  <a:lnTo>
                    <a:pt x="142" y="393"/>
                  </a:lnTo>
                  <a:lnTo>
                    <a:pt x="142" y="393"/>
                  </a:lnTo>
                  <a:lnTo>
                    <a:pt x="166" y="370"/>
                  </a:lnTo>
                  <a:lnTo>
                    <a:pt x="190" y="357"/>
                  </a:lnTo>
                  <a:lnTo>
                    <a:pt x="213" y="352"/>
                  </a:lnTo>
                  <a:lnTo>
                    <a:pt x="234" y="352"/>
                  </a:lnTo>
                  <a:lnTo>
                    <a:pt x="258" y="357"/>
                  </a:lnTo>
                  <a:lnTo>
                    <a:pt x="279" y="362"/>
                  </a:lnTo>
                  <a:lnTo>
                    <a:pt x="304" y="366"/>
                  </a:lnTo>
                  <a:lnTo>
                    <a:pt x="331" y="368"/>
                  </a:lnTo>
                  <a:lnTo>
                    <a:pt x="331" y="368"/>
                  </a:lnTo>
                  <a:lnTo>
                    <a:pt x="347" y="303"/>
                  </a:lnTo>
                  <a:lnTo>
                    <a:pt x="364" y="246"/>
                  </a:lnTo>
                  <a:lnTo>
                    <a:pt x="374" y="186"/>
                  </a:lnTo>
                  <a:lnTo>
                    <a:pt x="377" y="116"/>
                  </a:lnTo>
                  <a:lnTo>
                    <a:pt x="377" y="116"/>
                  </a:lnTo>
                  <a:lnTo>
                    <a:pt x="369" y="116"/>
                  </a:lnTo>
                  <a:lnTo>
                    <a:pt x="356" y="114"/>
                  </a:lnTo>
                  <a:lnTo>
                    <a:pt x="345" y="109"/>
                  </a:lnTo>
                  <a:lnTo>
                    <a:pt x="331" y="103"/>
                  </a:lnTo>
                  <a:lnTo>
                    <a:pt x="317" y="101"/>
                  </a:lnTo>
                  <a:lnTo>
                    <a:pt x="304" y="95"/>
                  </a:lnTo>
                  <a:lnTo>
                    <a:pt x="293" y="92"/>
                  </a:lnTo>
                  <a:lnTo>
                    <a:pt x="283" y="92"/>
                  </a:lnTo>
                  <a:lnTo>
                    <a:pt x="283" y="92"/>
                  </a:lnTo>
                  <a:lnTo>
                    <a:pt x="279" y="74"/>
                  </a:lnTo>
                  <a:lnTo>
                    <a:pt x="271" y="57"/>
                  </a:lnTo>
                  <a:lnTo>
                    <a:pt x="261" y="39"/>
                  </a:lnTo>
                  <a:lnTo>
                    <a:pt x="258" y="22"/>
                  </a:lnTo>
                  <a:lnTo>
                    <a:pt x="188" y="22"/>
                  </a:lnTo>
                </a:path>
              </a:pathLst>
            </a:custGeom>
            <a:noFill/>
            <a:ln w="0">
              <a:solidFill>
                <a:srgbClr val="cc99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298520" y="5286600"/>
              <a:ext cx="25200" cy="11160"/>
            </a:xfrm>
            <a:custGeom>
              <a:avLst/>
              <a:gdLst/>
              <a:ahLst/>
              <a:rect l="l" t="t" r="r" b="b"/>
              <a:pathLst>
                <a:path w="94" h="42">
                  <a:moveTo>
                    <a:pt x="94" y="23"/>
                  </a:moveTo>
                  <a:lnTo>
                    <a:pt x="75" y="5"/>
                  </a:lnTo>
                  <a:lnTo>
                    <a:pt x="57" y="5"/>
                  </a:lnTo>
                  <a:lnTo>
                    <a:pt x="37" y="2"/>
                  </a:lnTo>
                  <a:lnTo>
                    <a:pt x="16" y="0"/>
                  </a:lnTo>
                  <a:lnTo>
                    <a:pt x="0" y="0"/>
                  </a:lnTo>
                  <a:lnTo>
                    <a:pt x="0" y="37"/>
                  </a:lnTo>
                  <a:lnTo>
                    <a:pt x="16" y="37"/>
                  </a:lnTo>
                  <a:lnTo>
                    <a:pt x="37" y="40"/>
                  </a:lnTo>
                  <a:lnTo>
                    <a:pt x="57" y="42"/>
                  </a:lnTo>
                  <a:lnTo>
                    <a:pt x="75" y="42"/>
                  </a:lnTo>
                  <a:lnTo>
                    <a:pt x="57" y="23"/>
                  </a:lnTo>
                  <a:lnTo>
                    <a:pt x="94" y="23"/>
                  </a:lnTo>
                  <a:lnTo>
                    <a:pt x="94" y="5"/>
                  </a:lnTo>
                  <a:lnTo>
                    <a:pt x="75" y="5"/>
                  </a:lnTo>
                  <a:lnTo>
                    <a:pt x="94" y="23"/>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0" name=""/>
            <p:cNvSpPr/>
            <p:nvPr/>
          </p:nvSpPr>
          <p:spPr>
            <a:xfrm>
              <a:off x="1312560" y="5292720"/>
              <a:ext cx="11160" cy="11160"/>
            </a:xfrm>
            <a:custGeom>
              <a:avLst/>
              <a:gdLst/>
              <a:ahLst/>
              <a:rect l="l" t="t" r="r" b="b"/>
              <a:pathLst>
                <a:path w="41" h="44">
                  <a:moveTo>
                    <a:pt x="39" y="6"/>
                  </a:moveTo>
                  <a:lnTo>
                    <a:pt x="39" y="6"/>
                  </a:lnTo>
                  <a:lnTo>
                    <a:pt x="41" y="9"/>
                  </a:lnTo>
                  <a:lnTo>
                    <a:pt x="37" y="6"/>
                  </a:lnTo>
                  <a:lnTo>
                    <a:pt x="37" y="0"/>
                  </a:lnTo>
                  <a:lnTo>
                    <a:pt x="37" y="0"/>
                  </a:lnTo>
                  <a:lnTo>
                    <a:pt x="0" y="0"/>
                  </a:lnTo>
                  <a:lnTo>
                    <a:pt x="4" y="17"/>
                  </a:lnTo>
                  <a:lnTo>
                    <a:pt x="14" y="27"/>
                  </a:lnTo>
                  <a:lnTo>
                    <a:pt x="26" y="36"/>
                  </a:lnTo>
                  <a:lnTo>
                    <a:pt x="39" y="44"/>
                  </a:lnTo>
                  <a:lnTo>
                    <a:pt x="39" y="44"/>
                  </a:lnTo>
                  <a:lnTo>
                    <a:pt x="39" y="6"/>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1" name=""/>
            <p:cNvSpPr/>
            <p:nvPr/>
          </p:nvSpPr>
          <p:spPr>
            <a:xfrm>
              <a:off x="1323720" y="5294520"/>
              <a:ext cx="47880" cy="15840"/>
            </a:xfrm>
            <a:custGeom>
              <a:avLst/>
              <a:gdLst/>
              <a:ahLst/>
              <a:rect l="l" t="t" r="r" b="b"/>
              <a:pathLst>
                <a:path w="178" h="60">
                  <a:moveTo>
                    <a:pt x="170" y="21"/>
                  </a:moveTo>
                  <a:lnTo>
                    <a:pt x="178" y="25"/>
                  </a:lnTo>
                  <a:lnTo>
                    <a:pt x="160" y="17"/>
                  </a:lnTo>
                  <a:lnTo>
                    <a:pt x="138" y="11"/>
                  </a:lnTo>
                  <a:lnTo>
                    <a:pt x="111" y="5"/>
                  </a:lnTo>
                  <a:lnTo>
                    <a:pt x="89" y="3"/>
                  </a:lnTo>
                  <a:lnTo>
                    <a:pt x="65" y="0"/>
                  </a:lnTo>
                  <a:lnTo>
                    <a:pt x="41" y="0"/>
                  </a:lnTo>
                  <a:lnTo>
                    <a:pt x="19" y="0"/>
                  </a:lnTo>
                  <a:lnTo>
                    <a:pt x="0" y="0"/>
                  </a:lnTo>
                  <a:lnTo>
                    <a:pt x="0" y="38"/>
                  </a:lnTo>
                  <a:lnTo>
                    <a:pt x="19" y="38"/>
                  </a:lnTo>
                  <a:lnTo>
                    <a:pt x="41" y="38"/>
                  </a:lnTo>
                  <a:lnTo>
                    <a:pt x="65" y="38"/>
                  </a:lnTo>
                  <a:lnTo>
                    <a:pt x="89" y="40"/>
                  </a:lnTo>
                  <a:lnTo>
                    <a:pt x="111" y="44"/>
                  </a:lnTo>
                  <a:lnTo>
                    <a:pt x="133" y="44"/>
                  </a:lnTo>
                  <a:lnTo>
                    <a:pt x="149" y="48"/>
                  </a:lnTo>
                  <a:lnTo>
                    <a:pt x="162" y="57"/>
                  </a:lnTo>
                  <a:lnTo>
                    <a:pt x="170" y="60"/>
                  </a:lnTo>
                  <a:lnTo>
                    <a:pt x="162" y="57"/>
                  </a:lnTo>
                  <a:lnTo>
                    <a:pt x="168" y="60"/>
                  </a:lnTo>
                  <a:lnTo>
                    <a:pt x="170" y="60"/>
                  </a:lnTo>
                  <a:lnTo>
                    <a:pt x="170" y="21"/>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2" name=""/>
            <p:cNvSpPr/>
            <p:nvPr/>
          </p:nvSpPr>
          <p:spPr>
            <a:xfrm>
              <a:off x="1368360" y="5300640"/>
              <a:ext cx="27000" cy="16200"/>
            </a:xfrm>
            <a:custGeom>
              <a:avLst/>
              <a:gdLst/>
              <a:ahLst/>
              <a:rect l="l" t="t" r="r" b="b"/>
              <a:pathLst>
                <a:path w="97" h="60">
                  <a:moveTo>
                    <a:pt x="97" y="31"/>
                  </a:moveTo>
                  <a:lnTo>
                    <a:pt x="87" y="27"/>
                  </a:lnTo>
                  <a:lnTo>
                    <a:pt x="76" y="25"/>
                  </a:lnTo>
                  <a:lnTo>
                    <a:pt x="68" y="19"/>
                  </a:lnTo>
                  <a:lnTo>
                    <a:pt x="60" y="17"/>
                  </a:lnTo>
                  <a:lnTo>
                    <a:pt x="52" y="12"/>
                  </a:lnTo>
                  <a:lnTo>
                    <a:pt x="35" y="9"/>
                  </a:lnTo>
                  <a:lnTo>
                    <a:pt x="27" y="6"/>
                  </a:lnTo>
                  <a:lnTo>
                    <a:pt x="14" y="0"/>
                  </a:lnTo>
                  <a:lnTo>
                    <a:pt x="0" y="0"/>
                  </a:lnTo>
                  <a:lnTo>
                    <a:pt x="0" y="39"/>
                  </a:lnTo>
                  <a:lnTo>
                    <a:pt x="14" y="39"/>
                  </a:lnTo>
                  <a:lnTo>
                    <a:pt x="22" y="39"/>
                  </a:lnTo>
                  <a:lnTo>
                    <a:pt x="30" y="41"/>
                  </a:lnTo>
                  <a:lnTo>
                    <a:pt x="35" y="44"/>
                  </a:lnTo>
                  <a:lnTo>
                    <a:pt x="43" y="50"/>
                  </a:lnTo>
                  <a:lnTo>
                    <a:pt x="52" y="52"/>
                  </a:lnTo>
                  <a:lnTo>
                    <a:pt x="66" y="58"/>
                  </a:lnTo>
                  <a:lnTo>
                    <a:pt x="81" y="60"/>
                  </a:lnTo>
                  <a:lnTo>
                    <a:pt x="70" y="58"/>
                  </a:lnTo>
                  <a:lnTo>
                    <a:pt x="95" y="33"/>
                  </a:lnTo>
                  <a:lnTo>
                    <a:pt x="93" y="27"/>
                  </a:lnTo>
                  <a:lnTo>
                    <a:pt x="87" y="27"/>
                  </a:lnTo>
                  <a:lnTo>
                    <a:pt x="97" y="31"/>
                  </a:lnTo>
                  <a:close/>
                </a:path>
              </a:pathLst>
            </a:cu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1387440" y="5308560"/>
              <a:ext cx="21960" cy="17640"/>
            </a:xfrm>
            <a:custGeom>
              <a:avLst/>
              <a:gdLst/>
              <a:ahLst/>
              <a:rect l="l" t="t" r="r" b="b"/>
              <a:pathLst>
                <a:path w="85" h="67">
                  <a:moveTo>
                    <a:pt x="85" y="43"/>
                  </a:moveTo>
                  <a:lnTo>
                    <a:pt x="73" y="35"/>
                  </a:lnTo>
                  <a:lnTo>
                    <a:pt x="60" y="27"/>
                  </a:lnTo>
                  <a:lnTo>
                    <a:pt x="46" y="19"/>
                  </a:lnTo>
                  <a:lnTo>
                    <a:pt x="36" y="10"/>
                  </a:lnTo>
                  <a:lnTo>
                    <a:pt x="27" y="0"/>
                  </a:lnTo>
                  <a:lnTo>
                    <a:pt x="0" y="27"/>
                  </a:lnTo>
                  <a:lnTo>
                    <a:pt x="14" y="37"/>
                  </a:lnTo>
                  <a:lnTo>
                    <a:pt x="31" y="51"/>
                  </a:lnTo>
                  <a:lnTo>
                    <a:pt x="44" y="60"/>
                  </a:lnTo>
                  <a:lnTo>
                    <a:pt x="63" y="67"/>
                  </a:lnTo>
                  <a:lnTo>
                    <a:pt x="52" y="60"/>
                  </a:lnTo>
                  <a:lnTo>
                    <a:pt x="85" y="43"/>
                  </a:lnTo>
                  <a:lnTo>
                    <a:pt x="81" y="37"/>
                  </a:lnTo>
                  <a:lnTo>
                    <a:pt x="73" y="35"/>
                  </a:lnTo>
                  <a:lnTo>
                    <a:pt x="85" y="43"/>
                  </a:lnTo>
                  <a:close/>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1401480" y="5319720"/>
              <a:ext cx="20880" cy="19080"/>
            </a:xfrm>
            <a:custGeom>
              <a:avLst/>
              <a:gdLst/>
              <a:ahLst/>
              <a:rect l="l" t="t" r="r" b="b"/>
              <a:pathLst>
                <a:path w="79" h="73">
                  <a:moveTo>
                    <a:pt x="70" y="35"/>
                  </a:moveTo>
                  <a:lnTo>
                    <a:pt x="79" y="38"/>
                  </a:lnTo>
                  <a:lnTo>
                    <a:pt x="54" y="24"/>
                  </a:lnTo>
                  <a:lnTo>
                    <a:pt x="43" y="19"/>
                  </a:lnTo>
                  <a:lnTo>
                    <a:pt x="38" y="13"/>
                  </a:lnTo>
                  <a:lnTo>
                    <a:pt x="33" y="0"/>
                  </a:lnTo>
                  <a:lnTo>
                    <a:pt x="0" y="17"/>
                  </a:lnTo>
                  <a:lnTo>
                    <a:pt x="11" y="30"/>
                  </a:lnTo>
                  <a:lnTo>
                    <a:pt x="21" y="46"/>
                  </a:lnTo>
                  <a:lnTo>
                    <a:pt x="38" y="56"/>
                  </a:lnTo>
                  <a:lnTo>
                    <a:pt x="62" y="70"/>
                  </a:lnTo>
                  <a:lnTo>
                    <a:pt x="70" y="73"/>
                  </a:lnTo>
                  <a:lnTo>
                    <a:pt x="62" y="70"/>
                  </a:lnTo>
                  <a:lnTo>
                    <a:pt x="68" y="73"/>
                  </a:lnTo>
                  <a:lnTo>
                    <a:pt x="70" y="73"/>
                  </a:lnTo>
                  <a:lnTo>
                    <a:pt x="70" y="35"/>
                  </a:lnTo>
                  <a:close/>
                </a:path>
              </a:pathLst>
            </a:cu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1419120" y="5329440"/>
              <a:ext cx="34920" cy="9360"/>
            </a:xfrm>
            <a:custGeom>
              <a:avLst/>
              <a:gdLst/>
              <a:ahLst/>
              <a:rect l="l" t="t" r="r" b="b"/>
              <a:pathLst>
                <a:path w="133" h="38">
                  <a:moveTo>
                    <a:pt x="133" y="5"/>
                  </a:moveTo>
                  <a:lnTo>
                    <a:pt x="125" y="0"/>
                  </a:lnTo>
                  <a:lnTo>
                    <a:pt x="0" y="0"/>
                  </a:lnTo>
                  <a:lnTo>
                    <a:pt x="0" y="38"/>
                  </a:lnTo>
                  <a:lnTo>
                    <a:pt x="125" y="38"/>
                  </a:lnTo>
                  <a:lnTo>
                    <a:pt x="116" y="32"/>
                  </a:lnTo>
                  <a:lnTo>
                    <a:pt x="133" y="5"/>
                  </a:lnTo>
                  <a:lnTo>
                    <a:pt x="129" y="0"/>
                  </a:lnTo>
                  <a:lnTo>
                    <a:pt x="125" y="0"/>
                  </a:lnTo>
                  <a:lnTo>
                    <a:pt x="133" y="5"/>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6" name=""/>
            <p:cNvSpPr/>
            <p:nvPr/>
          </p:nvSpPr>
          <p:spPr>
            <a:xfrm>
              <a:off x="1450800" y="5330880"/>
              <a:ext cx="17640" cy="19080"/>
            </a:xfrm>
            <a:custGeom>
              <a:avLst/>
              <a:gdLst/>
              <a:ahLst/>
              <a:rect l="l" t="t" r="r" b="b"/>
              <a:pathLst>
                <a:path w="68" h="76">
                  <a:moveTo>
                    <a:pt x="54" y="43"/>
                  </a:moveTo>
                  <a:lnTo>
                    <a:pt x="68" y="60"/>
                  </a:lnTo>
                  <a:lnTo>
                    <a:pt x="63" y="41"/>
                  </a:lnTo>
                  <a:lnTo>
                    <a:pt x="52" y="22"/>
                  </a:lnTo>
                  <a:lnTo>
                    <a:pt x="36" y="12"/>
                  </a:lnTo>
                  <a:lnTo>
                    <a:pt x="17" y="0"/>
                  </a:lnTo>
                  <a:lnTo>
                    <a:pt x="0" y="27"/>
                  </a:lnTo>
                  <a:lnTo>
                    <a:pt x="13" y="39"/>
                  </a:lnTo>
                  <a:lnTo>
                    <a:pt x="25" y="49"/>
                  </a:lnTo>
                  <a:lnTo>
                    <a:pt x="30" y="52"/>
                  </a:lnTo>
                  <a:lnTo>
                    <a:pt x="30" y="60"/>
                  </a:lnTo>
                  <a:lnTo>
                    <a:pt x="44" y="76"/>
                  </a:lnTo>
                  <a:lnTo>
                    <a:pt x="30" y="60"/>
                  </a:lnTo>
                  <a:lnTo>
                    <a:pt x="30" y="70"/>
                  </a:lnTo>
                  <a:lnTo>
                    <a:pt x="44" y="76"/>
                  </a:lnTo>
                  <a:lnTo>
                    <a:pt x="54" y="43"/>
                  </a:lnTo>
                  <a:close/>
                </a:path>
              </a:pathLst>
            </a:cu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1461960" y="5342040"/>
              <a:ext cx="27000" cy="34920"/>
            </a:xfrm>
            <a:custGeom>
              <a:avLst/>
              <a:gdLst/>
              <a:ahLst/>
              <a:rect l="l" t="t" r="r" b="b"/>
              <a:pathLst>
                <a:path w="100" h="133">
                  <a:moveTo>
                    <a:pt x="95" y="106"/>
                  </a:moveTo>
                  <a:lnTo>
                    <a:pt x="100" y="120"/>
                  </a:lnTo>
                  <a:lnTo>
                    <a:pt x="89" y="87"/>
                  </a:lnTo>
                  <a:lnTo>
                    <a:pt x="64" y="50"/>
                  </a:lnTo>
                  <a:lnTo>
                    <a:pt x="37" y="23"/>
                  </a:lnTo>
                  <a:lnTo>
                    <a:pt x="10" y="0"/>
                  </a:lnTo>
                  <a:lnTo>
                    <a:pt x="0" y="33"/>
                  </a:lnTo>
                  <a:lnTo>
                    <a:pt x="16" y="44"/>
                  </a:lnTo>
                  <a:lnTo>
                    <a:pt x="37" y="71"/>
                  </a:lnTo>
                  <a:lnTo>
                    <a:pt x="56" y="98"/>
                  </a:lnTo>
                  <a:lnTo>
                    <a:pt x="62" y="120"/>
                  </a:lnTo>
                  <a:lnTo>
                    <a:pt x="68" y="133"/>
                  </a:lnTo>
                  <a:lnTo>
                    <a:pt x="62" y="120"/>
                  </a:lnTo>
                  <a:lnTo>
                    <a:pt x="62" y="125"/>
                  </a:lnTo>
                  <a:lnTo>
                    <a:pt x="70" y="131"/>
                  </a:lnTo>
                  <a:lnTo>
                    <a:pt x="95" y="10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8" name=""/>
            <p:cNvSpPr/>
            <p:nvPr/>
          </p:nvSpPr>
          <p:spPr>
            <a:xfrm>
              <a:off x="1479240" y="5369040"/>
              <a:ext cx="25560" cy="28440"/>
            </a:xfrm>
            <a:custGeom>
              <a:avLst/>
              <a:gdLst/>
              <a:ahLst/>
              <a:rect l="l" t="t" r="r" b="b"/>
              <a:pathLst>
                <a:path w="94" h="108">
                  <a:moveTo>
                    <a:pt x="94" y="101"/>
                  </a:moveTo>
                  <a:lnTo>
                    <a:pt x="91" y="92"/>
                  </a:lnTo>
                  <a:lnTo>
                    <a:pt x="75" y="68"/>
                  </a:lnTo>
                  <a:lnTo>
                    <a:pt x="62" y="46"/>
                  </a:lnTo>
                  <a:lnTo>
                    <a:pt x="46" y="22"/>
                  </a:lnTo>
                  <a:lnTo>
                    <a:pt x="27" y="0"/>
                  </a:lnTo>
                  <a:lnTo>
                    <a:pt x="0" y="27"/>
                  </a:lnTo>
                  <a:lnTo>
                    <a:pt x="19" y="43"/>
                  </a:lnTo>
                  <a:lnTo>
                    <a:pt x="34" y="62"/>
                  </a:lnTo>
                  <a:lnTo>
                    <a:pt x="48" y="84"/>
                  </a:lnTo>
                  <a:lnTo>
                    <a:pt x="59" y="108"/>
                  </a:lnTo>
                  <a:lnTo>
                    <a:pt x="56" y="101"/>
                  </a:lnTo>
                  <a:lnTo>
                    <a:pt x="94" y="101"/>
                  </a:lnTo>
                  <a:lnTo>
                    <a:pt x="94" y="97"/>
                  </a:lnTo>
                  <a:lnTo>
                    <a:pt x="91" y="92"/>
                  </a:lnTo>
                  <a:lnTo>
                    <a:pt x="94" y="101"/>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1495440" y="5396040"/>
              <a:ext cx="10800" cy="7920"/>
            </a:xfrm>
            <a:custGeom>
              <a:avLst/>
              <a:gdLst/>
              <a:ahLst/>
              <a:rect l="l" t="t" r="r" b="b"/>
              <a:pathLst>
                <a:path w="46" h="29">
                  <a:moveTo>
                    <a:pt x="46" y="29"/>
                  </a:moveTo>
                  <a:lnTo>
                    <a:pt x="46" y="29"/>
                  </a:lnTo>
                  <a:lnTo>
                    <a:pt x="46" y="21"/>
                  </a:lnTo>
                  <a:lnTo>
                    <a:pt x="40" y="4"/>
                  </a:lnTo>
                  <a:lnTo>
                    <a:pt x="35" y="0"/>
                  </a:lnTo>
                  <a:lnTo>
                    <a:pt x="38" y="0"/>
                  </a:lnTo>
                  <a:lnTo>
                    <a:pt x="0" y="0"/>
                  </a:lnTo>
                  <a:lnTo>
                    <a:pt x="3" y="10"/>
                  </a:lnTo>
                  <a:lnTo>
                    <a:pt x="8" y="21"/>
                  </a:lnTo>
                  <a:lnTo>
                    <a:pt x="8" y="21"/>
                  </a:lnTo>
                  <a:lnTo>
                    <a:pt x="8" y="29"/>
                  </a:lnTo>
                  <a:lnTo>
                    <a:pt x="8" y="29"/>
                  </a:lnTo>
                  <a:lnTo>
                    <a:pt x="46" y="29"/>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1496880" y="5403960"/>
              <a:ext cx="9360" cy="11160"/>
            </a:xfrm>
            <a:custGeom>
              <a:avLst/>
              <a:gdLst/>
              <a:ahLst/>
              <a:rect l="l" t="t" r="r" b="b"/>
              <a:pathLst>
                <a:path w="38" h="40">
                  <a:moveTo>
                    <a:pt x="32" y="19"/>
                  </a:moveTo>
                  <a:lnTo>
                    <a:pt x="38" y="29"/>
                  </a:lnTo>
                  <a:lnTo>
                    <a:pt x="38" y="0"/>
                  </a:lnTo>
                  <a:lnTo>
                    <a:pt x="0" y="0"/>
                  </a:lnTo>
                  <a:lnTo>
                    <a:pt x="0" y="29"/>
                  </a:lnTo>
                  <a:lnTo>
                    <a:pt x="5" y="40"/>
                  </a:lnTo>
                  <a:lnTo>
                    <a:pt x="0" y="29"/>
                  </a:lnTo>
                  <a:lnTo>
                    <a:pt x="0" y="35"/>
                  </a:lnTo>
                  <a:lnTo>
                    <a:pt x="5" y="40"/>
                  </a:lnTo>
                  <a:lnTo>
                    <a:pt x="32" y="19"/>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1498320" y="5408640"/>
              <a:ext cx="14400" cy="12960"/>
            </a:xfrm>
            <a:custGeom>
              <a:avLst/>
              <a:gdLst/>
              <a:ahLst/>
              <a:rect l="l" t="t" r="r" b="b"/>
              <a:pathLst>
                <a:path w="54" h="46">
                  <a:moveTo>
                    <a:pt x="54" y="27"/>
                  </a:moveTo>
                  <a:lnTo>
                    <a:pt x="35" y="8"/>
                  </a:lnTo>
                  <a:lnTo>
                    <a:pt x="35" y="10"/>
                  </a:lnTo>
                  <a:lnTo>
                    <a:pt x="35" y="6"/>
                  </a:lnTo>
                  <a:lnTo>
                    <a:pt x="30" y="0"/>
                  </a:lnTo>
                  <a:lnTo>
                    <a:pt x="27" y="0"/>
                  </a:lnTo>
                  <a:lnTo>
                    <a:pt x="0" y="21"/>
                  </a:lnTo>
                  <a:lnTo>
                    <a:pt x="3" y="27"/>
                  </a:lnTo>
                  <a:lnTo>
                    <a:pt x="8" y="33"/>
                  </a:lnTo>
                  <a:lnTo>
                    <a:pt x="20" y="37"/>
                  </a:lnTo>
                  <a:lnTo>
                    <a:pt x="35" y="46"/>
                  </a:lnTo>
                  <a:lnTo>
                    <a:pt x="16" y="27"/>
                  </a:lnTo>
                  <a:lnTo>
                    <a:pt x="54" y="27"/>
                  </a:lnTo>
                  <a:lnTo>
                    <a:pt x="54" y="8"/>
                  </a:lnTo>
                  <a:lnTo>
                    <a:pt x="35" y="8"/>
                  </a:lnTo>
                  <a:lnTo>
                    <a:pt x="54" y="27"/>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2" name=""/>
            <p:cNvSpPr/>
            <p:nvPr/>
          </p:nvSpPr>
          <p:spPr>
            <a:xfrm>
              <a:off x="1503360" y="5416560"/>
              <a:ext cx="10800" cy="15840"/>
            </a:xfrm>
            <a:custGeom>
              <a:avLst/>
              <a:gdLst/>
              <a:ahLst/>
              <a:rect l="l" t="t" r="r" b="b"/>
              <a:pathLst>
                <a:path w="46" h="60">
                  <a:moveTo>
                    <a:pt x="41" y="33"/>
                  </a:moveTo>
                  <a:lnTo>
                    <a:pt x="46" y="46"/>
                  </a:lnTo>
                  <a:lnTo>
                    <a:pt x="46" y="35"/>
                  </a:lnTo>
                  <a:lnTo>
                    <a:pt x="41" y="16"/>
                  </a:lnTo>
                  <a:lnTo>
                    <a:pt x="36" y="8"/>
                  </a:lnTo>
                  <a:lnTo>
                    <a:pt x="38" y="0"/>
                  </a:lnTo>
                  <a:lnTo>
                    <a:pt x="0" y="0"/>
                  </a:lnTo>
                  <a:lnTo>
                    <a:pt x="4" y="14"/>
                  </a:lnTo>
                  <a:lnTo>
                    <a:pt x="9" y="27"/>
                  </a:lnTo>
                  <a:lnTo>
                    <a:pt x="9" y="35"/>
                  </a:lnTo>
                  <a:lnTo>
                    <a:pt x="9" y="46"/>
                  </a:lnTo>
                  <a:lnTo>
                    <a:pt x="14" y="60"/>
                  </a:lnTo>
                  <a:lnTo>
                    <a:pt x="9" y="46"/>
                  </a:lnTo>
                  <a:lnTo>
                    <a:pt x="9" y="51"/>
                  </a:lnTo>
                  <a:lnTo>
                    <a:pt x="14" y="60"/>
                  </a:lnTo>
                  <a:lnTo>
                    <a:pt x="41"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3" name=""/>
            <p:cNvSpPr/>
            <p:nvPr/>
          </p:nvSpPr>
          <p:spPr>
            <a:xfrm>
              <a:off x="1506240" y="5424480"/>
              <a:ext cx="15840" cy="17640"/>
            </a:xfrm>
            <a:custGeom>
              <a:avLst/>
              <a:gdLst/>
              <a:ahLst/>
              <a:rect l="l" t="t" r="r" b="b"/>
              <a:pathLst>
                <a:path w="63" h="64">
                  <a:moveTo>
                    <a:pt x="63" y="51"/>
                  </a:moveTo>
                  <a:lnTo>
                    <a:pt x="57" y="37"/>
                  </a:lnTo>
                  <a:lnTo>
                    <a:pt x="49" y="31"/>
                  </a:lnTo>
                  <a:lnTo>
                    <a:pt x="46" y="24"/>
                  </a:lnTo>
                  <a:lnTo>
                    <a:pt x="32" y="10"/>
                  </a:lnTo>
                  <a:lnTo>
                    <a:pt x="27" y="0"/>
                  </a:lnTo>
                  <a:lnTo>
                    <a:pt x="0" y="27"/>
                  </a:lnTo>
                  <a:lnTo>
                    <a:pt x="11" y="31"/>
                  </a:lnTo>
                  <a:lnTo>
                    <a:pt x="13" y="40"/>
                  </a:lnTo>
                  <a:lnTo>
                    <a:pt x="22" y="54"/>
                  </a:lnTo>
                  <a:lnTo>
                    <a:pt x="30" y="64"/>
                  </a:lnTo>
                  <a:lnTo>
                    <a:pt x="24" y="51"/>
                  </a:lnTo>
                  <a:lnTo>
                    <a:pt x="63" y="51"/>
                  </a:lnTo>
                  <a:lnTo>
                    <a:pt x="63" y="45"/>
                  </a:lnTo>
                  <a:lnTo>
                    <a:pt x="57" y="37"/>
                  </a:lnTo>
                  <a:lnTo>
                    <a:pt x="63" y="51"/>
                  </a:lnTo>
                  <a:close/>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4" name=""/>
            <p:cNvSpPr/>
            <p:nvPr/>
          </p:nvSpPr>
          <p:spPr>
            <a:xfrm>
              <a:off x="1512720" y="5438880"/>
              <a:ext cx="9360" cy="12600"/>
            </a:xfrm>
            <a:custGeom>
              <a:avLst/>
              <a:gdLst/>
              <a:ahLst/>
              <a:rect l="l" t="t" r="r" b="b"/>
              <a:pathLst>
                <a:path w="39" h="51">
                  <a:moveTo>
                    <a:pt x="33" y="24"/>
                  </a:moveTo>
                  <a:lnTo>
                    <a:pt x="39" y="38"/>
                  </a:lnTo>
                  <a:lnTo>
                    <a:pt x="39" y="0"/>
                  </a:lnTo>
                  <a:lnTo>
                    <a:pt x="0" y="0"/>
                  </a:lnTo>
                  <a:lnTo>
                    <a:pt x="0" y="38"/>
                  </a:lnTo>
                  <a:lnTo>
                    <a:pt x="6" y="51"/>
                  </a:lnTo>
                  <a:lnTo>
                    <a:pt x="0" y="38"/>
                  </a:lnTo>
                  <a:lnTo>
                    <a:pt x="0" y="44"/>
                  </a:lnTo>
                  <a:lnTo>
                    <a:pt x="6" y="51"/>
                  </a:lnTo>
                  <a:lnTo>
                    <a:pt x="33" y="24"/>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5" name=""/>
            <p:cNvSpPr/>
            <p:nvPr/>
          </p:nvSpPr>
          <p:spPr>
            <a:xfrm>
              <a:off x="1514160" y="5445360"/>
              <a:ext cx="28800" cy="41040"/>
            </a:xfrm>
            <a:custGeom>
              <a:avLst/>
              <a:gdLst/>
              <a:ahLst/>
              <a:rect l="l" t="t" r="r" b="b"/>
              <a:pathLst>
                <a:path w="111" h="159">
                  <a:moveTo>
                    <a:pt x="105" y="132"/>
                  </a:moveTo>
                  <a:lnTo>
                    <a:pt x="111" y="146"/>
                  </a:lnTo>
                  <a:lnTo>
                    <a:pt x="100" y="109"/>
                  </a:lnTo>
                  <a:lnTo>
                    <a:pt x="81" y="68"/>
                  </a:lnTo>
                  <a:lnTo>
                    <a:pt x="54" y="32"/>
                  </a:lnTo>
                  <a:lnTo>
                    <a:pt x="27" y="0"/>
                  </a:lnTo>
                  <a:lnTo>
                    <a:pt x="0" y="27"/>
                  </a:lnTo>
                  <a:lnTo>
                    <a:pt x="27" y="55"/>
                  </a:lnTo>
                  <a:lnTo>
                    <a:pt x="49" y="84"/>
                  </a:lnTo>
                  <a:lnTo>
                    <a:pt x="68" y="119"/>
                  </a:lnTo>
                  <a:lnTo>
                    <a:pt x="73" y="146"/>
                  </a:lnTo>
                  <a:lnTo>
                    <a:pt x="78" y="159"/>
                  </a:lnTo>
                  <a:lnTo>
                    <a:pt x="73" y="146"/>
                  </a:lnTo>
                  <a:lnTo>
                    <a:pt x="73" y="152"/>
                  </a:lnTo>
                  <a:lnTo>
                    <a:pt x="81" y="157"/>
                  </a:lnTo>
                  <a:lnTo>
                    <a:pt x="105" y="132"/>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6" name=""/>
            <p:cNvSpPr/>
            <p:nvPr/>
          </p:nvSpPr>
          <p:spPr>
            <a:xfrm>
              <a:off x="1535040" y="5480280"/>
              <a:ext cx="14040" cy="17280"/>
            </a:xfrm>
            <a:custGeom>
              <a:avLst/>
              <a:gdLst/>
              <a:ahLst/>
              <a:rect l="l" t="t" r="r" b="b"/>
              <a:pathLst>
                <a:path w="54" h="68">
                  <a:moveTo>
                    <a:pt x="49" y="41"/>
                  </a:moveTo>
                  <a:lnTo>
                    <a:pt x="54" y="55"/>
                  </a:lnTo>
                  <a:lnTo>
                    <a:pt x="49" y="35"/>
                  </a:lnTo>
                  <a:lnTo>
                    <a:pt x="44" y="22"/>
                  </a:lnTo>
                  <a:lnTo>
                    <a:pt x="33" y="8"/>
                  </a:lnTo>
                  <a:lnTo>
                    <a:pt x="27" y="0"/>
                  </a:lnTo>
                  <a:lnTo>
                    <a:pt x="0" y="27"/>
                  </a:lnTo>
                  <a:lnTo>
                    <a:pt x="6" y="31"/>
                  </a:lnTo>
                  <a:lnTo>
                    <a:pt x="11" y="39"/>
                  </a:lnTo>
                  <a:lnTo>
                    <a:pt x="17" y="47"/>
                  </a:lnTo>
                  <a:lnTo>
                    <a:pt x="17" y="55"/>
                  </a:lnTo>
                  <a:lnTo>
                    <a:pt x="22" y="68"/>
                  </a:lnTo>
                  <a:lnTo>
                    <a:pt x="17" y="55"/>
                  </a:lnTo>
                  <a:lnTo>
                    <a:pt x="17" y="60"/>
                  </a:lnTo>
                  <a:lnTo>
                    <a:pt x="22" y="68"/>
                  </a:lnTo>
                  <a:lnTo>
                    <a:pt x="49" y="41"/>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7" name=""/>
            <p:cNvSpPr/>
            <p:nvPr/>
          </p:nvSpPr>
          <p:spPr>
            <a:xfrm>
              <a:off x="1541160" y="5491440"/>
              <a:ext cx="17640" cy="14040"/>
            </a:xfrm>
            <a:custGeom>
              <a:avLst/>
              <a:gdLst/>
              <a:ahLst/>
              <a:rect l="l" t="t" r="r" b="b"/>
              <a:pathLst>
                <a:path w="67" h="58">
                  <a:moveTo>
                    <a:pt x="67" y="38"/>
                  </a:moveTo>
                  <a:lnTo>
                    <a:pt x="59" y="30"/>
                  </a:lnTo>
                  <a:lnTo>
                    <a:pt x="55" y="25"/>
                  </a:lnTo>
                  <a:lnTo>
                    <a:pt x="43" y="17"/>
                  </a:lnTo>
                  <a:lnTo>
                    <a:pt x="32" y="11"/>
                  </a:lnTo>
                  <a:lnTo>
                    <a:pt x="27" y="0"/>
                  </a:lnTo>
                  <a:lnTo>
                    <a:pt x="0" y="27"/>
                  </a:lnTo>
                  <a:lnTo>
                    <a:pt x="11" y="33"/>
                  </a:lnTo>
                  <a:lnTo>
                    <a:pt x="22" y="44"/>
                  </a:lnTo>
                  <a:lnTo>
                    <a:pt x="32" y="52"/>
                  </a:lnTo>
                  <a:lnTo>
                    <a:pt x="43" y="58"/>
                  </a:lnTo>
                  <a:lnTo>
                    <a:pt x="35" y="49"/>
                  </a:lnTo>
                  <a:lnTo>
                    <a:pt x="67" y="38"/>
                  </a:lnTo>
                  <a:lnTo>
                    <a:pt x="65" y="30"/>
                  </a:lnTo>
                  <a:lnTo>
                    <a:pt x="59" y="27"/>
                  </a:lnTo>
                  <a:lnTo>
                    <a:pt x="67" y="38"/>
                  </a:lnTo>
                  <a:close/>
                </a:path>
              </a:pathLst>
            </a:custGeom>
            <a:solidFill>
              <a:srgbClr val="00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a:off x="1549080" y="5500800"/>
              <a:ext cx="19080" cy="22320"/>
            </a:xfrm>
            <a:custGeom>
              <a:avLst/>
              <a:gdLst/>
              <a:ahLst/>
              <a:rect l="l" t="t" r="r" b="b"/>
              <a:pathLst>
                <a:path w="68" h="84">
                  <a:moveTo>
                    <a:pt x="62" y="68"/>
                  </a:moveTo>
                  <a:lnTo>
                    <a:pt x="68" y="76"/>
                  </a:lnTo>
                  <a:lnTo>
                    <a:pt x="62" y="51"/>
                  </a:lnTo>
                  <a:lnTo>
                    <a:pt x="51" y="33"/>
                  </a:lnTo>
                  <a:lnTo>
                    <a:pt x="41" y="20"/>
                  </a:lnTo>
                  <a:lnTo>
                    <a:pt x="32" y="0"/>
                  </a:lnTo>
                  <a:lnTo>
                    <a:pt x="0" y="11"/>
                  </a:lnTo>
                  <a:lnTo>
                    <a:pt x="8" y="30"/>
                  </a:lnTo>
                  <a:lnTo>
                    <a:pt x="20" y="49"/>
                  </a:lnTo>
                  <a:lnTo>
                    <a:pt x="30" y="62"/>
                  </a:lnTo>
                  <a:lnTo>
                    <a:pt x="30" y="76"/>
                  </a:lnTo>
                  <a:lnTo>
                    <a:pt x="35" y="84"/>
                  </a:lnTo>
                  <a:lnTo>
                    <a:pt x="30" y="76"/>
                  </a:lnTo>
                  <a:lnTo>
                    <a:pt x="30" y="78"/>
                  </a:lnTo>
                  <a:lnTo>
                    <a:pt x="32" y="84"/>
                  </a:lnTo>
                  <a:lnTo>
                    <a:pt x="62" y="68"/>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9" name=""/>
            <p:cNvSpPr/>
            <p:nvPr/>
          </p:nvSpPr>
          <p:spPr>
            <a:xfrm>
              <a:off x="1558800" y="5518440"/>
              <a:ext cx="17280" cy="14040"/>
            </a:xfrm>
            <a:custGeom>
              <a:avLst/>
              <a:gdLst/>
              <a:ahLst/>
              <a:rect l="l" t="t" r="r" b="b"/>
              <a:pathLst>
                <a:path w="68" h="51">
                  <a:moveTo>
                    <a:pt x="68" y="35"/>
                  </a:moveTo>
                  <a:lnTo>
                    <a:pt x="65" y="24"/>
                  </a:lnTo>
                  <a:lnTo>
                    <a:pt x="54" y="18"/>
                  </a:lnTo>
                  <a:lnTo>
                    <a:pt x="41" y="5"/>
                  </a:lnTo>
                  <a:lnTo>
                    <a:pt x="33" y="2"/>
                  </a:lnTo>
                  <a:lnTo>
                    <a:pt x="27" y="0"/>
                  </a:lnTo>
                  <a:lnTo>
                    <a:pt x="0" y="16"/>
                  </a:lnTo>
                  <a:lnTo>
                    <a:pt x="10" y="29"/>
                  </a:lnTo>
                  <a:lnTo>
                    <a:pt x="24" y="37"/>
                  </a:lnTo>
                  <a:lnTo>
                    <a:pt x="33" y="41"/>
                  </a:lnTo>
                  <a:lnTo>
                    <a:pt x="38" y="51"/>
                  </a:lnTo>
                  <a:lnTo>
                    <a:pt x="35" y="41"/>
                  </a:lnTo>
                  <a:lnTo>
                    <a:pt x="68" y="35"/>
                  </a:lnTo>
                  <a:lnTo>
                    <a:pt x="68" y="29"/>
                  </a:lnTo>
                  <a:lnTo>
                    <a:pt x="65" y="24"/>
                  </a:lnTo>
                  <a:lnTo>
                    <a:pt x="68" y="35"/>
                  </a:lnTo>
                  <a:close/>
                </a:path>
              </a:pathLst>
            </a:custGeom>
            <a:solidFill>
              <a:srgbClr val="00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0" name=""/>
            <p:cNvSpPr/>
            <p:nvPr/>
          </p:nvSpPr>
          <p:spPr>
            <a:xfrm>
              <a:off x="1568160" y="5527800"/>
              <a:ext cx="12960" cy="17640"/>
            </a:xfrm>
            <a:custGeom>
              <a:avLst/>
              <a:gdLst/>
              <a:ahLst/>
              <a:rect l="l" t="t" r="r" b="b"/>
              <a:pathLst>
                <a:path w="46" h="68">
                  <a:moveTo>
                    <a:pt x="30" y="29"/>
                  </a:moveTo>
                  <a:lnTo>
                    <a:pt x="46" y="46"/>
                  </a:lnTo>
                  <a:lnTo>
                    <a:pt x="33" y="0"/>
                  </a:lnTo>
                  <a:lnTo>
                    <a:pt x="0" y="6"/>
                  </a:lnTo>
                  <a:lnTo>
                    <a:pt x="14" y="51"/>
                  </a:lnTo>
                  <a:lnTo>
                    <a:pt x="30" y="68"/>
                  </a:lnTo>
                  <a:lnTo>
                    <a:pt x="14" y="51"/>
                  </a:lnTo>
                  <a:lnTo>
                    <a:pt x="16" y="68"/>
                  </a:lnTo>
                  <a:lnTo>
                    <a:pt x="30" y="68"/>
                  </a:lnTo>
                  <a:lnTo>
                    <a:pt x="30" y="29"/>
                  </a:lnTo>
                  <a:close/>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1" name=""/>
            <p:cNvSpPr/>
            <p:nvPr/>
          </p:nvSpPr>
          <p:spPr>
            <a:xfrm>
              <a:off x="1576080" y="5535720"/>
              <a:ext cx="7920" cy="9720"/>
            </a:xfrm>
            <a:custGeom>
              <a:avLst/>
              <a:gdLst/>
              <a:ahLst/>
              <a:rect l="l" t="t" r="r" b="b"/>
              <a:pathLst>
                <a:path w="32" h="39">
                  <a:moveTo>
                    <a:pt x="32" y="12"/>
                  </a:moveTo>
                  <a:lnTo>
                    <a:pt x="16" y="0"/>
                  </a:lnTo>
                  <a:lnTo>
                    <a:pt x="0" y="0"/>
                  </a:lnTo>
                  <a:lnTo>
                    <a:pt x="0" y="39"/>
                  </a:lnTo>
                  <a:lnTo>
                    <a:pt x="16" y="39"/>
                  </a:lnTo>
                  <a:lnTo>
                    <a:pt x="0" y="27"/>
                  </a:lnTo>
                  <a:lnTo>
                    <a:pt x="32" y="12"/>
                  </a:lnTo>
                  <a:lnTo>
                    <a:pt x="27" y="0"/>
                  </a:lnTo>
                  <a:lnTo>
                    <a:pt x="16" y="0"/>
                  </a:lnTo>
                  <a:lnTo>
                    <a:pt x="32" y="12"/>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a:off x="1576080" y="5538960"/>
              <a:ext cx="11160" cy="7920"/>
            </a:xfrm>
            <a:custGeom>
              <a:avLst/>
              <a:gdLst/>
              <a:ahLst/>
              <a:rect l="l" t="t" r="r" b="b"/>
              <a:pathLst>
                <a:path w="44" h="32">
                  <a:moveTo>
                    <a:pt x="44" y="32"/>
                  </a:moveTo>
                  <a:lnTo>
                    <a:pt x="44" y="32"/>
                  </a:lnTo>
                  <a:lnTo>
                    <a:pt x="44" y="23"/>
                  </a:lnTo>
                  <a:lnTo>
                    <a:pt x="36" y="8"/>
                  </a:lnTo>
                  <a:lnTo>
                    <a:pt x="32" y="2"/>
                  </a:lnTo>
                  <a:lnTo>
                    <a:pt x="32" y="0"/>
                  </a:lnTo>
                  <a:lnTo>
                    <a:pt x="0" y="15"/>
                  </a:lnTo>
                  <a:lnTo>
                    <a:pt x="0" y="19"/>
                  </a:lnTo>
                  <a:lnTo>
                    <a:pt x="9" y="23"/>
                  </a:lnTo>
                  <a:lnTo>
                    <a:pt x="5" y="23"/>
                  </a:lnTo>
                  <a:lnTo>
                    <a:pt x="5" y="32"/>
                  </a:lnTo>
                  <a:lnTo>
                    <a:pt x="5" y="32"/>
                  </a:lnTo>
                  <a:lnTo>
                    <a:pt x="44" y="32"/>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1577880" y="5546880"/>
              <a:ext cx="9360" cy="22320"/>
            </a:xfrm>
            <a:custGeom>
              <a:avLst/>
              <a:gdLst/>
              <a:ahLst/>
              <a:rect l="l" t="t" r="r" b="b"/>
              <a:pathLst>
                <a:path w="39" h="82">
                  <a:moveTo>
                    <a:pt x="33" y="54"/>
                  </a:moveTo>
                  <a:lnTo>
                    <a:pt x="39" y="68"/>
                  </a:lnTo>
                  <a:lnTo>
                    <a:pt x="39" y="0"/>
                  </a:lnTo>
                  <a:lnTo>
                    <a:pt x="0" y="0"/>
                  </a:lnTo>
                  <a:lnTo>
                    <a:pt x="0" y="68"/>
                  </a:lnTo>
                  <a:lnTo>
                    <a:pt x="6" y="82"/>
                  </a:lnTo>
                  <a:lnTo>
                    <a:pt x="0" y="68"/>
                  </a:lnTo>
                  <a:lnTo>
                    <a:pt x="0" y="73"/>
                  </a:lnTo>
                  <a:lnTo>
                    <a:pt x="8" y="78"/>
                  </a:lnTo>
                  <a:lnTo>
                    <a:pt x="33" y="54"/>
                  </a:lnTo>
                  <a:close/>
                </a:path>
              </a:pathLst>
            </a:custGeom>
            <a:solidFill>
              <a:srgbClr val="00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1579320" y="5561280"/>
              <a:ext cx="11160" cy="11160"/>
            </a:xfrm>
            <a:custGeom>
              <a:avLst/>
              <a:gdLst/>
              <a:ahLst/>
              <a:rect l="l" t="t" r="r" b="b"/>
              <a:pathLst>
                <a:path w="43" h="43">
                  <a:moveTo>
                    <a:pt x="29" y="30"/>
                  </a:moveTo>
                  <a:lnTo>
                    <a:pt x="43" y="16"/>
                  </a:lnTo>
                  <a:lnTo>
                    <a:pt x="27" y="0"/>
                  </a:lnTo>
                  <a:lnTo>
                    <a:pt x="0" y="28"/>
                  </a:lnTo>
                  <a:lnTo>
                    <a:pt x="16" y="43"/>
                  </a:lnTo>
                  <a:lnTo>
                    <a:pt x="29" y="30"/>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360440" y="5270760"/>
              <a:ext cx="266760" cy="128520"/>
            </a:xfrm>
            <a:custGeom>
              <a:avLst/>
              <a:gdLst/>
              <a:ahLst/>
              <a:rect l="l" t="t" r="r" b="b"/>
              <a:pathLst>
                <a:path w="1011" h="485">
                  <a:moveTo>
                    <a:pt x="592" y="122"/>
                  </a:moveTo>
                  <a:lnTo>
                    <a:pt x="576" y="122"/>
                  </a:lnTo>
                  <a:lnTo>
                    <a:pt x="557" y="122"/>
                  </a:lnTo>
                  <a:lnTo>
                    <a:pt x="538" y="120"/>
                  </a:lnTo>
                  <a:lnTo>
                    <a:pt x="522" y="120"/>
                  </a:lnTo>
                  <a:lnTo>
                    <a:pt x="503" y="120"/>
                  </a:lnTo>
                  <a:lnTo>
                    <a:pt x="484" y="117"/>
                  </a:lnTo>
                  <a:lnTo>
                    <a:pt x="465" y="117"/>
                  </a:lnTo>
                  <a:lnTo>
                    <a:pt x="449" y="117"/>
                  </a:lnTo>
                  <a:lnTo>
                    <a:pt x="433" y="108"/>
                  </a:lnTo>
                  <a:lnTo>
                    <a:pt x="414" y="98"/>
                  </a:lnTo>
                  <a:lnTo>
                    <a:pt x="395" y="90"/>
                  </a:lnTo>
                  <a:lnTo>
                    <a:pt x="376" y="81"/>
                  </a:lnTo>
                  <a:lnTo>
                    <a:pt x="360" y="73"/>
                  </a:lnTo>
                  <a:lnTo>
                    <a:pt x="341" y="65"/>
                  </a:lnTo>
                  <a:lnTo>
                    <a:pt x="327" y="54"/>
                  </a:lnTo>
                  <a:lnTo>
                    <a:pt x="311" y="46"/>
                  </a:lnTo>
                  <a:lnTo>
                    <a:pt x="292" y="46"/>
                  </a:lnTo>
                  <a:lnTo>
                    <a:pt x="273" y="44"/>
                  </a:lnTo>
                  <a:lnTo>
                    <a:pt x="254" y="38"/>
                  </a:lnTo>
                  <a:lnTo>
                    <a:pt x="236" y="33"/>
                  </a:lnTo>
                  <a:lnTo>
                    <a:pt x="217" y="27"/>
                  </a:lnTo>
                  <a:lnTo>
                    <a:pt x="200" y="23"/>
                  </a:lnTo>
                  <a:lnTo>
                    <a:pt x="184" y="14"/>
                  </a:lnTo>
                  <a:lnTo>
                    <a:pt x="168" y="9"/>
                  </a:lnTo>
                  <a:lnTo>
                    <a:pt x="84" y="9"/>
                  </a:lnTo>
                  <a:lnTo>
                    <a:pt x="76" y="0"/>
                  </a:lnTo>
                  <a:lnTo>
                    <a:pt x="57" y="0"/>
                  </a:lnTo>
                  <a:lnTo>
                    <a:pt x="33" y="3"/>
                  </a:lnTo>
                  <a:lnTo>
                    <a:pt x="14" y="9"/>
                  </a:lnTo>
                  <a:lnTo>
                    <a:pt x="0" y="17"/>
                  </a:lnTo>
                  <a:lnTo>
                    <a:pt x="30" y="46"/>
                  </a:lnTo>
                  <a:lnTo>
                    <a:pt x="52" y="46"/>
                  </a:lnTo>
                  <a:lnTo>
                    <a:pt x="68" y="46"/>
                  </a:lnTo>
                  <a:lnTo>
                    <a:pt x="78" y="54"/>
                  </a:lnTo>
                  <a:lnTo>
                    <a:pt x="84" y="71"/>
                  </a:lnTo>
                  <a:lnTo>
                    <a:pt x="109" y="73"/>
                  </a:lnTo>
                  <a:lnTo>
                    <a:pt x="136" y="79"/>
                  </a:lnTo>
                  <a:lnTo>
                    <a:pt x="163" y="87"/>
                  </a:lnTo>
                  <a:lnTo>
                    <a:pt x="186" y="95"/>
                  </a:lnTo>
                  <a:lnTo>
                    <a:pt x="213" y="104"/>
                  </a:lnTo>
                  <a:lnTo>
                    <a:pt x="240" y="112"/>
                  </a:lnTo>
                  <a:lnTo>
                    <a:pt x="267" y="114"/>
                  </a:lnTo>
                  <a:lnTo>
                    <a:pt x="294" y="117"/>
                  </a:lnTo>
                  <a:lnTo>
                    <a:pt x="300" y="117"/>
                  </a:lnTo>
                  <a:lnTo>
                    <a:pt x="306" y="120"/>
                  </a:lnTo>
                  <a:lnTo>
                    <a:pt x="311" y="122"/>
                  </a:lnTo>
                  <a:lnTo>
                    <a:pt x="316" y="122"/>
                  </a:lnTo>
                  <a:lnTo>
                    <a:pt x="335" y="133"/>
                  </a:lnTo>
                  <a:lnTo>
                    <a:pt x="362" y="139"/>
                  </a:lnTo>
                  <a:lnTo>
                    <a:pt x="384" y="147"/>
                  </a:lnTo>
                  <a:lnTo>
                    <a:pt x="395" y="168"/>
                  </a:lnTo>
                  <a:lnTo>
                    <a:pt x="411" y="171"/>
                  </a:lnTo>
                  <a:lnTo>
                    <a:pt x="430" y="176"/>
                  </a:lnTo>
                  <a:lnTo>
                    <a:pt x="447" y="185"/>
                  </a:lnTo>
                  <a:lnTo>
                    <a:pt x="465" y="193"/>
                  </a:lnTo>
                  <a:lnTo>
                    <a:pt x="484" y="203"/>
                  </a:lnTo>
                  <a:lnTo>
                    <a:pt x="503" y="212"/>
                  </a:lnTo>
                  <a:lnTo>
                    <a:pt x="522" y="217"/>
                  </a:lnTo>
                  <a:lnTo>
                    <a:pt x="540" y="220"/>
                  </a:lnTo>
                  <a:lnTo>
                    <a:pt x="540" y="234"/>
                  </a:lnTo>
                  <a:lnTo>
                    <a:pt x="544" y="247"/>
                  </a:lnTo>
                  <a:lnTo>
                    <a:pt x="549" y="263"/>
                  </a:lnTo>
                  <a:lnTo>
                    <a:pt x="554" y="274"/>
                  </a:lnTo>
                  <a:lnTo>
                    <a:pt x="554" y="290"/>
                  </a:lnTo>
                  <a:lnTo>
                    <a:pt x="557" y="301"/>
                  </a:lnTo>
                  <a:lnTo>
                    <a:pt x="563" y="306"/>
                  </a:lnTo>
                  <a:lnTo>
                    <a:pt x="571" y="311"/>
                  </a:lnTo>
                  <a:lnTo>
                    <a:pt x="573" y="338"/>
                  </a:lnTo>
                  <a:lnTo>
                    <a:pt x="578" y="363"/>
                  </a:lnTo>
                  <a:lnTo>
                    <a:pt x="584" y="387"/>
                  </a:lnTo>
                  <a:lnTo>
                    <a:pt x="586" y="409"/>
                  </a:lnTo>
                  <a:lnTo>
                    <a:pt x="603" y="409"/>
                  </a:lnTo>
                  <a:lnTo>
                    <a:pt x="621" y="409"/>
                  </a:lnTo>
                  <a:lnTo>
                    <a:pt x="644" y="412"/>
                  </a:lnTo>
                  <a:lnTo>
                    <a:pt x="662" y="412"/>
                  </a:lnTo>
                  <a:lnTo>
                    <a:pt x="684" y="412"/>
                  </a:lnTo>
                  <a:lnTo>
                    <a:pt x="702" y="409"/>
                  </a:lnTo>
                  <a:lnTo>
                    <a:pt x="719" y="406"/>
                  </a:lnTo>
                  <a:lnTo>
                    <a:pt x="735" y="400"/>
                  </a:lnTo>
                  <a:lnTo>
                    <a:pt x="749" y="400"/>
                  </a:lnTo>
                  <a:lnTo>
                    <a:pt x="760" y="404"/>
                  </a:lnTo>
                  <a:lnTo>
                    <a:pt x="773" y="406"/>
                  </a:lnTo>
                  <a:lnTo>
                    <a:pt x="787" y="409"/>
                  </a:lnTo>
                  <a:lnTo>
                    <a:pt x="797" y="412"/>
                  </a:lnTo>
                  <a:lnTo>
                    <a:pt x="808" y="414"/>
                  </a:lnTo>
                  <a:lnTo>
                    <a:pt x="819" y="417"/>
                  </a:lnTo>
                  <a:lnTo>
                    <a:pt x="828" y="417"/>
                  </a:lnTo>
                  <a:lnTo>
                    <a:pt x="841" y="431"/>
                  </a:lnTo>
                  <a:lnTo>
                    <a:pt x="859" y="447"/>
                  </a:lnTo>
                  <a:lnTo>
                    <a:pt x="876" y="466"/>
                  </a:lnTo>
                  <a:lnTo>
                    <a:pt x="890" y="485"/>
                  </a:lnTo>
                  <a:lnTo>
                    <a:pt x="936" y="485"/>
                  </a:lnTo>
                  <a:lnTo>
                    <a:pt x="938" y="463"/>
                  </a:lnTo>
                  <a:lnTo>
                    <a:pt x="944" y="439"/>
                  </a:lnTo>
                  <a:lnTo>
                    <a:pt x="949" y="417"/>
                  </a:lnTo>
                  <a:lnTo>
                    <a:pt x="952" y="393"/>
                  </a:lnTo>
                  <a:lnTo>
                    <a:pt x="954" y="385"/>
                  </a:lnTo>
                  <a:lnTo>
                    <a:pt x="959" y="373"/>
                  </a:lnTo>
                  <a:lnTo>
                    <a:pt x="963" y="363"/>
                  </a:lnTo>
                  <a:lnTo>
                    <a:pt x="965" y="355"/>
                  </a:lnTo>
                  <a:lnTo>
                    <a:pt x="1006" y="311"/>
                  </a:lnTo>
                  <a:lnTo>
                    <a:pt x="1006" y="306"/>
                  </a:lnTo>
                  <a:lnTo>
                    <a:pt x="1008" y="298"/>
                  </a:lnTo>
                  <a:lnTo>
                    <a:pt x="1011" y="290"/>
                  </a:lnTo>
                  <a:lnTo>
                    <a:pt x="1011" y="282"/>
                  </a:lnTo>
                  <a:lnTo>
                    <a:pt x="1011" y="265"/>
                  </a:lnTo>
                  <a:lnTo>
                    <a:pt x="1006" y="247"/>
                  </a:lnTo>
                  <a:lnTo>
                    <a:pt x="1000" y="230"/>
                  </a:lnTo>
                  <a:lnTo>
                    <a:pt x="989" y="214"/>
                  </a:lnTo>
                  <a:lnTo>
                    <a:pt x="979" y="214"/>
                  </a:lnTo>
                  <a:lnTo>
                    <a:pt x="967" y="212"/>
                  </a:lnTo>
                  <a:lnTo>
                    <a:pt x="957" y="206"/>
                  </a:lnTo>
                  <a:lnTo>
                    <a:pt x="946" y="201"/>
                  </a:lnTo>
                  <a:lnTo>
                    <a:pt x="936" y="199"/>
                  </a:lnTo>
                  <a:lnTo>
                    <a:pt x="925" y="193"/>
                  </a:lnTo>
                  <a:lnTo>
                    <a:pt x="913" y="190"/>
                  </a:lnTo>
                  <a:lnTo>
                    <a:pt x="905" y="190"/>
                  </a:lnTo>
                  <a:lnTo>
                    <a:pt x="892" y="179"/>
                  </a:lnTo>
                  <a:lnTo>
                    <a:pt x="882" y="171"/>
                  </a:lnTo>
                  <a:lnTo>
                    <a:pt x="868" y="166"/>
                  </a:lnTo>
                  <a:lnTo>
                    <a:pt x="851" y="160"/>
                  </a:lnTo>
                  <a:lnTo>
                    <a:pt x="751" y="160"/>
                  </a:lnTo>
                  <a:lnTo>
                    <a:pt x="739" y="155"/>
                  </a:lnTo>
                  <a:lnTo>
                    <a:pt x="725" y="147"/>
                  </a:lnTo>
                  <a:lnTo>
                    <a:pt x="714" y="141"/>
                  </a:lnTo>
                  <a:lnTo>
                    <a:pt x="706" y="135"/>
                  </a:lnTo>
                  <a:lnTo>
                    <a:pt x="692" y="135"/>
                  </a:lnTo>
                  <a:lnTo>
                    <a:pt x="679" y="135"/>
                  </a:lnTo>
                  <a:lnTo>
                    <a:pt x="662" y="135"/>
                  </a:lnTo>
                  <a:lnTo>
                    <a:pt x="648" y="133"/>
                  </a:lnTo>
                  <a:lnTo>
                    <a:pt x="635" y="133"/>
                  </a:lnTo>
                  <a:lnTo>
                    <a:pt x="621" y="131"/>
                  </a:lnTo>
                  <a:lnTo>
                    <a:pt x="606" y="127"/>
                  </a:lnTo>
                  <a:lnTo>
                    <a:pt x="592" y="122"/>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newquery" descr=""/>
          <p:cNvPicPr/>
          <p:nvPr/>
        </p:nvPicPr>
        <p:blipFill>
          <a:blip r:embed="rId1"/>
          <a:stretch/>
        </p:blipFill>
        <p:spPr>
          <a:xfrm>
            <a:off x="2682720" y="1755720"/>
            <a:ext cx="6070680" cy="4503960"/>
          </a:xfrm>
          <a:prstGeom prst="rect">
            <a:avLst/>
          </a:prstGeom>
          <a:ln w="0">
            <a:noFill/>
          </a:ln>
        </p:spPr>
      </p:pic>
      <p:sp>
        <p:nvSpPr>
          <p:cNvPr id="747" name="PlaceHolder 1"/>
          <p:cNvSpPr>
            <a:spLocks noGrp="1"/>
          </p:cNvSpPr>
          <p:nvPr>
            <p:ph type="title"/>
          </p:nvPr>
        </p:nvSpPr>
        <p:spPr>
          <a:xfrm>
            <a:off x="1638000" y="330120"/>
            <a:ext cx="587052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Query Today</a:t>
            </a:r>
            <a:endParaRPr b="1" lang="en-US" sz="2800" spc="-1" strike="noStrike">
              <a:solidFill>
                <a:srgbClr val="2163ab"/>
              </a:solidFill>
              <a:latin typeface="Arial Black"/>
            </a:endParaRPr>
          </a:p>
        </p:txBody>
      </p:sp>
      <p:sp>
        <p:nvSpPr>
          <p:cNvPr id="748" name=""/>
          <p:cNvSpPr/>
          <p:nvPr/>
        </p:nvSpPr>
        <p:spPr>
          <a:xfrm>
            <a:off x="488880" y="4950000"/>
            <a:ext cx="2541600" cy="931680"/>
          </a:xfrm>
          <a:prstGeom prst="wedgeRoundRectCallout">
            <a:avLst>
              <a:gd name="adj1" fmla="val 68736"/>
              <a:gd name="adj2" fmla="val -157152"/>
              <a:gd name="adj3" fmla="val 1666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f33"/>
                </a:solidFill>
                <a:latin typeface="Arial"/>
              </a:rPr>
              <a:t>The answer may be </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f33"/>
                </a:solidFill>
                <a:latin typeface="Arial"/>
              </a:rPr>
              <a:t>somewhere in this </a:t>
            </a:r>
            <a:endParaRPr b="0" lang="en-US" sz="18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f33"/>
                </a:solidFill>
                <a:latin typeface="Arial"/>
              </a:rPr>
              <a:t>list of URLs</a:t>
            </a:r>
            <a:endParaRPr b="0" lang="en-US" sz="1800" spc="-1" strike="noStrike">
              <a:solidFill>
                <a:srgbClr val="000000"/>
              </a:solidFill>
              <a:latin typeface="Times New Roman"/>
            </a:endParaRPr>
          </a:p>
        </p:txBody>
      </p:sp>
      <p:sp>
        <p:nvSpPr>
          <p:cNvPr id="749" name=""/>
          <p:cNvSpPr/>
          <p:nvPr/>
        </p:nvSpPr>
        <p:spPr>
          <a:xfrm>
            <a:off x="141120" y="1495440"/>
            <a:ext cx="2389320" cy="677880"/>
          </a:xfrm>
          <a:prstGeom prst="wedgeRoundRectCallout">
            <a:avLst>
              <a:gd name="adj1" fmla="val 74717"/>
              <a:gd name="adj2" fmla="val 124004"/>
              <a:gd name="adj3" fmla="val 16667"/>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5607000" y="952560"/>
            <a:ext cx="1835280" cy="685800"/>
          </a:xfrm>
          <a:prstGeom prst="wedgeRoundRectCallout">
            <a:avLst>
              <a:gd name="adj1" fmla="val -184254"/>
              <a:gd name="adj2" fmla="val 163194"/>
              <a:gd name="adj3" fmla="val 16667"/>
            </a:avLst>
          </a:prstGeom>
          <a:gradFill rotWithShape="0">
            <a:gsLst>
              <a:gs pos="0">
                <a:srgbClr val="94bdeb"/>
              </a:gs>
              <a:gs pos="100000">
                <a:srgbClr val="fef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5702400" y="1104840"/>
            <a:ext cx="163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f33"/>
                </a:solidFill>
                <a:latin typeface="Arial"/>
              </a:rPr>
              <a:t>WWW Hotbot</a:t>
            </a:r>
            <a:endParaRPr b="0" lang="en-US" sz="1800" spc="-1" strike="noStrike">
              <a:solidFill>
                <a:srgbClr val="000000"/>
              </a:solidFill>
              <a:latin typeface="Times New Roman"/>
            </a:endParaRPr>
          </a:p>
        </p:txBody>
      </p:sp>
      <p:sp>
        <p:nvSpPr>
          <p:cNvPr id="752" name=""/>
          <p:cNvSpPr/>
          <p:nvPr/>
        </p:nvSpPr>
        <p:spPr>
          <a:xfrm>
            <a:off x="127080" y="1643040"/>
            <a:ext cx="241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0f33"/>
                </a:solidFill>
                <a:latin typeface="Arial"/>
              </a:rPr>
              <a:t>What is Al Qae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1119240" y="1938240"/>
            <a:ext cx="6565680" cy="4318200"/>
          </a:xfrm>
          <a:prstGeom prst="roundRect">
            <a:avLst>
              <a:gd name="adj" fmla="val 16667"/>
            </a:avLst>
          </a:prstGeom>
          <a:solidFill>
            <a:srgbClr val="ffffff"/>
          </a:solidFill>
          <a:ln w="12600">
            <a:solidFill>
              <a:srgbClr val="000000"/>
            </a:solidFill>
            <a:miter/>
          </a:ln>
          <a:effectLst>
            <a:outerShdw dist="144956" dir="2270252"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09200" y="136836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0f33"/>
                </a:solidFill>
                <a:latin typeface="Arial"/>
              </a:rPr>
              <a:t>What is Al Qaeda?</a:t>
            </a:r>
            <a:endParaRPr b="0" lang="en-US" sz="2400" spc="-1" strike="noStrike">
              <a:solidFill>
                <a:srgbClr val="000000"/>
              </a:solidFill>
              <a:latin typeface="Times New Roman"/>
            </a:endParaRPr>
          </a:p>
        </p:txBody>
      </p:sp>
      <p:sp>
        <p:nvSpPr>
          <p:cNvPr id="755" name=""/>
          <p:cNvSpPr/>
          <p:nvPr/>
        </p:nvSpPr>
        <p:spPr>
          <a:xfrm>
            <a:off x="1556640" y="3535200"/>
            <a:ext cx="454212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hip</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s</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s</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ctics</a:t>
            </a:r>
            <a:endParaRPr b="0" lang="en-US" sz="2400" spc="-1" strike="noStrike">
              <a:solidFill>
                <a:srgbClr val="000000"/>
              </a:solidFill>
              <a:latin typeface="Times New Roman"/>
            </a:endParaRPr>
          </a:p>
          <a:p>
            <a:pPr marL="225360" indent="-225360">
              <a:lnSpc>
                <a:spcPct val="100000"/>
              </a:lnSpc>
              <a:buClr>
                <a:srgbClr val="2163ab"/>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terrorist organizations</a:t>
            </a:r>
            <a:endParaRPr b="0" lang="en-US" sz="2400" spc="-1" strike="noStrike">
              <a:solidFill>
                <a:srgbClr val="000000"/>
              </a:solidFill>
              <a:latin typeface="Times New Roman"/>
            </a:endParaRPr>
          </a:p>
        </p:txBody>
      </p:sp>
      <p:sp>
        <p:nvSpPr>
          <p:cNvPr id="756" name="PlaceHolder 1"/>
          <p:cNvSpPr>
            <a:spLocks noGrp="1"/>
          </p:cNvSpPr>
          <p:nvPr>
            <p:ph type="title"/>
          </p:nvPr>
        </p:nvSpPr>
        <p:spPr>
          <a:xfrm>
            <a:off x="1638000" y="330120"/>
            <a:ext cx="587052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Semantic Query</a:t>
            </a:r>
            <a:endParaRPr b="1" lang="en-US" sz="2800" spc="-1" strike="noStrike">
              <a:solidFill>
                <a:srgbClr val="2163ab"/>
              </a:solidFill>
              <a:latin typeface="Arial Black"/>
            </a:endParaRPr>
          </a:p>
        </p:txBody>
      </p:sp>
      <p:sp>
        <p:nvSpPr>
          <p:cNvPr id="757" name=""/>
          <p:cNvSpPr/>
          <p:nvPr/>
        </p:nvSpPr>
        <p:spPr>
          <a:xfrm>
            <a:off x="1192320" y="2373480"/>
            <a:ext cx="626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erroris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uld you like additional information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22200" y="330120"/>
            <a:ext cx="8259840" cy="447840"/>
          </a:xfrm>
          <a:prstGeom prst="rect">
            <a:avLst/>
          </a:prstGeom>
          <a:noFill/>
          <a:ln w="0">
            <a:noFill/>
          </a:ln>
        </p:spPr>
        <p:txBody>
          <a:bodyPr lIns="46080" rIns="46080" tIns="46080" bIns="4608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63ab"/>
                </a:solidFill>
                <a:latin typeface="Arial Black"/>
              </a:rPr>
              <a:t>What’s Hard?</a:t>
            </a:r>
            <a:endParaRPr b="1" lang="en-US" sz="2800" spc="-1" strike="noStrike">
              <a:solidFill>
                <a:srgbClr val="2163ab"/>
              </a:solidFill>
              <a:latin typeface="Arial Black"/>
            </a:endParaRPr>
          </a:p>
        </p:txBody>
      </p:sp>
      <p:sp>
        <p:nvSpPr>
          <p:cNvPr id="759" name="PlaceHolder 2"/>
          <p:cNvSpPr>
            <a:spLocks noGrp="1"/>
          </p:cNvSpPr>
          <p:nvPr>
            <p:ph/>
          </p:nvPr>
        </p:nvSpPr>
        <p:spPr>
          <a:xfrm>
            <a:off x="299520" y="1176480"/>
            <a:ext cx="8525160" cy="4308480"/>
          </a:xfrm>
          <a:prstGeom prst="rect">
            <a:avLst/>
          </a:prstGeom>
          <a:noFill/>
          <a:ln w="0">
            <a:noFill/>
          </a:ln>
        </p:spPr>
        <p:txBody>
          <a:bodyPr lIns="46080" rIns="46080" tIns="46080" bIns="46080" anchor="t">
            <a:normAutofit/>
          </a:bodyPr>
          <a:p>
            <a:pPr marL="235080" indent="0">
              <a:lnSpc>
                <a:spcPts val="2398"/>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cale Scope and Lack of Consistency in Global C</a:t>
            </a:r>
            <a:r>
              <a:rPr b="1" i="1" lang="en-US" sz="2400" spc="-1" strike="noStrike" baseline="30000">
                <a:solidFill>
                  <a:srgbClr val="000000"/>
                </a:solidFill>
                <a:latin typeface="Arial"/>
              </a:rPr>
              <a:t>2</a:t>
            </a:r>
            <a:r>
              <a:rPr b="1" i="1" lang="en-US" sz="2400" spc="-1" strike="noStrike">
                <a:solidFill>
                  <a:srgbClr val="000000"/>
                </a:solidFill>
                <a:latin typeface="Arial"/>
              </a:rPr>
              <a:t>I Networks</a:t>
            </a:r>
            <a:endParaRPr b="1" lang="en-US" sz="24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versity</a:t>
            </a:r>
            <a:r>
              <a:rPr b="1" lang="en-US" sz="2000" spc="-1" strike="noStrike">
                <a:solidFill>
                  <a:srgbClr val="000000"/>
                </a:solidFill>
                <a:latin typeface="Arial"/>
              </a:rPr>
              <a:t>: Ontologies and Ontology Mapping</a:t>
            </a:r>
            <a:endParaRPr b="1" lang="en-US" sz="20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kup Simplicity</a:t>
            </a:r>
            <a:r>
              <a:rPr b="1" lang="en-US" sz="2000" spc="-1" strike="noStrike">
                <a:solidFill>
                  <a:srgbClr val="000000"/>
                </a:solidFill>
                <a:latin typeface="Arial"/>
              </a:rPr>
              <a:t>: </a:t>
            </a:r>
            <a:endParaRPr b="1" lang="en-US" sz="20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Derived Markup</a:t>
            </a:r>
            <a:endParaRPr b="1" lang="en-US" sz="18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ed Logic</a:t>
            </a:r>
            <a:endParaRPr b="1" lang="en-US" sz="18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abling Software Agents to Locate and Use Appropriate Services</a:t>
            </a:r>
            <a:r>
              <a:rPr b="1" lang="en-US" sz="2000" spc="-1" strike="noStrike">
                <a:solidFill>
                  <a:srgbClr val="000000"/>
                </a:solidFill>
                <a:latin typeface="Arial"/>
              </a:rPr>
              <a:t>:</a:t>
            </a:r>
            <a:endParaRPr b="1" lang="en-US" sz="20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description language </a:t>
            </a:r>
            <a:endParaRPr b="1" lang="en-US" sz="1800" spc="-1" strike="noStrike">
              <a:solidFill>
                <a:srgbClr val="000000"/>
              </a:solidFill>
              <a:latin typeface="Arial"/>
            </a:endParaRPr>
          </a:p>
          <a:p>
            <a:pPr lvl="1" marL="571680" indent="-222480">
              <a:lnSpc>
                <a:spcPts val="1998"/>
              </a:lnSpc>
              <a:spcBef>
                <a:spcPts val="300"/>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Yellow Pages, Brokers, Mediaters</a:t>
            </a:r>
            <a:endParaRPr b="1" lang="en-US" sz="1800" spc="-1" strike="noStrike">
              <a:solidFill>
                <a:srgbClr val="000000"/>
              </a:solidFill>
              <a:latin typeface="Arial"/>
            </a:endParaRPr>
          </a:p>
          <a:p>
            <a:pPr marL="235080" indent="-235080">
              <a:lnSpc>
                <a:spcPts val="2398"/>
              </a:lnSpc>
              <a:spcBef>
                <a:spcPts val="799"/>
              </a:spcBef>
              <a:spcAft>
                <a:spcPts val="799"/>
              </a:spcAft>
              <a:buClr>
                <a:srgbClr val="2163ab"/>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rust</a:t>
            </a:r>
            <a:r>
              <a:rPr b="1" lang="en-US" sz="2000" spc="-1" strike="noStrike">
                <a:solidFill>
                  <a:srgbClr val="000000"/>
                </a:solidFill>
                <a:latin typeface="Arial"/>
              </a:rPr>
              <a:t>:  Logical Proof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3:53:08Z</dcterms:created>
  <dc:creator>jflynn@bbn.com</dc:creator>
  <dc:description/>
  <dc:language>en-US</dc:language>
  <cp:lastModifiedBy>bbn</cp:lastModifiedBy>
  <cp:lastPrinted>2001-11-07T16:26:02Z</cp:lastPrinted>
  <dcterms:modified xsi:type="dcterms:W3CDTF">2001-11-28T15:03:58Z</dcterms:modified>
  <cp:revision>209</cp:revision>
  <dc:subject/>
  <dc:title>Objective</dc:title>
</cp:coreProperties>
</file>