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80800" y="682200"/>
            <a:ext cx="4497480" cy="337356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81160" y="682560"/>
            <a:ext cx="4497480" cy="3373560"/>
          </a:xfrm>
          <a:prstGeom prst="rect">
            <a:avLst/>
          </a:prstGeom>
          <a:ln w="0">
            <a:noFill/>
          </a:ln>
        </p:spPr>
      </p:sp>
      <p:sp>
        <p:nvSpPr>
          <p:cNvPr id="53"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breakout introduction to give you a feel for what to expect tomorrow and to introduce the breakout facilitators, who will go over their session action items from last time now and will facilitate the sessions tomorr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30 seconds&gt;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81160" y="682560"/>
            <a:ext cx="4497480" cy="3373560"/>
          </a:xfrm>
          <a:prstGeom prst="rect">
            <a:avLst/>
          </a:prstGeom>
          <a:ln w="0">
            <a:noFill/>
          </a:ln>
        </p:spPr>
      </p:sp>
      <p:sp>
        <p:nvSpPr>
          <p:cNvPr id="55"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morning, we’ll start with the breakout sessions and hope to give folks the opportunity to share experiences, provide feedback, and think of new ideas for the application of thi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nesday afternoon will consist of the out briefs of those morning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d like to see is some defined actions, that we could keep moving along with – some new areas.  If you have specific ideas for research needed in areas that can be fed back to the DAML researchers, that might be useful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1 minute, 1:30 cum&gt;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81160" y="682560"/>
            <a:ext cx="4497480" cy="3373560"/>
          </a:xfrm>
          <a:prstGeom prst="rect">
            <a:avLst/>
          </a:prstGeom>
          <a:ln w="0">
            <a:noFill/>
          </a:ln>
        </p:spPr>
      </p:sp>
      <p:sp>
        <p:nvSpPr>
          <p:cNvPr id="57" name="PlaceHolder 2"/>
          <p:cNvSpPr>
            <a:spLocks noGrp="1"/>
          </p:cNvSpPr>
          <p:nvPr>
            <p:ph type="body"/>
          </p:nvPr>
        </p:nvSpPr>
        <p:spPr>
          <a:xfrm>
            <a:off x="914400" y="4289040"/>
            <a:ext cx="5029200" cy="4062600"/>
          </a:xfrm>
          <a:prstGeom prst="rect">
            <a:avLst/>
          </a:prstGeom>
          <a:solidFill>
            <a:srgbClr val="ffffff"/>
          </a:solidFill>
          <a:ln w="9360">
            <a:solidFill>
              <a:srgbClr val="000000"/>
            </a:solidFill>
            <a:miter/>
          </a:ln>
        </p:spPr>
        <p:txBody>
          <a:bodyPr lIns="88920" rIns="889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locations of the Breakouts, and their Facilit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e Rockmore of Cyladian, (please raise your hand) who is the chief architect for the Horus Project is facilitating the Intelligence Breakout, Alice Mulvehill, (please raise your hand) from the DAML integration project, is facilitating the Doctrine Lessons Learned breakout, and I’m facilitating the C2 Applications break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 will meet in either the Friedman Room or Room 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rine Lessons learned will meet in Room 100 – that’s just outside in the auditorium to my left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2 will meet in Room 113 – which is a large room just off the lobby.  As you exit the auditorium, you just take a sweeping U turn through the lobby and you’ll see the entrance to 1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way, you’ll go through room 113 to get to the Friedman Room, which is where the demo’s and refreshments are being given right after we adjourn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30 seconds, 2 Minutes Cum&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81160" y="682560"/>
            <a:ext cx="4497480" cy="3373560"/>
          </a:xfrm>
          <a:prstGeom prst="rect">
            <a:avLst/>
          </a:prstGeom>
          <a:ln w="0">
            <a:noFill/>
          </a:ln>
        </p:spPr>
      </p:sp>
      <p:sp>
        <p:nvSpPr>
          <p:cNvPr id="59"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last time, the format is not critical, but a guideline – it would be good to convey if you go far a stream from the Nominal topic areas, how you might have expanded the area, the key results are the significant issues, recommendations and plan of 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last time in the C2 Applications area, one of issues which arose was the Foreign Clearance Guidance.  Now, that may not seem like mainstream C2 to some folks, but it was a need and an application that the technology could help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ing presentations will be posted on www.daml.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1 minute, 3 minutes cum&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1447560"/>
            <a:ext cx="77724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2120" y="3875400"/>
            <a:ext cx="77724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212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4480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212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4480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2120" y="144756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0120" y="144756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17760" y="144756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2120" y="387540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0120" y="387540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17760" y="387540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212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212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4480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212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4480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212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4480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2120" y="3875400"/>
            <a:ext cx="77724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2362320" y="685800"/>
            <a:ext cx="640080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daml_2_3d%20copy" descr=""/>
          <p:cNvPicPr/>
          <p:nvPr/>
        </p:nvPicPr>
        <p:blipFill>
          <a:blip r:embed="rId2"/>
          <a:stretch/>
        </p:blipFill>
        <p:spPr>
          <a:xfrm>
            <a:off x="152280" y="152280"/>
            <a:ext cx="1371600" cy="731880"/>
          </a:xfrm>
          <a:prstGeom prst="rect">
            <a:avLst/>
          </a:prstGeom>
          <a:ln w="0">
            <a:noFill/>
          </a:ln>
        </p:spPr>
      </p:pic>
      <p:pic>
        <p:nvPicPr>
          <p:cNvPr id="4" name="darpa" descr=""/>
          <p:cNvPicPr/>
          <p:nvPr/>
        </p:nvPicPr>
        <p:blipFill>
          <a:blip r:embed="rId3"/>
          <a:stretch/>
        </p:blipFill>
        <p:spPr>
          <a:xfrm>
            <a:off x="7391520" y="228600"/>
            <a:ext cx="1419120" cy="64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ntic Web for the Military User</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kout Introduction</a:t>
            </a:r>
            <a:endParaRPr b="0" lang="en-US" sz="3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eakout Schedule and Purpose</a:t>
            </a:r>
            <a:endParaRPr b="0" lang="en-US" sz="3600" spc="-1" strike="noStrike">
              <a:solidFill>
                <a:srgbClr val="000000"/>
              </a:solidFill>
              <a:latin typeface="Times New Roman"/>
            </a:endParaRPr>
          </a:p>
        </p:txBody>
      </p:sp>
      <p:sp>
        <p:nvSpPr>
          <p:cNvPr id="47" name="PlaceHolder 2"/>
          <p:cNvSpPr>
            <a:spLocks noGrp="1"/>
          </p:cNvSpPr>
          <p:nvPr>
            <p:ph/>
          </p:nvPr>
        </p:nvSpPr>
        <p:spPr>
          <a:xfrm>
            <a:off x="533160" y="1371240"/>
            <a:ext cx="8305560" cy="3886200"/>
          </a:xfrm>
          <a:prstGeom prst="rect">
            <a:avLst/>
          </a:prstGeom>
          <a:noFill/>
          <a:ln w="0">
            <a:noFill/>
          </a:ln>
        </p:spPr>
        <p:txBody>
          <a:bodyPr lIns="90360" rIns="90360" tIns="44280" bIns="44280" anchor="t">
            <a:normAutofit fontScale="85000"/>
          </a:bodyPr>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 Wednesday </a:t>
            </a:r>
            <a:endParaRPr b="0" lang="en-US" sz="28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00-1100 Breakout Sessions</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r>
              <a:rPr b="0" lang="en-US" sz="2400" spc="-1" strike="noStrike">
                <a:solidFill>
                  <a:srgbClr val="000000"/>
                </a:solidFill>
                <a:latin typeface="Times New Roman"/>
                <a:ea typeface="Times New Roman"/>
              </a:rPr>
              <a:t>-Briefs/Discussion (suggested organizations)</a:t>
            </a:r>
            <a:endParaRPr b="0" lang="en-US" sz="2400" spc="-1" strike="noStrike">
              <a:solidFill>
                <a:srgbClr val="000000"/>
              </a:solidFill>
              <a:latin typeface="Times New Roman"/>
            </a:endParaRPr>
          </a:p>
          <a:p>
            <a:pPr lvl="2" marL="922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00-1320</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lligence Applications (ONI-IMO) </a:t>
            </a:r>
            <a:endParaRPr b="0" lang="en-US" sz="2000" spc="-1" strike="noStrike">
              <a:solidFill>
                <a:srgbClr val="000000"/>
              </a:solidFill>
              <a:latin typeface="Times New Roman"/>
            </a:endParaRPr>
          </a:p>
          <a:p>
            <a:pPr lvl="2" marL="922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20-1340</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ctrine Applications/Lessons Learned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LL/NWDC) </a:t>
            </a:r>
            <a:endParaRPr b="0" lang="en-US" sz="2000" spc="-1" strike="noStrike">
              <a:solidFill>
                <a:srgbClr val="000000"/>
              </a:solidFill>
              <a:latin typeface="Times New Roman"/>
            </a:endParaRPr>
          </a:p>
          <a:p>
            <a:pPr lvl="2" marL="922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40-1400</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C</a:t>
            </a:r>
            <a:r>
              <a:rPr b="0" lang="en-US" sz="2000" spc="-1" strike="noStrike" baseline="30000">
                <a:solidFill>
                  <a:srgbClr val="000000"/>
                </a:solidFill>
                <a:latin typeface="Times New Roman"/>
              </a:rPr>
              <a:t>2</a:t>
            </a:r>
            <a:r>
              <a:rPr b="0" lang="en-US" sz="2000" spc="-1" strike="noStrike">
                <a:solidFill>
                  <a:srgbClr val="000000"/>
                </a:solidFill>
                <a:latin typeface="Times New Roman"/>
                <a:ea typeface="Times New Roman"/>
              </a:rPr>
              <a:t> Applications (NWDC/SSC/AF-JBI) </a:t>
            </a:r>
            <a:endParaRPr b="0" lang="en-US" sz="20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Level Purpose: </a:t>
            </a:r>
            <a:endParaRPr b="0" lang="en-US" sz="28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potential applications of the emerging Semantic Web technologies to military applications in the specific area.</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gested themes are just that, suggestions</a:t>
            </a:r>
            <a:endParaRPr b="0" lang="en-US" sz="2400" spc="-1" strike="noStrike">
              <a:solidFill>
                <a:srgbClr val="000000"/>
              </a:solidFill>
              <a:latin typeface="Times New Roman"/>
            </a:endParaRPr>
          </a:p>
          <a:p>
            <a:pPr lvl="2" marL="922680" indent="-1940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s may expand purpose and themes for each specific area (Intel/LL- Doctrine/C</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eakout Location and Facilitators</a:t>
            </a:r>
            <a:endParaRPr b="0" lang="en-US" sz="4400" spc="-1" strike="noStrike">
              <a:solidFill>
                <a:srgbClr val="000000"/>
              </a:solidFill>
              <a:latin typeface="Times New Roman"/>
            </a:endParaRPr>
          </a:p>
        </p:txBody>
      </p:sp>
      <p:sp>
        <p:nvSpPr>
          <p:cNvPr id="49" name="PlaceHolder 2"/>
          <p:cNvSpPr>
            <a:spLocks noGrp="1"/>
          </p:cNvSpPr>
          <p:nvPr>
            <p:ph/>
          </p:nvPr>
        </p:nvSpPr>
        <p:spPr>
          <a:xfrm>
            <a:off x="762120" y="1447560"/>
            <a:ext cx="8076960" cy="38862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lligence Applications (Room – 11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or – Joe Rockmore, Cyladia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rine Applications/Lessons Learned (Room – 113)</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or – Alice Mulvehill, BB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and and Control Applications (Room - 100)</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or – Tom Martin, Research Management Enterprises</a:t>
            </a:r>
            <a:endParaRPr b="0" lang="en-US" sz="20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151920"/>
            <a:ext cx="6629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ing Group</a:t>
            </a:r>
            <a:br>
              <a:rPr sz="3600"/>
            </a:br>
            <a:r>
              <a:rPr b="0" lang="en-US" sz="3600" spc="-1" strike="noStrike">
                <a:solidFill>
                  <a:srgbClr val="000000"/>
                </a:solidFill>
                <a:latin typeface="Times New Roman"/>
              </a:rPr>
              <a:t> Out - Briefs</a:t>
            </a:r>
            <a:endParaRPr b="0" lang="en-US" sz="3600" spc="-1" strike="noStrike">
              <a:solidFill>
                <a:srgbClr val="000000"/>
              </a:solidFill>
              <a:latin typeface="Times New Roman"/>
            </a:endParaRPr>
          </a:p>
        </p:txBody>
      </p:sp>
      <p:sp>
        <p:nvSpPr>
          <p:cNvPr id="51" name="PlaceHolder 2"/>
          <p:cNvSpPr>
            <a:spLocks noGrp="1"/>
          </p:cNvSpPr>
          <p:nvPr>
            <p:ph/>
          </p:nvPr>
        </p:nvSpPr>
        <p:spPr>
          <a:xfrm>
            <a:off x="1600200" y="1905120"/>
            <a:ext cx="6019920" cy="3124080"/>
          </a:xfrm>
          <a:prstGeom prst="rect">
            <a:avLst/>
          </a:prstGeom>
          <a:noFill/>
          <a:ln w="0">
            <a:noFill/>
          </a:ln>
        </p:spPr>
        <p:txBody>
          <a:bodyPr lIns="90360" rIns="90360" tIns="44280" bIns="44280" anchor="t">
            <a:normAutofit fontScale="85000"/>
          </a:bodyPr>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Minutes Each</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 Outline</a:t>
            </a:r>
            <a:endParaRPr b="0" lang="en-US" sz="28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Group Name/Functional Area</a:t>
            </a:r>
            <a:endParaRPr b="0" lang="en-US" sz="2400" spc="-1" strike="noStrike">
              <a:solidFill>
                <a:srgbClr val="000000"/>
              </a:solidFill>
              <a:latin typeface="Times New Roman"/>
            </a:endParaRPr>
          </a:p>
          <a:p>
            <a:pPr lvl="2" marL="922680" indent="-1940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t expands or strays from original name, that’s ok, let it grow as appropriate</a:t>
            </a:r>
            <a:endParaRPr b="0" lang="en-US" sz="20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as expanded for each area)</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Issues</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ations/Plan of Action</a:t>
            </a:r>
            <a:endParaRPr b="0" lang="en-US" sz="24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 will be posted on daml.org</a:t>
            </a:r>
            <a:endParaRPr b="0" lang="en-US" sz="28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4T17:27:52Z</dcterms:created>
  <dc:creator>John Flynn</dc:creator>
  <dc:description/>
  <dc:language>en-US</dc:language>
  <cp:lastModifiedBy>bbn</cp:lastModifiedBy>
  <cp:lastPrinted>2000-09-29T16:21:19Z</cp:lastPrinted>
  <dcterms:modified xsi:type="dcterms:W3CDTF">2001-12-04T01:08:24Z</dcterms:modified>
  <cp:revision>79</cp:revision>
  <dc:subject>Master for General Gray's brief</dc:subject>
  <dc:title>PowerPoint Presentation</dc:title>
</cp:coreProperties>
</file>