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5609-A011-48F2-AAA2-F2028E226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3EFD-63E6-4348-BC06-66297684E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3F7D-8E88-46D9-BB16-EED5550DC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356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404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308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356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404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365E-307D-4670-9B01-15E177E7C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7480" y="1143000"/>
            <a:ext cx="8839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D833-C1EE-47B1-B718-2679CD4EF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356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2404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308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356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2404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B8D4-1245-43D9-914D-8D61559A0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0086-2D54-4FFB-896F-8E4A6D1A0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7BA1-9560-4553-A08B-E2004AD50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7480" y="1143000"/>
            <a:ext cx="8839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3B24-29C2-47E5-AFC2-89E087EF5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4F5D-5B3A-4E0E-96F4-6EF986B2D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F086-6931-4AD5-89CD-B4F96372E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CE94-0836-4444-BC01-5C3721E1F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0"/>
            <a:ext cx="7996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" name="bg-logo" descr=""/>
          <p:cNvPicPr/>
          <p:nvPr/>
        </p:nvPicPr>
        <p:blipFill>
          <a:blip r:embed="rId2"/>
          <a:srcRect l="0" t="0" r="0" b="11036"/>
          <a:stretch/>
        </p:blipFill>
        <p:spPr>
          <a:xfrm>
            <a:off x="1143000" y="46080"/>
            <a:ext cx="4549680" cy="639720"/>
          </a:xfrm>
          <a:prstGeom prst="rect">
            <a:avLst/>
          </a:prstGeom>
          <a:ln w="0">
            <a:noFill/>
          </a:ln>
        </p:spPr>
      </p:pic>
      <p:pic>
        <p:nvPicPr>
          <p:cNvPr id="2" name="bg-cornerGRID" descr=""/>
          <p:cNvPicPr/>
          <p:nvPr/>
        </p:nvPicPr>
        <p:blipFill>
          <a:blip r:embed="rId3"/>
          <a:stretch/>
        </p:blipFill>
        <p:spPr>
          <a:xfrm>
            <a:off x="0" y="47520"/>
            <a:ext cx="1143000" cy="7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2105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9840" y="6398640"/>
            <a:ext cx="7542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eb"/>
                </a:solidFill>
                <a:latin typeface="Arial"/>
              </a:rPr>
              <a:t>Page</a:t>
            </a:r>
            <a:r>
              <a:rPr b="1" lang="en-US" sz="1000" spc="-1" strike="noStrike">
                <a:solidFill>
                  <a:srgbClr val="96fafc"/>
                </a:solidFill>
                <a:latin typeface="Arial"/>
              </a:rPr>
              <a:t> </a:t>
            </a:r>
            <a:fld id="{702D99B6-7482-4CF4-BE1E-547A8C82C95A}" type="slidenum">
              <a:rPr b="1" lang="en-US" sz="1000" spc="-1" strike="noStrike">
                <a:solidFill>
                  <a:srgbClr val="96faf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6583320"/>
            <a:ext cx="8153280" cy="2746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8" name="long-fin" descr=""/>
          <p:cNvPicPr/>
          <p:nvPr/>
        </p:nvPicPr>
        <p:blipFill>
          <a:blip r:embed="rId8"/>
          <a:stretch/>
        </p:blipFill>
        <p:spPr>
          <a:xfrm>
            <a:off x="965160" y="6576840"/>
            <a:ext cx="7678800" cy="2304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66320" y="6555960"/>
            <a:ext cx="5473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lm_logo" descr=""/>
          <p:cNvPicPr/>
          <p:nvPr/>
        </p:nvPicPr>
        <p:blipFill>
          <a:blip r:embed="rId9"/>
          <a:stretch/>
        </p:blipFill>
        <p:spPr>
          <a:xfrm>
            <a:off x="6381720" y="152280"/>
            <a:ext cx="16956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932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583320"/>
            <a:ext cx="8153280" cy="2746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48" name="long-fin" descr=""/>
          <p:cNvPicPr/>
          <p:nvPr/>
        </p:nvPicPr>
        <p:blipFill>
          <a:blip r:embed="rId2"/>
          <a:stretch/>
        </p:blipFill>
        <p:spPr>
          <a:xfrm>
            <a:off x="965160" y="6576840"/>
            <a:ext cx="7678800" cy="23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38680" y="0"/>
            <a:ext cx="350064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981080"/>
            <a:ext cx="8001000" cy="144792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1066320" y="6525360"/>
            <a:ext cx="54738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53" name="a-back3_copy(1)" descr=""/>
          <p:cNvPicPr/>
          <p:nvPr/>
        </p:nvPicPr>
        <p:blipFill>
          <a:blip r:embed="rId3"/>
          <a:srcRect l="0" t="0" r="91893" b="0"/>
          <a:stretch/>
        </p:blipFill>
        <p:spPr>
          <a:xfrm>
            <a:off x="0" y="758880"/>
            <a:ext cx="990720" cy="6099120"/>
          </a:xfrm>
          <a:prstGeom prst="rect">
            <a:avLst/>
          </a:prstGeom>
          <a:ln w="0">
            <a:noFill/>
          </a:ln>
        </p:spPr>
      </p:pic>
      <p:pic>
        <p:nvPicPr>
          <p:cNvPr id="54" name="bg-cornerGRID" descr=""/>
          <p:cNvPicPr/>
          <p:nvPr/>
        </p:nvPicPr>
        <p:blipFill>
          <a:blip r:embed="rId4"/>
          <a:stretch/>
        </p:blipFill>
        <p:spPr>
          <a:xfrm>
            <a:off x="0" y="4752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bg-logo" descr=""/>
          <p:cNvPicPr/>
          <p:nvPr/>
        </p:nvPicPr>
        <p:blipFill>
          <a:blip r:embed="rId5"/>
          <a:srcRect l="0" t="0" r="0" b="11036"/>
          <a:stretch/>
        </p:blipFill>
        <p:spPr>
          <a:xfrm>
            <a:off x="1143000" y="46080"/>
            <a:ext cx="4549680" cy="63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2105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57" name="lm_logo" descr=""/>
          <p:cNvPicPr/>
          <p:nvPr/>
        </p:nvPicPr>
        <p:blipFill>
          <a:blip r:embed="rId6"/>
          <a:stretch/>
        </p:blipFill>
        <p:spPr>
          <a:xfrm>
            <a:off x="6381720" y="152280"/>
            <a:ext cx="1695600" cy="38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6320" y="74772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7480" y="649440"/>
            <a:ext cx="342900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0b8c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932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0040" y="213336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eroDAML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pplying Information Extractio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to Generate DAML Annotations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29000" y="4279680"/>
            <a:ext cx="5486400" cy="24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Dr. Paul Kogut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Lockheed Martin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Management &amp; Data Systems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pic>
        <p:nvPicPr>
          <p:cNvPr id="99" name="HotDAML_Large" descr=""/>
          <p:cNvPicPr/>
          <p:nvPr/>
        </p:nvPicPr>
        <p:blipFill>
          <a:blip r:embed="rId1"/>
          <a:stretch/>
        </p:blipFill>
        <p:spPr>
          <a:xfrm>
            <a:off x="4324320" y="3632040"/>
            <a:ext cx="1216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7840" y="100332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eroDAML Plans 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1968480"/>
            <a:ext cx="820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grate with annotation editor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rove Web-based AeroDAML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b"/>
                </a:solidFill>
                <a:latin typeface="Arial"/>
              </a:rPr>
              <a:t>Allow user to select other ontologies besides the current AeroDAML default ontology for annotation generation: 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nCyc or Cyc Upper Ontology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IA World Fact Book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EEE Standard Upper Ontology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ublin Core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SPSC...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y AeroDAML!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b"/>
                </a:solidFill>
                <a:latin typeface="Arial"/>
              </a:rPr>
              <a:t>http://ubot.lockheedmartin.com/ubot/hotdaml/aerodaml.html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E63E-5DD4-4CB0-AA8C-F54A00066A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784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What is Information Extraction?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880" y="1703520"/>
            <a:ext cx="8229600" cy="4814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6360" y="1736640"/>
            <a:ext cx="8142120" cy="47275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23080" y="4754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1000" y="34210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xt or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4760" y="3406680"/>
            <a:ext cx="1774800" cy="8254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Extraction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7000" y="3860640"/>
            <a:ext cx="1414800" cy="0"/>
          </a:xfrm>
          <a:prstGeom prst="line">
            <a:avLst/>
          </a:prstGeom>
          <a:ln w="3816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6440" y="491976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nguistic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11200" y="43988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-reference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26320" y="368928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tities 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31000" y="40417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lationship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4560" y="3824280"/>
            <a:ext cx="1195200" cy="0"/>
          </a:xfrm>
          <a:prstGeom prst="line">
            <a:avLst/>
          </a:prstGeom>
          <a:ln w="38160">
            <a:solidFill>
              <a:srgbClr val="ffffe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368960" y="4282920"/>
            <a:ext cx="0" cy="741600"/>
          </a:xfrm>
          <a:prstGeom prst="line">
            <a:avLst/>
          </a:prstGeom>
          <a:ln w="3816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E6D5-2CB6-4DB4-AE82-9E0EF803C2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43080" y="1460160"/>
            <a:ext cx="869616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umer-side extraction - 3rd party text -&gt; database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Advantages: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licable to raw documents (most of the web)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Disadvantages: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st deal with full complexity of natural language 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mantic annotation proposed to overcome difficulty of consumer-side extraction - but annotation is labor intensive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ducer-side extraction - authored text -&gt; annotation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Advantages: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al-automation - reduces manual effort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uman assisted disambiguation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main customization for intranets and B2B e-commerce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Disadvantages: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s manual effort to correct and add rich set of relationships 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main customization requires up-front effort from the author/webmaster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oth types of extraction will coexist.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77480" y="93960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Extraction and Semantic Annotation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E1AC-F0F1-45CE-BBE1-C0A3705866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eroDAML Architectur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2880" y="1703520"/>
            <a:ext cx="8229600" cy="4814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6360" y="1749600"/>
            <a:ext cx="8142120" cy="47275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640" y="3352680"/>
            <a:ext cx="1195560" cy="1547280"/>
            <a:chOff x="611640" y="3352680"/>
            <a:chExt cx="1195560" cy="15472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776160" y="3352680"/>
              <a:ext cx="86832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11640" y="4257360"/>
              <a:ext cx="11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DAML 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Annotator</a:t>
              </a:r>
              <a:endParaRPr b="0" lang="en-US" sz="18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496960" y="1851120"/>
            <a:ext cx="5019840" cy="4564080"/>
            <a:chOff x="2496960" y="1851120"/>
            <a:chExt cx="5019840" cy="4564080"/>
          </a:xfrm>
        </p:grpSpPr>
        <p:sp>
          <p:nvSpPr>
            <p:cNvPr id="122" name=""/>
            <p:cNvSpPr/>
            <p:nvPr/>
          </p:nvSpPr>
          <p:spPr>
            <a:xfrm>
              <a:off x="6014880" y="3462480"/>
              <a:ext cx="1501920" cy="0"/>
            </a:xfrm>
            <a:prstGeom prst="line">
              <a:avLst/>
            </a:prstGeom>
            <a:ln w="57240">
              <a:solidFill>
                <a:srgbClr val="ffff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496960" y="1851120"/>
              <a:ext cx="5018400" cy="4564080"/>
              <a:chOff x="2496960" y="1851120"/>
              <a:chExt cx="5018400" cy="4564080"/>
            </a:xfrm>
          </p:grpSpPr>
          <p:sp>
            <p:nvSpPr>
              <p:cNvPr id="124" name=""/>
              <p:cNvSpPr/>
              <p:nvPr/>
            </p:nvSpPr>
            <p:spPr>
              <a:xfrm>
                <a:off x="7491240" y="1851120"/>
                <a:ext cx="9720" cy="1635120"/>
              </a:xfrm>
              <a:prstGeom prst="line">
                <a:avLst/>
              </a:prstGeom>
              <a:ln w="57240">
                <a:solidFill>
                  <a:srgbClr val="ffff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96960" y="1851120"/>
                <a:ext cx="0" cy="4564080"/>
              </a:xfrm>
              <a:prstGeom prst="line">
                <a:avLst/>
              </a:prstGeom>
              <a:ln w="57240">
                <a:solidFill>
                  <a:srgbClr val="ffff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96960" y="1874880"/>
                <a:ext cx="5018400" cy="0"/>
              </a:xfrm>
              <a:prstGeom prst="line">
                <a:avLst/>
              </a:prstGeom>
              <a:ln w="57240">
                <a:solidFill>
                  <a:srgbClr val="ffff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96960" y="6378480"/>
                <a:ext cx="3579840" cy="0"/>
              </a:xfrm>
              <a:prstGeom prst="line">
                <a:avLst/>
              </a:prstGeom>
              <a:ln w="57240">
                <a:solidFill>
                  <a:srgbClr val="ffff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40440" y="3460680"/>
                <a:ext cx="0" cy="2916360"/>
              </a:xfrm>
              <a:prstGeom prst="line">
                <a:avLst/>
              </a:prstGeom>
              <a:ln w="57240">
                <a:solidFill>
                  <a:srgbClr val="ffff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830240" y="2712960"/>
            <a:ext cx="1233720" cy="776520"/>
          </a:xfrm>
          <a:custGeom>
            <a:avLst/>
            <a:gdLst/>
            <a:ahLst/>
            <a:rect l="l" t="t" r="r" b="b"/>
            <a:pathLst>
              <a:path w="777" h="489">
                <a:moveTo>
                  <a:pt x="0" y="489"/>
                </a:moveTo>
                <a:lnTo>
                  <a:pt x="777" y="0"/>
                </a:lnTo>
              </a:path>
            </a:pathLst>
          </a:custGeom>
          <a:noFill/>
          <a:ln w="38160">
            <a:solidFill>
              <a:srgbClr val="ffffe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9720" y="4119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DAML annotated text or web pages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0880" y="5946840"/>
            <a:ext cx="1309680" cy="4680"/>
          </a:xfrm>
          <a:custGeom>
            <a:avLst/>
            <a:gdLst/>
            <a:ahLst/>
            <a:rect l="l" t="t" r="r" b="b"/>
            <a:pathLst>
              <a:path w="825" h="3">
                <a:moveTo>
                  <a:pt x="0" y="0"/>
                </a:moveTo>
                <a:lnTo>
                  <a:pt x="825" y="3"/>
                </a:lnTo>
              </a:path>
            </a:pathLst>
          </a:custGeom>
          <a:noFill/>
          <a:ln w="38160">
            <a:solidFill>
              <a:srgbClr val="ffffe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87720" y="2428920"/>
            <a:ext cx="2577960" cy="459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Annotation Editor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3400" y="5705640"/>
            <a:ext cx="2239560" cy="459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Text Extraction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7560" y="2730600"/>
            <a:ext cx="0" cy="1401840"/>
          </a:xfrm>
          <a:prstGeom prst="line">
            <a:avLst/>
          </a:prstGeom>
          <a:ln w="3816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6000" y="5638680"/>
            <a:ext cx="11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ext or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 pages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743200"/>
            <a:ext cx="1574640" cy="0"/>
          </a:xfrm>
          <a:prstGeom prst="line">
            <a:avLst/>
          </a:prstGeom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4200" y="4040280"/>
            <a:ext cx="1531080" cy="106956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b"/>
                </a:solidFill>
                <a:latin typeface="Times New Roman"/>
              </a:rPr>
              <a:t>Extraction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b"/>
                </a:solidFill>
                <a:latin typeface="Times New Roman"/>
              </a:rPr>
              <a:t>to DAML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b"/>
                </a:solidFill>
                <a:latin typeface="Times New Roman"/>
              </a:rPr>
              <a:t>Translation</a:t>
            </a:r>
            <a:r>
              <a:rPr b="1" lang="en-US" sz="2400" spc="-1" strike="noStrike">
                <a:solidFill>
                  <a:srgbClr val="ffff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9200" y="5119560"/>
            <a:ext cx="0" cy="586080"/>
          </a:xfrm>
          <a:prstGeom prst="line">
            <a:avLst/>
          </a:prstGeom>
          <a:ln w="38160">
            <a:solidFill>
              <a:srgbClr val="ffffe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76760" y="4508640"/>
            <a:ext cx="2075040" cy="0"/>
          </a:xfrm>
          <a:prstGeom prst="line">
            <a:avLst/>
          </a:prstGeom>
          <a:ln w="38160">
            <a:solidFill>
              <a:srgbClr val="ffff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7280" y="555156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DAML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ntologies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75320" y="4822920"/>
            <a:ext cx="2012760" cy="6120"/>
          </a:xfrm>
          <a:prstGeom prst="line">
            <a:avLst/>
          </a:prstGeom>
          <a:ln w="38160">
            <a:solidFill>
              <a:srgbClr val="ffffe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800" y="4651200"/>
            <a:ext cx="1298520" cy="1063800"/>
          </a:xfrm>
          <a:custGeom>
            <a:avLst/>
            <a:gdLst/>
            <a:ahLst/>
            <a:rect l="l" t="t" r="r" b="b"/>
            <a:pathLst>
              <a:path w="818" h="670">
                <a:moveTo>
                  <a:pt x="0" y="0"/>
                </a:moveTo>
                <a:lnTo>
                  <a:pt x="818" y="670"/>
                </a:lnTo>
              </a:path>
            </a:pathLst>
          </a:custGeom>
          <a:noFill/>
          <a:ln w="38160">
            <a:solidFill>
              <a:srgbClr val="ffffe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62880" y="4830840"/>
            <a:ext cx="10800" cy="704880"/>
          </a:xfrm>
          <a:prstGeom prst="line">
            <a:avLst/>
          </a:prstGeom>
          <a:ln w="381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2200" y="383688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asic 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nnotation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5960" y="3228840"/>
            <a:ext cx="116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asic 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nnotation 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8040" y="281952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fined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nnotation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57080" y="18921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Times New Roman"/>
              </a:rPr>
              <a:t>UBOT</a:t>
            </a:r>
            <a:endParaRPr b="0" lang="en-US" sz="2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2895480"/>
            <a:ext cx="0" cy="1195560"/>
          </a:xfrm>
          <a:prstGeom prst="line">
            <a:avLst/>
          </a:prstGeom>
          <a:ln w="38160">
            <a:solidFill>
              <a:srgbClr val="ffffe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9A17-AF01-46D4-A28A-53681F9FCB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7480" y="100332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ent-Server AeroDAML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3080" y="1765440"/>
            <a:ext cx="380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Users: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personnel who routinely produce documents (e.g., intelligence analysts) 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personnel who have a large collection of legacy documents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26254" t="6251" r="21566" b="10001"/>
          <a:stretch/>
        </p:blipFill>
        <p:spPr>
          <a:xfrm>
            <a:off x="4313160" y="1582560"/>
            <a:ext cx="4076640" cy="490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F67A-C6D5-4DE0-B5B2-32EAC5FE4C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840" y="77472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Web-based AeroDAML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2813" b="3751"/>
          <a:stretch/>
        </p:blipFill>
        <p:spPr>
          <a:xfrm>
            <a:off x="1746360" y="2260440"/>
            <a:ext cx="5686200" cy="422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3080" y="1079640"/>
            <a:ext cx="8289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Users: </a:t>
            </a: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novice/infrequent DAML annotators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people who want to do quick/simple annotation of a web page  </a:t>
            </a:r>
            <a:endParaRPr b="0" lang="en-US" sz="20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6B38-9586-4AB3-9CC0-66EC2EAFA7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ABSOLUTEDATE rdf:about="December19,1997"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label&gt;&lt;![CDATA[December 19, 1997]]&gt;&lt;/daml:label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/aac:ABSOLUTEDATE&gt;  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AIRCRAFT rdf:about="Dash8Series400"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label&gt;&lt;![CDATA[Dash 8 Series 400]]&gt;&lt;/daml:label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/aac:AIRCRAFT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MEASURE rdf:about="61-foot"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label&gt;&lt;![CDATA[61-foot]]&gt;&lt;/daml:label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/aac:MEASURE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7840" y="100332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eroDAML Output: Entitie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A5D2-3ED3-4EDC-A4DA-18AC719FBB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NATION rdf:about="Austria"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label&gt;&lt;![CDATA[Austria]]&gt;&lt;/daml:label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/aac:NATION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ORGANIZATION rdf:about="TyroleanAirways"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OrgToLoc rdf:resource="Austria"/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label&gt;&lt;![CDATA[Tyrolean Airways]]&gt;&lt;/daml:label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/aac:ORGANIZATION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840" y="100332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eroDAML Output: Relationships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4D70-EE99-4F05-A99E-9010BAB06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7840" y="100332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eroDAML Output: Co-reference </a:t>
            </a:r>
            <a:endParaRPr b="0" lang="en-US" sz="3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PERSON rdf:about="PierreLortie"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PersToOrg rdf:resource="BombardierRegionalAircraft"/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equivalentTo rdf:resource="Lortie"/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label&gt;&lt;![CDATA[Pierre Lortie]]&gt;&lt;/daml:label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/aac:PERSON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aac:PERSON rdf:about="Lortie"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daml:label&gt;&lt;![CDATA[Lortie]]&gt;&lt;/daml:label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&lt;/aac:PERSON&gt;</a:t>
            </a:r>
            <a:endParaRPr b="0" lang="en-US" sz="18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12C5-5BE7-4DCC-91DA-559540EC4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1:02:36Z</dcterms:created>
  <dc:creator>William Holmes</dc:creator>
  <dc:description>Prepared for the Lockheed Martin 2001 Joint Symposium.
Internal: http://www.epic.lmco.com/js01/
External: http://www.owego.com/js01/</dc:description>
  <cp:keywords>DAML UBOT Semantic Web XML Agent DARPA</cp:keywords>
  <dc:language>en-US</dc:language>
  <cp:lastModifiedBy>bbn</cp:lastModifiedBy>
  <cp:lastPrinted>2001-07-16T19:11:08Z</cp:lastPrinted>
  <dcterms:modified xsi:type="dcterms:W3CDTF">2001-11-27T15:53:18Z</dcterms:modified>
  <cp:revision>195</cp:revision>
  <dc:subject>DAML</dc:subject>
  <dc:title>XML + Semantics = DARPA Agent Markup Language (DAML)</dc:title>
</cp:coreProperties>
</file>