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71C-4808-411B-8903-1EBA6015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F84-F09C-45FE-B200-3642356E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3CE-8877-467C-ACE6-A8831848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473-9D01-480D-ABB5-BD094676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52E-18B1-4EF4-A61C-316B75E2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1EF-B309-49BF-ABDC-8AE2786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AC9-254B-4CC7-A40A-3AB4C128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23D-687C-485A-99C8-9D54FF9B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49A-D4E5-42A5-9401-BF7C788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DC7-8F49-480B-BE1F-0E48491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8FB-0B93-43D2-B0A8-7AAF39DC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1A7-B68F-49FC-89E0-A5066EAA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080-2D80-4F0C-9716-11077004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Need for Describing Web-based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w McDermott, Dejing D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Bur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g 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st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vs.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6720" y="2133720"/>
            <a:ext cx="8562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 example: How to buy a book from Amazon.c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ries (tag s1 (send Ama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uple “in-stock?” isbn-number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ag s2 (receive Amazon (step-value s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est (= (step-value s2) book-in-st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ries (send credit-card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vs. Action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0574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example: Definit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:action (send ?agt – Agent ?msg - DAML-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value (?i - Send-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effect (reply-pending ?i ?msg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:action (receive ?agt – Agent ?i – Send-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precond (reply-pending ?i ?ms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value (?reply – DAML-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effect (when (= ?reply book-in-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know-val-is (in-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72000" y="1438200"/>
            <a:ext cx="7246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hants might prefer us to use scripts,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e can do is buy some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parties might supply finer-grained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s in terms of actions (fo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, seeing if a book is in print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Move Forwar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187020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tacles to planning in DAML-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81952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oo many notations around (DAML+OIL, RDF, N3, XML, RuleML, …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m is a likely candidate, mainly because all are shy about “expressivi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pecialized subfields (e.g., planning) where people find reasonable tradeoffs between expressivity and trac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ubfields have little apparent role in the Semantic W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nstructive Sugg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362320"/>
            <a:ext cx="7238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DAML+OIL be mainly a type-declaration sub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(a) a notation that has no obvious expressivity limitations; (b) an XML serialization of that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fficial “chunks” of the language that not everyone will be able to handle.  Tools can advertise which chunks they claim to be able to cope with.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Planning Hard in the DAML-S Univer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640" y="247968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arently 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not as if Amazon.com wants to present a challenging puzzle to its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new wrinkl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191120"/>
            <a:ext cx="6096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o plan to gather information (e.g., product id nu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to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lans will plausibly work, but will require run-time re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">
            <a:off x="6629400" y="3657600"/>
            <a:ext cx="19051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78800">
            <a:off x="6686280" y="3876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Come to Daml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Dem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8537600">
            <a:off x="167400" y="18136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ot stu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8267000">
            <a:off x="-141120" y="48657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halleng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s to Unp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2174760"/>
            <a:ext cx="624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formation is generated by some actions, capture as (step-value step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regression and projection, assume “normal” step values where appropriate.  (“Yes, we’ve got that.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steps to verify that normal value actually occurred; if not, replain from new sit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286000"/>
            <a:ext cx="731520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ag s1 (send Am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-st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d Done Gone”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ag s2 (receive Am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ep-value s1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erify (= (first(step-value s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-stock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ag s3 (send Am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uy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cond (step-value s2))))))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n Ag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2800" y="1870200"/>
            <a:ext cx="70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ur purposes, an agent is a program accompani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material that allows other programs to kn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t does and how to interact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080" y="3886200"/>
            <a:ext cx="60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other words, agents are run-time 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partner agent (“brokering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its service description (in DAML? + or – OIL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e ontologies if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interac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26320" y="1488960"/>
            <a:ext cx="69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told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y paperback edi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 Sapie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s than $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6520" y="2666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819520"/>
            <a:ext cx="67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o-for-some (b – Book a – Agent p – Pr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nd (title b “Robo Sapien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ls a b 1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&lt; p (dollars 25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uy b a 1 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9640" y="1828800"/>
            <a:ext cx="46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 Sapie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less than $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k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6920" y="1870200"/>
            <a:ext cx="74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“advertisements” by other agents that use terms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urrent goal description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y, book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400" y="3317760"/>
            <a:ext cx="743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Interoperation Across Multagent System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A. Giampapa, M. Paolucci, and K. Sy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ings of the Fourth International Con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utonomous Agents (Agents 2000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hat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200" y="1828800"/>
            <a:ext cx="70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must hav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r descri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f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what it does and how to interact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6720" y="2819520"/>
            <a:ext cx="72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and external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book-isbn book21 “0-262-13383-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rdf:Description about=“#book2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pub:book_isbn&gt;0-262-13383-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pub:book_isb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rdf:Descrip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y Mis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8720" y="2327400"/>
            <a:ext cx="693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two agents don’t speak the same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I.e, don’t share the same ont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ranslation problem was to be our main focus, 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ontologies aren’t interesting enough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hat…? (cont.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2098800"/>
            <a:ext cx="778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y Agent1’s goal by finding a series of actions that, according to Agent2’s behavior description, will achieve  that go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lem: Given a system description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-state description, find a way of achieving the go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vaila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Behavior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8200" y="225108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orts of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66240" y="3089160"/>
            <a:ext cx="64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actions, including precondition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s:” Hierarchical structures of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8120" y="4156200"/>
            <a:ext cx="70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tter allow for easier planning, the former f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 pla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4:24:13Z</dcterms:created>
  <dc:creator>Drew McDermott</dc:creator>
  <dc:description/>
  <dc:language>en-US</dc:language>
  <cp:lastModifiedBy>bbn</cp:lastModifiedBy>
  <dcterms:modified xsi:type="dcterms:W3CDTF">2001-08-06T14:03:34Z</dcterms:modified>
  <cp:revision>26</cp:revision>
  <dc:subject/>
  <dc:title>Semantic Interoperability Among Agents</dc:title>
</cp:coreProperties>
</file>