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5E4-06A3-4986-A45F-D9BBD571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672-4598-4005-906C-93473964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9B9-4CAE-41A5-89BA-47080DEC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900-B616-41DE-9AE2-7FCD533D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6D9-3883-4CB3-B487-695C2F7E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D96-CC99-426B-BEE3-81915693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633-CDA5-4A76-A4B4-9BCDF325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B9C-9564-4C0D-B708-6A31E816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34A-FDBF-4253-AA1F-65A5E955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B00-02DE-48BA-A6FF-A76262CE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167-9D2C-4D18-A055-58A38DC8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9A4-976F-4A07-BA18-133BB56E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6F89-2E15-421B-AD7D-082E9437F2D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3.org/1999/02/22-rdf-syntax-ns" TargetMode="External"/><Relationship Id="rId3" Type="http://schemas.openxmlformats.org/officeDocument/2006/relationships/hyperlink" Target="http://someplace.org/this_ontology" TargetMode="External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362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SLIDE INTENTIONALLY LEFT BLA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133720"/>
            <a:ext cx="78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7f3f"/>
                </a:solidFill>
                <a:latin typeface="Comic Sans MS"/>
              </a:rPr>
              <a:t>A brief essay inspired by conversations wit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7f3f"/>
                </a:solidFill>
                <a:latin typeface="Comic Sans MS"/>
              </a:rPr>
              <a:t>Lynn Ste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7f3f"/>
                </a:solidFill>
                <a:latin typeface="Comic Sans MS"/>
              </a:rPr>
              <a:t>Bill Anders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7f3f"/>
                </a:solidFill>
                <a:latin typeface="Comic Sans MS"/>
              </a:rPr>
              <a:t>Jim Hendl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7f3f"/>
                </a:solidFill>
                <a:latin typeface="Comic Sans MS"/>
              </a:rPr>
              <a:t>Adam Pe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7f3f"/>
                </a:solidFill>
                <a:latin typeface="Comic Sans MS"/>
              </a:rPr>
              <a:t>Jerry Hobb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7f3f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1f7f3f"/>
                </a:solidFill>
                <a:latin typeface="Comic Sans MS"/>
              </a:rPr>
              <a:t>and others too numerous to men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133720"/>
            <a:ext cx="78483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rdf:RD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mlns:rdf =</a:t>
            </a:r>
            <a:r>
              <a:rPr b="0" lang="en-US" sz="1800" spc="-1" strike="noStrike" u="sng">
                <a:solidFill>
                  <a:srgbClr val="ff0100"/>
                </a:solidFill>
                <a:uFillTx/>
                <a:latin typeface="Comic Sans MS"/>
                <a:hlinkClick r:id="rId2"/>
              </a:rPr>
              <a:t>http://www.w3.org/1999/02/22-rdf-syntax-ns#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mlns:a =</a:t>
            </a:r>
            <a:r>
              <a:rPr b="0" lang="en-US" sz="1800" spc="-1" strike="noStrike" u="sng">
                <a:solidFill>
                  <a:srgbClr val="ff0100"/>
                </a:solidFill>
                <a:uFillTx/>
                <a:latin typeface="Comic Sans MS"/>
                <a:hlinkClick r:id="rId3"/>
              </a:rPr>
              <a:t>http://someplace.org/this_ontology#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mlns:b=http://some_other_place.gov/that_ontology#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daml:Class rdf:ID=”Barble"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rdfs:subClassOf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daml:Restriction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daml:onProperty rdf:resource=”a#foodle"/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daml:toClass rdf:resource=”b#bazset"/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/daml:Restriction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/rdfs:subClassOf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/daml:Class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13372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If  I use a term from your ontology, how much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your ontology am I assuming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13372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If  I use a term from your ontology, how much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your ontology am I assuming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A1: Only the parts that I explicitly endorse or inclu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13372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If  I use a term from your ontology, how much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your ontology am I assuming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A1: Only the parts that I explicitly endorse or inclu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A2: Enough to establish the intended meaning of the te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3200400"/>
            <a:ext cx="7239240" cy="76320"/>
          </a:xfrm>
          <a:prstGeom prst="line">
            <a:avLst/>
          </a:prstGeom>
          <a:ln w="9360">
            <a:solidFill>
              <a:srgbClr val="1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3733920"/>
            <a:ext cx="1371600" cy="0"/>
          </a:xfrm>
          <a:prstGeom prst="line">
            <a:avLst/>
          </a:prstGeom>
          <a:ln w="9360">
            <a:solidFill>
              <a:srgbClr val="1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13372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If  I use a term from your ontology, how much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your ontology am I assuming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A1: Only the parts that I explicitly endorse or inclu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A2: Enough to establish the intended meaning of the te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A3: All of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200400"/>
            <a:ext cx="7239240" cy="76320"/>
          </a:xfrm>
          <a:prstGeom prst="line">
            <a:avLst/>
          </a:prstGeom>
          <a:ln w="9360">
            <a:solidFill>
              <a:srgbClr val="1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733920"/>
            <a:ext cx="1371600" cy="0"/>
          </a:xfrm>
          <a:prstGeom prst="line">
            <a:avLst/>
          </a:prstGeom>
          <a:ln w="9360">
            <a:solidFill>
              <a:srgbClr val="1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114800"/>
            <a:ext cx="7696440" cy="0"/>
          </a:xfrm>
          <a:prstGeom prst="line">
            <a:avLst/>
          </a:prstGeom>
          <a:ln w="9360">
            <a:solidFill>
              <a:srgbClr val="1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572000"/>
            <a:ext cx="1219320" cy="0"/>
          </a:xfrm>
          <a:prstGeom prst="line">
            <a:avLst/>
          </a:prstGeom>
          <a:ln w="9360">
            <a:solidFill>
              <a:srgbClr val="1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213372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If  I use a term from your ontology, how much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your ontology am I assuming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A1: Only the parts that I explicitly endorse or inclu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A2: Enough to establish the intended meaning of the te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A3: All of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7f3f"/>
                </a:solidFill>
                <a:latin typeface="Comic Sans MS"/>
              </a:rPr>
              <a:t>A4: None of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3200400"/>
            <a:ext cx="7239240" cy="76320"/>
          </a:xfrm>
          <a:prstGeom prst="line">
            <a:avLst/>
          </a:prstGeom>
          <a:ln w="9360">
            <a:solidFill>
              <a:srgbClr val="1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733920"/>
            <a:ext cx="1371600" cy="0"/>
          </a:xfrm>
          <a:prstGeom prst="line">
            <a:avLst/>
          </a:prstGeom>
          <a:ln w="9360">
            <a:solidFill>
              <a:srgbClr val="1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4114800"/>
            <a:ext cx="7696440" cy="0"/>
          </a:xfrm>
          <a:prstGeom prst="line">
            <a:avLst/>
          </a:prstGeom>
          <a:ln w="9360">
            <a:solidFill>
              <a:srgbClr val="1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572000"/>
            <a:ext cx="1219320" cy="0"/>
          </a:xfrm>
          <a:prstGeom prst="line">
            <a:avLst/>
          </a:prstGeom>
          <a:ln w="9360">
            <a:solidFill>
              <a:srgbClr val="1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90720" y="4876560"/>
            <a:ext cx="2209680" cy="75960"/>
          </a:xfrm>
          <a:prstGeom prst="line">
            <a:avLst/>
          </a:prstGeom>
          <a:ln w="9360">
            <a:solidFill>
              <a:srgbClr val="1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90512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7f3f"/>
                </a:solidFill>
                <a:latin typeface="Comic Sans MS"/>
              </a:rPr>
              <a:t>If  I use a term from your ontology, how much o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7f3f"/>
                </a:solidFill>
                <a:latin typeface="Comic Sans MS"/>
              </a:rPr>
              <a:t>your ontology am I assuming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7f3f"/>
                </a:solidFill>
                <a:latin typeface="Comic Sans MS"/>
              </a:rPr>
              <a:t>Wrong answer: The question doesn’t arise since we are all basically part of One World Wide Onto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600200" y="335268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114800" y="35812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K, at least we are using the same notation, which is a good start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K, at least we are using the same notation, which is a good start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UT if you are using a closed world assumption and I am not, we will misunderstand one anoth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676520"/>
            <a:ext cx="70866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ML+OIL has no natural role for variables, and no variable binder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may well be seen as an advantage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ubclass A B)  &lt;==&gt;  (forall (?x)(implies (A ?x)(B ?x)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is restriction of Q on R to S  &lt;==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forall (?x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ff (P ?x)(and (Q ?x)(exists (?y)(and (R ?x ?y) (S ?y))))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9907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ML+OIL Schema Parameter Interface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K, at least we are using the same notation, which is a good start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ou say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loyees are a subclass of pers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say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loyment is a property some people ha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ou say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gs are physical obj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say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gs include ideas, integers, intentions, states of mind, The Grinch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019920" cy="419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ou say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gs are physical obj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say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gs include ideas, integers, intentions, states of mind, The Grinch, fluents, tropes, eventualities, ways of being, possible worlds, whate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ou say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gs are physical obj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say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gs are physical obj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904760" cy="17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ou say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ngs are physical objec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say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ngs are physical objec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100"/>
                </a:solidFill>
                <a:latin typeface="Comic Sans MS"/>
              </a:rPr>
              <a:t>B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ou say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hysical objects retain their identity through time and change their propert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say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hysical objects have temporal parts which have timeless propert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ou say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ngs are physical objec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say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ngs are physical objec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100"/>
                </a:solidFill>
                <a:latin typeface="Comic Sans MS"/>
              </a:rPr>
              <a:t>B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ou say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hysical objects retain their identity through time and change their propert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say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hysical objects have temporal parts which have timeless propert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264440" y="2286000"/>
            <a:ext cx="1879560" cy="1790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5029200" y="2209680"/>
            <a:ext cx="2232000" cy="17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09480" y="533520"/>
            <a:ext cx="769644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bing events/actions/processes/occurrents/happenings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ngs change…so need to make assertions relative to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ickleDown: push temporal parameters as deep into the expression as they need to go (but no further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(a,b,c) +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R(a,b,c),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proposition true at tim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R,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(a,b,c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-indexed relation (eg posi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(a,b,c,[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-relative asser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([a,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,b,[c,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)    dynamic ent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5434560" y="2514600"/>
            <a:ext cx="36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ten most natural language for huma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734400" y="6095880"/>
            <a:ext cx="592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ten most effective for automatic reasoning about complex doma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5181480" y="56386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ten most effective for action plann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4876920" y="4495320"/>
            <a:ext cx="12189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514600" y="502884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248520" y="28954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6705720" y="419112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rresponds to linguistic analys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594324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403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ou say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les are physical things, and holes can only be who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say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les are spatio-temporal but not physical, and can have par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 says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les aren’t physical, but are necessarily located in physical things and cannot have par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d he says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les don’t exist as entities, but are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location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which are empty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ch ontology should be chosen/adopted/made into the standar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676520"/>
            <a:ext cx="70866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ever, many uses of, and likely future extensions to, DAML+OIL require the use of variables to allow pattern-matching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allowing external software to bind values to parameters (CoABS policy tool; DAML-S applications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syntax for atomic component of 'rules' and queri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controlling use of URL's across networks (as in HOR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907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ML+OIL Schema Parameter Interface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ch ontology should be chosen/adopted/made into the standar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ONG QUESTION 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these viewpoints have their uses, are internally coherent and are legitimate points of view. There is no single best answ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486400" y="685800"/>
            <a:ext cx="18669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28600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2057400"/>
            <a:ext cx="6019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2514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100"/>
                </a:solidFill>
                <a:latin typeface="Comic Sans MS"/>
              </a:rPr>
              <a:t>Long Ter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ys to broker meanings between different ontological perspectives (translation techniques, known safe routes, neutral ontological territory.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100"/>
                </a:solidFill>
                <a:latin typeface="Comic Sans MS"/>
              </a:rPr>
              <a:t>Medium Ter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ys to SAY what parts of one ontology are being included into another, and to analyze the consequenc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100"/>
                </a:solidFill>
                <a:latin typeface="Comic Sans MS"/>
              </a:rPr>
              <a:t>Short Ter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ree that there is a problem to be solved.      LUN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724280" y="685800"/>
            <a:ext cx="152424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llide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523880" y="1066680"/>
            <a:ext cx="3187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en Ontologie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943600" y="1523880"/>
            <a:ext cx="18288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need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1676520"/>
            <a:ext cx="70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nging DAML to include variables raises a host of semantic issues which we propose to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pletely avoi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This is a purely syntactic proposal.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o semantics is provided for the variables until they have been completely instantiat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In logical terms, these are schematic (not quantified) variables; in programming language terms, they are macros. To avoid confusion we call them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ML+OIL distinguishes two kinds of 'name': URIs and literals. The proposal is an extended notation in which URI's may be replaced by URI parameters and literals by literal paramete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9907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ML+OIL Schema Parameter Interface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6765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ri-parameter ::= ?word 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teral-parameter ::= ??word 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d ::=  [^&lt; &gt; ? / space ]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Or some other syntax would do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URI [literal] term is either a URI [literal] or a URI [literal] parameter. A substitution is a sequence of substitution pairs consisting of a URI [literal] parameter and a URI [literal] term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9907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ML+OIL Schema Parameter Interface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1371600"/>
            <a:ext cx="7010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daml:Class rdf:ID=“?actionType/” 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rdfs:label&gt;?actionType/&lt;/rdfs:label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rdfs:subClassOf rdf:resource="#Ordinary Action"/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rdfs:subClassOf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daml:Restriction daml:Cardinality="1”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daml:onProperty rdf:resource="#performedBy"/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daml:toClass rdf:resource="?performer/"/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daml:Restriction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rdfs:subClassOf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daml:Class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60948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ML+OIL Schema Parameter Interface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1371600"/>
            <a:ext cx="7010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daml:Class rdf:ID</a:t>
            </a:r>
            <a:r>
              <a:rPr b="0" lang="en-US" sz="1600" spc="-1" strike="noStrike">
                <a:solidFill>
                  <a:srgbClr val="ff0100"/>
                </a:solidFill>
                <a:latin typeface="Comic Sans MS"/>
              </a:rPr>
              <a:t>=“?actionType/”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rdfs:label</a:t>
            </a:r>
            <a:r>
              <a:rPr b="0" lang="en-US" sz="1600" spc="-1" strike="noStrike">
                <a:solidFill>
                  <a:srgbClr val="ff0100"/>
                </a:solidFill>
                <a:latin typeface="Comic Sans MS"/>
              </a:rPr>
              <a:t>&gt;?actionType/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rdfs:label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rdfs:subClassOf rdf:resource="#Ordinary Action"/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rdfs:subClassOf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daml:Restriction daml:Cardinality="1”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daml:onProperty rdf:resource="#performedBy"/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daml:toClass rdf:resource=”</a:t>
            </a:r>
            <a:r>
              <a:rPr b="0" lang="en-US" sz="1600" spc="-1" strike="noStrike">
                <a:solidFill>
                  <a:srgbClr val="ff0100"/>
                </a:solidFill>
                <a:latin typeface="Comic Sans MS"/>
              </a:rPr>
              <a:t>?performer/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daml:Restriction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rdfs:subClassOf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daml:Class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?actionType/  #DelegateA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?performer/  #Domain_Manag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?actionType/ #Multi_Actor_A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?performer/  #ActorGrou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60948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ML+OIL Schema Parameter Interface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71600"/>
            <a:ext cx="381024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rdfs:Class rdf:ID="elephant"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rdfs:subClassOf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rdfs:Class rdf:about="#animal"/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/rdfs:subClassOf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rdfs:subClassOf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ml:Restriction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ml:onProperty rdf:resource="#eats"/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ml:toClass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rdfs:Class rdf:about="#plant"/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/daml:toClass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/daml:Restriction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/rdfs:subClassOf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rdfs:subClassOf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ml:Restriction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ml:onProperty rdf:resource="#colour"/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ml:hasValu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ml:ConcreteTypeExpression&gt;EQUAL ``grey''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/daml:ConcreteTypeExpression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/daml:hasValu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/daml:Restriction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/rdfs:subClassOf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/rdfs:Clas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60948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more compact notation (with Frank v. Harmele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1600200"/>
            <a:ext cx="32004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ass elepha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ubClassOf #anima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[which #eats #plan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ich #color EQUAL `grey’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905120"/>
            <a:ext cx="0" cy="42670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9056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ff"/>
                </a:solidFill>
                <a:latin typeface="Geneva"/>
              </a:rPr>
              <a:t>I H M 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358128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rdfs:Class rdf:ID="herbivore"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ml:intersectionOf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rdfs:Class rdf:about="#animal"/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ml:Restriction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ml:onProperty rdf:resource="#eats"/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ml:toClass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rdfs:Class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ml:unionOf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rdfs:Class rdf:about="#plant"/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ml:Restriction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ml:onProperty rdf:resource="#is_part_of"/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ml:hasValu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rdfs:Class rdf:about="#plant"/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/daml:hasValu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/daml:Restriction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/daml:unionOf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/rdfs:Class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/daml:toClass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/daml:Restriction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/daml:intersectionOf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/rdfs:Class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5614560" y="1587600"/>
            <a:ext cx="319680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ass herbivo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sectionO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[#animal which #ea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ionO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[#plan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ich #is_part_of hasValue #plant] 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60948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more compact notation (with Frank v. Harmele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05:04:23Z</dcterms:created>
  <dc:creator>Pat Hayes</dc:creator>
  <dc:description/>
  <dc:language>en-US</dc:language>
  <cp:lastModifiedBy>bbn</cp:lastModifiedBy>
  <dcterms:modified xsi:type="dcterms:W3CDTF">2001-07-23T19:52:39Z</dcterms:modified>
  <cp:revision>8</cp:revision>
  <dc:subject/>
  <dc:title>PowerPoint Presentation</dc:title>
</cp:coreProperties>
</file>