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7.png" ContentType="image/png"/>
  <Override PartName="/ppt/media/image2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F354-4860-4012-B27F-99B4B7D20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3C5E-1C88-4645-B23C-57C149019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046D-CF91-4C22-B00B-E26FE167D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3DF3-D752-447D-B906-23047B6BF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920B-4C9F-4C04-9CF7-949926B78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DAC3-0FBA-4E92-A2F5-54862CC8E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D472-1944-4F21-B602-D20322868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A646-8C80-48D1-A412-B8F2D54A0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902C-1169-4804-8028-7C6AA99E0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0209-3DBB-49BB-86A6-75DB398D5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A42E-3046-4EA4-8ADF-B4FD8002D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71D3-C910-4D1F-B3CF-5DD2B5E82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 indent="-233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47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B1C-6FD0-48A7-8A72-04D78AD882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cm.org/class/" TargetMode="External"/><Relationship Id="rId2" Type="http://schemas.openxmlformats.org/officeDocument/2006/relationships/hyperlink" Target="http://dmoz.org/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daml.org/cgi-bin/hyperdaml?http://daml.umbc.edu/ontologies/classification.daml" TargetMode="External"/><Relationship Id="rId3" Type="http://schemas.openxmlformats.org/officeDocument/2006/relationships/hyperlink" Target="http://www.cs.cmu.edu/~mccallum/bow/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www.daml.org/cgi-bin/hyperdaml?http://daml.umbc.edu/ontologies/topic-ont.daml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cs.cmu.edu/~mccallum/bow/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umbc.edu/~finin/profile.daml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umbc.edu/~finin/profile.daml" TargetMode="External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2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mbc.ittalks.org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mbc.ittalks.org/jsp/Controller.jsp?action=ViewTalk&amp;as=DAML&amp;talkid=20010209120547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aml.umbc.edu/ontologies" TargetMode="External"/><Relationship Id="rId2" Type="http://schemas.openxmlformats.org/officeDocument/2006/relationships/hyperlink" Target="http://www.daml.org/cgi-bin/hyperdaml?http://daml.umbc.edu/ontologies/calendar-ont.daml" TargetMode="External"/><Relationship Id="rId3" Type="http://schemas.openxmlformats.org/officeDocument/2006/relationships/hyperlink" Target="http://www.daml.org/cgi-bin/hyperdaml?http://daml.umbc.edu/ontologies/classification.daml" TargetMode="External"/><Relationship Id="rId4" Type="http://schemas.openxmlformats.org/officeDocument/2006/relationships/hyperlink" Target="http://www.daml.org/cgi-bin/hyperdaml?http://daml.umbc.edu/ontologies/dist-trust.daml" TargetMode="External"/><Relationship Id="rId5" Type="http://schemas.openxmlformats.org/officeDocument/2006/relationships/hyperlink" Target="http://www.daml.org/cgi-bin/hyperdaml?http://daml.umbc.edu/ontologies/person-ont.daml" TargetMode="External"/><Relationship Id="rId6" Type="http://schemas.openxmlformats.org/officeDocument/2006/relationships/hyperlink" Target="http://www.daml.org/cgi-bin/hyperdaml?http://daml.umbc.edu/ontologies/place-ont.daml" TargetMode="External"/><Relationship Id="rId7" Type="http://schemas.openxmlformats.org/officeDocument/2006/relationships/hyperlink" Target="http://www.daml.org/cgi-bin/hyperdaml?http://daml.umbc.edu/ontologies/profile-ont.daml" TargetMode="External"/><Relationship Id="rId8" Type="http://schemas.openxmlformats.org/officeDocument/2006/relationships/hyperlink" Target="http://www.daml.org/cgi-bin/hyperdaml?http://daml.umbc.edu/ontologies/talk-ont.daml" TargetMode="External"/><Relationship Id="rId9" Type="http://schemas.openxmlformats.org/officeDocument/2006/relationships/hyperlink" Target="http://www.daml.org/cgi-bin/hyperdaml?http://daml.umbc.edu/ontologies/topic-ont.da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5410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talks</a:t>
            </a:r>
            <a:endParaRPr b="1" lang="en-US" sz="12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 Fi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versity of Maryland Baltimore Cou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work with JHU/APL and MIT/S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L PI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 18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549360" cy="892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96080" y="4648320"/>
            <a:ext cx="549360" cy="8920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6720" y="4267080"/>
            <a:ext cx="1293120" cy="2362320"/>
            <a:chOff x="306720" y="4267080"/>
            <a:chExt cx="1293120" cy="2362320"/>
          </a:xfrm>
        </p:grpSpPr>
        <p:grpSp>
          <p:nvGrpSpPr>
            <p:cNvPr id="44" name=""/>
            <p:cNvGrpSpPr/>
            <p:nvPr/>
          </p:nvGrpSpPr>
          <p:grpSpPr>
            <a:xfrm>
              <a:off x="685800" y="4648320"/>
              <a:ext cx="914040" cy="1981080"/>
              <a:chOff x="685800" y="4648320"/>
              <a:chExt cx="914040" cy="1981080"/>
            </a:xfrm>
          </p:grpSpPr>
          <p:sp>
            <p:nvSpPr>
              <p:cNvPr id="45" name=""/>
              <p:cNvSpPr/>
              <p:nvPr/>
            </p:nvSpPr>
            <p:spPr>
              <a:xfrm>
                <a:off x="685800" y="5105520"/>
                <a:ext cx="914040" cy="91440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1400" y="632448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218600" y="632448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85800" y="5562720"/>
                <a:ext cx="914040" cy="914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37720" y="46483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400" y="4648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5400" y="5715000"/>
                <a:ext cx="2282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314000" y="6162840"/>
                <a:ext cx="128160" cy="128520"/>
                <a:chOff x="1314000" y="6162840"/>
                <a:chExt cx="128160" cy="12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314000" y="6162840"/>
                  <a:ext cx="12816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1377000" y="6200640"/>
                  <a:ext cx="3600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867960" y="6162840"/>
                <a:ext cx="128160" cy="128520"/>
                <a:chOff x="867960" y="6162840"/>
                <a:chExt cx="128160" cy="12852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867960" y="6162840"/>
                  <a:ext cx="12816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flipV="1">
                  <a:off x="897120" y="6200640"/>
                  <a:ext cx="3600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1066320" y="5381640"/>
                <a:ext cx="104400" cy="1047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815400" y="6354720"/>
                <a:ext cx="669240" cy="73080"/>
                <a:chOff x="815400" y="6354720"/>
                <a:chExt cx="669240" cy="730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1540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8812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61200" y="6354720"/>
                  <a:ext cx="7236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4040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11348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18656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6576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33884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411920" y="635472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256760" y="5715000"/>
                <a:ext cx="228240" cy="380880"/>
                <a:chOff x="1256760" y="5715000"/>
                <a:chExt cx="228240" cy="3808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256760" y="5715000"/>
                  <a:ext cx="2282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313640" y="579132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313640" y="586728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13640" y="594360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313640" y="6019920"/>
                  <a:ext cx="12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933120" y="579600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57200" y="4267080"/>
              <a:ext cx="837720" cy="8384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9480" y="441972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1760" y="4572000"/>
              <a:ext cx="228240" cy="228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3040" y="426708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ask-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6560" y="464832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advert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720" y="464832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subscri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467480" y="4343400"/>
            <a:ext cx="1469880" cy="2362320"/>
            <a:chOff x="7467480" y="4343400"/>
            <a:chExt cx="1469880" cy="2362320"/>
          </a:xfrm>
        </p:grpSpPr>
        <p:grpSp>
          <p:nvGrpSpPr>
            <p:cNvPr id="83" name=""/>
            <p:cNvGrpSpPr/>
            <p:nvPr/>
          </p:nvGrpSpPr>
          <p:grpSpPr>
            <a:xfrm>
              <a:off x="7467480" y="4724640"/>
              <a:ext cx="914400" cy="1981080"/>
              <a:chOff x="7467480" y="4724640"/>
              <a:chExt cx="914400" cy="1981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7467480" y="5181840"/>
                <a:ext cx="914400" cy="91440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8000280" y="64008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543080" y="64008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7467480" y="5639040"/>
                <a:ext cx="914400" cy="914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229600" y="47246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75600" y="4724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022600" y="5791320"/>
                <a:ext cx="22860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7624440" y="6239160"/>
                <a:ext cx="128520" cy="128520"/>
                <a:chOff x="7624440" y="6239160"/>
                <a:chExt cx="128520" cy="12852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7624080" y="6239160"/>
                  <a:ext cx="12852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flipV="1">
                  <a:off x="7653240" y="6276960"/>
                  <a:ext cx="3636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070840" y="6239160"/>
                <a:ext cx="128520" cy="128520"/>
                <a:chOff x="8070840" y="6239160"/>
                <a:chExt cx="128520" cy="128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070840" y="6239160"/>
                  <a:ext cx="128520" cy="12852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134200" y="6276960"/>
                  <a:ext cx="36360" cy="28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H="1">
                <a:off x="7895520" y="5457960"/>
                <a:ext cx="104760" cy="104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581600" y="6431040"/>
                <a:ext cx="669960" cy="73080"/>
                <a:chOff x="7581600" y="6431040"/>
                <a:chExt cx="669960" cy="73080"/>
              </a:xfrm>
            </p:grpSpPr>
            <p:sp>
              <p:nvSpPr>
                <p:cNvPr id="99" name=""/>
                <p:cNvSpPr/>
                <p:nvPr/>
              </p:nvSpPr>
              <p:spPr>
                <a:xfrm flipH="1">
                  <a:off x="817812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810504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8032680" y="6431040"/>
                  <a:ext cx="7272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795276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787968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780660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772740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765432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7581240" y="6431040"/>
                  <a:ext cx="73080" cy="73080"/>
                </a:xfrm>
                <a:prstGeom prst="flowChartSummingJunction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581600" y="5791320"/>
                <a:ext cx="228600" cy="380880"/>
                <a:chOff x="7581600" y="5791320"/>
                <a:chExt cx="228600" cy="38088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7581240" y="5791320"/>
                  <a:ext cx="22860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7629120" y="58676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7629120" y="594360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7629120" y="601992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629120" y="60962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 flipH="1">
                <a:off x="8058960" y="587232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7772400" y="4343400"/>
              <a:ext cx="838080" cy="83844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449604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7320" y="4648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7880" y="434340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t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4720" y="44960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2640" y="47246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2743200" cy="20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7483-D58F-4B04-A72D-2B2B814C8E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TTALKS Architectur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tower"/>
          <p:cNvSpPr/>
          <p:nvPr/>
        </p:nvSpPr>
        <p:spPr>
          <a:xfrm>
            <a:off x="3046320" y="2057400"/>
            <a:ext cx="1098720" cy="2157480"/>
          </a:xfrm>
          <a:prstGeom prst="pie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1219320"/>
            <a:ext cx="2590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eb server +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Java servle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5191200"/>
            <a:ext cx="1541520" cy="9158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M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122640" y="4876920"/>
            <a:ext cx="1064160" cy="1162800"/>
            <a:chOff x="3122640" y="4876920"/>
            <a:chExt cx="1064160" cy="1162800"/>
          </a:xfrm>
        </p:grpSpPr>
        <p:sp>
          <p:nvSpPr>
            <p:cNvPr id="147" name=""/>
            <p:cNvSpPr/>
            <p:nvPr/>
          </p:nvSpPr>
          <p:spPr>
            <a:xfrm>
              <a:off x="3491640" y="4876920"/>
              <a:ext cx="695160" cy="846000"/>
            </a:xfrm>
            <a:prstGeom prst="rect">
              <a:avLst/>
            </a:prstGeom>
            <a:solidFill>
              <a:srgbClr val="cc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0600" rIns="120600" tIns="60480" bIns="60480" anchor="ctr">
              <a:no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/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5920" y="4983480"/>
              <a:ext cx="694440" cy="846000"/>
            </a:xfrm>
            <a:prstGeom prst="rect">
              <a:avLst/>
            </a:prstGeom>
            <a:solidFill>
              <a:srgbClr val="cc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0600" rIns="120600" tIns="60480" bIns="60480" anchor="ctr">
              <a:no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/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4600" y="5077800"/>
              <a:ext cx="695160" cy="847080"/>
            </a:xfrm>
            <a:prstGeom prst="rect">
              <a:avLst/>
            </a:prstGeom>
            <a:solidFill>
              <a:srgbClr val="cc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0600" rIns="120600" tIns="60480" bIns="60480" anchor="ctr">
              <a:no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/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2640" y="5192640"/>
              <a:ext cx="695160" cy="847080"/>
            </a:xfrm>
            <a:prstGeom prst="rect">
              <a:avLst/>
            </a:prstGeom>
            <a:solidFill>
              <a:srgbClr val="cc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0600" rIns="120600" tIns="60480" bIns="60480" anchor="ctr">
              <a:no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/dam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949480" y="6172200"/>
            <a:ext cx="1576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L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88200" y="2879640"/>
            <a:ext cx="761760" cy="105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56440" y="3071880"/>
            <a:ext cx="765000" cy="1055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999040" y="3346560"/>
            <a:ext cx="766800" cy="1052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29200" y="2906640"/>
            <a:ext cx="12412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200" y="5638680"/>
            <a:ext cx="173664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04920" y="3029040"/>
            <a:ext cx="81108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130400" y="1778040"/>
            <a:ext cx="969840" cy="954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808280"/>
            <a:ext cx="16398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9080" y="4632480"/>
            <a:ext cx="1211040" cy="7207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4730760"/>
            <a:ext cx="603000" cy="603360"/>
          </a:xfrm>
          <a:prstGeom prst="flowChartMagneticDisk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7320" y="5024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503440" y="4059360"/>
            <a:ext cx="652680" cy="698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440040" y="4447800"/>
            <a:ext cx="27000" cy="71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4520" y="4025880"/>
            <a:ext cx="2182680" cy="123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/>
          <p:nvPr/>
        </p:nvCxnSpPr>
        <p:spPr>
          <a:xfrm flipV="1">
            <a:off x="4087440" y="2295000"/>
            <a:ext cx="1562760" cy="472320"/>
          </a:xfrm>
          <a:prstGeom prst="curvedConnector5">
            <a:avLst>
              <a:gd name="adj1" fmla="val 50000"/>
              <a:gd name="adj2" fmla="val 49961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57" idx="3"/>
          </p:cNvCxnSpPr>
          <p:nvPr/>
        </p:nvCxnSpPr>
        <p:spPr>
          <a:xfrm flipV="1">
            <a:off x="1115640" y="3013920"/>
            <a:ext cx="1870920" cy="4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938160" y="278460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ail, HTML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MS, 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30720" y="3543480"/>
            <a:ext cx="178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IPA ACL, KQML, DA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5840" y="4130640"/>
            <a:ext cx="93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91400">
            <a:off x="4095000" y="4438440"/>
            <a:ext cx="23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TTP, KQML, DAML, Pro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>
            <a:off x="4230720" y="3573000"/>
            <a:ext cx="1815120" cy="113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tower"/>
          <p:cNvSpPr/>
          <p:nvPr/>
        </p:nvSpPr>
        <p:spPr>
          <a:xfrm>
            <a:off x="5570640" y="1906560"/>
            <a:ext cx="417240" cy="822240"/>
          </a:xfrm>
          <a:prstGeom prst="pie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ower"/>
          <p:cNvSpPr/>
          <p:nvPr/>
        </p:nvSpPr>
        <p:spPr>
          <a:xfrm>
            <a:off x="6018120" y="1857240"/>
            <a:ext cx="419040" cy="822600"/>
          </a:xfrm>
          <a:prstGeom prst="pie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ower"/>
          <p:cNvSpPr/>
          <p:nvPr/>
        </p:nvSpPr>
        <p:spPr>
          <a:xfrm>
            <a:off x="6467400" y="1808280"/>
            <a:ext cx="419040" cy="822240"/>
          </a:xfrm>
          <a:prstGeom prst="pie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ower"/>
          <p:cNvSpPr/>
          <p:nvPr/>
        </p:nvSpPr>
        <p:spPr>
          <a:xfrm>
            <a:off x="6645240" y="1895400"/>
            <a:ext cx="417600" cy="822240"/>
          </a:xfrm>
          <a:prstGeom prst="pie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2240" y="2049480"/>
            <a:ext cx="237636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Blast, CiteSeer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ogle,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02000" y="22575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124680" y="2501640"/>
            <a:ext cx="188640" cy="107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552480" y="3962160"/>
            <a:ext cx="230040" cy="114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344840" y="5613480"/>
            <a:ext cx="157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91080" y="2671920"/>
            <a:ext cx="17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TTP, WebScr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36480" y="2468520"/>
            <a:ext cx="355680" cy="512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640840" y="129528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43920" y="3033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8174160" y="2133720"/>
            <a:ext cx="969840" cy="95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772400" y="2906640"/>
            <a:ext cx="13716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8153280" y="4572000"/>
            <a:ext cx="811440" cy="800280"/>
          </a:xfrm>
          <a:prstGeom prst="rect">
            <a:avLst/>
          </a:prstGeom>
          <a:ln w="0">
            <a:noFill/>
          </a:ln>
        </p:spPr>
      </p:pic>
      <p:cxnSp>
        <p:nvCxnSpPr>
          <p:cNvPr id="189" name=""/>
          <p:cNvCxnSpPr/>
          <p:nvPr/>
        </p:nvCxnSpPr>
        <p:spPr>
          <a:xfrm flipV="1">
            <a:off x="6857640" y="3733560"/>
            <a:ext cx="14137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8259840" y="3429000"/>
            <a:ext cx="884160" cy="64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8153280" y="3886200"/>
            <a:ext cx="355680" cy="51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AE49-C019-4881-BB63-36A83EDC81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dvanced Capabilities and features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-20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tomatic class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alks and users w.r.t. DAML topic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multiple topic ontologies, with manual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tomatic map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pairs of topic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440" indent="-20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DAML as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PA compliant 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ML reasoning eng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XSB, YAJXB, RDF A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lligent ag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ccept DAML talk notifications and make entries on a user’s calendar if it matches the user’s interests, location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440" indent="-20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ML distributed trust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TTALKS security and author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49000" cy="892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38088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BE98-E98C-4057-BA55-3D82440DE3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are talks about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hierarchies prov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ACM CC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ic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Open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as DAML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llow users to specify interests as well as browse the database of talks by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classification of talks (based on title and abstract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users (based on his web pages, CV, paper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covery of mapping rules between CCS to OD ontologies using IR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334120" y="304920"/>
            <a:ext cx="3473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6678-2753-4032-8337-BC8627F14A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assifying Talk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2590920"/>
            <a:ext cx="2225520" cy="1308600"/>
            <a:chOff x="533520" y="2590920"/>
            <a:chExt cx="2225520" cy="13086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838080" y="2590920"/>
              <a:ext cx="150840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33520" y="3592440"/>
              <a:ext cx="222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99"/>
                  </a:solidFill>
                  <a:uFillTx/>
                  <a:latin typeface="Times New Roman"/>
                  <a:hlinkClick r:id="rId2"/>
                </a:rPr>
                <a:t>ACM CCS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09480" y="4343400"/>
            <a:ext cx="213372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8800" y="4343400"/>
            <a:ext cx="761760" cy="761760"/>
            <a:chOff x="1828800" y="4343400"/>
            <a:chExt cx="761760" cy="761760"/>
          </a:xfrm>
        </p:grpSpPr>
        <p:grpSp>
          <p:nvGrpSpPr>
            <p:cNvPr id="205" name=""/>
            <p:cNvGrpSpPr/>
            <p:nvPr/>
          </p:nvGrpSpPr>
          <p:grpSpPr>
            <a:xfrm>
              <a:off x="2057400" y="4343400"/>
              <a:ext cx="533160" cy="609840"/>
              <a:chOff x="2057400" y="4343400"/>
              <a:chExt cx="533160" cy="609840"/>
            </a:xfrm>
          </p:grpSpPr>
          <p:sp>
            <p:nvSpPr>
              <p:cNvPr id="206" name=""/>
              <p:cNvSpPr/>
              <p:nvPr/>
            </p:nvSpPr>
            <p:spPr>
              <a:xfrm>
                <a:off x="2209680" y="4343400"/>
                <a:ext cx="38088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57400" y="4419720"/>
                <a:ext cx="38088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828800" y="4496040"/>
              <a:ext cx="533160" cy="609120"/>
              <a:chOff x="1828800" y="4496040"/>
              <a:chExt cx="533160" cy="609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981080" y="4496040"/>
                <a:ext cx="380880" cy="5331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828800" y="4572000"/>
                <a:ext cx="380880" cy="5331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838080" y="4343400"/>
            <a:ext cx="761760" cy="761760"/>
            <a:chOff x="838080" y="4343400"/>
            <a:chExt cx="761760" cy="761760"/>
          </a:xfrm>
        </p:grpSpPr>
        <p:grpSp>
          <p:nvGrpSpPr>
            <p:cNvPr id="212" name=""/>
            <p:cNvGrpSpPr/>
            <p:nvPr/>
          </p:nvGrpSpPr>
          <p:grpSpPr>
            <a:xfrm>
              <a:off x="1066680" y="4343400"/>
              <a:ext cx="533160" cy="609840"/>
              <a:chOff x="1066680" y="4343400"/>
              <a:chExt cx="533160" cy="609840"/>
            </a:xfrm>
          </p:grpSpPr>
          <p:sp>
            <p:nvSpPr>
              <p:cNvPr id="213" name=""/>
              <p:cNvSpPr/>
              <p:nvPr/>
            </p:nvSpPr>
            <p:spPr>
              <a:xfrm>
                <a:off x="1218960" y="4343400"/>
                <a:ext cx="38088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66680" y="4419720"/>
                <a:ext cx="38088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838080" y="4496040"/>
              <a:ext cx="533160" cy="609120"/>
              <a:chOff x="838080" y="4496040"/>
              <a:chExt cx="533160" cy="60912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360" y="4496040"/>
                <a:ext cx="380880" cy="5331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38080" y="4572000"/>
                <a:ext cx="380880" cy="5331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685800" y="5105520"/>
            <a:ext cx="20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corp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2743200"/>
            <a:ext cx="1828800" cy="22860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86000"/>
              <a:gd name="textAreaBottom" fmla="*/ 2196720 h 2286000"/>
            </a:gdLst>
            <a:ahLst/>
            <a:rect l="textAreaLeft" t="textAreaTop" r="textAreaRight" b="textAreaBottom"/>
            <a:pathLst>
              <a:path w="21600" h="26999">
                <a:moveTo>
                  <a:pt x="3600" y="0"/>
                </a:moveTo>
                <a:arcTo wR="3600" hR="3600" stAng="16200000" swAng="-5400000"/>
                <a:lnTo>
                  <a:pt x="0" y="23399"/>
                </a:lnTo>
                <a:arcTo wR="3600" hR="3600" stAng="10800000" swAng="-5400000"/>
                <a:lnTo>
                  <a:pt x="18000" y="2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U </a:t>
            </a:r>
            <a:br>
              <a:rPr sz="2400"/>
            </a:b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Bow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 analys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66880" y="4038120"/>
            <a:ext cx="9144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38862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3276720"/>
            <a:ext cx="1676520" cy="1447560"/>
          </a:xfrm>
          <a:custGeom>
            <a:avLst/>
            <a:gdLst>
              <a:gd name="textAreaLeft" fmla="*/ 368640 w 1676520"/>
              <a:gd name="textAreaRight" fmla="*/ 1307880 w 16765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M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0" y="1523880"/>
            <a:ext cx="762120" cy="1067040"/>
            <a:chOff x="6858000" y="1523880"/>
            <a:chExt cx="762120" cy="1067040"/>
          </a:xfrm>
        </p:grpSpPr>
        <p:sp>
          <p:nvSpPr>
            <p:cNvPr id="224" name=""/>
            <p:cNvSpPr/>
            <p:nvPr/>
          </p:nvSpPr>
          <p:spPr>
            <a:xfrm>
              <a:off x="6858000" y="1523880"/>
              <a:ext cx="762120" cy="106704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1523880"/>
              <a:ext cx="76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w is the time for all good men to come to the aid of the country. Now is the time f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238880" y="2666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46483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42160" y="54514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895480" y="1371600"/>
            <a:ext cx="1524240" cy="780120"/>
            <a:chOff x="2895480" y="1371600"/>
            <a:chExt cx="1524240" cy="780120"/>
          </a:xfrm>
        </p:grpSpPr>
        <p:sp>
          <p:nvSpPr>
            <p:cNvPr id="230" name=""/>
            <p:cNvSpPr/>
            <p:nvPr/>
          </p:nvSpPr>
          <p:spPr>
            <a:xfrm>
              <a:off x="2895480" y="1371600"/>
              <a:ext cx="1524240" cy="762120"/>
            </a:xfrm>
            <a:prstGeom prst="wedgeRectCallout">
              <a:avLst>
                <a:gd name="adj1" fmla="val -61356"/>
                <a:gd name="adj2" fmla="val 11583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480" y="1447920"/>
              <a:ext cx="126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g.: ACM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048120" y="5410080"/>
            <a:ext cx="1523880" cy="762120"/>
          </a:xfrm>
          <a:prstGeom prst="wedgeRectCallout">
            <a:avLst>
              <a:gd name="adj1" fmla="val -84791"/>
              <a:gd name="adj2" fmla="val -9645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1120" y="551016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:5K AC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8600" y="990720"/>
            <a:ext cx="1447920" cy="916560"/>
            <a:chOff x="228600" y="990720"/>
            <a:chExt cx="1447920" cy="916560"/>
          </a:xfrm>
        </p:grpSpPr>
        <p:pic>
          <p:nvPicPr>
            <p:cNvPr id="235" name="" descr=""/>
            <p:cNvPicPr/>
            <p:nvPr/>
          </p:nvPicPr>
          <p:blipFill>
            <a:blip r:embed="rId4"/>
            <a:stretch/>
          </p:blipFill>
          <p:spPr>
            <a:xfrm>
              <a:off x="457200" y="990720"/>
              <a:ext cx="9144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28600" y="16002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99"/>
                  </a:solidFill>
                  <a:uFillTx/>
                  <a:latin typeface="Times New Roman"/>
                  <a:hlinkClick r:id="rId5"/>
                </a:rPr>
                <a:t>Topics 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 flipV="1">
            <a:off x="990720" y="1904760"/>
            <a:ext cx="304560" cy="6858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8960" y="20192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599840" y="3809880"/>
            <a:ext cx="228600" cy="53352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4280" y="388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CFA0-C4D5-4806-B489-1507317954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pping between topic ontolog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19320" y="1295280"/>
            <a:ext cx="1382760" cy="2307240"/>
            <a:chOff x="1219320" y="1295280"/>
            <a:chExt cx="1382760" cy="2307240"/>
          </a:xfrm>
        </p:grpSpPr>
        <p:grpSp>
          <p:nvGrpSpPr>
            <p:cNvPr id="243" name=""/>
            <p:cNvGrpSpPr/>
            <p:nvPr/>
          </p:nvGrpSpPr>
          <p:grpSpPr>
            <a:xfrm>
              <a:off x="1219320" y="1295280"/>
              <a:ext cx="1382760" cy="1236960"/>
              <a:chOff x="1219320" y="1295280"/>
              <a:chExt cx="1382760" cy="1236960"/>
            </a:xfrm>
          </p:grpSpPr>
          <p:pic>
            <p:nvPicPr>
              <p:cNvPr id="2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29040" y="1295280"/>
                <a:ext cx="1373040" cy="97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1219320" y="2286000"/>
                <a:ext cx="136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opic ontology T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265760" y="2653920"/>
              <a:ext cx="1311840" cy="702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015640" y="2747520"/>
              <a:ext cx="468000" cy="468000"/>
              <a:chOff x="2015640" y="2747520"/>
              <a:chExt cx="468000" cy="4680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2156040" y="2747520"/>
                <a:ext cx="327600" cy="374760"/>
                <a:chOff x="2156040" y="2747520"/>
                <a:chExt cx="327600" cy="374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249640" y="274752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156040" y="279432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015640" y="2841120"/>
                <a:ext cx="327600" cy="374400"/>
                <a:chOff x="2015640" y="2841120"/>
                <a:chExt cx="327600" cy="37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109240" y="284112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015640" y="288792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1406520" y="2747520"/>
              <a:ext cx="468000" cy="468000"/>
              <a:chOff x="1406520" y="2747520"/>
              <a:chExt cx="468000" cy="4680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546920" y="2747520"/>
                <a:ext cx="327600" cy="374760"/>
                <a:chOff x="1546920" y="2747520"/>
                <a:chExt cx="327600" cy="3747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640520" y="274752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46920" y="279432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1406520" y="2841120"/>
                <a:ext cx="327600" cy="374400"/>
                <a:chOff x="1406520" y="2841120"/>
                <a:chExt cx="327600" cy="374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500120" y="284112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06520" y="288792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"/>
            <p:cNvSpPr/>
            <p:nvPr/>
          </p:nvSpPr>
          <p:spPr>
            <a:xfrm>
              <a:off x="1312920" y="3356280"/>
              <a:ext cx="128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ining corpus 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505320" y="2743200"/>
            <a:ext cx="1828800" cy="22860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86000"/>
              <a:gd name="textAreaBottom" fmla="*/ 2196720 h 2286000"/>
            </a:gdLst>
            <a:ahLst/>
            <a:rect l="textAreaLeft" t="textAreaTop" r="textAreaRight" b="textAreaBottom"/>
            <a:pathLst>
              <a:path w="21600" h="26999">
                <a:moveTo>
                  <a:pt x="3600" y="0"/>
                </a:moveTo>
                <a:arcTo wR="3600" hR="3600" stAng="16200000" swAng="-5400000"/>
                <a:lnTo>
                  <a:pt x="0" y="23399"/>
                </a:lnTo>
                <a:arcTo wR="3600" hR="3600" stAng="10800000" swAng="-5400000"/>
                <a:lnTo>
                  <a:pt x="18000" y="2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U </a:t>
            </a:r>
            <a:br>
              <a:rPr sz="2400"/>
            </a:b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Bow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 analys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236232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590920" y="4038120"/>
            <a:ext cx="99036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8862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3276720"/>
            <a:ext cx="1676520" cy="1447560"/>
          </a:xfrm>
          <a:custGeom>
            <a:avLst/>
            <a:gdLst>
              <a:gd name="textAreaLeft" fmla="*/ 368640 w 1676520"/>
              <a:gd name="textAreaRight" fmla="*/ 1307880 w 16765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2666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46483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548640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t2:bar, 0.8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2:qux, 0.7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3962520"/>
            <a:ext cx="1382760" cy="2307240"/>
            <a:chOff x="1295280" y="3962520"/>
            <a:chExt cx="1382760" cy="2307240"/>
          </a:xfrm>
        </p:grpSpPr>
        <p:grpSp>
          <p:nvGrpSpPr>
            <p:cNvPr id="271" name=""/>
            <p:cNvGrpSpPr/>
            <p:nvPr/>
          </p:nvGrpSpPr>
          <p:grpSpPr>
            <a:xfrm>
              <a:off x="1295280" y="3962520"/>
              <a:ext cx="1382760" cy="1236960"/>
              <a:chOff x="1295280" y="3962520"/>
              <a:chExt cx="1382760" cy="1236960"/>
            </a:xfrm>
          </p:grpSpPr>
          <p:pic>
            <p:nvPicPr>
              <p:cNvPr id="2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05000" y="3962520"/>
                <a:ext cx="1373040" cy="97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295280" y="4953240"/>
                <a:ext cx="136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opic ontology T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341720" y="5321160"/>
              <a:ext cx="1311840" cy="702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091600" y="5414760"/>
              <a:ext cx="468000" cy="468000"/>
              <a:chOff x="2091600" y="5414760"/>
              <a:chExt cx="468000" cy="4680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2232000" y="5414760"/>
                <a:ext cx="327600" cy="374760"/>
                <a:chOff x="2232000" y="5414760"/>
                <a:chExt cx="327600" cy="3747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325600" y="541476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32000" y="546156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091600" y="5508360"/>
                <a:ext cx="327600" cy="374400"/>
                <a:chOff x="2091600" y="5508360"/>
                <a:chExt cx="327600" cy="3744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185200" y="550836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91600" y="555516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1482480" y="5414760"/>
              <a:ext cx="468000" cy="468000"/>
              <a:chOff x="1482480" y="5414760"/>
              <a:chExt cx="468000" cy="46800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22880" y="5414760"/>
                <a:ext cx="327600" cy="374760"/>
                <a:chOff x="1622880" y="5414760"/>
                <a:chExt cx="327600" cy="3747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716480" y="541476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22880" y="5461560"/>
                  <a:ext cx="234000" cy="3279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482480" y="5508360"/>
                <a:ext cx="327600" cy="374400"/>
                <a:chOff x="1482480" y="5508360"/>
                <a:chExt cx="327600" cy="3744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576080" y="550836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82480" y="5555160"/>
                  <a:ext cx="234000" cy="327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1388880" y="6023520"/>
              <a:ext cx="128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ining corpus 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82320" y="19810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8280" y="4800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198108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1:f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C592-0177-4A90-9603-F655F25B295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5486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opic Ontology Mapper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D58E-0F4C-45DB-9C65-C2EC82C62F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TTALKS Agen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TALKS offers a web interface for its human users and can send notifications to humans via email, WAP and 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also developing an agent API so that software agents can interact with ITTAL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, the ITTALKS agent can send notifications to agents via KQML using DAML as the “content languag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upport richer, mixed initiative dialogs between ITTALKS and agent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1D54-E501-407E-ADF4-9A6ED1EE6F8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76720" y="5410080"/>
            <a:ext cx="259056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315200" y="5486400"/>
            <a:ext cx="1376280" cy="1009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371600" cy="1006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371600" cy="1006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167652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TAL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167652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411480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411480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25909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2571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505320" y="4495680"/>
            <a:ext cx="1895400" cy="152280"/>
            <a:chOff x="3505320" y="4495680"/>
            <a:chExt cx="1895400" cy="152280"/>
          </a:xfrm>
        </p:grpSpPr>
        <p:sp>
          <p:nvSpPr>
            <p:cNvPr id="308" name=""/>
            <p:cNvSpPr/>
            <p:nvPr/>
          </p:nvSpPr>
          <p:spPr>
            <a:xfrm>
              <a:off x="3581280" y="4647960"/>
              <a:ext cx="181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05320" y="4495680"/>
              <a:ext cx="181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 flipH="1">
            <a:off x="3390840" y="2438280"/>
            <a:ext cx="22478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43480" y="2590920"/>
            <a:ext cx="2247840" cy="1676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781680" y="1219320"/>
            <a:ext cx="95256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553080" y="1066680"/>
            <a:ext cx="952560" cy="6858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6400800" y="4952520"/>
            <a:ext cx="91440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6629400" y="4800240"/>
            <a:ext cx="914400" cy="6094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76176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905120" y="5029200"/>
            <a:ext cx="761760" cy="6094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4864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M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soning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09480" y="5562720"/>
            <a:ext cx="457200" cy="417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048120"/>
            <a:ext cx="1295640" cy="974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flipH="1" flipV="1">
            <a:off x="1828440" y="1066680"/>
            <a:ext cx="762120" cy="6098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523520" y="1295280"/>
            <a:ext cx="76212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4038480"/>
            <a:ext cx="0" cy="14479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4038480"/>
            <a:ext cx="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5562720"/>
            <a:ext cx="91440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00600" y="5562720"/>
            <a:ext cx="91440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7480" y="281952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Times New Roman"/>
                <a:hlinkClick r:id="rId7"/>
              </a:rPr>
              <a:t>user’s daml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12952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6400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’s calendar ap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MS Out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2952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TALKS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 reas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63244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gen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465680" y="1828800"/>
            <a:ext cx="1449720" cy="1600200"/>
            <a:chOff x="7465680" y="1828800"/>
            <a:chExt cx="1449720" cy="1600200"/>
          </a:xfrm>
        </p:grpSpPr>
        <p:sp>
          <p:nvSpPr>
            <p:cNvPr id="334" name=""/>
            <p:cNvSpPr/>
            <p:nvPr/>
          </p:nvSpPr>
          <p:spPr>
            <a:xfrm>
              <a:off x="7467480" y="2286000"/>
              <a:ext cx="1447920" cy="1143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619760" y="259092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3048120"/>
              <a:ext cx="99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080" y="22860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Q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96080" y="30481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67480" y="18288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5680" y="1905120"/>
              <a:ext cx="14104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096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4267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3048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34320" y="1066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6600" y="1600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3429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2743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4267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0" y="4800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1447920"/>
            <a:ext cx="0" cy="14475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7640" y="15228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AALKS and agen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 working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8"/>
          <a:stretch/>
        </p:blipFill>
        <p:spPr>
          <a:xfrm>
            <a:off x="7543800" y="388620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79246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773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314A-BAA3-45C1-8170-48845DBB3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ur Calendar Solutio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676520" y="4724280"/>
            <a:ext cx="2895480" cy="17528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447920" y="4952880"/>
            <a:ext cx="1371600" cy="411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H="1">
            <a:off x="2133360" y="3733920"/>
            <a:ext cx="1066680" cy="129528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34320" y="2133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 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6019920" y="54100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flipH="1" flipV="1">
            <a:off x="4572000" y="4114800"/>
            <a:ext cx="1447920" cy="1447920"/>
          </a:xfrm>
          <a:prstGeom prst="line">
            <a:avLst/>
          </a:prstGeom>
          <a:ln w="76320">
            <a:solidFill>
              <a:srgbClr val="0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781680" y="4114440"/>
            <a:ext cx="1295640" cy="1523880"/>
          </a:xfrm>
          <a:prstGeom prst="line">
            <a:avLst/>
          </a:prstGeom>
          <a:ln w="76320">
            <a:solidFill>
              <a:srgbClr val="0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5867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055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572000" y="5943600"/>
            <a:ext cx="1295280" cy="0"/>
          </a:xfrm>
          <a:prstGeom prst="line">
            <a:avLst/>
          </a:prstGeom>
          <a:ln w="76320">
            <a:solidFill>
              <a:srgbClr val="0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781680" y="2629080"/>
            <a:ext cx="2179800" cy="1600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62120" y="1523880"/>
            <a:ext cx="1371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752480" y="2361960"/>
            <a:ext cx="91440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1981080" y="2209680"/>
            <a:ext cx="914400" cy="6098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09AE-3964-407F-926B-DB212D6E6B2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549360" cy="8920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ttp://</a:t>
            </a: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alks.org/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TALKS is already a useful DAML application with real users. With additional funding 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, a domain independent version of ITTALKS, configured and customized by a set of DAML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will be genuinely useful application capable of supporting 1000’s of real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generic personal agent that advanced users can adapt and experiment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xtalks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a site of meta-information on all know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-based s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88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53352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0265-DEFE-478E-95F3-1F1176BF2F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371240"/>
            <a:ext cx="712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been d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TALKS DAM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’re working 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gent services and ontology mapping for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else we’d like to do…</a:t>
            </a: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DAML-driven event publishing and notification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D422-0CEB-4E09-B0EE-EE515F4ED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ust add water…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6760" y="2209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pac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nd place in a medium sized Linux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f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L confi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r in 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L topic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ly mix in addition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L event ont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classes to t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ly top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ML distributed trust poli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kle with custom HTML templates, GIFs, and CSS files as des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57440" cy="2057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A148-A765-4D49-B023-C7318212A8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ks becomes…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Talk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gTalk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Talk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gaLecture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tagonSeminar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stonRave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LcsEvent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51792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89F2-F37A-4804-BB4A-4F4A08FF29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efit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has the potential to be a widely used application, helping to make DAML and the semantic web more visible, and demonstrating its utility as an ontology language, an intelligent config language, an AC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spread use of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will make lots of  DAML available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will provide a good DAML application with which people can experiment and ext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a running collection of independen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sites will enable interesting research in distribut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5879-650F-4207-9DE3-96F479A856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’s needed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-engine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TALKS to be more DAML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config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edit/extend topic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/edit the DAML config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appropriate event classes and/or extend the event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roles and key individuals needed for the distributed trus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sh code and documentation for open source distribution at http://xtalks.sourceforge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0690-D798-4BD1-BB03-CC017ECE5E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TALKS is a useful, fairly sophisticated web application that used DAML in an integra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generalize this to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, an application to manage announcements of talks and other, similar kinds of events in any subject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n be simplified and packaged to make it easy to install and main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ease, perhaps open source, could lead to wide spread use and subsequent use of and experimentation with DA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49360" cy="8920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549000" cy="892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297320" y="304920"/>
            <a:ext cx="549360" cy="892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alks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6F02-3D22-471F-BEAD-C223DC8664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1EBC-AEE5-4EA6-8B37-3954504CBC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TTALKS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TAL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database driven we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of IT related talks at UMBC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nstitutions. The datab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informatio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nar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(speakers, hosts, user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s (rooms, institution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atabase is used to dynamic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web pages and DAML descrip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talks and related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s are sent to registered users and/or their agents via email, SMS, WAP, and/or KQML for talks matching their interests, location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592440" cy="2727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05520" y="28954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tp://ittalks.org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5228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1828800" cy="9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ED99-2F37-4BDE-B18D-6DA196D85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38240"/>
            <a:ext cx="8839440" cy="65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7E5C-8E42-4E81-91E9-ECD152D3F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5760" y="66600"/>
            <a:ext cx="8772480" cy="672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33920" y="5105520"/>
            <a:ext cx="4724280" cy="1218960"/>
          </a:xfrm>
          <a:prstGeom prst="wedgeRectCallout">
            <a:avLst>
              <a:gd name="adj1" fmla="val 35717"/>
              <a:gd name="adj2" fmla="val -2941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ed users create profiles (encoded in DAML) describing their preferences, attributes and inte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D4E6-ACEE-4CA7-A65E-D19E38DA94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5760" y="66600"/>
            <a:ext cx="8772480" cy="6724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8120" y="4724280"/>
            <a:ext cx="4495680" cy="1219320"/>
          </a:xfrm>
          <a:prstGeom prst="wedgeRectCallout">
            <a:avLst>
              <a:gd name="adj1" fmla="val 55615"/>
              <a:gd name="adj2" fmla="val -266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logging in, ITTALKS can filter the talks shown based on my interests, schedule and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14AC-CC72-440D-A7DF-2B5E240AA6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658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53080" y="2514600"/>
            <a:ext cx="18288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1AFD-9D7F-4F96-B99B-B464C8D38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6386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53080" y="1371600"/>
            <a:ext cx="18288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6D6C-848D-4906-91A7-2C73231C8C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TTALKS Ontologi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ve defined and use the following ontologies, all at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daml.umbc.edu/ontolog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calendar-on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 and schedule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classification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ACM CCS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4"/>
              </a:rPr>
              <a:t>dist-trus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distributed trust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5"/>
              </a:rPr>
              <a:t>person-on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people and their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6"/>
              </a:rPr>
              <a:t>place-on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talk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7"/>
              </a:rPr>
              <a:t>profile-on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odeling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8"/>
              </a:rPr>
              <a:t>talk-on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9"/>
              </a:rPr>
              <a:t>topic-ont.da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s and inte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B3AA-AB53-4AE0-90F9-962A224F68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42:35Z</dcterms:created>
  <dc:creator>tim finin</dc:creator>
  <dc:description/>
  <dc:language>en-US</dc:language>
  <cp:lastModifiedBy>bbn</cp:lastModifiedBy>
  <cp:lastPrinted>1998-04-11T16:25:36Z</cp:lastPrinted>
  <dcterms:modified xsi:type="dcterms:W3CDTF">2001-07-20T10:59:08Z</dcterms:modified>
  <cp:revision>101</cp:revision>
  <dc:subject/>
  <dc:title>ITTAL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Yannis\Test PP into HTM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