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A314-3A01-4142-8CD9-C195257F0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CCCC-03A7-42DD-98DC-B795B6352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F881-A69B-4F12-93F7-980545723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D3FD-3493-4365-9203-78F29C471B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7B73-4ECA-4891-BFE4-2DCCE6D2E5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DAF5-792D-4C04-A8D8-1A8E2BC59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C49B-7E17-47EF-862D-A8215E558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8C2F-DD09-4F5A-83E4-CE04573DF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3926-6FFD-4CD6-922F-FE607A2EE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FB42-B17E-4105-9299-7F02D6244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C9F0-B2BD-4CE6-99DB-252864E89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01BE-1E0F-479B-81F3-299C65171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33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-225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1640" indent="-2347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1640" indent="-2347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1640" indent="-2347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4D11-AF87-4BF6-A651-AAEF1A82E4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AML Tools for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Intelligent Information Annotation, Sharing and Retrieval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66760" y="39625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M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hns Hopkins University Applied Physic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T Sloa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ly 19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93996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UMBC/JHU/MIT Team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BC, JHU/APL, and MIT/Sloan are working together on a set of issu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egrating communicating agents, DAML and web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 Finin, Charles Nicholas, Yun Peng, Anupam Joshi, Scot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HU 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ML and information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m Mayfield, Paul McNamee, Wayne Beth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T Sloan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ML, rules based technology and distributed bel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jamin Gros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integrated in agent-based applications involving search and using rule-based reas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0040" y="24382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0040" y="36576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UMBC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'S H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5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TALKS as a useful DAML-base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77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Automatic classification of talks and users wrt DAML topic ontologies; multiple topic ontologies, with manual and mapping betwee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s get DAML talk notifications and make entries on a user’s calendar if it matches interests, location and schedul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s use DAML as ACL and incorporate a DAML reasoning engine (XSB, YAJXB, RDF AP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AML distributed trust model including permissions, obligations, authorization and deleg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Lized Jini registr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Lized Bluetooth service discovery protoc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0600" y="22860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LLENG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5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9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for a range of DAML reasoning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fering varying degrees of services and complet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in Jav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 DAML may be too large for some interesting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using in Jini for light-weight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use in Bluetooth service discovery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k of DAML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d for distributed trust poli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JHU 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4114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'S H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arch on DAML, text, or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ized DAML tags are used as indexing terms.  Queries may include DAML, text, or bo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relevance feedback adds related words and DAML tags to the user's query.  System finds DAML tags or words most closely related to a given word, phrase, or DAML t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tolog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node in an ontology, system finds other DAML tags and words that characterize it, then finds other ontology nodes that have similar characteriza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a simple ontology mapping cap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0240" y="228240"/>
            <a:ext cx="39625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L 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still not very much DAML on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L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lithic files: many DAML statements are concentrated in a few larg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 database nature: many DAML tags always co-occur with exactly the same set of tags, making it difficult to distinguish the tags statis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DAML markup?: much DAML has very few accompanying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MIT Sloan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4572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'S H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izing and extending logic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eb-powerful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RI's for: relations, functions, rulesets, reas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eb-friendly synt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exploit/support both XML and RDF, use name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ntolog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basic connection: link ontologies for rules, and vice 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bject-orien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basic features: subclass ... with exceptions; member ro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frastructure for inter-site communication of premises and conclus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+justific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erencing as a web service, with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ion among rule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rging web-named/accessible rulesets with prioritized conflict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brid reasoning algorithms &amp;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describ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 rulesets and decide to buy/choose or sell via inferencing about the 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2520" y="228600"/>
            <a:ext cx="3962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LLENG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terogeneity of commercial rule languages, yet need deep common seman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ential de facto standards jockeying by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icity of protocols 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cedural invoc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GI, SOAP, RMI, CORBA,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rdered (RDF) vs. ordered (XML) graph semantics for Webized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ttle theory available for tight composition of Rules plus Description Logic -- yet want deep combined knowledge representation semant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gulf to databases/XMLQuery; sociologically + technically unconn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aper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. Luan, Y. Peng, and T. Finin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gent Consumer Reports: of the Agents, by the Agents, and for the Agen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2nd Asia-Pacific Conference on Intelligent Agent Technology, Maebashi City, Japan, Oct,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. Finin, A. Joshi, L. Kagal, O. Ratsimore, V. Korolev, and H. Chen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formation Agents for Mobile and Embedded Devi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th Int. Workshop on Cooperative Information Agents, Sept. 6-8, 2001 Modena, Ita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. Kagal, T. Finin, and Y. Pe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 Framework for Distributed Tru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Workshop on Autonomy, Delegation, and Control: Interacting with Autonomous Agents, IJCAI-2001, Seattle, Aug.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. S. Cost, T. Finin, A. Joshi, Y. Peng, F. Perich, C. Nicholas, H. Chen, L. Kagal, Y. Zou, and S. Tolia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TTALKS: A Case Student in how the Semantic Web Help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Semantic Web Workshop, July 2001, Stanf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. Perich, R.S. Cost, T. Finin, A. Joshi, Y. Peng, C. Nicholas, H. Chen, L. Kagal, Y. Zou, and S. Tolia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TTALKS: An Application of Agents in the Semantic We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Workshop on Engineering Societies in the Agents' World, 7 July 2001, Prag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 Avancha, A. Joshi and T. Finin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hancing Bluetooth Service Discovery Protoco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Report TR-CS-01-08, CSEE, UMBC, June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. Kagal, Scott Cost, H. Chen, T. Finin, Yun Pe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n Infrastructure for Distributed Trust Manage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Workshop on Norms and Institutions in Multiagent Systems, Autonomous Agents 2001, Montreal, May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03:42:35Z</dcterms:created>
  <dc:creator>tim finin</dc:creator>
  <dc:description/>
  <dc:language>en-US</dc:language>
  <cp:lastModifiedBy>bbn</cp:lastModifiedBy>
  <cp:lastPrinted>1998-04-11T16:25:36Z</cp:lastPrinted>
  <dcterms:modified xsi:type="dcterms:W3CDTF">2001-07-20T15:01:48Z</dcterms:modified>
  <cp:revision>6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Yannis\Test PP into HTML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