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99F5-85DE-496A-A5D1-9AAD5DB1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74D-FD19-4613-B1CD-D0D43B03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104A-E4A2-44DD-A56E-613748CF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D6C-D2D1-422A-B296-2C2414CF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D9F2-850E-4786-8A29-3DD96008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60BB-E4F8-479E-856F-84D1137C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56D-8012-4AE0-9D27-BE45A9C5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B3FA-87F4-4198-955C-A819923D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2B16-3ABA-4DC8-96EF-5A7A6399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B01E-3A7C-44C5-9926-E4FAD28D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6F39-8E89-429A-8354-DFC54318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B911-50EF-4669-9BFB-2D4FBFA6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7B7A-673C-4FF6-A82D-D38FD67E60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alzer@teknolwedge.com" TargetMode="External"/><Relationship Id="rId2" Type="http://schemas.openxmlformats.org/officeDocument/2006/relationships/hyperlink" Target="mailto:ngoldman@teknowledge.com" TargetMode="External"/><Relationship Id="rId3" Type="http://schemas.openxmlformats.org/officeDocument/2006/relationships/hyperlink" Target="mailto:mtallis@teknowledge.com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mantically Grounded Briefin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320" y="3886200"/>
            <a:ext cx="8991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Balzer, Neil Goldman, Marcelo Tall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balzer@teknolwedge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ngoldman@teknowledge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tallis@teknowledge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7162920" y="6527880"/>
            <a:ext cx="1981080" cy="331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3160" y="914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ilitary spends a huge amount of time creating brief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gathering, collating, formatting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translating into powerpoint sli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customizing for different comman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ed for a Personalized Briefing Creation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Knows about military domain </a:t>
            </a:r>
            <a:r>
              <a:rPr b="0" lang="en-US" sz="1600" spc="-1" strike="noStrike">
                <a:solidFill>
                  <a:srgbClr val="66ffff"/>
                </a:solidFill>
                <a:latin typeface="Times New Roman"/>
              </a:rPr>
              <a:t>(communicativ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Knows how to access military sources </a:t>
            </a:r>
            <a:r>
              <a:rPr b="0" lang="en-US" sz="1600" spc="-1" strike="noStrike">
                <a:solidFill>
                  <a:srgbClr val="66ffff"/>
                </a:solidFill>
                <a:latin typeface="Times New Roman"/>
              </a:rPr>
              <a:t>(capabl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Gathers information off-line for user </a:t>
            </a:r>
            <a:r>
              <a:rPr b="0" lang="en-US" sz="1600" spc="-1" strike="noStrike">
                <a:solidFill>
                  <a:srgbClr val="66ffff"/>
                </a:solidFill>
                <a:latin typeface="Times New Roman"/>
              </a:rPr>
              <a:t>(autonomou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Tailorable to users needs and changing resources </a:t>
            </a:r>
            <a:r>
              <a:rPr b="0" lang="en-US" sz="1600" spc="-1" strike="noStrike">
                <a:solidFill>
                  <a:srgbClr val="66ffff"/>
                </a:solidFill>
                <a:latin typeface="Times New Roman"/>
              </a:rPr>
              <a:t>(adaptiv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ed for a search tool for information embedded in brief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IntelLink minimally keyword search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838080"/>
            <a:ext cx="4419360" cy="5486400"/>
          </a:xfrm>
          <a:prstGeom prst="rect">
            <a:avLst/>
          </a:prstGeom>
          <a:solidFill>
            <a:srgbClr val="5f5f5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-25560" y="11160"/>
            <a:ext cx="4978440" cy="6753240"/>
            <a:chOff x="-25560" y="11160"/>
            <a:chExt cx="4978440" cy="6753240"/>
          </a:xfrm>
        </p:grpSpPr>
        <p:sp>
          <p:nvSpPr>
            <p:cNvPr id="49" name=""/>
            <p:cNvSpPr/>
            <p:nvPr/>
          </p:nvSpPr>
          <p:spPr>
            <a:xfrm>
              <a:off x="22320" y="11160"/>
              <a:ext cx="4930560" cy="6753240"/>
            </a:xfrm>
            <a:custGeom>
              <a:avLst/>
              <a:gdLst>
                <a:gd name="textAreaLeft" fmla="*/ 64800 w 4930560"/>
                <a:gd name="textAreaRight" fmla="*/ 4865760 w 4930560"/>
                <a:gd name="textAreaTop" fmla="*/ 64800 h 6753240"/>
                <a:gd name="textAreaBottom" fmla="*/ 6688440 h 6753240"/>
              </a:gdLst>
              <a:ahLst/>
              <a:rect l="textAreaLeft" t="textAreaTop" r="textAreaRight" b="textAreaBottom"/>
              <a:pathLst>
                <a:path w="21600" h="29584">
                  <a:moveTo>
                    <a:pt x="974" y="0"/>
                  </a:moveTo>
                  <a:arcTo wR="974" hR="974" stAng="16200000" swAng="-5400000"/>
                  <a:lnTo>
                    <a:pt x="0" y="28610"/>
                  </a:lnTo>
                  <a:arcTo wR="974" hR="974" stAng="10800000" swAng="-5400000"/>
                  <a:lnTo>
                    <a:pt x="20626" y="29584"/>
                  </a:lnTo>
                  <a:arcTo wR="974" hR="974" stAng="5400000" swAng="-5400000"/>
                  <a:lnTo>
                    <a:pt x="21600" y="974"/>
                  </a:lnTo>
                  <a:arcTo wR="974" hR="974" stAng="0" swAng="-5400000"/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-25560" y="1905120"/>
              <a:ext cx="49784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550"/>
                </a:spcBef>
                <a:buClr>
                  <a:srgbClr val="ffff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cc"/>
                  </a:solidFill>
                  <a:latin typeface="Times New Roman"/>
                </a:rPr>
                <a:t>Dynamic Data </a:t>
              </a:r>
              <a:br>
                <a:rPr sz="2200"/>
              </a:br>
              <a:r>
                <a:rPr b="0" lang="en-US" sz="2200" spc="-1" strike="noStrike">
                  <a:solidFill>
                    <a:srgbClr val="ffffcc"/>
                  </a:solidFill>
                  <a:latin typeface="Times New Roman"/>
                </a:rPr>
                <a:t>integrated into Briefing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989600" y="6091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Killer A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981080"/>
            <a:ext cx="1676520" cy="2133720"/>
          </a:xfrm>
          <a:prstGeom prst="rect">
            <a:avLst/>
          </a:prstGeom>
          <a:solidFill>
            <a:srgbClr val="ff9933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rief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re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3886200"/>
            <a:ext cx="1676160" cy="2133720"/>
          </a:xfrm>
          <a:prstGeom prst="rect">
            <a:avLst/>
          </a:prstGeom>
          <a:solidFill>
            <a:srgbClr val="ff9933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l Lin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 rot="5400000">
            <a:off x="6818760" y="2475720"/>
            <a:ext cx="1219320" cy="1143000"/>
          </a:xfrm>
          <a:custGeom>
            <a:avLst/>
            <a:gdLst>
              <a:gd name="textAreaLeft" fmla="*/ 406080 w 1219320"/>
              <a:gd name="textAreaRight" fmla="*/ 1044000 w 1219320"/>
              <a:gd name="textAreaTop" fmla="*/ 658440 h 1143000"/>
              <a:gd name="textAreaBottom" fmla="*/ 9792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5600160" y="4381560"/>
            <a:ext cx="1219320" cy="1143000"/>
          </a:xfrm>
          <a:custGeom>
            <a:avLst/>
            <a:gdLst>
              <a:gd name="textAreaLeft" fmla="*/ 406440 w 1219320"/>
              <a:gd name="textAreaRight" fmla="*/ 1044360 w 1219320"/>
              <a:gd name="textAreaTop" fmla="*/ 658440 h 1143000"/>
              <a:gd name="textAreaBottom" fmla="*/ 9792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3800" y="5410080"/>
            <a:ext cx="103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DA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ark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riefin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39960" y="1676520"/>
            <a:ext cx="106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et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ccess 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ateri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52280" y="566640"/>
            <a:ext cx="2971800" cy="1185840"/>
            <a:chOff x="152280" y="566640"/>
            <a:chExt cx="2971800" cy="1185840"/>
          </a:xfrm>
        </p:grpSpPr>
        <p:sp>
          <p:nvSpPr>
            <p:cNvPr id="59" name=""/>
            <p:cNvSpPr/>
            <p:nvPr/>
          </p:nvSpPr>
          <p:spPr>
            <a:xfrm>
              <a:off x="152280" y="566640"/>
              <a:ext cx="2057400" cy="11858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Seman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Groun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Brief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09680" y="838080"/>
              <a:ext cx="914400" cy="609840"/>
            </a:xfrm>
            <a:prstGeom prst="leftRightArrow">
              <a:avLst>
                <a:gd name="adj1" fmla="val 50000"/>
                <a:gd name="adj2" fmla="val 29849"/>
              </a:avLst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-22320" y="2635200"/>
            <a:ext cx="4978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owerPoint Infrastructure f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questing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ccepting data -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pagating it into 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ndering data - coupling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riefing data to 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e.g. shape color determined by 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attribute val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Exporting Briefing in DAM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Importing DAML into Brief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Graphically Defining/Editing Ontolog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DIFFing changes between vers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52280" y="-77760"/>
            <a:ext cx="6007320" cy="4523760"/>
            <a:chOff x="152280" y="-77760"/>
            <a:chExt cx="6007320" cy="4523760"/>
          </a:xfrm>
        </p:grpSpPr>
        <p:sp>
          <p:nvSpPr>
            <p:cNvPr id="63" name=""/>
            <p:cNvSpPr/>
            <p:nvPr/>
          </p:nvSpPr>
          <p:spPr>
            <a:xfrm>
              <a:off x="3124080" y="77760"/>
              <a:ext cx="1676520" cy="2133720"/>
            </a:xfrm>
            <a:prstGeom prst="rect">
              <a:avLst/>
            </a:prstGeom>
            <a:solidFill>
              <a:srgbClr val="cc0066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PowerPoi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Infrastructu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35000" y="3529080"/>
              <a:ext cx="103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DA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Mark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Briefing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5400000">
              <a:off x="3771360" y="2400120"/>
              <a:ext cx="1218960" cy="1143000"/>
            </a:xfrm>
            <a:custGeom>
              <a:avLst/>
              <a:gdLst>
                <a:gd name="textAreaLeft" fmla="*/ 406440 w 1218960"/>
                <a:gd name="textAreaRight" fmla="*/ 1044000 w 1218960"/>
                <a:gd name="textAreaTop" fmla="*/ 658440 h 1143000"/>
                <a:gd name="textAreaBottom" fmla="*/ 9792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 rot="5400000">
              <a:off x="4913640" y="646920"/>
              <a:ext cx="1219320" cy="1143000"/>
            </a:xfrm>
            <a:custGeom>
              <a:avLst/>
              <a:gdLst>
                <a:gd name="textAreaLeft" fmla="*/ 406080 w 1219320"/>
                <a:gd name="textAreaRight" fmla="*/ 1044000 w 1219320"/>
                <a:gd name="textAreaTop" fmla="*/ 658440 h 1143000"/>
                <a:gd name="textAreaBottom" fmla="*/ 9792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67160" y="-77760"/>
              <a:ext cx="892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DA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Mark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Da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2280" y="0"/>
              <a:ext cx="2895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cc"/>
                  </a:solidFill>
                  <a:latin typeface="Times New Roman"/>
                </a:rPr>
                <a:t>Our Vision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82520" y="5052960"/>
            <a:ext cx="243000" cy="357120"/>
            <a:chOff x="182520" y="5052960"/>
            <a:chExt cx="243000" cy="357120"/>
          </a:xfrm>
        </p:grpSpPr>
        <p:sp>
          <p:nvSpPr>
            <p:cNvPr id="70" name=""/>
            <p:cNvSpPr/>
            <p:nvPr/>
          </p:nvSpPr>
          <p:spPr>
            <a:xfrm>
              <a:off x="182520" y="5162400"/>
              <a:ext cx="214560" cy="220680"/>
            </a:xfrm>
            <a:custGeom>
              <a:avLst/>
              <a:gdLst>
                <a:gd name="textAreaLeft" fmla="*/ 7560 w 214560"/>
                <a:gd name="textAreaRight" fmla="*/ 207000 w 214560"/>
                <a:gd name="textAreaTop" fmla="*/ 7560 h 220680"/>
                <a:gd name="textAreaBottom" fmla="*/ 213120 h 220680"/>
              </a:gdLst>
              <a:ahLst/>
              <a:rect l="textAreaLeft" t="textAreaTop" r="textAreaRight" b="textAreaBottom"/>
              <a:pathLst>
                <a:path w="21600" h="22215">
                  <a:moveTo>
                    <a:pt x="2614" y="0"/>
                  </a:moveTo>
                  <a:arcTo wR="2614" hR="2614" stAng="16200000" swAng="-5400000"/>
                  <a:lnTo>
                    <a:pt x="0" y="19601"/>
                  </a:lnTo>
                  <a:arcTo wR="2614" hR="2614" stAng="10800000" swAng="-5400000"/>
                  <a:lnTo>
                    <a:pt x="18986" y="22215"/>
                  </a:lnTo>
                  <a:arcTo wR="2614" hR="2614" stAng="5400000" swAng="-5400000"/>
                  <a:lnTo>
                    <a:pt x="21600" y="2614"/>
                  </a:lnTo>
                  <a:arcTo wR="2614" hR="2614" stAng="0" swAng="-5400000"/>
                  <a:close/>
                </a:path>
              </a:pathLst>
            </a:custGeom>
            <a:noFill/>
            <a:ln w="4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8360" y="5052960"/>
              <a:ext cx="227160" cy="357120"/>
            </a:xfrm>
            <a:custGeom>
              <a:avLst/>
              <a:gdLst/>
              <a:ahLst/>
              <a:rect l="l" t="t" r="r" b="b"/>
              <a:pathLst>
                <a:path w="1429" h="2252">
                  <a:moveTo>
                    <a:pt x="161" y="1050"/>
                  </a:moveTo>
                  <a:lnTo>
                    <a:pt x="0" y="1660"/>
                  </a:lnTo>
                  <a:lnTo>
                    <a:pt x="551" y="2252"/>
                  </a:lnTo>
                  <a:lnTo>
                    <a:pt x="1429" y="262"/>
                  </a:lnTo>
                  <a:lnTo>
                    <a:pt x="1429" y="0"/>
                  </a:lnTo>
                  <a:lnTo>
                    <a:pt x="450" y="1677"/>
                  </a:lnTo>
                  <a:lnTo>
                    <a:pt x="161" y="105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76040" y="5486400"/>
            <a:ext cx="243000" cy="357120"/>
            <a:chOff x="176040" y="5486400"/>
            <a:chExt cx="243000" cy="357120"/>
          </a:xfrm>
        </p:grpSpPr>
        <p:sp>
          <p:nvSpPr>
            <p:cNvPr id="73" name=""/>
            <p:cNvSpPr/>
            <p:nvPr/>
          </p:nvSpPr>
          <p:spPr>
            <a:xfrm>
              <a:off x="176040" y="5595840"/>
              <a:ext cx="214560" cy="220680"/>
            </a:xfrm>
            <a:custGeom>
              <a:avLst/>
              <a:gdLst>
                <a:gd name="textAreaLeft" fmla="*/ 7560 w 214560"/>
                <a:gd name="textAreaRight" fmla="*/ 207000 w 214560"/>
                <a:gd name="textAreaTop" fmla="*/ 7560 h 220680"/>
                <a:gd name="textAreaBottom" fmla="*/ 213120 h 220680"/>
              </a:gdLst>
              <a:ahLst/>
              <a:rect l="textAreaLeft" t="textAreaTop" r="textAreaRight" b="textAreaBottom"/>
              <a:pathLst>
                <a:path w="21600" h="22215">
                  <a:moveTo>
                    <a:pt x="2614" y="0"/>
                  </a:moveTo>
                  <a:arcTo wR="2614" hR="2614" stAng="16200000" swAng="-5400000"/>
                  <a:lnTo>
                    <a:pt x="0" y="19601"/>
                  </a:lnTo>
                  <a:arcTo wR="2614" hR="2614" stAng="10800000" swAng="-5400000"/>
                  <a:lnTo>
                    <a:pt x="18986" y="22215"/>
                  </a:lnTo>
                  <a:arcTo wR="2614" hR="2614" stAng="5400000" swAng="-5400000"/>
                  <a:lnTo>
                    <a:pt x="21600" y="2614"/>
                  </a:lnTo>
                  <a:arcTo wR="2614" hR="2614" stAng="0" swAng="-5400000"/>
                  <a:close/>
                </a:path>
              </a:pathLst>
            </a:custGeom>
            <a:noFill/>
            <a:ln w="4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1880" y="5486400"/>
              <a:ext cx="227160" cy="357120"/>
            </a:xfrm>
            <a:custGeom>
              <a:avLst/>
              <a:gdLst/>
              <a:ahLst/>
              <a:rect l="l" t="t" r="r" b="b"/>
              <a:pathLst>
                <a:path w="1429" h="2252">
                  <a:moveTo>
                    <a:pt x="161" y="1050"/>
                  </a:moveTo>
                  <a:lnTo>
                    <a:pt x="0" y="1660"/>
                  </a:lnTo>
                  <a:lnTo>
                    <a:pt x="551" y="2252"/>
                  </a:lnTo>
                  <a:lnTo>
                    <a:pt x="1429" y="262"/>
                  </a:lnTo>
                  <a:lnTo>
                    <a:pt x="1429" y="0"/>
                  </a:lnTo>
                  <a:lnTo>
                    <a:pt x="450" y="1677"/>
                  </a:lnTo>
                  <a:lnTo>
                    <a:pt x="161" y="105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76040" y="5891040"/>
            <a:ext cx="243000" cy="357120"/>
            <a:chOff x="176040" y="5891040"/>
            <a:chExt cx="243000" cy="357120"/>
          </a:xfrm>
        </p:grpSpPr>
        <p:sp>
          <p:nvSpPr>
            <p:cNvPr id="76" name=""/>
            <p:cNvSpPr/>
            <p:nvPr/>
          </p:nvSpPr>
          <p:spPr>
            <a:xfrm>
              <a:off x="176040" y="6000480"/>
              <a:ext cx="214560" cy="220680"/>
            </a:xfrm>
            <a:custGeom>
              <a:avLst/>
              <a:gdLst>
                <a:gd name="textAreaLeft" fmla="*/ 7560 w 214560"/>
                <a:gd name="textAreaRight" fmla="*/ 207000 w 214560"/>
                <a:gd name="textAreaTop" fmla="*/ 7560 h 220680"/>
                <a:gd name="textAreaBottom" fmla="*/ 213120 h 220680"/>
              </a:gdLst>
              <a:ahLst/>
              <a:rect l="textAreaLeft" t="textAreaTop" r="textAreaRight" b="textAreaBottom"/>
              <a:pathLst>
                <a:path w="21600" h="22215">
                  <a:moveTo>
                    <a:pt x="2614" y="0"/>
                  </a:moveTo>
                  <a:arcTo wR="2614" hR="2614" stAng="16200000" swAng="-5400000"/>
                  <a:lnTo>
                    <a:pt x="0" y="19601"/>
                  </a:lnTo>
                  <a:arcTo wR="2614" hR="2614" stAng="10800000" swAng="-5400000"/>
                  <a:lnTo>
                    <a:pt x="18986" y="22215"/>
                  </a:lnTo>
                  <a:arcTo wR="2614" hR="2614" stAng="5400000" swAng="-5400000"/>
                  <a:lnTo>
                    <a:pt x="21600" y="2614"/>
                  </a:lnTo>
                  <a:arcTo wR="2614" hR="2614" stAng="0" swAng="-5400000"/>
                  <a:close/>
                </a:path>
              </a:pathLst>
            </a:custGeom>
            <a:noFill/>
            <a:ln w="4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1880" y="5891040"/>
              <a:ext cx="227160" cy="357120"/>
            </a:xfrm>
            <a:custGeom>
              <a:avLst/>
              <a:gdLst/>
              <a:ahLst/>
              <a:rect l="l" t="t" r="r" b="b"/>
              <a:pathLst>
                <a:path w="1429" h="2252">
                  <a:moveTo>
                    <a:pt x="161" y="1050"/>
                  </a:moveTo>
                  <a:lnTo>
                    <a:pt x="0" y="1660"/>
                  </a:lnTo>
                  <a:lnTo>
                    <a:pt x="551" y="2252"/>
                  </a:lnTo>
                  <a:lnTo>
                    <a:pt x="1429" y="262"/>
                  </a:lnTo>
                  <a:lnTo>
                    <a:pt x="1429" y="0"/>
                  </a:lnTo>
                  <a:lnTo>
                    <a:pt x="450" y="1677"/>
                  </a:lnTo>
                  <a:lnTo>
                    <a:pt x="161" y="105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87440" y="2932200"/>
            <a:ext cx="242280" cy="357120"/>
            <a:chOff x="487440" y="2932200"/>
            <a:chExt cx="242280" cy="357120"/>
          </a:xfrm>
        </p:grpSpPr>
        <p:sp>
          <p:nvSpPr>
            <p:cNvPr id="79" name=""/>
            <p:cNvSpPr/>
            <p:nvPr/>
          </p:nvSpPr>
          <p:spPr>
            <a:xfrm>
              <a:off x="487440" y="3041640"/>
              <a:ext cx="214200" cy="220680"/>
            </a:xfrm>
            <a:custGeom>
              <a:avLst/>
              <a:gdLst>
                <a:gd name="textAreaLeft" fmla="*/ 7560 w 214200"/>
                <a:gd name="textAreaRight" fmla="*/ 206640 w 214200"/>
                <a:gd name="textAreaTop" fmla="*/ 7560 h 220680"/>
                <a:gd name="textAreaBottom" fmla="*/ 213120 h 220680"/>
              </a:gdLst>
              <a:ahLst/>
              <a:rect l="textAreaLeft" t="textAreaTop" r="textAreaRight" b="textAreaBottom"/>
              <a:pathLst>
                <a:path w="21600" h="22252">
                  <a:moveTo>
                    <a:pt x="2614" y="0"/>
                  </a:moveTo>
                  <a:arcTo wR="2614" hR="2614" stAng="16200000" swAng="-5400000"/>
                  <a:lnTo>
                    <a:pt x="0" y="19638"/>
                  </a:lnTo>
                  <a:arcTo wR="2614" hR="2614" stAng="10800000" swAng="-5400000"/>
                  <a:lnTo>
                    <a:pt x="18986" y="22252"/>
                  </a:lnTo>
                  <a:arcTo wR="2614" hR="2614" stAng="5400000" swAng="-5400000"/>
                  <a:lnTo>
                    <a:pt x="21600" y="2614"/>
                  </a:lnTo>
                  <a:arcTo wR="2614" hR="2614" stAng="0" swAng="-5400000"/>
                  <a:close/>
                </a:path>
              </a:pathLst>
            </a:custGeom>
            <a:noFill/>
            <a:ln w="4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2920" y="2932200"/>
              <a:ext cx="226800" cy="357120"/>
            </a:xfrm>
            <a:custGeom>
              <a:avLst/>
              <a:gdLst/>
              <a:ahLst/>
              <a:rect l="l" t="t" r="r" b="b"/>
              <a:pathLst>
                <a:path w="1429" h="2252">
                  <a:moveTo>
                    <a:pt x="161" y="1050"/>
                  </a:moveTo>
                  <a:lnTo>
                    <a:pt x="0" y="1660"/>
                  </a:lnTo>
                  <a:lnTo>
                    <a:pt x="551" y="2252"/>
                  </a:lnTo>
                  <a:lnTo>
                    <a:pt x="1429" y="262"/>
                  </a:lnTo>
                  <a:lnTo>
                    <a:pt x="1429" y="0"/>
                  </a:lnTo>
                  <a:lnTo>
                    <a:pt x="450" y="1677"/>
                  </a:lnTo>
                  <a:lnTo>
                    <a:pt x="161" y="105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609480" y="4267080"/>
            <a:ext cx="8229600" cy="2590920"/>
            <a:chOff x="609480" y="4267080"/>
            <a:chExt cx="8229600" cy="2590920"/>
          </a:xfrm>
        </p:grpSpPr>
        <p:sp>
          <p:nvSpPr>
            <p:cNvPr id="82" name=""/>
            <p:cNvSpPr/>
            <p:nvPr/>
          </p:nvSpPr>
          <p:spPr>
            <a:xfrm>
              <a:off x="609480" y="4343400"/>
              <a:ext cx="8229600" cy="2514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82760" y="4267080"/>
              <a:ext cx="1858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</a:rPr>
                <a:t>DEMO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’s Ho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mantic Markup in COTS Document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kup as ByProduct of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graph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tent cre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Visually Annotated Ont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rporation of external 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omatically updated brief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mantically Indexed Im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 Indexing Web Craw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ML 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riefing 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acy Image Mark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mantically Described Image 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llen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omated Rendering of Imported 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yout Annotations in Visually Annotated Ont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ing Objects in Multiple (non-intersecting) 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 supported by COM generators (i.e. standard OO languag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pling with external DAML query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ying Producer Value-Added Markups in MS 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llow Briefing Associate “Markup-As-Byproduct” paradi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totyp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mantic AutoComple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mantic Reference Disambigu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ste object values into 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llow 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mantic Diagrams to establish context (for markup and consum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03:57:39Z</dcterms:created>
  <dc:creator>balzer</dc:creator>
  <dc:description/>
  <dc:language>en-US</dc:language>
  <cp:lastModifiedBy>bbn</cp:lastModifiedBy>
  <dcterms:modified xsi:type="dcterms:W3CDTF">2001-07-20T15:08:37Z</dcterms:modified>
  <cp:revision>15</cp:revision>
  <dc:subject/>
  <dc:title>Semantically Grounded Briefings</dc:title>
</cp:coreProperties>
</file>