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8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daml_2_3d%20copy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darpa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Web for the Military U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–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 a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ea will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2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rine/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of the Semantic Web are being considered and explored in multiple ways by several organiza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gether the forward thinkers of the Military Services that may take advantage of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 them to Semantic Web concept and how DAML is approaching building the language, tool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 one-another to early adopter uses of 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additional opportunities among the participant potential transitio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DAML activities/thru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organizations 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nk Management Office  - Horu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or Army 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y Development Warfare Com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Learned/Doctrin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outs in areas of C2, Doctrine/Lessons Learned, and Intelligence explored additional uses of DA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a with links to presentations and organizations available on www.daml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MU Participant Potenti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104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Mobility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Force Research Laboratory –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for Army 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er EOD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Modeling and Simulatio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ink Manage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ne Corps Intelligenc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y Warfare Development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Reconnaissanc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of Naval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of Naval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WAR System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Joint Forces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ef of Naval Operations N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group, C3, Intel, and Doctrine/LL has follow-up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eeting in late August/early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L, Dr. David Aha is ho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ill see reports by each group facilita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Rock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Flyn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trine/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 Mart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7:27:52Z</dcterms:created>
  <dc:creator>John Flynn</dc:creator>
  <dc:description/>
  <dc:language>en-US</dc:language>
  <cp:lastModifiedBy>bbn</cp:lastModifiedBy>
  <cp:lastPrinted>2000-09-29T16:21:19Z</cp:lastPrinted>
  <dcterms:modified xsi:type="dcterms:W3CDTF">2001-07-23T11:15:58Z</dcterms:modified>
  <cp:revision>53</cp:revision>
  <dc:subject>Master for General Gray's brief</dc:subject>
  <dc:title>PowerPoint Presentation</dc:title>
</cp:coreProperties>
</file>