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326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326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326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9047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9047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326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326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326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9047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9047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326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326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326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62320" y="685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daml_2_3d%20copy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731880"/>
          </a:xfrm>
          <a:prstGeom prst="rect">
            <a:avLst/>
          </a:prstGeom>
          <a:ln w="0">
            <a:noFill/>
          </a:ln>
        </p:spPr>
      </p:pic>
      <p:pic>
        <p:nvPicPr>
          <p:cNvPr id="4" name="darpa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419120" cy="64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antic Web for the Military U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3911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Breakout Session—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. Joe Rockmore/Cyladian Technology Consul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8120" y="3505320"/>
            <a:ext cx="25146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utbrief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mela Arya/N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 Finan/UM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e Lacy/DR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ard Lee/Log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 Gower/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Martin-McCormick/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Neches/USC-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Rockmore/Cyladian Technology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Schuler/Aero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ue Propos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s = custom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rs = get credit for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mi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from missing information, including to collec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on use of marked up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 counts are poor, but easily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easure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ida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 once, derived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nt Issue:  Geolocation &amp; Temporal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document enough to know locations mentioned in a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name, lat/lon, BE num, UTM, etc. disambig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nt Issue: Markup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-based markup tool needed 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= analysts too busy to do any more work, including markup, un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very easy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clear value to producers (not consum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one measures them on the quality/quantity of mark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knowledge objects from the outset, format from these objects, including English text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only work in limited cases, when reports are sufficiently struc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bility limitations at odds with identifying the unusual, which is an important task in intelli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key points as knowledge objects, embellish with natural languag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 use embellishment to improve 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nt Issue: Access to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ored push; also pull (“My Intelink”), including changes of sufficient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ions and data descriptions for matching against subscriptions may be best done using hierarchical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wlers of value, but may have access contro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of data (both by source and about 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ce-based retrieval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igree critical to main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 of markup important for speed of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nt Issue: 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collection, processing, production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mon markup language will enhance collection, thus optimizing use of intel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rs and consumers have different ways of looking at the world, not necessarily a mapping betwee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sumers provide tasking to producers, via markup of requirements on collec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 data needs from UJTL tasks or other statement of data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AML markup allow semantic understanding of information enough to affect releasability process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and intelligence users, beyond those at this workshop, that particularly should hear about DAM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MA Agent-Based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consumers (e.g., service ops cen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COM, NIPC (computer network defen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ations—How do organizations understand what DAML products/approaches could help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ed TIE’s with appropriate producers and consumers around specific value pro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e DAML web site by functionality; describe capability, maturity, etc.  Make more useful.  Also, need contract approach synopses and sta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17:27:52Z</dcterms:created>
  <dc:creator>John Flynn</dc:creator>
  <dc:description/>
  <dc:language>en-US</dc:language>
  <cp:lastModifiedBy>bbn</cp:lastModifiedBy>
  <cp:lastPrinted>2000-09-29T16:21:19Z</cp:lastPrinted>
  <dcterms:modified xsi:type="dcterms:W3CDTF">2001-07-27T02:00:41Z</dcterms:modified>
  <cp:revision>49</cp:revision>
  <dc:subject>Master for General Gray's brief</dc:subject>
  <dc:title>PowerPoint Presentation</dc:title>
</cp:coreProperties>
</file>