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362320" y="6858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daml_2_3d%20copy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371600" cy="731880"/>
          </a:xfrm>
          <a:prstGeom prst="rect">
            <a:avLst/>
          </a:prstGeom>
          <a:ln w="0">
            <a:noFill/>
          </a:ln>
        </p:spPr>
      </p:pic>
      <p:pic>
        <p:nvPicPr>
          <p:cNvPr id="4" name="darpa" descr=""/>
          <p:cNvPicPr/>
          <p:nvPr/>
        </p:nvPicPr>
        <p:blipFill>
          <a:blip r:embed="rId3"/>
          <a:stretch/>
        </p:blipFill>
        <p:spPr>
          <a:xfrm>
            <a:off x="7391520" y="228600"/>
            <a:ext cx="1419120" cy="642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daml-doc-ll@daml.org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762120" y="24382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trine Applications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sons Lear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eakout Session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ML PI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8 July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hn Flyn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83600" y="990720"/>
            <a:ext cx="521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mantic Web for Military 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cip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905120" y="1371600"/>
            <a:ext cx="632448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n Dougherty - DM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 Flynn - BB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el Gladding - Logi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 Gorniak - AFRL/IFT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te Haglich - IS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ti Hall - D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l Hultgren - NW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uck Menges - USMC Doctrine 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ck Morris - Center for Army Lessons Lear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uce Peoples - Raythe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 Werner - NW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b Wilhelm - NW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of practice made up of all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than one community: (Learn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sons lear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tr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der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ledge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bedded, networked training may be opport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er level training and embedded training should probably be linked to some ex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ential for linkage between field systems and schoolhouse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coordinate DAML and Advanced Distributed Learning initiati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ML might support the concept of doctrine without borders (dynamic doctrine with auto ripple effec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ages to experts or mentors may be a key resou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ML may provide opportunity to link distributed lower-level expertise without the info having to go to the top and filter back down (peer-to-pe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a large body of non-DAMLised information (explicit and non-explicit) that needs to be explo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y Ahe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get started choose a mission area with common service interest and strong joint flavor – challenge problem for DA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se air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d Mine Countermeasures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ct chosen must be unclassif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y Ahead (mo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t ontologies for above starting with Joint Task List and Service Task 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 existing doctrine to XML/D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experimental, theater specific, tactics/procedures, obsolete doctr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lessons learned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onstrate capability to dynamically add new lessons lear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able to combine into an op plan, battle 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 with usefulness for training/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constitutes usefulness – for user/produc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are the applicable questions &amp; metric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y Ahead (mo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some specific agents that would act as multipliers in this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capability for users to access the appropriate view based on the user’s history of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take advantage of other user’s search experience (Amazon.com – when you order book – other people who ordered that book also ordered these book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couple learning/doctrine community closely with operational close air support community 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llow Up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610480" cy="541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l lists set 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ml-milusers@daml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daml-doc-ll@daml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vy Lessons Learned Executive Steering Committee brief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itional organizations asked to be invol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RL AI L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D Office of Gulf War Ill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int Center for Lessons Learned (JWF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r Force Doctrine Comm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ML linked to Army Warrior Knowledge Network conce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ove collaboration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ML Military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ision to focus on Land Mine Counter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C developing Universal Joint Task List (UJTL) ont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ster Chief Mark Nelson (COMEODGRU TWO) working with D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elop Land Mine Countermeasures scenario (Flyn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ning next meeting at NRL AI L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4T17:27:52Z</dcterms:created>
  <dc:creator>John Flynn</dc:creator>
  <dc:description/>
  <dc:language>en-US</dc:language>
  <cp:lastModifiedBy>bbn</cp:lastModifiedBy>
  <cp:lastPrinted>2000-09-29T16:21:19Z</cp:lastPrinted>
  <dcterms:modified xsi:type="dcterms:W3CDTF">2001-07-23T15:02:06Z</dcterms:modified>
  <cp:revision>22</cp:revision>
  <dc:subject>Master for General Gray's brief</dc:subject>
  <dc:title>PowerPoint Presentation</dc:title>
</cp:coreProperties>
</file>