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601200" cy="6858000"/>
  <p:notesSz cx="6973888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732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51360" y="0"/>
            <a:ext cx="30211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055160" y="693720"/>
            <a:ext cx="48610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794800"/>
            <a:ext cx="30211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51360" y="8794800"/>
            <a:ext cx="30211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D336F37-258B-4F8A-8358-05712CEF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is is not real DAML – just sugges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able semantics; can be generated from DAML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ability analysi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able semantics; can be generated from DAML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ability analysi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able semantics; can be generated from DAML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ability analysi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able semantics; can be generated from DAML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ability analysi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5520" y="693720"/>
            <a:ext cx="4861080" cy="34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7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-S is joint work with Stanford, CMU, BBN, Nokia (see last slid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58760" y="695160"/>
            <a:ext cx="4856400" cy="3470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son to WSD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is XML-based (including XML Schema) - no attempt to increase semantic expressiveness beyon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lttle or no attention to ontology, rules, i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Grounding is almost identical, in spirit, to WSDL b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“services”  correspond to Service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has not yet provided a service model (but the authors intend to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re planning to address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is mess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58760" y="695160"/>
            <a:ext cx="4856400" cy="3470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son to WSD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is XML-based (including XML Schema) - no attempt to increase semantic expressiveness beyon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lttle or no attention to ontology, rules, i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Grounding is almost identical, in spirit, to WSDL b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“services”  correspond to Service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has not yet provided a service model (but the authors intend to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re planning to address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 is mess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5160"/>
            <a:ext cx="4856400" cy="3470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9880" y="4397040"/>
            <a:ext cx="511164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box can have an “expand” property, pointing to a composite representation of what the box d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Would be good to show a breakout expansion of one of these boxes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0720" y="489384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176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072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880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55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5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Stone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225000"/>
            <a:ext cx="81612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5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Stone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55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5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Stone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0176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20720" y="489384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0176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2072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7976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8800" y="4893840"/>
            <a:ext cx="262728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5000"/>
            <a:ext cx="81612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5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Stone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1760" y="489384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0720" y="4893840"/>
            <a:ext cx="8159760" cy="26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 flipH="1" rot="10800000">
            <a:off x="8307360" y="5907240"/>
            <a:ext cx="1085760" cy="76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55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lnSpc>
                <a:spcPct val="125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lnSpc>
                <a:spcPct val="125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lnSpc>
                <a:spcPct val="125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tone San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Stone Sans"/>
            </a:endParaRPr>
          </a:p>
          <a:p>
            <a:pPr lvl="1" marL="38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240" algn="ctr">
              <a:spcBef>
                <a:spcPts val="601"/>
              </a:spcBef>
              <a:buClr>
                <a:srgbClr val="006699"/>
              </a:buClr>
              <a:buSzPct val="75000"/>
              <a:buFont typeface="Monotype Sort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5680" algn="ctr">
              <a:spcBef>
                <a:spcPts val="451"/>
              </a:spcBef>
              <a:buClr>
                <a:srgbClr val="0066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54480" algn="ctr">
              <a:spcBef>
                <a:spcPts val="400"/>
              </a:spcBef>
              <a:buClr>
                <a:srgbClr val="0066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544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544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.sri.com/daml/ontologies/sri-daml/working/Service.daml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6880" y="15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nowledge Creation Tools for DAM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34560" y="2506680"/>
            <a:ext cx="58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t Denker,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Jerry R. Hob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vid Marti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rini Narayan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chard Wa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flipH="1" rot="10800000">
            <a:off x="8261280" y="5708160"/>
            <a:ext cx="1085760" cy="76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0680" y="437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I 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6120" y="-77760"/>
            <a:ext cx="91807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o.daml (part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5040" y="971640"/>
            <a:ext cx="810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dfs:Class rdf:ID="CongoBuyBook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ml:intersectionOf rdf:parseType="daml:collection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ml:Class rdf:about="process:Sequen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ml:Restri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ml:onProperty rdf:resource="process:components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ml:toCla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cess:-seqOf- rdf:parseType="daml:collection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dfs:Class rdf:about="#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TopLevelBuyCho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dfs:Class rdf:about="#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pecifyDelivery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dfs:Class rdf:about="#FinalizeBu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cess:-seqOf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aml:toCla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aml:Restri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aml:intersectionOf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dfs:Cla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ss Model and Infe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6320" y="1465200"/>
            <a:ext cx="8159760" cy="52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Model is constructed recursively from   DAML Mar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is stochastic and can simulate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into OAA and SN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fication, deadlock, reachability analysis, and performance analysis (such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ward-back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uting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iterbi path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Sequence(T1,T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8720" y="3808440"/>
            <a:ext cx="9590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31920" y="3691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1000" y="1871640"/>
            <a:ext cx="960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4040" y="1860480"/>
            <a:ext cx="9590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8400" y="372744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08840" y="3710160"/>
            <a:ext cx="9586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40680" y="367992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5360" y="4092480"/>
            <a:ext cx="587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4111560"/>
            <a:ext cx="587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14840" y="4127400"/>
            <a:ext cx="752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6920" y="411480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120080" y="4040280"/>
            <a:ext cx="102204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9200" y="2787480"/>
            <a:ext cx="756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82480" y="2752560"/>
            <a:ext cx="4680" cy="89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14840" y="202572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12920" y="2306520"/>
            <a:ext cx="242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40480" y="2341440"/>
            <a:ext cx="2574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oncurrent (T1, T2, T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267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40320" y="3200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1200" y="1981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9600" y="5638680"/>
            <a:ext cx="1041480" cy="914400"/>
          </a:xfrm>
          <a:prstGeom prst="ellipse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1200" y="3124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1120" y="2057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280" y="3124080"/>
            <a:ext cx="960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1320" y="4267080"/>
            <a:ext cx="9586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0400" y="2666880"/>
            <a:ext cx="1440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60400" y="3581280"/>
            <a:ext cx="136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60400" y="3657600"/>
            <a:ext cx="1519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24382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60880" y="358128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40080" y="4724280"/>
            <a:ext cx="136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80200" y="3352680"/>
            <a:ext cx="960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0440" y="4038480"/>
            <a:ext cx="2000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21080" y="4343400"/>
            <a:ext cx="4240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concur_sync (T1, T2, T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267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0320" y="3200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1200" y="1981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1200" y="3124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1120" y="2057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5240" y="3125880"/>
            <a:ext cx="960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40320" y="426708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760400" y="2666880"/>
            <a:ext cx="1440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60400" y="3581280"/>
            <a:ext cx="136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0400" y="3657600"/>
            <a:ext cx="1519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0880" y="24382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60880" y="358128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40720" y="3276720"/>
            <a:ext cx="960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80280" y="3200400"/>
            <a:ext cx="1041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1080" y="205740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0280" y="4419720"/>
            <a:ext cx="10414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1600" y="243828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73392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80000" y="4952880"/>
            <a:ext cx="8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40760" y="2514600"/>
            <a:ext cx="799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21760" y="37339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8321760" y="4190760"/>
            <a:ext cx="799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60880" y="480060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urier New"/>
              </a:rPr>
              <a:t>unordered (T1, T2, T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4267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40320" y="3200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1200" y="1981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9600" y="5638680"/>
            <a:ext cx="1041480" cy="914400"/>
          </a:xfrm>
          <a:prstGeom prst="ellipse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1200" y="3124080"/>
            <a:ext cx="1039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61120" y="2057400"/>
            <a:ext cx="9604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280" y="3124080"/>
            <a:ext cx="960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1320" y="4267080"/>
            <a:ext cx="9586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760400" y="2666880"/>
            <a:ext cx="1440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0400" y="3581280"/>
            <a:ext cx="136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0400" y="3657600"/>
            <a:ext cx="1519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60880" y="24382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60880" y="3581280"/>
            <a:ext cx="12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40080" y="4724280"/>
            <a:ext cx="136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80200" y="3352680"/>
            <a:ext cx="960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60440" y="4038480"/>
            <a:ext cx="2000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21080" y="4343400"/>
            <a:ext cx="4240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000680" y="2666520"/>
            <a:ext cx="136044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40080" y="4114800"/>
            <a:ext cx="120024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21080" y="5181480"/>
            <a:ext cx="12002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buy_net" descr=""/>
          <p:cNvPicPr/>
          <p:nvPr/>
        </p:nvPicPr>
        <p:blipFill>
          <a:blip r:embed="rId2"/>
          <a:stretch/>
        </p:blipFill>
        <p:spPr>
          <a:xfrm>
            <a:off x="0" y="0"/>
            <a:ext cx="101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5000" y="937800"/>
            <a:ext cx="8159760" cy="69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ML-S A Service Markup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rocess Models for Web-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e theories and markup for transactions,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rocesses, tim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ecution Semantics, monitoring, and simulation--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ther Work-in-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&amp; inference for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of Security and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Site Construction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75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+OIL plugin to Protégé 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Net in DAM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ecution Seman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35120" y="1047600"/>
            <a:ext cx="81597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is a high level Stochastic Petri Net and   has a well specified execution seman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extended to the more expressive Rewriting Logic (joint with Jose Mesegu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ing Logic is a logic of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widely used rewriting logic tool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More at http://maude.csl.sri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5000"/>
            <a:ext cx="8161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5120" y="1120320"/>
            <a:ext cx="8159760" cy="69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Tool ready for release , pending stable DAML-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8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 0.5 a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ttp://www.daml.org/servic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tanford KSL, CMU, BBN, Yale, No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8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I’s DAML work is described a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ttp://www.ai.sri.com/da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7800" y="275760"/>
            <a:ext cx="81615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H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5120" y="1191960"/>
            <a:ext cx="8159760" cy="53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 is a serious attempt to use DAML+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Modeling Tool for DAML-S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275760"/>
            <a:ext cx="81615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h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5120" y="1192320"/>
            <a:ext cx="8159760" cy="57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-S expressivity/naturalness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fine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fine unification constraints,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are lik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tologies are more natural to represent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ing and maintaining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ng with industry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existing industry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SzPct val="75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X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3805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ML-S: 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666800"/>
            <a:ext cx="8159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utomation of servic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markups provide enough info for an agent to find, select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act and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rvice never before 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requests handled seamlessly with informatio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composition of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omponents &amp; tools can work for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&amp; selection, ontology translation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electing and us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nford-KSL, CMU, BBN, No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960" y="269640"/>
            <a:ext cx="888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rvice Ontology: Top-level 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0920" y="1876320"/>
            <a:ext cx="3119400" cy="16002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1120" y="4952880"/>
            <a:ext cx="2719440" cy="99072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79720" y="2638440"/>
            <a:ext cx="16812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1520" y="2181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80120" y="3476520"/>
            <a:ext cx="144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61040" y="3324240"/>
            <a:ext cx="1119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52880" y="32511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200" y="32479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200400" y="3324240"/>
            <a:ext cx="1200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1570600">
            <a:off x="4355280" y="3809520"/>
            <a:ext cx="1773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9680" y="3933720"/>
            <a:ext cx="2721240" cy="99072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1560" y="3933720"/>
            <a:ext cx="2719440" cy="99072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200" y="2104920"/>
            <a:ext cx="2079720" cy="11430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9520" y="5105520"/>
            <a:ext cx="17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What th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service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0640" y="609588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34360" y="518148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How to acces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960" y="269640"/>
            <a:ext cx="888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ss Upper Ont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rocessModel" descr=""/>
          <p:cNvPicPr/>
          <p:nvPr/>
        </p:nvPicPr>
        <p:blipFill>
          <a:blip r:embed="rId2"/>
          <a:stretch/>
        </p:blipFill>
        <p:spPr>
          <a:xfrm>
            <a:off x="1511280" y="1365120"/>
            <a:ext cx="66405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9840" y="609480"/>
            <a:ext cx="34938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 Ont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0160" y="2514600"/>
            <a:ext cx="5680080" cy="0"/>
          </a:xfrm>
          <a:prstGeom prst="line">
            <a:avLst/>
          </a:prstGeom>
          <a:ln w="3816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0160" y="2362320"/>
            <a:ext cx="0" cy="304560"/>
          </a:xfrm>
          <a:prstGeom prst="line">
            <a:avLst/>
          </a:prstGeom>
          <a:ln w="1908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1280" y="2362320"/>
            <a:ext cx="0" cy="304560"/>
          </a:xfrm>
          <a:prstGeom prst="line">
            <a:avLst/>
          </a:prstGeom>
          <a:ln w="1908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4038480"/>
            <a:ext cx="5680080" cy="0"/>
          </a:xfrm>
          <a:prstGeom prst="line">
            <a:avLst/>
          </a:prstGeom>
          <a:ln w="3816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40160" y="3962520"/>
            <a:ext cx="0" cy="152280"/>
          </a:xfrm>
          <a:prstGeom prst="line">
            <a:avLst/>
          </a:prstGeom>
          <a:ln w="1908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21280" y="3962520"/>
            <a:ext cx="0" cy="152280"/>
          </a:xfrm>
          <a:prstGeom prst="line">
            <a:avLst/>
          </a:prstGeom>
          <a:ln w="1908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840" y="3962520"/>
            <a:ext cx="0" cy="152280"/>
          </a:xfrm>
          <a:prstGeom prst="line">
            <a:avLst/>
          </a:prstGeom>
          <a:ln w="1908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30800" y="18288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2e2"/>
                </a:solidFill>
                <a:latin typeface="Arial"/>
              </a:rPr>
              <a:t>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8840" y="42670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2e2"/>
                </a:solidFill>
                <a:latin typeface="Arial"/>
              </a:rPr>
              <a:t>I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40160" y="2666880"/>
            <a:ext cx="1039680" cy="1143000"/>
          </a:xfrm>
          <a:prstGeom prst="line">
            <a:avLst/>
          </a:prstGeom>
          <a:ln w="12600">
            <a:solidFill>
              <a:srgbClr val="0002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9840" y="2666880"/>
            <a:ext cx="1441440" cy="1143000"/>
          </a:xfrm>
          <a:prstGeom prst="line">
            <a:avLst/>
          </a:prstGeom>
          <a:ln w="12600">
            <a:solidFill>
              <a:srgbClr val="0002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9840" y="2666880"/>
            <a:ext cx="0" cy="1143000"/>
          </a:xfrm>
          <a:prstGeom prst="line">
            <a:avLst/>
          </a:prstGeom>
          <a:ln w="12600">
            <a:solidFill>
              <a:srgbClr val="0002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5760" y="2971800"/>
            <a:ext cx="843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2e2"/>
                </a:solidFill>
                <a:latin typeface="Arial"/>
              </a:rPr>
              <a:t>start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4040" y="2971800"/>
            <a:ext cx="76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2e2"/>
                </a:solidFill>
                <a:latin typeface="Arial"/>
              </a:rPr>
              <a:t>end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5600" y="3355920"/>
            <a:ext cx="76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2e2"/>
                </a:solidFill>
                <a:latin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40160" y="4267080"/>
            <a:ext cx="0" cy="228600"/>
          </a:xfrm>
          <a:prstGeom prst="line">
            <a:avLst/>
          </a:prstGeom>
          <a:ln w="1260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40160" y="4495680"/>
            <a:ext cx="2481120" cy="0"/>
          </a:xfrm>
          <a:prstGeom prst="line">
            <a:avLst/>
          </a:prstGeom>
          <a:ln w="12600">
            <a:solidFill>
              <a:srgbClr val="000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921280" y="4191120"/>
            <a:ext cx="0" cy="304560"/>
          </a:xfrm>
          <a:prstGeom prst="line">
            <a:avLst/>
          </a:prstGeom>
          <a:ln w="12600">
            <a:solidFill>
              <a:srgbClr val="0002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3000" y="4572000"/>
            <a:ext cx="799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2e2"/>
                </a:solidFill>
                <a:latin typeface="Arial"/>
              </a:rPr>
              <a:t>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62040" y="3124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600520" y="2590560"/>
            <a:ext cx="1439640" cy="6094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920920" y="3429000"/>
            <a:ext cx="1119240" cy="6094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6920" y="2670120"/>
            <a:ext cx="81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68560" y="3584520"/>
            <a:ext cx="833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at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7480" y="5326200"/>
            <a:ext cx="338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l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 and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6120" y="549000"/>
            <a:ext cx="81615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mple) Process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What does it do?”</a:t>
            </a:r>
            <a:br>
              <a:rPr sz="4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301400"/>
            <a:ext cx="8159760" cy="49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for use; results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” view: Information needed to execute an    atomic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, outputs, preconditions, effect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rules” for inputs,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”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vary for different 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mploy logical rules, conditional I/0,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3040" y="520200"/>
            <a:ext cx="81615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rvice Model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How does it work?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2280" y="1598400"/>
            <a:ext cx="8159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antic description of a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box”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characterization of what 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vary for different servic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1599"/>
              </a:spcBef>
              <a:buClr>
                <a:srgbClr val="00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ous to procedure body (but abstra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720" y="3805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2C Purchase: Process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2320" y="2209680"/>
            <a:ext cx="1451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53280" y="2819520"/>
            <a:ext cx="10800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7560" y="2819520"/>
            <a:ext cx="21132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-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25960" y="3505320"/>
            <a:ext cx="15372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-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83760" y="3505320"/>
            <a:ext cx="17078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-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0120" y="4343400"/>
            <a:ext cx="31496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-Payment-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840" y="4952880"/>
            <a:ext cx="33858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-Delivery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6240" y="5562720"/>
            <a:ext cx="12826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tw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3800" y="6095880"/>
            <a:ext cx="116532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9680" y="3809880"/>
            <a:ext cx="133272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3720" y="1600200"/>
            <a:ext cx="19090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-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64480" y="1752480"/>
            <a:ext cx="155520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-in-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798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200400" y="2666880"/>
            <a:ext cx="1279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00640" y="2666880"/>
            <a:ext cx="1360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962520"/>
            <a:ext cx="1360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00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0400" y="3962520"/>
            <a:ext cx="103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6084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60840" y="5410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0840" y="5410080"/>
            <a:ext cx="2000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60480" y="6019920"/>
            <a:ext cx="2079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21320" y="2057400"/>
            <a:ext cx="399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20960" y="1599840"/>
            <a:ext cx="399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52" idx="1"/>
            <a:endCxn id="151" idx="0"/>
          </p:cNvCxnSpPr>
          <p:nvPr/>
        </p:nvCxnSpPr>
        <p:spPr>
          <a:xfrm flipV="1" rot="10800000">
            <a:off x="1281960" y="1833120"/>
            <a:ext cx="2070720" cy="19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1" idx="2"/>
            <a:endCxn id="150" idx="1"/>
          </p:cNvCxnSpPr>
          <p:nvPr/>
        </p:nvCxnSpPr>
        <p:spPr>
          <a:xfrm flipH="1" rot="16200000">
            <a:off x="1519920" y="4039200"/>
            <a:ext cx="2053080" cy="252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479520" y="1600200"/>
            <a:ext cx="17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osit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3760" y="3649680"/>
            <a:ext cx="190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e or composit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6:58:57Z</dcterms:created>
  <dc:creator>Shari Fisher</dc:creator>
  <dc:description/>
  <dc:language>en-US</dc:language>
  <cp:lastModifiedBy>bbn</cp:lastModifiedBy>
  <cp:lastPrinted>2000-09-06T23:15:41Z</cp:lastPrinted>
  <dcterms:modified xsi:type="dcterms:W3CDTF">2001-07-27T11:15:25Z</dcterms:modified>
  <cp:revision>1123</cp:revision>
  <dc:subject/>
  <dc:title>Board - October</dc:title>
</cp:coreProperties>
</file>