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709-16A5-4944-8259-E9BD2D8C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26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F6A-2C24-4DAA-90BA-AC8D7DDE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E8B-ADBD-4844-A161-CD6D979E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26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26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26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B30-F656-4A49-80C2-DD4356AD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195A-0E87-4667-9552-FBE7D8DD3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1FA80-1BC0-42FA-B0DF-F3BDD683E7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67A2A-3DEB-44F1-83CD-D1FE85C674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2EC2-FAE9-481F-99D0-6D2CB98A1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45737-548A-40B2-A9ED-762A346A98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3C4B6-4B8E-46A9-B5DD-E296EB9790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87015-A7C3-4CC5-B599-86668607A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C08-A5CC-4CC4-B438-CA84BE9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AC771-5FEA-466D-8E8D-66E4AE6D2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26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786AE-1D50-4008-8945-27A7167947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26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15228-4287-41B9-BCDD-18EE6859F0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52A70-0B20-443C-B829-E72EDD4691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26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26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26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782E9-8059-471A-AC37-D92C8795D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0F5-D7D3-4726-8159-3FD7546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668-279E-4691-8EC5-24643627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17C-EA1B-4D6F-A864-9D96EF5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6CF-ECA2-49AF-9EC9-EAEAB8EC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1A2-C3FF-4361-8EC4-AFCBC19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26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5E9-C513-41F6-8BE9-3A4C0B9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26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946-8A9F-4205-983C-008BEE7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98F6-0F11-481B-B912-C5E6A474B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S_On_Blue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60984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D3B5-BFE5-434F-B92F-16C2A1C14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VIS_On_Blue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139068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gVISor: A DAML Debugging To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520" y="4343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ch Ko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atile Information System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@mindspr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64C03-D65C-4060-897F-2AD85F7355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VISor: consistency che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 axioms of DA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s results (errors and hi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VISor is available for use at: http://vis.home.mindspring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3E5-0973-489C-98B9-4959B73724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EB2BE-54FD-44B5-8EA6-4E7A187C07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VISor -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00600" cy="46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72C-465C-45CC-9945-A5905962AB4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B7E8-5CCD-46FD-971E-FE3EE37FB7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9124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7840" y="4952880"/>
          <a:ext cx="8458200" cy="1676520"/>
        </p:xfrm>
        <a:graphic>
          <a:graphicData uri="http://schemas.openxmlformats.org/drawingml/2006/table">
            <a:tbl>
              <a:tblPr/>
              <a:tblGrid>
                <a:gridCol w="642960"/>
                <a:gridCol w="609480"/>
                <a:gridCol w="720576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2b4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2b4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2b48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classes http://quantlabs.com/vis/ont/vehicle.daml#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Cra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http://quantlabs.com/vis/ont/vehicle.daml#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Vehic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ere declared to b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joi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ut the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conta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ttp://quantlabs.com/vis/ont/vehicle.daml#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k337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8D6-2F07-4999-96D5-A46E7DAF8CD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1C77F-C492-4FF5-9320-6CD3FADB40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gVIS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gVISor would extend ConsVISor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tating errors and warnings found by ConsVISor using a DAML ontology (BugOntology.da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ing about errors and war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nd displaying the cause of errors and war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DFF-1429-4A4F-8B9E-2D6F831C6D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85146-AB93-4D4C-8233-E09A7C76CA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495720" y="209520"/>
            <a:ext cx="9410760" cy="12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gVISor - co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295280"/>
            <a:ext cx="1905120" cy="1143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ed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1295280"/>
            <a:ext cx="1219320" cy="7621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666880"/>
            <a:ext cx="1524240" cy="1067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368960"/>
            <a:ext cx="1295280" cy="8380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267080"/>
            <a:ext cx="1524240" cy="1067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971800"/>
            <a:ext cx="1218960" cy="7621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whatnow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1335240" cy="190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1523880" y="18284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190512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49568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666880"/>
            <a:ext cx="1752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505320"/>
            <a:ext cx="1752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9568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791320"/>
            <a:ext cx="1219320" cy="7617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62940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895480"/>
            <a:ext cx="1752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7AD-410C-4318-9E16-8AD77675F27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42E9E-BDFE-422E-A698-8026965CE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gVISor – proposed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on DAML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Bug Ontology in D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annotat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abou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grow together with D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779-91BA-4994-AE72-4E865CC66A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F2579-5F61-4DC8-AB41-0A276BF1DF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W! Fac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make finding errors easier, simpler,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make DAML more user-friendly and att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RODUCTIVITY of ontology developers and annot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QUALITY of ontologies and an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365-12B5-4449-A394-E8AB0C6A62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55AC0-4693-4437-9C67-BC7B4F2532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W! Factors: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ested one of the ontologies on dam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VISor found 76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were related to a single ty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Arial"/>
              </a:rPr>
              <a:t>daml+o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lang="en-US" sz="2600" spc="-1" strike="noStrike">
                <a:solidFill>
                  <a:srgbClr val="ff00ff"/>
                </a:solidFill>
                <a:latin typeface="Arial"/>
              </a:rPr>
              <a:t>daml+o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 that easy to find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gVISor would hel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BA7-9BE1-4202-A30A-7A93EEF901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E7722-7437-4533-BDDB-E4EC50C3FF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4T16:42:23Z</dcterms:created>
  <dc:creator>user</dc:creator>
  <dc:description/>
  <dc:language>en-US</dc:language>
  <cp:lastModifiedBy>bbn</cp:lastModifiedBy>
  <dcterms:modified xsi:type="dcterms:W3CDTF">2001-07-23T10:59:29Z</dcterms:modified>
  <cp:revision>11</cp:revision>
  <dc:subject/>
  <dc:title>BugVISor: A DAML Debugging Tool</dc:title>
</cp:coreProperties>
</file>