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BBE7-04B5-4319-B531-1AF754B28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869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3080" y="4217040"/>
            <a:ext cx="869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B280-EFB4-4961-815C-F37A2A2A1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4308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916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1C20-0EAF-40CC-B362-10794AD44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3560" y="182880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24040" y="182880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43080" y="421704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3560" y="421704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24040" y="421704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9317-FE2F-4946-A50B-0FFC8754E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8696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8696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77480" y="1143000"/>
            <a:ext cx="88390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308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8696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ECCE-3511-4BAE-B2EE-5263917F4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9916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3080" y="4217040"/>
            <a:ext cx="869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869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080" y="4217040"/>
            <a:ext cx="869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308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9916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83560" y="182880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24040" y="182880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43080" y="421704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83560" y="421704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24040" y="421704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8696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F7F7-89A6-476D-BE26-B6B91872E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2E27-7E85-4C32-BBE7-9D02657B2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226D-D389-4F85-B634-B1F5F42BA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7480" y="1143000"/>
            <a:ext cx="88390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CF64-303E-496E-BF31-E369F24D8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308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31B1-93C9-4040-B1A4-5D9E424A4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916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CB0AA-2B8D-4AB6-B3D5-BD68E5F60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3080" y="4217040"/>
            <a:ext cx="869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FBD1-DC64-4877-8A7B-EEF755BE2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8101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0"/>
            <a:ext cx="7996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0" b="11036"/>
          <a:stretch/>
        </p:blipFill>
        <p:spPr>
          <a:xfrm>
            <a:off x="1143000" y="46080"/>
            <a:ext cx="4549680" cy="6397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7520"/>
            <a:ext cx="1143000" cy="7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7480" y="11430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43080" y="1828800"/>
            <a:ext cx="8696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821052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9840" y="6398640"/>
            <a:ext cx="7542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eb"/>
                </a:solidFill>
                <a:latin typeface="Arial"/>
              </a:rPr>
              <a:t>Page</a:t>
            </a:r>
            <a:r>
              <a:rPr b="1" lang="en-US" sz="1000" spc="-1" strike="noStrike">
                <a:solidFill>
                  <a:srgbClr val="96fafc"/>
                </a:solidFill>
                <a:latin typeface="Arial"/>
              </a:rPr>
              <a:t> </a:t>
            </a:r>
            <a:fld id="{5459F0A1-2CCD-4C25-B881-5DDE217FEFD7}" type="slidenum">
              <a:rPr b="1" lang="en-US" sz="1000" spc="-1" strike="noStrike">
                <a:solidFill>
                  <a:srgbClr val="96faf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90720" y="6583320"/>
            <a:ext cx="8153280" cy="2746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8"/>
          <a:stretch/>
        </p:blipFill>
        <p:spPr>
          <a:xfrm>
            <a:off x="965160" y="6576840"/>
            <a:ext cx="7678800" cy="2304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66320" y="6555960"/>
            <a:ext cx="5473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9"/>
          <a:stretch/>
        </p:blipFill>
        <p:spPr>
          <a:xfrm>
            <a:off x="6381720" y="152280"/>
            <a:ext cx="1695600" cy="3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932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6583320"/>
            <a:ext cx="8153280" cy="2746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65160" y="6576840"/>
            <a:ext cx="7678800" cy="230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638680" y="0"/>
            <a:ext cx="350064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981080"/>
            <a:ext cx="8001000" cy="144792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1066320" y="6525360"/>
            <a:ext cx="54738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2193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0" r="91893" b="0"/>
          <a:stretch/>
        </p:blipFill>
        <p:spPr>
          <a:xfrm>
            <a:off x="0" y="758880"/>
            <a:ext cx="990720" cy="6099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520"/>
            <a:ext cx="1143000" cy="714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rcRect l="0" t="0" r="0" b="11036"/>
          <a:stretch/>
        </p:blipFill>
        <p:spPr>
          <a:xfrm>
            <a:off x="1143000" y="46080"/>
            <a:ext cx="4549680" cy="639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821052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381720" y="152280"/>
            <a:ext cx="1695600" cy="381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76320" y="74772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87480" y="649440"/>
            <a:ext cx="342900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0b8c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1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81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932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30040" y="2133360"/>
            <a:ext cx="786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UML-Based Ontology Toolse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429000" y="3581280"/>
            <a:ext cx="548640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1"/>
                </a:solidFill>
                <a:latin typeface="Arial"/>
              </a:rPr>
              <a:t>Dr. Paul Kogut</a:t>
            </a: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1"/>
                </a:solidFill>
                <a:latin typeface="Arial"/>
              </a:rPr>
              <a:t>Lockheed Martin</a:t>
            </a: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1"/>
                </a:solidFill>
                <a:latin typeface="Arial"/>
              </a:rPr>
              <a:t>Management &amp; Data Systems</a:t>
            </a: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1"/>
                </a:solidFill>
                <a:latin typeface="Arial"/>
              </a:rPr>
              <a:t>Valley Forge, PA</a:t>
            </a: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17880" y="1054080"/>
            <a:ext cx="194652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8101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920" y="1581120"/>
            <a:ext cx="8696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1"/>
                </a:solidFill>
                <a:latin typeface="Arial"/>
              </a:rPr>
              <a:t>Input: 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URI for HTML webpage</a:t>
            </a:r>
            <a:endParaRPr b="0" lang="en-US" sz="2400" spc="-1" strike="noStrike">
              <a:solidFill>
                <a:srgbClr val="ffff8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1"/>
                </a:solidFill>
                <a:latin typeface="Arial"/>
              </a:rPr>
              <a:t>Processing: 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extract common entities and relationships and link them to appropriate DAML classes and properties </a:t>
            </a:r>
            <a:endParaRPr b="0" lang="en-US" sz="2400" spc="-1" strike="noStrike">
              <a:solidFill>
                <a:srgbClr val="ffff81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Bill Gates-&gt;genericOntology:person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1"/>
                </a:solidFill>
                <a:latin typeface="Arial"/>
              </a:rPr>
              <a:t>Output: 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DAML annotation file</a:t>
            </a:r>
            <a:endParaRPr b="0" lang="en-US" sz="2400" spc="-1" strike="noStrike">
              <a:solidFill>
                <a:srgbClr val="ffff8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1"/>
                </a:solidFill>
                <a:latin typeface="Arial"/>
              </a:rPr>
              <a:t>Wow factor: 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accelerate the proliferation of DAML annotated websites by helping the typical website developer who does not care about what an ontology is</a:t>
            </a:r>
            <a:endParaRPr b="0" lang="en-US" sz="2400" spc="-1" strike="noStrike">
              <a:solidFill>
                <a:srgbClr val="ffff8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1"/>
                </a:solidFill>
                <a:latin typeface="Arial"/>
              </a:rPr>
              <a:t>Candidate improvements: </a:t>
            </a:r>
            <a:endParaRPr b="0" lang="en-US" sz="2400" spc="-1" strike="noStrike">
              <a:solidFill>
                <a:srgbClr val="ffff81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Allow the user to select other ontologies besides the default generic ontology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OpenCyc, CIA Factbook, IEEE Standard Upper Ontology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Allow the user to annotate an entire website (not just a single page)</a:t>
            </a:r>
            <a:r>
              <a:rPr b="0" lang="en-US" sz="2000" spc="-1" strike="noStrike">
                <a:solidFill>
                  <a:srgbClr val="ffff8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77480" y="11430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AeroDAML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61160" y="977760"/>
            <a:ext cx="1216080" cy="86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004480" y="6524640"/>
            <a:ext cx="45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81"/>
                </a:solidFill>
                <a:latin typeface="Arial"/>
              </a:rPr>
              <a:t>http://ubot.lockheedmartin.com/ubot/hotdaml</a:t>
            </a:r>
            <a:endParaRPr b="0" lang="en-US" sz="1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D67D-AD26-480D-AF41-D4971C4097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8101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7480" y="11430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DAML VisuaLink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3080" y="1765440"/>
            <a:ext cx="8696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1"/>
                </a:solidFill>
                <a:latin typeface="Arial"/>
              </a:rPr>
              <a:t>Input: 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URI for DAML annotated website</a:t>
            </a:r>
            <a:endParaRPr b="0" lang="en-US" sz="2400" spc="-1" strike="noStrike">
              <a:solidFill>
                <a:srgbClr val="ffff8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1"/>
                </a:solidFill>
                <a:latin typeface="Arial"/>
              </a:rPr>
              <a:t>Processing: 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advanced graphical tools from Visual Analytics display property links</a:t>
            </a:r>
            <a:endParaRPr b="0" lang="en-US" sz="24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persons to organizations...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1"/>
                </a:solidFill>
                <a:latin typeface="Arial"/>
              </a:rPr>
              <a:t>Output: 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visualization of DAML annotations</a:t>
            </a:r>
            <a:endParaRPr b="0" lang="en-US" sz="2400" spc="-1" strike="noStrike">
              <a:solidFill>
                <a:srgbClr val="ffff8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1"/>
                </a:solidFill>
                <a:latin typeface="Arial"/>
              </a:rPr>
              <a:t>Wow factors: </a:t>
            </a:r>
            <a:endParaRPr b="0" lang="en-US" sz="24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help analyst mine information from DAML websites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help website developers check for DAML annotation errors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1"/>
                </a:solidFill>
                <a:latin typeface="Arial"/>
              </a:rPr>
              <a:t>Candidate improvements: </a:t>
            </a:r>
            <a:endParaRPr b="0" lang="en-US" sz="24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enhance the prototype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integrate with AeroDAML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48480" y="990720"/>
            <a:ext cx="1216080" cy="863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004480" y="6521400"/>
            <a:ext cx="45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81"/>
                </a:solidFill>
                <a:latin typeface="Arial"/>
              </a:rPr>
              <a:t>http://ubot.lockheedmartin.com/ubot/hotdaml</a:t>
            </a:r>
            <a:endParaRPr b="0" lang="en-US" sz="1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6A312-FC6A-45D7-B454-8A852A9110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8101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7480" y="11430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onsVISor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3080" y="1765440"/>
            <a:ext cx="8696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1"/>
                </a:solidFill>
                <a:latin typeface="Arial"/>
              </a:rPr>
              <a:t>Input: 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URI for DAML ontology or annotation</a:t>
            </a:r>
            <a:endParaRPr b="0" lang="en-US" sz="2400" spc="-1" strike="noStrike">
              <a:solidFill>
                <a:srgbClr val="ffff8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1"/>
                </a:solidFill>
                <a:latin typeface="Arial"/>
              </a:rPr>
              <a:t>Processing: 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Prolog-based tool that checks ontologies against the DAML+OIL axiomatic semantic specification </a:t>
            </a:r>
            <a:endParaRPr b="0" lang="en-US" sz="2400" spc="-1" strike="noStrike">
              <a:solidFill>
                <a:srgbClr val="ffff8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1"/>
                </a:solidFill>
                <a:latin typeface="Arial"/>
              </a:rPr>
              <a:t>Output: 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list of error and warning messages</a:t>
            </a:r>
            <a:endParaRPr b="0" lang="en-US" sz="2400" spc="-1" strike="noStrike">
              <a:solidFill>
                <a:srgbClr val="ffff8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1"/>
                </a:solidFill>
                <a:latin typeface="Arial"/>
              </a:rPr>
              <a:t>Wow factors: </a:t>
            </a:r>
            <a:endParaRPr b="0" lang="en-US" sz="24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help ontology engineers check ontologies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help website developers check DAML annotations 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1"/>
                </a:solidFill>
                <a:latin typeface="Arial"/>
              </a:rPr>
              <a:t>Candidate improvements: </a:t>
            </a:r>
            <a:endParaRPr b="0" lang="en-US" sz="24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integrate with Specware and SNARK theorem prover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add BugVISor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1160" y="927000"/>
            <a:ext cx="1216080" cy="863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004480" y="6521400"/>
            <a:ext cx="45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81"/>
                </a:solidFill>
                <a:latin typeface="Arial"/>
              </a:rPr>
              <a:t>http://ubot.lockheedmartin.com/ubot/hotdaml</a:t>
            </a:r>
            <a:endParaRPr b="0" lang="en-US" sz="1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AF333-1905-4C67-903F-1F2B90EFFD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1:02:36Z</dcterms:created>
  <dc:creator>William Holmes</dc:creator>
  <dc:description>Prepared for the Lockheed Martin 2001 Joint Symposium.
Internal: http://www.epic.lmco.com/js01/
External: http://www.owego.com/js01/</dc:description>
  <cp:keywords>DAML UBOT Semantic Web XML Agent DARPA</cp:keywords>
  <dc:language>en-US</dc:language>
  <cp:lastModifiedBy>Paul Anthony Kogut</cp:lastModifiedBy>
  <cp:lastPrinted>2001-07-16T19:11:08Z</cp:lastPrinted>
  <dcterms:modified xsi:type="dcterms:W3CDTF">2001-07-18T23:50:10Z</dcterms:modified>
  <cp:revision>172</cp:revision>
  <dc:subject>DAML</dc:subject>
  <dc:title>XML + Semantics = DARPA Agent Markup Language (DAML)</dc:title>
</cp:coreProperties>
</file>