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691-2DAC-409C-AC5B-7E98196B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63C-31E0-4988-970E-399BB73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BDA-314E-4839-8639-1522A418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DD6-A4AF-4ED1-98E6-40807639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F8D-16AC-4CE2-8F7A-A200D18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A03-31B1-468A-A36C-523321A9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296-35CF-4A8F-A292-25B0E14A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EEB-4A6F-4F83-B4ED-71C33EE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0A8-9763-4CB9-929A-A951825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941-4B04-4CBF-B04A-26D416C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8B4-F718-4AB1-AC3E-C00E531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176-266F-4938-A800-54B6162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800" y="6502320"/>
            <a:ext cx="852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at’s Hot Part II - McIlraith, KSL Stanford                                                                                                                              DAML PI Meeting 07/19/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95F-B4A8-4055-9F24-C015324D8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hat’s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Hot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in the KSL Services Work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4680" y="2117880"/>
            <a:ext cx="72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. DAML-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2. DAML-S to PDDL translator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3. DAML-S Editor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&amp; reasoning about action &amp; 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4. Automated Web Service Compos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229160" y="2901960"/>
            <a:ext cx="1818000" cy="2744640"/>
            <a:chOff x="7229160" y="2901960"/>
            <a:chExt cx="1818000" cy="2744640"/>
          </a:xfrm>
        </p:grpSpPr>
        <p:sp>
          <p:nvSpPr>
            <p:cNvPr id="44" name=""/>
            <p:cNvSpPr/>
            <p:nvPr/>
          </p:nvSpPr>
          <p:spPr>
            <a:xfrm rot="20178000">
              <a:off x="7280640" y="324144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0178000">
              <a:off x="7236360" y="410184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0178000">
              <a:off x="7228440" y="493848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tatus &amp; Future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990720"/>
            <a:ext cx="7778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600" y="1146240"/>
            <a:ext cx="8417880" cy="55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DAML-Ontolingua translator + OKBC to Ontolingu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DAML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editing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existing 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Ed (Manchester) or Protégé w/ DAML+OIL (SRI)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 Reason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Get me all the inputs for AcmeTruck serv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SL JTP DAML+OIL reasoner?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of service processes (with S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e DAML-S with Chima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178000">
            <a:off x="6461640" y="2255760"/>
            <a:ext cx="22550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See our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609480"/>
            <a:ext cx="8456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hat’s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Hot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in KSL Services Work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87120" y="2117880"/>
            <a:ext cx="763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. DAML-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2. DAML-S to PDDL translator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3. DAML-S Editor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&amp; reasoning about action &amp; 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4. Automated Web Service Compos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229160" y="2901960"/>
            <a:ext cx="1818000" cy="2744640"/>
            <a:chOff x="7229160" y="2901960"/>
            <a:chExt cx="1818000" cy="2744640"/>
          </a:xfrm>
        </p:grpSpPr>
        <p:sp>
          <p:nvSpPr>
            <p:cNvPr id="85" name=""/>
            <p:cNvSpPr/>
            <p:nvPr/>
          </p:nvSpPr>
          <p:spPr>
            <a:xfrm rot="20178000">
              <a:off x="7280640" y="324144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178000">
              <a:off x="7236360" y="410184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178000">
              <a:off x="7228440" y="4938480"/>
              <a:ext cx="1766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See our d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990720"/>
            <a:ext cx="8318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1336680"/>
            <a:ext cx="83296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utomated Web Servic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E.g., Arrange food for 500 people for 2 weeks in Dub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Plan a sequences of services that realize user’s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P complete or wo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Customize reusable 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 and archive reus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ustomiz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’s constra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P complete or worse in a reduced search 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:  efficiency, ease of use,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71600" y="1600200"/>
            <a:ext cx="5867280" cy="4723920"/>
            <a:chOff x="1371600" y="1600200"/>
            <a:chExt cx="5867280" cy="4723920"/>
          </a:xfrm>
        </p:grpSpPr>
        <p:grpSp>
          <p:nvGrpSpPr>
            <p:cNvPr id="93" name=""/>
            <p:cNvGrpSpPr/>
            <p:nvPr/>
          </p:nvGrpSpPr>
          <p:grpSpPr>
            <a:xfrm>
              <a:off x="5486400" y="3258720"/>
              <a:ext cx="1752480" cy="1543680"/>
              <a:chOff x="5486400" y="3258720"/>
              <a:chExt cx="1752480" cy="1543680"/>
            </a:xfrm>
          </p:grpSpPr>
          <p:sp>
            <p:nvSpPr>
              <p:cNvPr id="94" name=""/>
              <p:cNvSpPr/>
              <p:nvPr/>
            </p:nvSpPr>
            <p:spPr>
              <a:xfrm>
                <a:off x="5486400" y="4282200"/>
                <a:ext cx="175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web pag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5903640" y="3258720"/>
                <a:ext cx="1001160" cy="977400"/>
                <a:chOff x="5903640" y="3258720"/>
                <a:chExt cx="1001160" cy="97740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6318000" y="3258720"/>
                  <a:ext cx="241560" cy="244440"/>
                  <a:chOff x="6318000" y="3258720"/>
                  <a:chExt cx="241560" cy="2444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6318000" y="325872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352560" y="33501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87120" y="33501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352560" y="33807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387120" y="338076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21320" y="338076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387120" y="341136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5972400" y="3991680"/>
                  <a:ext cx="241560" cy="244440"/>
                  <a:chOff x="5972400" y="3991680"/>
                  <a:chExt cx="241560" cy="2444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972400" y="39916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006960" y="40831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041520" y="40831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006960" y="41137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041520" y="4113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07572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04152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5903640" y="3533400"/>
                  <a:ext cx="241560" cy="244440"/>
                  <a:chOff x="5903640" y="3533400"/>
                  <a:chExt cx="241560" cy="24444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5903640" y="35334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5938200" y="3624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972760" y="36248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938200" y="3655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972760" y="3655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006960" y="36554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972760" y="3686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6559560" y="3991680"/>
                  <a:ext cx="241560" cy="244440"/>
                  <a:chOff x="6559560" y="3991680"/>
                  <a:chExt cx="241560" cy="2444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9560" y="399168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94120" y="40831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628680" y="40831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594120" y="41137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628680" y="411372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66288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2868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6318000" y="3686400"/>
                  <a:ext cx="241560" cy="244080"/>
                  <a:chOff x="6318000" y="3686400"/>
                  <a:chExt cx="241560" cy="244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6318000" y="368640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52560" y="3777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387120" y="37778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352560" y="3808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387120" y="3808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421320" y="380844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387120" y="3839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663240" y="3533400"/>
                  <a:ext cx="241560" cy="244440"/>
                  <a:chOff x="6663240" y="3533400"/>
                  <a:chExt cx="241560" cy="2444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663240" y="353340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697800" y="36248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732360" y="36248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697800" y="36554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732360" y="365544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766560" y="365544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32360" y="368604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 flipH="1" flipV="1">
                  <a:off x="6041520" y="37468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6110640" y="344160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6144840" y="3503160"/>
                  <a:ext cx="24156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6144840" y="3655800"/>
                  <a:ext cx="31068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6559560" y="368604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6559200" y="344196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6041160" y="3350160"/>
                  <a:ext cx="2761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6455520" y="38995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14320" y="4083480"/>
                  <a:ext cx="345240" cy="3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6697800" y="37778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 flipV="1">
              <a:off x="3886200" y="4267080"/>
              <a:ext cx="304920" cy="53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4267080"/>
              <a:ext cx="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876920" y="4267080"/>
              <a:ext cx="304560" cy="53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95680" y="31237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905120" y="5257440"/>
              <a:ext cx="871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638680" y="3124080"/>
              <a:ext cx="30492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352680" y="4952520"/>
              <a:ext cx="533520" cy="533160"/>
              <a:chOff x="3352680" y="4952520"/>
              <a:chExt cx="533520" cy="5331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86160" y="5257440"/>
                <a:ext cx="468720" cy="228240"/>
                <a:chOff x="3386160" y="5257440"/>
                <a:chExt cx="468720" cy="22824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3386160" y="5257440"/>
                  <a:ext cx="200880" cy="228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4000" y="5257440"/>
                  <a:ext cx="200880" cy="228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 flipV="1">
                <a:off x="3352680" y="4952160"/>
                <a:ext cx="533520" cy="456840"/>
              </a:xfrm>
              <a:custGeom>
                <a:avLst/>
                <a:gdLst>
                  <a:gd name="textAreaLeft" fmla="*/ 117360 w 533520"/>
                  <a:gd name="textAreaRight" fmla="*/ 416160 w 533520"/>
                  <a:gd name="textAreaTop" fmla="*/ 100440 h 456840"/>
                  <a:gd name="textAreaBottom" fmla="*/ 3564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20080" y="5028840"/>
                <a:ext cx="66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54000" y="5028840"/>
                <a:ext cx="66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20080" y="5143320"/>
                <a:ext cx="200520" cy="37800"/>
              </a:xfrm>
              <a:custGeom>
                <a:avLst/>
                <a:gdLst/>
                <a:ahLst/>
                <a:rect l="l" t="t" r="r" b="b"/>
                <a:pathLst>
                  <a:path w="288" h="48">
                    <a:moveTo>
                      <a:pt x="0" y="0"/>
                    </a:moveTo>
                    <a:cubicBezTo>
                      <a:pt x="48" y="24"/>
                      <a:pt x="96" y="48"/>
                      <a:pt x="144" y="48"/>
                    </a:cubicBezTo>
                    <a:cubicBezTo>
                      <a:pt x="192" y="48"/>
                      <a:pt x="264" y="8"/>
                      <a:pt x="288" y="0"/>
                    </a:cubicBezTo>
                  </a:path>
                </a:pathLst>
              </a:custGeom>
              <a:solidFill>
                <a:srgbClr val="9900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743200" y="1600200"/>
              <a:ext cx="3505320" cy="1447560"/>
              <a:chOff x="2743200" y="1600200"/>
              <a:chExt cx="3505320" cy="144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2781360" y="1600200"/>
                <a:ext cx="3429000" cy="144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2743200" y="1692000"/>
                <a:ext cx="3505320" cy="1282320"/>
                <a:chOff x="2743200" y="1692000"/>
                <a:chExt cx="3505320" cy="12823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191120" y="20574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4648320" y="1692000"/>
                  <a:ext cx="1600200" cy="1282320"/>
                  <a:chOff x="4648320" y="1692000"/>
                  <a:chExt cx="1600200" cy="1282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648320" y="245412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Service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4989600" y="1692000"/>
                    <a:ext cx="915840" cy="782640"/>
                    <a:chOff x="4989600" y="1692000"/>
                    <a:chExt cx="915840" cy="782640"/>
                  </a:xfrm>
                </p:grpSpPr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5218200" y="1692000"/>
                      <a:ext cx="687240" cy="717480"/>
                      <a:chOff x="5218200" y="1692000"/>
                      <a:chExt cx="687240" cy="71748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218200" y="169200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5310360" y="1742400"/>
                        <a:ext cx="457200" cy="536400"/>
                        <a:chOff x="5310360" y="1742400"/>
                        <a:chExt cx="457200" cy="53640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5671800" y="218844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5538600" y="187992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5584680" y="206244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5538960" y="206244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5356080" y="206244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V="1">
                          <a:off x="5493240" y="178848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5447160" y="174240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>
                          <a:off x="5447160" y="187992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5493240" y="201672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531036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7612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5493240" y="183420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630400" y="17884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401800" y="183420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47160" y="174276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4989600" y="1757160"/>
                      <a:ext cx="687240" cy="717480"/>
                      <a:chOff x="4989600" y="1757160"/>
                      <a:chExt cx="687240" cy="71748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4989600" y="175716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5081760" y="1807560"/>
                        <a:ext cx="457200" cy="536400"/>
                        <a:chOff x="5081760" y="1807560"/>
                        <a:chExt cx="457200" cy="53640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5443200" y="225360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H="1" flipV="1">
                          <a:off x="5310000" y="194508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5356080" y="212760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5310360" y="212760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flipH="1">
                          <a:off x="5127480" y="212760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flipV="1">
                          <a:off x="5264640" y="185364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 flipH="1" flipV="1">
                          <a:off x="5218560" y="180756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flipH="1">
                          <a:off x="5218560" y="194508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5264640" y="208188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508176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544752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5264640" y="189936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5401800" y="18536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5173200" y="189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5218560" y="180792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2743200" y="1692000"/>
                  <a:ext cx="1600200" cy="1282320"/>
                  <a:chOff x="2743200" y="1692000"/>
                  <a:chExt cx="1600200" cy="12823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2743200" y="245412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Arial"/>
                      </a:rPr>
                      <a:t>Web Procedures Ontologi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3084480" y="1692000"/>
                    <a:ext cx="915840" cy="782640"/>
                    <a:chOff x="3084480" y="1692000"/>
                    <a:chExt cx="915840" cy="782640"/>
                  </a:xfrm>
                </p:grpSpPr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3313080" y="1692000"/>
                      <a:ext cx="687240" cy="717480"/>
                      <a:chOff x="3313080" y="1692000"/>
                      <a:chExt cx="687240" cy="71748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3313080" y="169200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3405240" y="1742400"/>
                        <a:ext cx="457200" cy="536400"/>
                        <a:chOff x="3405240" y="1742400"/>
                        <a:chExt cx="457200" cy="536400"/>
                      </a:xfrm>
                    </p:grpSpPr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3766680" y="218844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 flipH="1" flipV="1">
                          <a:off x="3633480" y="187992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3679560" y="206244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3633840" y="206244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 flipH="1">
                          <a:off x="3450960" y="206244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 flipV="1">
                          <a:off x="3588120" y="178848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flipH="1" flipV="1">
                          <a:off x="3542040" y="174240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 flipH="1">
                          <a:off x="3542040" y="187992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3588120" y="201672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340524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3771000" y="201672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588120" y="183420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3725280" y="178848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3496680" y="183420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542040" y="174276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3084480" y="1757160"/>
                      <a:ext cx="687240" cy="717480"/>
                      <a:chOff x="3084480" y="1757160"/>
                      <a:chExt cx="687240" cy="717480"/>
                    </a:xfrm>
                  </p:grpSpPr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3084480" y="1757160"/>
                        <a:ext cx="687240" cy="717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3176640" y="1807560"/>
                        <a:ext cx="457200" cy="536400"/>
                        <a:chOff x="3176640" y="1807560"/>
                        <a:chExt cx="457200" cy="53640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3538080" y="2253600"/>
                          <a:ext cx="91440" cy="9036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H="1" flipV="1">
                          <a:off x="3404880" y="1945080"/>
                          <a:ext cx="4572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3450960" y="2127600"/>
                          <a:ext cx="136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3405240" y="2127600"/>
                          <a:ext cx="167760" cy="1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flipH="1">
                          <a:off x="3222360" y="2127600"/>
                          <a:ext cx="182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V="1">
                          <a:off x="3359520" y="1853640"/>
                          <a:ext cx="18288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 flipV="1">
                          <a:off x="3313440" y="1807560"/>
                          <a:ext cx="91440" cy="137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3313440" y="1945080"/>
                          <a:ext cx="91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3359520" y="2081880"/>
                          <a:ext cx="137160" cy="13680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317664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3542400" y="2081880"/>
                          <a:ext cx="91440" cy="9144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0" bIns="18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3359520" y="1899360"/>
                          <a:ext cx="91440" cy="9108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640" bIns="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3496680" y="185364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3268080" y="1899360"/>
                          <a:ext cx="4536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313440" y="1807920"/>
                          <a:ext cx="45720" cy="45720"/>
                        </a:xfrm>
                        <a:prstGeom prst="ellipse">
                          <a:avLst/>
                        </a:prstGeom>
                        <a:solidFill>
                          <a:srgbClr val="0099cc"/>
                        </a:solidFill>
                        <a:ln w="9360">
                          <a:solidFill>
                            <a:srgbClr val="33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250" name=""/>
            <p:cNvSpPr/>
            <p:nvPr/>
          </p:nvSpPr>
          <p:spPr>
            <a:xfrm>
              <a:off x="525780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3657240"/>
              <a:ext cx="1295640" cy="533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95480" y="5257440"/>
              <a:ext cx="38124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35400" y="49528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371600" y="3288960"/>
              <a:ext cx="2286000" cy="1726920"/>
              <a:chOff x="1371600" y="3288960"/>
              <a:chExt cx="2286000" cy="1726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981080" y="3288960"/>
                <a:ext cx="1001880" cy="977760"/>
                <a:chOff x="1981080" y="3288960"/>
                <a:chExt cx="1001880" cy="97776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2395440" y="3288960"/>
                  <a:ext cx="241560" cy="244440"/>
                  <a:chOff x="2395440" y="3288960"/>
                  <a:chExt cx="241560" cy="2444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2395440" y="328896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430000" y="33804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464560" y="33804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430000" y="34110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464560" y="341100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498760" y="341100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464560" y="344160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2049840" y="4022280"/>
                  <a:ext cx="241920" cy="244440"/>
                  <a:chOff x="2049840" y="4022280"/>
                  <a:chExt cx="241920" cy="2444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049840" y="402228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84400" y="41137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11896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8440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118960" y="41443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153520" y="4144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118960" y="4174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1981080" y="3563640"/>
                  <a:ext cx="241560" cy="244440"/>
                  <a:chOff x="1981080" y="3563640"/>
                  <a:chExt cx="241560" cy="2444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1981080" y="3563640"/>
                    <a:ext cx="24156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15640" y="3655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50200" y="3655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15640" y="3685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50200" y="3685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84400" y="3685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50200" y="3716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637360" y="4022280"/>
                  <a:ext cx="241920" cy="244440"/>
                  <a:chOff x="2637360" y="4022280"/>
                  <a:chExt cx="241920" cy="2444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2637360" y="402228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671920" y="41137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706480" y="41137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71920" y="41443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706480" y="414432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741040" y="414432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706480" y="417492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395440" y="3716640"/>
                  <a:ext cx="241560" cy="244080"/>
                  <a:chOff x="2395440" y="3716640"/>
                  <a:chExt cx="241560" cy="24408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2395440" y="3716640"/>
                    <a:ext cx="241560" cy="24408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430000" y="38080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464560" y="38080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430000" y="3838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464560" y="3838680"/>
                    <a:ext cx="10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498760" y="3838680"/>
                    <a:ext cx="0" cy="3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464560" y="3869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741040" y="3563640"/>
                  <a:ext cx="241920" cy="244440"/>
                  <a:chOff x="2741040" y="3563640"/>
                  <a:chExt cx="241920" cy="2444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2741040" y="3563640"/>
                    <a:ext cx="241920" cy="244440"/>
                  </a:xfrm>
                  <a:prstGeom prst="flowChartMultidocument">
                    <a:avLst/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775600" y="36550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810160" y="36550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775600" y="36856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810160" y="3685680"/>
                    <a:ext cx="10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844720" y="3685680"/>
                    <a:ext cx="0" cy="3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810160" y="3716280"/>
                    <a:ext cx="6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 flipH="1" flipV="1">
                  <a:off x="2118960" y="3777480"/>
                  <a:ext cx="691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188080" y="3471840"/>
                  <a:ext cx="20700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2222640" y="3533400"/>
                  <a:ext cx="24192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222280" y="3685680"/>
                  <a:ext cx="31068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2637360" y="3716280"/>
                  <a:ext cx="10332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>
                  <a:off x="2637000" y="3472200"/>
                  <a:ext cx="1033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2118960" y="3380400"/>
                  <a:ext cx="27648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>
                  <a:off x="2533320" y="3930120"/>
                  <a:ext cx="10332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91760" y="4113720"/>
                  <a:ext cx="345240" cy="3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2775600" y="3808440"/>
                  <a:ext cx="34560" cy="21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1371600" y="4282560"/>
                <a:ext cx="2286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DAML-enabled personal/company constraints and pre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4812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048120" y="3124080"/>
              <a:ext cx="30456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7528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mo: Dynamic UI with DAML+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866960" y="1457280"/>
          <a:ext cx="541008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457280"/>
                    <a:ext cx="54100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Interface auto-generated from DAML+OI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ehind the Sc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ob-run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951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3000" y="182880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917960"/>
            <a:ext cx="9144000" cy="17031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Constraints+Generic Procedures+deduction=composition **or*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r constraints + Goal + deduction =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lk to Web services through O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e-mails itinerary to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ob-mail" descr=""/>
          <p:cNvPicPr/>
          <p:nvPr/>
        </p:nvPicPr>
        <p:blipFill>
          <a:blip r:embed="rId1"/>
          <a:stretch/>
        </p:blipFill>
        <p:spPr>
          <a:xfrm>
            <a:off x="1041480" y="1482840"/>
            <a:ext cx="7340400" cy="4917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3000" y="2590920"/>
            <a:ext cx="7086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 much to see…email the user travel plans when don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ent creates expense claim for customer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ob-rep0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553080" cy="5415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te expense cl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tatus &amp; Challeng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6120" y="990720"/>
            <a:ext cx="784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9880" y="987480"/>
            <a:ext cx="857952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utomated Web Service Composition is working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+OIL/DAML-S FOL -&gt; Ontolingua, Golog &amp; sit’n calculus in Pr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, Prolog, Ontolingua-DAML+OIL translator, OKB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 to PDDL translator, bubble gum, scotch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DAML-S represent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L-S-ize our work; Reduce number of repn’s required; Reaso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Monitoring &amp; Recovery,  Info vs. world-chging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 Service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synchronization, message passing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20178000">
            <a:off x="6461640" y="3017520"/>
            <a:ext cx="22550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See our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ML-S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990720"/>
            <a:ext cx="7778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560" y="1054080"/>
            <a:ext cx="892404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ditor tailored to the markup of Web Services in DAML-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just an ontology editor -- focus on end user needs and intu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phical and form e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ML-S &amp; Ontolin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cipated Use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provid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3rd party Web page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-ary Web service provi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DAML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editor and reasoner behind th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ill make i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orch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 added by reason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of properties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87520" y="15228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5228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flipH="1" flipV="1">
            <a:off x="2373120" y="2455920"/>
            <a:ext cx="46332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525680" y="561960"/>
            <a:ext cx="1270080" cy="78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332080" y="549360"/>
            <a:ext cx="46368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8800" y="1311120"/>
            <a:ext cx="6653160" cy="119124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/edit a simple/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y Control Flow of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y Data Flow of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6440" y="4919760"/>
            <a:ext cx="536076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lete of servic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&amp; Control Flow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290680" y="4189320"/>
            <a:ext cx="463680" cy="74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28800" y="2986200"/>
            <a:ext cx="506736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lete of connectiv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rol Flow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owse the Process Ontology to create/edit 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80880" y="152280"/>
          <a:ext cx="809964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809964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5121360"/>
            <a:ext cx="9144000" cy="82548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/subclass/sibling a servic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/Edit its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e the control structure for composi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120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a service and inspect its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33520" y="162000"/>
          <a:ext cx="80992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000"/>
                    <a:ext cx="8099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895480" y="20574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3623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e the data flow within a composit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7440" y="297000"/>
            <a:ext cx="6799680" cy="61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andedAcmeMovingSer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Seq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com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PROCESS-LIST-1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-LIST-1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2001/03/daml+oil#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AcmeConfirmMvRou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onProperty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2001/03/daml+oil#re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ml:toClass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#PROCESS-LIST-1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daml:Restriction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rdfs:Class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Class rdf:ID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-LIST-1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dfs:subClassOf rdf:resourc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daml.org/services/daml-s/2001/05/Process#Process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rdfs:subClassOf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21360"/>
            <a:ext cx="914400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, generate the DAML-S for t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3:58:54Z</dcterms:created>
  <dc:creator>Sheila McIlraith</dc:creator>
  <dc:description/>
  <dc:language>en-US</dc:language>
  <cp:lastModifiedBy>bbn</cp:lastModifiedBy>
  <dcterms:modified xsi:type="dcterms:W3CDTF">2001-07-26T11:29:46Z</dcterms:modified>
  <cp:revision>72</cp:revision>
  <dc:subject/>
  <dc:title>No Slide Title</dc:title>
</cp:coreProperties>
</file>