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0807-6234-4D66-BD6F-6A3BB7679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1356-A995-417A-AC20-9EF4075D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D729-5C85-4C35-B0E6-A1C0A0C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23A4-5BED-4A0D-AD42-CC92A8C200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8ABE9-A73C-4F1B-BB4F-C6D60602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F53E0-EE92-4CFC-814F-F6EE9BDD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0CCA5-CEBB-42EC-A791-D4DA7C67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4F109-614D-48E6-BF3B-79FDE88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08B99-15AE-4DF0-8B1B-508A22D4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EAF76-F8FF-4412-B4DC-2205B2E9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6F2B6-C17B-4F24-BBAD-685F4DE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DC21-ADFC-496F-81AC-98C38F4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55814-5F8B-4F59-AD8E-B51CD261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706A8-88B1-4A0B-BECF-5FB4819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0194-8C95-4B43-B204-632334D6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CFD7E-948E-4A1F-8A2B-D745CECE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0663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357372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C0605-F7FE-4A5F-B83F-3871EAA1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4B10-197D-4F8A-B733-90898A53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2B85-35E4-48B3-96C3-151BED0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276F-5CE7-41DD-AEB8-C07DE23E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8624-AF14-4747-9E6C-701C0656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4688-7325-4983-9B44-92D7CAA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5737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FF9A-F127-4AA0-8C8F-0848837A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06632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57372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51B9-2AC5-412B-9039-8E3C9A4C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57600" y="6552720"/>
            <a:ext cx="3276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nowledge Systems Laboratory, Stanford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2720" y="6552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6130-4F5A-4135-BF55-5016293AD8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914400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ECB-0CFB-488D-899B-FC1703042C3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93D-3C69-4EE7-AE41-BFDCDD41B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ols fo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ML-Based Services,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ry Answering, and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tology Develop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520" y="6248520"/>
            <a:ext cx="511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/19/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7672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ichard Fi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borah McGuinn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eila McIlr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leb Frank     Jessica Jenkins     Yulin Li     Son Tran     Honglei Z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483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240000"/>
              </a:lnSpc>
              <a:spcBef>
                <a:spcPts val="700"/>
              </a:spcBef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ledge Systems Labor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r" pos="833904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ww.ksl.stanford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62A7-105C-4DB5-8AAE-EFACC1B1C95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C346A-475B-4E57-866D-14D08D6A98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t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ML-enabled Web servic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t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asoning with knowledge represented in DAM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AML language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er 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markup language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posed co-chair of W3C WebOnt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ed and maintain axiomatic seman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ntology development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himae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ontology diagnosis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lators to enable interoperation with OKBC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A133-958D-471A-A66A-1D4654FDE5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B2F7A-08CC-41D1-AF01-586682FAC4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soning With DAML Knowledge Ba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TP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 DAML+OIL reaso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ichard Fikes, Gleb Frank, Yulin Li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brid reasoning architectur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L model elimination theorem prover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uite of special purpose reasoners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ecial purpose DAML+OIL reasoner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fficient storage of RDF statements (triples)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Linking of property value sets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ased on the axiomatic semantics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ed in JAVA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CDCB-5ED6-4DE2-AF03-3446BCC2E6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0795C-583C-4139-8167-821B36EA76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rward Chaining Infers RDF State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umed asser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PropertyValue subClassOf Restriction Class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PropertyValue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subClassOf Class rdfs:Class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Type subClassOf TransitiveProperty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PropertyValue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disjointWith Property rdfs:Class)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ward chaining ru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=&gt; (and (Type ?p TransitiveProperty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PropertyValue ?p ?x ?y) 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PropertyValue ?p ?y ?z)) 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PropertyValue ?p ?x ?z)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=&gt; (and (PropertyValue disjointWith ?cl ?super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 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PropertyValue subClassOf ?sub ?super)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PropertyValue disjointWith ?cl ?sub)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ferred asser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PropertyValue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subClassOf Restriction rdfs:Class)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PropertyValue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disjointWith Property Restriction) 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EC4D-FF1B-4D0E-9E79-BB99C12611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1AFDF-7974-46A3-B70E-E668C204BA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rward Chaining Infers Inconsistenc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orrect portion of translated Wines KB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Type color Property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PropertyValue maxCardinality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color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1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umed asser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PropertyValue domain maxCardinality Restriction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ward chaining ru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=&gt; (and (PropertyValue domain ?prop ?dm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 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PropertyValue ?prop ?fr ?val)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Type ?fr ?dm)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=&gt; (and (PropertyValue disjointWith ?c1 ?c2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   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Type ?i ?c1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   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Type ?i ?c2)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false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ferenc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(Type color Restriction)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MS Mincho"/>
              </a:rPr>
              <a:t>PropertyValue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disjointWith Property Restriction)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Times New Roman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Times New Roman"/>
              </a:rPr>
              <a:t>false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Wingdings 2"/>
                <a:ea typeface="Wingdings 2"/>
              </a:rPr>
              <a:t></a:t>
            </a:r>
            <a:endParaRPr b="1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B207-D609-4387-8436-FADBD1DF48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3E07D-3A22-4F8B-A736-C266AE4572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rent Challenges for JT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220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rease time for loading knowledge ba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 functionality to backward chaine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ML query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ML rationale langu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r explaining query answers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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re at Friday morning’s breakout session on reasoning</a:t>
            </a:r>
            <a:r>
              <a:rPr b="1" lang="en-US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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AD54-262F-4752-B484-8AB9D75485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604E5-E49C-4480-9E7D-A3FFC8300D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21:55:36Z</dcterms:created>
  <dc:creator>Deborah McGuinness</dc:creator>
  <dc:description/>
  <dc:language>en-US</dc:language>
  <cp:lastModifiedBy>bbn</cp:lastModifiedBy>
  <cp:lastPrinted>1998-02-13T00:04:31Z</cp:lastPrinted>
  <dcterms:modified xsi:type="dcterms:W3CDTF">2001-07-24T22:57:09Z</dcterms:modified>
  <cp:revision>505</cp:revision>
  <dc:subject>PI Meeting Briefing</dc:subject>
  <dc:title>Creating, Maintaining, and Integrating Understandable KBs</dc:title>
</cp:coreProperties>
</file>