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EA72-D853-4A61-A9FF-38736A4DB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116F-EF55-4825-A615-229DA970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D5AD-C05C-47C0-BB56-AB45A01ED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4480-130C-4CB5-A94B-09C52422E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CFC2-0822-47C8-8602-47C37398E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6605-6625-43E5-A47A-640A8DBC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81D3-8F14-476B-8BA6-982DB37E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8CF1-A87A-42C9-835B-811C2374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FEFE-6503-474F-B581-4E661D3A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A27E-F25E-4383-A649-281DB65D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C3A7-D555-47C3-9995-13CB05D9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8A6B-0C85-4ECA-9335-42E3126B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626C-DF8E-430E-9E55-3A3B7056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F089-82EC-447F-9ABF-5A8D47B3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80F4-7608-477C-9530-ABB4322E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F02A-BAF1-4E13-A280-49FF3E7DD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D760-AC6A-4985-8A3D-3485E5A41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B9A4-AE17-45C6-826F-E7E0B471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60C1-8508-4CBE-95C9-D0F022DD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76C2-FCCD-466A-9338-47225634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746B-3D96-4EB3-9710-C919B426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D046-A5B8-4176-A19E-2E8FBF02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EA34-CF32-41C1-AF36-872A349D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BA09-18B9-450F-9B6D-FA06D2D2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93E8-50E3-40C2-87A2-908966FB90F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AF91-00F2-45E5-8A05-755BBC441AA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39680" y="184320"/>
            <a:ext cx="7086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WebScripter</a:t>
            </a:r>
            <a:br>
              <a:rPr sz="6000"/>
            </a:b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niversity of Southern California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formation Sciences Institute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istributed Scalable Systems Divisio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Pedro Szekely, Martin Frank, Robert Neches,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Baoshi Yan, Juan Lopez</a:t>
            </a:r>
            <a:br>
              <a:rPr sz="2800"/>
            </a:b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{szekely, frank, rneches, baoshi, jlopez}@isi.edu</a:t>
            </a:r>
            <a:br>
              <a:rPr sz="2800"/>
            </a:br>
            <a:br>
              <a:rPr sz="2800"/>
            </a:b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ttp://www.isi.edu/webscrip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ED74-7581-463A-9563-FD0AD539429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1-07-1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What’s hot about WebScripter…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90960" y="1600200"/>
            <a:ext cx="3352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kes it easy for users to produce repor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redits sources by carrying authorship throug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dds value to the Semantic Web at no cost to users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“world-wide grass-roots ontology translation”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3" name="webscripter-world-2001-07-13" descr=""/>
          <p:cNvPicPr/>
          <p:nvPr/>
        </p:nvPicPr>
        <p:blipFill>
          <a:blip r:embed="rId1"/>
          <a:stretch/>
        </p:blipFill>
        <p:spPr>
          <a:xfrm>
            <a:off x="1295280" y="1395360"/>
            <a:ext cx="4442040" cy="462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isi.edu/webscrip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9817-9987-434E-A489-D52B2707DA6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07-1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9343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WebScripter Challenge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295280"/>
            <a:ext cx="71629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ern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ximizing comprehensiveness of repor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king it easy to create complex repor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tern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mpelling content: need community to focu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rab an opportunity:  HTML + DAM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calability: size over smar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ttp://www.isi.edu/webscrip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5743-58AF-4AEB-BA7D-397CB900DAD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1-07-1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isi.edu/webscrip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B7A5-85BA-414D-9D71-6D3BC562E36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07-1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2T22:54:20Z</dcterms:created>
  <dc:creator>Martin Frank</dc:creator>
  <dc:description/>
  <dc:language>en-US</dc:language>
  <cp:lastModifiedBy>bbn</cp:lastModifiedBy>
  <dcterms:modified xsi:type="dcterms:W3CDTF">2001-07-20T15:06:23Z</dcterms:modified>
  <cp:revision>72</cp:revision>
  <dc:subject/>
  <dc:title>WebScripter – What’s Hot</dc:title>
</cp:coreProperties>
</file>