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82296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82296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40158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0560" y="1701720"/>
            <a:ext cx="40158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40158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50560" y="3837960"/>
            <a:ext cx="40158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6496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5960" y="1701720"/>
            <a:ext cx="26496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8400" y="1701720"/>
            <a:ext cx="26496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6496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5960" y="3837960"/>
            <a:ext cx="26496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8400" y="3837960"/>
            <a:ext cx="26496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4015800" cy="40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50560" y="1701720"/>
            <a:ext cx="4015800" cy="40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82296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40158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0560" y="1701720"/>
            <a:ext cx="4015800" cy="40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40158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4015800" cy="40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0560" y="1701720"/>
            <a:ext cx="40158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50560" y="3837960"/>
            <a:ext cx="40158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40158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0560" y="1701720"/>
            <a:ext cx="40158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82296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82296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82296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40158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0560" y="1701720"/>
            <a:ext cx="40158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40158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50560" y="3837960"/>
            <a:ext cx="40158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6496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5960" y="1701720"/>
            <a:ext cx="26496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8400" y="1701720"/>
            <a:ext cx="26496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6496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5960" y="3837960"/>
            <a:ext cx="26496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98400" y="3837960"/>
            <a:ext cx="26496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4015800" cy="40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50560" y="1701720"/>
            <a:ext cx="4015800" cy="40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82296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40158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0560" y="1701720"/>
            <a:ext cx="4015800" cy="40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40158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4015800" cy="40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0560" y="1701720"/>
            <a:ext cx="40158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50560" y="3837960"/>
            <a:ext cx="40158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40158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701720"/>
            <a:ext cx="40158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8229600" cy="195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b192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51"/>
              </a:spcBef>
              <a:buClr>
                <a:srgbClr val="b192ff"/>
              </a:buClr>
              <a:buSzPct val="6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51"/>
              </a:spcBef>
              <a:buClr>
                <a:srgbClr val="fafd00"/>
              </a:buClr>
              <a:buSzPct val="6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bkettler@isx.com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Horus Technical Overview</a:t>
            </a:r>
            <a:br>
              <a:rPr sz="3600"/>
            </a:b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AML PI Meeting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18 July 2001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rian Kettl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orus Technical Lead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SX Corpora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57b49"/>
                </a:solidFill>
                <a:uFillTx/>
                <a:latin typeface="Book Antiqua"/>
                <a:hlinkClick r:id="rId2"/>
              </a:rPr>
              <a:t>bkettler@isx.com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Book Antiqua"/>
              </a:rPr>
              <a:t>For Official Use Only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8" name="intelink" descr=""/>
          <p:cNvPicPr/>
          <p:nvPr/>
        </p:nvPicPr>
        <p:blipFill>
          <a:blip r:embed="rId3"/>
          <a:stretch/>
        </p:blipFill>
        <p:spPr>
          <a:xfrm>
            <a:off x="457200" y="5029200"/>
            <a:ext cx="1371600" cy="1265400"/>
          </a:xfrm>
          <a:prstGeom prst="rect">
            <a:avLst/>
          </a:prstGeom>
          <a:ln w="0">
            <a:noFill/>
          </a:ln>
        </p:spPr>
      </p:pic>
      <p:pic>
        <p:nvPicPr>
          <p:cNvPr id="79" name="daml" descr=""/>
          <p:cNvPicPr/>
          <p:nvPr/>
        </p:nvPicPr>
        <p:blipFill>
          <a:blip r:embed="rId4"/>
          <a:stretch/>
        </p:blipFill>
        <p:spPr>
          <a:xfrm>
            <a:off x="6400800" y="5029200"/>
            <a:ext cx="2286000" cy="1249200"/>
          </a:xfrm>
          <a:prstGeom prst="rect">
            <a:avLst/>
          </a:prstGeom>
          <a:ln w="0">
            <a:noFill/>
          </a:ln>
        </p:spPr>
      </p:pic>
      <p:pic>
        <p:nvPicPr>
          <p:cNvPr id="80" name="horus1" descr=""/>
          <p:cNvPicPr/>
          <p:nvPr/>
        </p:nvPicPr>
        <p:blipFill>
          <a:blip r:embed="rId5"/>
          <a:stretch/>
        </p:blipFill>
        <p:spPr>
          <a:xfrm>
            <a:off x="3581280" y="511200"/>
            <a:ext cx="1905120" cy="11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Markup Tools</a:t>
            </a:r>
            <a:br>
              <a:rPr sz="3600"/>
            </a:b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822960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ocument Submit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27400" indent="-202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GUI to submit a new document (URL) to the markup proces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3360" indent="-24336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utomatic Markup To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27400" indent="-202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Generates markup automatically from text in document (using Lockheed’s Aerotext product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811440" indent="-1620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oncepts matched in text converted to knowledge objects in DAM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811440" indent="-1620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ules engineered to match concept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43360" indent="-24336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nual Markup To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27400" indent="-202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GUI to validate/modify knowledge objec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811440" indent="-1620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an take input from Automatic Markup Too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811440" indent="-1620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user provided form generated from ontologi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43360" indent="-24336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rkup Submitter To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27400" indent="-202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GUI to submit a document with DAML markup to the KB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3360" indent="-24336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ference Resolution To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27400" indent="-202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atches incoming markup assertions (from docs, DB) to existing knowledge objec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733920" y="1523880"/>
            <a:ext cx="457200" cy="762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81680" y="5486400"/>
            <a:ext cx="457200" cy="762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83240" y="5486400"/>
            <a:ext cx="457200" cy="762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33920" y="5486400"/>
            <a:ext cx="457200" cy="762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8120" y="609480"/>
            <a:ext cx="457200" cy="762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Knowledge Base Tools (ISX)</a:t>
            </a:r>
            <a:br>
              <a:rPr sz="3600"/>
            </a:b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24280" y="1523880"/>
            <a:ext cx="2743200" cy="137160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20120" y="5181480"/>
            <a:ext cx="685800" cy="685800"/>
          </a:xfrm>
          <a:prstGeom prst="flowChartMagneticDisk">
            <a:avLst/>
          </a:prstGeom>
          <a:solidFill>
            <a:srgbClr val="b0b0b0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2743200"/>
            <a:ext cx="2057400" cy="2590920"/>
          </a:xfrm>
          <a:prstGeom prst="rect">
            <a:avLst/>
          </a:prstGeom>
          <a:solidFill>
            <a:srgbClr val="ffcc66"/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Knowledge 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2895480"/>
            <a:ext cx="2133720" cy="190512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Data Access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3886200"/>
            <a:ext cx="2057400" cy="2819520"/>
          </a:xfrm>
          <a:prstGeom prst="rect">
            <a:avLst/>
          </a:prstGeom>
          <a:solidFill>
            <a:srgbClr val="cf9fff">
              <a:alpha val="50000"/>
            </a:srgbClr>
          </a:solidFill>
          <a:ln w="2844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Ontology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762120"/>
            <a:ext cx="2057400" cy="1904760"/>
          </a:xfrm>
          <a:prstGeom prst="rect">
            <a:avLst/>
          </a:prstGeom>
          <a:solidFill>
            <a:srgbClr val="ff9999">
              <a:alpha val="50000"/>
            </a:srgbClr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Portal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742120" y="625320"/>
            <a:ext cx="1035720" cy="1206000"/>
            <a:chOff x="2742120" y="625320"/>
            <a:chExt cx="1035720" cy="1206000"/>
          </a:xfrm>
        </p:grpSpPr>
        <p:graphicFrame>
          <p:nvGraphicFramePr>
            <p:cNvPr id="346" name=""/>
            <p:cNvGraphicFramePr/>
            <p:nvPr/>
          </p:nvGraphicFramePr>
          <p:xfrm>
            <a:off x="2862360" y="625320"/>
            <a:ext cx="812520" cy="843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62360" y="62532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" name=""/>
            <p:cNvSpPr/>
            <p:nvPr/>
          </p:nvSpPr>
          <p:spPr>
            <a:xfrm>
              <a:off x="2742120" y="1311120"/>
              <a:ext cx="103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Consume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475080" y="1523880"/>
            <a:ext cx="945720" cy="1206000"/>
            <a:chOff x="3475080" y="1523880"/>
            <a:chExt cx="945720" cy="1206000"/>
          </a:xfrm>
        </p:grpSpPr>
        <p:graphicFrame>
          <p:nvGraphicFramePr>
            <p:cNvPr id="350" name=""/>
            <p:cNvGraphicFramePr/>
            <p:nvPr/>
          </p:nvGraphicFramePr>
          <p:xfrm>
            <a:off x="3549600" y="1523880"/>
            <a:ext cx="812520" cy="843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549600" y="152388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2" name=""/>
            <p:cNvSpPr/>
            <p:nvPr/>
          </p:nvSpPr>
          <p:spPr>
            <a:xfrm>
              <a:off x="3475080" y="2209680"/>
              <a:ext cx="94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Produce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196080" y="5486400"/>
            <a:ext cx="1529640" cy="1206000"/>
            <a:chOff x="3196080" y="5486400"/>
            <a:chExt cx="1529640" cy="1206000"/>
          </a:xfrm>
        </p:grpSpPr>
        <p:graphicFrame>
          <p:nvGraphicFramePr>
            <p:cNvPr id="354" name=""/>
            <p:cNvGraphicFramePr/>
            <p:nvPr/>
          </p:nvGraphicFramePr>
          <p:xfrm>
            <a:off x="3559320" y="5486400"/>
            <a:ext cx="812520" cy="843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559320" y="548640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6" name=""/>
            <p:cNvSpPr/>
            <p:nvPr/>
          </p:nvSpPr>
          <p:spPr>
            <a:xfrm>
              <a:off x="3196080" y="6172200"/>
              <a:ext cx="152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Ontology Autho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508800" y="5486400"/>
            <a:ext cx="997920" cy="1417320"/>
            <a:chOff x="6508800" y="5486400"/>
            <a:chExt cx="997920" cy="1417320"/>
          </a:xfrm>
        </p:grpSpPr>
        <p:graphicFrame>
          <p:nvGraphicFramePr>
            <p:cNvPr id="358" name=""/>
            <p:cNvGraphicFramePr/>
            <p:nvPr/>
          </p:nvGraphicFramePr>
          <p:xfrm>
            <a:off x="6605640" y="5486400"/>
            <a:ext cx="812520" cy="8431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5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605640" y="548640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0" name=""/>
            <p:cNvSpPr/>
            <p:nvPr/>
          </p:nvSpPr>
          <p:spPr>
            <a:xfrm>
              <a:off x="6508800" y="5918040"/>
              <a:ext cx="997920" cy="985680"/>
            </a:xfrm>
            <a:prstGeom prst="flowChartMagneticDisk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Site DBA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5267160" y="5486400"/>
            <a:ext cx="1087560" cy="1206000"/>
            <a:chOff x="5267160" y="5486400"/>
            <a:chExt cx="1087560" cy="1206000"/>
          </a:xfrm>
        </p:grpSpPr>
        <p:graphicFrame>
          <p:nvGraphicFramePr>
            <p:cNvPr id="362" name=""/>
            <p:cNvGraphicFramePr/>
            <p:nvPr/>
          </p:nvGraphicFramePr>
          <p:xfrm>
            <a:off x="5410080" y="5486400"/>
            <a:ext cx="812520" cy="8431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10080" y="548640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"/>
            <p:cNvSpPr/>
            <p:nvPr/>
          </p:nvSpPr>
          <p:spPr>
            <a:xfrm>
              <a:off x="5267160" y="6172200"/>
              <a:ext cx="1087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KB Admin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762120" y="1066680"/>
            <a:ext cx="0" cy="762120"/>
          </a:xfrm>
          <a:prstGeom prst="line">
            <a:avLst/>
          </a:prstGeom>
          <a:ln w="19080">
            <a:solidFill>
              <a:srgbClr val="050014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5028840" y="5333760"/>
            <a:ext cx="609480" cy="53316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742840" y="5943600"/>
            <a:ext cx="11430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914400"/>
            <a:ext cx="2057400" cy="266688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Markup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129528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utoma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 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Aerotext+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205740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752480" y="129528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Sub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205740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Sub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5280" y="281952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fer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4419720"/>
            <a:ext cx="914400" cy="685800"/>
          </a:xfrm>
          <a:prstGeom prst="rect">
            <a:avLst/>
          </a:prstGeom>
          <a:solidFill>
            <a:srgbClr val="b0b0b0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utho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DAML Pg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5181480"/>
            <a:ext cx="914400" cy="685800"/>
          </a:xfrm>
          <a:prstGeom prst="rect">
            <a:avLst/>
          </a:prstGeom>
          <a:solidFill>
            <a:srgbClr val="b0b0b0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Vali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DAML Pg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441972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Impor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52480" y="5181480"/>
            <a:ext cx="838440" cy="6858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Ex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14800" y="3048120"/>
            <a:ext cx="838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HK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ager &amp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29200" y="3048120"/>
            <a:ext cx="838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ager &amp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114800" y="4572000"/>
            <a:ext cx="838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sser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29200" y="4572000"/>
            <a:ext cx="838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KB Maint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dmin To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3809880"/>
            <a:ext cx="838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Proces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RDF-API+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327672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S 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p 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848720" y="327672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S to K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Upd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391520" y="403848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Gen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PG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43200" y="1981080"/>
            <a:ext cx="121932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943600" y="4789440"/>
            <a:ext cx="2529000" cy="115416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67480" y="5257800"/>
            <a:ext cx="685800" cy="685800"/>
          </a:xfrm>
          <a:prstGeom prst="flowChartMagneticDisk">
            <a:avLst/>
          </a:prstGeom>
          <a:solidFill>
            <a:srgbClr val="b0b0b0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0014"/>
                </a:solidFill>
                <a:latin typeface="Times New Roman"/>
              </a:rPr>
              <a:t>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7010280" y="4800240"/>
            <a:ext cx="0" cy="60948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7772400" y="48006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410080" y="114300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Class Vie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CV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324480" y="114300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HKO Qu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HQ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24480" y="190512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ata 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Query 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DSQ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10080" y="190512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rans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 (XT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52960" y="838080"/>
            <a:ext cx="647640" cy="685800"/>
          </a:xfrm>
          <a:prstGeom prst="rect">
            <a:avLst/>
          </a:prstGeom>
          <a:solidFill>
            <a:srgbClr val="a752e0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0014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05320" y="1066680"/>
            <a:ext cx="60948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742840" y="392112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6019920" y="3809880"/>
            <a:ext cx="76176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742840" y="342900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6019560" y="2666880"/>
            <a:ext cx="228600" cy="74448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2666880"/>
            <a:ext cx="380880" cy="7621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800600" y="12193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1523880"/>
            <a:ext cx="0" cy="12193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295280" y="594360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Submiss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4920" y="6781680"/>
            <a:ext cx="85341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3429000"/>
            <a:ext cx="0" cy="33526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04920" y="3429000"/>
            <a:ext cx="38088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839080" y="4800600"/>
            <a:ext cx="0" cy="198108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329600" y="5943600"/>
            <a:ext cx="11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 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113520" y="5214960"/>
            <a:ext cx="531720" cy="428760"/>
          </a:xfrm>
          <a:prstGeom prst="flowChartMagneticDisk">
            <a:avLst/>
          </a:prstGeom>
          <a:solidFill>
            <a:srgbClr val="f57b49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0014"/>
                </a:solidFill>
                <a:latin typeface="Times New Roman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14960" y="4857840"/>
            <a:ext cx="532080" cy="428400"/>
          </a:xfrm>
          <a:prstGeom prst="flowChartMagneticDisk">
            <a:avLst/>
          </a:prstGeom>
          <a:solidFill>
            <a:srgbClr val="f57b49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0014"/>
                </a:solidFill>
                <a:latin typeface="Times New Roman"/>
              </a:rPr>
              <a:t>Park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5967000" y="4555800"/>
            <a:ext cx="384120" cy="3697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Knowledge Base Tools</a:t>
            </a:r>
            <a:br>
              <a:rPr sz="3600"/>
            </a:b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520" y="634680"/>
            <a:ext cx="822960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rus Ontology Manager and Reposito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57280" indent="-21420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ersistently stores ontologies as Java Objec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857160" indent="-17136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PI to query ontologies (similar idea to DAML-API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557280" indent="-21420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JB interface (Oracle for Entity EJB persistenc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57040" indent="-25704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rus Knowledge Object Manager and Reposito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57280" indent="-21420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ersistently stores assertions (takes DAML as input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857160" indent="-17136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ssertions grouped into Knowledge Objects via HOIDs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857160" indent="-17136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etadata stored on a per-assertion basis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557280" indent="-21420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Uses Parka KBMS and Oracle DBM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857160" indent="-17136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nheritance-based inference in Parka, Oracle for “bulk” retrieva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557280" indent="-21420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voids “closed world” assumptions re constraint enforcement (e.g., domain, rang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557280" indent="-21420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XML-based query interface (KBQL) with DAML outpu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857160" indent="-17136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pports highly structured queri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557280" indent="-21420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JB interface to update/query functio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733920" y="1523880"/>
            <a:ext cx="457200" cy="762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81680" y="5486400"/>
            <a:ext cx="4572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83240" y="5486400"/>
            <a:ext cx="457200" cy="762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5486400"/>
            <a:ext cx="457200" cy="762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48120" y="609480"/>
            <a:ext cx="457200" cy="762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Data Access Tools (Logicon)</a:t>
            </a:r>
            <a:br>
              <a:rPr sz="3600"/>
            </a:b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724280" y="1523880"/>
            <a:ext cx="2743200" cy="137160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0120" y="5181480"/>
            <a:ext cx="685800" cy="685800"/>
          </a:xfrm>
          <a:prstGeom prst="flowChartMagneticDisk">
            <a:avLst/>
          </a:prstGeom>
          <a:solidFill>
            <a:srgbClr val="b0b0b0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2743200"/>
            <a:ext cx="2057400" cy="2590920"/>
          </a:xfrm>
          <a:prstGeom prst="rect">
            <a:avLst/>
          </a:prstGeom>
          <a:solidFill>
            <a:srgbClr val="ffcc66">
              <a:alpha val="50000"/>
            </a:srgbClr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Knowledge 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2895480"/>
            <a:ext cx="2133720" cy="1905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Data Access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3886200"/>
            <a:ext cx="2057400" cy="2819520"/>
          </a:xfrm>
          <a:prstGeom prst="rect">
            <a:avLst/>
          </a:prstGeom>
          <a:solidFill>
            <a:srgbClr val="cf9fff">
              <a:alpha val="50000"/>
            </a:srgbClr>
          </a:solidFill>
          <a:ln w="2844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Ontology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57800" y="762120"/>
            <a:ext cx="2057400" cy="1904760"/>
          </a:xfrm>
          <a:prstGeom prst="rect">
            <a:avLst/>
          </a:prstGeom>
          <a:solidFill>
            <a:srgbClr val="ff9999">
              <a:alpha val="50000"/>
            </a:srgbClr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Portal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742120" y="625320"/>
            <a:ext cx="1035720" cy="1206000"/>
            <a:chOff x="2742120" y="625320"/>
            <a:chExt cx="1035720" cy="1206000"/>
          </a:xfrm>
        </p:grpSpPr>
        <p:graphicFrame>
          <p:nvGraphicFramePr>
            <p:cNvPr id="428" name=""/>
            <p:cNvGraphicFramePr/>
            <p:nvPr/>
          </p:nvGraphicFramePr>
          <p:xfrm>
            <a:off x="2862360" y="625320"/>
            <a:ext cx="812520" cy="843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62360" y="62532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0" name=""/>
            <p:cNvSpPr/>
            <p:nvPr/>
          </p:nvSpPr>
          <p:spPr>
            <a:xfrm>
              <a:off x="2742120" y="1311120"/>
              <a:ext cx="103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Consume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75080" y="1523880"/>
            <a:ext cx="945720" cy="1206000"/>
            <a:chOff x="3475080" y="1523880"/>
            <a:chExt cx="945720" cy="1206000"/>
          </a:xfrm>
        </p:grpSpPr>
        <p:graphicFrame>
          <p:nvGraphicFramePr>
            <p:cNvPr id="432" name=""/>
            <p:cNvGraphicFramePr/>
            <p:nvPr/>
          </p:nvGraphicFramePr>
          <p:xfrm>
            <a:off x="3549600" y="1523880"/>
            <a:ext cx="812520" cy="843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549600" y="152388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4" name=""/>
            <p:cNvSpPr/>
            <p:nvPr/>
          </p:nvSpPr>
          <p:spPr>
            <a:xfrm>
              <a:off x="3475080" y="2209680"/>
              <a:ext cx="94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Produce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196080" y="5486400"/>
            <a:ext cx="1529640" cy="1206000"/>
            <a:chOff x="3196080" y="5486400"/>
            <a:chExt cx="1529640" cy="1206000"/>
          </a:xfrm>
        </p:grpSpPr>
        <p:graphicFrame>
          <p:nvGraphicFramePr>
            <p:cNvPr id="436" name=""/>
            <p:cNvGraphicFramePr/>
            <p:nvPr/>
          </p:nvGraphicFramePr>
          <p:xfrm>
            <a:off x="3559320" y="5486400"/>
            <a:ext cx="812520" cy="843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559320" y="548640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8" name=""/>
            <p:cNvSpPr/>
            <p:nvPr/>
          </p:nvSpPr>
          <p:spPr>
            <a:xfrm>
              <a:off x="3196080" y="6172200"/>
              <a:ext cx="152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Ontology Autho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508800" y="5486400"/>
            <a:ext cx="997920" cy="1417320"/>
            <a:chOff x="6508800" y="5486400"/>
            <a:chExt cx="997920" cy="1417320"/>
          </a:xfrm>
        </p:grpSpPr>
        <p:graphicFrame>
          <p:nvGraphicFramePr>
            <p:cNvPr id="440" name=""/>
            <p:cNvGraphicFramePr/>
            <p:nvPr/>
          </p:nvGraphicFramePr>
          <p:xfrm>
            <a:off x="6605640" y="5486400"/>
            <a:ext cx="812520" cy="8431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4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605640" y="548640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2" name=""/>
            <p:cNvSpPr/>
            <p:nvPr/>
          </p:nvSpPr>
          <p:spPr>
            <a:xfrm>
              <a:off x="6508800" y="5918040"/>
              <a:ext cx="997920" cy="985680"/>
            </a:xfrm>
            <a:prstGeom prst="flowChartMagneticDisk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Site DBA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267160" y="5486400"/>
            <a:ext cx="1087560" cy="1206000"/>
            <a:chOff x="5267160" y="5486400"/>
            <a:chExt cx="1087560" cy="1206000"/>
          </a:xfrm>
        </p:grpSpPr>
        <p:graphicFrame>
          <p:nvGraphicFramePr>
            <p:cNvPr id="444" name=""/>
            <p:cNvGraphicFramePr/>
            <p:nvPr/>
          </p:nvGraphicFramePr>
          <p:xfrm>
            <a:off x="5410080" y="5486400"/>
            <a:ext cx="812520" cy="8431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44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10080" y="548640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6" name=""/>
            <p:cNvSpPr/>
            <p:nvPr/>
          </p:nvSpPr>
          <p:spPr>
            <a:xfrm>
              <a:off x="5267160" y="6172200"/>
              <a:ext cx="1087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KB Admin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762120" y="1066680"/>
            <a:ext cx="0" cy="762120"/>
          </a:xfrm>
          <a:prstGeom prst="line">
            <a:avLst/>
          </a:prstGeom>
          <a:ln w="19080">
            <a:solidFill>
              <a:srgbClr val="050014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5028840" y="5333760"/>
            <a:ext cx="609480" cy="53316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742840" y="5943600"/>
            <a:ext cx="11430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914400"/>
            <a:ext cx="2057400" cy="266688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Markup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38080" y="129528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utoma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 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Aerotext+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8080" y="205740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752480" y="129528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Sub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752480" y="205740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Sub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95280" y="281952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fer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4419720"/>
            <a:ext cx="914400" cy="685800"/>
          </a:xfrm>
          <a:prstGeom prst="rect">
            <a:avLst/>
          </a:prstGeom>
          <a:solidFill>
            <a:srgbClr val="b0b0b0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utho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DAML Pg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2120" y="5181480"/>
            <a:ext cx="914400" cy="685800"/>
          </a:xfrm>
          <a:prstGeom prst="rect">
            <a:avLst/>
          </a:prstGeom>
          <a:solidFill>
            <a:srgbClr val="b0b0b0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Vali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DAML Pg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52480" y="441972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Impor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52480" y="5181480"/>
            <a:ext cx="838440" cy="6858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Ex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14800" y="304812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HK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ager &amp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29200" y="304812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ager &amp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457200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sser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29200" y="457200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KB Maint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dmin To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0" y="380988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Proces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RDF-API+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934320" y="3276720"/>
            <a:ext cx="838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S 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p 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848720" y="3276720"/>
            <a:ext cx="838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S to K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Upd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1520" y="4038480"/>
            <a:ext cx="838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Gen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PG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743200" y="1981080"/>
            <a:ext cx="121932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5943600" y="4789440"/>
            <a:ext cx="2529000" cy="115416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467480" y="5257800"/>
            <a:ext cx="685800" cy="685800"/>
          </a:xfrm>
          <a:prstGeom prst="flowChartMagneticDisk">
            <a:avLst/>
          </a:prstGeom>
          <a:solidFill>
            <a:srgbClr val="b0b0b0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0014"/>
                </a:solidFill>
                <a:latin typeface="Times New Roman"/>
              </a:rPr>
              <a:t>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7010280" y="4800240"/>
            <a:ext cx="0" cy="60948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7772400" y="48006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410080" y="114300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Class Vie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CV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24480" y="114300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HKO Qu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HQ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324480" y="190512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ata 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Query 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DSQ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410080" y="190512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rans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 (XT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52960" y="838080"/>
            <a:ext cx="647640" cy="685800"/>
          </a:xfrm>
          <a:prstGeom prst="rect">
            <a:avLst/>
          </a:prstGeom>
          <a:solidFill>
            <a:srgbClr val="a752e0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0014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05320" y="1066680"/>
            <a:ext cx="60948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2742840" y="392112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019920" y="3809880"/>
            <a:ext cx="76176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742840" y="342900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6019560" y="2666880"/>
            <a:ext cx="228600" cy="74448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400800" y="2666880"/>
            <a:ext cx="380880" cy="7621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800600" y="12193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0" y="1523880"/>
            <a:ext cx="0" cy="12193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594360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Submiss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920" y="6781680"/>
            <a:ext cx="85341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04920" y="3429000"/>
            <a:ext cx="0" cy="33526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04920" y="3429000"/>
            <a:ext cx="38088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839080" y="4800600"/>
            <a:ext cx="0" cy="198108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329600" y="5943600"/>
            <a:ext cx="11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 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5214960"/>
            <a:ext cx="531720" cy="428760"/>
          </a:xfrm>
          <a:prstGeom prst="flowChartMagneticDisk">
            <a:avLst/>
          </a:prstGeom>
          <a:solidFill>
            <a:srgbClr val="f57b49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0014"/>
                </a:solidFill>
                <a:latin typeface="Times New Roman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14960" y="4857840"/>
            <a:ext cx="532080" cy="428400"/>
          </a:xfrm>
          <a:prstGeom prst="flowChartMagneticDisk">
            <a:avLst/>
          </a:prstGeom>
          <a:solidFill>
            <a:srgbClr val="f57b49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0014"/>
                </a:solidFill>
                <a:latin typeface="Times New Roman"/>
              </a:rPr>
              <a:t>Park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5967000" y="4555800"/>
            <a:ext cx="384120" cy="3697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Data Access Tools</a:t>
            </a:r>
            <a:br>
              <a:rPr sz="3600"/>
            </a:b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822960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ata Source to Ontology Mapping To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GUI for a user (DBA) to link elements of a DB schema to elements of DAML ontologi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868680" indent="-17352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user specifies JDBC connection information to DB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868680" indent="-17352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user specifies DB tables/fields and mapping to ontology classes/properti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868680" indent="-17352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tores mapping persistently – used by other Horus tool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60640" indent="-26064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ata Source to KB Update To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Uses DB-to-Ontology mapping to update the KB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868680" indent="-17352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ends DAML to the KB for new data, after reference resolution (if required) using Reference Resolution Too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868680" indent="-17352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an be run by user, triggered by cron job, etc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60640" indent="-26064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duct Generation To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rovides drilldown information from a data sourc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868680" indent="-17352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enerates a product as XML from DB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868680" indent="-17352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XSL applied to XML to generate HTM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733920" y="1523880"/>
            <a:ext cx="457200" cy="762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81680" y="5486400"/>
            <a:ext cx="457200" cy="762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83240" y="5486400"/>
            <a:ext cx="457200" cy="762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5486400"/>
            <a:ext cx="457200" cy="762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048120" y="609480"/>
            <a:ext cx="4572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Portal Tools (Logicon)</a:t>
            </a:r>
            <a:br>
              <a:rPr sz="3600"/>
            </a:b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724280" y="1523880"/>
            <a:ext cx="2743200" cy="137160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20120" y="5181480"/>
            <a:ext cx="685800" cy="685800"/>
          </a:xfrm>
          <a:prstGeom prst="flowChartMagneticDisk">
            <a:avLst/>
          </a:prstGeom>
          <a:solidFill>
            <a:srgbClr val="b0b0b0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2743200"/>
            <a:ext cx="2057400" cy="2590920"/>
          </a:xfrm>
          <a:prstGeom prst="rect">
            <a:avLst/>
          </a:prstGeom>
          <a:solidFill>
            <a:srgbClr val="ffcc66">
              <a:alpha val="50000"/>
            </a:srgbClr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Knowledge 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1680" y="2895480"/>
            <a:ext cx="2133720" cy="190512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Data Access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3886200"/>
            <a:ext cx="2057400" cy="2819520"/>
          </a:xfrm>
          <a:prstGeom prst="rect">
            <a:avLst/>
          </a:prstGeom>
          <a:solidFill>
            <a:srgbClr val="cf9fff">
              <a:alpha val="50000"/>
            </a:srgbClr>
          </a:solidFill>
          <a:ln w="2844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Ontology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257800" y="762120"/>
            <a:ext cx="2057400" cy="1904760"/>
          </a:xfrm>
          <a:prstGeom prst="rect">
            <a:avLst/>
          </a:prstGeom>
          <a:solidFill>
            <a:srgbClr val="ff9999"/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Portal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2742120" y="625320"/>
            <a:ext cx="1035720" cy="1206000"/>
            <a:chOff x="2742120" y="625320"/>
            <a:chExt cx="1035720" cy="1206000"/>
          </a:xfrm>
        </p:grpSpPr>
        <p:graphicFrame>
          <p:nvGraphicFramePr>
            <p:cNvPr id="510" name=""/>
            <p:cNvGraphicFramePr/>
            <p:nvPr/>
          </p:nvGraphicFramePr>
          <p:xfrm>
            <a:off x="2862360" y="625320"/>
            <a:ext cx="812520" cy="843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62360" y="62532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2" name=""/>
            <p:cNvSpPr/>
            <p:nvPr/>
          </p:nvSpPr>
          <p:spPr>
            <a:xfrm>
              <a:off x="2742120" y="1311120"/>
              <a:ext cx="103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Consume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3475080" y="1523880"/>
            <a:ext cx="945720" cy="1206000"/>
            <a:chOff x="3475080" y="1523880"/>
            <a:chExt cx="945720" cy="1206000"/>
          </a:xfrm>
        </p:grpSpPr>
        <p:graphicFrame>
          <p:nvGraphicFramePr>
            <p:cNvPr id="514" name=""/>
            <p:cNvGraphicFramePr/>
            <p:nvPr/>
          </p:nvGraphicFramePr>
          <p:xfrm>
            <a:off x="3549600" y="1523880"/>
            <a:ext cx="812520" cy="843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1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549600" y="152388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6" name=""/>
            <p:cNvSpPr/>
            <p:nvPr/>
          </p:nvSpPr>
          <p:spPr>
            <a:xfrm>
              <a:off x="3475080" y="2209680"/>
              <a:ext cx="94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Produce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196080" y="5486400"/>
            <a:ext cx="1529640" cy="1206000"/>
            <a:chOff x="3196080" y="5486400"/>
            <a:chExt cx="1529640" cy="1206000"/>
          </a:xfrm>
        </p:grpSpPr>
        <p:graphicFrame>
          <p:nvGraphicFramePr>
            <p:cNvPr id="518" name=""/>
            <p:cNvGraphicFramePr/>
            <p:nvPr/>
          </p:nvGraphicFramePr>
          <p:xfrm>
            <a:off x="3559320" y="5486400"/>
            <a:ext cx="812520" cy="843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559320" y="548640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0" name=""/>
            <p:cNvSpPr/>
            <p:nvPr/>
          </p:nvSpPr>
          <p:spPr>
            <a:xfrm>
              <a:off x="3196080" y="6172200"/>
              <a:ext cx="152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Ontology Autho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6508800" y="5486400"/>
            <a:ext cx="997920" cy="1417320"/>
            <a:chOff x="6508800" y="5486400"/>
            <a:chExt cx="997920" cy="1417320"/>
          </a:xfrm>
        </p:grpSpPr>
        <p:graphicFrame>
          <p:nvGraphicFramePr>
            <p:cNvPr id="522" name=""/>
            <p:cNvGraphicFramePr/>
            <p:nvPr/>
          </p:nvGraphicFramePr>
          <p:xfrm>
            <a:off x="6605640" y="5486400"/>
            <a:ext cx="812520" cy="8431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2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605640" y="548640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4" name=""/>
            <p:cNvSpPr/>
            <p:nvPr/>
          </p:nvSpPr>
          <p:spPr>
            <a:xfrm>
              <a:off x="6508800" y="5918040"/>
              <a:ext cx="997920" cy="985680"/>
            </a:xfrm>
            <a:prstGeom prst="flowChartMagneticDisk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Site DBA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267160" y="5486400"/>
            <a:ext cx="1087560" cy="1206000"/>
            <a:chOff x="5267160" y="5486400"/>
            <a:chExt cx="1087560" cy="1206000"/>
          </a:xfrm>
        </p:grpSpPr>
        <p:graphicFrame>
          <p:nvGraphicFramePr>
            <p:cNvPr id="526" name=""/>
            <p:cNvGraphicFramePr/>
            <p:nvPr/>
          </p:nvGraphicFramePr>
          <p:xfrm>
            <a:off x="5410080" y="5486400"/>
            <a:ext cx="812520" cy="8431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2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10080" y="548640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8" name=""/>
            <p:cNvSpPr/>
            <p:nvPr/>
          </p:nvSpPr>
          <p:spPr>
            <a:xfrm>
              <a:off x="5267160" y="6172200"/>
              <a:ext cx="1087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KB Admin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762120" y="1066680"/>
            <a:ext cx="0" cy="762120"/>
          </a:xfrm>
          <a:prstGeom prst="line">
            <a:avLst/>
          </a:prstGeom>
          <a:ln w="19080">
            <a:solidFill>
              <a:srgbClr val="050014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5028840" y="5333760"/>
            <a:ext cx="609480" cy="53316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2742840" y="5943600"/>
            <a:ext cx="11430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914400"/>
            <a:ext cx="2057400" cy="266688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Markup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38080" y="129528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utoma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 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Aerotext+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38080" y="205740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752480" y="129528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Sub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752480" y="205740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Sub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95280" y="281952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fer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19720"/>
            <a:ext cx="914400" cy="685800"/>
          </a:xfrm>
          <a:prstGeom prst="rect">
            <a:avLst/>
          </a:prstGeom>
          <a:solidFill>
            <a:srgbClr val="b0b0b0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utho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DAML Pg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2120" y="5181480"/>
            <a:ext cx="914400" cy="685800"/>
          </a:xfrm>
          <a:prstGeom prst="rect">
            <a:avLst/>
          </a:prstGeom>
          <a:solidFill>
            <a:srgbClr val="b0b0b0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Vali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DAML Pg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752480" y="441972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Impor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752480" y="5181480"/>
            <a:ext cx="838440" cy="6858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Ex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14800" y="304812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HK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ager &amp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304812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ager &amp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14800" y="457200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sser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29200" y="457200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KB Maint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dmin To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572000" y="380988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Proces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RDF-API+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934320" y="327672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S 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p 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848720" y="327672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S to K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Upd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391520" y="403848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Gen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PG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743200" y="1981080"/>
            <a:ext cx="121932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943600" y="4789440"/>
            <a:ext cx="2529000" cy="115416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467480" y="5257800"/>
            <a:ext cx="685800" cy="685800"/>
          </a:xfrm>
          <a:prstGeom prst="flowChartMagneticDisk">
            <a:avLst/>
          </a:prstGeom>
          <a:solidFill>
            <a:srgbClr val="b0b0b0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0014"/>
                </a:solidFill>
                <a:latin typeface="Times New Roman"/>
              </a:rPr>
              <a:t>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7010280" y="4800240"/>
            <a:ext cx="0" cy="60948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7772400" y="48006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10080" y="1143000"/>
            <a:ext cx="838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Class Vie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CV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324480" y="1143000"/>
            <a:ext cx="838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HKO Qu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HQ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324480" y="1905120"/>
            <a:ext cx="838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ata 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Query 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DSQ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10080" y="1905120"/>
            <a:ext cx="838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rans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 (XT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52960" y="838080"/>
            <a:ext cx="647640" cy="685800"/>
          </a:xfrm>
          <a:prstGeom prst="rect">
            <a:avLst/>
          </a:prstGeom>
          <a:solidFill>
            <a:srgbClr val="a752e0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0014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05320" y="1066680"/>
            <a:ext cx="60948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742840" y="392112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6019920" y="3809880"/>
            <a:ext cx="76176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742840" y="342900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6019560" y="2666880"/>
            <a:ext cx="228600" cy="74448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400800" y="2666880"/>
            <a:ext cx="380880" cy="7621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4800600" y="12193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72000" y="1523880"/>
            <a:ext cx="0" cy="12193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95280" y="594360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Submiss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6781680"/>
            <a:ext cx="85341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4920" y="3429000"/>
            <a:ext cx="0" cy="33526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920" y="3429000"/>
            <a:ext cx="38088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839080" y="4800600"/>
            <a:ext cx="0" cy="198108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29600" y="5943600"/>
            <a:ext cx="11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 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113520" y="5214960"/>
            <a:ext cx="531720" cy="428760"/>
          </a:xfrm>
          <a:prstGeom prst="flowChartMagneticDisk">
            <a:avLst/>
          </a:prstGeom>
          <a:solidFill>
            <a:srgbClr val="f57b49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0014"/>
                </a:solidFill>
                <a:latin typeface="Times New Roman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4960" y="4857840"/>
            <a:ext cx="532080" cy="428400"/>
          </a:xfrm>
          <a:prstGeom prst="flowChartMagneticDisk">
            <a:avLst/>
          </a:prstGeom>
          <a:solidFill>
            <a:srgbClr val="f57b49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0014"/>
                </a:solidFill>
                <a:latin typeface="Times New Roman"/>
              </a:rPr>
              <a:t>Park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 flipV="1">
            <a:off x="5967000" y="4555800"/>
            <a:ext cx="384120" cy="3697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Portal Tools</a:t>
            </a:r>
            <a:br>
              <a:rPr sz="3600"/>
            </a:b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ass Viewer To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72040" indent="-2199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ava servlet that displays class hierarchies from ontologies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ntology obtained from KB Ontology Manage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572040" indent="-2199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Used by other Horus tools (Manual Markup, DS to Ontology Mapping tool, etc.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63880" indent="-26388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rus Query To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72040" indent="-2199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ava servlet that presents a query form, dynamically generated from class/properties in an ontology, and displays query resul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ntology obtained from KB Ontology Manage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query sent in XML (KBQL) to KB HKO Manager and DAML results displayed as HTML (via XTT/XSL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63880" indent="-26388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ata Source Query To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72040" indent="-21996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ava servlet that displays product dynamically generated from DB for drilldow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duct generated by Product Generation Tool and converted to HTML (via XTT/XSL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63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6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Horus Ontologie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696080" cy="486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veloped in DAM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uthored by Horus Team, with inputs from subject matter experts at Joint Analysis Center (Molesworth, UK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cus domain is Geopolitical (Balkans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tudied applicable ontologi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JAC E-Point Taxonomy, JIVA K-MAPS, IMO general/security metadata, DAML-ized CIA World Factbook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tudied domain exemplars – e.g., Eurasian Intelligence Diges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TS Tools (e.g., XML Spy) used to encode ontologies in DAM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veloped 10 new DAML ontologies for Horus/JAC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78 Classes, 137 ObjectProperties, 117 DatatypeProperti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unclassified, </a:t>
            </a:r>
            <a:r>
              <a:rPr b="0" i="1" lang="en-US" sz="2000" spc="-1" strike="noStrike">
                <a:solidFill>
                  <a:srgbClr val="ffffff"/>
                </a:solidFill>
                <a:latin typeface="Book Antiqua"/>
              </a:rPr>
              <a:t>“For Official Use Only”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tails on access for DAML PIs forthcoming…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95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Horus Ontology Hierarchy</a:t>
            </a:r>
            <a:br>
              <a:rPr sz="3600"/>
            </a:b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rus generic ontolo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53760" indent="-2512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orus Ba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53760" indent="-2512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orus Locu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53760" indent="-2512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orus Person-Organiza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53760" indent="-2512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orus Comm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53760" indent="-2512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orus Installa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53760" indent="-2512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ilitary Uni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AC specific ontolo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53760" indent="-2512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AC Upper-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53760" indent="-2512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AC Geopolitical Iss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53760" indent="-2512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AC Geopolitical Influenc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53760" indent="-2512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AC Geopolitica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3962520" y="1295280"/>
          <a:ext cx="5057640" cy="494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1295280"/>
                    <a:ext cx="5057640" cy="49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Horus-DAML Program Interchange</a:t>
            </a:r>
            <a:br>
              <a:rPr sz="3600"/>
            </a:b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AML to Horu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AML Program is source of language, tools, and ontolo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rus to DAM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rus is source of requirements for real-world systems (e.g., a DAML “use case”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rus is a testbed for DAML technolog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.g., scalability, usability, etc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rus is a source of DAML tools too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Topics</a:t>
            </a:r>
            <a:br>
              <a:rPr sz="3600"/>
            </a:b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685440"/>
            <a:ext cx="830556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rus Toolk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39000" indent="-2455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ey Requireme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39000" indent="-2455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 Component Toolki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39000" indent="-2455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ntolo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39000" indent="-2455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uture Pla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rus-DAML Interchan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Book Antiqua"/>
              </a:rPr>
              <a:t>Horus is a joint project of the Intelink Management Office and DARP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Book Antiqua"/>
              </a:rPr>
              <a:t>Contractors are BBN Technologies (prime), ISX Corporation, and Logicon (Sterling Federal System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Horus Tools for DAML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rkup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586800" indent="-2257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nual Markup To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86800" indent="-2257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utomatic Markup Tool (Aerotext)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0720" indent="-270720">
              <a:spcBef>
                <a:spcPts val="700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ata Access To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586800" indent="-2257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p schema to DB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86800" indent="-2257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enerate DAML from DB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0720" indent="-270720">
              <a:spcBef>
                <a:spcPts val="700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B (Parka/Oracl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586800" indent="-2257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ore/retrieve asser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0720" indent="-270720">
              <a:spcBef>
                <a:spcPts val="700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rtal To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586800" indent="-2257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rvlets to access KB and DB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86800" indent="-2257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rvlets to navigate ontolo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Potential DAML Tools for Horus</a:t>
            </a:r>
            <a:br>
              <a:rPr sz="36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*=have used already)</a:t>
            </a:r>
            <a:br>
              <a:rPr sz="2400"/>
            </a:b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520" y="939600"/>
            <a:ext cx="822960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arser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27400" indent="-202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ave used RDF-API*, SIRPAC*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527400" indent="-202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ome memory issues with RDF-API (large # of triples with metadata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3360" indent="-24336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ntology Authoring Too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27400" indent="-202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uthoring - e.g., Protégé, OilEd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811440" indent="-1620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eed ones to support “end user” (SME) authoring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527400" indent="-202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isualization – e.g., Dumpont*, graphica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527400" indent="-202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alidation – e.g., Chimer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527400" indent="-202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eed APIs to launch these tools easily from Horus Tool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3360" indent="-24336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rkup Tool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27400" indent="-202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uthoring – e.g., Teknowledge Powerpoint/Word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527400" indent="-202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isualization – e.g., HyperDAML*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527400" indent="-202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alidation – e.g., BBN DAML Validator*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811440" indent="-1620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eed support for streaming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527400" indent="-2026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eed APIs to launch these tools easily from Horus Tool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ther Horus Needs – KB Technologies</a:t>
            </a:r>
            <a:br>
              <a:rPr sz="3600"/>
            </a:b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B Valid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nd invalid assertions using ontologies and flag to KBA, etc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evels of validation: vs. ontology (e.g., domain/range) to organizational (e.g., authorization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onsolidate HKOs/assertio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70720" indent="-27072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B Process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ools that exploit assertions in KB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mporal/spatial reasoning, fusion, other kinds of analysis/processing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ther kinds of inferenc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.g., support for inverse and transitive properti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ul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ay investigate XSB, etc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70720" indent="-27072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B Distribu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ultiple, distributed KB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ther Horus Needs – Language Issues</a:t>
            </a:r>
            <a:br>
              <a:rPr sz="3600"/>
            </a:b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tadata/Tagg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01560" indent="-2314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.g., using RDF reification (bags, aboutEach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77560" indent="-27756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RLs across networks (e.g., SIPRNET, JWIC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01560" indent="-2314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oth for fixed pages (e.g., w3c.org) and ontologies/markup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77560" indent="-27756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numerated types (e.g., Country Code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01560" indent="-2314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ral optio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AML enumeration in ontolog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edefined/preloaded KB instanc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XSD datatyp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77560" indent="-27756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uery languag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01560" indent="-23148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e invented a </a:t>
            </a:r>
            <a:r>
              <a:rPr b="0" i="1" lang="en-US" sz="2000" spc="-1" strike="noStrike">
                <a:solidFill>
                  <a:srgbClr val="ffffff"/>
                </a:solidFill>
                <a:latin typeface="Book Antiqua"/>
              </a:rPr>
              <a:t>simpl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XML one (KBQL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eared towards Horus implementation somewh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77560" indent="-27756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pport for rul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onclusions</a:t>
            </a:r>
            <a:br>
              <a:rPr sz="3600"/>
            </a:b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33520" y="526680"/>
            <a:ext cx="822960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marL="216000" indent="-21600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rus completing second year of develop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468000" indent="-18000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ew “toolkit” approach for Horus-enabling user sit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468000" indent="-18000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upport for DAML languag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468000" indent="-18000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onsumer/producer of DAML tool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16000" indent="-21600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rus is a good use case for DAM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468000" indent="-18000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.g., centralized KB, toolkit approach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468000" indent="-18000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eal users to be evaluating Horus-enabled portals this Fal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468000" indent="-18000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eed to support much better than “demo quality” u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720000" indent="-1440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user-authored ontologies (with some training/support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3" marL="1008000" indent="-144000">
              <a:spcBef>
                <a:spcPts val="400"/>
              </a:spcBef>
              <a:buClr>
                <a:srgbClr val="b192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versioning, etc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2" marL="720000" indent="-1440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ocument markup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720000" indent="-1440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avigation, search, and linking through portal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16000" indent="-21600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uture Wor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468000" indent="-18000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ew tool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468000" indent="-18000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ackaging/distribution of tools over Intelink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468000" indent="-180000"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ew user sit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16000" indent="-216000">
              <a:spcBef>
                <a:spcPts val="601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Continued interchange with DAML Program plann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Key Requirements for Horus</a:t>
            </a:r>
            <a:br>
              <a:rPr sz="3600"/>
            </a:b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711000"/>
            <a:ext cx="822960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ore assertions from marked up Intelink documents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ther data sources (e.g., database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549720" indent="-2113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ssertions defined with respect to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ontolo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49720" indent="-2113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ssertions aggregated into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knowledge objec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49720" indent="-2113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tadata stored for asser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845640" indent="-168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.g., data source, drilldown (URLs, etc.), collection dates, validity dates, etc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53800" indent="-253800">
              <a:spcBef>
                <a:spcPts val="700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trieve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knowledge object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and constituent assertions)  in response to quer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53800" indent="-253800">
              <a:spcBef>
                <a:spcPts val="700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low users to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link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knowledge objec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53800" indent="-253800">
              <a:spcBef>
                <a:spcPts val="700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pport development of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web-based portal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o browse, query, and link knowledge objec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549720" indent="-2113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pport drilldown to original web pages, databa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Horus Version 1.0 (FY00)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monstration prototyp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telink Conference demo in 9/0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mo version running now on Intelink-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ilitary Units and Terrorist Events dom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rtals built by Horus Tea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JB/Java servlets infrastruct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pport for SHOE ontologies/markup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B implemented with Parka and Orac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Horus Toolkit Version 2 (FY01)</a:t>
            </a:r>
            <a:br>
              <a:rPr sz="3600"/>
            </a:b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863280"/>
            <a:ext cx="838188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pport DAML+OIL/RDF(S) languages for ontology definition and markup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586800" indent="-2257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t necessarily all of DAML’s ontology construc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86800" indent="-2257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pport future language chang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0720" indent="-270720">
              <a:spcBef>
                <a:spcPts val="700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re automation for document markup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70720" indent="-270720">
              <a:spcBef>
                <a:spcPts val="700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Toolki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rchitecture allows modular configuration and upgrade versus Horus V1 “System” approac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586800" indent="-2257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creased flexibility/extensibil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86800" indent="-22572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everage emerging DAML tools more easi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0720" indent="-270720">
              <a:spcBef>
                <a:spcPts val="700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ols for portal developers to add new data sources more easil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733920" y="1523880"/>
            <a:ext cx="4572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81680" y="5486400"/>
            <a:ext cx="4572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83240" y="5486400"/>
            <a:ext cx="4572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5486400"/>
            <a:ext cx="4572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609480"/>
            <a:ext cx="4572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Horus Toolkit Technical Architecture</a:t>
            </a:r>
            <a:br>
              <a:rPr sz="3600"/>
            </a:b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1523880"/>
            <a:ext cx="2743200" cy="137160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5181480"/>
            <a:ext cx="685800" cy="685800"/>
          </a:xfrm>
          <a:prstGeom prst="flowChartMagneticDisk">
            <a:avLst/>
          </a:prstGeom>
          <a:solidFill>
            <a:srgbClr val="b0b0b0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2743200"/>
            <a:ext cx="2057400" cy="2590920"/>
          </a:xfrm>
          <a:prstGeom prst="rect">
            <a:avLst/>
          </a:prstGeom>
          <a:solidFill>
            <a:srgbClr val="ffcc66"/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Knowledge 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895480"/>
            <a:ext cx="2133720" cy="1905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Data Access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886200"/>
            <a:ext cx="2057400" cy="2819520"/>
          </a:xfrm>
          <a:prstGeom prst="rect">
            <a:avLst/>
          </a:prstGeom>
          <a:solidFill>
            <a:srgbClr val="cf9fff"/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Ontology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762120"/>
            <a:ext cx="2057400" cy="1904760"/>
          </a:xfrm>
          <a:prstGeom prst="rect">
            <a:avLst/>
          </a:prstGeom>
          <a:solidFill>
            <a:srgbClr val="ff9999"/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Portal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742120" y="625320"/>
            <a:ext cx="1035720" cy="1206000"/>
            <a:chOff x="2742120" y="625320"/>
            <a:chExt cx="1035720" cy="1206000"/>
          </a:xfrm>
        </p:grpSpPr>
        <p:graphicFrame>
          <p:nvGraphicFramePr>
            <p:cNvPr id="102" name=""/>
            <p:cNvGraphicFramePr/>
            <p:nvPr/>
          </p:nvGraphicFramePr>
          <p:xfrm>
            <a:off x="2862360" y="625320"/>
            <a:ext cx="812520" cy="843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62360" y="62532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"/>
            <p:cNvSpPr/>
            <p:nvPr/>
          </p:nvSpPr>
          <p:spPr>
            <a:xfrm>
              <a:off x="2742120" y="1311120"/>
              <a:ext cx="103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Consume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475080" y="1523880"/>
            <a:ext cx="945720" cy="1206000"/>
            <a:chOff x="3475080" y="1523880"/>
            <a:chExt cx="945720" cy="1206000"/>
          </a:xfrm>
        </p:grpSpPr>
        <p:graphicFrame>
          <p:nvGraphicFramePr>
            <p:cNvPr id="106" name=""/>
            <p:cNvGraphicFramePr/>
            <p:nvPr/>
          </p:nvGraphicFramePr>
          <p:xfrm>
            <a:off x="3549600" y="1523880"/>
            <a:ext cx="812520" cy="843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549600" y="152388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"/>
            <p:cNvSpPr/>
            <p:nvPr/>
          </p:nvSpPr>
          <p:spPr>
            <a:xfrm>
              <a:off x="3475080" y="2209680"/>
              <a:ext cx="94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Produce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196080" y="5486400"/>
            <a:ext cx="1529640" cy="1206000"/>
            <a:chOff x="3196080" y="5486400"/>
            <a:chExt cx="1529640" cy="1206000"/>
          </a:xfrm>
        </p:grpSpPr>
        <p:graphicFrame>
          <p:nvGraphicFramePr>
            <p:cNvPr id="110" name=""/>
            <p:cNvGraphicFramePr/>
            <p:nvPr/>
          </p:nvGraphicFramePr>
          <p:xfrm>
            <a:off x="3559320" y="5486400"/>
            <a:ext cx="812520" cy="843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559320" y="548640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3196080" y="6172200"/>
              <a:ext cx="152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Ontology Autho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08800" y="5486400"/>
            <a:ext cx="997920" cy="1417320"/>
            <a:chOff x="6508800" y="5486400"/>
            <a:chExt cx="997920" cy="1417320"/>
          </a:xfrm>
        </p:grpSpPr>
        <p:graphicFrame>
          <p:nvGraphicFramePr>
            <p:cNvPr id="114" name=""/>
            <p:cNvGraphicFramePr/>
            <p:nvPr/>
          </p:nvGraphicFramePr>
          <p:xfrm>
            <a:off x="6605640" y="5486400"/>
            <a:ext cx="812520" cy="8431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605640" y="548640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" name=""/>
            <p:cNvSpPr/>
            <p:nvPr/>
          </p:nvSpPr>
          <p:spPr>
            <a:xfrm>
              <a:off x="6508800" y="5918040"/>
              <a:ext cx="997920" cy="985680"/>
            </a:xfrm>
            <a:prstGeom prst="flowChartMagneticDisk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Site DBA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267160" y="5486400"/>
            <a:ext cx="1087560" cy="1206000"/>
            <a:chOff x="5267160" y="5486400"/>
            <a:chExt cx="1087560" cy="1206000"/>
          </a:xfrm>
        </p:grpSpPr>
        <p:graphicFrame>
          <p:nvGraphicFramePr>
            <p:cNvPr id="118" name=""/>
            <p:cNvGraphicFramePr/>
            <p:nvPr/>
          </p:nvGraphicFramePr>
          <p:xfrm>
            <a:off x="5410080" y="5486400"/>
            <a:ext cx="812520" cy="8431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10080" y="548640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"/>
            <p:cNvSpPr/>
            <p:nvPr/>
          </p:nvSpPr>
          <p:spPr>
            <a:xfrm>
              <a:off x="5267160" y="6172200"/>
              <a:ext cx="1087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KB Admin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62120" y="1066680"/>
            <a:ext cx="0" cy="762120"/>
          </a:xfrm>
          <a:prstGeom prst="line">
            <a:avLst/>
          </a:prstGeom>
          <a:ln w="19080">
            <a:solidFill>
              <a:srgbClr val="050014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028840" y="5333760"/>
            <a:ext cx="609480" cy="53316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42840" y="5943600"/>
            <a:ext cx="11430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914400"/>
            <a:ext cx="2057400" cy="2666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Markup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295280"/>
            <a:ext cx="838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utoma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 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Aerotext+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2057400"/>
            <a:ext cx="838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1295280"/>
            <a:ext cx="838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Sub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2057400"/>
            <a:ext cx="838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Sub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2819520"/>
            <a:ext cx="838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fer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19720"/>
            <a:ext cx="914400" cy="685800"/>
          </a:xfrm>
          <a:prstGeom prst="rect">
            <a:avLst/>
          </a:prstGeom>
          <a:solidFill>
            <a:srgbClr val="b0b0b0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utho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DAML Pg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5181480"/>
            <a:ext cx="914400" cy="685800"/>
          </a:xfrm>
          <a:prstGeom prst="rect">
            <a:avLst/>
          </a:prstGeom>
          <a:solidFill>
            <a:srgbClr val="b0b0b0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Vali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DAML Pg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4419720"/>
            <a:ext cx="838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Impor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5181480"/>
            <a:ext cx="838440" cy="685800"/>
          </a:xfrm>
          <a:prstGeom prst="rect">
            <a:avLst/>
          </a:prstGeom>
          <a:solidFill>
            <a:srgbClr val="b2b2b2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Ex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3048120"/>
            <a:ext cx="838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HK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ager &amp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3048120"/>
            <a:ext cx="838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ager &amp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4572000"/>
            <a:ext cx="838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sser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4572000"/>
            <a:ext cx="838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KB Maint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dmin To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838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Proces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RDF-API+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34320" y="3276720"/>
            <a:ext cx="838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S 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p 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48720" y="3276720"/>
            <a:ext cx="838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S to K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Upd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4038480"/>
            <a:ext cx="838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Gen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PG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1981080"/>
            <a:ext cx="121932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943600" y="4789440"/>
            <a:ext cx="2529000" cy="115416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67480" y="5257800"/>
            <a:ext cx="685800" cy="685800"/>
          </a:xfrm>
          <a:prstGeom prst="flowChartMagneticDisk">
            <a:avLst/>
          </a:prstGeom>
          <a:solidFill>
            <a:srgbClr val="b0b0b0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0014"/>
                </a:solidFill>
                <a:latin typeface="Times New Roman"/>
              </a:rPr>
              <a:t>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010280" y="4800240"/>
            <a:ext cx="0" cy="60948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772400" y="48006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1143000"/>
            <a:ext cx="838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Class Vie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CV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1143000"/>
            <a:ext cx="838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HKO Qu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HQ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1905120"/>
            <a:ext cx="838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ata 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Query 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DSQ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1905120"/>
            <a:ext cx="838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rans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 (XT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52960" y="838080"/>
            <a:ext cx="647640" cy="685800"/>
          </a:xfrm>
          <a:prstGeom prst="rect">
            <a:avLst/>
          </a:prstGeom>
          <a:solidFill>
            <a:srgbClr val="a752e0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0014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1066680"/>
            <a:ext cx="60948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742840" y="392112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019920" y="3809880"/>
            <a:ext cx="76176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742840" y="342900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019560" y="2666880"/>
            <a:ext cx="228600" cy="74448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2666880"/>
            <a:ext cx="380880" cy="7621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800600" y="12193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1523880"/>
            <a:ext cx="0" cy="12193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5943600"/>
            <a:ext cx="838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Submiss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6781680"/>
            <a:ext cx="85341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3429000"/>
            <a:ext cx="0" cy="33526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04920" y="3429000"/>
            <a:ext cx="38088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839080" y="4800600"/>
            <a:ext cx="0" cy="198108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29600" y="5943600"/>
            <a:ext cx="11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 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3520" y="5214960"/>
            <a:ext cx="531720" cy="428760"/>
          </a:xfrm>
          <a:prstGeom prst="flowChartMagneticDisk">
            <a:avLst/>
          </a:prstGeom>
          <a:solidFill>
            <a:srgbClr val="f57b49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0014"/>
                </a:solidFill>
                <a:latin typeface="Times New Roman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4960" y="4857840"/>
            <a:ext cx="532080" cy="428400"/>
          </a:xfrm>
          <a:prstGeom prst="flowChartMagneticDisk">
            <a:avLst/>
          </a:prstGeom>
          <a:solidFill>
            <a:srgbClr val="f57b49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0014"/>
                </a:solidFill>
                <a:latin typeface="Times New Roman"/>
              </a:rPr>
              <a:t>Park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967000" y="4555800"/>
            <a:ext cx="384120" cy="3697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733920" y="1523880"/>
            <a:ext cx="457200" cy="762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5486400"/>
            <a:ext cx="457200" cy="762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83240" y="5486400"/>
            <a:ext cx="457200" cy="762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5486400"/>
            <a:ext cx="4572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609480"/>
            <a:ext cx="457200" cy="762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ntology Tools (ISX, DAML)</a:t>
            </a:r>
            <a:br>
              <a:rPr sz="3600"/>
            </a:b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1523880"/>
            <a:ext cx="2743200" cy="137160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0120" y="5181480"/>
            <a:ext cx="685800" cy="685800"/>
          </a:xfrm>
          <a:prstGeom prst="flowChartMagneticDisk">
            <a:avLst/>
          </a:prstGeom>
          <a:solidFill>
            <a:srgbClr val="b0b0b0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2743200"/>
            <a:ext cx="2057400" cy="2590920"/>
          </a:xfrm>
          <a:prstGeom prst="rect">
            <a:avLst/>
          </a:prstGeom>
          <a:solidFill>
            <a:srgbClr val="ffcc66">
              <a:alpha val="50000"/>
            </a:srgbClr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Knowledge 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81680" y="2895480"/>
            <a:ext cx="2133720" cy="190512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Data Access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3886200"/>
            <a:ext cx="2057400" cy="2819520"/>
          </a:xfrm>
          <a:prstGeom prst="rect">
            <a:avLst/>
          </a:prstGeom>
          <a:solidFill>
            <a:srgbClr val="cf9fff"/>
          </a:solidFill>
          <a:ln w="2844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Ontology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762120"/>
            <a:ext cx="2057400" cy="1904760"/>
          </a:xfrm>
          <a:prstGeom prst="rect">
            <a:avLst/>
          </a:prstGeom>
          <a:solidFill>
            <a:srgbClr val="ff9999">
              <a:alpha val="50000"/>
            </a:srgbClr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Portal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742120" y="625320"/>
            <a:ext cx="1035720" cy="1206000"/>
            <a:chOff x="2742120" y="625320"/>
            <a:chExt cx="1035720" cy="1206000"/>
          </a:xfrm>
        </p:grpSpPr>
        <p:graphicFrame>
          <p:nvGraphicFramePr>
            <p:cNvPr id="182" name=""/>
            <p:cNvGraphicFramePr/>
            <p:nvPr/>
          </p:nvGraphicFramePr>
          <p:xfrm>
            <a:off x="2862360" y="625320"/>
            <a:ext cx="812520" cy="843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62360" y="62532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"/>
            <p:cNvSpPr/>
            <p:nvPr/>
          </p:nvSpPr>
          <p:spPr>
            <a:xfrm>
              <a:off x="2742120" y="1311120"/>
              <a:ext cx="103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Consume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475080" y="1523880"/>
            <a:ext cx="945720" cy="1206000"/>
            <a:chOff x="3475080" y="1523880"/>
            <a:chExt cx="945720" cy="1206000"/>
          </a:xfrm>
        </p:grpSpPr>
        <p:graphicFrame>
          <p:nvGraphicFramePr>
            <p:cNvPr id="186" name=""/>
            <p:cNvGraphicFramePr/>
            <p:nvPr/>
          </p:nvGraphicFramePr>
          <p:xfrm>
            <a:off x="3549600" y="1523880"/>
            <a:ext cx="812520" cy="843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549600" y="152388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"/>
            <p:cNvSpPr/>
            <p:nvPr/>
          </p:nvSpPr>
          <p:spPr>
            <a:xfrm>
              <a:off x="3475080" y="2209680"/>
              <a:ext cx="94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Produce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196080" y="5486400"/>
            <a:ext cx="1529640" cy="1206000"/>
            <a:chOff x="3196080" y="5486400"/>
            <a:chExt cx="1529640" cy="1206000"/>
          </a:xfrm>
        </p:grpSpPr>
        <p:graphicFrame>
          <p:nvGraphicFramePr>
            <p:cNvPr id="190" name=""/>
            <p:cNvGraphicFramePr/>
            <p:nvPr/>
          </p:nvGraphicFramePr>
          <p:xfrm>
            <a:off x="3559320" y="5486400"/>
            <a:ext cx="812520" cy="843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559320" y="548640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2" name=""/>
            <p:cNvSpPr/>
            <p:nvPr/>
          </p:nvSpPr>
          <p:spPr>
            <a:xfrm>
              <a:off x="3196080" y="6172200"/>
              <a:ext cx="152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Ontology Autho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508800" y="5486400"/>
            <a:ext cx="997920" cy="1417320"/>
            <a:chOff x="6508800" y="5486400"/>
            <a:chExt cx="997920" cy="1417320"/>
          </a:xfrm>
        </p:grpSpPr>
        <p:graphicFrame>
          <p:nvGraphicFramePr>
            <p:cNvPr id="194" name=""/>
            <p:cNvGraphicFramePr/>
            <p:nvPr/>
          </p:nvGraphicFramePr>
          <p:xfrm>
            <a:off x="6605640" y="5486400"/>
            <a:ext cx="812520" cy="8431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605640" y="548640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"/>
            <p:cNvSpPr/>
            <p:nvPr/>
          </p:nvSpPr>
          <p:spPr>
            <a:xfrm>
              <a:off x="6508800" y="5918040"/>
              <a:ext cx="997920" cy="985680"/>
            </a:xfrm>
            <a:prstGeom prst="flowChartMagneticDisk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Site DBA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267160" y="5486400"/>
            <a:ext cx="1087560" cy="1206000"/>
            <a:chOff x="5267160" y="5486400"/>
            <a:chExt cx="1087560" cy="1206000"/>
          </a:xfrm>
        </p:grpSpPr>
        <p:graphicFrame>
          <p:nvGraphicFramePr>
            <p:cNvPr id="198" name=""/>
            <p:cNvGraphicFramePr/>
            <p:nvPr/>
          </p:nvGraphicFramePr>
          <p:xfrm>
            <a:off x="5410080" y="5486400"/>
            <a:ext cx="812520" cy="8431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10080" y="548640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5267160" y="6172200"/>
              <a:ext cx="1087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KB Admin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762120" y="1066680"/>
            <a:ext cx="0" cy="762120"/>
          </a:xfrm>
          <a:prstGeom prst="line">
            <a:avLst/>
          </a:prstGeom>
          <a:ln w="19080">
            <a:solidFill>
              <a:srgbClr val="050014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5028840" y="5333760"/>
            <a:ext cx="609480" cy="53316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742840" y="5943600"/>
            <a:ext cx="11430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914400"/>
            <a:ext cx="2057400" cy="266688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Markup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129528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utoma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 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Aerotext+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205740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129528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Sub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205740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Sub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281952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fer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4419720"/>
            <a:ext cx="914400" cy="685800"/>
          </a:xfrm>
          <a:prstGeom prst="rect">
            <a:avLst/>
          </a:prstGeom>
          <a:solidFill>
            <a:srgbClr val="b0b0b0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utho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DAML Pg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5181480"/>
            <a:ext cx="914400" cy="685800"/>
          </a:xfrm>
          <a:prstGeom prst="rect">
            <a:avLst/>
          </a:prstGeom>
          <a:solidFill>
            <a:srgbClr val="b0b0b0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Vali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DAML Pg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4419720"/>
            <a:ext cx="838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Impor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52480" y="5181480"/>
            <a:ext cx="838440" cy="685800"/>
          </a:xfrm>
          <a:prstGeom prst="rect">
            <a:avLst/>
          </a:prstGeom>
          <a:solidFill>
            <a:srgbClr val="b2b2b2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Ex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304812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HK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ager &amp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304812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ager &amp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457200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sser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57200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KB Maint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dmin To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380988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Proces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RDF-API+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327672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S 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p 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848720" y="327672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S to K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Upd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03848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Gen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PG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43200" y="1981080"/>
            <a:ext cx="121932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943600" y="4789440"/>
            <a:ext cx="2529000" cy="115416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67480" y="5257800"/>
            <a:ext cx="685800" cy="685800"/>
          </a:xfrm>
          <a:prstGeom prst="flowChartMagneticDisk">
            <a:avLst/>
          </a:prstGeom>
          <a:solidFill>
            <a:srgbClr val="b0b0b0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0014"/>
                </a:solidFill>
                <a:latin typeface="Times New Roman"/>
              </a:rPr>
              <a:t>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010280" y="4800240"/>
            <a:ext cx="0" cy="60948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772400" y="48006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10080" y="114300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Class Vie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CV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24480" y="114300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HKO Qu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HQ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24480" y="190512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ata 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Query 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DSQ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10080" y="190512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rans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 (XT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52960" y="838080"/>
            <a:ext cx="647640" cy="685800"/>
          </a:xfrm>
          <a:prstGeom prst="rect">
            <a:avLst/>
          </a:prstGeom>
          <a:solidFill>
            <a:srgbClr val="a752e0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0014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1066680"/>
            <a:ext cx="60948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742840" y="392112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019920" y="3809880"/>
            <a:ext cx="76176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742840" y="342900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019560" y="2666880"/>
            <a:ext cx="228600" cy="74448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2666880"/>
            <a:ext cx="380880" cy="7621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00600" y="12193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1523880"/>
            <a:ext cx="0" cy="12193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95280" y="5943600"/>
            <a:ext cx="838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Submiss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6781680"/>
            <a:ext cx="85341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3429000"/>
            <a:ext cx="0" cy="33526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04920" y="3429000"/>
            <a:ext cx="38088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839080" y="4800600"/>
            <a:ext cx="0" cy="198108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29600" y="5943600"/>
            <a:ext cx="11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 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13520" y="5214960"/>
            <a:ext cx="531720" cy="428760"/>
          </a:xfrm>
          <a:prstGeom prst="flowChartMagneticDisk">
            <a:avLst/>
          </a:prstGeom>
          <a:solidFill>
            <a:srgbClr val="f57b49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0014"/>
                </a:solidFill>
                <a:latin typeface="Times New Roman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4960" y="4857840"/>
            <a:ext cx="532080" cy="428400"/>
          </a:xfrm>
          <a:prstGeom prst="flowChartMagneticDisk">
            <a:avLst/>
          </a:prstGeom>
          <a:solidFill>
            <a:srgbClr val="f57b49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0014"/>
                </a:solidFill>
                <a:latin typeface="Times New Roman"/>
              </a:rPr>
              <a:t>Park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5967000" y="4555800"/>
            <a:ext cx="384120" cy="3697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ntology Tools</a:t>
            </a:r>
            <a:br>
              <a:rPr sz="3600"/>
            </a:b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ntology Authoring Tool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594360" indent="-228600"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UI for authoring/editing an ontology in DAM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indent="-18288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support extension of ontologies through importing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594360" indent="-228600"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urrently using COTS XML authoring tools (e.g, XML Spy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594360" indent="-228600"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uture: Investigate DAML tools for ontology authoring (e.g., Protégé, OilEd, etc.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-274320">
              <a:spcBef>
                <a:spcPts val="499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ntology Validation Too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594360" indent="-228600"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uture: Check syntax/semantics of DAML ontologies (e.g., investigate DAML tools such as Chimera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-274320">
              <a:spcBef>
                <a:spcPts val="499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Ontology Submission Too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594360" indent="-228600"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UI to submit an ontology (URL) to the KB (also done automatically)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-274320">
              <a:spcBef>
                <a:spcPts val="499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Ontology Import Too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594360" indent="-228600"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eads in a DAML ontology to organize the Horus Knowledge Bas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594360" indent="-228600"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uture: import ontologies from XML DTDs/Schemas, etc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-274320">
              <a:spcBef>
                <a:spcPts val="499"/>
              </a:spcBef>
              <a:buClr>
                <a:srgbClr val="b192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ntology Export Too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594360" indent="-228600">
              <a:spcBef>
                <a:spcPts val="45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uture: Export an ontology in other languag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733920" y="1523880"/>
            <a:ext cx="457200" cy="762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81680" y="5486400"/>
            <a:ext cx="457200" cy="762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83240" y="5486400"/>
            <a:ext cx="457200" cy="762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3920" y="5486400"/>
            <a:ext cx="457200" cy="762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8120" y="609480"/>
            <a:ext cx="457200" cy="762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Markup Tools (Logicon)</a:t>
            </a:r>
            <a:br>
              <a:rPr sz="3600"/>
            </a:b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24280" y="1523880"/>
            <a:ext cx="2743200" cy="137160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20120" y="5181480"/>
            <a:ext cx="685800" cy="685800"/>
          </a:xfrm>
          <a:prstGeom prst="flowChartMagneticDisk">
            <a:avLst/>
          </a:prstGeom>
          <a:solidFill>
            <a:srgbClr val="b0b0b0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2743200"/>
            <a:ext cx="2057400" cy="2590920"/>
          </a:xfrm>
          <a:prstGeom prst="rect">
            <a:avLst/>
          </a:prstGeom>
          <a:solidFill>
            <a:srgbClr val="ffcc66">
              <a:alpha val="50000"/>
            </a:srgbClr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Knowledge 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81680" y="2895480"/>
            <a:ext cx="2133720" cy="190512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Data Access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886200"/>
            <a:ext cx="2057400" cy="2819520"/>
          </a:xfrm>
          <a:prstGeom prst="rect">
            <a:avLst/>
          </a:prstGeom>
          <a:solidFill>
            <a:srgbClr val="cf9fff">
              <a:alpha val="50000"/>
            </a:srgbClr>
          </a:solidFill>
          <a:ln w="2844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Ontology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762120"/>
            <a:ext cx="2057400" cy="1904760"/>
          </a:xfrm>
          <a:prstGeom prst="rect">
            <a:avLst/>
          </a:prstGeom>
          <a:solidFill>
            <a:srgbClr val="ff9999">
              <a:alpha val="50000"/>
            </a:srgbClr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Portal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742120" y="625320"/>
            <a:ext cx="1035720" cy="1206000"/>
            <a:chOff x="2742120" y="625320"/>
            <a:chExt cx="1035720" cy="1206000"/>
          </a:xfrm>
        </p:grpSpPr>
        <p:graphicFrame>
          <p:nvGraphicFramePr>
            <p:cNvPr id="264" name=""/>
            <p:cNvGraphicFramePr/>
            <p:nvPr/>
          </p:nvGraphicFramePr>
          <p:xfrm>
            <a:off x="2862360" y="625320"/>
            <a:ext cx="812520" cy="843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62360" y="62532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"/>
            <p:cNvSpPr/>
            <p:nvPr/>
          </p:nvSpPr>
          <p:spPr>
            <a:xfrm>
              <a:off x="2742120" y="1311120"/>
              <a:ext cx="103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Consume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475080" y="1523880"/>
            <a:ext cx="945720" cy="1206000"/>
            <a:chOff x="3475080" y="1523880"/>
            <a:chExt cx="945720" cy="1206000"/>
          </a:xfrm>
        </p:grpSpPr>
        <p:graphicFrame>
          <p:nvGraphicFramePr>
            <p:cNvPr id="268" name=""/>
            <p:cNvGraphicFramePr/>
            <p:nvPr/>
          </p:nvGraphicFramePr>
          <p:xfrm>
            <a:off x="3549600" y="1523880"/>
            <a:ext cx="812520" cy="843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6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549600" y="152388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0" name=""/>
            <p:cNvSpPr/>
            <p:nvPr/>
          </p:nvSpPr>
          <p:spPr>
            <a:xfrm>
              <a:off x="3475080" y="2209680"/>
              <a:ext cx="94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Produce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196080" y="5486400"/>
            <a:ext cx="1529640" cy="1206000"/>
            <a:chOff x="3196080" y="5486400"/>
            <a:chExt cx="1529640" cy="1206000"/>
          </a:xfrm>
        </p:grpSpPr>
        <p:graphicFrame>
          <p:nvGraphicFramePr>
            <p:cNvPr id="272" name=""/>
            <p:cNvGraphicFramePr/>
            <p:nvPr/>
          </p:nvGraphicFramePr>
          <p:xfrm>
            <a:off x="3559320" y="5486400"/>
            <a:ext cx="812520" cy="843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7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559320" y="548640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4" name=""/>
            <p:cNvSpPr/>
            <p:nvPr/>
          </p:nvSpPr>
          <p:spPr>
            <a:xfrm>
              <a:off x="3196080" y="6172200"/>
              <a:ext cx="152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Ontology Autho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6508800" y="5486400"/>
            <a:ext cx="997920" cy="1417320"/>
            <a:chOff x="6508800" y="5486400"/>
            <a:chExt cx="997920" cy="1417320"/>
          </a:xfrm>
        </p:grpSpPr>
        <p:graphicFrame>
          <p:nvGraphicFramePr>
            <p:cNvPr id="276" name=""/>
            <p:cNvGraphicFramePr/>
            <p:nvPr/>
          </p:nvGraphicFramePr>
          <p:xfrm>
            <a:off x="6605640" y="5486400"/>
            <a:ext cx="812520" cy="8431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605640" y="548640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8" name=""/>
            <p:cNvSpPr/>
            <p:nvPr/>
          </p:nvSpPr>
          <p:spPr>
            <a:xfrm>
              <a:off x="6508800" y="5918040"/>
              <a:ext cx="997920" cy="985680"/>
            </a:xfrm>
            <a:prstGeom prst="flowChartMagneticDisk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Site DBA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267160" y="5486400"/>
            <a:ext cx="1087560" cy="1206000"/>
            <a:chOff x="5267160" y="5486400"/>
            <a:chExt cx="1087560" cy="1206000"/>
          </a:xfrm>
        </p:grpSpPr>
        <p:graphicFrame>
          <p:nvGraphicFramePr>
            <p:cNvPr id="280" name=""/>
            <p:cNvGraphicFramePr/>
            <p:nvPr/>
          </p:nvGraphicFramePr>
          <p:xfrm>
            <a:off x="5410080" y="5486400"/>
            <a:ext cx="812520" cy="8431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10080" y="5486400"/>
                      <a:ext cx="8125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5267160" y="6172200"/>
              <a:ext cx="1087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KB Admin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762120" y="1066680"/>
            <a:ext cx="0" cy="762120"/>
          </a:xfrm>
          <a:prstGeom prst="line">
            <a:avLst/>
          </a:prstGeom>
          <a:ln w="19080">
            <a:solidFill>
              <a:srgbClr val="050014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5028840" y="5333760"/>
            <a:ext cx="609480" cy="53316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742840" y="5943600"/>
            <a:ext cx="11430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914400"/>
            <a:ext cx="2057400" cy="2666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50014"/>
                </a:solidFill>
                <a:uFillTx/>
                <a:latin typeface="Times New Roman"/>
              </a:rPr>
              <a:t>Markup 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1295280"/>
            <a:ext cx="838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utoma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 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Aerotext+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2057400"/>
            <a:ext cx="838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1295280"/>
            <a:ext cx="838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Sub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2057400"/>
            <a:ext cx="838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Sub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5280" y="2819520"/>
            <a:ext cx="838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fer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4419720"/>
            <a:ext cx="914400" cy="685800"/>
          </a:xfrm>
          <a:prstGeom prst="rect">
            <a:avLst/>
          </a:prstGeom>
          <a:solidFill>
            <a:srgbClr val="b0b0b0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utho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DAML Pg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5181480"/>
            <a:ext cx="914400" cy="685800"/>
          </a:xfrm>
          <a:prstGeom prst="rect">
            <a:avLst/>
          </a:prstGeom>
          <a:solidFill>
            <a:srgbClr val="b0b0b0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Vali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DAML Pg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441972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Impor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52480" y="5181480"/>
            <a:ext cx="838440" cy="6858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Ex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14800" y="304812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HK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ager &amp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29200" y="304812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ager &amp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14800" y="457200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sser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457200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KB Maint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Admin To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380988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rku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Proces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RDF-API+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34320" y="327672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S 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Map 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48720" y="327672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S to K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Upd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1520" y="4038480"/>
            <a:ext cx="8380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Gen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PG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43200" y="1981080"/>
            <a:ext cx="121932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943600" y="4789440"/>
            <a:ext cx="2529000" cy="115416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257800"/>
            <a:ext cx="685800" cy="685800"/>
          </a:xfrm>
          <a:prstGeom prst="flowChartMagneticDisk">
            <a:avLst/>
          </a:prstGeom>
          <a:solidFill>
            <a:srgbClr val="b0b0b0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0014"/>
                </a:solidFill>
                <a:latin typeface="Times New Roman"/>
              </a:rPr>
              <a:t>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7010280" y="4800240"/>
            <a:ext cx="0" cy="60948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772400" y="48006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10080" y="114300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Class Vie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CV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24480" y="114300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HKO Qu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HQ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190512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Data 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Query 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(DSQ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190512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rans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 (XT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52960" y="838080"/>
            <a:ext cx="647640" cy="685800"/>
          </a:xfrm>
          <a:prstGeom prst="rect">
            <a:avLst/>
          </a:prstGeom>
          <a:solidFill>
            <a:srgbClr val="a752e0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0014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05320" y="1066680"/>
            <a:ext cx="60948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742840" y="392112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019920" y="3809880"/>
            <a:ext cx="76176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742840" y="342900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6019560" y="2666880"/>
            <a:ext cx="228600" cy="74448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00800" y="2666880"/>
            <a:ext cx="380880" cy="7621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800600" y="12193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1523880"/>
            <a:ext cx="0" cy="12193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95280" y="5943600"/>
            <a:ext cx="83844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Ontolo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Submiss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0014"/>
                </a:solidFill>
                <a:latin typeface="Times New Roman"/>
              </a:rPr>
              <a:t>T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781680"/>
            <a:ext cx="85341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3429000"/>
            <a:ext cx="0" cy="33526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04920" y="3429000"/>
            <a:ext cx="38088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839080" y="4800600"/>
            <a:ext cx="0" cy="198108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29600" y="5943600"/>
            <a:ext cx="11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 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13520" y="5214960"/>
            <a:ext cx="531720" cy="428760"/>
          </a:xfrm>
          <a:prstGeom prst="flowChartMagneticDisk">
            <a:avLst/>
          </a:prstGeom>
          <a:solidFill>
            <a:srgbClr val="f57b49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0014"/>
                </a:solidFill>
                <a:latin typeface="Times New Roman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114960" y="4857840"/>
            <a:ext cx="532080" cy="428400"/>
          </a:xfrm>
          <a:prstGeom prst="flowChartMagneticDisk">
            <a:avLst/>
          </a:prstGeom>
          <a:solidFill>
            <a:srgbClr val="f57b49">
              <a:alpha val="50000"/>
            </a:srgbClr>
          </a:solidFill>
          <a:ln w="9360">
            <a:solidFill>
              <a:srgbClr val="05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0014"/>
                </a:solidFill>
                <a:latin typeface="Times New Roman"/>
              </a:rPr>
              <a:t>Park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5967000" y="4555800"/>
            <a:ext cx="384120" cy="3697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20:45:34Z</dcterms:created>
  <dc:creator>Brian P. Kettler</dc:creator>
  <dc:description/>
  <dc:language>en-US</dc:language>
  <cp:lastModifiedBy>bbn</cp:lastModifiedBy>
  <cp:lastPrinted>1998-06-25T22:34:27Z</cp:lastPrinted>
  <dcterms:modified xsi:type="dcterms:W3CDTF">2001-07-23T10:48:44Z</dcterms:modified>
  <cp:revision>33</cp:revision>
  <dc:subject/>
  <dc:title>Horus Technical Overview for DAML PI Meeting July 200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boley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