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98240" y="1584360"/>
            <a:ext cx="711828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98240" y="4110840"/>
            <a:ext cx="711828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98240" y="158436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120" y="158436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98240" y="411084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6120" y="411084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98240" y="1584360"/>
            <a:ext cx="2291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04840" y="1584360"/>
            <a:ext cx="2291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11800" y="1584360"/>
            <a:ext cx="2291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98240" y="4110840"/>
            <a:ext cx="2291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04840" y="4110840"/>
            <a:ext cx="2291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11800" y="4110840"/>
            <a:ext cx="2291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98240" y="1584360"/>
            <a:ext cx="7118280" cy="48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8240" y="1584360"/>
            <a:ext cx="711828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98240" y="1584360"/>
            <a:ext cx="347364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120" y="1584360"/>
            <a:ext cx="347364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87080" y="441000"/>
            <a:ext cx="744372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98240" y="158436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6120" y="1584360"/>
            <a:ext cx="347364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98240" y="411084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98240" y="1584360"/>
            <a:ext cx="347364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6120" y="158436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6120" y="411084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87080" y="432360"/>
            <a:ext cx="744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8240" y="158436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6120" y="1584360"/>
            <a:ext cx="347364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8240" y="4110840"/>
            <a:ext cx="711828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152280"/>
            <a:ext cx="8832240" cy="1219320"/>
            <a:chOff x="146160" y="152280"/>
            <a:chExt cx="8832240" cy="1219320"/>
          </a:xfrm>
        </p:grpSpPr>
        <p:pic>
          <p:nvPicPr>
            <p:cNvPr id="1" name="hiero" descr=""/>
            <p:cNvPicPr/>
            <p:nvPr/>
          </p:nvPicPr>
          <p:blipFill>
            <a:blip r:embed="rId2"/>
            <a:stretch/>
          </p:blipFill>
          <p:spPr>
            <a:xfrm>
              <a:off x="146160" y="152280"/>
              <a:ext cx="44161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hiero" descr=""/>
            <p:cNvPicPr/>
            <p:nvPr/>
          </p:nvPicPr>
          <p:blipFill>
            <a:blip r:embed="rId3"/>
            <a:stretch/>
          </p:blipFill>
          <p:spPr>
            <a:xfrm>
              <a:off x="4562280" y="152280"/>
              <a:ext cx="44161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398240" y="1584360"/>
            <a:ext cx="711828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-7920" y="6642360"/>
            <a:ext cx="38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177D-AF72-4CC1-ABF9-0297603B367A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387080" y="441000"/>
            <a:ext cx="744372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6784920" y="5127480"/>
            <a:ext cx="180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1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5f5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6880" y="0"/>
            <a:ext cx="1396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4760" y="0"/>
            <a:ext cx="1396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20280" y="6716880"/>
            <a:ext cx="385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621E-B9B4-4705-9721-188E166E8577}" type="slidenum">
              <a:rPr b="0" lang="en-US" sz="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398600" y="160200"/>
            <a:ext cx="6815160" cy="62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784920" y="5127480"/>
            <a:ext cx="180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1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5f5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61800" y="0"/>
            <a:ext cx="1396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LOGO_horus%20copy" descr=""/>
          <p:cNvPicPr/>
          <p:nvPr/>
        </p:nvPicPr>
        <p:blipFill>
          <a:blip r:embed="rId7"/>
          <a:stretch/>
        </p:blipFill>
        <p:spPr>
          <a:xfrm>
            <a:off x="0" y="331920"/>
            <a:ext cx="118116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horus1" descr=""/>
          <p:cNvPicPr/>
          <p:nvPr/>
        </p:nvPicPr>
        <p:blipFill>
          <a:blip r:embed="rId1"/>
          <a:stretch/>
        </p:blipFill>
        <p:spPr>
          <a:xfrm>
            <a:off x="3138480" y="3017880"/>
            <a:ext cx="3551400" cy="217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65560" y="3027240"/>
            <a:ext cx="3295440" cy="2060640"/>
          </a:xfrm>
          <a:prstGeom prst="rect">
            <a:avLst/>
          </a:prstGeom>
          <a:noFill/>
          <a:ln w="7621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46560" y="3016080"/>
            <a:ext cx="3133440" cy="1941840"/>
          </a:xfrm>
          <a:prstGeom prst="rect">
            <a:avLst/>
          </a:prstGeom>
          <a:noFill/>
          <a:ln w="190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55760" y="7477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154080"/>
            <a:ext cx="462420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Black"/>
              </a:rPr>
              <a:t>HOR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765440"/>
            <a:ext cx="749448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Black"/>
              </a:rPr>
              <a:t>The Egyptian All-Seeing Go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24000" y="6093000"/>
            <a:ext cx="7494480" cy="3070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 Black"/>
              </a:rPr>
              <a:t>A Joint IMO/DARP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7120" y="3711600"/>
            <a:ext cx="152640" cy="183960"/>
          </a:xfrm>
          <a:custGeom>
            <a:avLst/>
            <a:gdLst>
              <a:gd name="textAreaLeft" fmla="*/ 63000 w 152640"/>
              <a:gd name="textAreaRight" fmla="*/ 89640 w 152640"/>
              <a:gd name="textAreaTop" fmla="*/ 75600 h 183960"/>
              <a:gd name="textAreaBottom" fmla="*/ 108360 h 18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ntelink" descr=""/>
          <p:cNvPicPr/>
          <p:nvPr/>
        </p:nvPicPr>
        <p:blipFill>
          <a:blip r:embed="rId2"/>
          <a:stretch/>
        </p:blipFill>
        <p:spPr>
          <a:xfrm>
            <a:off x="141120" y="5229360"/>
            <a:ext cx="657360" cy="6062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5962680"/>
            <a:ext cx="895320" cy="412200"/>
            <a:chOff x="0" y="5962680"/>
            <a:chExt cx="895320" cy="412200"/>
          </a:xfrm>
        </p:grpSpPr>
        <p:sp>
          <p:nvSpPr>
            <p:cNvPr id="60" name=""/>
            <p:cNvSpPr/>
            <p:nvPr/>
          </p:nvSpPr>
          <p:spPr>
            <a:xfrm>
              <a:off x="0" y="5965560"/>
              <a:ext cx="895320" cy="40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darpa" descr=""/>
            <p:cNvPicPr/>
            <p:nvPr/>
          </p:nvPicPr>
          <p:blipFill>
            <a:blip r:embed="rId3"/>
            <a:stretch/>
          </p:blipFill>
          <p:spPr>
            <a:xfrm>
              <a:off x="11160" y="5962680"/>
              <a:ext cx="88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1236600" y="5091120"/>
            <a:ext cx="7494480" cy="612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 Black"/>
              </a:rPr>
              <a:t>DAML PI Meeting, Naushua, 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3300"/>
                </a:solidFill>
                <a:latin typeface="Arial Black"/>
              </a:rPr>
              <a:t>17 Jul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1400" y="5715000"/>
            <a:ext cx="74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Don Conk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87080" y="441000"/>
            <a:ext cx="744372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Horus Goals </a:t>
            </a: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9520" y="1584360"/>
            <a:ext cx="76770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vide simpler and more focussed access to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unstructured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(web pages and documents) and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structured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(relational) data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y employing advanced text markup methods and schema to ontology mapping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e information together across different “Knowledge Domains” and provide capability to follow threads of logic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y employing ontologies to describe these Knowledge Domai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low access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o inform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organized by substantive content rather than access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o document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bout the cont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hift away from a document centric to an object centric view of inform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verage the efforts of the DARPA Agent Markup Language (DAML) effort and W3C and other industry efforts (including XM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 DAML tools and technologies as the basis Horu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eedback to DAML on what works… and what doesn’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rus is not competitive but rather complementary to efforts using XML to mark up docum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87080" y="441000"/>
            <a:ext cx="744372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Building a Semantic Web</a:t>
            </a: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0080" y="1566720"/>
            <a:ext cx="7632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ntolog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llow semantically organization and logical structure for knowledge domain(s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w data is initially viewed and selected for markup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w data is queried upon and navigated through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rus follows the DAML paradigm of many small linked ontologie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ollow the XML / RDF / DAML construct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uilding ontologies is not trivia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sing mostly DAML tools for construction, validation, etc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rus is building tools for importing ontologie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rus is building a set of five Toolki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ntologie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up of documents, manual and automated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ructured data source acc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rtal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nowledgebase (for persistence, query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35120" y="3027240"/>
            <a:ext cx="1482480" cy="13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87080" y="441000"/>
            <a:ext cx="7443720" cy="625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Black"/>
              </a:rPr>
              <a:t>Horus Vision</a:t>
            </a: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343400"/>
            <a:ext cx="1152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01760" y="2098800"/>
            <a:ext cx="6892200" cy="3633480"/>
            <a:chOff x="1301760" y="2098800"/>
            <a:chExt cx="6892200" cy="3633480"/>
          </a:xfrm>
        </p:grpSpPr>
        <p:pic>
          <p:nvPicPr>
            <p:cNvPr id="72" name="horus" descr=""/>
            <p:cNvPicPr/>
            <p:nvPr/>
          </p:nvPicPr>
          <p:blipFill>
            <a:blip r:embed="rId1"/>
            <a:stretch/>
          </p:blipFill>
          <p:spPr>
            <a:xfrm>
              <a:off x="1614960" y="2098800"/>
              <a:ext cx="5498640" cy="36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80000" y="4404240"/>
              <a:ext cx="1671480" cy="943560"/>
            </a:xfrm>
            <a:prstGeom prst="ellipse">
              <a:avLst/>
            </a:prstGeom>
            <a:gradFill rotWithShape="0">
              <a:gsLst>
                <a:gs pos="0">
                  <a:srgbClr val="a7a7a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3289800">
              <a:off x="5675400" y="3282480"/>
              <a:ext cx="2380680" cy="1572120"/>
            </a:xfrm>
            <a:prstGeom prst="irregularSeal2">
              <a:avLst/>
            </a:prstGeom>
            <a:solidFill>
              <a:srgbClr val="3333cc"/>
            </a:solidFill>
            <a:ln w="114480">
              <a:solidFill>
                <a:srgbClr val="66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3289800">
              <a:off x="5731200" y="3292200"/>
              <a:ext cx="2180160" cy="1512720"/>
            </a:xfrm>
            <a:prstGeom prst="irregularSeal2">
              <a:avLst/>
            </a:prstGeom>
            <a:solidFill>
              <a:srgbClr val="ffffff"/>
            </a:solidFill>
            <a:ln w="114480">
              <a:solidFill>
                <a:srgbClr val="66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 rot="561600">
              <a:off x="6242040" y="3603960"/>
              <a:ext cx="1159200" cy="89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Intelin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0080" y="2794320"/>
              <a:ext cx="723960" cy="1914480"/>
            </a:xfrm>
            <a:custGeom>
              <a:avLst/>
              <a:gdLst/>
              <a:ahLst/>
              <a:rect l="l" t="t" r="r" b="b"/>
              <a:pathLst>
                <a:path w="393" h="842">
                  <a:moveTo>
                    <a:pt x="110" y="842"/>
                  </a:moveTo>
                  <a:lnTo>
                    <a:pt x="227" y="809"/>
                  </a:lnTo>
                  <a:lnTo>
                    <a:pt x="127" y="548"/>
                  </a:lnTo>
                  <a:lnTo>
                    <a:pt x="177" y="288"/>
                  </a:lnTo>
                  <a:lnTo>
                    <a:pt x="310" y="133"/>
                  </a:lnTo>
                  <a:lnTo>
                    <a:pt x="393" y="78"/>
                  </a:lnTo>
                  <a:lnTo>
                    <a:pt x="321" y="0"/>
                  </a:lnTo>
                  <a:lnTo>
                    <a:pt x="194" y="94"/>
                  </a:lnTo>
                  <a:lnTo>
                    <a:pt x="83" y="222"/>
                  </a:lnTo>
                  <a:lnTo>
                    <a:pt x="11" y="377"/>
                  </a:lnTo>
                  <a:lnTo>
                    <a:pt x="0" y="537"/>
                  </a:lnTo>
                  <a:lnTo>
                    <a:pt x="33" y="726"/>
                  </a:lnTo>
                  <a:lnTo>
                    <a:pt x="110" y="8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59720" y="3222000"/>
              <a:ext cx="368280" cy="1461960"/>
            </a:xfrm>
            <a:custGeom>
              <a:avLst/>
              <a:gdLst/>
              <a:ahLst/>
              <a:rect l="l" t="t" r="r" b="b"/>
              <a:pathLst>
                <a:path w="200" h="643">
                  <a:moveTo>
                    <a:pt x="139" y="643"/>
                  </a:moveTo>
                  <a:lnTo>
                    <a:pt x="177" y="571"/>
                  </a:lnTo>
                  <a:lnTo>
                    <a:pt x="111" y="443"/>
                  </a:lnTo>
                  <a:lnTo>
                    <a:pt x="78" y="288"/>
                  </a:lnTo>
                  <a:lnTo>
                    <a:pt x="111" y="194"/>
                  </a:lnTo>
                  <a:lnTo>
                    <a:pt x="161" y="83"/>
                  </a:lnTo>
                  <a:lnTo>
                    <a:pt x="200" y="50"/>
                  </a:lnTo>
                  <a:lnTo>
                    <a:pt x="139" y="0"/>
                  </a:lnTo>
                  <a:lnTo>
                    <a:pt x="100" y="56"/>
                  </a:lnTo>
                  <a:lnTo>
                    <a:pt x="28" y="161"/>
                  </a:lnTo>
                  <a:lnTo>
                    <a:pt x="17" y="266"/>
                  </a:lnTo>
                  <a:lnTo>
                    <a:pt x="0" y="421"/>
                  </a:lnTo>
                  <a:lnTo>
                    <a:pt x="61" y="515"/>
                  </a:lnTo>
                  <a:lnTo>
                    <a:pt x="100" y="604"/>
                  </a:lnTo>
                  <a:lnTo>
                    <a:pt x="139" y="6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301760" y="2873880"/>
              <a:ext cx="1312200" cy="1783080"/>
              <a:chOff x="1301760" y="2873880"/>
              <a:chExt cx="1312200" cy="1783080"/>
            </a:xfrm>
          </p:grpSpPr>
          <p:graphicFrame>
            <p:nvGraphicFramePr>
              <p:cNvPr id="80" name=""/>
              <p:cNvGraphicFramePr/>
              <p:nvPr/>
            </p:nvGraphicFramePr>
            <p:xfrm>
              <a:off x="1301760" y="2873880"/>
              <a:ext cx="1312200" cy="17830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301760" y="2873880"/>
                        <a:ext cx="1312200" cy="178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2" name=""/>
              <p:cNvSpPr/>
              <p:nvPr/>
            </p:nvSpPr>
            <p:spPr>
              <a:xfrm>
                <a:off x="1856880" y="3744720"/>
                <a:ext cx="6350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Horus 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6180120" y="3662280"/>
            <a:ext cx="15048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A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tructu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Unstructu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3240" y="3741840"/>
            <a:ext cx="12207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6103"/>
                </a:solidFill>
                <a:latin typeface="Garamond"/>
              </a:rPr>
              <a:t>Horus Enabled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2000" y="366480"/>
            <a:ext cx="6815160" cy="625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Black"/>
              </a:rPr>
              <a:t>A Horus Example</a:t>
            </a: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747720" y="1370160"/>
            <a:ext cx="46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ate and Link Horus knowledg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99080" y="1576440"/>
            <a:ext cx="2428920" cy="2328840"/>
            <a:chOff x="6499080" y="1576440"/>
            <a:chExt cx="2428920" cy="2328840"/>
          </a:xfrm>
        </p:grpSpPr>
        <p:sp>
          <p:nvSpPr>
            <p:cNvPr id="88" name=""/>
            <p:cNvSpPr/>
            <p:nvPr/>
          </p:nvSpPr>
          <p:spPr>
            <a:xfrm>
              <a:off x="7143840" y="2166480"/>
              <a:ext cx="1320840" cy="1283760"/>
            </a:xfrm>
            <a:custGeom>
              <a:avLst/>
              <a:gdLst/>
              <a:ahLst/>
              <a:rect l="l" t="t" r="r" b="b"/>
              <a:pathLst>
                <a:path w="1007" h="1189">
                  <a:moveTo>
                    <a:pt x="0" y="1189"/>
                  </a:moveTo>
                  <a:cubicBezTo>
                    <a:pt x="314" y="1141"/>
                    <a:pt x="629" y="1093"/>
                    <a:pt x="793" y="980"/>
                  </a:cubicBezTo>
                  <a:cubicBezTo>
                    <a:pt x="956" y="866"/>
                    <a:pt x="952" y="672"/>
                    <a:pt x="980" y="509"/>
                  </a:cubicBezTo>
                  <a:cubicBezTo>
                    <a:pt x="1007" y="345"/>
                    <a:pt x="982" y="172"/>
                    <a:pt x="957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781400">
              <a:off x="7768440" y="2374200"/>
              <a:ext cx="667800" cy="200160"/>
            </a:xfrm>
            <a:custGeom>
              <a:avLst/>
              <a:gdLst/>
              <a:ahLst/>
              <a:rect l="l" t="t" r="r" b="b"/>
              <a:pathLst>
                <a:path w="553" h="105">
                  <a:moveTo>
                    <a:pt x="0" y="60"/>
                  </a:moveTo>
                  <a:cubicBezTo>
                    <a:pt x="73" y="30"/>
                    <a:pt x="146" y="0"/>
                    <a:pt x="239" y="8"/>
                  </a:cubicBezTo>
                  <a:cubicBezTo>
                    <a:pt x="331" y="15"/>
                    <a:pt x="442" y="60"/>
                    <a:pt x="553" y="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53360" y="2070000"/>
              <a:ext cx="1077840" cy="62640"/>
            </a:xfrm>
            <a:custGeom>
              <a:avLst/>
              <a:gdLst/>
              <a:ahLst/>
              <a:rect l="l" t="t" r="r" b="b"/>
              <a:pathLst>
                <a:path w="471" h="148">
                  <a:moveTo>
                    <a:pt x="0" y="73"/>
                  </a:moveTo>
                  <a:cubicBezTo>
                    <a:pt x="80" y="36"/>
                    <a:pt x="160" y="0"/>
                    <a:pt x="239" y="13"/>
                  </a:cubicBezTo>
                  <a:cubicBezTo>
                    <a:pt x="317" y="25"/>
                    <a:pt x="394" y="86"/>
                    <a:pt x="471" y="1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860000">
              <a:off x="7346880" y="2756520"/>
              <a:ext cx="231840" cy="703080"/>
            </a:xfrm>
            <a:custGeom>
              <a:avLst/>
              <a:gdLst/>
              <a:ahLst/>
              <a:rect l="l" t="t" r="r" b="b"/>
              <a:pathLst>
                <a:path w="394" h="695">
                  <a:moveTo>
                    <a:pt x="394" y="0"/>
                  </a:moveTo>
                  <a:cubicBezTo>
                    <a:pt x="246" y="84"/>
                    <a:pt x="99" y="168"/>
                    <a:pt x="50" y="284"/>
                  </a:cubicBezTo>
                  <a:cubicBezTo>
                    <a:pt x="0" y="399"/>
                    <a:pt x="47" y="547"/>
                    <a:pt x="94" y="69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38920" y="2220480"/>
              <a:ext cx="665280" cy="1212480"/>
            </a:xfrm>
            <a:custGeom>
              <a:avLst/>
              <a:gdLst/>
              <a:ahLst/>
              <a:rect l="l" t="t" r="r" b="b"/>
              <a:pathLst>
                <a:path w="507" h="1123">
                  <a:moveTo>
                    <a:pt x="320" y="1123"/>
                  </a:moveTo>
                  <a:cubicBezTo>
                    <a:pt x="187" y="924"/>
                    <a:pt x="55" y="726"/>
                    <a:pt x="28" y="555"/>
                  </a:cubicBezTo>
                  <a:cubicBezTo>
                    <a:pt x="0" y="383"/>
                    <a:pt x="75" y="181"/>
                    <a:pt x="155" y="91"/>
                  </a:cubicBezTo>
                  <a:cubicBezTo>
                    <a:pt x="234" y="0"/>
                    <a:pt x="370" y="4"/>
                    <a:pt x="507" y="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31040" y="2255040"/>
              <a:ext cx="500040" cy="386280"/>
            </a:xfrm>
            <a:custGeom>
              <a:avLst/>
              <a:gdLst/>
              <a:ahLst/>
              <a:rect l="l" t="t" r="r" b="b"/>
              <a:pathLst>
                <a:path w="382" h="359">
                  <a:moveTo>
                    <a:pt x="382" y="359"/>
                  </a:moveTo>
                  <a:cubicBezTo>
                    <a:pt x="224" y="213"/>
                    <a:pt x="67" y="68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64400" y="2174760"/>
              <a:ext cx="304920" cy="34848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02120" y="2323440"/>
              <a:ext cx="44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ab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16680" y="3349800"/>
              <a:ext cx="322560" cy="33228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49000" y="348264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Pho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4240" y="2582280"/>
              <a:ext cx="287280" cy="31104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50240" y="271260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Vid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16880" y="2798280"/>
              <a:ext cx="333360" cy="35676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57480" y="295272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mage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63080" y="2205360"/>
              <a:ext cx="3283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Narrow"/>
                </a:rPr>
                <a:t>si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29640" y="3386160"/>
              <a:ext cx="378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s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122960" y="2039040"/>
              <a:ext cx="429840" cy="343080"/>
              <a:chOff x="7122960" y="2039040"/>
              <a:chExt cx="429840" cy="34308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7122960" y="2039040"/>
                <a:ext cx="349200" cy="343080"/>
                <a:chOff x="7122960" y="2039040"/>
                <a:chExt cx="349200" cy="3430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122960" y="2039040"/>
                  <a:ext cx="252720" cy="2610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171200" y="2080080"/>
                  <a:ext cx="252720" cy="26100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19440" y="2121120"/>
                  <a:ext cx="252720" cy="261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7129080" y="2141640"/>
                <a:ext cx="42372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7556400" y="2959200"/>
              <a:ext cx="304920" cy="34992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94120" y="3108240"/>
              <a:ext cx="44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ab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7027920" y="3206160"/>
              <a:ext cx="429840" cy="341280"/>
              <a:chOff x="7027920" y="3206160"/>
              <a:chExt cx="429840" cy="3412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7027920" y="3206160"/>
                <a:ext cx="349200" cy="341280"/>
                <a:chOff x="7027920" y="3206160"/>
                <a:chExt cx="349200" cy="341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027920" y="3206160"/>
                  <a:ext cx="252720" cy="25956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076160" y="3247200"/>
                  <a:ext cx="252720" cy="25956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124400" y="3287880"/>
                  <a:ext cx="252720" cy="259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034040" y="3308040"/>
                <a:ext cx="42372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18400" y="2603880"/>
              <a:ext cx="429840" cy="341280"/>
              <a:chOff x="7718400" y="2603880"/>
              <a:chExt cx="429840" cy="3412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7718400" y="2603880"/>
                <a:ext cx="349200" cy="341280"/>
                <a:chOff x="7718400" y="2603880"/>
                <a:chExt cx="349200" cy="3412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718400" y="2603880"/>
                  <a:ext cx="252720" cy="25956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766640" y="2644920"/>
                  <a:ext cx="252720" cy="25956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814880" y="2685600"/>
                  <a:ext cx="252720" cy="259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7724520" y="2704320"/>
                <a:ext cx="42372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250120" y="2147760"/>
              <a:ext cx="429840" cy="341640"/>
              <a:chOff x="8250120" y="2147760"/>
              <a:chExt cx="429840" cy="3416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8250120" y="2147760"/>
                <a:ext cx="349200" cy="341640"/>
                <a:chOff x="8250120" y="2147760"/>
                <a:chExt cx="349200" cy="3416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8250120" y="2147760"/>
                  <a:ext cx="252720" cy="2599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298360" y="2188800"/>
                  <a:ext cx="252720" cy="2599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346600" y="2229480"/>
                  <a:ext cx="252720" cy="259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8256240" y="2249640"/>
                <a:ext cx="42372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6499080" y="1576440"/>
              <a:ext cx="2428920" cy="2328840"/>
            </a:xfrm>
            <a:custGeom>
              <a:avLst/>
              <a:gdLst/>
              <a:ahLst/>
              <a:rect l="l" t="t" r="r" b="b"/>
              <a:pathLst>
                <a:path w="1407" h="1509">
                  <a:moveTo>
                    <a:pt x="1076" y="28"/>
                  </a:moveTo>
                  <a:cubicBezTo>
                    <a:pt x="1115" y="78"/>
                    <a:pt x="1167" y="123"/>
                    <a:pt x="1220" y="158"/>
                  </a:cubicBezTo>
                  <a:cubicBezTo>
                    <a:pt x="1262" y="221"/>
                    <a:pt x="1304" y="241"/>
                    <a:pt x="1323" y="316"/>
                  </a:cubicBezTo>
                  <a:cubicBezTo>
                    <a:pt x="1315" y="465"/>
                    <a:pt x="1291" y="609"/>
                    <a:pt x="1378" y="734"/>
                  </a:cubicBezTo>
                  <a:cubicBezTo>
                    <a:pt x="1391" y="771"/>
                    <a:pt x="1398" y="805"/>
                    <a:pt x="1405" y="844"/>
                  </a:cubicBezTo>
                  <a:cubicBezTo>
                    <a:pt x="1403" y="890"/>
                    <a:pt x="1407" y="936"/>
                    <a:pt x="1399" y="981"/>
                  </a:cubicBezTo>
                  <a:cubicBezTo>
                    <a:pt x="1391" y="1026"/>
                    <a:pt x="1256" y="1041"/>
                    <a:pt x="1234" y="1043"/>
                  </a:cubicBezTo>
                  <a:cubicBezTo>
                    <a:pt x="1211" y="1049"/>
                    <a:pt x="1188" y="1056"/>
                    <a:pt x="1165" y="1063"/>
                  </a:cubicBezTo>
                  <a:cubicBezTo>
                    <a:pt x="1105" y="1110"/>
                    <a:pt x="1124" y="1086"/>
                    <a:pt x="1097" y="1125"/>
                  </a:cubicBezTo>
                  <a:cubicBezTo>
                    <a:pt x="1088" y="1250"/>
                    <a:pt x="1088" y="1273"/>
                    <a:pt x="1015" y="1365"/>
                  </a:cubicBezTo>
                  <a:cubicBezTo>
                    <a:pt x="995" y="1424"/>
                    <a:pt x="1027" y="1334"/>
                    <a:pt x="987" y="1420"/>
                  </a:cubicBezTo>
                  <a:cubicBezTo>
                    <a:pt x="972" y="1453"/>
                    <a:pt x="967" y="1479"/>
                    <a:pt x="946" y="1509"/>
                  </a:cubicBezTo>
                  <a:cubicBezTo>
                    <a:pt x="869" y="1505"/>
                    <a:pt x="833" y="1503"/>
                    <a:pt x="768" y="1489"/>
                  </a:cubicBezTo>
                  <a:cubicBezTo>
                    <a:pt x="742" y="1472"/>
                    <a:pt x="718" y="1457"/>
                    <a:pt x="692" y="1441"/>
                  </a:cubicBezTo>
                  <a:cubicBezTo>
                    <a:pt x="678" y="1433"/>
                    <a:pt x="651" y="1413"/>
                    <a:pt x="651" y="1413"/>
                  </a:cubicBezTo>
                  <a:cubicBezTo>
                    <a:pt x="648" y="1405"/>
                    <a:pt x="637" y="1361"/>
                    <a:pt x="624" y="1351"/>
                  </a:cubicBezTo>
                  <a:cubicBezTo>
                    <a:pt x="606" y="1337"/>
                    <a:pt x="551" y="1332"/>
                    <a:pt x="528" y="1324"/>
                  </a:cubicBezTo>
                  <a:cubicBezTo>
                    <a:pt x="473" y="1329"/>
                    <a:pt x="435" y="1336"/>
                    <a:pt x="384" y="1351"/>
                  </a:cubicBezTo>
                  <a:cubicBezTo>
                    <a:pt x="296" y="1346"/>
                    <a:pt x="258" y="1349"/>
                    <a:pt x="192" y="1303"/>
                  </a:cubicBezTo>
                  <a:cubicBezTo>
                    <a:pt x="181" y="1271"/>
                    <a:pt x="176" y="1242"/>
                    <a:pt x="157" y="1214"/>
                  </a:cubicBezTo>
                  <a:cubicBezTo>
                    <a:pt x="149" y="1188"/>
                    <a:pt x="131" y="1182"/>
                    <a:pt x="116" y="1159"/>
                  </a:cubicBezTo>
                  <a:cubicBezTo>
                    <a:pt x="106" y="1121"/>
                    <a:pt x="115" y="1054"/>
                    <a:pt x="89" y="1022"/>
                  </a:cubicBezTo>
                  <a:cubicBezTo>
                    <a:pt x="67" y="996"/>
                    <a:pt x="25" y="986"/>
                    <a:pt x="0" y="961"/>
                  </a:cubicBezTo>
                  <a:cubicBezTo>
                    <a:pt x="32" y="713"/>
                    <a:pt x="14" y="499"/>
                    <a:pt x="20" y="227"/>
                  </a:cubicBezTo>
                  <a:cubicBezTo>
                    <a:pt x="21" y="189"/>
                    <a:pt x="47" y="155"/>
                    <a:pt x="75" y="131"/>
                  </a:cubicBezTo>
                  <a:cubicBezTo>
                    <a:pt x="101" y="109"/>
                    <a:pt x="158" y="94"/>
                    <a:pt x="192" y="83"/>
                  </a:cubicBezTo>
                  <a:cubicBezTo>
                    <a:pt x="239" y="51"/>
                    <a:pt x="217" y="60"/>
                    <a:pt x="253" y="49"/>
                  </a:cubicBezTo>
                  <a:cubicBezTo>
                    <a:pt x="327" y="0"/>
                    <a:pt x="409" y="32"/>
                    <a:pt x="500" y="35"/>
                  </a:cubicBezTo>
                  <a:cubicBezTo>
                    <a:pt x="507" y="37"/>
                    <a:pt x="558" y="49"/>
                    <a:pt x="576" y="55"/>
                  </a:cubicBezTo>
                  <a:cubicBezTo>
                    <a:pt x="590" y="59"/>
                    <a:pt x="603" y="64"/>
                    <a:pt x="617" y="69"/>
                  </a:cubicBezTo>
                  <a:cubicBezTo>
                    <a:pt x="624" y="71"/>
                    <a:pt x="637" y="76"/>
                    <a:pt x="637" y="76"/>
                  </a:cubicBezTo>
                  <a:cubicBezTo>
                    <a:pt x="772" y="72"/>
                    <a:pt x="833" y="91"/>
                    <a:pt x="932" y="62"/>
                  </a:cubicBezTo>
                  <a:cubicBezTo>
                    <a:pt x="960" y="54"/>
                    <a:pt x="987" y="42"/>
                    <a:pt x="1015" y="35"/>
                  </a:cubicBezTo>
                  <a:cubicBezTo>
                    <a:pt x="1033" y="30"/>
                    <a:pt x="1069" y="21"/>
                    <a:pt x="1069" y="2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0560" y="1663200"/>
              <a:ext cx="200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t Knowledge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98400" y="4129200"/>
            <a:ext cx="2747880" cy="2558880"/>
            <a:chOff x="698400" y="4129200"/>
            <a:chExt cx="2747880" cy="2558880"/>
          </a:xfrm>
        </p:grpSpPr>
        <p:sp>
          <p:nvSpPr>
            <p:cNvPr id="133" name=""/>
            <p:cNvSpPr/>
            <p:nvPr/>
          </p:nvSpPr>
          <p:spPr>
            <a:xfrm>
              <a:off x="1334880" y="4829040"/>
              <a:ext cx="1349280" cy="1533600"/>
            </a:xfrm>
            <a:custGeom>
              <a:avLst/>
              <a:gdLst/>
              <a:ahLst/>
              <a:rect l="l" t="t" r="r" b="b"/>
              <a:pathLst>
                <a:path w="1007" h="1189">
                  <a:moveTo>
                    <a:pt x="0" y="1189"/>
                  </a:moveTo>
                  <a:cubicBezTo>
                    <a:pt x="314" y="1141"/>
                    <a:pt x="629" y="1093"/>
                    <a:pt x="793" y="980"/>
                  </a:cubicBezTo>
                  <a:cubicBezTo>
                    <a:pt x="956" y="866"/>
                    <a:pt x="952" y="672"/>
                    <a:pt x="980" y="509"/>
                  </a:cubicBezTo>
                  <a:cubicBezTo>
                    <a:pt x="1007" y="345"/>
                    <a:pt x="982" y="172"/>
                    <a:pt x="957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781400">
              <a:off x="1914840" y="5096160"/>
              <a:ext cx="798840" cy="203040"/>
            </a:xfrm>
            <a:custGeom>
              <a:avLst/>
              <a:gdLst/>
              <a:ahLst/>
              <a:rect l="l" t="t" r="r" b="b"/>
              <a:pathLst>
                <a:path w="553" h="105">
                  <a:moveTo>
                    <a:pt x="0" y="60"/>
                  </a:moveTo>
                  <a:cubicBezTo>
                    <a:pt x="73" y="30"/>
                    <a:pt x="146" y="0"/>
                    <a:pt x="239" y="8"/>
                  </a:cubicBezTo>
                  <a:cubicBezTo>
                    <a:pt x="331" y="15"/>
                    <a:pt x="442" y="60"/>
                    <a:pt x="553" y="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49440" y="4714920"/>
              <a:ext cx="1101600" cy="74520"/>
            </a:xfrm>
            <a:custGeom>
              <a:avLst/>
              <a:gdLst/>
              <a:ahLst/>
              <a:rect l="l" t="t" r="r" b="b"/>
              <a:pathLst>
                <a:path w="471" h="148">
                  <a:moveTo>
                    <a:pt x="0" y="73"/>
                  </a:moveTo>
                  <a:cubicBezTo>
                    <a:pt x="80" y="36"/>
                    <a:pt x="160" y="0"/>
                    <a:pt x="239" y="13"/>
                  </a:cubicBezTo>
                  <a:cubicBezTo>
                    <a:pt x="317" y="25"/>
                    <a:pt x="394" y="86"/>
                    <a:pt x="471" y="1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60000">
              <a:off x="1542600" y="5533920"/>
              <a:ext cx="236520" cy="839880"/>
            </a:xfrm>
            <a:custGeom>
              <a:avLst/>
              <a:gdLst/>
              <a:ahLst/>
              <a:rect l="l" t="t" r="r" b="b"/>
              <a:pathLst>
                <a:path w="394" h="695">
                  <a:moveTo>
                    <a:pt x="394" y="0"/>
                  </a:moveTo>
                  <a:cubicBezTo>
                    <a:pt x="246" y="84"/>
                    <a:pt x="99" y="168"/>
                    <a:pt x="50" y="284"/>
                  </a:cubicBezTo>
                  <a:cubicBezTo>
                    <a:pt x="0" y="399"/>
                    <a:pt x="47" y="547"/>
                    <a:pt x="94" y="69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3840" y="4894200"/>
              <a:ext cx="679320" cy="1447920"/>
            </a:xfrm>
            <a:custGeom>
              <a:avLst/>
              <a:gdLst/>
              <a:ahLst/>
              <a:rect l="l" t="t" r="r" b="b"/>
              <a:pathLst>
                <a:path w="507" h="1123">
                  <a:moveTo>
                    <a:pt x="320" y="1123"/>
                  </a:moveTo>
                  <a:cubicBezTo>
                    <a:pt x="187" y="924"/>
                    <a:pt x="55" y="726"/>
                    <a:pt x="28" y="555"/>
                  </a:cubicBezTo>
                  <a:cubicBezTo>
                    <a:pt x="0" y="383"/>
                    <a:pt x="75" y="181"/>
                    <a:pt x="155" y="91"/>
                  </a:cubicBezTo>
                  <a:cubicBezTo>
                    <a:pt x="234" y="0"/>
                    <a:pt x="370" y="4"/>
                    <a:pt x="507" y="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5320" y="4935600"/>
              <a:ext cx="511200" cy="461880"/>
            </a:xfrm>
            <a:custGeom>
              <a:avLst/>
              <a:gdLst/>
              <a:ahLst/>
              <a:rect l="l" t="t" r="r" b="b"/>
              <a:pathLst>
                <a:path w="382" h="359">
                  <a:moveTo>
                    <a:pt x="382" y="359"/>
                  </a:moveTo>
                  <a:cubicBezTo>
                    <a:pt x="224" y="213"/>
                    <a:pt x="67" y="68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600" y="4838760"/>
              <a:ext cx="311400" cy="41724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09000" y="5016600"/>
              <a:ext cx="44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ab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22480" y="6242040"/>
              <a:ext cx="328320" cy="39852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57680" y="640080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Pho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3840" y="5325840"/>
              <a:ext cx="293400" cy="37152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43080" y="548172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Vid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38160" y="5584680"/>
              <a:ext cx="339840" cy="42552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2000" y="576900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mage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77880" y="4876920"/>
              <a:ext cx="33660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Narrow"/>
                </a:rPr>
                <a:t>si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9240" y="6286320"/>
              <a:ext cx="378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s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314360" y="4678200"/>
              <a:ext cx="439200" cy="409320"/>
              <a:chOff x="1314360" y="4678200"/>
              <a:chExt cx="439200" cy="4093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14360" y="4678200"/>
                <a:ext cx="357120" cy="409320"/>
                <a:chOff x="1314360" y="4678200"/>
                <a:chExt cx="357120" cy="4093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314360" y="4678200"/>
                  <a:ext cx="258120" cy="3114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3680" y="4727160"/>
                  <a:ext cx="258480" cy="31140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413000" y="4776120"/>
                  <a:ext cx="258480" cy="31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320480" y="4800600"/>
                <a:ext cx="43308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757160" y="5776920"/>
              <a:ext cx="311040" cy="41760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98120" y="5954760"/>
              <a:ext cx="44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ab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215720" y="6070680"/>
              <a:ext cx="439920" cy="408960"/>
              <a:chOff x="1215720" y="6070680"/>
              <a:chExt cx="439920" cy="40896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215720" y="6070680"/>
                <a:ext cx="357120" cy="408960"/>
                <a:chOff x="1215720" y="6070680"/>
                <a:chExt cx="357120" cy="408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215720" y="6070680"/>
                  <a:ext cx="258480" cy="3110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265040" y="6119640"/>
                  <a:ext cx="258480" cy="3110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14360" y="6168600"/>
                  <a:ext cx="258480" cy="311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1222200" y="6192720"/>
                <a:ext cx="43344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922400" y="5351400"/>
              <a:ext cx="439200" cy="409320"/>
              <a:chOff x="1922400" y="5351400"/>
              <a:chExt cx="439200" cy="40932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922400" y="5351400"/>
                <a:ext cx="357120" cy="409320"/>
                <a:chOff x="1922400" y="5351400"/>
                <a:chExt cx="357120" cy="409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922400" y="5351400"/>
                  <a:ext cx="258120" cy="3114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971720" y="5400360"/>
                  <a:ext cx="258480" cy="31140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021040" y="5449320"/>
                  <a:ext cx="258480" cy="31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1928520" y="5473800"/>
                <a:ext cx="43308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465280" y="4806720"/>
              <a:ext cx="439200" cy="409320"/>
              <a:chOff x="2465280" y="4806720"/>
              <a:chExt cx="439200" cy="40932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465280" y="4806720"/>
                <a:ext cx="357120" cy="409320"/>
                <a:chOff x="2465280" y="4806720"/>
                <a:chExt cx="357120" cy="4093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65280" y="4806720"/>
                  <a:ext cx="258120" cy="3114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14600" y="4855680"/>
                  <a:ext cx="258480" cy="31140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63920" y="4904640"/>
                  <a:ext cx="258480" cy="31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2471400" y="4929120"/>
                <a:ext cx="43308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98400" y="4129200"/>
              <a:ext cx="2747880" cy="2558880"/>
            </a:xfrm>
            <a:custGeom>
              <a:avLst/>
              <a:gdLst/>
              <a:ahLst/>
              <a:rect l="l" t="t" r="r" b="b"/>
              <a:pathLst>
                <a:path w="1731" h="1612">
                  <a:moveTo>
                    <a:pt x="328" y="42"/>
                  </a:moveTo>
                  <a:cubicBezTo>
                    <a:pt x="323" y="146"/>
                    <a:pt x="341" y="270"/>
                    <a:pt x="246" y="337"/>
                  </a:cubicBezTo>
                  <a:cubicBezTo>
                    <a:pt x="207" y="395"/>
                    <a:pt x="167" y="448"/>
                    <a:pt x="122" y="501"/>
                  </a:cubicBezTo>
                  <a:cubicBezTo>
                    <a:pt x="110" y="515"/>
                    <a:pt x="99" y="528"/>
                    <a:pt x="88" y="542"/>
                  </a:cubicBezTo>
                  <a:cubicBezTo>
                    <a:pt x="78" y="555"/>
                    <a:pt x="60" y="583"/>
                    <a:pt x="60" y="583"/>
                  </a:cubicBezTo>
                  <a:cubicBezTo>
                    <a:pt x="49" y="623"/>
                    <a:pt x="39" y="659"/>
                    <a:pt x="33" y="700"/>
                  </a:cubicBezTo>
                  <a:cubicBezTo>
                    <a:pt x="25" y="819"/>
                    <a:pt x="0" y="976"/>
                    <a:pt x="67" y="1084"/>
                  </a:cubicBezTo>
                  <a:cubicBezTo>
                    <a:pt x="77" y="1124"/>
                    <a:pt x="97" y="1157"/>
                    <a:pt x="115" y="1194"/>
                  </a:cubicBezTo>
                  <a:cubicBezTo>
                    <a:pt x="136" y="1236"/>
                    <a:pt x="106" y="1189"/>
                    <a:pt x="129" y="1242"/>
                  </a:cubicBezTo>
                  <a:cubicBezTo>
                    <a:pt x="147" y="1283"/>
                    <a:pt x="173" y="1327"/>
                    <a:pt x="204" y="1358"/>
                  </a:cubicBezTo>
                  <a:cubicBezTo>
                    <a:pt x="221" y="1408"/>
                    <a:pt x="254" y="1471"/>
                    <a:pt x="300" y="1502"/>
                  </a:cubicBezTo>
                  <a:cubicBezTo>
                    <a:pt x="314" y="1511"/>
                    <a:pt x="342" y="1530"/>
                    <a:pt x="342" y="1530"/>
                  </a:cubicBezTo>
                  <a:cubicBezTo>
                    <a:pt x="367" y="1568"/>
                    <a:pt x="395" y="1571"/>
                    <a:pt x="438" y="1578"/>
                  </a:cubicBezTo>
                  <a:cubicBezTo>
                    <a:pt x="484" y="1576"/>
                    <a:pt x="530" y="1577"/>
                    <a:pt x="575" y="1571"/>
                  </a:cubicBezTo>
                  <a:cubicBezTo>
                    <a:pt x="630" y="1564"/>
                    <a:pt x="562" y="1552"/>
                    <a:pt x="609" y="1537"/>
                  </a:cubicBezTo>
                  <a:cubicBezTo>
                    <a:pt x="631" y="1530"/>
                    <a:pt x="655" y="1532"/>
                    <a:pt x="678" y="1530"/>
                  </a:cubicBezTo>
                  <a:cubicBezTo>
                    <a:pt x="728" y="1543"/>
                    <a:pt x="702" y="1561"/>
                    <a:pt x="732" y="1578"/>
                  </a:cubicBezTo>
                  <a:cubicBezTo>
                    <a:pt x="780" y="1606"/>
                    <a:pt x="842" y="1588"/>
                    <a:pt x="897" y="1591"/>
                  </a:cubicBezTo>
                  <a:cubicBezTo>
                    <a:pt x="961" y="1612"/>
                    <a:pt x="1012" y="1602"/>
                    <a:pt x="1082" y="1598"/>
                  </a:cubicBezTo>
                  <a:cubicBezTo>
                    <a:pt x="1129" y="1582"/>
                    <a:pt x="1171" y="1544"/>
                    <a:pt x="1206" y="1509"/>
                  </a:cubicBezTo>
                  <a:cubicBezTo>
                    <a:pt x="1218" y="1471"/>
                    <a:pt x="1225" y="1432"/>
                    <a:pt x="1247" y="1399"/>
                  </a:cubicBezTo>
                  <a:cubicBezTo>
                    <a:pt x="1252" y="1367"/>
                    <a:pt x="1248" y="1297"/>
                    <a:pt x="1288" y="1283"/>
                  </a:cubicBezTo>
                  <a:cubicBezTo>
                    <a:pt x="1301" y="1279"/>
                    <a:pt x="1315" y="1278"/>
                    <a:pt x="1329" y="1276"/>
                  </a:cubicBezTo>
                  <a:cubicBezTo>
                    <a:pt x="1433" y="1281"/>
                    <a:pt x="1494" y="1300"/>
                    <a:pt x="1576" y="1249"/>
                  </a:cubicBezTo>
                  <a:cubicBezTo>
                    <a:pt x="1595" y="1221"/>
                    <a:pt x="1604" y="1196"/>
                    <a:pt x="1624" y="1166"/>
                  </a:cubicBezTo>
                  <a:cubicBezTo>
                    <a:pt x="1629" y="1159"/>
                    <a:pt x="1638" y="1146"/>
                    <a:pt x="1638" y="1146"/>
                  </a:cubicBezTo>
                  <a:cubicBezTo>
                    <a:pt x="1626" y="1023"/>
                    <a:pt x="1731" y="1137"/>
                    <a:pt x="1684" y="1070"/>
                  </a:cubicBezTo>
                  <a:cubicBezTo>
                    <a:pt x="1678" y="1047"/>
                    <a:pt x="1691" y="981"/>
                    <a:pt x="1691" y="981"/>
                  </a:cubicBezTo>
                  <a:cubicBezTo>
                    <a:pt x="1680" y="938"/>
                    <a:pt x="1726" y="920"/>
                    <a:pt x="1691" y="885"/>
                  </a:cubicBezTo>
                  <a:cubicBezTo>
                    <a:pt x="1678" y="872"/>
                    <a:pt x="1704" y="816"/>
                    <a:pt x="1691" y="803"/>
                  </a:cubicBezTo>
                  <a:cubicBezTo>
                    <a:pt x="1678" y="765"/>
                    <a:pt x="1655" y="720"/>
                    <a:pt x="1650" y="679"/>
                  </a:cubicBezTo>
                  <a:cubicBezTo>
                    <a:pt x="1647" y="589"/>
                    <a:pt x="1653" y="551"/>
                    <a:pt x="1623" y="460"/>
                  </a:cubicBezTo>
                  <a:cubicBezTo>
                    <a:pt x="1644" y="439"/>
                    <a:pt x="1634" y="367"/>
                    <a:pt x="1650" y="343"/>
                  </a:cubicBezTo>
                  <a:cubicBezTo>
                    <a:pt x="1676" y="243"/>
                    <a:pt x="1676" y="182"/>
                    <a:pt x="1664" y="76"/>
                  </a:cubicBezTo>
                  <a:cubicBezTo>
                    <a:pt x="1661" y="53"/>
                    <a:pt x="1425" y="14"/>
                    <a:pt x="1425" y="14"/>
                  </a:cubicBezTo>
                  <a:cubicBezTo>
                    <a:pt x="970" y="32"/>
                    <a:pt x="1192" y="15"/>
                    <a:pt x="966" y="55"/>
                  </a:cubicBezTo>
                  <a:cubicBezTo>
                    <a:pt x="810" y="52"/>
                    <a:pt x="660" y="49"/>
                    <a:pt x="506" y="35"/>
                  </a:cubicBezTo>
                  <a:cubicBezTo>
                    <a:pt x="469" y="25"/>
                    <a:pt x="442" y="8"/>
                    <a:pt x="403" y="1"/>
                  </a:cubicBezTo>
                  <a:cubicBezTo>
                    <a:pt x="383" y="3"/>
                    <a:pt x="361" y="0"/>
                    <a:pt x="342" y="7"/>
                  </a:cubicBezTo>
                  <a:cubicBezTo>
                    <a:pt x="335" y="10"/>
                    <a:pt x="321" y="42"/>
                    <a:pt x="321" y="49"/>
                  </a:cubicBezTo>
                  <a:cubicBezTo>
                    <a:pt x="321" y="52"/>
                    <a:pt x="326" y="44"/>
                    <a:pt x="328" y="42"/>
                  </a:cubicBez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89080" y="4221000"/>
              <a:ext cx="2082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ganization Knowledge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82640" y="1709640"/>
            <a:ext cx="364320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dependently created knowledge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sibly by different production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7040" y="2284560"/>
            <a:ext cx="2376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pported by their own web sites and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inked by continuously updated object/ind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48000" y="5307120"/>
            <a:ext cx="2308320" cy="1269720"/>
          </a:xfrm>
          <a:prstGeom prst="ellipse">
            <a:avLst/>
          </a:prstGeom>
          <a:gradFill rotWithShape="0">
            <a:gsLst>
              <a:gs pos="0">
                <a:srgbClr val="fe1212"/>
              </a:gs>
              <a:gs pos="50000">
                <a:srgbClr val="ff0000"/>
              </a:gs>
              <a:gs pos="100000">
                <a:srgbClr val="fe1212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tion = Koso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ader =  SheikNasrall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cking =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13160" y="1982880"/>
            <a:ext cx="2919600" cy="1670040"/>
          </a:xfrm>
          <a:prstGeom prst="ellipse">
            <a:avLst/>
          </a:prstGeom>
          <a:gradFill rotWithShape="0">
            <a:gsLst>
              <a:gs pos="0">
                <a:srgbClr val="fe1212"/>
              </a:gs>
              <a:gs pos="50000">
                <a:srgbClr val="ff0000"/>
              </a:gs>
              <a:gs pos="100000">
                <a:srgbClr val="fe1212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ar Bomb Event (discrete 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tion = Macedonian B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apon = 200lbs 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e = 25Jun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petrator 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599160" y="4359240"/>
            <a:ext cx="2428920" cy="2382840"/>
            <a:chOff x="6599160" y="4359240"/>
            <a:chExt cx="2428920" cy="2382840"/>
          </a:xfrm>
        </p:grpSpPr>
        <p:sp>
          <p:nvSpPr>
            <p:cNvPr id="182" name=""/>
            <p:cNvSpPr/>
            <p:nvPr/>
          </p:nvSpPr>
          <p:spPr>
            <a:xfrm>
              <a:off x="7243920" y="4962960"/>
              <a:ext cx="1320840" cy="1313280"/>
            </a:xfrm>
            <a:custGeom>
              <a:avLst/>
              <a:gdLst/>
              <a:ahLst/>
              <a:rect l="l" t="t" r="r" b="b"/>
              <a:pathLst>
                <a:path w="1007" h="1189">
                  <a:moveTo>
                    <a:pt x="0" y="1189"/>
                  </a:moveTo>
                  <a:cubicBezTo>
                    <a:pt x="314" y="1141"/>
                    <a:pt x="629" y="1093"/>
                    <a:pt x="793" y="980"/>
                  </a:cubicBezTo>
                  <a:cubicBezTo>
                    <a:pt x="956" y="866"/>
                    <a:pt x="952" y="672"/>
                    <a:pt x="980" y="509"/>
                  </a:cubicBezTo>
                  <a:cubicBezTo>
                    <a:pt x="1007" y="345"/>
                    <a:pt x="982" y="172"/>
                    <a:pt x="957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781400">
              <a:off x="7860600" y="5178240"/>
              <a:ext cx="683280" cy="200160"/>
            </a:xfrm>
            <a:custGeom>
              <a:avLst/>
              <a:gdLst/>
              <a:ahLst/>
              <a:rect l="l" t="t" r="r" b="b"/>
              <a:pathLst>
                <a:path w="553" h="105">
                  <a:moveTo>
                    <a:pt x="0" y="60"/>
                  </a:moveTo>
                  <a:cubicBezTo>
                    <a:pt x="73" y="30"/>
                    <a:pt x="146" y="0"/>
                    <a:pt x="239" y="8"/>
                  </a:cubicBezTo>
                  <a:cubicBezTo>
                    <a:pt x="331" y="15"/>
                    <a:pt x="442" y="60"/>
                    <a:pt x="553" y="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53440" y="4864320"/>
              <a:ext cx="1077840" cy="64080"/>
            </a:xfrm>
            <a:custGeom>
              <a:avLst/>
              <a:gdLst/>
              <a:ahLst/>
              <a:rect l="l" t="t" r="r" b="b"/>
              <a:pathLst>
                <a:path w="471" h="148">
                  <a:moveTo>
                    <a:pt x="0" y="73"/>
                  </a:moveTo>
                  <a:cubicBezTo>
                    <a:pt x="80" y="36"/>
                    <a:pt x="160" y="0"/>
                    <a:pt x="239" y="13"/>
                  </a:cubicBezTo>
                  <a:cubicBezTo>
                    <a:pt x="317" y="25"/>
                    <a:pt x="394" y="86"/>
                    <a:pt x="471" y="1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60000">
              <a:off x="7446960" y="5566680"/>
              <a:ext cx="231840" cy="719280"/>
            </a:xfrm>
            <a:custGeom>
              <a:avLst/>
              <a:gdLst/>
              <a:ahLst/>
              <a:rect l="l" t="t" r="r" b="b"/>
              <a:pathLst>
                <a:path w="394" h="695">
                  <a:moveTo>
                    <a:pt x="394" y="0"/>
                  </a:moveTo>
                  <a:cubicBezTo>
                    <a:pt x="246" y="84"/>
                    <a:pt x="99" y="168"/>
                    <a:pt x="50" y="284"/>
                  </a:cubicBezTo>
                  <a:cubicBezTo>
                    <a:pt x="0" y="399"/>
                    <a:pt x="47" y="547"/>
                    <a:pt x="94" y="69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39000" y="5018040"/>
              <a:ext cx="665280" cy="1240560"/>
            </a:xfrm>
            <a:custGeom>
              <a:avLst/>
              <a:gdLst/>
              <a:ahLst/>
              <a:rect l="l" t="t" r="r" b="b"/>
              <a:pathLst>
                <a:path w="507" h="1123">
                  <a:moveTo>
                    <a:pt x="320" y="1123"/>
                  </a:moveTo>
                  <a:cubicBezTo>
                    <a:pt x="187" y="924"/>
                    <a:pt x="55" y="726"/>
                    <a:pt x="28" y="555"/>
                  </a:cubicBezTo>
                  <a:cubicBezTo>
                    <a:pt x="0" y="383"/>
                    <a:pt x="75" y="181"/>
                    <a:pt x="155" y="91"/>
                  </a:cubicBezTo>
                  <a:cubicBezTo>
                    <a:pt x="234" y="0"/>
                    <a:pt x="370" y="4"/>
                    <a:pt x="507" y="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31120" y="5053680"/>
              <a:ext cx="500040" cy="395280"/>
            </a:xfrm>
            <a:custGeom>
              <a:avLst/>
              <a:gdLst/>
              <a:ahLst/>
              <a:rect l="l" t="t" r="r" b="b"/>
              <a:pathLst>
                <a:path w="382" h="359">
                  <a:moveTo>
                    <a:pt x="382" y="359"/>
                  </a:moveTo>
                  <a:cubicBezTo>
                    <a:pt x="224" y="213"/>
                    <a:pt x="67" y="68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64480" y="4971240"/>
              <a:ext cx="304920" cy="35640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2200" y="5123520"/>
              <a:ext cx="44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ab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16760" y="6174000"/>
              <a:ext cx="322560" cy="34020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49080" y="6309720"/>
              <a:ext cx="46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Pho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04320" y="5388480"/>
              <a:ext cx="287280" cy="31824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0320" y="552168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Vid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16960" y="5609520"/>
              <a:ext cx="333360" cy="36504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57560" y="5767200"/>
              <a:ext cx="45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Image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63160" y="5004000"/>
              <a:ext cx="3283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 Narrow"/>
                </a:rPr>
                <a:t>si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29720" y="6210720"/>
              <a:ext cx="378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s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223040" y="4832640"/>
              <a:ext cx="429840" cy="351000"/>
              <a:chOff x="7223040" y="4832640"/>
              <a:chExt cx="429840" cy="3510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7223040" y="4832640"/>
                <a:ext cx="349200" cy="351000"/>
                <a:chOff x="7223040" y="4832640"/>
                <a:chExt cx="349200" cy="3510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223040" y="4832640"/>
                  <a:ext cx="252720" cy="2671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71280" y="4874760"/>
                  <a:ext cx="252720" cy="2671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19520" y="4916520"/>
                  <a:ext cx="252720" cy="267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7229160" y="4937400"/>
                <a:ext cx="42372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656480" y="5774040"/>
              <a:ext cx="304920" cy="35820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108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94200" y="5926680"/>
              <a:ext cx="44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Narrow"/>
                </a:rPr>
                <a:t>Tab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128000" y="6026760"/>
              <a:ext cx="429840" cy="349200"/>
              <a:chOff x="7128000" y="6026760"/>
              <a:chExt cx="429840" cy="3492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128000" y="6026760"/>
                <a:ext cx="349200" cy="349200"/>
                <a:chOff x="7128000" y="6026760"/>
                <a:chExt cx="349200" cy="349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128000" y="6026760"/>
                  <a:ext cx="252720" cy="2656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176240" y="6068520"/>
                  <a:ext cx="252720" cy="26568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224480" y="6110280"/>
                  <a:ext cx="252720" cy="26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134120" y="6133680"/>
                <a:ext cx="42372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818480" y="5410440"/>
              <a:ext cx="429840" cy="349200"/>
              <a:chOff x="7818480" y="5410440"/>
              <a:chExt cx="429840" cy="3492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7818480" y="5410440"/>
                <a:ext cx="349200" cy="349200"/>
                <a:chOff x="7818480" y="5410440"/>
                <a:chExt cx="349200" cy="349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818480" y="5410440"/>
                  <a:ext cx="252720" cy="2656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866720" y="5452200"/>
                  <a:ext cx="252720" cy="26568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14960" y="5493960"/>
                  <a:ext cx="252720" cy="26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7824600" y="5514840"/>
                <a:ext cx="42372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8350200" y="4943520"/>
              <a:ext cx="429840" cy="349920"/>
              <a:chOff x="8350200" y="4943520"/>
              <a:chExt cx="429840" cy="3499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8350200" y="4943520"/>
                <a:ext cx="349200" cy="349920"/>
                <a:chOff x="8350200" y="4943520"/>
                <a:chExt cx="349200" cy="3499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350200" y="4943520"/>
                  <a:ext cx="252720" cy="2660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398440" y="4985280"/>
                  <a:ext cx="252720" cy="26604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446680" y="5027400"/>
                  <a:ext cx="252720" cy="266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66ff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356320" y="5047920"/>
                <a:ext cx="42372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 Narrow"/>
                  </a:rPr>
                  <a:t>We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599160" y="4359240"/>
              <a:ext cx="2428920" cy="2382840"/>
            </a:xfrm>
            <a:custGeom>
              <a:avLst/>
              <a:gdLst/>
              <a:ahLst/>
              <a:rect l="l" t="t" r="r" b="b"/>
              <a:pathLst>
                <a:path w="1407" h="1509">
                  <a:moveTo>
                    <a:pt x="1076" y="28"/>
                  </a:moveTo>
                  <a:cubicBezTo>
                    <a:pt x="1115" y="78"/>
                    <a:pt x="1167" y="123"/>
                    <a:pt x="1220" y="158"/>
                  </a:cubicBezTo>
                  <a:cubicBezTo>
                    <a:pt x="1262" y="221"/>
                    <a:pt x="1304" y="241"/>
                    <a:pt x="1323" y="316"/>
                  </a:cubicBezTo>
                  <a:cubicBezTo>
                    <a:pt x="1315" y="465"/>
                    <a:pt x="1291" y="609"/>
                    <a:pt x="1378" y="734"/>
                  </a:cubicBezTo>
                  <a:cubicBezTo>
                    <a:pt x="1391" y="771"/>
                    <a:pt x="1398" y="805"/>
                    <a:pt x="1405" y="844"/>
                  </a:cubicBezTo>
                  <a:cubicBezTo>
                    <a:pt x="1403" y="890"/>
                    <a:pt x="1407" y="936"/>
                    <a:pt x="1399" y="981"/>
                  </a:cubicBezTo>
                  <a:cubicBezTo>
                    <a:pt x="1391" y="1026"/>
                    <a:pt x="1256" y="1041"/>
                    <a:pt x="1234" y="1043"/>
                  </a:cubicBezTo>
                  <a:cubicBezTo>
                    <a:pt x="1211" y="1049"/>
                    <a:pt x="1188" y="1056"/>
                    <a:pt x="1165" y="1063"/>
                  </a:cubicBezTo>
                  <a:cubicBezTo>
                    <a:pt x="1105" y="1110"/>
                    <a:pt x="1124" y="1086"/>
                    <a:pt x="1097" y="1125"/>
                  </a:cubicBezTo>
                  <a:cubicBezTo>
                    <a:pt x="1088" y="1250"/>
                    <a:pt x="1088" y="1273"/>
                    <a:pt x="1015" y="1365"/>
                  </a:cubicBezTo>
                  <a:cubicBezTo>
                    <a:pt x="995" y="1424"/>
                    <a:pt x="1027" y="1334"/>
                    <a:pt x="987" y="1420"/>
                  </a:cubicBezTo>
                  <a:cubicBezTo>
                    <a:pt x="972" y="1453"/>
                    <a:pt x="967" y="1479"/>
                    <a:pt x="946" y="1509"/>
                  </a:cubicBezTo>
                  <a:cubicBezTo>
                    <a:pt x="869" y="1505"/>
                    <a:pt x="833" y="1503"/>
                    <a:pt x="768" y="1489"/>
                  </a:cubicBezTo>
                  <a:cubicBezTo>
                    <a:pt x="742" y="1472"/>
                    <a:pt x="718" y="1457"/>
                    <a:pt x="692" y="1441"/>
                  </a:cubicBezTo>
                  <a:cubicBezTo>
                    <a:pt x="678" y="1433"/>
                    <a:pt x="651" y="1413"/>
                    <a:pt x="651" y="1413"/>
                  </a:cubicBezTo>
                  <a:cubicBezTo>
                    <a:pt x="648" y="1405"/>
                    <a:pt x="637" y="1361"/>
                    <a:pt x="624" y="1351"/>
                  </a:cubicBezTo>
                  <a:cubicBezTo>
                    <a:pt x="606" y="1337"/>
                    <a:pt x="551" y="1332"/>
                    <a:pt x="528" y="1324"/>
                  </a:cubicBezTo>
                  <a:cubicBezTo>
                    <a:pt x="473" y="1329"/>
                    <a:pt x="435" y="1336"/>
                    <a:pt x="384" y="1351"/>
                  </a:cubicBezTo>
                  <a:cubicBezTo>
                    <a:pt x="296" y="1346"/>
                    <a:pt x="258" y="1349"/>
                    <a:pt x="192" y="1303"/>
                  </a:cubicBezTo>
                  <a:cubicBezTo>
                    <a:pt x="181" y="1271"/>
                    <a:pt x="176" y="1242"/>
                    <a:pt x="157" y="1214"/>
                  </a:cubicBezTo>
                  <a:cubicBezTo>
                    <a:pt x="149" y="1188"/>
                    <a:pt x="131" y="1182"/>
                    <a:pt x="116" y="1159"/>
                  </a:cubicBezTo>
                  <a:cubicBezTo>
                    <a:pt x="106" y="1121"/>
                    <a:pt x="115" y="1054"/>
                    <a:pt x="89" y="1022"/>
                  </a:cubicBezTo>
                  <a:cubicBezTo>
                    <a:pt x="67" y="996"/>
                    <a:pt x="25" y="986"/>
                    <a:pt x="0" y="961"/>
                  </a:cubicBezTo>
                  <a:cubicBezTo>
                    <a:pt x="32" y="713"/>
                    <a:pt x="14" y="499"/>
                    <a:pt x="20" y="227"/>
                  </a:cubicBezTo>
                  <a:cubicBezTo>
                    <a:pt x="21" y="189"/>
                    <a:pt x="47" y="155"/>
                    <a:pt x="75" y="131"/>
                  </a:cubicBezTo>
                  <a:cubicBezTo>
                    <a:pt x="101" y="109"/>
                    <a:pt x="158" y="94"/>
                    <a:pt x="192" y="83"/>
                  </a:cubicBezTo>
                  <a:cubicBezTo>
                    <a:pt x="239" y="51"/>
                    <a:pt x="217" y="60"/>
                    <a:pt x="253" y="49"/>
                  </a:cubicBezTo>
                  <a:cubicBezTo>
                    <a:pt x="327" y="0"/>
                    <a:pt x="409" y="32"/>
                    <a:pt x="500" y="35"/>
                  </a:cubicBezTo>
                  <a:cubicBezTo>
                    <a:pt x="507" y="37"/>
                    <a:pt x="558" y="49"/>
                    <a:pt x="576" y="55"/>
                  </a:cubicBezTo>
                  <a:cubicBezTo>
                    <a:pt x="590" y="59"/>
                    <a:pt x="603" y="64"/>
                    <a:pt x="617" y="69"/>
                  </a:cubicBezTo>
                  <a:cubicBezTo>
                    <a:pt x="624" y="71"/>
                    <a:pt x="637" y="76"/>
                    <a:pt x="637" y="76"/>
                  </a:cubicBezTo>
                  <a:cubicBezTo>
                    <a:pt x="772" y="72"/>
                    <a:pt x="833" y="91"/>
                    <a:pt x="932" y="62"/>
                  </a:cubicBezTo>
                  <a:cubicBezTo>
                    <a:pt x="960" y="54"/>
                    <a:pt x="987" y="42"/>
                    <a:pt x="1015" y="35"/>
                  </a:cubicBezTo>
                  <a:cubicBezTo>
                    <a:pt x="1033" y="30"/>
                    <a:pt x="1069" y="21"/>
                    <a:pt x="1069" y="2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0640" y="4448160"/>
              <a:ext cx="200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    Knowledge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467240" y="4100400"/>
            <a:ext cx="2671920" cy="1440000"/>
          </a:xfrm>
          <a:prstGeom prst="ellipse">
            <a:avLst/>
          </a:prstGeom>
          <a:gradFill rotWithShape="0">
            <a:gsLst>
              <a:gs pos="0">
                <a:srgbClr val="fe1212"/>
              </a:gs>
              <a:gs pos="50000">
                <a:srgbClr val="ff0000"/>
              </a:gs>
              <a:gs pos="100000">
                <a:srgbClr val="fe1212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hmed Kahlid Na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itizen of = Koso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mber of =  K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cts Involved in = Car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16200">
            <a:off x="5320080" y="3594600"/>
            <a:ext cx="1359000" cy="338040"/>
          </a:xfrm>
          <a:prstGeom prst="rightArrow">
            <a:avLst>
              <a:gd name="adj1" fmla="val 50000"/>
              <a:gd name="adj2" fmla="val 100506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9433200">
            <a:off x="3141000" y="5081400"/>
            <a:ext cx="1942920" cy="338040"/>
          </a:xfrm>
          <a:prstGeom prst="rightArrow">
            <a:avLst>
              <a:gd name="adj1" fmla="val 50000"/>
              <a:gd name="adj2" fmla="val 14369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18480" y="2862360"/>
            <a:ext cx="588960" cy="282600"/>
          </a:xfrm>
          <a:prstGeom prst="leftRightArrow">
            <a:avLst>
              <a:gd name="adj1" fmla="val 50000"/>
              <a:gd name="adj2" fmla="val 41488"/>
            </a:avLst>
          </a:prstGeom>
          <a:solidFill>
            <a:srgbClr val="dede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19760" y="5181480"/>
            <a:ext cx="588960" cy="282600"/>
          </a:xfrm>
          <a:prstGeom prst="leftRightArrow">
            <a:avLst>
              <a:gd name="adj1" fmla="val 50000"/>
              <a:gd name="adj2" fmla="val 41488"/>
            </a:avLst>
          </a:prstGeom>
          <a:solidFill>
            <a:srgbClr val="dede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1760" y="5786280"/>
            <a:ext cx="588960" cy="282600"/>
          </a:xfrm>
          <a:prstGeom prst="leftRightArrow">
            <a:avLst>
              <a:gd name="adj1" fmla="val 50000"/>
              <a:gd name="adj2" fmla="val 41488"/>
            </a:avLst>
          </a:prstGeom>
          <a:solidFill>
            <a:srgbClr val="dede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861600">
            <a:off x="2690280" y="4240080"/>
            <a:ext cx="2980080" cy="338400"/>
          </a:xfrm>
          <a:prstGeom prst="rightArrow">
            <a:avLst>
              <a:gd name="adj1" fmla="val 50000"/>
              <a:gd name="adj2" fmla="val 22016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4240" y="3308400"/>
            <a:ext cx="38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Making the best use of the data we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2000" y="287280"/>
            <a:ext cx="7473960" cy="62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Implications of Horus Use</a:t>
            </a:r>
            <a:endParaRPr b="0" i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51040" y="1512360"/>
            <a:ext cx="802152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rkup takes some effort by producers of information, and consumers (if allowed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ers can benefit from markup as they are the first consume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re is a critical mass required for the markup to become helpfu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siness processes have to be established by manag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o define who can create KO’s (authoritative producer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o can modify these KO’s (original and other producers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o can create additional links between KO’s (producers and consumers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site development can become using Horus Knowledge Objects to develop produc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tead of producing more document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4360" y="441000"/>
            <a:ext cx="778644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Horus-Enabled Web Site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8720" y="1398240"/>
            <a:ext cx="7915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ganized around knowledge objects (KO’s) representing the site’s knowledge domain(s) based on the ontologies use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ort the creation of appropriate KO’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llows the capture of pertinent data to populate the KO properties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llow expressing the relationships between KO’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as Horus tools integrated into its processes to allow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up of documents, during or after their product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p database schema to ontologies for structured data acc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as access to a Knowledgebas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or persistent store of KO’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or query execut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intains links into data bases and documents to indicate support of KO property valu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urce document/database URI’s are kept with the KO in the Knowledgebas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llow link back to the original document and/or drilldown to a database product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as tools to allow the easy construction of queries and navigation of  KO’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55160" y="441000"/>
            <a:ext cx="777564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Benefits of Horus-Enabled Web Sites</a:t>
            </a:r>
            <a:endParaRPr b="0" i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4640" y="1517760"/>
            <a:ext cx="711828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reatly improved 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knowledg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about domain objects of interest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reatly improved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organiz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of knowledg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asier browsing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gher quality searching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anges the focus of users from “viewing documents” to “viewing knowledge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corporates easily into production and web site development initiatives (low cost of entry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ical brief follows…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53:54Z</dcterms:created>
  <dc:creator>Brian P. Kettler</dc:creator>
  <dc:description/>
  <dc:language>en-US</dc:language>
  <cp:lastModifiedBy>bbn</cp:lastModifiedBy>
  <cp:lastPrinted>2000-10-18T12:11:12Z</cp:lastPrinted>
  <dcterms:modified xsi:type="dcterms:W3CDTF">2001-07-24T11:08:24Z</dcterms:modified>
  <cp:revision>196</cp:revision>
  <dc:subject/>
  <dc:title>Fall/Spring Horus Effort: Strawman “Menu” of Tasks</dc:title>
</cp:coreProperties>
</file>