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62052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62052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62052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9140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9140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6205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6205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6205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91404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7240" y="-360"/>
            <a:ext cx="5257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91404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62052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62052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9140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62052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144000" cy="75960"/>
          </a:xfrm>
          <a:prstGeom prst="ellipse">
            <a:avLst/>
          </a:prstGeom>
          <a:gradFill rotWithShape="0">
            <a:gsLst>
              <a:gs pos="0">
                <a:srgbClr val="f2eab7"/>
              </a:gs>
              <a:gs pos="100000">
                <a:srgbClr val="e2c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attlogo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990720" cy="550800"/>
          </a:xfrm>
          <a:prstGeom prst="rect">
            <a:avLst/>
          </a:prstGeom>
          <a:ln w="0">
            <a:noFill/>
          </a:ln>
        </p:spPr>
      </p:pic>
      <p:pic>
        <p:nvPicPr>
          <p:cNvPr id="4" name="CODIP-Plain2" descr=""/>
          <p:cNvPicPr/>
          <p:nvPr/>
        </p:nvPicPr>
        <p:blipFill>
          <a:blip r:embed="rId3"/>
          <a:stretch/>
        </p:blipFill>
        <p:spPr>
          <a:xfrm>
            <a:off x="228600" y="76320"/>
            <a:ext cx="14986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-3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AML Driven Information P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objective of HotDDIP is to provide content based knowledge management and distribution for a stream of DAML annotated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214720"/>
            <a:ext cx="4267080" cy="2639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772400" y="3316320"/>
            <a:ext cx="529920" cy="474480"/>
            <a:chOff x="7772400" y="3316320"/>
            <a:chExt cx="529920" cy="474480"/>
          </a:xfrm>
        </p:grpSpPr>
        <p:sp>
          <p:nvSpPr>
            <p:cNvPr id="45" name=""/>
            <p:cNvSpPr/>
            <p:nvPr/>
          </p:nvSpPr>
          <p:spPr>
            <a:xfrm>
              <a:off x="7772400" y="3316320"/>
              <a:ext cx="456840" cy="4744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83200" y="3383640"/>
              <a:ext cx="519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no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5880" y="2330280"/>
            <a:ext cx="22860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5113440"/>
            <a:ext cx="4267080" cy="49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5880" y="3200400"/>
            <a:ext cx="533520" cy="1913040"/>
          </a:xfrm>
          <a:prstGeom prst="downArrow">
            <a:avLst>
              <a:gd name="adj1" fmla="val 54176"/>
              <a:gd name="adj2" fmla="val 62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3200400"/>
            <a:ext cx="533160" cy="695160"/>
          </a:xfrm>
          <a:prstGeom prst="downArrow">
            <a:avLst>
              <a:gd name="adj1" fmla="val 50000"/>
              <a:gd name="adj2" fmla="val 325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2330280"/>
            <a:ext cx="1218960" cy="871560"/>
          </a:xfrm>
          <a:prstGeom prst="rect">
            <a:avLst/>
          </a:prstGeom>
          <a:solidFill>
            <a:srgbClr val="ede08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29000" y="2279520"/>
            <a:ext cx="1218960" cy="901440"/>
            <a:chOff x="3429000" y="2279520"/>
            <a:chExt cx="1218960" cy="901440"/>
          </a:xfrm>
        </p:grpSpPr>
        <p:sp>
          <p:nvSpPr>
            <p:cNvPr id="53" name=""/>
            <p:cNvSpPr/>
            <p:nvPr/>
          </p:nvSpPr>
          <p:spPr>
            <a:xfrm>
              <a:off x="3809880" y="2279520"/>
              <a:ext cx="838080" cy="409320"/>
            </a:xfrm>
            <a:prstGeom prst="rightArrow">
              <a:avLst>
                <a:gd name="adj1" fmla="val 50000"/>
                <a:gd name="adj2" fmla="val 511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9880" y="2772000"/>
              <a:ext cx="838080" cy="408960"/>
            </a:xfrm>
            <a:prstGeom prst="rightArrow">
              <a:avLst>
                <a:gd name="adj1" fmla="val 53130"/>
                <a:gd name="adj2" fmla="val 555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140000" y="2672640"/>
              <a:ext cx="50760" cy="171000"/>
              <a:chOff x="4140000" y="2672640"/>
              <a:chExt cx="50760" cy="171000"/>
            </a:xfrm>
          </p:grpSpPr>
          <p:sp>
            <p:nvSpPr>
              <p:cNvPr id="56" name=""/>
              <p:cNvSpPr/>
              <p:nvPr/>
            </p:nvSpPr>
            <p:spPr>
              <a:xfrm>
                <a:off x="4140000" y="2672640"/>
                <a:ext cx="5076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40000" y="2741040"/>
                <a:ext cx="5076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40000" y="2809440"/>
                <a:ext cx="5076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429000" y="2494080"/>
              <a:ext cx="536040" cy="446040"/>
              <a:chOff x="3429000" y="2494080"/>
              <a:chExt cx="536040" cy="446040"/>
            </a:xfrm>
          </p:grpSpPr>
          <p:sp>
            <p:nvSpPr>
              <p:cNvPr id="60" name=""/>
              <p:cNvSpPr/>
              <p:nvPr/>
            </p:nvSpPr>
            <p:spPr>
              <a:xfrm>
                <a:off x="3429000" y="2494080"/>
                <a:ext cx="457200" cy="43848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30800" y="2541600"/>
                <a:ext cx="534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o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5411520" y="3309120"/>
            <a:ext cx="563400" cy="550800"/>
            <a:chOff x="5411520" y="3309120"/>
            <a:chExt cx="563400" cy="550800"/>
          </a:xfrm>
        </p:grpSpPr>
        <p:sp>
          <p:nvSpPr>
            <p:cNvPr id="63" name=""/>
            <p:cNvSpPr/>
            <p:nvPr/>
          </p:nvSpPr>
          <p:spPr>
            <a:xfrm>
              <a:off x="5424120" y="3316680"/>
              <a:ext cx="457200" cy="4744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1520" y="3309120"/>
              <a:ext cx="56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gg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572000" y="3316320"/>
            <a:ext cx="511920" cy="474480"/>
            <a:chOff x="4572000" y="3316320"/>
            <a:chExt cx="511920" cy="474480"/>
          </a:xfrm>
        </p:grpSpPr>
        <p:sp>
          <p:nvSpPr>
            <p:cNvPr id="66" name=""/>
            <p:cNvSpPr/>
            <p:nvPr/>
          </p:nvSpPr>
          <p:spPr>
            <a:xfrm>
              <a:off x="4572000" y="3316320"/>
              <a:ext cx="457200" cy="4744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00080" y="3383640"/>
              <a:ext cx="483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t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952880" y="3201840"/>
            <a:ext cx="533520" cy="693720"/>
          </a:xfrm>
          <a:prstGeom prst="downArrow">
            <a:avLst>
              <a:gd name="adj1" fmla="val 50000"/>
              <a:gd name="adj2" fmla="val 32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781680" y="320004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4200" y="3377520"/>
            <a:ext cx="59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895560"/>
            <a:ext cx="3886200" cy="579600"/>
          </a:xfrm>
          <a:prstGeom prst="rect">
            <a:avLst/>
          </a:prstGeom>
          <a:solidFill>
            <a:srgbClr val="54c68d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&amp; 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4475160"/>
            <a:ext cx="1676520" cy="638280"/>
          </a:xfrm>
          <a:prstGeom prst="downArrow">
            <a:avLst>
              <a:gd name="adj1" fmla="val 71398"/>
              <a:gd name="adj2" fmla="val 325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828800"/>
            <a:ext cx="36576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bas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085840"/>
            <a:ext cx="457200" cy="322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085840"/>
            <a:ext cx="457200" cy="322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124080"/>
            <a:ext cx="1523880" cy="830520"/>
          </a:xfrm>
          <a:prstGeom prst="borderCallout1">
            <a:avLst>
              <a:gd name="adj1" fmla="val 18750"/>
              <a:gd name="adj2" fmla="val -8333"/>
              <a:gd name="adj3" fmla="val -16254"/>
              <a:gd name="adj4" fmla="val 226773"/>
            </a:avLst>
          </a:prstGeom>
          <a:solidFill>
            <a:srgbClr val="ede08f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N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Ta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Meta-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638680"/>
            <a:ext cx="1828800" cy="838440"/>
          </a:xfrm>
          <a:prstGeom prst="borderCallout1">
            <a:avLst>
              <a:gd name="adj1" fmla="val 18750"/>
              <a:gd name="adj2" fmla="val -8333"/>
              <a:gd name="adj3" fmla="val -155300"/>
              <a:gd name="adj4" fmla="val 222050"/>
            </a:avLst>
          </a:prstGeom>
          <a:solidFill>
            <a:srgbClr val="54c68d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based Publish and Sub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ication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 to 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950080"/>
            <a:ext cx="2057400" cy="450720"/>
          </a:xfrm>
          <a:prstGeom prst="borderCallout1">
            <a:avLst>
              <a:gd name="adj1" fmla="val 18750"/>
              <a:gd name="adj2" fmla="val -8333"/>
              <a:gd name="adj3" fmla="val -102814"/>
              <a:gd name="adj4" fmla="val 12962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 Centric Document Reposi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893960"/>
            <a:ext cx="2133720" cy="849240"/>
          </a:xfrm>
          <a:prstGeom prst="borderCallout1">
            <a:avLst>
              <a:gd name="adj1" fmla="val 18750"/>
              <a:gd name="adj2" fmla="val -8333"/>
              <a:gd name="adj3" fmla="val 70652"/>
              <a:gd name="adj4" fmla="val 26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added anno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ation of other doc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Search and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120" y="4123440"/>
            <a:ext cx="2236320" cy="641520"/>
          </a:xfrm>
          <a:prstGeom prst="borderCallout1">
            <a:avLst>
              <a:gd name="adj1" fmla="val 18750"/>
              <a:gd name="adj2" fmla="val -8333"/>
              <a:gd name="adj3" fmla="val -90912"/>
              <a:gd name="adj4" fmla="val 186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and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Geo-spatial and 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929840"/>
            <a:ext cx="1523880" cy="459000"/>
          </a:xfrm>
          <a:prstGeom prst="borderCallout1">
            <a:avLst>
              <a:gd name="adj1" fmla="val 18750"/>
              <a:gd name="adj2" fmla="val -8333"/>
              <a:gd name="adj3" fmla="val -279231"/>
              <a:gd name="adj4" fmla="val 26759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ly Tag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66680" y="1981080"/>
            <a:ext cx="68580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echnical"/>
              </a:rPr>
              <a:t>Demonstr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echnical"/>
              <a:ea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680" y="1981080"/>
            <a:ext cx="68580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echnical"/>
              </a:rPr>
              <a:t>Backup Stuf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echnical"/>
              <a:ea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4343400" y="1141560"/>
            <a:ext cx="4343400" cy="4268520"/>
            <a:chOff x="4343400" y="1141560"/>
            <a:chExt cx="4343400" cy="4268520"/>
          </a:xfrm>
        </p:grpSpPr>
        <p:sp>
          <p:nvSpPr>
            <p:cNvPr id="360" name=""/>
            <p:cNvSpPr/>
            <p:nvPr/>
          </p:nvSpPr>
          <p:spPr>
            <a:xfrm>
              <a:off x="6019920" y="4876920"/>
              <a:ext cx="1218960" cy="533160"/>
            </a:xfrm>
            <a:prstGeom prst="leftRightArrow">
              <a:avLst>
                <a:gd name="adj1" fmla="val 67861"/>
                <a:gd name="adj2" fmla="val 623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9400" y="2209680"/>
              <a:ext cx="838080" cy="60984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83160" y="1141560"/>
              <a:ext cx="1371600" cy="61272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ML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2209680"/>
              <a:ext cx="914400" cy="60984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2209680"/>
              <a:ext cx="1371600" cy="60984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tic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190512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327672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62920" y="3657600"/>
              <a:ext cx="761760" cy="6094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8720" y="3657600"/>
              <a:ext cx="838080" cy="6094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38880" y="4800600"/>
              <a:ext cx="1067040" cy="6094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43800" y="2819520"/>
              <a:ext cx="76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772400" y="2819520"/>
              <a:ext cx="3808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24480" y="175248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410080" y="1752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543440" y="42670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001000" y="426708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9080" y="2209680"/>
              <a:ext cx="950400" cy="580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4600" y="2819520"/>
              <a:ext cx="419040" cy="2066760"/>
            </a:xfrm>
            <a:custGeom>
              <a:avLst/>
              <a:gdLst/>
              <a:ahLst/>
              <a:rect l="l" t="t" r="r" b="b"/>
              <a:pathLst>
                <a:path w="264" h="1302">
                  <a:moveTo>
                    <a:pt x="264" y="1302"/>
                  </a:moveTo>
                  <a:lnTo>
                    <a:pt x="0" y="102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00600" y="4800600"/>
              <a:ext cx="1371600" cy="60948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tic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486400" y="28191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ART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T Ontology describ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BMS content meta-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BMS comparison meta-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ulation Ontology describes matching meta-data ent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s in the DART ontology describe RDBMS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ticulation between DART instance is translated into the DART Compare ont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50120" y="91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3800" y="190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50120" y="335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Rule and 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9520" y="848160"/>
            <a:ext cx="42040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ess R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defrule Sim_Name_Property_Ma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declare (salience 10)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Get a name property's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NameProper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name ?pnam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strength ?pstr0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DAMLProper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localName ?pnam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OBJECT ?ptype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Find one property of this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DAML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type ?pty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ID ?id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namespace ?ns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subject ?sub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object ?obj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Find another property of this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DAMLPrope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type ?pty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ID ?id2&amp;~?id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namespace ?ns2&amp;~ns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subject ?sub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object ?obj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Compare there names as phra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test (not (sameIC (?obj2 getValue) (?obj1 getValue)))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bind ?pstr (comparePhraseIC (?obj1 getValue) (?obj2 getValue)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test (&gt;= ?pstr 8 )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bind ?mf (createMF ?sub1 ?sub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str-cat "SM_NM_MTCH:" ?pn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str-cat (?obj1 getValue) "|" (?obj2 getValue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?ps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Log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printout t "Sim_Name_Property_Match " (?mf getID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;;  etc…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717480"/>
            <a:ext cx="4289400" cy="58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TN-CMOS Ma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627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3586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AME desig_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627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2095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AME passenger_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627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1561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AME last_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627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1353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AME full_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971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3474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ANIFEST_TYP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ir_manifest_type_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1739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019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anifest_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AX_MANIFEST_REFERENCE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3441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363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eight TOTAL_BAG_W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m_Name_Property_Match COMPARE_IRD.daml#grci99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GTN_IRD.daml#genid3441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le:CMOS_IRD.daml#genid1291 beca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M_NM_MTCH:ele_access_nm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eight PAX_W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76560" y="152280"/>
            <a:ext cx="419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DIP Project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cumen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76920" y="1213920"/>
            <a:ext cx="40384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 Working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grate to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 Repos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/RDF/DAML Cen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sitory is “read-onl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s Tagged with concepts from  various DAML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tation Ontology - provides citation down to paragraph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 Structure Ontology - Structural concepts for various forma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Ontology(s) - Specific  reference domain concep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 Ontology(s) - Specific analysis domain concep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sis Ontology - Provides terms used for analysis rational and conclu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86000"/>
            <a:ext cx="449568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76440" y="4097160"/>
            <a:ext cx="2043000" cy="1165320"/>
            <a:chOff x="2476440" y="4097160"/>
            <a:chExt cx="2043000" cy="1165320"/>
          </a:xfrm>
        </p:grpSpPr>
        <p:sp>
          <p:nvSpPr>
            <p:cNvPr id="86" name=""/>
            <p:cNvSpPr/>
            <p:nvPr/>
          </p:nvSpPr>
          <p:spPr>
            <a:xfrm>
              <a:off x="2476440" y="4097160"/>
              <a:ext cx="2043000" cy="1165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702240" y="4226400"/>
              <a:ext cx="612360" cy="775080"/>
              <a:chOff x="3702240" y="4226400"/>
              <a:chExt cx="612360" cy="775080"/>
            </a:xfrm>
          </p:grpSpPr>
          <p:sp>
            <p:nvSpPr>
              <p:cNvPr id="88" name=""/>
              <p:cNvSpPr/>
              <p:nvPr/>
            </p:nvSpPr>
            <p:spPr>
              <a:xfrm>
                <a:off x="3906360" y="4502880"/>
                <a:ext cx="272160" cy="33300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06360" y="4226400"/>
                <a:ext cx="272160" cy="33300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42440" y="4281120"/>
                <a:ext cx="272160" cy="3333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2240" y="4392000"/>
                <a:ext cx="272160" cy="3315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70280" y="4669920"/>
                <a:ext cx="271800" cy="3315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748600" y="4226400"/>
              <a:ext cx="680760" cy="721800"/>
              <a:chOff x="2748600" y="4226400"/>
              <a:chExt cx="680760" cy="721800"/>
            </a:xfrm>
          </p:grpSpPr>
          <p:sp>
            <p:nvSpPr>
              <p:cNvPr id="94" name=""/>
              <p:cNvSpPr/>
              <p:nvPr/>
            </p:nvSpPr>
            <p:spPr>
              <a:xfrm>
                <a:off x="3020760" y="4614840"/>
                <a:ext cx="272160" cy="3333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8600" y="4226400"/>
                <a:ext cx="272160" cy="3315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57200" y="4356000"/>
                <a:ext cx="272160" cy="3315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84680" y="4420440"/>
                <a:ext cx="272160" cy="3333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48" y="336"/>
                    </a:moveTo>
                    <a:lnTo>
                      <a:pt x="288" y="336"/>
                    </a:lnTo>
                    <a:lnTo>
                      <a:pt x="288" y="0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lnTo>
                      <a:pt x="0" y="96"/>
                    </a:lnTo>
                    <a:lnTo>
                      <a:pt x="0" y="336"/>
                    </a:lnTo>
                    <a:lnTo>
                      <a:pt x="144" y="33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65040" y="4097160"/>
            <a:ext cx="1974960" cy="1165320"/>
            <a:chOff x="365040" y="4097160"/>
            <a:chExt cx="1974960" cy="1165320"/>
          </a:xfrm>
        </p:grpSpPr>
        <p:sp>
          <p:nvSpPr>
            <p:cNvPr id="99" name=""/>
            <p:cNvSpPr/>
            <p:nvPr/>
          </p:nvSpPr>
          <p:spPr>
            <a:xfrm>
              <a:off x="365040" y="4097160"/>
              <a:ext cx="1974960" cy="1165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main Speci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5600" y="4420440"/>
              <a:ext cx="544320" cy="4222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58880" y="4161960"/>
              <a:ext cx="476640" cy="4474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6360" y="4356000"/>
              <a:ext cx="544680" cy="4528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7200" y="2416320"/>
            <a:ext cx="3859200" cy="1487520"/>
            <a:chOff x="457200" y="2416320"/>
            <a:chExt cx="3859200" cy="1487520"/>
          </a:xfrm>
        </p:grpSpPr>
        <p:sp>
          <p:nvSpPr>
            <p:cNvPr id="104" name=""/>
            <p:cNvSpPr/>
            <p:nvPr/>
          </p:nvSpPr>
          <p:spPr>
            <a:xfrm>
              <a:off x="457200" y="2416320"/>
              <a:ext cx="3859200" cy="148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alysis, Meta-Data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ther Anno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1000" y="3386160"/>
              <a:ext cx="517320" cy="3999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9680" y="3321000"/>
              <a:ext cx="438120" cy="4888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4840" y="2674800"/>
              <a:ext cx="517320" cy="4651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68560" y="3321000"/>
              <a:ext cx="407880" cy="5302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86120" y="3062160"/>
              <a:ext cx="136440" cy="32400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25480" y="2989440"/>
              <a:ext cx="987480" cy="471240"/>
            </a:xfrm>
            <a:custGeom>
              <a:avLst/>
              <a:gdLst/>
              <a:ahLst/>
              <a:rect l="l" t="t" r="r" b="b"/>
              <a:pathLst>
                <a:path w="622" h="297">
                  <a:moveTo>
                    <a:pt x="622" y="2"/>
                  </a:moveTo>
                  <a:lnTo>
                    <a:pt x="327" y="0"/>
                  </a:lnTo>
                  <a:lnTo>
                    <a:pt x="0" y="297"/>
                  </a:lnTo>
                </a:path>
              </a:pathLst>
            </a:custGeom>
            <a:noFill/>
            <a:ln w="1908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0440" y="2481120"/>
              <a:ext cx="438120" cy="48924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3800" y="2739960"/>
              <a:ext cx="544680" cy="1936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35320" y="2933640"/>
              <a:ext cx="1245960" cy="573120"/>
            </a:xfrm>
            <a:custGeom>
              <a:avLst/>
              <a:gdLst/>
              <a:ahLst/>
              <a:rect l="l" t="t" r="r" b="b"/>
              <a:pathLst>
                <a:path w="878" h="425">
                  <a:moveTo>
                    <a:pt x="878" y="0"/>
                  </a:moveTo>
                  <a:lnTo>
                    <a:pt x="754" y="193"/>
                  </a:lnTo>
                  <a:lnTo>
                    <a:pt x="202" y="211"/>
                  </a:lnTo>
                  <a:lnTo>
                    <a:pt x="0" y="425"/>
                  </a:lnTo>
                </a:path>
              </a:pathLst>
            </a:custGeom>
            <a:noFill/>
            <a:ln w="1908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977760" y="3645000"/>
            <a:ext cx="408240" cy="1035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0840" y="3645000"/>
            <a:ext cx="136440" cy="9046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045800" y="3645000"/>
            <a:ext cx="1157400" cy="116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710160"/>
            <a:ext cx="954000" cy="83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2400" y="3720960"/>
            <a:ext cx="814320" cy="1152720"/>
          </a:xfrm>
          <a:custGeom>
            <a:avLst/>
            <a:gdLst/>
            <a:ahLst/>
            <a:rect l="l" t="t" r="r" b="b"/>
            <a:pathLst>
              <a:path w="718" h="855">
                <a:moveTo>
                  <a:pt x="0" y="0"/>
                </a:moveTo>
                <a:lnTo>
                  <a:pt x="718" y="855"/>
                </a:lnTo>
              </a:path>
            </a:pathLst>
          </a:custGeom>
          <a:noFill/>
          <a:ln w="1908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58880" y="3645000"/>
            <a:ext cx="1362240" cy="103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8880" y="3728880"/>
            <a:ext cx="1239840" cy="1016280"/>
          </a:xfrm>
          <a:custGeom>
            <a:avLst/>
            <a:gdLst/>
            <a:ahLst/>
            <a:rect l="l" t="t" r="r" b="b"/>
            <a:pathLst>
              <a:path w="778" h="801">
                <a:moveTo>
                  <a:pt x="778" y="0"/>
                </a:moveTo>
                <a:lnTo>
                  <a:pt x="0" y="801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008160"/>
            <a:ext cx="1214640" cy="1478160"/>
          </a:xfrm>
          <a:custGeom>
            <a:avLst/>
            <a:gdLst/>
            <a:ahLst/>
            <a:rect l="l" t="t" r="r" b="b"/>
            <a:pathLst>
              <a:path w="855" h="1288">
                <a:moveTo>
                  <a:pt x="0" y="0"/>
                </a:moveTo>
                <a:lnTo>
                  <a:pt x="345" y="291"/>
                </a:lnTo>
                <a:lnTo>
                  <a:pt x="855" y="1288"/>
                </a:lnTo>
              </a:path>
            </a:pathLst>
          </a:custGeom>
          <a:noFill/>
          <a:ln w="1908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0160" y="3081240"/>
            <a:ext cx="687600" cy="1305000"/>
          </a:xfrm>
          <a:custGeom>
            <a:avLst/>
            <a:gdLst/>
            <a:ahLst/>
            <a:rect l="l" t="t" r="r" b="b"/>
            <a:pathLst>
              <a:path w="517" h="968">
                <a:moveTo>
                  <a:pt x="517" y="0"/>
                </a:moveTo>
                <a:lnTo>
                  <a:pt x="24" y="148"/>
                </a:lnTo>
                <a:lnTo>
                  <a:pt x="0" y="9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1066680"/>
            <a:ext cx="2971800" cy="2438640"/>
            <a:chOff x="1143000" y="1066680"/>
            <a:chExt cx="2971800" cy="2438640"/>
          </a:xfrm>
        </p:grpSpPr>
        <p:sp>
          <p:nvSpPr>
            <p:cNvPr id="124" name=""/>
            <p:cNvSpPr/>
            <p:nvPr/>
          </p:nvSpPr>
          <p:spPr>
            <a:xfrm>
              <a:off x="1143000" y="1066680"/>
              <a:ext cx="2971800" cy="110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761609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orking Doc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1523880"/>
              <a:ext cx="579600" cy="4003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1447920"/>
              <a:ext cx="490680" cy="48888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48" y="336"/>
                  </a:moveTo>
                  <a:lnTo>
                    <a:pt x="288" y="336"/>
                  </a:lnTo>
                  <a:lnTo>
                    <a:pt x="288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336"/>
                  </a:lnTo>
                  <a:lnTo>
                    <a:pt x="144" y="3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1828800"/>
              <a:ext cx="380880" cy="83808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920" y="1828800"/>
              <a:ext cx="1752480" cy="1676520"/>
            </a:xfrm>
            <a:custGeom>
              <a:avLst/>
              <a:gdLst/>
              <a:ahLst/>
              <a:rect l="l" t="t" r="r" b="b"/>
              <a:pathLst>
                <a:path w="1104" h="1056">
                  <a:moveTo>
                    <a:pt x="1104" y="0"/>
                  </a:moveTo>
                  <a:lnTo>
                    <a:pt x="496" y="666"/>
                  </a:lnTo>
                  <a:lnTo>
                    <a:pt x="0" y="1056"/>
                  </a:lnTo>
                </a:path>
              </a:pathLst>
            </a:custGeom>
            <a:noFill/>
            <a:ln w="28440">
              <a:solidFill>
                <a:srgbClr val="ff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86000" y="1752480"/>
              <a:ext cx="8380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7240" y="15228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DIP Proj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sh and Subscri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2004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905120"/>
            <a:ext cx="3733920" cy="22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DDIP Publish and Subscri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495680"/>
            <a:ext cx="2133360" cy="1524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Fe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56560" y="1141560"/>
            <a:ext cx="1600200" cy="1218960"/>
            <a:chOff x="6856560" y="1141560"/>
            <a:chExt cx="1600200" cy="1218960"/>
          </a:xfrm>
        </p:grpSpPr>
        <p:sp>
          <p:nvSpPr>
            <p:cNvPr id="135" name=""/>
            <p:cNvSpPr/>
            <p:nvPr/>
          </p:nvSpPr>
          <p:spPr>
            <a:xfrm>
              <a:off x="6856560" y="1141560"/>
              <a:ext cx="1600200" cy="1218960"/>
            </a:xfrm>
            <a:prstGeom prst="rect">
              <a:avLst/>
            </a:prstGeom>
            <a:solidFill>
              <a:srgbClr val="404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6560" y="1276920"/>
              <a:ext cx="1600200" cy="40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l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6560" y="1683360"/>
              <a:ext cx="1600200" cy="67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45360" y="4282920"/>
            <a:ext cx="2305080" cy="2033640"/>
            <a:chOff x="6345360" y="4282920"/>
            <a:chExt cx="2305080" cy="20336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107120" y="4282920"/>
              <a:ext cx="1543320" cy="15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345360" y="5121360"/>
              <a:ext cx="1320840" cy="11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304920" y="1143000"/>
            <a:ext cx="2057400" cy="1295280"/>
            <a:chOff x="304920" y="1143000"/>
            <a:chExt cx="2057400" cy="1295280"/>
          </a:xfrm>
        </p:grpSpPr>
        <p:sp>
          <p:nvSpPr>
            <p:cNvPr id="142" name=""/>
            <p:cNvSpPr/>
            <p:nvPr/>
          </p:nvSpPr>
          <p:spPr>
            <a:xfrm>
              <a:off x="304920" y="1143000"/>
              <a:ext cx="2057400" cy="129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A Simul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57200" y="1600200"/>
              <a:ext cx="1752480" cy="685800"/>
              <a:chOff x="457200" y="1600200"/>
              <a:chExt cx="1752480" cy="6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893960" y="1823040"/>
                <a:ext cx="242280" cy="12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omman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and Control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ystem Interfa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81560" y="1731960"/>
                <a:ext cx="22860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Logisti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Interfac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5720" y="1758240"/>
                <a:ext cx="2124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Alternativ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Acti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Analyze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82000" y="1796760"/>
                <a:ext cx="227520" cy="158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Platfor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enso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Assessme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2073600"/>
                <a:ext cx="522720" cy="2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1024200" y="1778040"/>
                <a:ext cx="216000" cy="46080"/>
              </a:xfrm>
              <a:custGeom>
                <a:avLst/>
                <a:gdLst/>
                <a:ahLst/>
                <a:rect l="l" t="t" r="r" b="b"/>
                <a:pathLst>
                  <a:path w="637" h="169">
                    <a:moveTo>
                      <a:pt x="0" y="169"/>
                    </a:moveTo>
                    <a:cubicBezTo>
                      <a:pt x="41" y="144"/>
                      <a:pt x="147" y="48"/>
                      <a:pt x="253" y="24"/>
                    </a:cubicBezTo>
                    <a:cubicBezTo>
                      <a:pt x="359" y="0"/>
                      <a:pt x="489" y="0"/>
                      <a:pt x="637" y="24"/>
                    </a:cubicBezTo>
                  </a:path>
                </a:pathLst>
              </a:custGeom>
              <a:noFill/>
              <a:ln w="38160">
                <a:solidFill>
                  <a:srgbClr val="0000ff">
                    <a:alpha val="50000"/>
                  </a:srgbClr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52960" y="2086920"/>
                <a:ext cx="228600" cy="13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ommand an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ontrol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" name="agt1500_alTN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960" y="1652760"/>
                <a:ext cx="277560" cy="13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63320" y="1713240"/>
                <a:ext cx="443880" cy="220680"/>
              </a:xfrm>
              <a:custGeom>
                <a:avLst/>
                <a:gdLst/>
                <a:ahLst/>
                <a:rect l="l" t="t" r="r" b="b"/>
                <a:pathLst>
                  <a:path w="1305" h="806">
                    <a:moveTo>
                      <a:pt x="666" y="0"/>
                    </a:moveTo>
                    <a:cubicBezTo>
                      <a:pt x="565" y="69"/>
                      <a:pt x="118" y="292"/>
                      <a:pt x="59" y="416"/>
                    </a:cubicBezTo>
                    <a:cubicBezTo>
                      <a:pt x="0" y="540"/>
                      <a:pt x="102" y="684"/>
                      <a:pt x="310" y="745"/>
                    </a:cubicBezTo>
                    <a:cubicBezTo>
                      <a:pt x="518" y="806"/>
                      <a:pt x="1098" y="777"/>
                      <a:pt x="1305" y="785"/>
                    </a:cubicBezTo>
                  </a:path>
                </a:pathLst>
              </a:custGeom>
              <a:noFill/>
              <a:ln w="38160">
                <a:solidFill>
                  <a:srgbClr val="0000ff">
                    <a:alpha val="50000"/>
                  </a:srgbClr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669600" y="1600200"/>
                <a:ext cx="212400" cy="120240"/>
                <a:chOff x="669600" y="1600200"/>
                <a:chExt cx="212400" cy="12024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669600" y="1685520"/>
                  <a:ext cx="212400" cy="34920"/>
                  <a:chOff x="669600" y="1685520"/>
                  <a:chExt cx="212400" cy="3492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69600" y="1685520"/>
                    <a:ext cx="2124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84">
                        <a:moveTo>
                          <a:pt x="43" y="0"/>
                        </a:moveTo>
                        <a:lnTo>
                          <a:pt x="307" y="0"/>
                        </a:lnTo>
                        <a:lnTo>
                          <a:pt x="349" y="76"/>
                        </a:lnTo>
                        <a:lnTo>
                          <a:pt x="349" y="79"/>
                        </a:lnTo>
                        <a:lnTo>
                          <a:pt x="348" y="82"/>
                        </a:lnTo>
                        <a:lnTo>
                          <a:pt x="345" y="83"/>
                        </a:lnTo>
                        <a:lnTo>
                          <a:pt x="5" y="83"/>
                        </a:lnTo>
                        <a:lnTo>
                          <a:pt x="1" y="82"/>
                        </a:lnTo>
                        <a:lnTo>
                          <a:pt x="0" y="78"/>
                        </a:lnTo>
                        <a:lnTo>
                          <a:pt x="1" y="74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0400" y="1692360"/>
                    <a:ext cx="142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4">
                        <a:moveTo>
                          <a:pt x="32" y="0"/>
                        </a:moveTo>
                        <a:lnTo>
                          <a:pt x="222" y="0"/>
                        </a:lnTo>
                        <a:lnTo>
                          <a:pt x="233" y="53"/>
                        </a:lnTo>
                        <a:lnTo>
                          <a:pt x="0" y="53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826200" y="1692360"/>
                    <a:ext cx="43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0" y="0"/>
                        </a:moveTo>
                        <a:lnTo>
                          <a:pt x="42" y="0"/>
                        </a:lnTo>
                        <a:lnTo>
                          <a:pt x="70" y="53"/>
                        </a:lnTo>
                        <a:lnTo>
                          <a:pt x="13" y="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" name=""/>
                <p:cNvSpPr/>
                <p:nvPr/>
              </p:nvSpPr>
              <p:spPr>
                <a:xfrm>
                  <a:off x="718560" y="1600200"/>
                  <a:ext cx="112680" cy="82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34760" y="1611720"/>
                  <a:ext cx="80640" cy="5616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06760" y="167436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6040" y="1665720"/>
                <a:ext cx="413640" cy="1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"/>
              <p:cNvGrpSpPr/>
              <p:nvPr/>
            </p:nvGrpSpPr>
            <p:grpSpPr>
              <a:xfrm>
                <a:off x="1763280" y="1613160"/>
                <a:ext cx="138240" cy="91080"/>
                <a:chOff x="1763280" y="1613160"/>
                <a:chExt cx="138240" cy="910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843920" y="1670760"/>
                  <a:ext cx="29520" cy="13320"/>
                </a:xfrm>
                <a:custGeom>
                  <a:avLst/>
                  <a:gdLst/>
                  <a:ahLst/>
                  <a:rect l="l" t="t" r="r" b="b"/>
                  <a:pathLst>
                    <a:path w="97" h="61">
                      <a:moveTo>
                        <a:pt x="0" y="7"/>
                      </a:moveTo>
                      <a:lnTo>
                        <a:pt x="35" y="0"/>
                      </a:lnTo>
                      <a:lnTo>
                        <a:pt x="43" y="2"/>
                      </a:lnTo>
                      <a:lnTo>
                        <a:pt x="50" y="8"/>
                      </a:lnTo>
                      <a:lnTo>
                        <a:pt x="58" y="37"/>
                      </a:lnTo>
                      <a:lnTo>
                        <a:pt x="64" y="49"/>
                      </a:lnTo>
                      <a:lnTo>
                        <a:pt x="68" y="54"/>
                      </a:lnTo>
                      <a:lnTo>
                        <a:pt x="73" y="57"/>
                      </a:lnTo>
                      <a:lnTo>
                        <a:pt x="81" y="59"/>
                      </a:lnTo>
                      <a:lnTo>
                        <a:pt x="96" y="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1763280" y="1685880"/>
                  <a:ext cx="107280" cy="18360"/>
                  <a:chOff x="1763280" y="1685880"/>
                  <a:chExt cx="107280" cy="18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1763280" y="1685880"/>
                    <a:ext cx="107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84">
                        <a:moveTo>
                          <a:pt x="43" y="0"/>
                        </a:moveTo>
                        <a:lnTo>
                          <a:pt x="307" y="0"/>
                        </a:lnTo>
                        <a:lnTo>
                          <a:pt x="349" y="76"/>
                        </a:lnTo>
                        <a:lnTo>
                          <a:pt x="349" y="79"/>
                        </a:lnTo>
                        <a:lnTo>
                          <a:pt x="348" y="82"/>
                        </a:lnTo>
                        <a:lnTo>
                          <a:pt x="345" y="83"/>
                        </a:lnTo>
                        <a:lnTo>
                          <a:pt x="5" y="83"/>
                        </a:lnTo>
                        <a:lnTo>
                          <a:pt x="1" y="82"/>
                        </a:lnTo>
                        <a:lnTo>
                          <a:pt x="0" y="78"/>
                        </a:lnTo>
                        <a:lnTo>
                          <a:pt x="1" y="74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768680" y="1689480"/>
                    <a:ext cx="716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4">
                        <a:moveTo>
                          <a:pt x="32" y="0"/>
                        </a:moveTo>
                        <a:lnTo>
                          <a:pt x="222" y="0"/>
                        </a:lnTo>
                        <a:lnTo>
                          <a:pt x="233" y="53"/>
                        </a:lnTo>
                        <a:lnTo>
                          <a:pt x="0" y="53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842480" y="1689480"/>
                    <a:ext cx="21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0" y="0"/>
                        </a:moveTo>
                        <a:lnTo>
                          <a:pt x="42" y="0"/>
                        </a:lnTo>
                        <a:lnTo>
                          <a:pt x="70" y="53"/>
                        </a:lnTo>
                        <a:lnTo>
                          <a:pt x="13" y="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" name=""/>
                <p:cNvSpPr/>
                <p:nvPr/>
              </p:nvSpPr>
              <p:spPr>
                <a:xfrm>
                  <a:off x="1788120" y="1641240"/>
                  <a:ext cx="565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96040" y="1647360"/>
                  <a:ext cx="40680" cy="2916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832400" y="1680120"/>
                  <a:ext cx="5400" cy="36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872000" y="1613160"/>
                  <a:ext cx="28080" cy="86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879560" y="1620720"/>
                  <a:ext cx="16200" cy="23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96480" y="1644840"/>
                  <a:ext cx="5040" cy="54720"/>
                </a:xfrm>
                <a:custGeom>
                  <a:avLst/>
                  <a:gdLst/>
                  <a:ahLst/>
                  <a:rect l="l" t="t" r="r" b="b"/>
                  <a:pathLst>
                    <a:path w="17" h="24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248"/>
                      </a:lnTo>
                      <a:lnTo>
                        <a:pt x="0" y="2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80640" y="1627200"/>
                  <a:ext cx="5400" cy="11520"/>
                </a:xfrm>
                <a:custGeom>
                  <a:avLst/>
                  <a:gdLst/>
                  <a:ahLst/>
                  <a:rect l="l" t="t" r="r" b="b"/>
                  <a:pathLst>
                    <a:path w="18" h="53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17" y="52"/>
                      </a:lnTo>
                      <a:lnTo>
                        <a:pt x="0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82440" y="1620360"/>
                  <a:ext cx="5040" cy="24840"/>
                </a:xfrm>
                <a:custGeom>
                  <a:avLst/>
                  <a:gdLst/>
                  <a:ahLst/>
                  <a:rect l="l" t="t" r="r" b="b"/>
                  <a:pathLst>
                    <a:path w="17" h="114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13"/>
                      </a:lnTo>
                      <a:lnTo>
                        <a:pt x="0" y="1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92880" y="162504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92880" y="16347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1338120" y="1684440"/>
                <a:ext cx="500040" cy="100080"/>
              </a:xfrm>
              <a:custGeom>
                <a:avLst/>
                <a:gdLst/>
                <a:ahLst/>
                <a:rect l="l" t="t" r="r" b="b"/>
                <a:pathLst>
                  <a:path w="1469" h="366">
                    <a:moveTo>
                      <a:pt x="0" y="366"/>
                    </a:moveTo>
                    <a:cubicBezTo>
                      <a:pt x="78" y="353"/>
                      <a:pt x="276" y="317"/>
                      <a:pt x="467" y="290"/>
                    </a:cubicBezTo>
                    <a:cubicBezTo>
                      <a:pt x="658" y="263"/>
                      <a:pt x="979" y="252"/>
                      <a:pt x="1146" y="204"/>
                    </a:cubicBezTo>
                    <a:cubicBezTo>
                      <a:pt x="1313" y="156"/>
                      <a:pt x="1402" y="42"/>
                      <a:pt x="1469" y="0"/>
                    </a:cubicBezTo>
                  </a:path>
                </a:pathLst>
              </a:custGeom>
              <a:noFill/>
              <a:ln w="38160">
                <a:solidFill>
                  <a:srgbClr val="0000ff">
                    <a:alpha val="50000"/>
                  </a:srgbClr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99840" y="2113560"/>
                <a:ext cx="359640" cy="17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1632600" y="2153160"/>
                <a:ext cx="163080" cy="648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 Black"/>
                  </a:rPr>
                  <a:t>TO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2600" y="1940760"/>
                <a:ext cx="195840" cy="263520"/>
              </a:xfrm>
              <a:custGeom>
                <a:avLst/>
                <a:gdLst/>
                <a:ahLst/>
                <a:rect l="l" t="t" r="r" b="b"/>
                <a:pathLst>
                  <a:path w="577" h="963">
                    <a:moveTo>
                      <a:pt x="8" y="963"/>
                    </a:moveTo>
                    <a:cubicBezTo>
                      <a:pt x="23" y="855"/>
                      <a:pt x="0" y="477"/>
                      <a:pt x="95" y="317"/>
                    </a:cubicBezTo>
                    <a:cubicBezTo>
                      <a:pt x="190" y="157"/>
                      <a:pt x="497" y="53"/>
                      <a:pt x="577" y="0"/>
                    </a:cubicBezTo>
                  </a:path>
                </a:pathLst>
              </a:custGeom>
              <a:noFill/>
              <a:ln w="38160">
                <a:solidFill>
                  <a:srgbClr val="0000ff">
                    <a:alpha val="50000"/>
                  </a:srgbClr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1000" y="1788120"/>
                <a:ext cx="389520" cy="391320"/>
              </a:xfrm>
              <a:custGeom>
                <a:avLst/>
                <a:gdLst/>
                <a:ahLst/>
                <a:rect l="l" t="t" r="r" b="b"/>
                <a:pathLst>
                  <a:path w="1158" h="1470">
                    <a:moveTo>
                      <a:pt x="0" y="0"/>
                    </a:moveTo>
                    <a:cubicBezTo>
                      <a:pt x="92" y="46"/>
                      <a:pt x="387" y="123"/>
                      <a:pt x="552" y="274"/>
                    </a:cubicBezTo>
                    <a:cubicBezTo>
                      <a:pt x="717" y="425"/>
                      <a:pt x="888" y="706"/>
                      <a:pt x="989" y="905"/>
                    </a:cubicBezTo>
                    <a:cubicBezTo>
                      <a:pt x="1090" y="1104"/>
                      <a:pt x="1123" y="1352"/>
                      <a:pt x="1158" y="1470"/>
                    </a:cubicBezTo>
                  </a:path>
                </a:pathLst>
              </a:custGeom>
              <a:noFill/>
              <a:ln w="38160">
                <a:solidFill>
                  <a:srgbClr val="0000ff">
                    <a:alpha val="50000"/>
                  </a:srgbClr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5562720" y="4075200"/>
            <a:ext cx="799920" cy="1198440"/>
          </a:xfrm>
          <a:custGeom>
            <a:avLst/>
            <a:gdLst/>
            <a:ahLst/>
            <a:rect l="l" t="t" r="r" b="b"/>
            <a:pathLst>
              <a:path w="637" h="755">
                <a:moveTo>
                  <a:pt x="192" y="0"/>
                </a:moveTo>
                <a:cubicBezTo>
                  <a:pt x="172" y="75"/>
                  <a:pt x="0" y="320"/>
                  <a:pt x="74" y="446"/>
                </a:cubicBezTo>
                <a:cubicBezTo>
                  <a:pt x="148" y="572"/>
                  <a:pt x="520" y="691"/>
                  <a:pt x="637" y="755"/>
                </a:cubicBez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23120" y="3459240"/>
            <a:ext cx="1501560" cy="822240"/>
          </a:xfrm>
          <a:custGeom>
            <a:avLst/>
            <a:gdLst/>
            <a:ahLst/>
            <a:rect l="l" t="t" r="r" b="b"/>
            <a:pathLst>
              <a:path w="946" h="518">
                <a:moveTo>
                  <a:pt x="946" y="518"/>
                </a:moveTo>
                <a:cubicBezTo>
                  <a:pt x="866" y="444"/>
                  <a:pt x="624" y="132"/>
                  <a:pt x="466" y="66"/>
                </a:cubicBezTo>
                <a:cubicBezTo>
                  <a:pt x="308" y="0"/>
                  <a:pt x="97" y="110"/>
                  <a:pt x="0" y="122"/>
                </a:cubicBez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438280"/>
            <a:ext cx="1600200" cy="228600"/>
          </a:xfrm>
          <a:custGeom>
            <a:avLst/>
            <a:gdLst/>
            <a:ahLst/>
            <a:rect l="l" t="t" r="r" b="b"/>
            <a:pathLst>
              <a:path w="1002" h="246">
                <a:moveTo>
                  <a:pt x="0" y="0"/>
                </a:moveTo>
                <a:cubicBezTo>
                  <a:pt x="42" y="34"/>
                  <a:pt x="86" y="174"/>
                  <a:pt x="253" y="210"/>
                </a:cubicBezTo>
                <a:cubicBezTo>
                  <a:pt x="420" y="246"/>
                  <a:pt x="846" y="215"/>
                  <a:pt x="1002" y="216"/>
                </a:cubicBezTo>
              </a:path>
            </a:pathLst>
          </a:custGeom>
          <a:noFill/>
          <a:ln w="76320">
            <a:solidFill>
              <a:srgbClr val="ffac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79920" y="1590840"/>
            <a:ext cx="1363680" cy="853920"/>
          </a:xfrm>
          <a:custGeom>
            <a:avLst/>
            <a:gdLst/>
            <a:ahLst/>
            <a:rect l="l" t="t" r="r" b="b"/>
            <a:pathLst>
              <a:path w="859" h="538">
                <a:moveTo>
                  <a:pt x="0" y="538"/>
                </a:moveTo>
                <a:cubicBezTo>
                  <a:pt x="31" y="464"/>
                  <a:pt x="36" y="185"/>
                  <a:pt x="179" y="95"/>
                </a:cubicBezTo>
                <a:cubicBezTo>
                  <a:pt x="322" y="5"/>
                  <a:pt x="717" y="20"/>
                  <a:pt x="859" y="0"/>
                </a:cubicBezTo>
              </a:path>
            </a:pathLst>
          </a:custGeom>
          <a:noFill/>
          <a:ln w="57240">
            <a:solidFill>
              <a:srgbClr val="404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4114800"/>
            <a:ext cx="2133360" cy="1523880"/>
            <a:chOff x="304920" y="4114800"/>
            <a:chExt cx="2133360" cy="1523880"/>
          </a:xfrm>
        </p:grpSpPr>
        <p:sp>
          <p:nvSpPr>
            <p:cNvPr id="190" name=""/>
            <p:cNvSpPr/>
            <p:nvPr/>
          </p:nvSpPr>
          <p:spPr>
            <a:xfrm>
              <a:off x="304920" y="4114800"/>
              <a:ext cx="2133360" cy="1523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ML Craw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33520" y="4267080"/>
              <a:ext cx="1447560" cy="933480"/>
              <a:chOff x="533520" y="4267080"/>
              <a:chExt cx="1447560" cy="9334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85800" y="4267080"/>
                <a:ext cx="1197000" cy="933480"/>
                <a:chOff x="685800" y="4267080"/>
                <a:chExt cx="1197000" cy="93348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1447560" y="4952880"/>
                  <a:ext cx="282600" cy="247680"/>
                  <a:chOff x="1447560" y="4952880"/>
                  <a:chExt cx="282600" cy="2476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447560" y="495288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00cc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466640" y="4995720"/>
                    <a:ext cx="2239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00cc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485720" y="4973400"/>
                    <a:ext cx="22392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218960" y="4648320"/>
                  <a:ext cx="282600" cy="247680"/>
                  <a:chOff x="1218960" y="4648320"/>
                  <a:chExt cx="282600" cy="247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218960" y="464832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257120" y="4669200"/>
                    <a:ext cx="223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238040" y="4691160"/>
                    <a:ext cx="2239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1600200" y="4572000"/>
                  <a:ext cx="282600" cy="247680"/>
                  <a:chOff x="1600200" y="4572000"/>
                  <a:chExt cx="282600" cy="2476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1600200" y="457200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638360" y="4592880"/>
                    <a:ext cx="223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619280" y="4614840"/>
                    <a:ext cx="2239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685800" y="4495680"/>
                  <a:ext cx="282600" cy="247680"/>
                  <a:chOff x="685800" y="4495680"/>
                  <a:chExt cx="282600" cy="2476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685800" y="449568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9933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23960" y="4516560"/>
                    <a:ext cx="223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solidFill>
                    <a:srgbClr val="9933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4880" y="4538520"/>
                    <a:ext cx="2239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9933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218960" y="4267080"/>
                  <a:ext cx="282600" cy="247680"/>
                  <a:chOff x="1218960" y="4267080"/>
                  <a:chExt cx="282600" cy="2476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1218960" y="426708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ffac0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257120" y="4287960"/>
                    <a:ext cx="223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solidFill>
                    <a:srgbClr val="ffac0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238040" y="4309920"/>
                    <a:ext cx="2239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ffac0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838080" y="4952880"/>
                  <a:ext cx="282600" cy="247680"/>
                  <a:chOff x="838080" y="4952880"/>
                  <a:chExt cx="282600" cy="2476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838080" y="4952880"/>
                    <a:ext cx="282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14">
                        <a:moveTo>
                          <a:pt x="0" y="298"/>
                        </a:moveTo>
                        <a:lnTo>
                          <a:pt x="21" y="303"/>
                        </a:lnTo>
                        <a:lnTo>
                          <a:pt x="40" y="309"/>
                        </a:lnTo>
                        <a:lnTo>
                          <a:pt x="56" y="310"/>
                        </a:lnTo>
                        <a:lnTo>
                          <a:pt x="73" y="314"/>
                        </a:lnTo>
                        <a:lnTo>
                          <a:pt x="90" y="314"/>
                        </a:lnTo>
                        <a:lnTo>
                          <a:pt x="102" y="312"/>
                        </a:lnTo>
                        <a:lnTo>
                          <a:pt x="110" y="310"/>
                        </a:lnTo>
                        <a:lnTo>
                          <a:pt x="116" y="310"/>
                        </a:lnTo>
                        <a:lnTo>
                          <a:pt x="129" y="307"/>
                        </a:lnTo>
                        <a:lnTo>
                          <a:pt x="139" y="303"/>
                        </a:lnTo>
                        <a:lnTo>
                          <a:pt x="150" y="300"/>
                        </a:lnTo>
                        <a:lnTo>
                          <a:pt x="162" y="296"/>
                        </a:lnTo>
                        <a:lnTo>
                          <a:pt x="172" y="291"/>
                        </a:lnTo>
                        <a:lnTo>
                          <a:pt x="183" y="288"/>
                        </a:lnTo>
                        <a:lnTo>
                          <a:pt x="195" y="282"/>
                        </a:lnTo>
                        <a:lnTo>
                          <a:pt x="206" y="279"/>
                        </a:lnTo>
                        <a:lnTo>
                          <a:pt x="222" y="274"/>
                        </a:lnTo>
                        <a:lnTo>
                          <a:pt x="235" y="270"/>
                        </a:lnTo>
                        <a:lnTo>
                          <a:pt x="251" y="267"/>
                        </a:lnTo>
                        <a:lnTo>
                          <a:pt x="268" y="265"/>
                        </a:lnTo>
                        <a:lnTo>
                          <a:pt x="287" y="263"/>
                        </a:lnTo>
                        <a:lnTo>
                          <a:pt x="307" y="262"/>
                        </a:lnTo>
                        <a:lnTo>
                          <a:pt x="307" y="237"/>
                        </a:lnTo>
                        <a:lnTo>
                          <a:pt x="316" y="235"/>
                        </a:lnTo>
                        <a:lnTo>
                          <a:pt x="330" y="235"/>
                        </a:lnTo>
                        <a:lnTo>
                          <a:pt x="330" y="211"/>
                        </a:lnTo>
                        <a:lnTo>
                          <a:pt x="341" y="209"/>
                        </a:lnTo>
                        <a:lnTo>
                          <a:pt x="357" y="209"/>
                        </a:lnTo>
                        <a:lnTo>
                          <a:pt x="357" y="0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25" y="26"/>
                        </a:lnTo>
                        <a:lnTo>
                          <a:pt x="25" y="54"/>
                        </a:lnTo>
                        <a:lnTo>
                          <a:pt x="0" y="54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76240" y="4973760"/>
                    <a:ext cx="22392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5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5"/>
                        </a:lnTo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857160" y="4995720"/>
                    <a:ext cx="2239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183">
                        <a:moveTo>
                          <a:pt x="0" y="0"/>
                        </a:moveTo>
                        <a:lnTo>
                          <a:pt x="282" y="0"/>
                        </a:lnTo>
                        <a:lnTo>
                          <a:pt x="282" y="183"/>
                        </a:lnTo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 flipH="1" flipV="1">
                  <a:off x="847440" y="4763880"/>
                  <a:ext cx="92160" cy="29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939600" y="4454640"/>
                  <a:ext cx="23040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969840" y="4527720"/>
                  <a:ext cx="295200" cy="51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914040" y="4648320"/>
                  <a:ext cx="37764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1469880" y="4703760"/>
                  <a:ext cx="10944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>
                  <a:off x="1457280" y="4452480"/>
                  <a:ext cx="133200" cy="165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847080" y="4371840"/>
                  <a:ext cx="33660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>
                  <a:off x="1334880" y="4920840"/>
                  <a:ext cx="131760" cy="19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063440" y="5119560"/>
                  <a:ext cx="39204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1620720" y="4808520"/>
                  <a:ext cx="52560" cy="20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7" name="spider" descr=""/>
              <p:cNvPicPr/>
              <p:nvPr/>
            </p:nvPicPr>
            <p:blipFill>
              <a:blip r:embed="rId7"/>
              <a:stretch/>
            </p:blipFill>
            <p:spPr>
              <a:xfrm>
                <a:off x="1523880" y="472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spider" descr="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42670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spider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520" y="472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0" name=""/>
          <p:cNvSpPr/>
          <p:nvPr/>
        </p:nvSpPr>
        <p:spPr>
          <a:xfrm>
            <a:off x="290160" y="27846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640" y="32767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00440" y="2325600"/>
            <a:ext cx="780840" cy="64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2844720"/>
            <a:ext cx="1198440" cy="9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362320"/>
            <a:ext cx="12430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438280"/>
            <a:ext cx="121932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124080"/>
            <a:ext cx="12956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3276720"/>
            <a:ext cx="1090440" cy="81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417840"/>
            <a:ext cx="1260360" cy="696960"/>
          </a:xfrm>
          <a:custGeom>
            <a:avLst/>
            <a:gdLst/>
            <a:ahLst/>
            <a:rect l="l" t="t" r="r" b="b"/>
            <a:pathLst>
              <a:path w="794" h="439">
                <a:moveTo>
                  <a:pt x="0" y="439"/>
                </a:moveTo>
                <a:cubicBezTo>
                  <a:pt x="24" y="400"/>
                  <a:pt x="12" y="277"/>
                  <a:pt x="144" y="204"/>
                </a:cubicBezTo>
                <a:cubicBezTo>
                  <a:pt x="276" y="131"/>
                  <a:pt x="659" y="43"/>
                  <a:pt x="794" y="0"/>
                </a:cubicBezTo>
              </a:path>
            </a:pathLst>
          </a:custGeom>
          <a:noFill/>
          <a:ln w="76320">
            <a:solidFill>
              <a:srgbClr val="ffac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20800" y="3687840"/>
            <a:ext cx="660600" cy="933480"/>
          </a:xfrm>
          <a:custGeom>
            <a:avLst/>
            <a:gdLst/>
            <a:ahLst/>
            <a:rect l="l" t="t" r="r" b="b"/>
            <a:pathLst>
              <a:path w="416" h="588">
                <a:moveTo>
                  <a:pt x="0" y="588"/>
                </a:moveTo>
                <a:cubicBezTo>
                  <a:pt x="14" y="545"/>
                  <a:pt x="8" y="427"/>
                  <a:pt x="77" y="329"/>
                </a:cubicBezTo>
                <a:cubicBezTo>
                  <a:pt x="146" y="231"/>
                  <a:pt x="345" y="69"/>
                  <a:pt x="416" y="0"/>
                </a:cubicBezTo>
              </a:path>
            </a:pathLst>
          </a:custGeom>
          <a:noFill/>
          <a:ln w="76320">
            <a:solidFill>
              <a:srgbClr val="ffac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800600"/>
            <a:ext cx="1981440" cy="81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 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rival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base 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14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48360" y="2357280"/>
            <a:ext cx="1620720" cy="665280"/>
          </a:xfrm>
          <a:custGeom>
            <a:avLst/>
            <a:gdLst/>
            <a:ahLst/>
            <a:rect l="l" t="t" r="r" b="b"/>
            <a:pathLst>
              <a:path w="1021" h="419">
                <a:moveTo>
                  <a:pt x="1021" y="0"/>
                </a:moveTo>
                <a:cubicBezTo>
                  <a:pt x="955" y="60"/>
                  <a:pt x="794" y="319"/>
                  <a:pt x="624" y="369"/>
                </a:cubicBezTo>
                <a:cubicBezTo>
                  <a:pt x="454" y="419"/>
                  <a:pt x="130" y="317"/>
                  <a:pt x="0" y="303"/>
                </a:cubicBezTo>
              </a:path>
            </a:pathLst>
          </a:custGeom>
          <a:noFill/>
          <a:ln w="57240">
            <a:solidFill>
              <a:srgbClr val="404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038480" y="3505320"/>
            <a:ext cx="3810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 Black"/>
              </a:rPr>
              <a:t>HotD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Black"/>
              </a:rPr>
              <a:t>Hot Data Analysis and Reconcili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Black"/>
              </a:rPr>
              <a:t>Lewis 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Black"/>
              </a:rPr>
              <a:t>James 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CODIP-Banner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1575000"/>
          </a:xfrm>
          <a:prstGeom prst="rect">
            <a:avLst/>
          </a:prstGeom>
          <a:ln w="0">
            <a:noFill/>
          </a:ln>
        </p:spPr>
      </p:pic>
      <p:pic>
        <p:nvPicPr>
          <p:cNvPr id="246" name="HotDAML_Medium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20448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AR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7160" y="2513160"/>
            <a:ext cx="3200400" cy="3047760"/>
            <a:chOff x="227160" y="2513160"/>
            <a:chExt cx="3200400" cy="3047760"/>
          </a:xfrm>
        </p:grpSpPr>
        <p:sp>
          <p:nvSpPr>
            <p:cNvPr id="249" name=""/>
            <p:cNvSpPr/>
            <p:nvPr/>
          </p:nvSpPr>
          <p:spPr>
            <a:xfrm flipH="1" flipV="1" rot="10800000">
              <a:off x="303120" y="2513160"/>
              <a:ext cx="1828800" cy="1828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 rot="10800000">
              <a:off x="227160" y="3732120"/>
              <a:ext cx="1828800" cy="18288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 rot="10800000">
              <a:off x="1598760" y="3198960"/>
              <a:ext cx="1828800" cy="1828800"/>
            </a:xfrm>
            <a:prstGeom prst="ellips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6d362"/>
                  </a:solidFill>
                  <a:latin typeface="Times New Roman"/>
                </a:rPr>
                <a:t>DM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04920" y="11448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veraging IR&amp;D funding, and existing GRCI developed GOTS applications to build a distributed, web centric RDBMS meta-data analysis and management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57240" y="9144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T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a foundation for mapping and analytical fun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  Meta-Data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acle DBMS, MS Access, ER/Win, Oracle designer 2000, SQL Scripts, XML,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rative Analysis suppo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Mapping, Data interoperability, Migration and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an Articulation Service for further analysis of meta-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L Ontology for the description of relational databases and articulations betw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 based identification of candidate mappings between subjects, tables, and elements in RDBM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I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a web portal with tools for further analysis and a repository for past 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based access to analysis and reporting to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12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repository for RDBMS  meta-data descriptions and comparisons between RDBMS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ART Project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ase I De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37335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-109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-set of Global Transportation Network (GTN) and Cargo Movement Operations System (CMOS) meta-data has been imported into D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800" indent="-109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RT exports the data in an XML format, which is transformed into RDF/DAML matching a DART RDBMS ont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800" indent="-109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DIP Articulation Service reads the transformed XML and asserts the DAML into Jess using the DAML AP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24280" y="37335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rticulation Service identifies matching tables and elements in the two system, and creates an Articulation ontology comparing the two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rticulation ontology is transformed back into XML and imported by DART, which exports the results to DMI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MIR provides WWW access to review and modify the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166760"/>
            <a:ext cx="2573280" cy="473040"/>
          </a:xfrm>
          <a:custGeom>
            <a:avLst/>
            <a:gdLst/>
            <a:ahLst/>
            <a:rect l="l" t="t" r="r" b="b"/>
            <a:pathLst>
              <a:path w="1621" h="320">
                <a:moveTo>
                  <a:pt x="0" y="320"/>
                </a:moveTo>
                <a:cubicBezTo>
                  <a:pt x="94" y="284"/>
                  <a:pt x="294" y="154"/>
                  <a:pt x="564" y="101"/>
                </a:cubicBezTo>
                <a:cubicBezTo>
                  <a:pt x="834" y="48"/>
                  <a:pt x="1401" y="21"/>
                  <a:pt x="1621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781680" y="457200"/>
            <a:ext cx="1955880" cy="1917720"/>
            <a:chOff x="6781680" y="457200"/>
            <a:chExt cx="1955880" cy="1917720"/>
          </a:xfrm>
        </p:grpSpPr>
        <p:sp>
          <p:nvSpPr>
            <p:cNvPr id="259" name=""/>
            <p:cNvSpPr/>
            <p:nvPr/>
          </p:nvSpPr>
          <p:spPr>
            <a:xfrm>
              <a:off x="6781680" y="457200"/>
              <a:ext cx="1955880" cy="1917720"/>
            </a:xfrm>
            <a:custGeom>
              <a:avLst/>
              <a:gdLst/>
              <a:ahLst/>
              <a:rect l="l" t="t" r="r" b="b"/>
              <a:pathLst>
                <a:path w="1232" h="1296">
                  <a:moveTo>
                    <a:pt x="434" y="473"/>
                  </a:moveTo>
                  <a:cubicBezTo>
                    <a:pt x="491" y="457"/>
                    <a:pt x="499" y="68"/>
                    <a:pt x="532" y="49"/>
                  </a:cubicBezTo>
                  <a:cubicBezTo>
                    <a:pt x="565" y="30"/>
                    <a:pt x="570" y="367"/>
                    <a:pt x="630" y="361"/>
                  </a:cubicBezTo>
                  <a:cubicBezTo>
                    <a:pt x="689" y="354"/>
                    <a:pt x="876" y="0"/>
                    <a:pt x="894" y="11"/>
                  </a:cubicBezTo>
                  <a:cubicBezTo>
                    <a:pt x="912" y="22"/>
                    <a:pt x="710" y="389"/>
                    <a:pt x="735" y="426"/>
                  </a:cubicBezTo>
                  <a:cubicBezTo>
                    <a:pt x="760" y="462"/>
                    <a:pt x="1020" y="208"/>
                    <a:pt x="1045" y="227"/>
                  </a:cubicBezTo>
                  <a:cubicBezTo>
                    <a:pt x="1071" y="246"/>
                    <a:pt x="856" y="449"/>
                    <a:pt x="886" y="538"/>
                  </a:cubicBezTo>
                  <a:cubicBezTo>
                    <a:pt x="917" y="627"/>
                    <a:pt x="1232" y="739"/>
                    <a:pt x="1226" y="766"/>
                  </a:cubicBezTo>
                  <a:cubicBezTo>
                    <a:pt x="1219" y="793"/>
                    <a:pt x="879" y="664"/>
                    <a:pt x="848" y="699"/>
                  </a:cubicBezTo>
                  <a:cubicBezTo>
                    <a:pt x="818" y="734"/>
                    <a:pt x="1049" y="947"/>
                    <a:pt x="1043" y="978"/>
                  </a:cubicBezTo>
                  <a:cubicBezTo>
                    <a:pt x="1036" y="1010"/>
                    <a:pt x="852" y="875"/>
                    <a:pt x="811" y="888"/>
                  </a:cubicBezTo>
                  <a:cubicBezTo>
                    <a:pt x="771" y="901"/>
                    <a:pt x="832" y="1051"/>
                    <a:pt x="799" y="1055"/>
                  </a:cubicBezTo>
                  <a:cubicBezTo>
                    <a:pt x="766" y="1058"/>
                    <a:pt x="656" y="864"/>
                    <a:pt x="616" y="902"/>
                  </a:cubicBezTo>
                  <a:cubicBezTo>
                    <a:pt x="575" y="940"/>
                    <a:pt x="585" y="1271"/>
                    <a:pt x="555" y="1283"/>
                  </a:cubicBezTo>
                  <a:cubicBezTo>
                    <a:pt x="524" y="1296"/>
                    <a:pt x="496" y="1013"/>
                    <a:pt x="433" y="978"/>
                  </a:cubicBezTo>
                  <a:cubicBezTo>
                    <a:pt x="369" y="943"/>
                    <a:pt x="205" y="1096"/>
                    <a:pt x="175" y="1070"/>
                  </a:cubicBezTo>
                  <a:cubicBezTo>
                    <a:pt x="144" y="1045"/>
                    <a:pt x="279" y="912"/>
                    <a:pt x="250" y="826"/>
                  </a:cubicBezTo>
                  <a:cubicBezTo>
                    <a:pt x="221" y="740"/>
                    <a:pt x="0" y="595"/>
                    <a:pt x="2" y="552"/>
                  </a:cubicBezTo>
                  <a:cubicBezTo>
                    <a:pt x="4" y="509"/>
                    <a:pt x="230" y="635"/>
                    <a:pt x="260" y="567"/>
                  </a:cubicBezTo>
                  <a:cubicBezTo>
                    <a:pt x="290" y="499"/>
                    <a:pt x="155" y="159"/>
                    <a:pt x="185" y="143"/>
                  </a:cubicBezTo>
                  <a:cubicBezTo>
                    <a:pt x="214" y="127"/>
                    <a:pt x="377" y="489"/>
                    <a:pt x="434" y="473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2000" y="12384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262480" y="1474920"/>
            <a:ext cx="1886040" cy="34920"/>
          </a:xfrm>
          <a:custGeom>
            <a:avLst/>
            <a:gdLst/>
            <a:ahLst/>
            <a:rect l="l" t="t" r="r" b="b"/>
            <a:pathLst>
              <a:path w="1188" h="24">
                <a:moveTo>
                  <a:pt x="0" y="4"/>
                </a:moveTo>
                <a:cubicBezTo>
                  <a:pt x="131" y="4"/>
                  <a:pt x="596" y="0"/>
                  <a:pt x="794" y="3"/>
                </a:cubicBezTo>
                <a:cubicBezTo>
                  <a:pt x="992" y="6"/>
                  <a:pt x="1106" y="21"/>
                  <a:pt x="1188" y="24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1238400"/>
            <a:ext cx="2986200" cy="212400"/>
          </a:xfrm>
          <a:custGeom>
            <a:avLst/>
            <a:gdLst/>
            <a:ahLst/>
            <a:rect l="l" t="t" r="r" b="b"/>
            <a:pathLst>
              <a:path w="1881" h="105">
                <a:moveTo>
                  <a:pt x="0" y="0"/>
                </a:moveTo>
                <a:cubicBezTo>
                  <a:pt x="77" y="13"/>
                  <a:pt x="154" y="63"/>
                  <a:pt x="467" y="80"/>
                </a:cubicBezTo>
                <a:cubicBezTo>
                  <a:pt x="780" y="97"/>
                  <a:pt x="1587" y="100"/>
                  <a:pt x="1881" y="105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1379520"/>
            <a:ext cx="1219320" cy="49860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882720"/>
            <a:ext cx="1219320" cy="496800"/>
          </a:xfrm>
          <a:prstGeom prst="flowChartMagneticDisk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1025640"/>
            <a:ext cx="1143000" cy="92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914400"/>
            <a:ext cx="2210040" cy="103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947960"/>
            <a:ext cx="1138320" cy="65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08080" y="2303640"/>
            <a:ext cx="6271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0800" y="1947960"/>
            <a:ext cx="1071720" cy="65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2604960"/>
            <a:ext cx="2210040" cy="9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icul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63600" y="3016080"/>
            <a:ext cx="1387800" cy="223920"/>
          </a:xfrm>
          <a:prstGeom prst="rect">
            <a:avLst/>
          </a:prstGeom>
          <a:solidFill>
            <a:srgbClr val="3dffcc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3600" y="3273480"/>
            <a:ext cx="1387800" cy="223920"/>
          </a:xfrm>
          <a:prstGeom prst="rect">
            <a:avLst/>
          </a:prstGeom>
          <a:solidFill>
            <a:srgbClr val="3dffcc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2920" y="2303640"/>
            <a:ext cx="6271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090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T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1315800" y="2189160"/>
            <a:ext cx="568440" cy="304560"/>
          </a:xfrm>
          <a:prstGeom prst="rightArrow">
            <a:avLst>
              <a:gd name="adj1" fmla="val 48963"/>
              <a:gd name="adj2" fmla="val 60279"/>
            </a:avLst>
          </a:prstGeom>
          <a:solidFill>
            <a:srgbClr val="99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794760" y="2148120"/>
            <a:ext cx="639720" cy="304560"/>
          </a:xfrm>
          <a:prstGeom prst="leftRightArrow">
            <a:avLst>
              <a:gd name="adj1" fmla="val 50000"/>
              <a:gd name="adj2" fmla="val 61263"/>
            </a:avLst>
          </a:prstGeom>
          <a:solidFill>
            <a:srgbClr val="99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2560" y="205740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T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1096920"/>
            <a:ext cx="914400" cy="709560"/>
          </a:xfrm>
          <a:prstGeom prst="flowChartMagneticDisk">
            <a:avLst/>
          </a:prstGeom>
          <a:gradFill rotWithShape="0">
            <a:gsLst>
              <a:gs pos="0">
                <a:srgbClr val="cc99ff"/>
              </a:gs>
              <a:gs pos="100000">
                <a:srgbClr val="ff99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T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8240" y="3200400"/>
            <a:ext cx="742680" cy="1440"/>
          </a:xfrm>
          <a:custGeom>
            <a:avLst/>
            <a:gdLst/>
            <a:ahLst/>
            <a:rect l="l" t="t" r="r" b="b"/>
            <a:pathLst>
              <a:path w="468" h="1">
                <a:moveTo>
                  <a:pt x="468" y="0"/>
                </a:moveTo>
                <a:cubicBezTo>
                  <a:pt x="389" y="0"/>
                  <a:pt x="97" y="0"/>
                  <a:pt x="0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941560"/>
            <a:ext cx="990720" cy="568440"/>
          </a:xfrm>
          <a:prstGeom prst="flowChartMagneticDrum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1609560" cy="16765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pic>
        <p:nvPicPr>
          <p:cNvPr id="282" name="DartMainScreen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1271520" cy="8316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Match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, ‘Perfec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2133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df:about="grci2659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10.00"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352680"/>
            <a:ext cx="2209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rdf:about="grci1913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BoatWidth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X_NM_MTCH:ele_nm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7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352680"/>
            <a:ext cx="25909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MatchFactor rdf:about="grci2271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Boat width in meters rounded up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PHRASE_MTCH:ele_def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10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4572000"/>
            <a:ext cx="2361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rdf:about="grci2341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FLOAT8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X_DT_MTCH:ele_data_type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2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5720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rdf:about="grci2394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BoatWidth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X_NM_MTCH:ele_access_nm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6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21932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t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:Shipyard_2.daml#genid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1295280"/>
            <a:ext cx="1752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t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:Shipyard_3.daml#genid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600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2280" y="1370880"/>
            <a:ext cx="293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daml.org/2001/03/daml+oil#equivalent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160020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65724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885840" y="281952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28195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28195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65560" y="34282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160" y="83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362320" y="2209680"/>
            <a:ext cx="4267080" cy="2590920"/>
          </a:xfrm>
          <a:prstGeom prst="diamond">
            <a:avLst/>
          </a:prstGeom>
          <a:solidFill>
            <a:srgbClr val="ede08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uctural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in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Match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al, Not 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43000" y="1143000"/>
            <a:ext cx="6629040" cy="1371600"/>
            <a:chOff x="1143000" y="1143000"/>
            <a:chExt cx="6629040" cy="1371600"/>
          </a:xfrm>
        </p:grpSpPr>
        <p:sp>
          <p:nvSpPr>
            <p:cNvPr id="303" name=""/>
            <p:cNvSpPr/>
            <p:nvPr/>
          </p:nvSpPr>
          <p:spPr>
            <a:xfrm>
              <a:off x="1143000" y="1143000"/>
              <a:ext cx="1873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rk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e:Shipyard_3.daml#genid6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4960" y="1219320"/>
              <a:ext cx="16570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rkOr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e:Shipyard_2.daml#genid7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16440" y="1523880"/>
              <a:ext cx="309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78720" y="1294560"/>
              <a:ext cx="293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ttp://www.daml.org/2001/03/daml+oil#equivalent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37160" y="1752480"/>
              <a:ext cx="1657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&lt;c:Mat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f:about="grci3027"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:strength="8.60" 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529520" y="1523520"/>
              <a:ext cx="0" cy="2286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143000" y="4495680"/>
            <a:ext cx="6629040" cy="1371600"/>
            <a:chOff x="1143000" y="4495680"/>
            <a:chExt cx="6629040" cy="1371600"/>
          </a:xfrm>
        </p:grpSpPr>
        <p:sp>
          <p:nvSpPr>
            <p:cNvPr id="310" name=""/>
            <p:cNvSpPr/>
            <p:nvPr/>
          </p:nvSpPr>
          <p:spPr>
            <a:xfrm>
              <a:off x="1143000" y="5181480"/>
              <a:ext cx="18734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rkOrd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e:Shipyard_3.daml#genid3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14960" y="5181480"/>
              <a:ext cx="16570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de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e:Shipyard_2.daml#genid3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16440" y="5486400"/>
              <a:ext cx="309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78720" y="5469840"/>
              <a:ext cx="293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ttp://www.daml.org/2001/03/daml+oil#equivalent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7160" y="4495680"/>
              <a:ext cx="1657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&lt;c:Mat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f:about="grci2999"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:strength=”9.84" 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529520" y="5257440"/>
              <a:ext cx="0" cy="2286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09480" y="2895480"/>
            <a:ext cx="2133720" cy="838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 rdf:about="grci3029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grci3027 grci2999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TBL_ELE_MTCH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3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24480" y="3124080"/>
            <a:ext cx="2133720" cy="8384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:MatchFactor  rdf:about="grci3030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grci3027 grci2999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LE_TBL_MTCH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9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981080"/>
            <a:ext cx="2133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  rdf:about="grci1730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X_NM_MTCH:tbl_nm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“WorkOrd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8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2209680"/>
            <a:ext cx="2438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rdf:about="grci1819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Unique marina work order ID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PHRASE_MTCH:ele_def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8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24480" y="4038480"/>
            <a:ext cx="2438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c:MatchFactor rdf:about="grci1825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detail="INTEGER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kind="EX_DT_MTCH:ele_data_type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:strength="2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743200" y="2133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743200" y="22860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10080" y="4495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10080" y="35053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9056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69920" y="18280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37160" y="47235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840" y="838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2240" y="57913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2cd4d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5257800" y="990720"/>
            <a:ext cx="1368360" cy="2705040"/>
            <a:chOff x="5257800" y="990720"/>
            <a:chExt cx="1368360" cy="270504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5257800" y="2666880"/>
              <a:ext cx="9874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5638680" y="1905120"/>
              <a:ext cx="98748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5257800" y="990720"/>
              <a:ext cx="9874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DART Project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ase II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39625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into a Web Application Server to provide DMIR portal with complete RDBMS meta-data management cap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 of  Translation, Migration  and other services to provide additional functionality. Use as a test-bed for enhanced articulation technolog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y to current Marine Corp Systems Command (MCSC) Shared Data Environment (SDE) integration efforts and to future potential efforts such as GTN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community access to DMIR portals into facilitate integration, migration, and interoperability in an operational community's data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066680"/>
            <a:ext cx="329400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133720"/>
            <a:ext cx="11923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ti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1447920"/>
            <a:ext cx="1192320" cy="587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44880" y="2817720"/>
            <a:ext cx="911160" cy="488880"/>
          </a:xfrm>
          <a:prstGeom prst="flowChartMagneticDrum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46520" y="2747880"/>
            <a:ext cx="911160" cy="488880"/>
          </a:xfrm>
          <a:prstGeom prst="flowChartMagneticDrum">
            <a:avLst/>
          </a:prstGeom>
          <a:gradFill rotWithShape="0">
            <a:gsLst>
              <a:gs pos="0">
                <a:srgbClr val="33cccc"/>
              </a:gs>
              <a:gs pos="100000">
                <a:srgbClr val="cc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65360" y="2887560"/>
            <a:ext cx="911160" cy="490680"/>
          </a:xfrm>
          <a:prstGeom prst="flowChartMagneticDrum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1766880"/>
            <a:ext cx="1260360" cy="133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261200" y="2048040"/>
            <a:ext cx="1120320" cy="769320"/>
            <a:chOff x="7261200" y="2048040"/>
            <a:chExt cx="1120320" cy="769320"/>
          </a:xfrm>
        </p:grpSpPr>
        <p:sp>
          <p:nvSpPr>
            <p:cNvPr id="344" name=""/>
            <p:cNvSpPr/>
            <p:nvPr/>
          </p:nvSpPr>
          <p:spPr>
            <a:xfrm>
              <a:off x="7611120" y="2327400"/>
              <a:ext cx="770400" cy="349920"/>
            </a:xfrm>
            <a:prstGeom prst="flowChartMagneticDisk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1200" y="2048040"/>
              <a:ext cx="700200" cy="629640"/>
            </a:xfrm>
            <a:prstGeom prst="flowChartMagneticDisk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41280" y="2467800"/>
              <a:ext cx="630000" cy="349560"/>
            </a:xfrm>
            <a:prstGeom prst="flowChartMagneticDrum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cc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631560" y="124380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6489360" y="2187720"/>
            <a:ext cx="630360" cy="279360"/>
          </a:xfrm>
          <a:prstGeom prst="leftRightArrow">
            <a:avLst>
              <a:gd name="adj1" fmla="val 50000"/>
              <a:gd name="adj2" fmla="val 6581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06880" y="1346040"/>
            <a:ext cx="1798560" cy="1890720"/>
            <a:chOff x="4106880" y="1346040"/>
            <a:chExt cx="1798560" cy="1890720"/>
          </a:xfrm>
        </p:grpSpPr>
        <p:sp>
          <p:nvSpPr>
            <p:cNvPr id="350" name=""/>
            <p:cNvSpPr/>
            <p:nvPr/>
          </p:nvSpPr>
          <p:spPr>
            <a:xfrm>
              <a:off x="4106880" y="1346040"/>
              <a:ext cx="1798560" cy="1890720"/>
            </a:xfrm>
            <a:custGeom>
              <a:avLst/>
              <a:gdLst/>
              <a:ahLst/>
              <a:rect l="l" t="t" r="r" b="b"/>
              <a:pathLst>
                <a:path w="1232" h="1296">
                  <a:moveTo>
                    <a:pt x="434" y="473"/>
                  </a:moveTo>
                  <a:cubicBezTo>
                    <a:pt x="491" y="457"/>
                    <a:pt x="499" y="68"/>
                    <a:pt x="532" y="49"/>
                  </a:cubicBezTo>
                  <a:cubicBezTo>
                    <a:pt x="565" y="30"/>
                    <a:pt x="570" y="367"/>
                    <a:pt x="630" y="361"/>
                  </a:cubicBezTo>
                  <a:cubicBezTo>
                    <a:pt x="689" y="354"/>
                    <a:pt x="876" y="0"/>
                    <a:pt x="894" y="11"/>
                  </a:cubicBezTo>
                  <a:cubicBezTo>
                    <a:pt x="912" y="22"/>
                    <a:pt x="710" y="389"/>
                    <a:pt x="735" y="426"/>
                  </a:cubicBezTo>
                  <a:cubicBezTo>
                    <a:pt x="760" y="462"/>
                    <a:pt x="1020" y="208"/>
                    <a:pt x="1045" y="227"/>
                  </a:cubicBezTo>
                  <a:cubicBezTo>
                    <a:pt x="1071" y="246"/>
                    <a:pt x="856" y="449"/>
                    <a:pt x="886" y="538"/>
                  </a:cubicBezTo>
                  <a:cubicBezTo>
                    <a:pt x="917" y="627"/>
                    <a:pt x="1232" y="739"/>
                    <a:pt x="1226" y="766"/>
                  </a:cubicBezTo>
                  <a:cubicBezTo>
                    <a:pt x="1219" y="793"/>
                    <a:pt x="879" y="664"/>
                    <a:pt x="848" y="699"/>
                  </a:cubicBezTo>
                  <a:cubicBezTo>
                    <a:pt x="818" y="734"/>
                    <a:pt x="1049" y="947"/>
                    <a:pt x="1043" y="978"/>
                  </a:cubicBezTo>
                  <a:cubicBezTo>
                    <a:pt x="1036" y="1010"/>
                    <a:pt x="852" y="875"/>
                    <a:pt x="811" y="888"/>
                  </a:cubicBezTo>
                  <a:cubicBezTo>
                    <a:pt x="771" y="901"/>
                    <a:pt x="832" y="1051"/>
                    <a:pt x="799" y="1055"/>
                  </a:cubicBezTo>
                  <a:cubicBezTo>
                    <a:pt x="766" y="1058"/>
                    <a:pt x="656" y="864"/>
                    <a:pt x="616" y="902"/>
                  </a:cubicBezTo>
                  <a:cubicBezTo>
                    <a:pt x="575" y="940"/>
                    <a:pt x="585" y="1271"/>
                    <a:pt x="555" y="1283"/>
                  </a:cubicBezTo>
                  <a:cubicBezTo>
                    <a:pt x="524" y="1296"/>
                    <a:pt x="496" y="1013"/>
                    <a:pt x="433" y="978"/>
                  </a:cubicBezTo>
                  <a:cubicBezTo>
                    <a:pt x="369" y="943"/>
                    <a:pt x="205" y="1096"/>
                    <a:pt x="175" y="1070"/>
                  </a:cubicBezTo>
                  <a:cubicBezTo>
                    <a:pt x="144" y="1045"/>
                    <a:pt x="279" y="912"/>
                    <a:pt x="250" y="826"/>
                  </a:cubicBezTo>
                  <a:cubicBezTo>
                    <a:pt x="221" y="740"/>
                    <a:pt x="0" y="595"/>
                    <a:pt x="2" y="552"/>
                  </a:cubicBezTo>
                  <a:cubicBezTo>
                    <a:pt x="4" y="509"/>
                    <a:pt x="230" y="635"/>
                    <a:pt x="260" y="567"/>
                  </a:cubicBezTo>
                  <a:cubicBezTo>
                    <a:pt x="290" y="499"/>
                    <a:pt x="155" y="159"/>
                    <a:pt x="185" y="143"/>
                  </a:cubicBezTo>
                  <a:cubicBezTo>
                    <a:pt x="214" y="127"/>
                    <a:pt x="377" y="489"/>
                    <a:pt x="434" y="473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90200" y="21103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 rot="10800000">
            <a:off x="3757680" y="2187720"/>
            <a:ext cx="630000" cy="279360"/>
          </a:xfrm>
          <a:prstGeom prst="leftRightArrow">
            <a:avLst>
              <a:gd name="adj1" fmla="val 50000"/>
              <a:gd name="adj2" fmla="val 6577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2743200"/>
            <a:ext cx="11923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828440" y="1752120"/>
            <a:ext cx="630360" cy="281160"/>
          </a:xfrm>
          <a:prstGeom prst="leftRightArrow">
            <a:avLst>
              <a:gd name="adj1" fmla="val 50000"/>
              <a:gd name="adj2" fmla="val 6539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794960" y="2817720"/>
            <a:ext cx="630360" cy="279360"/>
          </a:xfrm>
          <a:prstGeom prst="leftRightArrow">
            <a:avLst>
              <a:gd name="adj1" fmla="val 50000"/>
              <a:gd name="adj2" fmla="val 6581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0800000">
            <a:off x="1828440" y="2286000"/>
            <a:ext cx="630360" cy="279360"/>
          </a:xfrm>
          <a:prstGeom prst="leftRightArrow">
            <a:avLst>
              <a:gd name="adj1" fmla="val 50000"/>
              <a:gd name="adj2" fmla="val 6581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9:14:38Z</dcterms:created>
  <dc:creator>Lewis L Hart</dc:creator>
  <dc:description/>
  <dc:language>en-US</dc:language>
  <cp:lastModifiedBy>bbn</cp:lastModifiedBy>
  <cp:lastPrinted>2001-07-09T18:37:37Z</cp:lastPrinted>
  <dcterms:modified xsi:type="dcterms:W3CDTF">2001-07-26T16:27:58Z</dcterms:modified>
  <cp:revision>50</cp:revision>
  <dc:subject/>
  <dc:title>ASA - A Proof of Concept  </dc:title>
</cp:coreProperties>
</file>