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52360" y="685440"/>
            <a:ext cx="4553280" cy="34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8F4628-8B07-41DE-89C4-C0DA412A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65320" y="679320"/>
            <a:ext cx="4532040" cy="33991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03800"/>
            <a:ext cx="50292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GEDC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ll established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genealogy software can export thi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arch familiar instan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GED2XM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DCOM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sion complies with GedML 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XM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r cap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XSLT lines = DAML+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3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048280" y="888840"/>
            <a:ext cx="294660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ynamics Research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50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48280" y="888840"/>
            <a:ext cx="294660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9967"/>
                </a:solidFill>
                <a:latin typeface="Arial"/>
              </a:rPr>
              <a:t>Dynamics Research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Lacy@DRC.com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66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s Research Corpor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 DAML Submission: DAML Dining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19400" y="241200"/>
            <a:ext cx="1150920" cy="1355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6680" y="3022560"/>
            <a:ext cx="6400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e L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Lacy@DR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07) 380-1200 x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11080" y="4394160"/>
            <a:ext cx="37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L PI Meeting, Nashua, N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8-20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732120" y="5221440"/>
            <a:ext cx="141768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685800" y="1411200"/>
            <a:ext cx="6629400" cy="47721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16000" y="228600"/>
            <a:ext cx="8737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ekML DT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984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941560" y="4305240"/>
            <a:ext cx="3254400" cy="2147760"/>
            <a:chOff x="2941560" y="4305240"/>
            <a:chExt cx="3254400" cy="2147760"/>
          </a:xfrm>
        </p:grpSpPr>
        <p:sp>
          <p:nvSpPr>
            <p:cNvPr id="494" name=""/>
            <p:cNvSpPr/>
            <p:nvPr/>
          </p:nvSpPr>
          <p:spPr>
            <a:xfrm>
              <a:off x="2941560" y="4305240"/>
              <a:ext cx="325440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2400" spc="-1" strike="noStrike">
                  <a:solidFill>
                    <a:srgbClr val="000099"/>
                  </a:solidFill>
                  <a:latin typeface="Curlz MT"/>
                </a:rPr>
                <a:t>D</a:t>
              </a:r>
              <a:r>
                <a:rPr b="1" lang="en-US" sz="2400" spc="-1" strike="noStrike">
                  <a:solidFill>
                    <a:srgbClr val="0000cc"/>
                  </a:solidFill>
                  <a:latin typeface="Curlz MT"/>
                </a:rPr>
                <a:t>A</a:t>
              </a:r>
              <a:r>
                <a:rPr b="1" lang="en-US" sz="2400" spc="-1" strike="noStrike">
                  <a:solidFill>
                    <a:srgbClr val="0000ff"/>
                  </a:solidFill>
                  <a:latin typeface="Curlz MT"/>
                </a:rPr>
                <a:t>M</a:t>
              </a:r>
              <a:r>
                <a:rPr b="1" lang="en-US" sz="2400" spc="-1" strike="noStrike">
                  <a:solidFill>
                    <a:srgbClr val="0033cc"/>
                  </a:solidFill>
                  <a:latin typeface="Curlz MT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Curlz MT"/>
                </a:rPr>
                <a:t> </a:t>
              </a:r>
              <a:r>
                <a:rPr b="1" lang="en-US" sz="2400" spc="-1" strike="noStrike">
                  <a:solidFill>
                    <a:srgbClr val="660033"/>
                  </a:solidFill>
                  <a:latin typeface="Curlz MT"/>
                </a:rPr>
                <a:t>D</a:t>
              </a:r>
              <a:r>
                <a:rPr b="1" lang="en-US" sz="2400" spc="-1" strike="noStrike">
                  <a:solidFill>
                    <a:srgbClr val="990033"/>
                  </a:solidFill>
                  <a:latin typeface="Curlz MT"/>
                </a:rPr>
                <a:t>I</a:t>
              </a:r>
              <a:r>
                <a:rPr b="1" lang="en-US" sz="2400" spc="-1" strike="noStrike">
                  <a:solidFill>
                    <a:srgbClr val="cc0000"/>
                  </a:solidFill>
                  <a:latin typeface="Curlz MT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Curlz MT"/>
                </a:rPr>
                <a:t>I</a:t>
              </a:r>
              <a:r>
                <a:rPr b="1" lang="en-US" sz="2400" spc="-1" strike="noStrike">
                  <a:solidFill>
                    <a:srgbClr val="990000"/>
                  </a:solidFill>
                  <a:latin typeface="Curlz MT"/>
                </a:rPr>
                <a:t>N</a:t>
              </a:r>
              <a:r>
                <a:rPr b="1" lang="en-US" sz="2400" spc="-1" strike="noStrike">
                  <a:solidFill>
                    <a:srgbClr val="800000"/>
                  </a:solidFill>
                  <a:latin typeface="Curlz MT"/>
                </a:rPr>
                <a:t>G</a:t>
              </a:r>
              <a:r>
                <a:rPr b="1" lang="en-US" sz="2400" spc="-1" strike="noStrike">
                  <a:solidFill>
                    <a:srgbClr val="cc3300"/>
                  </a:solidFill>
                  <a:latin typeface="Curlz MT"/>
                </a:rPr>
                <a:t>: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3809880" y="5010120"/>
              <a:ext cx="1390680" cy="144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"/>
          <p:cNvSpPr/>
          <p:nvPr/>
        </p:nvSpPr>
        <p:spPr>
          <a:xfrm>
            <a:off x="736560" y="1371600"/>
            <a:ext cx="7772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ded to demonstrate practical uses of semantic web technology in simple to understand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pplication code shows “semantic join” of hotel postal code from an itinerary file with postal code of stored restau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ype currently being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T technology used to support queries and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16200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19160" y="165096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and Application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Demonstration of Current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ind the Scenes T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092480" y="4041720"/>
            <a:ext cx="13669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9160" y="135900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 “value-add” application enabled by semantic web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common easily understood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in understanding of access technologies related to DAML+OIL re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aurant ontology supporting repository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aurant data maintenanc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inerary ontology obtainable from travel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 join across restaurant and itinerary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taurant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812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38400" y="2921040"/>
            <a:ext cx="1749600" cy="55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taurant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3280" y="1752480"/>
            <a:ext cx="176544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38400" y="1739880"/>
            <a:ext cx="1749600" cy="571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ta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2"/>
            <a:endCxn id="113" idx="0"/>
          </p:cNvCxnSpPr>
          <p:nvPr/>
        </p:nvCxnSpPr>
        <p:spPr>
          <a:xfrm flipV="1" rot="10800000">
            <a:off x="3912480" y="231120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/>
          <p:nvPr/>
        </p:nvCxnSpPr>
        <p:spPr>
          <a:xfrm>
            <a:off x="4788000" y="2042640"/>
            <a:ext cx="1296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4635360" y="1828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20960" y="351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36960" y="23241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35160" y="4102200"/>
            <a:ext cx="1752840" cy="546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taurantMenu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endCxn id="121" idx="0"/>
          </p:cNvCxnSpPr>
          <p:nvPr/>
        </p:nvCxnSpPr>
        <p:spPr>
          <a:xfrm flipV="1" rot="10800000">
            <a:off x="3911040" y="3454200"/>
            <a:ext cx="108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93840" y="561348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orl01.drc.com/DAML/Ontology/Restaurant/1.X/Restaurant-ont-1.0v.da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67280" y="3664080"/>
            <a:ext cx="2438640" cy="17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893880" y="3782880"/>
          <a:ext cx="1549440" cy="12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3880" y="3782880"/>
                    <a:ext cx="154944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787320" y="3720960"/>
            <a:ext cx="1790640" cy="14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taurant Information Reposi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812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79640" y="2629080"/>
            <a:ext cx="4911840" cy="3568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49160" y="1359000"/>
            <a:ext cx="7772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 artifact file (instance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at URL to any human or agent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69920" y="1523880"/>
            <a:ext cx="1278000" cy="1873800"/>
            <a:chOff x="169920" y="1523880"/>
            <a:chExt cx="1278000" cy="1873800"/>
          </a:xfrm>
        </p:grpSpPr>
        <p:grpSp>
          <p:nvGrpSpPr>
            <p:cNvPr id="133" name=""/>
            <p:cNvGrpSpPr/>
            <p:nvPr/>
          </p:nvGrpSpPr>
          <p:grpSpPr>
            <a:xfrm>
              <a:off x="169920" y="1523880"/>
              <a:ext cx="1249560" cy="1005120"/>
              <a:chOff x="169920" y="1523880"/>
              <a:chExt cx="1249560" cy="10051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169920" y="1523880"/>
                <a:ext cx="1249560" cy="1005120"/>
                <a:chOff x="169920" y="1523880"/>
                <a:chExt cx="1249560" cy="10051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42000" y="1523880"/>
                  <a:ext cx="880200" cy="577080"/>
                </a:xfrm>
                <a:custGeom>
                  <a:avLst/>
                  <a:gdLst/>
                  <a:ahLst/>
                  <a:rect l="l" t="t" r="r" b="b"/>
                  <a:pathLst>
                    <a:path w="649" h="479">
                      <a:moveTo>
                        <a:pt x="55" y="479"/>
                      </a:moveTo>
                      <a:lnTo>
                        <a:pt x="41" y="478"/>
                      </a:lnTo>
                      <a:lnTo>
                        <a:pt x="30" y="475"/>
                      </a:lnTo>
                      <a:lnTo>
                        <a:pt x="21" y="470"/>
                      </a:lnTo>
                      <a:lnTo>
                        <a:pt x="13" y="464"/>
                      </a:lnTo>
                      <a:lnTo>
                        <a:pt x="7" y="456"/>
                      </a:lnTo>
                      <a:lnTo>
                        <a:pt x="3" y="447"/>
                      </a:lnTo>
                      <a:lnTo>
                        <a:pt x="0" y="436"/>
                      </a:lnTo>
                      <a:lnTo>
                        <a:pt x="0" y="424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3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21" y="9"/>
                      </a:lnTo>
                      <a:lnTo>
                        <a:pt x="30" y="3"/>
                      </a:lnTo>
                      <a:lnTo>
                        <a:pt x="41" y="1"/>
                      </a:lnTo>
                      <a:lnTo>
                        <a:pt x="55" y="0"/>
                      </a:lnTo>
                      <a:lnTo>
                        <a:pt x="594" y="0"/>
                      </a:lnTo>
                      <a:lnTo>
                        <a:pt x="607" y="1"/>
                      </a:lnTo>
                      <a:lnTo>
                        <a:pt x="618" y="3"/>
                      </a:lnTo>
                      <a:lnTo>
                        <a:pt x="628" y="9"/>
                      </a:lnTo>
                      <a:lnTo>
                        <a:pt x="636" y="15"/>
                      </a:lnTo>
                      <a:lnTo>
                        <a:pt x="641" y="23"/>
                      </a:lnTo>
                      <a:lnTo>
                        <a:pt x="645" y="32"/>
                      </a:lnTo>
                      <a:lnTo>
                        <a:pt x="648" y="43"/>
                      </a:lnTo>
                      <a:lnTo>
                        <a:pt x="649" y="55"/>
                      </a:lnTo>
                      <a:lnTo>
                        <a:pt x="649" y="424"/>
                      </a:lnTo>
                      <a:lnTo>
                        <a:pt x="648" y="436"/>
                      </a:lnTo>
                      <a:lnTo>
                        <a:pt x="645" y="447"/>
                      </a:lnTo>
                      <a:lnTo>
                        <a:pt x="641" y="456"/>
                      </a:lnTo>
                      <a:lnTo>
                        <a:pt x="636" y="464"/>
                      </a:lnTo>
                      <a:lnTo>
                        <a:pt x="628" y="470"/>
                      </a:lnTo>
                      <a:lnTo>
                        <a:pt x="618" y="475"/>
                      </a:lnTo>
                      <a:lnTo>
                        <a:pt x="607" y="478"/>
                      </a:lnTo>
                      <a:lnTo>
                        <a:pt x="594" y="479"/>
                      </a:lnTo>
                      <a:lnTo>
                        <a:pt x="55" y="4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0720" y="1539720"/>
                  <a:ext cx="840600" cy="542880"/>
                </a:xfrm>
                <a:custGeom>
                  <a:avLst/>
                  <a:gdLst/>
                  <a:ahLst/>
                  <a:rect l="l" t="t" r="r" b="b"/>
                  <a:pathLst>
                    <a:path w="621" h="450">
                      <a:moveTo>
                        <a:pt x="0" y="406"/>
                      </a:moveTo>
                      <a:lnTo>
                        <a:pt x="0" y="415"/>
                      </a:lnTo>
                      <a:lnTo>
                        <a:pt x="3" y="424"/>
                      </a:lnTo>
                      <a:lnTo>
                        <a:pt x="6" y="432"/>
                      </a:lnTo>
                      <a:lnTo>
                        <a:pt x="11" y="438"/>
                      </a:lnTo>
                      <a:lnTo>
                        <a:pt x="16" y="442"/>
                      </a:lnTo>
                      <a:lnTo>
                        <a:pt x="24" y="446"/>
                      </a:lnTo>
                      <a:lnTo>
                        <a:pt x="32" y="450"/>
                      </a:lnTo>
                      <a:lnTo>
                        <a:pt x="44" y="450"/>
                      </a:lnTo>
                      <a:lnTo>
                        <a:pt x="576" y="450"/>
                      </a:lnTo>
                      <a:lnTo>
                        <a:pt x="588" y="450"/>
                      </a:lnTo>
                      <a:lnTo>
                        <a:pt x="596" y="446"/>
                      </a:lnTo>
                      <a:lnTo>
                        <a:pt x="604" y="442"/>
                      </a:lnTo>
                      <a:lnTo>
                        <a:pt x="611" y="438"/>
                      </a:lnTo>
                      <a:lnTo>
                        <a:pt x="614" y="432"/>
                      </a:lnTo>
                      <a:lnTo>
                        <a:pt x="618" y="424"/>
                      </a:lnTo>
                      <a:lnTo>
                        <a:pt x="620" y="415"/>
                      </a:lnTo>
                      <a:lnTo>
                        <a:pt x="621" y="406"/>
                      </a:lnTo>
                      <a:lnTo>
                        <a:pt x="621" y="45"/>
                      </a:lnTo>
                      <a:lnTo>
                        <a:pt x="620" y="36"/>
                      </a:lnTo>
                      <a:lnTo>
                        <a:pt x="618" y="27"/>
                      </a:lnTo>
                      <a:lnTo>
                        <a:pt x="614" y="19"/>
                      </a:lnTo>
                      <a:lnTo>
                        <a:pt x="611" y="12"/>
                      </a:lnTo>
                      <a:lnTo>
                        <a:pt x="604" y="7"/>
                      </a:lnTo>
                      <a:lnTo>
                        <a:pt x="596" y="4"/>
                      </a:lnTo>
                      <a:lnTo>
                        <a:pt x="588" y="0"/>
                      </a:lnTo>
                      <a:lnTo>
                        <a:pt x="576" y="0"/>
                      </a:lnTo>
                      <a:lnTo>
                        <a:pt x="44" y="0"/>
                      </a:lnTo>
                      <a:lnTo>
                        <a:pt x="32" y="0"/>
                      </a:lnTo>
                      <a:lnTo>
                        <a:pt x="24" y="4"/>
                      </a:lnTo>
                      <a:lnTo>
                        <a:pt x="16" y="7"/>
                      </a:lnTo>
                      <a:lnTo>
                        <a:pt x="11" y="12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406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62360" y="2054160"/>
                  <a:ext cx="74520" cy="20520"/>
                </a:xfrm>
                <a:prstGeom prst="rect">
                  <a:avLst/>
                </a:prstGeom>
                <a:solidFill>
                  <a:srgbClr val="d80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169920" y="2100960"/>
                  <a:ext cx="1249560" cy="428040"/>
                  <a:chOff x="169920" y="2100960"/>
                  <a:chExt cx="1249560" cy="4280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347040" y="2189160"/>
                    <a:ext cx="1188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69920" y="2100960"/>
                    <a:ext cx="12495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923" h="354">
                        <a:moveTo>
                          <a:pt x="923" y="293"/>
                        </a:moveTo>
                        <a:lnTo>
                          <a:pt x="878" y="100"/>
                        </a:lnTo>
                        <a:lnTo>
                          <a:pt x="767" y="100"/>
                        </a:lnTo>
                        <a:lnTo>
                          <a:pt x="767" y="51"/>
                        </a:lnTo>
                        <a:lnTo>
                          <a:pt x="594" y="51"/>
                        </a:lnTo>
                        <a:lnTo>
                          <a:pt x="594" y="13"/>
                        </a:lnTo>
                        <a:lnTo>
                          <a:pt x="552" y="13"/>
                        </a:lnTo>
                        <a:lnTo>
                          <a:pt x="552" y="0"/>
                        </a:lnTo>
                        <a:lnTo>
                          <a:pt x="349" y="0"/>
                        </a:lnTo>
                        <a:lnTo>
                          <a:pt x="349" y="13"/>
                        </a:lnTo>
                        <a:lnTo>
                          <a:pt x="308" y="13"/>
                        </a:lnTo>
                        <a:lnTo>
                          <a:pt x="308" y="51"/>
                        </a:lnTo>
                        <a:lnTo>
                          <a:pt x="135" y="51"/>
                        </a:lnTo>
                        <a:lnTo>
                          <a:pt x="135" y="100"/>
                        </a:lnTo>
                        <a:lnTo>
                          <a:pt x="45" y="100"/>
                        </a:lnTo>
                        <a:lnTo>
                          <a:pt x="0" y="293"/>
                        </a:lnTo>
                        <a:lnTo>
                          <a:pt x="27" y="354"/>
                        </a:lnTo>
                        <a:lnTo>
                          <a:pt x="898" y="354"/>
                        </a:lnTo>
                        <a:lnTo>
                          <a:pt x="923" y="29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00480" y="2100960"/>
                    <a:ext cx="3607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1">
                        <a:moveTo>
                          <a:pt x="266" y="51"/>
                        </a:moveTo>
                        <a:lnTo>
                          <a:pt x="266" y="23"/>
                        </a:lnTo>
                        <a:lnTo>
                          <a:pt x="223" y="23"/>
                        </a:lnTo>
                        <a:lnTo>
                          <a:pt x="223" y="0"/>
                        </a:lnTo>
                        <a:lnTo>
                          <a:pt x="43" y="0"/>
                        </a:lnTo>
                        <a:lnTo>
                          <a:pt x="43" y="23"/>
                        </a:lnTo>
                        <a:lnTo>
                          <a:pt x="0" y="23"/>
                        </a:lnTo>
                        <a:lnTo>
                          <a:pt x="0" y="51"/>
                        </a:lnTo>
                        <a:lnTo>
                          <a:pt x="266" y="51"/>
                        </a:lnTo>
                        <a:close/>
                      </a:path>
                    </a:pathLst>
                  </a:custGeom>
                  <a:solidFill>
                    <a:srgbClr val="e8e0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367920" y="2174760"/>
                    <a:ext cx="8226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07" h="40">
                        <a:moveTo>
                          <a:pt x="576" y="40"/>
                        </a:moveTo>
                        <a:lnTo>
                          <a:pt x="607" y="40"/>
                        </a:lnTo>
                        <a:lnTo>
                          <a:pt x="607" y="0"/>
                        </a:lnTo>
                        <a:lnTo>
                          <a:pt x="0" y="0"/>
                        </a:lnTo>
                        <a:lnTo>
                          <a:pt x="0" y="40"/>
                        </a:lnTo>
                        <a:lnTo>
                          <a:pt x="341" y="40"/>
                        </a:lnTo>
                        <a:lnTo>
                          <a:pt x="341" y="11"/>
                        </a:lnTo>
                        <a:lnTo>
                          <a:pt x="576" y="11"/>
                        </a:lnTo>
                        <a:lnTo>
                          <a:pt x="576" y="40"/>
                        </a:lnTo>
                        <a:close/>
                      </a:path>
                    </a:pathLst>
                  </a:custGeom>
                  <a:solidFill>
                    <a:srgbClr val="e8e0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4040" y="2237760"/>
                    <a:ext cx="12045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9" h="204">
                        <a:moveTo>
                          <a:pt x="889" y="181"/>
                        </a:moveTo>
                        <a:lnTo>
                          <a:pt x="848" y="0"/>
                        </a:lnTo>
                        <a:lnTo>
                          <a:pt x="41" y="0"/>
                        </a:lnTo>
                        <a:lnTo>
                          <a:pt x="0" y="181"/>
                        </a:lnTo>
                        <a:lnTo>
                          <a:pt x="11" y="204"/>
                        </a:lnTo>
                        <a:lnTo>
                          <a:pt x="878" y="204"/>
                        </a:lnTo>
                        <a:lnTo>
                          <a:pt x="889" y="181"/>
                        </a:lnTo>
                        <a:close/>
                      </a:path>
                    </a:pathLst>
                  </a:custGeom>
                  <a:solidFill>
                    <a:srgbClr val="e8e0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97440" y="2189160"/>
                    <a:ext cx="1188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38840" y="2189160"/>
                    <a:ext cx="1188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20560" y="2189160"/>
                    <a:ext cx="1044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159560" y="2313360"/>
                    <a:ext cx="500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3">
                        <a:moveTo>
                          <a:pt x="37" y="113"/>
                        </a:move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24" y="113"/>
                        </a:lnTo>
                        <a:lnTo>
                          <a:pt x="37" y="113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16440" y="2313360"/>
                    <a:ext cx="486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13">
                        <a:moveTo>
                          <a:pt x="36" y="113"/>
                        </a:moveTo>
                        <a:lnTo>
                          <a:pt x="11" y="0"/>
                        </a:lnTo>
                        <a:lnTo>
                          <a:pt x="0" y="9"/>
                        </a:lnTo>
                        <a:lnTo>
                          <a:pt x="23" y="113"/>
                        </a:lnTo>
                        <a:lnTo>
                          <a:pt x="36" y="113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270440" y="2313360"/>
                    <a:ext cx="500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3">
                        <a:moveTo>
                          <a:pt x="37" y="113"/>
                        </a:moveTo>
                        <a:lnTo>
                          <a:pt x="12" y="0"/>
                        </a:lnTo>
                        <a:lnTo>
                          <a:pt x="0" y="9"/>
                        </a:lnTo>
                        <a:lnTo>
                          <a:pt x="24" y="113"/>
                        </a:lnTo>
                        <a:lnTo>
                          <a:pt x="37" y="113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93040" y="2338920"/>
                    <a:ext cx="8280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12">
                        <a:moveTo>
                          <a:pt x="608" y="0"/>
                        </a:moveTo>
                        <a:lnTo>
                          <a:pt x="3" y="0"/>
                        </a:lnTo>
                        <a:lnTo>
                          <a:pt x="0" y="12"/>
                        </a:lnTo>
                        <a:lnTo>
                          <a:pt x="611" y="12"/>
                        </a:lnTo>
                        <a:lnTo>
                          <a:pt x="60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166400" y="2338920"/>
                    <a:ext cx="1645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">
                        <a:moveTo>
                          <a:pt x="122" y="0"/>
                        </a:moveTo>
                        <a:lnTo>
                          <a:pt x="0" y="0"/>
                        </a:lnTo>
                        <a:lnTo>
                          <a:pt x="2" y="12"/>
                        </a:lnTo>
                        <a:lnTo>
                          <a:pt x="123" y="12"/>
                        </a:lnTo>
                        <a:lnTo>
                          <a:pt x="12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175040" y="2382480"/>
                    <a:ext cx="1677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1">
                        <a:moveTo>
                          <a:pt x="124" y="11"/>
                        </a:moveTo>
                        <a:lnTo>
                          <a:pt x="2" y="11"/>
                        </a:lnTo>
                        <a:lnTo>
                          <a:pt x="0" y="0"/>
                        </a:lnTo>
                        <a:lnTo>
                          <a:pt x="121" y="0"/>
                        </a:lnTo>
                        <a:lnTo>
                          <a:pt x="124" y="11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281160" y="2382480"/>
                    <a:ext cx="852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11">
                        <a:moveTo>
                          <a:pt x="627" y="0"/>
                        </a:moveTo>
                        <a:lnTo>
                          <a:pt x="4" y="0"/>
                        </a:lnTo>
                        <a:lnTo>
                          <a:pt x="0" y="11"/>
                        </a:lnTo>
                        <a:lnTo>
                          <a:pt x="629" y="11"/>
                        </a:lnTo>
                        <a:lnTo>
                          <a:pt x="62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67120" y="2435760"/>
                    <a:ext cx="8802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9" h="12">
                        <a:moveTo>
                          <a:pt x="649" y="12"/>
                        </a:moveTo>
                        <a:lnTo>
                          <a:pt x="0" y="12"/>
                        </a:lnTo>
                        <a:lnTo>
                          <a:pt x="3" y="0"/>
                        </a:lnTo>
                        <a:lnTo>
                          <a:pt x="646" y="0"/>
                        </a:lnTo>
                        <a:lnTo>
                          <a:pt x="649" y="12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190520" y="2435760"/>
                    <a:ext cx="166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2">
                        <a:moveTo>
                          <a:pt x="2" y="12"/>
                        </a:moveTo>
                        <a:lnTo>
                          <a:pt x="124" y="12"/>
                        </a:lnTo>
                        <a:lnTo>
                          <a:pt x="122" y="0"/>
                        </a:lnTo>
                        <a:lnTo>
                          <a:pt x="0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303480" y="2293920"/>
                    <a:ext cx="805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5" h="12">
                        <a:moveTo>
                          <a:pt x="592" y="0"/>
                        </a:moveTo>
                        <a:lnTo>
                          <a:pt x="3" y="0"/>
                        </a:lnTo>
                        <a:lnTo>
                          <a:pt x="0" y="12"/>
                        </a:lnTo>
                        <a:lnTo>
                          <a:pt x="595" y="12"/>
                        </a:lnTo>
                        <a:lnTo>
                          <a:pt x="59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081080" y="2264760"/>
                    <a:ext cx="6588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54">
                        <a:moveTo>
                          <a:pt x="13" y="0"/>
                        </a:moveTo>
                        <a:lnTo>
                          <a:pt x="48" y="154"/>
                        </a:lnTo>
                        <a:lnTo>
                          <a:pt x="36" y="15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031040" y="2264760"/>
                    <a:ext cx="223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3" y="0"/>
                        </a:moveTo>
                        <a:lnTo>
                          <a:pt x="17" y="24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980640" y="226476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3" y="0"/>
                        </a:moveTo>
                        <a:lnTo>
                          <a:pt x="16" y="24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930240" y="2264760"/>
                    <a:ext cx="18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1" y="0"/>
                        </a:moveTo>
                        <a:lnTo>
                          <a:pt x="15" y="24"/>
                        </a:lnTo>
                        <a:lnTo>
                          <a:pt x="3" y="24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876240" y="2264760"/>
                    <a:ext cx="223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2" y="0"/>
                        </a:moveTo>
                        <a:lnTo>
                          <a:pt x="16" y="24"/>
                        </a:lnTo>
                        <a:lnTo>
                          <a:pt x="3" y="2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828000" y="2264760"/>
                    <a:ext cx="172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3" y="0"/>
                        </a:moveTo>
                        <a:lnTo>
                          <a:pt x="14" y="24"/>
                        </a:lnTo>
                        <a:lnTo>
                          <a:pt x="1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77600" y="2264760"/>
                    <a:ext cx="17280" cy="2916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27200" y="2264760"/>
                    <a:ext cx="15480" cy="2916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75360" y="2264760"/>
                    <a:ext cx="15120" cy="2916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619200" y="226476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69160" y="2264760"/>
                    <a:ext cx="18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4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6960" y="2264760"/>
                    <a:ext cx="190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65120" y="2264760"/>
                    <a:ext cx="18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4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12920" y="226476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6" y="0"/>
                        </a:moveTo>
                        <a:lnTo>
                          <a:pt x="11" y="24"/>
                        </a:lnTo>
                        <a:lnTo>
                          <a:pt x="0" y="24"/>
                        </a:lnTo>
                        <a:lnTo>
                          <a:pt x="3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58920" y="2264760"/>
                    <a:ext cx="241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7120" y="2264760"/>
                    <a:ext cx="6588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54">
                        <a:moveTo>
                          <a:pt x="0" y="154"/>
                        </a:moveTo>
                        <a:lnTo>
                          <a:pt x="35" y="0"/>
                        </a:lnTo>
                        <a:lnTo>
                          <a:pt x="48" y="0"/>
                        </a:lnTo>
                        <a:lnTo>
                          <a:pt x="12" y="154"/>
                        </a:lnTo>
                        <a:lnTo>
                          <a:pt x="0" y="154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046520" y="230868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5">
                        <a:moveTo>
                          <a:pt x="13" y="0"/>
                        </a:moveTo>
                        <a:lnTo>
                          <a:pt x="16" y="25"/>
                        </a:lnTo>
                        <a:lnTo>
                          <a:pt x="4" y="2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996120" y="230868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5">
                        <a:moveTo>
                          <a:pt x="11" y="0"/>
                        </a:moveTo>
                        <a:lnTo>
                          <a:pt x="16" y="25"/>
                        </a:lnTo>
                        <a:lnTo>
                          <a:pt x="5" y="25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943920" y="230868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5">
                        <a:moveTo>
                          <a:pt x="13" y="0"/>
                        </a:moveTo>
                        <a:lnTo>
                          <a:pt x="17" y="25"/>
                        </a:lnTo>
                        <a:lnTo>
                          <a:pt x="4" y="2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893520" y="2308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5">
                        <a:moveTo>
                          <a:pt x="13" y="0"/>
                        </a:moveTo>
                        <a:lnTo>
                          <a:pt x="15" y="25"/>
                        </a:lnTo>
                        <a:lnTo>
                          <a:pt x="3" y="2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843480" y="2308680"/>
                    <a:ext cx="19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5">
                        <a:moveTo>
                          <a:pt x="14" y="0"/>
                        </a:moveTo>
                        <a:lnTo>
                          <a:pt x="15" y="25"/>
                        </a:lnTo>
                        <a:lnTo>
                          <a:pt x="2" y="2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94880" y="2308680"/>
                    <a:ext cx="15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">
                        <a:moveTo>
                          <a:pt x="11" y="0"/>
                        </a:moveTo>
                        <a:lnTo>
                          <a:pt x="12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43040" y="2308680"/>
                    <a:ext cx="15120" cy="302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90480" y="2308680"/>
                    <a:ext cx="17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5">
                        <a:moveTo>
                          <a:pt x="12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40080" y="2308680"/>
                    <a:ext cx="15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">
                        <a:moveTo>
                          <a:pt x="12" y="0"/>
                        </a:moveTo>
                        <a:lnTo>
                          <a:pt x="11" y="25"/>
                        </a:lnTo>
                        <a:lnTo>
                          <a:pt x="0" y="25"/>
                        </a:lnTo>
                        <a:lnTo>
                          <a:pt x="1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586800" y="230868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5">
                        <a:moveTo>
                          <a:pt x="14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32800" y="2308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5">
                        <a:moveTo>
                          <a:pt x="16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4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80600" y="230868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5">
                        <a:moveTo>
                          <a:pt x="17" y="0"/>
                        </a:moveTo>
                        <a:lnTo>
                          <a:pt x="11" y="25"/>
                        </a:lnTo>
                        <a:lnTo>
                          <a:pt x="0" y="25"/>
                        </a:lnTo>
                        <a:lnTo>
                          <a:pt x="4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28400" y="230868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5">
                        <a:moveTo>
                          <a:pt x="17" y="0"/>
                        </a:moveTo>
                        <a:lnTo>
                          <a:pt x="12" y="25"/>
                        </a:lnTo>
                        <a:lnTo>
                          <a:pt x="0" y="25"/>
                        </a:lnTo>
                        <a:lnTo>
                          <a:pt x="6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76560" y="2308680"/>
                    <a:ext cx="24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">
                        <a:moveTo>
                          <a:pt x="18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5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053360" y="2395440"/>
                    <a:ext cx="273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3">
                        <a:moveTo>
                          <a:pt x="14" y="0"/>
                        </a:moveTo>
                        <a:lnTo>
                          <a:pt x="20" y="33"/>
                        </a:lnTo>
                        <a:lnTo>
                          <a:pt x="8" y="33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949320" y="2395440"/>
                    <a:ext cx="327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18" y="0"/>
                        </a:moveTo>
                        <a:lnTo>
                          <a:pt x="24" y="33"/>
                        </a:lnTo>
                        <a:lnTo>
                          <a:pt x="6" y="33"/>
                        </a:lnTo>
                        <a:lnTo>
                          <a:pt x="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864000" y="2395440"/>
                    <a:ext cx="241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3">
                        <a:moveTo>
                          <a:pt x="13" y="0"/>
                        </a:moveTo>
                        <a:lnTo>
                          <a:pt x="18" y="33"/>
                        </a:lnTo>
                        <a:lnTo>
                          <a:pt x="5" y="33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56480" y="2395440"/>
                    <a:ext cx="241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3">
                        <a:moveTo>
                          <a:pt x="18" y="0"/>
                        </a:moveTo>
                        <a:lnTo>
                          <a:pt x="11" y="33"/>
                        </a:lnTo>
                        <a:lnTo>
                          <a:pt x="0" y="33"/>
                        </a:lnTo>
                        <a:lnTo>
                          <a:pt x="5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50280" y="2395440"/>
                    <a:ext cx="25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3">
                        <a:moveTo>
                          <a:pt x="19" y="0"/>
                        </a:moveTo>
                        <a:lnTo>
                          <a:pt x="11" y="33"/>
                        </a:lnTo>
                        <a:lnTo>
                          <a:pt x="0" y="33"/>
                        </a:lnTo>
                        <a:lnTo>
                          <a:pt x="7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060560" y="235188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14" y="0"/>
                        </a:moveTo>
                        <a:lnTo>
                          <a:pt x="19" y="24"/>
                        </a:lnTo>
                        <a:lnTo>
                          <a:pt x="5" y="24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010160" y="235188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4">
                        <a:moveTo>
                          <a:pt x="12" y="0"/>
                        </a:moveTo>
                        <a:lnTo>
                          <a:pt x="18" y="24"/>
                        </a:lnTo>
                        <a:lnTo>
                          <a:pt x="5" y="2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957960" y="235188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2" y="0"/>
                        </a:moveTo>
                        <a:lnTo>
                          <a:pt x="16" y="24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907560" y="2351880"/>
                    <a:ext cx="19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3" y="0"/>
                        </a:moveTo>
                        <a:lnTo>
                          <a:pt x="15" y="24"/>
                        </a:lnTo>
                        <a:lnTo>
                          <a:pt x="2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853920" y="235188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3" y="0"/>
                        </a:moveTo>
                        <a:lnTo>
                          <a:pt x="16" y="24"/>
                        </a:lnTo>
                        <a:lnTo>
                          <a:pt x="2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07120" y="2351880"/>
                    <a:ext cx="15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4">
                        <a:moveTo>
                          <a:pt x="11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54560" y="2351880"/>
                    <a:ext cx="15480" cy="302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04880" y="2351880"/>
                    <a:ext cx="17280" cy="302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50880" y="2351880"/>
                    <a:ext cx="17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4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1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598680" y="235188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4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545040" y="235188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6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3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94640" y="235188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1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40640" y="235188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88440" y="2351880"/>
                    <a:ext cx="24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4">
                        <a:moveTo>
                          <a:pt x="18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397440" y="1591200"/>
                  <a:ext cx="760320" cy="404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46240" y="1591200"/>
                  <a:ext cx="106092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58280" y="1607760"/>
                <a:ext cx="6732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173520" y="2574360"/>
              <a:ext cx="12744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idation VB Scri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86200" y="5029200"/>
            <a:ext cx="1249920" cy="1005480"/>
            <a:chOff x="3886200" y="5029200"/>
            <a:chExt cx="1249920" cy="1005480"/>
          </a:xfrm>
        </p:grpSpPr>
        <p:grpSp>
          <p:nvGrpSpPr>
            <p:cNvPr id="211" name=""/>
            <p:cNvGrpSpPr/>
            <p:nvPr/>
          </p:nvGrpSpPr>
          <p:grpSpPr>
            <a:xfrm>
              <a:off x="3886200" y="5029200"/>
              <a:ext cx="1249920" cy="1005480"/>
              <a:chOff x="3886200" y="5029200"/>
              <a:chExt cx="1249920" cy="1005480"/>
            </a:xfrm>
          </p:grpSpPr>
          <p:sp>
            <p:nvSpPr>
              <p:cNvPr id="212" name=""/>
              <p:cNvSpPr/>
              <p:nvPr/>
            </p:nvSpPr>
            <p:spPr>
              <a:xfrm>
                <a:off x="4058280" y="5029200"/>
                <a:ext cx="880560" cy="577080"/>
              </a:xfrm>
              <a:custGeom>
                <a:avLst/>
                <a:gdLst/>
                <a:ahLst/>
                <a:rect l="l" t="t" r="r" b="b"/>
                <a:pathLst>
                  <a:path w="649" h="479">
                    <a:moveTo>
                      <a:pt x="55" y="479"/>
                    </a:moveTo>
                    <a:lnTo>
                      <a:pt x="41" y="478"/>
                    </a:lnTo>
                    <a:lnTo>
                      <a:pt x="30" y="475"/>
                    </a:lnTo>
                    <a:lnTo>
                      <a:pt x="21" y="470"/>
                    </a:lnTo>
                    <a:lnTo>
                      <a:pt x="13" y="464"/>
                    </a:lnTo>
                    <a:lnTo>
                      <a:pt x="7" y="456"/>
                    </a:lnTo>
                    <a:lnTo>
                      <a:pt x="3" y="447"/>
                    </a:lnTo>
                    <a:lnTo>
                      <a:pt x="0" y="436"/>
                    </a:lnTo>
                    <a:lnTo>
                      <a:pt x="0" y="424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7" y="23"/>
                    </a:lnTo>
                    <a:lnTo>
                      <a:pt x="13" y="15"/>
                    </a:lnTo>
                    <a:lnTo>
                      <a:pt x="21" y="9"/>
                    </a:lnTo>
                    <a:lnTo>
                      <a:pt x="30" y="3"/>
                    </a:lnTo>
                    <a:lnTo>
                      <a:pt x="41" y="1"/>
                    </a:lnTo>
                    <a:lnTo>
                      <a:pt x="55" y="0"/>
                    </a:lnTo>
                    <a:lnTo>
                      <a:pt x="594" y="0"/>
                    </a:lnTo>
                    <a:lnTo>
                      <a:pt x="607" y="1"/>
                    </a:lnTo>
                    <a:lnTo>
                      <a:pt x="618" y="3"/>
                    </a:lnTo>
                    <a:lnTo>
                      <a:pt x="628" y="9"/>
                    </a:lnTo>
                    <a:lnTo>
                      <a:pt x="636" y="15"/>
                    </a:lnTo>
                    <a:lnTo>
                      <a:pt x="641" y="23"/>
                    </a:lnTo>
                    <a:lnTo>
                      <a:pt x="645" y="32"/>
                    </a:lnTo>
                    <a:lnTo>
                      <a:pt x="648" y="43"/>
                    </a:lnTo>
                    <a:lnTo>
                      <a:pt x="649" y="55"/>
                    </a:lnTo>
                    <a:lnTo>
                      <a:pt x="649" y="424"/>
                    </a:lnTo>
                    <a:lnTo>
                      <a:pt x="648" y="436"/>
                    </a:lnTo>
                    <a:lnTo>
                      <a:pt x="645" y="447"/>
                    </a:lnTo>
                    <a:lnTo>
                      <a:pt x="641" y="456"/>
                    </a:lnTo>
                    <a:lnTo>
                      <a:pt x="636" y="464"/>
                    </a:lnTo>
                    <a:lnTo>
                      <a:pt x="628" y="470"/>
                    </a:lnTo>
                    <a:lnTo>
                      <a:pt x="618" y="475"/>
                    </a:lnTo>
                    <a:lnTo>
                      <a:pt x="607" y="478"/>
                    </a:lnTo>
                    <a:lnTo>
                      <a:pt x="594" y="479"/>
                    </a:lnTo>
                    <a:lnTo>
                      <a:pt x="55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77000" y="5045040"/>
                <a:ext cx="840600" cy="543240"/>
              </a:xfrm>
              <a:custGeom>
                <a:avLst/>
                <a:gdLst/>
                <a:ahLst/>
                <a:rect l="l" t="t" r="r" b="b"/>
                <a:pathLst>
                  <a:path w="621" h="450">
                    <a:moveTo>
                      <a:pt x="0" y="406"/>
                    </a:moveTo>
                    <a:lnTo>
                      <a:pt x="0" y="415"/>
                    </a:lnTo>
                    <a:lnTo>
                      <a:pt x="3" y="424"/>
                    </a:lnTo>
                    <a:lnTo>
                      <a:pt x="6" y="432"/>
                    </a:lnTo>
                    <a:lnTo>
                      <a:pt x="11" y="438"/>
                    </a:lnTo>
                    <a:lnTo>
                      <a:pt x="16" y="442"/>
                    </a:lnTo>
                    <a:lnTo>
                      <a:pt x="24" y="446"/>
                    </a:lnTo>
                    <a:lnTo>
                      <a:pt x="32" y="450"/>
                    </a:lnTo>
                    <a:lnTo>
                      <a:pt x="44" y="450"/>
                    </a:lnTo>
                    <a:lnTo>
                      <a:pt x="576" y="450"/>
                    </a:lnTo>
                    <a:lnTo>
                      <a:pt x="588" y="450"/>
                    </a:lnTo>
                    <a:lnTo>
                      <a:pt x="596" y="446"/>
                    </a:lnTo>
                    <a:lnTo>
                      <a:pt x="604" y="442"/>
                    </a:lnTo>
                    <a:lnTo>
                      <a:pt x="611" y="438"/>
                    </a:lnTo>
                    <a:lnTo>
                      <a:pt x="614" y="432"/>
                    </a:lnTo>
                    <a:lnTo>
                      <a:pt x="618" y="424"/>
                    </a:lnTo>
                    <a:lnTo>
                      <a:pt x="620" y="415"/>
                    </a:lnTo>
                    <a:lnTo>
                      <a:pt x="621" y="406"/>
                    </a:lnTo>
                    <a:lnTo>
                      <a:pt x="621" y="45"/>
                    </a:lnTo>
                    <a:lnTo>
                      <a:pt x="620" y="36"/>
                    </a:lnTo>
                    <a:lnTo>
                      <a:pt x="618" y="27"/>
                    </a:lnTo>
                    <a:lnTo>
                      <a:pt x="614" y="19"/>
                    </a:lnTo>
                    <a:lnTo>
                      <a:pt x="611" y="12"/>
                    </a:lnTo>
                    <a:lnTo>
                      <a:pt x="604" y="7"/>
                    </a:lnTo>
                    <a:lnTo>
                      <a:pt x="596" y="4"/>
                    </a:lnTo>
                    <a:lnTo>
                      <a:pt x="588" y="0"/>
                    </a:lnTo>
                    <a:lnTo>
                      <a:pt x="576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406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79000" y="5559480"/>
                <a:ext cx="74520" cy="20520"/>
              </a:xfrm>
              <a:prstGeom prst="rect">
                <a:avLst/>
              </a:prstGeom>
              <a:solidFill>
                <a:srgbClr val="d8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886200" y="5606280"/>
                <a:ext cx="1249920" cy="428400"/>
                <a:chOff x="3886200" y="5606280"/>
                <a:chExt cx="1249920" cy="4284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063320" y="5694480"/>
                  <a:ext cx="11880" cy="338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86200" y="5606280"/>
                  <a:ext cx="1249920" cy="428400"/>
                </a:xfrm>
                <a:custGeom>
                  <a:avLst/>
                  <a:gdLst/>
                  <a:ahLst/>
                  <a:rect l="l" t="t" r="r" b="b"/>
                  <a:pathLst>
                    <a:path w="923" h="354">
                      <a:moveTo>
                        <a:pt x="923" y="293"/>
                      </a:moveTo>
                      <a:lnTo>
                        <a:pt x="878" y="100"/>
                      </a:lnTo>
                      <a:lnTo>
                        <a:pt x="767" y="100"/>
                      </a:lnTo>
                      <a:lnTo>
                        <a:pt x="767" y="51"/>
                      </a:lnTo>
                      <a:lnTo>
                        <a:pt x="594" y="51"/>
                      </a:lnTo>
                      <a:lnTo>
                        <a:pt x="594" y="13"/>
                      </a:lnTo>
                      <a:lnTo>
                        <a:pt x="552" y="13"/>
                      </a:lnTo>
                      <a:lnTo>
                        <a:pt x="552" y="0"/>
                      </a:lnTo>
                      <a:lnTo>
                        <a:pt x="349" y="0"/>
                      </a:lnTo>
                      <a:lnTo>
                        <a:pt x="349" y="13"/>
                      </a:lnTo>
                      <a:lnTo>
                        <a:pt x="308" y="13"/>
                      </a:lnTo>
                      <a:lnTo>
                        <a:pt x="308" y="51"/>
                      </a:lnTo>
                      <a:lnTo>
                        <a:pt x="135" y="51"/>
                      </a:lnTo>
                      <a:lnTo>
                        <a:pt x="135" y="100"/>
                      </a:lnTo>
                      <a:lnTo>
                        <a:pt x="45" y="100"/>
                      </a:lnTo>
                      <a:lnTo>
                        <a:pt x="0" y="293"/>
                      </a:lnTo>
                      <a:lnTo>
                        <a:pt x="27" y="354"/>
                      </a:lnTo>
                      <a:lnTo>
                        <a:pt x="898" y="354"/>
                      </a:lnTo>
                      <a:lnTo>
                        <a:pt x="923" y="2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316760" y="5606280"/>
                  <a:ext cx="361080" cy="62640"/>
                </a:xfrm>
                <a:custGeom>
                  <a:avLst/>
                  <a:gdLst/>
                  <a:ahLst/>
                  <a:rect l="l" t="t" r="r" b="b"/>
                  <a:pathLst>
                    <a:path w="266" h="51">
                      <a:moveTo>
                        <a:pt x="266" y="51"/>
                      </a:moveTo>
                      <a:lnTo>
                        <a:pt x="266" y="23"/>
                      </a:lnTo>
                      <a:lnTo>
                        <a:pt x="223" y="23"/>
                      </a:lnTo>
                      <a:lnTo>
                        <a:pt x="223" y="0"/>
                      </a:lnTo>
                      <a:lnTo>
                        <a:pt x="43" y="0"/>
                      </a:lnTo>
                      <a:lnTo>
                        <a:pt x="43" y="23"/>
                      </a:lnTo>
                      <a:lnTo>
                        <a:pt x="0" y="23"/>
                      </a:lnTo>
                      <a:lnTo>
                        <a:pt x="0" y="51"/>
                      </a:lnTo>
                      <a:lnTo>
                        <a:pt x="266" y="51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084200" y="5680440"/>
                  <a:ext cx="822960" cy="48240"/>
                </a:xfrm>
                <a:custGeom>
                  <a:avLst/>
                  <a:gdLst/>
                  <a:ahLst/>
                  <a:rect l="l" t="t" r="r" b="b"/>
                  <a:pathLst>
                    <a:path w="607" h="40">
                      <a:moveTo>
                        <a:pt x="576" y="40"/>
                      </a:moveTo>
                      <a:lnTo>
                        <a:pt x="607" y="40"/>
                      </a:lnTo>
                      <a:lnTo>
                        <a:pt x="607" y="0"/>
                      </a:ln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341" y="40"/>
                      </a:lnTo>
                      <a:lnTo>
                        <a:pt x="341" y="11"/>
                      </a:lnTo>
                      <a:lnTo>
                        <a:pt x="576" y="11"/>
                      </a:lnTo>
                      <a:lnTo>
                        <a:pt x="576" y="40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10320" y="5743080"/>
                  <a:ext cx="1204920" cy="244800"/>
                </a:xfrm>
                <a:custGeom>
                  <a:avLst/>
                  <a:gdLst/>
                  <a:ahLst/>
                  <a:rect l="l" t="t" r="r" b="b"/>
                  <a:pathLst>
                    <a:path w="889" h="204">
                      <a:moveTo>
                        <a:pt x="889" y="181"/>
                      </a:moveTo>
                      <a:lnTo>
                        <a:pt x="848" y="0"/>
                      </a:lnTo>
                      <a:lnTo>
                        <a:pt x="41" y="0"/>
                      </a:lnTo>
                      <a:lnTo>
                        <a:pt x="0" y="181"/>
                      </a:lnTo>
                      <a:lnTo>
                        <a:pt x="11" y="204"/>
                      </a:lnTo>
                      <a:lnTo>
                        <a:pt x="878" y="204"/>
                      </a:lnTo>
                      <a:lnTo>
                        <a:pt x="889" y="181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113720" y="5694480"/>
                  <a:ext cx="11880" cy="338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155480" y="5694480"/>
                  <a:ext cx="11880" cy="338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236840" y="5694480"/>
                  <a:ext cx="10440" cy="338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875840" y="5818680"/>
                  <a:ext cx="50400" cy="138240"/>
                </a:xfrm>
                <a:custGeom>
                  <a:avLst/>
                  <a:gdLst/>
                  <a:ahLst/>
                  <a:rect l="l" t="t" r="r" b="b"/>
                  <a:pathLst>
                    <a:path w="37" h="113">
                      <a:moveTo>
                        <a:pt x="37" y="113"/>
                      </a:move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24" y="113"/>
                      </a:lnTo>
                      <a:lnTo>
                        <a:pt x="37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33080" y="5818680"/>
                  <a:ext cx="48600" cy="138240"/>
                </a:xfrm>
                <a:custGeom>
                  <a:avLst/>
                  <a:gdLst/>
                  <a:ahLst/>
                  <a:rect l="l" t="t" r="r" b="b"/>
                  <a:pathLst>
                    <a:path w="36" h="113">
                      <a:moveTo>
                        <a:pt x="36" y="113"/>
                      </a:move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23" y="113"/>
                      </a:lnTo>
                      <a:lnTo>
                        <a:pt x="36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987080" y="5818680"/>
                  <a:ext cx="50400" cy="138240"/>
                </a:xfrm>
                <a:custGeom>
                  <a:avLst/>
                  <a:gdLst/>
                  <a:ahLst/>
                  <a:rect l="l" t="t" r="r" b="b"/>
                  <a:pathLst>
                    <a:path w="37" h="113">
                      <a:moveTo>
                        <a:pt x="37" y="113"/>
                      </a:moveTo>
                      <a:lnTo>
                        <a:pt x="12" y="0"/>
                      </a:lnTo>
                      <a:lnTo>
                        <a:pt x="0" y="9"/>
                      </a:lnTo>
                      <a:lnTo>
                        <a:pt x="24" y="113"/>
                      </a:lnTo>
                      <a:lnTo>
                        <a:pt x="37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009320" y="5844240"/>
                  <a:ext cx="828360" cy="12960"/>
                </a:xfrm>
                <a:custGeom>
                  <a:avLst/>
                  <a:gdLst/>
                  <a:ahLst/>
                  <a:rect l="l" t="t" r="r" b="b"/>
                  <a:pathLst>
                    <a:path w="611" h="12">
                      <a:moveTo>
                        <a:pt x="608" y="0"/>
                      </a:move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611" y="12"/>
                      </a:lnTo>
                      <a:lnTo>
                        <a:pt x="60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883040" y="5844240"/>
                  <a:ext cx="164520" cy="12960"/>
                </a:xfrm>
                <a:custGeom>
                  <a:avLst/>
                  <a:gdLst/>
                  <a:ahLst/>
                  <a:rect l="l" t="t" r="r" b="b"/>
                  <a:pathLst>
                    <a:path w="123" h="12">
                      <a:moveTo>
                        <a:pt x="122" y="0"/>
                      </a:move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123" y="12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891680" y="5887800"/>
                  <a:ext cx="168120" cy="11160"/>
                </a:xfrm>
                <a:custGeom>
                  <a:avLst/>
                  <a:gdLst/>
                  <a:ahLst/>
                  <a:rect l="l" t="t" r="r" b="b"/>
                  <a:pathLst>
                    <a:path w="124" h="11">
                      <a:moveTo>
                        <a:pt x="124" y="11"/>
                      </a:moveTo>
                      <a:lnTo>
                        <a:pt x="2" y="11"/>
                      </a:ln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4" y="11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97440" y="5887800"/>
                  <a:ext cx="852480" cy="11160"/>
                </a:xfrm>
                <a:custGeom>
                  <a:avLst/>
                  <a:gdLst/>
                  <a:ahLst/>
                  <a:rect l="l" t="t" r="r" b="b"/>
                  <a:pathLst>
                    <a:path w="629" h="11">
                      <a:moveTo>
                        <a:pt x="627" y="0"/>
                      </a:move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629" y="11"/>
                      </a:lnTo>
                      <a:lnTo>
                        <a:pt x="62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83400" y="5941440"/>
                  <a:ext cx="880200" cy="15840"/>
                </a:xfrm>
                <a:custGeom>
                  <a:avLst/>
                  <a:gdLst/>
                  <a:ahLst/>
                  <a:rect l="l" t="t" r="r" b="b"/>
                  <a:pathLst>
                    <a:path w="649" h="12">
                      <a:moveTo>
                        <a:pt x="649" y="12"/>
                      </a:moveTo>
                      <a:lnTo>
                        <a:pt x="0" y="12"/>
                      </a:lnTo>
                      <a:lnTo>
                        <a:pt x="3" y="0"/>
                      </a:lnTo>
                      <a:lnTo>
                        <a:pt x="646" y="0"/>
                      </a:lnTo>
                      <a:lnTo>
                        <a:pt x="649" y="1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07160" y="5941440"/>
                  <a:ext cx="166680" cy="15840"/>
                </a:xfrm>
                <a:custGeom>
                  <a:avLst/>
                  <a:gdLst/>
                  <a:ahLst/>
                  <a:rect l="l" t="t" r="r" b="b"/>
                  <a:pathLst>
                    <a:path w="124" h="12">
                      <a:moveTo>
                        <a:pt x="2" y="12"/>
                      </a:moveTo>
                      <a:lnTo>
                        <a:pt x="124" y="12"/>
                      </a:lnTo>
                      <a:lnTo>
                        <a:pt x="122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19760" y="5799600"/>
                  <a:ext cx="805320" cy="14400"/>
                </a:xfrm>
                <a:custGeom>
                  <a:avLst/>
                  <a:gdLst/>
                  <a:ahLst/>
                  <a:rect l="l" t="t" r="r" b="b"/>
                  <a:pathLst>
                    <a:path w="595" h="12">
                      <a:moveTo>
                        <a:pt x="592" y="0"/>
                      </a:move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595" y="12"/>
                      </a:lnTo>
                      <a:lnTo>
                        <a:pt x="59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797720" y="5770080"/>
                  <a:ext cx="65880" cy="186840"/>
                </a:xfrm>
                <a:custGeom>
                  <a:avLst/>
                  <a:gdLst/>
                  <a:ahLst/>
                  <a:rect l="l" t="t" r="r" b="b"/>
                  <a:pathLst>
                    <a:path w="48" h="154">
                      <a:moveTo>
                        <a:pt x="13" y="0"/>
                      </a:moveTo>
                      <a:lnTo>
                        <a:pt x="48" y="154"/>
                      </a:lnTo>
                      <a:lnTo>
                        <a:pt x="36" y="15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47680" y="5770080"/>
                  <a:ext cx="22320" cy="29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3" y="0"/>
                      </a:moveTo>
                      <a:lnTo>
                        <a:pt x="17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697280" y="5770080"/>
                  <a:ext cx="20520" cy="291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3" y="0"/>
                      </a:moveTo>
                      <a:lnTo>
                        <a:pt x="16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46880" y="5770080"/>
                  <a:ext cx="18720" cy="291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1" y="0"/>
                      </a:moveTo>
                      <a:lnTo>
                        <a:pt x="15" y="24"/>
                      </a:lnTo>
                      <a:lnTo>
                        <a:pt x="3" y="24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592880" y="5770080"/>
                  <a:ext cx="22320" cy="291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2" y="0"/>
                      </a:moveTo>
                      <a:lnTo>
                        <a:pt x="16" y="24"/>
                      </a:lnTo>
                      <a:lnTo>
                        <a:pt x="3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544280" y="5770080"/>
                  <a:ext cx="17280" cy="291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3" y="0"/>
                      </a:moveTo>
                      <a:lnTo>
                        <a:pt x="14" y="24"/>
                      </a:lnTo>
                      <a:lnTo>
                        <a:pt x="1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493880" y="5770080"/>
                  <a:ext cx="17280" cy="291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443480" y="5770080"/>
                  <a:ext cx="15480" cy="291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391640" y="5770080"/>
                  <a:ext cx="15120" cy="291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335840" y="5770080"/>
                  <a:ext cx="20520" cy="291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285800" y="5770080"/>
                  <a:ext cx="18720" cy="291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233240" y="5770080"/>
                  <a:ext cx="19080" cy="291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181400" y="5770080"/>
                  <a:ext cx="18720" cy="291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4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29200" y="5770080"/>
                  <a:ext cx="20520" cy="291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0"/>
                      </a:moveTo>
                      <a:lnTo>
                        <a:pt x="11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75560" y="5770080"/>
                  <a:ext cx="24120" cy="291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83400" y="5770080"/>
                  <a:ext cx="65880" cy="186840"/>
                </a:xfrm>
                <a:custGeom>
                  <a:avLst/>
                  <a:gdLst/>
                  <a:ahLst/>
                  <a:rect l="l" t="t" r="r" b="b"/>
                  <a:pathLst>
                    <a:path w="48" h="154">
                      <a:moveTo>
                        <a:pt x="0" y="154"/>
                      </a:moveTo>
                      <a:lnTo>
                        <a:pt x="35" y="0"/>
                      </a:lnTo>
                      <a:lnTo>
                        <a:pt x="48" y="0"/>
                      </a:lnTo>
                      <a:lnTo>
                        <a:pt x="12" y="154"/>
                      </a:lnTo>
                      <a:lnTo>
                        <a:pt x="0" y="154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62800" y="5814000"/>
                  <a:ext cx="22680" cy="3024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lnTo>
                        <a:pt x="16" y="25"/>
                      </a:lnTo>
                      <a:lnTo>
                        <a:pt x="4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12400" y="5814000"/>
                  <a:ext cx="22680" cy="3024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1" y="0"/>
                      </a:moveTo>
                      <a:lnTo>
                        <a:pt x="16" y="25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660560" y="5814000"/>
                  <a:ext cx="22320" cy="3024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3" y="0"/>
                      </a:moveTo>
                      <a:lnTo>
                        <a:pt x="17" y="25"/>
                      </a:lnTo>
                      <a:lnTo>
                        <a:pt x="4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10160" y="5814000"/>
                  <a:ext cx="20520" cy="3024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3" y="0"/>
                      </a:moveTo>
                      <a:lnTo>
                        <a:pt x="15" y="25"/>
                      </a:lnTo>
                      <a:lnTo>
                        <a:pt x="3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559760" y="58140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0"/>
                      </a:moveTo>
                      <a:lnTo>
                        <a:pt x="15" y="25"/>
                      </a:lnTo>
                      <a:lnTo>
                        <a:pt x="2" y="25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11520" y="5814000"/>
                  <a:ext cx="15480" cy="3024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1" y="0"/>
                      </a:move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459320" y="5814000"/>
                  <a:ext cx="15120" cy="302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407120" y="581400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3" h="25">
                      <a:moveTo>
                        <a:pt x="12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356720" y="5814000"/>
                  <a:ext cx="15480" cy="3024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2" y="0"/>
                      </a:move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303080" y="5814000"/>
                  <a:ext cx="18720" cy="3024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4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249080" y="5814000"/>
                  <a:ext cx="20520" cy="3024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6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97240" y="5814000"/>
                  <a:ext cx="23760" cy="3024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0"/>
                      </a:move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4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144680" y="5814000"/>
                  <a:ext cx="22680" cy="3024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0"/>
                      </a:move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6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092840" y="5814000"/>
                  <a:ext cx="24120" cy="3024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8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70000" y="5901120"/>
                  <a:ext cx="27360" cy="39960"/>
                </a:xfrm>
                <a:custGeom>
                  <a:avLst/>
                  <a:gdLst/>
                  <a:ahLst/>
                  <a:rect l="l" t="t" r="r" b="b"/>
                  <a:pathLst>
                    <a:path w="20" h="33">
                      <a:moveTo>
                        <a:pt x="14" y="0"/>
                      </a:moveTo>
                      <a:lnTo>
                        <a:pt x="20" y="33"/>
                      </a:lnTo>
                      <a:lnTo>
                        <a:pt x="8" y="33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665600" y="5901120"/>
                  <a:ext cx="32760" cy="3996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8" y="0"/>
                      </a:moveTo>
                      <a:lnTo>
                        <a:pt x="24" y="33"/>
                      </a:lnTo>
                      <a:lnTo>
                        <a:pt x="6" y="33"/>
                      </a:lnTo>
                      <a:lnTo>
                        <a:pt x="0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580640" y="5901120"/>
                  <a:ext cx="24120" cy="39960"/>
                </a:xfrm>
                <a:custGeom>
                  <a:avLst/>
                  <a:gdLst/>
                  <a:ahLst/>
                  <a:rect l="l" t="t" r="r" b="b"/>
                  <a:pathLst>
                    <a:path w="18" h="33">
                      <a:moveTo>
                        <a:pt x="13" y="0"/>
                      </a:moveTo>
                      <a:lnTo>
                        <a:pt x="18" y="33"/>
                      </a:lnTo>
                      <a:lnTo>
                        <a:pt x="5" y="33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172760" y="5901120"/>
                  <a:ext cx="24120" cy="39960"/>
                </a:xfrm>
                <a:custGeom>
                  <a:avLst/>
                  <a:gdLst/>
                  <a:ahLst/>
                  <a:rect l="l" t="t" r="r" b="b"/>
                  <a:pathLst>
                    <a:path w="18" h="33">
                      <a:moveTo>
                        <a:pt x="18" y="0"/>
                      </a:moveTo>
                      <a:lnTo>
                        <a:pt x="11" y="33"/>
                      </a:lnTo>
                      <a:lnTo>
                        <a:pt x="0" y="33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066920" y="5901120"/>
                  <a:ext cx="25920" cy="39960"/>
                </a:xfrm>
                <a:custGeom>
                  <a:avLst/>
                  <a:gdLst/>
                  <a:ahLst/>
                  <a:rect l="l" t="t" r="r" b="b"/>
                  <a:pathLst>
                    <a:path w="19" h="33">
                      <a:moveTo>
                        <a:pt x="19" y="0"/>
                      </a:moveTo>
                      <a:lnTo>
                        <a:pt x="11" y="33"/>
                      </a:lnTo>
                      <a:lnTo>
                        <a:pt x="0" y="33"/>
                      </a:lnTo>
                      <a:lnTo>
                        <a:pt x="7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777200" y="5857560"/>
                  <a:ext cx="23760" cy="3024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4" y="0"/>
                      </a:moveTo>
                      <a:lnTo>
                        <a:pt x="19" y="24"/>
                      </a:lnTo>
                      <a:lnTo>
                        <a:pt x="5" y="24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726800" y="5857560"/>
                  <a:ext cx="23760" cy="3024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2" y="0"/>
                      </a:moveTo>
                      <a:lnTo>
                        <a:pt x="18" y="24"/>
                      </a:lnTo>
                      <a:lnTo>
                        <a:pt x="5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674240" y="5857560"/>
                  <a:ext cx="22680" cy="302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2" y="0"/>
                      </a:moveTo>
                      <a:lnTo>
                        <a:pt x="16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623840" y="58575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3" y="0"/>
                      </a:moveTo>
                      <a:lnTo>
                        <a:pt x="15" y="24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570560" y="5857560"/>
                  <a:ext cx="22320" cy="302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3" y="0"/>
                      </a:moveTo>
                      <a:lnTo>
                        <a:pt x="16" y="24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523400" y="5857560"/>
                  <a:ext cx="15120" cy="30240"/>
                </a:xfrm>
                <a:custGeom>
                  <a:avLst/>
                  <a:gdLst/>
                  <a:ahLst/>
                  <a:rect l="l" t="t" r="r" b="b"/>
                  <a:pathLst>
                    <a:path w="12" h="24">
                      <a:moveTo>
                        <a:pt x="11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471200" y="5857560"/>
                  <a:ext cx="15480" cy="302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421160" y="5857560"/>
                  <a:ext cx="17280" cy="302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367160" y="585756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315320" y="5857560"/>
                  <a:ext cx="18720" cy="302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261320" y="5857560"/>
                  <a:ext cx="22320" cy="302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210920" y="5857560"/>
                  <a:ext cx="18720" cy="302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1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56920" y="5857560"/>
                  <a:ext cx="22680" cy="302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105080" y="5857560"/>
                  <a:ext cx="24120" cy="3024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4113720" y="5096520"/>
                <a:ext cx="760320" cy="404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62520" y="5096520"/>
                <a:ext cx="10612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4174560" y="5113080"/>
              <a:ext cx="6735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200400" y="6080040"/>
            <a:ext cx="24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ML Export VB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taurant Instance Data Mainte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4080" y="5235480"/>
            <a:ext cx="1535400" cy="1166760"/>
            <a:chOff x="64080" y="5235480"/>
            <a:chExt cx="1535400" cy="1166760"/>
          </a:xfrm>
        </p:grpSpPr>
        <p:sp>
          <p:nvSpPr>
            <p:cNvPr id="289" name=""/>
            <p:cNvSpPr/>
            <p:nvPr/>
          </p:nvSpPr>
          <p:spPr>
            <a:xfrm>
              <a:off x="477720" y="5235480"/>
              <a:ext cx="685800" cy="79848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080" y="60339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aurant 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321680" y="3768840"/>
            <a:ext cx="1363320" cy="1870920"/>
            <a:chOff x="7321680" y="3768840"/>
            <a:chExt cx="1363320" cy="1870920"/>
          </a:xfrm>
        </p:grpSpPr>
        <p:sp>
          <p:nvSpPr>
            <p:cNvPr id="292" name=""/>
            <p:cNvSpPr/>
            <p:nvPr/>
          </p:nvSpPr>
          <p:spPr>
            <a:xfrm>
              <a:off x="7696080" y="3768840"/>
              <a:ext cx="685800" cy="990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21680" y="4722840"/>
              <a:ext cx="1363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ML+O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aura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tif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4" name=""/>
          <p:cNvCxnSpPr>
            <a:stCxn id="209" idx="2"/>
            <a:endCxn id="289" idx="1"/>
          </p:cNvCxnSpPr>
          <p:nvPr/>
        </p:nvCxnSpPr>
        <p:spPr>
          <a:xfrm flipH="1" rot="16200000">
            <a:off x="-103320" y="4312080"/>
            <a:ext cx="1837440" cy="104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0" idx="3"/>
          </p:cNvCxnSpPr>
          <p:nvPr/>
        </p:nvCxnSpPr>
        <p:spPr>
          <a:xfrm>
            <a:off x="1599840" y="6217920"/>
            <a:ext cx="160092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6" idx="3"/>
            <a:endCxn id="293" idx="2"/>
          </p:cNvCxnSpPr>
          <p:nvPr/>
        </p:nvCxnSpPr>
        <p:spPr>
          <a:xfrm flipV="1">
            <a:off x="5622480" y="5638320"/>
            <a:ext cx="2382120" cy="5803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7321680" y="1219320"/>
            <a:ext cx="1363320" cy="1904760"/>
            <a:chOff x="7321680" y="1219320"/>
            <a:chExt cx="1363320" cy="1904760"/>
          </a:xfrm>
        </p:grpSpPr>
        <p:sp>
          <p:nvSpPr>
            <p:cNvPr id="298" name=""/>
            <p:cNvSpPr/>
            <p:nvPr/>
          </p:nvSpPr>
          <p:spPr>
            <a:xfrm>
              <a:off x="7696080" y="2133720"/>
              <a:ext cx="685800" cy="99036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1680" y="1219320"/>
              <a:ext cx="1363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ML+O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aura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0" name=""/>
          <p:cNvCxnSpPr>
            <a:stCxn id="292" idx="1"/>
            <a:endCxn id="298" idx="3"/>
          </p:cNvCxnSpPr>
          <p:nvPr/>
        </p:nvCxnSpPr>
        <p:spPr>
          <a:xfrm flipV="1">
            <a:off x="8038800" y="3123360"/>
            <a:ext cx="1080" cy="6454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301" name=""/>
          <p:cNvCxnSpPr>
            <a:endCxn id="209" idx="3"/>
          </p:cNvCxnSpPr>
          <p:nvPr/>
        </p:nvCxnSpPr>
        <p:spPr>
          <a:xfrm flipV="1" rot="10800000">
            <a:off x="1447200" y="2979360"/>
            <a:ext cx="1056240" cy="8640"/>
          </a:xfrm>
          <a:prstGeom prst="bentConnector3">
            <a:avLst>
              <a:gd name="adj1" fmla="val 4991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693880" y="1536840"/>
            <a:ext cx="4405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inerary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47840" y="2766960"/>
            <a:ext cx="4889520" cy="3552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49160" y="1359000"/>
            <a:ext cx="7772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generated by trave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abre system web itinerary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antic 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49160" y="1359000"/>
            <a:ext cx="689616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ed using “postal code” data propert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inerary ontology’s hotel location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aurant ontology’s location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performed by custom application that restricts restaurant location search based on result of hotel’s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025880" y="4387680"/>
            <a:ext cx="139068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584680" y="1168560"/>
            <a:ext cx="1231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arch Cod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utput Forma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200" y="2523960"/>
            <a:ext cx="171432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DAML artifa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4648320"/>
            <a:ext cx="26542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DAML artifact constru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rom Travel Ag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ites, e.g., Sab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8400" y="3300480"/>
            <a:ext cx="1943280" cy="13334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6000" y="228600"/>
            <a:ext cx="8508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ind the Sc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21160" y="3197160"/>
            <a:ext cx="1879560" cy="763560"/>
            <a:chOff x="5321160" y="3197160"/>
            <a:chExt cx="1879560" cy="763560"/>
          </a:xfrm>
        </p:grpSpPr>
        <p:sp>
          <p:nvSpPr>
            <p:cNvPr id="315" name=""/>
            <p:cNvSpPr/>
            <p:nvPr/>
          </p:nvSpPr>
          <p:spPr>
            <a:xfrm>
              <a:off x="5422680" y="3197160"/>
              <a:ext cx="1663560" cy="76356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21160" y="3395880"/>
              <a:ext cx="187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EK.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11360" y="1255680"/>
            <a:ext cx="1933560" cy="1359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7200" y="166212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8400" y="3695760"/>
            <a:ext cx="19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inerary File Identified in Search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807240" y="1674720"/>
            <a:ext cx="8510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46840" y="1193760"/>
            <a:ext cx="685800" cy="747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59800" y="1447920"/>
            <a:ext cx="66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85000" y="2184480"/>
            <a:ext cx="685800" cy="747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23160" y="3225960"/>
            <a:ext cx="685800" cy="747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10400" y="351792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37480" y="247644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DA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896160" y="2452320"/>
            <a:ext cx="7840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08760" y="2590920"/>
            <a:ext cx="812880" cy="81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920" y="5473800"/>
            <a:ext cx="1231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arch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87920" y="4622760"/>
            <a:ext cx="1249920" cy="1005480"/>
            <a:chOff x="5587920" y="4622760"/>
            <a:chExt cx="1249920" cy="1005480"/>
          </a:xfrm>
        </p:grpSpPr>
        <p:grpSp>
          <p:nvGrpSpPr>
            <p:cNvPr id="331" name=""/>
            <p:cNvGrpSpPr/>
            <p:nvPr/>
          </p:nvGrpSpPr>
          <p:grpSpPr>
            <a:xfrm>
              <a:off x="5587920" y="4622760"/>
              <a:ext cx="1249920" cy="1005480"/>
              <a:chOff x="5587920" y="4622760"/>
              <a:chExt cx="1249920" cy="100548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5587920" y="4622760"/>
                <a:ext cx="1249920" cy="1005480"/>
                <a:chOff x="5587920" y="4622760"/>
                <a:chExt cx="1249920" cy="1005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760000" y="4622760"/>
                  <a:ext cx="880560" cy="577080"/>
                </a:xfrm>
                <a:custGeom>
                  <a:avLst/>
                  <a:gdLst/>
                  <a:ahLst/>
                  <a:rect l="l" t="t" r="r" b="b"/>
                  <a:pathLst>
                    <a:path w="649" h="479">
                      <a:moveTo>
                        <a:pt x="55" y="479"/>
                      </a:moveTo>
                      <a:lnTo>
                        <a:pt x="41" y="478"/>
                      </a:lnTo>
                      <a:lnTo>
                        <a:pt x="30" y="475"/>
                      </a:lnTo>
                      <a:lnTo>
                        <a:pt x="21" y="470"/>
                      </a:lnTo>
                      <a:lnTo>
                        <a:pt x="13" y="464"/>
                      </a:lnTo>
                      <a:lnTo>
                        <a:pt x="7" y="456"/>
                      </a:lnTo>
                      <a:lnTo>
                        <a:pt x="3" y="447"/>
                      </a:lnTo>
                      <a:lnTo>
                        <a:pt x="0" y="436"/>
                      </a:lnTo>
                      <a:lnTo>
                        <a:pt x="0" y="424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3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21" y="9"/>
                      </a:lnTo>
                      <a:lnTo>
                        <a:pt x="30" y="3"/>
                      </a:lnTo>
                      <a:lnTo>
                        <a:pt x="41" y="1"/>
                      </a:lnTo>
                      <a:lnTo>
                        <a:pt x="55" y="0"/>
                      </a:lnTo>
                      <a:lnTo>
                        <a:pt x="594" y="0"/>
                      </a:lnTo>
                      <a:lnTo>
                        <a:pt x="607" y="1"/>
                      </a:lnTo>
                      <a:lnTo>
                        <a:pt x="618" y="3"/>
                      </a:lnTo>
                      <a:lnTo>
                        <a:pt x="628" y="9"/>
                      </a:lnTo>
                      <a:lnTo>
                        <a:pt x="636" y="15"/>
                      </a:lnTo>
                      <a:lnTo>
                        <a:pt x="641" y="23"/>
                      </a:lnTo>
                      <a:lnTo>
                        <a:pt x="645" y="32"/>
                      </a:lnTo>
                      <a:lnTo>
                        <a:pt x="648" y="43"/>
                      </a:lnTo>
                      <a:lnTo>
                        <a:pt x="649" y="55"/>
                      </a:lnTo>
                      <a:lnTo>
                        <a:pt x="649" y="424"/>
                      </a:lnTo>
                      <a:lnTo>
                        <a:pt x="648" y="436"/>
                      </a:lnTo>
                      <a:lnTo>
                        <a:pt x="645" y="447"/>
                      </a:lnTo>
                      <a:lnTo>
                        <a:pt x="641" y="456"/>
                      </a:lnTo>
                      <a:lnTo>
                        <a:pt x="636" y="464"/>
                      </a:lnTo>
                      <a:lnTo>
                        <a:pt x="628" y="470"/>
                      </a:lnTo>
                      <a:lnTo>
                        <a:pt x="618" y="475"/>
                      </a:lnTo>
                      <a:lnTo>
                        <a:pt x="607" y="478"/>
                      </a:lnTo>
                      <a:lnTo>
                        <a:pt x="594" y="479"/>
                      </a:lnTo>
                      <a:lnTo>
                        <a:pt x="55" y="4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778720" y="4638600"/>
                  <a:ext cx="840600" cy="543240"/>
                </a:xfrm>
                <a:custGeom>
                  <a:avLst/>
                  <a:gdLst/>
                  <a:ahLst/>
                  <a:rect l="l" t="t" r="r" b="b"/>
                  <a:pathLst>
                    <a:path w="621" h="450">
                      <a:moveTo>
                        <a:pt x="0" y="406"/>
                      </a:moveTo>
                      <a:lnTo>
                        <a:pt x="0" y="415"/>
                      </a:lnTo>
                      <a:lnTo>
                        <a:pt x="3" y="424"/>
                      </a:lnTo>
                      <a:lnTo>
                        <a:pt x="6" y="432"/>
                      </a:lnTo>
                      <a:lnTo>
                        <a:pt x="11" y="438"/>
                      </a:lnTo>
                      <a:lnTo>
                        <a:pt x="16" y="442"/>
                      </a:lnTo>
                      <a:lnTo>
                        <a:pt x="24" y="446"/>
                      </a:lnTo>
                      <a:lnTo>
                        <a:pt x="32" y="450"/>
                      </a:lnTo>
                      <a:lnTo>
                        <a:pt x="44" y="450"/>
                      </a:lnTo>
                      <a:lnTo>
                        <a:pt x="576" y="450"/>
                      </a:lnTo>
                      <a:lnTo>
                        <a:pt x="588" y="450"/>
                      </a:lnTo>
                      <a:lnTo>
                        <a:pt x="596" y="446"/>
                      </a:lnTo>
                      <a:lnTo>
                        <a:pt x="604" y="442"/>
                      </a:lnTo>
                      <a:lnTo>
                        <a:pt x="611" y="438"/>
                      </a:lnTo>
                      <a:lnTo>
                        <a:pt x="614" y="432"/>
                      </a:lnTo>
                      <a:lnTo>
                        <a:pt x="618" y="424"/>
                      </a:lnTo>
                      <a:lnTo>
                        <a:pt x="620" y="415"/>
                      </a:lnTo>
                      <a:lnTo>
                        <a:pt x="621" y="406"/>
                      </a:lnTo>
                      <a:lnTo>
                        <a:pt x="621" y="45"/>
                      </a:lnTo>
                      <a:lnTo>
                        <a:pt x="620" y="36"/>
                      </a:lnTo>
                      <a:lnTo>
                        <a:pt x="618" y="27"/>
                      </a:lnTo>
                      <a:lnTo>
                        <a:pt x="614" y="19"/>
                      </a:lnTo>
                      <a:lnTo>
                        <a:pt x="611" y="12"/>
                      </a:lnTo>
                      <a:lnTo>
                        <a:pt x="604" y="7"/>
                      </a:lnTo>
                      <a:lnTo>
                        <a:pt x="596" y="4"/>
                      </a:lnTo>
                      <a:lnTo>
                        <a:pt x="588" y="0"/>
                      </a:lnTo>
                      <a:lnTo>
                        <a:pt x="576" y="0"/>
                      </a:lnTo>
                      <a:lnTo>
                        <a:pt x="44" y="0"/>
                      </a:lnTo>
                      <a:lnTo>
                        <a:pt x="32" y="0"/>
                      </a:lnTo>
                      <a:lnTo>
                        <a:pt x="24" y="4"/>
                      </a:lnTo>
                      <a:lnTo>
                        <a:pt x="16" y="7"/>
                      </a:lnTo>
                      <a:lnTo>
                        <a:pt x="11" y="12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406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480720" y="5153040"/>
                  <a:ext cx="74520" cy="20520"/>
                </a:xfrm>
                <a:prstGeom prst="rect">
                  <a:avLst/>
                </a:prstGeom>
                <a:solidFill>
                  <a:srgbClr val="d80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5587920" y="5199840"/>
                  <a:ext cx="1249920" cy="428400"/>
                  <a:chOff x="5587920" y="5199840"/>
                  <a:chExt cx="1249920" cy="4284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765040" y="5288040"/>
                    <a:ext cx="1188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5587920" y="5199840"/>
                    <a:ext cx="12499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23" h="354">
                        <a:moveTo>
                          <a:pt x="923" y="293"/>
                        </a:moveTo>
                        <a:lnTo>
                          <a:pt x="878" y="100"/>
                        </a:lnTo>
                        <a:lnTo>
                          <a:pt x="767" y="100"/>
                        </a:lnTo>
                        <a:lnTo>
                          <a:pt x="767" y="51"/>
                        </a:lnTo>
                        <a:lnTo>
                          <a:pt x="594" y="51"/>
                        </a:lnTo>
                        <a:lnTo>
                          <a:pt x="594" y="13"/>
                        </a:lnTo>
                        <a:lnTo>
                          <a:pt x="552" y="13"/>
                        </a:lnTo>
                        <a:lnTo>
                          <a:pt x="552" y="0"/>
                        </a:lnTo>
                        <a:lnTo>
                          <a:pt x="349" y="0"/>
                        </a:lnTo>
                        <a:lnTo>
                          <a:pt x="349" y="13"/>
                        </a:lnTo>
                        <a:lnTo>
                          <a:pt x="308" y="13"/>
                        </a:lnTo>
                        <a:lnTo>
                          <a:pt x="308" y="51"/>
                        </a:lnTo>
                        <a:lnTo>
                          <a:pt x="135" y="51"/>
                        </a:lnTo>
                        <a:lnTo>
                          <a:pt x="135" y="100"/>
                        </a:lnTo>
                        <a:lnTo>
                          <a:pt x="45" y="100"/>
                        </a:lnTo>
                        <a:lnTo>
                          <a:pt x="0" y="293"/>
                        </a:lnTo>
                        <a:lnTo>
                          <a:pt x="27" y="354"/>
                        </a:lnTo>
                        <a:lnTo>
                          <a:pt x="898" y="354"/>
                        </a:lnTo>
                        <a:lnTo>
                          <a:pt x="923" y="29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18480" y="5199840"/>
                    <a:ext cx="3610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1">
                        <a:moveTo>
                          <a:pt x="266" y="51"/>
                        </a:moveTo>
                        <a:lnTo>
                          <a:pt x="266" y="23"/>
                        </a:lnTo>
                        <a:lnTo>
                          <a:pt x="223" y="23"/>
                        </a:lnTo>
                        <a:lnTo>
                          <a:pt x="223" y="0"/>
                        </a:lnTo>
                        <a:lnTo>
                          <a:pt x="43" y="0"/>
                        </a:lnTo>
                        <a:lnTo>
                          <a:pt x="43" y="23"/>
                        </a:lnTo>
                        <a:lnTo>
                          <a:pt x="0" y="23"/>
                        </a:lnTo>
                        <a:lnTo>
                          <a:pt x="0" y="51"/>
                        </a:lnTo>
                        <a:lnTo>
                          <a:pt x="266" y="51"/>
                        </a:lnTo>
                        <a:close/>
                      </a:path>
                    </a:pathLst>
                  </a:custGeom>
                  <a:solidFill>
                    <a:srgbClr val="e8e0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5785920" y="5274000"/>
                    <a:ext cx="8229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7" h="40">
                        <a:moveTo>
                          <a:pt x="576" y="40"/>
                        </a:moveTo>
                        <a:lnTo>
                          <a:pt x="607" y="40"/>
                        </a:lnTo>
                        <a:lnTo>
                          <a:pt x="607" y="0"/>
                        </a:lnTo>
                        <a:lnTo>
                          <a:pt x="0" y="0"/>
                        </a:lnTo>
                        <a:lnTo>
                          <a:pt x="0" y="40"/>
                        </a:lnTo>
                        <a:lnTo>
                          <a:pt x="341" y="40"/>
                        </a:lnTo>
                        <a:lnTo>
                          <a:pt x="341" y="11"/>
                        </a:lnTo>
                        <a:lnTo>
                          <a:pt x="576" y="11"/>
                        </a:lnTo>
                        <a:lnTo>
                          <a:pt x="576" y="40"/>
                        </a:lnTo>
                        <a:close/>
                      </a:path>
                    </a:pathLst>
                  </a:custGeom>
                  <a:solidFill>
                    <a:srgbClr val="e8e0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5612040" y="5336640"/>
                    <a:ext cx="120492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9" h="204">
                        <a:moveTo>
                          <a:pt x="889" y="181"/>
                        </a:moveTo>
                        <a:lnTo>
                          <a:pt x="848" y="0"/>
                        </a:lnTo>
                        <a:lnTo>
                          <a:pt x="41" y="0"/>
                        </a:lnTo>
                        <a:lnTo>
                          <a:pt x="0" y="181"/>
                        </a:lnTo>
                        <a:lnTo>
                          <a:pt x="11" y="204"/>
                        </a:lnTo>
                        <a:lnTo>
                          <a:pt x="878" y="204"/>
                        </a:lnTo>
                        <a:lnTo>
                          <a:pt x="889" y="181"/>
                        </a:lnTo>
                        <a:close/>
                      </a:path>
                    </a:pathLst>
                  </a:custGeom>
                  <a:solidFill>
                    <a:srgbClr val="e8e0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815440" y="5288040"/>
                    <a:ext cx="1188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5857200" y="5288040"/>
                    <a:ext cx="1188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938560" y="5288040"/>
                    <a:ext cx="1044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577560" y="5412240"/>
                    <a:ext cx="504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3">
                        <a:moveTo>
                          <a:pt x="37" y="113"/>
                        </a:move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24" y="113"/>
                        </a:lnTo>
                        <a:lnTo>
                          <a:pt x="37" y="113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634800" y="5412240"/>
                    <a:ext cx="486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13">
                        <a:moveTo>
                          <a:pt x="36" y="113"/>
                        </a:moveTo>
                        <a:lnTo>
                          <a:pt x="11" y="0"/>
                        </a:lnTo>
                        <a:lnTo>
                          <a:pt x="0" y="9"/>
                        </a:lnTo>
                        <a:lnTo>
                          <a:pt x="23" y="113"/>
                        </a:lnTo>
                        <a:lnTo>
                          <a:pt x="36" y="113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688800" y="5412240"/>
                    <a:ext cx="504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3">
                        <a:moveTo>
                          <a:pt x="37" y="113"/>
                        </a:moveTo>
                        <a:lnTo>
                          <a:pt x="12" y="0"/>
                        </a:lnTo>
                        <a:lnTo>
                          <a:pt x="0" y="9"/>
                        </a:lnTo>
                        <a:lnTo>
                          <a:pt x="24" y="113"/>
                        </a:lnTo>
                        <a:lnTo>
                          <a:pt x="37" y="113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711040" y="5437800"/>
                    <a:ext cx="828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12">
                        <a:moveTo>
                          <a:pt x="608" y="0"/>
                        </a:moveTo>
                        <a:lnTo>
                          <a:pt x="3" y="0"/>
                        </a:lnTo>
                        <a:lnTo>
                          <a:pt x="0" y="12"/>
                        </a:lnTo>
                        <a:lnTo>
                          <a:pt x="611" y="12"/>
                        </a:lnTo>
                        <a:lnTo>
                          <a:pt x="60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584760" y="5437800"/>
                    <a:ext cx="1645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">
                        <a:moveTo>
                          <a:pt x="122" y="0"/>
                        </a:moveTo>
                        <a:lnTo>
                          <a:pt x="0" y="0"/>
                        </a:lnTo>
                        <a:lnTo>
                          <a:pt x="2" y="12"/>
                        </a:lnTo>
                        <a:lnTo>
                          <a:pt x="123" y="12"/>
                        </a:lnTo>
                        <a:lnTo>
                          <a:pt x="12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593400" y="5481360"/>
                    <a:ext cx="168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1">
                        <a:moveTo>
                          <a:pt x="124" y="11"/>
                        </a:moveTo>
                        <a:lnTo>
                          <a:pt x="2" y="11"/>
                        </a:lnTo>
                        <a:lnTo>
                          <a:pt x="0" y="0"/>
                        </a:lnTo>
                        <a:lnTo>
                          <a:pt x="121" y="0"/>
                        </a:lnTo>
                        <a:lnTo>
                          <a:pt x="124" y="11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699160" y="5481360"/>
                    <a:ext cx="852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11">
                        <a:moveTo>
                          <a:pt x="627" y="0"/>
                        </a:moveTo>
                        <a:lnTo>
                          <a:pt x="4" y="0"/>
                        </a:lnTo>
                        <a:lnTo>
                          <a:pt x="0" y="11"/>
                        </a:lnTo>
                        <a:lnTo>
                          <a:pt x="629" y="11"/>
                        </a:lnTo>
                        <a:lnTo>
                          <a:pt x="62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5685120" y="5535000"/>
                    <a:ext cx="8802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9" h="12">
                        <a:moveTo>
                          <a:pt x="649" y="12"/>
                        </a:moveTo>
                        <a:lnTo>
                          <a:pt x="0" y="12"/>
                        </a:lnTo>
                        <a:lnTo>
                          <a:pt x="3" y="0"/>
                        </a:lnTo>
                        <a:lnTo>
                          <a:pt x="646" y="0"/>
                        </a:lnTo>
                        <a:lnTo>
                          <a:pt x="649" y="12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608880" y="5535000"/>
                    <a:ext cx="166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2">
                        <a:moveTo>
                          <a:pt x="2" y="12"/>
                        </a:moveTo>
                        <a:lnTo>
                          <a:pt x="124" y="12"/>
                        </a:lnTo>
                        <a:lnTo>
                          <a:pt x="122" y="0"/>
                        </a:lnTo>
                        <a:lnTo>
                          <a:pt x="0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5721480" y="5393160"/>
                    <a:ext cx="805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5" h="12">
                        <a:moveTo>
                          <a:pt x="592" y="0"/>
                        </a:moveTo>
                        <a:lnTo>
                          <a:pt x="3" y="0"/>
                        </a:lnTo>
                        <a:lnTo>
                          <a:pt x="0" y="12"/>
                        </a:lnTo>
                        <a:lnTo>
                          <a:pt x="595" y="12"/>
                        </a:lnTo>
                        <a:lnTo>
                          <a:pt x="59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499440" y="5363640"/>
                    <a:ext cx="6588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54">
                        <a:moveTo>
                          <a:pt x="13" y="0"/>
                        </a:moveTo>
                        <a:lnTo>
                          <a:pt x="48" y="154"/>
                        </a:lnTo>
                        <a:lnTo>
                          <a:pt x="36" y="15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449400" y="5363640"/>
                    <a:ext cx="223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3" y="0"/>
                        </a:moveTo>
                        <a:lnTo>
                          <a:pt x="17" y="24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399000" y="536364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3" y="0"/>
                        </a:moveTo>
                        <a:lnTo>
                          <a:pt x="16" y="24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348600" y="5363640"/>
                    <a:ext cx="18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1" y="0"/>
                        </a:moveTo>
                        <a:lnTo>
                          <a:pt x="15" y="24"/>
                        </a:lnTo>
                        <a:lnTo>
                          <a:pt x="3" y="24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294600" y="5363640"/>
                    <a:ext cx="223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2" y="0"/>
                        </a:moveTo>
                        <a:lnTo>
                          <a:pt x="16" y="24"/>
                        </a:lnTo>
                        <a:lnTo>
                          <a:pt x="3" y="2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246000" y="5363640"/>
                    <a:ext cx="172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3" y="0"/>
                        </a:moveTo>
                        <a:lnTo>
                          <a:pt x="14" y="24"/>
                        </a:lnTo>
                        <a:lnTo>
                          <a:pt x="1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195600" y="5363640"/>
                    <a:ext cx="17280" cy="2916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145200" y="5363640"/>
                    <a:ext cx="15480" cy="2916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093360" y="5363640"/>
                    <a:ext cx="15120" cy="2916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037560" y="536364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5987520" y="5363640"/>
                    <a:ext cx="18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4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934960" y="5363640"/>
                    <a:ext cx="190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883120" y="5363640"/>
                    <a:ext cx="18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4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830920" y="536364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6" y="0"/>
                        </a:moveTo>
                        <a:lnTo>
                          <a:pt x="11" y="24"/>
                        </a:lnTo>
                        <a:lnTo>
                          <a:pt x="0" y="24"/>
                        </a:lnTo>
                        <a:lnTo>
                          <a:pt x="3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777280" y="5363640"/>
                    <a:ext cx="241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685120" y="5363640"/>
                    <a:ext cx="6588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54">
                        <a:moveTo>
                          <a:pt x="0" y="154"/>
                        </a:moveTo>
                        <a:lnTo>
                          <a:pt x="35" y="0"/>
                        </a:lnTo>
                        <a:lnTo>
                          <a:pt x="48" y="0"/>
                        </a:lnTo>
                        <a:lnTo>
                          <a:pt x="12" y="154"/>
                        </a:lnTo>
                        <a:lnTo>
                          <a:pt x="0" y="154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464520" y="540756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5">
                        <a:moveTo>
                          <a:pt x="13" y="0"/>
                        </a:moveTo>
                        <a:lnTo>
                          <a:pt x="16" y="25"/>
                        </a:lnTo>
                        <a:lnTo>
                          <a:pt x="4" y="2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414120" y="540756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5">
                        <a:moveTo>
                          <a:pt x="11" y="0"/>
                        </a:moveTo>
                        <a:lnTo>
                          <a:pt x="16" y="25"/>
                        </a:lnTo>
                        <a:lnTo>
                          <a:pt x="5" y="25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362280" y="540756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5">
                        <a:moveTo>
                          <a:pt x="13" y="0"/>
                        </a:moveTo>
                        <a:lnTo>
                          <a:pt x="17" y="25"/>
                        </a:lnTo>
                        <a:lnTo>
                          <a:pt x="4" y="2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311880" y="540756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5">
                        <a:moveTo>
                          <a:pt x="13" y="0"/>
                        </a:moveTo>
                        <a:lnTo>
                          <a:pt x="15" y="25"/>
                        </a:lnTo>
                        <a:lnTo>
                          <a:pt x="3" y="2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261480" y="5407560"/>
                    <a:ext cx="19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5">
                        <a:moveTo>
                          <a:pt x="14" y="0"/>
                        </a:moveTo>
                        <a:lnTo>
                          <a:pt x="15" y="25"/>
                        </a:lnTo>
                        <a:lnTo>
                          <a:pt x="2" y="2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213240" y="5407560"/>
                    <a:ext cx="15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">
                        <a:moveTo>
                          <a:pt x="11" y="0"/>
                        </a:moveTo>
                        <a:lnTo>
                          <a:pt x="12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161040" y="5407560"/>
                    <a:ext cx="15120" cy="302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108840" y="5407560"/>
                    <a:ext cx="17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5">
                        <a:moveTo>
                          <a:pt x="12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058440" y="5407560"/>
                    <a:ext cx="15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">
                        <a:moveTo>
                          <a:pt x="12" y="0"/>
                        </a:moveTo>
                        <a:lnTo>
                          <a:pt x="11" y="25"/>
                        </a:lnTo>
                        <a:lnTo>
                          <a:pt x="0" y="25"/>
                        </a:lnTo>
                        <a:lnTo>
                          <a:pt x="1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004800" y="540756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5">
                        <a:moveTo>
                          <a:pt x="14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950800" y="540756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5">
                        <a:moveTo>
                          <a:pt x="16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4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5898960" y="54075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5">
                        <a:moveTo>
                          <a:pt x="17" y="0"/>
                        </a:moveTo>
                        <a:lnTo>
                          <a:pt x="11" y="25"/>
                        </a:lnTo>
                        <a:lnTo>
                          <a:pt x="0" y="25"/>
                        </a:lnTo>
                        <a:lnTo>
                          <a:pt x="4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846400" y="540756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5">
                        <a:moveTo>
                          <a:pt x="17" y="0"/>
                        </a:moveTo>
                        <a:lnTo>
                          <a:pt x="12" y="25"/>
                        </a:lnTo>
                        <a:lnTo>
                          <a:pt x="0" y="25"/>
                        </a:lnTo>
                        <a:lnTo>
                          <a:pt x="6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5794560" y="5407560"/>
                    <a:ext cx="24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">
                        <a:moveTo>
                          <a:pt x="18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5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471720" y="5494680"/>
                    <a:ext cx="273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3">
                        <a:moveTo>
                          <a:pt x="14" y="0"/>
                        </a:moveTo>
                        <a:lnTo>
                          <a:pt x="20" y="33"/>
                        </a:lnTo>
                        <a:lnTo>
                          <a:pt x="8" y="33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367320" y="5494680"/>
                    <a:ext cx="327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18" y="0"/>
                        </a:moveTo>
                        <a:lnTo>
                          <a:pt x="24" y="33"/>
                        </a:lnTo>
                        <a:lnTo>
                          <a:pt x="6" y="33"/>
                        </a:lnTo>
                        <a:lnTo>
                          <a:pt x="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282360" y="5494680"/>
                    <a:ext cx="241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3">
                        <a:moveTo>
                          <a:pt x="13" y="0"/>
                        </a:moveTo>
                        <a:lnTo>
                          <a:pt x="18" y="33"/>
                        </a:lnTo>
                        <a:lnTo>
                          <a:pt x="5" y="33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874480" y="5494680"/>
                    <a:ext cx="241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3">
                        <a:moveTo>
                          <a:pt x="18" y="0"/>
                        </a:moveTo>
                        <a:lnTo>
                          <a:pt x="11" y="33"/>
                        </a:lnTo>
                        <a:lnTo>
                          <a:pt x="0" y="33"/>
                        </a:lnTo>
                        <a:lnTo>
                          <a:pt x="5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768640" y="5494680"/>
                    <a:ext cx="25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3">
                        <a:moveTo>
                          <a:pt x="19" y="0"/>
                        </a:moveTo>
                        <a:lnTo>
                          <a:pt x="11" y="33"/>
                        </a:lnTo>
                        <a:lnTo>
                          <a:pt x="0" y="33"/>
                        </a:lnTo>
                        <a:lnTo>
                          <a:pt x="7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478920" y="54511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14" y="0"/>
                        </a:moveTo>
                        <a:lnTo>
                          <a:pt x="19" y="24"/>
                        </a:lnTo>
                        <a:lnTo>
                          <a:pt x="5" y="24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428520" y="54511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4">
                        <a:moveTo>
                          <a:pt x="12" y="0"/>
                        </a:moveTo>
                        <a:lnTo>
                          <a:pt x="18" y="24"/>
                        </a:lnTo>
                        <a:lnTo>
                          <a:pt x="5" y="2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375960" y="545112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2" y="0"/>
                        </a:moveTo>
                        <a:lnTo>
                          <a:pt x="16" y="24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325560" y="5451120"/>
                    <a:ext cx="19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3" y="0"/>
                        </a:moveTo>
                        <a:lnTo>
                          <a:pt x="15" y="24"/>
                        </a:lnTo>
                        <a:lnTo>
                          <a:pt x="2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272280" y="545112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3" y="0"/>
                        </a:moveTo>
                        <a:lnTo>
                          <a:pt x="16" y="24"/>
                        </a:lnTo>
                        <a:lnTo>
                          <a:pt x="2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225120" y="5451120"/>
                    <a:ext cx="15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4">
                        <a:moveTo>
                          <a:pt x="11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172920" y="5451120"/>
                    <a:ext cx="15480" cy="302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122880" y="5451120"/>
                    <a:ext cx="17280" cy="302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068880" y="5451120"/>
                    <a:ext cx="17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4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1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017040" y="545112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4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963040" y="545112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6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3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912640" y="545112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1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5858640" y="545112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5806800" y="5451120"/>
                    <a:ext cx="24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4">
                        <a:moveTo>
                          <a:pt x="18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4" name=""/>
                <p:cNvSpPr/>
                <p:nvPr/>
              </p:nvSpPr>
              <p:spPr>
                <a:xfrm>
                  <a:off x="5815440" y="4690080"/>
                  <a:ext cx="76032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664240" y="4690080"/>
                  <a:ext cx="106128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5876280" y="4706640"/>
                <a:ext cx="67356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5727600" y="4724280"/>
              <a:ext cx="9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d.a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6210360" y="4076640"/>
            <a:ext cx="126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613480" y="1676520"/>
            <a:ext cx="1249920" cy="1005120"/>
            <a:chOff x="5613480" y="1676520"/>
            <a:chExt cx="1249920" cy="1005120"/>
          </a:xfrm>
        </p:grpSpPr>
        <p:grpSp>
          <p:nvGrpSpPr>
            <p:cNvPr id="410" name=""/>
            <p:cNvGrpSpPr/>
            <p:nvPr/>
          </p:nvGrpSpPr>
          <p:grpSpPr>
            <a:xfrm>
              <a:off x="5613480" y="1676520"/>
              <a:ext cx="1249920" cy="1005120"/>
              <a:chOff x="5613480" y="1676520"/>
              <a:chExt cx="1249920" cy="100512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613480" y="1676520"/>
                <a:ext cx="1249920" cy="1005120"/>
                <a:chOff x="5613480" y="1676520"/>
                <a:chExt cx="1249920" cy="1005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785560" y="1676520"/>
                  <a:ext cx="880560" cy="577080"/>
                </a:xfrm>
                <a:custGeom>
                  <a:avLst/>
                  <a:gdLst/>
                  <a:ahLst/>
                  <a:rect l="l" t="t" r="r" b="b"/>
                  <a:pathLst>
                    <a:path w="649" h="479">
                      <a:moveTo>
                        <a:pt x="55" y="479"/>
                      </a:moveTo>
                      <a:lnTo>
                        <a:pt x="41" y="478"/>
                      </a:lnTo>
                      <a:lnTo>
                        <a:pt x="30" y="475"/>
                      </a:lnTo>
                      <a:lnTo>
                        <a:pt x="21" y="470"/>
                      </a:lnTo>
                      <a:lnTo>
                        <a:pt x="13" y="464"/>
                      </a:lnTo>
                      <a:lnTo>
                        <a:pt x="7" y="456"/>
                      </a:lnTo>
                      <a:lnTo>
                        <a:pt x="3" y="447"/>
                      </a:lnTo>
                      <a:lnTo>
                        <a:pt x="0" y="436"/>
                      </a:lnTo>
                      <a:lnTo>
                        <a:pt x="0" y="424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3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21" y="9"/>
                      </a:lnTo>
                      <a:lnTo>
                        <a:pt x="30" y="3"/>
                      </a:lnTo>
                      <a:lnTo>
                        <a:pt x="41" y="1"/>
                      </a:lnTo>
                      <a:lnTo>
                        <a:pt x="55" y="0"/>
                      </a:lnTo>
                      <a:lnTo>
                        <a:pt x="594" y="0"/>
                      </a:lnTo>
                      <a:lnTo>
                        <a:pt x="607" y="1"/>
                      </a:lnTo>
                      <a:lnTo>
                        <a:pt x="618" y="3"/>
                      </a:lnTo>
                      <a:lnTo>
                        <a:pt x="628" y="9"/>
                      </a:lnTo>
                      <a:lnTo>
                        <a:pt x="636" y="15"/>
                      </a:lnTo>
                      <a:lnTo>
                        <a:pt x="641" y="23"/>
                      </a:lnTo>
                      <a:lnTo>
                        <a:pt x="645" y="32"/>
                      </a:lnTo>
                      <a:lnTo>
                        <a:pt x="648" y="43"/>
                      </a:lnTo>
                      <a:lnTo>
                        <a:pt x="649" y="55"/>
                      </a:lnTo>
                      <a:lnTo>
                        <a:pt x="649" y="424"/>
                      </a:lnTo>
                      <a:lnTo>
                        <a:pt x="648" y="436"/>
                      </a:lnTo>
                      <a:lnTo>
                        <a:pt x="645" y="447"/>
                      </a:lnTo>
                      <a:lnTo>
                        <a:pt x="641" y="456"/>
                      </a:lnTo>
                      <a:lnTo>
                        <a:pt x="636" y="464"/>
                      </a:lnTo>
                      <a:lnTo>
                        <a:pt x="628" y="470"/>
                      </a:lnTo>
                      <a:lnTo>
                        <a:pt x="618" y="475"/>
                      </a:lnTo>
                      <a:lnTo>
                        <a:pt x="607" y="478"/>
                      </a:lnTo>
                      <a:lnTo>
                        <a:pt x="594" y="479"/>
                      </a:lnTo>
                      <a:lnTo>
                        <a:pt x="55" y="4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04280" y="1692360"/>
                  <a:ext cx="840600" cy="542880"/>
                </a:xfrm>
                <a:custGeom>
                  <a:avLst/>
                  <a:gdLst/>
                  <a:ahLst/>
                  <a:rect l="l" t="t" r="r" b="b"/>
                  <a:pathLst>
                    <a:path w="621" h="450">
                      <a:moveTo>
                        <a:pt x="0" y="406"/>
                      </a:moveTo>
                      <a:lnTo>
                        <a:pt x="0" y="415"/>
                      </a:lnTo>
                      <a:lnTo>
                        <a:pt x="3" y="424"/>
                      </a:lnTo>
                      <a:lnTo>
                        <a:pt x="6" y="432"/>
                      </a:lnTo>
                      <a:lnTo>
                        <a:pt x="11" y="438"/>
                      </a:lnTo>
                      <a:lnTo>
                        <a:pt x="16" y="442"/>
                      </a:lnTo>
                      <a:lnTo>
                        <a:pt x="24" y="446"/>
                      </a:lnTo>
                      <a:lnTo>
                        <a:pt x="32" y="450"/>
                      </a:lnTo>
                      <a:lnTo>
                        <a:pt x="44" y="450"/>
                      </a:lnTo>
                      <a:lnTo>
                        <a:pt x="576" y="450"/>
                      </a:lnTo>
                      <a:lnTo>
                        <a:pt x="588" y="450"/>
                      </a:lnTo>
                      <a:lnTo>
                        <a:pt x="596" y="446"/>
                      </a:lnTo>
                      <a:lnTo>
                        <a:pt x="604" y="442"/>
                      </a:lnTo>
                      <a:lnTo>
                        <a:pt x="611" y="438"/>
                      </a:lnTo>
                      <a:lnTo>
                        <a:pt x="614" y="432"/>
                      </a:lnTo>
                      <a:lnTo>
                        <a:pt x="618" y="424"/>
                      </a:lnTo>
                      <a:lnTo>
                        <a:pt x="620" y="415"/>
                      </a:lnTo>
                      <a:lnTo>
                        <a:pt x="621" y="406"/>
                      </a:lnTo>
                      <a:lnTo>
                        <a:pt x="621" y="45"/>
                      </a:lnTo>
                      <a:lnTo>
                        <a:pt x="620" y="36"/>
                      </a:lnTo>
                      <a:lnTo>
                        <a:pt x="618" y="27"/>
                      </a:lnTo>
                      <a:lnTo>
                        <a:pt x="614" y="19"/>
                      </a:lnTo>
                      <a:lnTo>
                        <a:pt x="611" y="12"/>
                      </a:lnTo>
                      <a:lnTo>
                        <a:pt x="604" y="7"/>
                      </a:lnTo>
                      <a:lnTo>
                        <a:pt x="596" y="4"/>
                      </a:lnTo>
                      <a:lnTo>
                        <a:pt x="588" y="0"/>
                      </a:lnTo>
                      <a:lnTo>
                        <a:pt x="576" y="0"/>
                      </a:lnTo>
                      <a:lnTo>
                        <a:pt x="44" y="0"/>
                      </a:lnTo>
                      <a:lnTo>
                        <a:pt x="32" y="0"/>
                      </a:lnTo>
                      <a:lnTo>
                        <a:pt x="24" y="4"/>
                      </a:lnTo>
                      <a:lnTo>
                        <a:pt x="16" y="7"/>
                      </a:lnTo>
                      <a:lnTo>
                        <a:pt x="11" y="12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406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506280" y="2206800"/>
                  <a:ext cx="74520" cy="20520"/>
                </a:xfrm>
                <a:prstGeom prst="rect">
                  <a:avLst/>
                </a:prstGeom>
                <a:solidFill>
                  <a:srgbClr val="d80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5613480" y="2253600"/>
                  <a:ext cx="1249920" cy="428040"/>
                  <a:chOff x="5613480" y="2253600"/>
                  <a:chExt cx="1249920" cy="4280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5790600" y="2341800"/>
                    <a:ext cx="1188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613480" y="2253600"/>
                    <a:ext cx="124992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923" h="354">
                        <a:moveTo>
                          <a:pt x="923" y="293"/>
                        </a:moveTo>
                        <a:lnTo>
                          <a:pt x="878" y="100"/>
                        </a:lnTo>
                        <a:lnTo>
                          <a:pt x="767" y="100"/>
                        </a:lnTo>
                        <a:lnTo>
                          <a:pt x="767" y="51"/>
                        </a:lnTo>
                        <a:lnTo>
                          <a:pt x="594" y="51"/>
                        </a:lnTo>
                        <a:lnTo>
                          <a:pt x="594" y="13"/>
                        </a:lnTo>
                        <a:lnTo>
                          <a:pt x="552" y="13"/>
                        </a:lnTo>
                        <a:lnTo>
                          <a:pt x="552" y="0"/>
                        </a:lnTo>
                        <a:lnTo>
                          <a:pt x="349" y="0"/>
                        </a:lnTo>
                        <a:lnTo>
                          <a:pt x="349" y="13"/>
                        </a:lnTo>
                        <a:lnTo>
                          <a:pt x="308" y="13"/>
                        </a:lnTo>
                        <a:lnTo>
                          <a:pt x="308" y="51"/>
                        </a:lnTo>
                        <a:lnTo>
                          <a:pt x="135" y="51"/>
                        </a:lnTo>
                        <a:lnTo>
                          <a:pt x="135" y="100"/>
                        </a:lnTo>
                        <a:lnTo>
                          <a:pt x="45" y="100"/>
                        </a:lnTo>
                        <a:lnTo>
                          <a:pt x="0" y="293"/>
                        </a:lnTo>
                        <a:lnTo>
                          <a:pt x="27" y="354"/>
                        </a:lnTo>
                        <a:lnTo>
                          <a:pt x="898" y="354"/>
                        </a:lnTo>
                        <a:lnTo>
                          <a:pt x="923" y="29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044040" y="2253600"/>
                    <a:ext cx="3610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1">
                        <a:moveTo>
                          <a:pt x="266" y="51"/>
                        </a:moveTo>
                        <a:lnTo>
                          <a:pt x="266" y="23"/>
                        </a:lnTo>
                        <a:lnTo>
                          <a:pt x="223" y="23"/>
                        </a:lnTo>
                        <a:lnTo>
                          <a:pt x="223" y="0"/>
                        </a:lnTo>
                        <a:lnTo>
                          <a:pt x="43" y="0"/>
                        </a:lnTo>
                        <a:lnTo>
                          <a:pt x="43" y="23"/>
                        </a:lnTo>
                        <a:lnTo>
                          <a:pt x="0" y="23"/>
                        </a:lnTo>
                        <a:lnTo>
                          <a:pt x="0" y="51"/>
                        </a:lnTo>
                        <a:lnTo>
                          <a:pt x="266" y="51"/>
                        </a:lnTo>
                        <a:close/>
                      </a:path>
                    </a:pathLst>
                  </a:custGeom>
                  <a:solidFill>
                    <a:srgbClr val="e8e0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811480" y="2327400"/>
                    <a:ext cx="8229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07" h="40">
                        <a:moveTo>
                          <a:pt x="576" y="40"/>
                        </a:moveTo>
                        <a:lnTo>
                          <a:pt x="607" y="40"/>
                        </a:lnTo>
                        <a:lnTo>
                          <a:pt x="607" y="0"/>
                        </a:lnTo>
                        <a:lnTo>
                          <a:pt x="0" y="0"/>
                        </a:lnTo>
                        <a:lnTo>
                          <a:pt x="0" y="40"/>
                        </a:lnTo>
                        <a:lnTo>
                          <a:pt x="341" y="40"/>
                        </a:lnTo>
                        <a:lnTo>
                          <a:pt x="341" y="11"/>
                        </a:lnTo>
                        <a:lnTo>
                          <a:pt x="576" y="11"/>
                        </a:lnTo>
                        <a:lnTo>
                          <a:pt x="576" y="40"/>
                        </a:lnTo>
                        <a:close/>
                      </a:path>
                    </a:pathLst>
                  </a:custGeom>
                  <a:solidFill>
                    <a:srgbClr val="e8e0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637600" y="2390400"/>
                    <a:ext cx="12049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9" h="204">
                        <a:moveTo>
                          <a:pt x="889" y="181"/>
                        </a:moveTo>
                        <a:lnTo>
                          <a:pt x="848" y="0"/>
                        </a:lnTo>
                        <a:lnTo>
                          <a:pt x="41" y="0"/>
                        </a:lnTo>
                        <a:lnTo>
                          <a:pt x="0" y="181"/>
                        </a:lnTo>
                        <a:lnTo>
                          <a:pt x="11" y="204"/>
                        </a:lnTo>
                        <a:lnTo>
                          <a:pt x="878" y="204"/>
                        </a:lnTo>
                        <a:lnTo>
                          <a:pt x="889" y="181"/>
                        </a:lnTo>
                        <a:close/>
                      </a:path>
                    </a:pathLst>
                  </a:custGeom>
                  <a:solidFill>
                    <a:srgbClr val="e8e0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841000" y="2341800"/>
                    <a:ext cx="1188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882760" y="2341800"/>
                    <a:ext cx="1188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964120" y="2341800"/>
                    <a:ext cx="10440" cy="338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603120" y="2466000"/>
                    <a:ext cx="504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3">
                        <a:moveTo>
                          <a:pt x="37" y="113"/>
                        </a:move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24" y="113"/>
                        </a:lnTo>
                        <a:lnTo>
                          <a:pt x="37" y="113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660360" y="2466000"/>
                    <a:ext cx="486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13">
                        <a:moveTo>
                          <a:pt x="36" y="113"/>
                        </a:moveTo>
                        <a:lnTo>
                          <a:pt x="11" y="0"/>
                        </a:lnTo>
                        <a:lnTo>
                          <a:pt x="0" y="9"/>
                        </a:lnTo>
                        <a:lnTo>
                          <a:pt x="23" y="113"/>
                        </a:lnTo>
                        <a:lnTo>
                          <a:pt x="36" y="113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6714360" y="2466000"/>
                    <a:ext cx="504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3">
                        <a:moveTo>
                          <a:pt x="37" y="113"/>
                        </a:moveTo>
                        <a:lnTo>
                          <a:pt x="12" y="0"/>
                        </a:lnTo>
                        <a:lnTo>
                          <a:pt x="0" y="9"/>
                        </a:lnTo>
                        <a:lnTo>
                          <a:pt x="24" y="113"/>
                        </a:lnTo>
                        <a:lnTo>
                          <a:pt x="37" y="113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736600" y="2491560"/>
                    <a:ext cx="828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12">
                        <a:moveTo>
                          <a:pt x="608" y="0"/>
                        </a:moveTo>
                        <a:lnTo>
                          <a:pt x="3" y="0"/>
                        </a:lnTo>
                        <a:lnTo>
                          <a:pt x="0" y="12"/>
                        </a:lnTo>
                        <a:lnTo>
                          <a:pt x="611" y="12"/>
                        </a:lnTo>
                        <a:lnTo>
                          <a:pt x="60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610320" y="2491560"/>
                    <a:ext cx="1645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">
                        <a:moveTo>
                          <a:pt x="122" y="0"/>
                        </a:moveTo>
                        <a:lnTo>
                          <a:pt x="0" y="0"/>
                        </a:lnTo>
                        <a:lnTo>
                          <a:pt x="2" y="12"/>
                        </a:lnTo>
                        <a:lnTo>
                          <a:pt x="123" y="12"/>
                        </a:lnTo>
                        <a:lnTo>
                          <a:pt x="12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618960" y="2535120"/>
                    <a:ext cx="168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1">
                        <a:moveTo>
                          <a:pt x="124" y="11"/>
                        </a:moveTo>
                        <a:lnTo>
                          <a:pt x="2" y="11"/>
                        </a:lnTo>
                        <a:lnTo>
                          <a:pt x="0" y="0"/>
                        </a:lnTo>
                        <a:lnTo>
                          <a:pt x="121" y="0"/>
                        </a:lnTo>
                        <a:lnTo>
                          <a:pt x="124" y="11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724720" y="2535120"/>
                    <a:ext cx="852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11">
                        <a:moveTo>
                          <a:pt x="627" y="0"/>
                        </a:moveTo>
                        <a:lnTo>
                          <a:pt x="4" y="0"/>
                        </a:lnTo>
                        <a:lnTo>
                          <a:pt x="0" y="11"/>
                        </a:lnTo>
                        <a:lnTo>
                          <a:pt x="629" y="11"/>
                        </a:lnTo>
                        <a:lnTo>
                          <a:pt x="62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710680" y="2588400"/>
                    <a:ext cx="8802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9" h="12">
                        <a:moveTo>
                          <a:pt x="649" y="12"/>
                        </a:moveTo>
                        <a:lnTo>
                          <a:pt x="0" y="12"/>
                        </a:lnTo>
                        <a:lnTo>
                          <a:pt x="3" y="0"/>
                        </a:lnTo>
                        <a:lnTo>
                          <a:pt x="646" y="0"/>
                        </a:lnTo>
                        <a:lnTo>
                          <a:pt x="649" y="12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634440" y="2588400"/>
                    <a:ext cx="166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2">
                        <a:moveTo>
                          <a:pt x="2" y="12"/>
                        </a:moveTo>
                        <a:lnTo>
                          <a:pt x="124" y="12"/>
                        </a:lnTo>
                        <a:lnTo>
                          <a:pt x="122" y="0"/>
                        </a:lnTo>
                        <a:lnTo>
                          <a:pt x="0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747040" y="2446560"/>
                    <a:ext cx="805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5" h="12">
                        <a:moveTo>
                          <a:pt x="592" y="0"/>
                        </a:moveTo>
                        <a:lnTo>
                          <a:pt x="3" y="0"/>
                        </a:lnTo>
                        <a:lnTo>
                          <a:pt x="0" y="12"/>
                        </a:lnTo>
                        <a:lnTo>
                          <a:pt x="595" y="12"/>
                        </a:lnTo>
                        <a:lnTo>
                          <a:pt x="59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525000" y="2417400"/>
                    <a:ext cx="6588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54">
                        <a:moveTo>
                          <a:pt x="13" y="0"/>
                        </a:moveTo>
                        <a:lnTo>
                          <a:pt x="48" y="154"/>
                        </a:lnTo>
                        <a:lnTo>
                          <a:pt x="36" y="15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474960" y="2417400"/>
                    <a:ext cx="223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3" y="0"/>
                        </a:moveTo>
                        <a:lnTo>
                          <a:pt x="17" y="24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424560" y="241740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3" y="0"/>
                        </a:moveTo>
                        <a:lnTo>
                          <a:pt x="16" y="24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374160" y="2417400"/>
                    <a:ext cx="18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1" y="0"/>
                        </a:moveTo>
                        <a:lnTo>
                          <a:pt x="15" y="24"/>
                        </a:lnTo>
                        <a:lnTo>
                          <a:pt x="3" y="24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320160" y="2417400"/>
                    <a:ext cx="223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2" y="0"/>
                        </a:moveTo>
                        <a:lnTo>
                          <a:pt x="16" y="24"/>
                        </a:lnTo>
                        <a:lnTo>
                          <a:pt x="3" y="2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71560" y="2417400"/>
                    <a:ext cx="172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3" y="0"/>
                        </a:moveTo>
                        <a:lnTo>
                          <a:pt x="14" y="24"/>
                        </a:lnTo>
                        <a:lnTo>
                          <a:pt x="1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221160" y="2417400"/>
                    <a:ext cx="17280" cy="2916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170760" y="2417400"/>
                    <a:ext cx="15480" cy="2916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118920" y="2417400"/>
                    <a:ext cx="15120" cy="2916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063120" y="241740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013080" y="2417400"/>
                    <a:ext cx="18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4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960520" y="2417400"/>
                    <a:ext cx="190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08680" y="2417400"/>
                    <a:ext cx="18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4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856480" y="241740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6" y="0"/>
                        </a:moveTo>
                        <a:lnTo>
                          <a:pt x="11" y="24"/>
                        </a:lnTo>
                        <a:lnTo>
                          <a:pt x="0" y="24"/>
                        </a:lnTo>
                        <a:lnTo>
                          <a:pt x="3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802840" y="2417400"/>
                    <a:ext cx="241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710680" y="2417400"/>
                    <a:ext cx="6588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54">
                        <a:moveTo>
                          <a:pt x="0" y="154"/>
                        </a:moveTo>
                        <a:lnTo>
                          <a:pt x="35" y="0"/>
                        </a:lnTo>
                        <a:lnTo>
                          <a:pt x="48" y="0"/>
                        </a:lnTo>
                        <a:lnTo>
                          <a:pt x="12" y="154"/>
                        </a:lnTo>
                        <a:lnTo>
                          <a:pt x="0" y="154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490080" y="246132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5">
                        <a:moveTo>
                          <a:pt x="13" y="0"/>
                        </a:moveTo>
                        <a:lnTo>
                          <a:pt x="16" y="25"/>
                        </a:lnTo>
                        <a:lnTo>
                          <a:pt x="4" y="2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6439680" y="246132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5">
                        <a:moveTo>
                          <a:pt x="11" y="0"/>
                        </a:moveTo>
                        <a:lnTo>
                          <a:pt x="16" y="25"/>
                        </a:lnTo>
                        <a:lnTo>
                          <a:pt x="5" y="25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6387840" y="246132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5">
                        <a:moveTo>
                          <a:pt x="13" y="0"/>
                        </a:moveTo>
                        <a:lnTo>
                          <a:pt x="17" y="25"/>
                        </a:lnTo>
                        <a:lnTo>
                          <a:pt x="4" y="2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337440" y="246132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5">
                        <a:moveTo>
                          <a:pt x="13" y="0"/>
                        </a:moveTo>
                        <a:lnTo>
                          <a:pt x="15" y="25"/>
                        </a:lnTo>
                        <a:lnTo>
                          <a:pt x="3" y="2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287040" y="2461320"/>
                    <a:ext cx="19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5">
                        <a:moveTo>
                          <a:pt x="14" y="0"/>
                        </a:moveTo>
                        <a:lnTo>
                          <a:pt x="15" y="25"/>
                        </a:lnTo>
                        <a:lnTo>
                          <a:pt x="2" y="2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238800" y="2461320"/>
                    <a:ext cx="15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">
                        <a:moveTo>
                          <a:pt x="11" y="0"/>
                        </a:moveTo>
                        <a:lnTo>
                          <a:pt x="12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186600" y="2461320"/>
                    <a:ext cx="15120" cy="302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134400" y="2461320"/>
                    <a:ext cx="17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5">
                        <a:moveTo>
                          <a:pt x="12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084000" y="2461320"/>
                    <a:ext cx="15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">
                        <a:moveTo>
                          <a:pt x="12" y="0"/>
                        </a:moveTo>
                        <a:lnTo>
                          <a:pt x="11" y="25"/>
                        </a:lnTo>
                        <a:lnTo>
                          <a:pt x="0" y="25"/>
                        </a:lnTo>
                        <a:lnTo>
                          <a:pt x="1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030360" y="246132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5">
                        <a:moveTo>
                          <a:pt x="14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976360" y="246132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5">
                        <a:moveTo>
                          <a:pt x="16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4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924520" y="24613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5">
                        <a:moveTo>
                          <a:pt x="17" y="0"/>
                        </a:moveTo>
                        <a:lnTo>
                          <a:pt x="11" y="25"/>
                        </a:lnTo>
                        <a:lnTo>
                          <a:pt x="0" y="25"/>
                        </a:lnTo>
                        <a:lnTo>
                          <a:pt x="4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871960" y="246132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5">
                        <a:moveTo>
                          <a:pt x="17" y="0"/>
                        </a:moveTo>
                        <a:lnTo>
                          <a:pt x="12" y="25"/>
                        </a:lnTo>
                        <a:lnTo>
                          <a:pt x="0" y="25"/>
                        </a:lnTo>
                        <a:lnTo>
                          <a:pt x="6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820120" y="2461320"/>
                    <a:ext cx="24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">
                        <a:moveTo>
                          <a:pt x="18" y="0"/>
                        </a:moveTo>
                        <a:lnTo>
                          <a:pt x="13" y="25"/>
                        </a:lnTo>
                        <a:lnTo>
                          <a:pt x="0" y="25"/>
                        </a:lnTo>
                        <a:lnTo>
                          <a:pt x="5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497280" y="2548080"/>
                    <a:ext cx="273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3">
                        <a:moveTo>
                          <a:pt x="14" y="0"/>
                        </a:moveTo>
                        <a:lnTo>
                          <a:pt x="20" y="33"/>
                        </a:lnTo>
                        <a:lnTo>
                          <a:pt x="8" y="33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392880" y="2548080"/>
                    <a:ext cx="327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18" y="0"/>
                        </a:moveTo>
                        <a:lnTo>
                          <a:pt x="24" y="33"/>
                        </a:lnTo>
                        <a:lnTo>
                          <a:pt x="6" y="33"/>
                        </a:lnTo>
                        <a:lnTo>
                          <a:pt x="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6307920" y="2548080"/>
                    <a:ext cx="241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3">
                        <a:moveTo>
                          <a:pt x="13" y="0"/>
                        </a:moveTo>
                        <a:lnTo>
                          <a:pt x="18" y="33"/>
                        </a:lnTo>
                        <a:lnTo>
                          <a:pt x="5" y="33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900040" y="2548080"/>
                    <a:ext cx="241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3">
                        <a:moveTo>
                          <a:pt x="18" y="0"/>
                        </a:moveTo>
                        <a:lnTo>
                          <a:pt x="11" y="33"/>
                        </a:lnTo>
                        <a:lnTo>
                          <a:pt x="0" y="33"/>
                        </a:lnTo>
                        <a:lnTo>
                          <a:pt x="5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794200" y="2548080"/>
                    <a:ext cx="25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3">
                        <a:moveTo>
                          <a:pt x="19" y="0"/>
                        </a:moveTo>
                        <a:lnTo>
                          <a:pt x="11" y="33"/>
                        </a:lnTo>
                        <a:lnTo>
                          <a:pt x="0" y="33"/>
                        </a:lnTo>
                        <a:lnTo>
                          <a:pt x="7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504480" y="25045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14" y="0"/>
                        </a:moveTo>
                        <a:lnTo>
                          <a:pt x="19" y="24"/>
                        </a:lnTo>
                        <a:lnTo>
                          <a:pt x="5" y="24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454080" y="25045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4">
                        <a:moveTo>
                          <a:pt x="12" y="0"/>
                        </a:moveTo>
                        <a:lnTo>
                          <a:pt x="18" y="24"/>
                        </a:lnTo>
                        <a:lnTo>
                          <a:pt x="5" y="2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401520" y="250452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2" y="0"/>
                        </a:moveTo>
                        <a:lnTo>
                          <a:pt x="16" y="24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351120" y="2504520"/>
                    <a:ext cx="19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3" y="0"/>
                        </a:moveTo>
                        <a:lnTo>
                          <a:pt x="15" y="24"/>
                        </a:lnTo>
                        <a:lnTo>
                          <a:pt x="2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6297840" y="250452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3" y="0"/>
                        </a:moveTo>
                        <a:lnTo>
                          <a:pt x="16" y="24"/>
                        </a:lnTo>
                        <a:lnTo>
                          <a:pt x="2" y="2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250680" y="2504520"/>
                    <a:ext cx="15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4">
                        <a:moveTo>
                          <a:pt x="11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198480" y="2504520"/>
                    <a:ext cx="15480" cy="302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148440" y="2504520"/>
                    <a:ext cx="17280" cy="30240"/>
                  </a:xfrm>
                  <a:prstGeom prst="rect">
                    <a:avLst/>
                  </a:pr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094440" y="2504520"/>
                    <a:ext cx="17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4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1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042600" y="250452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4">
                        <a:moveTo>
                          <a:pt x="14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988600" y="250452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4">
                        <a:moveTo>
                          <a:pt x="16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3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938200" y="250452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4">
                        <a:moveTo>
                          <a:pt x="15" y="0"/>
                        </a:moveTo>
                        <a:lnTo>
                          <a:pt x="11" y="24"/>
                        </a:lnTo>
                        <a:lnTo>
                          <a:pt x="0" y="24"/>
                        </a:lnTo>
                        <a:lnTo>
                          <a:pt x="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884200" y="2504520"/>
                    <a:ext cx="22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7" y="0"/>
                        </a:moveTo>
                        <a:lnTo>
                          <a:pt x="13" y="2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832360" y="2504520"/>
                    <a:ext cx="24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4">
                        <a:moveTo>
                          <a:pt x="18" y="0"/>
                        </a:moveTo>
                        <a:lnTo>
                          <a:pt x="12" y="24"/>
                        </a:lnTo>
                        <a:lnTo>
                          <a:pt x="0" y="24"/>
                        </a:lnTo>
                        <a:lnTo>
                          <a:pt x="5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4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"/>
                <p:cNvSpPr/>
                <p:nvPr/>
              </p:nvSpPr>
              <p:spPr>
                <a:xfrm>
                  <a:off x="5841000" y="1743840"/>
                  <a:ext cx="760320" cy="404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689800" y="1743840"/>
                  <a:ext cx="106128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5901840" y="1760400"/>
                <a:ext cx="67356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727600" y="175248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S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 flipV="1">
            <a:off x="6222960" y="2679840"/>
            <a:ext cx="0" cy="44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32120" y="1941480"/>
            <a:ext cx="275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781360" y="2296800"/>
            <a:ext cx="2768400" cy="128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7T20:42:24Z</dcterms:created>
  <dc:creator>Lacy</dc:creator>
  <dc:description/>
  <dc:language>en-US</dc:language>
  <cp:lastModifiedBy>bbn</cp:lastModifiedBy>
  <cp:lastPrinted>2000-02-25T18:38:31Z</cp:lastPrinted>
  <dcterms:modified xsi:type="dcterms:W3CDTF">2001-07-23T11:05:53Z</dcterms:modified>
  <cp:revision>264</cp:revision>
  <dc:subject>DAML</dc:subject>
  <dc:title>CALL UAN Ritter Meeting</dc:title>
</cp:coreProperties>
</file>