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BE44-1F54-4917-9C9E-CF22BC6AA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L-S is joint work with Stanford, CMU, BBN, Nokia (see last slid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3D6-878D-4404-B7C4-D7635B4B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CE0-A78B-4097-BE5B-53DF4381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D59-EC37-4DC4-92B0-583D222E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E18-711F-4D76-8DFE-1D844F96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DD0-E745-44A0-A9EE-AD822183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A3C-A5FD-4D74-A45C-3E9A9931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593-B0E5-409F-B94D-DA038057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779-8F7E-43A1-8082-858031A7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22B-ECDE-43C2-A3AD-A3445BA9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C13-5DAA-4385-A46D-CEAEE706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786-C2D4-45D4-93DD-BAF930B2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DE4-0B6C-4BD6-A622-C447E91B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2120" y="6418440"/>
            <a:ext cx="8756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cIlraith for DAML-S Coalition                                                                                                                                                     DAML PI Meeting 07/19/01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37EC-0D03-426A-8279-DCCE0FF2B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24000"/>
            <a:ext cx="8534160" cy="621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88040" y="3273480"/>
            <a:ext cx="1698480" cy="388800"/>
          </a:xfrm>
          <a:custGeom>
            <a:avLst/>
            <a:gdLst/>
            <a:ahLst/>
            <a:rect l="l" t="t" r="r" b="b"/>
            <a:pathLst>
              <a:path w="778" h="157">
                <a:moveTo>
                  <a:pt x="0" y="58"/>
                </a:moveTo>
                <a:cubicBezTo>
                  <a:pt x="586" y="101"/>
                  <a:pt x="386" y="157"/>
                  <a:pt x="724" y="34"/>
                </a:cubicBezTo>
                <a:cubicBezTo>
                  <a:pt x="730" y="28"/>
                  <a:pt x="736" y="21"/>
                  <a:pt x="744" y="18"/>
                </a:cubicBezTo>
                <a:cubicBezTo>
                  <a:pt x="778" y="0"/>
                  <a:pt x="755" y="22"/>
                  <a:pt x="768" y="1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01840" y="3692520"/>
            <a:ext cx="1432080" cy="111240"/>
          </a:xfrm>
          <a:custGeom>
            <a:avLst/>
            <a:gdLst/>
            <a:ahLst/>
            <a:rect l="l" t="t" r="r" b="b"/>
            <a:pathLst>
              <a:path w="656" h="45">
                <a:moveTo>
                  <a:pt x="656" y="0"/>
                </a:moveTo>
                <a:cubicBezTo>
                  <a:pt x="570" y="17"/>
                  <a:pt x="485" y="34"/>
                  <a:pt x="376" y="40"/>
                </a:cubicBezTo>
                <a:cubicBezTo>
                  <a:pt x="266" y="45"/>
                  <a:pt x="62" y="36"/>
                  <a:pt x="0" y="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02320" y="2336760"/>
            <a:ext cx="1930320" cy="1689120"/>
          </a:xfrm>
          <a:prstGeom prst="rect">
            <a:avLst/>
          </a:prstGeom>
          <a:solidFill>
            <a:srgbClr val="ff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67560" y="2489040"/>
            <a:ext cx="1612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1360" y="2654280"/>
            <a:ext cx="1879560" cy="189216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44560" y="2806560"/>
            <a:ext cx="1587600" cy="162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3520" y="2803680"/>
            <a:ext cx="1578240" cy="930240"/>
          </a:xfrm>
          <a:custGeom>
            <a:avLst/>
            <a:gdLst/>
            <a:ahLst/>
            <a:rect l="l" t="t" r="r" b="b"/>
            <a:pathLst>
              <a:path w="723" h="375">
                <a:moveTo>
                  <a:pt x="100" y="244"/>
                </a:moveTo>
                <a:lnTo>
                  <a:pt x="110" y="244"/>
                </a:lnTo>
                <a:lnTo>
                  <a:pt x="115" y="250"/>
                </a:lnTo>
                <a:lnTo>
                  <a:pt x="120" y="261"/>
                </a:lnTo>
                <a:lnTo>
                  <a:pt x="125" y="267"/>
                </a:lnTo>
                <a:lnTo>
                  <a:pt x="125" y="279"/>
                </a:lnTo>
                <a:lnTo>
                  <a:pt x="125" y="284"/>
                </a:lnTo>
                <a:lnTo>
                  <a:pt x="125" y="290"/>
                </a:lnTo>
                <a:lnTo>
                  <a:pt x="115" y="296"/>
                </a:lnTo>
                <a:lnTo>
                  <a:pt x="100" y="290"/>
                </a:lnTo>
                <a:lnTo>
                  <a:pt x="90" y="284"/>
                </a:lnTo>
                <a:lnTo>
                  <a:pt x="80" y="279"/>
                </a:lnTo>
                <a:lnTo>
                  <a:pt x="70" y="279"/>
                </a:lnTo>
                <a:lnTo>
                  <a:pt x="60" y="279"/>
                </a:lnTo>
                <a:lnTo>
                  <a:pt x="55" y="284"/>
                </a:lnTo>
                <a:lnTo>
                  <a:pt x="55" y="290"/>
                </a:lnTo>
                <a:lnTo>
                  <a:pt x="60" y="296"/>
                </a:lnTo>
                <a:lnTo>
                  <a:pt x="70" y="301"/>
                </a:lnTo>
                <a:lnTo>
                  <a:pt x="85" y="307"/>
                </a:lnTo>
                <a:lnTo>
                  <a:pt x="95" y="318"/>
                </a:lnTo>
                <a:lnTo>
                  <a:pt x="95" y="330"/>
                </a:lnTo>
                <a:lnTo>
                  <a:pt x="95" y="341"/>
                </a:lnTo>
                <a:lnTo>
                  <a:pt x="95" y="347"/>
                </a:lnTo>
                <a:lnTo>
                  <a:pt x="90" y="352"/>
                </a:lnTo>
                <a:lnTo>
                  <a:pt x="80" y="358"/>
                </a:lnTo>
                <a:lnTo>
                  <a:pt x="65" y="364"/>
                </a:lnTo>
                <a:lnTo>
                  <a:pt x="55" y="358"/>
                </a:lnTo>
                <a:lnTo>
                  <a:pt x="50" y="358"/>
                </a:lnTo>
                <a:lnTo>
                  <a:pt x="35" y="341"/>
                </a:lnTo>
                <a:lnTo>
                  <a:pt x="20" y="324"/>
                </a:lnTo>
                <a:lnTo>
                  <a:pt x="5" y="301"/>
                </a:lnTo>
                <a:lnTo>
                  <a:pt x="0" y="290"/>
                </a:lnTo>
                <a:lnTo>
                  <a:pt x="0" y="284"/>
                </a:lnTo>
                <a:lnTo>
                  <a:pt x="20" y="244"/>
                </a:lnTo>
                <a:lnTo>
                  <a:pt x="30" y="227"/>
                </a:lnTo>
                <a:lnTo>
                  <a:pt x="35" y="222"/>
                </a:lnTo>
                <a:lnTo>
                  <a:pt x="40" y="222"/>
                </a:lnTo>
                <a:lnTo>
                  <a:pt x="55" y="222"/>
                </a:lnTo>
                <a:lnTo>
                  <a:pt x="65" y="216"/>
                </a:lnTo>
                <a:lnTo>
                  <a:pt x="70" y="210"/>
                </a:lnTo>
                <a:lnTo>
                  <a:pt x="75" y="205"/>
                </a:lnTo>
                <a:lnTo>
                  <a:pt x="70" y="199"/>
                </a:lnTo>
                <a:lnTo>
                  <a:pt x="70" y="188"/>
                </a:lnTo>
                <a:lnTo>
                  <a:pt x="70" y="182"/>
                </a:lnTo>
                <a:lnTo>
                  <a:pt x="80" y="165"/>
                </a:lnTo>
                <a:lnTo>
                  <a:pt x="95" y="148"/>
                </a:lnTo>
                <a:lnTo>
                  <a:pt x="110" y="136"/>
                </a:lnTo>
                <a:lnTo>
                  <a:pt x="294" y="0"/>
                </a:lnTo>
                <a:lnTo>
                  <a:pt x="324" y="11"/>
                </a:lnTo>
                <a:lnTo>
                  <a:pt x="359" y="23"/>
                </a:lnTo>
                <a:lnTo>
                  <a:pt x="379" y="23"/>
                </a:lnTo>
                <a:lnTo>
                  <a:pt x="399" y="23"/>
                </a:lnTo>
                <a:lnTo>
                  <a:pt x="414" y="17"/>
                </a:lnTo>
                <a:lnTo>
                  <a:pt x="429" y="6"/>
                </a:lnTo>
                <a:lnTo>
                  <a:pt x="464" y="0"/>
                </a:lnTo>
                <a:lnTo>
                  <a:pt x="494" y="0"/>
                </a:lnTo>
                <a:lnTo>
                  <a:pt x="524" y="11"/>
                </a:lnTo>
                <a:lnTo>
                  <a:pt x="549" y="23"/>
                </a:lnTo>
                <a:lnTo>
                  <a:pt x="634" y="63"/>
                </a:lnTo>
                <a:lnTo>
                  <a:pt x="683" y="80"/>
                </a:lnTo>
                <a:lnTo>
                  <a:pt x="698" y="85"/>
                </a:lnTo>
                <a:lnTo>
                  <a:pt x="708" y="91"/>
                </a:lnTo>
                <a:lnTo>
                  <a:pt x="723" y="176"/>
                </a:lnTo>
                <a:lnTo>
                  <a:pt x="688" y="176"/>
                </a:lnTo>
                <a:lnTo>
                  <a:pt x="624" y="171"/>
                </a:lnTo>
                <a:lnTo>
                  <a:pt x="519" y="154"/>
                </a:lnTo>
                <a:lnTo>
                  <a:pt x="514" y="176"/>
                </a:lnTo>
                <a:lnTo>
                  <a:pt x="519" y="199"/>
                </a:lnTo>
                <a:lnTo>
                  <a:pt x="524" y="239"/>
                </a:lnTo>
                <a:lnTo>
                  <a:pt x="529" y="267"/>
                </a:lnTo>
                <a:lnTo>
                  <a:pt x="524" y="301"/>
                </a:lnTo>
                <a:lnTo>
                  <a:pt x="519" y="347"/>
                </a:lnTo>
                <a:lnTo>
                  <a:pt x="494" y="341"/>
                </a:lnTo>
                <a:lnTo>
                  <a:pt x="334" y="330"/>
                </a:lnTo>
                <a:lnTo>
                  <a:pt x="249" y="330"/>
                </a:lnTo>
                <a:lnTo>
                  <a:pt x="214" y="335"/>
                </a:lnTo>
                <a:lnTo>
                  <a:pt x="194" y="341"/>
                </a:lnTo>
                <a:lnTo>
                  <a:pt x="185" y="347"/>
                </a:lnTo>
                <a:lnTo>
                  <a:pt x="185" y="352"/>
                </a:lnTo>
                <a:lnTo>
                  <a:pt x="190" y="358"/>
                </a:lnTo>
                <a:lnTo>
                  <a:pt x="199" y="364"/>
                </a:lnTo>
                <a:lnTo>
                  <a:pt x="224" y="369"/>
                </a:lnTo>
                <a:lnTo>
                  <a:pt x="244" y="3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48280" y="3014640"/>
            <a:ext cx="360360" cy="520560"/>
          </a:xfrm>
          <a:custGeom>
            <a:avLst/>
            <a:gdLst/>
            <a:ahLst/>
            <a:rect l="l" t="t" r="r" b="b"/>
            <a:pathLst>
              <a:path w="165" h="210">
                <a:moveTo>
                  <a:pt x="0" y="0"/>
                </a:moveTo>
                <a:lnTo>
                  <a:pt x="35" y="17"/>
                </a:lnTo>
                <a:lnTo>
                  <a:pt x="50" y="17"/>
                </a:lnTo>
                <a:lnTo>
                  <a:pt x="60" y="17"/>
                </a:lnTo>
                <a:lnTo>
                  <a:pt x="70" y="11"/>
                </a:lnTo>
                <a:lnTo>
                  <a:pt x="80" y="11"/>
                </a:lnTo>
                <a:lnTo>
                  <a:pt x="105" y="11"/>
                </a:lnTo>
                <a:lnTo>
                  <a:pt x="115" y="17"/>
                </a:lnTo>
                <a:lnTo>
                  <a:pt x="125" y="23"/>
                </a:lnTo>
                <a:lnTo>
                  <a:pt x="135" y="34"/>
                </a:lnTo>
                <a:lnTo>
                  <a:pt x="140" y="45"/>
                </a:lnTo>
                <a:lnTo>
                  <a:pt x="160" y="102"/>
                </a:lnTo>
                <a:lnTo>
                  <a:pt x="165" y="131"/>
                </a:lnTo>
                <a:lnTo>
                  <a:pt x="165" y="142"/>
                </a:lnTo>
                <a:lnTo>
                  <a:pt x="160" y="153"/>
                </a:lnTo>
                <a:lnTo>
                  <a:pt x="155" y="165"/>
                </a:lnTo>
                <a:lnTo>
                  <a:pt x="145" y="182"/>
                </a:lnTo>
                <a:lnTo>
                  <a:pt x="135" y="193"/>
                </a:lnTo>
                <a:lnTo>
                  <a:pt x="130" y="199"/>
                </a:lnTo>
                <a:lnTo>
                  <a:pt x="125" y="205"/>
                </a:lnTo>
                <a:lnTo>
                  <a:pt x="115" y="205"/>
                </a:lnTo>
                <a:lnTo>
                  <a:pt x="105" y="210"/>
                </a:lnTo>
                <a:lnTo>
                  <a:pt x="100" y="205"/>
                </a:lnTo>
                <a:lnTo>
                  <a:pt x="95" y="205"/>
                </a:lnTo>
                <a:lnTo>
                  <a:pt x="90" y="199"/>
                </a:lnTo>
                <a:lnTo>
                  <a:pt x="90" y="193"/>
                </a:lnTo>
                <a:lnTo>
                  <a:pt x="90" y="170"/>
                </a:lnTo>
                <a:lnTo>
                  <a:pt x="100" y="153"/>
                </a:lnTo>
                <a:lnTo>
                  <a:pt x="110" y="131"/>
                </a:lnTo>
                <a:lnTo>
                  <a:pt x="115" y="119"/>
                </a:lnTo>
                <a:lnTo>
                  <a:pt x="110" y="108"/>
                </a:lnTo>
                <a:lnTo>
                  <a:pt x="105" y="85"/>
                </a:lnTo>
                <a:lnTo>
                  <a:pt x="100" y="80"/>
                </a:lnTo>
                <a:lnTo>
                  <a:pt x="95" y="85"/>
                </a:lnTo>
                <a:lnTo>
                  <a:pt x="95" y="91"/>
                </a:lnTo>
                <a:lnTo>
                  <a:pt x="95" y="97"/>
                </a:lnTo>
                <a:lnTo>
                  <a:pt x="95" y="102"/>
                </a:lnTo>
                <a:lnTo>
                  <a:pt x="100" y="108"/>
                </a:lnTo>
                <a:lnTo>
                  <a:pt x="105" y="119"/>
                </a:lnTo>
                <a:lnTo>
                  <a:pt x="110" y="131"/>
                </a:lnTo>
                <a:lnTo>
                  <a:pt x="110" y="136"/>
                </a:lnTo>
                <a:lnTo>
                  <a:pt x="105" y="148"/>
                </a:lnTo>
                <a:lnTo>
                  <a:pt x="100" y="153"/>
                </a:lnTo>
                <a:lnTo>
                  <a:pt x="95" y="159"/>
                </a:lnTo>
                <a:lnTo>
                  <a:pt x="90" y="159"/>
                </a:lnTo>
                <a:lnTo>
                  <a:pt x="85" y="153"/>
                </a:lnTo>
                <a:lnTo>
                  <a:pt x="60" y="102"/>
                </a:lnTo>
                <a:lnTo>
                  <a:pt x="15" y="8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02200" y="2465280"/>
            <a:ext cx="65160" cy="324000"/>
          </a:xfrm>
          <a:custGeom>
            <a:avLst/>
            <a:gdLst/>
            <a:ahLst/>
            <a:rect l="l" t="t" r="r" b="b"/>
            <a:pathLst>
              <a:path w="30" h="131">
                <a:moveTo>
                  <a:pt x="20" y="131"/>
                </a:moveTo>
                <a:lnTo>
                  <a:pt x="30" y="114"/>
                </a:lnTo>
                <a:lnTo>
                  <a:pt x="30" y="91"/>
                </a:lnTo>
                <a:lnTo>
                  <a:pt x="25" y="80"/>
                </a:lnTo>
                <a:lnTo>
                  <a:pt x="20" y="69"/>
                </a:lnTo>
                <a:lnTo>
                  <a:pt x="10" y="29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7040" y="2268360"/>
            <a:ext cx="108000" cy="184320"/>
          </a:xfrm>
          <a:custGeom>
            <a:avLst/>
            <a:gdLst/>
            <a:ahLst/>
            <a:rect l="l" t="t" r="r" b="b"/>
            <a:pathLst>
              <a:path w="50" h="74">
                <a:moveTo>
                  <a:pt x="50" y="5"/>
                </a:moveTo>
                <a:lnTo>
                  <a:pt x="40" y="0"/>
                </a:lnTo>
                <a:lnTo>
                  <a:pt x="30" y="0"/>
                </a:lnTo>
                <a:lnTo>
                  <a:pt x="25" y="0"/>
                </a:lnTo>
                <a:lnTo>
                  <a:pt x="15" y="0"/>
                </a:lnTo>
                <a:lnTo>
                  <a:pt x="10" y="5"/>
                </a:lnTo>
                <a:lnTo>
                  <a:pt x="5" y="17"/>
                </a:lnTo>
                <a:lnTo>
                  <a:pt x="0" y="34"/>
                </a:lnTo>
                <a:lnTo>
                  <a:pt x="5" y="45"/>
                </a:lnTo>
                <a:lnTo>
                  <a:pt x="15" y="62"/>
                </a:lnTo>
                <a:lnTo>
                  <a:pt x="25" y="68"/>
                </a:lnTo>
                <a:lnTo>
                  <a:pt x="40" y="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02200" y="1928880"/>
            <a:ext cx="54000" cy="325440"/>
          </a:xfrm>
          <a:custGeom>
            <a:avLst/>
            <a:gdLst/>
            <a:ahLst/>
            <a:rect l="l" t="t" r="r" b="b"/>
            <a:pathLst>
              <a:path w="25" h="131">
                <a:moveTo>
                  <a:pt x="0" y="131"/>
                </a:moveTo>
                <a:lnTo>
                  <a:pt x="0" y="97"/>
                </a:lnTo>
                <a:lnTo>
                  <a:pt x="0" y="57"/>
                </a:lnTo>
                <a:lnTo>
                  <a:pt x="0" y="40"/>
                </a:lnTo>
                <a:lnTo>
                  <a:pt x="5" y="23"/>
                </a:lnTo>
                <a:lnTo>
                  <a:pt x="15" y="12"/>
                </a:lnTo>
                <a:lnTo>
                  <a:pt x="2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40240" y="1943280"/>
            <a:ext cx="185760" cy="861840"/>
          </a:xfrm>
          <a:custGeom>
            <a:avLst/>
            <a:gdLst/>
            <a:ahLst/>
            <a:rect l="l" t="t" r="r" b="b"/>
            <a:pathLst>
              <a:path w="85" h="347">
                <a:moveTo>
                  <a:pt x="85" y="0"/>
                </a:moveTo>
                <a:lnTo>
                  <a:pt x="85" y="23"/>
                </a:lnTo>
                <a:lnTo>
                  <a:pt x="80" y="46"/>
                </a:lnTo>
                <a:lnTo>
                  <a:pt x="80" y="63"/>
                </a:lnTo>
                <a:lnTo>
                  <a:pt x="75" y="74"/>
                </a:lnTo>
                <a:lnTo>
                  <a:pt x="80" y="108"/>
                </a:lnTo>
                <a:lnTo>
                  <a:pt x="85" y="154"/>
                </a:lnTo>
                <a:lnTo>
                  <a:pt x="85" y="171"/>
                </a:lnTo>
                <a:lnTo>
                  <a:pt x="80" y="199"/>
                </a:lnTo>
                <a:lnTo>
                  <a:pt x="65" y="244"/>
                </a:lnTo>
                <a:lnTo>
                  <a:pt x="55" y="256"/>
                </a:lnTo>
                <a:lnTo>
                  <a:pt x="40" y="279"/>
                </a:lnTo>
                <a:lnTo>
                  <a:pt x="25" y="296"/>
                </a:lnTo>
                <a:lnTo>
                  <a:pt x="10" y="307"/>
                </a:lnTo>
                <a:lnTo>
                  <a:pt x="5" y="313"/>
                </a:lnTo>
                <a:lnTo>
                  <a:pt x="0" y="318"/>
                </a:lnTo>
                <a:lnTo>
                  <a:pt x="0" y="330"/>
                </a:lnTo>
                <a:lnTo>
                  <a:pt x="0" y="3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40240" y="2254320"/>
            <a:ext cx="65160" cy="182520"/>
          </a:xfrm>
          <a:custGeom>
            <a:avLst/>
            <a:gdLst/>
            <a:ahLst/>
            <a:rect l="l" t="t" r="r" b="b"/>
            <a:pathLst>
              <a:path w="30" h="74">
                <a:moveTo>
                  <a:pt x="0" y="0"/>
                </a:moveTo>
                <a:lnTo>
                  <a:pt x="15" y="17"/>
                </a:lnTo>
                <a:lnTo>
                  <a:pt x="30" y="46"/>
                </a:lnTo>
                <a:lnTo>
                  <a:pt x="30" y="57"/>
                </a:lnTo>
                <a:lnTo>
                  <a:pt x="30" y="63"/>
                </a:lnTo>
                <a:lnTo>
                  <a:pt x="25" y="68"/>
                </a:lnTo>
                <a:lnTo>
                  <a:pt x="20" y="68"/>
                </a:lnTo>
                <a:lnTo>
                  <a:pt x="5" y="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99120" y="2465280"/>
            <a:ext cx="141120" cy="84240"/>
          </a:xfrm>
          <a:custGeom>
            <a:avLst/>
            <a:gdLst/>
            <a:ahLst/>
            <a:rect l="l" t="t" r="r" b="b"/>
            <a:pathLst>
              <a:path w="65" h="34">
                <a:moveTo>
                  <a:pt x="0" y="0"/>
                </a:moveTo>
                <a:lnTo>
                  <a:pt x="10" y="17"/>
                </a:lnTo>
                <a:lnTo>
                  <a:pt x="25" y="29"/>
                </a:lnTo>
                <a:lnTo>
                  <a:pt x="45" y="34"/>
                </a:lnTo>
                <a:lnTo>
                  <a:pt x="55" y="34"/>
                </a:lnTo>
                <a:lnTo>
                  <a:pt x="65" y="3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1960" y="2211480"/>
            <a:ext cx="33120" cy="6984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28"/>
                </a:moveTo>
                <a:lnTo>
                  <a:pt x="5" y="28"/>
                </a:lnTo>
                <a:lnTo>
                  <a:pt x="10" y="23"/>
                </a:lnTo>
                <a:lnTo>
                  <a:pt x="10" y="17"/>
                </a:lnTo>
                <a:lnTo>
                  <a:pt x="15" y="6"/>
                </a:lnTo>
                <a:lnTo>
                  <a:pt x="10" y="6"/>
                </a:lnTo>
                <a:lnTo>
                  <a:pt x="10" y="0"/>
                </a:lnTo>
                <a:lnTo>
                  <a:pt x="5" y="6"/>
                </a:ln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23"/>
                </a:lnTo>
                <a:lnTo>
                  <a:pt x="0" y="2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27720" y="2211480"/>
            <a:ext cx="33120" cy="6984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28"/>
                </a:moveTo>
                <a:lnTo>
                  <a:pt x="5" y="28"/>
                </a:lnTo>
                <a:lnTo>
                  <a:pt x="5" y="23"/>
                </a:lnTo>
                <a:lnTo>
                  <a:pt x="10" y="17"/>
                </a:lnTo>
                <a:lnTo>
                  <a:pt x="15" y="6"/>
                </a:lnTo>
                <a:lnTo>
                  <a:pt x="10" y="0"/>
                </a:lnTo>
                <a:lnTo>
                  <a:pt x="5" y="0"/>
                </a:lnTo>
                <a:lnTo>
                  <a:pt x="0" y="6"/>
                </a:lnTo>
                <a:lnTo>
                  <a:pt x="0" y="17"/>
                </a:lnTo>
                <a:lnTo>
                  <a:pt x="0" y="23"/>
                </a:lnTo>
                <a:lnTo>
                  <a:pt x="0" y="2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1887480"/>
            <a:ext cx="11160" cy="84240"/>
          </a:xfrm>
          <a:custGeom>
            <a:avLst/>
            <a:gdLst/>
            <a:ahLst/>
            <a:rect l="l" t="t" r="r" b="b"/>
            <a:pathLst>
              <a:path w="5" h="34">
                <a:moveTo>
                  <a:pt x="0" y="34"/>
                </a:moveTo>
                <a:lnTo>
                  <a:pt x="5" y="12"/>
                </a:lnTo>
                <a:lnTo>
                  <a:pt x="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243320" y="1874880"/>
            <a:ext cx="1116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276800" y="1859040"/>
            <a:ext cx="1116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19640" y="1859040"/>
            <a:ext cx="11160" cy="84240"/>
          </a:xfrm>
          <a:custGeom>
            <a:avLst/>
            <a:gdLst/>
            <a:ahLst/>
            <a:rect l="l" t="t" r="r" b="b"/>
            <a:pathLst>
              <a:path w="5" h="34">
                <a:moveTo>
                  <a:pt x="0" y="34"/>
                </a:moveTo>
                <a:lnTo>
                  <a:pt x="5" y="11"/>
                </a:lnTo>
                <a:lnTo>
                  <a:pt x="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75080" y="1844640"/>
            <a:ext cx="1116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7920" y="1844640"/>
            <a:ext cx="11160" cy="84240"/>
          </a:xfrm>
          <a:custGeom>
            <a:avLst/>
            <a:gdLst/>
            <a:ahLst/>
            <a:rect l="l" t="t" r="r" b="b"/>
            <a:pathLst>
              <a:path w="5" h="34">
                <a:moveTo>
                  <a:pt x="0" y="34"/>
                </a:moveTo>
                <a:lnTo>
                  <a:pt x="5" y="12"/>
                </a:lnTo>
                <a:lnTo>
                  <a:pt x="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570560" y="1915920"/>
            <a:ext cx="21960" cy="8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27720" y="1887480"/>
            <a:ext cx="1080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73720" y="1859040"/>
            <a:ext cx="9360" cy="84240"/>
          </a:xfrm>
          <a:custGeom>
            <a:avLst/>
            <a:gdLst/>
            <a:ahLst/>
            <a:rect l="l" t="t" r="r" b="b"/>
            <a:pathLst>
              <a:path w="5" h="34">
                <a:moveTo>
                  <a:pt x="0" y="34"/>
                </a:moveTo>
                <a:lnTo>
                  <a:pt x="5" y="11"/>
                </a:lnTo>
                <a:lnTo>
                  <a:pt x="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3198960"/>
            <a:ext cx="303480" cy="463320"/>
          </a:xfrm>
          <a:custGeom>
            <a:avLst/>
            <a:gdLst/>
            <a:ahLst/>
            <a:rect l="l" t="t" r="r" b="b"/>
            <a:pathLst>
              <a:path w="139" h="187">
                <a:moveTo>
                  <a:pt x="45" y="187"/>
                </a:moveTo>
                <a:lnTo>
                  <a:pt x="59" y="170"/>
                </a:lnTo>
                <a:lnTo>
                  <a:pt x="74" y="159"/>
                </a:lnTo>
                <a:lnTo>
                  <a:pt x="89" y="153"/>
                </a:lnTo>
                <a:lnTo>
                  <a:pt x="99" y="142"/>
                </a:lnTo>
                <a:lnTo>
                  <a:pt x="124" y="102"/>
                </a:lnTo>
                <a:lnTo>
                  <a:pt x="129" y="85"/>
                </a:lnTo>
                <a:lnTo>
                  <a:pt x="134" y="74"/>
                </a:lnTo>
                <a:lnTo>
                  <a:pt x="139" y="51"/>
                </a:lnTo>
                <a:lnTo>
                  <a:pt x="134" y="23"/>
                </a:lnTo>
                <a:lnTo>
                  <a:pt x="134" y="11"/>
                </a:lnTo>
                <a:lnTo>
                  <a:pt x="129" y="6"/>
                </a:lnTo>
                <a:lnTo>
                  <a:pt x="124" y="0"/>
                </a:lnTo>
                <a:lnTo>
                  <a:pt x="119" y="0"/>
                </a:lnTo>
                <a:lnTo>
                  <a:pt x="114" y="0"/>
                </a:lnTo>
                <a:lnTo>
                  <a:pt x="109" y="6"/>
                </a:lnTo>
                <a:lnTo>
                  <a:pt x="50" y="45"/>
                </a:lnTo>
                <a:lnTo>
                  <a:pt x="0" y="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7640" y="3516120"/>
            <a:ext cx="286200" cy="212040"/>
            <a:chOff x="3707640" y="3516120"/>
            <a:chExt cx="286200" cy="212040"/>
          </a:xfrm>
        </p:grpSpPr>
        <p:sp>
          <p:nvSpPr>
            <p:cNvPr id="77" name=""/>
            <p:cNvSpPr/>
            <p:nvPr/>
          </p:nvSpPr>
          <p:spPr>
            <a:xfrm rot="20506200">
              <a:off x="3793320" y="3548160"/>
              <a:ext cx="102960" cy="11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0506200">
              <a:off x="3734280" y="3527640"/>
              <a:ext cx="104760" cy="188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887280" y="3540240"/>
              <a:ext cx="91080" cy="2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902760" y="3587400"/>
              <a:ext cx="91080" cy="2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rot="20113800">
            <a:off x="4066920" y="3240000"/>
            <a:ext cx="955440" cy="685800"/>
          </a:xfrm>
          <a:custGeom>
            <a:avLst/>
            <a:gdLst/>
            <a:ahLst/>
            <a:rect l="l" t="t" r="r" b="b"/>
            <a:pathLst>
              <a:path w="1131" h="1008">
                <a:moveTo>
                  <a:pt x="0" y="112"/>
                </a:moveTo>
                <a:cubicBezTo>
                  <a:pt x="8" y="134"/>
                  <a:pt x="13" y="155"/>
                  <a:pt x="27" y="176"/>
                </a:cubicBezTo>
                <a:cubicBezTo>
                  <a:pt x="39" y="215"/>
                  <a:pt x="28" y="165"/>
                  <a:pt x="43" y="208"/>
                </a:cubicBezTo>
                <a:lnTo>
                  <a:pt x="166" y="448"/>
                </a:lnTo>
                <a:lnTo>
                  <a:pt x="262" y="262"/>
                </a:lnTo>
                <a:lnTo>
                  <a:pt x="326" y="518"/>
                </a:lnTo>
                <a:lnTo>
                  <a:pt x="464" y="214"/>
                </a:lnTo>
                <a:lnTo>
                  <a:pt x="518" y="694"/>
                </a:lnTo>
                <a:lnTo>
                  <a:pt x="592" y="486"/>
                </a:lnTo>
                <a:lnTo>
                  <a:pt x="635" y="752"/>
                </a:lnTo>
                <a:lnTo>
                  <a:pt x="774" y="427"/>
                </a:lnTo>
                <a:lnTo>
                  <a:pt x="811" y="923"/>
                </a:lnTo>
                <a:lnTo>
                  <a:pt x="912" y="747"/>
                </a:lnTo>
                <a:lnTo>
                  <a:pt x="950" y="1008"/>
                </a:lnTo>
                <a:lnTo>
                  <a:pt x="1131" y="667"/>
                </a:lnTo>
                <a:lnTo>
                  <a:pt x="992" y="806"/>
                </a:lnTo>
                <a:lnTo>
                  <a:pt x="950" y="651"/>
                </a:lnTo>
                <a:lnTo>
                  <a:pt x="854" y="742"/>
                </a:lnTo>
                <a:lnTo>
                  <a:pt x="806" y="347"/>
                </a:lnTo>
                <a:lnTo>
                  <a:pt x="667" y="528"/>
                </a:lnTo>
                <a:lnTo>
                  <a:pt x="619" y="390"/>
                </a:lnTo>
                <a:lnTo>
                  <a:pt x="550" y="491"/>
                </a:lnTo>
                <a:lnTo>
                  <a:pt x="486" y="144"/>
                </a:lnTo>
                <a:lnTo>
                  <a:pt x="347" y="326"/>
                </a:lnTo>
                <a:lnTo>
                  <a:pt x="283" y="182"/>
                </a:lnTo>
                <a:lnTo>
                  <a:pt x="176" y="310"/>
                </a:lnTo>
                <a:lnTo>
                  <a:pt x="70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016960" y="3305880"/>
            <a:ext cx="289080" cy="215280"/>
            <a:chOff x="5016960" y="3305880"/>
            <a:chExt cx="289080" cy="215280"/>
          </a:xfrm>
        </p:grpSpPr>
        <p:sp>
          <p:nvSpPr>
            <p:cNvPr id="83" name=""/>
            <p:cNvSpPr/>
            <p:nvPr/>
          </p:nvSpPr>
          <p:spPr>
            <a:xfrm rot="9272400">
              <a:off x="5110920" y="3378240"/>
              <a:ext cx="102960" cy="11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9272400">
              <a:off x="5165640" y="3318840"/>
              <a:ext cx="104760" cy="188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038560" y="3477960"/>
              <a:ext cx="86760" cy="4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16960" y="3432960"/>
              <a:ext cx="86760" cy="4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261040" y="3371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293960" y="2666520"/>
            <a:ext cx="971640" cy="917640"/>
            <a:chOff x="7293960" y="2666520"/>
            <a:chExt cx="971640" cy="917640"/>
          </a:xfrm>
        </p:grpSpPr>
        <p:sp>
          <p:nvSpPr>
            <p:cNvPr id="89" name=""/>
            <p:cNvSpPr/>
            <p:nvPr/>
          </p:nvSpPr>
          <p:spPr>
            <a:xfrm rot="1563600">
              <a:off x="7380360" y="2859840"/>
              <a:ext cx="798480" cy="578160"/>
            </a:xfrm>
            <a:prstGeom prst="roundRect">
              <a:avLst>
                <a:gd name="adj" fmla="val 16667"/>
              </a:avLst>
            </a:prstGeom>
            <a:solidFill>
              <a:srgbClr val="d0ba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61400">
              <a:off x="7462080" y="2814480"/>
              <a:ext cx="69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aster C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53000">
              <a:off x="7396200" y="3034800"/>
              <a:ext cx="735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000 0000 000 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53000">
              <a:off x="7356960" y="3070080"/>
              <a:ext cx="519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P 00/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 rot="20998800">
            <a:off x="6791040" y="2646000"/>
            <a:ext cx="798480" cy="5778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1096600">
            <a:off x="6936120" y="2644560"/>
            <a:ext cx="41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1088800">
            <a:off x="6796080" y="2835360"/>
            <a:ext cx="73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00 0000 000 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1088800">
            <a:off x="6806160" y="2949480"/>
            <a:ext cx="51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XP 00/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21042000">
            <a:off x="6824520" y="3068280"/>
            <a:ext cx="640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ry R. Hobb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831400">
            <a:off x="6950520" y="2997720"/>
            <a:ext cx="798480" cy="57816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724000">
            <a:off x="7022160" y="3062160"/>
            <a:ext cx="93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merican Ex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920800">
            <a:off x="6973920" y="3168360"/>
            <a:ext cx="73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00 0000 000 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920800">
            <a:off x="6932160" y="3148200"/>
            <a:ext cx="51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XP 00/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875200">
            <a:off x="6814080" y="3278160"/>
            <a:ext cx="640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ry R. Hobb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6040" y="290844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DAML-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462600">
            <a:off x="1548720" y="284940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84680" y="3670200"/>
            <a:ext cx="4824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8640" y="789120"/>
            <a:ext cx="733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DAML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A DAML+OIL Ontology for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8080" y="5130720"/>
            <a:ext cx="78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Brought to you by the DAML-S Web Services Coal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59720" y="6143760"/>
            <a:ext cx="27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compliments of Hobbs &amp; Connolly, S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28400" y="1166400"/>
            <a:ext cx="83725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description of a service and its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service (human readab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functionalities service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ttributes (requirements and capabil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 us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ng service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servic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990720"/>
            <a:ext cx="8136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rvic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rvic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69960" y="1353960"/>
            <a:ext cx="8205840" cy="4572000"/>
            <a:chOff x="669960" y="1353960"/>
            <a:chExt cx="8205840" cy="4572000"/>
          </a:xfrm>
        </p:grpSpPr>
        <p:pic>
          <p:nvPicPr>
            <p:cNvPr id="156" name="ProfileOntologyWide" descr=""/>
            <p:cNvPicPr/>
            <p:nvPr/>
          </p:nvPicPr>
          <p:blipFill>
            <a:blip r:embed="rId1"/>
            <a:stretch/>
          </p:blipFill>
          <p:spPr>
            <a:xfrm>
              <a:off x="669960" y="1353960"/>
              <a:ext cx="8115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971880" y="1387440"/>
              <a:ext cx="4903920" cy="44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1080" y="2855880"/>
              <a:ext cx="4903560" cy="198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5040" y="3406680"/>
              <a:ext cx="11048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8920" y="3263760"/>
              <a:ext cx="110520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43160" y="3121200"/>
              <a:ext cx="11048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27400" y="2978280"/>
              <a:ext cx="11048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19400" y="3139920"/>
              <a:ext cx="11048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05080" y="1681200"/>
            <a:ext cx="427572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 Shipping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33 Travi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chester, 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U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acmeship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hip@acm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rvic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rofileOntologyWide" descr=""/>
          <p:cNvPicPr/>
          <p:nvPr/>
        </p:nvPicPr>
        <p:blipFill>
          <a:blip r:embed="rId1"/>
          <a:stretch/>
        </p:blipFill>
        <p:spPr>
          <a:xfrm>
            <a:off x="514440" y="2022480"/>
            <a:ext cx="81151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34440" y="1270080"/>
            <a:ext cx="634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vice is provided by an Actor (service provi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.g., AcmeBookShipping is provided by Acme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rvic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34080" y="1270080"/>
            <a:ext cx="8692200" cy="5276520"/>
            <a:chOff x="334080" y="1270080"/>
            <a:chExt cx="8692200" cy="5276520"/>
          </a:xfrm>
        </p:grpSpPr>
        <p:grpSp>
          <p:nvGrpSpPr>
            <p:cNvPr id="172" name=""/>
            <p:cNvGrpSpPr/>
            <p:nvPr/>
          </p:nvGrpSpPr>
          <p:grpSpPr>
            <a:xfrm>
              <a:off x="644400" y="1606680"/>
              <a:ext cx="8381880" cy="4572000"/>
              <a:chOff x="644400" y="1606680"/>
              <a:chExt cx="8381880" cy="4572000"/>
            </a:xfrm>
          </p:grpSpPr>
          <p:pic>
            <p:nvPicPr>
              <p:cNvPr id="173" name="ProfileOntologyWide" descr=""/>
              <p:cNvPicPr/>
              <p:nvPr/>
            </p:nvPicPr>
            <p:blipFill>
              <a:blip r:embed="rId1"/>
              <a:stretch/>
            </p:blipFill>
            <p:spPr>
              <a:xfrm>
                <a:off x="911160" y="1606680"/>
                <a:ext cx="8115120" cy="45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644400" y="1833840"/>
                <a:ext cx="2997000" cy="418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07880" y="5162760"/>
                <a:ext cx="299736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49280" y="2554560"/>
                <a:ext cx="2997000" cy="57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57080" y="3105360"/>
                <a:ext cx="2962440" cy="20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20440" y="3070440"/>
                <a:ext cx="2962440" cy="20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06480" y="3035520"/>
                <a:ext cx="2962080" cy="20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34080" y="1270080"/>
              <a:ext cx="4138560" cy="52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meBookShipp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videdBy AcmeShipp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ographicRadius U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put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stomer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ig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D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firmation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n “successful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econd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ffec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c(Goods, Dest,  DelDa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n “successful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pper Ontology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ServiceOntology" descr=""/>
          <p:cNvPicPr/>
          <p:nvPr/>
        </p:nvPicPr>
        <p:blipFill>
          <a:blip r:embed="rId1"/>
          <a:stretch/>
        </p:blipFill>
        <p:spPr>
          <a:xfrm>
            <a:off x="1190520" y="2185920"/>
            <a:ext cx="6810480" cy="3108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86520" y="3763800"/>
            <a:ext cx="3092400" cy="2059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rvi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rocessModel" descr=""/>
          <p:cNvPicPr/>
          <p:nvPr/>
        </p:nvPicPr>
        <p:blipFill>
          <a:blip r:embed="rId1"/>
          <a:stretch/>
        </p:blipFill>
        <p:spPr>
          <a:xfrm>
            <a:off x="1204920" y="1519200"/>
            <a:ext cx="6645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6400" y="52020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rvice Model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How does it work?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9840" y="1295280"/>
            <a:ext cx="880416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ervice is conceived as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mposite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vent/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with each service is a set of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nputs, outputs, preconditions and effects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unction and action metaph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processes are compositions of simple or other composite processes in terms of constructs such as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quence, if-then-else, 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low and Control flow should be described for each composi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black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glass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ew are given of each composi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model used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utomated) Web service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nvocation, com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nter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tentially together w/ groundin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22860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oces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990720"/>
            <a:ext cx="8136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794120" y="3743280"/>
            <a:ext cx="438120" cy="111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492280" y="3441240"/>
            <a:ext cx="414360" cy="111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1520" y="2736720"/>
            <a:ext cx="1963800" cy="238068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 Bo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 Sh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nction/Dataflow Metaph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1760" y="1778040"/>
            <a:ext cx="887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33360" y="2332080"/>
            <a:ext cx="2149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27120" y="17780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63080" y="4370400"/>
            <a:ext cx="23187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97840" y="3043080"/>
            <a:ext cx="965160" cy="4953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97840" y="3851280"/>
            <a:ext cx="960480" cy="5126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48440" y="3257640"/>
            <a:ext cx="1933200" cy="916920"/>
          </a:xfrm>
          <a:prstGeom prst="rect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ruck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valid 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69520" y="3184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00120" y="3822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78400" y="3538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5720" y="2205000"/>
            <a:ext cx="209484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I-inspired Action/Process Metaph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990720"/>
            <a:ext cx="8318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1760" y="1622520"/>
            <a:ext cx="887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In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11040" y="1246320"/>
            <a:ext cx="2149560" cy="70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onfirmation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27120" y="12207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40760" y="4370400"/>
            <a:ext cx="2318760" cy="70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ailure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48440" y="3257640"/>
            <a:ext cx="1933200" cy="916920"/>
          </a:xfrm>
          <a:prstGeom prst="rect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ruck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valid 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69320" y="3184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79400" y="3822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78400" y="3538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3759120"/>
            <a:ext cx="196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5720" y="2049480"/>
            <a:ext cx="209484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ustome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ickup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720" y="4186080"/>
            <a:ext cx="211464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26640" y="2127240"/>
            <a:ext cx="26449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s a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uccess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card debite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36480" y="21304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22440" y="4773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31800" y="52992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96680" y="5289480"/>
            <a:ext cx="1665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no effect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86680" y="3911760"/>
            <a:ext cx="663480" cy="461880"/>
          </a:xfrm>
          <a:custGeom>
            <a:avLst/>
            <a:gdLst/>
            <a:ahLst/>
            <a:rect l="l" t="t" r="r" b="b"/>
            <a:pathLst>
              <a:path w="418" h="291">
                <a:moveTo>
                  <a:pt x="0" y="0"/>
                </a:moveTo>
                <a:lnTo>
                  <a:pt x="418" y="0"/>
                </a:lnTo>
                <a:lnTo>
                  <a:pt x="418" y="291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182000" y="3134520"/>
            <a:ext cx="663480" cy="461880"/>
          </a:xfrm>
          <a:custGeom>
            <a:avLst/>
            <a:gdLst/>
            <a:ahLst/>
            <a:rect l="l" t="t" r="r" b="b"/>
            <a:pathLst>
              <a:path w="418" h="291">
                <a:moveTo>
                  <a:pt x="0" y="0"/>
                </a:moveTo>
                <a:lnTo>
                  <a:pt x="418" y="0"/>
                </a:lnTo>
                <a:lnTo>
                  <a:pt x="418" y="291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492280" y="2736720"/>
            <a:ext cx="2739960" cy="2380680"/>
            <a:chOff x="2492280" y="2736720"/>
            <a:chExt cx="2739960" cy="2380680"/>
          </a:xfrm>
        </p:grpSpPr>
        <p:sp>
          <p:nvSpPr>
            <p:cNvPr id="229" name=""/>
            <p:cNvSpPr/>
            <p:nvPr/>
          </p:nvSpPr>
          <p:spPr>
            <a:xfrm>
              <a:off x="4794120" y="3743280"/>
              <a:ext cx="438120" cy="11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492280" y="3441240"/>
              <a:ext cx="414360" cy="11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91520" y="2736720"/>
              <a:ext cx="1963800" cy="238068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me Book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uck Sh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27200" y="4687560"/>
              <a:ext cx="414360" cy="11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31840" y="1224000"/>
            <a:ext cx="6840720" cy="484884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meTruckSh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26400" y="3936960"/>
            <a:ext cx="598320" cy="1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52840" y="4322880"/>
            <a:ext cx="598320" cy="1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0120" y="1870200"/>
            <a:ext cx="598680" cy="1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46120" y="4819680"/>
            <a:ext cx="700560" cy="587160"/>
          </a:xfrm>
          <a:prstGeom prst="rect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www.acmeair.com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ok flight ser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90400" y="4800600"/>
            <a:ext cx="660600" cy="54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ustomer nam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light number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dit card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73640" y="4440240"/>
            <a:ext cx="674280" cy="245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firmation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9960" y="5381640"/>
            <a:ext cx="715680" cy="321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ailure notifica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rrror informa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55680" y="5060880"/>
            <a:ext cx="3137040" cy="963720"/>
          </a:xfrm>
          <a:custGeom>
            <a:avLst/>
            <a:gdLst/>
            <a:ahLst/>
            <a:rect l="l" t="t" r="r" b="b"/>
            <a:pathLst>
              <a:path w="3202" h="723">
                <a:moveTo>
                  <a:pt x="2982" y="397"/>
                </a:moveTo>
                <a:lnTo>
                  <a:pt x="3202" y="397"/>
                </a:lnTo>
                <a:lnTo>
                  <a:pt x="3202" y="723"/>
                </a:lnTo>
                <a:lnTo>
                  <a:pt x="0" y="723"/>
                </a:lnTo>
                <a:lnTo>
                  <a:pt x="0" y="0"/>
                </a:lnTo>
                <a:lnTo>
                  <a:pt x="238" y="0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65400" y="5035680"/>
            <a:ext cx="166680" cy="144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7240" y="4870440"/>
            <a:ext cx="273600" cy="2764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3320" y="5033880"/>
            <a:ext cx="1238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4160" y="4686480"/>
            <a:ext cx="469440" cy="696600"/>
            <a:chOff x="3494160" y="4686480"/>
            <a:chExt cx="469440" cy="696600"/>
          </a:xfrm>
        </p:grpSpPr>
        <p:sp>
          <p:nvSpPr>
            <p:cNvPr id="246" name=""/>
            <p:cNvSpPr/>
            <p:nvPr/>
          </p:nvSpPr>
          <p:spPr>
            <a:xfrm>
              <a:off x="3497040" y="5032440"/>
              <a:ext cx="466560" cy="350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494160" y="4686480"/>
              <a:ext cx="466560" cy="350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631840" y="4435560"/>
            <a:ext cx="767520" cy="587160"/>
          </a:xfrm>
          <a:prstGeom prst="rect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www.acmehotel.com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ok hotel ser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18240" y="4416480"/>
            <a:ext cx="674280" cy="4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firmation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oom typ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dit card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0760" y="4056120"/>
            <a:ext cx="674280" cy="245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firmation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87440" y="4997520"/>
            <a:ext cx="715680" cy="245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ailure notifica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83160" y="4676760"/>
            <a:ext cx="3136680" cy="963720"/>
          </a:xfrm>
          <a:custGeom>
            <a:avLst/>
            <a:gdLst/>
            <a:ahLst/>
            <a:rect l="l" t="t" r="r" b="b"/>
            <a:pathLst>
              <a:path w="3202" h="723">
                <a:moveTo>
                  <a:pt x="2982" y="397"/>
                </a:moveTo>
                <a:lnTo>
                  <a:pt x="3202" y="397"/>
                </a:lnTo>
                <a:lnTo>
                  <a:pt x="3202" y="723"/>
                </a:lnTo>
                <a:lnTo>
                  <a:pt x="0" y="723"/>
                </a:lnTo>
                <a:lnTo>
                  <a:pt x="0" y="0"/>
                </a:lnTo>
                <a:lnTo>
                  <a:pt x="238" y="0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95760" y="4649760"/>
            <a:ext cx="1256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34720" y="4486320"/>
            <a:ext cx="273600" cy="2764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649760"/>
            <a:ext cx="1238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21640" y="4301640"/>
            <a:ext cx="466560" cy="697320"/>
            <a:chOff x="6821640" y="4301640"/>
            <a:chExt cx="466560" cy="697320"/>
          </a:xfrm>
        </p:grpSpPr>
        <p:sp>
          <p:nvSpPr>
            <p:cNvPr id="257" name=""/>
            <p:cNvSpPr/>
            <p:nvPr/>
          </p:nvSpPr>
          <p:spPr>
            <a:xfrm>
              <a:off x="6821640" y="4648320"/>
              <a:ext cx="466560" cy="350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821640" y="4301640"/>
              <a:ext cx="466560" cy="3510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805000" y="2351160"/>
            <a:ext cx="718560" cy="587160"/>
          </a:xfrm>
          <a:prstGeom prst="rect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www.acmecar.com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ok car ser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70160" y="2332080"/>
            <a:ext cx="660600" cy="54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ustomer nam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ar typ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redit card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53400" y="1959120"/>
            <a:ext cx="674280" cy="245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firmation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9720" y="2913120"/>
            <a:ext cx="715680" cy="245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ailure notifica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35440" y="2592360"/>
            <a:ext cx="3137040" cy="963720"/>
          </a:xfrm>
          <a:custGeom>
            <a:avLst/>
            <a:gdLst/>
            <a:ahLst/>
            <a:rect l="l" t="t" r="r" b="b"/>
            <a:pathLst>
              <a:path w="3202" h="723">
                <a:moveTo>
                  <a:pt x="2982" y="397"/>
                </a:moveTo>
                <a:lnTo>
                  <a:pt x="3202" y="397"/>
                </a:lnTo>
                <a:lnTo>
                  <a:pt x="3202" y="723"/>
                </a:lnTo>
                <a:lnTo>
                  <a:pt x="0" y="723"/>
                </a:lnTo>
                <a:lnTo>
                  <a:pt x="0" y="0"/>
                </a:lnTo>
                <a:lnTo>
                  <a:pt x="238" y="0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4000" y="2560680"/>
            <a:ext cx="1508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87000" y="2401920"/>
            <a:ext cx="273600" cy="2764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53080" y="2557440"/>
            <a:ext cx="1238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83080" y="2490840"/>
            <a:ext cx="3222720" cy="1666800"/>
          </a:xfrm>
          <a:custGeom>
            <a:avLst/>
            <a:gdLst/>
            <a:ahLst/>
            <a:rect l="l" t="t" r="r" b="b"/>
            <a:pathLst>
              <a:path w="2030" h="1050">
                <a:moveTo>
                  <a:pt x="1888" y="1050"/>
                </a:moveTo>
                <a:lnTo>
                  <a:pt x="2030" y="1050"/>
                </a:lnTo>
                <a:lnTo>
                  <a:pt x="2030" y="812"/>
                </a:lnTo>
                <a:lnTo>
                  <a:pt x="0" y="812"/>
                </a:lnTo>
                <a:lnTo>
                  <a:pt x="0" y="0"/>
                </a:lnTo>
                <a:lnTo>
                  <a:pt x="309" y="0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51160" y="4572000"/>
            <a:ext cx="663840" cy="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972480" y="2209320"/>
            <a:ext cx="466560" cy="697320"/>
            <a:chOff x="6972480" y="2209320"/>
            <a:chExt cx="466560" cy="697320"/>
          </a:xfrm>
        </p:grpSpPr>
        <p:sp>
          <p:nvSpPr>
            <p:cNvPr id="270" name=""/>
            <p:cNvSpPr/>
            <p:nvPr/>
          </p:nvSpPr>
          <p:spPr>
            <a:xfrm>
              <a:off x="6972480" y="2556000"/>
              <a:ext cx="466560" cy="350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972480" y="2209320"/>
              <a:ext cx="466560" cy="3510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8382600" y="3983040"/>
            <a:ext cx="318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posit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990720"/>
            <a:ext cx="82677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3800" y="2025720"/>
            <a:ext cx="4348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618760" y="3843360"/>
            <a:ext cx="376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31280" y="2071800"/>
            <a:ext cx="76644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32040" y="4894200"/>
            <a:ext cx="555480" cy="46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7640" y="4029120"/>
            <a:ext cx="273600" cy="276480"/>
          </a:xfrm>
          <a:prstGeom prst="rect">
            <a:avLst/>
          </a:prstGeom>
          <a:solidFill>
            <a:srgbClr val="cc99ff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62760" y="4172040"/>
            <a:ext cx="52884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120" y="2178000"/>
            <a:ext cx="43488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6080" y="1184400"/>
            <a:ext cx="202464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73040" y="1068480"/>
            <a:ext cx="138456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92320" y="1906560"/>
            <a:ext cx="318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628480" y="1766880"/>
            <a:ext cx="376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2320" y="1420920"/>
            <a:ext cx="214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7240" y="609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DAML-S Brief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0920" y="266688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ML-S Web Services Coal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Sheila A. McIlra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Systems Laboratory (K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http://www.daml.org/servic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DamlSansText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981440" cy="965160"/>
          </a:xfrm>
          <a:prstGeom prst="rect">
            <a:avLst/>
          </a:prstGeom>
          <a:ln w="0">
            <a:noFill/>
          </a:ln>
        </p:spPr>
      </p:pic>
      <p:pic>
        <p:nvPicPr>
          <p:cNvPr id="112" name="darpacropped2" descr=""/>
          <p:cNvPicPr/>
          <p:nvPr/>
        </p:nvPicPr>
        <p:blipFill>
          <a:blip r:embed="rId2"/>
          <a:stretch/>
        </p:blipFill>
        <p:spPr>
          <a:xfrm>
            <a:off x="6404040" y="65160"/>
            <a:ext cx="31208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posit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990720"/>
            <a:ext cx="8318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52560" y="1674720"/>
            <a:ext cx="7940520" cy="4962600"/>
            <a:chOff x="952560" y="1674720"/>
            <a:chExt cx="7940520" cy="4962600"/>
          </a:xfrm>
        </p:grpSpPr>
        <p:grpSp>
          <p:nvGrpSpPr>
            <p:cNvPr id="290" name=""/>
            <p:cNvGrpSpPr/>
            <p:nvPr/>
          </p:nvGrpSpPr>
          <p:grpSpPr>
            <a:xfrm>
              <a:off x="4514760" y="1796760"/>
              <a:ext cx="3784680" cy="4559040"/>
              <a:chOff x="4514760" y="1796760"/>
              <a:chExt cx="3784680" cy="4559040"/>
            </a:xfrm>
          </p:grpSpPr>
          <p:sp>
            <p:nvSpPr>
              <p:cNvPr id="291" name=""/>
              <p:cNvSpPr/>
              <p:nvPr/>
            </p:nvSpPr>
            <p:spPr>
              <a:xfrm>
                <a:off x="5673600" y="2706120"/>
                <a:ext cx="1933200" cy="916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</a:rPr>
                  <a:t>truck availab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0000"/>
                    </a:solidFill>
                    <a:latin typeface="Arial"/>
                  </a:rPr>
                  <a:t>valid credit car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688080" y="3612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31080" y="2747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981320" y="1796760"/>
                <a:ext cx="3318120" cy="490320"/>
              </a:xfrm>
              <a:prstGeom prst="rect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firm Shipping Reg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981320" y="4061880"/>
                <a:ext cx="3318120" cy="490320"/>
              </a:xfrm>
              <a:prstGeom prst="rect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et Quot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514760" y="2040840"/>
                <a:ext cx="1130400" cy="1181160"/>
                <a:chOff x="4514760" y="2040840"/>
                <a:chExt cx="1130400" cy="1181160"/>
              </a:xfrm>
            </p:grpSpPr>
            <p:sp>
              <p:nvSpPr>
                <p:cNvPr id="297" name=""/>
                <p:cNvSpPr/>
                <p:nvPr/>
              </p:nvSpPr>
              <p:spPr>
                <a:xfrm rot="16200000">
                  <a:off x="4155120" y="2400480"/>
                  <a:ext cx="1181160" cy="461880"/>
                </a:xfrm>
                <a:custGeom>
                  <a:avLst/>
                  <a:gdLst/>
                  <a:ahLst/>
                  <a:rect l="l" t="t" r="r" b="b"/>
                  <a:pathLst>
                    <a:path w="418" h="291">
                      <a:moveTo>
                        <a:pt x="0" y="0"/>
                      </a:moveTo>
                      <a:lnTo>
                        <a:pt x="418" y="0"/>
                      </a:lnTo>
                      <a:lnTo>
                        <a:pt x="418" y="291"/>
                      </a:lnTo>
                    </a:path>
                  </a:pathLst>
                </a:custGeom>
                <a:noFill/>
                <a:ln w="28440">
                  <a:solidFill>
                    <a:srgbClr val="99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524120" y="3212640"/>
                  <a:ext cx="112104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6640200" y="5479560"/>
                <a:ext cx="0" cy="3794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81320" y="4959000"/>
                <a:ext cx="3318120" cy="490320"/>
              </a:xfrm>
              <a:prstGeom prst="rect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et Shipping Dat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981320" y="5865480"/>
                <a:ext cx="3318120" cy="490320"/>
              </a:xfrm>
              <a:prstGeom prst="rect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ook Truck Ship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40200" y="4586040"/>
                <a:ext cx="0" cy="3794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0200" y="3666600"/>
                <a:ext cx="0" cy="3794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40200" y="2326320"/>
                <a:ext cx="0" cy="3790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130640" y="1674720"/>
              <a:ext cx="4762440" cy="496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52560" y="2766960"/>
              <a:ext cx="1171440" cy="317340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u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ipp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92320" y="4181400"/>
              <a:ext cx="204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57640" y="368748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xpa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54160" y="120168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meTruckSh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92160" y="1201680"/>
            <a:ext cx="42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edAcmeTruckSh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rocessModel" descr=""/>
          <p:cNvPicPr/>
          <p:nvPr/>
        </p:nvPicPr>
        <p:blipFill>
          <a:blip r:embed="rId1"/>
          <a:stretch/>
        </p:blipFill>
        <p:spPr>
          <a:xfrm>
            <a:off x="1730520" y="223920"/>
            <a:ext cx="6645240" cy="45860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85920" y="5559480"/>
            <a:ext cx="220608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TruckShp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86040" y="5553000"/>
            <a:ext cx="264492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cmeTruckShp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1440" y="2344680"/>
            <a:ext cx="2381400" cy="3211560"/>
          </a:xfrm>
          <a:custGeom>
            <a:avLst/>
            <a:gdLst/>
            <a:ahLst/>
            <a:rect l="l" t="t" r="r" b="b"/>
            <a:pathLst>
              <a:path w="1500" h="2023">
                <a:moveTo>
                  <a:pt x="0" y="2023"/>
                </a:moveTo>
                <a:cubicBezTo>
                  <a:pt x="55" y="1530"/>
                  <a:pt x="111" y="1037"/>
                  <a:pt x="361" y="700"/>
                </a:cubicBezTo>
                <a:cubicBezTo>
                  <a:pt x="611" y="363"/>
                  <a:pt x="1055" y="181"/>
                  <a:pt x="150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87880" y="4468680"/>
            <a:ext cx="644400" cy="1074960"/>
          </a:xfrm>
          <a:custGeom>
            <a:avLst/>
            <a:gdLst/>
            <a:ahLst/>
            <a:rect l="l" t="t" r="r" b="b"/>
            <a:pathLst>
              <a:path w="406" h="677">
                <a:moveTo>
                  <a:pt x="400" y="677"/>
                </a:moveTo>
                <a:cubicBezTo>
                  <a:pt x="403" y="529"/>
                  <a:pt x="406" y="382"/>
                  <a:pt x="339" y="269"/>
                </a:cubicBezTo>
                <a:cubicBezTo>
                  <a:pt x="272" y="156"/>
                  <a:pt x="136" y="7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00280" y="5751360"/>
            <a:ext cx="108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21160" y="541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pper Ontology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ServiceOntology" descr=""/>
          <p:cNvPicPr/>
          <p:nvPr/>
        </p:nvPicPr>
        <p:blipFill>
          <a:blip r:embed="rId1"/>
          <a:stretch/>
        </p:blipFill>
        <p:spPr>
          <a:xfrm>
            <a:off x="1190520" y="2185920"/>
            <a:ext cx="6810480" cy="31082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41520" y="3624120"/>
            <a:ext cx="3092400" cy="2059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rvice Grounding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under develop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9520" y="1465200"/>
            <a:ext cx="836748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service access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s communication protocols, transport mechanism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  SOAP, HTTP forms, Java RMI, RP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Review:  Upper Ontology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ServiceOntology" descr=""/>
          <p:cNvPicPr/>
          <p:nvPr/>
        </p:nvPicPr>
        <p:blipFill>
          <a:blip r:embed="rId1"/>
          <a:stretch/>
        </p:blipFill>
        <p:spPr>
          <a:xfrm>
            <a:off x="1190520" y="2185920"/>
            <a:ext cx="68104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H="1">
            <a:off x="841320" y="2583000"/>
            <a:ext cx="1160640" cy="5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78440" y="1625760"/>
            <a:ext cx="1160280" cy="5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411280" y="1612800"/>
            <a:ext cx="1160640" cy="59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95320" y="4138560"/>
            <a:ext cx="0" cy="79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7080" y="2552760"/>
            <a:ext cx="65880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88040" y="2527200"/>
            <a:ext cx="0" cy="8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02400" y="2514600"/>
            <a:ext cx="273528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399440" y="3456000"/>
            <a:ext cx="660240" cy="14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474040" y="3516480"/>
            <a:ext cx="0" cy="199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74640" y="2589120"/>
            <a:ext cx="611280" cy="13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530600" y="3479760"/>
            <a:ext cx="695520" cy="13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80000" y="3479760"/>
            <a:ext cx="330120" cy="204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ploiting Ontologies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1600" y="1224000"/>
            <a:ext cx="103104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2201760"/>
            <a:ext cx="117144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46120" y="3165480"/>
            <a:ext cx="120024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292440" y="4795920"/>
            <a:ext cx="2847240" cy="871920"/>
            <a:chOff x="6292440" y="4795920"/>
            <a:chExt cx="2847240" cy="871920"/>
          </a:xfrm>
        </p:grpSpPr>
        <p:sp>
          <p:nvSpPr>
            <p:cNvPr id="346" name=""/>
            <p:cNvSpPr/>
            <p:nvPr/>
          </p:nvSpPr>
          <p:spPr>
            <a:xfrm>
              <a:off x="7005240" y="5268960"/>
              <a:ext cx="2134440" cy="398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mazonBuy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92440" y="4795920"/>
              <a:ext cx="1951560" cy="398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goBuy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853160" y="3165480"/>
            <a:ext cx="129924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Ti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67560" y="4795920"/>
            <a:ext cx="161028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AirTi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66960" y="2201760"/>
            <a:ext cx="125820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1720" y="3165480"/>
            <a:ext cx="148212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66600" y="3772080"/>
            <a:ext cx="180972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92240" y="3165480"/>
            <a:ext cx="169416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t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1760" y="4795920"/>
            <a:ext cx="246060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Truck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95640" y="5299200"/>
            <a:ext cx="219240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ConcertTi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Related Work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9280" y="1138320"/>
            <a:ext cx="869472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Industrial Initiativ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D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eb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L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iztalk, e-speak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XML-based initiatives are currently complementary to DAML-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-S intends to build on top of these efforts exploiting increased expressiveness, semantics, inference that enables auto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Academics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lgebras (e.g., Pi Calcu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Specification Language (Hoare Logic, PS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Domain Definition Language (PD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rocess Modeling (e.g., BM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ools and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1197000"/>
            <a:ext cx="844884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-S provides a means of describing Web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just another DAML+OIL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tools and technologies that exist for DAML+OIL are rele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AML-S Specific Tools and Technolog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ing DAML-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AML-S Coalition (security, symbol grounding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, Matchmaking, Agent Broker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MU, SRI (OAA), Stanford K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Web Service Composi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nford KSL, BBN/Yale/Kestr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U, MIT, Nokia, S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ML-S Edi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nford KSL, SRI, CMU (profiles), Manch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Modeling Tools &amp; Reason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RI, Stanford K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Enactment /Simula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I, Stanford KS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8760" y="1042920"/>
            <a:ext cx="871956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+OIL not sufficient for the process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dry list of unaddressed &amp; resolved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RI &amp; CMU will mention some this afterno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 will be mentioned in Breakout tomorr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with Industry Initiatives &amp; with User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onnect DAML-S with industry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people in industry (&amp; in DAML) to mark up services with DAML-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: industry’s lack of adoption of 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+OIL reas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-S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6760" y="1042920"/>
            <a:ext cx="87534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+OIL not sufficient for the process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dry list of unaddressed &amp; resolved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messages, synchronization, conversation protocols, exceptions and transac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multiple participants, scripts, unification/binding, constraints, ontologies of process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ervice grounding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with Industry Initiatives &amp; with User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onnect DAML-S with industry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people in industry (&amp; in DAML) to mark up services with DAML-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: industry’s lack of adoption of 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+OIL reas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-S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AML-S Web Services Coalition</a:t>
            </a:r>
            <a:r>
              <a:rPr b="0" lang="en-US" sz="3200" spc="-1" strike="noStrike" baseline="60000">
                <a:solidFill>
                  <a:srgbClr val="660066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5720" y="1295280"/>
            <a:ext cx="84582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U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imo Paolucci, Terry Payne, Katia Syc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B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 Bur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ki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a Las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ford KS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eila McIlraith, Honglei Z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I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rry Hobbs, David Martin, Srini Naraya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ew McDerm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chest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an Horr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5000" y="593892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 Founded February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990720"/>
            <a:ext cx="8136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8760" y="1042920"/>
            <a:ext cx="871956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+OIL not sufficient for the process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dry list of unaddressed &amp; resolved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RI &amp; CMU will mention some this afterno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 will be mentioned in Breakout tomorr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with Industry Initiatives &amp; with User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onnect DAML-S with industry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people in industry (&amp; in DAML) to mark up services with DAML-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: industry’s lack of adoption of 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+OIL reas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-S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52440" y="963360"/>
            <a:ext cx="9090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:  DAML-S version 0.5 released June,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lease get involv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-out Session (Fri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 Try DAML-S for your application *** give feedback 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L-S version 0.5 and related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ttp://www.daml.org/servic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ww-ws@w3.org   (technical discuss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aml-services@daml.org  (announc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990720"/>
            <a:ext cx="8136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e Want Your Inpu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83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5600" y="1200240"/>
            <a:ext cx="85500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reated by Sheila McIlraith, KSL Stan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1 graphic created by Jerry Hobbs &amp; Kelli Connolly, S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images created by Terry Payne, C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990720"/>
            <a:ext cx="8136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182600" y="3521160"/>
            <a:ext cx="6662880" cy="1235160"/>
            <a:chOff x="1182600" y="3521160"/>
            <a:chExt cx="6662880" cy="1235160"/>
          </a:xfrm>
        </p:grpSpPr>
        <p:pic>
          <p:nvPicPr>
            <p:cNvPr id="379" name="ServiceOntology" descr=""/>
            <p:cNvPicPr/>
            <p:nvPr/>
          </p:nvPicPr>
          <p:blipFill>
            <a:blip r:embed="rId1"/>
            <a:stretch/>
          </p:blipFill>
          <p:spPr>
            <a:xfrm>
              <a:off x="1182600" y="3799080"/>
              <a:ext cx="14860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rocessModel" descr=""/>
            <p:cNvPicPr/>
            <p:nvPr/>
          </p:nvPicPr>
          <p:blipFill>
            <a:blip r:embed="rId2"/>
            <a:stretch/>
          </p:blipFill>
          <p:spPr>
            <a:xfrm>
              <a:off x="6337440" y="3616560"/>
              <a:ext cx="150804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rofileOntologyWide" descr=""/>
            <p:cNvPicPr/>
            <p:nvPr/>
          </p:nvPicPr>
          <p:blipFill>
            <a:blip r:embed="rId3"/>
            <a:stretch/>
          </p:blipFill>
          <p:spPr>
            <a:xfrm>
              <a:off x="3209760" y="3521160"/>
              <a:ext cx="2194200" cy="1235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hat is DAML-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990720"/>
            <a:ext cx="8136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7120" y="1143000"/>
            <a:ext cx="8589960" cy="59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L-S:  A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age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L+OIL Ontology for (Web)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-inspired markup langua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ored to the representational needs of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ve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-define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ies support reuse, mapping, succinct markup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DAML-S version 0.5 June,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http://www.daml.org/servic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ayered Approach to Language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990720"/>
            <a:ext cx="8136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7600" y="1913040"/>
            <a:ext cx="7436880" cy="4058640"/>
            <a:chOff x="777600" y="1913040"/>
            <a:chExt cx="7436880" cy="4058640"/>
          </a:xfrm>
        </p:grpSpPr>
        <p:sp>
          <p:nvSpPr>
            <p:cNvPr id="123" name=""/>
            <p:cNvSpPr/>
            <p:nvPr/>
          </p:nvSpPr>
          <p:spPr>
            <a:xfrm>
              <a:off x="2934000" y="3255840"/>
              <a:ext cx="237240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DAML-S  </a:t>
              </a: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(Servic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9400" y="3252600"/>
              <a:ext cx="215892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ML-L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ogi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7600" y="5451120"/>
              <a:ext cx="702828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ML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Extensible Markup Language)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5640" y="4903560"/>
              <a:ext cx="569160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DF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Resource Description Framework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21360" y="4344840"/>
              <a:ext cx="537912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DFS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RDF Schema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4800" y="3796920"/>
              <a:ext cx="512892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ML+OIL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Ontology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860160" y="1913040"/>
              <a:ext cx="1354320" cy="1339200"/>
              <a:chOff x="6860160" y="1913040"/>
              <a:chExt cx="1354320" cy="1339200"/>
            </a:xfrm>
          </p:grpSpPr>
          <p:sp>
            <p:nvSpPr>
              <p:cNvPr id="130" name=""/>
              <p:cNvSpPr/>
              <p:nvPr/>
            </p:nvSpPr>
            <p:spPr>
              <a:xfrm>
                <a:off x="6860160" y="1913040"/>
                <a:ext cx="1354320" cy="520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66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DAML-SL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6915240" y="2460240"/>
                <a:ext cx="704880" cy="79200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345240" y="1246320"/>
            <a:ext cx="56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major application of DAML+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AML-S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6760" y="1652760"/>
            <a:ext cx="7770600" cy="36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upper ontology for describing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perties &amp; capabilities of (Web)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n unambiguous, computer interpretable markup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der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of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express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automation of service use by ag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reasoning about service properties and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990720"/>
            <a:ext cx="8136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325520" y="3354480"/>
            <a:ext cx="685800" cy="685800"/>
            <a:chOff x="1325520" y="3354480"/>
            <a:chExt cx="685800" cy="685800"/>
          </a:xfrm>
        </p:grpSpPr>
        <p:sp>
          <p:nvSpPr>
            <p:cNvPr id="137" name=""/>
            <p:cNvSpPr/>
            <p:nvPr/>
          </p:nvSpPr>
          <p:spPr>
            <a:xfrm>
              <a:off x="1325520" y="3354480"/>
              <a:ext cx="685800" cy="68580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401840" y="3491280"/>
              <a:ext cx="547560" cy="412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utomation Enabled by DAML-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520" y="1387440"/>
            <a:ext cx="860076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Find me a shipping service that transports goods to Dub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Buy me 500 lbs. powdered milk from www.acmemo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Arrange food for 500 people for 2 weeks in Dub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ecution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Has the powdered milk been ordered and paid for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ho Will Use DAML-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6640" y="1192320"/>
            <a:ext cx="97524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providers (e.g., Amazon, Intelink, United Airli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up thei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party Web page designers (e.g., Web Design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up clients’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d-ary Web service providers (e.g., Travelocity, My Simon)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 others’ services to create add-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/write agent software to find/execute/compose othe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end users (e.g., Joe, Analyst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thei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/write agent software to find/execute/compos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990720"/>
            <a:ext cx="8136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pper Ontology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990720"/>
            <a:ext cx="78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ServiceOntology" descr=""/>
          <p:cNvPicPr/>
          <p:nvPr/>
        </p:nvPicPr>
        <p:blipFill>
          <a:blip r:embed="rId1"/>
          <a:stretch/>
        </p:blipFill>
        <p:spPr>
          <a:xfrm>
            <a:off x="1190520" y="2185920"/>
            <a:ext cx="6810480" cy="3108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421240" y="1763640"/>
            <a:ext cx="3092400" cy="2059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83040" y="6143760"/>
            <a:ext cx="30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tology images compliments of Terry Payne, CM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8:21:49Z</dcterms:created>
  <dc:creator>Sheila McIlraith</dc:creator>
  <dc:description/>
  <dc:language>en-US</dc:language>
  <cp:lastModifiedBy>bbn</cp:lastModifiedBy>
  <dcterms:modified xsi:type="dcterms:W3CDTF">2001-07-26T11:30:37Z</dcterms:modified>
  <cp:revision>148</cp:revision>
  <dc:subject/>
  <dc:title>DAML-S Briefing</dc:title>
</cp:coreProperties>
</file>