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BAB-941A-4B86-8456-1E4B6B3E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4D8-385A-45C2-A8FE-FF75057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3A6-9108-40AF-8777-DBB9E06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171-C548-462B-A225-00CBAEAF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E9EC-F3F5-434A-83E6-0D553AE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8C9A-6AB2-4260-B63F-6D9FD45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9BD-BF1F-4AAC-8162-6494913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33B-2538-4A01-A24B-1B83B77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5596-253D-436F-AC54-69EC70B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F422-16AC-426A-8CD9-12C014B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9CC-62F4-450F-8D6D-72552A1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92C-483A-4D95-AE0B-46F3AFB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E614-14B3-4ADC-9496-40BC863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7AA2-127D-4EAB-9790-FC510E3E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41C1-EE8C-41F5-A390-B4FC89E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4DA6-5E26-4171-8B7F-0588037C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9937-C227-4C41-A99A-EDE3C748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909-27A0-493B-A42F-A68C2433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B8B-6783-4959-A48B-CD9B813E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A61-676C-4483-9DB8-2C57111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AC3-BBF8-424D-A165-AD0E201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D63-DE34-45B4-8D71-2E8981D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AE7-3862-4972-9F0E-5E15032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7F-CEB2-4AC1-BEAF-BEDD602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99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1225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1225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1B8-5AB4-48ED-A0CE-451CCABD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RDR2" descr=""/>
          <p:cNvPicPr/>
          <p:nvPr/>
        </p:nvPicPr>
        <p:blipFill>
          <a:blip r:embed="rId2"/>
          <a:stretch/>
        </p:blipFill>
        <p:spPr>
          <a:xfrm>
            <a:off x="141120" y="1038240"/>
            <a:ext cx="892656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834-B818-45C0-BB00-707DCE7C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788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788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DAML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ntology Interoperation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sing Cyc 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19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ve R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o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cyc-logo-new-lg" descr=""/>
          <p:cNvPicPr/>
          <p:nvPr/>
        </p:nvPicPr>
        <p:blipFill>
          <a:blip r:embed="rId1"/>
          <a:stretch/>
        </p:blipFill>
        <p:spPr>
          <a:xfrm>
            <a:off x="169920" y="4237200"/>
            <a:ext cx="2251080" cy="2422440"/>
          </a:xfrm>
          <a:prstGeom prst="rect">
            <a:avLst/>
          </a:prstGeom>
          <a:ln w="0">
            <a:noFill/>
          </a:ln>
        </p:spPr>
      </p:pic>
      <p:pic>
        <p:nvPicPr>
          <p:cNvPr id="86" name="daml3" descr=""/>
          <p:cNvPicPr/>
          <p:nvPr/>
        </p:nvPicPr>
        <p:blipFill>
          <a:blip r:embed="rId2"/>
          <a:stretch/>
        </p:blipFill>
        <p:spPr>
          <a:xfrm>
            <a:off x="5370480" y="5288040"/>
            <a:ext cx="3556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38120" y="2529000"/>
            <a:ext cx="646776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cyc-logo-small" descr=""/>
          <p:cNvPicPr/>
          <p:nvPr/>
        </p:nvPicPr>
        <p:blipFill>
          <a:blip r:embed="rId2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23960" y="771480"/>
            <a:ext cx="7696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7720" y="1957320"/>
            <a:ext cx="7648560" cy="2943360"/>
          </a:xfrm>
          <a:prstGeom prst="rect">
            <a:avLst/>
          </a:prstGeom>
          <a:ln w="0">
            <a:noFill/>
          </a:ln>
        </p:spPr>
      </p:pic>
      <p:pic>
        <p:nvPicPr>
          <p:cNvPr id="211" name="cyc-logo-small" descr=""/>
          <p:cNvPicPr/>
          <p:nvPr/>
        </p:nvPicPr>
        <p:blipFill>
          <a:blip r:embed="rId2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DAML Excitement at Cycorp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49160" y="120636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ing DAML ontology interoperability through Cyc, as a reference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7320" y="2184480"/>
            <a:ext cx="7950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 now imports and exports DAML, paraphrases and reasons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060720"/>
            <a:ext cx="81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 lexical tools assist the mapping of imported DAML ontologies into Cy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560" y="4064040"/>
            <a:ext cx="6794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UDDI categorization schemes imported as DAML into Cy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UNSPSC (via KSL) and NA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2880" y="5435640"/>
            <a:ext cx="748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orp is featuring DAML in it’s upcoming release of OpenCyc (this fal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yc-logo-small" descr=""/>
          <p:cNvPicPr/>
          <p:nvPr/>
        </p:nvPicPr>
        <p:blipFill>
          <a:blip r:embed="rId1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DAML Challenges at Cycorp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49160" y="1206360"/>
            <a:ext cx="628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automate mapping and translation of DAML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2184480"/>
            <a:ext cx="795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get the user community to help map numerous DAML terms -- interest growing at OpenCy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060720"/>
            <a:ext cx="811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tion of large DAML schema is daunting but underway, WordNet, OpenDirectory, UNSPSC, NA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560" y="4064040"/>
            <a:ext cx="81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n inference engine for the Semantic Web - subsumption, classification, constraints, well-formed statement validation, diagnostics, just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2880" y="5435640"/>
            <a:ext cx="748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eb services interface?  SOAP lik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yc-logo-small" descr=""/>
          <p:cNvPicPr/>
          <p:nvPr/>
        </p:nvPicPr>
        <p:blipFill>
          <a:blip r:embed="rId1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DAML Ontology Interoperation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6800" y="3309840"/>
            <a:ext cx="1657440" cy="1158840"/>
            <a:chOff x="3736800" y="3309840"/>
            <a:chExt cx="1657440" cy="1158840"/>
          </a:xfrm>
        </p:grpSpPr>
        <p:sp>
          <p:nvSpPr>
            <p:cNvPr id="103" name=""/>
            <p:cNvSpPr/>
            <p:nvPr/>
          </p:nvSpPr>
          <p:spPr>
            <a:xfrm>
              <a:off x="3736800" y="4136040"/>
              <a:ext cx="1657440" cy="332640"/>
            </a:xfrm>
            <a:prstGeom prst="rect">
              <a:avLst/>
            </a:prstGeom>
            <a:gradFill rotWithShape="0">
              <a:gsLst>
                <a:gs pos="0">
                  <a:srgbClr val="22228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6800" y="3309840"/>
              <a:ext cx="1653120" cy="82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 Black"/>
                </a:rPr>
                <a:t>Cy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 Black"/>
                </a:rPr>
                <a:t>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28680" y="2963880"/>
            <a:ext cx="1552680" cy="1749240"/>
            <a:chOff x="1228680" y="2963880"/>
            <a:chExt cx="1552680" cy="1749240"/>
          </a:xfrm>
        </p:grpSpPr>
        <p:sp>
          <p:nvSpPr>
            <p:cNvPr id="106" name=""/>
            <p:cNvSpPr/>
            <p:nvPr/>
          </p:nvSpPr>
          <p:spPr>
            <a:xfrm>
              <a:off x="1228680" y="2963880"/>
              <a:ext cx="1552680" cy="1749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UNSP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563840" y="3497400"/>
              <a:ext cx="883800" cy="1044000"/>
              <a:chOff x="1563840" y="3497400"/>
              <a:chExt cx="883800" cy="1044000"/>
            </a:xfrm>
          </p:grpSpPr>
          <p:sp>
            <p:nvSpPr>
              <p:cNvPr id="108" name=""/>
              <p:cNvSpPr/>
              <p:nvPr/>
            </p:nvSpPr>
            <p:spPr>
              <a:xfrm>
                <a:off x="1933200" y="3796560"/>
                <a:ext cx="15876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868400" y="3942720"/>
                <a:ext cx="10440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057040" y="3943800"/>
                <a:ext cx="100440" cy="163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55000" y="4094640"/>
                <a:ext cx="15876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09600" y="4094640"/>
                <a:ext cx="15876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33200" y="3497400"/>
                <a:ext cx="15876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010240" y="365220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681920" y="4230720"/>
                <a:ext cx="10404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840" y="4377600"/>
                <a:ext cx="158760" cy="15912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2236320" y="4232520"/>
                <a:ext cx="10044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8880" y="4382640"/>
                <a:ext cx="15876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048760" y="4230720"/>
                <a:ext cx="10404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30680" y="4377600"/>
                <a:ext cx="158760" cy="15912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6359400" y="2963880"/>
            <a:ext cx="1552680" cy="1749240"/>
            <a:chOff x="6359400" y="2963880"/>
            <a:chExt cx="1552680" cy="1749240"/>
          </a:xfrm>
        </p:grpSpPr>
        <p:sp>
          <p:nvSpPr>
            <p:cNvPr id="122" name=""/>
            <p:cNvSpPr/>
            <p:nvPr/>
          </p:nvSpPr>
          <p:spPr>
            <a:xfrm>
              <a:off x="6359400" y="2963880"/>
              <a:ext cx="1552680" cy="1749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A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692760" y="3497400"/>
              <a:ext cx="884520" cy="1044000"/>
              <a:chOff x="6692760" y="3497400"/>
              <a:chExt cx="884520" cy="104400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6997320" y="3645000"/>
                <a:ext cx="111960" cy="45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7164000" y="3645720"/>
                <a:ext cx="123120" cy="46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4280" y="4094640"/>
                <a:ext cx="15912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38880" y="4094640"/>
                <a:ext cx="15912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62120" y="3497400"/>
                <a:ext cx="15912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810840" y="4230720"/>
                <a:ext cx="10440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760" y="4377600"/>
                <a:ext cx="159120" cy="15912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7365600" y="4232520"/>
                <a:ext cx="10044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18160" y="4382640"/>
                <a:ext cx="159120" cy="15876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178040" y="4230720"/>
                <a:ext cx="10440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59600" y="4377600"/>
                <a:ext cx="159120" cy="15912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843200" y="3578400"/>
            <a:ext cx="2361960" cy="887040"/>
            <a:chOff x="1843200" y="3578400"/>
            <a:chExt cx="2361960" cy="887040"/>
          </a:xfrm>
        </p:grpSpPr>
        <p:sp>
          <p:nvSpPr>
            <p:cNvPr id="136" name=""/>
            <p:cNvSpPr/>
            <p:nvPr/>
          </p:nvSpPr>
          <p:spPr>
            <a:xfrm>
              <a:off x="2014560" y="3578400"/>
              <a:ext cx="2189160" cy="234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976400" y="3875040"/>
              <a:ext cx="2171880" cy="6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166840" y="3916440"/>
              <a:ext cx="1994040" cy="263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843200" y="3808440"/>
              <a:ext cx="236196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989000" y="4214520"/>
              <a:ext cx="1892520" cy="25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905000" y="3571920"/>
            <a:ext cx="2422440" cy="888480"/>
            <a:chOff x="4905000" y="3571920"/>
            <a:chExt cx="2422440" cy="888480"/>
          </a:xfrm>
        </p:grpSpPr>
        <p:sp>
          <p:nvSpPr>
            <p:cNvPr id="142" name=""/>
            <p:cNvSpPr/>
            <p:nvPr/>
          </p:nvSpPr>
          <p:spPr>
            <a:xfrm flipH="1">
              <a:off x="4905000" y="3571920"/>
              <a:ext cx="2235240" cy="2476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978080" y="3946680"/>
              <a:ext cx="1996920" cy="234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920840" y="3857400"/>
              <a:ext cx="2406600" cy="32364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244840" y="4231800"/>
              <a:ext cx="1523880" cy="2286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85040" y="322740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3300"/>
                </a:solidFill>
                <a:uFillTx/>
                <a:latin typeface="Tahoma"/>
              </a:rPr>
              <a:t>Mapping 1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UNSPSC to C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70600" y="32464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6600"/>
                </a:solidFill>
                <a:uFillTx/>
                <a:latin typeface="Tahoma"/>
              </a:rPr>
              <a:t>Mapping 2</a:t>
            </a:r>
            <a:r>
              <a:rPr b="1" lang="en-US" sz="1200" spc="-1" strike="noStrike">
                <a:solidFill>
                  <a:srgbClr val="99660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ahoma"/>
              </a:rPr>
              <a:t>NAICS to C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87760" y="1371600"/>
            <a:ext cx="1955880" cy="1092240"/>
            <a:chOff x="3587760" y="1371600"/>
            <a:chExt cx="1955880" cy="1092240"/>
          </a:xfrm>
        </p:grpSpPr>
        <p:sp>
          <p:nvSpPr>
            <p:cNvPr id="149" name=""/>
            <p:cNvSpPr/>
            <p:nvPr/>
          </p:nvSpPr>
          <p:spPr>
            <a:xfrm>
              <a:off x="3587760" y="1371600"/>
              <a:ext cx="1955880" cy="109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j0155959" descr=""/>
            <p:cNvPicPr/>
            <p:nvPr/>
          </p:nvPicPr>
          <p:blipFill>
            <a:blip r:embed="rId1"/>
            <a:stretch/>
          </p:blipFill>
          <p:spPr>
            <a:xfrm>
              <a:off x="4227480" y="1482840"/>
              <a:ext cx="118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655440" y="1478160"/>
              <a:ext cx="64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ahoma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457880" y="2565360"/>
            <a:ext cx="0" cy="70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0920" y="2556000"/>
            <a:ext cx="0" cy="717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6240" y="2543040"/>
            <a:ext cx="33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arch for: “waterproof plywoo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4546440"/>
            <a:ext cx="0" cy="555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60920" y="4511520"/>
            <a:ext cx="0" cy="594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47680" y="4549680"/>
            <a:ext cx="14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arch f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SPSC/73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77480" y="4549680"/>
            <a:ext cx="214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ood 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rine plywoo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19480" y="5175360"/>
            <a:ext cx="2692440" cy="1390680"/>
            <a:chOff x="3219480" y="5175360"/>
            <a:chExt cx="2692440" cy="1390680"/>
          </a:xfrm>
        </p:grpSpPr>
        <p:grpSp>
          <p:nvGrpSpPr>
            <p:cNvPr id="160" name=""/>
            <p:cNvGrpSpPr/>
            <p:nvPr/>
          </p:nvGrpSpPr>
          <p:grpSpPr>
            <a:xfrm>
              <a:off x="3219480" y="5854680"/>
              <a:ext cx="2692440" cy="711360"/>
              <a:chOff x="3219480" y="5854680"/>
              <a:chExt cx="2692440" cy="711360"/>
            </a:xfrm>
          </p:grpSpPr>
          <p:sp>
            <p:nvSpPr>
              <p:cNvPr id="161" name=""/>
              <p:cNvSpPr/>
              <p:nvPr/>
            </p:nvSpPr>
            <p:spPr>
              <a:xfrm>
                <a:off x="3219480" y="5854680"/>
                <a:ext cx="812880" cy="711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59080" y="5854680"/>
                <a:ext cx="812880" cy="711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99040" y="5854680"/>
                <a:ext cx="812880" cy="711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465360" y="5175360"/>
              <a:ext cx="2200320" cy="406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UDDI Web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4" idx="2"/>
              <a:endCxn id="161" idx="1"/>
            </p:cNvCxnSpPr>
            <p:nvPr/>
          </p:nvCxnSpPr>
          <p:spPr>
            <a:xfrm rot="5400000">
              <a:off x="3958920" y="5248440"/>
              <a:ext cx="273240" cy="9403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6" name=""/>
            <p:cNvCxnSpPr>
              <a:stCxn id="164" idx="2"/>
              <a:endCxn id="163" idx="1"/>
            </p:cNvCxnSpPr>
            <p:nvPr/>
          </p:nvCxnSpPr>
          <p:spPr>
            <a:xfrm flipH="1" rot="16200000">
              <a:off x="4898160" y="5248080"/>
              <a:ext cx="273240" cy="94068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64" idx="2"/>
              <a:endCxn id="162" idx="1"/>
            </p:cNvCxnSpPr>
            <p:nvPr/>
          </p:nvCxnSpPr>
          <p:spPr>
            <a:xfrm flipV="1" rot="10800000">
              <a:off x="4564800" y="5581800"/>
              <a:ext cx="1080" cy="2732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168" name=""/>
          <p:cNvSpPr/>
          <p:nvPr/>
        </p:nvSpPr>
        <p:spPr>
          <a:xfrm>
            <a:off x="4637520" y="2543040"/>
            <a:ext cx="41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: marine plywood by Hardwood 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cyc-logo-small" descr=""/>
          <p:cNvPicPr/>
          <p:nvPr/>
        </p:nvPicPr>
        <p:blipFill>
          <a:blip r:embed="rId2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ntology Mapp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1" name="image005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53480" cy="3408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Doer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antic Problems of Thesaurus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46320" y="1650960"/>
            <a:ext cx="6794640" cy="3759120"/>
            <a:chOff x="2146320" y="1650960"/>
            <a:chExt cx="6794640" cy="3759120"/>
          </a:xfrm>
        </p:grpSpPr>
        <p:sp>
          <p:nvSpPr>
            <p:cNvPr id="174" name=""/>
            <p:cNvSpPr/>
            <p:nvPr/>
          </p:nvSpPr>
          <p:spPr>
            <a:xfrm>
              <a:off x="3162240" y="1650960"/>
              <a:ext cx="5778720" cy="37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46320" y="1943280"/>
              <a:ext cx="3263760" cy="227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cyc-logo-small" descr=""/>
          <p:cNvPicPr/>
          <p:nvPr/>
        </p:nvPicPr>
        <p:blipFill>
          <a:blip r:embed="rId2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19240" y="2603520"/>
            <a:ext cx="482760" cy="44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960" y="3060720"/>
            <a:ext cx="482400" cy="44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040" y="1981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 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ntology Mapp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1" name="image005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53480" cy="3408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Doer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antic Problems of Thesaurus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cyc-logo-small" descr=""/>
          <p:cNvPicPr/>
          <p:nvPr/>
        </p:nvPicPr>
        <p:blipFill>
          <a:blip r:embed="rId2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19040" y="1981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 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137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 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NSPC/NAICS Mapp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7" name="cyc-logo-small" descr=""/>
          <p:cNvPicPr/>
          <p:nvPr/>
        </p:nvPicPr>
        <p:blipFill>
          <a:blip r:embed="rId1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9160" y="1625760"/>
            <a:ext cx="6286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ersal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dar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ducts an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vice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sification,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ica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ustrial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sificatio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7320" y="2857680"/>
            <a:ext cx="7950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business taxonomies are monohierarchies, entities should have one code assigned for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949560"/>
            <a:ext cx="8115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#$MonohierarchyClassification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ies that each collection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#$partitionedI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 narrower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6560" y="53211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is targeted at facets of the reference Cyc terms via functional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Mapping to Semantic Facets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397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#$isa (#$BusinessFacetFn #$HardwoodInternational #$Hardware)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$NAICS-Hardware-Stor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1371600"/>
            <a:ext cx="7772400" cy="5105520"/>
            <a:chOff x="685800" y="1371600"/>
            <a:chExt cx="7772400" cy="5105520"/>
          </a:xfrm>
        </p:grpSpPr>
        <p:sp>
          <p:nvSpPr>
            <p:cNvPr id="195" name=""/>
            <p:cNvSpPr/>
            <p:nvPr/>
          </p:nvSpPr>
          <p:spPr>
            <a:xfrm>
              <a:off x="685800" y="1371600"/>
              <a:ext cx="777240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901"/>
                </a:spcBef>
                <a:buClr>
                  <a:srgbClr val="000099"/>
                </a:buClr>
                <a:buSzPct val="125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ardwood International is an online store, selling mainly lumber but offering hardware as well, but NAICS is a monohierarch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62320" y="5638680"/>
              <a:ext cx="4419360" cy="83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</a:rPr>
                <a:t>Hardwoo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</a:rPr>
                <a:t>Interna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04920" y="4267080"/>
            <a:ext cx="18288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4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514600" y="47242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635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#$isa (#$BusinessFacetFn #$HardwoodInternational #$Hardwood)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$NAICS-Other-Building-Materials-Dealer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267080"/>
            <a:ext cx="18288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4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ardw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fac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724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yc-logo-small" descr=""/>
          <p:cNvPicPr/>
          <p:nvPr/>
        </p:nvPicPr>
        <p:blipFill>
          <a:blip r:embed="rId1"/>
          <a:stretch/>
        </p:blipFill>
        <p:spPr>
          <a:xfrm>
            <a:off x="195120" y="108000"/>
            <a:ext cx="903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20:12:46Z</dcterms:created>
  <dc:creator>reed</dc:creator>
  <dc:description/>
  <dc:language>en-US</dc:language>
  <cp:lastModifiedBy>ft</cp:lastModifiedBy>
  <cp:lastPrinted>2001-07-13T18:31:35Z</cp:lastPrinted>
  <dcterms:modified xsi:type="dcterms:W3CDTF">2001-07-19T12:31:05Z</dcterms:modified>
  <cp:revision>37</cp:revision>
  <dc:subject/>
  <dc:title>DAML Excitement at Cycorp</dc:title>
</cp:coreProperties>
</file>