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62320" y="6858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daml_2_3d%20copy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731880"/>
          </a:xfrm>
          <a:prstGeom prst="rect">
            <a:avLst/>
          </a:prstGeom>
          <a:ln w="0">
            <a:noFill/>
          </a:ln>
        </p:spPr>
      </p:pic>
      <p:pic>
        <p:nvPicPr>
          <p:cNvPr id="4" name="darpa" descr=""/>
          <p:cNvPicPr/>
          <p:nvPr/>
        </p:nvPicPr>
        <p:blipFill>
          <a:blip r:embed="rId3"/>
          <a:stretch/>
        </p:blipFill>
        <p:spPr>
          <a:xfrm>
            <a:off x="7391520" y="228600"/>
            <a:ext cx="1419120" cy="64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ML PI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out S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 and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hedule and Purp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930-10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ing and Rules (Mike Dean &amp; Richard Fikes)– Sal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L-Services (Terry Payne &amp; David Martin) – Salon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er Applications (David Martin-McCormick &amp; John Flynn) – Salo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30-1045 Br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5-1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ing and Rules – Sal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ML-Services – Sal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ller Applications – Salo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-Level Purpos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“signup sheet” tasks needed for your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actionable recommendations (what, who, wh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king Grou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ut - Brief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9644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:00 - 2: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 Minutes Each (including discus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ing Group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dations/Plan of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will be posted on daml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daml.org/meetings/2001/07/pimeeting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4T17:27:52Z</dcterms:created>
  <dc:creator>John Flynn</dc:creator>
  <dc:description/>
  <dc:language>en-US</dc:language>
  <cp:lastModifiedBy>bbn</cp:lastModifiedBy>
  <cp:lastPrinted>2000-09-29T16:21:19Z</cp:lastPrinted>
  <dcterms:modified xsi:type="dcterms:W3CDTF">2001-07-23T11:44:28Z</dcterms:modified>
  <cp:revision>25</cp:revision>
  <dc:subject>Master for General Gray's brief</dc:subject>
  <dc:title>PowerPoint Presentation</dc:title>
</cp:coreProperties>
</file>