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8B9-AFED-4522-88D4-BDA779DD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077-6202-4D82-A1C4-9A9A36D2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71F-22B5-4DBB-9DDE-8D55ABB5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D4D-6C04-4DFC-AA7E-7389DD03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ABBD-55FD-47A0-88F5-051FA0F0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F305-E7EF-486E-872E-F15261AE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8BEB-C5C2-4F50-AFFE-848AE81A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A5E5-3FBF-444B-BC6F-FE5CFB2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C4B7-B61E-4C49-889F-DA730BE4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0F94-ECE0-4AF1-8D50-42A8A06F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90D3-7AC0-40E7-B160-7FAFEC2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EB8-C984-449E-9593-ECAFC9D7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FE46-F56C-434C-9C5E-87331DC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4CCD-77B8-4404-BE27-BDE6BE10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B70-1122-442E-A166-06400F93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9BCB-61E5-4C91-A40E-CA18F1F5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B5E7-3FF6-4CA0-AA23-814AC6F1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547-835A-40DE-A1C4-BE199427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0C6-D3BC-4F82-B24A-0B399C34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0EC-64E5-4FDC-A121-1402D03F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1E0-F850-4D54-8360-6AA9C9BA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3AA-ED2A-4575-8F2B-6079CB49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012-4674-4C8C-9272-C860A4EE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C15-BF7E-487B-AA61-84096D69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8CC2-CB58-4988-A720-CE13957B2AC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FFBD-3324-41C8-9063-CC6217AEE34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Times New Roman"/>
              </a:rPr>
              <a:t>Building the DAML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Times New Roman"/>
              </a:rPr>
              <a:t>Electronic Commerce Domai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12408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David E. Anyiw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Bowie State Universit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1004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main.h1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35252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7772400" y="0"/>
          <a:ext cx="137160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0"/>
                    <a:ext cx="1371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The inability of most Web applications to communicate and meaningfully share relevant information has severely constrained business-to-business (B2B) and other types of electronic commer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-based business information is largely characterized by low intelligence dens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onsequently, most businesses incur staggering logistical costs and productivity losses in their e-business transaction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main.h1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35252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7772400" y="0"/>
          <a:ext cx="137160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0"/>
                    <a:ext cx="1371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AAB-DDD6-4D15-ABB9-6BFB765EA5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tivation     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(contd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 recent study by SAIC found that up to 40% of product design time in the missile industry was spent searching for relevant information, such as, design data, part specifications, production plans, models, simulations, price quotes, and schedule estim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ccording to the study, about 50% of the development and production time and cost of most large-scale system projects lie in the supply chain below the prime contractor le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There is a growing need to transition evolving DAML tools to enhance electronic commer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main.h1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35252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924680" y="0"/>
          <a:ext cx="10670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0"/>
                    <a:ext cx="1067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85C-2ADC-4F3A-843D-859AF17D25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e DAML EC Doma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Build a business-oriented ontology domain on the DAML infrastructure to support business-to-business electronic commerce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The DAML EC Gateway facilitates the discovery and distribution of rich semantic descriptions of commercial products and services, front- and back-office applications, expertise and provides other portal servic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ubsequent versions of the DAML EC Gateway will support business-to-customer and other electronic commerce model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main.h1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35252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7772400" y="0"/>
          <a:ext cx="137160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0"/>
                    <a:ext cx="1371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86F-82D2-4C18-A0DB-C95A9DBE93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ngoing Activit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dentify and structure common e-commerce marketplace value proposition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rganize and involve various user groups in the creation of clearinghouses from which computer and other industry DTDs can be sourc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Build and maintain libraries of rich, cross-enterprise ontology asset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main.h1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35252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7772400" y="0"/>
          <a:ext cx="137160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0"/>
                    <a:ext cx="1371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6E0-8A71-40A6-A910-9310B98014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Ongoing Activitie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(contd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lan a workshop to  establish the baseline for developing a common, dynamically extensible ontology base for the computer manufacturing industr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onstruct relevant industry value chain and other business-to-business e-commerce mode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main.h1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35252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7772400" y="0"/>
          <a:ext cx="137160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0"/>
                    <a:ext cx="1371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1FA-361C-4E2F-9448-1F10F10904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oordination of collaborative efforts within the DAML Pro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romotion of DAML/DAML-S tools for broad-based application in the e-commerce marketpla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Facilitation of interconnectivity coordination among e-business solution provid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main.h1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35252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7772400" y="0"/>
          <a:ext cx="137160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0"/>
                    <a:ext cx="1371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839-6C07-4C90-A6AE-A0B475301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03:20:31Z</dcterms:created>
  <dc:creator>IRD Assistant Director</dc:creator>
  <dc:description/>
  <dc:language>en-US</dc:language>
  <cp:lastModifiedBy>bbn</cp:lastModifiedBy>
  <dcterms:modified xsi:type="dcterms:W3CDTF">2001-08-06T14:04:03Z</dcterms:modified>
  <cp:revision>12</cp:revision>
  <dc:subject/>
  <dc:title>Building the DAML Electronic Commerce Domain </dc:title>
</cp:coreProperties>
</file>