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624-78F8-4457-B1A2-976DA327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ry Relevance Assessment with the QRA is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s how DAML can be used to enhance text retrieval by relevance ranking DAML mark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s the wealth of contextual knowledge contained within DA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rts a semantic component to relevance rankings of DAML-annotated text when only minimal query context may be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gorithm achieves a minimal loss of semantic information important for relevance ra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. . yet significant </a:t>
            </a:r>
            <a:r>
              <a:rPr b="1" lang="en-US" sz="1200" spc="-1" strike="noStrike">
                <a:solidFill>
                  <a:srgbClr val="33cc33"/>
                </a:solidFill>
                <a:latin typeface="Times New Roman"/>
              </a:rPr>
              <a:t>CHALLENGE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porate indirect relevance rank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free text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semantic heterogeneity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(i.e. Mark Twain and Samuel Clem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ulti-term queries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(Mark Twain and E A Po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n a semantically appropriate 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e incorporation of methods for categorizing DAML mark-up into top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’s H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SL Style Sheet drives the translation; provides unlimited transformations into “known” form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ns the DAML User Community, Anyone who can use XSLT can leverage DAML Mark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 the RDF API to provide a DAML Instance Model capable of converting its directed, cyclical graph into  a representative XML tree without loss of cycle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three versions of a powerful, reusable Java component for DAML trans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usable Java Component – ja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Translator – built on top of the Reusable Java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 Web-based Service – a Java Servlet, once again built on top of the Reusable Java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llen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data sets may be huge!  (the entire web?)  Need to find scalable ways to process the d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SoftBot Translators – send the translator to the data, wherever the data exi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put Filters – prune the DAML Instance Model as you bui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where to begin the translation; this sets the “Root No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xternal Sorting/Ordering capabilities to control the ordering of the representative XM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the DAML Instance Model to focus on “bespoke” data creation, visualization, navigation, and 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the Translator to really leverage the DAML relationships and cycles to provide a multi-pass translation, based on a new kind of DAML Styl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’s H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SL Style Sheet drives the translation; provides unlimited transformations into “known” form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ns the DAML User Community, Anyone who can use XSLT can leverage DAML Mark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 the RDF API to provide a DAML Instance Model capable of converting its directed, cyclical graph into  a representative XML tree without loss of cycle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three versions of a powerful, reusable Java component for DAML trans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usable Java Component – ja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Translator – built on top of the Reusable Java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 Web-based Service – a Java Servlet, once again built on top of the Reusable Java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llen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data sets may be huge!  (the entire web?)  Need to find scalable ways to process the d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SoftBot Translators – send the translator to the data, wherever the data exi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put Filters – prune the DAML Instance Model as you bui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where to begin the translation; this sets the “Root No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xternal Sorting/Ordering capabilities to control the ordering of the representative XM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the DAML Instance Model to focus on “bespoke” data creation, visualization, navigation, and 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the Translator to really leverage the DAML relationships and cycles to provide a multi-pass translation, based on a new kind of DAML Styl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3C-2C0D-435F-8D8D-0BA5ECAE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1C9-8F08-41E1-9D7F-4F1D057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E19-C33B-446C-A25E-3029D14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EDD-2B38-4AA9-B090-CCA8A117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A25-238C-415A-8864-4421B7A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8BA-892E-4BF9-9DFD-78692332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098-0501-49F2-B621-ACA51A0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36A-27B6-4ED4-8A2F-0C8DA91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F41-1B82-45FB-A328-D5074BBF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2F7-6696-4C10-AEB1-544DE89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5F6-1FF5-4BD2-929F-E549802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0B0-5B3C-480F-ADE6-4375DA1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DF4-0E7F-46C4-B644-A15547E2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davincinetbook.com:8080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280"/>
            <a:ext cx="9075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H DAML Too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2440"/>
            <a:ext cx="91440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To DA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elevance Ass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 XSLT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ml_2_3d%20copy" descr=""/>
          <p:cNvPicPr/>
          <p:nvPr/>
        </p:nvPicPr>
        <p:blipFill>
          <a:blip r:embed="rId1"/>
          <a:stretch/>
        </p:blipFill>
        <p:spPr>
          <a:xfrm>
            <a:off x="228600" y="0"/>
            <a:ext cx="1166760" cy="622440"/>
          </a:xfrm>
          <a:prstGeom prst="rect">
            <a:avLst/>
          </a:prstGeom>
          <a:ln w="0">
            <a:noFill/>
          </a:ln>
        </p:spPr>
      </p:pic>
      <p:pic>
        <p:nvPicPr>
          <p:cNvPr id="51" name="bah_gold_logo" descr=""/>
          <p:cNvPicPr/>
          <p:nvPr/>
        </p:nvPicPr>
        <p:blipFill>
          <a:blip r:embed="rId2"/>
          <a:stretch/>
        </p:blipFill>
        <p:spPr>
          <a:xfrm>
            <a:off x="3276720" y="6593040"/>
            <a:ext cx="2590560" cy="26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513560" y="0"/>
          <a:ext cx="14367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3560" y="0"/>
                    <a:ext cx="1436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075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XML To DAM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2440"/>
            <a:ext cx="91440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 level tasks in order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1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Schema to DA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urrent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2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DTD to DA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via XML Spy as a pre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3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Content to DA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pendent on the language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 to DAML Accomplish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blem solved: Graphs of XML schemas can be translated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 XML Schema components currently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space &amp; nonamespace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/complex element declarations &amp; Attribute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/anonomous attribute groups, model groups, &amp; complex type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quence (currently without order semantics), choice (based on a daml set difference), &amp; 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ttributes &amp; attribute refs, simple/complex elements &amp; element refs, &amp; group ref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anguage map - cascading Restrictions model nested XML schema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arder portions of the language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xed/default/null values, mixed/empty content, derivation by restriction/exten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rder semantics, elemement substitution groups, abstract elements/types, block/final, wildca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aml_2_3d%20copy" descr=""/>
          <p:cNvPicPr/>
          <p:nvPr/>
        </p:nvPicPr>
        <p:blipFill>
          <a:blip r:embed="rId1"/>
          <a:stretch/>
        </p:blipFill>
        <p:spPr>
          <a:xfrm>
            <a:off x="228600" y="0"/>
            <a:ext cx="116676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bah_gold_logo" descr=""/>
          <p:cNvPicPr/>
          <p:nvPr/>
        </p:nvPicPr>
        <p:blipFill>
          <a:blip r:embed="rId2"/>
          <a:stretch/>
        </p:blipFill>
        <p:spPr>
          <a:xfrm>
            <a:off x="3276720" y="6593040"/>
            <a:ext cx="2590560" cy="26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513560" y="0"/>
          <a:ext cx="14367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3560" y="0"/>
                    <a:ext cx="1436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43200" y="3049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elevance            Assessor(Q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371600"/>
            <a:ext cx="86868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71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y Relevance Assessment with the QRA 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onstrates how DAML can be used to enhance the accuracy and precision of WWW text retrieval by relevance ranking DAML mark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its the wealth of contextual knowledge contained within DAML ontology classes, properties, and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arts a semantic component to relevance rankings of DAML-annotated text with respect to query terms when only minimal query context may be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hieves a minimal loss of semantic information important for relevance r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. . yet significant </a:t>
            </a: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CHALLENG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rporate indirect relevance ranking and free text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ress semantic 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multi-term queries in a semantically appropriate fash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713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stigate incorporation of machine learning methods for categorizing DAML mark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aml_2_3d%20copy" descr=""/>
          <p:cNvPicPr/>
          <p:nvPr/>
        </p:nvPicPr>
        <p:blipFill>
          <a:blip r:embed="rId1"/>
          <a:stretch/>
        </p:blipFill>
        <p:spPr>
          <a:xfrm>
            <a:off x="228600" y="0"/>
            <a:ext cx="116676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bah_gold_logo" descr=""/>
          <p:cNvPicPr/>
          <p:nvPr/>
        </p:nvPicPr>
        <p:blipFill>
          <a:blip r:embed="rId2"/>
          <a:stretch/>
        </p:blipFill>
        <p:spPr>
          <a:xfrm>
            <a:off x="3276720" y="6593040"/>
            <a:ext cx="2590560" cy="26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513560" y="0"/>
          <a:ext cx="14367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3560" y="0"/>
                    <a:ext cx="1436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aml_2_3d%20copy" descr=""/>
          <p:cNvPicPr/>
          <p:nvPr/>
        </p:nvPicPr>
        <p:blipFill>
          <a:blip r:embed="rId1"/>
          <a:stretch/>
        </p:blipFill>
        <p:spPr>
          <a:xfrm>
            <a:off x="228600" y="0"/>
            <a:ext cx="1166760" cy="622440"/>
          </a:xfrm>
          <a:prstGeom prst="rect">
            <a:avLst/>
          </a:prstGeom>
          <a:ln w="0">
            <a:noFill/>
          </a:ln>
        </p:spPr>
      </p:pic>
      <p:pic>
        <p:nvPicPr>
          <p:cNvPr id="68" name="bah_gold_logo" descr=""/>
          <p:cNvPicPr/>
          <p:nvPr/>
        </p:nvPicPr>
        <p:blipFill>
          <a:blip r:embed="rId2"/>
          <a:stretch/>
        </p:blipFill>
        <p:spPr>
          <a:xfrm>
            <a:off x="3276720" y="6593040"/>
            <a:ext cx="2590560" cy="26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7513560" y="0"/>
          <a:ext cx="14367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3560" y="0"/>
                    <a:ext cx="1436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Hot with DAML XS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 end user to perform a myriad number of unique transformations on a DAML resource (mark up) leveraging current XSLT technology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DAML useful to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ch wider audi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users (it offers a quick and easy way to exploit the power of DAML, and package it into a familiar form, such as: XML, HTML, WML, BizTalk, 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 a “new” DAML Instance Model and converted DAML to representative XML by encoding DAML cycles into “cycles-less” XM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reated a powerful, reusable Java component for DAML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calability - Large Data Sets -How much is too mu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rrently No “Partial” DAML Conver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dd Input Filters to pare down large data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oice of “Root Node” for the Representative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dering of XML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rrently uses alphabetical sorting of Subjects and Pred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e a “style sheet” to impose ordering/filtering/sorting of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nued Development of a robust DAML Instan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cus on instance data creation, visualization, navigation, and mani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ulti-Pass DAML 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rrent XSLT is single-pas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verage DAML cycles, relationship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H DAML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aml_2_3d%20copy" descr=""/>
          <p:cNvPicPr/>
          <p:nvPr/>
        </p:nvPicPr>
        <p:blipFill>
          <a:blip r:embed="rId1"/>
          <a:stretch/>
        </p:blipFill>
        <p:spPr>
          <a:xfrm>
            <a:off x="228600" y="0"/>
            <a:ext cx="1166760" cy="622440"/>
          </a:xfrm>
          <a:prstGeom prst="rect">
            <a:avLst/>
          </a:prstGeom>
          <a:ln w="0">
            <a:noFill/>
          </a:ln>
        </p:spPr>
      </p:pic>
      <p:pic>
        <p:nvPicPr>
          <p:cNvPr id="74" name="bah_gold_logo" descr=""/>
          <p:cNvPicPr/>
          <p:nvPr/>
        </p:nvPicPr>
        <p:blipFill>
          <a:blip r:embed="rId2"/>
          <a:stretch/>
        </p:blipFill>
        <p:spPr>
          <a:xfrm>
            <a:off x="3276720" y="6593040"/>
            <a:ext cx="2590560" cy="26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7513560" y="0"/>
          <a:ext cx="143676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13560" y="0"/>
                    <a:ext cx="1436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57200" y="914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uly PI meeting presentations can be found 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5"/>
          </p:cNvPr>
          <p:cNvSpPr/>
          <p:nvPr/>
        </p:nvSpPr>
        <p:spPr>
          <a:xfrm>
            <a:off x="990720" y="1600200"/>
            <a:ext cx="6858000" cy="646200"/>
          </a:xfrm>
          <a:custGeom>
            <a:avLst/>
            <a:gdLst>
              <a:gd name="textAreaLeft" fmla="*/ 41760 w 6858000"/>
              <a:gd name="textAreaRight" fmla="*/ 6816240 w 6858000"/>
              <a:gd name="textAreaTop" fmla="*/ 41760 h 646200"/>
              <a:gd name="textAreaBottom" fmla="*/ 604440 h 646200"/>
            </a:gdLst>
            <a:ahLst/>
            <a:rect l="textAreaLeft" t="textAreaTop" r="textAreaRight" b="textAreaBottom"/>
            <a:pathLst>
              <a:path w="229121" h="21600">
                <a:moveTo>
                  <a:pt x="0" y="0"/>
                </a:moveTo>
                <a:lnTo>
                  <a:pt x="229121" y="0"/>
                </a:lnTo>
                <a:lnTo>
                  <a:pt x="229121" y="21600"/>
                </a:lnTo>
                <a:lnTo>
                  <a:pt x="0" y="21600"/>
                </a:lnTo>
                <a:close/>
              </a:path>
              <a:path fill="lightenLess" w="229121" h="21600">
                <a:moveTo>
                  <a:pt x="0" y="0"/>
                </a:moveTo>
                <a:lnTo>
                  <a:pt x="229121" y="0"/>
                </a:lnTo>
                <a:lnTo>
                  <a:pt x="227721" y="1400"/>
                </a:lnTo>
                <a:lnTo>
                  <a:pt x="1400" y="1400"/>
                </a:lnTo>
                <a:close/>
              </a:path>
              <a:path fill="darken" w="229121" h="21600">
                <a:moveTo>
                  <a:pt x="229121" y="0"/>
                </a:moveTo>
                <a:lnTo>
                  <a:pt x="229121" y="21600"/>
                </a:lnTo>
                <a:lnTo>
                  <a:pt x="227721" y="20200"/>
                </a:lnTo>
                <a:lnTo>
                  <a:pt x="227721" y="1400"/>
                </a:lnTo>
                <a:close/>
              </a:path>
              <a:path fill="darkenLess" w="229121" h="21600">
                <a:moveTo>
                  <a:pt x="229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21" y="20200"/>
                </a:lnTo>
                <a:close/>
              </a:path>
              <a:path fill="lighten" w="229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davincinetbook.com:80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12:26Z</dcterms:created>
  <dc:creator>BA&amp;H User</dc:creator>
  <dc:description/>
  <dc:language>en-US</dc:language>
  <cp:lastModifiedBy>bbn</cp:lastModifiedBy>
  <dcterms:modified xsi:type="dcterms:W3CDTF">2001-07-23T13:03:01Z</dcterms:modified>
  <cp:revision>13</cp:revision>
  <dc:subject/>
  <dc:title>PowerPoint Presentation</dc:title>
</cp:coreProperties>
</file>