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4.wmf" ContentType="image/x-wmf"/>
  <Override PartName="/ppt/media/image2.png" ContentType="image/png"/>
  <Override PartName="/ppt/media/image2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8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76760"/>
            <a:ext cx="8839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cIlraith - Knowledge Systems Laboratory                                                                                                                                            DAML/Horus Meeting 02/16/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4.png"/><Relationship Id="rId18" Type="http://schemas.openxmlformats.org/officeDocument/2006/relationships/image" Target="../media/image23.jpeg"/><Relationship Id="rId19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Mobilizing the Web 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with 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DAML-Enabled Web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ila McIlra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Systems Laboratory (KS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 of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for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ith Son Cao Tran and Honglei Ze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DamlSansText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981440" cy="965160"/>
          </a:xfrm>
          <a:prstGeom prst="rect">
            <a:avLst/>
          </a:prstGeom>
          <a:ln w="0">
            <a:noFill/>
          </a:ln>
        </p:spPr>
      </p:pic>
      <p:pic>
        <p:nvPicPr>
          <p:cNvPr id="42" name="darpacropped2" descr=""/>
          <p:cNvPicPr/>
          <p:nvPr/>
        </p:nvPicPr>
        <p:blipFill>
          <a:blip r:embed="rId2"/>
          <a:stretch/>
        </p:blipFill>
        <p:spPr>
          <a:xfrm>
            <a:off x="6404040" y="65160"/>
            <a:ext cx="3120840" cy="27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2880" y="1219320"/>
            <a:ext cx="8287920" cy="49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web site provide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of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provid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e.g., flight schedules, camera view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-alter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e.g., booking flights, home temp. adjust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ices are conceived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execution, (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~Declaratively Specified AP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s/proce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omposition and inter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ites are annotated with DAML markup, descri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s in terms of action preconditions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effects or in terms of process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553080" y="4800600"/>
            <a:ext cx="1752840" cy="1544040"/>
            <a:chOff x="6553080" y="4800600"/>
            <a:chExt cx="1752840" cy="1544040"/>
          </a:xfrm>
        </p:grpSpPr>
        <p:sp>
          <p:nvSpPr>
            <p:cNvPr id="141" name=""/>
            <p:cNvSpPr/>
            <p:nvPr/>
          </p:nvSpPr>
          <p:spPr>
            <a:xfrm>
              <a:off x="6553080" y="582444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AML-enabled web p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6970680" y="4800600"/>
              <a:ext cx="1001880" cy="977760"/>
              <a:chOff x="6970680" y="4800600"/>
              <a:chExt cx="1001880" cy="97776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7385040" y="4800600"/>
                <a:ext cx="241560" cy="244440"/>
                <a:chOff x="7385040" y="4800600"/>
                <a:chExt cx="241560" cy="2444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385040" y="4800600"/>
                  <a:ext cx="241560" cy="244440"/>
                </a:xfrm>
                <a:prstGeom prst="flowChartMultidocument">
                  <a:avLst/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419600" y="4892040"/>
                  <a:ext cx="103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454160" y="4892040"/>
                  <a:ext cx="0" cy="3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419600" y="4922640"/>
                  <a:ext cx="68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454160" y="4922640"/>
                  <a:ext cx="103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488360" y="4922640"/>
                  <a:ext cx="0" cy="3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454160" y="4953240"/>
                  <a:ext cx="68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7039440" y="5533920"/>
                <a:ext cx="241920" cy="244440"/>
                <a:chOff x="7039440" y="5533920"/>
                <a:chExt cx="241920" cy="2444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7039440" y="5533920"/>
                  <a:ext cx="241920" cy="244440"/>
                </a:xfrm>
                <a:prstGeom prst="flowChartMultidocument">
                  <a:avLst/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074000" y="5625360"/>
                  <a:ext cx="103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108560" y="5625360"/>
                  <a:ext cx="0" cy="3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074000" y="5655960"/>
                  <a:ext cx="68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108560" y="5655960"/>
                  <a:ext cx="103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143120" y="5655960"/>
                  <a:ext cx="0" cy="3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108560" y="5686560"/>
                  <a:ext cx="68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6970680" y="5075280"/>
                <a:ext cx="241560" cy="244440"/>
                <a:chOff x="6970680" y="5075280"/>
                <a:chExt cx="241560" cy="2444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6970680" y="5075280"/>
                  <a:ext cx="241560" cy="244440"/>
                </a:xfrm>
                <a:prstGeom prst="flowChartMultidocument">
                  <a:avLst/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005240" y="5166720"/>
                  <a:ext cx="103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039800" y="5166720"/>
                  <a:ext cx="0" cy="3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005240" y="5197320"/>
                  <a:ext cx="68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039800" y="5197320"/>
                  <a:ext cx="103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074000" y="5197320"/>
                  <a:ext cx="0" cy="3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039800" y="5227920"/>
                  <a:ext cx="68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7626960" y="5533920"/>
                <a:ext cx="241920" cy="244440"/>
                <a:chOff x="7626960" y="5533920"/>
                <a:chExt cx="241920" cy="2444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626960" y="5533920"/>
                  <a:ext cx="241920" cy="244440"/>
                </a:xfrm>
                <a:prstGeom prst="flowChartMultidocument">
                  <a:avLst/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661520" y="5625360"/>
                  <a:ext cx="103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696080" y="5625360"/>
                  <a:ext cx="0" cy="3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661520" y="5655960"/>
                  <a:ext cx="68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696080" y="5655960"/>
                  <a:ext cx="103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730640" y="5655960"/>
                  <a:ext cx="0" cy="3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696080" y="5686560"/>
                  <a:ext cx="68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7385040" y="5228280"/>
                <a:ext cx="241560" cy="244080"/>
                <a:chOff x="7385040" y="5228280"/>
                <a:chExt cx="241560" cy="2440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7385040" y="5228280"/>
                  <a:ext cx="241560" cy="244080"/>
                </a:xfrm>
                <a:prstGeom prst="flowChartMultidocument">
                  <a:avLst/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419600" y="5319720"/>
                  <a:ext cx="103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454160" y="5319720"/>
                  <a:ext cx="0" cy="3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419600" y="5350320"/>
                  <a:ext cx="68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54160" y="5350320"/>
                  <a:ext cx="103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488360" y="5350320"/>
                  <a:ext cx="0" cy="3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454160" y="5380920"/>
                  <a:ext cx="68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7730640" y="5075280"/>
                <a:ext cx="241920" cy="244440"/>
                <a:chOff x="7730640" y="5075280"/>
                <a:chExt cx="241920" cy="2444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7730640" y="5075280"/>
                  <a:ext cx="241920" cy="244440"/>
                </a:xfrm>
                <a:prstGeom prst="flowChartMultidocument">
                  <a:avLst/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765200" y="5166720"/>
                  <a:ext cx="103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799760" y="5166720"/>
                  <a:ext cx="0" cy="3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765200" y="5197320"/>
                  <a:ext cx="68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799760" y="5197320"/>
                  <a:ext cx="103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834320" y="5197320"/>
                  <a:ext cx="0" cy="3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799760" y="5227920"/>
                  <a:ext cx="68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 flipH="1" flipV="1">
                <a:off x="7108560" y="5289120"/>
                <a:ext cx="69120" cy="27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7177680" y="4983480"/>
                <a:ext cx="20700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7212240" y="5045040"/>
                <a:ext cx="24192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flipV="1">
                <a:off x="7211880" y="5197320"/>
                <a:ext cx="31068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7626960" y="5227920"/>
                <a:ext cx="10332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>
                <a:off x="7626600" y="4983840"/>
                <a:ext cx="1033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7108560" y="4892040"/>
                <a:ext cx="276480" cy="18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 flipV="1">
                <a:off x="7522920" y="5441760"/>
                <a:ext cx="103320" cy="18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281360" y="5625360"/>
                <a:ext cx="34524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7765200" y="5320080"/>
                <a:ext cx="34560" cy="21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AML Markup of Web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88120" y="1828800"/>
            <a:ext cx="5967360" cy="398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ld-altering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chase-plane-ti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chase-UAL-plane-ti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rameters: c-name, origin, dest, d-date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econditions: know(c-name), valid(credit-card)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ffects: purchased(ticket), debit(credit-card)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-c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-providing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-schedule-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-flight-schedule-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4760" y="1109520"/>
            <a:ext cx="754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and action-based markup exploits ontolog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876920" y="1752480"/>
            <a:ext cx="3429000" cy="3124080"/>
            <a:chOff x="4876920" y="1752480"/>
            <a:chExt cx="3429000" cy="3124080"/>
          </a:xfrm>
        </p:grpSpPr>
        <p:sp>
          <p:nvSpPr>
            <p:cNvPr id="206" name=""/>
            <p:cNvSpPr/>
            <p:nvPr/>
          </p:nvSpPr>
          <p:spPr>
            <a:xfrm>
              <a:off x="4876920" y="1752480"/>
              <a:ext cx="190476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29400" y="2895480"/>
              <a:ext cx="167652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4876920" y="1904760"/>
              <a:ext cx="1600200" cy="1281960"/>
              <a:chOff x="4876920" y="1904760"/>
              <a:chExt cx="1600200" cy="1281960"/>
            </a:xfrm>
          </p:grpSpPr>
          <p:sp>
            <p:nvSpPr>
              <p:cNvPr id="209" name=""/>
              <p:cNvSpPr/>
              <p:nvPr/>
            </p:nvSpPr>
            <p:spPr>
              <a:xfrm>
                <a:off x="4876920" y="2666520"/>
                <a:ext cx="160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Web Service Ontologi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5218200" y="1904760"/>
                <a:ext cx="915840" cy="781920"/>
                <a:chOff x="5218200" y="1904760"/>
                <a:chExt cx="915840" cy="781920"/>
              </a:xfrm>
            </p:grpSpPr>
            <p:grpSp>
              <p:nvGrpSpPr>
                <p:cNvPr id="211" name=""/>
                <p:cNvGrpSpPr/>
                <p:nvPr/>
              </p:nvGrpSpPr>
              <p:grpSpPr>
                <a:xfrm>
                  <a:off x="5446800" y="1904760"/>
                  <a:ext cx="687240" cy="717480"/>
                  <a:chOff x="5446800" y="1904760"/>
                  <a:chExt cx="687240" cy="71748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>
                    <a:off x="5446800" y="1904760"/>
                    <a:ext cx="687240" cy="71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5538960" y="1955160"/>
                    <a:ext cx="457200" cy="536400"/>
                    <a:chOff x="5538960" y="1955160"/>
                    <a:chExt cx="457200" cy="5364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5900400" y="2401200"/>
                      <a:ext cx="91440" cy="9036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640" bIns="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flipV="1">
                      <a:off x="5767200" y="2092680"/>
                      <a:ext cx="45720" cy="22824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5813280" y="2275200"/>
                      <a:ext cx="136800" cy="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767560" y="2275200"/>
                      <a:ext cx="167760" cy="16380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>
                      <a:off x="5584680" y="2275200"/>
                      <a:ext cx="182880" cy="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 flipV="1">
                      <a:off x="5721840" y="2001240"/>
                      <a:ext cx="182880" cy="9144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 flipH="1" flipV="1">
                      <a:off x="5675760" y="1955160"/>
                      <a:ext cx="91440" cy="13716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>
                      <a:off x="5675760" y="2092680"/>
                      <a:ext cx="91440" cy="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721840" y="2229480"/>
                      <a:ext cx="137160" cy="13680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538960" y="2229480"/>
                      <a:ext cx="91440" cy="9144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000" bIns="18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5904720" y="2229480"/>
                      <a:ext cx="91440" cy="9144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000" bIns="18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721840" y="2046960"/>
                      <a:ext cx="91440" cy="9108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640" bIns="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859000" y="2001240"/>
                      <a:ext cx="45360" cy="4572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5630400" y="2046960"/>
                      <a:ext cx="45360" cy="4572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675760" y="1955520"/>
                      <a:ext cx="45720" cy="4572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5218200" y="1969560"/>
                  <a:ext cx="687240" cy="717120"/>
                  <a:chOff x="5218200" y="1969560"/>
                  <a:chExt cx="687240" cy="71712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5218200" y="1969560"/>
                    <a:ext cx="687240" cy="717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5310360" y="2019960"/>
                    <a:ext cx="457200" cy="536040"/>
                    <a:chOff x="5310360" y="2019960"/>
                    <a:chExt cx="457200" cy="536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5671800" y="2465640"/>
                      <a:ext cx="91440" cy="9036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640" bIns="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flipV="1">
                      <a:off x="5538600" y="2156760"/>
                      <a:ext cx="45720" cy="22824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584680" y="2339640"/>
                      <a:ext cx="136800" cy="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538960" y="2339640"/>
                      <a:ext cx="167760" cy="16344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>
                      <a:off x="5356080" y="2339640"/>
                      <a:ext cx="182880" cy="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 flipV="1">
                      <a:off x="5493240" y="2064960"/>
                      <a:ext cx="182880" cy="9108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5447160" y="2019960"/>
                      <a:ext cx="91440" cy="13680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>
                      <a:off x="5447160" y="2156760"/>
                      <a:ext cx="91440" cy="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493240" y="2293920"/>
                      <a:ext cx="137160" cy="13680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5310360" y="2293920"/>
                      <a:ext cx="91440" cy="9108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640" bIns="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5676120" y="2293920"/>
                      <a:ext cx="91440" cy="9108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640" bIns="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493240" y="2111040"/>
                      <a:ext cx="91440" cy="9108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640" bIns="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630400" y="2065320"/>
                      <a:ext cx="45360" cy="4536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0" bIns="-14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5401800" y="2111040"/>
                      <a:ext cx="45360" cy="4536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0" bIns="-14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5447160" y="2019960"/>
                      <a:ext cx="45720" cy="4536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0" bIns="-14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247" name=""/>
            <p:cNvSpPr/>
            <p:nvPr/>
          </p:nvSpPr>
          <p:spPr>
            <a:xfrm>
              <a:off x="6172200" y="2514240"/>
              <a:ext cx="9907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6553080" y="3200040"/>
              <a:ext cx="1752840" cy="1544040"/>
              <a:chOff x="6553080" y="3200040"/>
              <a:chExt cx="1752840" cy="1544040"/>
            </a:xfrm>
          </p:grpSpPr>
          <p:sp>
            <p:nvSpPr>
              <p:cNvPr id="249" name=""/>
              <p:cNvSpPr/>
              <p:nvPr/>
            </p:nvSpPr>
            <p:spPr>
              <a:xfrm>
                <a:off x="6553080" y="4223880"/>
                <a:ext cx="1752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DAML-enabled web pag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6970680" y="3200040"/>
                <a:ext cx="1001880" cy="977760"/>
                <a:chOff x="6970680" y="3200040"/>
                <a:chExt cx="1001880" cy="977760"/>
              </a:xfrm>
            </p:grpSpPr>
            <p:grpSp>
              <p:nvGrpSpPr>
                <p:cNvPr id="251" name=""/>
                <p:cNvGrpSpPr/>
                <p:nvPr/>
              </p:nvGrpSpPr>
              <p:grpSpPr>
                <a:xfrm>
                  <a:off x="7385040" y="3200040"/>
                  <a:ext cx="241560" cy="244440"/>
                  <a:chOff x="7385040" y="3200040"/>
                  <a:chExt cx="241560" cy="24444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7385040" y="320004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7419600" y="32914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7454160" y="329148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7419600" y="33220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7454160" y="33220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7488360" y="332208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7454160" y="33526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7039440" y="3933360"/>
                  <a:ext cx="241920" cy="244440"/>
                  <a:chOff x="7039440" y="3933360"/>
                  <a:chExt cx="241920" cy="24444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7039440" y="3933360"/>
                    <a:ext cx="24192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7074000" y="4024800"/>
                    <a:ext cx="103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7108560" y="402480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7074000" y="405540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7108560" y="4055400"/>
                    <a:ext cx="103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7143120" y="405540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7108560" y="408600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6970680" y="3474720"/>
                  <a:ext cx="241560" cy="244440"/>
                  <a:chOff x="6970680" y="3474720"/>
                  <a:chExt cx="241560" cy="24444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970680" y="347472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7005240" y="356616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7039800" y="356616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7005240" y="359676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039800" y="359676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074000" y="359676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7039800" y="362736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7626960" y="3933360"/>
                  <a:ext cx="241920" cy="244440"/>
                  <a:chOff x="7626960" y="3933360"/>
                  <a:chExt cx="241920" cy="24444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7626960" y="3933360"/>
                    <a:ext cx="24192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7661520" y="4024800"/>
                    <a:ext cx="103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7696080" y="402480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7661520" y="405540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7696080" y="4055400"/>
                    <a:ext cx="103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730640" y="405540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7696080" y="408600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7385040" y="3627720"/>
                  <a:ext cx="241560" cy="244080"/>
                  <a:chOff x="7385040" y="3627720"/>
                  <a:chExt cx="241560" cy="2440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7385040" y="3627720"/>
                    <a:ext cx="241560" cy="24408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7419600" y="371916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7454160" y="3719160"/>
                    <a:ext cx="0" cy="3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7419600" y="374976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7454160" y="374976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7488360" y="3749760"/>
                    <a:ext cx="0" cy="3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7454160" y="378036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7730640" y="3474720"/>
                  <a:ext cx="241920" cy="244440"/>
                  <a:chOff x="7730640" y="3474720"/>
                  <a:chExt cx="241920" cy="24444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>
                    <a:off x="7730640" y="3474720"/>
                    <a:ext cx="24192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7765200" y="3566160"/>
                    <a:ext cx="103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7799760" y="356616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7765200" y="359676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7799760" y="3596760"/>
                    <a:ext cx="103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7834320" y="359676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7799760" y="362736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9" name=""/>
                <p:cNvSpPr/>
                <p:nvPr/>
              </p:nvSpPr>
              <p:spPr>
                <a:xfrm flipH="1" flipV="1">
                  <a:off x="7108560" y="3688560"/>
                  <a:ext cx="69120" cy="27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V="1">
                  <a:off x="7177680" y="3382920"/>
                  <a:ext cx="207000" cy="12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>
                  <a:off x="7212240" y="3444480"/>
                  <a:ext cx="241920" cy="51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H="1" flipV="1">
                  <a:off x="7211880" y="3596760"/>
                  <a:ext cx="310680" cy="3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7626960" y="3627360"/>
                  <a:ext cx="103320" cy="12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H="1" flipV="1">
                  <a:off x="7626600" y="3383280"/>
                  <a:ext cx="10332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>
                  <a:off x="7108560" y="3291480"/>
                  <a:ext cx="27648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 flipV="1">
                  <a:off x="7522920" y="3841200"/>
                  <a:ext cx="10332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281360" y="4024800"/>
                  <a:ext cx="345240" cy="3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>
                  <a:off x="7765200" y="3719520"/>
                  <a:ext cx="34560" cy="21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9" name=""/>
          <p:cNvSpPr/>
          <p:nvPr/>
        </p:nvSpPr>
        <p:spPr>
          <a:xfrm>
            <a:off x="612720" y="5943600"/>
            <a:ext cx="72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llectively they create a distributed KB of servic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gents request services through bro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4800600" y="3597120"/>
            <a:ext cx="4038480" cy="3032280"/>
            <a:chOff x="4800600" y="3597120"/>
            <a:chExt cx="4038480" cy="3032280"/>
          </a:xfrm>
        </p:grpSpPr>
        <p:grpSp>
          <p:nvGrpSpPr>
            <p:cNvPr id="313" name=""/>
            <p:cNvGrpSpPr/>
            <p:nvPr/>
          </p:nvGrpSpPr>
          <p:grpSpPr>
            <a:xfrm>
              <a:off x="7086600" y="4876920"/>
              <a:ext cx="1752480" cy="1544040"/>
              <a:chOff x="7086600" y="4876920"/>
              <a:chExt cx="1752480" cy="1544040"/>
            </a:xfrm>
          </p:grpSpPr>
          <p:sp>
            <p:nvSpPr>
              <p:cNvPr id="314" name=""/>
              <p:cNvSpPr/>
              <p:nvPr/>
            </p:nvSpPr>
            <p:spPr>
              <a:xfrm>
                <a:off x="7086600" y="5900760"/>
                <a:ext cx="1752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DAML-enabled web pag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5" name=""/>
              <p:cNvGrpSpPr/>
              <p:nvPr/>
            </p:nvGrpSpPr>
            <p:grpSpPr>
              <a:xfrm>
                <a:off x="7503840" y="4876920"/>
                <a:ext cx="1001160" cy="977760"/>
                <a:chOff x="7503840" y="4876920"/>
                <a:chExt cx="1001160" cy="977760"/>
              </a:xfrm>
            </p:grpSpPr>
            <p:grpSp>
              <p:nvGrpSpPr>
                <p:cNvPr id="316" name=""/>
                <p:cNvGrpSpPr/>
                <p:nvPr/>
              </p:nvGrpSpPr>
              <p:grpSpPr>
                <a:xfrm>
                  <a:off x="7918200" y="4876920"/>
                  <a:ext cx="241560" cy="244440"/>
                  <a:chOff x="7918200" y="4876920"/>
                  <a:chExt cx="241560" cy="24444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7918200" y="487692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7952760" y="496836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7987320" y="496836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7952760" y="499896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7987320" y="499896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8021520" y="499896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7987320" y="502956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7572600" y="5610240"/>
                  <a:ext cx="241560" cy="244440"/>
                  <a:chOff x="7572600" y="5610240"/>
                  <a:chExt cx="241560" cy="24444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>
                    <a:off x="7572600" y="561024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7607160" y="57016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7641720" y="570168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7607160" y="57322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7641720" y="57322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7675920" y="573228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7641720" y="57628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7503840" y="5151600"/>
                  <a:ext cx="241560" cy="244440"/>
                  <a:chOff x="7503840" y="5151600"/>
                  <a:chExt cx="241560" cy="24444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7503840" y="515160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7538400" y="524304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7572960" y="524304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7538400" y="527364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572960" y="527364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7607160" y="527364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7572960" y="530424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8159760" y="5610240"/>
                  <a:ext cx="241560" cy="244440"/>
                  <a:chOff x="8159760" y="5610240"/>
                  <a:chExt cx="241560" cy="24444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>
                    <a:off x="8159760" y="561024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8194320" y="57016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228880" y="570168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194320" y="57322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8228880" y="57322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8263080" y="573228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228880" y="57628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7918200" y="5304600"/>
                  <a:ext cx="241560" cy="244080"/>
                  <a:chOff x="7918200" y="5304600"/>
                  <a:chExt cx="241560" cy="24408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>
                    <a:off x="7918200" y="5304600"/>
                    <a:ext cx="241560" cy="24408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7952760" y="539604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7987320" y="5396040"/>
                    <a:ext cx="0" cy="3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7952760" y="542664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7987320" y="542664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8021520" y="5426640"/>
                    <a:ext cx="0" cy="3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7987320" y="545724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8263440" y="5151600"/>
                  <a:ext cx="241560" cy="244440"/>
                  <a:chOff x="8263440" y="5151600"/>
                  <a:chExt cx="241560" cy="24444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8263440" y="515160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8298000" y="524304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8332560" y="524304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298000" y="527364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8332560" y="527364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8366760" y="527364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8332560" y="530424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4" name=""/>
                <p:cNvSpPr/>
                <p:nvPr/>
              </p:nvSpPr>
              <p:spPr>
                <a:xfrm flipH="1" flipV="1">
                  <a:off x="7641720" y="5365440"/>
                  <a:ext cx="69120" cy="27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V="1">
                  <a:off x="7710840" y="5059800"/>
                  <a:ext cx="207000" cy="12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>
                  <a:off x="7745040" y="5121360"/>
                  <a:ext cx="241560" cy="51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 flipV="1">
                  <a:off x="7745040" y="5273640"/>
                  <a:ext cx="310680" cy="3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V="1">
                  <a:off x="8159760" y="5304240"/>
                  <a:ext cx="103320" cy="12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H="1" flipV="1">
                  <a:off x="8159400" y="5060160"/>
                  <a:ext cx="10332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>
                  <a:off x="7641360" y="4968360"/>
                  <a:ext cx="27612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 flipV="1">
                  <a:off x="8055720" y="5518080"/>
                  <a:ext cx="10332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814520" y="5701680"/>
                  <a:ext cx="345240" cy="3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>
                  <a:off x="8298000" y="5396400"/>
                  <a:ext cx="34560" cy="21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4" name=""/>
            <p:cNvSpPr/>
            <p:nvPr/>
          </p:nvSpPr>
          <p:spPr>
            <a:xfrm flipH="1">
              <a:off x="5257440" y="586728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61080" y="5410080"/>
              <a:ext cx="868320" cy="5479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ok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8168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4800600" y="6095520"/>
              <a:ext cx="533520" cy="533880"/>
              <a:chOff x="4800600" y="6095520"/>
              <a:chExt cx="533520" cy="53388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4834080" y="6400800"/>
                <a:ext cx="468720" cy="228600"/>
                <a:chOff x="4834080" y="6400800"/>
                <a:chExt cx="468720" cy="228600"/>
              </a:xfrm>
            </p:grpSpPr>
            <p:sp>
              <p:nvSpPr>
                <p:cNvPr id="379" name=""/>
                <p:cNvSpPr/>
                <p:nvPr/>
              </p:nvSpPr>
              <p:spPr>
                <a:xfrm flipH="1">
                  <a:off x="4834080" y="6400800"/>
                  <a:ext cx="200880" cy="2286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5101920" y="6400800"/>
                  <a:ext cx="200880" cy="2286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 flipV="1">
                <a:off x="4800600" y="6095160"/>
                <a:ext cx="533520" cy="457560"/>
              </a:xfrm>
              <a:custGeom>
                <a:avLst/>
                <a:gdLst>
                  <a:gd name="textAreaLeft" fmla="*/ 117360 w 533520"/>
                  <a:gd name="textAreaRight" fmla="*/ 416160 w 533520"/>
                  <a:gd name="textAreaTop" fmla="*/ 100440 h 457560"/>
                  <a:gd name="textAreaBottom" fmla="*/ 357120 h 45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99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968000" y="6171840"/>
                <a:ext cx="6660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101920" y="6171840"/>
                <a:ext cx="6660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968000" y="6286320"/>
                <a:ext cx="200520" cy="37800"/>
              </a:xfrm>
              <a:custGeom>
                <a:avLst/>
                <a:gdLst/>
                <a:ahLst/>
                <a:rect l="l" t="t" r="r" b="b"/>
                <a:pathLst>
                  <a:path w="288" h="48">
                    <a:moveTo>
                      <a:pt x="0" y="0"/>
                    </a:moveTo>
                    <a:cubicBezTo>
                      <a:pt x="48" y="24"/>
                      <a:pt x="96" y="48"/>
                      <a:pt x="144" y="48"/>
                    </a:cubicBezTo>
                    <a:cubicBezTo>
                      <a:pt x="192" y="48"/>
                      <a:pt x="264" y="8"/>
                      <a:pt x="288" y="0"/>
                    </a:cubicBezTo>
                  </a:path>
                </a:pathLst>
              </a:custGeom>
              <a:solidFill>
                <a:srgbClr val="990099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 flipV="1">
              <a:off x="6248520" y="48769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5486400" y="3597120"/>
              <a:ext cx="1600200" cy="1282320"/>
              <a:chOff x="5486400" y="3597120"/>
              <a:chExt cx="1600200" cy="1282320"/>
            </a:xfrm>
          </p:grpSpPr>
          <p:sp>
            <p:nvSpPr>
              <p:cNvPr id="387" name=""/>
              <p:cNvSpPr/>
              <p:nvPr/>
            </p:nvSpPr>
            <p:spPr>
              <a:xfrm>
                <a:off x="5486400" y="4359240"/>
                <a:ext cx="160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Web Service Ontologi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8" name=""/>
              <p:cNvGrpSpPr/>
              <p:nvPr/>
            </p:nvGrpSpPr>
            <p:grpSpPr>
              <a:xfrm>
                <a:off x="5827680" y="3597120"/>
                <a:ext cx="915840" cy="782640"/>
                <a:chOff x="5827680" y="3597120"/>
                <a:chExt cx="915840" cy="782640"/>
              </a:xfrm>
            </p:grpSpPr>
            <p:grpSp>
              <p:nvGrpSpPr>
                <p:cNvPr id="389" name=""/>
                <p:cNvGrpSpPr/>
                <p:nvPr/>
              </p:nvGrpSpPr>
              <p:grpSpPr>
                <a:xfrm>
                  <a:off x="6056280" y="3597120"/>
                  <a:ext cx="687240" cy="717480"/>
                  <a:chOff x="6056280" y="3597120"/>
                  <a:chExt cx="687240" cy="71748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>
                    <a:off x="6056280" y="3597120"/>
                    <a:ext cx="687240" cy="71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6148440" y="3647520"/>
                    <a:ext cx="457200" cy="536400"/>
                    <a:chOff x="6148440" y="3647520"/>
                    <a:chExt cx="457200" cy="53640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6509880" y="4093560"/>
                      <a:ext cx="91440" cy="9036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640" bIns="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 flipH="1" flipV="1">
                      <a:off x="6376680" y="3785040"/>
                      <a:ext cx="45720" cy="22824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6422760" y="3967560"/>
                      <a:ext cx="136800" cy="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6377040" y="3967560"/>
                      <a:ext cx="167760" cy="16380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flipH="1">
                      <a:off x="6194160" y="3967560"/>
                      <a:ext cx="182880" cy="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V="1">
                      <a:off x="6331320" y="3693600"/>
                      <a:ext cx="182880" cy="9144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 flipH="1" flipV="1">
                      <a:off x="6285240" y="3647520"/>
                      <a:ext cx="91440" cy="13716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flipH="1">
                      <a:off x="6285240" y="3785040"/>
                      <a:ext cx="91440" cy="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6331320" y="3921840"/>
                      <a:ext cx="137160" cy="13680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6148440" y="3921840"/>
                      <a:ext cx="91440" cy="9144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000" bIns="18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6514200" y="3921840"/>
                      <a:ext cx="91440" cy="9144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000" bIns="18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6331320" y="3739320"/>
                      <a:ext cx="91440" cy="9108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640" bIns="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6468480" y="3693600"/>
                      <a:ext cx="45360" cy="4572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6239880" y="3739320"/>
                      <a:ext cx="45360" cy="4572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6285240" y="3647880"/>
                      <a:ext cx="45720" cy="4572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5827680" y="3662280"/>
                  <a:ext cx="687240" cy="717480"/>
                  <a:chOff x="5827680" y="3662280"/>
                  <a:chExt cx="687240" cy="71748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5827680" y="3662280"/>
                    <a:ext cx="687240" cy="71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5919840" y="3712680"/>
                    <a:ext cx="457200" cy="536400"/>
                    <a:chOff x="5919840" y="3712680"/>
                    <a:chExt cx="457200" cy="53640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6281280" y="4158720"/>
                      <a:ext cx="91440" cy="9036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640" bIns="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 flipH="1" flipV="1">
                      <a:off x="6148080" y="3850200"/>
                      <a:ext cx="45720" cy="22824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6194160" y="4032720"/>
                      <a:ext cx="136800" cy="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6148440" y="4032720"/>
                      <a:ext cx="167760" cy="16380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 flipH="1">
                      <a:off x="5965560" y="4032720"/>
                      <a:ext cx="182880" cy="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flipV="1">
                      <a:off x="6102720" y="3758760"/>
                      <a:ext cx="182880" cy="9144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 flipH="1" flipV="1">
                      <a:off x="6056640" y="3712680"/>
                      <a:ext cx="91440" cy="13716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flipH="1">
                      <a:off x="6056640" y="3850200"/>
                      <a:ext cx="91440" cy="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6102720" y="3987000"/>
                      <a:ext cx="137160" cy="13680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5919840" y="3987000"/>
                      <a:ext cx="91440" cy="9144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000" bIns="18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285600" y="3987000"/>
                      <a:ext cx="91440" cy="9144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000" bIns="18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102720" y="3804480"/>
                      <a:ext cx="91440" cy="9108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640" bIns="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2" name=""/>
                    <p:cNvSpPr/>
                    <p:nvPr/>
                  </p:nvSpPr>
                  <p:spPr>
                    <a:xfrm>
                      <a:off x="6239880" y="3758760"/>
                      <a:ext cx="45360" cy="4572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6011280" y="3804480"/>
                      <a:ext cx="45360" cy="4572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6056640" y="3713040"/>
                      <a:ext cx="45720" cy="4572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425" name=""/>
            <p:cNvSpPr/>
            <p:nvPr/>
          </p:nvSpPr>
          <p:spPr>
            <a:xfrm>
              <a:off x="6781680" y="4267080"/>
              <a:ext cx="9907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57200" y="1371600"/>
            <a:ext cx="8229600" cy="25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s communicate with DAML-enabled web sites throug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t Brok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request web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dispatch respon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kers exploit the web service ontologies to assist in locating appropriate service provi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AML-Enabled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088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" y="1371600"/>
            <a:ext cx="82296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s are tasked by people, or by other ag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3733920" y="2133720"/>
            <a:ext cx="5410080" cy="4572000"/>
            <a:chOff x="3733920" y="2133720"/>
            <a:chExt cx="5410080" cy="4572000"/>
          </a:xfrm>
        </p:grpSpPr>
        <p:grpSp>
          <p:nvGrpSpPr>
            <p:cNvPr id="431" name=""/>
            <p:cNvGrpSpPr/>
            <p:nvPr/>
          </p:nvGrpSpPr>
          <p:grpSpPr>
            <a:xfrm>
              <a:off x="7391520" y="3639960"/>
              <a:ext cx="1752480" cy="1544040"/>
              <a:chOff x="7391520" y="3639960"/>
              <a:chExt cx="1752480" cy="1544040"/>
            </a:xfrm>
          </p:grpSpPr>
          <p:sp>
            <p:nvSpPr>
              <p:cNvPr id="432" name=""/>
              <p:cNvSpPr/>
              <p:nvPr/>
            </p:nvSpPr>
            <p:spPr>
              <a:xfrm>
                <a:off x="7391520" y="4663800"/>
                <a:ext cx="1752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DAML-enabled web pag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3" name=""/>
              <p:cNvGrpSpPr/>
              <p:nvPr/>
            </p:nvGrpSpPr>
            <p:grpSpPr>
              <a:xfrm>
                <a:off x="7808760" y="3639960"/>
                <a:ext cx="1001160" cy="977760"/>
                <a:chOff x="7808760" y="3639960"/>
                <a:chExt cx="1001160" cy="977760"/>
              </a:xfrm>
            </p:grpSpPr>
            <p:grpSp>
              <p:nvGrpSpPr>
                <p:cNvPr id="434" name=""/>
                <p:cNvGrpSpPr/>
                <p:nvPr/>
              </p:nvGrpSpPr>
              <p:grpSpPr>
                <a:xfrm>
                  <a:off x="8223120" y="3639960"/>
                  <a:ext cx="241560" cy="244440"/>
                  <a:chOff x="8223120" y="3639960"/>
                  <a:chExt cx="241560" cy="24444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>
                    <a:off x="8223120" y="363996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8257680" y="373140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8292240" y="373140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8257680" y="376200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8292240" y="376200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8326440" y="376200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8292240" y="379260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2" name=""/>
                <p:cNvGrpSpPr/>
                <p:nvPr/>
              </p:nvGrpSpPr>
              <p:grpSpPr>
                <a:xfrm>
                  <a:off x="7877520" y="4373280"/>
                  <a:ext cx="241560" cy="244440"/>
                  <a:chOff x="7877520" y="4373280"/>
                  <a:chExt cx="241560" cy="24444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7877520" y="437328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7912080" y="446472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7946640" y="446472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7912080" y="449532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7946640" y="449532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7980840" y="449532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7946640" y="452592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0" name=""/>
                <p:cNvGrpSpPr/>
                <p:nvPr/>
              </p:nvGrpSpPr>
              <p:grpSpPr>
                <a:xfrm>
                  <a:off x="7808760" y="3914640"/>
                  <a:ext cx="241560" cy="244440"/>
                  <a:chOff x="7808760" y="3914640"/>
                  <a:chExt cx="241560" cy="24444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>
                    <a:off x="7808760" y="391464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7843320" y="40060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877880" y="400608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843320" y="40366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877880" y="40366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7912080" y="403668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7877880" y="40672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8464680" y="4373280"/>
                  <a:ext cx="241560" cy="244440"/>
                  <a:chOff x="8464680" y="4373280"/>
                  <a:chExt cx="241560" cy="2444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8464680" y="437328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8499240" y="446472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8533800" y="446472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8499240" y="449532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8533800" y="449532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8568000" y="449532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8533800" y="452592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8223120" y="4067640"/>
                  <a:ext cx="241560" cy="244080"/>
                  <a:chOff x="8223120" y="4067640"/>
                  <a:chExt cx="241560" cy="24408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>
                    <a:off x="8223120" y="4067640"/>
                    <a:ext cx="241560" cy="24408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8257680" y="41590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8292240" y="4159080"/>
                    <a:ext cx="0" cy="3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8257680" y="41896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8292240" y="41896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8326440" y="4189680"/>
                    <a:ext cx="0" cy="3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8292240" y="42202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" name=""/>
                <p:cNvGrpSpPr/>
                <p:nvPr/>
              </p:nvGrpSpPr>
              <p:grpSpPr>
                <a:xfrm>
                  <a:off x="8568360" y="3914640"/>
                  <a:ext cx="241560" cy="244440"/>
                  <a:chOff x="8568360" y="3914640"/>
                  <a:chExt cx="241560" cy="24444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>
                    <a:off x="8568360" y="391464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8602920" y="40060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8637480" y="400608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8602920" y="40366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8637480" y="40366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8671680" y="403668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8637480" y="40672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2" name=""/>
                <p:cNvSpPr/>
                <p:nvPr/>
              </p:nvSpPr>
              <p:spPr>
                <a:xfrm flipH="1" flipV="1">
                  <a:off x="7946640" y="4128480"/>
                  <a:ext cx="69120" cy="27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V="1">
                  <a:off x="8015760" y="3822840"/>
                  <a:ext cx="207000" cy="12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H="1">
                  <a:off x="8049960" y="3884400"/>
                  <a:ext cx="241560" cy="51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H="1" flipV="1">
                  <a:off x="8049960" y="4036680"/>
                  <a:ext cx="310680" cy="3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V="1">
                  <a:off x="8464680" y="4067280"/>
                  <a:ext cx="103320" cy="12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H="1" flipV="1">
                  <a:off x="8464320" y="3823200"/>
                  <a:ext cx="10332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H="1">
                  <a:off x="7946280" y="3731400"/>
                  <a:ext cx="27612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H="1" flipV="1">
                  <a:off x="8360640" y="4281120"/>
                  <a:ext cx="10332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8119440" y="4464720"/>
                  <a:ext cx="345240" cy="3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>
                  <a:off x="8602920" y="4159440"/>
                  <a:ext cx="34560" cy="21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2" name=""/>
            <p:cNvSpPr/>
            <p:nvPr/>
          </p:nvSpPr>
          <p:spPr>
            <a:xfrm>
              <a:off x="5867280" y="5410080"/>
              <a:ext cx="68580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5715000" y="4647960"/>
              <a:ext cx="30492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324480" y="464832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6705720" y="4647960"/>
              <a:ext cx="30456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6324480" y="35053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7" name="" descr=""/>
            <p:cNvPicPr/>
            <p:nvPr/>
          </p:nvPicPr>
          <p:blipFill>
            <a:blip r:embed="rId1"/>
            <a:stretch/>
          </p:blipFill>
          <p:spPr>
            <a:xfrm>
              <a:off x="3733920" y="5638680"/>
              <a:ext cx="871560" cy="106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8" name=""/>
            <p:cNvGrpSpPr/>
            <p:nvPr/>
          </p:nvGrpSpPr>
          <p:grpSpPr>
            <a:xfrm>
              <a:off x="5181480" y="5334120"/>
              <a:ext cx="533520" cy="533160"/>
              <a:chOff x="5181480" y="5334120"/>
              <a:chExt cx="533520" cy="533160"/>
            </a:xfrm>
          </p:grpSpPr>
          <p:grpSp>
            <p:nvGrpSpPr>
              <p:cNvPr id="499" name=""/>
              <p:cNvGrpSpPr/>
              <p:nvPr/>
            </p:nvGrpSpPr>
            <p:grpSpPr>
              <a:xfrm>
                <a:off x="5214960" y="5638680"/>
                <a:ext cx="468720" cy="228600"/>
                <a:chOff x="5214960" y="5638680"/>
                <a:chExt cx="468720" cy="228600"/>
              </a:xfrm>
            </p:grpSpPr>
            <p:sp>
              <p:nvSpPr>
                <p:cNvPr id="500" name=""/>
                <p:cNvSpPr/>
                <p:nvPr/>
              </p:nvSpPr>
              <p:spPr>
                <a:xfrm flipH="1">
                  <a:off x="5214960" y="5638680"/>
                  <a:ext cx="200880" cy="2286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482800" y="5638680"/>
                  <a:ext cx="200880" cy="2286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2" name=""/>
              <p:cNvSpPr/>
              <p:nvPr/>
            </p:nvSpPr>
            <p:spPr>
              <a:xfrm flipV="1">
                <a:off x="5181480" y="5334120"/>
                <a:ext cx="533520" cy="457200"/>
              </a:xfrm>
              <a:custGeom>
                <a:avLst/>
                <a:gdLst>
                  <a:gd name="textAreaLeft" fmla="*/ 117360 w 533520"/>
                  <a:gd name="textAreaRight" fmla="*/ 416160 w 53352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99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48880" y="5410080"/>
                <a:ext cx="6660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482800" y="5410080"/>
                <a:ext cx="6660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48880" y="5524560"/>
                <a:ext cx="200520" cy="37800"/>
              </a:xfrm>
              <a:custGeom>
                <a:avLst/>
                <a:gdLst/>
                <a:ahLst/>
                <a:rect l="l" t="t" r="r" b="b"/>
                <a:pathLst>
                  <a:path w="288" h="48">
                    <a:moveTo>
                      <a:pt x="0" y="0"/>
                    </a:moveTo>
                    <a:cubicBezTo>
                      <a:pt x="48" y="24"/>
                      <a:pt x="96" y="48"/>
                      <a:pt x="144" y="48"/>
                    </a:cubicBezTo>
                    <a:cubicBezTo>
                      <a:pt x="192" y="48"/>
                      <a:pt x="264" y="8"/>
                      <a:pt x="288" y="0"/>
                    </a:cubicBezTo>
                  </a:path>
                </a:pathLst>
              </a:custGeom>
              <a:solidFill>
                <a:srgbClr val="990099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7086600" y="41911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38680" y="4038480"/>
              <a:ext cx="129564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ok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724280" y="5638320"/>
              <a:ext cx="38124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867640" y="533412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-ma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5562720" y="2133720"/>
              <a:ext cx="1600200" cy="1281960"/>
              <a:chOff x="5562720" y="2133720"/>
              <a:chExt cx="1600200" cy="1281960"/>
            </a:xfrm>
          </p:grpSpPr>
          <p:sp>
            <p:nvSpPr>
              <p:cNvPr id="511" name=""/>
              <p:cNvSpPr/>
              <p:nvPr/>
            </p:nvSpPr>
            <p:spPr>
              <a:xfrm>
                <a:off x="5562720" y="2895480"/>
                <a:ext cx="160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Web Service Ontologi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5904000" y="2133720"/>
                <a:ext cx="915840" cy="781920"/>
                <a:chOff x="5904000" y="2133720"/>
                <a:chExt cx="915840" cy="781920"/>
              </a:xfrm>
            </p:grpSpPr>
            <p:grpSp>
              <p:nvGrpSpPr>
                <p:cNvPr id="513" name=""/>
                <p:cNvGrpSpPr/>
                <p:nvPr/>
              </p:nvGrpSpPr>
              <p:grpSpPr>
                <a:xfrm>
                  <a:off x="6132600" y="2133720"/>
                  <a:ext cx="687240" cy="717480"/>
                  <a:chOff x="6132600" y="2133720"/>
                  <a:chExt cx="687240" cy="71748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>
                    <a:off x="6132600" y="2133720"/>
                    <a:ext cx="687240" cy="71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6224760" y="2184120"/>
                    <a:ext cx="457200" cy="536400"/>
                    <a:chOff x="6224760" y="2184120"/>
                    <a:chExt cx="457200" cy="53640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6586200" y="2630160"/>
                      <a:ext cx="91440" cy="9036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640" bIns="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flipH="1" flipV="1">
                      <a:off x="6453000" y="2321640"/>
                      <a:ext cx="45720" cy="22824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6499080" y="2504160"/>
                      <a:ext cx="136800" cy="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6453360" y="2504160"/>
                      <a:ext cx="167760" cy="16380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flipH="1">
                      <a:off x="6270480" y="2504160"/>
                      <a:ext cx="182880" cy="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flipV="1">
                      <a:off x="6407640" y="2230200"/>
                      <a:ext cx="182880" cy="9144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 flipH="1" flipV="1">
                      <a:off x="6361560" y="2184120"/>
                      <a:ext cx="91440" cy="13716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flipH="1">
                      <a:off x="6361560" y="2321640"/>
                      <a:ext cx="91440" cy="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6407640" y="2458440"/>
                      <a:ext cx="137160" cy="13680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6224760" y="2458440"/>
                      <a:ext cx="91440" cy="9144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000" bIns="18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6590520" y="2458440"/>
                      <a:ext cx="91440" cy="9144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000" bIns="18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6407640" y="2275920"/>
                      <a:ext cx="91440" cy="9108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640" bIns="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6544800" y="2230200"/>
                      <a:ext cx="45360" cy="4572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6316200" y="2275920"/>
                      <a:ext cx="45360" cy="4572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6361560" y="2184480"/>
                      <a:ext cx="45720" cy="4572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31" name=""/>
                <p:cNvGrpSpPr/>
                <p:nvPr/>
              </p:nvGrpSpPr>
              <p:grpSpPr>
                <a:xfrm>
                  <a:off x="5904000" y="2198520"/>
                  <a:ext cx="687240" cy="717120"/>
                  <a:chOff x="5904000" y="2198520"/>
                  <a:chExt cx="687240" cy="71712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>
                    <a:off x="5904000" y="2198520"/>
                    <a:ext cx="687240" cy="717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5996160" y="2248920"/>
                    <a:ext cx="457200" cy="536040"/>
                    <a:chOff x="5996160" y="2248920"/>
                    <a:chExt cx="457200" cy="536040"/>
                  </a:xfrm>
                </p:grpSpPr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6357600" y="2694600"/>
                      <a:ext cx="91440" cy="9036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640" bIns="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 flipH="1" flipV="1">
                      <a:off x="6224400" y="2385720"/>
                      <a:ext cx="45720" cy="22824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270480" y="2568600"/>
                      <a:ext cx="136800" cy="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224760" y="2568600"/>
                      <a:ext cx="167760" cy="16344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flipH="1">
                      <a:off x="6041880" y="2568600"/>
                      <a:ext cx="182880" cy="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 flipV="1">
                      <a:off x="6179040" y="2293920"/>
                      <a:ext cx="182880" cy="9108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 flipH="1" flipV="1">
                      <a:off x="6132960" y="2248920"/>
                      <a:ext cx="91440" cy="13680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 flipH="1">
                      <a:off x="6132960" y="2385720"/>
                      <a:ext cx="91440" cy="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6179040" y="2522880"/>
                      <a:ext cx="137160" cy="13680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5996160" y="2522880"/>
                      <a:ext cx="91440" cy="9108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640" bIns="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6361920" y="2522880"/>
                      <a:ext cx="91440" cy="9108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640" bIns="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6179040" y="2340000"/>
                      <a:ext cx="91440" cy="9108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640" bIns="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>
                      <a:off x="6316200" y="2294280"/>
                      <a:ext cx="45360" cy="4536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0" bIns="-14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6087600" y="2340000"/>
                      <a:ext cx="45360" cy="4536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0" bIns="-14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6132960" y="2248920"/>
                      <a:ext cx="45720" cy="45360"/>
                    </a:xfrm>
                    <a:prstGeom prst="ellipse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0" bIns="-14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549" name=""/>
            <p:cNvSpPr/>
            <p:nvPr/>
          </p:nvSpPr>
          <p:spPr>
            <a:xfrm>
              <a:off x="6934320" y="2971800"/>
              <a:ext cx="9903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43600" y="51814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Generic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8088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57200" y="1371600"/>
            <a:ext cx="822960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s are tasked in terms of high-level, reus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ic procedure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The what not necessarily the how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tolog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shar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, and com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733920" y="1981080"/>
            <a:ext cx="5410080" cy="4724640"/>
            <a:chOff x="3733920" y="1981080"/>
            <a:chExt cx="5410080" cy="4724640"/>
          </a:xfrm>
        </p:grpSpPr>
        <p:grpSp>
          <p:nvGrpSpPr>
            <p:cNvPr id="555" name=""/>
            <p:cNvGrpSpPr/>
            <p:nvPr/>
          </p:nvGrpSpPr>
          <p:grpSpPr>
            <a:xfrm>
              <a:off x="7391520" y="3639960"/>
              <a:ext cx="1752480" cy="1544040"/>
              <a:chOff x="7391520" y="3639960"/>
              <a:chExt cx="1752480" cy="1544040"/>
            </a:xfrm>
          </p:grpSpPr>
          <p:sp>
            <p:nvSpPr>
              <p:cNvPr id="556" name=""/>
              <p:cNvSpPr/>
              <p:nvPr/>
            </p:nvSpPr>
            <p:spPr>
              <a:xfrm>
                <a:off x="7391520" y="4663800"/>
                <a:ext cx="1752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DAML-enabled web pag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7" name=""/>
              <p:cNvGrpSpPr/>
              <p:nvPr/>
            </p:nvGrpSpPr>
            <p:grpSpPr>
              <a:xfrm>
                <a:off x="7808760" y="3639960"/>
                <a:ext cx="1001160" cy="977760"/>
                <a:chOff x="7808760" y="3639960"/>
                <a:chExt cx="1001160" cy="977760"/>
              </a:xfrm>
            </p:grpSpPr>
            <p:grpSp>
              <p:nvGrpSpPr>
                <p:cNvPr id="558" name=""/>
                <p:cNvGrpSpPr/>
                <p:nvPr/>
              </p:nvGrpSpPr>
              <p:grpSpPr>
                <a:xfrm>
                  <a:off x="8223120" y="3639960"/>
                  <a:ext cx="241560" cy="244440"/>
                  <a:chOff x="8223120" y="3639960"/>
                  <a:chExt cx="241560" cy="24444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>
                    <a:off x="8223120" y="363996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8257680" y="373140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8292240" y="373140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8257680" y="376200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8292240" y="376200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8326440" y="376200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8292240" y="379260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7877520" y="4373280"/>
                  <a:ext cx="241560" cy="244440"/>
                  <a:chOff x="7877520" y="4373280"/>
                  <a:chExt cx="241560" cy="24444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>
                    <a:off x="7877520" y="437328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7912080" y="446472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7946640" y="446472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7912080" y="449532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7946640" y="449532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7980840" y="449532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7946640" y="452592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4" name=""/>
                <p:cNvGrpSpPr/>
                <p:nvPr/>
              </p:nvGrpSpPr>
              <p:grpSpPr>
                <a:xfrm>
                  <a:off x="7808760" y="3914640"/>
                  <a:ext cx="241560" cy="244440"/>
                  <a:chOff x="7808760" y="3914640"/>
                  <a:chExt cx="241560" cy="24444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>
                    <a:off x="7808760" y="391464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7843320" y="40060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7877880" y="400608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7843320" y="40366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7877880" y="40366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7912080" y="403668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7877880" y="40672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2" name=""/>
                <p:cNvGrpSpPr/>
                <p:nvPr/>
              </p:nvGrpSpPr>
              <p:grpSpPr>
                <a:xfrm>
                  <a:off x="8464680" y="4373280"/>
                  <a:ext cx="241560" cy="244440"/>
                  <a:chOff x="8464680" y="4373280"/>
                  <a:chExt cx="241560" cy="24444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>
                    <a:off x="8464680" y="437328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8499240" y="446472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8533800" y="446472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8499240" y="449532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8533800" y="449532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8568000" y="449532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8533800" y="452592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0" name=""/>
                <p:cNvGrpSpPr/>
                <p:nvPr/>
              </p:nvGrpSpPr>
              <p:grpSpPr>
                <a:xfrm>
                  <a:off x="8223120" y="4067640"/>
                  <a:ext cx="241560" cy="244080"/>
                  <a:chOff x="8223120" y="4067640"/>
                  <a:chExt cx="241560" cy="24408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>
                    <a:off x="8223120" y="4067640"/>
                    <a:ext cx="241560" cy="24408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8257680" y="41590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8292240" y="4159080"/>
                    <a:ext cx="0" cy="3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8257680" y="41896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8292240" y="41896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8326440" y="4189680"/>
                    <a:ext cx="0" cy="3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8292240" y="42202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8" name=""/>
                <p:cNvGrpSpPr/>
                <p:nvPr/>
              </p:nvGrpSpPr>
              <p:grpSpPr>
                <a:xfrm>
                  <a:off x="8568360" y="3914640"/>
                  <a:ext cx="241560" cy="244440"/>
                  <a:chOff x="8568360" y="3914640"/>
                  <a:chExt cx="241560" cy="244440"/>
                </a:xfrm>
              </p:grpSpPr>
              <p:sp>
                <p:nvSpPr>
                  <p:cNvPr id="599" name=""/>
                  <p:cNvSpPr/>
                  <p:nvPr/>
                </p:nvSpPr>
                <p:spPr>
                  <a:xfrm>
                    <a:off x="8568360" y="391464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8602920" y="40060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8637480" y="400608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8602920" y="40366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8637480" y="40366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8671680" y="403668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8637480" y="40672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6" name=""/>
                <p:cNvSpPr/>
                <p:nvPr/>
              </p:nvSpPr>
              <p:spPr>
                <a:xfrm flipH="1" flipV="1">
                  <a:off x="7946640" y="4128480"/>
                  <a:ext cx="69120" cy="27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V="1">
                  <a:off x="8015760" y="3822840"/>
                  <a:ext cx="207000" cy="12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H="1">
                  <a:off x="8049960" y="3884400"/>
                  <a:ext cx="241560" cy="51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H="1" flipV="1">
                  <a:off x="8049960" y="4036680"/>
                  <a:ext cx="310680" cy="3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V="1">
                  <a:off x="8464680" y="4067280"/>
                  <a:ext cx="103320" cy="12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flipH="1" flipV="1">
                  <a:off x="8464320" y="3823200"/>
                  <a:ext cx="10332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H="1">
                  <a:off x="7946280" y="3731400"/>
                  <a:ext cx="27612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H="1" flipV="1">
                  <a:off x="8360640" y="4281120"/>
                  <a:ext cx="10332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8119440" y="4464720"/>
                  <a:ext cx="345240" cy="3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flipH="1">
                  <a:off x="8602920" y="4159440"/>
                  <a:ext cx="34560" cy="21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6" name=""/>
            <p:cNvSpPr/>
            <p:nvPr/>
          </p:nvSpPr>
          <p:spPr>
            <a:xfrm>
              <a:off x="6080040" y="5410080"/>
              <a:ext cx="68580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5715000" y="4647960"/>
              <a:ext cx="30492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324480" y="464832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 flipV="1">
              <a:off x="6705720" y="4647960"/>
              <a:ext cx="30456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6324480" y="35053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67480" y="3505320"/>
              <a:ext cx="3049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4572000" y="1981080"/>
              <a:ext cx="3505320" cy="1447560"/>
              <a:chOff x="4572000" y="1981080"/>
              <a:chExt cx="3505320" cy="1447560"/>
            </a:xfrm>
          </p:grpSpPr>
          <p:sp>
            <p:nvSpPr>
              <p:cNvPr id="623" name=""/>
              <p:cNvSpPr/>
              <p:nvPr/>
            </p:nvSpPr>
            <p:spPr>
              <a:xfrm>
                <a:off x="4610160" y="1981080"/>
                <a:ext cx="3429000" cy="1447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4" name=""/>
              <p:cNvGrpSpPr/>
              <p:nvPr/>
            </p:nvGrpSpPr>
            <p:grpSpPr>
              <a:xfrm>
                <a:off x="4572000" y="2072880"/>
                <a:ext cx="3505320" cy="1282320"/>
                <a:chOff x="4572000" y="2072880"/>
                <a:chExt cx="3505320" cy="128232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6019920" y="243828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6" name=""/>
                <p:cNvGrpSpPr/>
                <p:nvPr/>
              </p:nvGrpSpPr>
              <p:grpSpPr>
                <a:xfrm>
                  <a:off x="6477120" y="2072880"/>
                  <a:ext cx="1600200" cy="1282320"/>
                  <a:chOff x="6477120" y="2072880"/>
                  <a:chExt cx="1600200" cy="1282320"/>
                </a:xfrm>
              </p:grpSpPr>
              <p:sp>
                <p:nvSpPr>
                  <p:cNvPr id="627" name=""/>
                  <p:cNvSpPr/>
                  <p:nvPr/>
                </p:nvSpPr>
                <p:spPr>
                  <a:xfrm>
                    <a:off x="6477120" y="2835000"/>
                    <a:ext cx="160020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400" spc="-1" strike="noStrike">
                        <a:solidFill>
                          <a:srgbClr val="000000"/>
                        </a:solidFill>
                        <a:latin typeface="Arial"/>
                      </a:rPr>
                      <a:t>Web Service Ontologi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8" name=""/>
                  <p:cNvGrpSpPr/>
                  <p:nvPr/>
                </p:nvGrpSpPr>
                <p:grpSpPr>
                  <a:xfrm>
                    <a:off x="6818400" y="2072880"/>
                    <a:ext cx="915840" cy="782640"/>
                    <a:chOff x="6818400" y="2072880"/>
                    <a:chExt cx="915840" cy="782640"/>
                  </a:xfrm>
                </p:grpSpPr>
                <p:grpSp>
                  <p:nvGrpSpPr>
                    <p:cNvPr id="629" name=""/>
                    <p:cNvGrpSpPr/>
                    <p:nvPr/>
                  </p:nvGrpSpPr>
                  <p:grpSpPr>
                    <a:xfrm>
                      <a:off x="7047000" y="2072880"/>
                      <a:ext cx="687240" cy="717480"/>
                      <a:chOff x="7047000" y="2072880"/>
                      <a:chExt cx="687240" cy="717480"/>
                    </a:xfrm>
                  </p:grpSpPr>
                  <p:sp>
                    <p:nvSpPr>
                      <p:cNvPr id="630" name=""/>
                      <p:cNvSpPr/>
                      <p:nvPr/>
                    </p:nvSpPr>
                    <p:spPr>
                      <a:xfrm>
                        <a:off x="7047000" y="2072880"/>
                        <a:ext cx="687240" cy="7174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31" name=""/>
                      <p:cNvGrpSpPr/>
                      <p:nvPr/>
                    </p:nvGrpSpPr>
                    <p:grpSpPr>
                      <a:xfrm>
                        <a:off x="7139160" y="2123280"/>
                        <a:ext cx="457200" cy="536400"/>
                        <a:chOff x="7139160" y="2123280"/>
                        <a:chExt cx="457200" cy="536400"/>
                      </a:xfrm>
                    </p:grpSpPr>
                    <p:sp>
                      <p:nvSpPr>
                        <p:cNvPr id="632" name=""/>
                        <p:cNvSpPr/>
                        <p:nvPr/>
                      </p:nvSpPr>
                      <p:spPr>
                        <a:xfrm>
                          <a:off x="7500600" y="2569320"/>
                          <a:ext cx="91440" cy="90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3" name=""/>
                        <p:cNvSpPr/>
                        <p:nvPr/>
                      </p:nvSpPr>
                      <p:spPr>
                        <a:xfrm flipH="1" flipV="1">
                          <a:off x="7367400" y="2260800"/>
                          <a:ext cx="45720" cy="22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4" name=""/>
                        <p:cNvSpPr/>
                        <p:nvPr/>
                      </p:nvSpPr>
                      <p:spPr>
                        <a:xfrm>
                          <a:off x="7413480" y="2443320"/>
                          <a:ext cx="136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5" name=""/>
                        <p:cNvSpPr/>
                        <p:nvPr/>
                      </p:nvSpPr>
                      <p:spPr>
                        <a:xfrm>
                          <a:off x="7367760" y="2443320"/>
                          <a:ext cx="167760" cy="16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6" name=""/>
                        <p:cNvSpPr/>
                        <p:nvPr/>
                      </p:nvSpPr>
                      <p:spPr>
                        <a:xfrm flipH="1">
                          <a:off x="7184880" y="2443320"/>
                          <a:ext cx="1828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7" name=""/>
                        <p:cNvSpPr/>
                        <p:nvPr/>
                      </p:nvSpPr>
                      <p:spPr>
                        <a:xfrm flipV="1">
                          <a:off x="7322040" y="2169360"/>
                          <a:ext cx="182880" cy="91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4640" bIns="44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8" name=""/>
                        <p:cNvSpPr/>
                        <p:nvPr/>
                      </p:nvSpPr>
                      <p:spPr>
                        <a:xfrm flipH="1" flipV="1">
                          <a:off x="7275960" y="2123280"/>
                          <a:ext cx="91440" cy="137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9" name=""/>
                        <p:cNvSpPr/>
                        <p:nvPr/>
                      </p:nvSpPr>
                      <p:spPr>
                        <a:xfrm flipH="1">
                          <a:off x="7275960" y="2260800"/>
                          <a:ext cx="914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0" name=""/>
                        <p:cNvSpPr/>
                        <p:nvPr/>
                      </p:nvSpPr>
                      <p:spPr>
                        <a:xfrm>
                          <a:off x="7322040" y="2397600"/>
                          <a:ext cx="137160" cy="13680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1" name=""/>
                        <p:cNvSpPr/>
                        <p:nvPr/>
                      </p:nvSpPr>
                      <p:spPr>
                        <a:xfrm>
                          <a:off x="7139160" y="2397600"/>
                          <a:ext cx="91440" cy="9144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2" name=""/>
                        <p:cNvSpPr/>
                        <p:nvPr/>
                      </p:nvSpPr>
                      <p:spPr>
                        <a:xfrm>
                          <a:off x="7504920" y="2397600"/>
                          <a:ext cx="91440" cy="9144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3" name=""/>
                        <p:cNvSpPr/>
                        <p:nvPr/>
                      </p:nvSpPr>
                      <p:spPr>
                        <a:xfrm>
                          <a:off x="7322040" y="2215080"/>
                          <a:ext cx="91440" cy="9108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4" name=""/>
                        <p:cNvSpPr/>
                        <p:nvPr/>
                      </p:nvSpPr>
                      <p:spPr>
                        <a:xfrm>
                          <a:off x="7459200" y="2169360"/>
                          <a:ext cx="4536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5" name=""/>
                        <p:cNvSpPr/>
                        <p:nvPr/>
                      </p:nvSpPr>
                      <p:spPr>
                        <a:xfrm>
                          <a:off x="7230600" y="2215080"/>
                          <a:ext cx="4536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6" name=""/>
                        <p:cNvSpPr/>
                        <p:nvPr/>
                      </p:nvSpPr>
                      <p:spPr>
                        <a:xfrm>
                          <a:off x="7275960" y="2123640"/>
                          <a:ext cx="4572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47" name=""/>
                    <p:cNvGrpSpPr/>
                    <p:nvPr/>
                  </p:nvGrpSpPr>
                  <p:grpSpPr>
                    <a:xfrm>
                      <a:off x="6818400" y="2138040"/>
                      <a:ext cx="687240" cy="717480"/>
                      <a:chOff x="6818400" y="2138040"/>
                      <a:chExt cx="687240" cy="717480"/>
                    </a:xfrm>
                  </p:grpSpPr>
                  <p:sp>
                    <p:nvSpPr>
                      <p:cNvPr id="648" name=""/>
                      <p:cNvSpPr/>
                      <p:nvPr/>
                    </p:nvSpPr>
                    <p:spPr>
                      <a:xfrm>
                        <a:off x="6818400" y="2138040"/>
                        <a:ext cx="687240" cy="7174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49" name=""/>
                      <p:cNvGrpSpPr/>
                      <p:nvPr/>
                    </p:nvGrpSpPr>
                    <p:grpSpPr>
                      <a:xfrm>
                        <a:off x="6910560" y="2188440"/>
                        <a:ext cx="457200" cy="536400"/>
                        <a:chOff x="6910560" y="2188440"/>
                        <a:chExt cx="457200" cy="536400"/>
                      </a:xfrm>
                    </p:grpSpPr>
                    <p:sp>
                      <p:nvSpPr>
                        <p:cNvPr id="650" name=""/>
                        <p:cNvSpPr/>
                        <p:nvPr/>
                      </p:nvSpPr>
                      <p:spPr>
                        <a:xfrm>
                          <a:off x="7272000" y="2634480"/>
                          <a:ext cx="91440" cy="90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1" name=""/>
                        <p:cNvSpPr/>
                        <p:nvPr/>
                      </p:nvSpPr>
                      <p:spPr>
                        <a:xfrm flipH="1" flipV="1">
                          <a:off x="7138800" y="2325960"/>
                          <a:ext cx="45720" cy="22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2" name=""/>
                        <p:cNvSpPr/>
                        <p:nvPr/>
                      </p:nvSpPr>
                      <p:spPr>
                        <a:xfrm>
                          <a:off x="7184880" y="2508480"/>
                          <a:ext cx="136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3" name=""/>
                        <p:cNvSpPr/>
                        <p:nvPr/>
                      </p:nvSpPr>
                      <p:spPr>
                        <a:xfrm>
                          <a:off x="7139160" y="2508480"/>
                          <a:ext cx="167760" cy="16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4" name=""/>
                        <p:cNvSpPr/>
                        <p:nvPr/>
                      </p:nvSpPr>
                      <p:spPr>
                        <a:xfrm flipH="1">
                          <a:off x="6956280" y="2508480"/>
                          <a:ext cx="1828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5" name=""/>
                        <p:cNvSpPr/>
                        <p:nvPr/>
                      </p:nvSpPr>
                      <p:spPr>
                        <a:xfrm flipV="1">
                          <a:off x="7093440" y="2234520"/>
                          <a:ext cx="182880" cy="91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4640" bIns="44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6" name=""/>
                        <p:cNvSpPr/>
                        <p:nvPr/>
                      </p:nvSpPr>
                      <p:spPr>
                        <a:xfrm flipH="1" flipV="1">
                          <a:off x="7047360" y="2188440"/>
                          <a:ext cx="91440" cy="137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7" name=""/>
                        <p:cNvSpPr/>
                        <p:nvPr/>
                      </p:nvSpPr>
                      <p:spPr>
                        <a:xfrm flipH="1">
                          <a:off x="7047360" y="2325960"/>
                          <a:ext cx="914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8" name=""/>
                        <p:cNvSpPr/>
                        <p:nvPr/>
                      </p:nvSpPr>
                      <p:spPr>
                        <a:xfrm>
                          <a:off x="7093440" y="2462760"/>
                          <a:ext cx="137160" cy="13680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9" name=""/>
                        <p:cNvSpPr/>
                        <p:nvPr/>
                      </p:nvSpPr>
                      <p:spPr>
                        <a:xfrm>
                          <a:off x="6910560" y="2462760"/>
                          <a:ext cx="91440" cy="9144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0" name=""/>
                        <p:cNvSpPr/>
                        <p:nvPr/>
                      </p:nvSpPr>
                      <p:spPr>
                        <a:xfrm>
                          <a:off x="7276320" y="2462760"/>
                          <a:ext cx="91440" cy="9144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1" name=""/>
                        <p:cNvSpPr/>
                        <p:nvPr/>
                      </p:nvSpPr>
                      <p:spPr>
                        <a:xfrm>
                          <a:off x="7093440" y="2280240"/>
                          <a:ext cx="91440" cy="9108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2" name=""/>
                        <p:cNvSpPr/>
                        <p:nvPr/>
                      </p:nvSpPr>
                      <p:spPr>
                        <a:xfrm>
                          <a:off x="7230600" y="2234520"/>
                          <a:ext cx="4536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3" name=""/>
                        <p:cNvSpPr/>
                        <p:nvPr/>
                      </p:nvSpPr>
                      <p:spPr>
                        <a:xfrm>
                          <a:off x="7002000" y="2280240"/>
                          <a:ext cx="4536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4" name=""/>
                        <p:cNvSpPr/>
                        <p:nvPr/>
                      </p:nvSpPr>
                      <p:spPr>
                        <a:xfrm>
                          <a:off x="7047360" y="2188800"/>
                          <a:ext cx="4572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665" name=""/>
                <p:cNvGrpSpPr/>
                <p:nvPr/>
              </p:nvGrpSpPr>
              <p:grpSpPr>
                <a:xfrm>
                  <a:off x="4572000" y="2072880"/>
                  <a:ext cx="1600200" cy="1282320"/>
                  <a:chOff x="4572000" y="2072880"/>
                  <a:chExt cx="1600200" cy="1282320"/>
                </a:xfrm>
              </p:grpSpPr>
              <p:sp>
                <p:nvSpPr>
                  <p:cNvPr id="666" name=""/>
                  <p:cNvSpPr/>
                  <p:nvPr/>
                </p:nvSpPr>
                <p:spPr>
                  <a:xfrm>
                    <a:off x="4572000" y="2835000"/>
                    <a:ext cx="160020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400" spc="-1" strike="noStrike">
                        <a:solidFill>
                          <a:srgbClr val="000000"/>
                        </a:solidFill>
                        <a:latin typeface="Arial"/>
                      </a:rPr>
                      <a:t>Web Procedures Ontologi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4913280" y="2072880"/>
                    <a:ext cx="915840" cy="782640"/>
                    <a:chOff x="4913280" y="2072880"/>
                    <a:chExt cx="915840" cy="782640"/>
                  </a:xfrm>
                </p:grpSpPr>
                <p:grpSp>
                  <p:nvGrpSpPr>
                    <p:cNvPr id="668" name=""/>
                    <p:cNvGrpSpPr/>
                    <p:nvPr/>
                  </p:nvGrpSpPr>
                  <p:grpSpPr>
                    <a:xfrm>
                      <a:off x="5141880" y="2072880"/>
                      <a:ext cx="687240" cy="717480"/>
                      <a:chOff x="5141880" y="2072880"/>
                      <a:chExt cx="687240" cy="717480"/>
                    </a:xfrm>
                  </p:grpSpPr>
                  <p:sp>
                    <p:nvSpPr>
                      <p:cNvPr id="669" name=""/>
                      <p:cNvSpPr/>
                      <p:nvPr/>
                    </p:nvSpPr>
                    <p:spPr>
                      <a:xfrm>
                        <a:off x="5141880" y="2072880"/>
                        <a:ext cx="687240" cy="7174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70" name=""/>
                      <p:cNvGrpSpPr/>
                      <p:nvPr/>
                    </p:nvGrpSpPr>
                    <p:grpSpPr>
                      <a:xfrm>
                        <a:off x="5234040" y="2123280"/>
                        <a:ext cx="457200" cy="536400"/>
                        <a:chOff x="5234040" y="2123280"/>
                        <a:chExt cx="457200" cy="536400"/>
                      </a:xfrm>
                    </p:grpSpPr>
                    <p:sp>
                      <p:nvSpPr>
                        <p:cNvPr id="671" name=""/>
                        <p:cNvSpPr/>
                        <p:nvPr/>
                      </p:nvSpPr>
                      <p:spPr>
                        <a:xfrm>
                          <a:off x="5595480" y="2569320"/>
                          <a:ext cx="91440" cy="90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2" name=""/>
                        <p:cNvSpPr/>
                        <p:nvPr/>
                      </p:nvSpPr>
                      <p:spPr>
                        <a:xfrm flipH="1" flipV="1">
                          <a:off x="5462280" y="2260800"/>
                          <a:ext cx="45720" cy="22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3" name=""/>
                        <p:cNvSpPr/>
                        <p:nvPr/>
                      </p:nvSpPr>
                      <p:spPr>
                        <a:xfrm>
                          <a:off x="5508360" y="2443320"/>
                          <a:ext cx="136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4" name=""/>
                        <p:cNvSpPr/>
                        <p:nvPr/>
                      </p:nvSpPr>
                      <p:spPr>
                        <a:xfrm>
                          <a:off x="5462640" y="2443320"/>
                          <a:ext cx="167760" cy="16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5" name=""/>
                        <p:cNvSpPr/>
                        <p:nvPr/>
                      </p:nvSpPr>
                      <p:spPr>
                        <a:xfrm flipH="1">
                          <a:off x="5279760" y="2443320"/>
                          <a:ext cx="1828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6" name=""/>
                        <p:cNvSpPr/>
                        <p:nvPr/>
                      </p:nvSpPr>
                      <p:spPr>
                        <a:xfrm flipV="1">
                          <a:off x="5416920" y="2169360"/>
                          <a:ext cx="182880" cy="91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4640" bIns="44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7" name=""/>
                        <p:cNvSpPr/>
                        <p:nvPr/>
                      </p:nvSpPr>
                      <p:spPr>
                        <a:xfrm flipH="1" flipV="1">
                          <a:off x="5370840" y="2123280"/>
                          <a:ext cx="91440" cy="137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8" name=""/>
                        <p:cNvSpPr/>
                        <p:nvPr/>
                      </p:nvSpPr>
                      <p:spPr>
                        <a:xfrm flipH="1">
                          <a:off x="5370840" y="2260800"/>
                          <a:ext cx="914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9" name=""/>
                        <p:cNvSpPr/>
                        <p:nvPr/>
                      </p:nvSpPr>
                      <p:spPr>
                        <a:xfrm>
                          <a:off x="5416920" y="2397600"/>
                          <a:ext cx="137160" cy="13680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0" name=""/>
                        <p:cNvSpPr/>
                        <p:nvPr/>
                      </p:nvSpPr>
                      <p:spPr>
                        <a:xfrm>
                          <a:off x="5234040" y="2397600"/>
                          <a:ext cx="91440" cy="9144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1" name=""/>
                        <p:cNvSpPr/>
                        <p:nvPr/>
                      </p:nvSpPr>
                      <p:spPr>
                        <a:xfrm>
                          <a:off x="5599800" y="2397600"/>
                          <a:ext cx="91440" cy="9144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2" name=""/>
                        <p:cNvSpPr/>
                        <p:nvPr/>
                      </p:nvSpPr>
                      <p:spPr>
                        <a:xfrm>
                          <a:off x="5416920" y="2215080"/>
                          <a:ext cx="91440" cy="9108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3" name=""/>
                        <p:cNvSpPr/>
                        <p:nvPr/>
                      </p:nvSpPr>
                      <p:spPr>
                        <a:xfrm>
                          <a:off x="5554080" y="2169360"/>
                          <a:ext cx="4536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4" name=""/>
                        <p:cNvSpPr/>
                        <p:nvPr/>
                      </p:nvSpPr>
                      <p:spPr>
                        <a:xfrm>
                          <a:off x="5325480" y="2215080"/>
                          <a:ext cx="4536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5" name=""/>
                        <p:cNvSpPr/>
                        <p:nvPr/>
                      </p:nvSpPr>
                      <p:spPr>
                        <a:xfrm>
                          <a:off x="5370840" y="2123640"/>
                          <a:ext cx="4572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86" name=""/>
                    <p:cNvGrpSpPr/>
                    <p:nvPr/>
                  </p:nvGrpSpPr>
                  <p:grpSpPr>
                    <a:xfrm>
                      <a:off x="4913280" y="2138040"/>
                      <a:ext cx="687240" cy="717480"/>
                      <a:chOff x="4913280" y="2138040"/>
                      <a:chExt cx="687240" cy="717480"/>
                    </a:xfrm>
                  </p:grpSpPr>
                  <p:sp>
                    <p:nvSpPr>
                      <p:cNvPr id="687" name=""/>
                      <p:cNvSpPr/>
                      <p:nvPr/>
                    </p:nvSpPr>
                    <p:spPr>
                      <a:xfrm>
                        <a:off x="4913280" y="2138040"/>
                        <a:ext cx="687240" cy="7174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88" name=""/>
                      <p:cNvGrpSpPr/>
                      <p:nvPr/>
                    </p:nvGrpSpPr>
                    <p:grpSpPr>
                      <a:xfrm>
                        <a:off x="5005440" y="2188440"/>
                        <a:ext cx="457200" cy="536400"/>
                        <a:chOff x="5005440" y="2188440"/>
                        <a:chExt cx="457200" cy="536400"/>
                      </a:xfrm>
                    </p:grpSpPr>
                    <p:sp>
                      <p:nvSpPr>
                        <p:cNvPr id="689" name=""/>
                        <p:cNvSpPr/>
                        <p:nvPr/>
                      </p:nvSpPr>
                      <p:spPr>
                        <a:xfrm>
                          <a:off x="5366880" y="2634480"/>
                          <a:ext cx="91440" cy="90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0" name=""/>
                        <p:cNvSpPr/>
                        <p:nvPr/>
                      </p:nvSpPr>
                      <p:spPr>
                        <a:xfrm flipH="1" flipV="1">
                          <a:off x="5233680" y="2325960"/>
                          <a:ext cx="45720" cy="22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1" name=""/>
                        <p:cNvSpPr/>
                        <p:nvPr/>
                      </p:nvSpPr>
                      <p:spPr>
                        <a:xfrm>
                          <a:off x="5279760" y="2508480"/>
                          <a:ext cx="136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2" name=""/>
                        <p:cNvSpPr/>
                        <p:nvPr/>
                      </p:nvSpPr>
                      <p:spPr>
                        <a:xfrm>
                          <a:off x="5234040" y="2508480"/>
                          <a:ext cx="167760" cy="16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3" name=""/>
                        <p:cNvSpPr/>
                        <p:nvPr/>
                      </p:nvSpPr>
                      <p:spPr>
                        <a:xfrm flipH="1">
                          <a:off x="5051160" y="2508480"/>
                          <a:ext cx="1828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4" name=""/>
                        <p:cNvSpPr/>
                        <p:nvPr/>
                      </p:nvSpPr>
                      <p:spPr>
                        <a:xfrm flipV="1">
                          <a:off x="5188320" y="2234520"/>
                          <a:ext cx="182880" cy="91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4640" bIns="44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5" name=""/>
                        <p:cNvSpPr/>
                        <p:nvPr/>
                      </p:nvSpPr>
                      <p:spPr>
                        <a:xfrm flipH="1" flipV="1">
                          <a:off x="5142240" y="2188440"/>
                          <a:ext cx="91440" cy="137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6" name=""/>
                        <p:cNvSpPr/>
                        <p:nvPr/>
                      </p:nvSpPr>
                      <p:spPr>
                        <a:xfrm flipH="1">
                          <a:off x="5142240" y="2325960"/>
                          <a:ext cx="914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7" name=""/>
                        <p:cNvSpPr/>
                        <p:nvPr/>
                      </p:nvSpPr>
                      <p:spPr>
                        <a:xfrm>
                          <a:off x="5188320" y="2462760"/>
                          <a:ext cx="137160" cy="13680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8" name=""/>
                        <p:cNvSpPr/>
                        <p:nvPr/>
                      </p:nvSpPr>
                      <p:spPr>
                        <a:xfrm>
                          <a:off x="5005440" y="2462760"/>
                          <a:ext cx="91440" cy="9144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9" name=""/>
                        <p:cNvSpPr/>
                        <p:nvPr/>
                      </p:nvSpPr>
                      <p:spPr>
                        <a:xfrm>
                          <a:off x="5371200" y="2462760"/>
                          <a:ext cx="91440" cy="9144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0" name=""/>
                        <p:cNvSpPr/>
                        <p:nvPr/>
                      </p:nvSpPr>
                      <p:spPr>
                        <a:xfrm>
                          <a:off x="5188320" y="2280240"/>
                          <a:ext cx="91440" cy="9108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1" name=""/>
                        <p:cNvSpPr/>
                        <p:nvPr/>
                      </p:nvSpPr>
                      <p:spPr>
                        <a:xfrm>
                          <a:off x="5325480" y="2234520"/>
                          <a:ext cx="4536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2" name=""/>
                        <p:cNvSpPr/>
                        <p:nvPr/>
                      </p:nvSpPr>
                      <p:spPr>
                        <a:xfrm>
                          <a:off x="5096880" y="2280240"/>
                          <a:ext cx="4536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3" name=""/>
                        <p:cNvSpPr/>
                        <p:nvPr/>
                      </p:nvSpPr>
                      <p:spPr>
                        <a:xfrm>
                          <a:off x="5142240" y="2188800"/>
                          <a:ext cx="4572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sp>
          <p:nvSpPr>
            <p:cNvPr id="704" name=""/>
            <p:cNvSpPr/>
            <p:nvPr/>
          </p:nvSpPr>
          <p:spPr>
            <a:xfrm>
              <a:off x="7086600" y="41911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638680" y="4038480"/>
              <a:ext cx="129564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ok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3733920" y="5334120"/>
              <a:ext cx="1981080" cy="1371600"/>
              <a:chOff x="3733920" y="5334120"/>
              <a:chExt cx="1981080" cy="1371600"/>
            </a:xfrm>
          </p:grpSpPr>
          <p:grpSp>
            <p:nvGrpSpPr>
              <p:cNvPr id="707" name=""/>
              <p:cNvGrpSpPr/>
              <p:nvPr/>
            </p:nvGrpSpPr>
            <p:grpSpPr>
              <a:xfrm>
                <a:off x="5181480" y="5334120"/>
                <a:ext cx="533520" cy="533160"/>
                <a:chOff x="5181480" y="5334120"/>
                <a:chExt cx="533520" cy="533160"/>
              </a:xfrm>
            </p:grpSpPr>
            <p:grpSp>
              <p:nvGrpSpPr>
                <p:cNvPr id="708" name=""/>
                <p:cNvGrpSpPr/>
                <p:nvPr/>
              </p:nvGrpSpPr>
              <p:grpSpPr>
                <a:xfrm>
                  <a:off x="5214960" y="5638680"/>
                  <a:ext cx="468720" cy="228600"/>
                  <a:chOff x="5214960" y="5638680"/>
                  <a:chExt cx="468720" cy="228600"/>
                </a:xfrm>
              </p:grpSpPr>
              <p:sp>
                <p:nvSpPr>
                  <p:cNvPr id="709" name=""/>
                  <p:cNvSpPr/>
                  <p:nvPr/>
                </p:nvSpPr>
                <p:spPr>
                  <a:xfrm flipH="1">
                    <a:off x="5214960" y="5638680"/>
                    <a:ext cx="200880" cy="22860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5482800" y="5638680"/>
                    <a:ext cx="200880" cy="22860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1" name=""/>
                <p:cNvSpPr/>
                <p:nvPr/>
              </p:nvSpPr>
              <p:spPr>
                <a:xfrm flipV="1">
                  <a:off x="5181480" y="5334120"/>
                  <a:ext cx="533520" cy="457200"/>
                </a:xfrm>
                <a:custGeom>
                  <a:avLst/>
                  <a:gdLst>
                    <a:gd name="textAreaLeft" fmla="*/ 117360 w 533520"/>
                    <a:gd name="textAreaRight" fmla="*/ 416160 w 533520"/>
                    <a:gd name="textAreaTop" fmla="*/ 100440 h 457200"/>
                    <a:gd name="textAreaBottom" fmla="*/ 3567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5348880" y="5410080"/>
                  <a:ext cx="66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5482800" y="5410080"/>
                  <a:ext cx="66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348880" y="5524560"/>
                  <a:ext cx="200520" cy="37800"/>
                </a:xfrm>
                <a:custGeom>
                  <a:avLst/>
                  <a:gdLst/>
                  <a:ahLst/>
                  <a:rect l="l" t="t" r="r" b="b"/>
                  <a:pathLst>
                    <a:path w="288" h="48">
                      <a:moveTo>
                        <a:pt x="0" y="0"/>
                      </a:moveTo>
                      <a:cubicBezTo>
                        <a:pt x="48" y="24"/>
                        <a:pt x="96" y="48"/>
                        <a:pt x="144" y="48"/>
                      </a:cubicBezTo>
                      <a:cubicBezTo>
                        <a:pt x="192" y="48"/>
                        <a:pt x="264" y="8"/>
                        <a:pt x="288" y="0"/>
                      </a:cubicBezTo>
                    </a:path>
                  </a:pathLst>
                </a:custGeom>
                <a:solidFill>
                  <a:srgbClr val="9900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3733920" y="5638320"/>
                <a:ext cx="1371600" cy="1067400"/>
                <a:chOff x="3733920" y="5638320"/>
                <a:chExt cx="1371600" cy="1067400"/>
              </a:xfrm>
            </p:grpSpPr>
            <p:pic>
              <p:nvPicPr>
                <p:cNvPr id="71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33920" y="5638680"/>
                  <a:ext cx="871560" cy="1067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7" name=""/>
                <p:cNvSpPr/>
                <p:nvPr/>
              </p:nvSpPr>
              <p:spPr>
                <a:xfrm flipV="1">
                  <a:off x="4724280" y="5638320"/>
                  <a:ext cx="38124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8" name=""/>
            <p:cNvSpPr/>
            <p:nvPr/>
          </p:nvSpPr>
          <p:spPr>
            <a:xfrm>
              <a:off x="6064200" y="533412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-ma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410080" y="3505320"/>
              <a:ext cx="0" cy="175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843600" y="51814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544680" y="3886200"/>
            <a:ext cx="4560840" cy="2879640"/>
            <a:chOff x="544680" y="3886200"/>
            <a:chExt cx="4560840" cy="2879640"/>
          </a:xfrm>
        </p:grpSpPr>
        <p:sp>
          <p:nvSpPr>
            <p:cNvPr id="722" name=""/>
            <p:cNvSpPr/>
            <p:nvPr/>
          </p:nvSpPr>
          <p:spPr>
            <a:xfrm>
              <a:off x="544680" y="3886200"/>
              <a:ext cx="4251240" cy="204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.g.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ravel(cust,origin,dest,date-d,date-r,purpo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ck-purpose-related-restrictions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k-travel(origin,dest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k-transportation(dest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k-hotel(des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d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3276720" y="5486400"/>
              <a:ext cx="1828800" cy="1279440"/>
              <a:chOff x="3276720" y="5486400"/>
              <a:chExt cx="1828800" cy="1279440"/>
            </a:xfrm>
          </p:grpSpPr>
          <p:sp>
            <p:nvSpPr>
              <p:cNvPr id="724" name=""/>
              <p:cNvSpPr/>
              <p:nvPr/>
            </p:nvSpPr>
            <p:spPr>
              <a:xfrm>
                <a:off x="3276720" y="5486400"/>
                <a:ext cx="1600200" cy="127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5" name=""/>
              <p:cNvGrpSpPr/>
              <p:nvPr/>
            </p:nvGrpSpPr>
            <p:grpSpPr>
              <a:xfrm>
                <a:off x="3733920" y="5638320"/>
                <a:ext cx="1371600" cy="1067400"/>
                <a:chOff x="3733920" y="5638320"/>
                <a:chExt cx="1371600" cy="1067400"/>
              </a:xfrm>
            </p:grpSpPr>
            <p:pic>
              <p:nvPicPr>
                <p:cNvPr id="72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733920" y="5638680"/>
                  <a:ext cx="871560" cy="1067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7" name=""/>
                <p:cNvSpPr/>
                <p:nvPr/>
              </p:nvSpPr>
              <p:spPr>
                <a:xfrm flipV="1">
                  <a:off x="4724280" y="5638320"/>
                  <a:ext cx="38124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ustomizing Generic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8088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6360" y="1371600"/>
            <a:ext cx="822960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procedures can be further constrain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ML-defined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constraints/preferenc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constraints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nce-specific constrain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3278160" y="1981080"/>
            <a:ext cx="5867280" cy="4724640"/>
            <a:chOff x="3278160" y="1981080"/>
            <a:chExt cx="5867280" cy="4724640"/>
          </a:xfrm>
        </p:grpSpPr>
        <p:grpSp>
          <p:nvGrpSpPr>
            <p:cNvPr id="732" name=""/>
            <p:cNvGrpSpPr/>
            <p:nvPr/>
          </p:nvGrpSpPr>
          <p:grpSpPr>
            <a:xfrm>
              <a:off x="7392960" y="3639960"/>
              <a:ext cx="1752480" cy="1544040"/>
              <a:chOff x="7392960" y="3639960"/>
              <a:chExt cx="1752480" cy="1544040"/>
            </a:xfrm>
          </p:grpSpPr>
          <p:sp>
            <p:nvSpPr>
              <p:cNvPr id="733" name=""/>
              <p:cNvSpPr/>
              <p:nvPr/>
            </p:nvSpPr>
            <p:spPr>
              <a:xfrm>
                <a:off x="7392960" y="4663800"/>
                <a:ext cx="1752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DAML-enabled web pag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4" name=""/>
              <p:cNvGrpSpPr/>
              <p:nvPr/>
            </p:nvGrpSpPr>
            <p:grpSpPr>
              <a:xfrm>
                <a:off x="7810200" y="3639960"/>
                <a:ext cx="1001160" cy="977760"/>
                <a:chOff x="7810200" y="3639960"/>
                <a:chExt cx="1001160" cy="977760"/>
              </a:xfrm>
            </p:grpSpPr>
            <p:grpSp>
              <p:nvGrpSpPr>
                <p:cNvPr id="735" name=""/>
                <p:cNvGrpSpPr/>
                <p:nvPr/>
              </p:nvGrpSpPr>
              <p:grpSpPr>
                <a:xfrm>
                  <a:off x="8224560" y="3639960"/>
                  <a:ext cx="241560" cy="244440"/>
                  <a:chOff x="8224560" y="3639960"/>
                  <a:chExt cx="241560" cy="244440"/>
                </a:xfrm>
              </p:grpSpPr>
              <p:sp>
                <p:nvSpPr>
                  <p:cNvPr id="736" name=""/>
                  <p:cNvSpPr/>
                  <p:nvPr/>
                </p:nvSpPr>
                <p:spPr>
                  <a:xfrm>
                    <a:off x="8224560" y="363996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8259120" y="373140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8293680" y="373140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8259120" y="376200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8293680" y="376200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8327880" y="376200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8293680" y="379260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3" name=""/>
                <p:cNvGrpSpPr/>
                <p:nvPr/>
              </p:nvGrpSpPr>
              <p:grpSpPr>
                <a:xfrm>
                  <a:off x="7878960" y="4373280"/>
                  <a:ext cx="241560" cy="244440"/>
                  <a:chOff x="7878960" y="4373280"/>
                  <a:chExt cx="241560" cy="244440"/>
                </a:xfrm>
              </p:grpSpPr>
              <p:sp>
                <p:nvSpPr>
                  <p:cNvPr id="744" name=""/>
                  <p:cNvSpPr/>
                  <p:nvPr/>
                </p:nvSpPr>
                <p:spPr>
                  <a:xfrm>
                    <a:off x="7878960" y="437328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7913520" y="446472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7948080" y="446472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7913520" y="449532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7948080" y="449532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7982280" y="449532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7948080" y="452592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1" name=""/>
                <p:cNvGrpSpPr/>
                <p:nvPr/>
              </p:nvGrpSpPr>
              <p:grpSpPr>
                <a:xfrm>
                  <a:off x="7810200" y="3914640"/>
                  <a:ext cx="241560" cy="244440"/>
                  <a:chOff x="7810200" y="3914640"/>
                  <a:chExt cx="241560" cy="244440"/>
                </a:xfrm>
              </p:grpSpPr>
              <p:sp>
                <p:nvSpPr>
                  <p:cNvPr id="752" name=""/>
                  <p:cNvSpPr/>
                  <p:nvPr/>
                </p:nvSpPr>
                <p:spPr>
                  <a:xfrm>
                    <a:off x="7810200" y="391464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7844760" y="40060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7879320" y="400608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7844760" y="40366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7879320" y="40366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7913520" y="403668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7879320" y="40672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9" name=""/>
                <p:cNvGrpSpPr/>
                <p:nvPr/>
              </p:nvGrpSpPr>
              <p:grpSpPr>
                <a:xfrm>
                  <a:off x="8466120" y="4373280"/>
                  <a:ext cx="241560" cy="244440"/>
                  <a:chOff x="8466120" y="4373280"/>
                  <a:chExt cx="241560" cy="244440"/>
                </a:xfrm>
              </p:grpSpPr>
              <p:sp>
                <p:nvSpPr>
                  <p:cNvPr id="760" name=""/>
                  <p:cNvSpPr/>
                  <p:nvPr/>
                </p:nvSpPr>
                <p:spPr>
                  <a:xfrm>
                    <a:off x="8466120" y="437328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8500680" y="446472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8535240" y="446472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8500680" y="449532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8535240" y="449532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8569440" y="449532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8535240" y="452592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7" name=""/>
                <p:cNvGrpSpPr/>
                <p:nvPr/>
              </p:nvGrpSpPr>
              <p:grpSpPr>
                <a:xfrm>
                  <a:off x="8224560" y="4067640"/>
                  <a:ext cx="241560" cy="244080"/>
                  <a:chOff x="8224560" y="4067640"/>
                  <a:chExt cx="241560" cy="244080"/>
                </a:xfrm>
              </p:grpSpPr>
              <p:sp>
                <p:nvSpPr>
                  <p:cNvPr id="768" name=""/>
                  <p:cNvSpPr/>
                  <p:nvPr/>
                </p:nvSpPr>
                <p:spPr>
                  <a:xfrm>
                    <a:off x="8224560" y="4067640"/>
                    <a:ext cx="241560" cy="24408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8259120" y="41590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8293680" y="4159080"/>
                    <a:ext cx="0" cy="3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8259120" y="41896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8293680" y="41896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8327880" y="4189680"/>
                    <a:ext cx="0" cy="3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8293680" y="42202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5" name=""/>
                <p:cNvGrpSpPr/>
                <p:nvPr/>
              </p:nvGrpSpPr>
              <p:grpSpPr>
                <a:xfrm>
                  <a:off x="8569800" y="3914640"/>
                  <a:ext cx="241560" cy="244440"/>
                  <a:chOff x="8569800" y="3914640"/>
                  <a:chExt cx="241560" cy="244440"/>
                </a:xfrm>
              </p:grpSpPr>
              <p:sp>
                <p:nvSpPr>
                  <p:cNvPr id="776" name=""/>
                  <p:cNvSpPr/>
                  <p:nvPr/>
                </p:nvSpPr>
                <p:spPr>
                  <a:xfrm>
                    <a:off x="8569800" y="391464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8604360" y="40060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8638920" y="400608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8604360" y="40366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8638920" y="40366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8673120" y="403668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8638920" y="40672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3" name=""/>
                <p:cNvSpPr/>
                <p:nvPr/>
              </p:nvSpPr>
              <p:spPr>
                <a:xfrm flipH="1" flipV="1">
                  <a:off x="7948080" y="4128480"/>
                  <a:ext cx="69120" cy="27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V="1">
                  <a:off x="8017200" y="3822840"/>
                  <a:ext cx="207000" cy="12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>
                  <a:off x="8051400" y="3884400"/>
                  <a:ext cx="241560" cy="51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 flipH="1" flipV="1">
                  <a:off x="8051400" y="4036680"/>
                  <a:ext cx="310680" cy="3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V="1">
                  <a:off x="8466120" y="4067280"/>
                  <a:ext cx="103320" cy="12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 flipV="1">
                  <a:off x="8465760" y="3823200"/>
                  <a:ext cx="10332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>
                  <a:off x="7947720" y="3731400"/>
                  <a:ext cx="27612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 flipV="1">
                  <a:off x="8362080" y="4281120"/>
                  <a:ext cx="10332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8120880" y="4464720"/>
                  <a:ext cx="345240" cy="3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flipH="1">
                  <a:off x="8604360" y="4159440"/>
                  <a:ext cx="34560" cy="21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3" name=""/>
            <p:cNvSpPr/>
            <p:nvPr/>
          </p:nvSpPr>
          <p:spPr>
            <a:xfrm flipV="1">
              <a:off x="5792760" y="4647960"/>
              <a:ext cx="30492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402240" y="464832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 flipV="1">
              <a:off x="6783480" y="4647960"/>
              <a:ext cx="30456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6402240" y="35053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7" name="" descr=""/>
            <p:cNvPicPr/>
            <p:nvPr/>
          </p:nvPicPr>
          <p:blipFill>
            <a:blip r:embed="rId1"/>
            <a:stretch/>
          </p:blipFill>
          <p:spPr>
            <a:xfrm>
              <a:off x="3811680" y="5638680"/>
              <a:ext cx="87156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7545240" y="3505320"/>
              <a:ext cx="3049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9" name=""/>
            <p:cNvGrpSpPr/>
            <p:nvPr/>
          </p:nvGrpSpPr>
          <p:grpSpPr>
            <a:xfrm>
              <a:off x="5259240" y="5334120"/>
              <a:ext cx="533520" cy="533160"/>
              <a:chOff x="5259240" y="5334120"/>
              <a:chExt cx="533520" cy="533160"/>
            </a:xfrm>
          </p:grpSpPr>
          <p:grpSp>
            <p:nvGrpSpPr>
              <p:cNvPr id="800" name=""/>
              <p:cNvGrpSpPr/>
              <p:nvPr/>
            </p:nvGrpSpPr>
            <p:grpSpPr>
              <a:xfrm>
                <a:off x="5292720" y="5638680"/>
                <a:ext cx="468720" cy="228600"/>
                <a:chOff x="5292720" y="5638680"/>
                <a:chExt cx="468720" cy="228600"/>
              </a:xfrm>
            </p:grpSpPr>
            <p:sp>
              <p:nvSpPr>
                <p:cNvPr id="801" name=""/>
                <p:cNvSpPr/>
                <p:nvPr/>
              </p:nvSpPr>
              <p:spPr>
                <a:xfrm flipH="1">
                  <a:off x="5292720" y="5638680"/>
                  <a:ext cx="200880" cy="2286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560560" y="5638680"/>
                  <a:ext cx="200880" cy="2286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3" name=""/>
              <p:cNvSpPr/>
              <p:nvPr/>
            </p:nvSpPr>
            <p:spPr>
              <a:xfrm flipV="1">
                <a:off x="5259240" y="5334120"/>
                <a:ext cx="533520" cy="457200"/>
              </a:xfrm>
              <a:custGeom>
                <a:avLst/>
                <a:gdLst>
                  <a:gd name="textAreaLeft" fmla="*/ 117360 w 533520"/>
                  <a:gd name="textAreaRight" fmla="*/ 416160 w 53352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99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426640" y="5410080"/>
                <a:ext cx="6660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560560" y="5410080"/>
                <a:ext cx="6660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426640" y="5524560"/>
                <a:ext cx="200520" cy="37800"/>
              </a:xfrm>
              <a:custGeom>
                <a:avLst/>
                <a:gdLst/>
                <a:ahLst/>
                <a:rect l="l" t="t" r="r" b="b"/>
                <a:pathLst>
                  <a:path w="288" h="48">
                    <a:moveTo>
                      <a:pt x="0" y="0"/>
                    </a:moveTo>
                    <a:cubicBezTo>
                      <a:pt x="48" y="24"/>
                      <a:pt x="96" y="48"/>
                      <a:pt x="144" y="48"/>
                    </a:cubicBezTo>
                    <a:cubicBezTo>
                      <a:pt x="192" y="48"/>
                      <a:pt x="264" y="8"/>
                      <a:pt x="288" y="0"/>
                    </a:cubicBezTo>
                  </a:path>
                </a:pathLst>
              </a:custGeom>
              <a:solidFill>
                <a:srgbClr val="990099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4649760" y="1981080"/>
              <a:ext cx="3505320" cy="1447560"/>
              <a:chOff x="4649760" y="1981080"/>
              <a:chExt cx="3505320" cy="1447560"/>
            </a:xfrm>
          </p:grpSpPr>
          <p:sp>
            <p:nvSpPr>
              <p:cNvPr id="808" name=""/>
              <p:cNvSpPr/>
              <p:nvPr/>
            </p:nvSpPr>
            <p:spPr>
              <a:xfrm>
                <a:off x="4687920" y="1981080"/>
                <a:ext cx="3429000" cy="1447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9" name=""/>
              <p:cNvGrpSpPr/>
              <p:nvPr/>
            </p:nvGrpSpPr>
            <p:grpSpPr>
              <a:xfrm>
                <a:off x="4649760" y="2072880"/>
                <a:ext cx="3505320" cy="1282320"/>
                <a:chOff x="4649760" y="2072880"/>
                <a:chExt cx="3505320" cy="1282320"/>
              </a:xfrm>
            </p:grpSpPr>
            <p:sp>
              <p:nvSpPr>
                <p:cNvPr id="810" name=""/>
                <p:cNvSpPr/>
                <p:nvPr/>
              </p:nvSpPr>
              <p:spPr>
                <a:xfrm>
                  <a:off x="6097680" y="243828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1" name=""/>
                <p:cNvGrpSpPr/>
                <p:nvPr/>
              </p:nvGrpSpPr>
              <p:grpSpPr>
                <a:xfrm>
                  <a:off x="6554880" y="2072880"/>
                  <a:ext cx="1600200" cy="1282320"/>
                  <a:chOff x="6554880" y="2072880"/>
                  <a:chExt cx="1600200" cy="1282320"/>
                </a:xfrm>
              </p:grpSpPr>
              <p:sp>
                <p:nvSpPr>
                  <p:cNvPr id="812" name=""/>
                  <p:cNvSpPr/>
                  <p:nvPr/>
                </p:nvSpPr>
                <p:spPr>
                  <a:xfrm>
                    <a:off x="6554880" y="2835000"/>
                    <a:ext cx="160020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400" spc="-1" strike="noStrike">
                        <a:solidFill>
                          <a:srgbClr val="000000"/>
                        </a:solidFill>
                        <a:latin typeface="Arial"/>
                      </a:rPr>
                      <a:t>Web Service Ontologi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13" name=""/>
                  <p:cNvGrpSpPr/>
                  <p:nvPr/>
                </p:nvGrpSpPr>
                <p:grpSpPr>
                  <a:xfrm>
                    <a:off x="6896160" y="2072880"/>
                    <a:ext cx="915840" cy="782640"/>
                    <a:chOff x="6896160" y="2072880"/>
                    <a:chExt cx="915840" cy="782640"/>
                  </a:xfrm>
                </p:grpSpPr>
                <p:grpSp>
                  <p:nvGrpSpPr>
                    <p:cNvPr id="814" name=""/>
                    <p:cNvGrpSpPr/>
                    <p:nvPr/>
                  </p:nvGrpSpPr>
                  <p:grpSpPr>
                    <a:xfrm>
                      <a:off x="7124760" y="2072880"/>
                      <a:ext cx="687240" cy="717480"/>
                      <a:chOff x="7124760" y="2072880"/>
                      <a:chExt cx="687240" cy="717480"/>
                    </a:xfrm>
                  </p:grpSpPr>
                  <p:sp>
                    <p:nvSpPr>
                      <p:cNvPr id="815" name=""/>
                      <p:cNvSpPr/>
                      <p:nvPr/>
                    </p:nvSpPr>
                    <p:spPr>
                      <a:xfrm>
                        <a:off x="7124760" y="2072880"/>
                        <a:ext cx="687240" cy="7174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16" name=""/>
                      <p:cNvGrpSpPr/>
                      <p:nvPr/>
                    </p:nvGrpSpPr>
                    <p:grpSpPr>
                      <a:xfrm>
                        <a:off x="7216920" y="2123280"/>
                        <a:ext cx="457200" cy="536400"/>
                        <a:chOff x="7216920" y="2123280"/>
                        <a:chExt cx="457200" cy="536400"/>
                      </a:xfrm>
                    </p:grpSpPr>
                    <p:sp>
                      <p:nvSpPr>
                        <p:cNvPr id="817" name=""/>
                        <p:cNvSpPr/>
                        <p:nvPr/>
                      </p:nvSpPr>
                      <p:spPr>
                        <a:xfrm>
                          <a:off x="7578360" y="2569320"/>
                          <a:ext cx="91440" cy="90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8" name=""/>
                        <p:cNvSpPr/>
                        <p:nvPr/>
                      </p:nvSpPr>
                      <p:spPr>
                        <a:xfrm flipH="1" flipV="1">
                          <a:off x="7445160" y="2260800"/>
                          <a:ext cx="45720" cy="22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9" name=""/>
                        <p:cNvSpPr/>
                        <p:nvPr/>
                      </p:nvSpPr>
                      <p:spPr>
                        <a:xfrm>
                          <a:off x="7491240" y="2443320"/>
                          <a:ext cx="136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0" name=""/>
                        <p:cNvSpPr/>
                        <p:nvPr/>
                      </p:nvSpPr>
                      <p:spPr>
                        <a:xfrm>
                          <a:off x="7445520" y="2443320"/>
                          <a:ext cx="167760" cy="16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1" name=""/>
                        <p:cNvSpPr/>
                        <p:nvPr/>
                      </p:nvSpPr>
                      <p:spPr>
                        <a:xfrm flipH="1">
                          <a:off x="7262640" y="2443320"/>
                          <a:ext cx="1828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2" name=""/>
                        <p:cNvSpPr/>
                        <p:nvPr/>
                      </p:nvSpPr>
                      <p:spPr>
                        <a:xfrm flipV="1">
                          <a:off x="7399800" y="2169360"/>
                          <a:ext cx="182880" cy="91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4640" bIns="44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3" name=""/>
                        <p:cNvSpPr/>
                        <p:nvPr/>
                      </p:nvSpPr>
                      <p:spPr>
                        <a:xfrm flipH="1" flipV="1">
                          <a:off x="7353720" y="2123280"/>
                          <a:ext cx="91440" cy="137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4" name=""/>
                        <p:cNvSpPr/>
                        <p:nvPr/>
                      </p:nvSpPr>
                      <p:spPr>
                        <a:xfrm flipH="1">
                          <a:off x="7353720" y="2260800"/>
                          <a:ext cx="914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5" name=""/>
                        <p:cNvSpPr/>
                        <p:nvPr/>
                      </p:nvSpPr>
                      <p:spPr>
                        <a:xfrm>
                          <a:off x="7399800" y="2397600"/>
                          <a:ext cx="137160" cy="13680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6" name=""/>
                        <p:cNvSpPr/>
                        <p:nvPr/>
                      </p:nvSpPr>
                      <p:spPr>
                        <a:xfrm>
                          <a:off x="7216920" y="2397600"/>
                          <a:ext cx="91440" cy="9144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7" name=""/>
                        <p:cNvSpPr/>
                        <p:nvPr/>
                      </p:nvSpPr>
                      <p:spPr>
                        <a:xfrm>
                          <a:off x="7582680" y="2397600"/>
                          <a:ext cx="91440" cy="9144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8" name=""/>
                        <p:cNvSpPr/>
                        <p:nvPr/>
                      </p:nvSpPr>
                      <p:spPr>
                        <a:xfrm>
                          <a:off x="7399800" y="2215080"/>
                          <a:ext cx="91440" cy="9108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9" name=""/>
                        <p:cNvSpPr/>
                        <p:nvPr/>
                      </p:nvSpPr>
                      <p:spPr>
                        <a:xfrm>
                          <a:off x="7536960" y="2169360"/>
                          <a:ext cx="4536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0" name=""/>
                        <p:cNvSpPr/>
                        <p:nvPr/>
                      </p:nvSpPr>
                      <p:spPr>
                        <a:xfrm>
                          <a:off x="7308360" y="2215080"/>
                          <a:ext cx="4536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1" name=""/>
                        <p:cNvSpPr/>
                        <p:nvPr/>
                      </p:nvSpPr>
                      <p:spPr>
                        <a:xfrm>
                          <a:off x="7353720" y="2123640"/>
                          <a:ext cx="4572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32" name=""/>
                    <p:cNvGrpSpPr/>
                    <p:nvPr/>
                  </p:nvGrpSpPr>
                  <p:grpSpPr>
                    <a:xfrm>
                      <a:off x="6896160" y="2138040"/>
                      <a:ext cx="687240" cy="717480"/>
                      <a:chOff x="6896160" y="2138040"/>
                      <a:chExt cx="687240" cy="717480"/>
                    </a:xfrm>
                  </p:grpSpPr>
                  <p:sp>
                    <p:nvSpPr>
                      <p:cNvPr id="833" name=""/>
                      <p:cNvSpPr/>
                      <p:nvPr/>
                    </p:nvSpPr>
                    <p:spPr>
                      <a:xfrm>
                        <a:off x="6896160" y="2138040"/>
                        <a:ext cx="687240" cy="7174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34" name=""/>
                      <p:cNvGrpSpPr/>
                      <p:nvPr/>
                    </p:nvGrpSpPr>
                    <p:grpSpPr>
                      <a:xfrm>
                        <a:off x="6988320" y="2188440"/>
                        <a:ext cx="457200" cy="536400"/>
                        <a:chOff x="6988320" y="2188440"/>
                        <a:chExt cx="457200" cy="536400"/>
                      </a:xfrm>
                    </p:grpSpPr>
                    <p:sp>
                      <p:nvSpPr>
                        <p:cNvPr id="835" name=""/>
                        <p:cNvSpPr/>
                        <p:nvPr/>
                      </p:nvSpPr>
                      <p:spPr>
                        <a:xfrm>
                          <a:off x="7349760" y="2634480"/>
                          <a:ext cx="91440" cy="90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6" name=""/>
                        <p:cNvSpPr/>
                        <p:nvPr/>
                      </p:nvSpPr>
                      <p:spPr>
                        <a:xfrm flipH="1" flipV="1">
                          <a:off x="7216560" y="2325960"/>
                          <a:ext cx="45720" cy="22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7" name=""/>
                        <p:cNvSpPr/>
                        <p:nvPr/>
                      </p:nvSpPr>
                      <p:spPr>
                        <a:xfrm>
                          <a:off x="7262640" y="2508480"/>
                          <a:ext cx="136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8" name=""/>
                        <p:cNvSpPr/>
                        <p:nvPr/>
                      </p:nvSpPr>
                      <p:spPr>
                        <a:xfrm>
                          <a:off x="7216920" y="2508480"/>
                          <a:ext cx="167760" cy="16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9" name=""/>
                        <p:cNvSpPr/>
                        <p:nvPr/>
                      </p:nvSpPr>
                      <p:spPr>
                        <a:xfrm flipH="1">
                          <a:off x="7034040" y="2508480"/>
                          <a:ext cx="1828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0" name=""/>
                        <p:cNvSpPr/>
                        <p:nvPr/>
                      </p:nvSpPr>
                      <p:spPr>
                        <a:xfrm flipV="1">
                          <a:off x="7171200" y="2234520"/>
                          <a:ext cx="182880" cy="91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4640" bIns="44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1" name=""/>
                        <p:cNvSpPr/>
                        <p:nvPr/>
                      </p:nvSpPr>
                      <p:spPr>
                        <a:xfrm flipH="1" flipV="1">
                          <a:off x="7125120" y="2188440"/>
                          <a:ext cx="91440" cy="137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2" name=""/>
                        <p:cNvSpPr/>
                        <p:nvPr/>
                      </p:nvSpPr>
                      <p:spPr>
                        <a:xfrm flipH="1">
                          <a:off x="7125120" y="2325960"/>
                          <a:ext cx="914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3" name=""/>
                        <p:cNvSpPr/>
                        <p:nvPr/>
                      </p:nvSpPr>
                      <p:spPr>
                        <a:xfrm>
                          <a:off x="7171200" y="2462760"/>
                          <a:ext cx="137160" cy="13680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4" name=""/>
                        <p:cNvSpPr/>
                        <p:nvPr/>
                      </p:nvSpPr>
                      <p:spPr>
                        <a:xfrm>
                          <a:off x="6988320" y="2462760"/>
                          <a:ext cx="91440" cy="9144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5" name=""/>
                        <p:cNvSpPr/>
                        <p:nvPr/>
                      </p:nvSpPr>
                      <p:spPr>
                        <a:xfrm>
                          <a:off x="7354080" y="2462760"/>
                          <a:ext cx="91440" cy="9144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6" name=""/>
                        <p:cNvSpPr/>
                        <p:nvPr/>
                      </p:nvSpPr>
                      <p:spPr>
                        <a:xfrm>
                          <a:off x="7171200" y="2280240"/>
                          <a:ext cx="91440" cy="9108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7" name=""/>
                        <p:cNvSpPr/>
                        <p:nvPr/>
                      </p:nvSpPr>
                      <p:spPr>
                        <a:xfrm>
                          <a:off x="7308360" y="2234520"/>
                          <a:ext cx="4536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8" name=""/>
                        <p:cNvSpPr/>
                        <p:nvPr/>
                      </p:nvSpPr>
                      <p:spPr>
                        <a:xfrm>
                          <a:off x="7079760" y="2280240"/>
                          <a:ext cx="4536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9" name=""/>
                        <p:cNvSpPr/>
                        <p:nvPr/>
                      </p:nvSpPr>
                      <p:spPr>
                        <a:xfrm>
                          <a:off x="7125120" y="2188800"/>
                          <a:ext cx="4572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850" name=""/>
                <p:cNvGrpSpPr/>
                <p:nvPr/>
              </p:nvGrpSpPr>
              <p:grpSpPr>
                <a:xfrm>
                  <a:off x="4649760" y="2072880"/>
                  <a:ext cx="1600200" cy="1282320"/>
                  <a:chOff x="4649760" y="2072880"/>
                  <a:chExt cx="1600200" cy="1282320"/>
                </a:xfrm>
              </p:grpSpPr>
              <p:sp>
                <p:nvSpPr>
                  <p:cNvPr id="851" name=""/>
                  <p:cNvSpPr/>
                  <p:nvPr/>
                </p:nvSpPr>
                <p:spPr>
                  <a:xfrm>
                    <a:off x="4649760" y="2835000"/>
                    <a:ext cx="160020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400" spc="-1" strike="noStrike">
                        <a:solidFill>
                          <a:srgbClr val="000000"/>
                        </a:solidFill>
                        <a:latin typeface="Arial"/>
                      </a:rPr>
                      <a:t>Web Procedures Ontologi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52" name=""/>
                  <p:cNvGrpSpPr/>
                  <p:nvPr/>
                </p:nvGrpSpPr>
                <p:grpSpPr>
                  <a:xfrm>
                    <a:off x="4991040" y="2072880"/>
                    <a:ext cx="915840" cy="782640"/>
                    <a:chOff x="4991040" y="2072880"/>
                    <a:chExt cx="915840" cy="782640"/>
                  </a:xfrm>
                </p:grpSpPr>
                <p:grpSp>
                  <p:nvGrpSpPr>
                    <p:cNvPr id="853" name=""/>
                    <p:cNvGrpSpPr/>
                    <p:nvPr/>
                  </p:nvGrpSpPr>
                  <p:grpSpPr>
                    <a:xfrm>
                      <a:off x="5219640" y="2072880"/>
                      <a:ext cx="687240" cy="717480"/>
                      <a:chOff x="5219640" y="2072880"/>
                      <a:chExt cx="687240" cy="717480"/>
                    </a:xfrm>
                  </p:grpSpPr>
                  <p:sp>
                    <p:nvSpPr>
                      <p:cNvPr id="854" name=""/>
                      <p:cNvSpPr/>
                      <p:nvPr/>
                    </p:nvSpPr>
                    <p:spPr>
                      <a:xfrm>
                        <a:off x="5219640" y="2072880"/>
                        <a:ext cx="687240" cy="7174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55" name=""/>
                      <p:cNvGrpSpPr/>
                      <p:nvPr/>
                    </p:nvGrpSpPr>
                    <p:grpSpPr>
                      <a:xfrm>
                        <a:off x="5311800" y="2123280"/>
                        <a:ext cx="457200" cy="536400"/>
                        <a:chOff x="5311800" y="2123280"/>
                        <a:chExt cx="457200" cy="536400"/>
                      </a:xfrm>
                    </p:grpSpPr>
                    <p:sp>
                      <p:nvSpPr>
                        <p:cNvPr id="856" name=""/>
                        <p:cNvSpPr/>
                        <p:nvPr/>
                      </p:nvSpPr>
                      <p:spPr>
                        <a:xfrm>
                          <a:off x="5673240" y="2569320"/>
                          <a:ext cx="91440" cy="90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7" name=""/>
                        <p:cNvSpPr/>
                        <p:nvPr/>
                      </p:nvSpPr>
                      <p:spPr>
                        <a:xfrm flipH="1" flipV="1">
                          <a:off x="5540040" y="2260800"/>
                          <a:ext cx="45720" cy="22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8" name=""/>
                        <p:cNvSpPr/>
                        <p:nvPr/>
                      </p:nvSpPr>
                      <p:spPr>
                        <a:xfrm>
                          <a:off x="5586120" y="2443320"/>
                          <a:ext cx="136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9" name=""/>
                        <p:cNvSpPr/>
                        <p:nvPr/>
                      </p:nvSpPr>
                      <p:spPr>
                        <a:xfrm>
                          <a:off x="5540400" y="2443320"/>
                          <a:ext cx="167760" cy="16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0" name=""/>
                        <p:cNvSpPr/>
                        <p:nvPr/>
                      </p:nvSpPr>
                      <p:spPr>
                        <a:xfrm flipH="1">
                          <a:off x="5357520" y="2443320"/>
                          <a:ext cx="1828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1" name=""/>
                        <p:cNvSpPr/>
                        <p:nvPr/>
                      </p:nvSpPr>
                      <p:spPr>
                        <a:xfrm flipV="1">
                          <a:off x="5494680" y="2169360"/>
                          <a:ext cx="182880" cy="91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4640" bIns="44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2" name=""/>
                        <p:cNvSpPr/>
                        <p:nvPr/>
                      </p:nvSpPr>
                      <p:spPr>
                        <a:xfrm flipH="1" flipV="1">
                          <a:off x="5448600" y="2123280"/>
                          <a:ext cx="91440" cy="137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3" name=""/>
                        <p:cNvSpPr/>
                        <p:nvPr/>
                      </p:nvSpPr>
                      <p:spPr>
                        <a:xfrm flipH="1">
                          <a:off x="5448600" y="2260800"/>
                          <a:ext cx="914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4" name=""/>
                        <p:cNvSpPr/>
                        <p:nvPr/>
                      </p:nvSpPr>
                      <p:spPr>
                        <a:xfrm>
                          <a:off x="5494680" y="2397600"/>
                          <a:ext cx="137160" cy="13680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5" name=""/>
                        <p:cNvSpPr/>
                        <p:nvPr/>
                      </p:nvSpPr>
                      <p:spPr>
                        <a:xfrm>
                          <a:off x="5311800" y="2397600"/>
                          <a:ext cx="91440" cy="9144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6" name=""/>
                        <p:cNvSpPr/>
                        <p:nvPr/>
                      </p:nvSpPr>
                      <p:spPr>
                        <a:xfrm>
                          <a:off x="5677560" y="2397600"/>
                          <a:ext cx="91440" cy="9144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7" name=""/>
                        <p:cNvSpPr/>
                        <p:nvPr/>
                      </p:nvSpPr>
                      <p:spPr>
                        <a:xfrm>
                          <a:off x="5494680" y="2215080"/>
                          <a:ext cx="91440" cy="9108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8" name=""/>
                        <p:cNvSpPr/>
                        <p:nvPr/>
                      </p:nvSpPr>
                      <p:spPr>
                        <a:xfrm>
                          <a:off x="5631840" y="2169360"/>
                          <a:ext cx="4536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9" name=""/>
                        <p:cNvSpPr/>
                        <p:nvPr/>
                      </p:nvSpPr>
                      <p:spPr>
                        <a:xfrm>
                          <a:off x="5403240" y="2215080"/>
                          <a:ext cx="4536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0" name=""/>
                        <p:cNvSpPr/>
                        <p:nvPr/>
                      </p:nvSpPr>
                      <p:spPr>
                        <a:xfrm>
                          <a:off x="5448600" y="2123640"/>
                          <a:ext cx="4572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71" name=""/>
                    <p:cNvGrpSpPr/>
                    <p:nvPr/>
                  </p:nvGrpSpPr>
                  <p:grpSpPr>
                    <a:xfrm>
                      <a:off x="4991040" y="2138040"/>
                      <a:ext cx="687240" cy="717480"/>
                      <a:chOff x="4991040" y="2138040"/>
                      <a:chExt cx="687240" cy="717480"/>
                    </a:xfrm>
                  </p:grpSpPr>
                  <p:sp>
                    <p:nvSpPr>
                      <p:cNvPr id="872" name=""/>
                      <p:cNvSpPr/>
                      <p:nvPr/>
                    </p:nvSpPr>
                    <p:spPr>
                      <a:xfrm>
                        <a:off x="4991040" y="2138040"/>
                        <a:ext cx="687240" cy="7174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73" name=""/>
                      <p:cNvGrpSpPr/>
                      <p:nvPr/>
                    </p:nvGrpSpPr>
                    <p:grpSpPr>
                      <a:xfrm>
                        <a:off x="5083200" y="2188440"/>
                        <a:ext cx="457200" cy="536400"/>
                        <a:chOff x="5083200" y="2188440"/>
                        <a:chExt cx="457200" cy="536400"/>
                      </a:xfrm>
                    </p:grpSpPr>
                    <p:sp>
                      <p:nvSpPr>
                        <p:cNvPr id="874" name=""/>
                        <p:cNvSpPr/>
                        <p:nvPr/>
                      </p:nvSpPr>
                      <p:spPr>
                        <a:xfrm>
                          <a:off x="5444640" y="2634480"/>
                          <a:ext cx="91440" cy="90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5" name=""/>
                        <p:cNvSpPr/>
                        <p:nvPr/>
                      </p:nvSpPr>
                      <p:spPr>
                        <a:xfrm flipH="1" flipV="1">
                          <a:off x="5311440" y="2325960"/>
                          <a:ext cx="45720" cy="22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6" name=""/>
                        <p:cNvSpPr/>
                        <p:nvPr/>
                      </p:nvSpPr>
                      <p:spPr>
                        <a:xfrm>
                          <a:off x="5357520" y="2508480"/>
                          <a:ext cx="136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7" name=""/>
                        <p:cNvSpPr/>
                        <p:nvPr/>
                      </p:nvSpPr>
                      <p:spPr>
                        <a:xfrm>
                          <a:off x="5311800" y="2508480"/>
                          <a:ext cx="167760" cy="16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8" name=""/>
                        <p:cNvSpPr/>
                        <p:nvPr/>
                      </p:nvSpPr>
                      <p:spPr>
                        <a:xfrm flipH="1">
                          <a:off x="5128920" y="2508480"/>
                          <a:ext cx="1828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9" name=""/>
                        <p:cNvSpPr/>
                        <p:nvPr/>
                      </p:nvSpPr>
                      <p:spPr>
                        <a:xfrm flipV="1">
                          <a:off x="5266080" y="2234520"/>
                          <a:ext cx="182880" cy="91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4640" bIns="44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0" name=""/>
                        <p:cNvSpPr/>
                        <p:nvPr/>
                      </p:nvSpPr>
                      <p:spPr>
                        <a:xfrm flipH="1" flipV="1">
                          <a:off x="5220000" y="2188440"/>
                          <a:ext cx="91440" cy="137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1" name=""/>
                        <p:cNvSpPr/>
                        <p:nvPr/>
                      </p:nvSpPr>
                      <p:spPr>
                        <a:xfrm flipH="1">
                          <a:off x="5220000" y="2325960"/>
                          <a:ext cx="914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2" name=""/>
                        <p:cNvSpPr/>
                        <p:nvPr/>
                      </p:nvSpPr>
                      <p:spPr>
                        <a:xfrm>
                          <a:off x="5266080" y="2462760"/>
                          <a:ext cx="137160" cy="13680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3" name=""/>
                        <p:cNvSpPr/>
                        <p:nvPr/>
                      </p:nvSpPr>
                      <p:spPr>
                        <a:xfrm>
                          <a:off x="5083200" y="2462760"/>
                          <a:ext cx="91440" cy="9144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4" name=""/>
                        <p:cNvSpPr/>
                        <p:nvPr/>
                      </p:nvSpPr>
                      <p:spPr>
                        <a:xfrm>
                          <a:off x="5448960" y="2462760"/>
                          <a:ext cx="91440" cy="9144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5" name=""/>
                        <p:cNvSpPr/>
                        <p:nvPr/>
                      </p:nvSpPr>
                      <p:spPr>
                        <a:xfrm>
                          <a:off x="5266080" y="2280240"/>
                          <a:ext cx="91440" cy="9108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6" name=""/>
                        <p:cNvSpPr/>
                        <p:nvPr/>
                      </p:nvSpPr>
                      <p:spPr>
                        <a:xfrm>
                          <a:off x="5403240" y="2234520"/>
                          <a:ext cx="4536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7" name=""/>
                        <p:cNvSpPr/>
                        <p:nvPr/>
                      </p:nvSpPr>
                      <p:spPr>
                        <a:xfrm>
                          <a:off x="5174640" y="2280240"/>
                          <a:ext cx="4536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8" name=""/>
                        <p:cNvSpPr/>
                        <p:nvPr/>
                      </p:nvSpPr>
                      <p:spPr>
                        <a:xfrm>
                          <a:off x="5220000" y="2188800"/>
                          <a:ext cx="4572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sp>
          <p:nvSpPr>
            <p:cNvPr id="889" name=""/>
            <p:cNvSpPr/>
            <p:nvPr/>
          </p:nvSpPr>
          <p:spPr>
            <a:xfrm>
              <a:off x="7164360" y="41911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716440" y="4038480"/>
              <a:ext cx="129564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ok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4802040" y="5638320"/>
              <a:ext cx="38124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141960" y="533412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-ma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" name=""/>
            <p:cNvGrpSpPr/>
            <p:nvPr/>
          </p:nvGrpSpPr>
          <p:grpSpPr>
            <a:xfrm>
              <a:off x="3278160" y="3670200"/>
              <a:ext cx="2286000" cy="1727280"/>
              <a:chOff x="3278160" y="3670200"/>
              <a:chExt cx="2286000" cy="1727280"/>
            </a:xfrm>
          </p:grpSpPr>
          <p:grpSp>
            <p:nvGrpSpPr>
              <p:cNvPr id="894" name=""/>
              <p:cNvGrpSpPr/>
              <p:nvPr/>
            </p:nvGrpSpPr>
            <p:grpSpPr>
              <a:xfrm>
                <a:off x="3887640" y="3670200"/>
                <a:ext cx="1001880" cy="977760"/>
                <a:chOff x="3887640" y="3670200"/>
                <a:chExt cx="1001880" cy="977760"/>
              </a:xfrm>
            </p:grpSpPr>
            <p:grpSp>
              <p:nvGrpSpPr>
                <p:cNvPr id="895" name=""/>
                <p:cNvGrpSpPr/>
                <p:nvPr/>
              </p:nvGrpSpPr>
              <p:grpSpPr>
                <a:xfrm>
                  <a:off x="4302000" y="3670200"/>
                  <a:ext cx="241560" cy="244440"/>
                  <a:chOff x="4302000" y="3670200"/>
                  <a:chExt cx="241560" cy="244440"/>
                </a:xfrm>
              </p:grpSpPr>
              <p:sp>
                <p:nvSpPr>
                  <p:cNvPr id="896" name=""/>
                  <p:cNvSpPr/>
                  <p:nvPr/>
                </p:nvSpPr>
                <p:spPr>
                  <a:xfrm>
                    <a:off x="4302000" y="367020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4336560" y="376164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4371120" y="376164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4336560" y="379224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4371120" y="379224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4405320" y="379224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4371120" y="382284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3" name=""/>
                <p:cNvGrpSpPr/>
                <p:nvPr/>
              </p:nvGrpSpPr>
              <p:grpSpPr>
                <a:xfrm>
                  <a:off x="3956400" y="4403520"/>
                  <a:ext cx="241920" cy="244440"/>
                  <a:chOff x="3956400" y="4403520"/>
                  <a:chExt cx="241920" cy="244440"/>
                </a:xfrm>
              </p:grpSpPr>
              <p:sp>
                <p:nvSpPr>
                  <p:cNvPr id="904" name=""/>
                  <p:cNvSpPr/>
                  <p:nvPr/>
                </p:nvSpPr>
                <p:spPr>
                  <a:xfrm>
                    <a:off x="3956400" y="4403520"/>
                    <a:ext cx="24192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3990960" y="4494960"/>
                    <a:ext cx="103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4025520" y="449496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3990960" y="452556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4025520" y="4525560"/>
                    <a:ext cx="103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4060080" y="452556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4025520" y="455616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1" name=""/>
                <p:cNvGrpSpPr/>
                <p:nvPr/>
              </p:nvGrpSpPr>
              <p:grpSpPr>
                <a:xfrm>
                  <a:off x="3887640" y="3945240"/>
                  <a:ext cx="241560" cy="244440"/>
                  <a:chOff x="3887640" y="3945240"/>
                  <a:chExt cx="241560" cy="244440"/>
                </a:xfrm>
              </p:grpSpPr>
              <p:sp>
                <p:nvSpPr>
                  <p:cNvPr id="912" name=""/>
                  <p:cNvSpPr/>
                  <p:nvPr/>
                </p:nvSpPr>
                <p:spPr>
                  <a:xfrm>
                    <a:off x="3887640" y="394524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3922200" y="40366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3956760" y="403668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3922200" y="40672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3956760" y="40672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3990960" y="406728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3956760" y="40978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9" name=""/>
                <p:cNvGrpSpPr/>
                <p:nvPr/>
              </p:nvGrpSpPr>
              <p:grpSpPr>
                <a:xfrm>
                  <a:off x="4543920" y="4403520"/>
                  <a:ext cx="241920" cy="244440"/>
                  <a:chOff x="4543920" y="4403520"/>
                  <a:chExt cx="241920" cy="244440"/>
                </a:xfrm>
              </p:grpSpPr>
              <p:sp>
                <p:nvSpPr>
                  <p:cNvPr id="920" name=""/>
                  <p:cNvSpPr/>
                  <p:nvPr/>
                </p:nvSpPr>
                <p:spPr>
                  <a:xfrm>
                    <a:off x="4543920" y="4403520"/>
                    <a:ext cx="24192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4578480" y="4494960"/>
                    <a:ext cx="103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4613040" y="449496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4578480" y="452556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4613040" y="4525560"/>
                    <a:ext cx="103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4647600" y="452556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4613040" y="455616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7" name=""/>
                <p:cNvGrpSpPr/>
                <p:nvPr/>
              </p:nvGrpSpPr>
              <p:grpSpPr>
                <a:xfrm>
                  <a:off x="4302000" y="4098240"/>
                  <a:ext cx="241560" cy="244440"/>
                  <a:chOff x="4302000" y="4098240"/>
                  <a:chExt cx="241560" cy="244440"/>
                </a:xfrm>
              </p:grpSpPr>
              <p:sp>
                <p:nvSpPr>
                  <p:cNvPr id="928" name=""/>
                  <p:cNvSpPr/>
                  <p:nvPr/>
                </p:nvSpPr>
                <p:spPr>
                  <a:xfrm>
                    <a:off x="4302000" y="409824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4336560" y="41896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4371120" y="418968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4336560" y="42202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4371120" y="42202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4405320" y="422028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4371120" y="42508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4647600" y="3945240"/>
                  <a:ext cx="241920" cy="244440"/>
                  <a:chOff x="4647600" y="3945240"/>
                  <a:chExt cx="241920" cy="24444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4647600" y="3945240"/>
                    <a:ext cx="24192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4682160" y="4036680"/>
                    <a:ext cx="103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4716720" y="403668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4682160" y="40672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716720" y="4067280"/>
                    <a:ext cx="103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4751280" y="406728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4716720" y="40978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43" name=""/>
                <p:cNvSpPr/>
                <p:nvPr/>
              </p:nvSpPr>
              <p:spPr>
                <a:xfrm flipH="1" flipV="1">
                  <a:off x="4025520" y="4159080"/>
                  <a:ext cx="69120" cy="27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V="1">
                  <a:off x="4094640" y="3853080"/>
                  <a:ext cx="207000" cy="12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>
                  <a:off x="4129200" y="3914640"/>
                  <a:ext cx="241920" cy="51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 flipV="1">
                  <a:off x="4128840" y="4067280"/>
                  <a:ext cx="310680" cy="3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V="1">
                  <a:off x="4543920" y="4097880"/>
                  <a:ext cx="103320" cy="12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H="1" flipV="1">
                  <a:off x="4543560" y="3853440"/>
                  <a:ext cx="10332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flipH="1">
                  <a:off x="4025520" y="3761640"/>
                  <a:ext cx="27648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H="1" flipV="1">
                  <a:off x="4439880" y="4311720"/>
                  <a:ext cx="10332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198320" y="4495320"/>
                  <a:ext cx="345240" cy="3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H="1">
                  <a:off x="4682160" y="4189680"/>
                  <a:ext cx="34560" cy="21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3" name=""/>
              <p:cNvSpPr/>
              <p:nvPr/>
            </p:nvSpPr>
            <p:spPr>
              <a:xfrm>
                <a:off x="3278160" y="4664160"/>
                <a:ext cx="228600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DAML-enabled personal/company constraints and pref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4" name=""/>
            <p:cNvSpPr/>
            <p:nvPr/>
          </p:nvSpPr>
          <p:spPr>
            <a:xfrm>
              <a:off x="4954680" y="41911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4954680" y="3505320"/>
              <a:ext cx="30456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981840" y="51814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389520" y="3835440"/>
            <a:ext cx="2951280" cy="25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b would like to drive i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iving distance is less th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hou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SL Business air trav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uld be on an Americ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r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stantiating Generic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8088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57200" y="1370160"/>
            <a:ext cx="8229600" cy="37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’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B 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cally construc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lative to the generic procedure and constraints.  KB is updated by web service respon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ductive machine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iates the generic procedure wrt. constraints and world stat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web service reque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the broker exec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5334120" y="3505320"/>
            <a:ext cx="3519360" cy="2833200"/>
            <a:chOff x="5334120" y="3505320"/>
            <a:chExt cx="3519360" cy="2833200"/>
          </a:xfrm>
        </p:grpSpPr>
        <p:grpSp>
          <p:nvGrpSpPr>
            <p:cNvPr id="962" name=""/>
            <p:cNvGrpSpPr/>
            <p:nvPr/>
          </p:nvGrpSpPr>
          <p:grpSpPr>
            <a:xfrm>
              <a:off x="5334120" y="3505320"/>
              <a:ext cx="3519360" cy="2833200"/>
              <a:chOff x="5334120" y="3505320"/>
              <a:chExt cx="3519360" cy="2833200"/>
            </a:xfrm>
          </p:grpSpPr>
          <p:grpSp>
            <p:nvGrpSpPr>
              <p:cNvPr id="963" name=""/>
              <p:cNvGrpSpPr/>
              <p:nvPr/>
            </p:nvGrpSpPr>
            <p:grpSpPr>
              <a:xfrm>
                <a:off x="5334120" y="3505320"/>
                <a:ext cx="3519360" cy="2833200"/>
                <a:chOff x="5334120" y="3505320"/>
                <a:chExt cx="3519360" cy="2833200"/>
              </a:xfrm>
            </p:grpSpPr>
            <p:grpSp>
              <p:nvGrpSpPr>
                <p:cNvPr id="964" name=""/>
                <p:cNvGrpSpPr/>
                <p:nvPr/>
              </p:nvGrpSpPr>
              <p:grpSpPr>
                <a:xfrm>
                  <a:off x="6567480" y="5797440"/>
                  <a:ext cx="533160" cy="306360"/>
                  <a:chOff x="6567480" y="5797440"/>
                  <a:chExt cx="533160" cy="306360"/>
                </a:xfrm>
              </p:grpSpPr>
              <p:sp>
                <p:nvSpPr>
                  <p:cNvPr id="965" name=""/>
                  <p:cNvSpPr/>
                  <p:nvPr/>
                </p:nvSpPr>
                <p:spPr>
                  <a:xfrm>
                    <a:off x="6567480" y="5797440"/>
                    <a:ext cx="533160" cy="304560"/>
                  </a:xfrm>
                  <a:prstGeom prst="rec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6643440" y="5857560"/>
                    <a:ext cx="381240" cy="246240"/>
                  </a:xfrm>
                  <a:prstGeom prst="rect">
                    <a:avLst/>
                  </a:prstGeom>
                  <a:solidFill>
                    <a:srgbClr val="cc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KB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7" name=""/>
                <p:cNvGrpSpPr/>
                <p:nvPr/>
              </p:nvGrpSpPr>
              <p:grpSpPr>
                <a:xfrm>
                  <a:off x="7802640" y="4500360"/>
                  <a:ext cx="1050840" cy="861120"/>
                  <a:chOff x="7802640" y="4500360"/>
                  <a:chExt cx="1050840" cy="861120"/>
                </a:xfrm>
              </p:grpSpPr>
              <p:sp>
                <p:nvSpPr>
                  <p:cNvPr id="968" name=""/>
                  <p:cNvSpPr/>
                  <p:nvPr/>
                </p:nvSpPr>
                <p:spPr>
                  <a:xfrm>
                    <a:off x="7802640" y="5115240"/>
                    <a:ext cx="1050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000000"/>
                        </a:solidFill>
                        <a:latin typeface="Arial"/>
                      </a:rPr>
                      <a:t>Web Service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69" name=""/>
                  <p:cNvGrpSpPr/>
                  <p:nvPr/>
                </p:nvGrpSpPr>
                <p:grpSpPr>
                  <a:xfrm>
                    <a:off x="8052840" y="4500360"/>
                    <a:ext cx="600120" cy="586080"/>
                    <a:chOff x="8052840" y="4500360"/>
                    <a:chExt cx="600120" cy="586080"/>
                  </a:xfrm>
                </p:grpSpPr>
                <p:grpSp>
                  <p:nvGrpSpPr>
                    <p:cNvPr id="970" name=""/>
                    <p:cNvGrpSpPr/>
                    <p:nvPr/>
                  </p:nvGrpSpPr>
                  <p:grpSpPr>
                    <a:xfrm>
                      <a:off x="8301240" y="4500360"/>
                      <a:ext cx="144720" cy="146520"/>
                      <a:chOff x="8301240" y="4500360"/>
                      <a:chExt cx="144720" cy="146520"/>
                    </a:xfrm>
                  </p:grpSpPr>
                  <p:sp>
                    <p:nvSpPr>
                      <p:cNvPr id="971" name=""/>
                      <p:cNvSpPr/>
                      <p:nvPr/>
                    </p:nvSpPr>
                    <p:spPr>
                      <a:xfrm>
                        <a:off x="8301240" y="4500360"/>
                        <a:ext cx="144720" cy="146520"/>
                      </a:xfrm>
                      <a:prstGeom prst="flowChartMultidocument">
                        <a:avLst/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2" name=""/>
                      <p:cNvSpPr/>
                      <p:nvPr/>
                    </p:nvSpPr>
                    <p:spPr>
                      <a:xfrm>
                        <a:off x="8321760" y="455508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3" name=""/>
                      <p:cNvSpPr/>
                      <p:nvPr/>
                    </p:nvSpPr>
                    <p:spPr>
                      <a:xfrm>
                        <a:off x="8342640" y="455508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4" name=""/>
                      <p:cNvSpPr/>
                      <p:nvPr/>
                    </p:nvSpPr>
                    <p:spPr>
                      <a:xfrm>
                        <a:off x="8321760" y="457344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5" name=""/>
                      <p:cNvSpPr/>
                      <p:nvPr/>
                    </p:nvSpPr>
                    <p:spPr>
                      <a:xfrm>
                        <a:off x="8342640" y="457344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6" name=""/>
                      <p:cNvSpPr/>
                      <p:nvPr/>
                    </p:nvSpPr>
                    <p:spPr>
                      <a:xfrm>
                        <a:off x="8363160" y="457344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7" name=""/>
                      <p:cNvSpPr/>
                      <p:nvPr/>
                    </p:nvSpPr>
                    <p:spPr>
                      <a:xfrm>
                        <a:off x="8342640" y="459180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78" name=""/>
                    <p:cNvGrpSpPr/>
                    <p:nvPr/>
                  </p:nvGrpSpPr>
                  <p:grpSpPr>
                    <a:xfrm>
                      <a:off x="8094240" y="4939920"/>
                      <a:ext cx="144720" cy="146520"/>
                      <a:chOff x="8094240" y="4939920"/>
                      <a:chExt cx="144720" cy="146520"/>
                    </a:xfrm>
                  </p:grpSpPr>
                  <p:sp>
                    <p:nvSpPr>
                      <p:cNvPr id="979" name=""/>
                      <p:cNvSpPr/>
                      <p:nvPr/>
                    </p:nvSpPr>
                    <p:spPr>
                      <a:xfrm>
                        <a:off x="8094240" y="4939920"/>
                        <a:ext cx="144720" cy="146520"/>
                      </a:xfrm>
                      <a:prstGeom prst="flowChartMultidocument">
                        <a:avLst/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0" name=""/>
                      <p:cNvSpPr/>
                      <p:nvPr/>
                    </p:nvSpPr>
                    <p:spPr>
                      <a:xfrm>
                        <a:off x="8114760" y="499464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1" name=""/>
                      <p:cNvSpPr/>
                      <p:nvPr/>
                    </p:nvSpPr>
                    <p:spPr>
                      <a:xfrm>
                        <a:off x="8135640" y="499464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2" name=""/>
                      <p:cNvSpPr/>
                      <p:nvPr/>
                    </p:nvSpPr>
                    <p:spPr>
                      <a:xfrm>
                        <a:off x="8114760" y="501300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3" name=""/>
                      <p:cNvSpPr/>
                      <p:nvPr/>
                    </p:nvSpPr>
                    <p:spPr>
                      <a:xfrm>
                        <a:off x="8135640" y="501300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4" name=""/>
                      <p:cNvSpPr/>
                      <p:nvPr/>
                    </p:nvSpPr>
                    <p:spPr>
                      <a:xfrm>
                        <a:off x="8156160" y="501300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5" name=""/>
                      <p:cNvSpPr/>
                      <p:nvPr/>
                    </p:nvSpPr>
                    <p:spPr>
                      <a:xfrm>
                        <a:off x="8135640" y="503136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86" name=""/>
                    <p:cNvGrpSpPr/>
                    <p:nvPr/>
                  </p:nvGrpSpPr>
                  <p:grpSpPr>
                    <a:xfrm>
                      <a:off x="8052840" y="4665240"/>
                      <a:ext cx="144720" cy="146520"/>
                      <a:chOff x="8052840" y="4665240"/>
                      <a:chExt cx="144720" cy="146520"/>
                    </a:xfrm>
                  </p:grpSpPr>
                  <p:sp>
                    <p:nvSpPr>
                      <p:cNvPr id="987" name=""/>
                      <p:cNvSpPr/>
                      <p:nvPr/>
                    </p:nvSpPr>
                    <p:spPr>
                      <a:xfrm>
                        <a:off x="8052840" y="4665240"/>
                        <a:ext cx="144720" cy="146520"/>
                      </a:xfrm>
                      <a:prstGeom prst="flowChartMultidocument">
                        <a:avLst/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8" name=""/>
                      <p:cNvSpPr/>
                      <p:nvPr/>
                    </p:nvSpPr>
                    <p:spPr>
                      <a:xfrm>
                        <a:off x="8073360" y="471996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9" name=""/>
                      <p:cNvSpPr/>
                      <p:nvPr/>
                    </p:nvSpPr>
                    <p:spPr>
                      <a:xfrm>
                        <a:off x="8094240" y="471996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0" name=""/>
                      <p:cNvSpPr/>
                      <p:nvPr/>
                    </p:nvSpPr>
                    <p:spPr>
                      <a:xfrm>
                        <a:off x="8073360" y="473832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1" name=""/>
                      <p:cNvSpPr/>
                      <p:nvPr/>
                    </p:nvSpPr>
                    <p:spPr>
                      <a:xfrm>
                        <a:off x="8094240" y="473832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2" name=""/>
                      <p:cNvSpPr/>
                      <p:nvPr/>
                    </p:nvSpPr>
                    <p:spPr>
                      <a:xfrm>
                        <a:off x="8114760" y="473832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3" name=""/>
                      <p:cNvSpPr/>
                      <p:nvPr/>
                    </p:nvSpPr>
                    <p:spPr>
                      <a:xfrm>
                        <a:off x="8094240" y="475668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94" name=""/>
                    <p:cNvGrpSpPr/>
                    <p:nvPr/>
                  </p:nvGrpSpPr>
                  <p:grpSpPr>
                    <a:xfrm>
                      <a:off x="8446320" y="4939920"/>
                      <a:ext cx="144720" cy="146520"/>
                      <a:chOff x="8446320" y="4939920"/>
                      <a:chExt cx="144720" cy="146520"/>
                    </a:xfrm>
                  </p:grpSpPr>
                  <p:sp>
                    <p:nvSpPr>
                      <p:cNvPr id="995" name=""/>
                      <p:cNvSpPr/>
                      <p:nvPr/>
                    </p:nvSpPr>
                    <p:spPr>
                      <a:xfrm>
                        <a:off x="8446320" y="4939920"/>
                        <a:ext cx="144720" cy="146520"/>
                      </a:xfrm>
                      <a:prstGeom prst="flowChartMultidocument">
                        <a:avLst/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6" name=""/>
                      <p:cNvSpPr/>
                      <p:nvPr/>
                    </p:nvSpPr>
                    <p:spPr>
                      <a:xfrm>
                        <a:off x="8466840" y="499464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7" name=""/>
                      <p:cNvSpPr/>
                      <p:nvPr/>
                    </p:nvSpPr>
                    <p:spPr>
                      <a:xfrm>
                        <a:off x="8487720" y="499464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8" name=""/>
                      <p:cNvSpPr/>
                      <p:nvPr/>
                    </p:nvSpPr>
                    <p:spPr>
                      <a:xfrm>
                        <a:off x="8466840" y="501300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9" name=""/>
                      <p:cNvSpPr/>
                      <p:nvPr/>
                    </p:nvSpPr>
                    <p:spPr>
                      <a:xfrm>
                        <a:off x="8487720" y="501300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0" name=""/>
                      <p:cNvSpPr/>
                      <p:nvPr/>
                    </p:nvSpPr>
                    <p:spPr>
                      <a:xfrm>
                        <a:off x="8508240" y="501300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1" name=""/>
                      <p:cNvSpPr/>
                      <p:nvPr/>
                    </p:nvSpPr>
                    <p:spPr>
                      <a:xfrm>
                        <a:off x="8487720" y="503136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02" name=""/>
                    <p:cNvGrpSpPr/>
                    <p:nvPr/>
                  </p:nvGrpSpPr>
                  <p:grpSpPr>
                    <a:xfrm>
                      <a:off x="8301240" y="4756680"/>
                      <a:ext cx="144720" cy="146520"/>
                      <a:chOff x="8301240" y="4756680"/>
                      <a:chExt cx="144720" cy="146520"/>
                    </a:xfrm>
                  </p:grpSpPr>
                  <p:sp>
                    <p:nvSpPr>
                      <p:cNvPr id="1003" name=""/>
                      <p:cNvSpPr/>
                      <p:nvPr/>
                    </p:nvSpPr>
                    <p:spPr>
                      <a:xfrm>
                        <a:off x="8301240" y="4756680"/>
                        <a:ext cx="144720" cy="146520"/>
                      </a:xfrm>
                      <a:prstGeom prst="flowChartMultidocument">
                        <a:avLst/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4" name=""/>
                      <p:cNvSpPr/>
                      <p:nvPr/>
                    </p:nvSpPr>
                    <p:spPr>
                      <a:xfrm>
                        <a:off x="8321760" y="481140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5" name=""/>
                      <p:cNvSpPr/>
                      <p:nvPr/>
                    </p:nvSpPr>
                    <p:spPr>
                      <a:xfrm>
                        <a:off x="8342640" y="481140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6" name=""/>
                      <p:cNvSpPr/>
                      <p:nvPr/>
                    </p:nvSpPr>
                    <p:spPr>
                      <a:xfrm>
                        <a:off x="8321760" y="482976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7" name=""/>
                      <p:cNvSpPr/>
                      <p:nvPr/>
                    </p:nvSpPr>
                    <p:spPr>
                      <a:xfrm>
                        <a:off x="8342640" y="482976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8" name=""/>
                      <p:cNvSpPr/>
                      <p:nvPr/>
                    </p:nvSpPr>
                    <p:spPr>
                      <a:xfrm>
                        <a:off x="8363160" y="482976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9" name=""/>
                      <p:cNvSpPr/>
                      <p:nvPr/>
                    </p:nvSpPr>
                    <p:spPr>
                      <a:xfrm>
                        <a:off x="8342640" y="484812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10" name=""/>
                    <p:cNvGrpSpPr/>
                    <p:nvPr/>
                  </p:nvGrpSpPr>
                  <p:grpSpPr>
                    <a:xfrm>
                      <a:off x="8508240" y="4665240"/>
                      <a:ext cx="144720" cy="146520"/>
                      <a:chOff x="8508240" y="4665240"/>
                      <a:chExt cx="144720" cy="146520"/>
                    </a:xfrm>
                  </p:grpSpPr>
                  <p:sp>
                    <p:nvSpPr>
                      <p:cNvPr id="1011" name=""/>
                      <p:cNvSpPr/>
                      <p:nvPr/>
                    </p:nvSpPr>
                    <p:spPr>
                      <a:xfrm>
                        <a:off x="8508240" y="4665240"/>
                        <a:ext cx="144720" cy="146520"/>
                      </a:xfrm>
                      <a:prstGeom prst="flowChartMultidocument">
                        <a:avLst/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2" name=""/>
                      <p:cNvSpPr/>
                      <p:nvPr/>
                    </p:nvSpPr>
                    <p:spPr>
                      <a:xfrm>
                        <a:off x="8528760" y="471996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3" name=""/>
                      <p:cNvSpPr/>
                      <p:nvPr/>
                    </p:nvSpPr>
                    <p:spPr>
                      <a:xfrm>
                        <a:off x="8549640" y="471996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4" name=""/>
                      <p:cNvSpPr/>
                      <p:nvPr/>
                    </p:nvSpPr>
                    <p:spPr>
                      <a:xfrm>
                        <a:off x="8528760" y="473832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5" name=""/>
                      <p:cNvSpPr/>
                      <p:nvPr/>
                    </p:nvSpPr>
                    <p:spPr>
                      <a:xfrm>
                        <a:off x="8549640" y="473832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6" name=""/>
                      <p:cNvSpPr/>
                      <p:nvPr/>
                    </p:nvSpPr>
                    <p:spPr>
                      <a:xfrm>
                        <a:off x="8570160" y="473832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7" name=""/>
                      <p:cNvSpPr/>
                      <p:nvPr/>
                    </p:nvSpPr>
                    <p:spPr>
                      <a:xfrm>
                        <a:off x="8549640" y="475668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18" name=""/>
                    <p:cNvSpPr/>
                    <p:nvPr/>
                  </p:nvSpPr>
                  <p:spPr>
                    <a:xfrm flipH="1" flipV="1">
                      <a:off x="8135280" y="4793400"/>
                      <a:ext cx="41400" cy="164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9" name=""/>
                    <p:cNvSpPr/>
                    <p:nvPr/>
                  </p:nvSpPr>
                  <p:spPr>
                    <a:xfrm flipV="1">
                      <a:off x="8177040" y="4609800"/>
                      <a:ext cx="124200" cy="73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 flipH="1">
                      <a:off x="8197560" y="4646880"/>
                      <a:ext cx="144720" cy="311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 flipH="1" flipV="1">
                      <a:off x="8197200" y="4738320"/>
                      <a:ext cx="186120" cy="18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2" name=""/>
                    <p:cNvSpPr/>
                    <p:nvPr/>
                  </p:nvSpPr>
                  <p:spPr>
                    <a:xfrm flipV="1">
                      <a:off x="8446320" y="4756320"/>
                      <a:ext cx="61920" cy="73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3" name=""/>
                    <p:cNvSpPr/>
                    <p:nvPr/>
                  </p:nvSpPr>
                  <p:spPr>
                    <a:xfrm flipH="1" flipV="1">
                      <a:off x="8446320" y="4610160"/>
                      <a:ext cx="61920" cy="91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4" name=""/>
                    <p:cNvSpPr/>
                    <p:nvPr/>
                  </p:nvSpPr>
                  <p:spPr>
                    <a:xfrm flipH="1">
                      <a:off x="8135640" y="4555080"/>
                      <a:ext cx="165600" cy="109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5" name=""/>
                    <p:cNvSpPr/>
                    <p:nvPr/>
                  </p:nvSpPr>
                  <p:spPr>
                    <a:xfrm flipH="1" flipV="1">
                      <a:off x="8384040" y="4884480"/>
                      <a:ext cx="61920" cy="109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6" name=""/>
                    <p:cNvSpPr/>
                    <p:nvPr/>
                  </p:nvSpPr>
                  <p:spPr>
                    <a:xfrm>
                      <a:off x="8238960" y="4995000"/>
                      <a:ext cx="207000" cy="18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7" name=""/>
                    <p:cNvSpPr/>
                    <p:nvPr/>
                  </p:nvSpPr>
                  <p:spPr>
                    <a:xfrm flipH="1">
                      <a:off x="8528760" y="4811760"/>
                      <a:ext cx="20520" cy="128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28" name=""/>
                <p:cNvSpPr/>
                <p:nvPr/>
              </p:nvSpPr>
              <p:spPr>
                <a:xfrm flipV="1">
                  <a:off x="6842160" y="5105160"/>
                  <a:ext cx="182520" cy="3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7207200" y="5105160"/>
                  <a:ext cx="0" cy="36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 flipH="1" flipV="1">
                  <a:off x="7435800" y="5105160"/>
                  <a:ext cx="184320" cy="3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 flipV="1">
                  <a:off x="7207200" y="4419360"/>
                  <a:ext cx="0" cy="27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3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654520" y="5699160"/>
                  <a:ext cx="522360" cy="63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7893000" y="4419360"/>
                  <a:ext cx="184320" cy="18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4" name=""/>
                <p:cNvGrpSpPr/>
                <p:nvPr/>
              </p:nvGrpSpPr>
              <p:grpSpPr>
                <a:xfrm>
                  <a:off x="6523200" y="5516280"/>
                  <a:ext cx="318960" cy="318960"/>
                  <a:chOff x="6523200" y="5516280"/>
                  <a:chExt cx="318960" cy="318960"/>
                </a:xfrm>
              </p:grpSpPr>
              <p:grpSp>
                <p:nvGrpSpPr>
                  <p:cNvPr id="1035" name=""/>
                  <p:cNvGrpSpPr/>
                  <p:nvPr/>
                </p:nvGrpSpPr>
                <p:grpSpPr>
                  <a:xfrm>
                    <a:off x="6542640" y="5698440"/>
                    <a:ext cx="280440" cy="136800"/>
                    <a:chOff x="6542640" y="5698440"/>
                    <a:chExt cx="280440" cy="136800"/>
                  </a:xfrm>
                </p:grpSpPr>
                <p:sp>
                  <p:nvSpPr>
                    <p:cNvPr id="1036" name=""/>
                    <p:cNvSpPr/>
                    <p:nvPr/>
                  </p:nvSpPr>
                  <p:spPr>
                    <a:xfrm flipH="1">
                      <a:off x="6542640" y="5698440"/>
                      <a:ext cx="119880" cy="136800"/>
                    </a:xfrm>
                    <a:prstGeom prst="line">
                      <a:avLst/>
                    </a:prstGeom>
                    <a:ln w="76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>
                      <a:off x="6703200" y="5698440"/>
                      <a:ext cx="119880" cy="136800"/>
                    </a:xfrm>
                    <a:prstGeom prst="line">
                      <a:avLst/>
                    </a:prstGeom>
                    <a:ln w="76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8" name=""/>
                  <p:cNvSpPr/>
                  <p:nvPr/>
                </p:nvSpPr>
                <p:spPr>
                  <a:xfrm flipV="1">
                    <a:off x="6523200" y="5516280"/>
                    <a:ext cx="318960" cy="273600"/>
                  </a:xfrm>
                  <a:custGeom>
                    <a:avLst/>
                    <a:gdLst>
                      <a:gd name="textAreaLeft" fmla="*/ 70200 w 318960"/>
                      <a:gd name="textAreaRight" fmla="*/ 248760 w 318960"/>
                      <a:gd name="textAreaTop" fmla="*/ 60120 h 273600"/>
                      <a:gd name="textAreaBottom" fmla="*/ 213480 h 273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9900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6623280" y="5561640"/>
                    <a:ext cx="3996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0" bIns="-14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6703200" y="5561640"/>
                    <a:ext cx="3996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0" bIns="-14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6623280" y="5630040"/>
                    <a:ext cx="11988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48">
                        <a:moveTo>
                          <a:pt x="0" y="0"/>
                        </a:moveTo>
                        <a:cubicBezTo>
                          <a:pt x="48" y="24"/>
                          <a:pt x="96" y="48"/>
                          <a:pt x="144" y="48"/>
                        </a:cubicBezTo>
                        <a:cubicBezTo>
                          <a:pt x="192" y="48"/>
                          <a:pt x="264" y="8"/>
                          <a:pt x="288" y="0"/>
                        </a:cubicBezTo>
                      </a:path>
                    </a:pathLst>
                  </a:custGeom>
                  <a:solidFill>
                    <a:srgbClr val="990099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42" name=""/>
                <p:cNvSpPr/>
                <p:nvPr/>
              </p:nvSpPr>
              <p:spPr>
                <a:xfrm>
                  <a:off x="6178680" y="3505320"/>
                  <a:ext cx="2058840" cy="867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7024680" y="3779640"/>
                  <a:ext cx="320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4" name=""/>
                <p:cNvGrpSpPr/>
                <p:nvPr/>
              </p:nvGrpSpPr>
              <p:grpSpPr>
                <a:xfrm>
                  <a:off x="7299360" y="3560760"/>
                  <a:ext cx="960480" cy="856440"/>
                  <a:chOff x="7299360" y="3560760"/>
                  <a:chExt cx="960480" cy="856440"/>
                </a:xfrm>
              </p:grpSpPr>
              <p:sp>
                <p:nvSpPr>
                  <p:cNvPr id="1045" name=""/>
                  <p:cNvSpPr/>
                  <p:nvPr/>
                </p:nvSpPr>
                <p:spPr>
                  <a:xfrm>
                    <a:off x="7299360" y="4018680"/>
                    <a:ext cx="96048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ervice Ontologie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46" name=""/>
                  <p:cNvGrpSpPr/>
                  <p:nvPr/>
                </p:nvGrpSpPr>
                <p:grpSpPr>
                  <a:xfrm>
                    <a:off x="7504200" y="3560760"/>
                    <a:ext cx="549720" cy="468720"/>
                    <a:chOff x="7504200" y="3560760"/>
                    <a:chExt cx="549720" cy="468720"/>
                  </a:xfrm>
                </p:grpSpPr>
                <p:grpSp>
                  <p:nvGrpSpPr>
                    <p:cNvPr id="1047" name=""/>
                    <p:cNvGrpSpPr/>
                    <p:nvPr/>
                  </p:nvGrpSpPr>
                  <p:grpSpPr>
                    <a:xfrm>
                      <a:off x="7641360" y="3560760"/>
                      <a:ext cx="412560" cy="430200"/>
                      <a:chOff x="7641360" y="3560760"/>
                      <a:chExt cx="412560" cy="430200"/>
                    </a:xfrm>
                  </p:grpSpPr>
                  <p:sp>
                    <p:nvSpPr>
                      <p:cNvPr id="1048" name=""/>
                      <p:cNvSpPr/>
                      <p:nvPr/>
                    </p:nvSpPr>
                    <p:spPr>
                      <a:xfrm>
                        <a:off x="7641360" y="3560760"/>
                        <a:ext cx="412560" cy="4302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49" name=""/>
                      <p:cNvGrpSpPr/>
                      <p:nvPr/>
                    </p:nvGrpSpPr>
                    <p:grpSpPr>
                      <a:xfrm>
                        <a:off x="7696440" y="3591000"/>
                        <a:ext cx="274320" cy="321120"/>
                        <a:chOff x="7696440" y="3591000"/>
                        <a:chExt cx="274320" cy="321120"/>
                      </a:xfrm>
                    </p:grpSpPr>
                    <p:sp>
                      <p:nvSpPr>
                        <p:cNvPr id="1050" name=""/>
                        <p:cNvSpPr/>
                        <p:nvPr/>
                      </p:nvSpPr>
                      <p:spPr>
                        <a:xfrm>
                          <a:off x="7913160" y="3858120"/>
                          <a:ext cx="54720" cy="5400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1" name=""/>
                        <p:cNvSpPr/>
                        <p:nvPr/>
                      </p:nvSpPr>
                      <p:spPr>
                        <a:xfrm flipH="1" flipV="1">
                          <a:off x="7833600" y="3673080"/>
                          <a:ext cx="27360" cy="136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2" name=""/>
                        <p:cNvSpPr/>
                        <p:nvPr/>
                      </p:nvSpPr>
                      <p:spPr>
                        <a:xfrm>
                          <a:off x="7860960" y="3782880"/>
                          <a:ext cx="820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3" name=""/>
                        <p:cNvSpPr/>
                        <p:nvPr/>
                      </p:nvSpPr>
                      <p:spPr>
                        <a:xfrm>
                          <a:off x="7833600" y="3782880"/>
                          <a:ext cx="100440" cy="9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4" name=""/>
                        <p:cNvSpPr/>
                        <p:nvPr/>
                      </p:nvSpPr>
                      <p:spPr>
                        <a:xfrm flipH="1">
                          <a:off x="7723440" y="3782880"/>
                          <a:ext cx="109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5" name=""/>
                        <p:cNvSpPr/>
                        <p:nvPr/>
                      </p:nvSpPr>
                      <p:spPr>
                        <a:xfrm flipV="1">
                          <a:off x="7806240" y="3618360"/>
                          <a:ext cx="109800" cy="54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920" bIns="7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6" name=""/>
                        <p:cNvSpPr/>
                        <p:nvPr/>
                      </p:nvSpPr>
                      <p:spPr>
                        <a:xfrm flipH="1" flipV="1">
                          <a:off x="7778520" y="3591000"/>
                          <a:ext cx="54720" cy="82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5280" bIns="35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7" name=""/>
                        <p:cNvSpPr/>
                        <p:nvPr/>
                      </p:nvSpPr>
                      <p:spPr>
                        <a:xfrm flipH="1">
                          <a:off x="7778520" y="3673080"/>
                          <a:ext cx="547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8" name=""/>
                        <p:cNvSpPr/>
                        <p:nvPr/>
                      </p:nvSpPr>
                      <p:spPr>
                        <a:xfrm>
                          <a:off x="7806240" y="3755160"/>
                          <a:ext cx="82080" cy="8208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1520" bIns="11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9" name=""/>
                        <p:cNvSpPr/>
                        <p:nvPr/>
                      </p:nvSpPr>
                      <p:spPr>
                        <a:xfrm>
                          <a:off x="7696440" y="3755160"/>
                          <a:ext cx="54720" cy="54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7920" bIns="-7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0" name=""/>
                        <p:cNvSpPr/>
                        <p:nvPr/>
                      </p:nvSpPr>
                      <p:spPr>
                        <a:xfrm>
                          <a:off x="7916040" y="3755160"/>
                          <a:ext cx="54720" cy="54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7920" bIns="-7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1" name=""/>
                        <p:cNvSpPr/>
                        <p:nvPr/>
                      </p:nvSpPr>
                      <p:spPr>
                        <a:xfrm>
                          <a:off x="7806240" y="3645720"/>
                          <a:ext cx="54720" cy="54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7920" bIns="-7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2" name=""/>
                        <p:cNvSpPr/>
                        <p:nvPr/>
                      </p:nvSpPr>
                      <p:spPr>
                        <a:xfrm>
                          <a:off x="7888680" y="3618360"/>
                          <a:ext cx="27360" cy="27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3" name=""/>
                        <p:cNvSpPr/>
                        <p:nvPr/>
                      </p:nvSpPr>
                      <p:spPr>
                        <a:xfrm>
                          <a:off x="7751160" y="3645720"/>
                          <a:ext cx="27360" cy="27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4" name=""/>
                        <p:cNvSpPr/>
                        <p:nvPr/>
                      </p:nvSpPr>
                      <p:spPr>
                        <a:xfrm>
                          <a:off x="7778520" y="3591000"/>
                          <a:ext cx="27360" cy="27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65" name=""/>
                    <p:cNvGrpSpPr/>
                    <p:nvPr/>
                  </p:nvGrpSpPr>
                  <p:grpSpPr>
                    <a:xfrm>
                      <a:off x="7504200" y="3599640"/>
                      <a:ext cx="412560" cy="429840"/>
                      <a:chOff x="7504200" y="3599640"/>
                      <a:chExt cx="412560" cy="429840"/>
                    </a:xfrm>
                  </p:grpSpPr>
                  <p:sp>
                    <p:nvSpPr>
                      <p:cNvPr id="1066" name=""/>
                      <p:cNvSpPr/>
                      <p:nvPr/>
                    </p:nvSpPr>
                    <p:spPr>
                      <a:xfrm>
                        <a:off x="7504200" y="3599640"/>
                        <a:ext cx="412560" cy="4298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67" name=""/>
                      <p:cNvGrpSpPr/>
                      <p:nvPr/>
                    </p:nvGrpSpPr>
                    <p:grpSpPr>
                      <a:xfrm>
                        <a:off x="7559280" y="3629880"/>
                        <a:ext cx="274320" cy="320760"/>
                        <a:chOff x="7559280" y="3629880"/>
                        <a:chExt cx="274320" cy="320760"/>
                      </a:xfrm>
                    </p:grpSpPr>
                    <p:sp>
                      <p:nvSpPr>
                        <p:cNvPr id="1068" name=""/>
                        <p:cNvSpPr/>
                        <p:nvPr/>
                      </p:nvSpPr>
                      <p:spPr>
                        <a:xfrm>
                          <a:off x="7776000" y="3896640"/>
                          <a:ext cx="54720" cy="5400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9" name=""/>
                        <p:cNvSpPr/>
                        <p:nvPr/>
                      </p:nvSpPr>
                      <p:spPr>
                        <a:xfrm flipH="1" flipV="1">
                          <a:off x="7696440" y="3711960"/>
                          <a:ext cx="27360" cy="136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0" name=""/>
                        <p:cNvSpPr/>
                        <p:nvPr/>
                      </p:nvSpPr>
                      <p:spPr>
                        <a:xfrm>
                          <a:off x="7723800" y="3821400"/>
                          <a:ext cx="820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1" name=""/>
                        <p:cNvSpPr/>
                        <p:nvPr/>
                      </p:nvSpPr>
                      <p:spPr>
                        <a:xfrm>
                          <a:off x="7696440" y="3821400"/>
                          <a:ext cx="100440" cy="9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2" name=""/>
                        <p:cNvSpPr/>
                        <p:nvPr/>
                      </p:nvSpPr>
                      <p:spPr>
                        <a:xfrm flipH="1">
                          <a:off x="7586280" y="3821400"/>
                          <a:ext cx="109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3" name=""/>
                        <p:cNvSpPr/>
                        <p:nvPr/>
                      </p:nvSpPr>
                      <p:spPr>
                        <a:xfrm flipV="1">
                          <a:off x="7669080" y="3657240"/>
                          <a:ext cx="109800" cy="54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920" bIns="7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4" name=""/>
                        <p:cNvSpPr/>
                        <p:nvPr/>
                      </p:nvSpPr>
                      <p:spPr>
                        <a:xfrm flipH="1" flipV="1">
                          <a:off x="7641360" y="3629880"/>
                          <a:ext cx="54720" cy="82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5280" bIns="35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5" name=""/>
                        <p:cNvSpPr/>
                        <p:nvPr/>
                      </p:nvSpPr>
                      <p:spPr>
                        <a:xfrm flipH="1">
                          <a:off x="7641360" y="3711960"/>
                          <a:ext cx="547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6" name=""/>
                        <p:cNvSpPr/>
                        <p:nvPr/>
                      </p:nvSpPr>
                      <p:spPr>
                        <a:xfrm>
                          <a:off x="7669080" y="3794040"/>
                          <a:ext cx="82080" cy="8208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1520" bIns="11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7" name=""/>
                        <p:cNvSpPr/>
                        <p:nvPr/>
                      </p:nvSpPr>
                      <p:spPr>
                        <a:xfrm>
                          <a:off x="7559280" y="3794040"/>
                          <a:ext cx="54720" cy="54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7920" bIns="-7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8" name=""/>
                        <p:cNvSpPr/>
                        <p:nvPr/>
                      </p:nvSpPr>
                      <p:spPr>
                        <a:xfrm>
                          <a:off x="7778880" y="3794040"/>
                          <a:ext cx="54720" cy="54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7920" bIns="-7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9" name=""/>
                        <p:cNvSpPr/>
                        <p:nvPr/>
                      </p:nvSpPr>
                      <p:spPr>
                        <a:xfrm>
                          <a:off x="7669080" y="3684600"/>
                          <a:ext cx="54720" cy="54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280" bIns="-8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0" name=""/>
                        <p:cNvSpPr/>
                        <p:nvPr/>
                      </p:nvSpPr>
                      <p:spPr>
                        <a:xfrm>
                          <a:off x="7751520" y="3657240"/>
                          <a:ext cx="27360" cy="27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1" name=""/>
                        <p:cNvSpPr/>
                        <p:nvPr/>
                      </p:nvSpPr>
                      <p:spPr>
                        <a:xfrm>
                          <a:off x="7614000" y="3684600"/>
                          <a:ext cx="27360" cy="27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2" name=""/>
                        <p:cNvSpPr/>
                        <p:nvPr/>
                      </p:nvSpPr>
                      <p:spPr>
                        <a:xfrm>
                          <a:off x="7641360" y="3629880"/>
                          <a:ext cx="27360" cy="27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083" name=""/>
                <p:cNvGrpSpPr/>
                <p:nvPr/>
              </p:nvGrpSpPr>
              <p:grpSpPr>
                <a:xfrm>
                  <a:off x="6156360" y="3560760"/>
                  <a:ext cx="960480" cy="856080"/>
                  <a:chOff x="6156360" y="3560760"/>
                  <a:chExt cx="960480" cy="856080"/>
                </a:xfrm>
              </p:grpSpPr>
              <p:sp>
                <p:nvSpPr>
                  <p:cNvPr id="1084" name=""/>
                  <p:cNvSpPr/>
                  <p:nvPr/>
                </p:nvSpPr>
                <p:spPr>
                  <a:xfrm>
                    <a:off x="6156360" y="4018320"/>
                    <a:ext cx="96048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cedures Ontologie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5" name=""/>
                  <p:cNvGrpSpPr/>
                  <p:nvPr/>
                </p:nvGrpSpPr>
                <p:grpSpPr>
                  <a:xfrm>
                    <a:off x="6361200" y="3560760"/>
                    <a:ext cx="549720" cy="468720"/>
                    <a:chOff x="6361200" y="3560760"/>
                    <a:chExt cx="549720" cy="468720"/>
                  </a:xfrm>
                </p:grpSpPr>
                <p:grpSp>
                  <p:nvGrpSpPr>
                    <p:cNvPr id="1086" name=""/>
                    <p:cNvGrpSpPr/>
                    <p:nvPr/>
                  </p:nvGrpSpPr>
                  <p:grpSpPr>
                    <a:xfrm>
                      <a:off x="6498360" y="3560760"/>
                      <a:ext cx="412560" cy="430200"/>
                      <a:chOff x="6498360" y="3560760"/>
                      <a:chExt cx="412560" cy="430200"/>
                    </a:xfrm>
                  </p:grpSpPr>
                  <p:sp>
                    <p:nvSpPr>
                      <p:cNvPr id="1087" name=""/>
                      <p:cNvSpPr/>
                      <p:nvPr/>
                    </p:nvSpPr>
                    <p:spPr>
                      <a:xfrm>
                        <a:off x="6498360" y="3560760"/>
                        <a:ext cx="412560" cy="4302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88" name=""/>
                      <p:cNvGrpSpPr/>
                      <p:nvPr/>
                    </p:nvGrpSpPr>
                    <p:grpSpPr>
                      <a:xfrm>
                        <a:off x="6553440" y="3591000"/>
                        <a:ext cx="274320" cy="321120"/>
                        <a:chOff x="6553440" y="3591000"/>
                        <a:chExt cx="274320" cy="321120"/>
                      </a:xfrm>
                    </p:grpSpPr>
                    <p:sp>
                      <p:nvSpPr>
                        <p:cNvPr id="1089" name=""/>
                        <p:cNvSpPr/>
                        <p:nvPr/>
                      </p:nvSpPr>
                      <p:spPr>
                        <a:xfrm>
                          <a:off x="6770160" y="3858120"/>
                          <a:ext cx="54720" cy="5400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0" name=""/>
                        <p:cNvSpPr/>
                        <p:nvPr/>
                      </p:nvSpPr>
                      <p:spPr>
                        <a:xfrm flipH="1" flipV="1">
                          <a:off x="6690600" y="3673080"/>
                          <a:ext cx="27360" cy="136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1" name=""/>
                        <p:cNvSpPr/>
                        <p:nvPr/>
                      </p:nvSpPr>
                      <p:spPr>
                        <a:xfrm>
                          <a:off x="6717960" y="3782880"/>
                          <a:ext cx="820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2" name=""/>
                        <p:cNvSpPr/>
                        <p:nvPr/>
                      </p:nvSpPr>
                      <p:spPr>
                        <a:xfrm>
                          <a:off x="6690600" y="3782880"/>
                          <a:ext cx="100440" cy="9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3" name=""/>
                        <p:cNvSpPr/>
                        <p:nvPr/>
                      </p:nvSpPr>
                      <p:spPr>
                        <a:xfrm flipH="1">
                          <a:off x="6580440" y="3782880"/>
                          <a:ext cx="109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4" name=""/>
                        <p:cNvSpPr/>
                        <p:nvPr/>
                      </p:nvSpPr>
                      <p:spPr>
                        <a:xfrm flipV="1">
                          <a:off x="6663240" y="3618360"/>
                          <a:ext cx="109800" cy="54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920" bIns="7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5" name=""/>
                        <p:cNvSpPr/>
                        <p:nvPr/>
                      </p:nvSpPr>
                      <p:spPr>
                        <a:xfrm flipH="1" flipV="1">
                          <a:off x="6635520" y="3591000"/>
                          <a:ext cx="54720" cy="82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5280" bIns="35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6" name=""/>
                        <p:cNvSpPr/>
                        <p:nvPr/>
                      </p:nvSpPr>
                      <p:spPr>
                        <a:xfrm flipH="1">
                          <a:off x="6635520" y="3673080"/>
                          <a:ext cx="547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7" name=""/>
                        <p:cNvSpPr/>
                        <p:nvPr/>
                      </p:nvSpPr>
                      <p:spPr>
                        <a:xfrm>
                          <a:off x="6663240" y="3755160"/>
                          <a:ext cx="82080" cy="8208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1520" bIns="11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8" name=""/>
                        <p:cNvSpPr/>
                        <p:nvPr/>
                      </p:nvSpPr>
                      <p:spPr>
                        <a:xfrm>
                          <a:off x="6553440" y="3755160"/>
                          <a:ext cx="54720" cy="54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7920" bIns="-7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9" name=""/>
                        <p:cNvSpPr/>
                        <p:nvPr/>
                      </p:nvSpPr>
                      <p:spPr>
                        <a:xfrm>
                          <a:off x="6773040" y="3755160"/>
                          <a:ext cx="54720" cy="54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7920" bIns="-7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0" name=""/>
                        <p:cNvSpPr/>
                        <p:nvPr/>
                      </p:nvSpPr>
                      <p:spPr>
                        <a:xfrm>
                          <a:off x="6663240" y="3645720"/>
                          <a:ext cx="54720" cy="54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7920" bIns="-7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1" name=""/>
                        <p:cNvSpPr/>
                        <p:nvPr/>
                      </p:nvSpPr>
                      <p:spPr>
                        <a:xfrm>
                          <a:off x="6745680" y="3618360"/>
                          <a:ext cx="27360" cy="27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2" name=""/>
                        <p:cNvSpPr/>
                        <p:nvPr/>
                      </p:nvSpPr>
                      <p:spPr>
                        <a:xfrm>
                          <a:off x="6608160" y="3645720"/>
                          <a:ext cx="27360" cy="27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3" name=""/>
                        <p:cNvSpPr/>
                        <p:nvPr/>
                      </p:nvSpPr>
                      <p:spPr>
                        <a:xfrm>
                          <a:off x="6635520" y="3591000"/>
                          <a:ext cx="27360" cy="27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04" name=""/>
                    <p:cNvGrpSpPr/>
                    <p:nvPr/>
                  </p:nvGrpSpPr>
                  <p:grpSpPr>
                    <a:xfrm>
                      <a:off x="6361200" y="3599640"/>
                      <a:ext cx="412560" cy="429840"/>
                      <a:chOff x="6361200" y="3599640"/>
                      <a:chExt cx="412560" cy="429840"/>
                    </a:xfrm>
                  </p:grpSpPr>
                  <p:sp>
                    <p:nvSpPr>
                      <p:cNvPr id="1105" name=""/>
                      <p:cNvSpPr/>
                      <p:nvPr/>
                    </p:nvSpPr>
                    <p:spPr>
                      <a:xfrm>
                        <a:off x="6361200" y="3599640"/>
                        <a:ext cx="412560" cy="4298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06" name=""/>
                      <p:cNvGrpSpPr/>
                      <p:nvPr/>
                    </p:nvGrpSpPr>
                    <p:grpSpPr>
                      <a:xfrm>
                        <a:off x="6416280" y="3629880"/>
                        <a:ext cx="274320" cy="320760"/>
                        <a:chOff x="6416280" y="3629880"/>
                        <a:chExt cx="274320" cy="320760"/>
                      </a:xfrm>
                    </p:grpSpPr>
                    <p:sp>
                      <p:nvSpPr>
                        <p:cNvPr id="1107" name=""/>
                        <p:cNvSpPr/>
                        <p:nvPr/>
                      </p:nvSpPr>
                      <p:spPr>
                        <a:xfrm>
                          <a:off x="6633000" y="3896640"/>
                          <a:ext cx="54720" cy="5400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8" name=""/>
                        <p:cNvSpPr/>
                        <p:nvPr/>
                      </p:nvSpPr>
                      <p:spPr>
                        <a:xfrm flipH="1" flipV="1">
                          <a:off x="6553440" y="3711960"/>
                          <a:ext cx="27360" cy="136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9" name=""/>
                        <p:cNvSpPr/>
                        <p:nvPr/>
                      </p:nvSpPr>
                      <p:spPr>
                        <a:xfrm>
                          <a:off x="6580800" y="3821400"/>
                          <a:ext cx="820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0" name=""/>
                        <p:cNvSpPr/>
                        <p:nvPr/>
                      </p:nvSpPr>
                      <p:spPr>
                        <a:xfrm>
                          <a:off x="6553440" y="3821400"/>
                          <a:ext cx="100440" cy="9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1" name=""/>
                        <p:cNvSpPr/>
                        <p:nvPr/>
                      </p:nvSpPr>
                      <p:spPr>
                        <a:xfrm flipH="1">
                          <a:off x="6443280" y="3821400"/>
                          <a:ext cx="109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2" name=""/>
                        <p:cNvSpPr/>
                        <p:nvPr/>
                      </p:nvSpPr>
                      <p:spPr>
                        <a:xfrm flipV="1">
                          <a:off x="6526080" y="3657240"/>
                          <a:ext cx="109800" cy="54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920" bIns="7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3" name=""/>
                        <p:cNvSpPr/>
                        <p:nvPr/>
                      </p:nvSpPr>
                      <p:spPr>
                        <a:xfrm flipH="1" flipV="1">
                          <a:off x="6498360" y="3629880"/>
                          <a:ext cx="54720" cy="82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5280" bIns="35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4" name=""/>
                        <p:cNvSpPr/>
                        <p:nvPr/>
                      </p:nvSpPr>
                      <p:spPr>
                        <a:xfrm flipH="1">
                          <a:off x="6498360" y="3711960"/>
                          <a:ext cx="547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5" name=""/>
                        <p:cNvSpPr/>
                        <p:nvPr/>
                      </p:nvSpPr>
                      <p:spPr>
                        <a:xfrm>
                          <a:off x="6526080" y="3794040"/>
                          <a:ext cx="82080" cy="8208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1520" bIns="11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6" name=""/>
                        <p:cNvSpPr/>
                        <p:nvPr/>
                      </p:nvSpPr>
                      <p:spPr>
                        <a:xfrm>
                          <a:off x="6416280" y="3794040"/>
                          <a:ext cx="54720" cy="54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7920" bIns="-7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7" name=""/>
                        <p:cNvSpPr/>
                        <p:nvPr/>
                      </p:nvSpPr>
                      <p:spPr>
                        <a:xfrm>
                          <a:off x="6635880" y="3794040"/>
                          <a:ext cx="54720" cy="54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7920" bIns="-7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8" name=""/>
                        <p:cNvSpPr/>
                        <p:nvPr/>
                      </p:nvSpPr>
                      <p:spPr>
                        <a:xfrm>
                          <a:off x="6526080" y="3684600"/>
                          <a:ext cx="54720" cy="54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280" bIns="-8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9" name=""/>
                        <p:cNvSpPr/>
                        <p:nvPr/>
                      </p:nvSpPr>
                      <p:spPr>
                        <a:xfrm>
                          <a:off x="6608520" y="3657240"/>
                          <a:ext cx="27360" cy="27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20" name=""/>
                        <p:cNvSpPr/>
                        <p:nvPr/>
                      </p:nvSpPr>
                      <p:spPr>
                        <a:xfrm>
                          <a:off x="6471000" y="3684600"/>
                          <a:ext cx="27360" cy="27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21" name=""/>
                        <p:cNvSpPr/>
                        <p:nvPr/>
                      </p:nvSpPr>
                      <p:spPr>
                        <a:xfrm>
                          <a:off x="6498360" y="3629880"/>
                          <a:ext cx="27360" cy="27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1122" name=""/>
                <p:cNvSpPr/>
                <p:nvPr/>
              </p:nvSpPr>
              <p:spPr>
                <a:xfrm>
                  <a:off x="7664400" y="4830480"/>
                  <a:ext cx="36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6796080" y="4738680"/>
                  <a:ext cx="777960" cy="32004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g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rok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flipV="1">
                  <a:off x="6248520" y="5699160"/>
                  <a:ext cx="228600" cy="136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5" name=""/>
                <p:cNvGrpSpPr/>
                <p:nvPr/>
              </p:nvGrpSpPr>
              <p:grpSpPr>
                <a:xfrm>
                  <a:off x="5334120" y="4518000"/>
                  <a:ext cx="1371600" cy="843480"/>
                  <a:chOff x="5334120" y="4518000"/>
                  <a:chExt cx="1371600" cy="843480"/>
                </a:xfrm>
              </p:grpSpPr>
              <p:grpSp>
                <p:nvGrpSpPr>
                  <p:cNvPr id="1126" name=""/>
                  <p:cNvGrpSpPr/>
                  <p:nvPr/>
                </p:nvGrpSpPr>
                <p:grpSpPr>
                  <a:xfrm>
                    <a:off x="5699520" y="4518000"/>
                    <a:ext cx="600840" cy="586440"/>
                    <a:chOff x="5699520" y="4518000"/>
                    <a:chExt cx="600840" cy="586440"/>
                  </a:xfrm>
                </p:grpSpPr>
                <p:grpSp>
                  <p:nvGrpSpPr>
                    <p:cNvPr id="1127" name=""/>
                    <p:cNvGrpSpPr/>
                    <p:nvPr/>
                  </p:nvGrpSpPr>
                  <p:grpSpPr>
                    <a:xfrm>
                      <a:off x="5947920" y="4518000"/>
                      <a:ext cx="144720" cy="146520"/>
                      <a:chOff x="5947920" y="4518000"/>
                      <a:chExt cx="144720" cy="146520"/>
                    </a:xfrm>
                  </p:grpSpPr>
                  <p:sp>
                    <p:nvSpPr>
                      <p:cNvPr id="1128" name=""/>
                      <p:cNvSpPr/>
                      <p:nvPr/>
                    </p:nvSpPr>
                    <p:spPr>
                      <a:xfrm>
                        <a:off x="5947920" y="4518000"/>
                        <a:ext cx="144720" cy="146520"/>
                      </a:xfrm>
                      <a:prstGeom prst="flowChartMultidocument">
                        <a:avLst/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9" name=""/>
                      <p:cNvSpPr/>
                      <p:nvPr/>
                    </p:nvSpPr>
                    <p:spPr>
                      <a:xfrm>
                        <a:off x="5968440" y="457272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0" name=""/>
                      <p:cNvSpPr/>
                      <p:nvPr/>
                    </p:nvSpPr>
                    <p:spPr>
                      <a:xfrm>
                        <a:off x="5989320" y="457272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1" name=""/>
                      <p:cNvSpPr/>
                      <p:nvPr/>
                    </p:nvSpPr>
                    <p:spPr>
                      <a:xfrm>
                        <a:off x="5968440" y="459108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2" name=""/>
                      <p:cNvSpPr/>
                      <p:nvPr/>
                    </p:nvSpPr>
                    <p:spPr>
                      <a:xfrm>
                        <a:off x="5989320" y="459108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3" name=""/>
                      <p:cNvSpPr/>
                      <p:nvPr/>
                    </p:nvSpPr>
                    <p:spPr>
                      <a:xfrm>
                        <a:off x="6009840" y="459108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4" name=""/>
                      <p:cNvSpPr/>
                      <p:nvPr/>
                    </p:nvSpPr>
                    <p:spPr>
                      <a:xfrm>
                        <a:off x="5989320" y="460944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35" name=""/>
                    <p:cNvGrpSpPr/>
                    <p:nvPr/>
                  </p:nvGrpSpPr>
                  <p:grpSpPr>
                    <a:xfrm>
                      <a:off x="5740920" y="4957920"/>
                      <a:ext cx="145080" cy="146520"/>
                      <a:chOff x="5740920" y="4957920"/>
                      <a:chExt cx="145080" cy="146520"/>
                    </a:xfrm>
                  </p:grpSpPr>
                  <p:sp>
                    <p:nvSpPr>
                      <p:cNvPr id="1136" name=""/>
                      <p:cNvSpPr/>
                      <p:nvPr/>
                    </p:nvSpPr>
                    <p:spPr>
                      <a:xfrm>
                        <a:off x="5740920" y="4957920"/>
                        <a:ext cx="145080" cy="146520"/>
                      </a:xfrm>
                      <a:prstGeom prst="flowChartMultidocument">
                        <a:avLst/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7" name=""/>
                      <p:cNvSpPr/>
                      <p:nvPr/>
                    </p:nvSpPr>
                    <p:spPr>
                      <a:xfrm>
                        <a:off x="5761440" y="501264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8" name=""/>
                      <p:cNvSpPr/>
                      <p:nvPr/>
                    </p:nvSpPr>
                    <p:spPr>
                      <a:xfrm>
                        <a:off x="5782320" y="501264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9" name=""/>
                      <p:cNvSpPr/>
                      <p:nvPr/>
                    </p:nvSpPr>
                    <p:spPr>
                      <a:xfrm>
                        <a:off x="5761440" y="5031000"/>
                        <a:ext cx="41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0" name=""/>
                      <p:cNvSpPr/>
                      <p:nvPr/>
                    </p:nvSpPr>
                    <p:spPr>
                      <a:xfrm>
                        <a:off x="5782320" y="503100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1" name=""/>
                      <p:cNvSpPr/>
                      <p:nvPr/>
                    </p:nvSpPr>
                    <p:spPr>
                      <a:xfrm>
                        <a:off x="5802840" y="503100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2" name=""/>
                      <p:cNvSpPr/>
                      <p:nvPr/>
                    </p:nvSpPr>
                    <p:spPr>
                      <a:xfrm>
                        <a:off x="5782320" y="5049360"/>
                        <a:ext cx="41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43" name=""/>
                    <p:cNvGrpSpPr/>
                    <p:nvPr/>
                  </p:nvGrpSpPr>
                  <p:grpSpPr>
                    <a:xfrm>
                      <a:off x="5699520" y="4682880"/>
                      <a:ext cx="144720" cy="146520"/>
                      <a:chOff x="5699520" y="4682880"/>
                      <a:chExt cx="144720" cy="146520"/>
                    </a:xfrm>
                  </p:grpSpPr>
                  <p:sp>
                    <p:nvSpPr>
                      <p:cNvPr id="1144" name=""/>
                      <p:cNvSpPr/>
                      <p:nvPr/>
                    </p:nvSpPr>
                    <p:spPr>
                      <a:xfrm>
                        <a:off x="5699520" y="4682880"/>
                        <a:ext cx="144720" cy="146520"/>
                      </a:xfrm>
                      <a:prstGeom prst="flowChartMultidocument">
                        <a:avLst/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5" name=""/>
                      <p:cNvSpPr/>
                      <p:nvPr/>
                    </p:nvSpPr>
                    <p:spPr>
                      <a:xfrm>
                        <a:off x="5720040" y="473760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6" name=""/>
                      <p:cNvSpPr/>
                      <p:nvPr/>
                    </p:nvSpPr>
                    <p:spPr>
                      <a:xfrm>
                        <a:off x="5740920" y="473760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7" name=""/>
                      <p:cNvSpPr/>
                      <p:nvPr/>
                    </p:nvSpPr>
                    <p:spPr>
                      <a:xfrm>
                        <a:off x="5720040" y="475596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8" name=""/>
                      <p:cNvSpPr/>
                      <p:nvPr/>
                    </p:nvSpPr>
                    <p:spPr>
                      <a:xfrm>
                        <a:off x="5740920" y="475596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9" name=""/>
                      <p:cNvSpPr/>
                      <p:nvPr/>
                    </p:nvSpPr>
                    <p:spPr>
                      <a:xfrm>
                        <a:off x="5761440" y="475596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0" name=""/>
                      <p:cNvSpPr/>
                      <p:nvPr/>
                    </p:nvSpPr>
                    <p:spPr>
                      <a:xfrm>
                        <a:off x="5740920" y="477432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51" name=""/>
                    <p:cNvGrpSpPr/>
                    <p:nvPr/>
                  </p:nvGrpSpPr>
                  <p:grpSpPr>
                    <a:xfrm>
                      <a:off x="6093000" y="4957920"/>
                      <a:ext cx="145080" cy="146520"/>
                      <a:chOff x="6093000" y="4957920"/>
                      <a:chExt cx="145080" cy="146520"/>
                    </a:xfrm>
                  </p:grpSpPr>
                  <p:sp>
                    <p:nvSpPr>
                      <p:cNvPr id="1152" name=""/>
                      <p:cNvSpPr/>
                      <p:nvPr/>
                    </p:nvSpPr>
                    <p:spPr>
                      <a:xfrm>
                        <a:off x="6093000" y="4957920"/>
                        <a:ext cx="145080" cy="146520"/>
                      </a:xfrm>
                      <a:prstGeom prst="flowChartMultidocument">
                        <a:avLst/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3" name=""/>
                      <p:cNvSpPr/>
                      <p:nvPr/>
                    </p:nvSpPr>
                    <p:spPr>
                      <a:xfrm>
                        <a:off x="6113520" y="501264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4" name=""/>
                      <p:cNvSpPr/>
                      <p:nvPr/>
                    </p:nvSpPr>
                    <p:spPr>
                      <a:xfrm>
                        <a:off x="6134400" y="501264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5" name=""/>
                      <p:cNvSpPr/>
                      <p:nvPr/>
                    </p:nvSpPr>
                    <p:spPr>
                      <a:xfrm>
                        <a:off x="6113520" y="5031000"/>
                        <a:ext cx="41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6" name=""/>
                      <p:cNvSpPr/>
                      <p:nvPr/>
                    </p:nvSpPr>
                    <p:spPr>
                      <a:xfrm>
                        <a:off x="6134400" y="503100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7" name=""/>
                      <p:cNvSpPr/>
                      <p:nvPr/>
                    </p:nvSpPr>
                    <p:spPr>
                      <a:xfrm>
                        <a:off x="6154920" y="503100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8" name=""/>
                      <p:cNvSpPr/>
                      <p:nvPr/>
                    </p:nvSpPr>
                    <p:spPr>
                      <a:xfrm>
                        <a:off x="6134400" y="5049360"/>
                        <a:ext cx="41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59" name=""/>
                    <p:cNvGrpSpPr/>
                    <p:nvPr/>
                  </p:nvGrpSpPr>
                  <p:grpSpPr>
                    <a:xfrm>
                      <a:off x="5947920" y="4774680"/>
                      <a:ext cx="144720" cy="146520"/>
                      <a:chOff x="5947920" y="4774680"/>
                      <a:chExt cx="144720" cy="146520"/>
                    </a:xfrm>
                  </p:grpSpPr>
                  <p:sp>
                    <p:nvSpPr>
                      <p:cNvPr id="1160" name=""/>
                      <p:cNvSpPr/>
                      <p:nvPr/>
                    </p:nvSpPr>
                    <p:spPr>
                      <a:xfrm>
                        <a:off x="5947920" y="4774680"/>
                        <a:ext cx="144720" cy="146520"/>
                      </a:xfrm>
                      <a:prstGeom prst="flowChartMultidocument">
                        <a:avLst/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1" name=""/>
                      <p:cNvSpPr/>
                      <p:nvPr/>
                    </p:nvSpPr>
                    <p:spPr>
                      <a:xfrm>
                        <a:off x="5968440" y="482940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2" name=""/>
                      <p:cNvSpPr/>
                      <p:nvPr/>
                    </p:nvSpPr>
                    <p:spPr>
                      <a:xfrm>
                        <a:off x="5989320" y="482940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3" name=""/>
                      <p:cNvSpPr/>
                      <p:nvPr/>
                    </p:nvSpPr>
                    <p:spPr>
                      <a:xfrm>
                        <a:off x="5968440" y="484776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4" name=""/>
                      <p:cNvSpPr/>
                      <p:nvPr/>
                    </p:nvSpPr>
                    <p:spPr>
                      <a:xfrm>
                        <a:off x="5989320" y="484776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5" name=""/>
                      <p:cNvSpPr/>
                      <p:nvPr/>
                    </p:nvSpPr>
                    <p:spPr>
                      <a:xfrm>
                        <a:off x="6009840" y="484776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6" name=""/>
                      <p:cNvSpPr/>
                      <p:nvPr/>
                    </p:nvSpPr>
                    <p:spPr>
                      <a:xfrm>
                        <a:off x="5989320" y="486612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67" name=""/>
                    <p:cNvGrpSpPr/>
                    <p:nvPr/>
                  </p:nvGrpSpPr>
                  <p:grpSpPr>
                    <a:xfrm>
                      <a:off x="6155280" y="4682880"/>
                      <a:ext cx="145080" cy="146520"/>
                      <a:chOff x="6155280" y="4682880"/>
                      <a:chExt cx="145080" cy="146520"/>
                    </a:xfrm>
                  </p:grpSpPr>
                  <p:sp>
                    <p:nvSpPr>
                      <p:cNvPr id="1168" name=""/>
                      <p:cNvSpPr/>
                      <p:nvPr/>
                    </p:nvSpPr>
                    <p:spPr>
                      <a:xfrm>
                        <a:off x="6155280" y="4682880"/>
                        <a:ext cx="145080" cy="146520"/>
                      </a:xfrm>
                      <a:prstGeom prst="flowChartMultidocument">
                        <a:avLst/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9" name=""/>
                      <p:cNvSpPr/>
                      <p:nvPr/>
                    </p:nvSpPr>
                    <p:spPr>
                      <a:xfrm>
                        <a:off x="6175800" y="473760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70" name=""/>
                      <p:cNvSpPr/>
                      <p:nvPr/>
                    </p:nvSpPr>
                    <p:spPr>
                      <a:xfrm>
                        <a:off x="6196680" y="473760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71" name=""/>
                      <p:cNvSpPr/>
                      <p:nvPr/>
                    </p:nvSpPr>
                    <p:spPr>
                      <a:xfrm>
                        <a:off x="6175800" y="4755960"/>
                        <a:ext cx="41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72" name=""/>
                      <p:cNvSpPr/>
                      <p:nvPr/>
                    </p:nvSpPr>
                    <p:spPr>
                      <a:xfrm>
                        <a:off x="6196680" y="475596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73" name=""/>
                      <p:cNvSpPr/>
                      <p:nvPr/>
                    </p:nvSpPr>
                    <p:spPr>
                      <a:xfrm>
                        <a:off x="6217200" y="475596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74" name=""/>
                      <p:cNvSpPr/>
                      <p:nvPr/>
                    </p:nvSpPr>
                    <p:spPr>
                      <a:xfrm>
                        <a:off x="6196680" y="4774320"/>
                        <a:ext cx="41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75" name=""/>
                    <p:cNvSpPr/>
                    <p:nvPr/>
                  </p:nvSpPr>
                  <p:spPr>
                    <a:xfrm flipH="1" flipV="1">
                      <a:off x="5781960" y="4811400"/>
                      <a:ext cx="41400" cy="164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6" name=""/>
                    <p:cNvSpPr/>
                    <p:nvPr/>
                  </p:nvSpPr>
                  <p:spPr>
                    <a:xfrm flipV="1">
                      <a:off x="5823720" y="4627440"/>
                      <a:ext cx="124200" cy="73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7" name=""/>
                    <p:cNvSpPr/>
                    <p:nvPr/>
                  </p:nvSpPr>
                  <p:spPr>
                    <a:xfrm flipH="1">
                      <a:off x="5843880" y="4664520"/>
                      <a:ext cx="145080" cy="311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8" name=""/>
                    <p:cNvSpPr/>
                    <p:nvPr/>
                  </p:nvSpPr>
                  <p:spPr>
                    <a:xfrm flipH="1" flipV="1">
                      <a:off x="5844240" y="4755960"/>
                      <a:ext cx="186480" cy="18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9" name=""/>
                    <p:cNvSpPr/>
                    <p:nvPr/>
                  </p:nvSpPr>
                  <p:spPr>
                    <a:xfrm flipV="1">
                      <a:off x="6093000" y="4774320"/>
                      <a:ext cx="61920" cy="73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0" name=""/>
                    <p:cNvSpPr/>
                    <p:nvPr/>
                  </p:nvSpPr>
                  <p:spPr>
                    <a:xfrm flipH="1" flipV="1">
                      <a:off x="6093000" y="4627800"/>
                      <a:ext cx="61920" cy="91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1" name=""/>
                    <p:cNvSpPr/>
                    <p:nvPr/>
                  </p:nvSpPr>
                  <p:spPr>
                    <a:xfrm flipH="1">
                      <a:off x="5782320" y="4572720"/>
                      <a:ext cx="165600" cy="109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2" name=""/>
                    <p:cNvSpPr/>
                    <p:nvPr/>
                  </p:nvSpPr>
                  <p:spPr>
                    <a:xfrm flipH="1" flipV="1">
                      <a:off x="6031080" y="4902840"/>
                      <a:ext cx="61920" cy="109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3" name=""/>
                    <p:cNvSpPr/>
                    <p:nvPr/>
                  </p:nvSpPr>
                  <p:spPr>
                    <a:xfrm>
                      <a:off x="5886000" y="5013000"/>
                      <a:ext cx="207000" cy="18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4" name=""/>
                    <p:cNvSpPr/>
                    <p:nvPr/>
                  </p:nvSpPr>
                  <p:spPr>
                    <a:xfrm flipH="1">
                      <a:off x="6175800" y="4829760"/>
                      <a:ext cx="20520" cy="128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85" name=""/>
                  <p:cNvSpPr/>
                  <p:nvPr/>
                </p:nvSpPr>
                <p:spPr>
                  <a:xfrm>
                    <a:off x="5334120" y="5115240"/>
                    <a:ext cx="13716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onstraints &amp; Pref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6" name=""/>
                <p:cNvSpPr/>
                <p:nvPr/>
              </p:nvSpPr>
              <p:spPr>
                <a:xfrm>
                  <a:off x="6338880" y="4830480"/>
                  <a:ext cx="36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flipH="1">
                  <a:off x="6338880" y="4419360"/>
                  <a:ext cx="184320" cy="18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6935760" y="5486400"/>
                <a:ext cx="779760" cy="277920"/>
                <a:chOff x="6935760" y="5486400"/>
                <a:chExt cx="779760" cy="277920"/>
              </a:xfrm>
            </p:grpSpPr>
            <p:sp>
              <p:nvSpPr>
                <p:cNvPr id="1189" name=""/>
                <p:cNvSpPr/>
                <p:nvPr/>
              </p:nvSpPr>
              <p:spPr>
                <a:xfrm>
                  <a:off x="6935760" y="5486400"/>
                  <a:ext cx="560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E-mai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7438680" y="551808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..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1" name=""/>
            <p:cNvSpPr/>
            <p:nvPr/>
          </p:nvSpPr>
          <p:spPr>
            <a:xfrm>
              <a:off x="6705720" y="4435560"/>
              <a:ext cx="1440" cy="105084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8088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80880" y="1355760"/>
            <a:ext cx="8229600" cy="48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L = First-order logic and some DAML+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 KB representation language = Situation Calcu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ic procedures representation language = Go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uctive machinery = Pro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 Broker =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hitecture [SRI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type agent/agent broker construct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liminary ervice ontology constru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5334120" y="3505320"/>
            <a:ext cx="3519360" cy="2833200"/>
            <a:chOff x="5334120" y="3505320"/>
            <a:chExt cx="3519360" cy="2833200"/>
          </a:xfrm>
        </p:grpSpPr>
        <p:grpSp>
          <p:nvGrpSpPr>
            <p:cNvPr id="1196" name=""/>
            <p:cNvGrpSpPr/>
            <p:nvPr/>
          </p:nvGrpSpPr>
          <p:grpSpPr>
            <a:xfrm>
              <a:off x="5334120" y="3505320"/>
              <a:ext cx="3519360" cy="2833200"/>
              <a:chOff x="5334120" y="3505320"/>
              <a:chExt cx="3519360" cy="2833200"/>
            </a:xfrm>
          </p:grpSpPr>
          <p:grpSp>
            <p:nvGrpSpPr>
              <p:cNvPr id="1197" name=""/>
              <p:cNvGrpSpPr/>
              <p:nvPr/>
            </p:nvGrpSpPr>
            <p:grpSpPr>
              <a:xfrm>
                <a:off x="5334120" y="3505320"/>
                <a:ext cx="3519360" cy="2833200"/>
                <a:chOff x="5334120" y="3505320"/>
                <a:chExt cx="3519360" cy="2833200"/>
              </a:xfrm>
            </p:grpSpPr>
            <p:grpSp>
              <p:nvGrpSpPr>
                <p:cNvPr id="1198" name=""/>
                <p:cNvGrpSpPr/>
                <p:nvPr/>
              </p:nvGrpSpPr>
              <p:grpSpPr>
                <a:xfrm>
                  <a:off x="6567480" y="5797440"/>
                  <a:ext cx="533160" cy="306360"/>
                  <a:chOff x="6567480" y="5797440"/>
                  <a:chExt cx="533160" cy="306360"/>
                </a:xfrm>
              </p:grpSpPr>
              <p:sp>
                <p:nvSpPr>
                  <p:cNvPr id="1199" name=""/>
                  <p:cNvSpPr/>
                  <p:nvPr/>
                </p:nvSpPr>
                <p:spPr>
                  <a:xfrm>
                    <a:off x="6567480" y="5797440"/>
                    <a:ext cx="533160" cy="304560"/>
                  </a:xfrm>
                  <a:prstGeom prst="rec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6643440" y="5857560"/>
                    <a:ext cx="381240" cy="246240"/>
                  </a:xfrm>
                  <a:prstGeom prst="rect">
                    <a:avLst/>
                  </a:prstGeom>
                  <a:solidFill>
                    <a:srgbClr val="cc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KB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1" name=""/>
                <p:cNvGrpSpPr/>
                <p:nvPr/>
              </p:nvGrpSpPr>
              <p:grpSpPr>
                <a:xfrm>
                  <a:off x="7802640" y="4500360"/>
                  <a:ext cx="1050840" cy="861120"/>
                  <a:chOff x="7802640" y="4500360"/>
                  <a:chExt cx="1050840" cy="861120"/>
                </a:xfrm>
              </p:grpSpPr>
              <p:sp>
                <p:nvSpPr>
                  <p:cNvPr id="1202" name=""/>
                  <p:cNvSpPr/>
                  <p:nvPr/>
                </p:nvSpPr>
                <p:spPr>
                  <a:xfrm>
                    <a:off x="7802640" y="5115240"/>
                    <a:ext cx="1050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000000"/>
                        </a:solidFill>
                        <a:latin typeface="Arial"/>
                      </a:rPr>
                      <a:t>Web Service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03" name=""/>
                  <p:cNvGrpSpPr/>
                  <p:nvPr/>
                </p:nvGrpSpPr>
                <p:grpSpPr>
                  <a:xfrm>
                    <a:off x="8052840" y="4500360"/>
                    <a:ext cx="600120" cy="586080"/>
                    <a:chOff x="8052840" y="4500360"/>
                    <a:chExt cx="600120" cy="586080"/>
                  </a:xfrm>
                </p:grpSpPr>
                <p:grpSp>
                  <p:nvGrpSpPr>
                    <p:cNvPr id="1204" name=""/>
                    <p:cNvGrpSpPr/>
                    <p:nvPr/>
                  </p:nvGrpSpPr>
                  <p:grpSpPr>
                    <a:xfrm>
                      <a:off x="8301240" y="4500360"/>
                      <a:ext cx="144720" cy="146520"/>
                      <a:chOff x="8301240" y="4500360"/>
                      <a:chExt cx="144720" cy="146520"/>
                    </a:xfrm>
                  </p:grpSpPr>
                  <p:sp>
                    <p:nvSpPr>
                      <p:cNvPr id="1205" name=""/>
                      <p:cNvSpPr/>
                      <p:nvPr/>
                    </p:nvSpPr>
                    <p:spPr>
                      <a:xfrm>
                        <a:off x="8301240" y="4500360"/>
                        <a:ext cx="144720" cy="146520"/>
                      </a:xfrm>
                      <a:prstGeom prst="flowChartMultidocument">
                        <a:avLst/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6" name=""/>
                      <p:cNvSpPr/>
                      <p:nvPr/>
                    </p:nvSpPr>
                    <p:spPr>
                      <a:xfrm>
                        <a:off x="8321760" y="455508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7" name=""/>
                      <p:cNvSpPr/>
                      <p:nvPr/>
                    </p:nvSpPr>
                    <p:spPr>
                      <a:xfrm>
                        <a:off x="8342640" y="455508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8" name=""/>
                      <p:cNvSpPr/>
                      <p:nvPr/>
                    </p:nvSpPr>
                    <p:spPr>
                      <a:xfrm>
                        <a:off x="8321760" y="457344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9" name=""/>
                      <p:cNvSpPr/>
                      <p:nvPr/>
                    </p:nvSpPr>
                    <p:spPr>
                      <a:xfrm>
                        <a:off x="8342640" y="457344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0" name=""/>
                      <p:cNvSpPr/>
                      <p:nvPr/>
                    </p:nvSpPr>
                    <p:spPr>
                      <a:xfrm>
                        <a:off x="8363160" y="457344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1" name=""/>
                      <p:cNvSpPr/>
                      <p:nvPr/>
                    </p:nvSpPr>
                    <p:spPr>
                      <a:xfrm>
                        <a:off x="8342640" y="459180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12" name=""/>
                    <p:cNvGrpSpPr/>
                    <p:nvPr/>
                  </p:nvGrpSpPr>
                  <p:grpSpPr>
                    <a:xfrm>
                      <a:off x="8094240" y="4939920"/>
                      <a:ext cx="144720" cy="146520"/>
                      <a:chOff x="8094240" y="4939920"/>
                      <a:chExt cx="144720" cy="146520"/>
                    </a:xfrm>
                  </p:grpSpPr>
                  <p:sp>
                    <p:nvSpPr>
                      <p:cNvPr id="1213" name=""/>
                      <p:cNvSpPr/>
                      <p:nvPr/>
                    </p:nvSpPr>
                    <p:spPr>
                      <a:xfrm>
                        <a:off x="8094240" y="4939920"/>
                        <a:ext cx="144720" cy="146520"/>
                      </a:xfrm>
                      <a:prstGeom prst="flowChartMultidocument">
                        <a:avLst/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4" name=""/>
                      <p:cNvSpPr/>
                      <p:nvPr/>
                    </p:nvSpPr>
                    <p:spPr>
                      <a:xfrm>
                        <a:off x="8114760" y="499464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5" name=""/>
                      <p:cNvSpPr/>
                      <p:nvPr/>
                    </p:nvSpPr>
                    <p:spPr>
                      <a:xfrm>
                        <a:off x="8135640" y="499464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6" name=""/>
                      <p:cNvSpPr/>
                      <p:nvPr/>
                    </p:nvSpPr>
                    <p:spPr>
                      <a:xfrm>
                        <a:off x="8114760" y="501300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7" name=""/>
                      <p:cNvSpPr/>
                      <p:nvPr/>
                    </p:nvSpPr>
                    <p:spPr>
                      <a:xfrm>
                        <a:off x="8135640" y="501300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8" name=""/>
                      <p:cNvSpPr/>
                      <p:nvPr/>
                    </p:nvSpPr>
                    <p:spPr>
                      <a:xfrm>
                        <a:off x="8156160" y="501300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9" name=""/>
                      <p:cNvSpPr/>
                      <p:nvPr/>
                    </p:nvSpPr>
                    <p:spPr>
                      <a:xfrm>
                        <a:off x="8135640" y="503136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20" name=""/>
                    <p:cNvGrpSpPr/>
                    <p:nvPr/>
                  </p:nvGrpSpPr>
                  <p:grpSpPr>
                    <a:xfrm>
                      <a:off x="8052840" y="4665240"/>
                      <a:ext cx="144720" cy="146520"/>
                      <a:chOff x="8052840" y="4665240"/>
                      <a:chExt cx="144720" cy="146520"/>
                    </a:xfrm>
                  </p:grpSpPr>
                  <p:sp>
                    <p:nvSpPr>
                      <p:cNvPr id="1221" name=""/>
                      <p:cNvSpPr/>
                      <p:nvPr/>
                    </p:nvSpPr>
                    <p:spPr>
                      <a:xfrm>
                        <a:off x="8052840" y="4665240"/>
                        <a:ext cx="144720" cy="146520"/>
                      </a:xfrm>
                      <a:prstGeom prst="flowChartMultidocument">
                        <a:avLst/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2" name=""/>
                      <p:cNvSpPr/>
                      <p:nvPr/>
                    </p:nvSpPr>
                    <p:spPr>
                      <a:xfrm>
                        <a:off x="8073360" y="471996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3" name=""/>
                      <p:cNvSpPr/>
                      <p:nvPr/>
                    </p:nvSpPr>
                    <p:spPr>
                      <a:xfrm>
                        <a:off x="8094240" y="471996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4" name=""/>
                      <p:cNvSpPr/>
                      <p:nvPr/>
                    </p:nvSpPr>
                    <p:spPr>
                      <a:xfrm>
                        <a:off x="8073360" y="473832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5" name=""/>
                      <p:cNvSpPr/>
                      <p:nvPr/>
                    </p:nvSpPr>
                    <p:spPr>
                      <a:xfrm>
                        <a:off x="8094240" y="473832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6" name=""/>
                      <p:cNvSpPr/>
                      <p:nvPr/>
                    </p:nvSpPr>
                    <p:spPr>
                      <a:xfrm>
                        <a:off x="8114760" y="473832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7" name=""/>
                      <p:cNvSpPr/>
                      <p:nvPr/>
                    </p:nvSpPr>
                    <p:spPr>
                      <a:xfrm>
                        <a:off x="8094240" y="475668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28" name=""/>
                    <p:cNvGrpSpPr/>
                    <p:nvPr/>
                  </p:nvGrpSpPr>
                  <p:grpSpPr>
                    <a:xfrm>
                      <a:off x="8446320" y="4939920"/>
                      <a:ext cx="144720" cy="146520"/>
                      <a:chOff x="8446320" y="4939920"/>
                      <a:chExt cx="144720" cy="146520"/>
                    </a:xfrm>
                  </p:grpSpPr>
                  <p:sp>
                    <p:nvSpPr>
                      <p:cNvPr id="1229" name=""/>
                      <p:cNvSpPr/>
                      <p:nvPr/>
                    </p:nvSpPr>
                    <p:spPr>
                      <a:xfrm>
                        <a:off x="8446320" y="4939920"/>
                        <a:ext cx="144720" cy="146520"/>
                      </a:xfrm>
                      <a:prstGeom prst="flowChartMultidocument">
                        <a:avLst/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0" name=""/>
                      <p:cNvSpPr/>
                      <p:nvPr/>
                    </p:nvSpPr>
                    <p:spPr>
                      <a:xfrm>
                        <a:off x="8466840" y="499464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1" name=""/>
                      <p:cNvSpPr/>
                      <p:nvPr/>
                    </p:nvSpPr>
                    <p:spPr>
                      <a:xfrm>
                        <a:off x="8487720" y="499464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2" name=""/>
                      <p:cNvSpPr/>
                      <p:nvPr/>
                    </p:nvSpPr>
                    <p:spPr>
                      <a:xfrm>
                        <a:off x="8466840" y="501300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3" name=""/>
                      <p:cNvSpPr/>
                      <p:nvPr/>
                    </p:nvSpPr>
                    <p:spPr>
                      <a:xfrm>
                        <a:off x="8487720" y="501300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4" name=""/>
                      <p:cNvSpPr/>
                      <p:nvPr/>
                    </p:nvSpPr>
                    <p:spPr>
                      <a:xfrm>
                        <a:off x="8508240" y="501300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5" name=""/>
                      <p:cNvSpPr/>
                      <p:nvPr/>
                    </p:nvSpPr>
                    <p:spPr>
                      <a:xfrm>
                        <a:off x="8487720" y="503136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36" name=""/>
                    <p:cNvGrpSpPr/>
                    <p:nvPr/>
                  </p:nvGrpSpPr>
                  <p:grpSpPr>
                    <a:xfrm>
                      <a:off x="8301240" y="4756680"/>
                      <a:ext cx="144720" cy="146520"/>
                      <a:chOff x="8301240" y="4756680"/>
                      <a:chExt cx="144720" cy="146520"/>
                    </a:xfrm>
                  </p:grpSpPr>
                  <p:sp>
                    <p:nvSpPr>
                      <p:cNvPr id="1237" name=""/>
                      <p:cNvSpPr/>
                      <p:nvPr/>
                    </p:nvSpPr>
                    <p:spPr>
                      <a:xfrm>
                        <a:off x="8301240" y="4756680"/>
                        <a:ext cx="144720" cy="146520"/>
                      </a:xfrm>
                      <a:prstGeom prst="flowChartMultidocument">
                        <a:avLst/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8" name=""/>
                      <p:cNvSpPr/>
                      <p:nvPr/>
                    </p:nvSpPr>
                    <p:spPr>
                      <a:xfrm>
                        <a:off x="8321760" y="481140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9" name=""/>
                      <p:cNvSpPr/>
                      <p:nvPr/>
                    </p:nvSpPr>
                    <p:spPr>
                      <a:xfrm>
                        <a:off x="8342640" y="481140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0" name=""/>
                      <p:cNvSpPr/>
                      <p:nvPr/>
                    </p:nvSpPr>
                    <p:spPr>
                      <a:xfrm>
                        <a:off x="8321760" y="482976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1" name=""/>
                      <p:cNvSpPr/>
                      <p:nvPr/>
                    </p:nvSpPr>
                    <p:spPr>
                      <a:xfrm>
                        <a:off x="8342640" y="482976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2" name=""/>
                      <p:cNvSpPr/>
                      <p:nvPr/>
                    </p:nvSpPr>
                    <p:spPr>
                      <a:xfrm>
                        <a:off x="8363160" y="482976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3" name=""/>
                      <p:cNvSpPr/>
                      <p:nvPr/>
                    </p:nvSpPr>
                    <p:spPr>
                      <a:xfrm>
                        <a:off x="8342640" y="484812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44" name=""/>
                    <p:cNvGrpSpPr/>
                    <p:nvPr/>
                  </p:nvGrpSpPr>
                  <p:grpSpPr>
                    <a:xfrm>
                      <a:off x="8508240" y="4665240"/>
                      <a:ext cx="144720" cy="146520"/>
                      <a:chOff x="8508240" y="4665240"/>
                      <a:chExt cx="144720" cy="146520"/>
                    </a:xfrm>
                  </p:grpSpPr>
                  <p:sp>
                    <p:nvSpPr>
                      <p:cNvPr id="1245" name=""/>
                      <p:cNvSpPr/>
                      <p:nvPr/>
                    </p:nvSpPr>
                    <p:spPr>
                      <a:xfrm>
                        <a:off x="8508240" y="4665240"/>
                        <a:ext cx="144720" cy="146520"/>
                      </a:xfrm>
                      <a:prstGeom prst="flowChartMultidocument">
                        <a:avLst/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6" name=""/>
                      <p:cNvSpPr/>
                      <p:nvPr/>
                    </p:nvSpPr>
                    <p:spPr>
                      <a:xfrm>
                        <a:off x="8528760" y="471996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7" name=""/>
                      <p:cNvSpPr/>
                      <p:nvPr/>
                    </p:nvSpPr>
                    <p:spPr>
                      <a:xfrm>
                        <a:off x="8549640" y="471996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8" name=""/>
                      <p:cNvSpPr/>
                      <p:nvPr/>
                    </p:nvSpPr>
                    <p:spPr>
                      <a:xfrm>
                        <a:off x="8528760" y="473832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9" name=""/>
                      <p:cNvSpPr/>
                      <p:nvPr/>
                    </p:nvSpPr>
                    <p:spPr>
                      <a:xfrm>
                        <a:off x="8549640" y="473832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0" name=""/>
                      <p:cNvSpPr/>
                      <p:nvPr/>
                    </p:nvSpPr>
                    <p:spPr>
                      <a:xfrm>
                        <a:off x="8570160" y="473832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1" name=""/>
                      <p:cNvSpPr/>
                      <p:nvPr/>
                    </p:nvSpPr>
                    <p:spPr>
                      <a:xfrm>
                        <a:off x="8549640" y="475668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52" name=""/>
                    <p:cNvSpPr/>
                    <p:nvPr/>
                  </p:nvSpPr>
                  <p:spPr>
                    <a:xfrm flipH="1" flipV="1">
                      <a:off x="8135280" y="4793400"/>
                      <a:ext cx="41400" cy="164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3" name=""/>
                    <p:cNvSpPr/>
                    <p:nvPr/>
                  </p:nvSpPr>
                  <p:spPr>
                    <a:xfrm flipV="1">
                      <a:off x="8177040" y="4609800"/>
                      <a:ext cx="124200" cy="73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4" name=""/>
                    <p:cNvSpPr/>
                    <p:nvPr/>
                  </p:nvSpPr>
                  <p:spPr>
                    <a:xfrm flipH="1">
                      <a:off x="8197560" y="4646880"/>
                      <a:ext cx="144720" cy="311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5" name=""/>
                    <p:cNvSpPr/>
                    <p:nvPr/>
                  </p:nvSpPr>
                  <p:spPr>
                    <a:xfrm flipH="1" flipV="1">
                      <a:off x="8197200" y="4738320"/>
                      <a:ext cx="186120" cy="18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6" name=""/>
                    <p:cNvSpPr/>
                    <p:nvPr/>
                  </p:nvSpPr>
                  <p:spPr>
                    <a:xfrm flipV="1">
                      <a:off x="8446320" y="4756320"/>
                      <a:ext cx="61920" cy="73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7" name=""/>
                    <p:cNvSpPr/>
                    <p:nvPr/>
                  </p:nvSpPr>
                  <p:spPr>
                    <a:xfrm flipH="1" flipV="1">
                      <a:off x="8446320" y="4610160"/>
                      <a:ext cx="61920" cy="91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8" name=""/>
                    <p:cNvSpPr/>
                    <p:nvPr/>
                  </p:nvSpPr>
                  <p:spPr>
                    <a:xfrm flipH="1">
                      <a:off x="8135640" y="4555080"/>
                      <a:ext cx="165600" cy="109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9" name=""/>
                    <p:cNvSpPr/>
                    <p:nvPr/>
                  </p:nvSpPr>
                  <p:spPr>
                    <a:xfrm flipH="1" flipV="1">
                      <a:off x="8384040" y="4884480"/>
                      <a:ext cx="61920" cy="109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0" name=""/>
                    <p:cNvSpPr/>
                    <p:nvPr/>
                  </p:nvSpPr>
                  <p:spPr>
                    <a:xfrm>
                      <a:off x="8238960" y="4995000"/>
                      <a:ext cx="207000" cy="18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1" name=""/>
                    <p:cNvSpPr/>
                    <p:nvPr/>
                  </p:nvSpPr>
                  <p:spPr>
                    <a:xfrm flipH="1">
                      <a:off x="8528760" y="4811760"/>
                      <a:ext cx="20520" cy="128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62" name=""/>
                <p:cNvSpPr/>
                <p:nvPr/>
              </p:nvSpPr>
              <p:spPr>
                <a:xfrm flipV="1">
                  <a:off x="6842160" y="5105160"/>
                  <a:ext cx="182520" cy="3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7207200" y="5105160"/>
                  <a:ext cx="0" cy="36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 flipH="1" flipV="1">
                  <a:off x="7435800" y="5105160"/>
                  <a:ext cx="184320" cy="3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 flipV="1">
                  <a:off x="7207200" y="4419360"/>
                  <a:ext cx="0" cy="27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6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654520" y="5699160"/>
                  <a:ext cx="522360" cy="63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7" name=""/>
                <p:cNvSpPr/>
                <p:nvPr/>
              </p:nvSpPr>
              <p:spPr>
                <a:xfrm>
                  <a:off x="7893000" y="4419360"/>
                  <a:ext cx="184320" cy="18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68" name=""/>
                <p:cNvGrpSpPr/>
                <p:nvPr/>
              </p:nvGrpSpPr>
              <p:grpSpPr>
                <a:xfrm>
                  <a:off x="6523200" y="5516280"/>
                  <a:ext cx="318960" cy="318960"/>
                  <a:chOff x="6523200" y="5516280"/>
                  <a:chExt cx="318960" cy="318960"/>
                </a:xfrm>
              </p:grpSpPr>
              <p:grpSp>
                <p:nvGrpSpPr>
                  <p:cNvPr id="1269" name=""/>
                  <p:cNvGrpSpPr/>
                  <p:nvPr/>
                </p:nvGrpSpPr>
                <p:grpSpPr>
                  <a:xfrm>
                    <a:off x="6542640" y="5698440"/>
                    <a:ext cx="280440" cy="136800"/>
                    <a:chOff x="6542640" y="5698440"/>
                    <a:chExt cx="280440" cy="136800"/>
                  </a:xfrm>
                </p:grpSpPr>
                <p:sp>
                  <p:nvSpPr>
                    <p:cNvPr id="1270" name=""/>
                    <p:cNvSpPr/>
                    <p:nvPr/>
                  </p:nvSpPr>
                  <p:spPr>
                    <a:xfrm flipH="1">
                      <a:off x="6542640" y="5698440"/>
                      <a:ext cx="119880" cy="136800"/>
                    </a:xfrm>
                    <a:prstGeom prst="line">
                      <a:avLst/>
                    </a:prstGeom>
                    <a:ln w="76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1" name=""/>
                    <p:cNvSpPr/>
                    <p:nvPr/>
                  </p:nvSpPr>
                  <p:spPr>
                    <a:xfrm>
                      <a:off x="6703200" y="5698440"/>
                      <a:ext cx="119880" cy="136800"/>
                    </a:xfrm>
                    <a:prstGeom prst="line">
                      <a:avLst/>
                    </a:prstGeom>
                    <a:ln w="76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72" name=""/>
                  <p:cNvSpPr/>
                  <p:nvPr/>
                </p:nvSpPr>
                <p:spPr>
                  <a:xfrm flipV="1">
                    <a:off x="6523200" y="5516280"/>
                    <a:ext cx="318960" cy="273600"/>
                  </a:xfrm>
                  <a:custGeom>
                    <a:avLst/>
                    <a:gdLst>
                      <a:gd name="textAreaLeft" fmla="*/ 70200 w 318960"/>
                      <a:gd name="textAreaRight" fmla="*/ 248760 w 318960"/>
                      <a:gd name="textAreaTop" fmla="*/ 60120 h 273600"/>
                      <a:gd name="textAreaBottom" fmla="*/ 213480 h 273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9900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>
                    <a:off x="6623280" y="5561640"/>
                    <a:ext cx="3996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0" bIns="-14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6703200" y="5561640"/>
                    <a:ext cx="3996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0" bIns="-14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6623280" y="5630040"/>
                    <a:ext cx="11988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48">
                        <a:moveTo>
                          <a:pt x="0" y="0"/>
                        </a:moveTo>
                        <a:cubicBezTo>
                          <a:pt x="48" y="24"/>
                          <a:pt x="96" y="48"/>
                          <a:pt x="144" y="48"/>
                        </a:cubicBezTo>
                        <a:cubicBezTo>
                          <a:pt x="192" y="48"/>
                          <a:pt x="264" y="8"/>
                          <a:pt x="288" y="0"/>
                        </a:cubicBezTo>
                      </a:path>
                    </a:pathLst>
                  </a:custGeom>
                  <a:solidFill>
                    <a:srgbClr val="990099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6" name=""/>
                <p:cNvSpPr/>
                <p:nvPr/>
              </p:nvSpPr>
              <p:spPr>
                <a:xfrm>
                  <a:off x="6178680" y="3505320"/>
                  <a:ext cx="2058840" cy="867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7024680" y="3779640"/>
                  <a:ext cx="320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8" name=""/>
                <p:cNvGrpSpPr/>
                <p:nvPr/>
              </p:nvGrpSpPr>
              <p:grpSpPr>
                <a:xfrm>
                  <a:off x="7299360" y="3560760"/>
                  <a:ext cx="960480" cy="856440"/>
                  <a:chOff x="7299360" y="3560760"/>
                  <a:chExt cx="960480" cy="856440"/>
                </a:xfrm>
              </p:grpSpPr>
              <p:sp>
                <p:nvSpPr>
                  <p:cNvPr id="1279" name=""/>
                  <p:cNvSpPr/>
                  <p:nvPr/>
                </p:nvSpPr>
                <p:spPr>
                  <a:xfrm>
                    <a:off x="7299360" y="4018680"/>
                    <a:ext cx="96048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ervice Ontologie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80" name=""/>
                  <p:cNvGrpSpPr/>
                  <p:nvPr/>
                </p:nvGrpSpPr>
                <p:grpSpPr>
                  <a:xfrm>
                    <a:off x="7504200" y="3560760"/>
                    <a:ext cx="549720" cy="468720"/>
                    <a:chOff x="7504200" y="3560760"/>
                    <a:chExt cx="549720" cy="468720"/>
                  </a:xfrm>
                </p:grpSpPr>
                <p:grpSp>
                  <p:nvGrpSpPr>
                    <p:cNvPr id="1281" name=""/>
                    <p:cNvGrpSpPr/>
                    <p:nvPr/>
                  </p:nvGrpSpPr>
                  <p:grpSpPr>
                    <a:xfrm>
                      <a:off x="7641360" y="3560760"/>
                      <a:ext cx="412560" cy="430200"/>
                      <a:chOff x="7641360" y="3560760"/>
                      <a:chExt cx="412560" cy="430200"/>
                    </a:xfrm>
                  </p:grpSpPr>
                  <p:sp>
                    <p:nvSpPr>
                      <p:cNvPr id="1282" name=""/>
                      <p:cNvSpPr/>
                      <p:nvPr/>
                    </p:nvSpPr>
                    <p:spPr>
                      <a:xfrm>
                        <a:off x="7641360" y="3560760"/>
                        <a:ext cx="412560" cy="4302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83" name=""/>
                      <p:cNvGrpSpPr/>
                      <p:nvPr/>
                    </p:nvGrpSpPr>
                    <p:grpSpPr>
                      <a:xfrm>
                        <a:off x="7696440" y="3591000"/>
                        <a:ext cx="274320" cy="321120"/>
                        <a:chOff x="7696440" y="3591000"/>
                        <a:chExt cx="274320" cy="321120"/>
                      </a:xfrm>
                    </p:grpSpPr>
                    <p:sp>
                      <p:nvSpPr>
                        <p:cNvPr id="1284" name=""/>
                        <p:cNvSpPr/>
                        <p:nvPr/>
                      </p:nvSpPr>
                      <p:spPr>
                        <a:xfrm>
                          <a:off x="7913160" y="3858120"/>
                          <a:ext cx="54720" cy="5400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85" name=""/>
                        <p:cNvSpPr/>
                        <p:nvPr/>
                      </p:nvSpPr>
                      <p:spPr>
                        <a:xfrm flipH="1" flipV="1">
                          <a:off x="7833600" y="3673080"/>
                          <a:ext cx="27360" cy="136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86" name=""/>
                        <p:cNvSpPr/>
                        <p:nvPr/>
                      </p:nvSpPr>
                      <p:spPr>
                        <a:xfrm>
                          <a:off x="7860960" y="3782880"/>
                          <a:ext cx="820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87" name=""/>
                        <p:cNvSpPr/>
                        <p:nvPr/>
                      </p:nvSpPr>
                      <p:spPr>
                        <a:xfrm>
                          <a:off x="7833600" y="3782880"/>
                          <a:ext cx="100440" cy="9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88" name=""/>
                        <p:cNvSpPr/>
                        <p:nvPr/>
                      </p:nvSpPr>
                      <p:spPr>
                        <a:xfrm flipH="1">
                          <a:off x="7723440" y="3782880"/>
                          <a:ext cx="109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89" name=""/>
                        <p:cNvSpPr/>
                        <p:nvPr/>
                      </p:nvSpPr>
                      <p:spPr>
                        <a:xfrm flipV="1">
                          <a:off x="7806240" y="3618360"/>
                          <a:ext cx="109800" cy="54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920" bIns="7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90" name=""/>
                        <p:cNvSpPr/>
                        <p:nvPr/>
                      </p:nvSpPr>
                      <p:spPr>
                        <a:xfrm flipH="1" flipV="1">
                          <a:off x="7778520" y="3591000"/>
                          <a:ext cx="54720" cy="82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5280" bIns="35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91" name=""/>
                        <p:cNvSpPr/>
                        <p:nvPr/>
                      </p:nvSpPr>
                      <p:spPr>
                        <a:xfrm flipH="1">
                          <a:off x="7778520" y="3673080"/>
                          <a:ext cx="547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92" name=""/>
                        <p:cNvSpPr/>
                        <p:nvPr/>
                      </p:nvSpPr>
                      <p:spPr>
                        <a:xfrm>
                          <a:off x="7806240" y="3755160"/>
                          <a:ext cx="82080" cy="8208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1520" bIns="11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93" name=""/>
                        <p:cNvSpPr/>
                        <p:nvPr/>
                      </p:nvSpPr>
                      <p:spPr>
                        <a:xfrm>
                          <a:off x="7696440" y="3755160"/>
                          <a:ext cx="54720" cy="54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7920" bIns="-7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94" name=""/>
                        <p:cNvSpPr/>
                        <p:nvPr/>
                      </p:nvSpPr>
                      <p:spPr>
                        <a:xfrm>
                          <a:off x="7916040" y="3755160"/>
                          <a:ext cx="54720" cy="54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7920" bIns="-7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95" name=""/>
                        <p:cNvSpPr/>
                        <p:nvPr/>
                      </p:nvSpPr>
                      <p:spPr>
                        <a:xfrm>
                          <a:off x="7806240" y="3645720"/>
                          <a:ext cx="54720" cy="54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7920" bIns="-7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96" name=""/>
                        <p:cNvSpPr/>
                        <p:nvPr/>
                      </p:nvSpPr>
                      <p:spPr>
                        <a:xfrm>
                          <a:off x="7888680" y="3618360"/>
                          <a:ext cx="27360" cy="27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97" name=""/>
                        <p:cNvSpPr/>
                        <p:nvPr/>
                      </p:nvSpPr>
                      <p:spPr>
                        <a:xfrm>
                          <a:off x="7751160" y="3645720"/>
                          <a:ext cx="27360" cy="27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98" name=""/>
                        <p:cNvSpPr/>
                        <p:nvPr/>
                      </p:nvSpPr>
                      <p:spPr>
                        <a:xfrm>
                          <a:off x="7778520" y="3591000"/>
                          <a:ext cx="27360" cy="27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99" name=""/>
                    <p:cNvGrpSpPr/>
                    <p:nvPr/>
                  </p:nvGrpSpPr>
                  <p:grpSpPr>
                    <a:xfrm>
                      <a:off x="7504200" y="3599640"/>
                      <a:ext cx="412560" cy="429840"/>
                      <a:chOff x="7504200" y="3599640"/>
                      <a:chExt cx="412560" cy="429840"/>
                    </a:xfrm>
                  </p:grpSpPr>
                  <p:sp>
                    <p:nvSpPr>
                      <p:cNvPr id="1300" name=""/>
                      <p:cNvSpPr/>
                      <p:nvPr/>
                    </p:nvSpPr>
                    <p:spPr>
                      <a:xfrm>
                        <a:off x="7504200" y="3599640"/>
                        <a:ext cx="412560" cy="4298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301" name=""/>
                      <p:cNvGrpSpPr/>
                      <p:nvPr/>
                    </p:nvGrpSpPr>
                    <p:grpSpPr>
                      <a:xfrm>
                        <a:off x="7559280" y="3629880"/>
                        <a:ext cx="274320" cy="320760"/>
                        <a:chOff x="7559280" y="3629880"/>
                        <a:chExt cx="274320" cy="320760"/>
                      </a:xfrm>
                    </p:grpSpPr>
                    <p:sp>
                      <p:nvSpPr>
                        <p:cNvPr id="1302" name=""/>
                        <p:cNvSpPr/>
                        <p:nvPr/>
                      </p:nvSpPr>
                      <p:spPr>
                        <a:xfrm>
                          <a:off x="7776000" y="3896640"/>
                          <a:ext cx="54720" cy="5400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03" name=""/>
                        <p:cNvSpPr/>
                        <p:nvPr/>
                      </p:nvSpPr>
                      <p:spPr>
                        <a:xfrm flipH="1" flipV="1">
                          <a:off x="7696440" y="3711960"/>
                          <a:ext cx="27360" cy="136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04" name=""/>
                        <p:cNvSpPr/>
                        <p:nvPr/>
                      </p:nvSpPr>
                      <p:spPr>
                        <a:xfrm>
                          <a:off x="7723800" y="3821400"/>
                          <a:ext cx="820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05" name=""/>
                        <p:cNvSpPr/>
                        <p:nvPr/>
                      </p:nvSpPr>
                      <p:spPr>
                        <a:xfrm>
                          <a:off x="7696440" y="3821400"/>
                          <a:ext cx="100440" cy="9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06" name=""/>
                        <p:cNvSpPr/>
                        <p:nvPr/>
                      </p:nvSpPr>
                      <p:spPr>
                        <a:xfrm flipH="1">
                          <a:off x="7586280" y="3821400"/>
                          <a:ext cx="109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07" name=""/>
                        <p:cNvSpPr/>
                        <p:nvPr/>
                      </p:nvSpPr>
                      <p:spPr>
                        <a:xfrm flipV="1">
                          <a:off x="7669080" y="3657240"/>
                          <a:ext cx="109800" cy="54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920" bIns="7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08" name=""/>
                        <p:cNvSpPr/>
                        <p:nvPr/>
                      </p:nvSpPr>
                      <p:spPr>
                        <a:xfrm flipH="1" flipV="1">
                          <a:off x="7641360" y="3629880"/>
                          <a:ext cx="54720" cy="82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5280" bIns="35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09" name=""/>
                        <p:cNvSpPr/>
                        <p:nvPr/>
                      </p:nvSpPr>
                      <p:spPr>
                        <a:xfrm flipH="1">
                          <a:off x="7641360" y="3711960"/>
                          <a:ext cx="547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10" name=""/>
                        <p:cNvSpPr/>
                        <p:nvPr/>
                      </p:nvSpPr>
                      <p:spPr>
                        <a:xfrm>
                          <a:off x="7669080" y="3794040"/>
                          <a:ext cx="82080" cy="8208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1520" bIns="11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11" name=""/>
                        <p:cNvSpPr/>
                        <p:nvPr/>
                      </p:nvSpPr>
                      <p:spPr>
                        <a:xfrm>
                          <a:off x="7559280" y="3794040"/>
                          <a:ext cx="54720" cy="54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7920" bIns="-7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12" name=""/>
                        <p:cNvSpPr/>
                        <p:nvPr/>
                      </p:nvSpPr>
                      <p:spPr>
                        <a:xfrm>
                          <a:off x="7778880" y="3794040"/>
                          <a:ext cx="54720" cy="54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7920" bIns="-7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13" name=""/>
                        <p:cNvSpPr/>
                        <p:nvPr/>
                      </p:nvSpPr>
                      <p:spPr>
                        <a:xfrm>
                          <a:off x="7669080" y="3684600"/>
                          <a:ext cx="54720" cy="54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280" bIns="-8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14" name=""/>
                        <p:cNvSpPr/>
                        <p:nvPr/>
                      </p:nvSpPr>
                      <p:spPr>
                        <a:xfrm>
                          <a:off x="7751520" y="3657240"/>
                          <a:ext cx="27360" cy="27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15" name=""/>
                        <p:cNvSpPr/>
                        <p:nvPr/>
                      </p:nvSpPr>
                      <p:spPr>
                        <a:xfrm>
                          <a:off x="7614000" y="3684600"/>
                          <a:ext cx="27360" cy="27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16" name=""/>
                        <p:cNvSpPr/>
                        <p:nvPr/>
                      </p:nvSpPr>
                      <p:spPr>
                        <a:xfrm>
                          <a:off x="7641360" y="3629880"/>
                          <a:ext cx="27360" cy="27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317" name=""/>
                <p:cNvGrpSpPr/>
                <p:nvPr/>
              </p:nvGrpSpPr>
              <p:grpSpPr>
                <a:xfrm>
                  <a:off x="6156360" y="3560760"/>
                  <a:ext cx="960480" cy="856080"/>
                  <a:chOff x="6156360" y="3560760"/>
                  <a:chExt cx="960480" cy="856080"/>
                </a:xfrm>
              </p:grpSpPr>
              <p:sp>
                <p:nvSpPr>
                  <p:cNvPr id="1318" name=""/>
                  <p:cNvSpPr/>
                  <p:nvPr/>
                </p:nvSpPr>
                <p:spPr>
                  <a:xfrm>
                    <a:off x="6156360" y="4018320"/>
                    <a:ext cx="96048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cedures Ontologie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19" name=""/>
                  <p:cNvGrpSpPr/>
                  <p:nvPr/>
                </p:nvGrpSpPr>
                <p:grpSpPr>
                  <a:xfrm>
                    <a:off x="6361200" y="3560760"/>
                    <a:ext cx="549720" cy="468720"/>
                    <a:chOff x="6361200" y="3560760"/>
                    <a:chExt cx="549720" cy="468720"/>
                  </a:xfrm>
                </p:grpSpPr>
                <p:grpSp>
                  <p:nvGrpSpPr>
                    <p:cNvPr id="1320" name=""/>
                    <p:cNvGrpSpPr/>
                    <p:nvPr/>
                  </p:nvGrpSpPr>
                  <p:grpSpPr>
                    <a:xfrm>
                      <a:off x="6498360" y="3560760"/>
                      <a:ext cx="412560" cy="430200"/>
                      <a:chOff x="6498360" y="3560760"/>
                      <a:chExt cx="412560" cy="430200"/>
                    </a:xfrm>
                  </p:grpSpPr>
                  <p:sp>
                    <p:nvSpPr>
                      <p:cNvPr id="1321" name=""/>
                      <p:cNvSpPr/>
                      <p:nvPr/>
                    </p:nvSpPr>
                    <p:spPr>
                      <a:xfrm>
                        <a:off x="6498360" y="3560760"/>
                        <a:ext cx="412560" cy="4302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322" name=""/>
                      <p:cNvGrpSpPr/>
                      <p:nvPr/>
                    </p:nvGrpSpPr>
                    <p:grpSpPr>
                      <a:xfrm>
                        <a:off x="6553440" y="3591000"/>
                        <a:ext cx="274320" cy="321120"/>
                        <a:chOff x="6553440" y="3591000"/>
                        <a:chExt cx="274320" cy="321120"/>
                      </a:xfrm>
                    </p:grpSpPr>
                    <p:sp>
                      <p:nvSpPr>
                        <p:cNvPr id="1323" name=""/>
                        <p:cNvSpPr/>
                        <p:nvPr/>
                      </p:nvSpPr>
                      <p:spPr>
                        <a:xfrm>
                          <a:off x="6770160" y="3858120"/>
                          <a:ext cx="54720" cy="5400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24" name=""/>
                        <p:cNvSpPr/>
                        <p:nvPr/>
                      </p:nvSpPr>
                      <p:spPr>
                        <a:xfrm flipH="1" flipV="1">
                          <a:off x="6690600" y="3673080"/>
                          <a:ext cx="27360" cy="136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25" name=""/>
                        <p:cNvSpPr/>
                        <p:nvPr/>
                      </p:nvSpPr>
                      <p:spPr>
                        <a:xfrm>
                          <a:off x="6717960" y="3782880"/>
                          <a:ext cx="820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26" name=""/>
                        <p:cNvSpPr/>
                        <p:nvPr/>
                      </p:nvSpPr>
                      <p:spPr>
                        <a:xfrm>
                          <a:off x="6690600" y="3782880"/>
                          <a:ext cx="100440" cy="9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27" name=""/>
                        <p:cNvSpPr/>
                        <p:nvPr/>
                      </p:nvSpPr>
                      <p:spPr>
                        <a:xfrm flipH="1">
                          <a:off x="6580440" y="3782880"/>
                          <a:ext cx="109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28" name=""/>
                        <p:cNvSpPr/>
                        <p:nvPr/>
                      </p:nvSpPr>
                      <p:spPr>
                        <a:xfrm flipV="1">
                          <a:off x="6663240" y="3618360"/>
                          <a:ext cx="109800" cy="54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920" bIns="7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29" name=""/>
                        <p:cNvSpPr/>
                        <p:nvPr/>
                      </p:nvSpPr>
                      <p:spPr>
                        <a:xfrm flipH="1" flipV="1">
                          <a:off x="6635520" y="3591000"/>
                          <a:ext cx="54720" cy="82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5280" bIns="35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0" name=""/>
                        <p:cNvSpPr/>
                        <p:nvPr/>
                      </p:nvSpPr>
                      <p:spPr>
                        <a:xfrm flipH="1">
                          <a:off x="6635520" y="3673080"/>
                          <a:ext cx="547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1" name=""/>
                        <p:cNvSpPr/>
                        <p:nvPr/>
                      </p:nvSpPr>
                      <p:spPr>
                        <a:xfrm>
                          <a:off x="6663240" y="3755160"/>
                          <a:ext cx="82080" cy="8208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1520" bIns="11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2" name=""/>
                        <p:cNvSpPr/>
                        <p:nvPr/>
                      </p:nvSpPr>
                      <p:spPr>
                        <a:xfrm>
                          <a:off x="6553440" y="3755160"/>
                          <a:ext cx="54720" cy="54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7920" bIns="-7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3" name=""/>
                        <p:cNvSpPr/>
                        <p:nvPr/>
                      </p:nvSpPr>
                      <p:spPr>
                        <a:xfrm>
                          <a:off x="6773040" y="3755160"/>
                          <a:ext cx="54720" cy="54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7920" bIns="-7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4" name=""/>
                        <p:cNvSpPr/>
                        <p:nvPr/>
                      </p:nvSpPr>
                      <p:spPr>
                        <a:xfrm>
                          <a:off x="6663240" y="3645720"/>
                          <a:ext cx="54720" cy="54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7920" bIns="-7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5" name=""/>
                        <p:cNvSpPr/>
                        <p:nvPr/>
                      </p:nvSpPr>
                      <p:spPr>
                        <a:xfrm>
                          <a:off x="6745680" y="3618360"/>
                          <a:ext cx="27360" cy="27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6" name=""/>
                        <p:cNvSpPr/>
                        <p:nvPr/>
                      </p:nvSpPr>
                      <p:spPr>
                        <a:xfrm>
                          <a:off x="6608160" y="3645720"/>
                          <a:ext cx="27360" cy="27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7" name=""/>
                        <p:cNvSpPr/>
                        <p:nvPr/>
                      </p:nvSpPr>
                      <p:spPr>
                        <a:xfrm>
                          <a:off x="6635520" y="3591000"/>
                          <a:ext cx="27360" cy="27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38" name=""/>
                    <p:cNvGrpSpPr/>
                    <p:nvPr/>
                  </p:nvGrpSpPr>
                  <p:grpSpPr>
                    <a:xfrm>
                      <a:off x="6361200" y="3599640"/>
                      <a:ext cx="412560" cy="429840"/>
                      <a:chOff x="6361200" y="3599640"/>
                      <a:chExt cx="412560" cy="429840"/>
                    </a:xfrm>
                  </p:grpSpPr>
                  <p:sp>
                    <p:nvSpPr>
                      <p:cNvPr id="1339" name=""/>
                      <p:cNvSpPr/>
                      <p:nvPr/>
                    </p:nvSpPr>
                    <p:spPr>
                      <a:xfrm>
                        <a:off x="6361200" y="3599640"/>
                        <a:ext cx="412560" cy="4298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340" name=""/>
                      <p:cNvGrpSpPr/>
                      <p:nvPr/>
                    </p:nvGrpSpPr>
                    <p:grpSpPr>
                      <a:xfrm>
                        <a:off x="6416280" y="3629880"/>
                        <a:ext cx="274320" cy="320760"/>
                        <a:chOff x="6416280" y="3629880"/>
                        <a:chExt cx="274320" cy="320760"/>
                      </a:xfrm>
                    </p:grpSpPr>
                    <p:sp>
                      <p:nvSpPr>
                        <p:cNvPr id="1341" name=""/>
                        <p:cNvSpPr/>
                        <p:nvPr/>
                      </p:nvSpPr>
                      <p:spPr>
                        <a:xfrm>
                          <a:off x="6633000" y="3896640"/>
                          <a:ext cx="54720" cy="5400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2" name=""/>
                        <p:cNvSpPr/>
                        <p:nvPr/>
                      </p:nvSpPr>
                      <p:spPr>
                        <a:xfrm flipH="1" flipV="1">
                          <a:off x="6553440" y="3711960"/>
                          <a:ext cx="27360" cy="136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3" name=""/>
                        <p:cNvSpPr/>
                        <p:nvPr/>
                      </p:nvSpPr>
                      <p:spPr>
                        <a:xfrm>
                          <a:off x="6580800" y="3821400"/>
                          <a:ext cx="820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4" name=""/>
                        <p:cNvSpPr/>
                        <p:nvPr/>
                      </p:nvSpPr>
                      <p:spPr>
                        <a:xfrm>
                          <a:off x="6553440" y="3821400"/>
                          <a:ext cx="100440" cy="9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5" name=""/>
                        <p:cNvSpPr/>
                        <p:nvPr/>
                      </p:nvSpPr>
                      <p:spPr>
                        <a:xfrm flipH="1">
                          <a:off x="6443280" y="3821400"/>
                          <a:ext cx="109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6" name=""/>
                        <p:cNvSpPr/>
                        <p:nvPr/>
                      </p:nvSpPr>
                      <p:spPr>
                        <a:xfrm flipV="1">
                          <a:off x="6526080" y="3657240"/>
                          <a:ext cx="109800" cy="54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920" bIns="7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7" name=""/>
                        <p:cNvSpPr/>
                        <p:nvPr/>
                      </p:nvSpPr>
                      <p:spPr>
                        <a:xfrm flipH="1" flipV="1">
                          <a:off x="6498360" y="3629880"/>
                          <a:ext cx="54720" cy="82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5280" bIns="35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8" name=""/>
                        <p:cNvSpPr/>
                        <p:nvPr/>
                      </p:nvSpPr>
                      <p:spPr>
                        <a:xfrm flipH="1">
                          <a:off x="6498360" y="3711960"/>
                          <a:ext cx="547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9" name=""/>
                        <p:cNvSpPr/>
                        <p:nvPr/>
                      </p:nvSpPr>
                      <p:spPr>
                        <a:xfrm>
                          <a:off x="6526080" y="3794040"/>
                          <a:ext cx="82080" cy="8208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1520" bIns="11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0" name=""/>
                        <p:cNvSpPr/>
                        <p:nvPr/>
                      </p:nvSpPr>
                      <p:spPr>
                        <a:xfrm>
                          <a:off x="6416280" y="3794040"/>
                          <a:ext cx="54720" cy="54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7920" bIns="-7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1" name=""/>
                        <p:cNvSpPr/>
                        <p:nvPr/>
                      </p:nvSpPr>
                      <p:spPr>
                        <a:xfrm>
                          <a:off x="6635880" y="3794040"/>
                          <a:ext cx="54720" cy="54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7920" bIns="-7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2" name=""/>
                        <p:cNvSpPr/>
                        <p:nvPr/>
                      </p:nvSpPr>
                      <p:spPr>
                        <a:xfrm>
                          <a:off x="6526080" y="3684600"/>
                          <a:ext cx="54720" cy="54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280" bIns="-8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3" name=""/>
                        <p:cNvSpPr/>
                        <p:nvPr/>
                      </p:nvSpPr>
                      <p:spPr>
                        <a:xfrm>
                          <a:off x="6608520" y="3657240"/>
                          <a:ext cx="27360" cy="27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4" name=""/>
                        <p:cNvSpPr/>
                        <p:nvPr/>
                      </p:nvSpPr>
                      <p:spPr>
                        <a:xfrm>
                          <a:off x="6471000" y="3684600"/>
                          <a:ext cx="27360" cy="27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5" name=""/>
                        <p:cNvSpPr/>
                        <p:nvPr/>
                      </p:nvSpPr>
                      <p:spPr>
                        <a:xfrm>
                          <a:off x="6498360" y="3629880"/>
                          <a:ext cx="27360" cy="27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360" bIns="-27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1356" name=""/>
                <p:cNvSpPr/>
                <p:nvPr/>
              </p:nvSpPr>
              <p:spPr>
                <a:xfrm>
                  <a:off x="7664400" y="4830480"/>
                  <a:ext cx="36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6796080" y="4738680"/>
                  <a:ext cx="777960" cy="32004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g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rok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 flipV="1">
                  <a:off x="6248520" y="5699160"/>
                  <a:ext cx="228600" cy="136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9" name=""/>
                <p:cNvGrpSpPr/>
                <p:nvPr/>
              </p:nvGrpSpPr>
              <p:grpSpPr>
                <a:xfrm>
                  <a:off x="5334120" y="4518000"/>
                  <a:ext cx="1371600" cy="843480"/>
                  <a:chOff x="5334120" y="4518000"/>
                  <a:chExt cx="1371600" cy="843480"/>
                </a:xfrm>
              </p:grpSpPr>
              <p:grpSp>
                <p:nvGrpSpPr>
                  <p:cNvPr id="1360" name=""/>
                  <p:cNvGrpSpPr/>
                  <p:nvPr/>
                </p:nvGrpSpPr>
                <p:grpSpPr>
                  <a:xfrm>
                    <a:off x="5699520" y="4518000"/>
                    <a:ext cx="600840" cy="586440"/>
                    <a:chOff x="5699520" y="4518000"/>
                    <a:chExt cx="600840" cy="586440"/>
                  </a:xfrm>
                </p:grpSpPr>
                <p:grpSp>
                  <p:nvGrpSpPr>
                    <p:cNvPr id="1361" name=""/>
                    <p:cNvGrpSpPr/>
                    <p:nvPr/>
                  </p:nvGrpSpPr>
                  <p:grpSpPr>
                    <a:xfrm>
                      <a:off x="5947920" y="4518000"/>
                      <a:ext cx="144720" cy="146520"/>
                      <a:chOff x="5947920" y="4518000"/>
                      <a:chExt cx="144720" cy="146520"/>
                    </a:xfrm>
                  </p:grpSpPr>
                  <p:sp>
                    <p:nvSpPr>
                      <p:cNvPr id="1362" name=""/>
                      <p:cNvSpPr/>
                      <p:nvPr/>
                    </p:nvSpPr>
                    <p:spPr>
                      <a:xfrm>
                        <a:off x="5947920" y="4518000"/>
                        <a:ext cx="144720" cy="146520"/>
                      </a:xfrm>
                      <a:prstGeom prst="flowChartMultidocument">
                        <a:avLst/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3" name=""/>
                      <p:cNvSpPr/>
                      <p:nvPr/>
                    </p:nvSpPr>
                    <p:spPr>
                      <a:xfrm>
                        <a:off x="5968440" y="457272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4" name=""/>
                      <p:cNvSpPr/>
                      <p:nvPr/>
                    </p:nvSpPr>
                    <p:spPr>
                      <a:xfrm>
                        <a:off x="5989320" y="457272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5" name=""/>
                      <p:cNvSpPr/>
                      <p:nvPr/>
                    </p:nvSpPr>
                    <p:spPr>
                      <a:xfrm>
                        <a:off x="5968440" y="459108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6" name=""/>
                      <p:cNvSpPr/>
                      <p:nvPr/>
                    </p:nvSpPr>
                    <p:spPr>
                      <a:xfrm>
                        <a:off x="5989320" y="459108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7" name=""/>
                      <p:cNvSpPr/>
                      <p:nvPr/>
                    </p:nvSpPr>
                    <p:spPr>
                      <a:xfrm>
                        <a:off x="6009840" y="459108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8" name=""/>
                      <p:cNvSpPr/>
                      <p:nvPr/>
                    </p:nvSpPr>
                    <p:spPr>
                      <a:xfrm>
                        <a:off x="5989320" y="460944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69" name=""/>
                    <p:cNvGrpSpPr/>
                    <p:nvPr/>
                  </p:nvGrpSpPr>
                  <p:grpSpPr>
                    <a:xfrm>
                      <a:off x="5740920" y="4957920"/>
                      <a:ext cx="145080" cy="146520"/>
                      <a:chOff x="5740920" y="4957920"/>
                      <a:chExt cx="145080" cy="146520"/>
                    </a:xfrm>
                  </p:grpSpPr>
                  <p:sp>
                    <p:nvSpPr>
                      <p:cNvPr id="1370" name=""/>
                      <p:cNvSpPr/>
                      <p:nvPr/>
                    </p:nvSpPr>
                    <p:spPr>
                      <a:xfrm>
                        <a:off x="5740920" y="4957920"/>
                        <a:ext cx="145080" cy="146520"/>
                      </a:xfrm>
                      <a:prstGeom prst="flowChartMultidocument">
                        <a:avLst/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1" name=""/>
                      <p:cNvSpPr/>
                      <p:nvPr/>
                    </p:nvSpPr>
                    <p:spPr>
                      <a:xfrm>
                        <a:off x="5761440" y="501264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2" name=""/>
                      <p:cNvSpPr/>
                      <p:nvPr/>
                    </p:nvSpPr>
                    <p:spPr>
                      <a:xfrm>
                        <a:off x="5782320" y="501264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3" name=""/>
                      <p:cNvSpPr/>
                      <p:nvPr/>
                    </p:nvSpPr>
                    <p:spPr>
                      <a:xfrm>
                        <a:off x="5761440" y="5031000"/>
                        <a:ext cx="41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4" name=""/>
                      <p:cNvSpPr/>
                      <p:nvPr/>
                    </p:nvSpPr>
                    <p:spPr>
                      <a:xfrm>
                        <a:off x="5782320" y="503100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5" name=""/>
                      <p:cNvSpPr/>
                      <p:nvPr/>
                    </p:nvSpPr>
                    <p:spPr>
                      <a:xfrm>
                        <a:off x="5802840" y="503100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6" name=""/>
                      <p:cNvSpPr/>
                      <p:nvPr/>
                    </p:nvSpPr>
                    <p:spPr>
                      <a:xfrm>
                        <a:off x="5782320" y="5049360"/>
                        <a:ext cx="41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77" name=""/>
                    <p:cNvGrpSpPr/>
                    <p:nvPr/>
                  </p:nvGrpSpPr>
                  <p:grpSpPr>
                    <a:xfrm>
                      <a:off x="5699520" y="4682880"/>
                      <a:ext cx="144720" cy="146520"/>
                      <a:chOff x="5699520" y="4682880"/>
                      <a:chExt cx="144720" cy="146520"/>
                    </a:xfrm>
                  </p:grpSpPr>
                  <p:sp>
                    <p:nvSpPr>
                      <p:cNvPr id="1378" name=""/>
                      <p:cNvSpPr/>
                      <p:nvPr/>
                    </p:nvSpPr>
                    <p:spPr>
                      <a:xfrm>
                        <a:off x="5699520" y="4682880"/>
                        <a:ext cx="144720" cy="146520"/>
                      </a:xfrm>
                      <a:prstGeom prst="flowChartMultidocument">
                        <a:avLst/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9" name=""/>
                      <p:cNvSpPr/>
                      <p:nvPr/>
                    </p:nvSpPr>
                    <p:spPr>
                      <a:xfrm>
                        <a:off x="5720040" y="473760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0" name=""/>
                      <p:cNvSpPr/>
                      <p:nvPr/>
                    </p:nvSpPr>
                    <p:spPr>
                      <a:xfrm>
                        <a:off x="5740920" y="473760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1" name=""/>
                      <p:cNvSpPr/>
                      <p:nvPr/>
                    </p:nvSpPr>
                    <p:spPr>
                      <a:xfrm>
                        <a:off x="5720040" y="475596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2" name=""/>
                      <p:cNvSpPr/>
                      <p:nvPr/>
                    </p:nvSpPr>
                    <p:spPr>
                      <a:xfrm>
                        <a:off x="5740920" y="475596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3" name=""/>
                      <p:cNvSpPr/>
                      <p:nvPr/>
                    </p:nvSpPr>
                    <p:spPr>
                      <a:xfrm>
                        <a:off x="5761440" y="475596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4" name=""/>
                      <p:cNvSpPr/>
                      <p:nvPr/>
                    </p:nvSpPr>
                    <p:spPr>
                      <a:xfrm>
                        <a:off x="5740920" y="477432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85" name=""/>
                    <p:cNvGrpSpPr/>
                    <p:nvPr/>
                  </p:nvGrpSpPr>
                  <p:grpSpPr>
                    <a:xfrm>
                      <a:off x="6093000" y="4957920"/>
                      <a:ext cx="145080" cy="146520"/>
                      <a:chOff x="6093000" y="4957920"/>
                      <a:chExt cx="145080" cy="146520"/>
                    </a:xfrm>
                  </p:grpSpPr>
                  <p:sp>
                    <p:nvSpPr>
                      <p:cNvPr id="1386" name=""/>
                      <p:cNvSpPr/>
                      <p:nvPr/>
                    </p:nvSpPr>
                    <p:spPr>
                      <a:xfrm>
                        <a:off x="6093000" y="4957920"/>
                        <a:ext cx="145080" cy="146520"/>
                      </a:xfrm>
                      <a:prstGeom prst="flowChartMultidocument">
                        <a:avLst/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7" name=""/>
                      <p:cNvSpPr/>
                      <p:nvPr/>
                    </p:nvSpPr>
                    <p:spPr>
                      <a:xfrm>
                        <a:off x="6113520" y="501264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8" name=""/>
                      <p:cNvSpPr/>
                      <p:nvPr/>
                    </p:nvSpPr>
                    <p:spPr>
                      <a:xfrm>
                        <a:off x="6134400" y="501264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9" name=""/>
                      <p:cNvSpPr/>
                      <p:nvPr/>
                    </p:nvSpPr>
                    <p:spPr>
                      <a:xfrm>
                        <a:off x="6113520" y="5031000"/>
                        <a:ext cx="41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0" name=""/>
                      <p:cNvSpPr/>
                      <p:nvPr/>
                    </p:nvSpPr>
                    <p:spPr>
                      <a:xfrm>
                        <a:off x="6134400" y="503100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1" name=""/>
                      <p:cNvSpPr/>
                      <p:nvPr/>
                    </p:nvSpPr>
                    <p:spPr>
                      <a:xfrm>
                        <a:off x="6154920" y="503100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2" name=""/>
                      <p:cNvSpPr/>
                      <p:nvPr/>
                    </p:nvSpPr>
                    <p:spPr>
                      <a:xfrm>
                        <a:off x="6134400" y="5049360"/>
                        <a:ext cx="41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93" name=""/>
                    <p:cNvGrpSpPr/>
                    <p:nvPr/>
                  </p:nvGrpSpPr>
                  <p:grpSpPr>
                    <a:xfrm>
                      <a:off x="5947920" y="4774680"/>
                      <a:ext cx="144720" cy="146520"/>
                      <a:chOff x="5947920" y="4774680"/>
                      <a:chExt cx="144720" cy="146520"/>
                    </a:xfrm>
                  </p:grpSpPr>
                  <p:sp>
                    <p:nvSpPr>
                      <p:cNvPr id="1394" name=""/>
                      <p:cNvSpPr/>
                      <p:nvPr/>
                    </p:nvSpPr>
                    <p:spPr>
                      <a:xfrm>
                        <a:off x="5947920" y="4774680"/>
                        <a:ext cx="144720" cy="146520"/>
                      </a:xfrm>
                      <a:prstGeom prst="flowChartMultidocument">
                        <a:avLst/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5" name=""/>
                      <p:cNvSpPr/>
                      <p:nvPr/>
                    </p:nvSpPr>
                    <p:spPr>
                      <a:xfrm>
                        <a:off x="5968440" y="482940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6" name=""/>
                      <p:cNvSpPr/>
                      <p:nvPr/>
                    </p:nvSpPr>
                    <p:spPr>
                      <a:xfrm>
                        <a:off x="5989320" y="482940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7" name=""/>
                      <p:cNvSpPr/>
                      <p:nvPr/>
                    </p:nvSpPr>
                    <p:spPr>
                      <a:xfrm>
                        <a:off x="5968440" y="484776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8" name=""/>
                      <p:cNvSpPr/>
                      <p:nvPr/>
                    </p:nvSpPr>
                    <p:spPr>
                      <a:xfrm>
                        <a:off x="5989320" y="484776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9" name=""/>
                      <p:cNvSpPr/>
                      <p:nvPr/>
                    </p:nvSpPr>
                    <p:spPr>
                      <a:xfrm>
                        <a:off x="6009840" y="484776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0" name=""/>
                      <p:cNvSpPr/>
                      <p:nvPr/>
                    </p:nvSpPr>
                    <p:spPr>
                      <a:xfrm>
                        <a:off x="5989320" y="4866120"/>
                        <a:ext cx="41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01" name=""/>
                    <p:cNvGrpSpPr/>
                    <p:nvPr/>
                  </p:nvGrpSpPr>
                  <p:grpSpPr>
                    <a:xfrm>
                      <a:off x="6155280" y="4682880"/>
                      <a:ext cx="145080" cy="146520"/>
                      <a:chOff x="6155280" y="4682880"/>
                      <a:chExt cx="145080" cy="146520"/>
                    </a:xfrm>
                  </p:grpSpPr>
                  <p:sp>
                    <p:nvSpPr>
                      <p:cNvPr id="1402" name=""/>
                      <p:cNvSpPr/>
                      <p:nvPr/>
                    </p:nvSpPr>
                    <p:spPr>
                      <a:xfrm>
                        <a:off x="6155280" y="4682880"/>
                        <a:ext cx="145080" cy="146520"/>
                      </a:xfrm>
                      <a:prstGeom prst="flowChartMultidocument">
                        <a:avLst/>
                      </a:prstGeom>
                      <a:solidFill>
                        <a:srgbClr val="cc99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3" name=""/>
                      <p:cNvSpPr/>
                      <p:nvPr/>
                    </p:nvSpPr>
                    <p:spPr>
                      <a:xfrm>
                        <a:off x="6175800" y="473760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4" name=""/>
                      <p:cNvSpPr/>
                      <p:nvPr/>
                    </p:nvSpPr>
                    <p:spPr>
                      <a:xfrm>
                        <a:off x="6196680" y="473760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5" name=""/>
                      <p:cNvSpPr/>
                      <p:nvPr/>
                    </p:nvSpPr>
                    <p:spPr>
                      <a:xfrm>
                        <a:off x="6175800" y="4755960"/>
                        <a:ext cx="41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6" name=""/>
                      <p:cNvSpPr/>
                      <p:nvPr/>
                    </p:nvSpPr>
                    <p:spPr>
                      <a:xfrm>
                        <a:off x="6196680" y="4755960"/>
                        <a:ext cx="6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7" name=""/>
                      <p:cNvSpPr/>
                      <p:nvPr/>
                    </p:nvSpPr>
                    <p:spPr>
                      <a:xfrm>
                        <a:off x="6217200" y="4755960"/>
                        <a:ext cx="0" cy="18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8" name=""/>
                      <p:cNvSpPr/>
                      <p:nvPr/>
                    </p:nvSpPr>
                    <p:spPr>
                      <a:xfrm>
                        <a:off x="6196680" y="4774320"/>
                        <a:ext cx="41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09" name=""/>
                    <p:cNvSpPr/>
                    <p:nvPr/>
                  </p:nvSpPr>
                  <p:spPr>
                    <a:xfrm flipH="1" flipV="1">
                      <a:off x="5781960" y="4811400"/>
                      <a:ext cx="41400" cy="164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0" name=""/>
                    <p:cNvSpPr/>
                    <p:nvPr/>
                  </p:nvSpPr>
                  <p:spPr>
                    <a:xfrm flipV="1">
                      <a:off x="5823720" y="4627440"/>
                      <a:ext cx="124200" cy="73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1" name=""/>
                    <p:cNvSpPr/>
                    <p:nvPr/>
                  </p:nvSpPr>
                  <p:spPr>
                    <a:xfrm flipH="1">
                      <a:off x="5843880" y="4664520"/>
                      <a:ext cx="145080" cy="311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2" name=""/>
                    <p:cNvSpPr/>
                    <p:nvPr/>
                  </p:nvSpPr>
                  <p:spPr>
                    <a:xfrm flipH="1" flipV="1">
                      <a:off x="5844240" y="4755960"/>
                      <a:ext cx="186480" cy="18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3" name=""/>
                    <p:cNvSpPr/>
                    <p:nvPr/>
                  </p:nvSpPr>
                  <p:spPr>
                    <a:xfrm flipV="1">
                      <a:off x="6093000" y="4774320"/>
                      <a:ext cx="61920" cy="73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4" name=""/>
                    <p:cNvSpPr/>
                    <p:nvPr/>
                  </p:nvSpPr>
                  <p:spPr>
                    <a:xfrm flipH="1" flipV="1">
                      <a:off x="6093000" y="4627800"/>
                      <a:ext cx="61920" cy="91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5" name=""/>
                    <p:cNvSpPr/>
                    <p:nvPr/>
                  </p:nvSpPr>
                  <p:spPr>
                    <a:xfrm flipH="1">
                      <a:off x="5782320" y="4572720"/>
                      <a:ext cx="165600" cy="109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6" name=""/>
                    <p:cNvSpPr/>
                    <p:nvPr/>
                  </p:nvSpPr>
                  <p:spPr>
                    <a:xfrm flipH="1" flipV="1">
                      <a:off x="6031080" y="4902840"/>
                      <a:ext cx="61920" cy="109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7" name=""/>
                    <p:cNvSpPr/>
                    <p:nvPr/>
                  </p:nvSpPr>
                  <p:spPr>
                    <a:xfrm>
                      <a:off x="5886000" y="5013000"/>
                      <a:ext cx="207000" cy="18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8" name=""/>
                    <p:cNvSpPr/>
                    <p:nvPr/>
                  </p:nvSpPr>
                  <p:spPr>
                    <a:xfrm flipH="1">
                      <a:off x="6175800" y="4829760"/>
                      <a:ext cx="20520" cy="128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9" name=""/>
                  <p:cNvSpPr/>
                  <p:nvPr/>
                </p:nvSpPr>
                <p:spPr>
                  <a:xfrm>
                    <a:off x="5334120" y="5115240"/>
                    <a:ext cx="13716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onstraints &amp; Pref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0" name=""/>
                <p:cNvSpPr/>
                <p:nvPr/>
              </p:nvSpPr>
              <p:spPr>
                <a:xfrm>
                  <a:off x="6338880" y="4830480"/>
                  <a:ext cx="36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 flipH="1">
                  <a:off x="6338880" y="4419360"/>
                  <a:ext cx="184320" cy="18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2" name=""/>
              <p:cNvGrpSpPr/>
              <p:nvPr/>
            </p:nvGrpSpPr>
            <p:grpSpPr>
              <a:xfrm>
                <a:off x="6935760" y="5486400"/>
                <a:ext cx="779760" cy="277920"/>
                <a:chOff x="6935760" y="5486400"/>
                <a:chExt cx="779760" cy="277920"/>
              </a:xfrm>
            </p:grpSpPr>
            <p:sp>
              <p:nvSpPr>
                <p:cNvPr id="1423" name=""/>
                <p:cNvSpPr/>
                <p:nvPr/>
              </p:nvSpPr>
              <p:spPr>
                <a:xfrm>
                  <a:off x="6935760" y="5486400"/>
                  <a:ext cx="560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E-mai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7438680" y="551808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..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25" name=""/>
            <p:cNvSpPr/>
            <p:nvPr/>
          </p:nvSpPr>
          <p:spPr>
            <a:xfrm>
              <a:off x="6705720" y="4435560"/>
              <a:ext cx="1440" cy="105084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ravel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8088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676080" y="1322280"/>
            <a:ext cx="685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ob Chen wants to travel from San Francisco to Montere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arting September 2 and returning September 6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purpose of the travel is DAM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91920" y="4859280"/>
            <a:ext cx="7220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Lab’s Relevant 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SL Business air travel must be on an American carri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b’s Relevant 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b would like to drive if the driving distance is less than 3 hou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90120" y="2435400"/>
            <a:ext cx="599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ic Procedu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(customer,origin, dest, date-d, date-r, purpo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k-travel(origin,des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k-transportation(des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k-hotel(des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(custom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-expense-clai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ynamic User Interface with DAML+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8088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3" name=""/>
          <p:cNvGraphicFramePr/>
          <p:nvPr/>
        </p:nvGraphicFramePr>
        <p:xfrm>
          <a:off x="1866960" y="1457280"/>
          <a:ext cx="541008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1457280"/>
                    <a:ext cx="541008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9360" y="1219320"/>
            <a:ext cx="71089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eb is evolving from a provider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imag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982800" y="2133720"/>
            <a:ext cx="6865560" cy="4368240"/>
            <a:chOff x="982800" y="2133720"/>
            <a:chExt cx="6865560" cy="4368240"/>
          </a:xfrm>
        </p:grpSpPr>
        <p:grpSp>
          <p:nvGrpSpPr>
            <p:cNvPr id="47" name=""/>
            <p:cNvGrpSpPr/>
            <p:nvPr/>
          </p:nvGrpSpPr>
          <p:grpSpPr>
            <a:xfrm>
              <a:off x="982800" y="2133720"/>
              <a:ext cx="6865560" cy="4368240"/>
              <a:chOff x="982800" y="2133720"/>
              <a:chExt cx="6865560" cy="43682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982800" y="2133720"/>
                <a:ext cx="6865560" cy="4368240"/>
                <a:chOff x="982800" y="2133720"/>
                <a:chExt cx="6865560" cy="4368240"/>
              </a:xfrm>
            </p:grpSpPr>
            <p:grpSp>
              <p:nvGrpSpPr>
                <p:cNvPr id="49" name=""/>
                <p:cNvGrpSpPr/>
                <p:nvPr/>
              </p:nvGrpSpPr>
              <p:grpSpPr>
                <a:xfrm>
                  <a:off x="982800" y="2133720"/>
                  <a:ext cx="6865560" cy="4368240"/>
                  <a:chOff x="982800" y="2133720"/>
                  <a:chExt cx="6865560" cy="4368240"/>
                </a:xfrm>
              </p:grpSpPr>
              <p:grpSp>
                <p:nvGrpSpPr>
                  <p:cNvPr id="50" name=""/>
                  <p:cNvGrpSpPr/>
                  <p:nvPr/>
                </p:nvGrpSpPr>
                <p:grpSpPr>
                  <a:xfrm>
                    <a:off x="982800" y="2133720"/>
                    <a:ext cx="6865560" cy="4368240"/>
                    <a:chOff x="982800" y="2133720"/>
                    <a:chExt cx="6865560" cy="4368240"/>
                  </a:xfrm>
                </p:grpSpPr>
                <p:sp>
                  <p:nvSpPr>
                    <p:cNvPr id="51" name=""/>
                    <p:cNvSpPr/>
                    <p:nvPr/>
                  </p:nvSpPr>
                  <p:spPr>
                    <a:xfrm>
                      <a:off x="4257000" y="2133720"/>
                      <a:ext cx="3210480" cy="197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69" h="1419">
                          <a:moveTo>
                            <a:pt x="0" y="1419"/>
                          </a:moveTo>
                          <a:cubicBezTo>
                            <a:pt x="39" y="1392"/>
                            <a:pt x="81" y="1395"/>
                            <a:pt x="125" y="1372"/>
                          </a:cubicBezTo>
                          <a:cubicBezTo>
                            <a:pt x="161" y="1354"/>
                            <a:pt x="187" y="1338"/>
                            <a:pt x="226" y="1325"/>
                          </a:cubicBezTo>
                          <a:cubicBezTo>
                            <a:pt x="246" y="1310"/>
                            <a:pt x="268" y="1301"/>
                            <a:pt x="288" y="1286"/>
                          </a:cubicBezTo>
                          <a:cubicBezTo>
                            <a:pt x="300" y="1277"/>
                            <a:pt x="307" y="1262"/>
                            <a:pt x="320" y="1255"/>
                          </a:cubicBezTo>
                          <a:cubicBezTo>
                            <a:pt x="349" y="1240"/>
                            <a:pt x="413" y="1224"/>
                            <a:pt x="413" y="1224"/>
                          </a:cubicBezTo>
                          <a:cubicBezTo>
                            <a:pt x="466" y="1171"/>
                            <a:pt x="515" y="1134"/>
                            <a:pt x="569" y="1083"/>
                          </a:cubicBezTo>
                          <a:cubicBezTo>
                            <a:pt x="598" y="1055"/>
                            <a:pt x="618" y="1014"/>
                            <a:pt x="655" y="998"/>
                          </a:cubicBezTo>
                          <a:cubicBezTo>
                            <a:pt x="684" y="985"/>
                            <a:pt x="747" y="958"/>
                            <a:pt x="772" y="943"/>
                          </a:cubicBezTo>
                          <a:cubicBezTo>
                            <a:pt x="833" y="906"/>
                            <a:pt x="865" y="871"/>
                            <a:pt x="935" y="850"/>
                          </a:cubicBezTo>
                          <a:cubicBezTo>
                            <a:pt x="976" y="823"/>
                            <a:pt x="1006" y="808"/>
                            <a:pt x="1052" y="787"/>
                          </a:cubicBezTo>
                          <a:cubicBezTo>
                            <a:pt x="1114" y="758"/>
                            <a:pt x="1141" y="716"/>
                            <a:pt x="1208" y="694"/>
                          </a:cubicBezTo>
                          <a:cubicBezTo>
                            <a:pt x="1288" y="631"/>
                            <a:pt x="1347" y="584"/>
                            <a:pt x="1442" y="554"/>
                          </a:cubicBezTo>
                          <a:cubicBezTo>
                            <a:pt x="1492" y="502"/>
                            <a:pt x="1432" y="555"/>
                            <a:pt x="1512" y="522"/>
                          </a:cubicBezTo>
                          <a:cubicBezTo>
                            <a:pt x="1542" y="510"/>
                            <a:pt x="1577" y="479"/>
                            <a:pt x="1605" y="460"/>
                          </a:cubicBezTo>
                          <a:cubicBezTo>
                            <a:pt x="1652" y="428"/>
                            <a:pt x="1695" y="399"/>
                            <a:pt x="1746" y="374"/>
                          </a:cubicBezTo>
                          <a:cubicBezTo>
                            <a:pt x="1787" y="333"/>
                            <a:pt x="1838" y="276"/>
                            <a:pt x="1894" y="257"/>
                          </a:cubicBezTo>
                          <a:cubicBezTo>
                            <a:pt x="1939" y="212"/>
                            <a:pt x="2020" y="190"/>
                            <a:pt x="2081" y="172"/>
                          </a:cubicBezTo>
                          <a:cubicBezTo>
                            <a:pt x="2125" y="126"/>
                            <a:pt x="2081" y="164"/>
                            <a:pt x="2166" y="133"/>
                          </a:cubicBezTo>
                          <a:cubicBezTo>
                            <a:pt x="2175" y="130"/>
                            <a:pt x="2181" y="121"/>
                            <a:pt x="2190" y="117"/>
                          </a:cubicBezTo>
                          <a:cubicBezTo>
                            <a:pt x="2205" y="110"/>
                            <a:pt x="2221" y="107"/>
                            <a:pt x="2237" y="102"/>
                          </a:cubicBezTo>
                          <a:cubicBezTo>
                            <a:pt x="2282" y="67"/>
                            <a:pt x="2329" y="40"/>
                            <a:pt x="2369" y="0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" name=""/>
                    <p:cNvSpPr/>
                    <p:nvPr/>
                  </p:nvSpPr>
                  <p:spPr>
                    <a:xfrm>
                      <a:off x="4288320" y="4112280"/>
                      <a:ext cx="3560040" cy="126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27" h="904">
                          <a:moveTo>
                            <a:pt x="0" y="0"/>
                          </a:moveTo>
                          <a:cubicBezTo>
                            <a:pt x="17" y="11"/>
                            <a:pt x="29" y="29"/>
                            <a:pt x="47" y="39"/>
                          </a:cubicBezTo>
                          <a:cubicBezTo>
                            <a:pt x="118" y="78"/>
                            <a:pt x="217" y="95"/>
                            <a:pt x="297" y="109"/>
                          </a:cubicBezTo>
                          <a:cubicBezTo>
                            <a:pt x="338" y="124"/>
                            <a:pt x="379" y="143"/>
                            <a:pt x="421" y="155"/>
                          </a:cubicBezTo>
                          <a:cubicBezTo>
                            <a:pt x="654" y="222"/>
                            <a:pt x="313" y="101"/>
                            <a:pt x="546" y="179"/>
                          </a:cubicBezTo>
                          <a:cubicBezTo>
                            <a:pt x="686" y="226"/>
                            <a:pt x="742" y="238"/>
                            <a:pt x="889" y="249"/>
                          </a:cubicBezTo>
                          <a:cubicBezTo>
                            <a:pt x="1029" y="273"/>
                            <a:pt x="1169" y="292"/>
                            <a:pt x="1310" y="303"/>
                          </a:cubicBezTo>
                          <a:cubicBezTo>
                            <a:pt x="1427" y="333"/>
                            <a:pt x="1549" y="338"/>
                            <a:pt x="1660" y="389"/>
                          </a:cubicBezTo>
                          <a:cubicBezTo>
                            <a:pt x="1701" y="408"/>
                            <a:pt x="1725" y="445"/>
                            <a:pt x="1762" y="467"/>
                          </a:cubicBezTo>
                          <a:cubicBezTo>
                            <a:pt x="1837" y="512"/>
                            <a:pt x="1888" y="526"/>
                            <a:pt x="1972" y="537"/>
                          </a:cubicBezTo>
                          <a:cubicBezTo>
                            <a:pt x="2065" y="565"/>
                            <a:pt x="2165" y="579"/>
                            <a:pt x="2260" y="600"/>
                          </a:cubicBezTo>
                          <a:cubicBezTo>
                            <a:pt x="2312" y="611"/>
                            <a:pt x="2367" y="617"/>
                            <a:pt x="2416" y="639"/>
                          </a:cubicBezTo>
                          <a:cubicBezTo>
                            <a:pt x="2437" y="649"/>
                            <a:pt x="2478" y="670"/>
                            <a:pt x="2478" y="670"/>
                          </a:cubicBezTo>
                          <a:cubicBezTo>
                            <a:pt x="2513" y="721"/>
                            <a:pt x="2511" y="788"/>
                            <a:pt x="2556" y="833"/>
                          </a:cubicBezTo>
                          <a:cubicBezTo>
                            <a:pt x="2573" y="850"/>
                            <a:pt x="2586" y="871"/>
                            <a:pt x="2603" y="888"/>
                          </a:cubicBezTo>
                          <a:cubicBezTo>
                            <a:pt x="2610" y="895"/>
                            <a:pt x="2627" y="904"/>
                            <a:pt x="2627" y="904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" name=""/>
                    <p:cNvSpPr/>
                    <p:nvPr/>
                  </p:nvSpPr>
                  <p:spPr>
                    <a:xfrm>
                      <a:off x="4247640" y="4112280"/>
                      <a:ext cx="527040" cy="238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" h="1714">
                          <a:moveTo>
                            <a:pt x="23" y="0"/>
                          </a:moveTo>
                          <a:cubicBezTo>
                            <a:pt x="0" y="67"/>
                            <a:pt x="14" y="15"/>
                            <a:pt x="30" y="163"/>
                          </a:cubicBezTo>
                          <a:cubicBezTo>
                            <a:pt x="39" y="250"/>
                            <a:pt x="49" y="330"/>
                            <a:pt x="77" y="413"/>
                          </a:cubicBezTo>
                          <a:cubicBezTo>
                            <a:pt x="91" y="518"/>
                            <a:pt x="136" y="588"/>
                            <a:pt x="171" y="685"/>
                          </a:cubicBezTo>
                          <a:cubicBezTo>
                            <a:pt x="195" y="751"/>
                            <a:pt x="208" y="823"/>
                            <a:pt x="233" y="888"/>
                          </a:cubicBezTo>
                          <a:cubicBezTo>
                            <a:pt x="282" y="1017"/>
                            <a:pt x="246" y="907"/>
                            <a:pt x="280" y="974"/>
                          </a:cubicBezTo>
                          <a:cubicBezTo>
                            <a:pt x="322" y="1056"/>
                            <a:pt x="319" y="1157"/>
                            <a:pt x="342" y="1246"/>
                          </a:cubicBezTo>
                          <a:cubicBezTo>
                            <a:pt x="349" y="1305"/>
                            <a:pt x="358" y="1361"/>
                            <a:pt x="373" y="1418"/>
                          </a:cubicBezTo>
                          <a:cubicBezTo>
                            <a:pt x="380" y="1520"/>
                            <a:pt x="389" y="1612"/>
                            <a:pt x="389" y="1714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" name=""/>
                    <p:cNvSpPr/>
                    <p:nvPr/>
                  </p:nvSpPr>
                  <p:spPr>
                    <a:xfrm>
                      <a:off x="1689840" y="4121640"/>
                      <a:ext cx="2545200" cy="22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8" h="1590">
                          <a:moveTo>
                            <a:pt x="1878" y="0"/>
                          </a:moveTo>
                          <a:cubicBezTo>
                            <a:pt x="1839" y="10"/>
                            <a:pt x="1801" y="22"/>
                            <a:pt x="1762" y="32"/>
                          </a:cubicBezTo>
                          <a:cubicBezTo>
                            <a:pt x="1701" y="76"/>
                            <a:pt x="1614" y="82"/>
                            <a:pt x="1559" y="141"/>
                          </a:cubicBezTo>
                          <a:cubicBezTo>
                            <a:pt x="1526" y="176"/>
                            <a:pt x="1497" y="214"/>
                            <a:pt x="1465" y="250"/>
                          </a:cubicBezTo>
                          <a:cubicBezTo>
                            <a:pt x="1455" y="261"/>
                            <a:pt x="1444" y="271"/>
                            <a:pt x="1434" y="281"/>
                          </a:cubicBezTo>
                          <a:cubicBezTo>
                            <a:pt x="1399" y="390"/>
                            <a:pt x="1292" y="423"/>
                            <a:pt x="1216" y="499"/>
                          </a:cubicBezTo>
                          <a:cubicBezTo>
                            <a:pt x="1138" y="577"/>
                            <a:pt x="1069" y="662"/>
                            <a:pt x="990" y="741"/>
                          </a:cubicBezTo>
                          <a:cubicBezTo>
                            <a:pt x="984" y="747"/>
                            <a:pt x="983" y="759"/>
                            <a:pt x="975" y="764"/>
                          </a:cubicBezTo>
                          <a:cubicBezTo>
                            <a:pt x="875" y="827"/>
                            <a:pt x="985" y="721"/>
                            <a:pt x="873" y="811"/>
                          </a:cubicBezTo>
                          <a:cubicBezTo>
                            <a:pt x="847" y="832"/>
                            <a:pt x="829" y="861"/>
                            <a:pt x="803" y="881"/>
                          </a:cubicBezTo>
                          <a:cubicBezTo>
                            <a:pt x="740" y="928"/>
                            <a:pt x="675" y="976"/>
                            <a:pt x="616" y="1029"/>
                          </a:cubicBezTo>
                          <a:cubicBezTo>
                            <a:pt x="569" y="1071"/>
                            <a:pt x="524" y="1104"/>
                            <a:pt x="476" y="1146"/>
                          </a:cubicBezTo>
                          <a:cubicBezTo>
                            <a:pt x="404" y="1209"/>
                            <a:pt x="460" y="1183"/>
                            <a:pt x="382" y="1208"/>
                          </a:cubicBezTo>
                          <a:cubicBezTo>
                            <a:pt x="260" y="1332"/>
                            <a:pt x="401" y="1177"/>
                            <a:pt x="312" y="1310"/>
                          </a:cubicBezTo>
                          <a:cubicBezTo>
                            <a:pt x="307" y="1318"/>
                            <a:pt x="296" y="1319"/>
                            <a:pt x="289" y="1325"/>
                          </a:cubicBezTo>
                          <a:cubicBezTo>
                            <a:pt x="255" y="1353"/>
                            <a:pt x="220" y="1382"/>
                            <a:pt x="187" y="1411"/>
                          </a:cubicBezTo>
                          <a:cubicBezTo>
                            <a:pt x="149" y="1446"/>
                            <a:pt x="128" y="1492"/>
                            <a:pt x="86" y="1520"/>
                          </a:cubicBezTo>
                          <a:cubicBezTo>
                            <a:pt x="78" y="1530"/>
                            <a:pt x="72" y="1542"/>
                            <a:pt x="63" y="1551"/>
                          </a:cubicBezTo>
                          <a:cubicBezTo>
                            <a:pt x="56" y="1558"/>
                            <a:pt x="0" y="1590"/>
                            <a:pt x="32" y="1590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" name=""/>
                    <p:cNvSpPr/>
                    <p:nvPr/>
                  </p:nvSpPr>
                  <p:spPr>
                    <a:xfrm>
                      <a:off x="982800" y="3794400"/>
                      <a:ext cx="3242880" cy="31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93" h="228">
                          <a:moveTo>
                            <a:pt x="2393" y="228"/>
                          </a:moveTo>
                          <a:cubicBezTo>
                            <a:pt x="2363" y="221"/>
                            <a:pt x="2303" y="201"/>
                            <a:pt x="2284" y="196"/>
                          </a:cubicBezTo>
                          <a:cubicBezTo>
                            <a:pt x="2167" y="167"/>
                            <a:pt x="2044" y="162"/>
                            <a:pt x="1925" y="142"/>
                          </a:cubicBezTo>
                          <a:cubicBezTo>
                            <a:pt x="1856" y="130"/>
                            <a:pt x="1816" y="117"/>
                            <a:pt x="1746" y="111"/>
                          </a:cubicBezTo>
                          <a:cubicBezTo>
                            <a:pt x="1473" y="41"/>
                            <a:pt x="1184" y="52"/>
                            <a:pt x="904" y="33"/>
                          </a:cubicBezTo>
                          <a:cubicBezTo>
                            <a:pt x="752" y="10"/>
                            <a:pt x="619" y="21"/>
                            <a:pt x="460" y="25"/>
                          </a:cubicBezTo>
                          <a:cubicBezTo>
                            <a:pt x="398" y="38"/>
                            <a:pt x="335" y="43"/>
                            <a:pt x="273" y="56"/>
                          </a:cubicBezTo>
                          <a:cubicBezTo>
                            <a:pt x="255" y="55"/>
                            <a:pt x="154" y="50"/>
                            <a:pt x="117" y="41"/>
                          </a:cubicBezTo>
                          <a:cubicBezTo>
                            <a:pt x="83" y="33"/>
                            <a:pt x="34" y="0"/>
                            <a:pt x="0" y="17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" name=""/>
                    <p:cNvSpPr/>
                    <p:nvPr/>
                  </p:nvSpPr>
                  <p:spPr>
                    <a:xfrm>
                      <a:off x="2335320" y="2611800"/>
                      <a:ext cx="1899720" cy="14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1060">
                          <a:moveTo>
                            <a:pt x="1402" y="1060"/>
                          </a:moveTo>
                          <a:cubicBezTo>
                            <a:pt x="1342" y="1000"/>
                            <a:pt x="1301" y="943"/>
                            <a:pt x="1262" y="865"/>
                          </a:cubicBezTo>
                          <a:cubicBezTo>
                            <a:pt x="1248" y="836"/>
                            <a:pt x="1255" y="800"/>
                            <a:pt x="1239" y="772"/>
                          </a:cubicBezTo>
                          <a:cubicBezTo>
                            <a:pt x="1222" y="743"/>
                            <a:pt x="1197" y="720"/>
                            <a:pt x="1176" y="694"/>
                          </a:cubicBezTo>
                          <a:cubicBezTo>
                            <a:pt x="1154" y="632"/>
                            <a:pt x="1130" y="577"/>
                            <a:pt x="1083" y="530"/>
                          </a:cubicBezTo>
                          <a:cubicBezTo>
                            <a:pt x="1075" y="509"/>
                            <a:pt x="1070" y="488"/>
                            <a:pt x="1060" y="468"/>
                          </a:cubicBezTo>
                          <a:cubicBezTo>
                            <a:pt x="1054" y="456"/>
                            <a:pt x="1042" y="449"/>
                            <a:pt x="1036" y="437"/>
                          </a:cubicBezTo>
                          <a:cubicBezTo>
                            <a:pt x="1029" y="422"/>
                            <a:pt x="1031" y="403"/>
                            <a:pt x="1021" y="390"/>
                          </a:cubicBezTo>
                          <a:cubicBezTo>
                            <a:pt x="985" y="345"/>
                            <a:pt x="887" y="319"/>
                            <a:pt x="841" y="304"/>
                          </a:cubicBezTo>
                          <a:cubicBezTo>
                            <a:pt x="808" y="293"/>
                            <a:pt x="773" y="286"/>
                            <a:pt x="740" y="273"/>
                          </a:cubicBezTo>
                          <a:cubicBezTo>
                            <a:pt x="694" y="255"/>
                            <a:pt x="654" y="221"/>
                            <a:pt x="608" y="203"/>
                          </a:cubicBezTo>
                          <a:cubicBezTo>
                            <a:pt x="584" y="194"/>
                            <a:pt x="514" y="178"/>
                            <a:pt x="491" y="172"/>
                          </a:cubicBezTo>
                          <a:cubicBezTo>
                            <a:pt x="434" y="134"/>
                            <a:pt x="362" y="125"/>
                            <a:pt x="296" y="109"/>
                          </a:cubicBezTo>
                          <a:cubicBezTo>
                            <a:pt x="184" y="81"/>
                            <a:pt x="275" y="96"/>
                            <a:pt x="202" y="70"/>
                          </a:cubicBezTo>
                          <a:cubicBezTo>
                            <a:pt x="153" y="52"/>
                            <a:pt x="103" y="48"/>
                            <a:pt x="54" y="31"/>
                          </a:cubicBezTo>
                          <a:cubicBezTo>
                            <a:pt x="44" y="23"/>
                            <a:pt x="34" y="14"/>
                            <a:pt x="23" y="8"/>
                          </a:cubicBezTo>
                          <a:cubicBezTo>
                            <a:pt x="16" y="4"/>
                            <a:pt x="0" y="0"/>
                            <a:pt x="0" y="0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4267800" y="2231280"/>
                      <a:ext cx="939240" cy="185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3" h="1333">
                          <a:moveTo>
                            <a:pt x="0" y="1333"/>
                          </a:moveTo>
                          <a:cubicBezTo>
                            <a:pt x="57" y="1256"/>
                            <a:pt x="42" y="1169"/>
                            <a:pt x="70" y="1084"/>
                          </a:cubicBezTo>
                          <a:cubicBezTo>
                            <a:pt x="86" y="1037"/>
                            <a:pt x="101" y="990"/>
                            <a:pt x="117" y="943"/>
                          </a:cubicBezTo>
                          <a:cubicBezTo>
                            <a:pt x="127" y="866"/>
                            <a:pt x="130" y="776"/>
                            <a:pt x="156" y="702"/>
                          </a:cubicBezTo>
                          <a:cubicBezTo>
                            <a:pt x="165" y="639"/>
                            <a:pt x="177" y="586"/>
                            <a:pt x="210" y="530"/>
                          </a:cubicBezTo>
                          <a:cubicBezTo>
                            <a:pt x="220" y="513"/>
                            <a:pt x="285" y="470"/>
                            <a:pt x="288" y="468"/>
                          </a:cubicBezTo>
                          <a:cubicBezTo>
                            <a:pt x="341" y="433"/>
                            <a:pt x="399" y="397"/>
                            <a:pt x="436" y="343"/>
                          </a:cubicBezTo>
                          <a:cubicBezTo>
                            <a:pt x="461" y="307"/>
                            <a:pt x="493" y="276"/>
                            <a:pt x="522" y="242"/>
                          </a:cubicBezTo>
                          <a:cubicBezTo>
                            <a:pt x="555" y="203"/>
                            <a:pt x="570" y="162"/>
                            <a:pt x="615" y="133"/>
                          </a:cubicBezTo>
                          <a:cubicBezTo>
                            <a:pt x="646" y="88"/>
                            <a:pt x="672" y="49"/>
                            <a:pt x="693" y="0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8" name=""/>
                  <p:cNvSpPr/>
                  <p:nvPr/>
                </p:nvSpPr>
                <p:spPr>
                  <a:xfrm>
                    <a:off x="3614760" y="3637080"/>
                    <a:ext cx="1298520" cy="10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8" h="677">
                        <a:moveTo>
                          <a:pt x="11" y="563"/>
                        </a:moveTo>
                        <a:cubicBezTo>
                          <a:pt x="68" y="543"/>
                          <a:pt x="127" y="539"/>
                          <a:pt x="187" y="532"/>
                        </a:cubicBezTo>
                        <a:cubicBezTo>
                          <a:pt x="197" y="535"/>
                          <a:pt x="207" y="539"/>
                          <a:pt x="218" y="542"/>
                        </a:cubicBezTo>
                        <a:cubicBezTo>
                          <a:pt x="235" y="546"/>
                          <a:pt x="252" y="547"/>
                          <a:pt x="269" y="552"/>
                        </a:cubicBezTo>
                        <a:cubicBezTo>
                          <a:pt x="290" y="558"/>
                          <a:pt x="331" y="573"/>
                          <a:pt x="331" y="573"/>
                        </a:cubicBezTo>
                        <a:cubicBezTo>
                          <a:pt x="341" y="580"/>
                          <a:pt x="351" y="588"/>
                          <a:pt x="362" y="594"/>
                        </a:cubicBezTo>
                        <a:cubicBezTo>
                          <a:pt x="372" y="599"/>
                          <a:pt x="383" y="599"/>
                          <a:pt x="393" y="604"/>
                        </a:cubicBezTo>
                        <a:cubicBezTo>
                          <a:pt x="439" y="629"/>
                          <a:pt x="470" y="660"/>
                          <a:pt x="518" y="677"/>
                        </a:cubicBezTo>
                        <a:cubicBezTo>
                          <a:pt x="534" y="626"/>
                          <a:pt x="556" y="591"/>
                          <a:pt x="600" y="563"/>
                        </a:cubicBezTo>
                        <a:cubicBezTo>
                          <a:pt x="626" y="524"/>
                          <a:pt x="676" y="461"/>
                          <a:pt x="724" y="449"/>
                        </a:cubicBezTo>
                        <a:cubicBezTo>
                          <a:pt x="755" y="441"/>
                          <a:pt x="787" y="442"/>
                          <a:pt x="818" y="439"/>
                        </a:cubicBezTo>
                        <a:cubicBezTo>
                          <a:pt x="808" y="435"/>
                          <a:pt x="795" y="436"/>
                          <a:pt x="787" y="428"/>
                        </a:cubicBezTo>
                        <a:cubicBezTo>
                          <a:pt x="769" y="410"/>
                          <a:pt x="745" y="366"/>
                          <a:pt x="745" y="366"/>
                        </a:cubicBezTo>
                        <a:cubicBezTo>
                          <a:pt x="721" y="294"/>
                          <a:pt x="731" y="325"/>
                          <a:pt x="714" y="273"/>
                        </a:cubicBezTo>
                        <a:cubicBezTo>
                          <a:pt x="711" y="263"/>
                          <a:pt x="704" y="242"/>
                          <a:pt x="704" y="242"/>
                        </a:cubicBezTo>
                        <a:cubicBezTo>
                          <a:pt x="715" y="209"/>
                          <a:pt x="719" y="175"/>
                          <a:pt x="745" y="149"/>
                        </a:cubicBezTo>
                        <a:cubicBezTo>
                          <a:pt x="754" y="140"/>
                          <a:pt x="787" y="133"/>
                          <a:pt x="776" y="128"/>
                        </a:cubicBezTo>
                        <a:cubicBezTo>
                          <a:pt x="760" y="120"/>
                          <a:pt x="741" y="135"/>
                          <a:pt x="724" y="139"/>
                        </a:cubicBezTo>
                        <a:cubicBezTo>
                          <a:pt x="695" y="129"/>
                          <a:pt x="629" y="116"/>
                          <a:pt x="600" y="97"/>
                        </a:cubicBezTo>
                        <a:cubicBezTo>
                          <a:pt x="579" y="83"/>
                          <a:pt x="559" y="70"/>
                          <a:pt x="538" y="56"/>
                        </a:cubicBezTo>
                        <a:cubicBezTo>
                          <a:pt x="528" y="49"/>
                          <a:pt x="507" y="35"/>
                          <a:pt x="507" y="35"/>
                        </a:cubicBezTo>
                        <a:cubicBezTo>
                          <a:pt x="500" y="25"/>
                          <a:pt x="499" y="8"/>
                          <a:pt x="487" y="4"/>
                        </a:cubicBezTo>
                        <a:cubicBezTo>
                          <a:pt x="473" y="0"/>
                          <a:pt x="459" y="11"/>
                          <a:pt x="445" y="15"/>
                        </a:cubicBezTo>
                        <a:cubicBezTo>
                          <a:pt x="424" y="21"/>
                          <a:pt x="404" y="28"/>
                          <a:pt x="383" y="35"/>
                        </a:cubicBezTo>
                        <a:cubicBezTo>
                          <a:pt x="373" y="38"/>
                          <a:pt x="362" y="42"/>
                          <a:pt x="352" y="46"/>
                        </a:cubicBezTo>
                        <a:cubicBezTo>
                          <a:pt x="342" y="49"/>
                          <a:pt x="321" y="56"/>
                          <a:pt x="321" y="56"/>
                        </a:cubicBezTo>
                        <a:cubicBezTo>
                          <a:pt x="227" y="24"/>
                          <a:pt x="283" y="21"/>
                          <a:pt x="238" y="66"/>
                        </a:cubicBezTo>
                        <a:cubicBezTo>
                          <a:pt x="229" y="75"/>
                          <a:pt x="217" y="80"/>
                          <a:pt x="207" y="87"/>
                        </a:cubicBezTo>
                        <a:cubicBezTo>
                          <a:pt x="200" y="97"/>
                          <a:pt x="197" y="110"/>
                          <a:pt x="187" y="118"/>
                        </a:cubicBezTo>
                        <a:cubicBezTo>
                          <a:pt x="179" y="125"/>
                          <a:pt x="166" y="123"/>
                          <a:pt x="156" y="128"/>
                        </a:cubicBezTo>
                        <a:cubicBezTo>
                          <a:pt x="123" y="146"/>
                          <a:pt x="94" y="170"/>
                          <a:pt x="62" y="190"/>
                        </a:cubicBezTo>
                        <a:cubicBezTo>
                          <a:pt x="44" y="202"/>
                          <a:pt x="0" y="211"/>
                          <a:pt x="0" y="211"/>
                        </a:cubicBezTo>
                        <a:cubicBezTo>
                          <a:pt x="23" y="279"/>
                          <a:pt x="32" y="336"/>
                          <a:pt x="42" y="408"/>
                        </a:cubicBezTo>
                        <a:cubicBezTo>
                          <a:pt x="23" y="463"/>
                          <a:pt x="11" y="504"/>
                          <a:pt x="11" y="563"/>
                        </a:cubicBezTo>
                        <a:close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" name=""/>
                <p:cNvSpPr/>
                <p:nvPr/>
              </p:nvSpPr>
              <p:spPr>
                <a:xfrm>
                  <a:off x="2892600" y="2998800"/>
                  <a:ext cx="3005280" cy="2352600"/>
                </a:xfrm>
                <a:custGeom>
                  <a:avLst/>
                  <a:gdLst/>
                  <a:ahLst/>
                  <a:rect l="l" t="t" r="r" b="b"/>
                  <a:pathLst>
                    <a:path w="1893" h="1482">
                      <a:moveTo>
                        <a:pt x="414" y="44"/>
                      </a:moveTo>
                      <a:cubicBezTo>
                        <a:pt x="431" y="131"/>
                        <a:pt x="445" y="226"/>
                        <a:pt x="393" y="303"/>
                      </a:cubicBezTo>
                      <a:cubicBezTo>
                        <a:pt x="369" y="377"/>
                        <a:pt x="340" y="397"/>
                        <a:pt x="279" y="437"/>
                      </a:cubicBezTo>
                      <a:cubicBezTo>
                        <a:pt x="267" y="445"/>
                        <a:pt x="259" y="459"/>
                        <a:pt x="248" y="468"/>
                      </a:cubicBezTo>
                      <a:cubicBezTo>
                        <a:pt x="194" y="511"/>
                        <a:pt x="203" y="505"/>
                        <a:pt x="155" y="520"/>
                      </a:cubicBezTo>
                      <a:cubicBezTo>
                        <a:pt x="84" y="567"/>
                        <a:pt x="116" y="553"/>
                        <a:pt x="62" y="572"/>
                      </a:cubicBezTo>
                      <a:cubicBezTo>
                        <a:pt x="84" y="633"/>
                        <a:pt x="141" y="667"/>
                        <a:pt x="166" y="737"/>
                      </a:cubicBezTo>
                      <a:cubicBezTo>
                        <a:pt x="184" y="847"/>
                        <a:pt x="159" y="1033"/>
                        <a:pt x="93" y="1130"/>
                      </a:cubicBezTo>
                      <a:cubicBezTo>
                        <a:pt x="90" y="1140"/>
                        <a:pt x="88" y="1151"/>
                        <a:pt x="83" y="1161"/>
                      </a:cubicBezTo>
                      <a:cubicBezTo>
                        <a:pt x="77" y="1172"/>
                        <a:pt x="67" y="1181"/>
                        <a:pt x="62" y="1192"/>
                      </a:cubicBezTo>
                      <a:cubicBezTo>
                        <a:pt x="22" y="1286"/>
                        <a:pt x="84" y="1187"/>
                        <a:pt x="31" y="1265"/>
                      </a:cubicBezTo>
                      <a:cubicBezTo>
                        <a:pt x="28" y="1279"/>
                        <a:pt x="25" y="1293"/>
                        <a:pt x="21" y="1306"/>
                      </a:cubicBezTo>
                      <a:cubicBezTo>
                        <a:pt x="15" y="1327"/>
                        <a:pt x="0" y="1368"/>
                        <a:pt x="0" y="1368"/>
                      </a:cubicBezTo>
                      <a:cubicBezTo>
                        <a:pt x="4" y="1378"/>
                        <a:pt x="0" y="1398"/>
                        <a:pt x="11" y="1399"/>
                      </a:cubicBezTo>
                      <a:cubicBezTo>
                        <a:pt x="34" y="1402"/>
                        <a:pt x="93" y="1377"/>
                        <a:pt x="124" y="1368"/>
                      </a:cubicBezTo>
                      <a:cubicBezTo>
                        <a:pt x="198" y="1348"/>
                        <a:pt x="265" y="1328"/>
                        <a:pt x="342" y="1316"/>
                      </a:cubicBezTo>
                      <a:cubicBezTo>
                        <a:pt x="522" y="1322"/>
                        <a:pt x="692" y="1322"/>
                        <a:pt x="869" y="1347"/>
                      </a:cubicBezTo>
                      <a:cubicBezTo>
                        <a:pt x="890" y="1354"/>
                        <a:pt x="910" y="1361"/>
                        <a:pt x="931" y="1368"/>
                      </a:cubicBezTo>
                      <a:cubicBezTo>
                        <a:pt x="955" y="1376"/>
                        <a:pt x="993" y="1410"/>
                        <a:pt x="993" y="1410"/>
                      </a:cubicBezTo>
                      <a:cubicBezTo>
                        <a:pt x="1008" y="1452"/>
                        <a:pt x="1024" y="1468"/>
                        <a:pt x="1066" y="1482"/>
                      </a:cubicBezTo>
                      <a:cubicBezTo>
                        <a:pt x="1119" y="1465"/>
                        <a:pt x="1137" y="1411"/>
                        <a:pt x="1169" y="1368"/>
                      </a:cubicBezTo>
                      <a:cubicBezTo>
                        <a:pt x="1246" y="1264"/>
                        <a:pt x="1204" y="1337"/>
                        <a:pt x="1262" y="1285"/>
                      </a:cubicBezTo>
                      <a:cubicBezTo>
                        <a:pt x="1273" y="1275"/>
                        <a:pt x="1342" y="1206"/>
                        <a:pt x="1366" y="1182"/>
                      </a:cubicBezTo>
                      <a:cubicBezTo>
                        <a:pt x="1396" y="1152"/>
                        <a:pt x="1439" y="1140"/>
                        <a:pt x="1469" y="1110"/>
                      </a:cubicBezTo>
                      <a:cubicBezTo>
                        <a:pt x="1508" y="1071"/>
                        <a:pt x="1486" y="1084"/>
                        <a:pt x="1531" y="1068"/>
                      </a:cubicBezTo>
                      <a:cubicBezTo>
                        <a:pt x="1569" y="1040"/>
                        <a:pt x="1602" y="1004"/>
                        <a:pt x="1645" y="985"/>
                      </a:cubicBezTo>
                      <a:cubicBezTo>
                        <a:pt x="1665" y="976"/>
                        <a:pt x="1707" y="965"/>
                        <a:pt x="1707" y="965"/>
                      </a:cubicBezTo>
                      <a:cubicBezTo>
                        <a:pt x="1752" y="980"/>
                        <a:pt x="1739" y="980"/>
                        <a:pt x="1800" y="965"/>
                      </a:cubicBezTo>
                      <a:cubicBezTo>
                        <a:pt x="1821" y="960"/>
                        <a:pt x="1841" y="951"/>
                        <a:pt x="1862" y="944"/>
                      </a:cubicBezTo>
                      <a:cubicBezTo>
                        <a:pt x="1872" y="941"/>
                        <a:pt x="1893" y="934"/>
                        <a:pt x="1893" y="934"/>
                      </a:cubicBezTo>
                      <a:cubicBezTo>
                        <a:pt x="1818" y="907"/>
                        <a:pt x="1811" y="862"/>
                        <a:pt x="1759" y="810"/>
                      </a:cubicBezTo>
                      <a:cubicBezTo>
                        <a:pt x="1755" y="782"/>
                        <a:pt x="1755" y="754"/>
                        <a:pt x="1748" y="727"/>
                      </a:cubicBezTo>
                      <a:cubicBezTo>
                        <a:pt x="1745" y="715"/>
                        <a:pt x="1732" y="708"/>
                        <a:pt x="1728" y="696"/>
                      </a:cubicBezTo>
                      <a:cubicBezTo>
                        <a:pt x="1713" y="646"/>
                        <a:pt x="1708" y="582"/>
                        <a:pt x="1697" y="530"/>
                      </a:cubicBezTo>
                      <a:cubicBezTo>
                        <a:pt x="1683" y="464"/>
                        <a:pt x="1658" y="401"/>
                        <a:pt x="1645" y="334"/>
                      </a:cubicBezTo>
                      <a:cubicBezTo>
                        <a:pt x="1656" y="278"/>
                        <a:pt x="1678" y="241"/>
                        <a:pt x="1697" y="189"/>
                      </a:cubicBezTo>
                      <a:cubicBezTo>
                        <a:pt x="1570" y="146"/>
                        <a:pt x="1436" y="136"/>
                        <a:pt x="1304" y="117"/>
                      </a:cubicBezTo>
                      <a:cubicBezTo>
                        <a:pt x="1249" y="109"/>
                        <a:pt x="1200" y="93"/>
                        <a:pt x="1148" y="75"/>
                      </a:cubicBezTo>
                      <a:cubicBezTo>
                        <a:pt x="1127" y="68"/>
                        <a:pt x="1086" y="55"/>
                        <a:pt x="1086" y="55"/>
                      </a:cubicBezTo>
                      <a:cubicBezTo>
                        <a:pt x="1078" y="49"/>
                        <a:pt x="1035" y="10"/>
                        <a:pt x="1014" y="13"/>
                      </a:cubicBezTo>
                      <a:cubicBezTo>
                        <a:pt x="1002" y="15"/>
                        <a:pt x="994" y="29"/>
                        <a:pt x="983" y="34"/>
                      </a:cubicBezTo>
                      <a:cubicBezTo>
                        <a:pt x="932" y="57"/>
                        <a:pt x="882" y="66"/>
                        <a:pt x="828" y="75"/>
                      </a:cubicBezTo>
                      <a:cubicBezTo>
                        <a:pt x="678" y="63"/>
                        <a:pt x="532" y="27"/>
                        <a:pt x="383" y="3"/>
                      </a:cubicBezTo>
                      <a:cubicBezTo>
                        <a:pt x="366" y="0"/>
                        <a:pt x="404" y="30"/>
                        <a:pt x="414" y="44"/>
                      </a:cubicBez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336760" y="2789280"/>
                  <a:ext cx="4473720" cy="3027240"/>
                </a:xfrm>
                <a:custGeom>
                  <a:avLst/>
                  <a:gdLst/>
                  <a:ahLst/>
                  <a:rect l="l" t="t" r="r" b="b"/>
                  <a:pathLst>
                    <a:path w="2818" h="1907">
                      <a:moveTo>
                        <a:pt x="474" y="52"/>
                      </a:moveTo>
                      <a:cubicBezTo>
                        <a:pt x="438" y="107"/>
                        <a:pt x="422" y="175"/>
                        <a:pt x="402" y="238"/>
                      </a:cubicBezTo>
                      <a:cubicBezTo>
                        <a:pt x="394" y="262"/>
                        <a:pt x="369" y="277"/>
                        <a:pt x="361" y="300"/>
                      </a:cubicBezTo>
                      <a:cubicBezTo>
                        <a:pt x="357" y="310"/>
                        <a:pt x="356" y="322"/>
                        <a:pt x="350" y="331"/>
                      </a:cubicBezTo>
                      <a:cubicBezTo>
                        <a:pt x="342" y="343"/>
                        <a:pt x="328" y="350"/>
                        <a:pt x="319" y="362"/>
                      </a:cubicBezTo>
                      <a:cubicBezTo>
                        <a:pt x="268" y="428"/>
                        <a:pt x="236" y="523"/>
                        <a:pt x="164" y="569"/>
                      </a:cubicBezTo>
                      <a:cubicBezTo>
                        <a:pt x="150" y="613"/>
                        <a:pt x="105" y="648"/>
                        <a:pt x="61" y="662"/>
                      </a:cubicBezTo>
                      <a:cubicBezTo>
                        <a:pt x="51" y="669"/>
                        <a:pt x="38" y="673"/>
                        <a:pt x="30" y="683"/>
                      </a:cubicBezTo>
                      <a:cubicBezTo>
                        <a:pt x="0" y="720"/>
                        <a:pt x="51" y="759"/>
                        <a:pt x="71" y="786"/>
                      </a:cubicBezTo>
                      <a:cubicBezTo>
                        <a:pt x="91" y="914"/>
                        <a:pt x="146" y="1030"/>
                        <a:pt x="164" y="1159"/>
                      </a:cubicBezTo>
                      <a:cubicBezTo>
                        <a:pt x="171" y="1313"/>
                        <a:pt x="169" y="1397"/>
                        <a:pt x="154" y="1542"/>
                      </a:cubicBezTo>
                      <a:cubicBezTo>
                        <a:pt x="148" y="1594"/>
                        <a:pt x="144" y="1646"/>
                        <a:pt x="133" y="1697"/>
                      </a:cubicBezTo>
                      <a:cubicBezTo>
                        <a:pt x="128" y="1718"/>
                        <a:pt x="112" y="1759"/>
                        <a:pt x="112" y="1759"/>
                      </a:cubicBezTo>
                      <a:cubicBezTo>
                        <a:pt x="122" y="1762"/>
                        <a:pt x="132" y="1770"/>
                        <a:pt x="143" y="1769"/>
                      </a:cubicBezTo>
                      <a:cubicBezTo>
                        <a:pt x="193" y="1763"/>
                        <a:pt x="239" y="1740"/>
                        <a:pt x="288" y="1728"/>
                      </a:cubicBezTo>
                      <a:cubicBezTo>
                        <a:pt x="386" y="1704"/>
                        <a:pt x="477" y="1668"/>
                        <a:pt x="578" y="1655"/>
                      </a:cubicBezTo>
                      <a:cubicBezTo>
                        <a:pt x="750" y="1663"/>
                        <a:pt x="917" y="1667"/>
                        <a:pt x="1085" y="1707"/>
                      </a:cubicBezTo>
                      <a:cubicBezTo>
                        <a:pt x="1108" y="1719"/>
                        <a:pt x="1134" y="1725"/>
                        <a:pt x="1157" y="1738"/>
                      </a:cubicBezTo>
                      <a:cubicBezTo>
                        <a:pt x="1179" y="1750"/>
                        <a:pt x="1196" y="1771"/>
                        <a:pt x="1219" y="1779"/>
                      </a:cubicBezTo>
                      <a:cubicBezTo>
                        <a:pt x="1240" y="1786"/>
                        <a:pt x="1260" y="1793"/>
                        <a:pt x="1281" y="1800"/>
                      </a:cubicBezTo>
                      <a:cubicBezTo>
                        <a:pt x="1291" y="1803"/>
                        <a:pt x="1312" y="1810"/>
                        <a:pt x="1312" y="1810"/>
                      </a:cubicBezTo>
                      <a:cubicBezTo>
                        <a:pt x="1349" y="1835"/>
                        <a:pt x="1383" y="1839"/>
                        <a:pt x="1426" y="1852"/>
                      </a:cubicBezTo>
                      <a:cubicBezTo>
                        <a:pt x="1447" y="1858"/>
                        <a:pt x="1488" y="1872"/>
                        <a:pt x="1488" y="1872"/>
                      </a:cubicBezTo>
                      <a:cubicBezTo>
                        <a:pt x="1495" y="1883"/>
                        <a:pt x="1497" y="1901"/>
                        <a:pt x="1509" y="1904"/>
                      </a:cubicBezTo>
                      <a:cubicBezTo>
                        <a:pt x="1521" y="1907"/>
                        <a:pt x="1530" y="1890"/>
                        <a:pt x="1540" y="1883"/>
                      </a:cubicBezTo>
                      <a:cubicBezTo>
                        <a:pt x="1564" y="1866"/>
                        <a:pt x="1589" y="1850"/>
                        <a:pt x="1612" y="1831"/>
                      </a:cubicBezTo>
                      <a:cubicBezTo>
                        <a:pt x="1677" y="1776"/>
                        <a:pt x="1766" y="1693"/>
                        <a:pt x="1850" y="1666"/>
                      </a:cubicBezTo>
                      <a:cubicBezTo>
                        <a:pt x="1916" y="1600"/>
                        <a:pt x="1846" y="1661"/>
                        <a:pt x="1912" y="1624"/>
                      </a:cubicBezTo>
                      <a:cubicBezTo>
                        <a:pt x="1966" y="1594"/>
                        <a:pt x="2009" y="1552"/>
                        <a:pt x="2067" y="1531"/>
                      </a:cubicBezTo>
                      <a:cubicBezTo>
                        <a:pt x="2113" y="1485"/>
                        <a:pt x="2177" y="1462"/>
                        <a:pt x="2233" y="1428"/>
                      </a:cubicBezTo>
                      <a:cubicBezTo>
                        <a:pt x="2298" y="1390"/>
                        <a:pt x="2357" y="1337"/>
                        <a:pt x="2429" y="1314"/>
                      </a:cubicBezTo>
                      <a:cubicBezTo>
                        <a:pt x="2490" y="1273"/>
                        <a:pt x="2567" y="1264"/>
                        <a:pt x="2636" y="1242"/>
                      </a:cubicBezTo>
                      <a:cubicBezTo>
                        <a:pt x="2642" y="1243"/>
                        <a:pt x="2818" y="1271"/>
                        <a:pt x="2719" y="1221"/>
                      </a:cubicBezTo>
                      <a:cubicBezTo>
                        <a:pt x="2709" y="1216"/>
                        <a:pt x="2698" y="1214"/>
                        <a:pt x="2688" y="1211"/>
                      </a:cubicBezTo>
                      <a:cubicBezTo>
                        <a:pt x="2616" y="1162"/>
                        <a:pt x="2561" y="1085"/>
                        <a:pt x="2512" y="1014"/>
                      </a:cubicBezTo>
                      <a:cubicBezTo>
                        <a:pt x="2498" y="994"/>
                        <a:pt x="2485" y="973"/>
                        <a:pt x="2471" y="952"/>
                      </a:cubicBezTo>
                      <a:cubicBezTo>
                        <a:pt x="2464" y="942"/>
                        <a:pt x="2450" y="921"/>
                        <a:pt x="2450" y="921"/>
                      </a:cubicBezTo>
                      <a:cubicBezTo>
                        <a:pt x="2435" y="862"/>
                        <a:pt x="2430" y="824"/>
                        <a:pt x="2398" y="776"/>
                      </a:cubicBezTo>
                      <a:cubicBezTo>
                        <a:pt x="2386" y="727"/>
                        <a:pt x="2384" y="678"/>
                        <a:pt x="2367" y="631"/>
                      </a:cubicBezTo>
                      <a:cubicBezTo>
                        <a:pt x="2364" y="607"/>
                        <a:pt x="2360" y="583"/>
                        <a:pt x="2357" y="559"/>
                      </a:cubicBezTo>
                      <a:cubicBezTo>
                        <a:pt x="2349" y="487"/>
                        <a:pt x="2336" y="342"/>
                        <a:pt x="2336" y="342"/>
                      </a:cubicBezTo>
                      <a:cubicBezTo>
                        <a:pt x="2340" y="259"/>
                        <a:pt x="2426" y="66"/>
                        <a:pt x="2347" y="93"/>
                      </a:cubicBezTo>
                      <a:cubicBezTo>
                        <a:pt x="2235" y="131"/>
                        <a:pt x="2159" y="146"/>
                        <a:pt x="2036" y="156"/>
                      </a:cubicBezTo>
                      <a:cubicBezTo>
                        <a:pt x="2009" y="154"/>
                        <a:pt x="1847" y="149"/>
                        <a:pt x="1788" y="135"/>
                      </a:cubicBezTo>
                      <a:cubicBezTo>
                        <a:pt x="1767" y="130"/>
                        <a:pt x="1747" y="121"/>
                        <a:pt x="1726" y="114"/>
                      </a:cubicBezTo>
                      <a:cubicBezTo>
                        <a:pt x="1716" y="111"/>
                        <a:pt x="1695" y="104"/>
                        <a:pt x="1695" y="104"/>
                      </a:cubicBezTo>
                      <a:cubicBezTo>
                        <a:pt x="1606" y="44"/>
                        <a:pt x="1719" y="116"/>
                        <a:pt x="1633" y="73"/>
                      </a:cubicBezTo>
                      <a:cubicBezTo>
                        <a:pt x="1598" y="55"/>
                        <a:pt x="1573" y="22"/>
                        <a:pt x="1540" y="0"/>
                      </a:cubicBezTo>
                      <a:cubicBezTo>
                        <a:pt x="1485" y="15"/>
                        <a:pt x="1500" y="10"/>
                        <a:pt x="1436" y="31"/>
                      </a:cubicBezTo>
                      <a:cubicBezTo>
                        <a:pt x="1426" y="34"/>
                        <a:pt x="1415" y="38"/>
                        <a:pt x="1405" y="42"/>
                      </a:cubicBezTo>
                      <a:cubicBezTo>
                        <a:pt x="1395" y="45"/>
                        <a:pt x="1374" y="52"/>
                        <a:pt x="1374" y="52"/>
                      </a:cubicBezTo>
                      <a:cubicBezTo>
                        <a:pt x="1216" y="30"/>
                        <a:pt x="1057" y="21"/>
                        <a:pt x="898" y="11"/>
                      </a:cubicBezTo>
                      <a:cubicBezTo>
                        <a:pt x="802" y="14"/>
                        <a:pt x="705" y="15"/>
                        <a:pt x="609" y="21"/>
                      </a:cubicBezTo>
                      <a:cubicBezTo>
                        <a:pt x="563" y="24"/>
                        <a:pt x="521" y="52"/>
                        <a:pt x="474" y="52"/>
                      </a:cubicBez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908360" y="2379600"/>
                  <a:ext cx="5205240" cy="3989520"/>
                </a:xfrm>
                <a:custGeom>
                  <a:avLst/>
                  <a:gdLst/>
                  <a:ahLst/>
                  <a:rect l="l" t="t" r="r" b="b"/>
                  <a:pathLst>
                    <a:path w="3279" h="2513">
                      <a:moveTo>
                        <a:pt x="2017" y="0"/>
                      </a:moveTo>
                      <a:cubicBezTo>
                        <a:pt x="2076" y="36"/>
                        <a:pt x="2094" y="35"/>
                        <a:pt x="2161" y="52"/>
                      </a:cubicBezTo>
                      <a:cubicBezTo>
                        <a:pt x="2214" y="65"/>
                        <a:pt x="2265" y="86"/>
                        <a:pt x="2317" y="103"/>
                      </a:cubicBezTo>
                      <a:cubicBezTo>
                        <a:pt x="2337" y="109"/>
                        <a:pt x="2494" y="123"/>
                        <a:pt x="2503" y="124"/>
                      </a:cubicBezTo>
                      <a:cubicBezTo>
                        <a:pt x="2723" y="117"/>
                        <a:pt x="2940" y="113"/>
                        <a:pt x="3155" y="62"/>
                      </a:cubicBezTo>
                      <a:cubicBezTo>
                        <a:pt x="3137" y="112"/>
                        <a:pt x="3109" y="149"/>
                        <a:pt x="3072" y="186"/>
                      </a:cubicBezTo>
                      <a:cubicBezTo>
                        <a:pt x="3068" y="207"/>
                        <a:pt x="3069" y="229"/>
                        <a:pt x="3061" y="248"/>
                      </a:cubicBezTo>
                      <a:cubicBezTo>
                        <a:pt x="3057" y="259"/>
                        <a:pt x="2999" y="346"/>
                        <a:pt x="2989" y="362"/>
                      </a:cubicBezTo>
                      <a:cubicBezTo>
                        <a:pt x="2976" y="383"/>
                        <a:pt x="2948" y="424"/>
                        <a:pt x="2948" y="424"/>
                      </a:cubicBezTo>
                      <a:cubicBezTo>
                        <a:pt x="2929" y="497"/>
                        <a:pt x="2924" y="566"/>
                        <a:pt x="2917" y="641"/>
                      </a:cubicBezTo>
                      <a:cubicBezTo>
                        <a:pt x="2921" y="771"/>
                        <a:pt x="2895" y="962"/>
                        <a:pt x="2979" y="1086"/>
                      </a:cubicBezTo>
                      <a:cubicBezTo>
                        <a:pt x="2982" y="1096"/>
                        <a:pt x="2985" y="1107"/>
                        <a:pt x="2989" y="1117"/>
                      </a:cubicBezTo>
                      <a:cubicBezTo>
                        <a:pt x="2995" y="1131"/>
                        <a:pt x="3005" y="1143"/>
                        <a:pt x="3010" y="1158"/>
                      </a:cubicBezTo>
                      <a:cubicBezTo>
                        <a:pt x="3031" y="1222"/>
                        <a:pt x="3043" y="1287"/>
                        <a:pt x="3082" y="1344"/>
                      </a:cubicBezTo>
                      <a:cubicBezTo>
                        <a:pt x="3100" y="1399"/>
                        <a:pt x="3085" y="1365"/>
                        <a:pt x="3134" y="1437"/>
                      </a:cubicBezTo>
                      <a:cubicBezTo>
                        <a:pt x="3141" y="1448"/>
                        <a:pt x="3155" y="1469"/>
                        <a:pt x="3155" y="1469"/>
                      </a:cubicBezTo>
                      <a:cubicBezTo>
                        <a:pt x="3168" y="1511"/>
                        <a:pt x="3238" y="1586"/>
                        <a:pt x="3279" y="1613"/>
                      </a:cubicBezTo>
                      <a:cubicBezTo>
                        <a:pt x="3184" y="1645"/>
                        <a:pt x="3239" y="1632"/>
                        <a:pt x="3113" y="1644"/>
                      </a:cubicBezTo>
                      <a:cubicBezTo>
                        <a:pt x="3070" y="1666"/>
                        <a:pt x="3025" y="1691"/>
                        <a:pt x="2979" y="1706"/>
                      </a:cubicBezTo>
                      <a:cubicBezTo>
                        <a:pt x="2941" y="1732"/>
                        <a:pt x="2897" y="1768"/>
                        <a:pt x="2855" y="1789"/>
                      </a:cubicBezTo>
                      <a:cubicBezTo>
                        <a:pt x="2827" y="1803"/>
                        <a:pt x="2797" y="1813"/>
                        <a:pt x="2772" y="1831"/>
                      </a:cubicBezTo>
                      <a:cubicBezTo>
                        <a:pt x="2721" y="1868"/>
                        <a:pt x="2747" y="1857"/>
                        <a:pt x="2699" y="1872"/>
                      </a:cubicBezTo>
                      <a:cubicBezTo>
                        <a:pt x="2643" y="1910"/>
                        <a:pt x="2589" y="1954"/>
                        <a:pt x="2524" y="1975"/>
                      </a:cubicBezTo>
                      <a:cubicBezTo>
                        <a:pt x="2473" y="2010"/>
                        <a:pt x="2408" y="2049"/>
                        <a:pt x="2348" y="2068"/>
                      </a:cubicBezTo>
                      <a:cubicBezTo>
                        <a:pt x="2311" y="2093"/>
                        <a:pt x="2267" y="2116"/>
                        <a:pt x="2224" y="2130"/>
                      </a:cubicBezTo>
                      <a:cubicBezTo>
                        <a:pt x="2214" y="2137"/>
                        <a:pt x="2204" y="2146"/>
                        <a:pt x="2193" y="2151"/>
                      </a:cubicBezTo>
                      <a:cubicBezTo>
                        <a:pt x="2173" y="2160"/>
                        <a:pt x="2130" y="2172"/>
                        <a:pt x="2130" y="2172"/>
                      </a:cubicBezTo>
                      <a:cubicBezTo>
                        <a:pt x="1991" y="2277"/>
                        <a:pt x="2162" y="2155"/>
                        <a:pt x="2058" y="2213"/>
                      </a:cubicBezTo>
                      <a:cubicBezTo>
                        <a:pt x="1937" y="2280"/>
                        <a:pt x="2041" y="2227"/>
                        <a:pt x="1965" y="2286"/>
                      </a:cubicBezTo>
                      <a:cubicBezTo>
                        <a:pt x="1945" y="2301"/>
                        <a:pt x="1903" y="2327"/>
                        <a:pt x="1903" y="2327"/>
                      </a:cubicBezTo>
                      <a:cubicBezTo>
                        <a:pt x="1873" y="2371"/>
                        <a:pt x="1840" y="2406"/>
                        <a:pt x="1810" y="2451"/>
                      </a:cubicBezTo>
                      <a:cubicBezTo>
                        <a:pt x="1798" y="2469"/>
                        <a:pt x="1789" y="2513"/>
                        <a:pt x="1789" y="2513"/>
                      </a:cubicBezTo>
                      <a:cubicBezTo>
                        <a:pt x="1688" y="2480"/>
                        <a:pt x="1615" y="2381"/>
                        <a:pt x="1499" y="2379"/>
                      </a:cubicBezTo>
                      <a:cubicBezTo>
                        <a:pt x="1216" y="2375"/>
                        <a:pt x="934" y="2372"/>
                        <a:pt x="651" y="2368"/>
                      </a:cubicBezTo>
                      <a:cubicBezTo>
                        <a:pt x="527" y="2365"/>
                        <a:pt x="403" y="2358"/>
                        <a:pt x="279" y="2358"/>
                      </a:cubicBezTo>
                      <a:cubicBezTo>
                        <a:pt x="251" y="2358"/>
                        <a:pt x="224" y="2368"/>
                        <a:pt x="196" y="2368"/>
                      </a:cubicBezTo>
                      <a:cubicBezTo>
                        <a:pt x="131" y="2368"/>
                        <a:pt x="0" y="2358"/>
                        <a:pt x="0" y="2358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1468440" y="2198880"/>
                <a:ext cx="3756240" cy="3924000"/>
              </a:xfrm>
              <a:custGeom>
                <a:avLst/>
                <a:gdLst/>
                <a:ahLst/>
                <a:rect l="l" t="t" r="r" b="b"/>
                <a:pathLst>
                  <a:path w="2366" h="2472">
                    <a:moveTo>
                      <a:pt x="297" y="2472"/>
                    </a:moveTo>
                    <a:cubicBezTo>
                      <a:pt x="323" y="2274"/>
                      <a:pt x="296" y="2070"/>
                      <a:pt x="277" y="1872"/>
                    </a:cubicBezTo>
                    <a:cubicBezTo>
                      <a:pt x="265" y="1748"/>
                      <a:pt x="264" y="1662"/>
                      <a:pt x="235" y="1551"/>
                    </a:cubicBezTo>
                    <a:cubicBezTo>
                      <a:pt x="225" y="1456"/>
                      <a:pt x="216" y="1344"/>
                      <a:pt x="163" y="1262"/>
                    </a:cubicBezTo>
                    <a:cubicBezTo>
                      <a:pt x="146" y="1165"/>
                      <a:pt x="112" y="1099"/>
                      <a:pt x="28" y="1045"/>
                    </a:cubicBezTo>
                    <a:cubicBezTo>
                      <a:pt x="126" y="947"/>
                      <a:pt x="0" y="1064"/>
                      <a:pt x="90" y="1003"/>
                    </a:cubicBezTo>
                    <a:cubicBezTo>
                      <a:pt x="126" y="979"/>
                      <a:pt x="156" y="931"/>
                      <a:pt x="194" y="910"/>
                    </a:cubicBezTo>
                    <a:cubicBezTo>
                      <a:pt x="213" y="900"/>
                      <a:pt x="235" y="897"/>
                      <a:pt x="256" y="890"/>
                    </a:cubicBezTo>
                    <a:cubicBezTo>
                      <a:pt x="292" y="835"/>
                      <a:pt x="349" y="792"/>
                      <a:pt x="380" y="734"/>
                    </a:cubicBezTo>
                    <a:cubicBezTo>
                      <a:pt x="470" y="565"/>
                      <a:pt x="410" y="657"/>
                      <a:pt x="463" y="579"/>
                    </a:cubicBezTo>
                    <a:cubicBezTo>
                      <a:pt x="480" y="528"/>
                      <a:pt x="495" y="489"/>
                      <a:pt x="525" y="445"/>
                    </a:cubicBezTo>
                    <a:cubicBezTo>
                      <a:pt x="540" y="398"/>
                      <a:pt x="571" y="362"/>
                      <a:pt x="597" y="321"/>
                    </a:cubicBezTo>
                    <a:cubicBezTo>
                      <a:pt x="603" y="312"/>
                      <a:pt x="601" y="298"/>
                      <a:pt x="608" y="290"/>
                    </a:cubicBezTo>
                    <a:cubicBezTo>
                      <a:pt x="645" y="246"/>
                      <a:pt x="661" y="264"/>
                      <a:pt x="711" y="238"/>
                    </a:cubicBezTo>
                    <a:cubicBezTo>
                      <a:pt x="773" y="206"/>
                      <a:pt x="828" y="186"/>
                      <a:pt x="897" y="176"/>
                    </a:cubicBezTo>
                    <a:cubicBezTo>
                      <a:pt x="986" y="131"/>
                      <a:pt x="1080" y="116"/>
                      <a:pt x="1176" y="93"/>
                    </a:cubicBezTo>
                    <a:cubicBezTo>
                      <a:pt x="1231" y="57"/>
                      <a:pt x="1286" y="60"/>
                      <a:pt x="1352" y="52"/>
                    </a:cubicBezTo>
                    <a:cubicBezTo>
                      <a:pt x="1480" y="37"/>
                      <a:pt x="1607" y="14"/>
                      <a:pt x="1735" y="0"/>
                    </a:cubicBezTo>
                    <a:cubicBezTo>
                      <a:pt x="1874" y="9"/>
                      <a:pt x="2010" y="29"/>
                      <a:pt x="2149" y="41"/>
                    </a:cubicBezTo>
                    <a:cubicBezTo>
                      <a:pt x="2205" y="60"/>
                      <a:pt x="2248" y="84"/>
                      <a:pt x="2304" y="103"/>
                    </a:cubicBezTo>
                    <a:cubicBezTo>
                      <a:pt x="2314" y="106"/>
                      <a:pt x="2325" y="110"/>
                      <a:pt x="2335" y="114"/>
                    </a:cubicBezTo>
                    <a:cubicBezTo>
                      <a:pt x="2345" y="117"/>
                      <a:pt x="2366" y="124"/>
                      <a:pt x="2366" y="124"/>
                    </a:cubicBezTo>
                    <a:cubicBezTo>
                      <a:pt x="2366" y="124"/>
                      <a:pt x="2339" y="114"/>
                      <a:pt x="2325" y="11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3" name="ksl" descr=""/>
            <p:cNvPicPr/>
            <p:nvPr/>
          </p:nvPicPr>
          <p:blipFill>
            <a:blip r:embed="rId1"/>
            <a:stretch/>
          </p:blipFill>
          <p:spPr>
            <a:xfrm>
              <a:off x="1905120" y="4495680"/>
              <a:ext cx="7221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google" descr=""/>
            <p:cNvPicPr/>
            <p:nvPr/>
          </p:nvPicPr>
          <p:blipFill>
            <a:blip r:embed="rId2"/>
            <a:stretch/>
          </p:blipFill>
          <p:spPr>
            <a:xfrm>
              <a:off x="6019920" y="312408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stanford" descr=""/>
            <p:cNvPicPr/>
            <p:nvPr/>
          </p:nvPicPr>
          <p:blipFill>
            <a:blip r:embed="rId3"/>
            <a:stretch/>
          </p:blipFill>
          <p:spPr>
            <a:xfrm>
              <a:off x="4952880" y="411480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ustreas" descr=""/>
            <p:cNvPicPr/>
            <p:nvPr/>
          </p:nvPicPr>
          <p:blipFill>
            <a:blip r:embed="rId4"/>
            <a:stretch/>
          </p:blipFill>
          <p:spPr>
            <a:xfrm>
              <a:off x="3429000" y="274320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stanford" descr=""/>
            <p:cNvPicPr/>
            <p:nvPr/>
          </p:nvPicPr>
          <p:blipFill>
            <a:blip r:embed="rId5"/>
            <a:stretch/>
          </p:blipFill>
          <p:spPr>
            <a:xfrm>
              <a:off x="1828800" y="2362320"/>
              <a:ext cx="739800" cy="7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google" descr=""/>
            <p:cNvPicPr/>
            <p:nvPr/>
          </p:nvPicPr>
          <p:blipFill>
            <a:blip r:embed="rId6"/>
            <a:stretch/>
          </p:blipFill>
          <p:spPr>
            <a:xfrm>
              <a:off x="6172200" y="289548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google" descr=""/>
            <p:cNvPicPr/>
            <p:nvPr/>
          </p:nvPicPr>
          <p:blipFill>
            <a:blip r:embed="rId7"/>
            <a:stretch/>
          </p:blipFill>
          <p:spPr>
            <a:xfrm>
              <a:off x="2971800" y="571500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ustreas" descr=""/>
            <p:cNvPicPr/>
            <p:nvPr/>
          </p:nvPicPr>
          <p:blipFill>
            <a:blip r:embed="rId8"/>
            <a:stretch/>
          </p:blipFill>
          <p:spPr>
            <a:xfrm>
              <a:off x="5638680" y="525780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ksl" descr=""/>
            <p:cNvPicPr/>
            <p:nvPr/>
          </p:nvPicPr>
          <p:blipFill>
            <a:blip r:embed="rId9"/>
            <a:stretch/>
          </p:blipFill>
          <p:spPr>
            <a:xfrm>
              <a:off x="4800600" y="2286000"/>
              <a:ext cx="722160" cy="7272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ehind the Scenes</a:t>
            </a:r>
            <a:br>
              <a:rPr sz="20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57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4612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8" name="bob-run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91160" cy="4951440"/>
          </a:xfrm>
          <a:prstGeom prst="rect">
            <a:avLst/>
          </a:prstGeom>
          <a:ln w="0">
            <a:noFill/>
          </a:ln>
        </p:spPr>
      </p:pic>
      <p:sp>
        <p:nvSpPr>
          <p:cNvPr id="1439" name=""/>
          <p:cNvSpPr/>
          <p:nvPr/>
        </p:nvSpPr>
        <p:spPr>
          <a:xfrm>
            <a:off x="1143000" y="1828800"/>
            <a:ext cx="7086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ehind the Sc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8088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2" name="bob-run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91160" cy="4951440"/>
          </a:xfrm>
          <a:prstGeom prst="rect">
            <a:avLst/>
          </a:prstGeom>
          <a:ln w="0">
            <a:noFill/>
          </a:ln>
        </p:spPr>
      </p:pic>
      <p:sp>
        <p:nvSpPr>
          <p:cNvPr id="1443" name=""/>
          <p:cNvSpPr/>
          <p:nvPr/>
        </p:nvSpPr>
        <p:spPr>
          <a:xfrm>
            <a:off x="1143000" y="1981080"/>
            <a:ext cx="7086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ehind the Sc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088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6" name="bob-run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91160" cy="4951440"/>
          </a:xfrm>
          <a:prstGeom prst="rect">
            <a:avLst/>
          </a:prstGeom>
          <a:ln w="0">
            <a:noFill/>
          </a:ln>
        </p:spPr>
      </p:pic>
      <p:sp>
        <p:nvSpPr>
          <p:cNvPr id="1447" name=""/>
          <p:cNvSpPr/>
          <p:nvPr/>
        </p:nvSpPr>
        <p:spPr>
          <a:xfrm>
            <a:off x="1143000" y="2286000"/>
            <a:ext cx="7086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ehind the Sc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8088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0" name="bob-run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91160" cy="4951440"/>
          </a:xfrm>
          <a:prstGeom prst="rect">
            <a:avLst/>
          </a:prstGeom>
          <a:ln w="0">
            <a:noFill/>
          </a:ln>
        </p:spPr>
      </p:pic>
      <p:sp>
        <p:nvSpPr>
          <p:cNvPr id="1451" name=""/>
          <p:cNvSpPr/>
          <p:nvPr/>
        </p:nvSpPr>
        <p:spPr>
          <a:xfrm>
            <a:off x="1143000" y="2743200"/>
            <a:ext cx="7086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ehind the Sc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8088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4" name="bob-run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91160" cy="4951440"/>
          </a:xfrm>
          <a:prstGeom prst="rect">
            <a:avLst/>
          </a:prstGeom>
          <a:ln w="0">
            <a:noFill/>
          </a:ln>
        </p:spPr>
      </p:pic>
      <p:sp>
        <p:nvSpPr>
          <p:cNvPr id="1455" name=""/>
          <p:cNvSpPr/>
          <p:nvPr/>
        </p:nvSpPr>
        <p:spPr>
          <a:xfrm>
            <a:off x="1143000" y="4038480"/>
            <a:ext cx="7086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ehind the Sc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8088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8" name="bob-run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91160" cy="4951440"/>
          </a:xfrm>
          <a:prstGeom prst="rect">
            <a:avLst/>
          </a:prstGeom>
          <a:ln w="0">
            <a:noFill/>
          </a:ln>
        </p:spPr>
      </p:pic>
      <p:sp>
        <p:nvSpPr>
          <p:cNvPr id="1459" name=""/>
          <p:cNvSpPr/>
          <p:nvPr/>
        </p:nvSpPr>
        <p:spPr>
          <a:xfrm>
            <a:off x="1143000" y="4648320"/>
            <a:ext cx="7086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ehind the Sc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8088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2" name="bob-run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91160" cy="4951440"/>
          </a:xfrm>
          <a:prstGeom prst="rect">
            <a:avLst/>
          </a:prstGeom>
          <a:ln w="0">
            <a:noFill/>
          </a:ln>
        </p:spPr>
      </p:pic>
      <p:sp>
        <p:nvSpPr>
          <p:cNvPr id="1463" name=""/>
          <p:cNvSpPr/>
          <p:nvPr/>
        </p:nvSpPr>
        <p:spPr>
          <a:xfrm>
            <a:off x="1143000" y="5105520"/>
            <a:ext cx="7086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ehind the Sc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8088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6" name="bob-run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91160" cy="4951440"/>
          </a:xfrm>
          <a:prstGeom prst="rect">
            <a:avLst/>
          </a:prstGeom>
          <a:ln w="0">
            <a:noFill/>
          </a:ln>
        </p:spPr>
      </p:pic>
      <p:sp>
        <p:nvSpPr>
          <p:cNvPr id="1467" name=""/>
          <p:cNvSpPr/>
          <p:nvPr/>
        </p:nvSpPr>
        <p:spPr>
          <a:xfrm>
            <a:off x="1143000" y="6324480"/>
            <a:ext cx="7086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gent e-mails itinerary to customer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57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4612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1" name="bob-mail" descr=""/>
          <p:cNvPicPr/>
          <p:nvPr/>
        </p:nvPicPr>
        <p:blipFill>
          <a:blip r:embed="rId1"/>
          <a:stretch/>
        </p:blipFill>
        <p:spPr>
          <a:xfrm>
            <a:off x="1041480" y="1482840"/>
            <a:ext cx="7340400" cy="4917960"/>
          </a:xfrm>
          <a:prstGeom prst="rect">
            <a:avLst/>
          </a:prstGeom>
          <a:ln w="0">
            <a:noFill/>
          </a:ln>
        </p:spPr>
      </p:pic>
      <p:sp>
        <p:nvSpPr>
          <p:cNvPr id="1472" name=""/>
          <p:cNvSpPr/>
          <p:nvPr/>
        </p:nvSpPr>
        <p:spPr>
          <a:xfrm>
            <a:off x="1143000" y="2590920"/>
            <a:ext cx="7086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gent e-mails itinerary to customer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57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54612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6" name="bob-mail" descr=""/>
          <p:cNvPicPr/>
          <p:nvPr/>
        </p:nvPicPr>
        <p:blipFill>
          <a:blip r:embed="rId1"/>
          <a:stretch/>
        </p:blipFill>
        <p:spPr>
          <a:xfrm>
            <a:off x="1041480" y="1482840"/>
            <a:ext cx="7340400" cy="4917960"/>
          </a:xfrm>
          <a:prstGeom prst="rect">
            <a:avLst/>
          </a:prstGeom>
          <a:ln w="0">
            <a:noFill/>
          </a:ln>
        </p:spPr>
      </p:pic>
      <p:sp>
        <p:nvSpPr>
          <p:cNvPr id="1477" name=""/>
          <p:cNvSpPr/>
          <p:nvPr/>
        </p:nvSpPr>
        <p:spPr>
          <a:xfrm>
            <a:off x="1143000" y="3886200"/>
            <a:ext cx="7086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982800" y="1981080"/>
            <a:ext cx="6865560" cy="4508640"/>
            <a:chOff x="982800" y="1981080"/>
            <a:chExt cx="6865560" cy="4508640"/>
          </a:xfrm>
        </p:grpSpPr>
        <p:grpSp>
          <p:nvGrpSpPr>
            <p:cNvPr id="73" name=""/>
            <p:cNvGrpSpPr/>
            <p:nvPr/>
          </p:nvGrpSpPr>
          <p:grpSpPr>
            <a:xfrm>
              <a:off x="982800" y="2108160"/>
              <a:ext cx="6865560" cy="4368240"/>
              <a:chOff x="982800" y="2108160"/>
              <a:chExt cx="6865560" cy="4368240"/>
            </a:xfrm>
          </p:grpSpPr>
          <p:grpSp>
            <p:nvGrpSpPr>
              <p:cNvPr id="74" name=""/>
              <p:cNvGrpSpPr/>
              <p:nvPr/>
            </p:nvGrpSpPr>
            <p:grpSpPr>
              <a:xfrm>
                <a:off x="982800" y="2108160"/>
                <a:ext cx="6865560" cy="4368240"/>
                <a:chOff x="982800" y="2108160"/>
                <a:chExt cx="6865560" cy="4368240"/>
              </a:xfrm>
            </p:grpSpPr>
            <p:grpSp>
              <p:nvGrpSpPr>
                <p:cNvPr id="75" name=""/>
                <p:cNvGrpSpPr/>
                <p:nvPr/>
              </p:nvGrpSpPr>
              <p:grpSpPr>
                <a:xfrm>
                  <a:off x="982800" y="2108160"/>
                  <a:ext cx="6865560" cy="4368240"/>
                  <a:chOff x="982800" y="2108160"/>
                  <a:chExt cx="6865560" cy="4368240"/>
                </a:xfrm>
              </p:grpSpPr>
              <p:grpSp>
                <p:nvGrpSpPr>
                  <p:cNvPr id="76" name=""/>
                  <p:cNvGrpSpPr/>
                  <p:nvPr/>
                </p:nvGrpSpPr>
                <p:grpSpPr>
                  <a:xfrm>
                    <a:off x="982800" y="2108160"/>
                    <a:ext cx="6865560" cy="4368240"/>
                    <a:chOff x="982800" y="2108160"/>
                    <a:chExt cx="6865560" cy="4368240"/>
                  </a:xfrm>
                </p:grpSpPr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4257000" y="2108160"/>
                      <a:ext cx="3210480" cy="197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69" h="1419">
                          <a:moveTo>
                            <a:pt x="0" y="1419"/>
                          </a:moveTo>
                          <a:cubicBezTo>
                            <a:pt x="39" y="1392"/>
                            <a:pt x="81" y="1395"/>
                            <a:pt x="125" y="1372"/>
                          </a:cubicBezTo>
                          <a:cubicBezTo>
                            <a:pt x="161" y="1354"/>
                            <a:pt x="187" y="1338"/>
                            <a:pt x="226" y="1325"/>
                          </a:cubicBezTo>
                          <a:cubicBezTo>
                            <a:pt x="246" y="1310"/>
                            <a:pt x="268" y="1301"/>
                            <a:pt x="288" y="1286"/>
                          </a:cubicBezTo>
                          <a:cubicBezTo>
                            <a:pt x="300" y="1277"/>
                            <a:pt x="307" y="1262"/>
                            <a:pt x="320" y="1255"/>
                          </a:cubicBezTo>
                          <a:cubicBezTo>
                            <a:pt x="349" y="1240"/>
                            <a:pt x="413" y="1224"/>
                            <a:pt x="413" y="1224"/>
                          </a:cubicBezTo>
                          <a:cubicBezTo>
                            <a:pt x="466" y="1171"/>
                            <a:pt x="515" y="1134"/>
                            <a:pt x="569" y="1083"/>
                          </a:cubicBezTo>
                          <a:cubicBezTo>
                            <a:pt x="598" y="1055"/>
                            <a:pt x="618" y="1014"/>
                            <a:pt x="655" y="998"/>
                          </a:cubicBezTo>
                          <a:cubicBezTo>
                            <a:pt x="684" y="985"/>
                            <a:pt x="747" y="958"/>
                            <a:pt x="772" y="943"/>
                          </a:cubicBezTo>
                          <a:cubicBezTo>
                            <a:pt x="833" y="906"/>
                            <a:pt x="865" y="871"/>
                            <a:pt x="935" y="850"/>
                          </a:cubicBezTo>
                          <a:cubicBezTo>
                            <a:pt x="976" y="823"/>
                            <a:pt x="1006" y="808"/>
                            <a:pt x="1052" y="787"/>
                          </a:cubicBezTo>
                          <a:cubicBezTo>
                            <a:pt x="1114" y="758"/>
                            <a:pt x="1141" y="716"/>
                            <a:pt x="1208" y="694"/>
                          </a:cubicBezTo>
                          <a:cubicBezTo>
                            <a:pt x="1288" y="631"/>
                            <a:pt x="1347" y="584"/>
                            <a:pt x="1442" y="554"/>
                          </a:cubicBezTo>
                          <a:cubicBezTo>
                            <a:pt x="1492" y="502"/>
                            <a:pt x="1432" y="555"/>
                            <a:pt x="1512" y="522"/>
                          </a:cubicBezTo>
                          <a:cubicBezTo>
                            <a:pt x="1542" y="510"/>
                            <a:pt x="1577" y="479"/>
                            <a:pt x="1605" y="460"/>
                          </a:cubicBezTo>
                          <a:cubicBezTo>
                            <a:pt x="1652" y="428"/>
                            <a:pt x="1695" y="399"/>
                            <a:pt x="1746" y="374"/>
                          </a:cubicBezTo>
                          <a:cubicBezTo>
                            <a:pt x="1787" y="333"/>
                            <a:pt x="1838" y="276"/>
                            <a:pt x="1894" y="257"/>
                          </a:cubicBezTo>
                          <a:cubicBezTo>
                            <a:pt x="1939" y="212"/>
                            <a:pt x="2020" y="190"/>
                            <a:pt x="2081" y="172"/>
                          </a:cubicBezTo>
                          <a:cubicBezTo>
                            <a:pt x="2125" y="126"/>
                            <a:pt x="2081" y="164"/>
                            <a:pt x="2166" y="133"/>
                          </a:cubicBezTo>
                          <a:cubicBezTo>
                            <a:pt x="2175" y="130"/>
                            <a:pt x="2181" y="121"/>
                            <a:pt x="2190" y="117"/>
                          </a:cubicBezTo>
                          <a:cubicBezTo>
                            <a:pt x="2205" y="110"/>
                            <a:pt x="2221" y="107"/>
                            <a:pt x="2237" y="102"/>
                          </a:cubicBezTo>
                          <a:cubicBezTo>
                            <a:pt x="2282" y="67"/>
                            <a:pt x="2329" y="40"/>
                            <a:pt x="2369" y="0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" name=""/>
                    <p:cNvSpPr/>
                    <p:nvPr/>
                  </p:nvSpPr>
                  <p:spPr>
                    <a:xfrm>
                      <a:off x="4288320" y="4086720"/>
                      <a:ext cx="3560040" cy="126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27" h="904">
                          <a:moveTo>
                            <a:pt x="0" y="0"/>
                          </a:moveTo>
                          <a:cubicBezTo>
                            <a:pt x="17" y="11"/>
                            <a:pt x="29" y="29"/>
                            <a:pt x="47" y="39"/>
                          </a:cubicBezTo>
                          <a:cubicBezTo>
                            <a:pt x="118" y="78"/>
                            <a:pt x="217" y="95"/>
                            <a:pt x="297" y="109"/>
                          </a:cubicBezTo>
                          <a:cubicBezTo>
                            <a:pt x="338" y="124"/>
                            <a:pt x="379" y="143"/>
                            <a:pt x="421" y="155"/>
                          </a:cubicBezTo>
                          <a:cubicBezTo>
                            <a:pt x="654" y="222"/>
                            <a:pt x="313" y="101"/>
                            <a:pt x="546" y="179"/>
                          </a:cubicBezTo>
                          <a:cubicBezTo>
                            <a:pt x="686" y="226"/>
                            <a:pt x="742" y="238"/>
                            <a:pt x="889" y="249"/>
                          </a:cubicBezTo>
                          <a:cubicBezTo>
                            <a:pt x="1029" y="273"/>
                            <a:pt x="1169" y="292"/>
                            <a:pt x="1310" y="303"/>
                          </a:cubicBezTo>
                          <a:cubicBezTo>
                            <a:pt x="1427" y="333"/>
                            <a:pt x="1549" y="338"/>
                            <a:pt x="1660" y="389"/>
                          </a:cubicBezTo>
                          <a:cubicBezTo>
                            <a:pt x="1701" y="408"/>
                            <a:pt x="1725" y="445"/>
                            <a:pt x="1762" y="467"/>
                          </a:cubicBezTo>
                          <a:cubicBezTo>
                            <a:pt x="1837" y="512"/>
                            <a:pt x="1888" y="526"/>
                            <a:pt x="1972" y="537"/>
                          </a:cubicBezTo>
                          <a:cubicBezTo>
                            <a:pt x="2065" y="565"/>
                            <a:pt x="2165" y="579"/>
                            <a:pt x="2260" y="600"/>
                          </a:cubicBezTo>
                          <a:cubicBezTo>
                            <a:pt x="2312" y="611"/>
                            <a:pt x="2367" y="617"/>
                            <a:pt x="2416" y="639"/>
                          </a:cubicBezTo>
                          <a:cubicBezTo>
                            <a:pt x="2437" y="649"/>
                            <a:pt x="2478" y="670"/>
                            <a:pt x="2478" y="670"/>
                          </a:cubicBezTo>
                          <a:cubicBezTo>
                            <a:pt x="2513" y="721"/>
                            <a:pt x="2511" y="788"/>
                            <a:pt x="2556" y="833"/>
                          </a:cubicBezTo>
                          <a:cubicBezTo>
                            <a:pt x="2573" y="850"/>
                            <a:pt x="2586" y="871"/>
                            <a:pt x="2603" y="888"/>
                          </a:cubicBezTo>
                          <a:cubicBezTo>
                            <a:pt x="2610" y="895"/>
                            <a:pt x="2627" y="904"/>
                            <a:pt x="2627" y="904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4247640" y="4086720"/>
                      <a:ext cx="527040" cy="238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" h="1714">
                          <a:moveTo>
                            <a:pt x="23" y="0"/>
                          </a:moveTo>
                          <a:cubicBezTo>
                            <a:pt x="0" y="67"/>
                            <a:pt x="14" y="15"/>
                            <a:pt x="30" y="163"/>
                          </a:cubicBezTo>
                          <a:cubicBezTo>
                            <a:pt x="39" y="250"/>
                            <a:pt x="49" y="330"/>
                            <a:pt x="77" y="413"/>
                          </a:cubicBezTo>
                          <a:cubicBezTo>
                            <a:pt x="91" y="518"/>
                            <a:pt x="136" y="588"/>
                            <a:pt x="171" y="685"/>
                          </a:cubicBezTo>
                          <a:cubicBezTo>
                            <a:pt x="195" y="751"/>
                            <a:pt x="208" y="823"/>
                            <a:pt x="233" y="888"/>
                          </a:cubicBezTo>
                          <a:cubicBezTo>
                            <a:pt x="282" y="1017"/>
                            <a:pt x="246" y="907"/>
                            <a:pt x="280" y="974"/>
                          </a:cubicBezTo>
                          <a:cubicBezTo>
                            <a:pt x="322" y="1056"/>
                            <a:pt x="319" y="1157"/>
                            <a:pt x="342" y="1246"/>
                          </a:cubicBezTo>
                          <a:cubicBezTo>
                            <a:pt x="349" y="1305"/>
                            <a:pt x="358" y="1361"/>
                            <a:pt x="373" y="1418"/>
                          </a:cubicBezTo>
                          <a:cubicBezTo>
                            <a:pt x="380" y="1520"/>
                            <a:pt x="389" y="1612"/>
                            <a:pt x="389" y="1714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1689840" y="4096080"/>
                      <a:ext cx="2545200" cy="22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8" h="1590">
                          <a:moveTo>
                            <a:pt x="1878" y="0"/>
                          </a:moveTo>
                          <a:cubicBezTo>
                            <a:pt x="1839" y="10"/>
                            <a:pt x="1801" y="22"/>
                            <a:pt x="1762" y="32"/>
                          </a:cubicBezTo>
                          <a:cubicBezTo>
                            <a:pt x="1701" y="76"/>
                            <a:pt x="1614" y="82"/>
                            <a:pt x="1559" y="141"/>
                          </a:cubicBezTo>
                          <a:cubicBezTo>
                            <a:pt x="1526" y="176"/>
                            <a:pt x="1497" y="214"/>
                            <a:pt x="1465" y="250"/>
                          </a:cubicBezTo>
                          <a:cubicBezTo>
                            <a:pt x="1455" y="261"/>
                            <a:pt x="1444" y="271"/>
                            <a:pt x="1434" y="281"/>
                          </a:cubicBezTo>
                          <a:cubicBezTo>
                            <a:pt x="1399" y="390"/>
                            <a:pt x="1292" y="423"/>
                            <a:pt x="1216" y="499"/>
                          </a:cubicBezTo>
                          <a:cubicBezTo>
                            <a:pt x="1138" y="577"/>
                            <a:pt x="1069" y="662"/>
                            <a:pt x="990" y="741"/>
                          </a:cubicBezTo>
                          <a:cubicBezTo>
                            <a:pt x="984" y="747"/>
                            <a:pt x="983" y="759"/>
                            <a:pt x="975" y="764"/>
                          </a:cubicBezTo>
                          <a:cubicBezTo>
                            <a:pt x="875" y="827"/>
                            <a:pt x="985" y="721"/>
                            <a:pt x="873" y="811"/>
                          </a:cubicBezTo>
                          <a:cubicBezTo>
                            <a:pt x="847" y="832"/>
                            <a:pt x="829" y="861"/>
                            <a:pt x="803" y="881"/>
                          </a:cubicBezTo>
                          <a:cubicBezTo>
                            <a:pt x="740" y="928"/>
                            <a:pt x="675" y="976"/>
                            <a:pt x="616" y="1029"/>
                          </a:cubicBezTo>
                          <a:cubicBezTo>
                            <a:pt x="569" y="1071"/>
                            <a:pt x="524" y="1104"/>
                            <a:pt x="476" y="1146"/>
                          </a:cubicBezTo>
                          <a:cubicBezTo>
                            <a:pt x="404" y="1209"/>
                            <a:pt x="460" y="1183"/>
                            <a:pt x="382" y="1208"/>
                          </a:cubicBezTo>
                          <a:cubicBezTo>
                            <a:pt x="260" y="1332"/>
                            <a:pt x="401" y="1177"/>
                            <a:pt x="312" y="1310"/>
                          </a:cubicBezTo>
                          <a:cubicBezTo>
                            <a:pt x="307" y="1318"/>
                            <a:pt x="296" y="1319"/>
                            <a:pt x="289" y="1325"/>
                          </a:cubicBezTo>
                          <a:cubicBezTo>
                            <a:pt x="255" y="1353"/>
                            <a:pt x="220" y="1382"/>
                            <a:pt x="187" y="1411"/>
                          </a:cubicBezTo>
                          <a:cubicBezTo>
                            <a:pt x="149" y="1446"/>
                            <a:pt x="128" y="1492"/>
                            <a:pt x="86" y="1520"/>
                          </a:cubicBezTo>
                          <a:cubicBezTo>
                            <a:pt x="78" y="1530"/>
                            <a:pt x="72" y="1542"/>
                            <a:pt x="63" y="1551"/>
                          </a:cubicBezTo>
                          <a:cubicBezTo>
                            <a:pt x="56" y="1558"/>
                            <a:pt x="0" y="1590"/>
                            <a:pt x="32" y="1590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982800" y="3768840"/>
                      <a:ext cx="3242880" cy="31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93" h="228">
                          <a:moveTo>
                            <a:pt x="2393" y="228"/>
                          </a:moveTo>
                          <a:cubicBezTo>
                            <a:pt x="2363" y="221"/>
                            <a:pt x="2303" y="201"/>
                            <a:pt x="2284" y="196"/>
                          </a:cubicBezTo>
                          <a:cubicBezTo>
                            <a:pt x="2167" y="167"/>
                            <a:pt x="2044" y="162"/>
                            <a:pt x="1925" y="142"/>
                          </a:cubicBezTo>
                          <a:cubicBezTo>
                            <a:pt x="1856" y="130"/>
                            <a:pt x="1816" y="117"/>
                            <a:pt x="1746" y="111"/>
                          </a:cubicBezTo>
                          <a:cubicBezTo>
                            <a:pt x="1473" y="41"/>
                            <a:pt x="1184" y="52"/>
                            <a:pt x="904" y="33"/>
                          </a:cubicBezTo>
                          <a:cubicBezTo>
                            <a:pt x="752" y="10"/>
                            <a:pt x="619" y="21"/>
                            <a:pt x="460" y="25"/>
                          </a:cubicBezTo>
                          <a:cubicBezTo>
                            <a:pt x="398" y="38"/>
                            <a:pt x="335" y="43"/>
                            <a:pt x="273" y="56"/>
                          </a:cubicBezTo>
                          <a:cubicBezTo>
                            <a:pt x="255" y="55"/>
                            <a:pt x="154" y="50"/>
                            <a:pt x="117" y="41"/>
                          </a:cubicBezTo>
                          <a:cubicBezTo>
                            <a:pt x="83" y="33"/>
                            <a:pt x="34" y="0"/>
                            <a:pt x="0" y="17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2335320" y="2586240"/>
                      <a:ext cx="1899720" cy="14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2" h="1060">
                          <a:moveTo>
                            <a:pt x="1402" y="1060"/>
                          </a:moveTo>
                          <a:cubicBezTo>
                            <a:pt x="1342" y="1000"/>
                            <a:pt x="1301" y="943"/>
                            <a:pt x="1262" y="865"/>
                          </a:cubicBezTo>
                          <a:cubicBezTo>
                            <a:pt x="1248" y="836"/>
                            <a:pt x="1255" y="800"/>
                            <a:pt x="1239" y="772"/>
                          </a:cubicBezTo>
                          <a:cubicBezTo>
                            <a:pt x="1222" y="743"/>
                            <a:pt x="1197" y="720"/>
                            <a:pt x="1176" y="694"/>
                          </a:cubicBezTo>
                          <a:cubicBezTo>
                            <a:pt x="1154" y="632"/>
                            <a:pt x="1130" y="577"/>
                            <a:pt x="1083" y="530"/>
                          </a:cubicBezTo>
                          <a:cubicBezTo>
                            <a:pt x="1075" y="509"/>
                            <a:pt x="1070" y="488"/>
                            <a:pt x="1060" y="468"/>
                          </a:cubicBezTo>
                          <a:cubicBezTo>
                            <a:pt x="1054" y="456"/>
                            <a:pt x="1042" y="449"/>
                            <a:pt x="1036" y="437"/>
                          </a:cubicBezTo>
                          <a:cubicBezTo>
                            <a:pt x="1029" y="422"/>
                            <a:pt x="1031" y="403"/>
                            <a:pt x="1021" y="390"/>
                          </a:cubicBezTo>
                          <a:cubicBezTo>
                            <a:pt x="985" y="345"/>
                            <a:pt x="887" y="319"/>
                            <a:pt x="841" y="304"/>
                          </a:cubicBezTo>
                          <a:cubicBezTo>
                            <a:pt x="808" y="293"/>
                            <a:pt x="773" y="286"/>
                            <a:pt x="740" y="273"/>
                          </a:cubicBezTo>
                          <a:cubicBezTo>
                            <a:pt x="694" y="255"/>
                            <a:pt x="654" y="221"/>
                            <a:pt x="608" y="203"/>
                          </a:cubicBezTo>
                          <a:cubicBezTo>
                            <a:pt x="584" y="194"/>
                            <a:pt x="514" y="178"/>
                            <a:pt x="491" y="172"/>
                          </a:cubicBezTo>
                          <a:cubicBezTo>
                            <a:pt x="434" y="134"/>
                            <a:pt x="362" y="125"/>
                            <a:pt x="296" y="109"/>
                          </a:cubicBezTo>
                          <a:cubicBezTo>
                            <a:pt x="184" y="81"/>
                            <a:pt x="275" y="96"/>
                            <a:pt x="202" y="70"/>
                          </a:cubicBezTo>
                          <a:cubicBezTo>
                            <a:pt x="153" y="52"/>
                            <a:pt x="103" y="48"/>
                            <a:pt x="54" y="31"/>
                          </a:cubicBezTo>
                          <a:cubicBezTo>
                            <a:pt x="44" y="23"/>
                            <a:pt x="34" y="14"/>
                            <a:pt x="23" y="8"/>
                          </a:cubicBezTo>
                          <a:cubicBezTo>
                            <a:pt x="16" y="4"/>
                            <a:pt x="0" y="0"/>
                            <a:pt x="0" y="0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4267800" y="2205720"/>
                      <a:ext cx="939240" cy="185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3" h="1333">
                          <a:moveTo>
                            <a:pt x="0" y="1333"/>
                          </a:moveTo>
                          <a:cubicBezTo>
                            <a:pt x="57" y="1256"/>
                            <a:pt x="42" y="1169"/>
                            <a:pt x="70" y="1084"/>
                          </a:cubicBezTo>
                          <a:cubicBezTo>
                            <a:pt x="86" y="1037"/>
                            <a:pt x="101" y="990"/>
                            <a:pt x="117" y="943"/>
                          </a:cubicBezTo>
                          <a:cubicBezTo>
                            <a:pt x="127" y="866"/>
                            <a:pt x="130" y="776"/>
                            <a:pt x="156" y="702"/>
                          </a:cubicBezTo>
                          <a:cubicBezTo>
                            <a:pt x="165" y="639"/>
                            <a:pt x="177" y="586"/>
                            <a:pt x="210" y="530"/>
                          </a:cubicBezTo>
                          <a:cubicBezTo>
                            <a:pt x="220" y="513"/>
                            <a:pt x="285" y="470"/>
                            <a:pt x="288" y="468"/>
                          </a:cubicBezTo>
                          <a:cubicBezTo>
                            <a:pt x="341" y="433"/>
                            <a:pt x="399" y="397"/>
                            <a:pt x="436" y="343"/>
                          </a:cubicBezTo>
                          <a:cubicBezTo>
                            <a:pt x="461" y="307"/>
                            <a:pt x="493" y="276"/>
                            <a:pt x="522" y="242"/>
                          </a:cubicBezTo>
                          <a:cubicBezTo>
                            <a:pt x="555" y="203"/>
                            <a:pt x="570" y="162"/>
                            <a:pt x="615" y="133"/>
                          </a:cubicBezTo>
                          <a:cubicBezTo>
                            <a:pt x="646" y="88"/>
                            <a:pt x="672" y="49"/>
                            <a:pt x="693" y="0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4" name=""/>
                  <p:cNvSpPr/>
                  <p:nvPr/>
                </p:nvSpPr>
                <p:spPr>
                  <a:xfrm>
                    <a:off x="3614760" y="3611520"/>
                    <a:ext cx="1298520" cy="10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8" h="677">
                        <a:moveTo>
                          <a:pt x="11" y="563"/>
                        </a:moveTo>
                        <a:cubicBezTo>
                          <a:pt x="68" y="543"/>
                          <a:pt x="127" y="539"/>
                          <a:pt x="187" y="532"/>
                        </a:cubicBezTo>
                        <a:cubicBezTo>
                          <a:pt x="197" y="535"/>
                          <a:pt x="207" y="539"/>
                          <a:pt x="218" y="542"/>
                        </a:cubicBezTo>
                        <a:cubicBezTo>
                          <a:pt x="235" y="546"/>
                          <a:pt x="252" y="547"/>
                          <a:pt x="269" y="552"/>
                        </a:cubicBezTo>
                        <a:cubicBezTo>
                          <a:pt x="290" y="558"/>
                          <a:pt x="331" y="573"/>
                          <a:pt x="331" y="573"/>
                        </a:cubicBezTo>
                        <a:cubicBezTo>
                          <a:pt x="341" y="580"/>
                          <a:pt x="351" y="588"/>
                          <a:pt x="362" y="594"/>
                        </a:cubicBezTo>
                        <a:cubicBezTo>
                          <a:pt x="372" y="599"/>
                          <a:pt x="383" y="599"/>
                          <a:pt x="393" y="604"/>
                        </a:cubicBezTo>
                        <a:cubicBezTo>
                          <a:pt x="439" y="629"/>
                          <a:pt x="470" y="660"/>
                          <a:pt x="518" y="677"/>
                        </a:cubicBezTo>
                        <a:cubicBezTo>
                          <a:pt x="534" y="626"/>
                          <a:pt x="556" y="591"/>
                          <a:pt x="600" y="563"/>
                        </a:cubicBezTo>
                        <a:cubicBezTo>
                          <a:pt x="626" y="524"/>
                          <a:pt x="676" y="461"/>
                          <a:pt x="724" y="449"/>
                        </a:cubicBezTo>
                        <a:cubicBezTo>
                          <a:pt x="755" y="441"/>
                          <a:pt x="787" y="442"/>
                          <a:pt x="818" y="439"/>
                        </a:cubicBezTo>
                        <a:cubicBezTo>
                          <a:pt x="808" y="435"/>
                          <a:pt x="795" y="436"/>
                          <a:pt x="787" y="428"/>
                        </a:cubicBezTo>
                        <a:cubicBezTo>
                          <a:pt x="769" y="410"/>
                          <a:pt x="745" y="366"/>
                          <a:pt x="745" y="366"/>
                        </a:cubicBezTo>
                        <a:cubicBezTo>
                          <a:pt x="721" y="294"/>
                          <a:pt x="731" y="325"/>
                          <a:pt x="714" y="273"/>
                        </a:cubicBezTo>
                        <a:cubicBezTo>
                          <a:pt x="711" y="263"/>
                          <a:pt x="704" y="242"/>
                          <a:pt x="704" y="242"/>
                        </a:cubicBezTo>
                        <a:cubicBezTo>
                          <a:pt x="715" y="209"/>
                          <a:pt x="719" y="175"/>
                          <a:pt x="745" y="149"/>
                        </a:cubicBezTo>
                        <a:cubicBezTo>
                          <a:pt x="754" y="140"/>
                          <a:pt x="787" y="133"/>
                          <a:pt x="776" y="128"/>
                        </a:cubicBezTo>
                        <a:cubicBezTo>
                          <a:pt x="760" y="120"/>
                          <a:pt x="741" y="135"/>
                          <a:pt x="724" y="139"/>
                        </a:cubicBezTo>
                        <a:cubicBezTo>
                          <a:pt x="695" y="129"/>
                          <a:pt x="629" y="116"/>
                          <a:pt x="600" y="97"/>
                        </a:cubicBezTo>
                        <a:cubicBezTo>
                          <a:pt x="579" y="83"/>
                          <a:pt x="559" y="70"/>
                          <a:pt x="538" y="56"/>
                        </a:cubicBezTo>
                        <a:cubicBezTo>
                          <a:pt x="528" y="49"/>
                          <a:pt x="507" y="35"/>
                          <a:pt x="507" y="35"/>
                        </a:cubicBezTo>
                        <a:cubicBezTo>
                          <a:pt x="500" y="25"/>
                          <a:pt x="499" y="8"/>
                          <a:pt x="487" y="4"/>
                        </a:cubicBezTo>
                        <a:cubicBezTo>
                          <a:pt x="473" y="0"/>
                          <a:pt x="459" y="11"/>
                          <a:pt x="445" y="15"/>
                        </a:cubicBezTo>
                        <a:cubicBezTo>
                          <a:pt x="424" y="21"/>
                          <a:pt x="404" y="28"/>
                          <a:pt x="383" y="35"/>
                        </a:cubicBezTo>
                        <a:cubicBezTo>
                          <a:pt x="373" y="38"/>
                          <a:pt x="362" y="42"/>
                          <a:pt x="352" y="46"/>
                        </a:cubicBezTo>
                        <a:cubicBezTo>
                          <a:pt x="342" y="49"/>
                          <a:pt x="321" y="56"/>
                          <a:pt x="321" y="56"/>
                        </a:cubicBezTo>
                        <a:cubicBezTo>
                          <a:pt x="227" y="24"/>
                          <a:pt x="283" y="21"/>
                          <a:pt x="238" y="66"/>
                        </a:cubicBezTo>
                        <a:cubicBezTo>
                          <a:pt x="229" y="75"/>
                          <a:pt x="217" y="80"/>
                          <a:pt x="207" y="87"/>
                        </a:cubicBezTo>
                        <a:cubicBezTo>
                          <a:pt x="200" y="97"/>
                          <a:pt x="197" y="110"/>
                          <a:pt x="187" y="118"/>
                        </a:cubicBezTo>
                        <a:cubicBezTo>
                          <a:pt x="179" y="125"/>
                          <a:pt x="166" y="123"/>
                          <a:pt x="156" y="128"/>
                        </a:cubicBezTo>
                        <a:cubicBezTo>
                          <a:pt x="123" y="146"/>
                          <a:pt x="94" y="170"/>
                          <a:pt x="62" y="190"/>
                        </a:cubicBezTo>
                        <a:cubicBezTo>
                          <a:pt x="44" y="202"/>
                          <a:pt x="0" y="211"/>
                          <a:pt x="0" y="211"/>
                        </a:cubicBezTo>
                        <a:cubicBezTo>
                          <a:pt x="23" y="279"/>
                          <a:pt x="32" y="336"/>
                          <a:pt x="42" y="408"/>
                        </a:cubicBezTo>
                        <a:cubicBezTo>
                          <a:pt x="23" y="463"/>
                          <a:pt x="11" y="504"/>
                          <a:pt x="11" y="563"/>
                        </a:cubicBezTo>
                        <a:close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" name=""/>
                <p:cNvSpPr/>
                <p:nvPr/>
              </p:nvSpPr>
              <p:spPr>
                <a:xfrm>
                  <a:off x="2892600" y="2973240"/>
                  <a:ext cx="3005280" cy="2352600"/>
                </a:xfrm>
                <a:custGeom>
                  <a:avLst/>
                  <a:gdLst/>
                  <a:ahLst/>
                  <a:rect l="l" t="t" r="r" b="b"/>
                  <a:pathLst>
                    <a:path w="1893" h="1482">
                      <a:moveTo>
                        <a:pt x="414" y="44"/>
                      </a:moveTo>
                      <a:cubicBezTo>
                        <a:pt x="431" y="131"/>
                        <a:pt x="445" y="226"/>
                        <a:pt x="393" y="303"/>
                      </a:cubicBezTo>
                      <a:cubicBezTo>
                        <a:pt x="369" y="377"/>
                        <a:pt x="340" y="397"/>
                        <a:pt x="279" y="437"/>
                      </a:cubicBezTo>
                      <a:cubicBezTo>
                        <a:pt x="267" y="445"/>
                        <a:pt x="259" y="459"/>
                        <a:pt x="248" y="468"/>
                      </a:cubicBezTo>
                      <a:cubicBezTo>
                        <a:pt x="194" y="511"/>
                        <a:pt x="203" y="505"/>
                        <a:pt x="155" y="520"/>
                      </a:cubicBezTo>
                      <a:cubicBezTo>
                        <a:pt x="84" y="567"/>
                        <a:pt x="116" y="553"/>
                        <a:pt x="62" y="572"/>
                      </a:cubicBezTo>
                      <a:cubicBezTo>
                        <a:pt x="84" y="633"/>
                        <a:pt x="141" y="667"/>
                        <a:pt x="166" y="737"/>
                      </a:cubicBezTo>
                      <a:cubicBezTo>
                        <a:pt x="184" y="847"/>
                        <a:pt x="159" y="1033"/>
                        <a:pt x="93" y="1130"/>
                      </a:cubicBezTo>
                      <a:cubicBezTo>
                        <a:pt x="90" y="1140"/>
                        <a:pt x="88" y="1151"/>
                        <a:pt x="83" y="1161"/>
                      </a:cubicBezTo>
                      <a:cubicBezTo>
                        <a:pt x="77" y="1172"/>
                        <a:pt x="67" y="1181"/>
                        <a:pt x="62" y="1192"/>
                      </a:cubicBezTo>
                      <a:cubicBezTo>
                        <a:pt x="22" y="1286"/>
                        <a:pt x="84" y="1187"/>
                        <a:pt x="31" y="1265"/>
                      </a:cubicBezTo>
                      <a:cubicBezTo>
                        <a:pt x="28" y="1279"/>
                        <a:pt x="25" y="1293"/>
                        <a:pt x="21" y="1306"/>
                      </a:cubicBezTo>
                      <a:cubicBezTo>
                        <a:pt x="15" y="1327"/>
                        <a:pt x="0" y="1368"/>
                        <a:pt x="0" y="1368"/>
                      </a:cubicBezTo>
                      <a:cubicBezTo>
                        <a:pt x="4" y="1378"/>
                        <a:pt x="0" y="1398"/>
                        <a:pt x="11" y="1399"/>
                      </a:cubicBezTo>
                      <a:cubicBezTo>
                        <a:pt x="34" y="1402"/>
                        <a:pt x="93" y="1377"/>
                        <a:pt x="124" y="1368"/>
                      </a:cubicBezTo>
                      <a:cubicBezTo>
                        <a:pt x="198" y="1348"/>
                        <a:pt x="265" y="1328"/>
                        <a:pt x="342" y="1316"/>
                      </a:cubicBezTo>
                      <a:cubicBezTo>
                        <a:pt x="522" y="1322"/>
                        <a:pt x="692" y="1322"/>
                        <a:pt x="869" y="1347"/>
                      </a:cubicBezTo>
                      <a:cubicBezTo>
                        <a:pt x="890" y="1354"/>
                        <a:pt x="910" y="1361"/>
                        <a:pt x="931" y="1368"/>
                      </a:cubicBezTo>
                      <a:cubicBezTo>
                        <a:pt x="955" y="1376"/>
                        <a:pt x="993" y="1410"/>
                        <a:pt x="993" y="1410"/>
                      </a:cubicBezTo>
                      <a:cubicBezTo>
                        <a:pt x="1008" y="1452"/>
                        <a:pt x="1024" y="1468"/>
                        <a:pt x="1066" y="1482"/>
                      </a:cubicBezTo>
                      <a:cubicBezTo>
                        <a:pt x="1119" y="1465"/>
                        <a:pt x="1137" y="1411"/>
                        <a:pt x="1169" y="1368"/>
                      </a:cubicBezTo>
                      <a:cubicBezTo>
                        <a:pt x="1246" y="1264"/>
                        <a:pt x="1204" y="1337"/>
                        <a:pt x="1262" y="1285"/>
                      </a:cubicBezTo>
                      <a:cubicBezTo>
                        <a:pt x="1273" y="1275"/>
                        <a:pt x="1342" y="1206"/>
                        <a:pt x="1366" y="1182"/>
                      </a:cubicBezTo>
                      <a:cubicBezTo>
                        <a:pt x="1396" y="1152"/>
                        <a:pt x="1439" y="1140"/>
                        <a:pt x="1469" y="1110"/>
                      </a:cubicBezTo>
                      <a:cubicBezTo>
                        <a:pt x="1508" y="1071"/>
                        <a:pt x="1486" y="1084"/>
                        <a:pt x="1531" y="1068"/>
                      </a:cubicBezTo>
                      <a:cubicBezTo>
                        <a:pt x="1569" y="1040"/>
                        <a:pt x="1602" y="1004"/>
                        <a:pt x="1645" y="985"/>
                      </a:cubicBezTo>
                      <a:cubicBezTo>
                        <a:pt x="1665" y="976"/>
                        <a:pt x="1707" y="965"/>
                        <a:pt x="1707" y="965"/>
                      </a:cubicBezTo>
                      <a:cubicBezTo>
                        <a:pt x="1752" y="980"/>
                        <a:pt x="1739" y="980"/>
                        <a:pt x="1800" y="965"/>
                      </a:cubicBezTo>
                      <a:cubicBezTo>
                        <a:pt x="1821" y="960"/>
                        <a:pt x="1841" y="951"/>
                        <a:pt x="1862" y="944"/>
                      </a:cubicBezTo>
                      <a:cubicBezTo>
                        <a:pt x="1872" y="941"/>
                        <a:pt x="1893" y="934"/>
                        <a:pt x="1893" y="934"/>
                      </a:cubicBezTo>
                      <a:cubicBezTo>
                        <a:pt x="1818" y="907"/>
                        <a:pt x="1811" y="862"/>
                        <a:pt x="1759" y="810"/>
                      </a:cubicBezTo>
                      <a:cubicBezTo>
                        <a:pt x="1755" y="782"/>
                        <a:pt x="1755" y="754"/>
                        <a:pt x="1748" y="727"/>
                      </a:cubicBezTo>
                      <a:cubicBezTo>
                        <a:pt x="1745" y="715"/>
                        <a:pt x="1732" y="708"/>
                        <a:pt x="1728" y="696"/>
                      </a:cubicBezTo>
                      <a:cubicBezTo>
                        <a:pt x="1713" y="646"/>
                        <a:pt x="1708" y="582"/>
                        <a:pt x="1697" y="530"/>
                      </a:cubicBezTo>
                      <a:cubicBezTo>
                        <a:pt x="1683" y="464"/>
                        <a:pt x="1658" y="401"/>
                        <a:pt x="1645" y="334"/>
                      </a:cubicBezTo>
                      <a:cubicBezTo>
                        <a:pt x="1656" y="278"/>
                        <a:pt x="1678" y="241"/>
                        <a:pt x="1697" y="189"/>
                      </a:cubicBezTo>
                      <a:cubicBezTo>
                        <a:pt x="1570" y="146"/>
                        <a:pt x="1436" y="136"/>
                        <a:pt x="1304" y="117"/>
                      </a:cubicBezTo>
                      <a:cubicBezTo>
                        <a:pt x="1249" y="109"/>
                        <a:pt x="1200" y="93"/>
                        <a:pt x="1148" y="75"/>
                      </a:cubicBezTo>
                      <a:cubicBezTo>
                        <a:pt x="1127" y="68"/>
                        <a:pt x="1086" y="55"/>
                        <a:pt x="1086" y="55"/>
                      </a:cubicBezTo>
                      <a:cubicBezTo>
                        <a:pt x="1078" y="49"/>
                        <a:pt x="1035" y="10"/>
                        <a:pt x="1014" y="13"/>
                      </a:cubicBezTo>
                      <a:cubicBezTo>
                        <a:pt x="1002" y="15"/>
                        <a:pt x="994" y="29"/>
                        <a:pt x="983" y="34"/>
                      </a:cubicBezTo>
                      <a:cubicBezTo>
                        <a:pt x="932" y="57"/>
                        <a:pt x="882" y="66"/>
                        <a:pt x="828" y="75"/>
                      </a:cubicBezTo>
                      <a:cubicBezTo>
                        <a:pt x="678" y="63"/>
                        <a:pt x="532" y="27"/>
                        <a:pt x="383" y="3"/>
                      </a:cubicBezTo>
                      <a:cubicBezTo>
                        <a:pt x="366" y="0"/>
                        <a:pt x="404" y="30"/>
                        <a:pt x="414" y="44"/>
                      </a:cubicBez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336760" y="2763720"/>
                  <a:ext cx="4473720" cy="3027240"/>
                </a:xfrm>
                <a:custGeom>
                  <a:avLst/>
                  <a:gdLst/>
                  <a:ahLst/>
                  <a:rect l="l" t="t" r="r" b="b"/>
                  <a:pathLst>
                    <a:path w="2818" h="1907">
                      <a:moveTo>
                        <a:pt x="474" y="52"/>
                      </a:moveTo>
                      <a:cubicBezTo>
                        <a:pt x="438" y="107"/>
                        <a:pt x="422" y="175"/>
                        <a:pt x="402" y="238"/>
                      </a:cubicBezTo>
                      <a:cubicBezTo>
                        <a:pt x="394" y="262"/>
                        <a:pt x="369" y="277"/>
                        <a:pt x="361" y="300"/>
                      </a:cubicBezTo>
                      <a:cubicBezTo>
                        <a:pt x="357" y="310"/>
                        <a:pt x="356" y="322"/>
                        <a:pt x="350" y="331"/>
                      </a:cubicBezTo>
                      <a:cubicBezTo>
                        <a:pt x="342" y="343"/>
                        <a:pt x="328" y="350"/>
                        <a:pt x="319" y="362"/>
                      </a:cubicBezTo>
                      <a:cubicBezTo>
                        <a:pt x="268" y="428"/>
                        <a:pt x="236" y="523"/>
                        <a:pt x="164" y="569"/>
                      </a:cubicBezTo>
                      <a:cubicBezTo>
                        <a:pt x="150" y="613"/>
                        <a:pt x="105" y="648"/>
                        <a:pt x="61" y="662"/>
                      </a:cubicBezTo>
                      <a:cubicBezTo>
                        <a:pt x="51" y="669"/>
                        <a:pt x="38" y="673"/>
                        <a:pt x="30" y="683"/>
                      </a:cubicBezTo>
                      <a:cubicBezTo>
                        <a:pt x="0" y="720"/>
                        <a:pt x="51" y="759"/>
                        <a:pt x="71" y="786"/>
                      </a:cubicBezTo>
                      <a:cubicBezTo>
                        <a:pt x="91" y="914"/>
                        <a:pt x="146" y="1030"/>
                        <a:pt x="164" y="1159"/>
                      </a:cubicBezTo>
                      <a:cubicBezTo>
                        <a:pt x="171" y="1313"/>
                        <a:pt x="169" y="1397"/>
                        <a:pt x="154" y="1542"/>
                      </a:cubicBezTo>
                      <a:cubicBezTo>
                        <a:pt x="148" y="1594"/>
                        <a:pt x="144" y="1646"/>
                        <a:pt x="133" y="1697"/>
                      </a:cubicBezTo>
                      <a:cubicBezTo>
                        <a:pt x="128" y="1718"/>
                        <a:pt x="112" y="1759"/>
                        <a:pt x="112" y="1759"/>
                      </a:cubicBezTo>
                      <a:cubicBezTo>
                        <a:pt x="122" y="1762"/>
                        <a:pt x="132" y="1770"/>
                        <a:pt x="143" y="1769"/>
                      </a:cubicBezTo>
                      <a:cubicBezTo>
                        <a:pt x="193" y="1763"/>
                        <a:pt x="239" y="1740"/>
                        <a:pt x="288" y="1728"/>
                      </a:cubicBezTo>
                      <a:cubicBezTo>
                        <a:pt x="386" y="1704"/>
                        <a:pt x="477" y="1668"/>
                        <a:pt x="578" y="1655"/>
                      </a:cubicBezTo>
                      <a:cubicBezTo>
                        <a:pt x="750" y="1663"/>
                        <a:pt x="917" y="1667"/>
                        <a:pt x="1085" y="1707"/>
                      </a:cubicBezTo>
                      <a:cubicBezTo>
                        <a:pt x="1108" y="1719"/>
                        <a:pt x="1134" y="1725"/>
                        <a:pt x="1157" y="1738"/>
                      </a:cubicBezTo>
                      <a:cubicBezTo>
                        <a:pt x="1179" y="1750"/>
                        <a:pt x="1196" y="1771"/>
                        <a:pt x="1219" y="1779"/>
                      </a:cubicBezTo>
                      <a:cubicBezTo>
                        <a:pt x="1240" y="1786"/>
                        <a:pt x="1260" y="1793"/>
                        <a:pt x="1281" y="1800"/>
                      </a:cubicBezTo>
                      <a:cubicBezTo>
                        <a:pt x="1291" y="1803"/>
                        <a:pt x="1312" y="1810"/>
                        <a:pt x="1312" y="1810"/>
                      </a:cubicBezTo>
                      <a:cubicBezTo>
                        <a:pt x="1349" y="1835"/>
                        <a:pt x="1383" y="1839"/>
                        <a:pt x="1426" y="1852"/>
                      </a:cubicBezTo>
                      <a:cubicBezTo>
                        <a:pt x="1447" y="1858"/>
                        <a:pt x="1488" y="1872"/>
                        <a:pt x="1488" y="1872"/>
                      </a:cubicBezTo>
                      <a:cubicBezTo>
                        <a:pt x="1495" y="1883"/>
                        <a:pt x="1497" y="1901"/>
                        <a:pt x="1509" y="1904"/>
                      </a:cubicBezTo>
                      <a:cubicBezTo>
                        <a:pt x="1521" y="1907"/>
                        <a:pt x="1530" y="1890"/>
                        <a:pt x="1540" y="1883"/>
                      </a:cubicBezTo>
                      <a:cubicBezTo>
                        <a:pt x="1564" y="1866"/>
                        <a:pt x="1589" y="1850"/>
                        <a:pt x="1612" y="1831"/>
                      </a:cubicBezTo>
                      <a:cubicBezTo>
                        <a:pt x="1677" y="1776"/>
                        <a:pt x="1766" y="1693"/>
                        <a:pt x="1850" y="1666"/>
                      </a:cubicBezTo>
                      <a:cubicBezTo>
                        <a:pt x="1916" y="1600"/>
                        <a:pt x="1846" y="1661"/>
                        <a:pt x="1912" y="1624"/>
                      </a:cubicBezTo>
                      <a:cubicBezTo>
                        <a:pt x="1966" y="1594"/>
                        <a:pt x="2009" y="1552"/>
                        <a:pt x="2067" y="1531"/>
                      </a:cubicBezTo>
                      <a:cubicBezTo>
                        <a:pt x="2113" y="1485"/>
                        <a:pt x="2177" y="1462"/>
                        <a:pt x="2233" y="1428"/>
                      </a:cubicBezTo>
                      <a:cubicBezTo>
                        <a:pt x="2298" y="1390"/>
                        <a:pt x="2357" y="1337"/>
                        <a:pt x="2429" y="1314"/>
                      </a:cubicBezTo>
                      <a:cubicBezTo>
                        <a:pt x="2490" y="1273"/>
                        <a:pt x="2567" y="1264"/>
                        <a:pt x="2636" y="1242"/>
                      </a:cubicBezTo>
                      <a:cubicBezTo>
                        <a:pt x="2642" y="1243"/>
                        <a:pt x="2818" y="1271"/>
                        <a:pt x="2719" y="1221"/>
                      </a:cubicBezTo>
                      <a:cubicBezTo>
                        <a:pt x="2709" y="1216"/>
                        <a:pt x="2698" y="1214"/>
                        <a:pt x="2688" y="1211"/>
                      </a:cubicBezTo>
                      <a:cubicBezTo>
                        <a:pt x="2616" y="1162"/>
                        <a:pt x="2561" y="1085"/>
                        <a:pt x="2512" y="1014"/>
                      </a:cubicBezTo>
                      <a:cubicBezTo>
                        <a:pt x="2498" y="994"/>
                        <a:pt x="2485" y="973"/>
                        <a:pt x="2471" y="952"/>
                      </a:cubicBezTo>
                      <a:cubicBezTo>
                        <a:pt x="2464" y="942"/>
                        <a:pt x="2450" y="921"/>
                        <a:pt x="2450" y="921"/>
                      </a:cubicBezTo>
                      <a:cubicBezTo>
                        <a:pt x="2435" y="862"/>
                        <a:pt x="2430" y="824"/>
                        <a:pt x="2398" y="776"/>
                      </a:cubicBezTo>
                      <a:cubicBezTo>
                        <a:pt x="2386" y="727"/>
                        <a:pt x="2384" y="678"/>
                        <a:pt x="2367" y="631"/>
                      </a:cubicBezTo>
                      <a:cubicBezTo>
                        <a:pt x="2364" y="607"/>
                        <a:pt x="2360" y="583"/>
                        <a:pt x="2357" y="559"/>
                      </a:cubicBezTo>
                      <a:cubicBezTo>
                        <a:pt x="2349" y="487"/>
                        <a:pt x="2336" y="342"/>
                        <a:pt x="2336" y="342"/>
                      </a:cubicBezTo>
                      <a:cubicBezTo>
                        <a:pt x="2340" y="259"/>
                        <a:pt x="2426" y="66"/>
                        <a:pt x="2347" y="93"/>
                      </a:cubicBezTo>
                      <a:cubicBezTo>
                        <a:pt x="2235" y="131"/>
                        <a:pt x="2159" y="146"/>
                        <a:pt x="2036" y="156"/>
                      </a:cubicBezTo>
                      <a:cubicBezTo>
                        <a:pt x="2009" y="154"/>
                        <a:pt x="1847" y="149"/>
                        <a:pt x="1788" y="135"/>
                      </a:cubicBezTo>
                      <a:cubicBezTo>
                        <a:pt x="1767" y="130"/>
                        <a:pt x="1747" y="121"/>
                        <a:pt x="1726" y="114"/>
                      </a:cubicBezTo>
                      <a:cubicBezTo>
                        <a:pt x="1716" y="111"/>
                        <a:pt x="1695" y="104"/>
                        <a:pt x="1695" y="104"/>
                      </a:cubicBezTo>
                      <a:cubicBezTo>
                        <a:pt x="1606" y="44"/>
                        <a:pt x="1719" y="116"/>
                        <a:pt x="1633" y="73"/>
                      </a:cubicBezTo>
                      <a:cubicBezTo>
                        <a:pt x="1598" y="55"/>
                        <a:pt x="1573" y="22"/>
                        <a:pt x="1540" y="0"/>
                      </a:cubicBezTo>
                      <a:cubicBezTo>
                        <a:pt x="1485" y="15"/>
                        <a:pt x="1500" y="10"/>
                        <a:pt x="1436" y="31"/>
                      </a:cubicBezTo>
                      <a:cubicBezTo>
                        <a:pt x="1426" y="34"/>
                        <a:pt x="1415" y="38"/>
                        <a:pt x="1405" y="42"/>
                      </a:cubicBezTo>
                      <a:cubicBezTo>
                        <a:pt x="1395" y="45"/>
                        <a:pt x="1374" y="52"/>
                        <a:pt x="1374" y="52"/>
                      </a:cubicBezTo>
                      <a:cubicBezTo>
                        <a:pt x="1216" y="30"/>
                        <a:pt x="1057" y="21"/>
                        <a:pt x="898" y="11"/>
                      </a:cubicBezTo>
                      <a:cubicBezTo>
                        <a:pt x="802" y="14"/>
                        <a:pt x="705" y="15"/>
                        <a:pt x="609" y="21"/>
                      </a:cubicBezTo>
                      <a:cubicBezTo>
                        <a:pt x="563" y="24"/>
                        <a:pt x="521" y="52"/>
                        <a:pt x="474" y="52"/>
                      </a:cubicBez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908360" y="2354040"/>
                  <a:ext cx="5205240" cy="3989520"/>
                </a:xfrm>
                <a:custGeom>
                  <a:avLst/>
                  <a:gdLst/>
                  <a:ahLst/>
                  <a:rect l="l" t="t" r="r" b="b"/>
                  <a:pathLst>
                    <a:path w="3279" h="2513">
                      <a:moveTo>
                        <a:pt x="2017" y="0"/>
                      </a:moveTo>
                      <a:cubicBezTo>
                        <a:pt x="2076" y="36"/>
                        <a:pt x="2094" y="35"/>
                        <a:pt x="2161" y="52"/>
                      </a:cubicBezTo>
                      <a:cubicBezTo>
                        <a:pt x="2214" y="65"/>
                        <a:pt x="2265" y="86"/>
                        <a:pt x="2317" y="103"/>
                      </a:cubicBezTo>
                      <a:cubicBezTo>
                        <a:pt x="2337" y="109"/>
                        <a:pt x="2494" y="123"/>
                        <a:pt x="2503" y="124"/>
                      </a:cubicBezTo>
                      <a:cubicBezTo>
                        <a:pt x="2723" y="117"/>
                        <a:pt x="2940" y="113"/>
                        <a:pt x="3155" y="62"/>
                      </a:cubicBezTo>
                      <a:cubicBezTo>
                        <a:pt x="3137" y="112"/>
                        <a:pt x="3109" y="149"/>
                        <a:pt x="3072" y="186"/>
                      </a:cubicBezTo>
                      <a:cubicBezTo>
                        <a:pt x="3068" y="207"/>
                        <a:pt x="3069" y="229"/>
                        <a:pt x="3061" y="248"/>
                      </a:cubicBezTo>
                      <a:cubicBezTo>
                        <a:pt x="3057" y="259"/>
                        <a:pt x="2999" y="346"/>
                        <a:pt x="2989" y="362"/>
                      </a:cubicBezTo>
                      <a:cubicBezTo>
                        <a:pt x="2976" y="383"/>
                        <a:pt x="2948" y="424"/>
                        <a:pt x="2948" y="424"/>
                      </a:cubicBezTo>
                      <a:cubicBezTo>
                        <a:pt x="2929" y="497"/>
                        <a:pt x="2924" y="566"/>
                        <a:pt x="2917" y="641"/>
                      </a:cubicBezTo>
                      <a:cubicBezTo>
                        <a:pt x="2921" y="771"/>
                        <a:pt x="2895" y="962"/>
                        <a:pt x="2979" y="1086"/>
                      </a:cubicBezTo>
                      <a:cubicBezTo>
                        <a:pt x="2982" y="1096"/>
                        <a:pt x="2985" y="1107"/>
                        <a:pt x="2989" y="1117"/>
                      </a:cubicBezTo>
                      <a:cubicBezTo>
                        <a:pt x="2995" y="1131"/>
                        <a:pt x="3005" y="1143"/>
                        <a:pt x="3010" y="1158"/>
                      </a:cubicBezTo>
                      <a:cubicBezTo>
                        <a:pt x="3031" y="1222"/>
                        <a:pt x="3043" y="1287"/>
                        <a:pt x="3082" y="1344"/>
                      </a:cubicBezTo>
                      <a:cubicBezTo>
                        <a:pt x="3100" y="1399"/>
                        <a:pt x="3085" y="1365"/>
                        <a:pt x="3134" y="1437"/>
                      </a:cubicBezTo>
                      <a:cubicBezTo>
                        <a:pt x="3141" y="1448"/>
                        <a:pt x="3155" y="1469"/>
                        <a:pt x="3155" y="1469"/>
                      </a:cubicBezTo>
                      <a:cubicBezTo>
                        <a:pt x="3168" y="1511"/>
                        <a:pt x="3238" y="1586"/>
                        <a:pt x="3279" y="1613"/>
                      </a:cubicBezTo>
                      <a:cubicBezTo>
                        <a:pt x="3184" y="1645"/>
                        <a:pt x="3239" y="1632"/>
                        <a:pt x="3113" y="1644"/>
                      </a:cubicBezTo>
                      <a:cubicBezTo>
                        <a:pt x="3070" y="1666"/>
                        <a:pt x="3025" y="1691"/>
                        <a:pt x="2979" y="1706"/>
                      </a:cubicBezTo>
                      <a:cubicBezTo>
                        <a:pt x="2941" y="1732"/>
                        <a:pt x="2897" y="1768"/>
                        <a:pt x="2855" y="1789"/>
                      </a:cubicBezTo>
                      <a:cubicBezTo>
                        <a:pt x="2827" y="1803"/>
                        <a:pt x="2797" y="1813"/>
                        <a:pt x="2772" y="1831"/>
                      </a:cubicBezTo>
                      <a:cubicBezTo>
                        <a:pt x="2721" y="1868"/>
                        <a:pt x="2747" y="1857"/>
                        <a:pt x="2699" y="1872"/>
                      </a:cubicBezTo>
                      <a:cubicBezTo>
                        <a:pt x="2643" y="1910"/>
                        <a:pt x="2589" y="1954"/>
                        <a:pt x="2524" y="1975"/>
                      </a:cubicBezTo>
                      <a:cubicBezTo>
                        <a:pt x="2473" y="2010"/>
                        <a:pt x="2408" y="2049"/>
                        <a:pt x="2348" y="2068"/>
                      </a:cubicBezTo>
                      <a:cubicBezTo>
                        <a:pt x="2311" y="2093"/>
                        <a:pt x="2267" y="2116"/>
                        <a:pt x="2224" y="2130"/>
                      </a:cubicBezTo>
                      <a:cubicBezTo>
                        <a:pt x="2214" y="2137"/>
                        <a:pt x="2204" y="2146"/>
                        <a:pt x="2193" y="2151"/>
                      </a:cubicBezTo>
                      <a:cubicBezTo>
                        <a:pt x="2173" y="2160"/>
                        <a:pt x="2130" y="2172"/>
                        <a:pt x="2130" y="2172"/>
                      </a:cubicBezTo>
                      <a:cubicBezTo>
                        <a:pt x="1991" y="2277"/>
                        <a:pt x="2162" y="2155"/>
                        <a:pt x="2058" y="2213"/>
                      </a:cubicBezTo>
                      <a:cubicBezTo>
                        <a:pt x="1937" y="2280"/>
                        <a:pt x="2041" y="2227"/>
                        <a:pt x="1965" y="2286"/>
                      </a:cubicBezTo>
                      <a:cubicBezTo>
                        <a:pt x="1945" y="2301"/>
                        <a:pt x="1903" y="2327"/>
                        <a:pt x="1903" y="2327"/>
                      </a:cubicBezTo>
                      <a:cubicBezTo>
                        <a:pt x="1873" y="2371"/>
                        <a:pt x="1840" y="2406"/>
                        <a:pt x="1810" y="2451"/>
                      </a:cubicBezTo>
                      <a:cubicBezTo>
                        <a:pt x="1798" y="2469"/>
                        <a:pt x="1789" y="2513"/>
                        <a:pt x="1789" y="2513"/>
                      </a:cubicBezTo>
                      <a:cubicBezTo>
                        <a:pt x="1688" y="2480"/>
                        <a:pt x="1615" y="2381"/>
                        <a:pt x="1499" y="2379"/>
                      </a:cubicBezTo>
                      <a:cubicBezTo>
                        <a:pt x="1216" y="2375"/>
                        <a:pt x="934" y="2372"/>
                        <a:pt x="651" y="2368"/>
                      </a:cubicBezTo>
                      <a:cubicBezTo>
                        <a:pt x="527" y="2365"/>
                        <a:pt x="403" y="2358"/>
                        <a:pt x="279" y="2358"/>
                      </a:cubicBezTo>
                      <a:cubicBezTo>
                        <a:pt x="251" y="2358"/>
                        <a:pt x="224" y="2368"/>
                        <a:pt x="196" y="2368"/>
                      </a:cubicBezTo>
                      <a:cubicBezTo>
                        <a:pt x="131" y="2368"/>
                        <a:pt x="0" y="2358"/>
                        <a:pt x="0" y="2358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" name=""/>
              <p:cNvSpPr/>
              <p:nvPr/>
            </p:nvSpPr>
            <p:spPr>
              <a:xfrm>
                <a:off x="1468440" y="2173320"/>
                <a:ext cx="3756240" cy="3924000"/>
              </a:xfrm>
              <a:custGeom>
                <a:avLst/>
                <a:gdLst/>
                <a:ahLst/>
                <a:rect l="l" t="t" r="r" b="b"/>
                <a:pathLst>
                  <a:path w="2366" h="2472">
                    <a:moveTo>
                      <a:pt x="297" y="2472"/>
                    </a:moveTo>
                    <a:cubicBezTo>
                      <a:pt x="323" y="2274"/>
                      <a:pt x="296" y="2070"/>
                      <a:pt x="277" y="1872"/>
                    </a:cubicBezTo>
                    <a:cubicBezTo>
                      <a:pt x="265" y="1748"/>
                      <a:pt x="264" y="1662"/>
                      <a:pt x="235" y="1551"/>
                    </a:cubicBezTo>
                    <a:cubicBezTo>
                      <a:pt x="225" y="1456"/>
                      <a:pt x="216" y="1344"/>
                      <a:pt x="163" y="1262"/>
                    </a:cubicBezTo>
                    <a:cubicBezTo>
                      <a:pt x="146" y="1165"/>
                      <a:pt x="112" y="1099"/>
                      <a:pt x="28" y="1045"/>
                    </a:cubicBezTo>
                    <a:cubicBezTo>
                      <a:pt x="126" y="947"/>
                      <a:pt x="0" y="1064"/>
                      <a:pt x="90" y="1003"/>
                    </a:cubicBezTo>
                    <a:cubicBezTo>
                      <a:pt x="126" y="979"/>
                      <a:pt x="156" y="931"/>
                      <a:pt x="194" y="910"/>
                    </a:cubicBezTo>
                    <a:cubicBezTo>
                      <a:pt x="213" y="900"/>
                      <a:pt x="235" y="897"/>
                      <a:pt x="256" y="890"/>
                    </a:cubicBezTo>
                    <a:cubicBezTo>
                      <a:pt x="292" y="835"/>
                      <a:pt x="349" y="792"/>
                      <a:pt x="380" y="734"/>
                    </a:cubicBezTo>
                    <a:cubicBezTo>
                      <a:pt x="470" y="565"/>
                      <a:pt x="410" y="657"/>
                      <a:pt x="463" y="579"/>
                    </a:cubicBezTo>
                    <a:cubicBezTo>
                      <a:pt x="480" y="528"/>
                      <a:pt x="495" y="489"/>
                      <a:pt x="525" y="445"/>
                    </a:cubicBezTo>
                    <a:cubicBezTo>
                      <a:pt x="540" y="398"/>
                      <a:pt x="571" y="362"/>
                      <a:pt x="597" y="321"/>
                    </a:cubicBezTo>
                    <a:cubicBezTo>
                      <a:pt x="603" y="312"/>
                      <a:pt x="601" y="298"/>
                      <a:pt x="608" y="290"/>
                    </a:cubicBezTo>
                    <a:cubicBezTo>
                      <a:pt x="645" y="246"/>
                      <a:pt x="661" y="264"/>
                      <a:pt x="711" y="238"/>
                    </a:cubicBezTo>
                    <a:cubicBezTo>
                      <a:pt x="773" y="206"/>
                      <a:pt x="828" y="186"/>
                      <a:pt x="897" y="176"/>
                    </a:cubicBezTo>
                    <a:cubicBezTo>
                      <a:pt x="986" y="131"/>
                      <a:pt x="1080" y="116"/>
                      <a:pt x="1176" y="93"/>
                    </a:cubicBezTo>
                    <a:cubicBezTo>
                      <a:pt x="1231" y="57"/>
                      <a:pt x="1286" y="60"/>
                      <a:pt x="1352" y="52"/>
                    </a:cubicBezTo>
                    <a:cubicBezTo>
                      <a:pt x="1480" y="37"/>
                      <a:pt x="1607" y="14"/>
                      <a:pt x="1735" y="0"/>
                    </a:cubicBezTo>
                    <a:cubicBezTo>
                      <a:pt x="1874" y="9"/>
                      <a:pt x="2010" y="29"/>
                      <a:pt x="2149" y="41"/>
                    </a:cubicBezTo>
                    <a:cubicBezTo>
                      <a:pt x="2205" y="60"/>
                      <a:pt x="2248" y="84"/>
                      <a:pt x="2304" y="103"/>
                    </a:cubicBezTo>
                    <a:cubicBezTo>
                      <a:pt x="2314" y="106"/>
                      <a:pt x="2325" y="110"/>
                      <a:pt x="2335" y="114"/>
                    </a:cubicBezTo>
                    <a:cubicBezTo>
                      <a:pt x="2345" y="117"/>
                      <a:pt x="2366" y="124"/>
                      <a:pt x="2366" y="124"/>
                    </a:cubicBezTo>
                    <a:cubicBezTo>
                      <a:pt x="2366" y="124"/>
                      <a:pt x="2339" y="114"/>
                      <a:pt x="2325" y="11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9" name="clok01sl" descr=""/>
            <p:cNvPicPr/>
            <p:nvPr/>
          </p:nvPicPr>
          <p:blipFill>
            <a:blip r:embed="rId1"/>
            <a:stretch/>
          </p:blipFill>
          <p:spPr>
            <a:xfrm>
              <a:off x="6012000" y="3733560"/>
              <a:ext cx="91440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mnote12" descr=""/>
            <p:cNvPicPr/>
            <p:nvPr/>
          </p:nvPicPr>
          <p:blipFill>
            <a:blip r:embed="rId2"/>
            <a:stretch/>
          </p:blipFill>
          <p:spPr>
            <a:xfrm>
              <a:off x="3497400" y="304776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toaster-side" descr=""/>
            <p:cNvPicPr/>
            <p:nvPr/>
          </p:nvPicPr>
          <p:blipFill>
            <a:blip r:embed="rId3"/>
            <a:stretch/>
          </p:blipFill>
          <p:spPr>
            <a:xfrm>
              <a:off x="4869000" y="3047760"/>
              <a:ext cx="838080" cy="93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lane" descr=""/>
            <p:cNvPicPr/>
            <p:nvPr/>
          </p:nvPicPr>
          <p:blipFill>
            <a:blip r:embed="rId4"/>
            <a:stretch/>
          </p:blipFill>
          <p:spPr>
            <a:xfrm>
              <a:off x="4259520" y="2514600"/>
              <a:ext cx="52380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stockmkt" descr=""/>
            <p:cNvPicPr/>
            <p:nvPr/>
          </p:nvPicPr>
          <p:blipFill>
            <a:blip r:embed="rId5"/>
            <a:stretch/>
          </p:blipFill>
          <p:spPr>
            <a:xfrm>
              <a:off x="1744920" y="5181480"/>
              <a:ext cx="95220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buse17fl" descr=""/>
            <p:cNvPicPr/>
            <p:nvPr/>
          </p:nvPicPr>
          <p:blipFill>
            <a:blip r:embed="rId6"/>
            <a:stretch/>
          </p:blipFill>
          <p:spPr>
            <a:xfrm>
              <a:off x="1752840" y="2070000"/>
              <a:ext cx="876240" cy="8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entr15sl" descr=""/>
            <p:cNvPicPr/>
            <p:nvPr/>
          </p:nvPicPr>
          <p:blipFill>
            <a:blip r:embed="rId7"/>
            <a:stretch/>
          </p:blipFill>
          <p:spPr>
            <a:xfrm>
              <a:off x="2133720" y="3517920"/>
              <a:ext cx="1168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nost04sl" descr=""/>
            <p:cNvPicPr/>
            <p:nvPr/>
          </p:nvPicPr>
          <p:blipFill>
            <a:blip r:embed="rId8"/>
            <a:stretch/>
          </p:blipFill>
          <p:spPr>
            <a:xfrm>
              <a:off x="6012000" y="4419360"/>
              <a:ext cx="660240" cy="11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nost09sl" descr=""/>
            <p:cNvPicPr/>
            <p:nvPr/>
          </p:nvPicPr>
          <p:blipFill>
            <a:blip r:embed="rId9"/>
            <a:stretch/>
          </p:blipFill>
          <p:spPr>
            <a:xfrm>
              <a:off x="3649680" y="5867280"/>
              <a:ext cx="10033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stock" descr=""/>
            <p:cNvPicPr/>
            <p:nvPr/>
          </p:nvPicPr>
          <p:blipFill>
            <a:blip r:embed="rId10"/>
            <a:stretch/>
          </p:blipFill>
          <p:spPr>
            <a:xfrm>
              <a:off x="4792680" y="2057400"/>
              <a:ext cx="6192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car" descr=""/>
            <p:cNvPicPr/>
            <p:nvPr/>
          </p:nvPicPr>
          <p:blipFill>
            <a:blip r:embed="rId11"/>
            <a:stretch/>
          </p:blipFill>
          <p:spPr>
            <a:xfrm>
              <a:off x="5021280" y="4190760"/>
              <a:ext cx="533520" cy="4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bank" descr=""/>
            <p:cNvPicPr/>
            <p:nvPr/>
          </p:nvPicPr>
          <p:blipFill>
            <a:blip r:embed="rId12"/>
            <a:stretch/>
          </p:blipFill>
          <p:spPr>
            <a:xfrm>
              <a:off x="4106880" y="4495680"/>
              <a:ext cx="647640" cy="8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bank2" descr=""/>
            <p:cNvPicPr/>
            <p:nvPr/>
          </p:nvPicPr>
          <p:blipFill>
            <a:blip r:embed="rId13"/>
            <a:stretch/>
          </p:blipFill>
          <p:spPr>
            <a:xfrm>
              <a:off x="1287720" y="4190760"/>
              <a:ext cx="1209600" cy="78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netscape" descr=""/>
            <p:cNvPicPr/>
            <p:nvPr/>
          </p:nvPicPr>
          <p:blipFill>
            <a:blip r:embed="rId14"/>
            <a:stretch/>
          </p:blipFill>
          <p:spPr>
            <a:xfrm>
              <a:off x="5173920" y="5486400"/>
              <a:ext cx="32364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micr15sl" descr=""/>
            <p:cNvPicPr/>
            <p:nvPr/>
          </p:nvPicPr>
          <p:blipFill>
            <a:blip r:embed="rId15"/>
            <a:stretch/>
          </p:blipFill>
          <p:spPr>
            <a:xfrm>
              <a:off x="3353040" y="4508280"/>
              <a:ext cx="33660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camr01sl" descr=""/>
            <p:cNvPicPr/>
            <p:nvPr/>
          </p:nvPicPr>
          <p:blipFill>
            <a:blip r:embed="rId16"/>
            <a:stretch/>
          </p:blipFill>
          <p:spPr>
            <a:xfrm>
              <a:off x="3268800" y="1981080"/>
              <a:ext cx="825480" cy="6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google" descr=""/>
            <p:cNvPicPr/>
            <p:nvPr/>
          </p:nvPicPr>
          <p:blipFill>
            <a:blip r:embed="rId17"/>
            <a:stretch/>
          </p:blipFill>
          <p:spPr>
            <a:xfrm>
              <a:off x="5935680" y="2514600"/>
              <a:ext cx="739800" cy="7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hihl01sl" descr=""/>
            <p:cNvPicPr/>
            <p:nvPr/>
          </p:nvPicPr>
          <p:blipFill>
            <a:blip r:embed="rId18"/>
            <a:stretch/>
          </p:blipFill>
          <p:spPr>
            <a:xfrm>
              <a:off x="6621480" y="4876560"/>
              <a:ext cx="685800" cy="6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Motivation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8640" y="993600"/>
            <a:ext cx="3910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 provider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gent e-mails itinerary to customer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57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612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1" name="bob-mail" descr=""/>
          <p:cNvPicPr/>
          <p:nvPr/>
        </p:nvPicPr>
        <p:blipFill>
          <a:blip r:embed="rId1"/>
          <a:stretch/>
        </p:blipFill>
        <p:spPr>
          <a:xfrm>
            <a:off x="1041480" y="1482840"/>
            <a:ext cx="7340400" cy="4917960"/>
          </a:xfrm>
          <a:prstGeom prst="rect">
            <a:avLst/>
          </a:prstGeom>
          <a:ln w="0">
            <a:noFill/>
          </a:ln>
        </p:spPr>
      </p:pic>
      <p:sp>
        <p:nvSpPr>
          <p:cNvPr id="1482" name=""/>
          <p:cNvSpPr/>
          <p:nvPr/>
        </p:nvSpPr>
        <p:spPr>
          <a:xfrm>
            <a:off x="1143000" y="4648320"/>
            <a:ext cx="7086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gent e-mails itinerary to customer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57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4612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6" name="bob-mail" descr=""/>
          <p:cNvPicPr/>
          <p:nvPr/>
        </p:nvPicPr>
        <p:blipFill>
          <a:blip r:embed="rId1"/>
          <a:stretch/>
        </p:blipFill>
        <p:spPr>
          <a:xfrm>
            <a:off x="1041480" y="1482840"/>
            <a:ext cx="7340400" cy="4917960"/>
          </a:xfrm>
          <a:prstGeom prst="rect">
            <a:avLst/>
          </a:prstGeom>
          <a:ln w="0">
            <a:noFill/>
          </a:ln>
        </p:spPr>
      </p:pic>
      <p:sp>
        <p:nvSpPr>
          <p:cNvPr id="1487" name=""/>
          <p:cNvSpPr/>
          <p:nvPr/>
        </p:nvSpPr>
        <p:spPr>
          <a:xfrm>
            <a:off x="1143000" y="5181480"/>
            <a:ext cx="7086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gent e-mails itinerary to customer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57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4612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1" name="bob-mail" descr=""/>
          <p:cNvPicPr/>
          <p:nvPr/>
        </p:nvPicPr>
        <p:blipFill>
          <a:blip r:embed="rId1"/>
          <a:stretch/>
        </p:blipFill>
        <p:spPr>
          <a:xfrm>
            <a:off x="1041480" y="1482840"/>
            <a:ext cx="7340400" cy="4917960"/>
          </a:xfrm>
          <a:prstGeom prst="rect">
            <a:avLst/>
          </a:prstGeom>
          <a:ln w="0">
            <a:noFill/>
          </a:ln>
        </p:spPr>
      </p:pic>
      <p:sp>
        <p:nvSpPr>
          <p:cNvPr id="1492" name=""/>
          <p:cNvSpPr/>
          <p:nvPr/>
        </p:nvSpPr>
        <p:spPr>
          <a:xfrm>
            <a:off x="1143000" y="6248520"/>
            <a:ext cx="7086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gent creates expense claim for customer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57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4612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bob-rep0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553080" cy="5415120"/>
          </a:xfrm>
          <a:prstGeom prst="rect">
            <a:avLst/>
          </a:prstGeom>
          <a:ln w="0">
            <a:noFill/>
          </a:ln>
        </p:spPr>
      </p:pic>
      <p:grpSp>
        <p:nvGrpSpPr>
          <p:cNvPr id="1497" name=""/>
          <p:cNvGrpSpPr/>
          <p:nvPr/>
        </p:nvGrpSpPr>
        <p:grpSpPr>
          <a:xfrm>
            <a:off x="3425400" y="2385000"/>
            <a:ext cx="5418000" cy="2316600"/>
            <a:chOff x="3425400" y="2385000"/>
            <a:chExt cx="5418000" cy="2316600"/>
          </a:xfrm>
        </p:grpSpPr>
        <p:sp>
          <p:nvSpPr>
            <p:cNvPr id="1498" name=""/>
            <p:cNvSpPr/>
            <p:nvPr/>
          </p:nvSpPr>
          <p:spPr>
            <a:xfrm rot="376200">
              <a:off x="3505320" y="2666520"/>
              <a:ext cx="5257800" cy="1752840"/>
            </a:xfrm>
            <a:prstGeom prst="irregularSeal2">
              <a:avLst/>
            </a:prstGeom>
            <a:solidFill>
              <a:srgbClr val="ffffff"/>
            </a:soli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726080" y="3352680"/>
              <a:ext cx="23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Writing “DAML”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ummary of Key Features of KSL Work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57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612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371880" y="1143000"/>
            <a:ext cx="8539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ML Markup of Web Services, User Constraints, Agent Procedu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-interpretable, use-apparent, agent-enabled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ologies facilitate construction, sharing, reuse, and composi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succinct web site mark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up not specific to particular agent implem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DAML-Enabled Agent Syst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L markup provides distributed KB for ag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-based generic procedures + constrain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s - general and easy to us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ts enable custom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ologies facilitate construction, sharing, reuse, compos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s are verifiable wrt. certain proper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uctive machinery instantiates procedures genera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ice requests that are sent to the agent brok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s &amp; deductive machinery provide middle gro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planning &amp; programm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ake-Away Message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57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4612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49280" y="1371600"/>
            <a:ext cx="800892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tic Web Services are going to revolutionize B2B and E-Commerce on the We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ill also revolutionize the way companies deal with their information and business proc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tic markup (DAML markup) of web services is the  key enabling technology for this rev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3760" y="1371600"/>
            <a:ext cx="8349120" cy="50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oday’s web is designed primarily for human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develop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ntic mark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ic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ice users’ preferences and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able agent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ke servic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uter-interpretable, use-apparent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gent-enab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develop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t techn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exploits 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up to support automated web servi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ec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os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op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Web Service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arkup Will En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6120" y="1219320"/>
            <a:ext cx="853848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i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Find me an airline service that offers flights to Tuktoyuk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i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Buy me “Harry Potter and the Sorcerer’s Stone” 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www.amazon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i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Make my travel arrangements for my IJCAI conference t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289600" y="718200"/>
            <a:ext cx="6088680" cy="3880080"/>
            <a:chOff x="2289600" y="718200"/>
            <a:chExt cx="6088680" cy="3880080"/>
          </a:xfrm>
        </p:grpSpPr>
        <p:sp>
          <p:nvSpPr>
            <p:cNvPr id="116" name=""/>
            <p:cNvSpPr/>
            <p:nvPr/>
          </p:nvSpPr>
          <p:spPr>
            <a:xfrm rot="20650200">
              <a:off x="2514600" y="1441440"/>
              <a:ext cx="5638680" cy="2433600"/>
            </a:xfrm>
            <a:prstGeom prst="irregularSeal2">
              <a:avLst/>
            </a:prstGeom>
            <a:solidFill>
              <a:srgbClr val="ffffff"/>
            </a:soli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0170200">
              <a:off x="3409200" y="2242800"/>
              <a:ext cx="359136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Industry efforts grow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</a:rPr>
                <a:t>(we are improving with DA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236120" y="2709360"/>
            <a:ext cx="4710600" cy="3267720"/>
            <a:chOff x="4236120" y="2709360"/>
            <a:chExt cx="4710600" cy="3267720"/>
          </a:xfrm>
        </p:grpSpPr>
        <p:sp>
          <p:nvSpPr>
            <p:cNvPr id="119" name=""/>
            <p:cNvSpPr/>
            <p:nvPr/>
          </p:nvSpPr>
          <p:spPr>
            <a:xfrm rot="20336400">
              <a:off x="4419360" y="3428640"/>
              <a:ext cx="4343400" cy="1828800"/>
            </a:xfrm>
            <a:prstGeom prst="irregularSeal2">
              <a:avLst/>
            </a:prstGeom>
            <a:solidFill>
              <a:srgbClr val="ffffff"/>
            </a:soli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9960200">
              <a:off x="5221800" y="4055760"/>
              <a:ext cx="248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Opportunity 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58640" y="57150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the drivers for web service mark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mantic Mar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920" y="1219320"/>
            <a:ext cx="7605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is DAML adding value over XM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• sh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• succinct web site mark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77320" y="3352680"/>
            <a:ext cx="3611160" cy="30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ld-altering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chase-plane-ti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chase-UAL-plane-ti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chase-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-providing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-schedule-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-flight-schedule-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mantic Mar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920" y="1219320"/>
            <a:ext cx="7605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is DAML adding value over XM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• sh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• succinct web site mark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aints and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ct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 of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62560" y="4498920"/>
            <a:ext cx="40118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ight-over-3hour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ov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authorized-web-sit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nreliable-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mantic Mar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920" y="1219320"/>
            <a:ext cx="760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is DAML adding value over XM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• sh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• succinct web site mark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aints and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ct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 of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62560" y="4800600"/>
            <a:ext cx="420552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ier                   -vs-            ven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ue-date                                    due-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Web Services:  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6120" y="1366920"/>
            <a:ext cx="8538480" cy="40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i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Find me an airline service that offers flights to Tuktoyuk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i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Buy me “Harry Potter and the Sorcerer’s Stone” 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www.amazon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i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Make my travel arrangements for my IJCAI conference t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8T20:36:31Z</dcterms:created>
  <dc:creator>Sheila McIraith</dc:creator>
  <dc:description/>
  <dc:language>en-US</dc:language>
  <cp:lastModifiedBy>GTE Internetworking</cp:lastModifiedBy>
  <dcterms:modified xsi:type="dcterms:W3CDTF">2001-02-26T20:20:42Z</dcterms:modified>
  <cp:revision>15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daml\www\http\2001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