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EF3-7BBE-4893-B285-C70713F5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620-1114-4563-94D5-D9EC0DFD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BCC7-F094-49C3-8DB7-855E6DA9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DC11-BBD5-46E8-A74F-27647B1F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71DB-2D93-4BC9-8092-B6554428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25A3-122A-4F1A-AAAC-5E572CA3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4670-B244-43E0-BAC8-DE5236F1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0139-AF8A-49EF-A805-7BCE5FAB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04FC-6538-4999-AAB4-95879820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4CB7-37BD-4C4A-A8E8-0FEF1353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ACBF-80E3-47EA-A37F-9D899A31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A3F-9224-4343-BEAF-47A5D2AC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9BC9-AE59-437B-A72D-F796E079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D048-DFE2-4320-97F3-5E989642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EE66-D991-4457-B253-002A479F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14F1-1EAD-4ECE-A499-E212B225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2A1B-0D4B-4BA0-9B4F-5E4226A3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A7ED-B261-4D19-875C-A0DE9989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67A-A0B0-48A6-9E79-9B6ABECA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EF7-597A-47DC-81A7-DED3D26F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792-6F75-4BD1-B749-03665CA4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435-39BC-4915-A767-8F85D49A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3FA-C59D-4490-8D63-286B90C6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F24-2F1F-4818-966B-4C7E4A5E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0CBD-B7F2-4BDC-9C2E-DDD606B6B3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42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43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51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ntologies – Deborah L. McGuinn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8DF4-2124-4870-AF9D-EDE0F67704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ksl.stanford.edu/software/chimaera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cccc"/>
                </a:solidFill>
                <a:latin typeface="Times New Roman"/>
              </a:rPr>
              <a:t>Ontologies  (What they are; Why you should care; What you should know)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47920" y="2895480"/>
            <a:ext cx="7238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borah L. McGuin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ociate Director and Senior Research Scient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ledge Systems Labora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ford, CA 943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50-723-977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m@ksl.stanford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Our KB Analysis Task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vie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Bs th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develop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sing differing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y be syntactically but not semantically valid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use differ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epresent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oduce KB logs (in interactive environme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dentify provable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uggest possible problems in style and/or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e extensible by being user programm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   </a:t>
            </a: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kb-upload-languages" descr=""/>
          <p:cNvPicPr/>
          <p:nvPr/>
        </p:nvPicPr>
        <p:blipFill>
          <a:blip r:embed="rId1"/>
          <a:srcRect l="0" t="0" r="3172" b="18944"/>
          <a:stretch/>
        </p:blipFill>
        <p:spPr>
          <a:xfrm>
            <a:off x="1828800" y="609480"/>
            <a:ext cx="6781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  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analysis-menu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41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   </a:t>
            </a: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collage0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6248520" cy="3171600"/>
          </a:xfrm>
          <a:prstGeom prst="rect">
            <a:avLst/>
          </a:prstGeom>
          <a:ln w="0">
            <a:noFill/>
          </a:ln>
        </p:spPr>
      </p:pic>
      <p:pic>
        <p:nvPicPr>
          <p:cNvPr id="145" name="collage1" descr=""/>
          <p:cNvPicPr/>
          <p:nvPr/>
        </p:nvPicPr>
        <p:blipFill>
          <a:blip r:embed="rId2"/>
          <a:stretch/>
        </p:blipFill>
        <p:spPr>
          <a:xfrm>
            <a:off x="2286000" y="4724280"/>
            <a:ext cx="443880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Discussion/Conclusio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tologies are exploding and at the core of many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siness “pull” is driving ontology language tools and langu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generation applications need more expressive ontologies and more back end reas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generation users (the general public) need more support than previous users of KR&amp;R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ted ontologies need more support for merging and analysis and handling incompleteness(and inconsistenc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ale and distribution of the web force mind sh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veryone is in the game – Government (DARPA, NSF, NIST, …), W3C, consortiums, business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What is an Ontology?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42900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3429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342900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342900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432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4290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0" y="2286000"/>
            <a:ext cx="138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log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53120" y="1905120"/>
            <a:ext cx="1722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840" y="3809880"/>
            <a:ext cx="136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8680" y="1523880"/>
            <a:ext cx="162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au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rr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190512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-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18288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ropert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1523880"/>
            <a:ext cx="1905120" cy="4114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4290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34290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36576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-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6576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3886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Rest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43800" y="373392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jointness, Inverse, part-of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Ontologies and importance to E-Commerce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228960" y="1904760"/>
            <a:ext cx="93726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ontologies (taxonomies) provi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lled shared vocabulary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earch engines, authors, users, databases, programs/agents all speak same langu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ation (and navigation suppor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ctation setting  (left side of many web pag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wsing support (tagged structures such as Yahoo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rch support (query expansion approaches such as FindUR, e-Cy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disambig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Ontologies and importance to E-Commerce  II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ndation for expansion and leve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operability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lict de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ression testing/validation/verification support foun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iguration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ed, “surgical” comparative 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ization/ Speci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-2289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E-Commerce  Search </a:t>
            </a:r>
            <a:br>
              <a:rPr sz="4400"/>
            </a:br>
            <a:r>
              <a:rPr b="0" i="1" lang="en-US" sz="2000" spc="-1" strike="noStrike">
                <a:solidFill>
                  <a:srgbClr val="00cccc"/>
                </a:solidFill>
                <a:latin typeface="Times New Roman"/>
              </a:rPr>
              <a:t>(starting point Forrester Research modified by McGuinness)</a:t>
            </a:r>
            <a:endParaRPr b="0" i="1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lvl="2" marL="868680" indent="-17352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k Quer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ultiple search interfaces (surgical shoppers, advice seekers, window shopp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et user expectations (interactive query refinemen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nticipate anomal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-17352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t Answ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asic information (multiple sorts, filtering, structur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odify results (user defined parameters for refining, user profile info, narrow query, broaden query, disambiguate que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ggest alternatives (suggest other comparable products even from competitor’s sit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-17352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ke Deci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anipulate results (enable side by side comparis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ve deeper (provide additional info, multimedia, other view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ke action (bu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cc"/>
                </a:solidFill>
                <a:latin typeface="Times New Roman"/>
              </a:rPr>
              <a:t>A Few Observations about Ontologies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ple ontologies can be built by non-expe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 Verity’s Topic Editor, Collaborative Topic Builder, GFP interface, Chimaera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ntologies can be semi-automatically gene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crawls of site such as yahoo!, amazon, excite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mi-structured sites can provide starting p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ntologies are exploding   (business pull instead of technology pus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e-commerce sites are using them - MySimon, Amazon, Yahoo! Shopping,,  VerticalNet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olled vocabularies (for the web) abound -  SIC codes,  UMLS, UN/SPSC, Open Directory (DMOZ), Rosetta Net, SUO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siness interest expanding – ontology directors, business ontologies are becoming more complicated (roles, value restrictions, …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TDs are making more ontology information avail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kup Languages growing XML, RDF, DAML, RuleML, x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l” ontologies are becoming more central to 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Implications and Need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tology Language Syntax and Semantics (DAML+OI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s for Creation and Maintenance of  Ontolog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 (Conceptual Modeling, reasoning implications, 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aboration among distributed t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erse training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connectivity with many systems/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sis and Dia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fecycle 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90560" y="3045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himaera – A Ontology Environment Tool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30" name="chimaera" descr=""/>
          <p:cNvPicPr/>
          <p:nvPr/>
        </p:nvPicPr>
        <p:blipFill>
          <a:blip r:embed="rId1"/>
          <a:stretch/>
        </p:blipFill>
        <p:spPr>
          <a:xfrm>
            <a:off x="0" y="0"/>
            <a:ext cx="2066760" cy="1533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9440" y="1905120"/>
            <a:ext cx="9034560" cy="50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interactive web-based tool aimed at support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tology analysis (correctness, completeness, style, 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rging of ontological terms from varied 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taining ontologies over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ation of 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atures:   multiple I/O languages, loading and merging into multiple namespaces, collaborative distributed environment support, integrated browsing/editing environment, extensible diagnostic rule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in commercial and academic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ilable as a hosted service from www-ksl-svc.stanford.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tion: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2"/>
              </a:rPr>
              <a:t>www.ksl.stanford.edu/software/chima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The Need For KB Analysi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-scale knowledge repositories will necessarily contain KBs produced by multiple authors in multiple setting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Bs for applications will typically be built by assembling and extending multiple modular KBs from repositori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at may not be consis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Bs developed by multiple authors will frequen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ress overlapping knowledge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fferent, possibly contradictory w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differ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ssump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y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such KBs to be used as building blocks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y must be reviewed for appropriateness and “correctnes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is, they must b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naly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1T23:20:40Z</dcterms:created>
  <dc:creator>Deborah McGuinness, Ph.D.</dc:creator>
  <dc:description>TIC Talk - Post DAML PI meeting 2/16/01</dc:description>
  <dc:language>en-US</dc:language>
  <cp:lastModifiedBy>GTE Internetworking</cp:lastModifiedBy>
  <cp:lastPrinted>1999-07-17T02:30:43Z</cp:lastPrinted>
  <dcterms:modified xsi:type="dcterms:W3CDTF">2001-02-27T17:02:23Z</dcterms:modified>
  <cp:revision>247</cp:revision>
  <dc:subject/>
  <dc:title>Ontologies (What they are, why you should care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daml\www\http\2001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